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568-1891-49E4-BBA4-E0E4948C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F0E-DA05-4B3A-B931-54959BC5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0577-62C7-4CFD-A43A-5E6903E5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41B-4410-412E-8D89-0F9C53E3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C6695-E18E-42BD-9A27-CFA37797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47903-C1A9-43BB-B9DE-E89F811E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FB84F-434C-4CBA-ACCE-883EEE7A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7C666-A4E6-4682-847F-3F045BD0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F144C-9902-4BF5-B93E-F42DD59F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C6B1F0-0185-47F9-B50A-4CE25D90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78C62-3A0A-4D6B-A444-F71C94D8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29B-80A9-4F11-A2F8-237E3210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1324C-30B4-45A9-83BB-89384F17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D98B7-D192-41FF-8894-54A73AC7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D0079-9438-4354-9B66-3E94525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DD7BD-9B20-4DBD-8239-8E2BF531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8628A-8E5F-4856-9409-BCC7AE5B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4AB-C16D-49AD-9E9D-1421504B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9B2-8791-4525-836A-1FABDE14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C319-0E52-4368-93DA-3AA566CD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2111-3D70-4D4D-B8C4-77042F94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0B4-30B6-45F9-9EE4-7985FA1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894-6EA3-467C-A26C-97A24133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1C7-666A-4297-A6B6-F010AED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87FD-E45C-4594-94AD-8EAA24EB19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7880" y="0"/>
            <a:ext cx="68673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ldNum" idx="4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925B-6432-4B9F-9054-9657DBB7F4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PLANO NACIONAL DE RECURSOS HÍD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648320"/>
            <a:ext cx="9144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âmara Técnica do PNRH –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T-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 Black"/>
                <a:ea typeface="Times New Roman"/>
              </a:rPr>
              <a:t>Evolução na Elaboração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181480"/>
            <a:ext cx="914400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 Reunião Extraordinária do Conselho Nacional de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2/08/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81080" y="1254240"/>
            <a:ext cx="7162920" cy="3653640"/>
            <a:chOff x="1981080" y="1254240"/>
            <a:chExt cx="7162920" cy="36536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rcRect l="23001" t="35337" r="5999" b="16670"/>
            <a:stretch/>
          </p:blipFill>
          <p:spPr>
            <a:xfrm>
              <a:off x="1981080" y="1254240"/>
              <a:ext cx="7162920" cy="339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7315200" y="4572000"/>
              <a:ext cx="18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ffff"/>
                  </a:solidFill>
                  <a:latin typeface="Times New Roman"/>
                </a:rPr>
                <a:t>http://pnrh.cjb.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17880" y="533160"/>
            <a:ext cx="6867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Índi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276640" y="121932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. Diretrizes Para Elaboração do PN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276640" y="20718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2. Detalhamento das Diretr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3" action="ppaction://hlinksldjump"/>
          </p:cNvPr>
          <p:cNvSpPr/>
          <p:nvPr/>
        </p:nvSpPr>
        <p:spPr>
          <a:xfrm>
            <a:off x="2276640" y="292572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3. Plano de Trabalho / Estrutura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4" action="ppaction://hlinksldjump"/>
          </p:cNvPr>
          <p:cNvSpPr/>
          <p:nvPr/>
        </p:nvSpPr>
        <p:spPr>
          <a:xfrm>
            <a:off x="2276640" y="37782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4. Cronograma da CT-PNRH para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5" action="ppaction://hlinksldjump"/>
          </p:cNvPr>
          <p:cNvSpPr/>
          <p:nvPr/>
        </p:nvSpPr>
        <p:spPr>
          <a:xfrm>
            <a:off x="2276640" y="463248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5. Avanços Alcanç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6" action="ppaction://hlinksldjump"/>
          </p:cNvPr>
          <p:cNvSpPr/>
          <p:nvPr/>
        </p:nvSpPr>
        <p:spPr>
          <a:xfrm>
            <a:off x="2276640" y="5486400"/>
            <a:ext cx="68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6. Próxim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01760" y="3733560"/>
            <a:ext cx="7842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cesso simultaneamente técnico e político a  ser liderado por uma equipe de govern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btenção de aperfeiçoamento progressivos, tornando o processo permanente e contínu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Deve existir um Programa de Trabalho; 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Devem ser elaborados termos de referência para contratação de produtos bem defi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2276640" y="151920"/>
            <a:ext cx="6867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IRETRIZES PARA ELABORAÇÃO DO PLANO NACIONAL DE RECURSOS HÍDRICOS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981080"/>
            <a:ext cx="71629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TA DO ENGENHEIRO FLÁVIO TERRA BARTH, APROVADA PELO CONSELHO NACIONAL DE RECURSOS HÍDRICOS – CNRH, NA 5</a:t>
            </a:r>
            <a:r>
              <a:rPr b="1" lang="pt-BR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REUNIÃO ORDINÁRIA, REALIZADA EM 15/12/2000. PRINCIPAIS PONTOS DA PROPOS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600200" y="1676520"/>
            <a:ext cx="730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Composição de propostas de membros da CT-PNRH, detalhando as diretrizes aprovadas no CNRH. Principais contribu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TALHAMENTO DAS DIRETRIZ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8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 Reunião – 15/03/20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3429000"/>
            <a:ext cx="678168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ição de um Programa de Trabalho – fase preliminar; 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66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roposição de Cronograma – fase prelimin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676520" y="3429000"/>
            <a:ext cx="723888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DEFINIR O GRUPO TÉCNICO DE COORDENAÇÃO E ELABORAÇÃO DO PNRH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Times New Roman"/>
              </a:rPr>
              <a:t>DE ACORDO COM AS DIRETRIZES ESTABELECIDAS E APROVADAS PELA CÂMARA TÉCNICA, ELABOROU-SE PLANO DE TRABALHO, VISANDO DAR ORDENAMENTO À IMPLEMENTAÇAO DAS AÇÕES, TENDO COMO PRINCIPAIS METAS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PLANO DE TRABALHO e ESTRUTURA E CONTEÚDO DO PNRH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(10</a:t>
            </a:r>
            <a:r>
              <a:rPr b="1" lang="pt-BR" sz="24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a.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Reunião – 20/11/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262400"/>
            <a:ext cx="7238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CONSOLIDAR A ESTRUTURA E CONTEÚDO DO PNRH; e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4838760"/>
            <a:ext cx="7238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Arial"/>
                <a:ea typeface="Arial"/>
              </a:rPr>
              <a:t>DEFINIR AS ESTRATÉGIAS DE ELABORAÇÃO DO PNR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5409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strutura e Conteúdo do PNR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95280"/>
            <a:ext cx="9143280" cy="5562360"/>
            <a:chOff x="0" y="1295280"/>
            <a:chExt cx="9143280" cy="5562360"/>
          </a:xfrm>
        </p:grpSpPr>
        <p:sp>
          <p:nvSpPr>
            <p:cNvPr id="125" name=""/>
            <p:cNvSpPr/>
            <p:nvPr/>
          </p:nvSpPr>
          <p:spPr>
            <a:xfrm>
              <a:off x="196200" y="1295280"/>
              <a:ext cx="8947080" cy="537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EST" descr=""/>
            <p:cNvPicPr/>
            <p:nvPr/>
          </p:nvPicPr>
          <p:blipFill>
            <a:blip r:embed="rId1"/>
            <a:srcRect l="4946" t="6383" r="4946" b="7425"/>
            <a:stretch/>
          </p:blipFill>
          <p:spPr>
            <a:xfrm>
              <a:off x="0" y="1480320"/>
              <a:ext cx="8947080" cy="537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09680" y="1522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CRONOGRAMA DA CÂMARA TÉCNICA PARA 2002 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(11ª REUNIÃO – 21/02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1600200"/>
            <a:ext cx="9144000" cy="5257440"/>
            <a:chOff x="0" y="1600200"/>
            <a:chExt cx="9144000" cy="5257440"/>
          </a:xfrm>
        </p:grpSpPr>
        <p:sp>
          <p:nvSpPr>
            <p:cNvPr id="131" name=""/>
            <p:cNvSpPr/>
            <p:nvPr/>
          </p:nvSpPr>
          <p:spPr>
            <a:xfrm>
              <a:off x="0" y="1769400"/>
              <a:ext cx="9144000" cy="5088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0" y="1600200"/>
              <a:ext cx="9144000" cy="5257080"/>
              <a:chOff x="0" y="1600200"/>
              <a:chExt cx="9144000" cy="5257080"/>
            </a:xfrm>
          </p:grpSpPr>
          <p:sp>
            <p:nvSpPr>
              <p:cNvPr id="133" name=""/>
              <p:cNvSpPr/>
              <p:nvPr/>
            </p:nvSpPr>
            <p:spPr>
              <a:xfrm>
                <a:off x="228600" y="1600200"/>
                <a:ext cx="8915400" cy="338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4" name=""/>
              <p:cNvGraphicFramePr/>
              <p:nvPr/>
            </p:nvGraphicFramePr>
            <p:xfrm>
              <a:off x="0" y="1769400"/>
              <a:ext cx="9144000" cy="50878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13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0" y="1769400"/>
                        <a:ext cx="9144000" cy="5087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1600200"/>
            <a:ext cx="6858000" cy="46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 COMPOSIÇÃO DO GTCE-PNRH – SRH/MMA e ANA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. REALIZAÇÃO DE REUNIÕES DE TRABALHO SISTEMÁTICAS DO GTCE-PNRH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DIAGNÓSTICO SÍNTESE DA BACIA HIDROGRÁFICA DO RIO SÃO FRANCISCO (11</a:t>
            </a:r>
            <a:r>
              <a:rPr b="1" lang="pt-BR" sz="1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 Reunião – 21/02/2002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PANORAMA DAS REGIÕES HIDROGRÁFICAS BRASILEIRAS – PRELIMINAR (13a. Reunião – 20/06/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. VISÃO SETORIAL DOS RECURSOS HÍDRICOS – SETOR DE IRRIGAÇÃO, SETOR HIDRELÉTRICO e TRANSPORTE AQUAVIÁRIO (14a. Reunião – 15/08/200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388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VANÇOS ALCANÇ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1371600"/>
            <a:ext cx="6858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. DEFINIÇÃO DA BASE FÍSICO-TERRITORIAL A SER ADOTADA NO PNR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ISÃO ESTRATÉGICA DOS SETORES USUARIOS E SUA INTERFACE COM O PLANEJAMENTO NACIONAL DOS RECURSOS HÍDRIC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. DIAGNÓSTICO DAS REGIÕES HIDROGRÁFICAS BRASILEIRAS – versão aprofundada; 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. COMPOSIÇÃO DO VOLUME “VISÃO NACIONAL - SÍNTESE”, para discus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457200"/>
            <a:ext cx="762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ÓXIMAS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762120"/>
            <a:ext cx="9144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20:22:44Z</dcterms:created>
  <dc:creator>rcrema</dc:creator>
  <dc:description/>
  <dc:language>en-US</dc:language>
  <cp:lastModifiedBy>Carlos Novais</cp:lastModifiedBy>
  <dcterms:modified xsi:type="dcterms:W3CDTF">2002-08-22T11:29:27Z</dcterms:modified>
  <cp:revision>90</cp:revision>
  <dc:subject/>
  <dc:title>PLANO NACIONAL DE  RECURSOS HÍDRICOS </dc:title>
</cp:coreProperties>
</file>