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4E9-962A-4782-8F90-E2DF762D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EBF-2D8D-4712-AD96-C5B2BD7C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42C-140B-49FB-8B67-59C300BB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6E5-6969-4E66-A813-CA3A8BFF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F8C-B931-4190-832D-E3B9875C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027-47CE-4195-B6E1-3DD27917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8C3-0F90-4F47-AA13-ECF9C760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A93-BB09-42D4-8C36-4AFB44AC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D0AF-DF90-45EF-9E9C-D982D5CB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D3E3-B33E-4808-AE32-FDDDF82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617-B418-4C71-8FE5-3F9970F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FA6-0562-4112-AC08-0F23E6D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DC1-6E46-4E9B-8770-7885FA3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6F0-D558-45A9-8F59-47B21AF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3F53-ABDD-4FB9-B518-87FDF383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9019-6BA0-4717-8998-778601FE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5CA-835F-4063-B9B1-42AC6635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A35-E658-4EFA-9EF4-DA421EB8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987-FB17-40AD-BFEF-771F270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2D4-A2B4-4B1C-9459-FFBC40E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6E1-918E-439B-A6D4-ABCBAAB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12B-B387-4FB7-8BF1-302D17E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9D1-6D46-4672-A098-DC1A0AD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2D0-EFC8-47A5-A73E-91E1CC6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A1C4-7166-45FA-A94C-69C73EED3935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31A8-2F50-4E05-BAAD-B6233A897A62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607320"/>
            <a:ext cx="767880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esidência da República 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Secretaria Especial de Desenvolvimento Urbano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ograma de Modernização do Setor Saneamento - PM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norama dos Serviços e Necessidades de Investimentos para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Universalização dos Serviços de Água e Esgotos no Bras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Estimativas e comportamento dos investimen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153280" cy="11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1371600" y="4343400"/>
          <a:ext cx="6858000" cy="220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343400"/>
                    <a:ext cx="6858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Estimativas e comportamento dos investimen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81080" y="3056040"/>
          <a:ext cx="52578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5257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Agend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utura de regulação do setor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vos modelos institucionais e de gest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calização e integração das ações compensatóri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vo padrão de financiamen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operação entre os diversos níveis de governo;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ções estruturantes e emergenciais para o período de transi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14400" y="2362320"/>
            <a:ext cx="5486400" cy="4343400"/>
          </a:xfrm>
          <a:custGeom>
            <a:avLst/>
            <a:gdLst>
              <a:gd name="textAreaLeft" fmla="*/ 734760 w 5486400"/>
              <a:gd name="textAreaRight" fmla="*/ 4751640 w 5486400"/>
              <a:gd name="textAreaTop" fmla="*/ 759960 h 4343400"/>
              <a:gd name="textAreaBottom" fmla="*/ 314892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Agend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visar e implementar a agenda do setor, considerando ainda novos governos estaduais e federal a partir de janeiro de 2003, é preciso aprimorar as avali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m informações novas importantes, como Censo 2000 e PNSB 2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 uma série histórica e crescente de informações sobre o setor – SNIS-PMSS-SEDU, de 1995 a 2001 (inicia coleta em maio), que cobre aproximadamente 90% dos serviços e 75% dos municípios brasilei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m novas e crescentes deman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melhora na qualidade dos serviç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melhor qualidade da água – portaria n. do 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tratamento de esgo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dução de per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saneamento rur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334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to custa a universalização e como financia-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: dimensionar o volume de investimentos necessários à universalização do acesso aos serviços de água e esgot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ando: evolução do padrão demográfico no país, caraterísticas das cidades brasileiras, diferenças de acesso aos serviços nas regiões mais pobres, padrões de atendimento dos serviços que contemplem as principais deficiê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unidade base para a estimação dos investimentos será o estado. A metodologia utilizada deverá permitir que qualquer município (ou região) do país dimensione suas necessidades de investimentos para a universaliza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todologia para estimação do défiit atual e da demanda futura, incluindo as definições de serviços adequados e de cen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estimação da demanda futura dos serviços de abastecimento de água e de esgotamento sanit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demanda futura nos estados, grandes regiões, regiões metropolitanas e municípios, sendo estes grupados por porte, separando, para todos os casos, áreas urbanas e rur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demanda futura por etapas principais dos serviços, como, por exemplo, captação, tratamento, reservação, adução e distribuição, coleta, tratamento e disposição final, incluindo necessidades de reposição, para a  universalização do acesso aos serviços de água e esgot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 conclus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todologia para estimação dos custos unitário e total de expansão e de reabilitação dos serviços de água e dos serviços de coleta e tratamento de esgotos , considerando padrões de atendimento e estratégias para a universalização, consider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essividade no atendimento total dos serviços por rede, nas áreas urbanas, especialmente para esgotamento sanit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 d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luções alternativas para a provisão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iorização aos municípios com maior incidência de doenças relacionadas com ausência ou insuficiência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iorização dos municípios mais pobres do 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lhoria da qualidade dos serviços prest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-56016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imação dos custos de expansão, de reabilitação e  de melhoria da qualidade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expansão dos sist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para atendimento das normas atual e futura de potabilidade da á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reabilitação dos sistemas, considerando a possibilidade de otimização da prestação dos servi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nas áreas urbanas e rurais, inclusive considerando soluções alternativas para as localidades rurai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implantação dos serviços de tratamento de esgotos em áreas urbanas e rurais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ção dos Investimentos totais necessários à universalização dos serviços segundo os estados, grandes regiões, regiões metropolitanas, por porte de 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52200" indent="-53136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ções para o trabalh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au e tendências de urbanização nos est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tilização de tecnologias apropriadas e de baixo custo de acordo com as especificidades loca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proveitamento das economias de escala e de escopo, necessidades de reposição de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ferenciais regionais de custo referentes aos aspectos geográficos, ambientais e de recursos hídricos e em relação ao por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adualização dos investimentos, especialmente em tratamento e destinação final de esg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esso prioritário aos mais pob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lhoria da qualidade dos serviços atualmente oferecidos, especialmente eliminação de racionamento e intermitência na provisão dos serviços de ág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vestimentos em otimização de sistemas, incluindo incremento de atendimento decorrente, por exemplo, de redução de perdas de água e de operação adequada de ETEs exist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 algn="just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s esperados, discutidos e aprovados previamente por um “fórum” do setor e pelo PMSS-S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  1    - Plano do Trabalho e Metodologia para a elaboração dos Estu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2 - Caracterização do Déficit Atual e Estimação da Demanda Futura para a Universalização dos Serviços de Á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 3  - Estimação dos Custos Unitário e Total à Universalização dos Serviços Segundo Padrões Definidos de At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azo estimado – 6 meses, a partir de maio de 20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 dos serviç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9608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absolu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(rede e fonte própria) – 1,7 milh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 e fossa)– 6,4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rba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(rede) – 3,7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) – 16,0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 e fossa) – 10,2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pobrez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regiona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77760" y="2741760"/>
            <a:ext cx="91774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estrutura da rede urb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2560" y="2509920"/>
            <a:ext cx="77360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impacto na saúde públ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3520" y="2514600"/>
            <a:ext cx="7238520" cy="2895120"/>
            <a:chOff x="533520" y="2514600"/>
            <a:chExt cx="7238520" cy="2895120"/>
          </a:xfrm>
        </p:grpSpPr>
        <p:sp>
          <p:nvSpPr>
            <p:cNvPr id="229" name=""/>
            <p:cNvSpPr/>
            <p:nvPr/>
          </p:nvSpPr>
          <p:spPr>
            <a:xfrm>
              <a:off x="533520" y="2514600"/>
              <a:ext cx="117180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317960" y="2588760"/>
              <a:ext cx="6454080" cy="28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éficits e impacto nos recursos hídr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tamento de esgo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50% do volume coletado em re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2,5% do volume de água consum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5,2 milhões de domicílios estão ligados às redes de esg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7,1 milhões de domicílios dispõem de fossas sé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demos estimar que 22,6 milhões de domicílios urba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nçam seus esgotos diretamente no meio ambiente, s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nhum trat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ando que o volume médio de esgoto coletado p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micílio ligado à rede é de 490 litros/dia, pode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erir que são lançados no ambiente aproxima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1 milhões de m³/dia, sem nenhum tratamento.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impacto nos recursos hídr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das em sistemas de ág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14400" y="3124080"/>
          <a:ext cx="3505320" cy="27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350532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914400" y="5791320"/>
          <a:ext cx="3505320" cy="50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791320"/>
                    <a:ext cx="3505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3710160"/>
          <a:ext cx="4114800" cy="180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710160"/>
                    <a:ext cx="41148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4:15:06Z</dcterms:created>
  <dc:creator>PNUD</dc:creator>
  <dc:description/>
  <dc:language>en-US</dc:language>
  <cp:lastModifiedBy>Paulo de Tarso Saudades</cp:lastModifiedBy>
  <dcterms:modified xsi:type="dcterms:W3CDTF">2002-03-14T11:17:42Z</dcterms:modified>
  <cp:revision>5</cp:revision>
  <dc:subject/>
  <dc:title>Presidência da República  Secretaria Especial de Desenvolvimento Urbano Programa de Modernização do Setor Saneamento - PMSS</dc:title>
</cp:coreProperties>
</file>