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627280" y="1052640"/>
            <a:ext cx="3888000" cy="32288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059280" y="5734080"/>
            <a:ext cx="3456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Times New Roman"/>
              </a:rPr>
              <a:t>Parecer da CT-P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- Panorama e Estado dos Recursos Hídricos do Bras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 - Águas para o Futuro: Uma Visão para 202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I - Diretriz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V - Programas Nacionais e M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-69480"/>
            <a:ext cx="9144000" cy="1283760"/>
            <a:chOff x="0" y="-69480"/>
            <a:chExt cx="9144000" cy="128376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9144000" cy="1143000"/>
            </a:xfrm>
            <a:prstGeom prst="roundRect">
              <a:avLst>
                <a:gd name="adj" fmla="val 139"/>
              </a:avLst>
            </a:prstGeom>
            <a:solidFill>
              <a:srgbClr val="dde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69480"/>
              <a:ext cx="9144000" cy="12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333399"/>
                  </a:solidFill>
                  <a:latin typeface="Times New Roman"/>
                </a:rPr>
                <a:t>Conteúdo do PNRH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br>
                <a:rPr sz="4000"/>
              </a:b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i="1" lang="en-GB" sz="2800" spc="-1" strike="noStrike">
                  <a:solidFill>
                    <a:srgbClr val="333399"/>
                  </a:solidFill>
                  <a:latin typeface="Times New Roman"/>
                </a:rPr>
                <a:t>Conteúdos Finais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(2/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2276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Água para Todos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Água para Alguns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Água para Poucos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-69480"/>
            <a:ext cx="9144000" cy="1283760"/>
            <a:chOff x="0" y="-69480"/>
            <a:chExt cx="9144000" cy="1283760"/>
          </a:xfrm>
        </p:grpSpPr>
        <p:sp>
          <p:nvSpPr>
            <p:cNvPr id="68" name=""/>
            <p:cNvSpPr/>
            <p:nvPr/>
          </p:nvSpPr>
          <p:spPr>
            <a:xfrm>
              <a:off x="0" y="0"/>
              <a:ext cx="9144000" cy="1143000"/>
            </a:xfrm>
            <a:prstGeom prst="roundRect">
              <a:avLst>
                <a:gd name="adj" fmla="val 139"/>
              </a:avLst>
            </a:prstGeom>
            <a:solidFill>
              <a:srgbClr val="dde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69480"/>
              <a:ext cx="9144000" cy="12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333399"/>
                  </a:solidFill>
                  <a:latin typeface="Times New Roman"/>
                </a:rPr>
                <a:t>Conteúdo do PNRH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br>
                <a:rPr sz="4000"/>
              </a:b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333399"/>
                  </a:solidFill>
                  <a:latin typeface="Times New Roman"/>
                </a:rPr>
                <a:t>Cenários     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(2/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9640" y="5157720"/>
            <a:ext cx="64278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Invariâ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Estratégia Rob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8080" y="1557360"/>
            <a:ext cx="3557160" cy="5479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Times New Roman"/>
              </a:rPr>
              <a:t>Nomes dos Cen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20" y="4508640"/>
            <a:ext cx="5663160" cy="5479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Times New Roman"/>
              </a:rPr>
              <a:t>Estratégias a partir dos Cen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 primeiro conjunto de macro-diretriz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por objeto a 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inserção do país nos contextos global, latino-americano e caribenho, para fins de identificação e 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acompanhamento de demand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obre produtos que utilizam água como insumo de produção, considerando, também,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interesses geopolític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a gestão de bacias de rios transfronteiriços e fronteiriços, bem como o cumprimento de acordos, convenções e tratados internacionais celebrados pelo Brasil. Assim como,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vetores endógenos de desenvolviment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gundo conjunto de diretriz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o PNRH deve ser o próprio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ordenamento institucional da gestão integrada dos recursos hídricos no Brasil (GIR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, que deve tratar do modelo institucional adotado, dos instrumentos de gestão previstos e de ações de capacitação e de comunicação social que confiram suporte a todos os atores envolvidos e ao funcionamento do Sistema e de suas ferramentas de atu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rceiro conjunt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 macro-diretrizes do PNRH trata de suas 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articulações intersetoriais, inter e intra-institucionai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reconhecidamente essenciais para a efetividade da GIR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arto conjunt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 macro-diretrizes contempla uma perspectiva espacial, definindo unidades geográficas de intervenção, onde os limites não necessariamente coincidem com o de uma bacia hidrográfica, que requerem ações e atividades ajustadas à natureza e tipologia de problemas regionais que se mostram bastante característicos, exigindo, por essa razão, que as linhas de atuação dos programas e subprogramas já propostos nessas áreas, venham a sofrer uma especialização determinada por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realidades específic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into conjunt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 diretrizes diz respeito ao modelo de gerenciamento executivo e de 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monitoramento e avaliação da implementação do PNR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-69480"/>
            <a:ext cx="9144000" cy="1283760"/>
            <a:chOff x="0" y="-69480"/>
            <a:chExt cx="9144000" cy="1283760"/>
          </a:xfrm>
        </p:grpSpPr>
        <p:sp>
          <p:nvSpPr>
            <p:cNvPr id="75" name=""/>
            <p:cNvSpPr/>
            <p:nvPr/>
          </p:nvSpPr>
          <p:spPr>
            <a:xfrm>
              <a:off x="0" y="0"/>
              <a:ext cx="9144000" cy="1143000"/>
            </a:xfrm>
            <a:prstGeom prst="roundRect">
              <a:avLst>
                <a:gd name="adj" fmla="val 139"/>
              </a:avLst>
            </a:prstGeom>
            <a:solidFill>
              <a:srgbClr val="dde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-69480"/>
              <a:ext cx="9144000" cy="12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333399"/>
                  </a:solidFill>
                  <a:latin typeface="Times New Roman"/>
                </a:rPr>
                <a:t>Conteúdo do PNRH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br>
                <a:rPr sz="4000"/>
              </a:b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333399"/>
                  </a:solidFill>
                  <a:latin typeface="Times New Roman"/>
                </a:rPr>
                <a:t>Diretrizes    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      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(2/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meiro componen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 justifica pelo fato de que o SINGREH, elemento indispensável à viabilização de resultados finalísticos do PNRH, e em cujo contexto se inserem os SEGRHs, não se encontra totalmente implementado. Assim, o componente encerra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ções programáticas voltadas para o própri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rdenamento institucional da gestão integrada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dos recursos hídricos no Brasil (GIRH), bem como para os instrumentos da política de recursos hídricos, além de ações de capacitação e comunicação soci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gundo componen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rda as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rticulações intersetoriais, interinstitucionais e intrainstituciona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centrais para efetividade da gestão integrada dos recursos hídricos, tratando de temas relacionados aos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etores usuários e aos usos múltiplos dos recursos hídric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rceiro componen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ressa ações em espaços territoriais cujas peculiaridades ambientais, regionais ou tipologias de problemas relacionados à água conduzem a um outro recorte, onde os limites não necessariamente coincidem com o de uma bacia hidrográfica, e que necessitam de programas concernentes à especificidade de seus problemas (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ituações Especiais de Planejame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arto componen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a da necessidade de promover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valiações sistemáticas do processo de implementação do Plano Nacional de Recursos Hídric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 do alcance de seus resultados, visando apoiar as necessárias atualiz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-69480"/>
            <a:ext cx="9144000" cy="1283760"/>
            <a:chOff x="0" y="-69480"/>
            <a:chExt cx="9144000" cy="12837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9144000" cy="1143000"/>
            </a:xfrm>
            <a:prstGeom prst="roundRect">
              <a:avLst>
                <a:gd name="adj" fmla="val 139"/>
              </a:avLst>
            </a:prstGeom>
            <a:solidFill>
              <a:srgbClr val="dde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-69480"/>
              <a:ext cx="9144000" cy="12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333399"/>
                  </a:solidFill>
                  <a:latin typeface="Times New Roman"/>
                </a:rPr>
                <a:t>Conteúdo do PNRH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br>
                <a:rPr sz="4000"/>
              </a:b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333399"/>
                  </a:solidFill>
                  <a:latin typeface="Times New Roman"/>
                </a:rPr>
                <a:t>Programas e Metas   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      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(2/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 de Estudos Estratégicos sobr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 de Desenvolvimento Institucional da GIRH no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 de Desenvolvimento e Implementação de Instrumentos de Gestã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envolvimento Tecnológico, Capacitação e Comunicação Social em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 de Articulação Intersetorial, Interinstitucional e Intrainstitucional da Gestão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 de Usos Múltiplos e Gestão Integrada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s Setoriais voltados aos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 Nacional de Águas Subterrân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 de Gestão de Recursos Hídricos Integrados ao Gerenciamento Cost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 de Gestão Ambiental de Recursos Hídricos na Região Amazô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 de Conservação das Águas no Pant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 de Gestão Sustentável de Recursos Hídricos e Convivência com o Semi-árido Brasil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a de Gerenciamento Executivo e de Monitoramento e Avaliação da Implementação do PN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-79200"/>
            <a:ext cx="9144000" cy="1283760"/>
            <a:chOff x="0" y="-79200"/>
            <a:chExt cx="9144000" cy="128376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1125360"/>
            </a:xfrm>
            <a:prstGeom prst="roundRect">
              <a:avLst>
                <a:gd name="adj" fmla="val 139"/>
              </a:avLst>
            </a:prstGeom>
            <a:solidFill>
              <a:srgbClr val="dde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-79200"/>
              <a:ext cx="9144000" cy="12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333399"/>
                  </a:solidFill>
                  <a:latin typeface="Times New Roman"/>
                </a:rPr>
                <a:t>Conteúdo do PNRH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br>
                <a:rPr sz="4000"/>
              </a:b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333399"/>
                  </a:solidFill>
                  <a:latin typeface="Times New Roman"/>
                </a:rPr>
                <a:t>Programas 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       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(2/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ddee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O conteúdo do PNRH e a Lei 94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50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. diagnóstico da situação atual dos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I. análise de alternativas de crescimento demográfico, de evolução de atividades produtivas e de modificações dos padrões de ocupação do so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II. balanço de disponibilidades e demandas futuras dos recursos hídricos, em quantidade e qualidade, com identificação de conflitos poten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V. metas de racionalização de uso, aumento da quantidade e melhoria da qualidade dos recursos hídricos disponíve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. medidas a serem tomadas, programas a serem desenvolvidos e projetos a serem implantados, para atendimento das metas previst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. (VET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I.(VET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II. prioridades para outorga de direitos de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X. diretrizes e critérios para a cobrança pelo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. propostas para a criação de áreas sujeitas a restrições de uso, com vistas à proteção dos recursos hídric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9144000" cy="1143000"/>
          </a:xfrm>
          <a:prstGeom prst="rect">
            <a:avLst/>
          </a:prstGeom>
          <a:solidFill>
            <a:srgbClr val="ddee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omentários Fin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ddee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ópic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stórico da Elaboração do P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údo do PN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údo do Plano e a Lei 94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mendaçõ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ddee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responsabilidades institu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isão de Plano: do Planejamento Racional Clássico ao Planejament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Importância da Base Téc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ddee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Histórico da Elaboração do Plano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1/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i 9433 de 1997 estabelece o Plano Nacional de Recursos Hídricos (PNRH) como sendo instrumento de gestão e estabelece, o Conselho Nacional de Recursos Hídricos (CNRH) como sendo fórum de acompanhamento da execução e aprovação do PNRH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CNRH criou, por meio de sua Resolução 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4 de junho de 1999 a Câmara Técnica do Plano Nacional de Recursos Hídricos (CT-PNR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âmbito desta câmara técnica foi construído o primeiro documento que funda a formulação atual do PNRH. Trata-se do texto “O Plano Nacional de Recursos Hídricos-Contribuição para a Elaboração de Diretrizes para a sua elaboração”, estruturado pelo Dr. Flávio Terra Barth e aprovado pela V Reunião Ordinária do CNRH, em 15 de dezembro de 20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-PNRH iniciou uma discussão que culminou, em 2002, na criação do Grupo Técnico de Coordenação e Elaboração do Plano (GTCE), composto por técnicos da SRH/MMA e da 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tentes do PNR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vertente nac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 organizam os temas e questões estratégicas, de abrangência nacional, voltados para efetivar a gestão integrada dos recursos hídr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vertente reg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questões de caráter estritamente regionais ou locais integram o estabelecimento da Visão Regional dos Recursos Hídricos nas 12 Regiões Hidrográficas Brasileiras, questões estas que tem suas implicações interregionais, macroregionais e nacionais sistematizadas com vistas a incorporação do PNR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mens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articipação públic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ção de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ocumentos técn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instrumentais e fina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ddee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Histórico da Elaboração do Plano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2/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participação pública regio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i estruturada em torno das Comissões Executivas Regionais (CER) que incorporaram representação de todos os conselhos estaduais existentes, assim como, representante do Estado, usuários e sociedade civil. Cada uma das doze regiões hidrográficas da Divisão Hidrográfica Nacional teve uma CER. A interação regional proporcionada por estas CER´s possibilita importantes sinergias no Sistema Nacional de Recursos Hídricos que podem ultrapassar o escopo da elaboração do PNRH. As CER´s organizaram seminários regionais de discussão do Plano. Adicionalmente, formam realizadas audiências públicas em todos os Estados Federados estas com um nível de participação heterogêneo em sua representativ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participação pública nacional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deu por meio de seminários nacionais (construção de cenários e consolidação de diretrizes metas e programas), oficinas temáticas (Gênero e água, Aspectos sócio-culturais da água, gestão de recursos hídricos transfronteiriços e captação e manejo de água de chuvas) e setoriais (sociedade civil e usuários), videoconferências (promovida pelo setor industrial) e apresentação das discussões do PNRH em eventos (tais como, VI encontro de comitês de bacias e XVI Simpósio Brasileiro de Recursos Hídric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-62280"/>
            <a:ext cx="9144000" cy="1268280"/>
          </a:xfrm>
          <a:prstGeom prst="rect">
            <a:avLst/>
          </a:prstGeom>
          <a:solidFill>
            <a:srgbClr val="ddee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Histórico da Elaboração do Plano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Participação Públic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/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ocumento Base de Referênc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tudos ANA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1 - Disponibilidade e Demandas de Recursos Hídricos no Brasil; 2 - Panorama da Qualidade das Águas Superficiais no Brasil; 3 -Panorama da Qualidade das Águas Subterrâneas no Brasil; 4 - Panorama do Enquadramento dos Corpos d'Água; 5 - Aproveitamento do Potencial Hidráulico para Geração de Energia; 6 – A Navegação Interior e sua Interface com o setor de Recursos Hídricos; 7 - O Turismo e Lazer e sua Interface com o Setor de Recursos Hídricos; 8 - Diagnóstico da Outorga de Direito de Usos dos Recursos Hídricos no País – Diretrizes e Prioridades; 9 – Fiscalização dos Usos de Recursos Hídricos – Diagnóstico, Critérios e Diretrizes; 10 – Proposta de Programas e Ações para o PN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adernos Setoriais de Recursos Hídric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 trataram de temas, tais como: indústria e o turismo; a agropecuária, aqüicultura e pesca; a geração de energia elétrica, o saneamento ambiental e o transporte aquavi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adernos Regionais de Recursos Hídric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aborados para cada uma das regiões hidrográf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ocumentos de Planejamento do Plano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o do Plano; Definição dos limites de abrangência do escopo do plano nacional de recursos hídricos, assim como, as atas da Câmara Técnica do Pl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-41400"/>
            <a:ext cx="9144000" cy="1227240"/>
            <a:chOff x="0" y="-41400"/>
            <a:chExt cx="9144000" cy="122724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1143000"/>
            </a:xfrm>
            <a:prstGeom prst="roundRect">
              <a:avLst>
                <a:gd name="adj" fmla="val 139"/>
              </a:avLst>
            </a:prstGeom>
            <a:solidFill>
              <a:srgbClr val="dde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-41400"/>
              <a:ext cx="914400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Histórico da Elaboração do Plano </a:t>
              </a:r>
              <a:br>
                <a:rPr sz="4000"/>
              </a:b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i="1" lang="en-GB" sz="2800" spc="-1" strike="noStrike">
                  <a:solidFill>
                    <a:srgbClr val="333399"/>
                  </a:solidFill>
                  <a:latin typeface="Times New Roman"/>
                </a:rPr>
                <a:t>Documentos Instrumentais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(4/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- Panorama e Estado dos Recursos Hídricos do Bras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 - Águas para o Futuro: Uma Visão para 202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I - Diretriz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V - Programas Nacionais e M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41400"/>
            <a:ext cx="9144000" cy="1227240"/>
            <a:chOff x="0" y="-41400"/>
            <a:chExt cx="9144000" cy="122724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9144000" cy="1143000"/>
            </a:xfrm>
            <a:prstGeom prst="roundRect">
              <a:avLst>
                <a:gd name="adj" fmla="val 139"/>
              </a:avLst>
            </a:prstGeom>
            <a:solidFill>
              <a:srgbClr val="dde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41400"/>
              <a:ext cx="914400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Histórico da Elaboração do Plano </a:t>
              </a:r>
              <a:br>
                <a:rPr sz="4000"/>
              </a:b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i="1" lang="en-GB" sz="2800" spc="-1" strike="noStrike">
                  <a:solidFill>
                    <a:srgbClr val="333399"/>
                  </a:solidFill>
                  <a:latin typeface="Times New Roman"/>
                </a:rPr>
                <a:t>Documentos Finais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40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(5/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62280"/>
            <a:ext cx="9144000" cy="1268280"/>
          </a:xfrm>
          <a:prstGeom prst="rect">
            <a:avLst/>
          </a:prstGeom>
          <a:solidFill>
            <a:srgbClr val="ddee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Conteúdo do PNRH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(Objetivo) 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1/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Plano Nacional tem o objetivo geral d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Estabelecer um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pacto nacional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para a definição de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diretrizes e políticas pública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, voltadas para a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melhoria da oferta de águ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, em qualidade e quantidade,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gerenciando as demanda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e considerando ser a água um elemento estruturante para a implementação das políticas setoriais, sob a ótica do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desenvolvimento sustentável e da inclusão social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es objetivos estratégicos (finalísticos) são formulados contemplando três dimens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elhoria das disponibilidades hídricas, superficiais e subterrâneas, em qualidade e em quant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dução dos conflitos reais e potenciais de uso da água, bem como dos eventos hidrológicos crít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ercepção da conservação da água como valor socioambiental releva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