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130-7FCE-44B4-AC0D-22AE0E02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A5A0-0215-4530-8190-0511F67F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4DE-72E8-4965-AD1D-026FB12D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B0F-AC99-4769-98C7-02908F3B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BCB-BB17-4E70-9E23-B86C6CE9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D42-23D7-466E-9A15-3C59DED3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167-9DD3-413E-935A-4FD89117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002-2EC5-4A92-BE11-79F3EA6F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B65-FB0F-4EAC-B813-8A209AA8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AB3-5016-4E83-9263-1F1B5DE1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FE2-95A7-49BC-8507-F036067A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920-3AF2-46FD-BD30-FA854EF2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460B-F09A-4C5C-9B0E-51A006558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42" name="Breda%5D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H01406J" descr=""/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9220320" cy="623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 txBox="1"/>
          <p:nvPr/>
        </p:nvSpPr>
        <p:spPr>
          <a:xfrm>
            <a:off x="1752480" y="457200"/>
            <a:ext cx="6019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nistério do Meio Ambient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retaria de Recursos Hídric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209680"/>
            <a:ext cx="8763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 Conselho Nacional de Recursos Hídricos - CNRH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962520"/>
            <a:ext cx="7848720" cy="22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JOÃO BOSCO SEN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ecretário de Recursos Hídricos/MMA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Brasília, junho de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48" name="Breda%5D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H01406J" descr=""/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9220320" cy="623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609480" y="533520"/>
            <a:ext cx="876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5:26:15Z</dcterms:created>
  <dc:creator>EST-A518</dc:creator>
  <dc:description/>
  <dc:language>en-US</dc:language>
  <cp:lastModifiedBy>DPI</cp:lastModifiedBy>
  <dcterms:modified xsi:type="dcterms:W3CDTF">2003-06-25T22:40:00Z</dcterms:modified>
  <cp:revision>2</cp:revision>
  <dc:subject/>
  <dc:title>Apresentação do PowerPoint</dc:title>
</cp:coreProperties>
</file>