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28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7.jpeg" ContentType="image/jpeg"/>
  <Override PartName="/ppt/media/image2.wmf" ContentType="image/x-wmf"/>
  <Override PartName="/ppt/media/image25.wmf" ContentType="image/x-wmf"/>
  <Override PartName="/ppt/media/image1.png" ContentType="image/png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9.png" ContentType="image/pn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696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595760"/>
            <a:ext cx="5029200" cy="43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918972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5840" y="918972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B5B9-9DE4-47F1-B557-1CB656F295C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6960" cy="36273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6840" y="4595400"/>
            <a:ext cx="6095880" cy="507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ÇÕES A SEREM IMPLEMENTAD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esenvolvimento dos Projetos Regionais conforme sua fas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alização do II Encontro Inter-regional de Águas Subterrânea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uniões dos Comitês Diretivos Nacionais dos Projetos Region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ssinatura de Termos de Cooperação Téc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ublicação de cartilha e livro sobre o tema nascentes e águas subterrân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ções para desenvolvimento do P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E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Planos regionais para gestão e uso sustentável dos aqüíferos e águas subterrân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rede de articula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Agregação/expansão do conhecimento básico hidrogeológ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arcabouço legal nacional articulado e estadual promulgado e regulamentado, municipal articul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arcabouço institucional fortalecido e melhor capacitado para atuação emm águas subterrân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capacitação de técnicos ges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formação de atores sociais para uso sustentável e controle social das águas subterrân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stabelecimentos de Termos de Cooperação Técnica, convênios para possibilitar gestão compartilhada e conjun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6960" cy="36273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595760"/>
            <a:ext cx="5029200" cy="435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textualização –  Políticas Públicas de Águas Subterrân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rovíncias Hidrogeológicas Brasilei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estão de Recursos Hídricos Subterrâne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ecreto nº 4.755, de junho de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AS, CTAS, P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bjetivo – Promover ações que possibilitem à construção de um arcabouço gerencial das águas subterrâneas do Brasil, servindo de base à proteção, conservação e gestão sistêmica, integrada e participativa dos aqüífer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sso significa ampliar os conhecimentos básicos hidrogeológicos, propiciar a construção e o fortalecimento institucional e legal, subsidiar e promover a gestão e formular políticas públicas das águas subterrâneas brasileiras, compatibilizadas com as políticas de recursos hídricos nacional e estaduais e com a participação do município, tendo como resultado o desenvolvimento sustentado das províncias hidrogeológic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6960" cy="3627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562720" cy="507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BRANGÊNCI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AS – n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rojeto ISARM – aqüíferos transfronteiriç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rojetos Nascentes – bacias hidrográficas dos Projetos region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rojeto Águas Cidadãs – semi-árido (A,. BA, CE, MA, MG, PB, PE, PI, RN, 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rojeto Parnaíba Subterrâneo – Bacia Hidrogeológica do Parnaíba (BA, CE, MA, PA, PI e 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rojeto Paraná – Bacia hidrogeológica do Paraná (GO, MG, MS, MT, PR, RS, SC e S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ÇÕES IMPLEMENTAD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esenvolvimento das ações gerais do PAS e dos Projetos Parnaíba Subterrâneo, Águas Cidadãs, Nascentes, ISARM e Paraná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ssinatura do Termo de Cooperação entre SRH/MMA e CPRM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rticulação para assinatura Termo de Cooperação Técnica ABAS, CHESF, CODEVASF  e DNOC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laboração da página do PAS no site da SRH/MM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alização do I Encontro Técnico Inter-regional de Águas Subterrâneas no Piauí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laboração de artigo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presentação de palestras e do PAS e representação da SRH/MMA em diversos eventos em águas subterrân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26320"/>
            <a:chOff x="0" y="0"/>
            <a:chExt cx="9144000" cy="682632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2679840"/>
              <a:chOff x="0" y="0"/>
              <a:chExt cx="9144000" cy="2679840"/>
            </a:xfrm>
          </p:grpSpPr>
          <p:graphicFrame>
            <p:nvGraphicFramePr>
              <p:cNvPr id="2" name=""/>
              <p:cNvGraphicFramePr/>
              <p:nvPr/>
            </p:nvGraphicFramePr>
            <p:xfrm>
              <a:off x="0" y="0"/>
              <a:ext cx="9144000" cy="26798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0" y="0"/>
                        <a:ext cx="9144000" cy="2679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001000" y="838080"/>
                <a:ext cx="946080" cy="30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RH" descr=""/>
              <p:cNvPicPr/>
              <p:nvPr/>
            </p:nvPicPr>
            <p:blipFill>
              <a:blip r:embed="rId5"/>
              <a:stretch/>
            </p:blipFill>
            <p:spPr>
              <a:xfrm>
                <a:off x="1752480" y="800280"/>
                <a:ext cx="2495520" cy="444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" name="conferencia-2" descr=""/>
            <p:cNvPicPr/>
            <p:nvPr/>
          </p:nvPicPr>
          <p:blipFill>
            <a:blip r:embed="rId6"/>
            <a:stretch/>
          </p:blipFill>
          <p:spPr>
            <a:xfrm>
              <a:off x="7467480" y="6248520"/>
              <a:ext cx="160020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7a4"/>
                </a:solidFill>
                <a:latin typeface="Verdana"/>
              </a:rPr>
              <a:t>Ministério do Meio Ambiente</a:t>
            </a:r>
            <a:br>
              <a:rPr sz="2800"/>
            </a:br>
            <a:br>
              <a:rPr sz="1200"/>
            </a:br>
            <a:r>
              <a:rPr b="1" lang="pt-BR" sz="2800" spc="-1" strike="noStrike">
                <a:solidFill>
                  <a:srgbClr val="0027a4"/>
                </a:solidFill>
                <a:latin typeface="Verdana"/>
              </a:rPr>
              <a:t>Secretaria de Recursos Hídricos</a:t>
            </a:r>
            <a:br>
              <a:rPr sz="2800"/>
            </a:br>
            <a:br>
              <a:rPr sz="3200"/>
            </a:br>
            <a:r>
              <a:rPr b="1" lang="pt-BR" sz="4000" spc="-1" strike="noStrike">
                <a:solidFill>
                  <a:srgbClr val="0027a4"/>
                </a:solidFill>
                <a:latin typeface="Verdana"/>
              </a:rPr>
              <a:t>REUNIÃO CONSELHO </a:t>
            </a:r>
            <a:br>
              <a:rPr sz="4000"/>
            </a:br>
            <a:r>
              <a:rPr b="1" lang="pt-BR" sz="4000" spc="-1" strike="noStrike">
                <a:solidFill>
                  <a:srgbClr val="0027a4"/>
                </a:solidFill>
                <a:latin typeface="Verdana"/>
              </a:rPr>
              <a:t>NACIONAL DE RECURSOS</a:t>
            </a:r>
            <a:br>
              <a:rPr sz="4000"/>
            </a:br>
            <a:r>
              <a:rPr b="1" lang="pt-BR" sz="4000" spc="-1" strike="noStrike">
                <a:solidFill>
                  <a:srgbClr val="0027a4"/>
                </a:solidFill>
                <a:latin typeface="Verdana"/>
              </a:rPr>
              <a:t>HÍDRICOS</a:t>
            </a:r>
            <a:br>
              <a:rPr sz="4000"/>
            </a:br>
            <a:br>
              <a:rPr sz="4000"/>
            </a:br>
            <a:r>
              <a:rPr b="1" lang="pt-BR" sz="2000" spc="-1" strike="noStrike">
                <a:solidFill>
                  <a:srgbClr val="0027a4"/>
                </a:solidFill>
                <a:latin typeface="Verdana"/>
              </a:rPr>
              <a:t>Brasília, 01 dezembro de 2003</a:t>
            </a:r>
            <a:br>
              <a:rPr sz="32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09480" y="1182600"/>
          <a:ext cx="11792160" cy="925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82600"/>
                    <a:ext cx="11792160" cy="925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27160" y="1071720"/>
          <a:ext cx="8667720" cy="539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1071720"/>
                    <a:ext cx="8667720" cy="53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80880" y="1333440"/>
          <a:ext cx="11644560" cy="783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33440"/>
                    <a:ext cx="11644560" cy="783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380880" y="1309680"/>
          <a:ext cx="11490480" cy="890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09680"/>
                    <a:ext cx="11490480" cy="890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52520" y="1298520"/>
          <a:ext cx="9466200" cy="59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298520"/>
                    <a:ext cx="9466200" cy="59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560520" y="1214280"/>
          <a:ext cx="11644200" cy="77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520" y="1214280"/>
                    <a:ext cx="11644200" cy="77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536400" y="1298520"/>
          <a:ext cx="11644560" cy="900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298520"/>
                    <a:ext cx="11644560" cy="90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90440" y="1405080"/>
          <a:ext cx="9096480" cy="62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1405080"/>
                    <a:ext cx="9096480" cy="62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536400" y="1298520"/>
          <a:ext cx="11644560" cy="75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298520"/>
                    <a:ext cx="11644560" cy="75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536400" y="1309680"/>
          <a:ext cx="11644560" cy="887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309680"/>
                    <a:ext cx="11644560" cy="887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pt-BR" sz="2400" spc="-1" strike="noStrike">
                <a:solidFill>
                  <a:srgbClr val="000099"/>
                </a:solidFill>
                <a:latin typeface="Verdana"/>
              </a:rPr>
              <a:t>Conselho Nacional de Recursos Hídricos</a:t>
            </a:r>
            <a:br>
              <a:rPr sz="1200"/>
            </a:br>
            <a:r>
              <a:rPr b="1" lang="pt-BR" sz="1200" spc="-1" strike="noStrike">
                <a:solidFill>
                  <a:srgbClr val="000099"/>
                </a:solidFill>
                <a:latin typeface="Verdana"/>
              </a:rPr>
              <a:t>                                   </a:t>
            </a:r>
            <a:br>
              <a:rPr sz="1200"/>
            </a:br>
            <a:br>
              <a:rPr sz="1200"/>
            </a:br>
            <a:r>
              <a:rPr b="0" i="1" lang="pt-BR" sz="1800" spc="-1" strike="noStrike">
                <a:solidFill>
                  <a:srgbClr val="000099"/>
                </a:solidFill>
                <a:latin typeface="Verdana"/>
              </a:rPr>
              <a:t>Colegiado que desenvolve regras de mediação entre os diversos usuários da água sendo, assim, um dos grandes responsáveis pela implementação da gestão dos recursos hídricos no País.  Por articular a integração das políticas públicas no Brasil é reconhecido pela sociedade como orientador para um diálogo transparente no processo de decisões no campo da legislação de recursos hídricos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Membros -  Governo Federal </a:t>
            </a:r>
            <a:br>
              <a:rPr sz="1800"/>
            </a:b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     Conselhos Estaduais de Recursos Hídricos </a:t>
            </a:r>
            <a:br>
              <a:rPr sz="1800"/>
            </a:b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Verdana"/>
              </a:rPr>
              <a:t>      Usuários e Organização Civil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309600" y="690480"/>
          <a:ext cx="8810640" cy="568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690480"/>
                    <a:ext cx="8810640" cy="56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55520" y="608040"/>
          <a:ext cx="9298080" cy="608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520" y="608040"/>
                    <a:ext cx="9298080" cy="60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404640" y="1417680"/>
          <a:ext cx="11501640" cy="717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1417680"/>
                    <a:ext cx="11501640" cy="717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19200" y="1143000"/>
          <a:ext cx="847728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1143000"/>
                    <a:ext cx="847728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536400" y="1298520"/>
          <a:ext cx="11525400" cy="713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298520"/>
                    <a:ext cx="11525400" cy="713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452520" y="1285920"/>
          <a:ext cx="11358360" cy="846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285920"/>
                    <a:ext cx="11358360" cy="846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309600" y="1690560"/>
          <a:ext cx="10990080" cy="821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1690560"/>
                    <a:ext cx="10990080" cy="821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305160" y="278604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-76320" y="1158840"/>
            <a:ext cx="9220320" cy="5570640"/>
            <a:chOff x="-76320" y="1158840"/>
            <a:chExt cx="9220320" cy="557064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3048120" y="1158840"/>
              <a:ext cx="6095880" cy="5570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" name=""/>
            <p:cNvGrpSpPr/>
            <p:nvPr/>
          </p:nvGrpSpPr>
          <p:grpSpPr>
            <a:xfrm>
              <a:off x="-76320" y="1523880"/>
              <a:ext cx="5209560" cy="5137920"/>
              <a:chOff x="-76320" y="1523880"/>
              <a:chExt cx="5209560" cy="513792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762120" y="5045040"/>
                <a:ext cx="4371120" cy="1616760"/>
                <a:chOff x="762120" y="5045040"/>
                <a:chExt cx="4371120" cy="16167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762120" y="5045040"/>
                  <a:ext cx="533160" cy="22860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1302480" y="5045040"/>
                  <a:ext cx="2270160" cy="35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06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Estados com Legislação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762120" y="5424480"/>
                  <a:ext cx="533160" cy="2286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280880" y="5389560"/>
                  <a:ext cx="2245680" cy="35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06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Estados sem Legislação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885960" y="5754600"/>
                  <a:ext cx="257040" cy="304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264320" y="5807160"/>
                  <a:ext cx="3868920" cy="35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06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Conselhos Estaduais de Recursos Hídricos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20800" y="6253200"/>
                  <a:ext cx="411120" cy="35316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6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ffff66"/>
                      </a:solidFill>
                      <a:latin typeface="Times New Roman"/>
                    </a:rPr>
                    <a:t>Nº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225080" y="6308640"/>
                  <a:ext cx="2919240" cy="35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06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Comitês de Bacia Hidrográfica 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" name=""/>
              <p:cNvSpPr/>
              <p:nvPr/>
            </p:nvSpPr>
            <p:spPr>
              <a:xfrm>
                <a:off x="-76320" y="1523880"/>
                <a:ext cx="3962520" cy="12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0000"/>
                    </a:solidFill>
                    <a:latin typeface="Arial"/>
                  </a:rPr>
                  <a:t>Legislação, Conselhos e Comitês Estaduai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523880" y="1206360"/>
          <a:ext cx="7620120" cy="560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06360"/>
                    <a:ext cx="7620120" cy="560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100080" y="3570120"/>
            <a:ext cx="3352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Estágio Atual quanto a Legislação e Política de Recursos Hídric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692360" y="1076400"/>
          <a:ext cx="7451640" cy="573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076400"/>
                    <a:ext cx="7451640" cy="57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0" y="3357720"/>
            <a:ext cx="36352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Comitês de Bacias Hidrográficas - Rios de Domínio dos Est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0200" y="4600440"/>
            <a:ext cx="215640" cy="287640"/>
          </a:xfrm>
          <a:prstGeom prst="rect">
            <a:avLst/>
          </a:prstGeom>
          <a:solidFill>
            <a:srgbClr val="85c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80000" y="4292640"/>
            <a:ext cx="216000" cy="287280"/>
          </a:xfrm>
          <a:prstGeom prst="rect">
            <a:avLst/>
          </a:prstGeom>
          <a:solidFill>
            <a:srgbClr val="85c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28000" y="328608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Verdana"/>
              </a:rPr>
              <a:t>                    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Em 2003 </a:t>
            </a:r>
            <a:br>
              <a:rPr sz="1400"/>
            </a:br>
            <a:r>
              <a:rPr b="1" lang="en-US" sz="1400" spc="-1" strike="noStrike">
                <a:solidFill>
                  <a:srgbClr val="000099"/>
                </a:solidFill>
                <a:latin typeface="Verdana"/>
              </a:rPr>
              <a:t>.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uniões plenárias:   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                               2 Ordinárias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                               3 Extraordinárias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. 2 Resoluções e 8 Moções aprovada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. N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 Unicode MS"/>
              </a:rPr>
              <a:t>ove assembléias para a escolha de representantes dos usuários e da sociedade civil, as quais envolveram cerca de 700 instituições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. DECRETO n.º 4.613, que regulamentou o CNRH - entre outras providências, aumentou o número de vagas de conselheiros, de 29 para 57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. Aprovação da criação do Comitê da Bacia Hidrográfica do Rio Verde Grande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. Reuniões de Câmaras Técnicas: 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83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. Participação média: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24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técnicos, entre membros e convidados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. Participação total: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.960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pessoas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. Reuniões de Câmaras Técnicas em outras localidades: São Lourenço/MG, Bela Vista/MS, Pelotas/RS, Palmas/TO, Belo Horizonte/MG, Salvador /BA, Araraquara/SP, Curitiba/PR e Rio de Janeiro/RJ.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Verdana"/>
              </a:rPr>
              <a:t>                                         </a:t>
            </a:r>
            <a:br>
              <a:rPr sz="1800"/>
            </a:br>
            <a:r>
              <a:rPr b="1" lang="en-US" sz="1800" spc="-1" strike="noStrike">
                <a:solidFill>
                  <a:srgbClr val="808080"/>
                </a:solidFill>
                <a:latin typeface="Verdana"/>
              </a:rPr>
              <a:t>                                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Metas para 2004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                             - destaques - </a:t>
            </a:r>
            <a:br>
              <a:rPr sz="2400"/>
            </a:br>
            <a:br>
              <a:rPr sz="1400"/>
            </a:b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. Acompanhamento da discussão e aprovação do Plano Nacional de Recursos Hídricos com a sociedade;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  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. Finalização da revisão da Resolução CNRH n.º 5;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. Encaminhamento de sugestões ao PL 1.616; e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. Acompanhamento permanente da implementação das deliberações do Conselho.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 u="sng">
                <a:solidFill>
                  <a:srgbClr val="000099"/>
                </a:solidFill>
                <a:uFillTx/>
                <a:latin typeface="Verdana"/>
              </a:rPr>
              <a:t>Resultado esperado: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- Maior articulação entre órgãos e entidades dos diversos segmentos que compõem o CNRH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- Harmonização da legislação relacionada aos recursos hídric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65120" y="1227240"/>
          <a:ext cx="8548560" cy="53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227240"/>
                    <a:ext cx="8548560" cy="53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52520" y="1298520"/>
          <a:ext cx="11644200" cy="764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298520"/>
                    <a:ext cx="11644200" cy="764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609480" y="1981080"/>
          <a:ext cx="10882440" cy="807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10882440" cy="807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80880" y="1166760"/>
          <a:ext cx="8847360" cy="589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66760"/>
                    <a:ext cx="8847360" cy="58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36400" y="1214280"/>
          <a:ext cx="11489040" cy="742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214280"/>
                    <a:ext cx="11489040" cy="742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20:05:10Z</dcterms:created>
  <dc:creator>INTRANET</dc:creator>
  <dc:description/>
  <dc:language>en-US</dc:language>
  <cp:lastModifiedBy>IICA</cp:lastModifiedBy>
  <dcterms:modified xsi:type="dcterms:W3CDTF">2003-12-01T11:48:39Z</dcterms:modified>
  <cp:revision>21</cp:revision>
  <dc:subject/>
  <dc:title>Apresentação do PowerPoint</dc:title>
</cp:coreProperties>
</file>