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9748838" cy="6850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744-7F5F-4D58-98A0-3F3DCCCD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99C-4FFA-485D-BA12-152B711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0DC-0B00-46BB-BB9A-1F89E121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361-1497-4644-AAD8-DA8DB628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26C-F67D-4FDF-A7EB-3148F0F5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04D-FB43-4C00-B4D3-65E5C2A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D0B-10D1-4005-841C-6E33BAD6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1C6-5B4B-46C3-83BB-3CD4E026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F00-8F5C-4DA4-B92F-FF7D20D4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37F-E387-4440-8784-E1B4DB14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381-7C09-47DE-A8F1-CC37EC5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1AF-2F41-48CE-A021-5AB820E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3A5-93A2-447C-BBB4-2A60A4E97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BASES PARA ELABORAÇÃO DO PROGRAMA SEDE 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SRH / Conselho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março/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-137484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484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1244520"/>
          <a:ext cx="9067680" cy="53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44520"/>
                    <a:ext cx="906768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553080"/>
            <a:ext cx="609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 Básica: Ministério da Integração Nacional/ Secretaria da Defesa Civil –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-993600" y="114480"/>
          <a:ext cx="5607000" cy="118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360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350520" y="28908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81120" y="2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5105160" cy="6781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095880"/>
            <a:ext cx="3352680" cy="2764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Fonte: Atlas da Exclusão Social no Brasil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0" y="7632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TRIZES DO MMA COMO MARCOS REFERENCIAIS DO SEDE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ESENVOLVIMENTO SUSTENTÁVEL - propostas e soluções adequadas às dimensões sócioambien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TRANSVERSALIDADE - cada ministério ou setor deverá identificar oportunidades de participação; definição de 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CONTROLE SOCIAL (PARTICIPAÇÃO, MOBILIZAÇÃO E VALORES CULTURAIS) - envolvimento social para compartilhar o processo de elaboração, de implementação e de gestão do programa - participação de instâncias colegiadas, organizações religiosas, rede de ONGs, centrais sindicais, organizações de usuári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CTO FEDERATIVO SOCIOAMBIENTAL (Ações integradas SISNAMA e SINGR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152712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4691160"/>
            <a:ext cx="9144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ENDA 21 NACIONAL (publicada em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mover a universalização do acesso à água e ao esgoto, ampliando para 60% o tratamento secundário de esgoto n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óxima décad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-1450800" y="381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50800" y="381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29000" y="22860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ROS MARCOS REFERENCIAI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48896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GENDA 21 MUN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rantir pelo menos 40 litros per capita por dia de água potável a todos os residentes em áreas urban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izar e facilitar a participação da mulher nas equipes de manejo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33720" y="457200"/>
            <a:ext cx="761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7040" y="8621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4556160"/>
            <a:ext cx="8159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RECE DESTAQUE O VALOR SOCIAL DA ÁGUA (SEM DESCONSIDERAR SEU VALOR ECONÔMICO), COMO UM RECURSO IMPRESCINDÍVEL PARA O ESTABELECIMENTO E MANUTENÇÃO DA VIDA, SENDO SUA DISPONIBILIDADE, EM QUANTIDADE E QUALIDADE ADEQUADAS, UM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ATOR PREPONDERANTE DE INCLUSÃO  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14508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508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657600" y="304920"/>
            <a:ext cx="5562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ROS MARCOS REFERENCIAI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00200"/>
            <a:ext cx="8534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i 9.433/97 (Lei das Águ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água é um bem de Domínio Públi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 situação de escassez, o uso prioritário dos recursos hídricos é o consumo humano e a dessedentação de anim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Gestão dos Recursos Hídricos deve ser descentralizada e contar com a participação do Poder Público, dos usuários e das comun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-13716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716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36800" y="304920"/>
            <a:ext cx="5562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O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73280"/>
            <a:ext cx="847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umentar a oferta de água de boa qualidade à população brasilei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despertar a sociedade sobre a importância do tema para o desenvolvimento sustent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mobilizar a sociedade para contribuir com o alcance da meta estabel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consolidar a questão da água como instrumento de justiça e solidarieda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844640"/>
            <a:ext cx="89154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garantir, no mínimo, 40 litros de água diários, per capita, de boa qualidade, privilegiando medidas de baixo custo, que respeitem as características region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nserir ações de educação sanitária e ambiental nas propostas e soluções apontadas pelo pro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pontar propostas e soluções relacionadas recuperação de nascentes, mapas de topo, vegetação cili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pontar soluções voltadas ao combate ao desperdício, ao reuso da águ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mplementar ações visando atender à demanda de água para assentamentos de reforma agrária, comunidades indígenas e quilombo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-99072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9072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118040" y="304920"/>
            <a:ext cx="5562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OS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494080"/>
            <a:ext cx="89154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 SEDE ZERO É UM PROJETO SOCIAL QUE DEMANDA AÇÕES POLÍTICAS, ORGANIZADAS EM 2 CONJUNTOS DE PROPO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 gest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70120" y="22716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E DESENVOLVIMENTO METODOLÓGIC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E ZER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-1523880" y="2649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3880" y="2649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057400"/>
            <a:ext cx="8915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O SEDE ZERO DEVERÁ TER 4 VERTENTES BÁSICAS DE ATUA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áreas com escassez natural de águ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centros urban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voltada para a recuperação de bacias hidrográfi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 atuação em áreas indígenas, de assentamento de reforma agrária e quilombo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3800" y="22716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RUTURA E DESENVOLVIMENTO METODOLÓGIC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DE ZER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-1600200" y="26496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00200" y="26496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1066680" cy="6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86200" y="4572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86200" y="6019920"/>
            <a:ext cx="1066680" cy="609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784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BORAÇÃO DA PROPOSTA PRELIMINAR PARA SUBSÍDIO DAS CONSULTAS A SEREM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749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IZAÇÃO DAS CONSUL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410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OLIDAÇÃO DAS CONTRIBU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3808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TAPAS  DO PROJE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1488960" y="76320"/>
          <a:ext cx="5607000" cy="1181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488960" y="7632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523880"/>
            <a:ext cx="8229600" cy="52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az parte destacada dessa agenda (do MMA) o trabalho integrado no semi-árido, para o qual a equipe de transição na área ambiental propôs o Sede Zero, como a outra face do Programa Fome Zero anunciado pelo presidente Lula”...  “O Sede Zero quer, por meio de um conjunto de intervenções integradas de governo, assegurar a cada brasileiro o direito a uma quantidade mínima de água de boa qualidade diária, conforme prevê a Agenda 21. Desse esforço farão parte ações de recuperação das nascentes, das matas ciliares, o combate ao desperdício, medidas de baixo custo para propiciar o acesso à água potável e até a realização de grandes obras de saneamento ambiental”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arina Silva - discurso de posse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-324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1148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CAMINHAMENTO DA PROPOSTA PARA APROVAÇÃO NO C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1067040" cy="609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3520" y="22096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ALIZAÇÃO DE SEMINÁRIO PARA CONSOLIDAÇÃO DA PRO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1067040" cy="6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-1527120" y="190440"/>
          <a:ext cx="5607000" cy="118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712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971800" y="38088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TAPAS  DO PROJ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83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MPO PREVISTO PARA A CONSTRUÇÃO COLETIVA DO PROJETO - 3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12408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TA PRELIMINAR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1184400" y="19044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84400" y="19044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0" y="1600200"/>
            <a:ext cx="914400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 PROPOSTA PRELIMINAR PREVÊ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iretrizes G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Diagnóstico consolidado, conte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levantamento e análise das ações em cur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panorama da realidade urbana e r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identificação de alternativas de baixo custo, estruturais e não estrutura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banco de dados e sistema georreferenc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Arial"/>
              </a:rPr>
              <a:t>A PROPOSTA PRELIMINAR DEVE AGREGAR RESULTADOS DA ARTICULAÇÃO INTERMINISTERIAL E DA  ARTICULAÇÃO COM ESTADOS E MUNICÍ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698480"/>
            <a:ext cx="915660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VERÃO SER CONSOLIDADOS NA ETAPA DE CONSTRUÇÃO DO PROJETO, POR INTERMÉDIO DAS CONSULTA E DISCUSSÕES COM DIVERSOS SEGMENTOS DA SOCIEDA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ierarquização de áreas, utilizando indicad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dentificação de alternativas de acordo com as características das áreas selecionad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alhamento ações, horizontes temporais e definição dos responsá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talhamento dos investimentos necessári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dentificação de parcerias, entidades financiadoras e de f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inição de indicadores de acompanhamento da eficácia do Proje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mplementação do progra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286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TA PRELIMINAR DO SEDE 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-1068480" y="190440"/>
          <a:ext cx="560556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8480" y="190440"/>
                    <a:ext cx="56055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rsos Hídricos por Região do Brasil (em % do total do Paí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Consumo Sustentável: manual de educação. MMA/ IDEC. Brasília/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108240"/>
          <a:ext cx="8229600" cy="26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08240"/>
                    <a:ext cx="822960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-1450800" y="114480"/>
          <a:ext cx="5607000" cy="118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5080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1709640"/>
            <a:ext cx="89154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Do total de domicílios brasileiros (54.2 milhões), 63,9% (34.6 milhões) são atendidos com rede de abastecimento de ág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O índice de tratamento de esgoto em relação ao volume coletado corresponde a 35,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O índice de tratamento de esgoto em relação ao volume de água distribuída corresponde a 11,7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Fonte: PNSB/ IBGE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1260360" y="15228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60360" y="15228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990720"/>
          <a:ext cx="8686800" cy="438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8680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5410080"/>
            <a:ext cx="518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-1146240" y="22860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6240" y="22860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28600" y="1614600"/>
          <a:ext cx="8686800" cy="492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14600"/>
                    <a:ext cx="868680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198240" y="3650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1332000"/>
          <a:ext cx="8763120" cy="55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2000"/>
                    <a:ext cx="87631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-1222200" y="0"/>
          <a:ext cx="5607000" cy="1181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222200" y="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124080" y="380880"/>
            <a:ext cx="5729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8195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=7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6019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Nota. Um mesmo distrito pode apresentar mais de um motivo relacionado ao racionamen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1527120" y="228600"/>
          <a:ext cx="5607000" cy="118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228600"/>
                    <a:ext cx="560700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412440" y="21924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522440"/>
          <a:ext cx="8686800" cy="449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522440"/>
                    <a:ext cx="86868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5943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onte: Pesquisa Nacional de Saneamento Básico: 2000. IBGE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Nota: um mesmo distrito pode apresentar mais de um motivo do raciona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-1527120" y="114480"/>
          <a:ext cx="5607000" cy="118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7120" y="114480"/>
                    <a:ext cx="56070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412440" y="0"/>
            <a:ext cx="57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DE ZERO: ANTECED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357200"/>
          <a:ext cx="8688240" cy="4675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357200"/>
                    <a:ext cx="868824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1:55:28Z</dcterms:created>
  <dc:creator>Oscar</dc:creator>
  <dc:description/>
  <dc:language>en-US</dc:language>
  <cp:lastModifiedBy>Maria de Fátima</cp:lastModifiedBy>
  <cp:lastPrinted>2003-03-25T11:57:18Z</cp:lastPrinted>
  <dcterms:modified xsi:type="dcterms:W3CDTF">2003-03-25T12:21:05Z</dcterms:modified>
  <cp:revision>52</cp:revision>
  <dc:subject/>
  <dc:title>Slide sem título </dc:title>
</cp:coreProperties>
</file>