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024-3014-45F4-8446-F235C86E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DC9-BBEE-469D-B743-B62C8CEC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B03-8559-4C28-AB6B-9CE7AAF4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0F1-639F-4C6B-A0FB-BF30A0AD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944-EFA9-4A05-8B6C-AE50BAD0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0F9-DB06-41B8-909A-8FCE67F8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8A7-68E3-40DA-82C4-B2F8B93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ED5-C42C-4F6F-B56A-05AC3C56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216-83E8-47E7-B883-E45AFE94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C58-6C58-48D9-8ADC-1F9BE699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56F-B587-4B36-956F-7294C12E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2AA-AEE8-4B4A-B758-A5C2414A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104-F1F2-4EAF-B861-E6C69CE7F8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9080" y="1125360"/>
            <a:ext cx="685008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CNR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Implantação do SNGR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(01/11/0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Jerson Kel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Diretor- Presidente da 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033800" y="3348000"/>
            <a:ext cx="4889880" cy="2852640"/>
            <a:chOff x="4033800" y="3348000"/>
            <a:chExt cx="4889880" cy="2852640"/>
          </a:xfrm>
        </p:grpSpPr>
        <p:sp>
          <p:nvSpPr>
            <p:cNvPr id="132" name=""/>
            <p:cNvSpPr/>
            <p:nvPr/>
          </p:nvSpPr>
          <p:spPr>
            <a:xfrm>
              <a:off x="4033800" y="3348000"/>
              <a:ext cx="1976400" cy="2852640"/>
            </a:xfrm>
            <a:custGeom>
              <a:avLst/>
              <a:gdLst/>
              <a:ahLst/>
              <a:rect l="l" t="t" r="r" b="b"/>
              <a:pathLst>
                <a:path w="1245" h="1797">
                  <a:moveTo>
                    <a:pt x="0" y="0"/>
                  </a:moveTo>
                  <a:cubicBezTo>
                    <a:pt x="1" y="34"/>
                    <a:pt x="3" y="68"/>
                    <a:pt x="9" y="111"/>
                  </a:cubicBezTo>
                  <a:cubicBezTo>
                    <a:pt x="15" y="154"/>
                    <a:pt x="29" y="216"/>
                    <a:pt x="39" y="261"/>
                  </a:cubicBezTo>
                  <a:cubicBezTo>
                    <a:pt x="49" y="306"/>
                    <a:pt x="61" y="348"/>
                    <a:pt x="69" y="381"/>
                  </a:cubicBezTo>
                  <a:cubicBezTo>
                    <a:pt x="77" y="414"/>
                    <a:pt x="73" y="440"/>
                    <a:pt x="87" y="459"/>
                  </a:cubicBezTo>
                  <a:cubicBezTo>
                    <a:pt x="101" y="478"/>
                    <a:pt x="122" y="472"/>
                    <a:pt x="153" y="495"/>
                  </a:cubicBezTo>
                  <a:cubicBezTo>
                    <a:pt x="184" y="518"/>
                    <a:pt x="228" y="552"/>
                    <a:pt x="273" y="597"/>
                  </a:cubicBezTo>
                  <a:cubicBezTo>
                    <a:pt x="318" y="642"/>
                    <a:pt x="380" y="709"/>
                    <a:pt x="423" y="765"/>
                  </a:cubicBezTo>
                  <a:cubicBezTo>
                    <a:pt x="466" y="821"/>
                    <a:pt x="501" y="884"/>
                    <a:pt x="531" y="933"/>
                  </a:cubicBezTo>
                  <a:cubicBezTo>
                    <a:pt x="561" y="982"/>
                    <a:pt x="573" y="1006"/>
                    <a:pt x="603" y="1059"/>
                  </a:cubicBezTo>
                  <a:cubicBezTo>
                    <a:pt x="633" y="1112"/>
                    <a:pt x="667" y="1192"/>
                    <a:pt x="711" y="1251"/>
                  </a:cubicBezTo>
                  <a:cubicBezTo>
                    <a:pt x="755" y="1310"/>
                    <a:pt x="812" y="1363"/>
                    <a:pt x="867" y="1413"/>
                  </a:cubicBezTo>
                  <a:cubicBezTo>
                    <a:pt x="922" y="1463"/>
                    <a:pt x="990" y="1508"/>
                    <a:pt x="1041" y="1551"/>
                  </a:cubicBezTo>
                  <a:cubicBezTo>
                    <a:pt x="1092" y="1594"/>
                    <a:pt x="1139" y="1630"/>
                    <a:pt x="1173" y="1671"/>
                  </a:cubicBezTo>
                  <a:cubicBezTo>
                    <a:pt x="1207" y="1712"/>
                    <a:pt x="1226" y="1754"/>
                    <a:pt x="1245" y="1797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48280" y="4000680"/>
              <a:ext cx="5637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8200" y="3429000"/>
              <a:ext cx="2445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echo sob influ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s esgotos de Paraibu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98% da carga chega ao r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íba do Su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-493200" y="347760"/>
            <a:ext cx="7680960" cy="6414120"/>
            <a:chOff x="-493200" y="347760"/>
            <a:chExt cx="7680960" cy="6414120"/>
          </a:xfrm>
        </p:grpSpPr>
        <p:sp>
          <p:nvSpPr>
            <p:cNvPr id="136" name=""/>
            <p:cNvSpPr/>
            <p:nvPr/>
          </p:nvSpPr>
          <p:spPr>
            <a:xfrm>
              <a:off x="3938760" y="3860640"/>
              <a:ext cx="431640" cy="43200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23240" y="4221000"/>
              <a:ext cx="92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flu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-493200" y="347760"/>
              <a:ext cx="7680960" cy="6414120"/>
              <a:chOff x="-493200" y="347760"/>
              <a:chExt cx="7680960" cy="6414120"/>
            </a:xfrm>
          </p:grpSpPr>
          <p:sp>
            <p:nvSpPr>
              <p:cNvPr id="139" name=""/>
              <p:cNvSpPr/>
              <p:nvPr/>
            </p:nvSpPr>
            <p:spPr>
              <a:xfrm rot="834600">
                <a:off x="-180720" y="2506680"/>
                <a:ext cx="7056720" cy="3457440"/>
              </a:xfrm>
              <a:custGeom>
                <a:avLst/>
                <a:gdLst/>
                <a:ahLst/>
                <a:rect l="l" t="t" r="r" b="b"/>
                <a:pathLst>
                  <a:path w="4445" h="2178">
                    <a:moveTo>
                      <a:pt x="0" y="0"/>
                    </a:moveTo>
                    <a:cubicBezTo>
                      <a:pt x="125" y="125"/>
                      <a:pt x="250" y="250"/>
                      <a:pt x="363" y="318"/>
                    </a:cubicBezTo>
                    <a:cubicBezTo>
                      <a:pt x="476" y="386"/>
                      <a:pt x="559" y="394"/>
                      <a:pt x="680" y="409"/>
                    </a:cubicBezTo>
                    <a:cubicBezTo>
                      <a:pt x="801" y="424"/>
                      <a:pt x="945" y="394"/>
                      <a:pt x="1089" y="409"/>
                    </a:cubicBezTo>
                    <a:cubicBezTo>
                      <a:pt x="1233" y="424"/>
                      <a:pt x="1421" y="454"/>
                      <a:pt x="1542" y="499"/>
                    </a:cubicBezTo>
                    <a:cubicBezTo>
                      <a:pt x="1663" y="544"/>
                      <a:pt x="1708" y="628"/>
                      <a:pt x="1814" y="681"/>
                    </a:cubicBezTo>
                    <a:cubicBezTo>
                      <a:pt x="1920" y="734"/>
                      <a:pt x="2041" y="787"/>
                      <a:pt x="2177" y="817"/>
                    </a:cubicBezTo>
                    <a:cubicBezTo>
                      <a:pt x="2313" y="847"/>
                      <a:pt x="2503" y="832"/>
                      <a:pt x="2631" y="862"/>
                    </a:cubicBezTo>
                    <a:cubicBezTo>
                      <a:pt x="2759" y="892"/>
                      <a:pt x="2850" y="938"/>
                      <a:pt x="2948" y="998"/>
                    </a:cubicBezTo>
                    <a:cubicBezTo>
                      <a:pt x="3046" y="1058"/>
                      <a:pt x="3123" y="1134"/>
                      <a:pt x="3221" y="1225"/>
                    </a:cubicBezTo>
                    <a:cubicBezTo>
                      <a:pt x="3319" y="1316"/>
                      <a:pt x="3409" y="1452"/>
                      <a:pt x="3538" y="1543"/>
                    </a:cubicBezTo>
                    <a:cubicBezTo>
                      <a:pt x="3667" y="1634"/>
                      <a:pt x="3886" y="1701"/>
                      <a:pt x="3992" y="1769"/>
                    </a:cubicBezTo>
                    <a:cubicBezTo>
                      <a:pt x="4098" y="1837"/>
                      <a:pt x="4098" y="1883"/>
                      <a:pt x="4173" y="1951"/>
                    </a:cubicBezTo>
                    <a:cubicBezTo>
                      <a:pt x="4248" y="2019"/>
                      <a:pt x="4400" y="2140"/>
                      <a:pt x="4445" y="217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64000" y="347760"/>
                <a:ext cx="576360" cy="3744720"/>
              </a:xfrm>
              <a:custGeom>
                <a:avLst/>
                <a:gdLst/>
                <a:ahLst/>
                <a:rect l="l" t="t" r="r" b="b"/>
                <a:pathLst>
                  <a:path w="363" h="2359">
                    <a:moveTo>
                      <a:pt x="0" y="0"/>
                    </a:moveTo>
                    <a:cubicBezTo>
                      <a:pt x="34" y="121"/>
                      <a:pt x="68" y="242"/>
                      <a:pt x="91" y="363"/>
                    </a:cubicBezTo>
                    <a:cubicBezTo>
                      <a:pt x="114" y="484"/>
                      <a:pt x="113" y="605"/>
                      <a:pt x="136" y="726"/>
                    </a:cubicBezTo>
                    <a:cubicBezTo>
                      <a:pt x="159" y="847"/>
                      <a:pt x="204" y="961"/>
                      <a:pt x="227" y="1089"/>
                    </a:cubicBezTo>
                    <a:cubicBezTo>
                      <a:pt x="250" y="1217"/>
                      <a:pt x="265" y="1361"/>
                      <a:pt x="272" y="1497"/>
                    </a:cubicBezTo>
                    <a:cubicBezTo>
                      <a:pt x="279" y="1633"/>
                      <a:pt x="264" y="1792"/>
                      <a:pt x="272" y="1905"/>
                    </a:cubicBezTo>
                    <a:cubicBezTo>
                      <a:pt x="280" y="2018"/>
                      <a:pt x="303" y="2101"/>
                      <a:pt x="318" y="2177"/>
                    </a:cubicBezTo>
                    <a:cubicBezTo>
                      <a:pt x="333" y="2253"/>
                      <a:pt x="356" y="2329"/>
                      <a:pt x="363" y="235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2722800">
                <a:off x="450720" y="1678680"/>
                <a:ext cx="1003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raiting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65160" y="519120"/>
                <a:ext cx="99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raibu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54240" y="5624640"/>
                <a:ext cx="151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3708360" y="4723920"/>
                <a:ext cx="863640" cy="10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80000" y="5877000"/>
                <a:ext cx="19443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4410000" y="4385160"/>
            <a:ext cx="2349360" cy="1837800"/>
            <a:chOff x="4410000" y="4385160"/>
            <a:chExt cx="2349360" cy="1837800"/>
          </a:xfrm>
        </p:grpSpPr>
        <p:sp>
          <p:nvSpPr>
            <p:cNvPr id="147" name=""/>
            <p:cNvSpPr/>
            <p:nvPr/>
          </p:nvSpPr>
          <p:spPr>
            <a:xfrm rot="19068000">
              <a:off x="4671720" y="4560480"/>
              <a:ext cx="966600" cy="1152720"/>
            </a:xfrm>
            <a:prstGeom prst="flowChartExtra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2560" y="445140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ervató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nta Bran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77040" y="5624640"/>
              <a:ext cx="536400" cy="598320"/>
            </a:xfrm>
            <a:custGeom>
              <a:avLst/>
              <a:gdLst/>
              <a:ahLst/>
              <a:rect l="l" t="t" r="r" b="b"/>
              <a:pathLst>
                <a:path w="338" h="377">
                  <a:moveTo>
                    <a:pt x="0" y="0"/>
                  </a:moveTo>
                  <a:lnTo>
                    <a:pt x="6" y="21"/>
                  </a:lnTo>
                  <a:cubicBezTo>
                    <a:pt x="13" y="29"/>
                    <a:pt x="27" y="35"/>
                    <a:pt x="44" y="47"/>
                  </a:cubicBezTo>
                  <a:cubicBezTo>
                    <a:pt x="61" y="59"/>
                    <a:pt x="85" y="75"/>
                    <a:pt x="106" y="91"/>
                  </a:cubicBezTo>
                  <a:cubicBezTo>
                    <a:pt x="127" y="107"/>
                    <a:pt x="148" y="128"/>
                    <a:pt x="168" y="145"/>
                  </a:cubicBezTo>
                  <a:cubicBezTo>
                    <a:pt x="188" y="162"/>
                    <a:pt x="208" y="178"/>
                    <a:pt x="224" y="193"/>
                  </a:cubicBezTo>
                  <a:cubicBezTo>
                    <a:pt x="240" y="208"/>
                    <a:pt x="253" y="224"/>
                    <a:pt x="264" y="237"/>
                  </a:cubicBezTo>
                  <a:cubicBezTo>
                    <a:pt x="275" y="250"/>
                    <a:pt x="282" y="261"/>
                    <a:pt x="290" y="273"/>
                  </a:cubicBezTo>
                  <a:cubicBezTo>
                    <a:pt x="298" y="285"/>
                    <a:pt x="306" y="294"/>
                    <a:pt x="312" y="307"/>
                  </a:cubicBezTo>
                  <a:cubicBezTo>
                    <a:pt x="318" y="320"/>
                    <a:pt x="324" y="340"/>
                    <a:pt x="328" y="351"/>
                  </a:cubicBezTo>
                  <a:cubicBezTo>
                    <a:pt x="332" y="362"/>
                    <a:pt x="335" y="369"/>
                    <a:pt x="338" y="37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988200" y="1596960"/>
            <a:ext cx="5766480" cy="3442680"/>
            <a:chOff x="988200" y="1596960"/>
            <a:chExt cx="5766480" cy="3442680"/>
          </a:xfrm>
        </p:grpSpPr>
        <p:grpSp>
          <p:nvGrpSpPr>
            <p:cNvPr id="151" name=""/>
            <p:cNvGrpSpPr/>
            <p:nvPr/>
          </p:nvGrpSpPr>
          <p:grpSpPr>
            <a:xfrm>
              <a:off x="988200" y="1596960"/>
              <a:ext cx="5766480" cy="3442680"/>
              <a:chOff x="988200" y="1596960"/>
              <a:chExt cx="5766480" cy="3442680"/>
            </a:xfrm>
          </p:grpSpPr>
          <p:sp>
            <p:nvSpPr>
              <p:cNvPr id="152" name=""/>
              <p:cNvSpPr/>
              <p:nvPr/>
            </p:nvSpPr>
            <p:spPr>
              <a:xfrm rot="18369600">
                <a:off x="1915560" y="2536920"/>
                <a:ext cx="966600" cy="1152720"/>
              </a:xfrm>
              <a:prstGeom prst="flowChartExtra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0697600">
                <a:off x="3549240" y="1685520"/>
                <a:ext cx="836640" cy="1152720"/>
              </a:xfrm>
              <a:prstGeom prst="flowChartExtra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20258400">
                <a:off x="2279520" y="2546280"/>
                <a:ext cx="1646280" cy="297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88200" y="3200400"/>
                <a:ext cx="135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eservató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iting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70600" y="1700280"/>
                <a:ext cx="2584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servató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Paraibuna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(Qmín. = 30,0 m³/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2700360" y="3933720"/>
                <a:ext cx="576360" cy="7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31760" y="4519440"/>
                <a:ext cx="111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rech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terrompi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272800">
                <a:off x="2309400" y="2280960"/>
                <a:ext cx="145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terligação artifici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843280" y="3429000"/>
              <a:ext cx="1315800" cy="660240"/>
              <a:chOff x="2843280" y="3429000"/>
              <a:chExt cx="1315800" cy="660240"/>
            </a:xfrm>
          </p:grpSpPr>
          <p:sp>
            <p:nvSpPr>
              <p:cNvPr id="161" name=""/>
              <p:cNvSpPr/>
              <p:nvPr/>
            </p:nvSpPr>
            <p:spPr>
              <a:xfrm>
                <a:off x="2843280" y="3429000"/>
                <a:ext cx="1303200" cy="660240"/>
              </a:xfrm>
              <a:custGeom>
                <a:avLst/>
                <a:gdLst/>
                <a:ahLst/>
                <a:rect l="l" t="t" r="r" b="b"/>
                <a:pathLst>
                  <a:path w="821" h="416">
                    <a:moveTo>
                      <a:pt x="0" y="0"/>
                    </a:moveTo>
                    <a:cubicBezTo>
                      <a:pt x="42" y="34"/>
                      <a:pt x="84" y="69"/>
                      <a:pt x="125" y="100"/>
                    </a:cubicBezTo>
                    <a:cubicBezTo>
                      <a:pt x="166" y="131"/>
                      <a:pt x="198" y="155"/>
                      <a:pt x="249" y="184"/>
                    </a:cubicBezTo>
                    <a:cubicBezTo>
                      <a:pt x="300" y="213"/>
                      <a:pt x="368" y="249"/>
                      <a:pt x="429" y="272"/>
                    </a:cubicBezTo>
                    <a:cubicBezTo>
                      <a:pt x="490" y="295"/>
                      <a:pt x="557" y="305"/>
                      <a:pt x="613" y="324"/>
                    </a:cubicBezTo>
                    <a:cubicBezTo>
                      <a:pt x="669" y="343"/>
                      <a:pt x="730" y="369"/>
                      <a:pt x="765" y="384"/>
                    </a:cubicBezTo>
                    <a:cubicBezTo>
                      <a:pt x="800" y="399"/>
                      <a:pt x="810" y="407"/>
                      <a:pt x="821" y="416"/>
                    </a:cubicBezTo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855880" y="3429000"/>
                <a:ext cx="1303200" cy="660240"/>
              </a:xfrm>
              <a:custGeom>
                <a:avLst/>
                <a:gdLst/>
                <a:ahLst/>
                <a:rect l="l" t="t" r="r" b="b"/>
                <a:pathLst>
                  <a:path w="821" h="416">
                    <a:moveTo>
                      <a:pt x="0" y="0"/>
                    </a:moveTo>
                    <a:cubicBezTo>
                      <a:pt x="42" y="34"/>
                      <a:pt x="84" y="69"/>
                      <a:pt x="125" y="100"/>
                    </a:cubicBezTo>
                    <a:cubicBezTo>
                      <a:pt x="166" y="131"/>
                      <a:pt x="198" y="155"/>
                      <a:pt x="249" y="184"/>
                    </a:cubicBezTo>
                    <a:cubicBezTo>
                      <a:pt x="300" y="213"/>
                      <a:pt x="368" y="249"/>
                      <a:pt x="429" y="272"/>
                    </a:cubicBezTo>
                    <a:cubicBezTo>
                      <a:pt x="490" y="295"/>
                      <a:pt x="557" y="305"/>
                      <a:pt x="613" y="324"/>
                    </a:cubicBezTo>
                    <a:cubicBezTo>
                      <a:pt x="669" y="343"/>
                      <a:pt x="730" y="369"/>
                      <a:pt x="765" y="384"/>
                    </a:cubicBezTo>
                    <a:cubicBezTo>
                      <a:pt x="800" y="399"/>
                      <a:pt x="810" y="407"/>
                      <a:pt x="821" y="4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5866920" y="115920"/>
            <a:ext cx="30106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plex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raitinga/Paraib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11720" y="2847960"/>
            <a:ext cx="2633040" cy="1168920"/>
            <a:chOff x="3411720" y="2847960"/>
            <a:chExt cx="2633040" cy="1168920"/>
          </a:xfrm>
        </p:grpSpPr>
        <p:grpSp>
          <p:nvGrpSpPr>
            <p:cNvPr id="165" name=""/>
            <p:cNvGrpSpPr/>
            <p:nvPr/>
          </p:nvGrpSpPr>
          <p:grpSpPr>
            <a:xfrm>
              <a:off x="4000320" y="2847960"/>
              <a:ext cx="2044440" cy="739440"/>
              <a:chOff x="4000320" y="2847960"/>
              <a:chExt cx="2044440" cy="7394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546440" y="2905200"/>
                <a:ext cx="503280" cy="511200"/>
                <a:chOff x="4546440" y="2905200"/>
                <a:chExt cx="503280" cy="511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546440" y="302580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46440" y="311328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46440" y="319896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46440" y="3286080"/>
                  <a:ext cx="503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617720" y="290988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705200" y="291132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790880" y="291132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887720" y="290520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962240" y="2909880"/>
                  <a:ext cx="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5045760" y="2847960"/>
                <a:ext cx="999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idade d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araibu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4000320" y="3213000"/>
                <a:ext cx="50004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067280" y="3106440"/>
                <a:ext cx="403200" cy="3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05720" y="2895480"/>
                <a:ext cx="46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p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0619000">
                <a:off x="4046760" y="324288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411720" y="359244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,5 k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991600">
              <a:off x="3870000" y="3444480"/>
              <a:ext cx="142920" cy="56376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4400 h 563760"/>
                <a:gd name="textAreaBottom" fmla="*/ 54936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ões a montante da confluência dos rios Paraibuna e Paraíba do S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25036" b="19342"/>
          <a:stretch/>
        </p:blipFill>
        <p:spPr>
          <a:xfrm>
            <a:off x="92160" y="1844640"/>
            <a:ext cx="8872560" cy="27338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6120" y="4581360"/>
            <a:ext cx="837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*Tempo de detenção dos reservatóri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 A carga de DBO resultante na confluência é de 331 kg/dia, devido apenas ao esg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a Cidade de Paraibuna (98% do total lançad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-  As demais cargas foram depuradas devido ao alto tempo de detenção nos reservató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69440" y="333360"/>
            <a:ext cx="80794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ros exemplos de comprometimento do rio Paraíba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argas lançadas em rios estaduais a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86920" y="1687680"/>
            <a:ext cx="6121440" cy="3507120"/>
            <a:chOff x="1186920" y="1687680"/>
            <a:chExt cx="6121440" cy="3507120"/>
          </a:xfrm>
        </p:grpSpPr>
        <p:grpSp>
          <p:nvGrpSpPr>
            <p:cNvPr id="188" name=""/>
            <p:cNvGrpSpPr/>
            <p:nvPr/>
          </p:nvGrpSpPr>
          <p:grpSpPr>
            <a:xfrm>
              <a:off x="1186920" y="1687680"/>
              <a:ext cx="1849320" cy="786960"/>
              <a:chOff x="1186920" y="1687680"/>
              <a:chExt cx="1849320" cy="786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763640" y="1751040"/>
                <a:ext cx="531360" cy="566280"/>
                <a:chOff x="1763640" y="1751040"/>
                <a:chExt cx="531360" cy="566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763640" y="188460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763640" y="198144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763640" y="207648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763640" y="217296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3888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93104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2176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124000" y="175104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0284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293200" y="1687680"/>
                <a:ext cx="743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acare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1186920" y="2092320"/>
                <a:ext cx="5288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619000">
                <a:off x="1231920" y="2130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560960" y="4018680"/>
              <a:ext cx="2096280" cy="672120"/>
              <a:chOff x="1560960" y="4018680"/>
              <a:chExt cx="2096280" cy="67212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976400" y="4156920"/>
                <a:ext cx="505440" cy="509760"/>
                <a:chOff x="1976400" y="4156920"/>
                <a:chExt cx="505440" cy="5097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978560" y="427464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977840" y="43621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977120" y="444780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76400" y="45349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046960" y="415944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134440" y="416160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2220120" y="416196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2316960" y="415692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2391480" y="416196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 rot="25800">
                <a:off x="2474280" y="4105440"/>
                <a:ext cx="1180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ão Jo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s Camp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1560960" y="4271760"/>
                <a:ext cx="3358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40800">
                <a:off x="1567800" y="40215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423040" y="4552200"/>
              <a:ext cx="1885320" cy="642600"/>
              <a:chOff x="5423040" y="4552200"/>
              <a:chExt cx="1885320" cy="64260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839920" y="4682880"/>
                <a:ext cx="504000" cy="511920"/>
                <a:chOff x="5839920" y="4682880"/>
                <a:chExt cx="504000" cy="51192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5839920" y="480348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5840280" y="48909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5840280" y="497664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5840640" y="50637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11200" y="46882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998680" y="468972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84360" y="468936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181200" y="46828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255720" y="468756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 rot="21592800">
                <a:off x="6337440" y="4622760"/>
                <a:ext cx="97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çapa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5423040" y="4805640"/>
                <a:ext cx="33624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7800">
                <a:off x="5429160" y="45525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395280" y="1644840"/>
            <a:ext cx="8412120" cy="4050000"/>
            <a:chOff x="395280" y="1644840"/>
            <a:chExt cx="8412120" cy="4050000"/>
          </a:xfrm>
        </p:grpSpPr>
        <p:grpSp>
          <p:nvGrpSpPr>
            <p:cNvPr id="231" name=""/>
            <p:cNvGrpSpPr/>
            <p:nvPr/>
          </p:nvGrpSpPr>
          <p:grpSpPr>
            <a:xfrm>
              <a:off x="395280" y="1709640"/>
              <a:ext cx="8412120" cy="3985200"/>
              <a:chOff x="395280" y="1709640"/>
              <a:chExt cx="8412120" cy="3985200"/>
            </a:xfrm>
          </p:grpSpPr>
          <p:sp>
            <p:nvSpPr>
              <p:cNvPr id="232" name=""/>
              <p:cNvSpPr/>
              <p:nvPr/>
            </p:nvSpPr>
            <p:spPr>
              <a:xfrm>
                <a:off x="395280" y="2717640"/>
                <a:ext cx="8412120" cy="984240"/>
              </a:xfrm>
              <a:custGeom>
                <a:avLst/>
                <a:gdLst/>
                <a:ahLst/>
                <a:rect l="l" t="t" r="r" b="b"/>
                <a:pathLst>
                  <a:path w="5299" h="620">
                    <a:moveTo>
                      <a:pt x="0" y="0"/>
                    </a:moveTo>
                    <a:cubicBezTo>
                      <a:pt x="166" y="87"/>
                      <a:pt x="333" y="174"/>
                      <a:pt x="499" y="227"/>
                    </a:cubicBezTo>
                    <a:cubicBezTo>
                      <a:pt x="665" y="280"/>
                      <a:pt x="809" y="325"/>
                      <a:pt x="998" y="318"/>
                    </a:cubicBezTo>
                    <a:cubicBezTo>
                      <a:pt x="1187" y="311"/>
                      <a:pt x="1421" y="197"/>
                      <a:pt x="1633" y="182"/>
                    </a:cubicBezTo>
                    <a:cubicBezTo>
                      <a:pt x="1845" y="167"/>
                      <a:pt x="2041" y="167"/>
                      <a:pt x="2268" y="227"/>
                    </a:cubicBezTo>
                    <a:cubicBezTo>
                      <a:pt x="2495" y="287"/>
                      <a:pt x="2760" y="485"/>
                      <a:pt x="2994" y="545"/>
                    </a:cubicBezTo>
                    <a:cubicBezTo>
                      <a:pt x="3228" y="605"/>
                      <a:pt x="3432" y="620"/>
                      <a:pt x="3674" y="590"/>
                    </a:cubicBezTo>
                    <a:cubicBezTo>
                      <a:pt x="3916" y="560"/>
                      <a:pt x="4196" y="370"/>
                      <a:pt x="4445" y="363"/>
                    </a:cubicBezTo>
                    <a:cubicBezTo>
                      <a:pt x="4694" y="356"/>
                      <a:pt x="5043" y="507"/>
                      <a:pt x="5171" y="545"/>
                    </a:cubicBezTo>
                    <a:cubicBezTo>
                      <a:pt x="5299" y="583"/>
                      <a:pt x="5257" y="586"/>
                      <a:pt x="5216" y="59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64000" y="2646360"/>
                <a:ext cx="151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172360" y="3222720"/>
                <a:ext cx="432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68360" y="2933640"/>
                <a:ext cx="3585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203640" y="286236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04840" y="1709640"/>
                <a:ext cx="82440" cy="1368360"/>
              </a:xfrm>
              <a:custGeom>
                <a:avLst/>
                <a:gdLst/>
                <a:ahLst/>
                <a:rect l="l" t="t" r="r" b="b"/>
                <a:pathLst>
                  <a:path w="52" h="862">
                    <a:moveTo>
                      <a:pt x="7" y="0"/>
                    </a:moveTo>
                    <a:cubicBezTo>
                      <a:pt x="3" y="94"/>
                      <a:pt x="0" y="189"/>
                      <a:pt x="7" y="272"/>
                    </a:cubicBezTo>
                    <a:cubicBezTo>
                      <a:pt x="14" y="355"/>
                      <a:pt x="52" y="423"/>
                      <a:pt x="52" y="499"/>
                    </a:cubicBezTo>
                    <a:cubicBezTo>
                      <a:pt x="52" y="575"/>
                      <a:pt x="7" y="666"/>
                      <a:pt x="7" y="726"/>
                    </a:cubicBezTo>
                    <a:cubicBezTo>
                      <a:pt x="7" y="786"/>
                      <a:pt x="29" y="824"/>
                      <a:pt x="52" y="862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971640" y="3162240"/>
                <a:ext cx="1296720" cy="1513080"/>
              </a:xfrm>
              <a:custGeom>
                <a:avLst/>
                <a:gdLst/>
                <a:ahLst/>
                <a:rect l="l" t="t" r="r" b="b"/>
                <a:pathLst>
                  <a:path w="817" h="953">
                    <a:moveTo>
                      <a:pt x="0" y="953"/>
                    </a:moveTo>
                    <a:cubicBezTo>
                      <a:pt x="79" y="870"/>
                      <a:pt x="159" y="787"/>
                      <a:pt x="227" y="726"/>
                    </a:cubicBezTo>
                    <a:cubicBezTo>
                      <a:pt x="295" y="665"/>
                      <a:pt x="370" y="658"/>
                      <a:pt x="408" y="590"/>
                    </a:cubicBezTo>
                    <a:cubicBezTo>
                      <a:pt x="446" y="522"/>
                      <a:pt x="416" y="378"/>
                      <a:pt x="454" y="318"/>
                    </a:cubicBezTo>
                    <a:cubicBezTo>
                      <a:pt x="492" y="258"/>
                      <a:pt x="590" y="265"/>
                      <a:pt x="635" y="227"/>
                    </a:cubicBezTo>
                    <a:cubicBezTo>
                      <a:pt x="680" y="189"/>
                      <a:pt x="696" y="129"/>
                      <a:pt x="726" y="91"/>
                    </a:cubicBezTo>
                    <a:cubicBezTo>
                      <a:pt x="756" y="53"/>
                      <a:pt x="786" y="26"/>
                      <a:pt x="817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4034600">
                <a:off x="4716360" y="3798720"/>
                <a:ext cx="1152720" cy="1800000"/>
              </a:xfrm>
              <a:custGeom>
                <a:avLst/>
                <a:gdLst/>
                <a:ahLst/>
                <a:rect l="l" t="t" r="r" b="b"/>
                <a:pathLst>
                  <a:path w="726" h="1134">
                    <a:moveTo>
                      <a:pt x="0" y="0"/>
                    </a:moveTo>
                    <a:cubicBezTo>
                      <a:pt x="4" y="56"/>
                      <a:pt x="8" y="113"/>
                      <a:pt x="46" y="181"/>
                    </a:cubicBezTo>
                    <a:cubicBezTo>
                      <a:pt x="84" y="249"/>
                      <a:pt x="182" y="332"/>
                      <a:pt x="227" y="408"/>
                    </a:cubicBezTo>
                    <a:cubicBezTo>
                      <a:pt x="272" y="484"/>
                      <a:pt x="280" y="560"/>
                      <a:pt x="318" y="635"/>
                    </a:cubicBezTo>
                    <a:cubicBezTo>
                      <a:pt x="356" y="710"/>
                      <a:pt x="401" y="809"/>
                      <a:pt x="454" y="862"/>
                    </a:cubicBezTo>
                    <a:cubicBezTo>
                      <a:pt x="507" y="915"/>
                      <a:pt x="590" y="908"/>
                      <a:pt x="635" y="953"/>
                    </a:cubicBezTo>
                    <a:cubicBezTo>
                      <a:pt x="680" y="998"/>
                      <a:pt x="703" y="1066"/>
                      <a:pt x="726" y="113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rot="16200000">
              <a:off x="466200" y="2035800"/>
              <a:ext cx="105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Compr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787200">
              <a:off x="675720" y="4051080"/>
              <a:ext cx="96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do Peix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7629200">
              <a:off x="4415040" y="4678560"/>
              <a:ext cx="136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ib. Dois Córre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143000" y="2252520"/>
            <a:ext cx="7677000" cy="4373640"/>
            <a:chOff x="1143000" y="2252520"/>
            <a:chExt cx="7677000" cy="4373640"/>
          </a:xfrm>
        </p:grpSpPr>
        <p:sp>
          <p:nvSpPr>
            <p:cNvPr id="244" name=""/>
            <p:cNvSpPr/>
            <p:nvPr/>
          </p:nvSpPr>
          <p:spPr>
            <a:xfrm>
              <a:off x="5724360" y="3338640"/>
              <a:ext cx="2975040" cy="398160"/>
            </a:xfrm>
            <a:custGeom>
              <a:avLst/>
              <a:gdLst/>
              <a:ahLst/>
              <a:rect l="l" t="t" r="r" b="b"/>
              <a:pathLst>
                <a:path w="1874" h="251">
                  <a:moveTo>
                    <a:pt x="0" y="244"/>
                  </a:moveTo>
                  <a:cubicBezTo>
                    <a:pt x="42" y="244"/>
                    <a:pt x="84" y="244"/>
                    <a:pt x="138" y="244"/>
                  </a:cubicBezTo>
                  <a:cubicBezTo>
                    <a:pt x="192" y="244"/>
                    <a:pt x="267" y="251"/>
                    <a:pt x="322" y="244"/>
                  </a:cubicBezTo>
                  <a:cubicBezTo>
                    <a:pt x="377" y="237"/>
                    <a:pt x="417" y="219"/>
                    <a:pt x="466" y="204"/>
                  </a:cubicBezTo>
                  <a:cubicBezTo>
                    <a:pt x="515" y="189"/>
                    <a:pt x="571" y="175"/>
                    <a:pt x="618" y="156"/>
                  </a:cubicBezTo>
                  <a:cubicBezTo>
                    <a:pt x="665" y="137"/>
                    <a:pt x="707" y="108"/>
                    <a:pt x="746" y="92"/>
                  </a:cubicBezTo>
                  <a:cubicBezTo>
                    <a:pt x="785" y="76"/>
                    <a:pt x="815" y="69"/>
                    <a:pt x="850" y="60"/>
                  </a:cubicBezTo>
                  <a:cubicBezTo>
                    <a:pt x="885" y="51"/>
                    <a:pt x="921" y="45"/>
                    <a:pt x="954" y="36"/>
                  </a:cubicBezTo>
                  <a:cubicBezTo>
                    <a:pt x="987" y="27"/>
                    <a:pt x="1006" y="8"/>
                    <a:pt x="1050" y="4"/>
                  </a:cubicBezTo>
                  <a:cubicBezTo>
                    <a:pt x="1094" y="0"/>
                    <a:pt x="1158" y="3"/>
                    <a:pt x="1218" y="12"/>
                  </a:cubicBezTo>
                  <a:cubicBezTo>
                    <a:pt x="1278" y="21"/>
                    <a:pt x="1353" y="45"/>
                    <a:pt x="1410" y="60"/>
                  </a:cubicBezTo>
                  <a:cubicBezTo>
                    <a:pt x="1467" y="75"/>
                    <a:pt x="1507" y="83"/>
                    <a:pt x="1562" y="100"/>
                  </a:cubicBezTo>
                  <a:cubicBezTo>
                    <a:pt x="1617" y="117"/>
                    <a:pt x="1686" y="145"/>
                    <a:pt x="1738" y="164"/>
                  </a:cubicBezTo>
                  <a:cubicBezTo>
                    <a:pt x="1790" y="183"/>
                    <a:pt x="1832" y="197"/>
                    <a:pt x="1874" y="21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35640" y="3716280"/>
              <a:ext cx="295200" cy="1090800"/>
            </a:xfrm>
            <a:custGeom>
              <a:avLst/>
              <a:gdLst/>
              <a:ahLst/>
              <a:rect l="l" t="t" r="r" b="b"/>
              <a:pathLst>
                <a:path w="186" h="687">
                  <a:moveTo>
                    <a:pt x="0" y="687"/>
                  </a:moveTo>
                  <a:cubicBezTo>
                    <a:pt x="9" y="658"/>
                    <a:pt x="19" y="629"/>
                    <a:pt x="32" y="595"/>
                  </a:cubicBezTo>
                  <a:cubicBezTo>
                    <a:pt x="45" y="561"/>
                    <a:pt x="67" y="516"/>
                    <a:pt x="80" y="484"/>
                  </a:cubicBezTo>
                  <a:cubicBezTo>
                    <a:pt x="93" y="452"/>
                    <a:pt x="103" y="436"/>
                    <a:pt x="109" y="403"/>
                  </a:cubicBezTo>
                  <a:cubicBezTo>
                    <a:pt x="115" y="370"/>
                    <a:pt x="118" y="320"/>
                    <a:pt x="114" y="288"/>
                  </a:cubicBezTo>
                  <a:cubicBezTo>
                    <a:pt x="110" y="256"/>
                    <a:pt x="89" y="237"/>
                    <a:pt x="85" y="211"/>
                  </a:cubicBezTo>
                  <a:cubicBezTo>
                    <a:pt x="81" y="185"/>
                    <a:pt x="83" y="157"/>
                    <a:pt x="90" y="134"/>
                  </a:cubicBezTo>
                  <a:cubicBezTo>
                    <a:pt x="97" y="111"/>
                    <a:pt x="118" y="91"/>
                    <a:pt x="128" y="72"/>
                  </a:cubicBezTo>
                  <a:cubicBezTo>
                    <a:pt x="138" y="53"/>
                    <a:pt x="142" y="31"/>
                    <a:pt x="152" y="19"/>
                  </a:cubicBezTo>
                  <a:cubicBezTo>
                    <a:pt x="162" y="7"/>
                    <a:pt x="174" y="3"/>
                    <a:pt x="186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47640" y="3224160"/>
              <a:ext cx="700200" cy="1006560"/>
            </a:xfrm>
            <a:custGeom>
              <a:avLst/>
              <a:gdLst/>
              <a:ahLst/>
              <a:rect l="l" t="t" r="r" b="b"/>
              <a:pathLst>
                <a:path w="441" h="634">
                  <a:moveTo>
                    <a:pt x="0" y="634"/>
                  </a:moveTo>
                  <a:cubicBezTo>
                    <a:pt x="31" y="608"/>
                    <a:pt x="62" y="582"/>
                    <a:pt x="77" y="548"/>
                  </a:cubicBezTo>
                  <a:cubicBezTo>
                    <a:pt x="92" y="514"/>
                    <a:pt x="86" y="467"/>
                    <a:pt x="89" y="432"/>
                  </a:cubicBezTo>
                  <a:cubicBezTo>
                    <a:pt x="92" y="397"/>
                    <a:pt x="86" y="367"/>
                    <a:pt x="97" y="340"/>
                  </a:cubicBezTo>
                  <a:cubicBezTo>
                    <a:pt x="108" y="313"/>
                    <a:pt x="124" y="287"/>
                    <a:pt x="153" y="268"/>
                  </a:cubicBezTo>
                  <a:cubicBezTo>
                    <a:pt x="182" y="249"/>
                    <a:pt x="240" y="251"/>
                    <a:pt x="273" y="228"/>
                  </a:cubicBezTo>
                  <a:cubicBezTo>
                    <a:pt x="306" y="205"/>
                    <a:pt x="327" y="165"/>
                    <a:pt x="349" y="132"/>
                  </a:cubicBezTo>
                  <a:cubicBezTo>
                    <a:pt x="371" y="99"/>
                    <a:pt x="390" y="54"/>
                    <a:pt x="405" y="32"/>
                  </a:cubicBezTo>
                  <a:cubicBezTo>
                    <a:pt x="420" y="10"/>
                    <a:pt x="430" y="5"/>
                    <a:pt x="441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49640" y="3043080"/>
              <a:ext cx="3439800" cy="682920"/>
            </a:xfrm>
            <a:custGeom>
              <a:avLst/>
              <a:gdLst/>
              <a:ahLst/>
              <a:rect l="l" t="t" r="r" b="b"/>
              <a:pathLst>
                <a:path w="2167" h="430">
                  <a:moveTo>
                    <a:pt x="0" y="113"/>
                  </a:moveTo>
                  <a:cubicBezTo>
                    <a:pt x="8" y="108"/>
                    <a:pt x="17" y="104"/>
                    <a:pt x="43" y="98"/>
                  </a:cubicBezTo>
                  <a:cubicBezTo>
                    <a:pt x="69" y="92"/>
                    <a:pt x="116" y="83"/>
                    <a:pt x="155" y="74"/>
                  </a:cubicBezTo>
                  <a:cubicBezTo>
                    <a:pt x="194" y="65"/>
                    <a:pt x="233" y="52"/>
                    <a:pt x="275" y="42"/>
                  </a:cubicBezTo>
                  <a:cubicBezTo>
                    <a:pt x="317" y="32"/>
                    <a:pt x="360" y="21"/>
                    <a:pt x="407" y="14"/>
                  </a:cubicBezTo>
                  <a:cubicBezTo>
                    <a:pt x="454" y="7"/>
                    <a:pt x="510" y="4"/>
                    <a:pt x="555" y="2"/>
                  </a:cubicBezTo>
                  <a:cubicBezTo>
                    <a:pt x="600" y="0"/>
                    <a:pt x="628" y="1"/>
                    <a:pt x="675" y="2"/>
                  </a:cubicBezTo>
                  <a:cubicBezTo>
                    <a:pt x="722" y="3"/>
                    <a:pt x="789" y="3"/>
                    <a:pt x="835" y="6"/>
                  </a:cubicBezTo>
                  <a:cubicBezTo>
                    <a:pt x="881" y="9"/>
                    <a:pt x="913" y="15"/>
                    <a:pt x="951" y="22"/>
                  </a:cubicBezTo>
                  <a:cubicBezTo>
                    <a:pt x="989" y="29"/>
                    <a:pt x="1023" y="35"/>
                    <a:pt x="1063" y="46"/>
                  </a:cubicBezTo>
                  <a:cubicBezTo>
                    <a:pt x="1103" y="57"/>
                    <a:pt x="1152" y="71"/>
                    <a:pt x="1191" y="86"/>
                  </a:cubicBezTo>
                  <a:cubicBezTo>
                    <a:pt x="1230" y="101"/>
                    <a:pt x="1262" y="120"/>
                    <a:pt x="1299" y="138"/>
                  </a:cubicBezTo>
                  <a:cubicBezTo>
                    <a:pt x="1336" y="156"/>
                    <a:pt x="1373" y="175"/>
                    <a:pt x="1411" y="194"/>
                  </a:cubicBezTo>
                  <a:cubicBezTo>
                    <a:pt x="1449" y="213"/>
                    <a:pt x="1484" y="233"/>
                    <a:pt x="1527" y="254"/>
                  </a:cubicBezTo>
                  <a:cubicBezTo>
                    <a:pt x="1570" y="275"/>
                    <a:pt x="1616" y="297"/>
                    <a:pt x="1667" y="318"/>
                  </a:cubicBezTo>
                  <a:cubicBezTo>
                    <a:pt x="1718" y="339"/>
                    <a:pt x="1786" y="363"/>
                    <a:pt x="1835" y="378"/>
                  </a:cubicBezTo>
                  <a:cubicBezTo>
                    <a:pt x="1884" y="393"/>
                    <a:pt x="1920" y="402"/>
                    <a:pt x="1963" y="410"/>
                  </a:cubicBezTo>
                  <a:cubicBezTo>
                    <a:pt x="2006" y="418"/>
                    <a:pt x="2057" y="423"/>
                    <a:pt x="2091" y="426"/>
                  </a:cubicBezTo>
                  <a:cubicBezTo>
                    <a:pt x="2125" y="429"/>
                    <a:pt x="2146" y="429"/>
                    <a:pt x="2167" y="43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3000" y="2252520"/>
              <a:ext cx="1125360" cy="962280"/>
            </a:xfrm>
            <a:custGeom>
              <a:avLst/>
              <a:gdLst/>
              <a:ahLst/>
              <a:rect l="l" t="t" r="r" b="b"/>
              <a:pathLst>
                <a:path w="709" h="606">
                  <a:moveTo>
                    <a:pt x="28" y="21"/>
                  </a:moveTo>
                  <a:lnTo>
                    <a:pt x="12" y="0"/>
                  </a:lnTo>
                  <a:cubicBezTo>
                    <a:pt x="12" y="8"/>
                    <a:pt x="22" y="48"/>
                    <a:pt x="27" y="69"/>
                  </a:cubicBezTo>
                  <a:cubicBezTo>
                    <a:pt x="32" y="90"/>
                    <a:pt x="39" y="107"/>
                    <a:pt x="42" y="129"/>
                  </a:cubicBezTo>
                  <a:cubicBezTo>
                    <a:pt x="45" y="151"/>
                    <a:pt x="48" y="179"/>
                    <a:pt x="45" y="204"/>
                  </a:cubicBezTo>
                  <a:cubicBezTo>
                    <a:pt x="42" y="229"/>
                    <a:pt x="31" y="258"/>
                    <a:pt x="24" y="282"/>
                  </a:cubicBezTo>
                  <a:cubicBezTo>
                    <a:pt x="17" y="306"/>
                    <a:pt x="6" y="326"/>
                    <a:pt x="3" y="348"/>
                  </a:cubicBezTo>
                  <a:cubicBezTo>
                    <a:pt x="0" y="370"/>
                    <a:pt x="8" y="400"/>
                    <a:pt x="9" y="417"/>
                  </a:cubicBezTo>
                  <a:cubicBezTo>
                    <a:pt x="10" y="434"/>
                    <a:pt x="9" y="437"/>
                    <a:pt x="12" y="450"/>
                  </a:cubicBezTo>
                  <a:cubicBezTo>
                    <a:pt x="15" y="463"/>
                    <a:pt x="19" y="485"/>
                    <a:pt x="30" y="495"/>
                  </a:cubicBezTo>
                  <a:cubicBezTo>
                    <a:pt x="41" y="505"/>
                    <a:pt x="60" y="508"/>
                    <a:pt x="78" y="513"/>
                  </a:cubicBezTo>
                  <a:cubicBezTo>
                    <a:pt x="96" y="518"/>
                    <a:pt x="119" y="522"/>
                    <a:pt x="141" y="528"/>
                  </a:cubicBezTo>
                  <a:cubicBezTo>
                    <a:pt x="163" y="534"/>
                    <a:pt x="189" y="547"/>
                    <a:pt x="210" y="552"/>
                  </a:cubicBezTo>
                  <a:cubicBezTo>
                    <a:pt x="231" y="557"/>
                    <a:pt x="249" y="557"/>
                    <a:pt x="270" y="561"/>
                  </a:cubicBezTo>
                  <a:cubicBezTo>
                    <a:pt x="291" y="565"/>
                    <a:pt x="310" y="573"/>
                    <a:pt x="339" y="576"/>
                  </a:cubicBezTo>
                  <a:cubicBezTo>
                    <a:pt x="368" y="579"/>
                    <a:pt x="415" y="580"/>
                    <a:pt x="447" y="582"/>
                  </a:cubicBezTo>
                  <a:cubicBezTo>
                    <a:pt x="479" y="584"/>
                    <a:pt x="501" y="589"/>
                    <a:pt x="531" y="588"/>
                  </a:cubicBezTo>
                  <a:cubicBezTo>
                    <a:pt x="561" y="587"/>
                    <a:pt x="603" y="577"/>
                    <a:pt x="630" y="576"/>
                  </a:cubicBezTo>
                  <a:cubicBezTo>
                    <a:pt x="657" y="575"/>
                    <a:pt x="683" y="577"/>
                    <a:pt x="696" y="582"/>
                  </a:cubicBezTo>
                  <a:cubicBezTo>
                    <a:pt x="709" y="587"/>
                    <a:pt x="708" y="596"/>
                    <a:pt x="708" y="60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5364000" y="2795040"/>
              <a:ext cx="647640" cy="626400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33680" y="6257880"/>
              <a:ext cx="286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echo crítico (DAEE, 2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8920" y="981000"/>
            <a:ext cx="8966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s grandes aglomerados urbanos se concentram às margens do Paraíba do Sul, mas fazem seus lançamentos de esgotos em afluentes estaduais (sem capacidade de dilui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grande maioria dos casos, os esgotos exigem água do rio Paraíba do Sul para sua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8920" y="765000"/>
            <a:ext cx="8966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quanto os estados de SP, MG e RJ não estabelecerem cobrança em rios de seu domínio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m absoluta concordânci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m o decidido pelo CEIVAP, haverá indesejável assimetria no tratamento dos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 a Assembléia de SP decidir por “sequestrar” 25% da arrecadação da bacia, para aplicação em outras bacias, haverá indesejável assimetria na descentralização da arrecad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Como a visão patrimonialista da titularidade está atrapalhando a implementação do SNGRH: caso d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a) projeto de lei de cobrança de SP: como alcançar simetria de procedimentos entre a União (ANA) e os Es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) cobrança da transposição do Paraíba do Sul para o Gua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2.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A relação entre a ANA e o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79200"/>
            <a:ext cx="9172440" cy="6689880"/>
            <a:chOff x="0" y="79200"/>
            <a:chExt cx="9172440" cy="66898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79200"/>
              <a:ext cx="9172440" cy="668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059280" y="1916280"/>
              <a:ext cx="2592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11640" y="1268280"/>
              <a:ext cx="253512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Qual a posição do CNRH sobre os limites da bacia do Paraíba do S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vez disto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tem 4.2 da pauta da reunião de hoje propõe moção dirigida aos comitês do Paraíba do Sul e do Guan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...para que promovam, em conjunto, uma articulação institucional com vistas à gestão integrada das duas baci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8920" y="549000"/>
            <a:ext cx="8966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al a posição do CNR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o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ção à Assembléia Legislativa de SP com sugestão de aperfeiçoamento do projeto de lei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assegurar que não haja duplicidade de critérios de cobrança numa mesma bacia hidr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toda a arrecadação retorne para a bacia, para ser aplicada, em território paulista, segundo prioridades estabelecidas pelo correspondente comitê de bacia (CEIVAP, no caso do Paraíba do S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ção aos Governadores de SP, RJ e SP sugerindo decreto para implantação de cobrança em rios de domínio estadual da bacia do Paraíba do Sul (inclusive o Guandu...) segundo critérios estabelecidos pelo CEIV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Como a visão patrimonialista da titularidade está atrapalhando a implementação do SNGRH: caso d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a) projeto de lei de cobrança de SP: como alcançar simetria de procedimentos entre a União (ANA) e os Es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808080"/>
                </a:solidFill>
                <a:latin typeface="Times New Roman"/>
              </a:rPr>
              <a:t>b) cobrança da transposição do Paraíba do Sul para o Gua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lação entre a ANA e o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a visão patrimonialista da titularidade está atrapalhando a implementação do SNGRH: caso do Paraíba do S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) projeto de lei de cobrança de SP: como alcançar simetria de procedimentos entre a União (ANA) e os Est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) cobrança da transposição do Paraíba do Sul para o Gua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relação entre a ANA e o C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tem 5 da pau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apreciação sobre a programação orçamentária da ANA para o ano de 2004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iscussão sobre o ofício ANA 5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ta técnica CTCO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onclui-se que os dados encaminhados no Of. 561 não atendem, de forma específica, à solicitação feita.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fício encaminhado pela ANA ao Ministro Pal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omendações ao CTCO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) só solicitar informações à ANA que sejam de sua competênc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) solicitar informações orçamentárias às entidades gestoras estaduais para compor um quadro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nacion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(e não apenas feder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om exemplo: item 3.2 da p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osta de resolução para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estabelecer diretrizes para a outorga...para implantação de barragens em corpos de água de domínio dos Estados, do DF ou da Uni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NRH ou CFR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u exemplo: item 3.5 da p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ifica o disposto em lei sobre distribuição de recursos entre entidades d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dministração fed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TCOB-CNRH pretende propor medidas análogas para a distribuição de recursos entre entidades estadu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entários fin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NRH não deve se apequ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TCOB-CNRH tem que achar sua vocação que não deve ser, apenas, “confrontar e controlar” a ANA. Afinal, a ANA já é controlada por muitas instituições (Congresso Nacional, Federal de Controle e TCU) e o CNRH não é CFR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os os conselheiros estão convidados a agendar visita à ANA. Silvana ou Vilma, 44554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6" dur="1" fill="hold"/>
                                  <p:tgtEl>
                                    <p:spTgt spid="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755640" y="620640"/>
            <a:ext cx="1871640" cy="2575080"/>
            <a:chOff x="755640" y="620640"/>
            <a:chExt cx="1871640" cy="2575080"/>
          </a:xfrm>
        </p:grpSpPr>
        <p:grpSp>
          <p:nvGrpSpPr>
            <p:cNvPr id="46" name=""/>
            <p:cNvGrpSpPr/>
            <p:nvPr/>
          </p:nvGrpSpPr>
          <p:grpSpPr>
            <a:xfrm>
              <a:off x="755640" y="620640"/>
              <a:ext cx="1871640" cy="1728720"/>
              <a:chOff x="755640" y="620640"/>
              <a:chExt cx="1871640" cy="1728720"/>
            </a:xfrm>
          </p:grpSpPr>
          <p:sp>
            <p:nvSpPr>
              <p:cNvPr id="47" name=""/>
              <p:cNvSpPr/>
              <p:nvPr/>
            </p:nvSpPr>
            <p:spPr>
              <a:xfrm>
                <a:off x="971640" y="765000"/>
                <a:ext cx="1512720" cy="158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556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9716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56680" y="2370240"/>
              <a:ext cx="113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eflu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eflu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94040" y="620640"/>
            <a:ext cx="2612880" cy="2595600"/>
            <a:chOff x="2894040" y="620640"/>
            <a:chExt cx="2612880" cy="2595600"/>
          </a:xfrm>
        </p:grpSpPr>
        <p:grpSp>
          <p:nvGrpSpPr>
            <p:cNvPr id="52" name=""/>
            <p:cNvGrpSpPr/>
            <p:nvPr/>
          </p:nvGrpSpPr>
          <p:grpSpPr>
            <a:xfrm>
              <a:off x="3635280" y="620640"/>
              <a:ext cx="1871640" cy="1728720"/>
              <a:chOff x="3635280" y="620640"/>
              <a:chExt cx="1871640" cy="1728720"/>
            </a:xfrm>
          </p:grpSpPr>
          <p:sp>
            <p:nvSpPr>
              <p:cNvPr id="53" name=""/>
              <p:cNvSpPr/>
              <p:nvPr/>
            </p:nvSpPr>
            <p:spPr>
              <a:xfrm>
                <a:off x="3851280" y="765000"/>
                <a:ext cx="1512720" cy="158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63528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894040" y="113508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51280" y="1484280"/>
              <a:ext cx="1512720" cy="865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1080" y="2390760"/>
              <a:ext cx="113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ilui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na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15000" y="620640"/>
            <a:ext cx="2601720" cy="2583000"/>
            <a:chOff x="5715000" y="620640"/>
            <a:chExt cx="2601720" cy="2583000"/>
          </a:xfrm>
        </p:grpSpPr>
        <p:grpSp>
          <p:nvGrpSpPr>
            <p:cNvPr id="59" name=""/>
            <p:cNvGrpSpPr/>
            <p:nvPr/>
          </p:nvGrpSpPr>
          <p:grpSpPr>
            <a:xfrm>
              <a:off x="6445080" y="620640"/>
              <a:ext cx="1871640" cy="1728720"/>
              <a:chOff x="6445080" y="620640"/>
              <a:chExt cx="1871640" cy="1728720"/>
            </a:xfrm>
          </p:grpSpPr>
          <p:sp>
            <p:nvSpPr>
              <p:cNvPr id="60" name=""/>
              <p:cNvSpPr/>
              <p:nvPr/>
            </p:nvSpPr>
            <p:spPr>
              <a:xfrm>
                <a:off x="6661080" y="765000"/>
                <a:ext cx="1512720" cy="158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44508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5715000" y="112068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59640" y="1063800"/>
              <a:ext cx="1512720" cy="1285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78000" y="2378160"/>
              <a:ext cx="153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disponí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ermit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79320" y="2924280"/>
            <a:ext cx="4686480" cy="2201760"/>
            <a:chOff x="679320" y="2924280"/>
            <a:chExt cx="4686480" cy="220176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679320" y="4005360"/>
                  <a:ext cx="468648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Qdi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f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ef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perm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per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na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 flipH="1">
              <a:off x="2627280" y="2924280"/>
              <a:ext cx="144000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067280" y="3357720"/>
            <a:ext cx="4608360" cy="3024000"/>
            <a:chOff x="4067280" y="3357720"/>
            <a:chExt cx="4608360" cy="3024000"/>
          </a:xfrm>
        </p:grpSpPr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4067280" y="5686560"/>
                  <a:ext cx="460836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Qindis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dil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Qe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0" name=""/>
            <p:cNvSpPr/>
            <p:nvPr/>
          </p:nvSpPr>
          <p:spPr>
            <a:xfrm flipH="1">
              <a:off x="6587640" y="3357720"/>
              <a:ext cx="792360" cy="20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75640" y="123840"/>
            <a:ext cx="771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10960" y="1106280"/>
            <a:ext cx="8791920" cy="55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diluição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 = Q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efluente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. (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efluente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- 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permitida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)/(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permitida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- C</a:t>
            </a:r>
            <a:r>
              <a:rPr b="1" lang="pt-BR" sz="2200" spc="-1" strike="noStrike" baseline="-25000">
                <a:solidFill>
                  <a:srgbClr val="0000ff"/>
                </a:solidFill>
                <a:latin typeface="Times New Roman"/>
              </a:rPr>
              <a:t>natural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pt-BR" sz="2200" spc="-1" strike="noStrike" baseline="-25000">
                <a:solidFill>
                  <a:srgbClr val="ff0000"/>
                </a:solidFill>
                <a:latin typeface="Times New Roman"/>
              </a:rPr>
              <a:t>Indisponível</a:t>
            </a: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 = Q</a:t>
            </a:r>
            <a:r>
              <a:rPr b="1" lang="pt-BR" sz="2200" spc="-1" strike="noStrike" baseline="-25000">
                <a:solidFill>
                  <a:srgbClr val="ff0000"/>
                </a:solidFill>
                <a:latin typeface="Times New Roman"/>
              </a:rPr>
              <a:t>Diluição </a:t>
            </a:r>
            <a:r>
              <a:rPr b="1" lang="pt-BR" sz="2200" spc="-1" strike="noStrike">
                <a:solidFill>
                  <a:srgbClr val="ff0000"/>
                </a:solidFill>
                <a:latin typeface="Times New Roman"/>
              </a:rPr>
              <a:t>+ Q</a:t>
            </a:r>
            <a:r>
              <a:rPr b="1" lang="pt-BR" sz="2200" spc="-1" strike="noStrike" baseline="-25000">
                <a:solidFill>
                  <a:srgbClr val="ff0000"/>
                </a:solidFill>
                <a:latin typeface="Times New Roman"/>
              </a:rPr>
              <a:t>efluente    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(Cálculos de decaimen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C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final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 = (C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A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. 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A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+ C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B 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. 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)/(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A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 + Q</a:t>
            </a:r>
            <a:r>
              <a:rPr b="1" lang="pt-BR" sz="2000" spc="-1" strike="noStrike" baseline="-25000">
                <a:solidFill>
                  <a:srgbClr val="4d4d4d"/>
                </a:solidFill>
                <a:latin typeface="Times New Roman"/>
              </a:rPr>
              <a:t>B</a:t>
            </a:r>
            <a:r>
              <a:rPr b="1" lang="pt-BR" sz="2000" spc="-1" strike="noStrike">
                <a:solidFill>
                  <a:srgbClr val="4d4d4d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629080" y="1962000"/>
                <a:ext cx="468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" name=""/>
          <p:cNvGraphicFramePr/>
          <p:nvPr/>
        </p:nvGraphicFramePr>
        <p:xfrm>
          <a:off x="52560" y="3357720"/>
          <a:ext cx="8999280" cy="291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" y="3357720"/>
                    <a:ext cx="8999280" cy="29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020400" y="1143000"/>
            <a:ext cx="36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ção de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POR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27640" y="952560"/>
            <a:ext cx="64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83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grpSp>
          <p:nvGrpSpPr>
            <p:cNvPr id="90" name="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91" name="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657600" y="2871360"/>
              <a:ext cx="5063760" cy="3529440"/>
              <a:chOff x="3657600" y="2871360"/>
              <a:chExt cx="5063760" cy="3529440"/>
            </a:xfrm>
          </p:grpSpPr>
          <p:sp>
            <p:nvSpPr>
              <p:cNvPr id="94" name="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10400">
                <a:off x="7351200" y="304776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104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107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110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789280" y="2438280"/>
            <a:ext cx="6297120" cy="1284480"/>
            <a:chOff x="2789280" y="2438280"/>
            <a:chExt cx="6297120" cy="1284480"/>
          </a:xfrm>
        </p:grpSpPr>
        <p:sp>
          <p:nvSpPr>
            <p:cNvPr id="113" name="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1640" y="2438280"/>
              <a:ext cx="460476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117" name="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118" name="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04920" y="251928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zão de refe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POR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4040" y="2492280"/>
            <a:ext cx="5304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 caso do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rio Paraibuna (SP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79200"/>
            <a:ext cx="9172440" cy="6689880"/>
            <a:chOff x="0" y="79200"/>
            <a:chExt cx="9172440" cy="6689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0" y="79200"/>
              <a:ext cx="9172440" cy="668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059280" y="1916280"/>
              <a:ext cx="25923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11640" y="1268280"/>
              <a:ext cx="2535120" cy="46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9906" b="0"/>
          <a:stretch/>
        </p:blipFill>
        <p:spPr>
          <a:xfrm>
            <a:off x="28440" y="549360"/>
            <a:ext cx="9104400" cy="6297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03640" y="83160"/>
            <a:ext cx="51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o Paraíba do Sul e seus form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5:47:46Z</dcterms:created>
  <dc:creator>LUCIANO</dc:creator>
  <dc:description/>
  <dc:language>en-US</dc:language>
  <cp:lastModifiedBy>Jerson Kelman</cp:lastModifiedBy>
  <dcterms:modified xsi:type="dcterms:W3CDTF">2003-12-01T09:30:17Z</dcterms:modified>
  <cp:revision>101</cp:revision>
  <dc:subject/>
  <dc:title>Slide 1</dc:title>
</cp:coreProperties>
</file>