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" name="LOGO SEM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1219320" cy="62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4" name="LOGO SEM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523880" cy="784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mezero@planalto.gov.br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19320" y="30481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6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777777"/>
                  </a:solidFill>
                  <a:miter/>
                </a:ln>
                <a:solidFill>
                  <a:srgbClr val="000099"/>
                </a:solidFill>
                <a:effectLst>
                  <a:outerShdw dist="153753" dir="2700000" blurRad="0" rotWithShape="0">
                    <a:srgbClr val="777777"/>
                  </a:outerShdw>
                </a:effectLst>
                <a:latin typeface="Arial Black"/>
              </a:rPr>
              <a:t>PROGRAMA FOME ZERO</a:t>
            </a:r>
            <a:endParaRPr b="0" lang="en-US" sz="6000" spc="1" strike="noStrike">
              <a:ln w="12600">
                <a:solidFill>
                  <a:srgbClr val="777777"/>
                </a:solidFill>
                <a:miter/>
              </a:ln>
              <a:solidFill>
                <a:srgbClr val="000099"/>
              </a:solidFill>
              <a:effectLst>
                <a:outerShdw dist="153753" dir="2700000" blurRad="0" rotWithShape="0">
                  <a:srgbClr val="777777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87" name="Brasao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73280" cy="936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1295280"/>
            <a:ext cx="7315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NISTÉRIO EXTRAORDINÁRIO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SEGURANÇA ALIMENTAR E COMBATE À FOM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gurança Alimentar Comunitária e o Desenvolvimento Lo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ncípi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segurar disponibilidade local de aliment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centivar compras diretas (reduz custos e melhora a qualidade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sociar segurança alimentar ao desenvolvimento lo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olíticas de Segurança Alimentar a serem implantadas com Município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4572000"/>
            <a:ext cx="541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trutura própria para cuidar do abastecimento no municípi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randes cidades e Regiões Metropolitan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819520"/>
            <a:ext cx="81532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imes New Roman"/>
              </a:rPr>
              <a:t>Restaurantes popular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imes New Roman"/>
              </a:rPr>
              <a:t>Bancos de alimen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imes New Roman"/>
              </a:rPr>
              <a:t>Equipamentos de abastecimento: varejões, sacolões, compras comunitária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édias cida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819520"/>
            <a:ext cx="7925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ancos de alimen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arceria com varejista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Equipamentos de abasteciment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equenos municípios e municípios rurai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438280"/>
            <a:ext cx="77724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gricultura urbana (hortas, entrega direta do produtor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ompra da agricultura familiar para programas públicos (merenda escolar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eira do produto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urismo, agroindústria familia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utirão Contra a Fom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-mobilização/solidariedad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mo Participar do Mutirão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r Conselho Municipal de Segurança Alimenta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rmar CRD/COP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tidades cadastradas no Conselho Municipal de Assistência Soci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visar e ampliar Cadastro Único da CEF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99"/>
                </a:solidFill>
                <a:latin typeface="Times New Roman"/>
              </a:rPr>
              <a:t>Informações: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99"/>
                </a:solidFill>
                <a:latin typeface="Times New Roman"/>
              </a:rPr>
              <a:t>www.fomezero.gov.b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0099"/>
                </a:solidFill>
                <a:latin typeface="Times New Roman"/>
              </a:rPr>
              <a:t>f</a:t>
            </a:r>
            <a:r>
              <a:rPr b="0" lang="pt-BR" sz="4000" spc="-1" strike="noStrike" u="sng">
                <a:solidFill>
                  <a:srgbClr val="990099"/>
                </a:solidFill>
                <a:uFillTx/>
                <a:latin typeface="Times New Roman"/>
                <a:hlinkClick r:id="rId1"/>
              </a:rPr>
              <a:t>omezero@planalto.gov.br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28954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ssupos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acabar com a fome 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garantir o Direito Humano à Alimentaçã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447920"/>
            <a:ext cx="64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me Zero: uma Política de Segurança Alimenta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Segurança Alimentar e Nutriciona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É diferente de matar a fom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sa garantir alimentação com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quantida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qualida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regularida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- dignidad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144440"/>
            <a:ext cx="6324480" cy="557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419720" y="14479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UMENTO DA REND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3503880"/>
            <a:ext cx="231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EGURANÇA ALIMENTA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1821240"/>
            <a:ext cx="328932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POLÍTICAS DE EMPREGO E RENDA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REFORMA AGRÁRIA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PREVIDÊNCIA SOCIAL UNIVERS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BOLSA-ESCOLA E RENDA MÍNIMA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INCENTIVO AO MICROCRÉDITO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65120" y="4723560"/>
            <a:ext cx="23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ÕES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ESPECÍFICA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5043600"/>
            <a:ext cx="236196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ARTÃO DE ALIMENTO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ESTA BÁSICA EMERGENCI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MERENDA ESCOLAR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ESTOQUES DE SEGURANÇA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OMBATE À DESNUTRIÇÃO MATERNO-INFANTI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59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LIMENTAÇÃO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MAIS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2202480"/>
            <a:ext cx="28958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RESTAURANTES POPULAR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ANAIS ALTERNATIVOS DE COMERCIALIZAÇÃO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ONVÊNIOS COM SUPERMERCADO/SACOLÃO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OOPERATIVAS DE CONSUMO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AMPLIAÇÃO DO PROGRAMA DE ALIMENTAÇÃO DO TRABALHADOR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11444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MAIOR OFERTA DE ALIMENTOS BÁSICO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717800"/>
            <a:ext cx="2895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APOIO À AGRICULTURA FAMILIAR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INCENTIVO À PRODUÇÃO PARA AUTO-CONSUMO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POLÍTICA AGRÍCOLA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COMBATE AO DESPERCÍCIO E À PERDA DE ALIMENTO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Tahoma"/>
              </a:rPr>
              <a:t>VENDA DIRETA DO PRODUTOR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Ações Estruturais Prioritárias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para 2003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514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Reforma agrária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Fortalecimento da Agricultura Familiar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Plano de Convivência com o Semi-Árido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Programa de superação do Analfabetismo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Programas de geração de emprego e renda (primeiro emprego, turismo rural, hortas urbanas, microcrédito);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Tahoma"/>
              </a:rPr>
              <a:t>Fortalecimento da Atenção Básica à Saú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Ações Específicas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stema Nacional de Segurança Alimenta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grama Cartão Alimentação;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mpliação da Alimentação Escolar;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ducação Alimentar;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stoques estratégicos de alimentos;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estas básicas emergenciai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mpliação do P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Ações já iniciadas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Dois meses de Fome Zer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- Consea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-Alimentação escolar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-Piloto do Cartão Alimentaçã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Cisternas e Alfabetização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- Licitação para compra de alimento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óximas Atividad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) Expansão do Cartão Alimentaçã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unicípios do semi-árid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ermo de adesão do Prefeit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itê Gestor instalad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xpansão do Bolsa Alimentaçã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pulações de Risc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28:36Z</dcterms:created>
  <dc:creator>PR</dc:creator>
  <dc:description/>
  <dc:language>en-US</dc:language>
  <cp:lastModifiedBy>PR</cp:lastModifiedBy>
  <cp:lastPrinted>2003-01-24T11:29:27Z</cp:lastPrinted>
  <dcterms:modified xsi:type="dcterms:W3CDTF">2003-03-21T23:32:01Z</dcterms:modified>
  <cp:revision>150</cp:revision>
  <dc:subject/>
  <dc:title>Apresentação do PowerPoint</dc:title>
</cp:coreProperties>
</file>