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EEEB729-B6FF-4F26-8E82-66570E448B1A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669F1B6-C356-4A51-9DCF-8575CB3C3A5D}" type="slidenum">
              <a:rPr b="0" lang="pt-B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14B8A4-06B9-4A76-807D-9FDE2FE493D8}" type="slidenum">
              <a:rPr b="0" lang="pt-B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A77-0D3E-4332-823E-68F8BCB0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ADD-C854-4AA8-88C2-F8DBB6E7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792-110E-49E3-8F52-844F7587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E04-DE71-47BF-A227-09CF7A58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1D7F-EBAB-489D-9320-7EB2EC3D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E01B-0793-431E-B262-A706E649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DDB7-1F20-43A3-AC7B-1AC4865A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42E2-8FC0-45E0-8B09-FD4B4E5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079A-91F2-4638-9CB0-88EB41D4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C01D-6BF0-4BB7-8F2E-5BC6EDB1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7612-1F33-4278-9916-29A6EAC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9D5-517D-42A1-B5B0-D9EFAC6E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2126-9D85-4AD3-AF1A-0124B13A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6372-B802-4B5E-82E7-B33DC03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6C22-60C4-4141-AF04-53CE8763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21AE-FC17-446F-BEAC-92328A57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E93A-6585-4915-AA04-4A751A09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32A-7E89-4A40-A3DA-FD869815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F72-B3AA-43B5-A19F-CBECF021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03E-3B4F-43D2-A539-3E8EFB6C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463-017D-4302-9459-75C3FC36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FA2-47A0-4010-A48F-8246AC6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E5F-4BC2-446C-8BF5-6CC9E673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00F-EDCB-4EC3-996B-54F9D15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10C9-78C2-4E66-9A58-9F8D5CF01D40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E6B0-11DB-4D14-B0B2-3002CD06BCDB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fsalim@iema.es.gov.br" TargetMode="External"/><Relationship Id="rId2" Type="http://schemas.openxmlformats.org/officeDocument/2006/relationships/hyperlink" Target="mailto:flaviasalim@hotmail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000080" y="1928880"/>
            <a:ext cx="76438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Lucida Sans"/>
              </a:rPr>
              <a:t>APLICAÇÃO DE METAS PROGRESSIVAS NO PROCESSO DE OUTORGA PARA DILUIÇÃO DE EFLU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28760" y="4786200"/>
            <a:ext cx="83484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Sans"/>
              </a:rPr>
              <a:t>Wesley Gabrieli de Sou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Sans"/>
              </a:rPr>
              <a:t>Flavia Pitanga Calil Sali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Sans"/>
              </a:rPr>
              <a:t>Luciano Meneses Cardoso da Sil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Lucida Sans"/>
              </a:rPr>
              <a:t>Campo Grande – 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Lucida Sans"/>
              </a:rPr>
              <a:t>Novembro/200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748480" cy="7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900000" y="6429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S PROGRESSIV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Elipse 5"/>
          <p:cNvSpPr/>
          <p:nvPr/>
        </p:nvSpPr>
        <p:spPr>
          <a:xfrm>
            <a:off x="6357960" y="51436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0" t="0" r="47861" b="0"/>
          <a:stretch/>
        </p:blipFill>
        <p:spPr>
          <a:xfrm>
            <a:off x="500040" y="1857240"/>
            <a:ext cx="6164280" cy="2233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rcRect l="47460" t="0" r="0" b="0"/>
          <a:stretch/>
        </p:blipFill>
        <p:spPr>
          <a:xfrm>
            <a:off x="1714680" y="4286160"/>
            <a:ext cx="6356160" cy="2286000"/>
          </a:xfrm>
          <a:prstGeom prst="rect">
            <a:avLst/>
          </a:prstGeom>
          <a:ln w="0">
            <a:noFill/>
          </a:ln>
        </p:spPr>
      </p:pic>
      <p:sp>
        <p:nvSpPr>
          <p:cNvPr id="260" name="Elipse 12"/>
          <p:cNvSpPr/>
          <p:nvPr/>
        </p:nvSpPr>
        <p:spPr>
          <a:xfrm>
            <a:off x="4286160" y="30718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Conector de seta reta 14"/>
          <p:cNvCxnSpPr/>
          <p:nvPr/>
        </p:nvCxnSpPr>
        <p:spPr>
          <a:xfrm flipV="1">
            <a:off x="4785840" y="2571480"/>
            <a:ext cx="20725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2" name="CaixaDeTexto 16"/>
          <p:cNvSpPr/>
          <p:nvPr/>
        </p:nvSpPr>
        <p:spPr>
          <a:xfrm>
            <a:off x="6858000" y="2357280"/>
            <a:ext cx="214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adrão Intermediário (prazo 6 anos – 25% do inicial - adequação para uma DBO de 70 mg/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Elipse 18"/>
          <p:cNvSpPr/>
          <p:nvPr/>
        </p:nvSpPr>
        <p:spPr>
          <a:xfrm>
            <a:off x="5857920" y="30718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28800" y="5554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 FIN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"/>
          <a:srcRect l="0" t="0" r="46527" b="0"/>
          <a:stretch/>
        </p:blipFill>
        <p:spPr>
          <a:xfrm>
            <a:off x="468360" y="1773360"/>
            <a:ext cx="6321240" cy="2233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rcRect l="48130" t="0" r="0" b="0"/>
          <a:stretch/>
        </p:blipFill>
        <p:spPr>
          <a:xfrm>
            <a:off x="2411280" y="4149720"/>
            <a:ext cx="6143760" cy="2238480"/>
          </a:xfrm>
          <a:prstGeom prst="rect">
            <a:avLst/>
          </a:prstGeom>
          <a:ln w="0">
            <a:noFill/>
          </a:ln>
        </p:spPr>
      </p:pic>
      <p:sp>
        <p:nvSpPr>
          <p:cNvPr id="267" name="Elipse 10"/>
          <p:cNvSpPr/>
          <p:nvPr/>
        </p:nvSpPr>
        <p:spPr>
          <a:xfrm>
            <a:off x="5796000" y="2997360"/>
            <a:ext cx="50004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Elipse 11"/>
          <p:cNvSpPr/>
          <p:nvPr/>
        </p:nvSpPr>
        <p:spPr>
          <a:xfrm>
            <a:off x="6516720" y="5805360"/>
            <a:ext cx="7142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Elipse 10"/>
          <p:cNvSpPr/>
          <p:nvPr/>
        </p:nvSpPr>
        <p:spPr>
          <a:xfrm>
            <a:off x="4284720" y="2997360"/>
            <a:ext cx="50004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900000" y="54936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900000" y="2071800"/>
            <a:ext cx="80647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4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900000" y="1857240"/>
            <a:ext cx="8101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5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Alternativa interessante no processo de regularização e adequação dos usuários (lançamentos) exist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prevê a melhoria e trabalha com prazos para implanta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ão substitui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o instrumento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enquadramento e suas metas intermediárias de qualidade,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sendo apenas uma alternativa de caráter transitó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Importância de observar os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efeitos sobre o oxigênio dissolvido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quando da flexibilização (adotado pelo ES recentemen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857160" y="2500200"/>
            <a:ext cx="764388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Lucida Sans"/>
              </a:rPr>
              <a:t>Obrigada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33cc"/>
                </a:solidFill>
                <a:uFillTx/>
                <a:latin typeface="Lucida Sans"/>
                <a:hlinkClick r:id="rId1"/>
              </a:rPr>
              <a:t>fsalim@iema.es.gov.b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33cc"/>
                </a:solidFill>
                <a:uFillTx/>
                <a:latin typeface="Lucida Sans"/>
                <a:hlinkClick r:id="rId2"/>
              </a:rPr>
              <a:t>flaviasalim@hotmail.com</a:t>
            </a:r>
            <a:r>
              <a:rPr b="1" lang="pt-BR" sz="1800" spc="-1" strike="noStrike">
                <a:solidFill>
                  <a:srgbClr val="00206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900000" y="765000"/>
            <a:ext cx="73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ASPECTOS CONCEIT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42960" y="1928880"/>
            <a:ext cx="81770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Outorga para diluição de efluentes </a:t>
            </a:r>
            <a:r>
              <a:rPr b="0" lang="pt-BR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VAZÃO DE DILUI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Quantidade de água necessária para diluir determinado poluente a uma concentração pré-estabelecida (padrão)”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upo 3"/>
          <p:cNvGrpSpPr/>
          <p:nvPr/>
        </p:nvGrpSpPr>
        <p:grpSpPr>
          <a:xfrm>
            <a:off x="448920" y="3071880"/>
            <a:ext cx="8312400" cy="3286080"/>
            <a:chOff x="448920" y="3071880"/>
            <a:chExt cx="8312400" cy="3286080"/>
          </a:xfrm>
        </p:grpSpPr>
        <mc:AlternateContent>
          <mc:Choice xmlns:a14="http://schemas.microsoft.com/office/drawing/2010/main" Requires="a14">
            <p:sp>
              <p:nvSpPr>
                <p:cNvPr id="122" name="Object 1"/>
                <p:cNvSpPr txBox="1"/>
                <p:nvPr/>
              </p:nvSpPr>
              <p:spPr>
                <a:xfrm>
                  <a:off x="2666520" y="5678640"/>
                  <a:ext cx="271440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Qdilui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e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na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23" name="Group 5"/>
            <p:cNvGrpSpPr/>
            <p:nvPr/>
          </p:nvGrpSpPr>
          <p:grpSpPr>
            <a:xfrm>
              <a:off x="448920" y="3071880"/>
              <a:ext cx="2743920" cy="2304720"/>
              <a:chOff x="448920" y="3071880"/>
              <a:chExt cx="2743920" cy="2304720"/>
            </a:xfrm>
          </p:grpSpPr>
          <p:grpSp>
            <p:nvGrpSpPr>
              <p:cNvPr id="124" name="Group 6"/>
              <p:cNvGrpSpPr/>
              <p:nvPr/>
            </p:nvGrpSpPr>
            <p:grpSpPr>
              <a:xfrm>
                <a:off x="959400" y="3071880"/>
                <a:ext cx="1645200" cy="1578240"/>
                <a:chOff x="959400" y="3071880"/>
                <a:chExt cx="1645200" cy="1578240"/>
              </a:xfrm>
            </p:grpSpPr>
            <p:sp>
              <p:nvSpPr>
                <p:cNvPr id="125" name="Rectangle 7"/>
                <p:cNvSpPr/>
                <p:nvPr/>
              </p:nvSpPr>
              <p:spPr>
                <a:xfrm>
                  <a:off x="1149120" y="3203640"/>
                  <a:ext cx="1329480" cy="14464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Rectangle 8"/>
                <p:cNvSpPr/>
                <p:nvPr/>
              </p:nvSpPr>
              <p:spPr>
                <a:xfrm>
                  <a:off x="959400" y="3071880"/>
                  <a:ext cx="1645200" cy="196560"/>
                </a:xfrm>
                <a:prstGeom prst="rect">
                  <a:avLst/>
                </a:prstGeom>
                <a:solidFill>
                  <a:srgbClr val="d6da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7" name="Rectangle 9"/>
              <p:cNvSpPr/>
              <p:nvPr/>
            </p:nvSpPr>
            <p:spPr>
              <a:xfrm>
                <a:off x="1149480" y="4321440"/>
                <a:ext cx="1329480" cy="329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10"/>
              <p:cNvSpPr/>
              <p:nvPr/>
            </p:nvSpPr>
            <p:spPr>
              <a:xfrm>
                <a:off x="448920" y="4736160"/>
                <a:ext cx="27439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Vol. efluente (Qe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oncentração Efluente (Ce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9" name="Rectangle 11"/>
            <p:cNvSpPr/>
            <p:nvPr/>
          </p:nvSpPr>
          <p:spPr>
            <a:xfrm>
              <a:off x="3679920" y="3203640"/>
              <a:ext cx="1329840" cy="1446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489840" y="3071880"/>
              <a:ext cx="1645200" cy="196920"/>
            </a:xfrm>
            <a:prstGeom prst="rect">
              <a:avLst/>
            </a:prstGeom>
            <a:solidFill>
              <a:srgbClr val="d6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2805120" y="3541320"/>
              <a:ext cx="52812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3679920" y="3860280"/>
              <a:ext cx="1329840" cy="78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3025440" y="4754880"/>
              <a:ext cx="2832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Vol. Água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(Qdilui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ntração Natural (Cnat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4" name="Group 16"/>
            <p:cNvGrpSpPr/>
            <p:nvPr/>
          </p:nvGrpSpPr>
          <p:grpSpPr>
            <a:xfrm>
              <a:off x="5436720" y="3071880"/>
              <a:ext cx="3324600" cy="2311920"/>
              <a:chOff x="5436720" y="3071880"/>
              <a:chExt cx="3324600" cy="2311920"/>
            </a:xfrm>
          </p:grpSpPr>
          <p:grpSp>
            <p:nvGrpSpPr>
              <p:cNvPr id="135" name="Group 17"/>
              <p:cNvGrpSpPr/>
              <p:nvPr/>
            </p:nvGrpSpPr>
            <p:grpSpPr>
              <a:xfrm>
                <a:off x="6211080" y="3071880"/>
                <a:ext cx="1645560" cy="1577880"/>
                <a:chOff x="6211080" y="3071880"/>
                <a:chExt cx="1645560" cy="157788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6400800" y="3203640"/>
                  <a:ext cx="1329840" cy="14461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6211080" y="3071880"/>
                  <a:ext cx="1645560" cy="196560"/>
                </a:xfrm>
                <a:prstGeom prst="rect">
                  <a:avLst/>
                </a:prstGeom>
                <a:solidFill>
                  <a:srgbClr val="d6da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8" name="Text Box 20"/>
              <p:cNvSpPr/>
              <p:nvPr/>
            </p:nvSpPr>
            <p:spPr>
              <a:xfrm>
                <a:off x="5536440" y="352836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Rectangle 21"/>
              <p:cNvSpPr/>
              <p:nvPr/>
            </p:nvSpPr>
            <p:spPr>
              <a:xfrm>
                <a:off x="6399720" y="3476520"/>
                <a:ext cx="1329840" cy="1173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22"/>
              <p:cNvSpPr/>
              <p:nvPr/>
            </p:nvSpPr>
            <p:spPr>
              <a:xfrm>
                <a:off x="5436720" y="4743360"/>
                <a:ext cx="33246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Concentração permitid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Cmax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Enquadrament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32"/>
          <p:cNvSpPr/>
          <p:nvPr/>
        </p:nvSpPr>
        <p:spPr>
          <a:xfrm>
            <a:off x="395280" y="1197000"/>
            <a:ext cx="1546200" cy="762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Grupo 42"/>
          <p:cNvGrpSpPr/>
          <p:nvPr/>
        </p:nvGrpSpPr>
        <p:grpSpPr>
          <a:xfrm>
            <a:off x="272880" y="981000"/>
            <a:ext cx="8789760" cy="4684680"/>
            <a:chOff x="272880" y="981000"/>
            <a:chExt cx="8789760" cy="4684680"/>
          </a:xfrm>
        </p:grpSpPr>
        <p:sp>
          <p:nvSpPr>
            <p:cNvPr id="143" name="Oval 3"/>
            <p:cNvSpPr/>
            <p:nvPr/>
          </p:nvSpPr>
          <p:spPr>
            <a:xfrm>
              <a:off x="1481040" y="2295360"/>
              <a:ext cx="842760" cy="509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>
              <a:off x="2323800" y="1954080"/>
              <a:ext cx="422280" cy="509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5" name="Group 5"/>
            <p:cNvGrpSpPr/>
            <p:nvPr/>
          </p:nvGrpSpPr>
          <p:grpSpPr>
            <a:xfrm>
              <a:off x="776160" y="1915920"/>
              <a:ext cx="2180880" cy="1538280"/>
              <a:chOff x="776160" y="1915920"/>
              <a:chExt cx="2180880" cy="1538280"/>
            </a:xfrm>
          </p:grpSpPr>
          <p:sp>
            <p:nvSpPr>
              <p:cNvPr id="146" name="Oval 6"/>
              <p:cNvSpPr/>
              <p:nvPr/>
            </p:nvSpPr>
            <p:spPr>
              <a:xfrm>
                <a:off x="2535120" y="2944800"/>
                <a:ext cx="421920" cy="5094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Oval 7"/>
              <p:cNvSpPr/>
              <p:nvPr/>
            </p:nvSpPr>
            <p:spPr>
              <a:xfrm>
                <a:off x="1127880" y="1992240"/>
                <a:ext cx="353160" cy="509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Oval 8"/>
              <p:cNvSpPr/>
              <p:nvPr/>
            </p:nvSpPr>
            <p:spPr>
              <a:xfrm>
                <a:off x="776160" y="1915920"/>
                <a:ext cx="351720" cy="509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Oval 9"/>
              <p:cNvSpPr/>
              <p:nvPr/>
            </p:nvSpPr>
            <p:spPr>
              <a:xfrm>
                <a:off x="2323800" y="2487600"/>
                <a:ext cx="421920" cy="5094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0" name="Oval 10"/>
            <p:cNvSpPr/>
            <p:nvPr/>
          </p:nvSpPr>
          <p:spPr>
            <a:xfrm rot="21487800">
              <a:off x="7151400" y="4456080"/>
              <a:ext cx="582480" cy="4903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bc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1"/>
            <p:cNvSpPr/>
            <p:nvPr/>
          </p:nvSpPr>
          <p:spPr>
            <a:xfrm>
              <a:off x="7045560" y="5010120"/>
              <a:ext cx="422280" cy="4903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2" name="Group 12"/>
            <p:cNvGrpSpPr/>
            <p:nvPr/>
          </p:nvGrpSpPr>
          <p:grpSpPr>
            <a:xfrm>
              <a:off x="3633840" y="2057400"/>
              <a:ext cx="5063760" cy="3514320"/>
              <a:chOff x="3633840" y="2057400"/>
              <a:chExt cx="5063760" cy="3514320"/>
            </a:xfrm>
          </p:grpSpPr>
          <p:grpSp>
            <p:nvGrpSpPr>
              <p:cNvPr id="153" name="Group 13"/>
              <p:cNvGrpSpPr/>
              <p:nvPr/>
            </p:nvGrpSpPr>
            <p:grpSpPr>
              <a:xfrm>
                <a:off x="3633840" y="2523600"/>
                <a:ext cx="3165480" cy="2051280"/>
                <a:chOff x="3633840" y="2523600"/>
                <a:chExt cx="3165480" cy="2051280"/>
              </a:xfrm>
            </p:grpSpPr>
            <p:sp>
              <p:nvSpPr>
                <p:cNvPr id="154" name="Freeform 14"/>
                <p:cNvSpPr/>
                <p:nvPr/>
              </p:nvSpPr>
              <p:spPr>
                <a:xfrm>
                  <a:off x="3633840" y="2523600"/>
                  <a:ext cx="3165480" cy="205128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"/>
                <p:cNvSpPr/>
                <p:nvPr/>
              </p:nvSpPr>
              <p:spPr>
                <a:xfrm flipV="1">
                  <a:off x="3914640" y="2904840"/>
                  <a:ext cx="2391480" cy="4572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6" name="Group 16"/>
              <p:cNvGrpSpPr/>
              <p:nvPr/>
            </p:nvGrpSpPr>
            <p:grpSpPr>
              <a:xfrm>
                <a:off x="3633840" y="2057400"/>
                <a:ext cx="5063760" cy="3514320"/>
                <a:chOff x="3633840" y="2057400"/>
                <a:chExt cx="5063760" cy="3514320"/>
              </a:xfrm>
            </p:grpSpPr>
            <p:sp>
              <p:nvSpPr>
                <p:cNvPr id="157" name="Line 17"/>
                <p:cNvSpPr/>
                <p:nvPr/>
              </p:nvSpPr>
              <p:spPr>
                <a:xfrm>
                  <a:off x="3633840" y="2828520"/>
                  <a:ext cx="189900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18"/>
                <p:cNvSpPr/>
                <p:nvPr/>
              </p:nvSpPr>
              <p:spPr>
                <a:xfrm>
                  <a:off x="6728400" y="2599920"/>
                  <a:ext cx="189900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19"/>
                <p:cNvSpPr/>
                <p:nvPr/>
              </p:nvSpPr>
              <p:spPr>
                <a:xfrm>
                  <a:off x="5391720" y="4581000"/>
                  <a:ext cx="189900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20"/>
                <p:cNvSpPr/>
                <p:nvPr/>
              </p:nvSpPr>
              <p:spPr>
                <a:xfrm>
                  <a:off x="6235920" y="2904840"/>
                  <a:ext cx="1899000" cy="990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21"/>
                <p:cNvSpPr/>
                <p:nvPr/>
              </p:nvSpPr>
              <p:spPr>
                <a:xfrm>
                  <a:off x="5532840" y="3514320"/>
                  <a:ext cx="3164760" cy="205092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22"/>
                <p:cNvSpPr/>
                <p:nvPr/>
              </p:nvSpPr>
              <p:spPr>
                <a:xfrm flipV="1">
                  <a:off x="5814000" y="3895200"/>
                  <a:ext cx="2391480" cy="4572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23"/>
                <p:cNvSpPr/>
                <p:nvPr/>
              </p:nvSpPr>
              <p:spPr>
                <a:xfrm>
                  <a:off x="3914640" y="3362040"/>
                  <a:ext cx="1899000" cy="990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24"/>
                <p:cNvSpPr/>
                <p:nvPr/>
              </p:nvSpPr>
              <p:spPr>
                <a:xfrm flipH="1" flipV="1">
                  <a:off x="7079760" y="2294640"/>
                  <a:ext cx="1265760" cy="685800"/>
                </a:xfrm>
                <a:prstGeom prst="line">
                  <a:avLst/>
                </a:prstGeom>
                <a:ln w="4140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Text Box 25"/>
                <p:cNvSpPr/>
                <p:nvPr/>
              </p:nvSpPr>
              <p:spPr>
                <a:xfrm rot="1610400">
                  <a:off x="7358400" y="2234520"/>
                  <a:ext cx="895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Fluxo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66" name="Group 26"/>
            <p:cNvGrpSpPr/>
            <p:nvPr/>
          </p:nvGrpSpPr>
          <p:grpSpPr>
            <a:xfrm>
              <a:off x="2503080" y="3781080"/>
              <a:ext cx="2218320" cy="1861560"/>
              <a:chOff x="2503080" y="3781080"/>
              <a:chExt cx="2218320" cy="1861560"/>
            </a:xfrm>
          </p:grpSpPr>
          <p:sp>
            <p:nvSpPr>
              <p:cNvPr id="167" name="Oval 27"/>
              <p:cNvSpPr/>
              <p:nvPr/>
            </p:nvSpPr>
            <p:spPr>
              <a:xfrm rot="133200">
                <a:off x="4125600" y="5145120"/>
                <a:ext cx="367560" cy="4903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bc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Text Box 28"/>
              <p:cNvSpPr/>
              <p:nvPr/>
            </p:nvSpPr>
            <p:spPr>
              <a:xfrm rot="1811400">
                <a:off x="2435040" y="4347720"/>
                <a:ext cx="2353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Parâmetro conservativ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29"/>
            <p:cNvGrpSpPr/>
            <p:nvPr/>
          </p:nvGrpSpPr>
          <p:grpSpPr>
            <a:xfrm>
              <a:off x="619200" y="3871440"/>
              <a:ext cx="2667240" cy="1794240"/>
              <a:chOff x="619200" y="3871440"/>
              <a:chExt cx="2667240" cy="1794240"/>
            </a:xfrm>
          </p:grpSpPr>
          <p:sp>
            <p:nvSpPr>
              <p:cNvPr id="170" name="Oval 30"/>
              <p:cNvSpPr/>
              <p:nvPr/>
            </p:nvSpPr>
            <p:spPr>
              <a:xfrm>
                <a:off x="2718720" y="5175360"/>
                <a:ext cx="281520" cy="4903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Text Box 31"/>
              <p:cNvSpPr/>
              <p:nvPr/>
            </p:nvSpPr>
            <p:spPr>
              <a:xfrm rot="1456800">
                <a:off x="572040" y="4422600"/>
                <a:ext cx="2760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Parâmetro não-conservativ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" name="Text Box 33"/>
            <p:cNvSpPr/>
            <p:nvPr/>
          </p:nvSpPr>
          <p:spPr>
            <a:xfrm>
              <a:off x="1697040" y="981000"/>
              <a:ext cx="18601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Humnst777 BT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3" name="Group 34"/>
            <p:cNvGrpSpPr/>
            <p:nvPr/>
          </p:nvGrpSpPr>
          <p:grpSpPr>
            <a:xfrm>
              <a:off x="2765520" y="1634760"/>
              <a:ext cx="6297120" cy="1093680"/>
              <a:chOff x="2765520" y="1634760"/>
              <a:chExt cx="6297120" cy="1093680"/>
            </a:xfrm>
          </p:grpSpPr>
          <p:sp>
            <p:nvSpPr>
              <p:cNvPr id="174" name="Oval 35"/>
              <p:cNvSpPr/>
              <p:nvPr/>
            </p:nvSpPr>
            <p:spPr>
              <a:xfrm>
                <a:off x="2765520" y="2219040"/>
                <a:ext cx="609480" cy="5094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bcb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Text Box 36"/>
              <p:cNvSpPr/>
              <p:nvPr/>
            </p:nvSpPr>
            <p:spPr>
              <a:xfrm>
                <a:off x="4351320" y="1634760"/>
                <a:ext cx="4711320" cy="51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Humnst777 BT"/>
                  </a:rPr>
                  <a:t>Vazão indisponível com a concentração máxima d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Humnst777 BT"/>
                  </a:rPr>
                  <a:t>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Humnst777 BT"/>
                  </a:rPr>
                  <a:t>classe de enquadrament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37"/>
              <p:cNvSpPr/>
              <p:nvPr/>
            </p:nvSpPr>
            <p:spPr>
              <a:xfrm flipH="1">
                <a:off x="3106800" y="1914120"/>
                <a:ext cx="13233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7" name="Group 38"/>
            <p:cNvGrpSpPr/>
            <p:nvPr/>
          </p:nvGrpSpPr>
          <p:grpSpPr>
            <a:xfrm>
              <a:off x="272880" y="1380960"/>
              <a:ext cx="4627440" cy="2050920"/>
              <a:chOff x="272880" y="1380960"/>
              <a:chExt cx="4627440" cy="2050920"/>
            </a:xfrm>
          </p:grpSpPr>
          <p:grpSp>
            <p:nvGrpSpPr>
              <p:cNvPr id="178" name="Group 39"/>
              <p:cNvGrpSpPr/>
              <p:nvPr/>
            </p:nvGrpSpPr>
            <p:grpSpPr>
              <a:xfrm>
                <a:off x="272880" y="1380960"/>
                <a:ext cx="4627440" cy="2050920"/>
                <a:chOff x="272880" y="1380960"/>
                <a:chExt cx="4627440" cy="2050920"/>
              </a:xfrm>
            </p:grpSpPr>
            <p:sp>
              <p:nvSpPr>
                <p:cNvPr id="179" name="Freeform 40"/>
                <p:cNvSpPr/>
                <p:nvPr/>
              </p:nvSpPr>
              <p:spPr>
                <a:xfrm>
                  <a:off x="272880" y="1380960"/>
                  <a:ext cx="4627440" cy="205092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41"/>
                <p:cNvSpPr/>
                <p:nvPr/>
              </p:nvSpPr>
              <p:spPr>
                <a:xfrm>
                  <a:off x="564480" y="1979280"/>
                  <a:ext cx="33062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1" name="Text Box 42"/>
              <p:cNvSpPr/>
              <p:nvPr/>
            </p:nvSpPr>
            <p:spPr>
              <a:xfrm>
                <a:off x="2079360" y="1690200"/>
                <a:ext cx="18036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Vazão de referênci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900000" y="765000"/>
            <a:ext cx="73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ASPECTOS CONCEIT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57160" y="1928880"/>
            <a:ext cx="79628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ahoma"/>
              </a:rPr>
              <a:t>Quantificar a parcela de água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 comprometida por determinado despe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Interferências na qualidade são transformadas em </a:t>
            </a:r>
            <a:r>
              <a:rPr b="0" lang="pt-BR" sz="1600" spc="-1" strike="noStrike">
                <a:solidFill>
                  <a:srgbClr val="ff0000"/>
                </a:solidFill>
                <a:latin typeface="Tahoma"/>
              </a:rPr>
              <a:t>equivalentes quantitativos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” </a:t>
            </a:r>
            <a:r>
              <a:rPr b="0" lang="pt-BR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 facilita o balanço entre a disponibilidade e a 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Critério de Outorga no 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1058760" y="1928880"/>
                <a:ext cx="2941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u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643040" y="5000760"/>
                <a:ext cx="25988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Qdilui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%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Elipse 56"/>
          <p:cNvSpPr/>
          <p:nvPr/>
        </p:nvSpPr>
        <p:spPr>
          <a:xfrm>
            <a:off x="3071880" y="4857840"/>
            <a:ext cx="14288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CaixaDeTexto 57"/>
          <p:cNvSpPr/>
          <p:nvPr/>
        </p:nvSpPr>
        <p:spPr>
          <a:xfrm>
            <a:off x="4572000" y="492912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arcela que “sobra” do uso consun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00000" y="333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DIFICUL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00000" y="1268280"/>
            <a:ext cx="8064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Cursos de água com baixa disponibilidade hídr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Dificuldade de regularização dos usos existentes com base nos padrões de qualidade da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classe 2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de enquadram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0" t="0" r="46466" b="0"/>
          <a:stretch/>
        </p:blipFill>
        <p:spPr>
          <a:xfrm>
            <a:off x="285840" y="2357280"/>
            <a:ext cx="5786280" cy="2041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rcRect l="46793" t="0" r="0" b="0"/>
          <a:stretch/>
        </p:blipFill>
        <p:spPr>
          <a:xfrm>
            <a:off x="2714760" y="4500720"/>
            <a:ext cx="6035400" cy="2143080"/>
          </a:xfrm>
          <a:prstGeom prst="rect">
            <a:avLst/>
          </a:prstGeom>
          <a:ln w="0">
            <a:noFill/>
          </a:ln>
        </p:spPr>
      </p:pic>
      <p:sp>
        <p:nvSpPr>
          <p:cNvPr id="192" name="CaixaDeTexto 6"/>
          <p:cNvSpPr/>
          <p:nvPr/>
        </p:nvSpPr>
        <p:spPr>
          <a:xfrm>
            <a:off x="6500880" y="250020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Tahoma"/>
              </a:rPr>
              <a:t>Desconforto – não há água para diluir todos os despejos exist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Elipse 7"/>
          <p:cNvSpPr/>
          <p:nvPr/>
        </p:nvSpPr>
        <p:spPr>
          <a:xfrm>
            <a:off x="4429080" y="342900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Elipse 8"/>
          <p:cNvSpPr/>
          <p:nvPr/>
        </p:nvSpPr>
        <p:spPr>
          <a:xfrm>
            <a:off x="5143680" y="342900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Elipse 9"/>
          <p:cNvSpPr/>
          <p:nvPr/>
        </p:nvSpPr>
        <p:spPr>
          <a:xfrm>
            <a:off x="6858000" y="5643720"/>
            <a:ext cx="50004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Elipse 10"/>
          <p:cNvSpPr/>
          <p:nvPr/>
        </p:nvSpPr>
        <p:spPr>
          <a:xfrm>
            <a:off x="3714840" y="342900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CaixaDeTexto 6"/>
          <p:cNvSpPr/>
          <p:nvPr/>
        </p:nvSpPr>
        <p:spPr>
          <a:xfrm>
            <a:off x="6443640" y="335772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Tahoma"/>
              </a:rPr>
              <a:t>Desrespeitando Art. 13 da Lei 943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928800" y="3571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DIFICUL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28800" y="1071720"/>
            <a:ext cx="7929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Todos os usuários com uma melhoria de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100 mg/l para 40 mg/l - $$$$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Alternativa </a:t>
            </a:r>
            <a:r>
              <a:rPr b="0" lang="pt-BR" sz="16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flexibilizar o padrão de qualidade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(uma vez que o curso de água encontra-se degradad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rcRect l="0" t="0" r="46527" b="0"/>
          <a:stretch/>
        </p:blipFill>
        <p:spPr>
          <a:xfrm>
            <a:off x="285840" y="2143080"/>
            <a:ext cx="6321240" cy="2233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rcRect l="48130" t="0" r="0" b="0"/>
          <a:stretch/>
        </p:blipFill>
        <p:spPr>
          <a:xfrm>
            <a:off x="2286000" y="4429080"/>
            <a:ext cx="6143760" cy="2238480"/>
          </a:xfrm>
          <a:prstGeom prst="rect">
            <a:avLst/>
          </a:prstGeom>
          <a:ln w="0">
            <a:noFill/>
          </a:ln>
        </p:spPr>
      </p:pic>
      <p:sp>
        <p:nvSpPr>
          <p:cNvPr id="202" name="Elipse 10"/>
          <p:cNvSpPr/>
          <p:nvPr/>
        </p:nvSpPr>
        <p:spPr>
          <a:xfrm>
            <a:off x="5643720" y="328608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Elipse 11"/>
          <p:cNvSpPr/>
          <p:nvPr/>
        </p:nvSpPr>
        <p:spPr>
          <a:xfrm>
            <a:off x="6357960" y="6072120"/>
            <a:ext cx="7142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900000" y="260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S PROGRESSIV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79280" y="981000"/>
            <a:ext cx="8964720" cy="5472360"/>
            <a:chOff x="179280" y="981000"/>
            <a:chExt cx="8964720" cy="5472360"/>
          </a:xfrm>
        </p:grpSpPr>
        <p:grpSp>
          <p:nvGrpSpPr>
            <p:cNvPr id="206" name="Group 4"/>
            <p:cNvGrpSpPr/>
            <p:nvPr/>
          </p:nvGrpSpPr>
          <p:grpSpPr>
            <a:xfrm>
              <a:off x="237240" y="1011240"/>
              <a:ext cx="8906040" cy="5441760"/>
              <a:chOff x="237240" y="1011240"/>
              <a:chExt cx="8906040" cy="5441760"/>
            </a:xfrm>
          </p:grpSpPr>
          <p:sp>
            <p:nvSpPr>
              <p:cNvPr id="207" name="Line 5"/>
              <p:cNvSpPr/>
              <p:nvPr/>
            </p:nvSpPr>
            <p:spPr>
              <a:xfrm>
                <a:off x="1112760" y="5866560"/>
                <a:ext cx="71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Line 6"/>
              <p:cNvSpPr/>
              <p:nvPr/>
            </p:nvSpPr>
            <p:spPr>
              <a:xfrm flipV="1">
                <a:off x="1112760" y="1371600"/>
                <a:ext cx="0" cy="449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7"/>
              <p:cNvSpPr/>
              <p:nvPr/>
            </p:nvSpPr>
            <p:spPr>
              <a:xfrm>
                <a:off x="1112760" y="2098080"/>
                <a:ext cx="3760200" cy="3197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Line 8"/>
              <p:cNvSpPr/>
              <p:nvPr/>
            </p:nvSpPr>
            <p:spPr>
              <a:xfrm>
                <a:off x="4848120" y="215316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Line 9"/>
              <p:cNvSpPr/>
              <p:nvPr/>
            </p:nvSpPr>
            <p:spPr>
              <a:xfrm>
                <a:off x="4848120" y="273960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Line 10"/>
              <p:cNvSpPr/>
              <p:nvPr/>
            </p:nvSpPr>
            <p:spPr>
              <a:xfrm>
                <a:off x="5408280" y="273960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>
                <a:off x="5408280" y="33256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2"/>
              <p:cNvSpPr/>
              <p:nvPr/>
            </p:nvSpPr>
            <p:spPr>
              <a:xfrm>
                <a:off x="5968440" y="3325680"/>
                <a:ext cx="0" cy="58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Line 13"/>
              <p:cNvSpPr/>
              <p:nvPr/>
            </p:nvSpPr>
            <p:spPr>
              <a:xfrm>
                <a:off x="5968440" y="391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H="1">
                <a:off x="6523920" y="3912480"/>
                <a:ext cx="50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Line 15"/>
              <p:cNvSpPr/>
              <p:nvPr/>
            </p:nvSpPr>
            <p:spPr>
              <a:xfrm flipH="1">
                <a:off x="1109880" y="4434480"/>
                <a:ext cx="65966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Line 16"/>
              <p:cNvSpPr/>
              <p:nvPr/>
            </p:nvSpPr>
            <p:spPr>
              <a:xfrm>
                <a:off x="4101120" y="2153160"/>
                <a:ext cx="0" cy="3713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Text Box 17"/>
              <p:cNvSpPr/>
              <p:nvPr/>
            </p:nvSpPr>
            <p:spPr>
              <a:xfrm>
                <a:off x="3713040" y="585144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oj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Text Box 18"/>
              <p:cNvSpPr/>
              <p:nvPr/>
            </p:nvSpPr>
            <p:spPr>
              <a:xfrm>
                <a:off x="654120" y="5085000"/>
                <a:ext cx="6451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Text Box 19"/>
              <p:cNvSpPr/>
              <p:nvPr/>
            </p:nvSpPr>
            <p:spPr>
              <a:xfrm>
                <a:off x="610560" y="4242240"/>
                <a:ext cx="560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Text Box 20"/>
              <p:cNvSpPr/>
              <p:nvPr/>
            </p:nvSpPr>
            <p:spPr>
              <a:xfrm>
                <a:off x="237240" y="1011240"/>
                <a:ext cx="3735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Concentração de DBO (mg/L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Text Box 21"/>
              <p:cNvSpPr/>
              <p:nvPr/>
            </p:nvSpPr>
            <p:spPr>
              <a:xfrm>
                <a:off x="7836120" y="589932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Text Box 22"/>
              <p:cNvSpPr/>
              <p:nvPr/>
            </p:nvSpPr>
            <p:spPr>
              <a:xfrm>
                <a:off x="523440" y="1942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5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Text Box 23"/>
              <p:cNvSpPr/>
              <p:nvPr/>
            </p:nvSpPr>
            <p:spPr>
              <a:xfrm>
                <a:off x="523440" y="371700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Text Box 24"/>
              <p:cNvSpPr/>
              <p:nvPr/>
            </p:nvSpPr>
            <p:spPr>
              <a:xfrm>
                <a:off x="523440" y="3130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5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Text Box 25"/>
              <p:cNvSpPr/>
              <p:nvPr/>
            </p:nvSpPr>
            <p:spPr>
              <a:xfrm>
                <a:off x="510840" y="254412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Line 26"/>
              <p:cNvSpPr/>
              <p:nvPr/>
            </p:nvSpPr>
            <p:spPr>
              <a:xfrm flipH="1">
                <a:off x="1092960" y="2134800"/>
                <a:ext cx="3062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Line 27"/>
              <p:cNvSpPr/>
              <p:nvPr/>
            </p:nvSpPr>
            <p:spPr>
              <a:xfrm flipH="1">
                <a:off x="1104120" y="2736360"/>
                <a:ext cx="377028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Line 28"/>
              <p:cNvSpPr/>
              <p:nvPr/>
            </p:nvSpPr>
            <p:spPr>
              <a:xfrm flipH="1">
                <a:off x="1138320" y="3322800"/>
                <a:ext cx="4334040" cy="7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Line 29"/>
              <p:cNvSpPr/>
              <p:nvPr/>
            </p:nvSpPr>
            <p:spPr>
              <a:xfrm flipH="1" flipV="1">
                <a:off x="1146600" y="3905640"/>
                <a:ext cx="489420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Text Box 30"/>
              <p:cNvSpPr/>
              <p:nvPr/>
            </p:nvSpPr>
            <p:spPr>
              <a:xfrm>
                <a:off x="984240" y="404892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Enquadramento na Classe II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Text Box 31"/>
              <p:cNvSpPr/>
              <p:nvPr/>
            </p:nvSpPr>
            <p:spPr>
              <a:xfrm>
                <a:off x="1054800" y="490896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c0c0c0"/>
                    </a:solidFill>
                    <a:latin typeface="Arial"/>
                  </a:rPr>
                  <a:t>Concentração natural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Line 32"/>
              <p:cNvSpPr/>
              <p:nvPr/>
            </p:nvSpPr>
            <p:spPr>
              <a:xfrm flipH="1">
                <a:off x="4463640" y="1567080"/>
                <a:ext cx="113076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Text Box 33"/>
              <p:cNvSpPr/>
              <p:nvPr/>
            </p:nvSpPr>
            <p:spPr>
              <a:xfrm>
                <a:off x="3914280" y="1223640"/>
                <a:ext cx="4295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Permissão acordada (25,0 mg/L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laxamento do Enquadrament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Text Box 34"/>
              <p:cNvSpPr/>
              <p:nvPr/>
            </p:nvSpPr>
            <p:spPr>
              <a:xfrm>
                <a:off x="6342120" y="2138040"/>
                <a:ext cx="20541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Pacto de redução gradual da poluição.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Permissões cada vez menor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AutoShape 35"/>
              <p:cNvSpPr/>
              <p:nvPr/>
            </p:nvSpPr>
            <p:spPr>
              <a:xfrm rot="19425000">
                <a:off x="6064920" y="1490040"/>
                <a:ext cx="294480" cy="2934720"/>
              </a:xfrm>
              <a:custGeom>
                <a:avLst/>
                <a:gdLst>
                  <a:gd name="textAreaLeft" fmla="*/ 0 w 294480"/>
                  <a:gd name="textAreaRight" fmla="*/ 106200 w 294480"/>
                  <a:gd name="textAreaTop" fmla="*/ 76320 h 2934720"/>
                  <a:gd name="textAreaBottom" fmla="*/ 2858400 h 29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6528960" y="4431240"/>
                <a:ext cx="1276200" cy="1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Line 37"/>
              <p:cNvSpPr/>
              <p:nvPr/>
            </p:nvSpPr>
            <p:spPr>
              <a:xfrm>
                <a:off x="6528960" y="4498560"/>
                <a:ext cx="0" cy="136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Text Box 38"/>
              <p:cNvSpPr/>
              <p:nvPr/>
            </p:nvSpPr>
            <p:spPr>
              <a:xfrm>
                <a:off x="6041160" y="5866560"/>
                <a:ext cx="1220040" cy="3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+ N ano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" name="Rectangle 39"/>
            <p:cNvSpPr/>
            <p:nvPr/>
          </p:nvSpPr>
          <p:spPr>
            <a:xfrm>
              <a:off x="179280" y="981000"/>
              <a:ext cx="8964720" cy="54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900000" y="54936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METAS PROGRESSIVAS – ASPECTOS LEG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900000" y="2071800"/>
            <a:ext cx="80647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4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900000" y="1857240"/>
            <a:ext cx="8101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Resolução CNRH 16/01 art. 15 – “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a outorga para lançamento de efluentes será dada...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com base nos padrões de qualidade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 correspondente à classe de enquadramento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e/ou em critérios específicos definidos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 nos planos de recursos hídricos ou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pelos órgãos competentes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Resolução  CONAMA 357/05 art. 38 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– menciona que as ações de gestão referente ao uso dos recursos hídricos deverão basear-se nas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metas intermediárias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 e final de qualidade aprovadas pelo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órgão compet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os corpos de água enquadrados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– é consenso que as metas de qualidade a serem respeitadas são aquelas definidas nos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Planos aprovados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 pelos respectivos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Comitês de Ba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ausência de Planos, Agências de Água e Comitês de Bacia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– estabelecimento de metas progressivas pela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utoridade outorgante em conjunto com o órgão ambient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Aft>
                <a:spcPts val="87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Instrução Normativa IEMA  nº 11/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Aft>
                <a:spcPts val="87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Resolução CNRH nº 91 (publicada em fevereiro de 2009) – adotou a mesma sistemática, mas atribui ao Conselho de Recursos Hídricos a competência de aprovar as metas definid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900000" y="6429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S PROGRESSIV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rcRect l="0" t="0" r="46527" b="0"/>
          <a:stretch/>
        </p:blipFill>
        <p:spPr>
          <a:xfrm>
            <a:off x="571680" y="1643040"/>
            <a:ext cx="5786280" cy="2044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rcRect l="48130" t="0" r="0" b="0"/>
          <a:stretch/>
        </p:blipFill>
        <p:spPr>
          <a:xfrm>
            <a:off x="2500200" y="4071960"/>
            <a:ext cx="5715000" cy="2081160"/>
          </a:xfrm>
          <a:prstGeom prst="rect">
            <a:avLst/>
          </a:prstGeom>
          <a:ln w="0">
            <a:noFill/>
          </a:ln>
        </p:spPr>
      </p:pic>
      <p:sp>
        <p:nvSpPr>
          <p:cNvPr id="248" name="Elipse 5"/>
          <p:cNvSpPr/>
          <p:nvPr/>
        </p:nvSpPr>
        <p:spPr>
          <a:xfrm>
            <a:off x="6357960" y="51436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Elipse 6"/>
          <p:cNvSpPr/>
          <p:nvPr/>
        </p:nvSpPr>
        <p:spPr>
          <a:xfrm>
            <a:off x="4071960" y="271476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0" name="Conector de seta reta 8"/>
          <p:cNvCxnSpPr/>
          <p:nvPr/>
        </p:nvCxnSpPr>
        <p:spPr>
          <a:xfrm flipV="1">
            <a:off x="4571640" y="2142360"/>
            <a:ext cx="2072520" cy="85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1" name="CaixaDeTexto 10"/>
          <p:cNvSpPr/>
          <p:nvPr/>
        </p:nvSpPr>
        <p:spPr>
          <a:xfrm>
            <a:off x="6786720" y="1928880"/>
            <a:ext cx="207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onto de Partida para a definição de padrões intermediári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Elipse 11"/>
          <p:cNvSpPr/>
          <p:nvPr/>
        </p:nvSpPr>
        <p:spPr>
          <a:xfrm>
            <a:off x="5429160" y="271476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6500880" y="1143000"/>
                <a:ext cx="2428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u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Elipse 13"/>
          <p:cNvSpPr/>
          <p:nvPr/>
        </p:nvSpPr>
        <p:spPr>
          <a:xfrm>
            <a:off x="8143920" y="1143000"/>
            <a:ext cx="642960" cy="285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Elipse 14"/>
          <p:cNvSpPr/>
          <p:nvPr/>
        </p:nvSpPr>
        <p:spPr>
          <a:xfrm>
            <a:off x="7643880" y="1428840"/>
            <a:ext cx="642960" cy="285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19:21:01Z</dcterms:created>
  <dc:creator>N55575</dc:creator>
  <dc:description/>
  <dc:language>en-US</dc:language>
  <cp:lastModifiedBy>ACER</cp:lastModifiedBy>
  <dcterms:modified xsi:type="dcterms:W3CDTF">2009-11-26T13:00:29Z</dcterms:modified>
  <cp:revision>298</cp:revision>
  <dc:subject/>
  <dc:title>Slide 1</dc:title>
</cp:coreProperties>
</file>