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A02F-9552-480F-B396-6D4A25FE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BD4-375B-49BE-BEE6-E2062428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CBC-45C6-4DC6-B298-78664BFB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AAA6-E3C0-47AB-A055-283F5AFD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AC28-DF25-4997-9E7A-2799E127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5F55-A07D-4046-9DA5-099DF691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75C9-43F8-40D1-B3D6-7E99BC19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0C6D-AD82-49DF-A90A-B02850DE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BC2A-A2AF-4547-89E0-26775CB2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16FD-0679-4017-80C0-79A522C3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77BE-8EFD-40FC-B94E-D8D39442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BAB-6D04-4D7B-AEC2-6A39C2CD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9E6C-DCA5-4B2C-B6A5-6D25226A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44BB-F7FB-4F92-BA6D-BA783597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3CB6-8730-410D-B4A4-4CF30DAA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37B2-D095-4007-954C-BC6DBD45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949D-DF8C-4B50-BA0F-11F9EDBC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483D-F10A-4361-A2F2-0AD469AF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27CA-E513-4E82-9D76-97AD3C5F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D6C-6694-4879-A481-BFBD6258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456-2131-4D41-A050-72149AC5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BB1-F148-4CD2-A7C3-22574FC9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8B1-C0FA-4298-8624-9840F649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6D78-ECCF-4969-9981-E4E7AAB4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A45C-C145-4ECC-A564-B8D7BF047E1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7CEE-1063-4E46-A38B-49C423DAF02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osta ANA de revisão da Resolução CNRH n.º 12/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7368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quadramento dos corpos de á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ª Reunião CTPO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sília, 12 de setembro de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Conferência Nacional do Meio Ambiente (2003) definiu como uma das met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vantar a situação atual dos cursos d’água principais e de seus afluentes e elaborar propostas de enquadramento de todos os cursos d’água até 2008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ção n.º 67/2005, do CONAMA, recomenda implementação de programa nacional, com dotação financeira própria, para o enquadramento dos corpos d’água, que inclua, entre outras, ações de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atualização normativ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de capacitação de recursos human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olução CONAMA n.º 357/2005 revogou e substituiu Resolução CONAMA n.º 20/198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a os normativos que embasam a elaboração do enquadramento dos corpos hídricos e, conseqüente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a a aplicação da Resolução CNRH n.º 12/2000, que estabelece os procedimentos para o enquadramento dos corpos de água em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Resolução CNRH n.º 12/2000, art. 2º dispõ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gências de Água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, no âmbito de sua área de atuação, proporão aos respectivos Comitês de Bacia Hidrográfica o enquadramento de corpos de água em classes segundo os usos preponderantes, com base nas respectivas legislações de recursos hídricos e ambiental e segundo os procedimentos dispostos nesta Resolução.”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art 3º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para bacias sem agências de água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...as propostas poderão ser elaboradas pelos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nsórcios ou associações intermunicipais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de bacias hidrográficas, com a participação dos órgãos gestores de recursos hídricos em conjunto com os órgãos de meio ambient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de a Resolução n.º 12/2000, não se tem conhecimento de que algum corpo de água tenha sido enquadrado segundo seus proced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ó há Agências de Água nas bacias hidrográficas dos rios Piracicaba, Capivari e Jundiaí e do rio Paraíba do S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solução CNRH n.º 12/2000 precisa ser revisada de modo a permitir que  outros atores do SINGREH realizem os enquadra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lano Nacional de Recursos Hídricos (PNRH) consta 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programa III.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mento aos Planos de Recursos Hídricos e ao Enquadramento dos Corpos Hídricos em Classes de U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programa III.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quer que os procedimentos relativos ao enquadramento estejam adequados aos novos norm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466720" y="2712960"/>
            <a:ext cx="400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POST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posta ANA para a revisão da Resolução CNRH n.º 12/2000 objeti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timizar a implementação do instr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r a possibilidade de execução dos estudos para o enquadramento dos corpos d’água por órgãos com competências para a gestão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equá-la a aos normativos da Resolução CONAMA n.º 357/20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osta ANA de revisão permite atuar em três cenários disti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ário ide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gência de Água elabora proposta de enquadr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Comitê da Bacia escolhe a melhor altern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Conselho Nacional ou Estadual aprova, se for o c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Na ausência de Agência de Água, mas com Comitê de Ba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órgão competente de recursos hídricos, em conjunto com o órgão de meio ambiente, elabora proposta de enquadr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Comitê de Bacia supervisiona o processo e escolhe a melhor altern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Conselho Nacional ou Estadual aprova, se for o c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Na ausência de Comitê de Ba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órgão competente de recursos hídricos, em conjunto com o órgão de meio ambiente, elabora proposta de enquadr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Conselho Nacional ou Estadual aprova, se for o caso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vi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s usuários e as comunidades interessadas (art. 1º, VI, da Lei n.º  9.433/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091" t="987" r="77224" b="92265"/>
          <a:stretch/>
        </p:blipFill>
        <p:spPr>
          <a:xfrm>
            <a:off x="0" y="0"/>
            <a:ext cx="6516720" cy="2816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1280" y="1566720"/>
            <a:ext cx="77058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imes New Roman"/>
              </a:rPr>
              <a:t>Superintendência de Outorga e Fiscal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Times New Roman"/>
              </a:rPr>
              <a:t>Luciano Meneses Cardoso da Silva, D.E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Gerente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pecialista em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lmeneses@ana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.:  (61) 2109-52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ww.ana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09680" y="2712960"/>
            <a:ext cx="51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 acordo com o art. 35, VI, da Lei  n.º 9.433/1997, cabe ao CNRH estabelecer a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diretrizes complementar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ara implementação da Política Nacional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art 1º, XI, do Decreto n.º 4.613/2003, atribui ao CNRH a competência para aprovar o enquadramento de corpos de água em classes, em consonância com as diretrizes CONAMA e de acordo com a classificação estabelecida na legislação ambi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enquadramento de corpos de água em classes é um instrumento da Política Nacional de Recursos Hídricos (Lei n.º 9.433/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a matéria foi regulamentada pela Resolução CNRH n.º 12/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e do dispositivo fora disciplinado anteriormente pela Resolução CONAMA n.º 20/1986, revista no âmbito do CONAMA pela Resolução n.º 357/200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enquadramento é um instrumento de convergência entre as Políticas de Meio Ambiente e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 repercussão operacional sobre os órgãos do SISNAMA e SINGR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a normalização compete ao CONAMA e ao CNRH, bem como seus pares estadu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i referência para o licenciamento ambiental e para a outorga de direito de uso de recursos hídr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experiência brasileira em enquadramento é pouco expressiva apesar de a primeira legislação ter sido de 1976 (Portaria GM n.º 13/1976 do Ministério do Interior) e depois a Resolução CONAMA n.º 20/1986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esar de existir há 30 ano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enas trê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pos de água de domínio da União foram enquadr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rio Paranapanema (Portaria n.º 29/1980 da SE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rio Paraíba do Sul (Portaria n.º 86/1981 do Ministério do Interi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rio São Francisco (Portaria n.º 715/1989 do IB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enas dez estados realizaram, total ou parcialmente, o enquadram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 Grande do 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ta Cata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ão Pa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o Grosso do 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as Ge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í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h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go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 de Jan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374160" y="6181560"/>
            <a:ext cx="187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nte: ANA (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921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ias de rios estaduais que possuem enquad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3802" t="20218" r="9476" b="20070"/>
          <a:stretch/>
        </p:blipFill>
        <p:spPr>
          <a:xfrm>
            <a:off x="2268360" y="620640"/>
            <a:ext cx="6193080" cy="6031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01760" y="5002200"/>
            <a:ext cx="457200" cy="3049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1760" y="4227480"/>
            <a:ext cx="4572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5797440"/>
            <a:ext cx="4572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6450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ISL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013360"/>
            <a:ext cx="37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olução CONAMA nº 20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4221000"/>
            <a:ext cx="41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aria Min. Interior nº 13/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7760" y="58183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ão enquadr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11280" y="115920"/>
            <a:ext cx="79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ias de rios federais que possuem enquad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8200" y="6405480"/>
            <a:ext cx="187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nte: ANA (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0787" t="12122" r="16670" b="31818"/>
          <a:stretch/>
        </p:blipFill>
        <p:spPr>
          <a:xfrm>
            <a:off x="2195640" y="609480"/>
            <a:ext cx="6248160" cy="6248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666200" y="3505320"/>
            <a:ext cx="139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ão Franc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BAMA (198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160" y="4800600"/>
            <a:ext cx="152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íba do S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EEIVAP (198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24120" y="5334120"/>
            <a:ext cx="144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napan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4941720"/>
            <a:ext cx="4572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4149720"/>
            <a:ext cx="4572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5715000"/>
            <a:ext cx="457200" cy="30492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3581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ISL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49417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aria SE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.º 29/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napan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571500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aria IBAMA 715/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4149720"/>
            <a:ext cx="41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aria Min. Interior nº 86/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íba do S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5574240"/>
            <a:ext cx="26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EEIPEMA (198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OA-CGTI</cp:lastModifiedBy>
  <dcterms:modified xsi:type="dcterms:W3CDTF">2006-09-13T16:14:52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