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5AF-B5C4-4B90-9C57-592B5327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F54-3B38-4937-B97B-01B9E895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F81-34E5-46AA-9670-FD190DEF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469-7D7E-4446-A1EC-D8A978F4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4C0F-6BB9-47A9-8772-9C36C5DC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B863-8A05-4AD4-ABD0-28359A8E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4602-9058-449A-AF01-33C59BF5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A5CD-75D7-4CA1-B60A-AEACF572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8461-5499-4DB5-ADA3-3073CD0D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7213-2C20-46A5-9DD9-9D4DE5FE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E0F5-9140-4DCD-989D-9C8EB21F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A5D-6632-4EC7-A810-60101686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A06D-294C-44EE-A8E1-A3A77FAC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459A-5818-47AA-8B2E-4B2D04F9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F131-FF62-41F5-AE65-3FCB58CD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4DAE-69A2-492B-82BD-941F7D40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063E-4319-4BC0-B6D6-14336B93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C7D-5DCD-4089-A38A-9C7DEB3B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5C7-C717-47B8-AB7D-0A6275EB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B67B-234C-4C6B-AD9E-11BAB769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4A8D-A0EE-4827-9A06-DFAE5C88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30A-9663-4705-A2AA-235A152A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AD1-8B0B-442E-AB15-723B479D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BF6-FFE4-4330-B613-FC7CF773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B61F-3976-4E31-94D4-DF23169D5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9AD8-7BBC-4F08-AC20-3121C1A0D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rasil.gov.br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brasil.gov.br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23800" y="2610000"/>
            <a:ext cx="833616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Acesse o Portal do Governo Brasileir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34120"/>
            <a:ext cx="2195640" cy="623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000" y="5086440"/>
            <a:ext cx="48564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ciano Meneses Cardoso da Silva, D.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pecialista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rcRect l="1091" t="987" r="77467" b="92287"/>
          <a:stretch/>
        </p:blipFill>
        <p:spPr>
          <a:xfrm>
            <a:off x="34920" y="0"/>
            <a:ext cx="5724360" cy="2492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1120" y="42210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oão Pessoa – PB, 21 de novembro de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3240" y="20620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PO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52520" y="2286000"/>
            <a:ext cx="6553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Formulação</a:t>
            </a:r>
            <a:br>
              <a:rPr sz="9600"/>
            </a:b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Matemátic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905120" y="2011320"/>
                <a:ext cx="55814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istur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Q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7" name=""/>
          <p:cNvGraphicFramePr/>
          <p:nvPr/>
        </p:nvGraphicFramePr>
        <p:xfrm>
          <a:off x="0" y="3657600"/>
          <a:ext cx="9144000" cy="28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9144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091600" y="119232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ação de mistura comp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11440" y="1962000"/>
                <a:ext cx="47196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di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e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e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perm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per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na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92" name=""/>
          <p:cNvGraphicFramePr/>
          <p:nvPr/>
        </p:nvGraphicFramePr>
        <p:xfrm>
          <a:off x="266760" y="3352680"/>
          <a:ext cx="8680320" cy="285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3352680"/>
                    <a:ext cx="868032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020400" y="1143000"/>
            <a:ext cx="36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quação de dil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297080" y="3352680"/>
                <a:ext cx="67039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indis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dil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Qe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295280" y="16002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zão Indisponí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m termos qualitativos no ponto de lanç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362320" y="10476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zões indisponí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8280" y="1793880"/>
            <a:ext cx="7497720" cy="1711440"/>
            <a:chOff x="368280" y="1793880"/>
            <a:chExt cx="7497720" cy="171144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1125360" y="2235240"/>
                  <a:ext cx="674064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368280" y="179388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6633"/>
                  </a:solidFill>
                  <a:latin typeface="Times New Roman"/>
                </a:rPr>
                <a:t>D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6880" y="3848040"/>
            <a:ext cx="7369200" cy="1461960"/>
            <a:chOff x="326880" y="3848040"/>
            <a:chExt cx="7369200" cy="1461960"/>
          </a:xfrm>
        </p:grpSpPr>
        <p:sp>
          <p:nvSpPr>
            <p:cNvPr id="204" name=""/>
            <p:cNvSpPr/>
            <p:nvPr/>
          </p:nvSpPr>
          <p:spPr>
            <a:xfrm>
              <a:off x="326880" y="384804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Colifor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1219320" y="4095720"/>
                  <a:ext cx="6476760" cy="12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636840" y="5429160"/>
            <a:ext cx="463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Í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ponto de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qualquer ponto a jusante do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363240" y="1714680"/>
            <a:ext cx="7103880" cy="1828440"/>
            <a:chOff x="363240" y="1714680"/>
            <a:chExt cx="7103880" cy="1828440"/>
          </a:xfrm>
        </p:grpSpPr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767240" y="2493000"/>
                  <a:ext cx="5699880" cy="105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0" name=""/>
            <p:cNvSpPr/>
            <p:nvPr/>
          </p:nvSpPr>
          <p:spPr>
            <a:xfrm>
              <a:off x="363240" y="171468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arâmetros conserv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08160" y="3600360"/>
            <a:ext cx="8302320" cy="1371600"/>
            <a:chOff x="308160" y="3600360"/>
            <a:chExt cx="8302320" cy="1371600"/>
          </a:xfrm>
        </p:grpSpPr>
        <p:sp>
          <p:nvSpPr>
            <p:cNvPr id="212" name=""/>
            <p:cNvSpPr/>
            <p:nvPr/>
          </p:nvSpPr>
          <p:spPr>
            <a:xfrm>
              <a:off x="308160" y="360036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emperatu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762120" y="4133880"/>
                  <a:ext cx="784836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perm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ma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r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empo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ma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man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ma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4" name=""/>
          <p:cNvSpPr/>
          <p:nvPr/>
        </p:nvSpPr>
        <p:spPr>
          <a:xfrm>
            <a:off x="503280" y="5562720"/>
            <a:ext cx="463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Í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ponto de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qualquer ponto a jusante do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9334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zões indisponí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6629400" cy="4748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78160" y="9842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âmetro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44680" y="4875120"/>
            <a:ext cx="3102840" cy="398880"/>
          </a:xfrm>
          <a:prstGeom prst="wedgeRectCallout">
            <a:avLst>
              <a:gd name="adj1" fmla="val -83476"/>
              <a:gd name="adj2" fmla="val -1562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Temperatura natural da 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60520" y="6095880"/>
            <a:ext cx="3521880" cy="398880"/>
          </a:xfrm>
          <a:prstGeom prst="wedgeRectCallout">
            <a:avLst>
              <a:gd name="adj1" fmla="val -66402"/>
              <a:gd name="adj2" fmla="val -1662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Ponto de lançamento do eflu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85160" y="1752480"/>
            <a:ext cx="4944600" cy="581400"/>
          </a:xfrm>
          <a:prstGeom prst="wedgeRectCallout">
            <a:avLst>
              <a:gd name="adj1" fmla="val -65736"/>
              <a:gd name="adj2" fmla="val 84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mperatura atingida pelo manancial no p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e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0240" y="3048120"/>
            <a:ext cx="3299400" cy="703800"/>
          </a:xfrm>
          <a:prstGeom prst="wedgeRectCallout">
            <a:avLst>
              <a:gd name="adj1" fmla="val -91652"/>
              <a:gd name="adj2" fmla="val 7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ecaimento da temperatura 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Longo do 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87040" y="3643200"/>
            <a:ext cx="2000880" cy="321480"/>
            <a:chOff x="3587040" y="3643200"/>
            <a:chExt cx="2000880" cy="321480"/>
          </a:xfrm>
        </p:grpSpPr>
        <p:grpSp>
          <p:nvGrpSpPr>
            <p:cNvPr id="226" name=""/>
            <p:cNvGrpSpPr/>
            <p:nvPr/>
          </p:nvGrpSpPr>
          <p:grpSpPr>
            <a:xfrm>
              <a:off x="3587040" y="3643200"/>
              <a:ext cx="2000880" cy="305280"/>
              <a:chOff x="3587040" y="3643200"/>
              <a:chExt cx="2000880" cy="30528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4044960" y="3828960"/>
                <a:ext cx="1542960" cy="15840"/>
                <a:chOff x="4044960" y="3828960"/>
                <a:chExt cx="1542960" cy="158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044960" y="3828960"/>
                  <a:ext cx="11160" cy="1584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0719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10364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1338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1655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19724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274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591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9084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3210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352760" y="38289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3848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414680" y="38289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4467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4784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5086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403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5720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60368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6339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6656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9728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7275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592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791240" y="382896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8211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8531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8848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9150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9467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9784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86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0403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0720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10372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1339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1656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19732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2275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259240" y="38289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291280" y="382896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3211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532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848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4151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4468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4784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5087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5404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5720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3587040" y="36432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3733200" y="3751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90480" y="1698480"/>
            <a:ext cx="8053560" cy="3525840"/>
            <a:chOff x="690480" y="1698480"/>
            <a:chExt cx="8053560" cy="3525840"/>
          </a:xfrm>
        </p:grpSpPr>
        <p:grpSp>
          <p:nvGrpSpPr>
            <p:cNvPr id="281" name=""/>
            <p:cNvGrpSpPr/>
            <p:nvPr/>
          </p:nvGrpSpPr>
          <p:grpSpPr>
            <a:xfrm>
              <a:off x="690480" y="1698480"/>
              <a:ext cx="8053560" cy="3525840"/>
              <a:chOff x="690480" y="1698480"/>
              <a:chExt cx="8053560" cy="352584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097000" y="4140360"/>
                <a:ext cx="6251760" cy="171360"/>
                <a:chOff x="2097000" y="4140360"/>
                <a:chExt cx="6251760" cy="1713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097000" y="4224240"/>
                  <a:ext cx="6094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182080" y="4140360"/>
                  <a:ext cx="166680" cy="171360"/>
                </a:xfrm>
                <a:custGeom>
                  <a:avLst/>
                  <a:gdLst/>
                  <a:ahLst/>
                  <a:rect l="l" t="t" r="r" b="b"/>
                  <a:pathLst>
                    <a:path w="105" h="108">
                      <a:moveTo>
                        <a:pt x="0" y="108"/>
                      </a:moveTo>
                      <a:lnTo>
                        <a:pt x="105" y="56"/>
                      </a:lnTo>
                      <a:lnTo>
                        <a:pt x="0" y="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967200" y="1936800"/>
                <a:ext cx="171360" cy="2271600"/>
                <a:chOff x="3967200" y="1936800"/>
                <a:chExt cx="171360" cy="2271600"/>
              </a:xfrm>
            </p:grpSpPr>
            <p:sp>
              <p:nvSpPr>
                <p:cNvPr id="286" name=""/>
                <p:cNvSpPr/>
                <p:nvPr/>
              </p:nvSpPr>
              <p:spPr>
                <a:xfrm flipH="1" flipV="1">
                  <a:off x="4051080" y="2092320"/>
                  <a:ext cx="4680" cy="2116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967200" y="1936800"/>
                  <a:ext cx="171360" cy="171360"/>
                </a:xfrm>
                <a:custGeom>
                  <a:avLst/>
                  <a:gdLst/>
                  <a:ahLst/>
                  <a:rect l="l" t="t" r="r" b="b"/>
                  <a:pathLst>
                    <a:path w="108" h="108">
                      <a:moveTo>
                        <a:pt x="108" y="108"/>
                      </a:moveTo>
                      <a:lnTo>
                        <a:pt x="56" y="0"/>
                      </a:lnTo>
                      <a:lnTo>
                        <a:pt x="0" y="108"/>
                      </a:lnTo>
                      <a:lnTo>
                        <a:pt x="108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4030560" y="2476440"/>
                <a:ext cx="4014720" cy="1757520"/>
              </a:xfrm>
              <a:custGeom>
                <a:avLst/>
                <a:gdLst/>
                <a:ahLst/>
                <a:rect l="l" t="t" r="r" b="b"/>
                <a:pathLst>
                  <a:path w="2529" h="1107">
                    <a:moveTo>
                      <a:pt x="26" y="0"/>
                    </a:moveTo>
                    <a:lnTo>
                      <a:pt x="0" y="7"/>
                    </a:lnTo>
                    <a:lnTo>
                      <a:pt x="32" y="131"/>
                    </a:lnTo>
                    <a:lnTo>
                      <a:pt x="52" y="193"/>
                    </a:lnTo>
                    <a:lnTo>
                      <a:pt x="75" y="255"/>
                    </a:lnTo>
                    <a:lnTo>
                      <a:pt x="82" y="265"/>
                    </a:lnTo>
                    <a:lnTo>
                      <a:pt x="111" y="327"/>
                    </a:lnTo>
                    <a:lnTo>
                      <a:pt x="147" y="385"/>
                    </a:lnTo>
                    <a:lnTo>
                      <a:pt x="193" y="441"/>
                    </a:lnTo>
                    <a:lnTo>
                      <a:pt x="249" y="500"/>
                    </a:lnTo>
                    <a:lnTo>
                      <a:pt x="282" y="523"/>
                    </a:lnTo>
                    <a:lnTo>
                      <a:pt x="318" y="549"/>
                    </a:lnTo>
                    <a:lnTo>
                      <a:pt x="397" y="601"/>
                    </a:lnTo>
                    <a:lnTo>
                      <a:pt x="485" y="650"/>
                    </a:lnTo>
                    <a:lnTo>
                      <a:pt x="580" y="699"/>
                    </a:lnTo>
                    <a:lnTo>
                      <a:pt x="682" y="741"/>
                    </a:lnTo>
                    <a:lnTo>
                      <a:pt x="784" y="784"/>
                    </a:lnTo>
                    <a:lnTo>
                      <a:pt x="794" y="790"/>
                    </a:lnTo>
                    <a:lnTo>
                      <a:pt x="895" y="829"/>
                    </a:lnTo>
                    <a:lnTo>
                      <a:pt x="994" y="862"/>
                    </a:lnTo>
                    <a:lnTo>
                      <a:pt x="1099" y="895"/>
                    </a:lnTo>
                    <a:lnTo>
                      <a:pt x="1207" y="921"/>
                    </a:lnTo>
                    <a:lnTo>
                      <a:pt x="1319" y="947"/>
                    </a:lnTo>
                    <a:lnTo>
                      <a:pt x="1430" y="967"/>
                    </a:lnTo>
                    <a:lnTo>
                      <a:pt x="1538" y="986"/>
                    </a:lnTo>
                    <a:lnTo>
                      <a:pt x="1647" y="1003"/>
                    </a:lnTo>
                    <a:lnTo>
                      <a:pt x="1752" y="1019"/>
                    </a:lnTo>
                    <a:lnTo>
                      <a:pt x="1850" y="1035"/>
                    </a:lnTo>
                    <a:lnTo>
                      <a:pt x="1850" y="1019"/>
                    </a:lnTo>
                    <a:lnTo>
                      <a:pt x="1850" y="1032"/>
                    </a:lnTo>
                    <a:lnTo>
                      <a:pt x="1949" y="1048"/>
                    </a:lnTo>
                    <a:lnTo>
                      <a:pt x="2047" y="1065"/>
                    </a:lnTo>
                    <a:lnTo>
                      <a:pt x="2146" y="1078"/>
                    </a:lnTo>
                    <a:lnTo>
                      <a:pt x="2241" y="1087"/>
                    </a:lnTo>
                    <a:lnTo>
                      <a:pt x="2326" y="1097"/>
                    </a:lnTo>
                    <a:lnTo>
                      <a:pt x="2408" y="1104"/>
                    </a:lnTo>
                    <a:lnTo>
                      <a:pt x="2444" y="1104"/>
                    </a:lnTo>
                    <a:lnTo>
                      <a:pt x="2474" y="1107"/>
                    </a:lnTo>
                    <a:lnTo>
                      <a:pt x="2503" y="1107"/>
                    </a:lnTo>
                    <a:lnTo>
                      <a:pt x="2529" y="1107"/>
                    </a:lnTo>
                    <a:lnTo>
                      <a:pt x="2529" y="1078"/>
                    </a:lnTo>
                    <a:lnTo>
                      <a:pt x="2503" y="1078"/>
                    </a:lnTo>
                    <a:lnTo>
                      <a:pt x="2474" y="1078"/>
                    </a:lnTo>
                    <a:lnTo>
                      <a:pt x="2444" y="1074"/>
                    </a:lnTo>
                    <a:lnTo>
                      <a:pt x="2408" y="1074"/>
                    </a:lnTo>
                    <a:lnTo>
                      <a:pt x="2326" y="1068"/>
                    </a:lnTo>
                    <a:lnTo>
                      <a:pt x="2241" y="1058"/>
                    </a:lnTo>
                    <a:lnTo>
                      <a:pt x="2146" y="1048"/>
                    </a:lnTo>
                    <a:lnTo>
                      <a:pt x="2047" y="1035"/>
                    </a:lnTo>
                    <a:lnTo>
                      <a:pt x="1949" y="1019"/>
                    </a:lnTo>
                    <a:lnTo>
                      <a:pt x="1853" y="1006"/>
                    </a:lnTo>
                    <a:lnTo>
                      <a:pt x="1853" y="1006"/>
                    </a:lnTo>
                    <a:lnTo>
                      <a:pt x="1752" y="989"/>
                    </a:lnTo>
                    <a:lnTo>
                      <a:pt x="1647" y="973"/>
                    </a:lnTo>
                    <a:lnTo>
                      <a:pt x="1538" y="957"/>
                    </a:lnTo>
                    <a:lnTo>
                      <a:pt x="1430" y="937"/>
                    </a:lnTo>
                    <a:lnTo>
                      <a:pt x="1319" y="918"/>
                    </a:lnTo>
                    <a:lnTo>
                      <a:pt x="1207" y="892"/>
                    </a:lnTo>
                    <a:lnTo>
                      <a:pt x="1099" y="865"/>
                    </a:lnTo>
                    <a:lnTo>
                      <a:pt x="1004" y="836"/>
                    </a:lnTo>
                    <a:lnTo>
                      <a:pt x="895" y="800"/>
                    </a:lnTo>
                    <a:lnTo>
                      <a:pt x="794" y="761"/>
                    </a:lnTo>
                    <a:lnTo>
                      <a:pt x="794" y="774"/>
                    </a:lnTo>
                    <a:lnTo>
                      <a:pt x="803" y="764"/>
                    </a:lnTo>
                    <a:lnTo>
                      <a:pt x="702" y="722"/>
                    </a:lnTo>
                    <a:lnTo>
                      <a:pt x="600" y="679"/>
                    </a:lnTo>
                    <a:lnTo>
                      <a:pt x="505" y="630"/>
                    </a:lnTo>
                    <a:lnTo>
                      <a:pt x="416" y="581"/>
                    </a:lnTo>
                    <a:lnTo>
                      <a:pt x="338" y="529"/>
                    </a:lnTo>
                    <a:lnTo>
                      <a:pt x="301" y="503"/>
                    </a:lnTo>
                    <a:lnTo>
                      <a:pt x="269" y="477"/>
                    </a:lnTo>
                    <a:lnTo>
                      <a:pt x="213" y="421"/>
                    </a:lnTo>
                    <a:lnTo>
                      <a:pt x="167" y="366"/>
                    </a:lnTo>
                    <a:lnTo>
                      <a:pt x="131" y="307"/>
                    </a:lnTo>
                    <a:lnTo>
                      <a:pt x="101" y="245"/>
                    </a:lnTo>
                    <a:lnTo>
                      <a:pt x="91" y="255"/>
                    </a:lnTo>
                    <a:lnTo>
                      <a:pt x="105" y="255"/>
                    </a:lnTo>
                    <a:lnTo>
                      <a:pt x="82" y="193"/>
                    </a:lnTo>
                    <a:lnTo>
                      <a:pt x="62" y="13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3106800" y="2305080"/>
                <a:ext cx="767880" cy="322920"/>
                <a:chOff x="3106800" y="2305080"/>
                <a:chExt cx="767880" cy="3229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106800" y="2305080"/>
                  <a:ext cx="6667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Tp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783960" y="241452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7637040" y="4336920"/>
                <a:ext cx="822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rech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49920" y="1797120"/>
                <a:ext cx="18266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Temperatura da águ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0480" y="1698480"/>
                <a:ext cx="8053560" cy="35258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57240" y="3835440"/>
                <a:ext cx="927360" cy="38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2006640" y="3917880"/>
              <a:ext cx="582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Tm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601080" y="4343400"/>
            <a:ext cx="978120" cy="726120"/>
            <a:chOff x="3601080" y="4343400"/>
            <a:chExt cx="978120" cy="726120"/>
          </a:xfrm>
        </p:grpSpPr>
        <p:sp>
          <p:nvSpPr>
            <p:cNvPr id="298" name=""/>
            <p:cNvSpPr/>
            <p:nvPr/>
          </p:nvSpPr>
          <p:spPr>
            <a:xfrm>
              <a:off x="4425120" y="4856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601080" y="4343400"/>
              <a:ext cx="978120" cy="708480"/>
              <a:chOff x="3601080" y="4343400"/>
              <a:chExt cx="978120" cy="708480"/>
            </a:xfrm>
          </p:grpSpPr>
          <p:sp>
            <p:nvSpPr>
              <p:cNvPr id="300" name=""/>
              <p:cNvSpPr/>
              <p:nvPr/>
            </p:nvSpPr>
            <p:spPr>
              <a:xfrm>
                <a:off x="4514400" y="4746600"/>
                <a:ext cx="648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3601080" y="4343400"/>
                <a:ext cx="808560" cy="708480"/>
                <a:chOff x="3601080" y="4343400"/>
                <a:chExt cx="808560" cy="708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601080" y="4746600"/>
                  <a:ext cx="808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indis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" name=""/>
                <p:cNvGrpSpPr/>
                <p:nvPr/>
              </p:nvGrpSpPr>
              <p:grpSpPr>
                <a:xfrm>
                  <a:off x="3967200" y="4343400"/>
                  <a:ext cx="171360" cy="382680"/>
                  <a:chOff x="3967200" y="4343400"/>
                  <a:chExt cx="171360" cy="3826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V="1">
                    <a:off x="4051440" y="4492800"/>
                    <a:ext cx="1440" cy="2332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967200" y="4343400"/>
                    <a:ext cx="1713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4">
                        <a:moveTo>
                          <a:pt x="108" y="104"/>
                        </a:moveTo>
                        <a:lnTo>
                          <a:pt x="56" y="0"/>
                        </a:lnTo>
                        <a:lnTo>
                          <a:pt x="0" y="104"/>
                        </a:lnTo>
                        <a:lnTo>
                          <a:pt x="108" y="1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06" name=""/>
          <p:cNvGrpSpPr/>
          <p:nvPr/>
        </p:nvGrpSpPr>
        <p:grpSpPr>
          <a:xfrm>
            <a:off x="5115960" y="3828960"/>
            <a:ext cx="925200" cy="1245600"/>
            <a:chOff x="5115960" y="3828960"/>
            <a:chExt cx="925200" cy="1245600"/>
          </a:xfrm>
        </p:grpSpPr>
        <p:sp>
          <p:nvSpPr>
            <p:cNvPr id="307" name=""/>
            <p:cNvSpPr/>
            <p:nvPr/>
          </p:nvSpPr>
          <p:spPr>
            <a:xfrm>
              <a:off x="5941440" y="4861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5115960" y="3828960"/>
              <a:ext cx="822240" cy="1229400"/>
              <a:chOff x="5115960" y="3828960"/>
              <a:chExt cx="822240" cy="122940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5560920" y="3828960"/>
                <a:ext cx="15840" cy="384120"/>
                <a:chOff x="5560920" y="3828960"/>
                <a:chExt cx="15840" cy="384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560920" y="3828960"/>
                  <a:ext cx="15840" cy="1116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10" y="7"/>
                      </a:moveTo>
                      <a:lnTo>
                        <a:pt x="7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560920" y="3855960"/>
                  <a:ext cx="15840" cy="144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10" y="9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560920" y="38862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60920" y="39178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560920" y="394812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560920" y="39798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560920" y="4011480"/>
                  <a:ext cx="15840" cy="144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10" y="9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560920" y="404172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560920" y="40734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60920" y="410364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560920" y="413532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560920" y="4167360"/>
                  <a:ext cx="15840" cy="14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10" y="9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560920" y="419724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115960" y="4352760"/>
                <a:ext cx="822240" cy="705600"/>
                <a:chOff x="5115960" y="4352760"/>
                <a:chExt cx="822240" cy="7056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115960" y="4753080"/>
                  <a:ext cx="822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2000" spc="-1" strike="noStrike">
                      <a:solidFill>
                        <a:srgbClr val="ff0000"/>
                      </a:solidFill>
                      <a:latin typeface="Times New Roman"/>
                    </a:rPr>
                    <a:t>Qindis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5" name=""/>
                <p:cNvGrpSpPr/>
                <p:nvPr/>
              </p:nvGrpSpPr>
              <p:grpSpPr>
                <a:xfrm>
                  <a:off x="5483160" y="4352760"/>
                  <a:ext cx="171360" cy="389160"/>
                  <a:chOff x="5483160" y="4352760"/>
                  <a:chExt cx="171360" cy="3891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flipV="1">
                    <a:off x="5567400" y="4508640"/>
                    <a:ext cx="1440" cy="2332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5483160" y="4352760"/>
                    <a:ext cx="1713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8">
                        <a:moveTo>
                          <a:pt x="108" y="108"/>
                        </a:moveTo>
                        <a:lnTo>
                          <a:pt x="53" y="0"/>
                        </a:lnTo>
                        <a:lnTo>
                          <a:pt x="0" y="108"/>
                        </a:lnTo>
                        <a:lnTo>
                          <a:pt x="108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28" name=""/>
          <p:cNvGrpSpPr/>
          <p:nvPr/>
        </p:nvGrpSpPr>
        <p:grpSpPr>
          <a:xfrm>
            <a:off x="5567400" y="2855880"/>
            <a:ext cx="2246400" cy="1368360"/>
            <a:chOff x="5567400" y="2855880"/>
            <a:chExt cx="2246400" cy="1368360"/>
          </a:xfrm>
        </p:grpSpPr>
        <p:sp>
          <p:nvSpPr>
            <p:cNvPr id="329" name=""/>
            <p:cNvSpPr/>
            <p:nvPr/>
          </p:nvSpPr>
          <p:spPr>
            <a:xfrm>
              <a:off x="5567400" y="3835440"/>
              <a:ext cx="196920" cy="388800"/>
            </a:xfrm>
            <a:custGeom>
              <a:avLst/>
              <a:gdLst/>
              <a:ahLst/>
              <a:rect l="l" t="t" r="r" b="b"/>
              <a:pathLst>
                <a:path w="124" h="245">
                  <a:moveTo>
                    <a:pt x="0" y="245"/>
                  </a:moveTo>
                  <a:lnTo>
                    <a:pt x="23" y="245"/>
                  </a:lnTo>
                  <a:lnTo>
                    <a:pt x="42" y="238"/>
                  </a:lnTo>
                  <a:lnTo>
                    <a:pt x="55" y="231"/>
                  </a:lnTo>
                  <a:lnTo>
                    <a:pt x="62" y="225"/>
                  </a:lnTo>
                  <a:lnTo>
                    <a:pt x="62" y="143"/>
                  </a:lnTo>
                  <a:lnTo>
                    <a:pt x="65" y="137"/>
                  </a:lnTo>
                  <a:lnTo>
                    <a:pt x="78" y="130"/>
                  </a:lnTo>
                  <a:lnTo>
                    <a:pt x="98" y="127"/>
                  </a:lnTo>
                  <a:lnTo>
                    <a:pt x="124" y="124"/>
                  </a:lnTo>
                  <a:lnTo>
                    <a:pt x="98" y="124"/>
                  </a:lnTo>
                  <a:lnTo>
                    <a:pt x="78" y="117"/>
                  </a:lnTo>
                  <a:lnTo>
                    <a:pt x="65" y="111"/>
                  </a:lnTo>
                  <a:lnTo>
                    <a:pt x="62" y="104"/>
                  </a:lnTo>
                  <a:lnTo>
                    <a:pt x="62" y="22"/>
                  </a:lnTo>
                  <a:lnTo>
                    <a:pt x="55" y="13"/>
                  </a:lnTo>
                  <a:lnTo>
                    <a:pt x="42" y="6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764320" y="3254400"/>
              <a:ext cx="780840" cy="777600"/>
              <a:chOff x="5764320" y="3254400"/>
              <a:chExt cx="780840" cy="77760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5764320" y="3362040"/>
                <a:ext cx="672840" cy="669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369120" y="3254400"/>
                <a:ext cx="176040" cy="181080"/>
              </a:xfrm>
              <a:custGeom>
                <a:avLst/>
                <a:gdLst/>
                <a:ahLst/>
                <a:rect l="l" t="t" r="r" b="b"/>
                <a:pathLst>
                  <a:path w="111" h="114">
                    <a:moveTo>
                      <a:pt x="75" y="114"/>
                    </a:moveTo>
                    <a:lnTo>
                      <a:pt x="111" y="0"/>
                    </a:lnTo>
                    <a:lnTo>
                      <a:pt x="0" y="39"/>
                    </a:lnTo>
                    <a:lnTo>
                      <a:pt x="75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568920" y="2855880"/>
              <a:ext cx="1244880" cy="754560"/>
              <a:chOff x="6568920" y="2855880"/>
              <a:chExt cx="1244880" cy="754560"/>
            </a:xfrm>
          </p:grpSpPr>
          <p:sp>
            <p:nvSpPr>
              <p:cNvPr id="334" name=""/>
              <p:cNvSpPr/>
              <p:nvPr/>
            </p:nvSpPr>
            <p:spPr>
              <a:xfrm>
                <a:off x="6568920" y="3228840"/>
                <a:ext cx="12448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551360" y="3427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684560" y="3046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17960" y="3046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10040" y="3265560"/>
                <a:ext cx="8481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100" spc="-1" strike="noStrike">
                    <a:solidFill>
                      <a:srgbClr val="000000"/>
                    </a:solidFill>
                    <a:latin typeface="Times New Roman"/>
                  </a:rPr>
                  <a:t>Qindisp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079040" y="2884320"/>
                <a:ext cx="6087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100" spc="-1" strike="noStrike">
                    <a:solidFill>
                      <a:srgbClr val="000000"/>
                    </a:solidFill>
                    <a:latin typeface="Times New Roman"/>
                  </a:rPr>
                  <a:t>Tma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70360" y="288432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22800" y="2855880"/>
                <a:ext cx="89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914400" y="2476440"/>
            <a:ext cx="2219400" cy="1731960"/>
            <a:chOff x="914400" y="2476440"/>
            <a:chExt cx="2219400" cy="1731960"/>
          </a:xfrm>
        </p:grpSpPr>
        <p:sp>
          <p:nvSpPr>
            <p:cNvPr id="343" name=""/>
            <p:cNvSpPr/>
            <p:nvPr/>
          </p:nvSpPr>
          <p:spPr>
            <a:xfrm>
              <a:off x="2878200" y="2476440"/>
              <a:ext cx="255600" cy="1731960"/>
            </a:xfrm>
            <a:custGeom>
              <a:avLst/>
              <a:gdLst/>
              <a:ahLst/>
              <a:rect l="l" t="t" r="r" b="b"/>
              <a:pathLst>
                <a:path w="161" h="1091">
                  <a:moveTo>
                    <a:pt x="161" y="0"/>
                  </a:moveTo>
                  <a:lnTo>
                    <a:pt x="145" y="3"/>
                  </a:lnTo>
                  <a:lnTo>
                    <a:pt x="128" y="7"/>
                  </a:lnTo>
                  <a:lnTo>
                    <a:pt x="102" y="26"/>
                  </a:lnTo>
                  <a:lnTo>
                    <a:pt x="86" y="56"/>
                  </a:lnTo>
                  <a:lnTo>
                    <a:pt x="82" y="72"/>
                  </a:lnTo>
                  <a:lnTo>
                    <a:pt x="79" y="92"/>
                  </a:lnTo>
                  <a:lnTo>
                    <a:pt x="79" y="454"/>
                  </a:lnTo>
                  <a:lnTo>
                    <a:pt x="73" y="490"/>
                  </a:lnTo>
                  <a:lnTo>
                    <a:pt x="56" y="519"/>
                  </a:lnTo>
                  <a:lnTo>
                    <a:pt x="33" y="539"/>
                  </a:lnTo>
                  <a:lnTo>
                    <a:pt x="17" y="542"/>
                  </a:lnTo>
                  <a:lnTo>
                    <a:pt x="0" y="545"/>
                  </a:lnTo>
                  <a:lnTo>
                    <a:pt x="17" y="549"/>
                  </a:lnTo>
                  <a:lnTo>
                    <a:pt x="33" y="552"/>
                  </a:lnTo>
                  <a:lnTo>
                    <a:pt x="56" y="572"/>
                  </a:lnTo>
                  <a:lnTo>
                    <a:pt x="73" y="601"/>
                  </a:lnTo>
                  <a:lnTo>
                    <a:pt x="79" y="637"/>
                  </a:lnTo>
                  <a:lnTo>
                    <a:pt x="79" y="999"/>
                  </a:lnTo>
                  <a:lnTo>
                    <a:pt x="82" y="1019"/>
                  </a:lnTo>
                  <a:lnTo>
                    <a:pt x="86" y="1035"/>
                  </a:lnTo>
                  <a:lnTo>
                    <a:pt x="102" y="1065"/>
                  </a:lnTo>
                  <a:lnTo>
                    <a:pt x="128" y="1084"/>
                  </a:lnTo>
                  <a:lnTo>
                    <a:pt x="145" y="1087"/>
                  </a:lnTo>
                  <a:lnTo>
                    <a:pt x="161" y="10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914400" y="2886120"/>
              <a:ext cx="2116080" cy="912600"/>
              <a:chOff x="914400" y="2886120"/>
              <a:chExt cx="2116080" cy="912600"/>
            </a:xfrm>
          </p:grpSpPr>
          <p:sp>
            <p:nvSpPr>
              <p:cNvPr id="345" name=""/>
              <p:cNvSpPr/>
              <p:nvPr/>
            </p:nvSpPr>
            <p:spPr>
              <a:xfrm>
                <a:off x="914400" y="2886120"/>
                <a:ext cx="211608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1104840" y="2962440"/>
                <a:ext cx="1697040" cy="743040"/>
                <a:chOff x="1104840" y="2962440"/>
                <a:chExt cx="1697040" cy="7430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104840" y="3327480"/>
                  <a:ext cx="169704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312640" y="352260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690280" y="314964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75880" y="314964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90400" y="3363840"/>
                  <a:ext cx="84816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100" spc="-1" strike="noStrike">
                      <a:solidFill>
                        <a:srgbClr val="000000"/>
                      </a:solidFill>
                      <a:latin typeface="Times New Roman"/>
                    </a:rPr>
                    <a:t>Qindisp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103840" y="2990880"/>
                  <a:ext cx="60876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100" spc="-1" strike="noStrike">
                      <a:solidFill>
                        <a:srgbClr val="000000"/>
                      </a:solidFill>
                      <a:latin typeface="Times New Roman"/>
                    </a:rPr>
                    <a:t>Tman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105560" y="2990880"/>
                  <a:ext cx="69732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100" spc="-1" strike="noStrike">
                      <a:solidFill>
                        <a:srgbClr val="000000"/>
                      </a:solidFill>
                      <a:latin typeface="Times New Roman"/>
                    </a:rPr>
                    <a:t>Tperm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955520" y="2962440"/>
                  <a:ext cx="892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5" name=""/>
          <p:cNvSpPr/>
          <p:nvPr/>
        </p:nvSpPr>
        <p:spPr>
          <a:xfrm>
            <a:off x="2378160" y="9842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âmetro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37960" y="5675400"/>
                <a:ext cx="3495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per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a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ndis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a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ndis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3949560" y="5662440"/>
            <a:ext cx="4735800" cy="806760"/>
            <a:chOff x="3949560" y="5662440"/>
            <a:chExt cx="4735800" cy="806760"/>
          </a:xfrm>
        </p:grpSpPr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4635360" y="5662440"/>
                  <a:ext cx="4050000" cy="80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indis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man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ma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9" name=""/>
            <p:cNvSpPr/>
            <p:nvPr/>
          </p:nvSpPr>
          <p:spPr>
            <a:xfrm>
              <a:off x="3949560" y="606420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3598920" y="2352600"/>
            <a:ext cx="5519520" cy="4134240"/>
            <a:chOff x="3598920" y="2352600"/>
            <a:chExt cx="5519520" cy="413424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3598920" y="2352600"/>
              <a:ext cx="5519520" cy="386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62" name=""/>
            <p:cNvSpPr/>
            <p:nvPr/>
          </p:nvSpPr>
          <p:spPr>
            <a:xfrm>
              <a:off x="6672960" y="6210360"/>
              <a:ext cx="233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Fonte: Thomann e Mueller, 1987)</a:t>
              </a: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57200" y="1612800"/>
                <a:ext cx="278928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114480" y="2881440"/>
            <a:ext cx="342900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coeficiente de troc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lor (cal/cm².dia.º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unção da velocidad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ento e da temperatura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= densidade da água (g/cm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calor específico (cal/g.º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profundidade média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urso d’água (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78160" y="9842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âmetro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5892840"/>
            <a:ext cx="2436840" cy="51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 =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figur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* 2,0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38720" y="3429000"/>
            <a:ext cx="1833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172200" y="3423960"/>
            <a:ext cx="0" cy="2290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10880" y="2666880"/>
            <a:ext cx="1452240" cy="509400"/>
          </a:xfrm>
          <a:prstGeom prst="wedgeRectCallout">
            <a:avLst>
              <a:gd name="adj1" fmla="val 57805"/>
              <a:gd name="adj2" fmla="val 97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figur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2733840" y="3859920"/>
            <a:ext cx="5833800" cy="2426400"/>
            <a:chOff x="2733840" y="3859920"/>
            <a:chExt cx="5833800" cy="2426400"/>
          </a:xfrm>
        </p:grpSpPr>
        <p:sp>
          <p:nvSpPr>
            <p:cNvPr id="372" name=""/>
            <p:cNvSpPr/>
            <p:nvPr/>
          </p:nvSpPr>
          <p:spPr>
            <a:xfrm rot="5741400">
              <a:off x="3141720" y="3674520"/>
              <a:ext cx="2054160" cy="2679840"/>
            </a:xfrm>
            <a:prstGeom prst="flowChartDelay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138640" y="4609800"/>
              <a:ext cx="3429000" cy="167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20022000">
              <a:off x="6378840" y="554292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lux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958800">
              <a:off x="3119400" y="4238280"/>
              <a:ext cx="2195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ã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iodegradáv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876240"/>
            <a:ext cx="5943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zões indisponíveis para DQ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nservativo e não-conserv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9880" y="5429160"/>
            <a:ext cx="34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QO = Demanda Química de Oxigê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5920" y="5738760"/>
            <a:ext cx="36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BO = Demanda Bioquímica de Oxigê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1240" y="6083280"/>
            <a:ext cx="39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QO = DBO + Material nã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degrad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214080" y="1815480"/>
            <a:ext cx="2643120" cy="2432520"/>
            <a:chOff x="3214080" y="1815480"/>
            <a:chExt cx="2643120" cy="2432520"/>
          </a:xfrm>
        </p:grpSpPr>
        <p:sp>
          <p:nvSpPr>
            <p:cNvPr id="382" name=""/>
            <p:cNvSpPr/>
            <p:nvPr/>
          </p:nvSpPr>
          <p:spPr>
            <a:xfrm rot="17060400">
              <a:off x="3565440" y="1915560"/>
              <a:ext cx="1940040" cy="2232000"/>
            </a:xfrm>
            <a:prstGeom prst="flowChartDelay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869400">
              <a:off x="3674520" y="2768400"/>
              <a:ext cx="1707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DB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479640" y="6075360"/>
            <a:ext cx="2616120" cy="67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gestã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Q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,5 * D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45880" y="1523880"/>
            <a:ext cx="1995840" cy="2362320"/>
            <a:chOff x="245880" y="1523880"/>
            <a:chExt cx="1995840" cy="2362320"/>
          </a:xfrm>
        </p:grpSpPr>
        <p:sp>
          <p:nvSpPr>
            <p:cNvPr id="386" name=""/>
            <p:cNvSpPr/>
            <p:nvPr/>
          </p:nvSpPr>
          <p:spPr>
            <a:xfrm>
              <a:off x="262080" y="1523880"/>
              <a:ext cx="1904760" cy="2362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5880" y="2054160"/>
              <a:ext cx="1995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b2b2b2"/>
                  </a:solidFill>
                  <a:latin typeface="Times New Roman"/>
                </a:rPr>
                <a:t>DQ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62080" y="1905120"/>
            <a:ext cx="1888920" cy="1489320"/>
            <a:chOff x="262080" y="1905120"/>
            <a:chExt cx="1888920" cy="1489320"/>
          </a:xfrm>
        </p:grpSpPr>
        <p:sp>
          <p:nvSpPr>
            <p:cNvPr id="389" name=""/>
            <p:cNvSpPr/>
            <p:nvPr/>
          </p:nvSpPr>
          <p:spPr>
            <a:xfrm>
              <a:off x="262080" y="2590920"/>
              <a:ext cx="18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960" y="1905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00" y="2690640"/>
              <a:ext cx="172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Nã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iodegradá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900800" y="1452600"/>
            <a:ext cx="1808640" cy="368280"/>
          </a:xfrm>
          <a:prstGeom prst="wedgeRectCallout">
            <a:avLst>
              <a:gd name="adj1" fmla="val -58097"/>
              <a:gd name="adj2" fmla="val 1270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ão-conserv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69080" y="4114800"/>
            <a:ext cx="1401840" cy="368280"/>
          </a:xfrm>
          <a:prstGeom prst="wedgeRectCallout">
            <a:avLst>
              <a:gd name="adj1" fmla="val -59754"/>
              <a:gd name="adj2" fmla="val -199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lançamento de efluentes domésticos ou industriais em um rio acarreta agregação d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uen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o corpo de água recep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o exigirá do rio uma certa quantidade de água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zão de diluiç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ara diluir os pol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zão de diluição é diretamente proporcional 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 polu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poluentes conservativos e não-conserv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do do tipo de poluente poderá haver comprometimento da corrente de água por muitos quilô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179280" y="981000"/>
            <a:ext cx="8964720" cy="5472360"/>
            <a:chOff x="179280" y="981000"/>
            <a:chExt cx="8964720" cy="5472360"/>
          </a:xfrm>
        </p:grpSpPr>
        <p:grpSp>
          <p:nvGrpSpPr>
            <p:cNvPr id="395" name=""/>
            <p:cNvGrpSpPr/>
            <p:nvPr/>
          </p:nvGrpSpPr>
          <p:grpSpPr>
            <a:xfrm>
              <a:off x="237240" y="1011240"/>
              <a:ext cx="8906040" cy="5441760"/>
              <a:chOff x="237240" y="1011240"/>
              <a:chExt cx="8906040" cy="5441760"/>
            </a:xfrm>
          </p:grpSpPr>
          <p:sp>
            <p:nvSpPr>
              <p:cNvPr id="396" name=""/>
              <p:cNvSpPr/>
              <p:nvPr/>
            </p:nvSpPr>
            <p:spPr>
              <a:xfrm>
                <a:off x="1112760" y="5866560"/>
                <a:ext cx="717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1112760" y="1371600"/>
                <a:ext cx="0" cy="449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12760" y="2098080"/>
                <a:ext cx="3760200" cy="3197520"/>
              </a:xfrm>
              <a:custGeom>
                <a:avLst/>
                <a:gdLst/>
                <a:ahLst/>
                <a:rect l="l" t="t" r="r" b="b"/>
                <a:pathLst>
                  <a:path w="3624" h="2945">
                    <a:moveTo>
                      <a:pt x="0" y="2931"/>
                    </a:moveTo>
                    <a:cubicBezTo>
                      <a:pt x="150" y="2931"/>
                      <a:pt x="300" y="2931"/>
                      <a:pt x="540" y="2931"/>
                    </a:cubicBezTo>
                    <a:cubicBezTo>
                      <a:pt x="780" y="2931"/>
                      <a:pt x="1211" y="2945"/>
                      <a:pt x="1440" y="2931"/>
                    </a:cubicBezTo>
                    <a:cubicBezTo>
                      <a:pt x="1669" y="2917"/>
                      <a:pt x="1788" y="2914"/>
                      <a:pt x="1912" y="2846"/>
                    </a:cubicBezTo>
                    <a:cubicBezTo>
                      <a:pt x="2036" y="2778"/>
                      <a:pt x="2075" y="2792"/>
                      <a:pt x="2184" y="2520"/>
                    </a:cubicBezTo>
                    <a:cubicBezTo>
                      <a:pt x="2293" y="2248"/>
                      <a:pt x="2462" y="1603"/>
                      <a:pt x="2564" y="1216"/>
                    </a:cubicBezTo>
                    <a:cubicBezTo>
                      <a:pt x="2666" y="829"/>
                      <a:pt x="2729" y="394"/>
                      <a:pt x="2795" y="197"/>
                    </a:cubicBezTo>
                    <a:cubicBezTo>
                      <a:pt x="2861" y="0"/>
                      <a:pt x="2863" y="63"/>
                      <a:pt x="2958" y="34"/>
                    </a:cubicBezTo>
                    <a:cubicBezTo>
                      <a:pt x="3053" y="5"/>
                      <a:pt x="3255" y="23"/>
                      <a:pt x="3366" y="21"/>
                    </a:cubicBezTo>
                    <a:cubicBezTo>
                      <a:pt x="3477" y="19"/>
                      <a:pt x="3550" y="20"/>
                      <a:pt x="3624" y="2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48120" y="215316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48120" y="273960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408280" y="273960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408280" y="33256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68440" y="3325680"/>
                <a:ext cx="0" cy="58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68440" y="39124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6523920" y="3912480"/>
                <a:ext cx="504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1109880" y="4434480"/>
                <a:ext cx="6596640" cy="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101120" y="2153160"/>
                <a:ext cx="0" cy="3713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13040" y="585144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oj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54120" y="5085000"/>
                <a:ext cx="6451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0560" y="4242240"/>
                <a:ext cx="560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7240" y="1011240"/>
                <a:ext cx="3735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Concentração de DBO (mg/L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836120" y="589932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mp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23440" y="1942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5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23440" y="371700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23440" y="3130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5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10840" y="254412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0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092960" y="2134800"/>
                <a:ext cx="3062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1104120" y="2736360"/>
                <a:ext cx="377028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1138320" y="3322800"/>
                <a:ext cx="4334040" cy="7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1146600" y="3905640"/>
                <a:ext cx="489420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984240" y="404892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quadramento na Classe I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054800" y="490896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Concentração na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463640" y="1567080"/>
                <a:ext cx="1130760" cy="46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914280" y="1223640"/>
                <a:ext cx="4295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Permissão acordada no Comitê (25,0 mg/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Relaxamento do Enquadram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342120" y="2138040"/>
                <a:ext cx="2054160" cy="11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acto de redução gradual da poluição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rmissões cada vez menor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9425000">
                <a:off x="6064920" y="1490040"/>
                <a:ext cx="294480" cy="2934720"/>
              </a:xfrm>
              <a:custGeom>
                <a:avLst/>
                <a:gdLst>
                  <a:gd name="textAreaLeft" fmla="*/ 0 w 294480"/>
                  <a:gd name="textAreaRight" fmla="*/ 106200 w 294480"/>
                  <a:gd name="textAreaTop" fmla="*/ 76320 h 2934720"/>
                  <a:gd name="textAreaBottom" fmla="*/ 2858400 h 293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528960" y="4431240"/>
                <a:ext cx="1276200" cy="1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28960" y="4498560"/>
                <a:ext cx="0" cy="136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41160" y="5866560"/>
                <a:ext cx="1220040" cy="3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 N a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179280" y="981000"/>
              <a:ext cx="8964720" cy="547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1436760" y="231840"/>
            <a:ext cx="6618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to de Comitê para redução da polu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empl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37880" y="6462720"/>
            <a:ext cx="89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olver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Órgão Ambiental e de Recursos Hídricos, Comitê,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inistério Público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547640" y="600876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1547640" y="16160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979640" y="2481120"/>
            <a:ext cx="5471640" cy="2880000"/>
            <a:chOff x="1979640" y="2481120"/>
            <a:chExt cx="5471640" cy="2880000"/>
          </a:xfrm>
        </p:grpSpPr>
        <p:sp>
          <p:nvSpPr>
            <p:cNvPr id="436" name=""/>
            <p:cNvSpPr/>
            <p:nvPr/>
          </p:nvSpPr>
          <p:spPr>
            <a:xfrm flipV="1">
              <a:off x="2987640" y="4640400"/>
              <a:ext cx="0" cy="72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1979640" y="2481120"/>
              <a:ext cx="5471640" cy="2879640"/>
              <a:chOff x="1979640" y="2481120"/>
              <a:chExt cx="5471640" cy="2879640"/>
            </a:xfrm>
          </p:grpSpPr>
          <p:sp>
            <p:nvSpPr>
              <p:cNvPr id="438" name=""/>
              <p:cNvSpPr/>
              <p:nvPr/>
            </p:nvSpPr>
            <p:spPr>
              <a:xfrm>
                <a:off x="1979640" y="5360760"/>
                <a:ext cx="100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973240" y="4641480"/>
                <a:ext cx="100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3981240" y="3920760"/>
                <a:ext cx="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981240" y="3936600"/>
                <a:ext cx="100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989240" y="3215880"/>
                <a:ext cx="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74840" y="320184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5983200" y="2481120"/>
                <a:ext cx="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11640" y="2481120"/>
                <a:ext cx="1439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1817640" y="61722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712920" y="6172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N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920" y="98748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zão indisponível (m³/s)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brança pelo lançamento (R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87680" y="128520"/>
            <a:ext cx="6631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ção da vazão indisponível e da cobranç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 o usuário não trate seus e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11160" y="1492200"/>
            <a:ext cx="42328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houver cobrança pelo lanç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efluentes (vazão indisponí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8459640" y="6237360"/>
            <a:ext cx="613080" cy="549360"/>
          </a:xfrm>
          <a:custGeom>
            <a:avLst/>
            <a:gdLst>
              <a:gd name="textAreaLeft" fmla="*/ 35280 w 613080"/>
              <a:gd name="textAreaRight" fmla="*/ 577800 w 613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104" h="21600">
                <a:moveTo>
                  <a:pt x="0" y="0"/>
                </a:moveTo>
                <a:lnTo>
                  <a:pt x="24104" y="0"/>
                </a:lnTo>
                <a:lnTo>
                  <a:pt x="24104" y="21600"/>
                </a:lnTo>
                <a:lnTo>
                  <a:pt x="0" y="21600"/>
                </a:lnTo>
                <a:close/>
              </a:path>
              <a:path fill="lightenLess" w="24104" h="21600">
                <a:moveTo>
                  <a:pt x="0" y="0"/>
                </a:moveTo>
                <a:lnTo>
                  <a:pt x="24104" y="0"/>
                </a:lnTo>
                <a:lnTo>
                  <a:pt x="22704" y="1400"/>
                </a:lnTo>
                <a:lnTo>
                  <a:pt x="1400" y="1400"/>
                </a:lnTo>
                <a:close/>
              </a:path>
              <a:path fill="darken" w="24104" h="21600">
                <a:moveTo>
                  <a:pt x="24104" y="0"/>
                </a:moveTo>
                <a:lnTo>
                  <a:pt x="24104" y="21600"/>
                </a:lnTo>
                <a:lnTo>
                  <a:pt x="22704" y="20200"/>
                </a:lnTo>
                <a:lnTo>
                  <a:pt x="22704" y="1400"/>
                </a:lnTo>
                <a:close/>
              </a:path>
              <a:path fill="darkenLess" w="24104" h="21600">
                <a:moveTo>
                  <a:pt x="24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4" y="20200"/>
                </a:lnTo>
                <a:close/>
              </a:path>
              <a:path fill="lighten" w="24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4" h="21600">
                <a:moveTo>
                  <a:pt x="5045" y="7493"/>
                </a:moveTo>
                <a:lnTo>
                  <a:pt x="8553" y="7493"/>
                </a:lnTo>
                <a:lnTo>
                  <a:pt x="8553" y="12828"/>
                </a:lnTo>
                <a:cubicBezTo>
                  <a:pt x="8553" y="13751"/>
                  <a:pt x="9354" y="14482"/>
                  <a:pt x="10389" y="14482"/>
                </a:cubicBezTo>
                <a:lnTo>
                  <a:pt x="12052" y="14482"/>
                </a:lnTo>
                <a:cubicBezTo>
                  <a:pt x="13088" y="14482"/>
                  <a:pt x="13888" y="13751"/>
                  <a:pt x="13888" y="12828"/>
                </a:cubicBezTo>
                <a:lnTo>
                  <a:pt x="13888" y="7493"/>
                </a:lnTo>
                <a:lnTo>
                  <a:pt x="12052" y="7493"/>
                </a:lnTo>
                <a:lnTo>
                  <a:pt x="15559" y="3985"/>
                </a:lnTo>
                <a:lnTo>
                  <a:pt x="19232" y="7493"/>
                </a:lnTo>
                <a:lnTo>
                  <a:pt x="17396" y="7493"/>
                </a:lnTo>
                <a:lnTo>
                  <a:pt x="17396" y="12828"/>
                </a:lnTo>
                <a:cubicBezTo>
                  <a:pt x="17396" y="15596"/>
                  <a:pt x="14820" y="18155"/>
                  <a:pt x="12052" y="18155"/>
                </a:cubicBezTo>
                <a:lnTo>
                  <a:pt x="10389" y="18155"/>
                </a:lnTo>
                <a:cubicBezTo>
                  <a:pt x="7622" y="18155"/>
                  <a:pt x="5045" y="15596"/>
                  <a:pt x="504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400480" y="2637000"/>
            <a:ext cx="4398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Outorg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Situações clássic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841760" y="177840"/>
            <a:ext cx="5869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ia hidrográfica hipot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0080" y="2963880"/>
            <a:ext cx="30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52960" y="3006720"/>
            <a:ext cx="78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92440" y="1598760"/>
            <a:ext cx="30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761160" y="3959280"/>
            <a:ext cx="30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221680" y="4089240"/>
            <a:ext cx="941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7480" y="4307040"/>
            <a:ext cx="7876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4920" y="1160640"/>
            <a:ext cx="9111240" cy="4614840"/>
            <a:chOff x="34920" y="1160640"/>
            <a:chExt cx="9111240" cy="4614840"/>
          </a:xfrm>
        </p:grpSpPr>
        <p:sp>
          <p:nvSpPr>
            <p:cNvPr id="461" name=""/>
            <p:cNvSpPr/>
            <p:nvPr/>
          </p:nvSpPr>
          <p:spPr>
            <a:xfrm>
              <a:off x="8275320" y="4106880"/>
              <a:ext cx="419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275680" y="4843440"/>
              <a:ext cx="622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34920" y="1160640"/>
              <a:ext cx="9111240" cy="4614840"/>
              <a:chOff x="34920" y="1160640"/>
              <a:chExt cx="9111240" cy="4614840"/>
            </a:xfrm>
          </p:grpSpPr>
          <p:sp>
            <p:nvSpPr>
              <p:cNvPr id="464" name=""/>
              <p:cNvSpPr/>
              <p:nvPr/>
            </p:nvSpPr>
            <p:spPr>
              <a:xfrm>
                <a:off x="34920" y="1897200"/>
                <a:ext cx="7664400" cy="2946240"/>
              </a:xfrm>
              <a:custGeom>
                <a:avLst/>
                <a:gdLst/>
                <a:ahLst/>
                <a:rect l="l" t="t" r="r" b="b"/>
                <a:pathLst>
                  <a:path w="4828" h="1856">
                    <a:moveTo>
                      <a:pt x="37" y="0"/>
                    </a:moveTo>
                    <a:lnTo>
                      <a:pt x="0" y="41"/>
                    </a:lnTo>
                    <a:lnTo>
                      <a:pt x="85" y="164"/>
                    </a:lnTo>
                    <a:lnTo>
                      <a:pt x="182" y="286"/>
                    </a:lnTo>
                    <a:lnTo>
                      <a:pt x="291" y="396"/>
                    </a:lnTo>
                    <a:lnTo>
                      <a:pt x="400" y="477"/>
                    </a:lnTo>
                    <a:lnTo>
                      <a:pt x="508" y="518"/>
                    </a:lnTo>
                    <a:lnTo>
                      <a:pt x="521" y="532"/>
                    </a:lnTo>
                    <a:lnTo>
                      <a:pt x="629" y="546"/>
                    </a:lnTo>
                    <a:lnTo>
                      <a:pt x="763" y="559"/>
                    </a:lnTo>
                    <a:lnTo>
                      <a:pt x="944" y="573"/>
                    </a:lnTo>
                    <a:lnTo>
                      <a:pt x="1041" y="573"/>
                    </a:lnTo>
                    <a:lnTo>
                      <a:pt x="1053" y="573"/>
                    </a:lnTo>
                    <a:lnTo>
                      <a:pt x="1174" y="573"/>
                    </a:lnTo>
                    <a:lnTo>
                      <a:pt x="1440" y="573"/>
                    </a:lnTo>
                    <a:lnTo>
                      <a:pt x="1706" y="559"/>
                    </a:lnTo>
                    <a:lnTo>
                      <a:pt x="1694" y="532"/>
                    </a:lnTo>
                    <a:lnTo>
                      <a:pt x="1694" y="559"/>
                    </a:lnTo>
                    <a:lnTo>
                      <a:pt x="1815" y="559"/>
                    </a:lnTo>
                    <a:lnTo>
                      <a:pt x="1924" y="573"/>
                    </a:lnTo>
                    <a:lnTo>
                      <a:pt x="2106" y="600"/>
                    </a:lnTo>
                    <a:lnTo>
                      <a:pt x="2251" y="628"/>
                    </a:lnTo>
                    <a:lnTo>
                      <a:pt x="2384" y="655"/>
                    </a:lnTo>
                    <a:lnTo>
                      <a:pt x="2505" y="696"/>
                    </a:lnTo>
                    <a:lnTo>
                      <a:pt x="2602" y="750"/>
                    </a:lnTo>
                    <a:lnTo>
                      <a:pt x="2614" y="723"/>
                    </a:lnTo>
                    <a:lnTo>
                      <a:pt x="2590" y="737"/>
                    </a:lnTo>
                    <a:lnTo>
                      <a:pt x="2687" y="791"/>
                    </a:lnTo>
                    <a:lnTo>
                      <a:pt x="2856" y="928"/>
                    </a:lnTo>
                    <a:lnTo>
                      <a:pt x="2929" y="983"/>
                    </a:lnTo>
                    <a:lnTo>
                      <a:pt x="3001" y="1051"/>
                    </a:lnTo>
                    <a:lnTo>
                      <a:pt x="3062" y="1105"/>
                    </a:lnTo>
                    <a:lnTo>
                      <a:pt x="3159" y="1174"/>
                    </a:lnTo>
                    <a:lnTo>
                      <a:pt x="3267" y="1242"/>
                    </a:lnTo>
                    <a:lnTo>
                      <a:pt x="3388" y="1324"/>
                    </a:lnTo>
                    <a:lnTo>
                      <a:pt x="3522" y="1406"/>
                    </a:lnTo>
                    <a:lnTo>
                      <a:pt x="3534" y="1419"/>
                    </a:lnTo>
                    <a:lnTo>
                      <a:pt x="3691" y="1488"/>
                    </a:lnTo>
                    <a:lnTo>
                      <a:pt x="3848" y="1556"/>
                    </a:lnTo>
                    <a:lnTo>
                      <a:pt x="4030" y="1610"/>
                    </a:lnTo>
                    <a:lnTo>
                      <a:pt x="4211" y="1665"/>
                    </a:lnTo>
                    <a:lnTo>
                      <a:pt x="4369" y="1706"/>
                    </a:lnTo>
                    <a:lnTo>
                      <a:pt x="4502" y="1747"/>
                    </a:lnTo>
                    <a:lnTo>
                      <a:pt x="4635" y="1788"/>
                    </a:lnTo>
                    <a:lnTo>
                      <a:pt x="4744" y="1829"/>
                    </a:lnTo>
                    <a:lnTo>
                      <a:pt x="4780" y="1842"/>
                    </a:lnTo>
                    <a:lnTo>
                      <a:pt x="4804" y="1856"/>
                    </a:lnTo>
                    <a:lnTo>
                      <a:pt x="4828" y="1802"/>
                    </a:lnTo>
                    <a:lnTo>
                      <a:pt x="4792" y="1788"/>
                    </a:lnTo>
                    <a:lnTo>
                      <a:pt x="4756" y="1774"/>
                    </a:lnTo>
                    <a:lnTo>
                      <a:pt x="4647" y="1733"/>
                    </a:lnTo>
                    <a:lnTo>
                      <a:pt x="4514" y="1692"/>
                    </a:lnTo>
                    <a:lnTo>
                      <a:pt x="4381" y="1651"/>
                    </a:lnTo>
                    <a:lnTo>
                      <a:pt x="4223" y="1610"/>
                    </a:lnTo>
                    <a:lnTo>
                      <a:pt x="4042" y="1556"/>
                    </a:lnTo>
                    <a:lnTo>
                      <a:pt x="3860" y="1501"/>
                    </a:lnTo>
                    <a:lnTo>
                      <a:pt x="3703" y="1433"/>
                    </a:lnTo>
                    <a:lnTo>
                      <a:pt x="3546" y="1365"/>
                    </a:lnTo>
                    <a:lnTo>
                      <a:pt x="3546" y="1392"/>
                    </a:lnTo>
                    <a:lnTo>
                      <a:pt x="3558" y="1365"/>
                    </a:lnTo>
                    <a:lnTo>
                      <a:pt x="3425" y="1283"/>
                    </a:lnTo>
                    <a:lnTo>
                      <a:pt x="3304" y="1201"/>
                    </a:lnTo>
                    <a:lnTo>
                      <a:pt x="3183" y="1133"/>
                    </a:lnTo>
                    <a:lnTo>
                      <a:pt x="3098" y="1064"/>
                    </a:lnTo>
                    <a:lnTo>
                      <a:pt x="3038" y="1010"/>
                    </a:lnTo>
                    <a:lnTo>
                      <a:pt x="2965" y="942"/>
                    </a:lnTo>
                    <a:lnTo>
                      <a:pt x="2880" y="887"/>
                    </a:lnTo>
                    <a:lnTo>
                      <a:pt x="2723" y="750"/>
                    </a:lnTo>
                    <a:lnTo>
                      <a:pt x="2626" y="696"/>
                    </a:lnTo>
                    <a:lnTo>
                      <a:pt x="2614" y="696"/>
                    </a:lnTo>
                    <a:lnTo>
                      <a:pt x="2517" y="641"/>
                    </a:lnTo>
                    <a:lnTo>
                      <a:pt x="2396" y="600"/>
                    </a:lnTo>
                    <a:lnTo>
                      <a:pt x="2263" y="573"/>
                    </a:lnTo>
                    <a:lnTo>
                      <a:pt x="2118" y="546"/>
                    </a:lnTo>
                    <a:lnTo>
                      <a:pt x="1924" y="518"/>
                    </a:lnTo>
                    <a:lnTo>
                      <a:pt x="1827" y="505"/>
                    </a:lnTo>
                    <a:lnTo>
                      <a:pt x="1706" y="505"/>
                    </a:lnTo>
                    <a:lnTo>
                      <a:pt x="1694" y="505"/>
                    </a:lnTo>
                    <a:lnTo>
                      <a:pt x="1428" y="518"/>
                    </a:lnTo>
                    <a:lnTo>
                      <a:pt x="1162" y="518"/>
                    </a:lnTo>
                    <a:lnTo>
                      <a:pt x="1041" y="518"/>
                    </a:lnTo>
                    <a:lnTo>
                      <a:pt x="1053" y="546"/>
                    </a:lnTo>
                    <a:lnTo>
                      <a:pt x="1053" y="518"/>
                    </a:lnTo>
                    <a:lnTo>
                      <a:pt x="944" y="518"/>
                    </a:lnTo>
                    <a:lnTo>
                      <a:pt x="775" y="505"/>
                    </a:lnTo>
                    <a:lnTo>
                      <a:pt x="642" y="491"/>
                    </a:lnTo>
                    <a:lnTo>
                      <a:pt x="533" y="477"/>
                    </a:lnTo>
                    <a:lnTo>
                      <a:pt x="521" y="505"/>
                    </a:lnTo>
                    <a:lnTo>
                      <a:pt x="545" y="477"/>
                    </a:lnTo>
                    <a:lnTo>
                      <a:pt x="424" y="423"/>
                    </a:lnTo>
                    <a:lnTo>
                      <a:pt x="327" y="355"/>
                    </a:lnTo>
                    <a:lnTo>
                      <a:pt x="218" y="245"/>
                    </a:lnTo>
                    <a:lnTo>
                      <a:pt x="121" y="123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531880" y="1160640"/>
                <a:ext cx="1249560" cy="1753920"/>
              </a:xfrm>
              <a:custGeom>
                <a:avLst/>
                <a:gdLst/>
                <a:ahLst/>
                <a:rect l="l" t="t" r="r" b="b"/>
                <a:pathLst>
                  <a:path w="787" h="1105">
                    <a:moveTo>
                      <a:pt x="12" y="0"/>
                    </a:moveTo>
                    <a:lnTo>
                      <a:pt x="0" y="27"/>
                    </a:lnTo>
                    <a:lnTo>
                      <a:pt x="133" y="191"/>
                    </a:lnTo>
                    <a:lnTo>
                      <a:pt x="279" y="327"/>
                    </a:lnTo>
                    <a:lnTo>
                      <a:pt x="351" y="382"/>
                    </a:lnTo>
                    <a:lnTo>
                      <a:pt x="424" y="436"/>
                    </a:lnTo>
                    <a:lnTo>
                      <a:pt x="496" y="477"/>
                    </a:lnTo>
                    <a:lnTo>
                      <a:pt x="569" y="532"/>
                    </a:lnTo>
                    <a:lnTo>
                      <a:pt x="593" y="600"/>
                    </a:lnTo>
                    <a:lnTo>
                      <a:pt x="605" y="587"/>
                    </a:lnTo>
                    <a:lnTo>
                      <a:pt x="593" y="587"/>
                    </a:lnTo>
                    <a:lnTo>
                      <a:pt x="617" y="655"/>
                    </a:lnTo>
                    <a:lnTo>
                      <a:pt x="630" y="709"/>
                    </a:lnTo>
                    <a:lnTo>
                      <a:pt x="666" y="791"/>
                    </a:lnTo>
                    <a:lnTo>
                      <a:pt x="666" y="778"/>
                    </a:lnTo>
                    <a:lnTo>
                      <a:pt x="654" y="791"/>
                    </a:lnTo>
                    <a:lnTo>
                      <a:pt x="690" y="901"/>
                    </a:lnTo>
                    <a:lnTo>
                      <a:pt x="714" y="969"/>
                    </a:lnTo>
                    <a:lnTo>
                      <a:pt x="726" y="1023"/>
                    </a:lnTo>
                    <a:lnTo>
                      <a:pt x="738" y="1023"/>
                    </a:lnTo>
                    <a:lnTo>
                      <a:pt x="738" y="1051"/>
                    </a:lnTo>
                    <a:lnTo>
                      <a:pt x="751" y="1064"/>
                    </a:lnTo>
                    <a:lnTo>
                      <a:pt x="751" y="1078"/>
                    </a:lnTo>
                    <a:lnTo>
                      <a:pt x="775" y="1105"/>
                    </a:lnTo>
                    <a:lnTo>
                      <a:pt x="787" y="1078"/>
                    </a:lnTo>
                    <a:lnTo>
                      <a:pt x="763" y="1051"/>
                    </a:lnTo>
                    <a:lnTo>
                      <a:pt x="763" y="1064"/>
                    </a:lnTo>
                    <a:lnTo>
                      <a:pt x="775" y="1064"/>
                    </a:lnTo>
                    <a:lnTo>
                      <a:pt x="763" y="1051"/>
                    </a:lnTo>
                    <a:lnTo>
                      <a:pt x="751" y="1010"/>
                    </a:lnTo>
                    <a:lnTo>
                      <a:pt x="738" y="1010"/>
                    </a:lnTo>
                    <a:lnTo>
                      <a:pt x="751" y="1010"/>
                    </a:lnTo>
                    <a:lnTo>
                      <a:pt x="738" y="969"/>
                    </a:lnTo>
                    <a:lnTo>
                      <a:pt x="714" y="901"/>
                    </a:lnTo>
                    <a:lnTo>
                      <a:pt x="678" y="778"/>
                    </a:lnTo>
                    <a:lnTo>
                      <a:pt x="678" y="778"/>
                    </a:lnTo>
                    <a:lnTo>
                      <a:pt x="654" y="709"/>
                    </a:lnTo>
                    <a:lnTo>
                      <a:pt x="642" y="655"/>
                    </a:lnTo>
                    <a:lnTo>
                      <a:pt x="617" y="587"/>
                    </a:lnTo>
                    <a:lnTo>
                      <a:pt x="605" y="573"/>
                    </a:lnTo>
                    <a:lnTo>
                      <a:pt x="581" y="505"/>
                    </a:lnTo>
                    <a:lnTo>
                      <a:pt x="509" y="450"/>
                    </a:lnTo>
                    <a:lnTo>
                      <a:pt x="436" y="409"/>
                    </a:lnTo>
                    <a:lnTo>
                      <a:pt x="363" y="355"/>
                    </a:lnTo>
                    <a:lnTo>
                      <a:pt x="291" y="300"/>
                    </a:lnTo>
                    <a:lnTo>
                      <a:pt x="146" y="16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43840" y="3586320"/>
                <a:ext cx="979200" cy="2189160"/>
              </a:xfrm>
              <a:custGeom>
                <a:avLst/>
                <a:gdLst/>
                <a:ahLst/>
                <a:rect l="l" t="t" r="r" b="b"/>
                <a:pathLst>
                  <a:path w="617" h="1379">
                    <a:moveTo>
                      <a:pt x="24" y="1379"/>
                    </a:moveTo>
                    <a:lnTo>
                      <a:pt x="12" y="1365"/>
                    </a:lnTo>
                    <a:lnTo>
                      <a:pt x="0" y="1338"/>
                    </a:lnTo>
                    <a:lnTo>
                      <a:pt x="12" y="1311"/>
                    </a:lnTo>
                    <a:lnTo>
                      <a:pt x="36" y="1256"/>
                    </a:lnTo>
                    <a:lnTo>
                      <a:pt x="60" y="1215"/>
                    </a:lnTo>
                    <a:lnTo>
                      <a:pt x="84" y="1174"/>
                    </a:lnTo>
                    <a:lnTo>
                      <a:pt x="169" y="1051"/>
                    </a:lnTo>
                    <a:lnTo>
                      <a:pt x="242" y="942"/>
                    </a:lnTo>
                    <a:lnTo>
                      <a:pt x="314" y="847"/>
                    </a:lnTo>
                    <a:lnTo>
                      <a:pt x="350" y="792"/>
                    </a:lnTo>
                    <a:lnTo>
                      <a:pt x="363" y="765"/>
                    </a:lnTo>
                    <a:lnTo>
                      <a:pt x="375" y="738"/>
                    </a:lnTo>
                    <a:lnTo>
                      <a:pt x="387" y="710"/>
                    </a:lnTo>
                    <a:lnTo>
                      <a:pt x="411" y="669"/>
                    </a:lnTo>
                    <a:lnTo>
                      <a:pt x="447" y="601"/>
                    </a:lnTo>
                    <a:lnTo>
                      <a:pt x="508" y="478"/>
                    </a:lnTo>
                    <a:lnTo>
                      <a:pt x="544" y="342"/>
                    </a:lnTo>
                    <a:lnTo>
                      <a:pt x="568" y="205"/>
                    </a:lnTo>
                    <a:lnTo>
                      <a:pt x="592" y="82"/>
                    </a:lnTo>
                    <a:lnTo>
                      <a:pt x="617" y="28"/>
                    </a:lnTo>
                    <a:lnTo>
                      <a:pt x="617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01840" y="2611440"/>
                <a:ext cx="307800" cy="3031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205080" y="1787760"/>
                <a:ext cx="306360" cy="3045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46960" y="4345200"/>
                <a:ext cx="307800" cy="3031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225160" y="297972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46080" y="16146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16240" y="397692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276760" y="4475160"/>
                <a:ext cx="869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r ou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935520" y="3868920"/>
                <a:ext cx="1363320" cy="823680"/>
                <a:chOff x="3935520" y="3868920"/>
                <a:chExt cx="1363320" cy="8236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935520" y="3868920"/>
                  <a:ext cx="1228680" cy="758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068800" y="4497480"/>
                  <a:ext cx="230040" cy="195120"/>
                </a:xfrm>
                <a:custGeom>
                  <a:avLst/>
                  <a:gdLst/>
                  <a:ahLst/>
                  <a:rect l="l" t="t" r="r" b="b"/>
                  <a:pathLst>
                    <a:path w="145" h="123">
                      <a:moveTo>
                        <a:pt x="0" y="123"/>
                      </a:moveTo>
                      <a:lnTo>
                        <a:pt x="145" y="123"/>
                      </a:lnTo>
                      <a:lnTo>
                        <a:pt x="72" y="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4011120" y="4324320"/>
                <a:ext cx="685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Flux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6240" y="471960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967680" y="4640400"/>
                <a:ext cx="19591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uário existen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30560" y="4235400"/>
                <a:ext cx="11314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egenda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609480" y="3029040"/>
            <a:ext cx="5200200" cy="2481120"/>
            <a:chOff x="609480" y="3029040"/>
            <a:chExt cx="5200200" cy="2481120"/>
          </a:xfrm>
        </p:grpSpPr>
        <p:grpSp>
          <p:nvGrpSpPr>
            <p:cNvPr id="482" name=""/>
            <p:cNvGrpSpPr/>
            <p:nvPr/>
          </p:nvGrpSpPr>
          <p:grpSpPr>
            <a:xfrm>
              <a:off x="4937040" y="3029040"/>
              <a:ext cx="872640" cy="844560"/>
              <a:chOff x="4937040" y="3029040"/>
              <a:chExt cx="872640" cy="844560"/>
            </a:xfrm>
          </p:grpSpPr>
          <p:sp>
            <p:nvSpPr>
              <p:cNvPr id="483" name=""/>
              <p:cNvSpPr/>
              <p:nvPr/>
            </p:nvSpPr>
            <p:spPr>
              <a:xfrm>
                <a:off x="4937040" y="3570120"/>
                <a:ext cx="308160" cy="30348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110920" y="3029040"/>
                <a:ext cx="698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ov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609480" y="5181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62640" y="5113440"/>
              <a:ext cx="1567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uário no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-20520" y="928800"/>
            <a:ext cx="7745400" cy="416232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769760" y="169920"/>
            <a:ext cx="6430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mandas de captação dos usu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70080" y="2963880"/>
            <a:ext cx="30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52960" y="3006720"/>
            <a:ext cx="78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92440" y="1598760"/>
            <a:ext cx="30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761160" y="3959280"/>
            <a:ext cx="30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1680" y="4089240"/>
            <a:ext cx="941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57480" y="4307040"/>
            <a:ext cx="7876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160" y="1901880"/>
            <a:ext cx="7664400" cy="2946240"/>
          </a:xfrm>
          <a:custGeom>
            <a:avLst/>
            <a:gdLst/>
            <a:ahLst/>
            <a:rect l="l" t="t" r="r" b="b"/>
            <a:pathLst>
              <a:path w="4828" h="1856">
                <a:moveTo>
                  <a:pt x="37" y="0"/>
                </a:moveTo>
                <a:lnTo>
                  <a:pt x="0" y="41"/>
                </a:lnTo>
                <a:lnTo>
                  <a:pt x="85" y="164"/>
                </a:lnTo>
                <a:lnTo>
                  <a:pt x="182" y="286"/>
                </a:lnTo>
                <a:lnTo>
                  <a:pt x="291" y="396"/>
                </a:lnTo>
                <a:lnTo>
                  <a:pt x="400" y="477"/>
                </a:lnTo>
                <a:lnTo>
                  <a:pt x="508" y="518"/>
                </a:lnTo>
                <a:lnTo>
                  <a:pt x="521" y="532"/>
                </a:lnTo>
                <a:lnTo>
                  <a:pt x="629" y="546"/>
                </a:lnTo>
                <a:lnTo>
                  <a:pt x="763" y="559"/>
                </a:lnTo>
                <a:lnTo>
                  <a:pt x="944" y="573"/>
                </a:lnTo>
                <a:lnTo>
                  <a:pt x="1041" y="573"/>
                </a:lnTo>
                <a:lnTo>
                  <a:pt x="1053" y="573"/>
                </a:lnTo>
                <a:lnTo>
                  <a:pt x="1174" y="573"/>
                </a:lnTo>
                <a:lnTo>
                  <a:pt x="1440" y="573"/>
                </a:lnTo>
                <a:lnTo>
                  <a:pt x="1706" y="559"/>
                </a:lnTo>
                <a:lnTo>
                  <a:pt x="1694" y="532"/>
                </a:lnTo>
                <a:lnTo>
                  <a:pt x="1694" y="559"/>
                </a:lnTo>
                <a:lnTo>
                  <a:pt x="1815" y="559"/>
                </a:lnTo>
                <a:lnTo>
                  <a:pt x="1924" y="573"/>
                </a:lnTo>
                <a:lnTo>
                  <a:pt x="2106" y="600"/>
                </a:lnTo>
                <a:lnTo>
                  <a:pt x="2251" y="628"/>
                </a:lnTo>
                <a:lnTo>
                  <a:pt x="2384" y="655"/>
                </a:lnTo>
                <a:lnTo>
                  <a:pt x="2505" y="696"/>
                </a:lnTo>
                <a:lnTo>
                  <a:pt x="2602" y="750"/>
                </a:lnTo>
                <a:lnTo>
                  <a:pt x="2614" y="723"/>
                </a:lnTo>
                <a:lnTo>
                  <a:pt x="2590" y="737"/>
                </a:lnTo>
                <a:lnTo>
                  <a:pt x="2687" y="791"/>
                </a:lnTo>
                <a:lnTo>
                  <a:pt x="2856" y="928"/>
                </a:lnTo>
                <a:lnTo>
                  <a:pt x="2929" y="983"/>
                </a:lnTo>
                <a:lnTo>
                  <a:pt x="3001" y="1051"/>
                </a:lnTo>
                <a:lnTo>
                  <a:pt x="3062" y="1105"/>
                </a:lnTo>
                <a:lnTo>
                  <a:pt x="3159" y="1174"/>
                </a:lnTo>
                <a:lnTo>
                  <a:pt x="3267" y="1242"/>
                </a:lnTo>
                <a:lnTo>
                  <a:pt x="3388" y="1324"/>
                </a:lnTo>
                <a:lnTo>
                  <a:pt x="3522" y="1406"/>
                </a:lnTo>
                <a:lnTo>
                  <a:pt x="3534" y="1419"/>
                </a:lnTo>
                <a:lnTo>
                  <a:pt x="3691" y="1488"/>
                </a:lnTo>
                <a:lnTo>
                  <a:pt x="3848" y="1556"/>
                </a:lnTo>
                <a:lnTo>
                  <a:pt x="4030" y="1610"/>
                </a:lnTo>
                <a:lnTo>
                  <a:pt x="4211" y="1665"/>
                </a:lnTo>
                <a:lnTo>
                  <a:pt x="4369" y="1706"/>
                </a:lnTo>
                <a:lnTo>
                  <a:pt x="4502" y="1747"/>
                </a:lnTo>
                <a:lnTo>
                  <a:pt x="4635" y="1788"/>
                </a:lnTo>
                <a:lnTo>
                  <a:pt x="4744" y="1829"/>
                </a:lnTo>
                <a:lnTo>
                  <a:pt x="4780" y="1842"/>
                </a:lnTo>
                <a:lnTo>
                  <a:pt x="4804" y="1856"/>
                </a:lnTo>
                <a:lnTo>
                  <a:pt x="4828" y="1802"/>
                </a:lnTo>
                <a:lnTo>
                  <a:pt x="4792" y="1788"/>
                </a:lnTo>
                <a:lnTo>
                  <a:pt x="4756" y="1774"/>
                </a:lnTo>
                <a:lnTo>
                  <a:pt x="4647" y="1733"/>
                </a:lnTo>
                <a:lnTo>
                  <a:pt x="4514" y="1692"/>
                </a:lnTo>
                <a:lnTo>
                  <a:pt x="4381" y="1651"/>
                </a:lnTo>
                <a:lnTo>
                  <a:pt x="4223" y="1610"/>
                </a:lnTo>
                <a:lnTo>
                  <a:pt x="4042" y="1556"/>
                </a:lnTo>
                <a:lnTo>
                  <a:pt x="3860" y="1501"/>
                </a:lnTo>
                <a:lnTo>
                  <a:pt x="3703" y="1433"/>
                </a:lnTo>
                <a:lnTo>
                  <a:pt x="3546" y="1365"/>
                </a:lnTo>
                <a:lnTo>
                  <a:pt x="3546" y="1392"/>
                </a:lnTo>
                <a:lnTo>
                  <a:pt x="3558" y="1365"/>
                </a:lnTo>
                <a:lnTo>
                  <a:pt x="3425" y="1283"/>
                </a:lnTo>
                <a:lnTo>
                  <a:pt x="3304" y="1201"/>
                </a:lnTo>
                <a:lnTo>
                  <a:pt x="3183" y="1133"/>
                </a:lnTo>
                <a:lnTo>
                  <a:pt x="3098" y="1064"/>
                </a:lnTo>
                <a:lnTo>
                  <a:pt x="3038" y="1010"/>
                </a:lnTo>
                <a:lnTo>
                  <a:pt x="2965" y="942"/>
                </a:lnTo>
                <a:lnTo>
                  <a:pt x="2880" y="887"/>
                </a:lnTo>
                <a:lnTo>
                  <a:pt x="2723" y="750"/>
                </a:lnTo>
                <a:lnTo>
                  <a:pt x="2626" y="696"/>
                </a:lnTo>
                <a:lnTo>
                  <a:pt x="2614" y="696"/>
                </a:lnTo>
                <a:lnTo>
                  <a:pt x="2517" y="641"/>
                </a:lnTo>
                <a:lnTo>
                  <a:pt x="2396" y="600"/>
                </a:lnTo>
                <a:lnTo>
                  <a:pt x="2263" y="573"/>
                </a:lnTo>
                <a:lnTo>
                  <a:pt x="2118" y="546"/>
                </a:lnTo>
                <a:lnTo>
                  <a:pt x="1924" y="518"/>
                </a:lnTo>
                <a:lnTo>
                  <a:pt x="1827" y="505"/>
                </a:lnTo>
                <a:lnTo>
                  <a:pt x="1706" y="505"/>
                </a:lnTo>
                <a:lnTo>
                  <a:pt x="1694" y="505"/>
                </a:lnTo>
                <a:lnTo>
                  <a:pt x="1428" y="518"/>
                </a:lnTo>
                <a:lnTo>
                  <a:pt x="1162" y="518"/>
                </a:lnTo>
                <a:lnTo>
                  <a:pt x="1041" y="518"/>
                </a:lnTo>
                <a:lnTo>
                  <a:pt x="1053" y="546"/>
                </a:lnTo>
                <a:lnTo>
                  <a:pt x="1053" y="518"/>
                </a:lnTo>
                <a:lnTo>
                  <a:pt x="944" y="518"/>
                </a:lnTo>
                <a:lnTo>
                  <a:pt x="775" y="505"/>
                </a:lnTo>
                <a:lnTo>
                  <a:pt x="642" y="491"/>
                </a:lnTo>
                <a:lnTo>
                  <a:pt x="533" y="477"/>
                </a:lnTo>
                <a:lnTo>
                  <a:pt x="521" y="505"/>
                </a:lnTo>
                <a:lnTo>
                  <a:pt x="545" y="477"/>
                </a:lnTo>
                <a:lnTo>
                  <a:pt x="424" y="423"/>
                </a:lnTo>
                <a:lnTo>
                  <a:pt x="327" y="355"/>
                </a:lnTo>
                <a:lnTo>
                  <a:pt x="218" y="245"/>
                </a:lnTo>
                <a:lnTo>
                  <a:pt x="121" y="123"/>
                </a:lnTo>
                <a:lnTo>
                  <a:pt x="3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35120" y="1165320"/>
            <a:ext cx="1249560" cy="1753920"/>
          </a:xfrm>
          <a:custGeom>
            <a:avLst/>
            <a:gdLst/>
            <a:ahLst/>
            <a:rect l="l" t="t" r="r" b="b"/>
            <a:pathLst>
              <a:path w="787" h="1105">
                <a:moveTo>
                  <a:pt x="12" y="0"/>
                </a:moveTo>
                <a:lnTo>
                  <a:pt x="0" y="27"/>
                </a:lnTo>
                <a:lnTo>
                  <a:pt x="133" y="191"/>
                </a:lnTo>
                <a:lnTo>
                  <a:pt x="279" y="327"/>
                </a:lnTo>
                <a:lnTo>
                  <a:pt x="351" y="382"/>
                </a:lnTo>
                <a:lnTo>
                  <a:pt x="424" y="436"/>
                </a:lnTo>
                <a:lnTo>
                  <a:pt x="496" y="477"/>
                </a:lnTo>
                <a:lnTo>
                  <a:pt x="569" y="532"/>
                </a:lnTo>
                <a:lnTo>
                  <a:pt x="593" y="600"/>
                </a:lnTo>
                <a:lnTo>
                  <a:pt x="605" y="587"/>
                </a:lnTo>
                <a:lnTo>
                  <a:pt x="593" y="587"/>
                </a:lnTo>
                <a:lnTo>
                  <a:pt x="617" y="655"/>
                </a:lnTo>
                <a:lnTo>
                  <a:pt x="630" y="709"/>
                </a:lnTo>
                <a:lnTo>
                  <a:pt x="666" y="791"/>
                </a:lnTo>
                <a:lnTo>
                  <a:pt x="666" y="778"/>
                </a:lnTo>
                <a:lnTo>
                  <a:pt x="654" y="791"/>
                </a:lnTo>
                <a:lnTo>
                  <a:pt x="690" y="901"/>
                </a:lnTo>
                <a:lnTo>
                  <a:pt x="714" y="969"/>
                </a:lnTo>
                <a:lnTo>
                  <a:pt x="726" y="1023"/>
                </a:lnTo>
                <a:lnTo>
                  <a:pt x="738" y="1023"/>
                </a:lnTo>
                <a:lnTo>
                  <a:pt x="738" y="1051"/>
                </a:lnTo>
                <a:lnTo>
                  <a:pt x="751" y="1064"/>
                </a:lnTo>
                <a:lnTo>
                  <a:pt x="751" y="1078"/>
                </a:lnTo>
                <a:lnTo>
                  <a:pt x="775" y="1105"/>
                </a:lnTo>
                <a:lnTo>
                  <a:pt x="787" y="1078"/>
                </a:lnTo>
                <a:lnTo>
                  <a:pt x="763" y="1051"/>
                </a:lnTo>
                <a:lnTo>
                  <a:pt x="763" y="1064"/>
                </a:lnTo>
                <a:lnTo>
                  <a:pt x="775" y="1064"/>
                </a:lnTo>
                <a:lnTo>
                  <a:pt x="763" y="1051"/>
                </a:lnTo>
                <a:lnTo>
                  <a:pt x="751" y="1010"/>
                </a:lnTo>
                <a:lnTo>
                  <a:pt x="738" y="1010"/>
                </a:lnTo>
                <a:lnTo>
                  <a:pt x="751" y="1010"/>
                </a:lnTo>
                <a:lnTo>
                  <a:pt x="738" y="969"/>
                </a:lnTo>
                <a:lnTo>
                  <a:pt x="714" y="901"/>
                </a:lnTo>
                <a:lnTo>
                  <a:pt x="678" y="778"/>
                </a:lnTo>
                <a:lnTo>
                  <a:pt x="678" y="778"/>
                </a:lnTo>
                <a:lnTo>
                  <a:pt x="654" y="709"/>
                </a:lnTo>
                <a:lnTo>
                  <a:pt x="642" y="655"/>
                </a:lnTo>
                <a:lnTo>
                  <a:pt x="617" y="587"/>
                </a:lnTo>
                <a:lnTo>
                  <a:pt x="605" y="573"/>
                </a:lnTo>
                <a:lnTo>
                  <a:pt x="581" y="505"/>
                </a:lnTo>
                <a:lnTo>
                  <a:pt x="509" y="450"/>
                </a:lnTo>
                <a:lnTo>
                  <a:pt x="436" y="409"/>
                </a:lnTo>
                <a:lnTo>
                  <a:pt x="363" y="355"/>
                </a:lnTo>
                <a:lnTo>
                  <a:pt x="291" y="300"/>
                </a:lnTo>
                <a:lnTo>
                  <a:pt x="146" y="163"/>
                </a:lnTo>
                <a:lnTo>
                  <a:pt x="1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147080" y="3591000"/>
            <a:ext cx="979200" cy="2189160"/>
          </a:xfrm>
          <a:custGeom>
            <a:avLst/>
            <a:gdLst/>
            <a:ahLst/>
            <a:rect l="l" t="t" r="r" b="b"/>
            <a:pathLst>
              <a:path w="617" h="1379">
                <a:moveTo>
                  <a:pt x="24" y="1379"/>
                </a:moveTo>
                <a:lnTo>
                  <a:pt x="12" y="1365"/>
                </a:lnTo>
                <a:lnTo>
                  <a:pt x="0" y="1338"/>
                </a:lnTo>
                <a:lnTo>
                  <a:pt x="12" y="1311"/>
                </a:lnTo>
                <a:lnTo>
                  <a:pt x="36" y="1256"/>
                </a:lnTo>
                <a:lnTo>
                  <a:pt x="60" y="1215"/>
                </a:lnTo>
                <a:lnTo>
                  <a:pt x="84" y="1174"/>
                </a:lnTo>
                <a:lnTo>
                  <a:pt x="169" y="1051"/>
                </a:lnTo>
                <a:lnTo>
                  <a:pt x="242" y="942"/>
                </a:lnTo>
                <a:lnTo>
                  <a:pt x="314" y="847"/>
                </a:lnTo>
                <a:lnTo>
                  <a:pt x="350" y="792"/>
                </a:lnTo>
                <a:lnTo>
                  <a:pt x="363" y="765"/>
                </a:lnTo>
                <a:lnTo>
                  <a:pt x="375" y="738"/>
                </a:lnTo>
                <a:lnTo>
                  <a:pt x="387" y="710"/>
                </a:lnTo>
                <a:lnTo>
                  <a:pt x="411" y="669"/>
                </a:lnTo>
                <a:lnTo>
                  <a:pt x="447" y="601"/>
                </a:lnTo>
                <a:lnTo>
                  <a:pt x="508" y="478"/>
                </a:lnTo>
                <a:lnTo>
                  <a:pt x="544" y="342"/>
                </a:lnTo>
                <a:lnTo>
                  <a:pt x="568" y="205"/>
                </a:lnTo>
                <a:lnTo>
                  <a:pt x="592" y="82"/>
                </a:lnTo>
                <a:lnTo>
                  <a:pt x="617" y="28"/>
                </a:lnTo>
                <a:lnTo>
                  <a:pt x="617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05080" y="2616120"/>
            <a:ext cx="307800" cy="303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08320" y="1792440"/>
            <a:ext cx="306360" cy="304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550200" y="4349880"/>
            <a:ext cx="307800" cy="303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59520" y="3019320"/>
            <a:ext cx="225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 (Qcap = 1,2 m³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43920" y="1619280"/>
            <a:ext cx="225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 (Qcap = 0,5 m³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09240" y="3809880"/>
            <a:ext cx="225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 (Qcap = 0,9 m³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938760" y="3873600"/>
            <a:ext cx="1363320" cy="823680"/>
            <a:chOff x="3938760" y="3873600"/>
            <a:chExt cx="1363320" cy="823680"/>
          </a:xfrm>
        </p:grpSpPr>
        <p:sp>
          <p:nvSpPr>
            <p:cNvPr id="505" name=""/>
            <p:cNvSpPr/>
            <p:nvPr/>
          </p:nvSpPr>
          <p:spPr>
            <a:xfrm>
              <a:off x="3938760" y="3873600"/>
              <a:ext cx="122868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72040" y="4502160"/>
              <a:ext cx="230040" cy="19512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123"/>
                  </a:moveTo>
                  <a:lnTo>
                    <a:pt x="145" y="123"/>
                  </a:lnTo>
                  <a:lnTo>
                    <a:pt x="72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4014360" y="4329000"/>
            <a:ext cx="68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70920" y="4645080"/>
            <a:ext cx="195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ário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33800" y="4240080"/>
            <a:ext cx="113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609480" y="3029040"/>
            <a:ext cx="6457320" cy="2481120"/>
            <a:chOff x="609480" y="3029040"/>
            <a:chExt cx="6457320" cy="2481120"/>
          </a:xfrm>
        </p:grpSpPr>
        <p:grpSp>
          <p:nvGrpSpPr>
            <p:cNvPr id="512" name=""/>
            <p:cNvGrpSpPr/>
            <p:nvPr/>
          </p:nvGrpSpPr>
          <p:grpSpPr>
            <a:xfrm>
              <a:off x="4937040" y="3029040"/>
              <a:ext cx="2129760" cy="844560"/>
              <a:chOff x="4937040" y="3029040"/>
              <a:chExt cx="2129760" cy="844560"/>
            </a:xfrm>
          </p:grpSpPr>
          <p:sp>
            <p:nvSpPr>
              <p:cNvPr id="513" name=""/>
              <p:cNvSpPr/>
              <p:nvPr/>
            </p:nvSpPr>
            <p:spPr>
              <a:xfrm>
                <a:off x="4937040" y="3570120"/>
                <a:ext cx="308160" cy="30348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106240" y="3029040"/>
                <a:ext cx="1960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Novo (Qcap = ?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609480" y="5181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62640" y="5113440"/>
              <a:ext cx="1567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uário no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522360" y="5522760"/>
            <a:ext cx="275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Qca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: vazão de cap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964280" y="4444920"/>
            <a:ext cx="793080" cy="1041840"/>
            <a:chOff x="7964280" y="4444920"/>
            <a:chExt cx="793080" cy="1041840"/>
          </a:xfrm>
        </p:grpSpPr>
        <p:sp>
          <p:nvSpPr>
            <p:cNvPr id="519" name=""/>
            <p:cNvSpPr/>
            <p:nvPr/>
          </p:nvSpPr>
          <p:spPr>
            <a:xfrm>
              <a:off x="7965720" y="444492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65000" y="51814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64280" y="481320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 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-20520" y="928800"/>
            <a:ext cx="7745400" cy="416232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2600" y="1901880"/>
            <a:ext cx="7664400" cy="2946240"/>
          </a:xfrm>
          <a:custGeom>
            <a:avLst/>
            <a:gdLst/>
            <a:ahLst/>
            <a:rect l="l" t="t" r="r" b="b"/>
            <a:pathLst>
              <a:path w="4828" h="1856">
                <a:moveTo>
                  <a:pt x="37" y="0"/>
                </a:moveTo>
                <a:lnTo>
                  <a:pt x="0" y="41"/>
                </a:lnTo>
                <a:lnTo>
                  <a:pt x="85" y="164"/>
                </a:lnTo>
                <a:lnTo>
                  <a:pt x="182" y="286"/>
                </a:lnTo>
                <a:lnTo>
                  <a:pt x="291" y="396"/>
                </a:lnTo>
                <a:lnTo>
                  <a:pt x="400" y="477"/>
                </a:lnTo>
                <a:lnTo>
                  <a:pt x="508" y="518"/>
                </a:lnTo>
                <a:lnTo>
                  <a:pt x="521" y="532"/>
                </a:lnTo>
                <a:lnTo>
                  <a:pt x="629" y="546"/>
                </a:lnTo>
                <a:lnTo>
                  <a:pt x="763" y="559"/>
                </a:lnTo>
                <a:lnTo>
                  <a:pt x="944" y="573"/>
                </a:lnTo>
                <a:lnTo>
                  <a:pt x="1041" y="573"/>
                </a:lnTo>
                <a:lnTo>
                  <a:pt x="1053" y="573"/>
                </a:lnTo>
                <a:lnTo>
                  <a:pt x="1174" y="573"/>
                </a:lnTo>
                <a:lnTo>
                  <a:pt x="1440" y="573"/>
                </a:lnTo>
                <a:lnTo>
                  <a:pt x="1706" y="559"/>
                </a:lnTo>
                <a:lnTo>
                  <a:pt x="1694" y="532"/>
                </a:lnTo>
                <a:lnTo>
                  <a:pt x="1694" y="559"/>
                </a:lnTo>
                <a:lnTo>
                  <a:pt x="1815" y="559"/>
                </a:lnTo>
                <a:lnTo>
                  <a:pt x="1924" y="573"/>
                </a:lnTo>
                <a:lnTo>
                  <a:pt x="2106" y="600"/>
                </a:lnTo>
                <a:lnTo>
                  <a:pt x="2251" y="628"/>
                </a:lnTo>
                <a:lnTo>
                  <a:pt x="2384" y="655"/>
                </a:lnTo>
                <a:lnTo>
                  <a:pt x="2505" y="696"/>
                </a:lnTo>
                <a:lnTo>
                  <a:pt x="2602" y="750"/>
                </a:lnTo>
                <a:lnTo>
                  <a:pt x="2614" y="723"/>
                </a:lnTo>
                <a:lnTo>
                  <a:pt x="2590" y="737"/>
                </a:lnTo>
                <a:lnTo>
                  <a:pt x="2687" y="791"/>
                </a:lnTo>
                <a:lnTo>
                  <a:pt x="2856" y="928"/>
                </a:lnTo>
                <a:lnTo>
                  <a:pt x="2929" y="983"/>
                </a:lnTo>
                <a:lnTo>
                  <a:pt x="3001" y="1051"/>
                </a:lnTo>
                <a:lnTo>
                  <a:pt x="3062" y="1105"/>
                </a:lnTo>
                <a:lnTo>
                  <a:pt x="3159" y="1174"/>
                </a:lnTo>
                <a:lnTo>
                  <a:pt x="3267" y="1242"/>
                </a:lnTo>
                <a:lnTo>
                  <a:pt x="3388" y="1324"/>
                </a:lnTo>
                <a:lnTo>
                  <a:pt x="3522" y="1406"/>
                </a:lnTo>
                <a:lnTo>
                  <a:pt x="3534" y="1419"/>
                </a:lnTo>
                <a:lnTo>
                  <a:pt x="3691" y="1488"/>
                </a:lnTo>
                <a:lnTo>
                  <a:pt x="3848" y="1556"/>
                </a:lnTo>
                <a:lnTo>
                  <a:pt x="4030" y="1610"/>
                </a:lnTo>
                <a:lnTo>
                  <a:pt x="4211" y="1665"/>
                </a:lnTo>
                <a:lnTo>
                  <a:pt x="4369" y="1706"/>
                </a:lnTo>
                <a:lnTo>
                  <a:pt x="4502" y="1747"/>
                </a:lnTo>
                <a:lnTo>
                  <a:pt x="4635" y="1788"/>
                </a:lnTo>
                <a:lnTo>
                  <a:pt x="4744" y="1829"/>
                </a:lnTo>
                <a:lnTo>
                  <a:pt x="4780" y="1842"/>
                </a:lnTo>
                <a:lnTo>
                  <a:pt x="4804" y="1856"/>
                </a:lnTo>
                <a:lnTo>
                  <a:pt x="4828" y="1802"/>
                </a:lnTo>
                <a:lnTo>
                  <a:pt x="4792" y="1788"/>
                </a:lnTo>
                <a:lnTo>
                  <a:pt x="4756" y="1774"/>
                </a:lnTo>
                <a:lnTo>
                  <a:pt x="4647" y="1733"/>
                </a:lnTo>
                <a:lnTo>
                  <a:pt x="4514" y="1692"/>
                </a:lnTo>
                <a:lnTo>
                  <a:pt x="4381" y="1651"/>
                </a:lnTo>
                <a:lnTo>
                  <a:pt x="4223" y="1610"/>
                </a:lnTo>
                <a:lnTo>
                  <a:pt x="4042" y="1556"/>
                </a:lnTo>
                <a:lnTo>
                  <a:pt x="3860" y="1501"/>
                </a:lnTo>
                <a:lnTo>
                  <a:pt x="3703" y="1433"/>
                </a:lnTo>
                <a:lnTo>
                  <a:pt x="3546" y="1365"/>
                </a:lnTo>
                <a:lnTo>
                  <a:pt x="3546" y="1392"/>
                </a:lnTo>
                <a:lnTo>
                  <a:pt x="3558" y="1365"/>
                </a:lnTo>
                <a:lnTo>
                  <a:pt x="3425" y="1283"/>
                </a:lnTo>
                <a:lnTo>
                  <a:pt x="3304" y="1201"/>
                </a:lnTo>
                <a:lnTo>
                  <a:pt x="3183" y="1133"/>
                </a:lnTo>
                <a:lnTo>
                  <a:pt x="3098" y="1064"/>
                </a:lnTo>
                <a:lnTo>
                  <a:pt x="3038" y="1010"/>
                </a:lnTo>
                <a:lnTo>
                  <a:pt x="2965" y="942"/>
                </a:lnTo>
                <a:lnTo>
                  <a:pt x="2880" y="887"/>
                </a:lnTo>
                <a:lnTo>
                  <a:pt x="2723" y="750"/>
                </a:lnTo>
                <a:lnTo>
                  <a:pt x="2626" y="696"/>
                </a:lnTo>
                <a:lnTo>
                  <a:pt x="2614" y="696"/>
                </a:lnTo>
                <a:lnTo>
                  <a:pt x="2517" y="641"/>
                </a:lnTo>
                <a:lnTo>
                  <a:pt x="2396" y="600"/>
                </a:lnTo>
                <a:lnTo>
                  <a:pt x="2263" y="573"/>
                </a:lnTo>
                <a:lnTo>
                  <a:pt x="2118" y="546"/>
                </a:lnTo>
                <a:lnTo>
                  <a:pt x="1924" y="518"/>
                </a:lnTo>
                <a:lnTo>
                  <a:pt x="1827" y="505"/>
                </a:lnTo>
                <a:lnTo>
                  <a:pt x="1706" y="505"/>
                </a:lnTo>
                <a:lnTo>
                  <a:pt x="1694" y="505"/>
                </a:lnTo>
                <a:lnTo>
                  <a:pt x="1428" y="518"/>
                </a:lnTo>
                <a:lnTo>
                  <a:pt x="1162" y="518"/>
                </a:lnTo>
                <a:lnTo>
                  <a:pt x="1041" y="518"/>
                </a:lnTo>
                <a:lnTo>
                  <a:pt x="1053" y="546"/>
                </a:lnTo>
                <a:lnTo>
                  <a:pt x="1053" y="518"/>
                </a:lnTo>
                <a:lnTo>
                  <a:pt x="944" y="518"/>
                </a:lnTo>
                <a:lnTo>
                  <a:pt x="775" y="505"/>
                </a:lnTo>
                <a:lnTo>
                  <a:pt x="642" y="491"/>
                </a:lnTo>
                <a:lnTo>
                  <a:pt x="533" y="477"/>
                </a:lnTo>
                <a:lnTo>
                  <a:pt x="521" y="505"/>
                </a:lnTo>
                <a:lnTo>
                  <a:pt x="545" y="477"/>
                </a:lnTo>
                <a:lnTo>
                  <a:pt x="424" y="423"/>
                </a:lnTo>
                <a:lnTo>
                  <a:pt x="327" y="355"/>
                </a:lnTo>
                <a:lnTo>
                  <a:pt x="218" y="245"/>
                </a:lnTo>
                <a:lnTo>
                  <a:pt x="121" y="123"/>
                </a:lnTo>
                <a:lnTo>
                  <a:pt x="3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09920" y="1165320"/>
            <a:ext cx="1249200" cy="1753920"/>
          </a:xfrm>
          <a:custGeom>
            <a:avLst/>
            <a:gdLst/>
            <a:ahLst/>
            <a:rect l="l" t="t" r="r" b="b"/>
            <a:pathLst>
              <a:path w="787" h="1105">
                <a:moveTo>
                  <a:pt x="12" y="0"/>
                </a:moveTo>
                <a:lnTo>
                  <a:pt x="0" y="27"/>
                </a:lnTo>
                <a:lnTo>
                  <a:pt x="133" y="191"/>
                </a:lnTo>
                <a:lnTo>
                  <a:pt x="279" y="327"/>
                </a:lnTo>
                <a:lnTo>
                  <a:pt x="351" y="382"/>
                </a:lnTo>
                <a:lnTo>
                  <a:pt x="424" y="436"/>
                </a:lnTo>
                <a:lnTo>
                  <a:pt x="496" y="477"/>
                </a:lnTo>
                <a:lnTo>
                  <a:pt x="569" y="532"/>
                </a:lnTo>
                <a:lnTo>
                  <a:pt x="593" y="600"/>
                </a:lnTo>
                <a:lnTo>
                  <a:pt x="605" y="587"/>
                </a:lnTo>
                <a:lnTo>
                  <a:pt x="593" y="587"/>
                </a:lnTo>
                <a:lnTo>
                  <a:pt x="617" y="655"/>
                </a:lnTo>
                <a:lnTo>
                  <a:pt x="630" y="709"/>
                </a:lnTo>
                <a:lnTo>
                  <a:pt x="666" y="791"/>
                </a:lnTo>
                <a:lnTo>
                  <a:pt x="666" y="778"/>
                </a:lnTo>
                <a:lnTo>
                  <a:pt x="654" y="791"/>
                </a:lnTo>
                <a:lnTo>
                  <a:pt x="690" y="901"/>
                </a:lnTo>
                <a:lnTo>
                  <a:pt x="714" y="969"/>
                </a:lnTo>
                <a:lnTo>
                  <a:pt x="726" y="1023"/>
                </a:lnTo>
                <a:lnTo>
                  <a:pt x="738" y="1023"/>
                </a:lnTo>
                <a:lnTo>
                  <a:pt x="738" y="1051"/>
                </a:lnTo>
                <a:lnTo>
                  <a:pt x="751" y="1064"/>
                </a:lnTo>
                <a:lnTo>
                  <a:pt x="751" y="1078"/>
                </a:lnTo>
                <a:lnTo>
                  <a:pt x="775" y="1105"/>
                </a:lnTo>
                <a:lnTo>
                  <a:pt x="787" y="1078"/>
                </a:lnTo>
                <a:lnTo>
                  <a:pt x="763" y="1051"/>
                </a:lnTo>
                <a:lnTo>
                  <a:pt x="763" y="1064"/>
                </a:lnTo>
                <a:lnTo>
                  <a:pt x="775" y="1064"/>
                </a:lnTo>
                <a:lnTo>
                  <a:pt x="763" y="1051"/>
                </a:lnTo>
                <a:lnTo>
                  <a:pt x="751" y="1010"/>
                </a:lnTo>
                <a:lnTo>
                  <a:pt x="738" y="1010"/>
                </a:lnTo>
                <a:lnTo>
                  <a:pt x="751" y="1010"/>
                </a:lnTo>
                <a:lnTo>
                  <a:pt x="738" y="969"/>
                </a:lnTo>
                <a:lnTo>
                  <a:pt x="714" y="901"/>
                </a:lnTo>
                <a:lnTo>
                  <a:pt x="678" y="778"/>
                </a:lnTo>
                <a:lnTo>
                  <a:pt x="678" y="778"/>
                </a:lnTo>
                <a:lnTo>
                  <a:pt x="654" y="709"/>
                </a:lnTo>
                <a:lnTo>
                  <a:pt x="642" y="655"/>
                </a:lnTo>
                <a:lnTo>
                  <a:pt x="617" y="587"/>
                </a:lnTo>
                <a:lnTo>
                  <a:pt x="605" y="573"/>
                </a:lnTo>
                <a:lnTo>
                  <a:pt x="581" y="505"/>
                </a:lnTo>
                <a:lnTo>
                  <a:pt x="509" y="450"/>
                </a:lnTo>
                <a:lnTo>
                  <a:pt x="436" y="409"/>
                </a:lnTo>
                <a:lnTo>
                  <a:pt x="363" y="355"/>
                </a:lnTo>
                <a:lnTo>
                  <a:pt x="291" y="300"/>
                </a:lnTo>
                <a:lnTo>
                  <a:pt x="146" y="163"/>
                </a:lnTo>
                <a:lnTo>
                  <a:pt x="1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121520" y="3591000"/>
            <a:ext cx="979560" cy="2189160"/>
          </a:xfrm>
          <a:custGeom>
            <a:avLst/>
            <a:gdLst/>
            <a:ahLst/>
            <a:rect l="l" t="t" r="r" b="b"/>
            <a:pathLst>
              <a:path w="617" h="1379">
                <a:moveTo>
                  <a:pt x="24" y="1379"/>
                </a:moveTo>
                <a:lnTo>
                  <a:pt x="12" y="1365"/>
                </a:lnTo>
                <a:lnTo>
                  <a:pt x="0" y="1338"/>
                </a:lnTo>
                <a:lnTo>
                  <a:pt x="12" y="1311"/>
                </a:lnTo>
                <a:lnTo>
                  <a:pt x="36" y="1256"/>
                </a:lnTo>
                <a:lnTo>
                  <a:pt x="60" y="1215"/>
                </a:lnTo>
                <a:lnTo>
                  <a:pt x="84" y="1174"/>
                </a:lnTo>
                <a:lnTo>
                  <a:pt x="169" y="1051"/>
                </a:lnTo>
                <a:lnTo>
                  <a:pt x="242" y="942"/>
                </a:lnTo>
                <a:lnTo>
                  <a:pt x="314" y="847"/>
                </a:lnTo>
                <a:lnTo>
                  <a:pt x="350" y="792"/>
                </a:lnTo>
                <a:lnTo>
                  <a:pt x="363" y="765"/>
                </a:lnTo>
                <a:lnTo>
                  <a:pt x="375" y="738"/>
                </a:lnTo>
                <a:lnTo>
                  <a:pt x="387" y="710"/>
                </a:lnTo>
                <a:lnTo>
                  <a:pt x="411" y="669"/>
                </a:lnTo>
                <a:lnTo>
                  <a:pt x="447" y="601"/>
                </a:lnTo>
                <a:lnTo>
                  <a:pt x="508" y="478"/>
                </a:lnTo>
                <a:lnTo>
                  <a:pt x="544" y="342"/>
                </a:lnTo>
                <a:lnTo>
                  <a:pt x="568" y="205"/>
                </a:lnTo>
                <a:lnTo>
                  <a:pt x="592" y="82"/>
                </a:lnTo>
                <a:lnTo>
                  <a:pt x="617" y="28"/>
                </a:lnTo>
                <a:lnTo>
                  <a:pt x="617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7964280" y="4444920"/>
            <a:ext cx="793080" cy="1041840"/>
            <a:chOff x="7964280" y="4444920"/>
            <a:chExt cx="793080" cy="1041840"/>
          </a:xfrm>
        </p:grpSpPr>
        <p:sp>
          <p:nvSpPr>
            <p:cNvPr id="527" name=""/>
            <p:cNvSpPr/>
            <p:nvPr/>
          </p:nvSpPr>
          <p:spPr>
            <a:xfrm>
              <a:off x="7965720" y="444492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965000" y="51814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64280" y="481320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 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913200" y="3873600"/>
            <a:ext cx="1363320" cy="823680"/>
            <a:chOff x="3913200" y="3873600"/>
            <a:chExt cx="1363320" cy="823680"/>
          </a:xfrm>
        </p:grpSpPr>
        <p:sp>
          <p:nvSpPr>
            <p:cNvPr id="531" name=""/>
            <p:cNvSpPr/>
            <p:nvPr/>
          </p:nvSpPr>
          <p:spPr>
            <a:xfrm>
              <a:off x="3913200" y="3873600"/>
              <a:ext cx="122868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46480" y="4502160"/>
              <a:ext cx="230040" cy="19512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123"/>
                  </a:moveTo>
                  <a:lnTo>
                    <a:pt x="145" y="123"/>
                  </a:lnTo>
                  <a:lnTo>
                    <a:pt x="72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3989160" y="4329000"/>
            <a:ext cx="68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036880" y="171360"/>
            <a:ext cx="565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ponibilidade hídrica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00400" y="1787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29320" y="433692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929120" y="359244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" y="50292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016640" y="4983120"/>
            <a:ext cx="199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ção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4880" y="4572000"/>
            <a:ext cx="106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76360" y="1366920"/>
            <a:ext cx="7318800" cy="4516200"/>
            <a:chOff x="576360" y="1366920"/>
            <a:chExt cx="7318800" cy="4516200"/>
          </a:xfrm>
        </p:grpSpPr>
        <p:grpSp>
          <p:nvGrpSpPr>
            <p:cNvPr id="543" name=""/>
            <p:cNvGrpSpPr/>
            <p:nvPr/>
          </p:nvGrpSpPr>
          <p:grpSpPr>
            <a:xfrm>
              <a:off x="1366920" y="1366920"/>
              <a:ext cx="6528240" cy="2839680"/>
              <a:chOff x="1366920" y="1366920"/>
              <a:chExt cx="6528240" cy="2839680"/>
            </a:xfrm>
          </p:grpSpPr>
          <p:sp>
            <p:nvSpPr>
              <p:cNvPr id="544" name=""/>
              <p:cNvSpPr/>
              <p:nvPr/>
            </p:nvSpPr>
            <p:spPr>
              <a:xfrm>
                <a:off x="3214800" y="1366920"/>
                <a:ext cx="18921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3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75200" y="3809880"/>
                <a:ext cx="2019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13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32200" y="3124080"/>
                <a:ext cx="2019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10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66920" y="2971800"/>
                <a:ext cx="18921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6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576360" y="5486400"/>
              <a:ext cx="2689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Qdisp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: vazão disponí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-20520" y="907920"/>
            <a:ext cx="7745400" cy="416268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2600" y="1901880"/>
            <a:ext cx="7664400" cy="2946240"/>
          </a:xfrm>
          <a:custGeom>
            <a:avLst/>
            <a:gdLst/>
            <a:ahLst/>
            <a:rect l="l" t="t" r="r" b="b"/>
            <a:pathLst>
              <a:path w="4828" h="1856">
                <a:moveTo>
                  <a:pt x="37" y="0"/>
                </a:moveTo>
                <a:lnTo>
                  <a:pt x="0" y="41"/>
                </a:lnTo>
                <a:lnTo>
                  <a:pt x="85" y="164"/>
                </a:lnTo>
                <a:lnTo>
                  <a:pt x="182" y="286"/>
                </a:lnTo>
                <a:lnTo>
                  <a:pt x="291" y="396"/>
                </a:lnTo>
                <a:lnTo>
                  <a:pt x="400" y="477"/>
                </a:lnTo>
                <a:lnTo>
                  <a:pt x="508" y="518"/>
                </a:lnTo>
                <a:lnTo>
                  <a:pt x="521" y="532"/>
                </a:lnTo>
                <a:lnTo>
                  <a:pt x="629" y="546"/>
                </a:lnTo>
                <a:lnTo>
                  <a:pt x="763" y="559"/>
                </a:lnTo>
                <a:lnTo>
                  <a:pt x="944" y="573"/>
                </a:lnTo>
                <a:lnTo>
                  <a:pt x="1041" y="573"/>
                </a:lnTo>
                <a:lnTo>
                  <a:pt x="1053" y="573"/>
                </a:lnTo>
                <a:lnTo>
                  <a:pt x="1174" y="573"/>
                </a:lnTo>
                <a:lnTo>
                  <a:pt x="1440" y="573"/>
                </a:lnTo>
                <a:lnTo>
                  <a:pt x="1706" y="559"/>
                </a:lnTo>
                <a:lnTo>
                  <a:pt x="1694" y="532"/>
                </a:lnTo>
                <a:lnTo>
                  <a:pt x="1694" y="559"/>
                </a:lnTo>
                <a:lnTo>
                  <a:pt x="1815" y="559"/>
                </a:lnTo>
                <a:lnTo>
                  <a:pt x="1924" y="573"/>
                </a:lnTo>
                <a:lnTo>
                  <a:pt x="2106" y="600"/>
                </a:lnTo>
                <a:lnTo>
                  <a:pt x="2251" y="628"/>
                </a:lnTo>
                <a:lnTo>
                  <a:pt x="2384" y="655"/>
                </a:lnTo>
                <a:lnTo>
                  <a:pt x="2505" y="696"/>
                </a:lnTo>
                <a:lnTo>
                  <a:pt x="2602" y="750"/>
                </a:lnTo>
                <a:lnTo>
                  <a:pt x="2614" y="723"/>
                </a:lnTo>
                <a:lnTo>
                  <a:pt x="2590" y="737"/>
                </a:lnTo>
                <a:lnTo>
                  <a:pt x="2687" y="791"/>
                </a:lnTo>
                <a:lnTo>
                  <a:pt x="2856" y="928"/>
                </a:lnTo>
                <a:lnTo>
                  <a:pt x="2929" y="983"/>
                </a:lnTo>
                <a:lnTo>
                  <a:pt x="3001" y="1051"/>
                </a:lnTo>
                <a:lnTo>
                  <a:pt x="3062" y="1105"/>
                </a:lnTo>
                <a:lnTo>
                  <a:pt x="3159" y="1174"/>
                </a:lnTo>
                <a:lnTo>
                  <a:pt x="3267" y="1242"/>
                </a:lnTo>
                <a:lnTo>
                  <a:pt x="3388" y="1324"/>
                </a:lnTo>
                <a:lnTo>
                  <a:pt x="3522" y="1406"/>
                </a:lnTo>
                <a:lnTo>
                  <a:pt x="3534" y="1419"/>
                </a:lnTo>
                <a:lnTo>
                  <a:pt x="3691" y="1488"/>
                </a:lnTo>
                <a:lnTo>
                  <a:pt x="3848" y="1556"/>
                </a:lnTo>
                <a:lnTo>
                  <a:pt x="4030" y="1610"/>
                </a:lnTo>
                <a:lnTo>
                  <a:pt x="4211" y="1665"/>
                </a:lnTo>
                <a:lnTo>
                  <a:pt x="4369" y="1706"/>
                </a:lnTo>
                <a:lnTo>
                  <a:pt x="4502" y="1747"/>
                </a:lnTo>
                <a:lnTo>
                  <a:pt x="4635" y="1788"/>
                </a:lnTo>
                <a:lnTo>
                  <a:pt x="4744" y="1829"/>
                </a:lnTo>
                <a:lnTo>
                  <a:pt x="4780" y="1842"/>
                </a:lnTo>
                <a:lnTo>
                  <a:pt x="4804" y="1856"/>
                </a:lnTo>
                <a:lnTo>
                  <a:pt x="4828" y="1802"/>
                </a:lnTo>
                <a:lnTo>
                  <a:pt x="4792" y="1788"/>
                </a:lnTo>
                <a:lnTo>
                  <a:pt x="4756" y="1774"/>
                </a:lnTo>
                <a:lnTo>
                  <a:pt x="4647" y="1733"/>
                </a:lnTo>
                <a:lnTo>
                  <a:pt x="4514" y="1692"/>
                </a:lnTo>
                <a:lnTo>
                  <a:pt x="4381" y="1651"/>
                </a:lnTo>
                <a:lnTo>
                  <a:pt x="4223" y="1610"/>
                </a:lnTo>
                <a:lnTo>
                  <a:pt x="4042" y="1556"/>
                </a:lnTo>
                <a:lnTo>
                  <a:pt x="3860" y="1501"/>
                </a:lnTo>
                <a:lnTo>
                  <a:pt x="3703" y="1433"/>
                </a:lnTo>
                <a:lnTo>
                  <a:pt x="3546" y="1365"/>
                </a:lnTo>
                <a:lnTo>
                  <a:pt x="3546" y="1392"/>
                </a:lnTo>
                <a:lnTo>
                  <a:pt x="3558" y="1365"/>
                </a:lnTo>
                <a:lnTo>
                  <a:pt x="3425" y="1283"/>
                </a:lnTo>
                <a:lnTo>
                  <a:pt x="3304" y="1201"/>
                </a:lnTo>
                <a:lnTo>
                  <a:pt x="3183" y="1133"/>
                </a:lnTo>
                <a:lnTo>
                  <a:pt x="3098" y="1064"/>
                </a:lnTo>
                <a:lnTo>
                  <a:pt x="3038" y="1010"/>
                </a:lnTo>
                <a:lnTo>
                  <a:pt x="2965" y="942"/>
                </a:lnTo>
                <a:lnTo>
                  <a:pt x="2880" y="887"/>
                </a:lnTo>
                <a:lnTo>
                  <a:pt x="2723" y="750"/>
                </a:lnTo>
                <a:lnTo>
                  <a:pt x="2626" y="696"/>
                </a:lnTo>
                <a:lnTo>
                  <a:pt x="2614" y="696"/>
                </a:lnTo>
                <a:lnTo>
                  <a:pt x="2517" y="641"/>
                </a:lnTo>
                <a:lnTo>
                  <a:pt x="2396" y="600"/>
                </a:lnTo>
                <a:lnTo>
                  <a:pt x="2263" y="573"/>
                </a:lnTo>
                <a:lnTo>
                  <a:pt x="2118" y="546"/>
                </a:lnTo>
                <a:lnTo>
                  <a:pt x="1924" y="518"/>
                </a:lnTo>
                <a:lnTo>
                  <a:pt x="1827" y="505"/>
                </a:lnTo>
                <a:lnTo>
                  <a:pt x="1706" y="505"/>
                </a:lnTo>
                <a:lnTo>
                  <a:pt x="1694" y="505"/>
                </a:lnTo>
                <a:lnTo>
                  <a:pt x="1428" y="518"/>
                </a:lnTo>
                <a:lnTo>
                  <a:pt x="1162" y="518"/>
                </a:lnTo>
                <a:lnTo>
                  <a:pt x="1041" y="518"/>
                </a:lnTo>
                <a:lnTo>
                  <a:pt x="1053" y="546"/>
                </a:lnTo>
                <a:lnTo>
                  <a:pt x="1053" y="518"/>
                </a:lnTo>
                <a:lnTo>
                  <a:pt x="944" y="518"/>
                </a:lnTo>
                <a:lnTo>
                  <a:pt x="775" y="505"/>
                </a:lnTo>
                <a:lnTo>
                  <a:pt x="642" y="491"/>
                </a:lnTo>
                <a:lnTo>
                  <a:pt x="533" y="477"/>
                </a:lnTo>
                <a:lnTo>
                  <a:pt x="521" y="505"/>
                </a:lnTo>
                <a:lnTo>
                  <a:pt x="545" y="477"/>
                </a:lnTo>
                <a:lnTo>
                  <a:pt x="424" y="423"/>
                </a:lnTo>
                <a:lnTo>
                  <a:pt x="327" y="355"/>
                </a:lnTo>
                <a:lnTo>
                  <a:pt x="218" y="245"/>
                </a:lnTo>
                <a:lnTo>
                  <a:pt x="121" y="123"/>
                </a:lnTo>
                <a:lnTo>
                  <a:pt x="3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09920" y="1165320"/>
            <a:ext cx="1249200" cy="1753920"/>
          </a:xfrm>
          <a:custGeom>
            <a:avLst/>
            <a:gdLst/>
            <a:ahLst/>
            <a:rect l="l" t="t" r="r" b="b"/>
            <a:pathLst>
              <a:path w="787" h="1105">
                <a:moveTo>
                  <a:pt x="12" y="0"/>
                </a:moveTo>
                <a:lnTo>
                  <a:pt x="0" y="27"/>
                </a:lnTo>
                <a:lnTo>
                  <a:pt x="133" y="191"/>
                </a:lnTo>
                <a:lnTo>
                  <a:pt x="279" y="327"/>
                </a:lnTo>
                <a:lnTo>
                  <a:pt x="351" y="382"/>
                </a:lnTo>
                <a:lnTo>
                  <a:pt x="424" y="436"/>
                </a:lnTo>
                <a:lnTo>
                  <a:pt x="496" y="477"/>
                </a:lnTo>
                <a:lnTo>
                  <a:pt x="569" y="532"/>
                </a:lnTo>
                <a:lnTo>
                  <a:pt x="593" y="600"/>
                </a:lnTo>
                <a:lnTo>
                  <a:pt x="605" y="587"/>
                </a:lnTo>
                <a:lnTo>
                  <a:pt x="593" y="587"/>
                </a:lnTo>
                <a:lnTo>
                  <a:pt x="617" y="655"/>
                </a:lnTo>
                <a:lnTo>
                  <a:pt x="630" y="709"/>
                </a:lnTo>
                <a:lnTo>
                  <a:pt x="666" y="791"/>
                </a:lnTo>
                <a:lnTo>
                  <a:pt x="666" y="778"/>
                </a:lnTo>
                <a:lnTo>
                  <a:pt x="654" y="791"/>
                </a:lnTo>
                <a:lnTo>
                  <a:pt x="690" y="901"/>
                </a:lnTo>
                <a:lnTo>
                  <a:pt x="714" y="969"/>
                </a:lnTo>
                <a:lnTo>
                  <a:pt x="726" y="1023"/>
                </a:lnTo>
                <a:lnTo>
                  <a:pt x="738" y="1023"/>
                </a:lnTo>
                <a:lnTo>
                  <a:pt x="738" y="1051"/>
                </a:lnTo>
                <a:lnTo>
                  <a:pt x="751" y="1064"/>
                </a:lnTo>
                <a:lnTo>
                  <a:pt x="751" y="1078"/>
                </a:lnTo>
                <a:lnTo>
                  <a:pt x="775" y="1105"/>
                </a:lnTo>
                <a:lnTo>
                  <a:pt x="787" y="1078"/>
                </a:lnTo>
                <a:lnTo>
                  <a:pt x="763" y="1051"/>
                </a:lnTo>
                <a:lnTo>
                  <a:pt x="763" y="1064"/>
                </a:lnTo>
                <a:lnTo>
                  <a:pt x="775" y="1064"/>
                </a:lnTo>
                <a:lnTo>
                  <a:pt x="763" y="1051"/>
                </a:lnTo>
                <a:lnTo>
                  <a:pt x="751" y="1010"/>
                </a:lnTo>
                <a:lnTo>
                  <a:pt x="738" y="1010"/>
                </a:lnTo>
                <a:lnTo>
                  <a:pt x="751" y="1010"/>
                </a:lnTo>
                <a:lnTo>
                  <a:pt x="738" y="969"/>
                </a:lnTo>
                <a:lnTo>
                  <a:pt x="714" y="901"/>
                </a:lnTo>
                <a:lnTo>
                  <a:pt x="678" y="778"/>
                </a:lnTo>
                <a:lnTo>
                  <a:pt x="678" y="778"/>
                </a:lnTo>
                <a:lnTo>
                  <a:pt x="654" y="709"/>
                </a:lnTo>
                <a:lnTo>
                  <a:pt x="642" y="655"/>
                </a:lnTo>
                <a:lnTo>
                  <a:pt x="617" y="587"/>
                </a:lnTo>
                <a:lnTo>
                  <a:pt x="605" y="573"/>
                </a:lnTo>
                <a:lnTo>
                  <a:pt x="581" y="505"/>
                </a:lnTo>
                <a:lnTo>
                  <a:pt x="509" y="450"/>
                </a:lnTo>
                <a:lnTo>
                  <a:pt x="436" y="409"/>
                </a:lnTo>
                <a:lnTo>
                  <a:pt x="363" y="355"/>
                </a:lnTo>
                <a:lnTo>
                  <a:pt x="291" y="300"/>
                </a:lnTo>
                <a:lnTo>
                  <a:pt x="146" y="163"/>
                </a:lnTo>
                <a:lnTo>
                  <a:pt x="1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21520" y="3591000"/>
            <a:ext cx="979560" cy="2189160"/>
          </a:xfrm>
          <a:custGeom>
            <a:avLst/>
            <a:gdLst/>
            <a:ahLst/>
            <a:rect l="l" t="t" r="r" b="b"/>
            <a:pathLst>
              <a:path w="617" h="1379">
                <a:moveTo>
                  <a:pt x="24" y="1379"/>
                </a:moveTo>
                <a:lnTo>
                  <a:pt x="12" y="1365"/>
                </a:lnTo>
                <a:lnTo>
                  <a:pt x="0" y="1338"/>
                </a:lnTo>
                <a:lnTo>
                  <a:pt x="12" y="1311"/>
                </a:lnTo>
                <a:lnTo>
                  <a:pt x="36" y="1256"/>
                </a:lnTo>
                <a:lnTo>
                  <a:pt x="60" y="1215"/>
                </a:lnTo>
                <a:lnTo>
                  <a:pt x="84" y="1174"/>
                </a:lnTo>
                <a:lnTo>
                  <a:pt x="169" y="1051"/>
                </a:lnTo>
                <a:lnTo>
                  <a:pt x="242" y="942"/>
                </a:lnTo>
                <a:lnTo>
                  <a:pt x="314" y="847"/>
                </a:lnTo>
                <a:lnTo>
                  <a:pt x="350" y="792"/>
                </a:lnTo>
                <a:lnTo>
                  <a:pt x="363" y="765"/>
                </a:lnTo>
                <a:lnTo>
                  <a:pt x="375" y="738"/>
                </a:lnTo>
                <a:lnTo>
                  <a:pt x="387" y="710"/>
                </a:lnTo>
                <a:lnTo>
                  <a:pt x="411" y="669"/>
                </a:lnTo>
                <a:lnTo>
                  <a:pt x="447" y="601"/>
                </a:lnTo>
                <a:lnTo>
                  <a:pt x="508" y="478"/>
                </a:lnTo>
                <a:lnTo>
                  <a:pt x="544" y="342"/>
                </a:lnTo>
                <a:lnTo>
                  <a:pt x="568" y="205"/>
                </a:lnTo>
                <a:lnTo>
                  <a:pt x="592" y="82"/>
                </a:lnTo>
                <a:lnTo>
                  <a:pt x="617" y="28"/>
                </a:lnTo>
                <a:lnTo>
                  <a:pt x="617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913200" y="3873600"/>
            <a:ext cx="1363320" cy="823680"/>
            <a:chOff x="3913200" y="3873600"/>
            <a:chExt cx="1363320" cy="823680"/>
          </a:xfrm>
        </p:grpSpPr>
        <p:sp>
          <p:nvSpPr>
            <p:cNvPr id="554" name=""/>
            <p:cNvSpPr/>
            <p:nvPr/>
          </p:nvSpPr>
          <p:spPr>
            <a:xfrm>
              <a:off x="3913200" y="3873600"/>
              <a:ext cx="122868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46480" y="4502160"/>
              <a:ext cx="230040" cy="19512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123"/>
                  </a:moveTo>
                  <a:lnTo>
                    <a:pt x="145" y="123"/>
                  </a:lnTo>
                  <a:lnTo>
                    <a:pt x="72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989160" y="4329000"/>
            <a:ext cx="68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03120" y="177840"/>
            <a:ext cx="57186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trições de vazão míni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cologia, navegação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00400" y="1787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529320" y="433692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929120" y="359244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50292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016640" y="4983120"/>
            <a:ext cx="199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ção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4880" y="4572000"/>
            <a:ext cx="106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964280" y="4444920"/>
            <a:ext cx="793080" cy="1041840"/>
            <a:chOff x="7964280" y="4444920"/>
            <a:chExt cx="793080" cy="1041840"/>
          </a:xfrm>
        </p:grpSpPr>
        <p:sp>
          <p:nvSpPr>
            <p:cNvPr id="566" name=""/>
            <p:cNvSpPr/>
            <p:nvPr/>
          </p:nvSpPr>
          <p:spPr>
            <a:xfrm>
              <a:off x="7965720" y="444492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965000" y="51814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964280" y="481320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 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82840" y="1366920"/>
            <a:ext cx="7233840" cy="4500360"/>
            <a:chOff x="582840" y="1366920"/>
            <a:chExt cx="7233840" cy="4500360"/>
          </a:xfrm>
        </p:grpSpPr>
        <p:grpSp>
          <p:nvGrpSpPr>
            <p:cNvPr id="570" name=""/>
            <p:cNvGrpSpPr/>
            <p:nvPr/>
          </p:nvGrpSpPr>
          <p:grpSpPr>
            <a:xfrm>
              <a:off x="1381680" y="1366920"/>
              <a:ext cx="6435000" cy="2839680"/>
              <a:chOff x="1381680" y="1366920"/>
              <a:chExt cx="6435000" cy="2839680"/>
            </a:xfrm>
          </p:grpSpPr>
          <p:sp>
            <p:nvSpPr>
              <p:cNvPr id="571" name=""/>
              <p:cNvSpPr/>
              <p:nvPr/>
            </p:nvSpPr>
            <p:spPr>
              <a:xfrm>
                <a:off x="3229560" y="136692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2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53680" y="380988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9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10680" y="312408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7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81680" y="297180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4,5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582840" y="5470560"/>
              <a:ext cx="2374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Qmín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: vazão mín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-36360" y="928800"/>
            <a:ext cx="7745400" cy="416232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70160" y="-27360"/>
            <a:ext cx="755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alanço hídrico quantit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zão remanescente (Qrem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zão que resta no manancial após desconto das demandas de montante e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rem = Qdisp - Soma (Qca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montant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vazão remanescente deve ser igual ou maior que a vazão de restrição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rem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Qm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50760" y="623880"/>
            <a:ext cx="899640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69840" y="604800"/>
            <a:ext cx="8977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98640" y="836280"/>
            <a:ext cx="92422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rt. 12. Estão sujeitos a outorga pelo Poder Público os direitos dos seguintes usos de recursos hídric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- derivação ou captação de parcela da água existente em um corpo de água para consumo final, inclusive abastecimento público, ou insumo de processo produtiv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I - extração de água de aqüífero subterrâneo para consumo final ou insumo de processo produtiv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II -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lançamento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em corpo de água de esgotos e demais resíduos líquidos ou gasosos, tratados ou não, com o fim de sua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diluição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, transporte ou disposição final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V - aproveitamento dos potenciais hidrelétric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 - outros usos que alterem o regime, a quantidade ou a qualidade da água existente em um corpo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trumentos da PNR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i n.º 9.433/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9840" y="623880"/>
            <a:ext cx="89773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50760" y="623880"/>
            <a:ext cx="89964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24000" y="2205000"/>
            <a:ext cx="15112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197360" y="2133720"/>
            <a:ext cx="682380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Outorga de Lançament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de Efluent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ituações cláss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460680" y="5754600"/>
            <a:ext cx="26038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3924000" y="5754600"/>
            <a:ext cx="167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924000" y="5754600"/>
            <a:ext cx="167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3924000" y="5754600"/>
            <a:ext cx="167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1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"/>
          <p:cNvSpPr/>
          <p:nvPr/>
        </p:nvSpPr>
        <p:spPr>
          <a:xfrm>
            <a:off x="3397320" y="6232680"/>
            <a:ext cx="1819080" cy="61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ÓX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885280" y="6391440"/>
            <a:ext cx="29833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que na tabela para edi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76160" y="-3528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çõe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eativa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x </a:t>
            </a: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Pró-ativ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0880" y="620640"/>
            <a:ext cx="904068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antos usuários de água bruta existem no Brasil?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 milhõ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antos estão regularizados?  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lang="en-US" sz="2600" spc="-1" strike="noStrike">
                <a:solidFill>
                  <a:srgbClr val="0066ff"/>
                </a:solidFill>
                <a:latin typeface="Times New Roman"/>
              </a:rPr>
              <a:t>95 m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r que uma diferença tão grand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co conhecimento da legislação por parte dos usu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ições públicas deficientes 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ra-estrutu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ssoal técnico especializa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rocracia excessi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ividades de outorga baseadas e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Balcã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icitações via formulários impr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álise dos pedidos de outorga caso a c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 que faz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ampanhas de Regular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Marcos Regulatórios de Uso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dastro Nacional de Usuários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acto de Comitê para redução de po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454720" y="5589720"/>
            <a:ext cx="2072880" cy="1080720"/>
            <a:chOff x="5454720" y="5589720"/>
            <a:chExt cx="2072880" cy="1080720"/>
          </a:xfrm>
        </p:grpSpPr>
        <p:sp>
          <p:nvSpPr>
            <p:cNvPr id="604" name=""/>
            <p:cNvSpPr/>
            <p:nvPr/>
          </p:nvSpPr>
          <p:spPr>
            <a:xfrm>
              <a:off x="5454720" y="5589720"/>
              <a:ext cx="432000" cy="1080720"/>
            </a:xfrm>
            <a:custGeom>
              <a:avLst/>
              <a:gdLst>
                <a:gd name="textAreaLeft" fmla="*/ 0 w 432000"/>
                <a:gd name="textAreaRight" fmla="*/ 155880 w 432000"/>
                <a:gd name="textAreaTop" fmla="*/ 28080 h 1080720"/>
                <a:gd name="textAreaBottom" fmla="*/ 1052640 h 10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48920" y="5792400"/>
              <a:ext cx="16786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3333cc"/>
                  </a:solidFill>
                  <a:latin typeface="Times New Roman"/>
                </a:rPr>
                <a:t>Proat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5867280" y="3789360"/>
            <a:ext cx="1845720" cy="933480"/>
            <a:chOff x="5867280" y="3789360"/>
            <a:chExt cx="1845720" cy="933480"/>
          </a:xfrm>
        </p:grpSpPr>
        <p:sp>
          <p:nvSpPr>
            <p:cNvPr id="607" name=""/>
            <p:cNvSpPr/>
            <p:nvPr/>
          </p:nvSpPr>
          <p:spPr>
            <a:xfrm>
              <a:off x="5867280" y="3789360"/>
              <a:ext cx="356400" cy="933480"/>
            </a:xfrm>
            <a:custGeom>
              <a:avLst/>
              <a:gdLst>
                <a:gd name="textAreaLeft" fmla="*/ 0 w 356400"/>
                <a:gd name="textAreaRight" fmla="*/ 128520 w 356400"/>
                <a:gd name="textAreaTop" fmla="*/ 24120 h 933480"/>
                <a:gd name="textAreaBottom" fmla="*/ 90936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92720" y="3962520"/>
              <a:ext cx="1520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eat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rcRect l="1091" t="987" r="77224" b="92265"/>
          <a:stretch/>
        </p:blipFill>
        <p:spPr>
          <a:xfrm>
            <a:off x="0" y="0"/>
            <a:ext cx="6516720" cy="28162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611280" y="1566720"/>
            <a:ext cx="7705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Superintendência de Outorga e Cob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</a:rPr>
              <a:t>Luciano Meneses Cardoso da Silva, D.E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pecialista em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lmeneses@an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:  (61) 2109-5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ww.an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Acesse o Portal do Governo Brasileir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6315120"/>
            <a:ext cx="190800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trumentos da PNR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i n.º 9.433/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98640" y="1523520"/>
            <a:ext cx="9063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orga de direito de uso de recursos híd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13 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da outor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rá condicionada às prioridades de uso estabelecidas nos Planos de Recursos Hídricos 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verá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peita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classe em que o corpo hídrico estive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quadra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a manutenção de condições adequadas ao transporte aquaviário, quando for o cas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único. “A outorga de uso dos recursos hídricos deverá preservar o uso múltiplo des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24000" y="907920"/>
            <a:ext cx="8458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CALAS DE TRABALHO</a:t>
            </a:r>
            <a:br>
              <a:rPr sz="48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ticulação entre a Outorga e o Licenciamento Ambi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480" y="1440"/>
            <a:ext cx="9137520" cy="68565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3276720" y="3716280"/>
            <a:ext cx="718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Webdings"/>
                <a:ea typeface="Webdings"/>
              </a:rPr>
              <a:t>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987640" y="635040"/>
            <a:ext cx="2460600" cy="2362320"/>
            <a:chOff x="2987640" y="635040"/>
            <a:chExt cx="2460600" cy="2362320"/>
          </a:xfrm>
        </p:grpSpPr>
        <p:grpSp>
          <p:nvGrpSpPr>
            <p:cNvPr id="616" name=""/>
            <p:cNvGrpSpPr/>
            <p:nvPr/>
          </p:nvGrpSpPr>
          <p:grpSpPr>
            <a:xfrm>
              <a:off x="3131640" y="635040"/>
              <a:ext cx="2316600" cy="2289240"/>
              <a:chOff x="3131640" y="635040"/>
              <a:chExt cx="2316600" cy="2289240"/>
            </a:xfrm>
          </p:grpSpPr>
          <p:sp>
            <p:nvSpPr>
              <p:cNvPr id="617" name=""/>
              <p:cNvSpPr/>
              <p:nvPr/>
            </p:nvSpPr>
            <p:spPr>
              <a:xfrm flipH="1">
                <a:off x="3850920" y="1268280"/>
                <a:ext cx="1081080" cy="648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131640" y="1268280"/>
                <a:ext cx="1800360" cy="1297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4571640" y="1268280"/>
                <a:ext cx="360360" cy="1656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873680" y="635040"/>
                <a:ext cx="574560" cy="1008360"/>
              </a:xfrm>
              <a:prstGeom prst="rect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2987640" y="24922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27640" y="285264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08360" y="1916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25440" y="3933720"/>
            <a:ext cx="6335640" cy="2376720"/>
            <a:chOff x="325440" y="3933720"/>
            <a:chExt cx="6335640" cy="2376720"/>
          </a:xfrm>
        </p:grpSpPr>
        <p:grpSp>
          <p:nvGrpSpPr>
            <p:cNvPr id="625" name=""/>
            <p:cNvGrpSpPr/>
            <p:nvPr/>
          </p:nvGrpSpPr>
          <p:grpSpPr>
            <a:xfrm>
              <a:off x="325440" y="4076640"/>
              <a:ext cx="6191280" cy="2233800"/>
              <a:chOff x="325440" y="4076640"/>
              <a:chExt cx="6191280" cy="2233800"/>
            </a:xfrm>
          </p:grpSpPr>
          <p:sp>
            <p:nvSpPr>
              <p:cNvPr id="626" name=""/>
              <p:cNvSpPr/>
              <p:nvPr/>
            </p:nvSpPr>
            <p:spPr>
              <a:xfrm>
                <a:off x="325440" y="5302080"/>
                <a:ext cx="574560" cy="100836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826920" y="4723920"/>
                <a:ext cx="2521080" cy="1081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26920" y="5805360"/>
                <a:ext cx="216072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826920" y="4076640"/>
                <a:ext cx="5689800" cy="1728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2898720" y="58561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16720" y="39337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348000" y="47242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203640" y="3789360"/>
            <a:ext cx="5674680" cy="2160720"/>
            <a:chOff x="3203640" y="3789360"/>
            <a:chExt cx="5674680" cy="2160720"/>
          </a:xfrm>
        </p:grpSpPr>
        <p:sp>
          <p:nvSpPr>
            <p:cNvPr id="634" name=""/>
            <p:cNvSpPr/>
            <p:nvPr/>
          </p:nvSpPr>
          <p:spPr>
            <a:xfrm>
              <a:off x="3203640" y="3789360"/>
              <a:ext cx="792000" cy="647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181560" y="5446800"/>
              <a:ext cx="64944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79600" y="5443560"/>
              <a:ext cx="199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fluência dir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987640" y="3645000"/>
            <a:ext cx="6097320" cy="2952720"/>
            <a:chOff x="2987640" y="3645000"/>
            <a:chExt cx="6097320" cy="2952720"/>
          </a:xfrm>
        </p:grpSpPr>
        <p:sp>
          <p:nvSpPr>
            <p:cNvPr id="638" name=""/>
            <p:cNvSpPr/>
            <p:nvPr/>
          </p:nvSpPr>
          <p:spPr>
            <a:xfrm>
              <a:off x="2987640" y="3645000"/>
              <a:ext cx="1440000" cy="936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81560" y="6094440"/>
              <a:ext cx="649440" cy="503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74200" y="6129360"/>
              <a:ext cx="22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fluência indir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601200" y="41400"/>
            <a:ext cx="8107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que cada órgão faz? Uma questão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564360" y="65160"/>
            <a:ext cx="23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veria a autoridade outorgante realizar a análise de todos os parâmetros de qualidade relacionados na Norma ou apenas daqueles parâmetros que afetam significativamente os usos econômicos dos recursos hídricos? Ou daqueles parâmetros exclusivamente auto-depuráve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beria à área ambiental a análise dos parâmetros que afetam a preservação ambiental? Ou seja, todos? E a questão de esca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averia duplicidade de trabalho pelo Poder Público com essa abordag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564360" y="65160"/>
            <a:ext cx="23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ria a outorga para lançamento de efluentes ser emitida pela área ambiental? Ou seja, fazer dessa análise parte apenas do licenciamento e não da outorg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684360" y="1341360"/>
            <a:ext cx="77770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obtenção da Outorga dá direito ao uso do recurso hídrico pelo requerente, ma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ã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 direito de “ligar a sua bomba”, que, em outras palavras, significa fazer funcionar o seu empreendime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 o licenciamento ambiental que autoriza 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ncionamen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o empreendime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96720" y="220680"/>
            <a:ext cx="7328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orga x Licenciament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250920" y="1413000"/>
            <a:ext cx="8669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outorga é um instrume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iplin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 busca 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name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 usos e usuários de água, dentro de u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ógica sistêm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acia hidrográfica), de mod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itar confli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a garantir o múltiplo uso das águas, su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entabil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cional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 que se busca com a outo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o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8920" y="1160640"/>
            <a:ext cx="896616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grandes aglomerados urbanos estão concentrados às margens do Paraíba do Sul, mas fazem seus lançamentos de esgotos em afluentes estaduais (sem capacidade de dilui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grande maioria dos casos, os esgotos exigem água do rio Paraíba do Sul para sua dil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instituição da cobrança apenas para usuários do rio Paraíba do Sul privilegia os usuários dos afluentes estad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926640" y="333360"/>
            <a:ext cx="7157520" cy="82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mplos de comprometimento do rio Paraíba do 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 cargas lançadas em rios estaduais a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186920" y="1687680"/>
            <a:ext cx="6122880" cy="3507120"/>
            <a:chOff x="1186920" y="1687680"/>
            <a:chExt cx="6122880" cy="3507120"/>
          </a:xfrm>
        </p:grpSpPr>
        <p:grpSp>
          <p:nvGrpSpPr>
            <p:cNvPr id="654" name=""/>
            <p:cNvGrpSpPr/>
            <p:nvPr/>
          </p:nvGrpSpPr>
          <p:grpSpPr>
            <a:xfrm>
              <a:off x="1186920" y="1687680"/>
              <a:ext cx="1850760" cy="785520"/>
              <a:chOff x="1186920" y="1687680"/>
              <a:chExt cx="1850760" cy="78552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1763640" y="1751040"/>
                <a:ext cx="531360" cy="566280"/>
                <a:chOff x="1763640" y="1751040"/>
                <a:chExt cx="531360" cy="56628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1763640" y="188460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763640" y="198144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763640" y="207648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763640" y="217296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838880" y="175608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931040" y="1757520"/>
                  <a:ext cx="0" cy="55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021760" y="1757520"/>
                  <a:ext cx="0" cy="55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124000" y="175104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202840" y="175608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" name=""/>
              <p:cNvSpPr/>
              <p:nvPr/>
            </p:nvSpPr>
            <p:spPr>
              <a:xfrm>
                <a:off x="2291760" y="1687680"/>
                <a:ext cx="7459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Jacareí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1186920" y="2092320"/>
                <a:ext cx="52884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0619000">
                <a:off x="1230120" y="2130480"/>
                <a:ext cx="524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560960" y="4018680"/>
              <a:ext cx="2097720" cy="669600"/>
              <a:chOff x="1560960" y="4018680"/>
              <a:chExt cx="2097720" cy="669600"/>
            </a:xfrm>
          </p:grpSpPr>
          <p:grpSp>
            <p:nvGrpSpPr>
              <p:cNvPr id="669" name=""/>
              <p:cNvGrpSpPr/>
              <p:nvPr/>
            </p:nvGrpSpPr>
            <p:grpSpPr>
              <a:xfrm>
                <a:off x="1976400" y="4156920"/>
                <a:ext cx="505440" cy="509760"/>
                <a:chOff x="1976400" y="4156920"/>
                <a:chExt cx="505440" cy="5097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978560" y="427464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977840" y="436212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977120" y="444780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976400" y="453492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H="1">
                  <a:off x="2046960" y="415944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H="1">
                  <a:off x="2134440" y="4161600"/>
                  <a:ext cx="360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>
                  <a:off x="2220120" y="4161960"/>
                  <a:ext cx="360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>
                  <a:off x="2316960" y="415692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>
                  <a:off x="2391480" y="416196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 rot="25800">
                <a:off x="2472840" y="4105080"/>
                <a:ext cx="118332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ão Jos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os Camp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 flipV="1">
                <a:off x="1560960" y="4271760"/>
                <a:ext cx="33588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40800">
                <a:off x="1566000" y="4021560"/>
                <a:ext cx="524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423040" y="4552200"/>
              <a:ext cx="1886760" cy="642600"/>
              <a:chOff x="5423040" y="4552200"/>
              <a:chExt cx="1886760" cy="64260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5839920" y="4682880"/>
                <a:ext cx="504000" cy="511920"/>
                <a:chOff x="5839920" y="4682880"/>
                <a:chExt cx="504000" cy="511920"/>
              </a:xfrm>
            </p:grpSpPr>
            <p:sp>
              <p:nvSpPr>
                <p:cNvPr id="684" name=""/>
                <p:cNvSpPr/>
                <p:nvPr/>
              </p:nvSpPr>
              <p:spPr>
                <a:xfrm flipV="1">
                  <a:off x="5839920" y="480348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5840280" y="489096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5840280" y="497664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V="1">
                  <a:off x="5840640" y="506376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911200" y="468828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998680" y="4689720"/>
                  <a:ext cx="72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084360" y="4689360"/>
                  <a:ext cx="72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181200" y="468288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255720" y="468756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 rot="21592800">
                <a:off x="6336000" y="4622760"/>
                <a:ext cx="9730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çapav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>
                <a:off x="5423040" y="4805640"/>
                <a:ext cx="336240" cy="9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7800">
                <a:off x="5427720" y="4552560"/>
                <a:ext cx="524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395280" y="1643400"/>
            <a:ext cx="8412120" cy="4051440"/>
            <a:chOff x="395280" y="1643400"/>
            <a:chExt cx="8412120" cy="4051440"/>
          </a:xfrm>
        </p:grpSpPr>
        <p:grpSp>
          <p:nvGrpSpPr>
            <p:cNvPr id="697" name=""/>
            <p:cNvGrpSpPr/>
            <p:nvPr/>
          </p:nvGrpSpPr>
          <p:grpSpPr>
            <a:xfrm>
              <a:off x="395280" y="1709640"/>
              <a:ext cx="8412120" cy="3985200"/>
              <a:chOff x="395280" y="1709640"/>
              <a:chExt cx="8412120" cy="3985200"/>
            </a:xfrm>
          </p:grpSpPr>
          <p:sp>
            <p:nvSpPr>
              <p:cNvPr id="698" name=""/>
              <p:cNvSpPr/>
              <p:nvPr/>
            </p:nvSpPr>
            <p:spPr>
              <a:xfrm>
                <a:off x="395280" y="2717640"/>
                <a:ext cx="8412120" cy="984240"/>
              </a:xfrm>
              <a:custGeom>
                <a:avLst/>
                <a:gdLst/>
                <a:ahLst/>
                <a:rect l="l" t="t" r="r" b="b"/>
                <a:pathLst>
                  <a:path w="5299" h="620">
                    <a:moveTo>
                      <a:pt x="0" y="0"/>
                    </a:moveTo>
                    <a:cubicBezTo>
                      <a:pt x="166" y="87"/>
                      <a:pt x="333" y="174"/>
                      <a:pt x="499" y="227"/>
                    </a:cubicBezTo>
                    <a:cubicBezTo>
                      <a:pt x="665" y="280"/>
                      <a:pt x="809" y="325"/>
                      <a:pt x="998" y="318"/>
                    </a:cubicBezTo>
                    <a:cubicBezTo>
                      <a:pt x="1187" y="311"/>
                      <a:pt x="1421" y="197"/>
                      <a:pt x="1633" y="182"/>
                    </a:cubicBezTo>
                    <a:cubicBezTo>
                      <a:pt x="1845" y="167"/>
                      <a:pt x="2041" y="167"/>
                      <a:pt x="2268" y="227"/>
                    </a:cubicBezTo>
                    <a:cubicBezTo>
                      <a:pt x="2495" y="287"/>
                      <a:pt x="2760" y="485"/>
                      <a:pt x="2994" y="545"/>
                    </a:cubicBezTo>
                    <a:cubicBezTo>
                      <a:pt x="3228" y="605"/>
                      <a:pt x="3432" y="620"/>
                      <a:pt x="3674" y="590"/>
                    </a:cubicBezTo>
                    <a:cubicBezTo>
                      <a:pt x="3916" y="560"/>
                      <a:pt x="4196" y="370"/>
                      <a:pt x="4445" y="363"/>
                    </a:cubicBezTo>
                    <a:cubicBezTo>
                      <a:pt x="4694" y="356"/>
                      <a:pt x="5043" y="507"/>
                      <a:pt x="5171" y="545"/>
                    </a:cubicBezTo>
                    <a:cubicBezTo>
                      <a:pt x="5299" y="583"/>
                      <a:pt x="5257" y="586"/>
                      <a:pt x="5216" y="590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62920" y="2646360"/>
                <a:ext cx="15202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raíba do Su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172360" y="3222720"/>
                <a:ext cx="432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68360" y="2933640"/>
                <a:ext cx="35856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203640" y="286236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104840" y="1709640"/>
                <a:ext cx="82440" cy="1368360"/>
              </a:xfrm>
              <a:custGeom>
                <a:avLst/>
                <a:gdLst/>
                <a:ahLst/>
                <a:rect l="l" t="t" r="r" b="b"/>
                <a:pathLst>
                  <a:path w="52" h="862">
                    <a:moveTo>
                      <a:pt x="7" y="0"/>
                    </a:moveTo>
                    <a:cubicBezTo>
                      <a:pt x="3" y="94"/>
                      <a:pt x="0" y="189"/>
                      <a:pt x="7" y="272"/>
                    </a:cubicBezTo>
                    <a:cubicBezTo>
                      <a:pt x="14" y="355"/>
                      <a:pt x="52" y="423"/>
                      <a:pt x="52" y="499"/>
                    </a:cubicBezTo>
                    <a:cubicBezTo>
                      <a:pt x="52" y="575"/>
                      <a:pt x="7" y="666"/>
                      <a:pt x="7" y="726"/>
                    </a:cubicBezTo>
                    <a:cubicBezTo>
                      <a:pt x="7" y="786"/>
                      <a:pt x="29" y="824"/>
                      <a:pt x="52" y="862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971640" y="3162240"/>
                <a:ext cx="1296720" cy="1513080"/>
              </a:xfrm>
              <a:custGeom>
                <a:avLst/>
                <a:gdLst/>
                <a:ahLst/>
                <a:rect l="l" t="t" r="r" b="b"/>
                <a:pathLst>
                  <a:path w="817" h="953">
                    <a:moveTo>
                      <a:pt x="0" y="953"/>
                    </a:moveTo>
                    <a:cubicBezTo>
                      <a:pt x="79" y="870"/>
                      <a:pt x="159" y="787"/>
                      <a:pt x="227" y="726"/>
                    </a:cubicBezTo>
                    <a:cubicBezTo>
                      <a:pt x="295" y="665"/>
                      <a:pt x="370" y="658"/>
                      <a:pt x="408" y="590"/>
                    </a:cubicBezTo>
                    <a:cubicBezTo>
                      <a:pt x="446" y="522"/>
                      <a:pt x="416" y="378"/>
                      <a:pt x="454" y="318"/>
                    </a:cubicBezTo>
                    <a:cubicBezTo>
                      <a:pt x="492" y="258"/>
                      <a:pt x="590" y="265"/>
                      <a:pt x="635" y="227"/>
                    </a:cubicBezTo>
                    <a:cubicBezTo>
                      <a:pt x="680" y="189"/>
                      <a:pt x="696" y="129"/>
                      <a:pt x="726" y="91"/>
                    </a:cubicBezTo>
                    <a:cubicBezTo>
                      <a:pt x="756" y="53"/>
                      <a:pt x="786" y="26"/>
                      <a:pt x="817" y="0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4034600">
                <a:off x="4716360" y="3798720"/>
                <a:ext cx="1152720" cy="1800000"/>
              </a:xfrm>
              <a:custGeom>
                <a:avLst/>
                <a:gdLst/>
                <a:ahLst/>
                <a:rect l="l" t="t" r="r" b="b"/>
                <a:pathLst>
                  <a:path w="726" h="1134">
                    <a:moveTo>
                      <a:pt x="0" y="0"/>
                    </a:moveTo>
                    <a:cubicBezTo>
                      <a:pt x="4" y="56"/>
                      <a:pt x="8" y="113"/>
                      <a:pt x="46" y="181"/>
                    </a:cubicBezTo>
                    <a:cubicBezTo>
                      <a:pt x="84" y="249"/>
                      <a:pt x="182" y="332"/>
                      <a:pt x="227" y="408"/>
                    </a:cubicBezTo>
                    <a:cubicBezTo>
                      <a:pt x="272" y="484"/>
                      <a:pt x="280" y="560"/>
                      <a:pt x="318" y="635"/>
                    </a:cubicBezTo>
                    <a:cubicBezTo>
                      <a:pt x="356" y="710"/>
                      <a:pt x="401" y="809"/>
                      <a:pt x="454" y="862"/>
                    </a:cubicBezTo>
                    <a:cubicBezTo>
                      <a:pt x="507" y="915"/>
                      <a:pt x="590" y="908"/>
                      <a:pt x="635" y="953"/>
                    </a:cubicBezTo>
                    <a:cubicBezTo>
                      <a:pt x="680" y="998"/>
                      <a:pt x="703" y="1066"/>
                      <a:pt x="726" y="1134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 rot="16200000">
              <a:off x="463680" y="2036880"/>
              <a:ext cx="10612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o Compr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8787200">
              <a:off x="673560" y="4051440"/>
              <a:ext cx="971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o do Peix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7629200">
              <a:off x="4412520" y="4679280"/>
              <a:ext cx="13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Rib. Dois Córre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143000" y="2252520"/>
            <a:ext cx="7677000" cy="4371480"/>
            <a:chOff x="1143000" y="2252520"/>
            <a:chExt cx="7677000" cy="4371480"/>
          </a:xfrm>
        </p:grpSpPr>
        <p:sp>
          <p:nvSpPr>
            <p:cNvPr id="710" name=""/>
            <p:cNvSpPr/>
            <p:nvPr/>
          </p:nvSpPr>
          <p:spPr>
            <a:xfrm>
              <a:off x="5724360" y="3338640"/>
              <a:ext cx="2975040" cy="398160"/>
            </a:xfrm>
            <a:custGeom>
              <a:avLst/>
              <a:gdLst/>
              <a:ahLst/>
              <a:rect l="l" t="t" r="r" b="b"/>
              <a:pathLst>
                <a:path w="1874" h="251">
                  <a:moveTo>
                    <a:pt x="0" y="244"/>
                  </a:moveTo>
                  <a:cubicBezTo>
                    <a:pt x="42" y="244"/>
                    <a:pt x="84" y="244"/>
                    <a:pt x="138" y="244"/>
                  </a:cubicBezTo>
                  <a:cubicBezTo>
                    <a:pt x="192" y="244"/>
                    <a:pt x="267" y="251"/>
                    <a:pt x="322" y="244"/>
                  </a:cubicBezTo>
                  <a:cubicBezTo>
                    <a:pt x="377" y="237"/>
                    <a:pt x="417" y="219"/>
                    <a:pt x="466" y="204"/>
                  </a:cubicBezTo>
                  <a:cubicBezTo>
                    <a:pt x="515" y="189"/>
                    <a:pt x="571" y="175"/>
                    <a:pt x="618" y="156"/>
                  </a:cubicBezTo>
                  <a:cubicBezTo>
                    <a:pt x="665" y="137"/>
                    <a:pt x="707" y="108"/>
                    <a:pt x="746" y="92"/>
                  </a:cubicBezTo>
                  <a:cubicBezTo>
                    <a:pt x="785" y="76"/>
                    <a:pt x="815" y="69"/>
                    <a:pt x="850" y="60"/>
                  </a:cubicBezTo>
                  <a:cubicBezTo>
                    <a:pt x="885" y="51"/>
                    <a:pt x="921" y="45"/>
                    <a:pt x="954" y="36"/>
                  </a:cubicBezTo>
                  <a:cubicBezTo>
                    <a:pt x="987" y="27"/>
                    <a:pt x="1006" y="8"/>
                    <a:pt x="1050" y="4"/>
                  </a:cubicBezTo>
                  <a:cubicBezTo>
                    <a:pt x="1094" y="0"/>
                    <a:pt x="1158" y="3"/>
                    <a:pt x="1218" y="12"/>
                  </a:cubicBezTo>
                  <a:cubicBezTo>
                    <a:pt x="1278" y="21"/>
                    <a:pt x="1353" y="45"/>
                    <a:pt x="1410" y="60"/>
                  </a:cubicBezTo>
                  <a:cubicBezTo>
                    <a:pt x="1467" y="75"/>
                    <a:pt x="1507" y="83"/>
                    <a:pt x="1562" y="100"/>
                  </a:cubicBezTo>
                  <a:cubicBezTo>
                    <a:pt x="1617" y="117"/>
                    <a:pt x="1686" y="145"/>
                    <a:pt x="1738" y="164"/>
                  </a:cubicBezTo>
                  <a:cubicBezTo>
                    <a:pt x="1790" y="183"/>
                    <a:pt x="1832" y="197"/>
                    <a:pt x="1874" y="212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35640" y="3716280"/>
              <a:ext cx="295200" cy="1090800"/>
            </a:xfrm>
            <a:custGeom>
              <a:avLst/>
              <a:gdLst/>
              <a:ahLst/>
              <a:rect l="l" t="t" r="r" b="b"/>
              <a:pathLst>
                <a:path w="186" h="687">
                  <a:moveTo>
                    <a:pt x="0" y="687"/>
                  </a:moveTo>
                  <a:cubicBezTo>
                    <a:pt x="9" y="658"/>
                    <a:pt x="19" y="629"/>
                    <a:pt x="32" y="595"/>
                  </a:cubicBezTo>
                  <a:cubicBezTo>
                    <a:pt x="45" y="561"/>
                    <a:pt x="67" y="516"/>
                    <a:pt x="80" y="484"/>
                  </a:cubicBezTo>
                  <a:cubicBezTo>
                    <a:pt x="93" y="452"/>
                    <a:pt x="103" y="436"/>
                    <a:pt x="109" y="403"/>
                  </a:cubicBezTo>
                  <a:cubicBezTo>
                    <a:pt x="115" y="370"/>
                    <a:pt x="118" y="320"/>
                    <a:pt x="114" y="288"/>
                  </a:cubicBezTo>
                  <a:cubicBezTo>
                    <a:pt x="110" y="256"/>
                    <a:pt x="89" y="237"/>
                    <a:pt x="85" y="211"/>
                  </a:cubicBezTo>
                  <a:cubicBezTo>
                    <a:pt x="81" y="185"/>
                    <a:pt x="83" y="157"/>
                    <a:pt x="90" y="134"/>
                  </a:cubicBezTo>
                  <a:cubicBezTo>
                    <a:pt x="97" y="111"/>
                    <a:pt x="118" y="91"/>
                    <a:pt x="128" y="72"/>
                  </a:cubicBezTo>
                  <a:cubicBezTo>
                    <a:pt x="138" y="53"/>
                    <a:pt x="142" y="31"/>
                    <a:pt x="152" y="19"/>
                  </a:cubicBezTo>
                  <a:cubicBezTo>
                    <a:pt x="162" y="7"/>
                    <a:pt x="174" y="3"/>
                    <a:pt x="186" y="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47640" y="3224160"/>
              <a:ext cx="700200" cy="1006560"/>
            </a:xfrm>
            <a:custGeom>
              <a:avLst/>
              <a:gdLst/>
              <a:ahLst/>
              <a:rect l="l" t="t" r="r" b="b"/>
              <a:pathLst>
                <a:path w="441" h="634">
                  <a:moveTo>
                    <a:pt x="0" y="634"/>
                  </a:moveTo>
                  <a:cubicBezTo>
                    <a:pt x="31" y="608"/>
                    <a:pt x="62" y="582"/>
                    <a:pt x="77" y="548"/>
                  </a:cubicBezTo>
                  <a:cubicBezTo>
                    <a:pt x="92" y="514"/>
                    <a:pt x="86" y="467"/>
                    <a:pt x="89" y="432"/>
                  </a:cubicBezTo>
                  <a:cubicBezTo>
                    <a:pt x="92" y="397"/>
                    <a:pt x="86" y="367"/>
                    <a:pt x="97" y="340"/>
                  </a:cubicBezTo>
                  <a:cubicBezTo>
                    <a:pt x="108" y="313"/>
                    <a:pt x="124" y="287"/>
                    <a:pt x="153" y="268"/>
                  </a:cubicBezTo>
                  <a:cubicBezTo>
                    <a:pt x="182" y="249"/>
                    <a:pt x="240" y="251"/>
                    <a:pt x="273" y="228"/>
                  </a:cubicBezTo>
                  <a:cubicBezTo>
                    <a:pt x="306" y="205"/>
                    <a:pt x="327" y="165"/>
                    <a:pt x="349" y="132"/>
                  </a:cubicBezTo>
                  <a:cubicBezTo>
                    <a:pt x="371" y="99"/>
                    <a:pt x="390" y="54"/>
                    <a:pt x="405" y="32"/>
                  </a:cubicBezTo>
                  <a:cubicBezTo>
                    <a:pt x="420" y="10"/>
                    <a:pt x="430" y="5"/>
                    <a:pt x="441" y="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49640" y="3043080"/>
              <a:ext cx="3439800" cy="682920"/>
            </a:xfrm>
            <a:custGeom>
              <a:avLst/>
              <a:gdLst/>
              <a:ahLst/>
              <a:rect l="l" t="t" r="r" b="b"/>
              <a:pathLst>
                <a:path w="2167" h="430">
                  <a:moveTo>
                    <a:pt x="0" y="113"/>
                  </a:moveTo>
                  <a:cubicBezTo>
                    <a:pt x="8" y="108"/>
                    <a:pt x="17" y="104"/>
                    <a:pt x="43" y="98"/>
                  </a:cubicBezTo>
                  <a:cubicBezTo>
                    <a:pt x="69" y="92"/>
                    <a:pt x="116" y="83"/>
                    <a:pt x="155" y="74"/>
                  </a:cubicBezTo>
                  <a:cubicBezTo>
                    <a:pt x="194" y="65"/>
                    <a:pt x="233" y="52"/>
                    <a:pt x="275" y="42"/>
                  </a:cubicBezTo>
                  <a:cubicBezTo>
                    <a:pt x="317" y="32"/>
                    <a:pt x="360" y="21"/>
                    <a:pt x="407" y="14"/>
                  </a:cubicBezTo>
                  <a:cubicBezTo>
                    <a:pt x="454" y="7"/>
                    <a:pt x="510" y="4"/>
                    <a:pt x="555" y="2"/>
                  </a:cubicBezTo>
                  <a:cubicBezTo>
                    <a:pt x="600" y="0"/>
                    <a:pt x="628" y="1"/>
                    <a:pt x="675" y="2"/>
                  </a:cubicBezTo>
                  <a:cubicBezTo>
                    <a:pt x="722" y="3"/>
                    <a:pt x="789" y="3"/>
                    <a:pt x="835" y="6"/>
                  </a:cubicBezTo>
                  <a:cubicBezTo>
                    <a:pt x="881" y="9"/>
                    <a:pt x="913" y="15"/>
                    <a:pt x="951" y="22"/>
                  </a:cubicBezTo>
                  <a:cubicBezTo>
                    <a:pt x="989" y="29"/>
                    <a:pt x="1023" y="35"/>
                    <a:pt x="1063" y="46"/>
                  </a:cubicBezTo>
                  <a:cubicBezTo>
                    <a:pt x="1103" y="57"/>
                    <a:pt x="1152" y="71"/>
                    <a:pt x="1191" y="86"/>
                  </a:cubicBezTo>
                  <a:cubicBezTo>
                    <a:pt x="1230" y="101"/>
                    <a:pt x="1262" y="120"/>
                    <a:pt x="1299" y="138"/>
                  </a:cubicBezTo>
                  <a:cubicBezTo>
                    <a:pt x="1336" y="156"/>
                    <a:pt x="1373" y="175"/>
                    <a:pt x="1411" y="194"/>
                  </a:cubicBezTo>
                  <a:cubicBezTo>
                    <a:pt x="1449" y="213"/>
                    <a:pt x="1484" y="233"/>
                    <a:pt x="1527" y="254"/>
                  </a:cubicBezTo>
                  <a:cubicBezTo>
                    <a:pt x="1570" y="275"/>
                    <a:pt x="1616" y="297"/>
                    <a:pt x="1667" y="318"/>
                  </a:cubicBezTo>
                  <a:cubicBezTo>
                    <a:pt x="1718" y="339"/>
                    <a:pt x="1786" y="363"/>
                    <a:pt x="1835" y="378"/>
                  </a:cubicBezTo>
                  <a:cubicBezTo>
                    <a:pt x="1884" y="393"/>
                    <a:pt x="1920" y="402"/>
                    <a:pt x="1963" y="410"/>
                  </a:cubicBezTo>
                  <a:cubicBezTo>
                    <a:pt x="2006" y="418"/>
                    <a:pt x="2057" y="423"/>
                    <a:pt x="2091" y="426"/>
                  </a:cubicBezTo>
                  <a:cubicBezTo>
                    <a:pt x="2125" y="429"/>
                    <a:pt x="2146" y="429"/>
                    <a:pt x="2167" y="43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43000" y="2252520"/>
              <a:ext cx="1125360" cy="962280"/>
            </a:xfrm>
            <a:custGeom>
              <a:avLst/>
              <a:gdLst/>
              <a:ahLst/>
              <a:rect l="l" t="t" r="r" b="b"/>
              <a:pathLst>
                <a:path w="709" h="606">
                  <a:moveTo>
                    <a:pt x="28" y="21"/>
                  </a:moveTo>
                  <a:lnTo>
                    <a:pt x="12" y="0"/>
                  </a:lnTo>
                  <a:cubicBezTo>
                    <a:pt x="12" y="8"/>
                    <a:pt x="22" y="48"/>
                    <a:pt x="27" y="69"/>
                  </a:cubicBezTo>
                  <a:cubicBezTo>
                    <a:pt x="32" y="90"/>
                    <a:pt x="39" y="107"/>
                    <a:pt x="42" y="129"/>
                  </a:cubicBezTo>
                  <a:cubicBezTo>
                    <a:pt x="45" y="151"/>
                    <a:pt x="48" y="179"/>
                    <a:pt x="45" y="204"/>
                  </a:cubicBezTo>
                  <a:cubicBezTo>
                    <a:pt x="42" y="229"/>
                    <a:pt x="31" y="258"/>
                    <a:pt x="24" y="282"/>
                  </a:cubicBezTo>
                  <a:cubicBezTo>
                    <a:pt x="17" y="306"/>
                    <a:pt x="6" y="326"/>
                    <a:pt x="3" y="348"/>
                  </a:cubicBezTo>
                  <a:cubicBezTo>
                    <a:pt x="0" y="370"/>
                    <a:pt x="8" y="400"/>
                    <a:pt x="9" y="417"/>
                  </a:cubicBezTo>
                  <a:cubicBezTo>
                    <a:pt x="10" y="434"/>
                    <a:pt x="9" y="437"/>
                    <a:pt x="12" y="450"/>
                  </a:cubicBezTo>
                  <a:cubicBezTo>
                    <a:pt x="15" y="463"/>
                    <a:pt x="19" y="485"/>
                    <a:pt x="30" y="495"/>
                  </a:cubicBezTo>
                  <a:cubicBezTo>
                    <a:pt x="41" y="505"/>
                    <a:pt x="60" y="508"/>
                    <a:pt x="78" y="513"/>
                  </a:cubicBezTo>
                  <a:cubicBezTo>
                    <a:pt x="96" y="518"/>
                    <a:pt x="119" y="522"/>
                    <a:pt x="141" y="528"/>
                  </a:cubicBezTo>
                  <a:cubicBezTo>
                    <a:pt x="163" y="534"/>
                    <a:pt x="189" y="547"/>
                    <a:pt x="210" y="552"/>
                  </a:cubicBezTo>
                  <a:cubicBezTo>
                    <a:pt x="231" y="557"/>
                    <a:pt x="249" y="557"/>
                    <a:pt x="270" y="561"/>
                  </a:cubicBezTo>
                  <a:cubicBezTo>
                    <a:pt x="291" y="565"/>
                    <a:pt x="310" y="573"/>
                    <a:pt x="339" y="576"/>
                  </a:cubicBezTo>
                  <a:cubicBezTo>
                    <a:pt x="368" y="579"/>
                    <a:pt x="415" y="580"/>
                    <a:pt x="447" y="582"/>
                  </a:cubicBezTo>
                  <a:cubicBezTo>
                    <a:pt x="479" y="584"/>
                    <a:pt x="501" y="589"/>
                    <a:pt x="531" y="588"/>
                  </a:cubicBezTo>
                  <a:cubicBezTo>
                    <a:pt x="561" y="587"/>
                    <a:pt x="603" y="577"/>
                    <a:pt x="630" y="576"/>
                  </a:cubicBezTo>
                  <a:cubicBezTo>
                    <a:pt x="657" y="575"/>
                    <a:pt x="683" y="577"/>
                    <a:pt x="696" y="582"/>
                  </a:cubicBezTo>
                  <a:cubicBezTo>
                    <a:pt x="709" y="587"/>
                    <a:pt x="708" y="596"/>
                    <a:pt x="708" y="606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6200000">
              <a:off x="5364000" y="2795040"/>
              <a:ext cx="647640" cy="6264000"/>
            </a:xfrm>
            <a:custGeom>
              <a:avLst/>
              <a:gdLst>
                <a:gd name="textAreaLeft" fmla="*/ 414000 w 647640"/>
                <a:gd name="textAreaRight" fmla="*/ 648000 w 647640"/>
                <a:gd name="textAreaTop" fmla="*/ 163080 h 6264000"/>
                <a:gd name="textAreaBottom" fmla="*/ 6100920 h 62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32240" y="6257880"/>
              <a:ext cx="287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echo crítico (DAEE, 2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20588" t="33495" r="19857" b="15916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84840" y="142920"/>
            <a:ext cx="65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s de uso preponderantes para águas do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das pela Resolução CONAMA nº 357/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8506" t="52762" r="17775" b="26118"/>
          <a:stretch/>
        </p:blipFill>
        <p:spPr>
          <a:xfrm>
            <a:off x="0" y="1957320"/>
            <a:ext cx="9144000" cy="2695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8320" y="307800"/>
            <a:ext cx="7594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imites de concentração para alguns parâ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egundo a resolução CONAMA n.º 357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Arts. 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º ao 6º e 14 ao 2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5360" y="5229360"/>
            <a:ext cx="672624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DRÕES DE EFLUENTES (Art. 3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880" y="5735520"/>
            <a:ext cx="77778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dições para cada parâmetr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. do efluente ≤ Padrão de efluente (senão, fere Cona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zões indisponíveis ≤ Vazão do ri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senão, fere Enquadr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0680" y="620640"/>
            <a:ext cx="2820240" cy="2463120"/>
            <a:chOff x="40680" y="620640"/>
            <a:chExt cx="2820240" cy="2463120"/>
          </a:xfrm>
        </p:grpSpPr>
        <p:grpSp>
          <p:nvGrpSpPr>
            <p:cNvPr id="102" name=""/>
            <p:cNvGrpSpPr/>
            <p:nvPr/>
          </p:nvGrpSpPr>
          <p:grpSpPr>
            <a:xfrm>
              <a:off x="471240" y="620640"/>
              <a:ext cx="1871640" cy="1728720"/>
              <a:chOff x="471240" y="620640"/>
              <a:chExt cx="1871640" cy="1728720"/>
            </a:xfrm>
          </p:grpSpPr>
          <p:sp>
            <p:nvSpPr>
              <p:cNvPr id="103" name=""/>
              <p:cNvSpPr/>
              <p:nvPr/>
            </p:nvSpPr>
            <p:spPr>
              <a:xfrm>
                <a:off x="687240" y="765000"/>
                <a:ext cx="1512720" cy="1584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71240" y="620640"/>
                <a:ext cx="187164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687240" y="1989000"/>
              <a:ext cx="1512720" cy="360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680" y="2443320"/>
              <a:ext cx="28202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Vol. efluente (Qe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ncentração Efluente (Ce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4200" y="123840"/>
            <a:ext cx="7721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a vazão de diluição e da vazão indispon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8920" y="620640"/>
            <a:ext cx="5489640" cy="4483080"/>
            <a:chOff x="358920" y="620640"/>
            <a:chExt cx="5489640" cy="4483080"/>
          </a:xfrm>
        </p:grpSpPr>
        <p:grpSp>
          <p:nvGrpSpPr>
            <p:cNvPr id="109" name=""/>
            <p:cNvGrpSpPr/>
            <p:nvPr/>
          </p:nvGrpSpPr>
          <p:grpSpPr>
            <a:xfrm>
              <a:off x="2606760" y="620640"/>
              <a:ext cx="3241800" cy="2483640"/>
              <a:chOff x="2606760" y="620640"/>
              <a:chExt cx="3241800" cy="24836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3349440" y="620640"/>
                <a:ext cx="1871640" cy="1728720"/>
                <a:chOff x="3349440" y="620640"/>
                <a:chExt cx="1871640" cy="1728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565440" y="765000"/>
                  <a:ext cx="1512720" cy="15843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349440" y="620640"/>
                  <a:ext cx="1871640" cy="21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2606760" y="1135080"/>
                <a:ext cx="52812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65440" y="1484280"/>
                <a:ext cx="1512720" cy="8650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16080" y="2463840"/>
                <a:ext cx="28324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Times New Roman"/>
                  </a:rPr>
                  <a:t>Vol. Diluição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 (Qdi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Concentração Natural (Cnat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58920" y="3141720"/>
              <a:ext cx="3673440" cy="1962000"/>
              <a:chOff x="358920" y="3141720"/>
              <a:chExt cx="3673440" cy="1962000"/>
            </a:xfrm>
          </p:grpSpPr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358920" y="4365720"/>
                    <a:ext cx="3208320" cy="738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Qdi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e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ef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per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perm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nat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 flipH="1">
                <a:off x="2087640" y="3141720"/>
                <a:ext cx="1944720" cy="11160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4643280" y="620640"/>
            <a:ext cx="4512240" cy="5464080"/>
            <a:chOff x="4643280" y="620640"/>
            <a:chExt cx="4512240" cy="5464080"/>
          </a:xfrm>
        </p:grpSpPr>
        <p:grpSp>
          <p:nvGrpSpPr>
            <p:cNvPr id="120" name=""/>
            <p:cNvGrpSpPr/>
            <p:nvPr/>
          </p:nvGrpSpPr>
          <p:grpSpPr>
            <a:xfrm>
              <a:off x="5713560" y="620640"/>
              <a:ext cx="3441960" cy="2714400"/>
              <a:chOff x="5713560" y="620640"/>
              <a:chExt cx="3441960" cy="271440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6445080" y="620640"/>
                <a:ext cx="1871640" cy="1728720"/>
                <a:chOff x="6445080" y="620640"/>
                <a:chExt cx="1871640" cy="17287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661080" y="765000"/>
                  <a:ext cx="1512720" cy="15843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445080" y="620640"/>
                  <a:ext cx="1871640" cy="21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5713560" y="1120680"/>
                <a:ext cx="52812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59640" y="1063800"/>
                <a:ext cx="1512720" cy="128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54600" y="2451240"/>
                <a:ext cx="3400920" cy="88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Vol. Indisponível (Qindis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Times New Roman"/>
                  </a:rPr>
                  <a:t>Concentração permitid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 (Cper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nquadram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643280" y="3141720"/>
              <a:ext cx="3996000" cy="2943000"/>
              <a:chOff x="4643280" y="3141720"/>
              <a:chExt cx="3996000" cy="2943000"/>
            </a:xfrm>
          </p:grpSpPr>
          <mc:AlternateContent>
            <mc:Choice xmlns:a14="http://schemas.microsoft.com/office/drawing/2010/main" Requires="a14">
              <p:sp>
                <p:nvSpPr>
                  <p:cNvPr id="128" name=""/>
                  <p:cNvSpPr txBox="1"/>
                  <p:nvPr/>
                </p:nvSpPr>
                <p:spPr>
                  <a:xfrm>
                    <a:off x="4643280" y="5481720"/>
                    <a:ext cx="3996000" cy="60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Qindis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di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e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9" name=""/>
              <p:cNvSpPr/>
              <p:nvPr/>
            </p:nvSpPr>
            <p:spPr>
              <a:xfrm flipH="1">
                <a:off x="5651640" y="3141720"/>
                <a:ext cx="792000" cy="20160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 diversas equações para vários parâ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71600" y="2060640"/>
            <a:ext cx="4821120" cy="1223640"/>
            <a:chOff x="471600" y="2060640"/>
            <a:chExt cx="4821120" cy="1223640"/>
          </a:xfrm>
        </p:grpSpPr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969840" y="2376000"/>
                  <a:ext cx="4322880" cy="90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"/>
            <p:cNvSpPr/>
            <p:nvPr/>
          </p:nvSpPr>
          <p:spPr>
            <a:xfrm>
              <a:off x="471600" y="206064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6633"/>
                  </a:solidFill>
                  <a:latin typeface="Times New Roman"/>
                </a:rPr>
                <a:t>D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79640" y="3357720"/>
            <a:ext cx="8713080" cy="1371600"/>
            <a:chOff x="179640" y="3357720"/>
            <a:chExt cx="8713080" cy="1371600"/>
          </a:xfrm>
        </p:grpSpPr>
        <p:sp>
          <p:nvSpPr>
            <p:cNvPr id="136" name=""/>
            <p:cNvSpPr/>
            <p:nvPr/>
          </p:nvSpPr>
          <p:spPr>
            <a:xfrm>
              <a:off x="179640" y="335772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emperatu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655920" y="3891240"/>
                  <a:ext cx="82368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perm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ma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r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empo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ma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man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ma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8" name=""/>
          <p:cNvGrpSpPr/>
          <p:nvPr/>
        </p:nvGrpSpPr>
        <p:grpSpPr>
          <a:xfrm>
            <a:off x="322200" y="4984920"/>
            <a:ext cx="7103880" cy="1828440"/>
            <a:chOff x="322200" y="4984920"/>
            <a:chExt cx="7103880" cy="1828440"/>
          </a:xfrm>
        </p:grpSpPr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1726200" y="5763240"/>
                  <a:ext cx="5699880" cy="105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322200" y="498492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arâmetros conserv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26200" y="952560"/>
            <a:ext cx="64821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 (Vazão indisponí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145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657600" y="2871000"/>
            <a:ext cx="5063760" cy="3529800"/>
            <a:chOff x="3657600" y="2871000"/>
            <a:chExt cx="5063760" cy="3529800"/>
          </a:xfrm>
        </p:grpSpPr>
        <p:grpSp>
          <p:nvGrpSpPr>
            <p:cNvPr id="152" name=""/>
            <p:cNvGrpSpPr/>
            <p:nvPr/>
          </p:nvGrpSpPr>
          <p:grpSpPr>
            <a:xfrm>
              <a:off x="3657600" y="3352680"/>
              <a:ext cx="3165480" cy="2051280"/>
              <a:chOff x="3657600" y="3352680"/>
              <a:chExt cx="3165480" cy="2051280"/>
            </a:xfrm>
          </p:grpSpPr>
          <p:sp>
            <p:nvSpPr>
              <p:cNvPr id="153" name=""/>
              <p:cNvSpPr/>
              <p:nvPr/>
            </p:nvSpPr>
            <p:spPr>
              <a:xfrm>
                <a:off x="3657600" y="3352680"/>
                <a:ext cx="3165480" cy="205128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3938400" y="3733920"/>
                <a:ext cx="239148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3657600" y="2871000"/>
              <a:ext cx="5063760" cy="3529800"/>
              <a:chOff x="3657600" y="2871000"/>
              <a:chExt cx="5063760" cy="3529800"/>
            </a:xfrm>
          </p:grpSpPr>
          <p:sp>
            <p:nvSpPr>
              <p:cNvPr id="156" name=""/>
              <p:cNvSpPr/>
              <p:nvPr/>
            </p:nvSpPr>
            <p:spPr>
              <a:xfrm>
                <a:off x="3657600" y="365760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52160" y="342900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15480" y="541008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59680" y="3733920"/>
                <a:ext cx="1899000" cy="99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556600" y="4343400"/>
                <a:ext cx="3164760" cy="205092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5837760" y="4724280"/>
                <a:ext cx="239148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38400" y="4191120"/>
                <a:ext cx="1899000" cy="99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7103520" y="3123720"/>
                <a:ext cx="1265760" cy="68580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610400">
                <a:off x="7350120" y="3048120"/>
                <a:ext cx="895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lux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2448720" y="4563720"/>
            <a:ext cx="2218320" cy="1860120"/>
            <a:chOff x="2448720" y="4563720"/>
            <a:chExt cx="2218320" cy="1860120"/>
          </a:xfrm>
        </p:grpSpPr>
        <p:sp>
          <p:nvSpPr>
            <p:cNvPr id="166" name="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811400">
              <a:off x="2380680" y="5130360"/>
              <a:ext cx="2353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47200" y="4655880"/>
            <a:ext cx="2667240" cy="1744920"/>
            <a:chOff x="547200" y="4655880"/>
            <a:chExt cx="2667240" cy="1744920"/>
          </a:xfrm>
        </p:grpSpPr>
        <p:sp>
          <p:nvSpPr>
            <p:cNvPr id="169" name="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456800">
              <a:off x="500040" y="5207040"/>
              <a:ext cx="276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7520" y="1638360"/>
            <a:ext cx="1718280" cy="1181160"/>
            <a:chOff x="47520" y="1638360"/>
            <a:chExt cx="1718280" cy="1181160"/>
          </a:xfrm>
        </p:grpSpPr>
        <p:sp>
          <p:nvSpPr>
            <p:cNvPr id="172" name="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0 w 1546920"/>
                <a:gd name="textAreaRight" fmla="*/ 1547280 w 1546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440" y="1638360"/>
              <a:ext cx="1692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789280" y="2438280"/>
            <a:ext cx="6298560" cy="1284480"/>
            <a:chOff x="2789280" y="2438280"/>
            <a:chExt cx="6298560" cy="1284480"/>
          </a:xfrm>
        </p:grpSpPr>
        <p:sp>
          <p:nvSpPr>
            <p:cNvPr id="175" name=""/>
            <p:cNvSpPr/>
            <p:nvPr/>
          </p:nvSpPr>
          <p:spPr>
            <a:xfrm>
              <a:off x="2789280" y="2884320"/>
              <a:ext cx="60948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80200" y="2438280"/>
              <a:ext cx="460764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azão indisponível com a concentração máxima 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asse de enquadramento ou do pacto de ba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grpSp>
          <p:nvGrpSpPr>
            <p:cNvPr id="179" name=""/>
            <p:cNvGrpSpPr/>
            <p:nvPr/>
          </p:nvGrpSpPr>
          <p:grpSpPr>
            <a:xfrm>
              <a:off x="297000" y="2209680"/>
              <a:ext cx="4627440" cy="2051280"/>
              <a:chOff x="297000" y="2209680"/>
              <a:chExt cx="4627440" cy="2051280"/>
            </a:xfrm>
          </p:grpSpPr>
          <p:sp>
            <p:nvSpPr>
              <p:cNvPr id="180" name=""/>
              <p:cNvSpPr/>
              <p:nvPr/>
            </p:nvSpPr>
            <p:spPr>
              <a:xfrm>
                <a:off x="297000" y="2209680"/>
                <a:ext cx="4627440" cy="205128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8600" y="2808360"/>
                <a:ext cx="3306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103480" y="2519280"/>
              <a:ext cx="1803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zão de refer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19:21:17Z</dcterms:created>
  <dc:creator>LUCIANO</dc:creator>
  <dc:description/>
  <dc:language>en-US</dc:language>
  <cp:lastModifiedBy>RESIDENCIAL</cp:lastModifiedBy>
  <dcterms:modified xsi:type="dcterms:W3CDTF">2005-11-06T23:47:03Z</dcterms:modified>
  <cp:revision>268</cp:revision>
  <dc:subject/>
  <dc:title>Slide 1</dc:title>
</cp:coreProperties>
</file>