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774-2EB8-48A5-B21E-437570B1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B52-B494-415F-9672-14E2B57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954-30AF-438A-98F6-4E585098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44A-847F-4679-89A0-86B3FD06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40E6-E054-4B88-A050-7DE6ED9F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A93C-569F-4E9E-B7EF-6867705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175E-A420-452C-AB03-C8354DA0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B252-3E21-4E41-884C-9FB2593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E40-8D5D-4BF8-891E-6DDEF8F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63B4-067C-4994-8A65-B5F5D9E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6B30-CF15-4D80-8BA1-78CD854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A91-4993-4BD9-975B-245B3A4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DC3-01A9-4ACB-9E4C-9301AC6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96E-D3EA-4990-8F22-CB70B417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959-8B97-4CA7-B29D-A7389FE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E6B9-DFEF-4290-BEF1-E6F77249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4779-1134-42EE-B44C-F9890B17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17D-627B-4653-BC78-CD11035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472-3B44-40FD-9BB9-4D9A5BB1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17A-1297-4F45-8DDD-9A089382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408-97CD-40E2-84DA-A275B817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AA0-52A8-42B9-A484-9D20BB4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ED5-4279-4721-8716-4112833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F1A-5E62-45A5-A7F7-B0254C5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2EF5-6013-43C1-A97F-75A4C924427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FCF-DF67-4F4B-ADA6-66722084CA6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38080" y="3276720"/>
            <a:ext cx="7239240" cy="1523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 PESQUISA E LAV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DE ÁGUAS MINERAIS E POTÁVEIS DE M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Times New Roman"/>
              </a:rPr>
              <a:t>ROTEIRO DE PROCED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7880" y="55054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anuel Teixeira de Queir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67652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“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ão encontrei o mundo deserto quando vim a ele : meus pais plantaram para mim antes que eu nascesse. Eu plantarei para os que vierem depois de mim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(Talmu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480" y="48006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OBRIG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2840" y="590544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manuel@dnpm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352680"/>
            <a:ext cx="7772400" cy="3124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Pesquisa e Lavra de  Água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pesquisa e lavra de água mineral e potável de mes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umo humano, bem como destinada a fins balneári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r-se-ão pelos Regimes de Autorização de Pesquisa 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cessão de Lavra, conforme previstos no Códig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eração, bem como  no Código de Águas Minera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ectivos regulamentos e legislações correla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lement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Códigos de Mineração, de Águas Minerais e Legislação Correlat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00200"/>
            <a:ext cx="876312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.1.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querimento de Autorização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Apresentação ao DNPM d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Requerimento para Auto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 Pesquisa Mineral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no qual se exig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Formulário Padronizado de Requerim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2 - Plano de Pesquisa (Manual do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3 - Planta de Localização da Área Pretendida (50 hectar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Manual de Procedimento e Formulário de Autorização -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4920" y="49528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equer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Indeferim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Exigência /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Alvará de Pesqui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80880" y="609480"/>
            <a:ext cx="8382240" cy="5105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Trabalhos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1 - Estudos Técnicos para o Relatório Final de Pesqui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 - Estud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n loc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1 - Análise Química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2 - Análise Química dos Gases espontân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3 - Análise Bacteri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4 - Determinação da Água ao Emerg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5 - Determinação da Temper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6 - Determinação da Vaz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7 - Dosagem de Elementos Químicos Alteráve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rasil1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526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 - Estudo da Área de Proteção da Fo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1 - Caracterização Hidrológica e Cli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2 - Características Hidroge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3 - Características Hidroquí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4 - Caracterização do Uso do Solo e das Águ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ontes atuais  e potenciais de polui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5 - Análise das Possibilidades de ontami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as Fontes e Grau de Vulner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6 - Definição das Áreas de Proteção da Fon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Relatório Final de Pesquisa e do Estudo da Área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F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1 - Não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2 - Exigência/Aprovação (Classificação da Á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 Análise Técnica do Estudo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.2 - Exigência/Aprovação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rasil1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304920" y="380880"/>
            <a:ext cx="838188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ao DNPM do Plano de Aproveitamento Econ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mico (PAE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), no qual se exig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Projeto Técnico e Industrial - Plano de Explo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Estudo de viabilidade econômica do empreendimen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Mapas e Plantas das edificações e das instalações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ptação e de envas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PAE, precedida de vistoria </a:t>
            </a: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in lo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Exigênc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Portaria de Lavra), com poligonal da Área de Prot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brasil1" descr=""/>
          <p:cNvPicPr/>
          <p:nvPr/>
        </p:nvPicPr>
        <p:blipFill>
          <a:blip r:embed="rId6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85800"/>
            <a:ext cx="8001000" cy="6094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Modelo de Rótul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(Port. 470/99 do 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 Resolução 54 da ANVS/M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Modelo de Ró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1 - Exig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Rótulo Aprovad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r análise bacteriológica para iniciar o proces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envasamen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I - FASE DA FISCALIZAÇÃO DA LAVR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Códigos de Mineração e de Águas Minerais e 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rrelata no âmbito do MME e do 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600200"/>
          <a:ext cx="815364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5364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685800"/>
            <a:ext cx="9144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ncessões de Lav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Água Mineral e Água Potável de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90720" y="2517840"/>
          <a:ext cx="7010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7010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60948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ffffff"/>
                </a:solidFill>
                <a:uFillTx/>
                <a:latin typeface="Times New Roman"/>
              </a:rPr>
              <a:t>Classificação Segundo o Código de Águas Minera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m - potável de mesa; fl – fluoretada; rd – radioativa; tm – termal; Ab – alcalino-bicarbonatada; at – alcalino-terrosa; cg – carbogasosa; Gf – gasosa-ferruginosa-magnesiana-alcalina; sf – sulfurosa; Bs – bicarbonatada sullfurosa; lt – litinada; sft - sulfata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20:26:40Z</dcterms:created>
  <dc:creator>DNPM</dc:creator>
  <dc:description/>
  <dc:language>en-US</dc:language>
  <cp:lastModifiedBy>emanuel.queiroz</cp:lastModifiedBy>
  <cp:lastPrinted>2000-05-18T15:13:56Z</cp:lastPrinted>
  <dcterms:modified xsi:type="dcterms:W3CDTF">2005-10-24T10:39:48Z</dcterms:modified>
  <cp:revision>302</cp:revision>
  <dc:subject/>
  <dc:title>Normas Regulamentares de Mineração</dc:title>
</cp:coreProperties>
</file>