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F3F-0E5D-4C06-83AB-555E175F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D1C-53E5-4808-88F2-C756DB68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00E-3B4F-4D5F-B87A-99FE4AB2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6C2-5502-4312-874B-AB40D98C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F69-5622-4CC6-89DD-ACA76A50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5CA-6F22-44A3-9473-247D315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C39-44A9-4619-B024-31D76C61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27C-D39B-4DE1-BCE1-416B5952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3F9-C30E-4C43-B94C-2FE1C4F4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488-43C5-4929-8C57-A06BCA6E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411-C3D9-40D2-9F9C-306386E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B68-4E77-4329-A197-9C2ECC60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CD17-F6FA-4D8E-83CB-3EDEBD6064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61048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 Black"/>
              </a:rPr>
              <a:t>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Giuseppe Vincenzo De Lor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Coordenador-Geral de Capacitação e Desenvolvimento Tecn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Departamento de Geologia e Produção Mi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Secretaria de Geologia, Mineração e Transformação Mi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Ministério de Minas e Ene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Esplanada dos Ministérios - Bloco U - 4° a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CEP 70.065-900 - Brasília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Telefone (61) 3319.5547 - Fax (61) 3319.59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giuseppe.delorenzo@mme.gov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04920"/>
            <a:ext cx="807696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ITUIÇÃO FEDERAL DE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0 - São bens da Uni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IX - os recursos minerais, inclusive os do sub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1 - Compete à Uni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XXV - estabelecer as áreas e as condições para o exercício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da atividade de garimpagem, em forma associ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2 - Compete privativamente à União legislar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XII - jazidas, minas, outros recursos minerais e metalu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Lei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8.176 1991 – Lei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imes con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ordem econô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stitui crime contra o patrimônio, na modalidade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usurpac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, produzir bens ou explorar matéria-prima pertencentes à União, sem autorização legal ou em desacordo com as obrigações impostas pelo título autorizativ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ena detenção, de um a cinco anos e mul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04920"/>
            <a:ext cx="85345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to-le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27 / 1967 - Código de Min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gul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os direitos sobre as massas individualizadas de substâncias minerais ou fósseis, encontradas na superfície ou no interior da terra formando os recursos minerais do País; o regime de seu aproveitamento; e a fiscalização, pelo Governo Federal, da pesquisa, da lavra e de outros aspectos da industria mi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ete a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Departamento Nacional de Produção Mineral – DNP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a execução do Código de Mineração e dos diplomas leg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Autorização: Alvará de Pesquis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Concessão: Portaria de Lav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Licenciamento: Registro de Licenç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Permissão: Permissão de Lavra Garimp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Extração: Registro de Ext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Monopolização: em virtude de lei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280"/>
            <a:ext cx="868680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ITUIÇÃO FEDERAL DE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termina a obrigatoriedade para aquele que explorar recursos minerais, de recuperar o meio ambiente degradado, de acordo com a solução técnica exigida pelo órgão público competente, na forma da l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I 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º 6.938 / 1981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Dispõe sobre a Política Nacional do Me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Estabelece que 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recuperação de áreas degrad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é um d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princípios da Política Nacional do Meio Ambiente, que visam assegurar condições ao desenvolvimento socioeconômico, aos interesses da segurança nacional e à proteção da dignidade da vida hu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97.632 / 198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s empreendimentos que se destinam à exploração de recursos minerais deverão, quando da apresentação do Estudo de Impacto Ambiental - EIA e do Relatório do Impacto Ambiental - RIMA, submeter à aprovação do órgão ambiental competente, plano de recuperação de área degradad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PR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0"/>
            <a:ext cx="876312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i n° 10.165 / 2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ltera a Lei n° 6.938 / 1981 que dispõe sobre a Política Nacional do Meio Ambiente e define as atividades potencialmente poluidoras e utilizadoras de recursos ambien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SOLUÇÃO CONAMA nº 237 /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stão sujeitos ao licenciamento ambient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Extração e tratamento de mine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pesquisa mineral com guia de util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a céu aberto, inclusive de aluvião, com ou sem benefi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subterrânea com ou sem benefi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garimp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perfuração de poços e produção de petróleo 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dústria de produtos minerais não metál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beneficiamento de minerais não metálicos, não associados à ext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 licença ambiental para empreendimentos e atividades consideradas efetiva ou potencialmente causadoras de significativa degradação do meio dependerá de prévio estudo de impacto ambiental e respectivo relatório d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mpacto sobre o meio ambiente (EIA/RIM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 órgão ambiental competente, verificando que a atividade ou empreendimento não é potencialmente causador de significativa degradação do meio ambiente, definirá os estudos ambientais pertinentes ao respectivo processo de licen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LEI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9.605 / 1998 – Lei de Crimes Ambi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Executar pesquisa, lavra ou extração de recursos minerais sem a competente autorização, permissão, concessão ou licença, ou em desacordo com a obti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       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Pena - detenção, de seis meses a um ano, e mul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as mesmas penas incorre quem deixa de recuperar a área pesquisada ou explorada, nos termos da autorização, permissão, licença, concessão ou determinação do órgão compet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Construir, reformar, ampliar, instalar ou fazer funcionar, em qualquer parte do território nacional, estabelecimentos, obras ou serviços potencialmente poluidores, sem licença ou autorização dos órgãos ambientais competentes, ou contrariando as normas legais e regulamentares pertin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       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Pena - detenção, de um a seis meses, ou multa, ou ambas as penas cumula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2280"/>
            <a:ext cx="8305560" cy="63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i n° 9.314 /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vogou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s classes do Código de Mineração que defini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s jazidas miner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 - jazidas de substâncias, minerais metalífera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I - jazidas de substâncias minerais de emprego imediato na construção civil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s calcários empregados como corretivos de solo (Regime de Licenciamento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II - jazidas de fertilizant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V - jazidas de combustíveis fósseis sólid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 - jazidas de rochas betuminosas e pirobetuminosa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 - jazidas de gemas e pedras ornamentai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I - jazidas de minerais industriais, não incluídas nas classes precedent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II - jazidas de águas minerai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X - jazidas de águas subterrân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 aproveitamento de bens minerais da antiga classe II é pelo regime de licenciamento, enquanto das demais jazidas (antigas classes I, III, IV, V, VI, VII e VIII, exceto a IX) pelo regime de autorização e de concessão. A antiga classe IX, atualmente, é regida pela gestão dos recursos hídricos, através de outorga do uso das ág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lassificação acima não abrangia as jazidas de combustíveis líquidos, gases naturais e jazidas de substâncias minerais de uso na energia nuclear (Monopólio Estat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ão considerados minerais garimpáveis o ouro, o diamante, a cassiterita, a columbita, a tantalita e wolframita, nas formas aluvionar, eluvionar e coluvial; a sheelita, as demais gemas, o rutilo, o quartzo, o berilo, a muscovita, o espodumênio, a lepidolita, o feldspato, a mica e outros, em tipos de ocorrência que vierem a ser indicados, a critério do DNPM (Lei n° 7.805/1989 – Permissão de Lavra Garimpei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0:01:08Z</dcterms:created>
  <dc:creator>Giuseppe.DeLorenzo</dc:creator>
  <dc:description/>
  <dc:language>en-US</dc:language>
  <cp:lastModifiedBy>PedroElcio</cp:lastModifiedBy>
  <dcterms:modified xsi:type="dcterms:W3CDTF">2005-09-19T14:29:26Z</dcterms:modified>
  <cp:revision>10</cp:revision>
  <dc:subject/>
  <dc:title>Apresentação do PowerPoint</dc:title>
</cp:coreProperties>
</file>