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540-5856-4E46-8F15-55CBD183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0BC-FC77-4FA4-BAEF-474C6ADA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46F-75A4-48B9-A770-870F5E5F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10C-22A2-4ED1-9E86-36141B6E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81D7-13DF-452C-9643-44318BA8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1F2-89AE-470C-BB79-B1F4742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6E9-7EF7-4EFF-9216-A8CC19B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1DEE-C92D-42CD-9520-970FEC36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E015-4B20-4137-A640-469D5A71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820C-A5C5-4102-9961-BBEE4324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954C-4F69-4A11-92CD-6A9156A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02E-7355-45A5-A00D-2B70D4B9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9EFA-1922-4508-9347-6246548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976-5423-45AB-BA94-D8102746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794F-ED83-4B5E-89A3-8F34EF14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E198-EFE0-4773-AFF4-759D1716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40FA-9AC1-43C3-BC9D-B36DAD94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2AC-B3DC-4C09-A0EE-B1B3088A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282-6551-438A-AD22-D6328402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788-F87F-42A2-81EE-0E684FB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44C-76D8-4272-AAEB-3DB2CDFD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4DC-B82D-4880-A853-1E86B13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0F1-2FC1-4AE0-9591-A8135A8A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570-8F5F-4A7F-BB6A-4958F26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2F0F-C830-47FB-832E-2CAFCA404B8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EFC2-854F-4FB7-B6CE-F450AA75F89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38080" y="3276720"/>
            <a:ext cx="7239240" cy="1523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A PESQUISA E LAV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DE ÁGUAS MINERAIS E POTÁVEIS DE M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ff"/>
                </a:solidFill>
                <a:latin typeface="Times New Roman"/>
              </a:rPr>
              <a:t>ROTEIRO DE PROCEDI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7880" y="55054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anuel Teixeira de Queir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N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67652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“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Não encontrei o mundo deserto quando vim a ele : meus pais plantaram para mim antes que eu nascesse. Eu plantarei para os que vierem depois de mim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(Talmu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480" y="48006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OBRIG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2840" y="590544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manuel@dnpm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352680"/>
            <a:ext cx="7772400" cy="3124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Pesquisa e Lavra de  Água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pesquisa e lavra de água mineral e potável de mes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umo humano, bem como destinada a fins balneári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r-se-ão pelos Regimes de Autorização de Pesquisa e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cessão de Lavra, conforme previstos no Códig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eração, bem como  no Código de Águas Minerai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ectivos regulamentos e legislações correla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plement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Códigos de Mineração, de Águas Minerais e Legislação Correlat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00200"/>
            <a:ext cx="876312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.1.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querimento de Autorização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Apresentação ao DNPM d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Requerimento para Auto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 Pesquisa Mineral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no qual se exig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Formulário Padronizado de Requerime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2 - Plano de Pesquisa (Manual do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3 - Planta de Localização da Área Pretendida (50 hectar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Manual de Procedimento e Formulário de Autorização -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4920" y="49528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equer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Indeferim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Exigência /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Alvará de Pesqui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80880" y="609480"/>
            <a:ext cx="8382240" cy="5105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Trabalhos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1 - Estudos Técnicos para o Relatório Final de Pesqui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 - Estudo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in loc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1 - Análise Química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2 - Análise Química dos Gases espontân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3 - Análise Bacteri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4 - Determinação da Água ao Emerg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5 - Determinação da Tempera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6 - Determinação da Vaz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7 - Dosagem de Elementos Químicos Alteráve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rasil1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526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 - Estudo da Área de Proteção da Fo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1 - Caracterização Hidrológica e Cli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2 - Características Hidroge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3 - Características Hidroquí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4 - Caracterização do Uso do Solo e das Águ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ontes atuais  e potenciais de polui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5 - Análise das Possibilidades de ontamin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as Fontes e Grau de Vulner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6 - Definição das Áreas de Proteção da Fon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Relatório Final de Pesquisa e do Estudo da Área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F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1 - Não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2 - Exigência/Aprovação (Classificação da Á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 Análise Técnica do Estudo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.2 - Exigência/Aprovação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rasil1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304920" y="380880"/>
            <a:ext cx="838188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ao DNPM do Plano de Aproveitamento Econ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mico (PAE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), no qual se exig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Projeto Técnico e Industrial - Plano de Explo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Estudo de viabilidade econômica do empreendimen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Mapas e Plantas das edificações e das instalações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ptação e de envas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PAE, precedida de vistoria </a:t>
            </a:r>
            <a:r>
              <a:rPr b="1" i="1" lang="pt-BR" sz="2400" spc="-1" strike="noStrike">
                <a:solidFill>
                  <a:srgbClr val="00ffcc"/>
                </a:solidFill>
                <a:latin typeface="Times New Roman"/>
              </a:rPr>
              <a:t>in lo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Exigênc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Portaria de Lavra), com poligonal da Área de Prot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brasil1" descr=""/>
          <p:cNvPicPr/>
          <p:nvPr/>
        </p:nvPicPr>
        <p:blipFill>
          <a:blip r:embed="rId6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85800"/>
            <a:ext cx="8001000" cy="6094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Modelo de Rótul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(Port. 470/99 do 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 Resolução 54 da ANVS/M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Modelo de Ró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1 - Exig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Rótulo Aprovad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r análise bacteriológica para iniciar o proces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envasamen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I - FASE DA FISCALIZAÇÃO DA LAVR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Códigos de Mineração e de Águas Minerais e 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rrelata no âmbito do MME e do 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600200"/>
          <a:ext cx="815364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5364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685800"/>
            <a:ext cx="9144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ncessões de Lav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Água Mineral e Água Potável de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90720" y="2517840"/>
          <a:ext cx="70102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70102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609480"/>
            <a:ext cx="914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ffffff"/>
                </a:solidFill>
                <a:uFillTx/>
                <a:latin typeface="Times New Roman"/>
              </a:rPr>
              <a:t>Classificação Segundo o Código de Águas Minera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m - potável de mesa; fl – fluoretada; rd – radioativa; tm – termal; Ab – alcalino-bicarbonatada; at – alcalino-terrosa; cg – carbogasosa; Gf – gasosa-ferruginosa-magnesiana-alcalina; sf – sulfurosa; Bs – bicarbonatada sullfurosa; lt – litinada; sft - sulfatad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20:26:40Z</dcterms:created>
  <dc:creator>DNPM</dc:creator>
  <dc:description/>
  <dc:language>en-US</dc:language>
  <cp:lastModifiedBy>emanuel.queiroz</cp:lastModifiedBy>
  <cp:lastPrinted>2000-05-18T15:13:56Z</cp:lastPrinted>
  <dcterms:modified xsi:type="dcterms:W3CDTF">2005-10-24T10:39:48Z</dcterms:modified>
  <cp:revision>302</cp:revision>
  <dc:subject/>
  <dc:title>Normas Regulamentares de Mineração</dc:title>
</cp:coreProperties>
</file>