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907588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0D6B-40CA-46E0-81D0-DA26BFF5B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45BE-91B3-4356-9BC5-4293E932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71C1-9D06-4ECE-8F67-72ED9B40E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F280-B74C-4E8B-8932-4A8B4456C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D6CF-EF6F-40EE-BAFF-BFC8B7FC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DADF-C462-4568-A3B3-1421F89C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70F7-0022-4FB0-A9D4-A9BDB243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6FE9-7E75-4113-8EB8-E68E19E4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AA13-0F58-4DCD-A9B7-BF8586F6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05F3-338D-4371-8655-E8E3E1B6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8834-4964-4419-9672-8350B4F8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8902-9BF7-4645-8B02-C358228E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FCCA-CA40-4389-9352-2FD9F66B1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152280"/>
          <a:ext cx="4952880" cy="13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52280"/>
                    <a:ext cx="495288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04920" y="4191120"/>
            <a:ext cx="944856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Altamirano Vaz Lordêllo Ne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Eng.º Agr.º MSc. Coordenador Técnico de Controle e Avali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GEREST/SRH-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email: alordelo@srh.ba.gov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Tel: (71) 370-6207/32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276640"/>
            <a:ext cx="929664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orga de Água, Alvará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squisa e Lavra de Água Mi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spectos Legais e Procedimentos no Estado da Bah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685800"/>
            <a:ext cx="914400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tór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5800" y="1557360"/>
            <a:ext cx="906804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imeira outorga de direito de uso - 539,5 m³/dia em maio de 199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xigência para Concessão de Licença de Localiz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mitida pelo órgão ambiental – Centro de Recursos Ambientais - C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utorgante – Superintendência de Recursos Hídricos – SR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utorgado – Indústria e Comércio de Águas Minerais  Lt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 Legal – Legislação de Recursos Hídr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85800"/>
            <a:ext cx="914400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371600"/>
            <a:ext cx="868680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i Estadual 6.855 de 12 de maio de 19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õe sobre a Política, o Gerenciamento e o Plano Estadual de Recursos Hídricos e dá outras providências (Anterior a lei federal 9.433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t. 20 - A concessão  d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cença de Localizaçã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ara empreendimentos que demandem a utilização de recursos hídricos, dependerá da prévia obtenção da respectiva outorga do direito de u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52280"/>
            <a:ext cx="8610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lvl="1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 Legal – Legislação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5800" y="1341360"/>
            <a:ext cx="861084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8000" indent="-378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i Estadual 7.799 de 07 de fevereiro de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itui a Política Estadual de Administração de Recursos Ambientais e dá outras providê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reto Estadual Nº 7.967 de 05 de  junho de 2001 (Regulamenta a Lei 7.799)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ção VIII - Procedimentos Para Emissão de Autorização ou Licença Ambienta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692280"/>
            <a:ext cx="876312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creto 7.967 - Seção VIII, Continu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371600"/>
            <a:ext cx="868680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t. 181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ção dos processos de autorização ou de licenciamento ambiental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§ 1o - O CRA exigirá, no que couber, dentre outros documentos e informações: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II - Outorga de uso da água expedida pelo órgão competente;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II - Alvará de pesquisa mineral expedido pelo DNPM;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304920"/>
            <a:ext cx="906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imentos Para Exploração de Água Mineral – Bah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57200" y="1600200"/>
            <a:ext cx="8534520" cy="4284720"/>
            <a:chOff x="457200" y="1600200"/>
            <a:chExt cx="8534520" cy="4284720"/>
          </a:xfrm>
        </p:grpSpPr>
        <p:sp>
          <p:nvSpPr>
            <p:cNvPr id="60" name=""/>
            <p:cNvSpPr/>
            <p:nvPr/>
          </p:nvSpPr>
          <p:spPr>
            <a:xfrm>
              <a:off x="457200" y="2552760"/>
              <a:ext cx="1828800" cy="118836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mpresário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19520" y="3505320"/>
              <a:ext cx="2057400" cy="76212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Outorga de Uso da Águ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43200" y="2057400"/>
              <a:ext cx="2438280" cy="76212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Alvará de pesquisa mineral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1600200"/>
              <a:ext cx="1155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3300"/>
                  </a:solidFill>
                  <a:latin typeface="Arial"/>
                </a:rPr>
                <a:t>DNP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72520" y="3048120"/>
              <a:ext cx="1008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3300"/>
                  </a:solidFill>
                  <a:latin typeface="Arial"/>
                </a:rPr>
                <a:t>SRH*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324480" y="1676520"/>
              <a:ext cx="8985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3300"/>
                  </a:solidFill>
                  <a:latin typeface="Arial"/>
                </a:rPr>
                <a:t>CR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19920" y="2133720"/>
              <a:ext cx="2286000" cy="85572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icença de Localização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60" idx="3"/>
              <a:endCxn id="62" idx="1"/>
            </p:cNvCxnSpPr>
            <p:nvPr/>
          </p:nvCxnSpPr>
          <p:spPr>
            <a:xfrm flipV="1">
              <a:off x="2297160" y="2448720"/>
              <a:ext cx="435600" cy="694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" name=""/>
            <p:cNvCxnSpPr>
              <a:stCxn id="60" idx="3"/>
              <a:endCxn id="61" idx="1"/>
            </p:cNvCxnSpPr>
            <p:nvPr/>
          </p:nvCxnSpPr>
          <p:spPr>
            <a:xfrm>
              <a:off x="2297160" y="3142800"/>
              <a:ext cx="511920" cy="75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" name=""/>
            <p:cNvCxnSpPr>
              <a:stCxn id="60" idx="3"/>
              <a:endCxn id="62" idx="1"/>
            </p:cNvCxnSpPr>
            <p:nvPr/>
          </p:nvCxnSpPr>
          <p:spPr>
            <a:xfrm flipV="1">
              <a:off x="2297160" y="2448720"/>
              <a:ext cx="435600" cy="694440"/>
            </a:xfrm>
            <a:prstGeom prst="straightConnector1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0" idx="3"/>
              <a:endCxn id="61" idx="1"/>
            </p:cNvCxnSpPr>
            <p:nvPr/>
          </p:nvCxnSpPr>
          <p:spPr>
            <a:xfrm>
              <a:off x="2297160" y="3142800"/>
              <a:ext cx="511920" cy="754920"/>
            </a:xfrm>
            <a:prstGeom prst="straightConnector1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</p:cxnSp>
        <p:sp>
          <p:nvSpPr>
            <p:cNvPr id="71" name=""/>
            <p:cNvSpPr/>
            <p:nvPr/>
          </p:nvSpPr>
          <p:spPr>
            <a:xfrm>
              <a:off x="5334120" y="5410080"/>
              <a:ext cx="3657600" cy="47484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icença de Implantação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61" idx="3"/>
              <a:endCxn id="66" idx="1"/>
            </p:cNvCxnSpPr>
            <p:nvPr/>
          </p:nvCxnSpPr>
          <p:spPr>
            <a:xfrm flipV="1">
              <a:off x="4887720" y="2571480"/>
              <a:ext cx="1121400" cy="1326240"/>
            </a:xfrm>
            <a:prstGeom prst="straightConnector1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</p:cxnSp>
        <p:cxnSp>
          <p:nvCxnSpPr>
            <p:cNvPr id="73" name=""/>
            <p:cNvCxnSpPr>
              <a:stCxn id="62" idx="3"/>
              <a:endCxn id="66" idx="1"/>
            </p:cNvCxnSpPr>
            <p:nvPr/>
          </p:nvCxnSpPr>
          <p:spPr>
            <a:xfrm>
              <a:off x="5192280" y="2449440"/>
              <a:ext cx="816840" cy="123120"/>
            </a:xfrm>
            <a:prstGeom prst="straightConnector1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562720" y="3771720"/>
              <a:ext cx="3200400" cy="47484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Portaria de Lavr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638680" y="3314520"/>
              <a:ext cx="1155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3300"/>
                  </a:solidFill>
                  <a:latin typeface="Arial"/>
                </a:rPr>
                <a:t>DNP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66" idx="2"/>
              <a:endCxn id="74" idx="0"/>
            </p:cNvCxnSpPr>
            <p:nvPr/>
          </p:nvCxnSpPr>
          <p:spPr>
            <a:xfrm>
              <a:off x="7162560" y="3021120"/>
              <a:ext cx="1080" cy="740160"/>
            </a:xfrm>
            <a:prstGeom prst="straightConnector1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5638680" y="4952880"/>
              <a:ext cx="8985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3300"/>
                  </a:solidFill>
                  <a:latin typeface="Arial"/>
                </a:rPr>
                <a:t>CR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4" idx="2"/>
              <a:endCxn id="71" idx="0"/>
            </p:cNvCxnSpPr>
            <p:nvPr/>
          </p:nvCxnSpPr>
          <p:spPr>
            <a:xfrm>
              <a:off x="7162560" y="4277880"/>
              <a:ext cx="1080" cy="1121400"/>
            </a:xfrm>
            <a:prstGeom prst="straightConnector1">
              <a:avLst/>
            </a:prstGeom>
            <a:ln w="38160">
              <a:solidFill>
                <a:srgbClr val="990000"/>
              </a:solidFill>
              <a:miter/>
              <a:tailEnd len="med" type="triangle" w="med"/>
            </a:ln>
          </p:spPr>
        </p:cxnSp>
      </p:grpSp>
      <p:sp>
        <p:nvSpPr>
          <p:cNvPr id="79" name=""/>
          <p:cNvSpPr/>
          <p:nvPr/>
        </p:nvSpPr>
        <p:spPr>
          <a:xfrm>
            <a:off x="457200" y="57913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* Detalhado a seg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000160" y="1890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sso Para Outorga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85800"/>
            <a:ext cx="914400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15800" y="1468440"/>
            <a:ext cx="9145440" cy="4629240"/>
            <a:chOff x="415800" y="1468440"/>
            <a:chExt cx="9145440" cy="4629240"/>
          </a:xfrm>
        </p:grpSpPr>
        <p:sp>
          <p:nvSpPr>
            <p:cNvPr id="83" name=""/>
            <p:cNvSpPr/>
            <p:nvPr/>
          </p:nvSpPr>
          <p:spPr>
            <a:xfrm>
              <a:off x="415800" y="1468440"/>
              <a:ext cx="199008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TRADA: PROTOCOL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830320" y="1468440"/>
              <a:ext cx="343404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BERTURA DA FOLHA DE ACOMPANHAM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85560" y="1468440"/>
              <a:ext cx="287568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TOR JURÍDICO: PARECER JURÍD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64360" y="2560680"/>
              <a:ext cx="285228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TOR GEOLÓGICO: PARECER TECN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178080" y="2560680"/>
              <a:ext cx="241596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REST: PARECER FI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58080" y="2560680"/>
              <a:ext cx="191556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GES: AVALI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53920" y="3652920"/>
              <a:ext cx="182556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CON: COBRANÇ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2585520" y="2924280"/>
              <a:ext cx="57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2880" y="3652920"/>
              <a:ext cx="211572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RTARIA DE OUTORG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09960" y="3652920"/>
              <a:ext cx="370080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REST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RREÇÃO DA PORTA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17840" y="4745160"/>
              <a:ext cx="180864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UTA DA PORTA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12720" y="1832040"/>
              <a:ext cx="41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68960" y="4016520"/>
              <a:ext cx="45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96360" y="4705200"/>
              <a:ext cx="335088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GES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RREÇÃO DA MINU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858080" y="4287960"/>
              <a:ext cx="0" cy="41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280" y="4705200"/>
              <a:ext cx="202608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.G.: PUBLIC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48760" y="5729400"/>
              <a:ext cx="1901880" cy="3682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CHA FI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655000" y="5049720"/>
              <a:ext cx="45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80200" y="5729400"/>
              <a:ext cx="1498320" cy="3682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PR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5593680" y="2924280"/>
              <a:ext cx="64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67800" y="32367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03680" y="5345280"/>
              <a:ext cx="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64360" y="1832040"/>
              <a:ext cx="36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10760" y="4016520"/>
              <a:ext cx="41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473160" y="5049720"/>
              <a:ext cx="50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78000" y="5970600"/>
              <a:ext cx="45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72880" y="476280"/>
            <a:ext cx="84204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tras Outorgas Conced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8880" y="1197000"/>
            <a:ext cx="80773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utorgante – Superintendência de Recursos Hídricos – SR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utorgado –Água Mineral Salvador Ltda – 172,8 m³/dia em outubro de 199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utorgado – Milfontes Águas Minerais e Bebidas Ltda - 192 m³/dia em junho de 200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utorgado – Água Mineral Vida Ltda  - 180 m³/dia em abril de 200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72880" y="260280"/>
            <a:ext cx="9112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RMA TÉCNICA NT - 004/02 CEP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62120"/>
            <a:ext cx="914400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8880" y="1268280"/>
            <a:ext cx="83822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rt. 4º - Para o requerimento da Renovação da Licença de Operação - RLO, faz-se necessária a apresentação dos seguintes documentos, no que couber, junto ao Centro de Recursos Ambientais - CRA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X - Outorga do Direito de Uso da Água para Mananciais Superficiais ou Subterrâneos concedida pelo competente órgão gestor dos recursos hídricos;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15:12:39Z</dcterms:created>
  <dc:creator>rbomfim</dc:creator>
  <dc:description/>
  <dc:language>en-US</dc:language>
  <cp:lastModifiedBy>alordelo</cp:lastModifiedBy>
  <dcterms:modified xsi:type="dcterms:W3CDTF">2004-08-10T22:56:09Z</dcterms:modified>
  <cp:revision>304</cp:revision>
  <dc:subject/>
  <dc:title>Apresentação do PowerPoint</dc:title>
</cp:coreProperties>
</file>