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18B-F8BA-4723-B925-C996E2B1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AFE-DADD-46FA-9D88-4B78E4AB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39C-6B54-4E2A-9F89-C3068CA3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FE9-A281-4A9B-A51E-FEAB0346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E9A-4A7A-44FD-BA62-C28D0361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A28-4661-41E6-B98F-5A218A44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C38-21A1-44D2-B3A2-D51EDBD5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796-E5B8-4EF8-A180-48EB09AC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71F-4ACB-4191-AED2-528C798C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449-76BB-4C6D-A1F7-DFCB6424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B34-63A3-4F69-B69B-6CBD0700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8F4-5BAB-462D-BCE6-7ED2B790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0AA3-1CBC-4281-ADB4-8F0BAF9ADF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nanci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4343400" y="6095880"/>
          <a:ext cx="19288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6095880"/>
                    <a:ext cx="1928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4038480" y="655308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SÃO DE AÇÕES SOBRE O MEIO AMB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2971800" y="5867280"/>
          <a:ext cx="9493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867280"/>
                    <a:ext cx="949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nanc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4495680"/>
            <a:ext cx="8534160" cy="68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44º Reuniã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Câmara Técnica de Integração de Procedimentos, Ações de Outorga e Ações Regulador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Conselho Nacional de Recursos Hídr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67680" y="5257800"/>
            <a:ext cx="22320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asília, 8 de agosto d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905120"/>
            <a:ext cx="81532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Resolução Conjunta SES/SMA/SRHS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ccff"/>
                </a:solidFill>
                <a:latin typeface="Arial Black"/>
              </a:rPr>
              <a:t>Integrando Políticas Públicas de Saúde, Meio Ambiente e Recursos Hídric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5029200"/>
            <a:ext cx="8077320" cy="685800"/>
          </a:xfrm>
          <a:prstGeom prst="rightArrow">
            <a:avLst>
              <a:gd name="adj1" fmla="val 50000"/>
              <a:gd name="adj2" fmla="val 294449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6480" y="5181480"/>
            <a:ext cx="68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MOÇÃO                             PROTEÇÃO                             RECUP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0880" y="1295280"/>
            <a:ext cx="2133720" cy="3652200"/>
            <a:chOff x="380880" y="1295280"/>
            <a:chExt cx="2133720" cy="3652200"/>
          </a:xfrm>
        </p:grpSpPr>
        <p:sp>
          <p:nvSpPr>
            <p:cNvPr id="102" name=""/>
            <p:cNvSpPr/>
            <p:nvPr/>
          </p:nvSpPr>
          <p:spPr>
            <a:xfrm>
              <a:off x="457200" y="1295280"/>
              <a:ext cx="1676520" cy="1143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0880" y="1523880"/>
              <a:ext cx="19051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TÉRIA PR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2569680"/>
              <a:ext cx="2133720" cy="2377800"/>
            </a:xfrm>
            <a:prstGeom prst="upArrowCallout">
              <a:avLst>
                <a:gd name="adj1" fmla="val 26790"/>
                <a:gd name="adj2" fmla="val 20833"/>
                <a:gd name="adj3" fmla="val 26941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USO E OCUPAÇÃO DO S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QUALIDADE DAS ÁGU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RELAÇÃO DISPONIBILIDADE/DEM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514600" y="1295280"/>
            <a:ext cx="2286000" cy="3522960"/>
            <a:chOff x="2514600" y="1295280"/>
            <a:chExt cx="2286000" cy="3522960"/>
          </a:xfrm>
        </p:grpSpPr>
        <p:sp>
          <p:nvSpPr>
            <p:cNvPr id="106" name=""/>
            <p:cNvSpPr/>
            <p:nvPr/>
          </p:nvSpPr>
          <p:spPr>
            <a:xfrm>
              <a:off x="2514600" y="1295280"/>
              <a:ext cx="1752480" cy="12193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8320" y="1752480"/>
              <a:ext cx="16225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2759400"/>
              <a:ext cx="2133720" cy="2058840"/>
            </a:xfrm>
            <a:prstGeom prst="upArrowCallout">
              <a:avLst>
                <a:gd name="adj1" fmla="val 27764"/>
                <a:gd name="adj2" fmla="val 21591"/>
                <a:gd name="adj3" fmla="val 24176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CAPT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ADU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TRAT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RESERV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DISTRIBUI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708440" y="1371600"/>
            <a:ext cx="2378160" cy="3547440"/>
            <a:chOff x="4708440" y="1371600"/>
            <a:chExt cx="2378160" cy="3547440"/>
          </a:xfrm>
        </p:grpSpPr>
        <p:sp>
          <p:nvSpPr>
            <p:cNvPr id="110" name=""/>
            <p:cNvSpPr/>
            <p:nvPr/>
          </p:nvSpPr>
          <p:spPr>
            <a:xfrm>
              <a:off x="4800600" y="1371600"/>
              <a:ext cx="1676520" cy="1143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8440" y="1752480"/>
              <a:ext cx="20732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D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2722320"/>
              <a:ext cx="2133720" cy="2196720"/>
            </a:xfrm>
            <a:prstGeom prst="upArrowCallout">
              <a:avLst>
                <a:gd name="adj1" fmla="val 26790"/>
                <a:gd name="adj2" fmla="val 20833"/>
                <a:gd name="adj3" fmla="val 24890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PADRÕES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POTABIL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58000" y="1371600"/>
            <a:ext cx="2286000" cy="3372840"/>
            <a:chOff x="6858000" y="1371600"/>
            <a:chExt cx="2286000" cy="3372840"/>
          </a:xfrm>
        </p:grpSpPr>
        <p:sp>
          <p:nvSpPr>
            <p:cNvPr id="114" name=""/>
            <p:cNvSpPr/>
            <p:nvPr/>
          </p:nvSpPr>
          <p:spPr>
            <a:xfrm>
              <a:off x="7010280" y="1371600"/>
              <a:ext cx="1676520" cy="12193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1768320"/>
              <a:ext cx="22860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IMPA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5200" y="2685240"/>
              <a:ext cx="1676520" cy="2059200"/>
            </a:xfrm>
            <a:prstGeom prst="upArrowCallout">
              <a:avLst>
                <a:gd name="adj1" fmla="val 26790"/>
                <a:gd name="adj2" fmla="val 20833"/>
                <a:gd name="adj3" fmla="val 29694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OENÇAS DE TRANSMISSÃO HÍDR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743280" y="152280"/>
            <a:ext cx="4719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Vigilância da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724280" y="3352680"/>
            <a:ext cx="2514600" cy="2286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276720"/>
            <a:ext cx="1981440" cy="22860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28600"/>
            <a:ext cx="3124440" cy="21337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76320"/>
            <a:ext cx="3124080" cy="21333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1981080"/>
            <a:ext cx="3124080" cy="19051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44920" y="2362320"/>
            <a:ext cx="24728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ÁGU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55200" y="914400"/>
            <a:ext cx="22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SISTEMA Ú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3480" y="593640"/>
            <a:ext cx="289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SISTEMA INTE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GERANCI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8862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ÍNT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80988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FATOR DETER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 CONDICIO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DA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828200">
            <a:off x="1143000" y="243792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472400">
            <a:off x="5943240" y="2438280"/>
            <a:ext cx="685800" cy="990720"/>
          </a:xfrm>
          <a:custGeom>
            <a:avLst/>
            <a:gdLst>
              <a:gd name="textAreaLeft" fmla="*/ 91800 w 685800"/>
              <a:gd name="textAreaRight" fmla="*/ 594000 w 6858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14600" y="293760"/>
            <a:ext cx="38862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677800">
            <a:off x="1904760" y="445680"/>
            <a:ext cx="2133360" cy="39625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2971800"/>
            <a:ext cx="5022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STEMA ÚN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 SAÚ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055520"/>
            <a:ext cx="502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STEMA INTEGRADO DE GERENCIAMENTO DE R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16480" y="76320"/>
            <a:ext cx="3006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PRINCÍP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8160" y="2198520"/>
            <a:ext cx="3321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SCENTR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- PARTICIP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- INTEG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8840" y="3581280"/>
            <a:ext cx="578916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ARTICIP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 COMUN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SCENTRALIZ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LÍTICO-ADIMINIST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GIONALIZ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 HIERARQU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UNIVERSALID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 A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EGRALIC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 ASSIST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GUALD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 ASSIST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1127160"/>
            <a:ext cx="792468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A relação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disponibilidade/demand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iciona e determina o processo saúde/doenç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Sem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acesso à águ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ão há saú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A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qualidade dos recursos hídrico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é imprescindível para a manutenção da saú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A qualidade da água de um manancial é determinada pela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organização territori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pelo uso e ocupação do solo na ba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O acesso à água depende fundamentalmente do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uso 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os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 Comitês de Bacia Hidrográfica são importantes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fóruns para a promoção da saú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477120" y="0"/>
          <a:ext cx="236196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0"/>
                    <a:ext cx="23619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14360" y="76320"/>
            <a:ext cx="7143840" cy="576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ÁREAS CONTAM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NOS 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HO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OLV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DOMÍNIO BARÃO DE MAU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HELL PAULÍ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ANTO ANTÔNIO DE P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ANTA GERTR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BAU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HELL VILA CARI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D. MORADA DOS PRÍNCIPES-CAMP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AF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AVELA PARAGU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RAFARD (RODHIA), CERQUILHO (FERROBAN) SÃO PAULO (CROMO DURO) COTIA (DELPHI), PORTO FELIZ (USA)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01040" y="1523880"/>
            <a:ext cx="1770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assi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1371600"/>
            <a:ext cx="28954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 Black"/>
              </a:rPr>
              <a:t>Tendência à proliferação indiscriminada de poços e de empresas de transporte de á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2520" y="3962520"/>
            <a:ext cx="4056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Risco à saúde no consu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 água provenient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qüíferos conta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27760" y="380880"/>
            <a:ext cx="2463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O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1371600"/>
            <a:ext cx="70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Arial Black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3200400"/>
            <a:ext cx="9144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927760" y="380880"/>
            <a:ext cx="2463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O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02720" y="1628640"/>
            <a:ext cx="2937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diversos poç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362320"/>
            <a:ext cx="7543800" cy="100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...</a:t>
            </a: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de diversos estabelecimentos</a:t>
            </a: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Shoppings, condomínios residenciais, hospitais, clínicas médicas, residências, conjuntos comerciais, industrias etc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3733920"/>
            <a:ext cx="7086600" cy="14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...</a:t>
            </a: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com diversas substâncias perigosas à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Tetracloroeteno, clorofórmio, benzeno, cromo, bário, cloreto de vinila, drins, arsênio. mercúrio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09640" y="380880"/>
            <a:ext cx="2855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A consta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1600200"/>
            <a:ext cx="571500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ecessidade de estabelecer mecanismos integrado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revenção de riscos à saúde pública no consumo de água subterrânea, particularmente em áreas contaminadas ou próximas a fontes com potencial de contaminação do s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437880" y="380880"/>
            <a:ext cx="183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As 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316400" y="1523880"/>
            <a:ext cx="4545360" cy="825480"/>
            <a:chOff x="4316400" y="1523880"/>
            <a:chExt cx="4545360" cy="825480"/>
          </a:xfrm>
        </p:grpSpPr>
        <p:sp>
          <p:nvSpPr>
            <p:cNvPr id="158" name=""/>
            <p:cNvSpPr/>
            <p:nvPr/>
          </p:nvSpPr>
          <p:spPr>
            <a:xfrm>
              <a:off x="6393600" y="1523880"/>
              <a:ext cx="246816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Reuniã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SES/SMA/SER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16400" y="1600200"/>
              <a:ext cx="171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abril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493000" y="2514600"/>
            <a:ext cx="6270120" cy="1557000"/>
            <a:chOff x="2493000" y="2514600"/>
            <a:chExt cx="6270120" cy="1557000"/>
          </a:xfrm>
        </p:grpSpPr>
        <p:sp>
          <p:nvSpPr>
            <p:cNvPr id="161" name=""/>
            <p:cNvSpPr/>
            <p:nvPr/>
          </p:nvSpPr>
          <p:spPr>
            <a:xfrm>
              <a:off x="4343400" y="2514600"/>
              <a:ext cx="441972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Resolução Conju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SES/SMA/SERHS nº 01/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Grupo de Trabalh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Interinstitu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93000" y="2590920"/>
              <a:ext cx="2107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outubro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73200" y="4191120"/>
            <a:ext cx="6961320" cy="1601280"/>
            <a:chOff x="1573200" y="4191120"/>
            <a:chExt cx="6961320" cy="1601280"/>
          </a:xfrm>
        </p:grpSpPr>
        <p:sp>
          <p:nvSpPr>
            <p:cNvPr id="164" name=""/>
            <p:cNvSpPr/>
            <p:nvPr/>
          </p:nvSpPr>
          <p:spPr>
            <a:xfrm>
              <a:off x="3048120" y="4267080"/>
              <a:ext cx="5486400" cy="1525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Minuta de Resolução Conju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Dispõe sobre </a:t>
              </a:r>
              <a:r>
                <a:rPr b="0" lang="en-US" sz="1400" spc="-1" strike="noStrike">
                  <a:solidFill>
                    <a:srgbClr val="66ccff"/>
                  </a:solidFill>
                  <a:latin typeface="Arial Black"/>
                </a:rPr>
                <a:t>procedimentos integrados para controle e vigilância de soluções alternativas</a:t>
              </a: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 coletivas de abastecimento de água para consumo humano proveniente de mananciais subterrâneo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73200" y="4191120"/>
              <a:ext cx="171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abril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779800" y="237960"/>
            <a:ext cx="2559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Arcabouço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65440"/>
            <a:ext cx="750708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Resolução Conjunta SES/SMA nº01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Define procedimentos comuns entre as Secretarias de Saúde e Meio Ambiente para A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1295280"/>
            <a:ext cx="4689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Lei Estadual 7.663/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Política Estadu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68280" y="762120"/>
            <a:ext cx="72662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Lei Estadual nº6.134/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Preservação dos depósitos naturais de 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511360"/>
            <a:ext cx="679752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Portaria Federal nº518/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Controle e Vigilância da qualidade da água para consumo humano e seu padrão de po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00280" y="3213000"/>
            <a:ext cx="67579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Deliberação CRH nº 052/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Diretrizes de procedimentos para definição de áreas de restrição e controle da captação e uso das 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91120" y="838080"/>
            <a:ext cx="4572000" cy="317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rt. 313 e 3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 “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s matas existentes nas cabeceiras [dos mananciais] deverão ser conservadas do melhor modo possív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Deverão ser absolutamente proibidas habitações acima das represas e tomadas d’água”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Código Sanitário Estadual de 18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00400" y="380880"/>
            <a:ext cx="5425920" cy="387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Decreto Estadual nº32.995/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DAEE/SER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ntrole e fiscalização da ex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CETESB/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ntrole da polu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CVS/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Fiscalização das águas subterrâneas destinadas ao 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14600" y="228600"/>
            <a:ext cx="5867280" cy="174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inuta de Resolução Conjunta SES/SMA/SER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 Black"/>
              </a:rPr>
              <a:t>Dispõe sobre procedimentos integrados para controle e vigilância de soluções alternativas coletivas de abastecimento de água para consumo humano proveniente de mananciais subterrâne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47600" y="1676520"/>
            <a:ext cx="26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de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4760" y="2247840"/>
            <a:ext cx="5497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Histórico de uso e ocupação d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705040"/>
            <a:ext cx="496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Necessidade do controle operacional das SA por parte d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1680" y="3803760"/>
            <a:ext cx="5740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Necessidade do aprimoramento, compatibilização e integração dos procedimentos técnicos e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66680" y="1600200"/>
            <a:ext cx="3200400" cy="1219320"/>
            <a:chOff x="1066680" y="1600200"/>
            <a:chExt cx="3200400" cy="1219320"/>
          </a:xfrm>
        </p:grpSpPr>
        <p:sp>
          <p:nvSpPr>
            <p:cNvPr id="181" name=""/>
            <p:cNvSpPr/>
            <p:nvPr/>
          </p:nvSpPr>
          <p:spPr>
            <a:xfrm>
              <a:off x="1676520" y="1600200"/>
              <a:ext cx="2590560" cy="1219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1676520"/>
              <a:ext cx="30178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de Autorização de Implantação do Empreend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81200" y="2696760"/>
            <a:ext cx="5648400" cy="1875240"/>
            <a:chOff x="2581200" y="2696760"/>
            <a:chExt cx="5648400" cy="1875240"/>
          </a:xfrm>
        </p:grpSpPr>
        <p:grpSp>
          <p:nvGrpSpPr>
            <p:cNvPr id="184" name=""/>
            <p:cNvGrpSpPr/>
            <p:nvPr/>
          </p:nvGrpSpPr>
          <p:grpSpPr>
            <a:xfrm>
              <a:off x="3200400" y="3352680"/>
              <a:ext cx="5029200" cy="1219320"/>
              <a:chOff x="3200400" y="3352680"/>
              <a:chExt cx="5029200" cy="1219320"/>
            </a:xfrm>
          </p:grpSpPr>
          <p:sp>
            <p:nvSpPr>
              <p:cNvPr id="185" name=""/>
              <p:cNvSpPr/>
              <p:nvPr/>
            </p:nvSpPr>
            <p:spPr>
              <a:xfrm>
                <a:off x="3581280" y="3352680"/>
                <a:ext cx="4648320" cy="1219320"/>
              </a:xfrm>
              <a:prstGeom prst="ellips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00400" y="3352680"/>
                <a:ext cx="4597560" cy="1008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Fontes pontuais:  CETES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Áreas de Restrição e controle: CR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Uso e ocupação do solo: municípi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4696800">
              <a:off x="2160360" y="3290760"/>
              <a:ext cx="1523880" cy="380880"/>
            </a:xfrm>
            <a:custGeom>
              <a:avLst/>
              <a:gdLst>
                <a:gd name="textAreaLeft" fmla="*/ 266400 w 1523880"/>
                <a:gd name="textAreaRight" fmla="*/ 1104840 w 15238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13720" y="1595880"/>
            <a:ext cx="4039560" cy="1375920"/>
            <a:chOff x="4113720" y="1595880"/>
            <a:chExt cx="4039560" cy="1375920"/>
          </a:xfrm>
        </p:grpSpPr>
        <p:grpSp>
          <p:nvGrpSpPr>
            <p:cNvPr id="189" name=""/>
            <p:cNvGrpSpPr/>
            <p:nvPr/>
          </p:nvGrpSpPr>
          <p:grpSpPr>
            <a:xfrm>
              <a:off x="5867280" y="1828800"/>
              <a:ext cx="2286000" cy="1143000"/>
              <a:chOff x="5867280" y="1828800"/>
              <a:chExt cx="2286000" cy="1143000"/>
            </a:xfrm>
          </p:grpSpPr>
          <p:sp>
            <p:nvSpPr>
              <p:cNvPr id="190" name=""/>
              <p:cNvSpPr/>
              <p:nvPr/>
            </p:nvSpPr>
            <p:spPr>
              <a:xfrm>
                <a:off x="5867280" y="1905120"/>
                <a:ext cx="2286000" cy="1066680"/>
              </a:xfrm>
              <a:prstGeom prst="ellips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43600" y="1828800"/>
                <a:ext cx="1874880" cy="1008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Mapa d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localização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raio de 500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V="1" rot="21585600">
              <a:off x="4114440" y="1599480"/>
              <a:ext cx="1940040" cy="512640"/>
            </a:xfrm>
            <a:custGeom>
              <a:avLst/>
              <a:gdLst>
                <a:gd name="textAreaLeft" fmla="*/ 339480 w 1940040"/>
                <a:gd name="textAreaRight" fmla="*/ 1406520 w 1940040"/>
                <a:gd name="textAreaTop" fmla="*/ 68400 h 512640"/>
                <a:gd name="textAreaBottom" fmla="*/ 44424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1676520"/>
            <a:ext cx="3276720" cy="1066680"/>
            <a:chOff x="1066680" y="1676520"/>
            <a:chExt cx="3276720" cy="1066680"/>
          </a:xfrm>
        </p:grpSpPr>
        <p:sp>
          <p:nvSpPr>
            <p:cNvPr id="196" name=""/>
            <p:cNvSpPr/>
            <p:nvPr/>
          </p:nvSpPr>
          <p:spPr>
            <a:xfrm>
              <a:off x="1447920" y="1676520"/>
              <a:ext cx="2895480" cy="10666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1676520"/>
              <a:ext cx="30178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licença de  execução do poç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57600" y="1523880"/>
            <a:ext cx="3855960" cy="1676520"/>
            <a:chOff x="3657600" y="1523880"/>
            <a:chExt cx="3855960" cy="1676520"/>
          </a:xfrm>
        </p:grpSpPr>
        <p:sp>
          <p:nvSpPr>
            <p:cNvPr id="199" name=""/>
            <p:cNvSpPr/>
            <p:nvPr/>
          </p:nvSpPr>
          <p:spPr>
            <a:xfrm>
              <a:off x="5105520" y="1523880"/>
              <a:ext cx="2361960" cy="16765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95680" y="1752480"/>
              <a:ext cx="30178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Exigências DA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Portaria DAEE nº 717/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2590920"/>
              <a:ext cx="2590920" cy="609480"/>
            </a:xfrm>
            <a:custGeom>
              <a:avLst/>
              <a:gdLst>
                <a:gd name="textAreaLeft" fmla="*/ 453240 w 2590920"/>
                <a:gd name="textAreaRight" fmla="*/ 1878480 w 259092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14400" y="2133720"/>
            <a:ext cx="3276720" cy="990360"/>
            <a:chOff x="914400" y="2133720"/>
            <a:chExt cx="3276720" cy="990360"/>
          </a:xfrm>
        </p:grpSpPr>
        <p:sp>
          <p:nvSpPr>
            <p:cNvPr id="205" name=""/>
            <p:cNvSpPr/>
            <p:nvPr/>
          </p:nvSpPr>
          <p:spPr>
            <a:xfrm>
              <a:off x="2438280" y="2133720"/>
              <a:ext cx="1752840" cy="99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4400" y="2209680"/>
              <a:ext cx="30178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Direi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U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602440" y="3012480"/>
            <a:ext cx="4509720" cy="1976040"/>
            <a:chOff x="2602440" y="3012480"/>
            <a:chExt cx="4509720" cy="1976040"/>
          </a:xfrm>
        </p:grpSpPr>
        <p:sp>
          <p:nvSpPr>
            <p:cNvPr id="208" name=""/>
            <p:cNvSpPr/>
            <p:nvPr/>
          </p:nvSpPr>
          <p:spPr>
            <a:xfrm>
              <a:off x="4191120" y="3581280"/>
              <a:ext cx="2895480" cy="9907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2520" y="3657600"/>
              <a:ext cx="314964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Laudos Analític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Portaria MS 518/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3648000">
              <a:off x="2552400" y="3543120"/>
              <a:ext cx="1752840" cy="914400"/>
            </a:xfrm>
            <a:custGeom>
              <a:avLst/>
              <a:gdLst>
                <a:gd name="textAreaLeft" fmla="*/ 306720 w 1752840"/>
                <a:gd name="textAreaRight" fmla="*/ 1270800 w 175284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50400" y="1357560"/>
            <a:ext cx="4473000" cy="1614240"/>
            <a:chOff x="3650400" y="1357560"/>
            <a:chExt cx="4473000" cy="1614240"/>
          </a:xfrm>
        </p:grpSpPr>
        <p:sp>
          <p:nvSpPr>
            <p:cNvPr id="212" name=""/>
            <p:cNvSpPr/>
            <p:nvPr/>
          </p:nvSpPr>
          <p:spPr>
            <a:xfrm>
              <a:off x="5105520" y="1981080"/>
              <a:ext cx="2895480" cy="9907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2057400"/>
              <a:ext cx="31705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Cadastro de VISA:  Resolução SS-65/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rot="10744800">
              <a:off x="3657240" y="1371600"/>
              <a:ext cx="1752480" cy="914400"/>
            </a:xfrm>
            <a:custGeom>
              <a:avLst/>
              <a:gdLst>
                <a:gd name="textAreaLeft" fmla="*/ 306720 w 1752480"/>
                <a:gd name="textAreaRight" fmla="*/ 1270800 w 17524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523880" y="1676520"/>
            <a:ext cx="2895840" cy="1371600"/>
            <a:chOff x="1523880" y="1676520"/>
            <a:chExt cx="2895840" cy="1371600"/>
          </a:xfrm>
        </p:grpSpPr>
        <p:sp>
          <p:nvSpPr>
            <p:cNvPr id="218" name=""/>
            <p:cNvSpPr/>
            <p:nvPr/>
          </p:nvSpPr>
          <p:spPr>
            <a:xfrm>
              <a:off x="1905120" y="1752480"/>
              <a:ext cx="2514600" cy="1295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3880" y="1676520"/>
              <a:ext cx="25606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Renovação de Outorga de Direito de U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711240" y="1139040"/>
            <a:ext cx="4564440" cy="2033280"/>
            <a:chOff x="3711240" y="1139040"/>
            <a:chExt cx="4564440" cy="2033280"/>
          </a:xfrm>
        </p:grpSpPr>
        <p:sp>
          <p:nvSpPr>
            <p:cNvPr id="221" name=""/>
            <p:cNvSpPr/>
            <p:nvPr/>
          </p:nvSpPr>
          <p:spPr>
            <a:xfrm>
              <a:off x="5181480" y="1981080"/>
              <a:ext cx="2971800" cy="114300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57800" y="1981080"/>
              <a:ext cx="30178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Laudos Analíticos: Portaria MS 518/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421200">
              <a:off x="3733920" y="1295280"/>
              <a:ext cx="2590560" cy="533520"/>
            </a:xfrm>
            <a:custGeom>
              <a:avLst/>
              <a:gdLst>
                <a:gd name="textAreaLeft" fmla="*/ 453240 w 2590560"/>
                <a:gd name="textAreaRight" fmla="*/ 1878120 w 259056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799720" y="2882880"/>
            <a:ext cx="5124960" cy="2310120"/>
            <a:chOff x="2799720" y="2882880"/>
            <a:chExt cx="5124960" cy="2310120"/>
          </a:xfrm>
        </p:grpSpPr>
        <p:sp>
          <p:nvSpPr>
            <p:cNvPr id="225" name=""/>
            <p:cNvSpPr/>
            <p:nvPr/>
          </p:nvSpPr>
          <p:spPr>
            <a:xfrm>
              <a:off x="4724280" y="3657600"/>
              <a:ext cx="3200400" cy="12193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3657600"/>
              <a:ext cx="34542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avaliação do uso e ocupação do solo (500 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2952600">
              <a:off x="2552400" y="3770640"/>
              <a:ext cx="2590920" cy="533520"/>
            </a:xfrm>
            <a:custGeom>
              <a:avLst/>
              <a:gdLst>
                <a:gd name="textAreaLeft" fmla="*/ 453240 w 2590920"/>
                <a:gd name="textAreaRight" fmla="*/ 1878480 w 259092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66960" y="762120"/>
            <a:ext cx="466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Monitoramento VI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5120" y="2971800"/>
            <a:ext cx="3047760" cy="2286000"/>
            <a:chOff x="1905120" y="2971800"/>
            <a:chExt cx="3047760" cy="2286000"/>
          </a:xfrm>
        </p:grpSpPr>
        <p:sp>
          <p:nvSpPr>
            <p:cNvPr id="231" name=""/>
            <p:cNvSpPr/>
            <p:nvPr/>
          </p:nvSpPr>
          <p:spPr>
            <a:xfrm>
              <a:off x="2286000" y="2971800"/>
              <a:ext cx="2666880" cy="228600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3200400"/>
              <a:ext cx="2844720" cy="192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Parâmetros e freqüência mais restritivos, a critério dos órgãos ambiental e de saúde, em locais com AC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257800" y="1905120"/>
            <a:ext cx="2971800" cy="1752480"/>
            <a:chOff x="5257800" y="1905120"/>
            <a:chExt cx="2971800" cy="1752480"/>
          </a:xfrm>
        </p:grpSpPr>
        <p:sp>
          <p:nvSpPr>
            <p:cNvPr id="234" name=""/>
            <p:cNvSpPr/>
            <p:nvPr/>
          </p:nvSpPr>
          <p:spPr>
            <a:xfrm>
              <a:off x="5867280" y="1905120"/>
              <a:ext cx="2362320" cy="175248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7800" y="1905120"/>
              <a:ext cx="281952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Laudos analíticos anuais, em locais com fontes pontuais com potencial de contamin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56600" y="762120"/>
            <a:ext cx="539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Qualidade das amost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46240" y="2498760"/>
            <a:ext cx="5740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Definição de modelo de laudo ana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1752480"/>
            <a:ext cx="4800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Vinculação da coleta aos laboratórios responsáveis pela anál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2895480"/>
            <a:ext cx="5740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Padrão de qualidade labora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Norma NBR ISSO/IEC 170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4000" y="762120"/>
            <a:ext cx="267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895480"/>
            <a:ext cx="574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ções de comunicaçã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1981080"/>
            <a:ext cx="4800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struturação de Sistema de Informação Inte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464832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685960"/>
            <a:ext cx="78757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LIVRO I – TÍTULO II – OBJETO, CAMPO DE ATUAÇÃO E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Artigo 2º - Princíp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II -</a:t>
            </a: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romover a melhoria da qualidade do meio ambiente, nele incluído o do trabalho, garantindo condições de saúde, segurança e bem-estar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66080" y="1905120"/>
            <a:ext cx="589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Black"/>
              </a:rPr>
              <a:t>CÓDIGO SANITÁRIO ESTADUAL D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63720" y="1905120"/>
            <a:ext cx="7875360" cy="387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LIVRO II – TÍTULO I – SAÚDE E MEIO 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Art. 11 – 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...enfrentamento dos problemas ambientais e ecológicos ..., com vista ao desenvolvimento sustentado, como forma de garantir a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qualidade de vida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e proteção ao meio 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Art.12 –</a:t>
            </a: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Arial Black"/>
              </a:rPr>
              <a:t>São fatores ambientais de risco à saúde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...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organização territorial,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mbiente construído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saneamento ambiental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ontes de poluição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artrópodes nocivos, vetores e hospedeiros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tividades produtivas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e de consumo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ubstâncias perigosas, tóxicas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explosivas, inflamáveis, corrosivas e radioativas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1360" y="1143000"/>
            <a:ext cx="589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Black"/>
              </a:rPr>
              <a:t>CÓDIGO SANITÁRIO ESTADUAL D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49179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Risco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: Probabilidade da ocorrência de um efeito adve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838080"/>
            <a:ext cx="51055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Saúde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: Estado de equilíbrio e adaptação dos organismos às condições do ambiente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1828800"/>
            <a:ext cx="4319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fenômeno subjetivo, pois depende da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uscetibilidade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 de cada indivídu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438280"/>
            <a:ext cx="675828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esvio negativo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 de um indivíduo diante de um padrão; funções se desviam de um parâmetro preestabelecido com conseqüências para a própria pessoa ou para a socie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200400"/>
            <a:ext cx="659916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Diminuição/interrupção de suas funções ou atividades físicas e mentais,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cômodos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, sofrimento ou incapacidade de comportamento nor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495680"/>
            <a:ext cx="62485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Não apenas “uma vida sem doença” mas também uma vida com quali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029200"/>
            <a:ext cx="76503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Desloca o conceito de saúde do plano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dividual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, situando-o no âmbito do conjunto da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ocie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98320" y="4119480"/>
            <a:ext cx="165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Bem-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00520" y="1523880"/>
            <a:ext cx="126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Do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28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p" descr="São Paulo"/>
          <p:cNvPicPr/>
          <p:nvPr/>
        </p:nvPicPr>
        <p:blipFill>
          <a:blip r:embed="rId1"/>
          <a:srcRect l="6569" t="20335" r="17316" b="7936"/>
          <a:stretch/>
        </p:blipFill>
        <p:spPr>
          <a:xfrm>
            <a:off x="76320" y="76320"/>
            <a:ext cx="8915400" cy="5736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248520" y="358128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200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41148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80988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924800">
            <a:off x="6858000" y="3276360"/>
            <a:ext cx="15238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057400"/>
            <a:ext cx="1676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4572000"/>
            <a:ext cx="20574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295280"/>
            <a:ext cx="381024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acia" descr=""/>
          <p:cNvPicPr/>
          <p:nvPr/>
        </p:nvPicPr>
        <p:blipFill>
          <a:blip r:embed="rId2"/>
          <a:stretch/>
        </p:blipFill>
        <p:spPr>
          <a:xfrm>
            <a:off x="0" y="13176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874840" y="304920"/>
            <a:ext cx="289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Ocupação do terri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0280" y="1508040"/>
            <a:ext cx="284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o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00280" y="898560"/>
            <a:ext cx="260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o 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56480" y="1203480"/>
            <a:ext cx="2942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23920" y="609480"/>
            <a:ext cx="2314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ecursos natu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14600" y="1752480"/>
            <a:ext cx="6311880" cy="235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Gastos do SU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em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$ </a:t>
            </a: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1,39 bilhão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: 2,19 milhões de internações hospita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$ </a:t>
            </a: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2,10 bilhõe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: 486,86 milhões de proced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mbulato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8120" y="304920"/>
            <a:ext cx="5790960" cy="44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Características d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r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Var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mpl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ssuntos ainda não devidamente consolidados no âmbito do 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Incertezas técnico/cient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ragilidade n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Envolvimento de diferentes campos do 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Governabilidade compartilh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arência de recursos financ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15000" y="1752480"/>
            <a:ext cx="3581280" cy="31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Implicações à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efeitos congênitos e desordens reprodu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âncer em áreas anatômicas especí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esordens imunoló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suficiência re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suficiência hep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oenças pulmonares e respirató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ranstornos neurotóx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21932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75120" y="1523880"/>
            <a:ext cx="137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a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58560" y="2590920"/>
            <a:ext cx="1419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342900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17160" y="3581280"/>
            <a:ext cx="144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ér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8520" y="1952640"/>
            <a:ext cx="1398240" cy="24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2. Me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6680"/>
            <a:ext cx="290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1. Fo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68580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9528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5. Pop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1081080"/>
            <a:ext cx="1752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3. 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800600"/>
            <a:ext cx="290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3.P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657600"/>
            <a:ext cx="609840" cy="762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homem" descr=""/>
          <p:cNvPicPr/>
          <p:nvPr/>
        </p:nvPicPr>
        <p:blipFill>
          <a:blip r:embed="rId1"/>
          <a:stretch/>
        </p:blipFill>
        <p:spPr>
          <a:xfrm>
            <a:off x="3200400" y="609480"/>
            <a:ext cx="23623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0:24:03Z</dcterms:created>
  <dc:creator>sama</dc:creator>
  <dc:description/>
  <dc:language>en-US</dc:language>
  <cp:lastModifiedBy>Luis Sergio</cp:lastModifiedBy>
  <dcterms:modified xsi:type="dcterms:W3CDTF">2005-08-07T18:23:41Z</dcterms:modified>
  <cp:revision>69</cp:revision>
  <dc:subject/>
  <dc:title>Apresentação do PowerPoint</dc:title>
</cp:coreProperties>
</file>