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D7D0-08C7-4C92-854C-09A25BA4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B35-CA75-462F-999E-64BD39F4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59F-79B0-455F-982B-649E04BF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CFD-2DAB-4B30-AEB4-393A11A3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9747-9AC6-4D1B-B181-8FCC6682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F579-89E3-4A8D-9C3F-CFFDEA5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3E75-E267-422E-A666-346D694D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C7A9-38C0-42BE-8682-3E883C10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BB16-D57B-431C-A9A1-67EA4FA1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4328-6387-4B98-BD3C-BFEDE88F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A263-05B1-416A-8955-234EE2C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067-F28E-4C3D-8AA7-7E06B3E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2678-AB9B-4986-AEB4-0AA2AC6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5B1F-3576-43F3-81A9-586E4325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A27D-4C42-45D6-8FDF-F924C31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E20F-8A96-4A34-A5FA-44917AC1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97BE-0864-43F7-8F80-C0228A0F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DC7-36F7-4D2A-A6A7-2BD32714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6AE-882A-49F9-967B-FF620248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6C22-F3CB-4E87-99FF-CD31336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100-279D-4989-8DD9-7F4E2BC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F3E-7C05-4FA4-9A60-EA75860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A09-5517-4EEC-B632-89C3C47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F54-2DCF-4851-BAD9-2114220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257800"/>
            <a:ext cx="9144000" cy="85392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82b84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86440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062060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7AB9-C92E-4C3C-B8AF-A2EE513BF8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33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44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82b84"/>
                </a:gs>
                <a:gs pos="50000">
                  <a:srgbClr val="afbbf7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82b84"/>
                </a:gs>
                <a:gs pos="50000">
                  <a:srgbClr val="0000cc"/>
                </a:gs>
                <a:gs pos="100000">
                  <a:srgbClr val="082b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082b84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50000">
                  <a:srgbClr val="56002b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0000cc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A69-B145-495A-8DD8-79F59100B7E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rh-darh@seplantec.se.gov.br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6800" y="551664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BRASÍL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Julho 200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37520" y="2665440"/>
            <a:ext cx="536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3.ª REUNIÃO CTPO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TADO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9760" y="2379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931 /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-152280" y="-1295280"/>
            <a:ext cx="11886840" cy="9662760"/>
            <a:chOff x="-152280" y="-1295280"/>
            <a:chExt cx="11886840" cy="9662760"/>
          </a:xfrm>
        </p:grpSpPr>
        <p:sp>
          <p:nvSpPr>
            <p:cNvPr id="144" name=""/>
            <p:cNvSpPr/>
            <p:nvPr/>
          </p:nvSpPr>
          <p:spPr>
            <a:xfrm>
              <a:off x="-152280" y="-129528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7840" y="912600"/>
              <a:ext cx="1776600" cy="683640"/>
              <a:chOff x="447840" y="912600"/>
              <a:chExt cx="1776600" cy="683640"/>
            </a:xfrm>
          </p:grpSpPr>
          <p:sp>
            <p:nvSpPr>
              <p:cNvPr id="146" name=""/>
              <p:cNvSpPr/>
              <p:nvPr/>
            </p:nvSpPr>
            <p:spPr>
              <a:xfrm>
                <a:off x="460800" y="917640"/>
                <a:ext cx="1749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Times New Roman"/>
                  </a:rPr>
                  <a:t> </a:t>
                </a: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s de Destinação do Us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840" y="912600"/>
                <a:ext cx="177660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224800" y="912600"/>
              <a:ext cx="1901880" cy="683640"/>
              <a:chOff x="2224800" y="912600"/>
              <a:chExt cx="1901880" cy="683640"/>
            </a:xfrm>
          </p:grpSpPr>
          <p:sp>
            <p:nvSpPr>
              <p:cNvPr id="149" name=""/>
              <p:cNvSpPr/>
              <p:nvPr/>
            </p:nvSpPr>
            <p:spPr>
              <a:xfrm>
                <a:off x="2237760" y="917640"/>
                <a:ext cx="18756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Área do imóvel beneficiad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24800" y="912600"/>
                <a:ext cx="19018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127400" y="912600"/>
              <a:ext cx="2096640" cy="683640"/>
              <a:chOff x="4127400" y="912600"/>
              <a:chExt cx="2096640" cy="683640"/>
            </a:xfrm>
          </p:grpSpPr>
          <p:sp>
            <p:nvSpPr>
              <p:cNvPr id="152" name=""/>
              <p:cNvSpPr/>
              <p:nvPr/>
            </p:nvSpPr>
            <p:spPr>
              <a:xfrm>
                <a:off x="4141080" y="917640"/>
                <a:ext cx="206928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Tipo de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7400" y="912600"/>
                <a:ext cx="209664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224400" y="912600"/>
              <a:ext cx="2042280" cy="683640"/>
              <a:chOff x="6224400" y="912600"/>
              <a:chExt cx="2042280" cy="683640"/>
            </a:xfrm>
          </p:grpSpPr>
          <p:sp>
            <p:nvSpPr>
              <p:cNvPr id="155" name=""/>
              <p:cNvSpPr/>
              <p:nvPr/>
            </p:nvSpPr>
            <p:spPr>
              <a:xfrm>
                <a:off x="6237360" y="917640"/>
                <a:ext cx="20160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ustos/Pagament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24400" y="912600"/>
                <a:ext cx="2042280" cy="683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47840" y="1606320"/>
              <a:ext cx="1776600" cy="407880"/>
              <a:chOff x="447840" y="1606320"/>
              <a:chExt cx="17766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60800" y="161136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840" y="160632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224800" y="1606320"/>
              <a:ext cx="1901880" cy="407880"/>
              <a:chOff x="2224800" y="1606320"/>
              <a:chExt cx="1901880" cy="40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237760" y="161136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té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24800" y="160632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127400" y="1606320"/>
              <a:ext cx="2096640" cy="407880"/>
              <a:chOff x="4127400" y="1606320"/>
              <a:chExt cx="2096640" cy="407880"/>
            </a:xfrm>
          </p:grpSpPr>
          <p:sp>
            <p:nvSpPr>
              <p:cNvPr id="164" name=""/>
              <p:cNvSpPr/>
              <p:nvPr/>
            </p:nvSpPr>
            <p:spPr>
              <a:xfrm>
                <a:off x="4141080" y="161136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27400" y="160632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6224400" y="1606320"/>
              <a:ext cx="2042280" cy="407880"/>
              <a:chOff x="6224400" y="1606320"/>
              <a:chExt cx="2042280" cy="4078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37360" y="161136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4400" y="160632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47840" y="2023920"/>
              <a:ext cx="1776600" cy="408240"/>
              <a:chOff x="447840" y="2023920"/>
              <a:chExt cx="1776600" cy="408240"/>
            </a:xfrm>
          </p:grpSpPr>
          <p:sp>
            <p:nvSpPr>
              <p:cNvPr id="170" name=""/>
              <p:cNvSpPr/>
              <p:nvPr/>
            </p:nvSpPr>
            <p:spPr>
              <a:xfrm>
                <a:off x="460800" y="2028600"/>
                <a:ext cx="1749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2. Irrigaç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840" y="2023920"/>
                <a:ext cx="177660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224800" y="2023920"/>
              <a:ext cx="1901880" cy="408240"/>
              <a:chOff x="2224800" y="2023920"/>
              <a:chExt cx="1901880" cy="40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2237760" y="2028600"/>
                <a:ext cx="18756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Acima de 3,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24800" y="2023920"/>
                <a:ext cx="19018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27400" y="2023920"/>
              <a:ext cx="2096640" cy="408240"/>
              <a:chOff x="4127400" y="2023920"/>
              <a:chExt cx="2096640" cy="40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1080" y="2028600"/>
                <a:ext cx="206928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27400" y="2023920"/>
                <a:ext cx="209664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224400" y="2023920"/>
              <a:ext cx="2042280" cy="408240"/>
              <a:chOff x="6224400" y="2023920"/>
              <a:chExt cx="2042280" cy="408240"/>
            </a:xfrm>
          </p:grpSpPr>
          <p:sp>
            <p:nvSpPr>
              <p:cNvPr id="179" name=""/>
              <p:cNvSpPr/>
              <p:nvPr/>
            </p:nvSpPr>
            <p:spPr>
              <a:xfrm>
                <a:off x="6237360" y="2028600"/>
                <a:ext cx="2016000" cy="39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,0 UFP/SE + 0,05 UFP/SE p/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24400" y="2023920"/>
                <a:ext cx="2042280" cy="408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47840" y="2441520"/>
              <a:ext cx="1776600" cy="570960"/>
              <a:chOff x="447840" y="2441520"/>
              <a:chExt cx="1776600" cy="57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60800" y="244656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840" y="2441520"/>
                <a:ext cx="177660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224800" y="2441520"/>
              <a:ext cx="1901880" cy="570960"/>
              <a:chOff x="2224800" y="2441520"/>
              <a:chExt cx="1901880" cy="570960"/>
            </a:xfrm>
          </p:grpSpPr>
          <p:sp>
            <p:nvSpPr>
              <p:cNvPr id="185" name=""/>
              <p:cNvSpPr/>
              <p:nvPr/>
            </p:nvSpPr>
            <p:spPr>
              <a:xfrm>
                <a:off x="2237760" y="244656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barramento com regularização de vazã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24800" y="2441520"/>
                <a:ext cx="19018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27400" y="2441520"/>
              <a:ext cx="2096640" cy="570960"/>
              <a:chOff x="4127400" y="2441520"/>
              <a:chExt cx="2096640" cy="570960"/>
            </a:xfrm>
          </p:grpSpPr>
          <p:sp>
            <p:nvSpPr>
              <p:cNvPr id="188" name=""/>
              <p:cNvSpPr/>
              <p:nvPr/>
            </p:nvSpPr>
            <p:spPr>
              <a:xfrm>
                <a:off x="4141080" y="244656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7400" y="2441520"/>
                <a:ext cx="209664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224400" y="2441520"/>
              <a:ext cx="2042280" cy="570960"/>
              <a:chOff x="6224400" y="2441520"/>
              <a:chExt cx="2042280" cy="57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6237360" y="244656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24400" y="2441520"/>
                <a:ext cx="2042280" cy="570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7840" y="3022200"/>
              <a:ext cx="1776600" cy="570600"/>
              <a:chOff x="447840" y="3022200"/>
              <a:chExt cx="1776600" cy="570600"/>
            </a:xfrm>
          </p:grpSpPr>
          <p:sp>
            <p:nvSpPr>
              <p:cNvPr id="194" name=""/>
              <p:cNvSpPr/>
              <p:nvPr/>
            </p:nvSpPr>
            <p:spPr>
              <a:xfrm>
                <a:off x="460800" y="302688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4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7840" y="302220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224800" y="3022200"/>
              <a:ext cx="1901880" cy="570600"/>
              <a:chOff x="2224800" y="3022200"/>
              <a:chExt cx="1901880" cy="570600"/>
            </a:xfrm>
          </p:grpSpPr>
          <p:sp>
            <p:nvSpPr>
              <p:cNvPr id="197" name=""/>
              <p:cNvSpPr/>
              <p:nvPr/>
            </p:nvSpPr>
            <p:spPr>
              <a:xfrm>
                <a:off x="2237760" y="302688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Construção de canais com ou sem desvio do curso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24800" y="302220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127400" y="3022200"/>
              <a:ext cx="2096640" cy="570600"/>
              <a:chOff x="4127400" y="3022200"/>
              <a:chExt cx="2096640" cy="570600"/>
            </a:xfrm>
          </p:grpSpPr>
          <p:sp>
            <p:nvSpPr>
              <p:cNvPr id="200" name=""/>
              <p:cNvSpPr/>
              <p:nvPr/>
            </p:nvSpPr>
            <p:spPr>
              <a:xfrm>
                <a:off x="4141080" y="302688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127400" y="302220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24400" y="3022200"/>
              <a:ext cx="2042280" cy="570600"/>
              <a:chOff x="6224400" y="3022200"/>
              <a:chExt cx="2042280" cy="570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237360" y="302688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24400" y="302220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447840" y="3602520"/>
              <a:ext cx="1776600" cy="570600"/>
              <a:chOff x="447840" y="3602520"/>
              <a:chExt cx="1776600" cy="570600"/>
            </a:xfrm>
          </p:grpSpPr>
          <p:sp>
            <p:nvSpPr>
              <p:cNvPr id="206" name=""/>
              <p:cNvSpPr/>
              <p:nvPr/>
            </p:nvSpPr>
            <p:spPr>
              <a:xfrm>
                <a:off x="460800" y="3607200"/>
                <a:ext cx="1749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5. Execução de obras em mananciai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7840" y="3602520"/>
                <a:ext cx="177660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224800" y="3602520"/>
              <a:ext cx="1901880" cy="570600"/>
              <a:chOff x="2224800" y="3602520"/>
              <a:chExt cx="1901880" cy="570600"/>
            </a:xfrm>
          </p:grpSpPr>
          <p:sp>
            <p:nvSpPr>
              <p:cNvPr id="209" name=""/>
              <p:cNvSpPr/>
              <p:nvPr/>
            </p:nvSpPr>
            <p:spPr>
              <a:xfrm>
                <a:off x="2237760" y="3607200"/>
                <a:ext cx="18756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Obras que possam interferir no curso, vazão ou regime do manan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24800" y="3602520"/>
                <a:ext cx="19018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127400" y="3602520"/>
              <a:ext cx="2096640" cy="570600"/>
              <a:chOff x="4127400" y="3602520"/>
              <a:chExt cx="2096640" cy="570600"/>
            </a:xfrm>
          </p:grpSpPr>
          <p:sp>
            <p:nvSpPr>
              <p:cNvPr id="212" name=""/>
              <p:cNvSpPr/>
              <p:nvPr/>
            </p:nvSpPr>
            <p:spPr>
              <a:xfrm>
                <a:off x="4141080" y="3607200"/>
                <a:ext cx="206928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27400" y="3602520"/>
                <a:ext cx="209664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224400" y="3602520"/>
              <a:ext cx="2042280" cy="570600"/>
              <a:chOff x="6224400" y="3602520"/>
              <a:chExt cx="2042280" cy="570600"/>
            </a:xfrm>
          </p:grpSpPr>
          <p:sp>
            <p:nvSpPr>
              <p:cNvPr id="215" name=""/>
              <p:cNvSpPr/>
              <p:nvPr/>
            </p:nvSpPr>
            <p:spPr>
              <a:xfrm>
                <a:off x="6237360" y="3607200"/>
                <a:ext cx="2016000" cy="5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3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24400" y="3602520"/>
                <a:ext cx="2042280" cy="570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47840" y="4182480"/>
              <a:ext cx="1776600" cy="407880"/>
              <a:chOff x="447840" y="4182480"/>
              <a:chExt cx="1776600" cy="407880"/>
            </a:xfrm>
          </p:grpSpPr>
          <p:sp>
            <p:nvSpPr>
              <p:cNvPr id="218" name=""/>
              <p:cNvSpPr/>
              <p:nvPr/>
            </p:nvSpPr>
            <p:spPr>
              <a:xfrm>
                <a:off x="460800" y="4187520"/>
                <a:ext cx="1749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6. Lançamento de efluentes líquidos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7840" y="4182480"/>
                <a:ext cx="177660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224800" y="4182480"/>
              <a:ext cx="1901880" cy="407880"/>
              <a:chOff x="2224800" y="4182480"/>
              <a:chExt cx="1901880" cy="407880"/>
            </a:xfrm>
          </p:grpSpPr>
          <p:sp>
            <p:nvSpPr>
              <p:cNvPr id="221" name=""/>
              <p:cNvSpPr/>
              <p:nvPr/>
            </p:nvSpPr>
            <p:spPr>
              <a:xfrm>
                <a:off x="2237760" y="4187520"/>
                <a:ext cx="1875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24800" y="4182480"/>
                <a:ext cx="19018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127400" y="4182480"/>
              <a:ext cx="2096640" cy="407880"/>
              <a:chOff x="4127400" y="4182480"/>
              <a:chExt cx="2096640" cy="407880"/>
            </a:xfrm>
          </p:grpSpPr>
          <p:sp>
            <p:nvSpPr>
              <p:cNvPr id="224" name=""/>
              <p:cNvSpPr/>
              <p:nvPr/>
            </p:nvSpPr>
            <p:spPr>
              <a:xfrm>
                <a:off x="4141080" y="4187520"/>
                <a:ext cx="2069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127400" y="4182480"/>
                <a:ext cx="209664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6224400" y="4182480"/>
              <a:ext cx="2042280" cy="407880"/>
              <a:chOff x="6224400" y="4182480"/>
              <a:chExt cx="2042280" cy="407880"/>
            </a:xfrm>
          </p:grpSpPr>
          <p:sp>
            <p:nvSpPr>
              <p:cNvPr id="227" name=""/>
              <p:cNvSpPr/>
              <p:nvPr/>
            </p:nvSpPr>
            <p:spPr>
              <a:xfrm>
                <a:off x="6237360" y="4187520"/>
                <a:ext cx="2016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24400" y="4182480"/>
                <a:ext cx="2042280" cy="40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47840" y="4600440"/>
              <a:ext cx="1776600" cy="406800"/>
              <a:chOff x="447840" y="4600440"/>
              <a:chExt cx="1776600" cy="406800"/>
            </a:xfrm>
          </p:grpSpPr>
          <p:sp>
            <p:nvSpPr>
              <p:cNvPr id="230" name=""/>
              <p:cNvSpPr/>
              <p:nvPr/>
            </p:nvSpPr>
            <p:spPr>
              <a:xfrm>
                <a:off x="460800" y="460512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7. Abastecimento Human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7840" y="460044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24800" y="4600440"/>
              <a:ext cx="1901880" cy="406800"/>
              <a:chOff x="2224800" y="4600440"/>
              <a:chExt cx="1901880" cy="406800"/>
            </a:xfrm>
          </p:grpSpPr>
          <p:sp>
            <p:nvSpPr>
              <p:cNvPr id="233" name=""/>
              <p:cNvSpPr/>
              <p:nvPr/>
            </p:nvSpPr>
            <p:spPr>
              <a:xfrm>
                <a:off x="2237760" y="460512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24800" y="460044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127400" y="4600440"/>
              <a:ext cx="2096640" cy="406800"/>
              <a:chOff x="4127400" y="4600440"/>
              <a:chExt cx="2096640" cy="406800"/>
            </a:xfrm>
          </p:grpSpPr>
          <p:sp>
            <p:nvSpPr>
              <p:cNvPr id="236" name=""/>
              <p:cNvSpPr/>
              <p:nvPr/>
            </p:nvSpPr>
            <p:spPr>
              <a:xfrm>
                <a:off x="4141080" y="460512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7400" y="460044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224400" y="4600440"/>
              <a:ext cx="2042280" cy="406800"/>
              <a:chOff x="6224400" y="4600440"/>
              <a:chExt cx="2042280" cy="406800"/>
            </a:xfrm>
          </p:grpSpPr>
          <p:sp>
            <p:nvSpPr>
              <p:cNvPr id="239" name=""/>
              <p:cNvSpPr/>
              <p:nvPr/>
            </p:nvSpPr>
            <p:spPr>
              <a:xfrm>
                <a:off x="6237360" y="460512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4400" y="460044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47840" y="5018400"/>
              <a:ext cx="1776600" cy="406800"/>
              <a:chOff x="447840" y="5018400"/>
              <a:chExt cx="1776600" cy="406800"/>
            </a:xfrm>
          </p:grpSpPr>
          <p:sp>
            <p:nvSpPr>
              <p:cNvPr id="242" name=""/>
              <p:cNvSpPr/>
              <p:nvPr/>
            </p:nvSpPr>
            <p:spPr>
              <a:xfrm>
                <a:off x="460800" y="5023440"/>
                <a:ext cx="1749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8.Abastecimento industrial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7840" y="5018400"/>
                <a:ext cx="177660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224800" y="5018400"/>
              <a:ext cx="1901880" cy="406800"/>
              <a:chOff x="2224800" y="5018400"/>
              <a:chExt cx="1901880" cy="406800"/>
            </a:xfrm>
          </p:grpSpPr>
          <p:sp>
            <p:nvSpPr>
              <p:cNvPr id="245" name=""/>
              <p:cNvSpPr/>
              <p:nvPr/>
            </p:nvSpPr>
            <p:spPr>
              <a:xfrm>
                <a:off x="2237760" y="5023440"/>
                <a:ext cx="18756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-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24800" y="5018400"/>
                <a:ext cx="19018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4127400" y="5018400"/>
              <a:ext cx="2096640" cy="406800"/>
              <a:chOff x="4127400" y="5018400"/>
              <a:chExt cx="2096640" cy="406800"/>
            </a:xfrm>
          </p:grpSpPr>
          <p:sp>
            <p:nvSpPr>
              <p:cNvPr id="248" name=""/>
              <p:cNvSpPr/>
              <p:nvPr/>
            </p:nvSpPr>
            <p:spPr>
              <a:xfrm>
                <a:off x="4141080" y="5023440"/>
                <a:ext cx="2069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7400" y="5018400"/>
                <a:ext cx="209664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24400" y="5018400"/>
              <a:ext cx="2042280" cy="406800"/>
              <a:chOff x="6224400" y="5018400"/>
              <a:chExt cx="2042280" cy="406800"/>
            </a:xfrm>
          </p:grpSpPr>
          <p:sp>
            <p:nvSpPr>
              <p:cNvPr id="251" name=""/>
              <p:cNvSpPr/>
              <p:nvPr/>
            </p:nvSpPr>
            <p:spPr>
              <a:xfrm>
                <a:off x="6237360" y="5023440"/>
                <a:ext cx="2016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8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224400" y="5018400"/>
                <a:ext cx="2042280" cy="406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47840" y="5436000"/>
              <a:ext cx="1776600" cy="716760"/>
              <a:chOff x="447840" y="5436000"/>
              <a:chExt cx="1776600" cy="716760"/>
            </a:xfrm>
          </p:grpSpPr>
          <p:sp>
            <p:nvSpPr>
              <p:cNvPr id="254" name=""/>
              <p:cNvSpPr/>
              <p:nvPr/>
            </p:nvSpPr>
            <p:spPr>
              <a:xfrm>
                <a:off x="460800" y="5441400"/>
                <a:ext cx="1749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Publicação de Portarias no Diário Oficial do Estad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7840" y="5436000"/>
                <a:ext cx="177660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224800" y="5436000"/>
              <a:ext cx="1901880" cy="716760"/>
              <a:chOff x="2224800" y="5436000"/>
              <a:chExt cx="1901880" cy="716760"/>
            </a:xfrm>
          </p:grpSpPr>
          <p:sp>
            <p:nvSpPr>
              <p:cNvPr id="257" name=""/>
              <p:cNvSpPr/>
              <p:nvPr/>
            </p:nvSpPr>
            <p:spPr>
              <a:xfrm>
                <a:off x="2237760" y="5441400"/>
                <a:ext cx="18756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Qualquer uso com exclusão dos irrigantes com áreas beneficiadas em até 20 ha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24800" y="5436000"/>
                <a:ext cx="19018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127400" y="5436000"/>
              <a:ext cx="2096640" cy="716760"/>
              <a:chOff x="4127400" y="5436000"/>
              <a:chExt cx="2096640" cy="71676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1080" y="5441400"/>
                <a:ext cx="206928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Manancial superficial ou subterrâneo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27400" y="5436000"/>
                <a:ext cx="209664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224400" y="5436000"/>
              <a:ext cx="2042280" cy="716760"/>
              <a:chOff x="6224400" y="5436000"/>
              <a:chExt cx="2042280" cy="716760"/>
            </a:xfrm>
          </p:grpSpPr>
          <p:sp>
            <p:nvSpPr>
              <p:cNvPr id="263" name=""/>
              <p:cNvSpPr/>
              <p:nvPr/>
            </p:nvSpPr>
            <p:spPr>
              <a:xfrm>
                <a:off x="6237360" y="5441400"/>
                <a:ext cx="201600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10,00 UFP/SE</a:t>
                </a: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224400" y="5436000"/>
                <a:ext cx="2042280" cy="716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-152280" y="7938720"/>
              <a:ext cx="11886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475320" y="6172200"/>
            <a:ext cx="104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Times New Roman"/>
              </a:rPr>
              <a:t>UFP/SE: R$ 19,33</a:t>
            </a: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609480"/>
            <a:ext cx="9144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uso insignifica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área de espelho d’água inferi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10 (dez) tarefas ou 3 h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de barramento inferior a 7 (sete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Perfuração de poços rasos, com profundidade inferior a 20 (vinte) metros e com vazão de até 2.500 (dois mil e quinhentos) litros por hora e, ainda, poços com caráter exclusivo de pesquisa, exceto em aqüíferos sedimentares considerados estratégicos ou diretamente alimentados por rios perene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erfuração de 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medianamente profundos (20 a 60 metros) e profundos (maior que 60 metros) com vazões inferiores a 2.500 (dois mil e quinhentos) litros por hora, exceto quando se trata de poços de responsabilidade de órgãos públicos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2.500</a:t>
            </a:r>
            <a:r>
              <a:rPr b="1" i="1" lang="pt-BR" sz="15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(dois mil e quinhentos) litros por hora, ou cerca de 0,7 (sete décimo) litros/segundo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3 (três) km²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Obras de transferência, entre bacias hidrográficas, de vazões inferiores a 2.500 (dois mil e quinhentos) litros por hor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91440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1º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insignificantes e cadastradas atingir o percentual significativo de 20% (vinte por cento)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mais devem ser dispensadas ou permitidas novas captações, derivações ou obras hídricas, fic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2º. Fica também dispensado de outorga o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80 (oitenta) casas ou 400 (quatrocentos)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de Água e Demanda de Recursos Hídricos, deve ser adotada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referência a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vazão garantida em 90% do ano hidrológico), para cada Unidade de Planejamento, mas apresentadas no documento referido no “caput” deste artig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1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(dez por cento) da “Q90”. dispensados de outorga, considerando-se como de uso insignificante, as seguintes obras hídric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9400" y="23796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1 CONERH/SE (200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761840" y="1371600"/>
            <a:ext cx="561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EPLA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SR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rua Vila Cristina, 1.0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one: (79) 3214-66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Fax: (79) 3214-732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afbbf7"/>
                </a:solidFill>
                <a:uFillTx/>
                <a:latin typeface="Times New Roman"/>
                <a:hlinkClick r:id="rId1"/>
              </a:rPr>
              <a:t>srh-darh@seplantec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ccff"/>
                </a:solidFill>
                <a:latin typeface="Times New Roman"/>
              </a:rPr>
              <a:t>www.seplantec-srh.se.gov.b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rot="16200000">
            <a:off x="-1915200" y="2297520"/>
            <a:ext cx="46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SECRETARIA DE MEIO AMBIENTE 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RECURSOS NATURAIS - SEMA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09160" y="2330280"/>
            <a:ext cx="536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DIRETRIZES PARA OUTOR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- ESTADO DO PIAUÍ -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038480" y="146160"/>
            <a:ext cx="1219320" cy="6705360"/>
          </a:xfrm>
          <a:prstGeom prst="downArrow">
            <a:avLst>
              <a:gd name="adj1" fmla="val 28648"/>
              <a:gd name="adj2" fmla="val 39437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5040" y="609480"/>
            <a:ext cx="327456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9.433 (janeiro/1997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4616280"/>
            <a:ext cx="6096240" cy="1282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ERH n.º 4 (abril/2005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os critérios e procedimentos provisórios para outorga preventiva e outorga de direito de us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26044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203184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Criação da ANA (2000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4343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4114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200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565360"/>
            <a:ext cx="6096240" cy="10083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n.º 5.165 (agosto/2000) – PIAU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cc"/>
                </a:solidFill>
                <a:latin typeface="Times New Roman"/>
              </a:rPr>
              <a:t>Dispõe sobre A Política Estadual de recursos hídricos, institui o sistema estadual de gerenciamento de recursos hídric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85800"/>
            <a:ext cx="9144000" cy="58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3º. Ficam dispensados de outorga, considerando-se como de </a:t>
            </a:r>
            <a:r>
              <a:rPr b="1" i="1" lang="pt-BR" sz="1800" spc="-1" strike="noStrike">
                <a:solidFill>
                  <a:srgbClr val="66ccff"/>
                </a:solidFill>
                <a:latin typeface="Arial"/>
                <a:ea typeface="Times New Roman"/>
              </a:rPr>
              <a:t>pouca expressão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s volumes acumulados ou captações nos seguintes tipos de obras: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Açud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olume de acumulação de até 50.000 m³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com área de espelho d’água menor ou igual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3 (três) hectare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altura máxima do barramento menor ou igual a 6 (seis) metr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Poç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de uso de até 2,0 m</a:t>
            </a:r>
            <a:r>
              <a:rPr b="1" i="1" lang="pt-BR" sz="18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3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h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ou ainda, poços com caráter exclusivo de pesquisa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Captações a fio d’águ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com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édia contínua menor ou igual a 0,56 L/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Barragen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e derivação ou regularização de nível cuj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bacia de contribuição não exceda a 2 hectares, ou com altura máxima menor do que 3m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;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buClr>
                <a:srgbClr val="ffff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Obras de trans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tre bacias hidrográficas,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inferiores a 0,56 L/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Quando a soma de captações ou derivações consideradas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de pouca expressão cadastrada atingir o percentual significativo de 20% (vinte por cento)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o explícito conflito de uso em um dado manancial, não serão mais dispensadas ou permitidas novas captações ou obras hídricas, estando sujeitas aos procedimentos legais de outorga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915840"/>
            <a:ext cx="91440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4º. Fica dispensada a outorga de direito de uso de água para satisfação das necessidades da população d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núcleos rurais inferiores ou iguais a 600 habitantes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6º. As vazões de referência a serem utilizadas, para cálculo das disponibilidades hídricas, em cada local de interesse, deverão estar de acordo com os Planos de Recursos Hídricos de Bacias Hidrográficas. 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1º. Até que as vazões de referências sejam estabelecidas com maior precisão nos Estudos de Disponibilidade e Demanda de Água, deverão ser adotadas como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ões de referência: para rios perenes ou perenizados, “Q95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; e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para reservatórios, “Q90”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§ 2º. Nas outorgas de direito de uso de água para as derivações em um corpo hídrico superficial, deve ser prevista um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ambiental para jusante equivalente a 20%</a:t>
            </a:r>
            <a:r>
              <a:rPr b="1" i="1" lang="en-US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 da vazão de referência, ou seja deverão ser outorgados no máximo 80% da Q95 para rios perenes ou perenizados, e no máximo 80% da Q90 para reservatórios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128600"/>
            <a:ext cx="9144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7º. Para poços 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zão máxima outorgável será de 50% da vazão de referência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ncontrada em testes de bombeamento com duração mínima de 24 horas, devendo a vazão outorgada ser limitada às necessidades da demanda prevista para o horizonte de projeto ou da vida útil do empreendiment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8º. Nas fontes de usos múltiplos a vazão outorgável para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da usuário individual será de no máximo 25% da vazão outorgável da fonte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exceto para os usos prioritários: abastecimento humano e dessedentação animal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Art. 9º. O prazo de </a:t>
            </a:r>
            <a:r>
              <a:rPr b="1" i="1" lang="pt-BR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validade das outorgas será de até 3 anos</a:t>
            </a:r>
            <a:r>
              <a:rPr b="1" i="1" lang="pt-BR" sz="1500" spc="-1" strike="noStrike">
                <a:solidFill>
                  <a:srgbClr val="ffffcc"/>
                </a:solidFill>
                <a:latin typeface="Arial"/>
                <a:ea typeface="Times New Roman"/>
              </a:rPr>
              <a:t>, a critério da SEMAR, para qualquer requerimento e independente da finalidade ou da natureza jurídica do interessado.</a:t>
            </a:r>
            <a:endParaRPr b="0" lang="en-US" sz="1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120" y="237960"/>
            <a:ext cx="421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Resolução n.º 04 CERH/SE (2005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32642" t="13891" r="14582" b="12963"/>
          <a:stretch/>
        </p:blipFill>
        <p:spPr>
          <a:xfrm>
            <a:off x="1752480" y="838080"/>
            <a:ext cx="5791320" cy="601992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800600" y="1600200"/>
            <a:ext cx="2098800" cy="655560"/>
            <a:chOff x="4800600" y="1600200"/>
            <a:chExt cx="2098800" cy="655560"/>
          </a:xfrm>
        </p:grpSpPr>
        <p:sp>
          <p:nvSpPr>
            <p:cNvPr id="97" name=""/>
            <p:cNvSpPr/>
            <p:nvPr/>
          </p:nvSpPr>
          <p:spPr>
            <a:xfrm flipV="1">
              <a:off x="4800600" y="1665360"/>
              <a:ext cx="1994040" cy="5904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54680" y="160020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5" y="91"/>
                  </a:moveTo>
                  <a:lnTo>
                    <a:pt x="91" y="17"/>
                  </a:lnTo>
                  <a:lnTo>
                    <a:pt x="0" y="0"/>
                  </a:lnTo>
                  <a:lnTo>
                    <a:pt x="25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013160" y="1523880"/>
            <a:ext cx="178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ão Francisco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4191120"/>
            <a:ext cx="2097000" cy="470880"/>
            <a:chOff x="1371600" y="4191120"/>
            <a:chExt cx="2097000" cy="470880"/>
          </a:xfrm>
        </p:grpSpPr>
        <p:sp>
          <p:nvSpPr>
            <p:cNvPr id="101" name=""/>
            <p:cNvSpPr/>
            <p:nvPr/>
          </p:nvSpPr>
          <p:spPr>
            <a:xfrm flipH="1" flipV="1">
              <a:off x="1476360" y="4268880"/>
              <a:ext cx="1992240" cy="393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419112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90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57800" y="4800600"/>
            <a:ext cx="2097000" cy="669960"/>
            <a:chOff x="5257800" y="4800600"/>
            <a:chExt cx="2097000" cy="669960"/>
          </a:xfrm>
        </p:grpSpPr>
        <p:sp>
          <p:nvSpPr>
            <p:cNvPr id="104" name=""/>
            <p:cNvSpPr/>
            <p:nvPr/>
          </p:nvSpPr>
          <p:spPr>
            <a:xfrm>
              <a:off x="5257800" y="4800600"/>
              <a:ext cx="1992240" cy="59076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11880" y="532620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0" y="91"/>
                  </a:moveTo>
                  <a:lnTo>
                    <a:pt x="90" y="66"/>
                  </a:lnTo>
                  <a:lnTo>
                    <a:pt x="24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33720" y="3200400"/>
            <a:ext cx="1364760" cy="460440"/>
            <a:chOff x="2133720" y="3200400"/>
            <a:chExt cx="1364760" cy="460440"/>
          </a:xfrm>
        </p:grpSpPr>
        <p:sp>
          <p:nvSpPr>
            <p:cNvPr id="107" name=""/>
            <p:cNvSpPr/>
            <p:nvPr/>
          </p:nvSpPr>
          <p:spPr>
            <a:xfrm flipH="1" flipV="1">
              <a:off x="2238120" y="3279960"/>
              <a:ext cx="1260360" cy="3808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32004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25"/>
                  </a:lnTo>
                  <a:lnTo>
                    <a:pt x="66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638680"/>
            <a:ext cx="1258560" cy="366480"/>
            <a:chOff x="1905120" y="5638680"/>
            <a:chExt cx="1258560" cy="366480"/>
          </a:xfrm>
        </p:grpSpPr>
        <p:sp>
          <p:nvSpPr>
            <p:cNvPr id="110" name=""/>
            <p:cNvSpPr/>
            <p:nvPr/>
          </p:nvSpPr>
          <p:spPr>
            <a:xfrm flipH="1" flipV="1">
              <a:off x="2009880" y="5716080"/>
              <a:ext cx="1153800" cy="28908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56386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0"/>
                  </a:moveTo>
                  <a:lnTo>
                    <a:pt x="0" y="33"/>
                  </a:lnTo>
                  <a:lnTo>
                    <a:pt x="74" y="91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410080" y="3657600"/>
            <a:ext cx="2098800" cy="471600"/>
            <a:chOff x="5410080" y="3657600"/>
            <a:chExt cx="2098800" cy="471600"/>
          </a:xfrm>
        </p:grpSpPr>
        <p:sp>
          <p:nvSpPr>
            <p:cNvPr id="113" name=""/>
            <p:cNvSpPr/>
            <p:nvPr/>
          </p:nvSpPr>
          <p:spPr>
            <a:xfrm>
              <a:off x="5410080" y="3657600"/>
              <a:ext cx="1994040" cy="393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4160" y="398448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91"/>
                  </a:moveTo>
                  <a:lnTo>
                    <a:pt x="91" y="58"/>
                  </a:lnTo>
                  <a:lnTo>
                    <a:pt x="16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6400" y="2895480"/>
            <a:ext cx="1503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Vaza Barris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7040" y="4038480"/>
            <a:ext cx="135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Times New Roman"/>
              </a:rPr>
              <a:t>Japaratuba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1880" y="4038480"/>
            <a:ext cx="653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iauí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680" y="5410080"/>
            <a:ext cx="581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2960" y="5410080"/>
            <a:ext cx="96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rgipe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52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Times New Roman"/>
              </a:rPr>
              <a:t>BACIAS HIDROGRÁFICAS DE SERGI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15800"/>
          <a:ext cx="7772400" cy="6061320"/>
        </p:xfrm>
        <a:graphic>
          <a:graphicData uri="http://schemas.openxmlformats.org/drawingml/2006/table">
            <a:tbl>
              <a:tblPr/>
              <a:tblGrid>
                <a:gridCol w="3429000"/>
                <a:gridCol w="1008000"/>
                <a:gridCol w="795240"/>
                <a:gridCol w="795600"/>
                <a:gridCol w="892080"/>
                <a:gridCol w="85248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cc"/>
                      </a:solidFill>
                    </a:lnR>
                    <a:lnT>
                      <a:noFill/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ão 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em andament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studos concluídos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m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çã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mplantado</a:t>
                      </a:r>
                      <a:endParaRPr b="0" lang="en-US" sz="1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nquadramento dos Corpos d´Águ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und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Outorga de Direito de Us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brança pelo Uso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istema Estadual de Informações sobr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nselho Estadual de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mitê de Bacia Hidrográfic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lano Estadual de Capacitação em Recursos Hídricos 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911520" y="1922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TUAÇÃO ATUAL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977920" y="3054600"/>
            <a:ext cx="68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SECRETARIA DO PLANEJAMENTO - SEPLA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fbbf7"/>
                </a:solidFill>
                <a:latin typeface="Arial"/>
              </a:rPr>
              <a:t>SUPERINTENDÊNCIA DE RECURSOS HÍDRICOS - SR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038480" y="152280"/>
            <a:ext cx="1219320" cy="6705720"/>
          </a:xfrm>
          <a:prstGeom prst="downArrow">
            <a:avLst>
              <a:gd name="adj1" fmla="val 28648"/>
              <a:gd name="adj2" fmla="val 39439"/>
            </a:avLst>
          </a:prstGeom>
          <a:noFill/>
          <a:ln cap="rnd" w="93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50360" y="2389320"/>
            <a:ext cx="513684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870 (setembro/1997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9960" y="1557360"/>
            <a:ext cx="486540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i 3.595 (janeiro/1995) - SERGI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49640" y="3467160"/>
            <a:ext cx="300168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creto 18.456 (1999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3760" y="4691160"/>
            <a:ext cx="418572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solução CONERH 01 (200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451400"/>
            <a:ext cx="48006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222800"/>
            <a:ext cx="1524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Regulamentação do CONERH (1999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000" y="1136520"/>
            <a:ext cx="14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LEG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85880" y="4370400"/>
            <a:ext cx="69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DIRETRIZES E CRITÉRIOS ADOTADO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PARA OUTORGA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0120" y="239760"/>
            <a:ext cx="32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Lei Estadual n.º 3.870 / 97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849320"/>
            <a:ext cx="7391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m com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se a Lei n.º 9.433/97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nte é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PLAN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, através da SRH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abelec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sujeitos à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s usos que independem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asos em que a outorga poderá ser suspens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azo não excedente a 35 ano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838080"/>
            <a:ext cx="8839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orga emitida na modalidade d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utorização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evista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outorga prévia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ode ser feita por prazo renovável, não superior a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0 (trinta) an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nquanto não for aprovado o plano diretor de recursos hídricos de uma bacia hidrográfica, a outorga deve obedecer aos critérios gerais estabelecidos pelo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Conselho Estadual de Recursos Hídricos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presenta també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usos sujeitos  e independente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ritérios de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rocedimentos administrativos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uspensão e extinção da outorga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regime de racionamento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frações e penalidad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568440">
              <a:lnSpc>
                <a:spcPct val="100000"/>
              </a:lnSpc>
              <a:spcBef>
                <a:spcPts val="11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1017720"/>
            <a:ext cx="89298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9º. A outorga deve observar os planos estaduais de recursos hídricos e os planos diretores das bacias, e em especial: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 - as prioridades de uso estabelecidas na Lei Federal n.º 9.433/97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 - a classe em que o corpo hídrico estiver enquadrado, em consonância com a legislação ambiental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II - a preservação dos usos múltiplos previstos;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IV - a manutenção das condições adequadas ao transporte aquaviário, quando coube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- Enquanto não for aprovado o plano diretor de recursos hídricos de uma bacia hidrográfica, a outorga deve obedecer aos </a:t>
            </a:r>
            <a:r>
              <a:rPr b="1" lang="pt-BR" sz="1900" spc="-1" strike="noStrike">
                <a:solidFill>
                  <a:srgbClr val="ffcc00"/>
                </a:solidFill>
                <a:latin typeface="Times New Roman"/>
              </a:rPr>
              <a:t>critérios gerais estabelecidos pelo Conselho Estadual de Recursos Hídricos</a:t>
            </a: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Em igualdade de condições, devem ter prioridade os projetos que atenderem melhor ao interesse público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000099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523880"/>
            <a:ext cx="86407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0. Quando a outorga for emitida sem que haja um plano diretor de bacia hidrográfica, os outorgados ficam obrigados a adaptar suas atividades e obras ao plano superveniente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Art. 12. O nível de garantia do volume de águas superficiais outorgado para cada usuário deve ser de, no mínimo, 85% (oitenta e cinco por cento), e, no máximo, 95% (noventa e cinco por cento), exceto quando o plano diretor da bacia hidrográfica adotar outros valores para o corpo hídrico, ou quando o poder público outorgante, motivadamente, assim o decidir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1º – O poder público outorgante deve calcular o volume outorgável sazonalmente em cada corpo hídrico em função do nível de garanti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cc"/>
                </a:solidFill>
                <a:latin typeface="Times New Roman"/>
              </a:rPr>
              <a:t>§ 2º - O outorgado deve implantar e manter em funcionamento equipamento de medição para monitoramento contínuo da vazão captada ou lançada. 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9760" y="2397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ccff"/>
                </a:solidFill>
                <a:uFillTx/>
                <a:latin typeface="Arial"/>
              </a:rPr>
              <a:t>Decreto n.º 18.456 / 9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52:01Z</dcterms:created>
  <dc:creator>Seplantec</dc:creator>
  <dc:description/>
  <dc:language>en-US</dc:language>
  <cp:lastModifiedBy>Cliente</cp:lastModifiedBy>
  <dcterms:modified xsi:type="dcterms:W3CDTF">2005-07-01T11:55:17Z</dcterms:modified>
  <cp:revision>413</cp:revision>
  <dc:subject/>
  <dc:title>Apresentação do PowerPoint</dc:title>
</cp:coreProperties>
</file>