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52C-D5A5-4CF3-88E9-21D6E546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396-A29B-48B5-BC52-0A402292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F03-5242-43BD-BBAA-99C2C05D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AEB-7094-42A3-9C80-B02CD4C7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AB41-4638-4A38-A2FA-7C8D7D79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66CA-E33F-457A-B4B3-C0209DF1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CC7D-F7B7-4D07-88CB-C548DC88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E9E0-F4EF-4428-913D-8834D5E8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0DB9-D12D-454A-94B2-6FED2AF0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0ED8-3FA1-45F4-AD83-EE7AF11E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46AE-1FEE-437E-A32C-C628755D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C3A-04AA-4B01-864B-EEC5357E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E649-76EB-449B-90DB-BBA5C752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8AFB-CE20-4BEB-8589-C181E1A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49D3-CF71-4E0B-A466-85373BA3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0829-FE52-4FCC-BD6B-AB5E6329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CD21-E85E-4BCD-9C2E-12FC7119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320-3EC4-4710-8AEB-2C16FF02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24D-C530-439B-94B2-8929C194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ACB-6D0E-4625-80F5-3ED62513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315-940E-4969-A2FA-61FFDA54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5D6-97A4-4EFD-BC7C-C4D9662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A38-1153-4DAB-B2FE-3D216B52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5E6-0AF4-472C-8036-AC7A3A5C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257800"/>
            <a:ext cx="9144000" cy="85392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50000">
                <a:srgbClr val="082b84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86440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50000">
                <a:srgbClr val="062060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0FC6-2124-4ED4-8FB5-9099EC50DD5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33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4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82b84"/>
                </a:gs>
                <a:gs pos="50000">
                  <a:srgbClr val="afbbf7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82b84"/>
                </a:gs>
                <a:gs pos="50000">
                  <a:srgbClr val="0000cc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82b84"/>
                </a:gs>
                <a:gs pos="50000">
                  <a:srgbClr val="0000cc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082b84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56002b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0000cc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56002b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0000cc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470D-F6C2-4A1B-A5E6-FAE3DAC7AE0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rh-darh@seplantec.se.gov.br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6200000">
            <a:off x="-2977920" y="3054600"/>
            <a:ext cx="68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ECRETARIA DO PLANEJAMENTO - SEPL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bbf7"/>
                </a:solidFill>
                <a:latin typeface="Arial"/>
              </a:rPr>
              <a:t>SUPERINTENDÊNCIA DE RECURSOS HÍDRICOS - SR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06800" y="551664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BRASÍL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Julho 200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7520" y="2665440"/>
            <a:ext cx="536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IRETRIZES PARA OUTO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43.ª REUNIÃO CTPO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STADO DE SERGI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9760" y="2379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931 / 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152280" y="-1295280"/>
            <a:ext cx="11886840" cy="9662760"/>
            <a:chOff x="-152280" y="-1295280"/>
            <a:chExt cx="11886840" cy="9662760"/>
          </a:xfrm>
        </p:grpSpPr>
        <p:sp>
          <p:nvSpPr>
            <p:cNvPr id="144" name=""/>
            <p:cNvSpPr/>
            <p:nvPr/>
          </p:nvSpPr>
          <p:spPr>
            <a:xfrm>
              <a:off x="-152280" y="-1295280"/>
              <a:ext cx="11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47840" y="912600"/>
              <a:ext cx="1776600" cy="683640"/>
              <a:chOff x="447840" y="912600"/>
              <a:chExt cx="1776600" cy="683640"/>
            </a:xfrm>
          </p:grpSpPr>
          <p:sp>
            <p:nvSpPr>
              <p:cNvPr id="146" name=""/>
              <p:cNvSpPr/>
              <p:nvPr/>
            </p:nvSpPr>
            <p:spPr>
              <a:xfrm>
                <a:off x="460800" y="917640"/>
                <a:ext cx="17496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 </a:t>
                </a: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Tipos de Destinação do Us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7840" y="912600"/>
                <a:ext cx="177660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224800" y="912600"/>
              <a:ext cx="1901880" cy="683640"/>
              <a:chOff x="2224800" y="912600"/>
              <a:chExt cx="1901880" cy="683640"/>
            </a:xfrm>
          </p:grpSpPr>
          <p:sp>
            <p:nvSpPr>
              <p:cNvPr id="149" name=""/>
              <p:cNvSpPr/>
              <p:nvPr/>
            </p:nvSpPr>
            <p:spPr>
              <a:xfrm>
                <a:off x="2237760" y="917640"/>
                <a:ext cx="18756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Área do imóvel beneficiad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24800" y="912600"/>
                <a:ext cx="190188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127400" y="912600"/>
              <a:ext cx="2096640" cy="683640"/>
              <a:chOff x="4127400" y="912600"/>
              <a:chExt cx="2096640" cy="683640"/>
            </a:xfrm>
          </p:grpSpPr>
          <p:sp>
            <p:nvSpPr>
              <p:cNvPr id="152" name=""/>
              <p:cNvSpPr/>
              <p:nvPr/>
            </p:nvSpPr>
            <p:spPr>
              <a:xfrm>
                <a:off x="4141080" y="917640"/>
                <a:ext cx="206928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Tipo de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27400" y="912600"/>
                <a:ext cx="209664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224400" y="912600"/>
              <a:ext cx="2042280" cy="683640"/>
              <a:chOff x="6224400" y="912600"/>
              <a:chExt cx="2042280" cy="683640"/>
            </a:xfrm>
          </p:grpSpPr>
          <p:sp>
            <p:nvSpPr>
              <p:cNvPr id="155" name=""/>
              <p:cNvSpPr/>
              <p:nvPr/>
            </p:nvSpPr>
            <p:spPr>
              <a:xfrm>
                <a:off x="6237360" y="917640"/>
                <a:ext cx="20160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ustos/Pagamento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24400" y="912600"/>
                <a:ext cx="204228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47840" y="1606320"/>
              <a:ext cx="1776600" cy="407880"/>
              <a:chOff x="447840" y="1606320"/>
              <a:chExt cx="17766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60800" y="1611360"/>
                <a:ext cx="1749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. Irrigaç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7840" y="1606320"/>
                <a:ext cx="177660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24800" y="1606320"/>
              <a:ext cx="1901880" cy="407880"/>
              <a:chOff x="2224800" y="1606320"/>
              <a:chExt cx="1901880" cy="407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7760" y="1611360"/>
                <a:ext cx="1875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Até 3,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24800" y="1606320"/>
                <a:ext cx="19018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127400" y="1606320"/>
              <a:ext cx="2096640" cy="407880"/>
              <a:chOff x="4127400" y="1606320"/>
              <a:chExt cx="2096640" cy="407880"/>
            </a:xfrm>
          </p:grpSpPr>
          <p:sp>
            <p:nvSpPr>
              <p:cNvPr id="164" name=""/>
              <p:cNvSpPr/>
              <p:nvPr/>
            </p:nvSpPr>
            <p:spPr>
              <a:xfrm>
                <a:off x="4141080" y="1611360"/>
                <a:ext cx="2069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127400" y="1606320"/>
                <a:ext cx="20966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224400" y="1606320"/>
              <a:ext cx="2042280" cy="407880"/>
              <a:chOff x="6224400" y="1606320"/>
              <a:chExt cx="2042280" cy="407880"/>
            </a:xfrm>
          </p:grpSpPr>
          <p:sp>
            <p:nvSpPr>
              <p:cNvPr id="167" name=""/>
              <p:cNvSpPr/>
              <p:nvPr/>
            </p:nvSpPr>
            <p:spPr>
              <a:xfrm>
                <a:off x="6237360" y="1611360"/>
                <a:ext cx="2016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24400" y="1606320"/>
                <a:ext cx="20422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47840" y="2023920"/>
              <a:ext cx="1776600" cy="408240"/>
              <a:chOff x="447840" y="2023920"/>
              <a:chExt cx="1776600" cy="408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60800" y="2028600"/>
                <a:ext cx="17496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2. Irrigaç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7840" y="2023920"/>
                <a:ext cx="177660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24800" y="2023920"/>
              <a:ext cx="1901880" cy="408240"/>
              <a:chOff x="2224800" y="2023920"/>
              <a:chExt cx="1901880" cy="4082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37760" y="2028600"/>
                <a:ext cx="18756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Acima de 3,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24800" y="2023920"/>
                <a:ext cx="190188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27400" y="2023920"/>
              <a:ext cx="2096640" cy="408240"/>
              <a:chOff x="4127400" y="2023920"/>
              <a:chExt cx="2096640" cy="408240"/>
            </a:xfrm>
          </p:grpSpPr>
          <p:sp>
            <p:nvSpPr>
              <p:cNvPr id="176" name=""/>
              <p:cNvSpPr/>
              <p:nvPr/>
            </p:nvSpPr>
            <p:spPr>
              <a:xfrm>
                <a:off x="4141080" y="2028600"/>
                <a:ext cx="206928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27400" y="2023920"/>
                <a:ext cx="209664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224400" y="2023920"/>
              <a:ext cx="2042280" cy="408240"/>
              <a:chOff x="6224400" y="2023920"/>
              <a:chExt cx="2042280" cy="408240"/>
            </a:xfrm>
          </p:grpSpPr>
          <p:sp>
            <p:nvSpPr>
              <p:cNvPr id="179" name=""/>
              <p:cNvSpPr/>
              <p:nvPr/>
            </p:nvSpPr>
            <p:spPr>
              <a:xfrm>
                <a:off x="6237360" y="2028600"/>
                <a:ext cx="20160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,0 UFP/SE + 0,05 UFP/SE p/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24400" y="2023920"/>
                <a:ext cx="204228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47840" y="2441520"/>
              <a:ext cx="1776600" cy="570960"/>
              <a:chOff x="447840" y="2441520"/>
              <a:chExt cx="1776600" cy="570960"/>
            </a:xfrm>
          </p:grpSpPr>
          <p:sp>
            <p:nvSpPr>
              <p:cNvPr id="182" name=""/>
              <p:cNvSpPr/>
              <p:nvPr/>
            </p:nvSpPr>
            <p:spPr>
              <a:xfrm>
                <a:off x="460800" y="244656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840" y="2441520"/>
                <a:ext cx="177660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224800" y="2441520"/>
              <a:ext cx="1901880" cy="570960"/>
              <a:chOff x="2224800" y="2441520"/>
              <a:chExt cx="1901880" cy="570960"/>
            </a:xfrm>
          </p:grpSpPr>
          <p:sp>
            <p:nvSpPr>
              <p:cNvPr id="185" name=""/>
              <p:cNvSpPr/>
              <p:nvPr/>
            </p:nvSpPr>
            <p:spPr>
              <a:xfrm>
                <a:off x="2237760" y="244656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onstrução de barramento com regularização de vaz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24800" y="2441520"/>
                <a:ext cx="190188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27400" y="2441520"/>
              <a:ext cx="2096640" cy="570960"/>
              <a:chOff x="4127400" y="2441520"/>
              <a:chExt cx="2096640" cy="570960"/>
            </a:xfrm>
          </p:grpSpPr>
          <p:sp>
            <p:nvSpPr>
              <p:cNvPr id="188" name=""/>
              <p:cNvSpPr/>
              <p:nvPr/>
            </p:nvSpPr>
            <p:spPr>
              <a:xfrm>
                <a:off x="4141080" y="244656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27400" y="2441520"/>
                <a:ext cx="209664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224400" y="2441520"/>
              <a:ext cx="2042280" cy="570960"/>
              <a:chOff x="6224400" y="2441520"/>
              <a:chExt cx="2042280" cy="570960"/>
            </a:xfrm>
          </p:grpSpPr>
          <p:sp>
            <p:nvSpPr>
              <p:cNvPr id="191" name=""/>
              <p:cNvSpPr/>
              <p:nvPr/>
            </p:nvSpPr>
            <p:spPr>
              <a:xfrm>
                <a:off x="6237360" y="244656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6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24400" y="2441520"/>
                <a:ext cx="204228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7840" y="3022200"/>
              <a:ext cx="1776600" cy="570600"/>
              <a:chOff x="447840" y="3022200"/>
              <a:chExt cx="1776600" cy="570600"/>
            </a:xfrm>
          </p:grpSpPr>
          <p:sp>
            <p:nvSpPr>
              <p:cNvPr id="194" name=""/>
              <p:cNvSpPr/>
              <p:nvPr/>
            </p:nvSpPr>
            <p:spPr>
              <a:xfrm>
                <a:off x="460800" y="302688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4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7840" y="3022200"/>
                <a:ext cx="177660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2224800" y="3022200"/>
              <a:ext cx="1901880" cy="570600"/>
              <a:chOff x="2224800" y="3022200"/>
              <a:chExt cx="1901880" cy="570600"/>
            </a:xfrm>
          </p:grpSpPr>
          <p:sp>
            <p:nvSpPr>
              <p:cNvPr id="197" name=""/>
              <p:cNvSpPr/>
              <p:nvPr/>
            </p:nvSpPr>
            <p:spPr>
              <a:xfrm>
                <a:off x="2237760" y="302688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onstrução de canais com ou sem desvio do curso do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24800" y="3022200"/>
                <a:ext cx="19018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127400" y="3022200"/>
              <a:ext cx="2096640" cy="570600"/>
              <a:chOff x="4127400" y="3022200"/>
              <a:chExt cx="2096640" cy="570600"/>
            </a:xfrm>
          </p:grpSpPr>
          <p:sp>
            <p:nvSpPr>
              <p:cNvPr id="200" name=""/>
              <p:cNvSpPr/>
              <p:nvPr/>
            </p:nvSpPr>
            <p:spPr>
              <a:xfrm>
                <a:off x="4141080" y="302688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27400" y="3022200"/>
                <a:ext cx="209664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224400" y="3022200"/>
              <a:ext cx="2042280" cy="570600"/>
              <a:chOff x="6224400" y="3022200"/>
              <a:chExt cx="2042280" cy="570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237360" y="302688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24400" y="3022200"/>
                <a:ext cx="20422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47840" y="3602520"/>
              <a:ext cx="1776600" cy="570600"/>
              <a:chOff x="447840" y="3602520"/>
              <a:chExt cx="1776600" cy="570600"/>
            </a:xfrm>
          </p:grpSpPr>
          <p:sp>
            <p:nvSpPr>
              <p:cNvPr id="206" name=""/>
              <p:cNvSpPr/>
              <p:nvPr/>
            </p:nvSpPr>
            <p:spPr>
              <a:xfrm>
                <a:off x="460800" y="360720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5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7840" y="3602520"/>
                <a:ext cx="177660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224800" y="3602520"/>
              <a:ext cx="1901880" cy="570600"/>
              <a:chOff x="2224800" y="3602520"/>
              <a:chExt cx="1901880" cy="570600"/>
            </a:xfrm>
          </p:grpSpPr>
          <p:sp>
            <p:nvSpPr>
              <p:cNvPr id="209" name=""/>
              <p:cNvSpPr/>
              <p:nvPr/>
            </p:nvSpPr>
            <p:spPr>
              <a:xfrm>
                <a:off x="2237760" y="360720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Obras que possam interferir no curso, vazão ou regime do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224800" y="3602520"/>
                <a:ext cx="19018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127400" y="3602520"/>
              <a:ext cx="2096640" cy="570600"/>
              <a:chOff x="4127400" y="3602520"/>
              <a:chExt cx="2096640" cy="570600"/>
            </a:xfrm>
          </p:grpSpPr>
          <p:sp>
            <p:nvSpPr>
              <p:cNvPr id="212" name=""/>
              <p:cNvSpPr/>
              <p:nvPr/>
            </p:nvSpPr>
            <p:spPr>
              <a:xfrm>
                <a:off x="4141080" y="360720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27400" y="3602520"/>
                <a:ext cx="209664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224400" y="3602520"/>
              <a:ext cx="2042280" cy="570600"/>
              <a:chOff x="6224400" y="3602520"/>
              <a:chExt cx="2042280" cy="570600"/>
            </a:xfrm>
          </p:grpSpPr>
          <p:sp>
            <p:nvSpPr>
              <p:cNvPr id="215" name=""/>
              <p:cNvSpPr/>
              <p:nvPr/>
            </p:nvSpPr>
            <p:spPr>
              <a:xfrm>
                <a:off x="6237360" y="360720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24400" y="3602520"/>
                <a:ext cx="20422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47840" y="4182480"/>
              <a:ext cx="1776600" cy="407880"/>
              <a:chOff x="447840" y="4182480"/>
              <a:chExt cx="1776600" cy="407880"/>
            </a:xfrm>
          </p:grpSpPr>
          <p:sp>
            <p:nvSpPr>
              <p:cNvPr id="218" name=""/>
              <p:cNvSpPr/>
              <p:nvPr/>
            </p:nvSpPr>
            <p:spPr>
              <a:xfrm>
                <a:off x="460800" y="4187520"/>
                <a:ext cx="1749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6. Lançamento de efluentes líquido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7840" y="4182480"/>
                <a:ext cx="177660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24800" y="4182480"/>
              <a:ext cx="1901880" cy="407880"/>
              <a:chOff x="2224800" y="4182480"/>
              <a:chExt cx="1901880" cy="407880"/>
            </a:xfrm>
          </p:grpSpPr>
          <p:sp>
            <p:nvSpPr>
              <p:cNvPr id="221" name=""/>
              <p:cNvSpPr/>
              <p:nvPr/>
            </p:nvSpPr>
            <p:spPr>
              <a:xfrm>
                <a:off x="2237760" y="4187520"/>
                <a:ext cx="1875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24800" y="4182480"/>
                <a:ext cx="19018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127400" y="4182480"/>
              <a:ext cx="2096640" cy="407880"/>
              <a:chOff x="4127400" y="4182480"/>
              <a:chExt cx="2096640" cy="407880"/>
            </a:xfrm>
          </p:grpSpPr>
          <p:sp>
            <p:nvSpPr>
              <p:cNvPr id="224" name=""/>
              <p:cNvSpPr/>
              <p:nvPr/>
            </p:nvSpPr>
            <p:spPr>
              <a:xfrm>
                <a:off x="4141080" y="4187520"/>
                <a:ext cx="2069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27400" y="4182480"/>
                <a:ext cx="20966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224400" y="4182480"/>
              <a:ext cx="2042280" cy="407880"/>
              <a:chOff x="6224400" y="4182480"/>
              <a:chExt cx="2042280" cy="407880"/>
            </a:xfrm>
          </p:grpSpPr>
          <p:sp>
            <p:nvSpPr>
              <p:cNvPr id="227" name=""/>
              <p:cNvSpPr/>
              <p:nvPr/>
            </p:nvSpPr>
            <p:spPr>
              <a:xfrm>
                <a:off x="6237360" y="4187520"/>
                <a:ext cx="2016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224400" y="4182480"/>
                <a:ext cx="20422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47840" y="4600440"/>
              <a:ext cx="1776600" cy="406800"/>
              <a:chOff x="447840" y="4600440"/>
              <a:chExt cx="1776600" cy="406800"/>
            </a:xfrm>
          </p:grpSpPr>
          <p:sp>
            <p:nvSpPr>
              <p:cNvPr id="230" name=""/>
              <p:cNvSpPr/>
              <p:nvPr/>
            </p:nvSpPr>
            <p:spPr>
              <a:xfrm>
                <a:off x="460800" y="4605120"/>
                <a:ext cx="1749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7. Abastecimento Human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7840" y="4600440"/>
                <a:ext cx="177660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224800" y="4600440"/>
              <a:ext cx="1901880" cy="406800"/>
              <a:chOff x="2224800" y="4600440"/>
              <a:chExt cx="1901880" cy="406800"/>
            </a:xfrm>
          </p:grpSpPr>
          <p:sp>
            <p:nvSpPr>
              <p:cNvPr id="233" name=""/>
              <p:cNvSpPr/>
              <p:nvPr/>
            </p:nvSpPr>
            <p:spPr>
              <a:xfrm>
                <a:off x="2237760" y="4605120"/>
                <a:ext cx="1875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24800" y="4600440"/>
                <a:ext cx="19018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127400" y="4600440"/>
              <a:ext cx="2096640" cy="406800"/>
              <a:chOff x="4127400" y="4600440"/>
              <a:chExt cx="2096640" cy="406800"/>
            </a:xfrm>
          </p:grpSpPr>
          <p:sp>
            <p:nvSpPr>
              <p:cNvPr id="236" name=""/>
              <p:cNvSpPr/>
              <p:nvPr/>
            </p:nvSpPr>
            <p:spPr>
              <a:xfrm>
                <a:off x="4141080" y="4605120"/>
                <a:ext cx="2069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27400" y="4600440"/>
                <a:ext cx="209664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224400" y="4600440"/>
              <a:ext cx="2042280" cy="406800"/>
              <a:chOff x="6224400" y="4600440"/>
              <a:chExt cx="2042280" cy="406800"/>
            </a:xfrm>
          </p:grpSpPr>
          <p:sp>
            <p:nvSpPr>
              <p:cNvPr id="239" name=""/>
              <p:cNvSpPr/>
              <p:nvPr/>
            </p:nvSpPr>
            <p:spPr>
              <a:xfrm>
                <a:off x="6237360" y="4605120"/>
                <a:ext cx="2016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4400" y="4600440"/>
                <a:ext cx="20422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840" y="5018400"/>
              <a:ext cx="1776600" cy="406800"/>
              <a:chOff x="447840" y="5018400"/>
              <a:chExt cx="1776600" cy="406800"/>
            </a:xfrm>
          </p:grpSpPr>
          <p:sp>
            <p:nvSpPr>
              <p:cNvPr id="242" name=""/>
              <p:cNvSpPr/>
              <p:nvPr/>
            </p:nvSpPr>
            <p:spPr>
              <a:xfrm>
                <a:off x="460800" y="5023440"/>
                <a:ext cx="1749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8.Abastecimento industr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840" y="5018400"/>
                <a:ext cx="177660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224800" y="5018400"/>
              <a:ext cx="1901880" cy="406800"/>
              <a:chOff x="2224800" y="5018400"/>
              <a:chExt cx="1901880" cy="406800"/>
            </a:xfrm>
          </p:grpSpPr>
          <p:sp>
            <p:nvSpPr>
              <p:cNvPr id="245" name=""/>
              <p:cNvSpPr/>
              <p:nvPr/>
            </p:nvSpPr>
            <p:spPr>
              <a:xfrm>
                <a:off x="2237760" y="5023440"/>
                <a:ext cx="1875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24800" y="5018400"/>
                <a:ext cx="19018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127400" y="5018400"/>
              <a:ext cx="2096640" cy="406800"/>
              <a:chOff x="4127400" y="5018400"/>
              <a:chExt cx="2096640" cy="406800"/>
            </a:xfrm>
          </p:grpSpPr>
          <p:sp>
            <p:nvSpPr>
              <p:cNvPr id="248" name=""/>
              <p:cNvSpPr/>
              <p:nvPr/>
            </p:nvSpPr>
            <p:spPr>
              <a:xfrm>
                <a:off x="4141080" y="5023440"/>
                <a:ext cx="2069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27400" y="5018400"/>
                <a:ext cx="209664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24400" y="5018400"/>
              <a:ext cx="2042280" cy="406800"/>
              <a:chOff x="6224400" y="5018400"/>
              <a:chExt cx="2042280" cy="406800"/>
            </a:xfrm>
          </p:grpSpPr>
          <p:sp>
            <p:nvSpPr>
              <p:cNvPr id="251" name=""/>
              <p:cNvSpPr/>
              <p:nvPr/>
            </p:nvSpPr>
            <p:spPr>
              <a:xfrm>
                <a:off x="6237360" y="5023440"/>
                <a:ext cx="2016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24400" y="5018400"/>
                <a:ext cx="20422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47840" y="5436000"/>
              <a:ext cx="1776600" cy="716760"/>
              <a:chOff x="447840" y="5436000"/>
              <a:chExt cx="1776600" cy="716760"/>
            </a:xfrm>
          </p:grpSpPr>
          <p:sp>
            <p:nvSpPr>
              <p:cNvPr id="254" name=""/>
              <p:cNvSpPr/>
              <p:nvPr/>
            </p:nvSpPr>
            <p:spPr>
              <a:xfrm>
                <a:off x="460800" y="5441400"/>
                <a:ext cx="17496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Publicação de Portarias no Diário Oficial do Estad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7840" y="5436000"/>
                <a:ext cx="177660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224800" y="5436000"/>
              <a:ext cx="1901880" cy="716760"/>
              <a:chOff x="2224800" y="5436000"/>
              <a:chExt cx="1901880" cy="716760"/>
            </a:xfrm>
          </p:grpSpPr>
          <p:sp>
            <p:nvSpPr>
              <p:cNvPr id="257" name=""/>
              <p:cNvSpPr/>
              <p:nvPr/>
            </p:nvSpPr>
            <p:spPr>
              <a:xfrm>
                <a:off x="2237760" y="5441400"/>
                <a:ext cx="18756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Qualquer uso com exclusão dos irrigantes com áreas beneficiadas em até 2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24800" y="5436000"/>
                <a:ext cx="190188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27400" y="5436000"/>
              <a:ext cx="2096640" cy="716760"/>
              <a:chOff x="4127400" y="5436000"/>
              <a:chExt cx="2096640" cy="71676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1080" y="5441400"/>
                <a:ext cx="206928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27400" y="5436000"/>
                <a:ext cx="209664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224400" y="5436000"/>
              <a:ext cx="2042280" cy="716760"/>
              <a:chOff x="6224400" y="5436000"/>
              <a:chExt cx="2042280" cy="716760"/>
            </a:xfrm>
          </p:grpSpPr>
          <p:sp>
            <p:nvSpPr>
              <p:cNvPr id="263" name=""/>
              <p:cNvSpPr/>
              <p:nvPr/>
            </p:nvSpPr>
            <p:spPr>
              <a:xfrm>
                <a:off x="6237360" y="5441400"/>
                <a:ext cx="20160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0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24400" y="5436000"/>
                <a:ext cx="204228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-152280" y="7938720"/>
              <a:ext cx="11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475320" y="6172200"/>
            <a:ext cx="104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UFP/SE: R$ 19,33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609480"/>
            <a:ext cx="914400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1º. Ficam dispensados de outorga, considerando-se como de </a:t>
            </a:r>
            <a:r>
              <a:rPr b="1" i="1" lang="pt-BR" sz="1800" spc="-1" strike="noStrike">
                <a:solidFill>
                  <a:srgbClr val="66ccff"/>
                </a:solidFill>
                <a:latin typeface="Arial"/>
                <a:ea typeface="Times New Roman"/>
              </a:rPr>
              <a:t>uso insignificant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as seguintes obras hídric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Açude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olume de acumulação de até 50.000 m³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com área de espelho d’água inferior ou igual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10 (dez) tarefas ou 3 h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altura de barramento inferior a 7 (sete) metr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Perfuração de poços rasos, com profundidade inferior a 20 (vinte) metros e com vazão de até 2.500 (dois mil e quinhentos) litros por hora e, ainda, poços com caráter exclusivo de pesquisa, exceto em aqüíferos sedimentares considerados estratégicos ou diretamente alimentados por rios perenes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Perfuração de poç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medianamente profundos (20 a 60 metros) e profundos (maior que 60 metros) com vazões inferiores a 2.500 (dois mil e quinhentos) litros por hora, exceto quando se trata de poços de responsabilidade de órgãos públicos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aptações a fio d’águ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inferiores a 2.500</a:t>
            </a:r>
            <a:r>
              <a:rPr b="1" i="1" lang="pt-BR" sz="15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(dois mil e quinhentos) litros por hora, ou cerca de 0,7 (sete décimo) litros/segundo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Barragen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e derivação ou regularização de nível cuj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bacia de contribuição não exceda 3 (três) km²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Obras de transferência, entre bacias hidrográficas, de vazões inferiores a 2.500 (dois mil e quinhentos) litros por hor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400" y="23796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1 CONERH/SE (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914400"/>
            <a:ext cx="914400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1º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Quando a soma de captações ou derivações consideradas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insignificantes e cadastradas atingir o percentual significativo de 20% (vinte por cento)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o explícito conflito de uso em um dado manancial, não mais devem ser dispensadas ou permitidas novas captações, derivações ou obras hídricas, ficando sujeitas aos procedimentos legais de outorg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2º. Fica também dispensado de outorga o direito de uso de água para satisfação das necessidades da população d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núcleos rurais inferiores ou iguais a 80 (oitenta) casas ou 400 (quatrocentos) habitantes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1º. Até que as vazões de referências sejam estabelecidas com maior precisão nos Estudos de Disponibilidade de Água e Demanda de Recursos Hídricos, deve ser adotada como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de referência a “Q90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(vazão garantida em 90% do ano hidrológico), para cada Unidade de Planejamento, mas apresentadas no documento referido no “caput” deste artig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Nas outorgas de direito de uso de água para as derivações em um corpo hídrico superficial, deve ser prevista um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ambiental para jusante equivalente a 10%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(dez por cento) da “Q90”. dispensados de outorga, considerando-se como de uso insignificante, as seguintes obras hídric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9400" y="23796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1 CONERH/SE (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761840" y="1371600"/>
            <a:ext cx="561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SEPL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SR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rua Vila Cristina, 1.05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Fone: (79) 3214-664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Fax: (79) 3214-732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afbbf7"/>
                </a:solidFill>
                <a:uFillTx/>
                <a:latin typeface="Times New Roman"/>
                <a:hlinkClick r:id="rId1"/>
              </a:rPr>
              <a:t>srh-darh@seplantec.se.gov.b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www.seplantec-srh.se.gov.b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 rot="16200000">
            <a:off x="-1915200" y="2297520"/>
            <a:ext cx="46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SECRETARIA DE MEIO AMBIENTE 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RECURSOS NATURAIS - SEM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9160" y="2330280"/>
            <a:ext cx="536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IRETRIZES PARA OUTO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- ESTADO DO PIAUÍ 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038480" y="146160"/>
            <a:ext cx="1219320" cy="6705360"/>
          </a:xfrm>
          <a:prstGeom prst="downArrow">
            <a:avLst>
              <a:gd name="adj1" fmla="val 28648"/>
              <a:gd name="adj2" fmla="val 39437"/>
            </a:avLst>
          </a:prstGeom>
          <a:noFill/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75040" y="609480"/>
            <a:ext cx="327456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9.433 (janeiro/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4616280"/>
            <a:ext cx="6096240" cy="1282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olução CERH n.º 4 (abril/2005) – PIAU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Dispõe sobre os critérios e procedimentos provisórios para outorga preventiva e outorga de direito de uso de recursos hídric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226044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203184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Criação da ANA (2000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29000" y="434340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411480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Regulamentação do CONERH (200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1000" y="1136520"/>
            <a:ext cx="14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LEG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2565360"/>
            <a:ext cx="6096240" cy="10083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n.º 5.165 (agosto/2000) – PIAU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Dispõe sobre A Política Estadual de recursos hídricos, institui o sistema estadual de gerenciamento de recursos hídric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85800"/>
            <a:ext cx="9144000" cy="58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3º. Ficam dispensados de outorga, considerando-se como de </a:t>
            </a:r>
            <a:r>
              <a:rPr b="1" i="1" lang="pt-BR" sz="1800" spc="-1" strike="noStrike">
                <a:solidFill>
                  <a:srgbClr val="66ccff"/>
                </a:solidFill>
                <a:latin typeface="Arial"/>
                <a:ea typeface="Times New Roman"/>
              </a:rPr>
              <a:t>pouca expressão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s volumes acumulados ou captações nos seguintes tipos de obr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Açud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olume de acumulação de até 50.000 m³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com área de espelho d’água menor ou igual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3 (três) hectare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ainda,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altura máxima do barramento menor ou igual a 6 (seis) metr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Poç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de uso de até 2,0 m</a:t>
            </a:r>
            <a:r>
              <a:rPr b="1" i="1" lang="pt-BR" sz="18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3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h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ainda, poços com caráter exclusivo de pesquisa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aptações a fio d’águ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média contínua menor ou igual a 0,56 L/s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Barragen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e derivação ou regularização de nível cuj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bacia de contribuição não exceda a 2 hectares, ou com altura máxima menor do que 3m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Obras de transferênci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ntre bacias hidrográficas, de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inferiores a 0,56 L/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Quando a soma de captações ou derivações consideradas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de pouca expressão cadastrada atingir o percentual significativo de 20% (vinte por cento)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o explícito conflito de uso em um dado manancial, não serão mais dispensadas ou permitidas novas captações ou obras hídricas, estando sujeitas aos procedimentos legais de outorg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915840"/>
            <a:ext cx="91440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4º. Fica dispensada a outorga de direito de uso de água para satisfação das necessidades da população d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núcleos rurais inferiores ou iguais a 600 habitantes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6º. As vazões de referência a serem utilizadas, para cálculo das disponibilidades hídricas, em cada local de interesse, deverão estar de acordo com os Planos de Recursos Hídricos de Bacias Hidrográficas. 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1º. Até que as vazões de referências sejam estabelecidas com maior precisão nos Estudos de Disponibilidade e Demanda de Água, deverão ser adotadas como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de referência: para rios perenes ou perenizados, “Q95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; 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para reservatórios, “Q90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Nas outorgas de direito de uso de água para as derivações em um corpo hídrico superficial, deve ser prevista um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ambiental para jusante equivalente a 20%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seja deverão ser outorgados no máximo 80% da Q95 para rios perenes ou perenizados, e no máximo 80% da Q90 para reservatórios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128600"/>
            <a:ext cx="91440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7º. Para poços 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máxima outorgável será de 50% da vazão de referênci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ncontrada em testes de bombeamento com duração mínima de 24 horas, devendo a vazão outorgada ser limitada às necessidades da demanda prevista para o horizonte de projeto ou da vida útil do empreendiment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8º. Nas fontes de usos múltiplos a vazão outorgável par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ada usuário individual será de no máximo 25% da vazão outorgável da font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xceto para os usos prioritários: abastecimento humano e dessedentação animal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9º. O prazo de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lidade das outorgas será de até 3 an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a critério da SEMAR, para qualquer requerimento e independente da finalidade ou da natureza jurídica do interessad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32642" t="13891" r="14582" b="12963"/>
          <a:stretch/>
        </p:blipFill>
        <p:spPr>
          <a:xfrm>
            <a:off x="1752480" y="838080"/>
            <a:ext cx="57913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800600" y="1600200"/>
            <a:ext cx="2098800" cy="655560"/>
            <a:chOff x="4800600" y="1600200"/>
            <a:chExt cx="2098800" cy="655560"/>
          </a:xfrm>
        </p:grpSpPr>
        <p:sp>
          <p:nvSpPr>
            <p:cNvPr id="97" name=""/>
            <p:cNvSpPr/>
            <p:nvPr/>
          </p:nvSpPr>
          <p:spPr>
            <a:xfrm flipV="1">
              <a:off x="4800600" y="1665360"/>
              <a:ext cx="1994040" cy="590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54680" y="1600200"/>
              <a:ext cx="14472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5" y="91"/>
                  </a:moveTo>
                  <a:lnTo>
                    <a:pt x="91" y="17"/>
                  </a:lnTo>
                  <a:lnTo>
                    <a:pt x="0" y="0"/>
                  </a:lnTo>
                  <a:lnTo>
                    <a:pt x="25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013160" y="1523880"/>
            <a:ext cx="178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ão Francisco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71600" y="4191120"/>
            <a:ext cx="2097000" cy="470880"/>
            <a:chOff x="1371600" y="4191120"/>
            <a:chExt cx="2097000" cy="470880"/>
          </a:xfrm>
        </p:grpSpPr>
        <p:sp>
          <p:nvSpPr>
            <p:cNvPr id="101" name=""/>
            <p:cNvSpPr/>
            <p:nvPr/>
          </p:nvSpPr>
          <p:spPr>
            <a:xfrm flipH="1" flipV="1">
              <a:off x="1476360" y="4268880"/>
              <a:ext cx="1992240" cy="3931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419112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0"/>
                  </a:moveTo>
                  <a:lnTo>
                    <a:pt x="0" y="33"/>
                  </a:lnTo>
                  <a:lnTo>
                    <a:pt x="74" y="9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57800" y="4800600"/>
            <a:ext cx="2097000" cy="669960"/>
            <a:chOff x="5257800" y="4800600"/>
            <a:chExt cx="2097000" cy="669960"/>
          </a:xfrm>
        </p:grpSpPr>
        <p:sp>
          <p:nvSpPr>
            <p:cNvPr id="104" name=""/>
            <p:cNvSpPr/>
            <p:nvPr/>
          </p:nvSpPr>
          <p:spPr>
            <a:xfrm>
              <a:off x="5257800" y="4800600"/>
              <a:ext cx="1992240" cy="590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11880" y="532620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0" y="91"/>
                  </a:moveTo>
                  <a:lnTo>
                    <a:pt x="90" y="66"/>
                  </a:lnTo>
                  <a:lnTo>
                    <a:pt x="24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3720" y="3200400"/>
            <a:ext cx="1364760" cy="460440"/>
            <a:chOff x="2133720" y="3200400"/>
            <a:chExt cx="1364760" cy="460440"/>
          </a:xfrm>
        </p:grpSpPr>
        <p:sp>
          <p:nvSpPr>
            <p:cNvPr id="107" name=""/>
            <p:cNvSpPr/>
            <p:nvPr/>
          </p:nvSpPr>
          <p:spPr>
            <a:xfrm flipH="1" flipV="1">
              <a:off x="2238120" y="3279960"/>
              <a:ext cx="1260360" cy="380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320040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0"/>
                  </a:moveTo>
                  <a:lnTo>
                    <a:pt x="0" y="25"/>
                  </a:lnTo>
                  <a:lnTo>
                    <a:pt x="66" y="9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638680"/>
            <a:ext cx="1258560" cy="366480"/>
            <a:chOff x="1905120" y="5638680"/>
            <a:chExt cx="1258560" cy="366480"/>
          </a:xfrm>
        </p:grpSpPr>
        <p:sp>
          <p:nvSpPr>
            <p:cNvPr id="110" name=""/>
            <p:cNvSpPr/>
            <p:nvPr/>
          </p:nvSpPr>
          <p:spPr>
            <a:xfrm flipH="1" flipV="1">
              <a:off x="2009880" y="5716080"/>
              <a:ext cx="1153800" cy="2890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563868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0"/>
                  </a:moveTo>
                  <a:lnTo>
                    <a:pt x="0" y="33"/>
                  </a:lnTo>
                  <a:lnTo>
                    <a:pt x="74" y="9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410080" y="3657600"/>
            <a:ext cx="2098800" cy="471600"/>
            <a:chOff x="5410080" y="3657600"/>
            <a:chExt cx="2098800" cy="471600"/>
          </a:xfrm>
        </p:grpSpPr>
        <p:sp>
          <p:nvSpPr>
            <p:cNvPr id="113" name=""/>
            <p:cNvSpPr/>
            <p:nvPr/>
          </p:nvSpPr>
          <p:spPr>
            <a:xfrm>
              <a:off x="5410080" y="3657600"/>
              <a:ext cx="1994040" cy="3938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64160" y="398448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91"/>
                  </a:moveTo>
                  <a:lnTo>
                    <a:pt x="91" y="58"/>
                  </a:lnTo>
                  <a:lnTo>
                    <a:pt x="16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6400" y="2895480"/>
            <a:ext cx="1503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Vaza Barris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7040" y="4038480"/>
            <a:ext cx="135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Japaratuba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1880" y="4038480"/>
            <a:ext cx="653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iauí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680" y="5410080"/>
            <a:ext cx="581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l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2960" y="5410080"/>
            <a:ext cx="96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ergipe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52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Times New Roman"/>
              </a:rPr>
              <a:t>BACIAS HIDROGRÁFICAS DE SERGI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415800"/>
          <a:ext cx="7772400" cy="6061320"/>
        </p:xfrm>
        <a:graphic>
          <a:graphicData uri="http://schemas.openxmlformats.org/drawingml/2006/table">
            <a:tbl>
              <a:tblPr/>
              <a:tblGrid>
                <a:gridCol w="3429000"/>
                <a:gridCol w="1008000"/>
                <a:gridCol w="795240"/>
                <a:gridCol w="795600"/>
                <a:gridCol w="892080"/>
                <a:gridCol w="8524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ão implantad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udos em andament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udos concluídos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m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mplantaçã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mplantad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lan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nquadramento dos Corpos d´Águ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und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Outorga de Direito de Us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brança pelo Uso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istema Estadual de Informações sobr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nselh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mitê de Bacia Hidrográfic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lano Estadual de Capacitação em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11520" y="19224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TUAÇÃO ATUAL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977920" y="3054600"/>
            <a:ext cx="68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ECRETARIA DO PLANEJAMENTO - SEPL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bbf7"/>
                </a:solidFill>
                <a:latin typeface="Arial"/>
              </a:rPr>
              <a:t>SUPERINTENDÊNCIA DE RECURSOS HÍDRICOS - SR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038480" y="152280"/>
            <a:ext cx="1219320" cy="6705720"/>
          </a:xfrm>
          <a:prstGeom prst="downArrow">
            <a:avLst>
              <a:gd name="adj1" fmla="val 28648"/>
              <a:gd name="adj2" fmla="val 39439"/>
            </a:avLst>
          </a:prstGeom>
          <a:noFill/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50360" y="2389320"/>
            <a:ext cx="513684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3.870 (setembro/1997) - SERGI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9960" y="1557360"/>
            <a:ext cx="486540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3.595 (janeiro/1995) - SERGI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9640" y="3467160"/>
            <a:ext cx="300168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creto 18.456 (199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33760" y="4691160"/>
            <a:ext cx="418572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olução CONERH 01 (200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45140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22280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Regulamentação do CONERH (1999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000" y="1136520"/>
            <a:ext cx="14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LEG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85880" y="4370400"/>
            <a:ext cx="69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IRETRIZES E CRITÉRIOS ADOTADO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PARA OUTORGA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0120" y="23976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Lei Estadual n.º 3.870 / 97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849320"/>
            <a:ext cx="7391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em com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ase a Lei n.º 9.433/97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organte é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PLAN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, através da SRH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stabelec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s usos sujeitos à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s usos que independem da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asos em que a outorga poderá ser suspens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azo não excedente a 35 ano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838080"/>
            <a:ext cx="8839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orga emitida na modalidade d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utorização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evista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utorga prévia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ode ser feita por prazo renovável, não superior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0 (trinta) anos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enquanto não for aprovado o plano diretor de recursos hídricos de uma bacia hidrográfica, a outorga deve obedecer aos critérios gerais estabelecidos pel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Conselho Estadual de Recursos Hídricos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presenta també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usos sujeitos  e independentes de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ritérios de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cedimentos administrativos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uspensão e extinção da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regime de racionamento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frações e penalidad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1017720"/>
            <a:ext cx="892980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9º. A outorga deve observar os planos estaduais de recursos hídricos e os planos diretores das bacias, e em especial: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 - as prioridades de uso estabelecidas na Lei Federal n.º 9.433/97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I - a classe em que o corpo hídrico estiver enquadrado, em consonância com a legislação ambiental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II - a preservação dos usos múltiplos previstos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V - a manutenção das condições adequadas ao transporte aquaviário, quando couber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1º - Enquanto não for aprovado o plano diretor de recursos hídricos de uma bacia hidrográfica, a outorga deve obedecer aos </a:t>
            </a:r>
            <a:r>
              <a:rPr b="1" lang="pt-BR" sz="1900" spc="-1" strike="noStrike">
                <a:solidFill>
                  <a:srgbClr val="ffcc00"/>
                </a:solidFill>
                <a:latin typeface="Times New Roman"/>
              </a:rPr>
              <a:t>critérios gerais estabelecidos pelo Conselho Estadual de Recursos Hídricos</a:t>
            </a: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2º - Em igualdade de condições, devem ter prioridade os projetos que atenderem melhor ao interesse público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1523880"/>
            <a:ext cx="864072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10. Quando a outorga for emitida sem que haja um plano diretor de bacia hidrográfica, os outorgados ficam obrigados a adaptar suas atividades e obras ao plano superveniente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12. O nível de garantia do volume de águas superficiais outorgado para cada usuário deve ser de, no mínimo, 85% (oitenta e cinco por cento), e, no máximo, 95% (noventa e cinco por cento), exceto quando o plano diretor da bacia hidrográfica adotar outros valores para o corpo hídrico, ou quando o poder público outorgante, motivadamente, assim o decidir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1º – O poder público outorgante deve calcular o volume outorgável sazonalmente em cada corpo hídrico em função do nível de garantia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2º - O outorgado deve implantar e manter em funcionamento equipamento de medição para monitoramento contínuo da vazão captada ou lançada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52:01Z</dcterms:created>
  <dc:creator>Seplantec</dc:creator>
  <dc:description/>
  <dc:language>en-US</dc:language>
  <cp:lastModifiedBy>Cliente</cp:lastModifiedBy>
  <dcterms:modified xsi:type="dcterms:W3CDTF">2005-07-01T11:55:17Z</dcterms:modified>
  <cp:revision>413</cp:revision>
  <dc:subject/>
  <dc:title>Apresentação do PowerPoint</dc:title>
</cp:coreProperties>
</file>