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5.png" ContentType="image/png"/>
  <Override PartName="/ppt/media/CAMERA.WAV" ContentType="audio/x-wav"/>
  <Override PartName="/ppt/media/image2.jpeg" ContentType="image/jpeg"/>
  <Override PartName="/ppt/media/image3.jpeg" ContentType="image/jpeg"/>
  <Override PartName="/ppt/media/image6.png" ContentType="image/png"/>
  <Override PartName="/ppt/media/image10.wmf" ContentType="image/x-wmf"/>
  <Override PartName="/ppt/media/image4.jpeg" ContentType="image/jpeg"/>
  <Override PartName="/ppt/media/image1.jpeg" ContentType="image/jpeg"/>
  <Override PartName="/ppt/media/image7.png" ContentType="image/png"/>
  <Override PartName="/ppt/media/image11.wmf" ContentType="image/x-wmf"/>
  <Override PartName="/ppt/media/image12.png" ContentType="image/png"/>
  <Override PartName="/ppt/media/image13.png" ContentType="image/png"/>
  <Override PartName="/ppt/media/image8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DC25F-46E7-4853-9C7B-02DD2D098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34DAA-D42D-4D88-9EF8-C9AB956E6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D8A89-3D7D-4DE7-9A9F-31974F89C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ED189-57CA-43AE-8C1F-AE0E4A3DB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533C1-16DE-47F2-9140-1C0305108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03DEF-4FF5-48CE-9516-8C6982F4E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5F5F1-92EE-4FB4-A0D8-87641B3EA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6C594-4957-4570-919D-777DED2D3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6F391-9733-4961-BE08-71792D682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C854F-3448-4F23-A5D1-FA471EB15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41728-3FE5-435E-8E9B-3A0387B4E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9E533-0C11-443F-96F3-F627C65F7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29683-C771-44E8-810C-BB7EC321B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3AADA-11EB-4F8D-8086-993C8054D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50068-7820-4EB5-A3D4-3640D9495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C7D18-411B-4910-89B8-7F763AE16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D6145-0F23-4504-8BDF-F3F03FBBB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0FD4E-08B2-4BE7-86ED-1B4BE7E33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55528-CF1B-43A1-8AEF-C7AD31EA2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15893-4E8A-464D-BD55-882ED0CAA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D367E-90EB-43FA-89E1-456AC24B8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32DB2-95E9-4434-A1DB-65B803ABC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3DFB7-89A7-4279-92FB-9A1454FB8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89909-D7E0-4185-B82D-E1B9C0CDB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24345-905B-4D8D-9FDA-8D3EDF5243A4}" type="slidenum">
              <a:rPr b="0" lang="pt-B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5A74A-C4A7-4D17-88D2-88F285EDD844}" type="slidenum">
              <a:rPr b="0" lang="pt-B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7.png"/><Relationship Id="rId5" Type="http://schemas.openxmlformats.org/officeDocument/2006/relationships/image" Target="../media/image1.jpeg"/><Relationship Id="rId6" Type="http://schemas.openxmlformats.org/officeDocument/2006/relationships/image" Target="../media/image3.jpeg"/><Relationship Id="rId7" Type="http://schemas.openxmlformats.org/officeDocument/2006/relationships/image" Target="../media/image2.jpeg"/><Relationship Id="rId8" Type="http://schemas.openxmlformats.org/officeDocument/2006/relationships/image" Target="../media/image4.jpeg"/><Relationship Id="rId9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0.wmf"/><Relationship Id="rId5" Type="http://schemas.openxmlformats.org/officeDocument/2006/relationships/image" Target="../media/image10.wmf"/><Relationship Id="rId6" Type="http://schemas.openxmlformats.org/officeDocument/2006/relationships/image" Target="../media/image11.wmf"/><Relationship Id="rId7" Type="http://schemas.openxmlformats.org/officeDocument/2006/relationships/image" Target="../media/image12.png"/><Relationship Id="rId8" Type="http://schemas.openxmlformats.org/officeDocument/2006/relationships/audio" Target="../media/CAMERA.WAV"/><Relationship Id="rId9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23640" y="280800"/>
            <a:ext cx="856908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CTPOAR – Brasília – ABR/04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44400" y="1412640"/>
            <a:ext cx="8042400" cy="29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0" algn="ctr">
              <a:lnSpc>
                <a:spcPct val="15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000" spc="-1" strike="noStrike">
                <a:solidFill>
                  <a:srgbClr val="99ff99"/>
                </a:solidFill>
                <a:latin typeface="Tahoma"/>
              </a:rPr>
              <a:t>SISTEMA INTEGRADO DE MEIO AMBIENTE DO ESTADO DE MINAS GERA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70720" indent="0" algn="ctr">
              <a:lnSpc>
                <a:spcPct val="15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pt-BR" sz="4000" spc="-1" strike="noStrike">
                <a:solidFill>
                  <a:srgbClr val="000000"/>
                </a:solidFill>
                <a:latin typeface="Tahoma"/>
              </a:rPr>
              <a:t>S I A M – M 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-36360" y="5635800"/>
            <a:ext cx="8569080" cy="8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0000"/>
                </a:solidFill>
                <a:latin typeface="Garamond"/>
              </a:rPr>
              <a:t>Divisão de Regulação e Controle</a:t>
            </a:r>
            <a:br>
              <a:rPr sz="2400"/>
            </a:br>
            <a:r>
              <a:rPr b="1" i="1" lang="pt-BR" sz="2400" spc="-1" strike="noStrike">
                <a:solidFill>
                  <a:srgbClr val="ff0000"/>
                </a:solidFill>
                <a:latin typeface="Garamond"/>
              </a:rPr>
              <a:t>Instituto Mineiro de Gestão das Águ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 rot="19488000">
            <a:off x="6659640" y="5516280"/>
            <a:ext cx="1038240" cy="66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ArchUpPour">
              <a:avLst>
                <a:gd name="adj1" fmla="val 10800000"/>
                <a:gd name="adj2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afe1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Unicode MS"/>
              </a:rPr>
              <a:t>DvRC</a:t>
            </a:r>
            <a:endParaRPr b="0" lang="en-US" sz="2800" spc="1" strike="noStrike">
              <a:ln w="9360">
                <a:solidFill>
                  <a:srgbClr val="afe1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Unicode MS"/>
              <a:ea typeface="Arial Unicode MS"/>
            </a:endParaRPr>
          </a:p>
        </p:txBody>
      </p:sp>
      <p:sp>
        <p:nvSpPr>
          <p:cNvPr id="214" name=""/>
          <p:cNvSpPr txBox="1"/>
          <p:nvPr/>
        </p:nvSpPr>
        <p:spPr>
          <a:xfrm rot="19488000">
            <a:off x="7421400" y="5732280"/>
            <a:ext cx="1038240" cy="66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ArchDownPour">
              <a:avLst>
                <a:gd name="adj1" fmla="val 0"/>
                <a:gd name="adj2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9360">
                  <a:solidFill>
                    <a:srgbClr val="afe1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Unicode MS"/>
              </a:rPr>
              <a:t>IGAM</a:t>
            </a:r>
            <a:endParaRPr b="0" i="1" lang="en-US" sz="2800" spc="1" strike="noStrike">
              <a:ln w="9360">
                <a:solidFill>
                  <a:srgbClr val="afe1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Unicode MS"/>
              <a:ea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/>
          <p:nvPr/>
        </p:nvSpPr>
        <p:spPr>
          <a:xfrm>
            <a:off x="762120" y="3124080"/>
            <a:ext cx="7848360" cy="10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762120" y="4343400"/>
            <a:ext cx="78865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"/>
          <p:cNvSpPr txBox="1"/>
          <p:nvPr/>
        </p:nvSpPr>
        <p:spPr>
          <a:xfrm rot="19488000">
            <a:off x="6659640" y="5516280"/>
            <a:ext cx="1038240" cy="66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ArchUpPour">
              <a:avLst>
                <a:gd name="adj1" fmla="val 10800000"/>
                <a:gd name="adj2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afe1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Unicode MS"/>
              </a:rPr>
              <a:t>DvRC</a:t>
            </a:r>
            <a:endParaRPr b="0" lang="en-US" sz="2800" spc="1" strike="noStrike">
              <a:ln w="9360">
                <a:solidFill>
                  <a:srgbClr val="afe1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Unicode MS"/>
              <a:ea typeface="Arial Unicode MS"/>
            </a:endParaRPr>
          </a:p>
        </p:txBody>
      </p:sp>
      <p:sp>
        <p:nvSpPr>
          <p:cNvPr id="340" name=""/>
          <p:cNvSpPr txBox="1"/>
          <p:nvPr/>
        </p:nvSpPr>
        <p:spPr>
          <a:xfrm rot="19488000">
            <a:off x="7421400" y="5732280"/>
            <a:ext cx="1038240" cy="66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ArchDownPour">
              <a:avLst>
                <a:gd name="adj1" fmla="val 0"/>
                <a:gd name="adj2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9360">
                  <a:solidFill>
                    <a:srgbClr val="afe1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Unicode MS"/>
              </a:rPr>
              <a:t>IGAM</a:t>
            </a:r>
            <a:endParaRPr b="0" i="1" lang="en-US" sz="2800" spc="1" strike="noStrike">
              <a:ln w="9360">
                <a:solidFill>
                  <a:srgbClr val="afe1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Unicode MS"/>
              <a:ea typeface="Arial Unicode MS"/>
            </a:endParaRPr>
          </a:p>
        </p:txBody>
      </p:sp>
      <p:pic>
        <p:nvPicPr>
          <p:cNvPr id="341" name="" descr=""/>
          <p:cNvPicPr/>
          <p:nvPr/>
        </p:nvPicPr>
        <p:blipFill>
          <a:blip r:embed="rId1"/>
          <a:srcRect l="22880" t="950" r="22880" b="1792"/>
          <a:stretch/>
        </p:blipFill>
        <p:spPr>
          <a:xfrm>
            <a:off x="1233360" y="192240"/>
            <a:ext cx="5139000" cy="6549840"/>
          </a:xfrm>
          <a:prstGeom prst="rect">
            <a:avLst/>
          </a:prstGeom>
          <a:ln w="0">
            <a:noFill/>
          </a:ln>
        </p:spPr>
      </p:pic>
      <p:sp>
        <p:nvSpPr>
          <p:cNvPr id="342" name=""/>
          <p:cNvSpPr txBox="1"/>
          <p:nvPr/>
        </p:nvSpPr>
        <p:spPr>
          <a:xfrm>
            <a:off x="376200" y="349200"/>
            <a:ext cx="1171440" cy="99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ff99">
                    <a:alpha val="50000"/>
                  </a:srgbClr>
                </a:solidFill>
                <a:latin typeface="Arial Black"/>
              </a:rPr>
              <a:t>FCEI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99ff99">
                  <a:alpha val="50000"/>
                </a:srgbClr>
              </a:solidFill>
              <a:latin typeface="Arial Black"/>
              <a:ea typeface="Arial Black"/>
            </a:endParaRPr>
          </a:p>
        </p:txBody>
      </p:sp>
      <p:sp>
        <p:nvSpPr>
          <p:cNvPr id="343" name=""/>
          <p:cNvSpPr/>
          <p:nvPr/>
        </p:nvSpPr>
        <p:spPr>
          <a:xfrm>
            <a:off x="5294880" y="920880"/>
            <a:ext cx="3594240" cy="2883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440" indent="-1440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IDENTIFICAÇÃO DO REQUERENT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908240" y="1701720"/>
            <a:ext cx="4124520" cy="2883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440" indent="-1440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IDENTIFICAÇÃO DO EMPREENDIMENT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5653800" y="3646440"/>
            <a:ext cx="2941920" cy="2883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440" indent="-1440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USO DE RECURSO HÍDRIC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10520" y="4365720"/>
            <a:ext cx="2883960" cy="2883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440" indent="-1440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EXPLORAÇÃO FLOREST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652720" y="4941720"/>
            <a:ext cx="1872360" cy="2883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440" indent="-1440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LICENCIAMENT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9144000" cy="9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cc00"/>
                </a:solidFill>
                <a:latin typeface="Arial"/>
              </a:rPr>
              <a:t>  </a:t>
            </a:r>
            <a:r>
              <a:rPr b="1" lang="pt-BR" sz="3200" spc="-1" strike="noStrike">
                <a:solidFill>
                  <a:srgbClr val="ffcc00"/>
                </a:solidFill>
                <a:latin typeface="Arial"/>
              </a:rPr>
              <a:t>HISTÓRICO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7931160" cy="379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41440" indent="0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0000"/>
                </a:solidFill>
                <a:latin typeface="Arial"/>
              </a:rPr>
              <a:t>2000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– Programa Nacional de Meio Ambiente II       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      PNMA I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41440" indent="0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0000"/>
                </a:solidFill>
                <a:latin typeface="Arial"/>
              </a:rPr>
              <a:t>2001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– Criação de Grupos de Trabalho PNMA I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41440" indent="0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0000"/>
                </a:solidFill>
                <a:latin typeface="Arial"/>
              </a:rPr>
              <a:t>2002</a:t>
            </a:r>
            <a:r>
              <a:rPr b="1" lang="pt-BR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– Seminários de Integração dos processos autorizativos e fiscalização (IGAM, FEAM e IEF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41440" indent="0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0000"/>
                </a:solidFill>
                <a:latin typeface="Arial"/>
              </a:rPr>
              <a:t>2003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– Resolução SEMAD nº 146 (05/06/2003) Determina a implantação do sistema integrad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 rot="19488000">
            <a:off x="6659640" y="5516280"/>
            <a:ext cx="1038240" cy="66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ArchUpPour">
              <a:avLst>
                <a:gd name="adj1" fmla="val 10800000"/>
                <a:gd name="adj2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afe1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Unicode MS"/>
              </a:rPr>
              <a:t>DvRC</a:t>
            </a:r>
            <a:endParaRPr b="0" lang="en-US" sz="2800" spc="1" strike="noStrike">
              <a:ln w="9360">
                <a:solidFill>
                  <a:srgbClr val="afe1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Unicode MS"/>
              <a:ea typeface="Arial Unicode MS"/>
            </a:endParaRPr>
          </a:p>
        </p:txBody>
      </p:sp>
      <p:sp>
        <p:nvSpPr>
          <p:cNvPr id="218" name=""/>
          <p:cNvSpPr txBox="1"/>
          <p:nvPr/>
        </p:nvSpPr>
        <p:spPr>
          <a:xfrm rot="19488000">
            <a:off x="7421400" y="5732280"/>
            <a:ext cx="1038240" cy="66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ArchDownPour">
              <a:avLst>
                <a:gd name="adj1" fmla="val 0"/>
                <a:gd name="adj2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9360">
                  <a:solidFill>
                    <a:srgbClr val="afe1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Unicode MS"/>
              </a:rPr>
              <a:t>IGAM</a:t>
            </a:r>
            <a:endParaRPr b="0" i="1" lang="en-US" sz="2800" spc="1" strike="noStrike">
              <a:ln w="9360">
                <a:solidFill>
                  <a:srgbClr val="afe1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Unicode MS"/>
              <a:ea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9144000" cy="9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pt-BR" sz="3200" spc="-1" strike="noStrike">
                <a:solidFill>
                  <a:srgbClr val="ffcc00"/>
                </a:solidFill>
                <a:latin typeface="Arial"/>
              </a:rPr>
              <a:t>RESOLUÇÃO SEMAD - Nº 146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412640"/>
            <a:ext cx="7931160" cy="482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181080" indent="-1800" algn="just">
              <a:spcBef>
                <a:spcPts val="1375"/>
              </a:spcBef>
              <a:buClr>
                <a:srgbClr val="ff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Central de Atendimento SEMAD (“balcão único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181080" indent="-1800" algn="just">
              <a:spcBef>
                <a:spcPts val="1375"/>
              </a:spcBef>
              <a:buClr>
                <a:srgbClr val="ff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O processo deve ser iniciado na entidade SEMAD responsável pelo licenciamento ambiental, quando houver, que também se responsabilizará pela distribuição dos processos para os demais órgãos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181080" indent="-1800" algn="just">
              <a:spcBef>
                <a:spcPts val="1375"/>
              </a:spcBef>
              <a:buClr>
                <a:srgbClr val="ff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Prazo para manifestação </a:t>
            </a:r>
            <a:r>
              <a:rPr b="1" lang="pt-BR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 90 dias (Informações complementares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181080" indent="-1800" algn="just">
              <a:spcBef>
                <a:spcPts val="1375"/>
              </a:spcBef>
              <a:buClr>
                <a:srgbClr val="ff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Fase LP </a:t>
            </a:r>
            <a:r>
              <a:rPr b="1" lang="pt-BR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 manifestação prévia IGAM e IEF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181080" indent="-1800" algn="just">
              <a:spcBef>
                <a:spcPts val="1375"/>
              </a:spcBef>
              <a:buClr>
                <a:srgbClr val="ff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Outorgas </a:t>
            </a:r>
            <a:r>
              <a:rPr b="1" lang="pt-BR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 LI e LO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181080" indent="-1800" algn="just">
              <a:spcBef>
                <a:spcPts val="1375"/>
              </a:spcBef>
              <a:buClr>
                <a:srgbClr val="ff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Prazo integração: 1º de Dezembro 2003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181080"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 rot="19488000">
            <a:off x="6659640" y="5516280"/>
            <a:ext cx="1038240" cy="66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ArchUpPour">
              <a:avLst>
                <a:gd name="adj1" fmla="val 10800000"/>
                <a:gd name="adj2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afe1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Unicode MS"/>
              </a:rPr>
              <a:t>DvRC</a:t>
            </a:r>
            <a:endParaRPr b="0" lang="en-US" sz="2800" spc="1" strike="noStrike">
              <a:ln w="9360">
                <a:solidFill>
                  <a:srgbClr val="afe1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Unicode MS"/>
              <a:ea typeface="Arial Unicode MS"/>
            </a:endParaRPr>
          </a:p>
        </p:txBody>
      </p:sp>
      <p:sp>
        <p:nvSpPr>
          <p:cNvPr id="222" name=""/>
          <p:cNvSpPr txBox="1"/>
          <p:nvPr/>
        </p:nvSpPr>
        <p:spPr>
          <a:xfrm rot="19488000">
            <a:off x="7421400" y="5732280"/>
            <a:ext cx="1038240" cy="66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ArchDownPour">
              <a:avLst>
                <a:gd name="adj1" fmla="val 0"/>
                <a:gd name="adj2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9360">
                  <a:solidFill>
                    <a:srgbClr val="afe1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Unicode MS"/>
              </a:rPr>
              <a:t>IGAM</a:t>
            </a:r>
            <a:endParaRPr b="0" i="1" lang="en-US" sz="2800" spc="1" strike="noStrike">
              <a:ln w="9360">
                <a:solidFill>
                  <a:srgbClr val="afe1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Unicode MS"/>
              <a:ea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 rot="17514600">
            <a:off x="1982520" y="3907800"/>
            <a:ext cx="1523880" cy="790560"/>
          </a:xfrm>
          <a:prstGeom prst="rightArrow">
            <a:avLst>
              <a:gd name="adj1" fmla="val 50000"/>
              <a:gd name="adj2" fmla="val 4819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 Unicode MS"/>
              </a:rPr>
              <a:t>LICENÇ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rot="19467600">
            <a:off x="4816440" y="1483920"/>
            <a:ext cx="1676520" cy="790560"/>
          </a:xfrm>
          <a:prstGeom prst="rightArrow">
            <a:avLst>
              <a:gd name="adj1" fmla="val 50000"/>
              <a:gd name="adj2" fmla="val 53017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 Unicode MS"/>
              </a:rPr>
              <a:t>OUTORG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rot="18906600">
            <a:off x="6644880" y="4227120"/>
            <a:ext cx="1523880" cy="790560"/>
          </a:xfrm>
          <a:prstGeom prst="rightArrow">
            <a:avLst>
              <a:gd name="adj1" fmla="val 50000"/>
              <a:gd name="adj2" fmla="val 4819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 Unicode MS"/>
              </a:rPr>
              <a:t>LICENÇ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rot="805800">
            <a:off x="2759040" y="5294160"/>
            <a:ext cx="1523880" cy="790560"/>
          </a:xfrm>
          <a:prstGeom prst="rightArrow">
            <a:avLst>
              <a:gd name="adj1" fmla="val 50000"/>
              <a:gd name="adj2" fmla="val 4819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 Unicode MS"/>
              </a:rPr>
              <a:t>APEF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882800" y="4913280"/>
            <a:ext cx="1295280" cy="91440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537d4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ff00"/>
                </a:solidFill>
                <a:latin typeface="Arial"/>
              </a:rPr>
              <a:t>IE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692680" y="4913280"/>
            <a:ext cx="1257480" cy="91440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17181" dir="2438368" blurRad="0" rotWithShape="0">
              <a:srgbClr val="a87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FEA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807000" y="2093760"/>
            <a:ext cx="1295280" cy="91440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408e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IGA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rot="13339200">
            <a:off x="6955560" y="5663520"/>
            <a:ext cx="474840" cy="485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635280" y="3846600"/>
            <a:ext cx="1600200" cy="76176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008ae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SEMA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rot="19149000">
            <a:off x="1393920" y="5675040"/>
            <a:ext cx="474480" cy="485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rot="5217600">
            <a:off x="4216680" y="1554840"/>
            <a:ext cx="474480" cy="485640"/>
          </a:xfrm>
          <a:prstGeom prst="rightArrow">
            <a:avLst>
              <a:gd name="adj1" fmla="val 50157"/>
              <a:gd name="adj2" fmla="val 25292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9134600">
            <a:off x="2954160" y="4456080"/>
            <a:ext cx="681120" cy="485640"/>
          </a:xfrm>
          <a:prstGeom prst="leftRightArrow">
            <a:avLst>
              <a:gd name="adj1" fmla="val 50000"/>
              <a:gd name="adj2" fmla="val 27921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rot="16195800">
            <a:off x="4113720" y="3186720"/>
            <a:ext cx="681120" cy="485640"/>
          </a:xfrm>
          <a:prstGeom prst="leftRightArrow">
            <a:avLst>
              <a:gd name="adj1" fmla="val 50000"/>
              <a:gd name="adj2" fmla="val 27921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rot="2444400">
            <a:off x="5164200" y="4503240"/>
            <a:ext cx="681120" cy="486000"/>
          </a:xfrm>
          <a:prstGeom prst="leftRightArrow">
            <a:avLst>
              <a:gd name="adj1" fmla="val 50000"/>
              <a:gd name="adj2" fmla="val 2790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570840" y="1128600"/>
            <a:ext cx="17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cc00"/>
                </a:solidFill>
                <a:latin typeface="Arial"/>
              </a:rPr>
              <a:t>REQUEREN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94280" y="6157800"/>
            <a:ext cx="195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cc00"/>
                </a:solidFill>
                <a:latin typeface="Arial"/>
              </a:rPr>
              <a:t>ADMINISTRA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647760" y="614664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cc00"/>
                </a:solidFill>
                <a:latin typeface="Arial"/>
              </a:rPr>
              <a:t>EMPREENDEDO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310480" y="189000"/>
            <a:ext cx="398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 u="sng">
                <a:solidFill>
                  <a:srgbClr val="99ff99"/>
                </a:solidFill>
                <a:uFillTx/>
                <a:latin typeface="Arial"/>
              </a:rPr>
              <a:t>SITUAÇÃO ANTERI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5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500"/>
                            </p:stCondLst>
                            <p:childTnLst>
                              <p:par>
                                <p:cTn id="2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3500"/>
                            </p:stCondLst>
                            <p:childTnLst>
                              <p:par>
                                <p:cTn id="2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4000"/>
                            </p:stCondLst>
                            <p:childTnLst>
                              <p:par>
                                <p:cTn id="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4500"/>
                            </p:stCondLst>
                            <p:childTnLst>
                              <p:par>
                                <p:cTn id="3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0"/>
                            </p:stCondLst>
                            <p:childTnLst>
                              <p:par>
                                <p:cTn id="3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500"/>
                            </p:stCondLst>
                            <p:childTnLst>
                              <p:par>
                                <p:cTn id="4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6000"/>
                            </p:stCondLst>
                            <p:childTnLst>
                              <p:par>
                                <p:cTn id="4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6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60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64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500"/>
                            </p:stCondLst>
                            <p:childTnLst>
                              <p:par>
                                <p:cTn id="66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68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666720" y="0"/>
            <a:ext cx="7943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095560" y="2362320"/>
            <a:ext cx="4724280" cy="3581280"/>
          </a:xfrm>
          <a:prstGeom prst="ellipse">
            <a:avLst/>
          </a:prstGeom>
          <a:gradFill rotWithShape="0">
            <a:gsLst>
              <a:gs pos="0">
                <a:srgbClr val="004646"/>
              </a:gs>
              <a:gs pos="50000">
                <a:srgbClr val="009999"/>
              </a:gs>
              <a:gs pos="100000">
                <a:srgbClr val="00464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866960" y="4952880"/>
            <a:ext cx="1295280" cy="91440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537d4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ff00"/>
                </a:solidFill>
                <a:latin typeface="Arial"/>
              </a:rPr>
              <a:t>IE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76840" y="4952880"/>
            <a:ext cx="1257480" cy="91440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17181" dir="2438368" blurRad="0" rotWithShape="0">
              <a:srgbClr val="a87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FEA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790800" y="2133720"/>
            <a:ext cx="1295640" cy="91440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408e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IGA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rot="13339200">
            <a:off x="6940080" y="5703480"/>
            <a:ext cx="474840" cy="4860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619440" y="3886200"/>
            <a:ext cx="1600200" cy="76212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008ae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SEMA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9149000">
            <a:off x="1378080" y="5714640"/>
            <a:ext cx="474480" cy="485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rot="5217600">
            <a:off x="4200480" y="1594440"/>
            <a:ext cx="474840" cy="485640"/>
          </a:xfrm>
          <a:prstGeom prst="rightArrow">
            <a:avLst>
              <a:gd name="adj1" fmla="val 50157"/>
              <a:gd name="adj2" fmla="val 25292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rot="19134600">
            <a:off x="2937960" y="4495320"/>
            <a:ext cx="681120" cy="486000"/>
          </a:xfrm>
          <a:prstGeom prst="leftRightArrow">
            <a:avLst>
              <a:gd name="adj1" fmla="val 50000"/>
              <a:gd name="adj2" fmla="val 2790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rot="16195800">
            <a:off x="4097880" y="3226320"/>
            <a:ext cx="680760" cy="485640"/>
          </a:xfrm>
          <a:prstGeom prst="leftRightArrow">
            <a:avLst>
              <a:gd name="adj1" fmla="val 50000"/>
              <a:gd name="adj2" fmla="val 27905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rot="2444400">
            <a:off x="5148000" y="4543200"/>
            <a:ext cx="681120" cy="485640"/>
          </a:xfrm>
          <a:prstGeom prst="leftRightArrow">
            <a:avLst>
              <a:gd name="adj1" fmla="val 50000"/>
              <a:gd name="adj2" fmla="val 27921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545920" y="1168560"/>
            <a:ext cx="378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cc00"/>
                </a:solidFill>
                <a:latin typeface="Arial"/>
              </a:rPr>
              <a:t>EMPREENDEDOR/REQUEREN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26880" y="6197760"/>
            <a:ext cx="378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cc00"/>
                </a:solidFill>
                <a:latin typeface="Arial"/>
              </a:rPr>
              <a:t>EMPREENDEDOR/REQUEREN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108400" y="6186600"/>
            <a:ext cx="378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cc00"/>
                </a:solidFill>
                <a:latin typeface="Arial"/>
              </a:rPr>
              <a:t>EMPREENDEDOR/REQUEREN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rot="18284400">
            <a:off x="2011680" y="275976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855960" y="579132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rot="7381800">
            <a:off x="2316600" y="324684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rot="3258600">
            <a:off x="5697720" y="338364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976560" y="53341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rot="13957800">
            <a:off x="6020640" y="298476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rot="12967800">
            <a:off x="3025440" y="3527280"/>
            <a:ext cx="681120" cy="486000"/>
          </a:xfrm>
          <a:prstGeom prst="leftRightArrow">
            <a:avLst>
              <a:gd name="adj1" fmla="val 50000"/>
              <a:gd name="adj2" fmla="val 2790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rot="16195800">
            <a:off x="4016880" y="4821840"/>
            <a:ext cx="681120" cy="485640"/>
          </a:xfrm>
          <a:prstGeom prst="leftRightArrow">
            <a:avLst>
              <a:gd name="adj1" fmla="val 50000"/>
              <a:gd name="adj2" fmla="val 27921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rot="19653000">
            <a:off x="5262480" y="3657600"/>
            <a:ext cx="681120" cy="485640"/>
          </a:xfrm>
          <a:prstGeom prst="leftRightArrow">
            <a:avLst>
              <a:gd name="adj1" fmla="val 50000"/>
              <a:gd name="adj2" fmla="val 27921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538360" y="2997360"/>
            <a:ext cx="5791320" cy="2361960"/>
          </a:xfrm>
          <a:prstGeom prst="rightArrowCallout">
            <a:avLst>
              <a:gd name="adj1" fmla="val 25002"/>
              <a:gd name="adj2" fmla="val 25000"/>
              <a:gd name="adj3" fmla="val 40865"/>
              <a:gd name="adj4" fmla="val 66667"/>
            </a:avLst>
          </a:prstGeom>
          <a:gradFill rotWithShape="0">
            <a:gsLst>
              <a:gs pos="0">
                <a:srgbClr val="65a865"/>
              </a:gs>
              <a:gs pos="50000">
                <a:srgbClr val="99ff99"/>
              </a:gs>
              <a:gs pos="100000">
                <a:srgbClr val="65a865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CERTIFICADOS O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AUTORIZAÇÕ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89360" y="189000"/>
            <a:ext cx="8735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 u="sng">
                <a:solidFill>
                  <a:srgbClr val="99ff99"/>
                </a:solidFill>
                <a:uFillTx/>
                <a:latin typeface="Arial"/>
              </a:rPr>
              <a:t>SISTEMA INTEGRADO DE MEIO AMBIENTE - SIA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500"/>
                            </p:stCondLst>
                            <p:childTnLst>
                              <p:par>
                                <p:cTn id="7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2000"/>
                            </p:stCondLst>
                            <p:childTnLst>
                              <p:par>
                                <p:cTn id="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3000"/>
                            </p:stCondLst>
                            <p:childTnLst>
                              <p:par>
                                <p:cTn id="9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3500"/>
                            </p:stCondLst>
                            <p:childTnLst>
                              <p:par>
                                <p:cTn id="10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2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2500"/>
                            </p:stCondLst>
                            <p:childTnLst>
                              <p:par>
                                <p:cTn id="1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500"/>
                            </p:stCondLst>
                            <p:childTnLst>
                              <p:par>
                                <p:cTn id="13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1000"/>
                            </p:stCondLst>
                            <p:childTnLst>
                              <p:par>
                                <p:cTn id="13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4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2000"/>
                            </p:stCondLst>
                            <p:childTnLst>
                              <p:par>
                                <p:cTn id="14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2500"/>
                            </p:stCondLst>
                            <p:childTnLst>
                              <p:par>
                                <p:cTn id="15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3000"/>
                            </p:stCondLst>
                            <p:childTnLst>
                              <p:par>
                                <p:cTn id="15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3500"/>
                            </p:stCondLst>
                            <p:childTnLst>
                              <p:par>
                                <p:cTn id="16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4000"/>
                            </p:stCondLst>
                            <p:childTnLst>
                              <p:par>
                                <p:cTn id="16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 rot="12993600">
            <a:off x="5765400" y="5000400"/>
            <a:ext cx="808200" cy="485640"/>
          </a:xfrm>
          <a:prstGeom prst="rightArrow">
            <a:avLst>
              <a:gd name="adj1" fmla="val 50000"/>
              <a:gd name="adj2" fmla="val 41605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 rot="8251200">
            <a:off x="5812560" y="2589120"/>
            <a:ext cx="747720" cy="486000"/>
          </a:xfrm>
          <a:prstGeom prst="rightArrow">
            <a:avLst>
              <a:gd name="adj1" fmla="val 50000"/>
              <a:gd name="adj2" fmla="val 38463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rot="2386200">
            <a:off x="2590920" y="2596680"/>
            <a:ext cx="761760" cy="486000"/>
          </a:xfrm>
          <a:prstGeom prst="rightArrow">
            <a:avLst>
              <a:gd name="adj1" fmla="val 50000"/>
              <a:gd name="adj2" fmla="val 39185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rot="19684800">
            <a:off x="2734920" y="5087880"/>
            <a:ext cx="752400" cy="486000"/>
          </a:xfrm>
          <a:prstGeom prst="rightArrow">
            <a:avLst>
              <a:gd name="adj1" fmla="val 50000"/>
              <a:gd name="adj2" fmla="val 38704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557520" y="2971800"/>
            <a:ext cx="2057400" cy="2209680"/>
          </a:xfrm>
          <a:prstGeom prst="flowChartMagneticDisk">
            <a:avLst/>
          </a:prstGeom>
          <a:gradFill rotWithShape="0">
            <a:gsLst>
              <a:gs pos="0">
                <a:srgbClr val="979665"/>
              </a:gs>
              <a:gs pos="50000">
                <a:srgbClr val="c8c686"/>
              </a:gs>
              <a:gs pos="100000">
                <a:srgbClr val="97966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167360" y="304812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B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786120" y="3745080"/>
            <a:ext cx="914400" cy="380880"/>
          </a:xfrm>
          <a:prstGeom prst="flowChartAlternateProcess">
            <a:avLst/>
          </a:prstGeom>
          <a:gradFill rotWithShape="0">
            <a:gsLst>
              <a:gs pos="0">
                <a:srgbClr val="755e5e"/>
              </a:gs>
              <a:gs pos="50000">
                <a:srgbClr val="ffcccc"/>
              </a:gs>
              <a:gs pos="100000">
                <a:srgbClr val="755e5e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" spc="-1" strike="noStrike">
                <a:solidFill>
                  <a:srgbClr val="000000"/>
                </a:solidFill>
                <a:latin typeface="Arial"/>
                <a:ea typeface="Times New Roman"/>
              </a:rPr>
              <a:t>População urbana atendida</a:t>
            </a: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pt-BR" sz="500" spc="-1" strike="noStrike">
                <a:solidFill>
                  <a:srgbClr val="000000"/>
                </a:solidFill>
                <a:latin typeface="Arial"/>
                <a:ea typeface="Times New Roman"/>
              </a:rPr>
              <a:t>por sistema de disposição </a:t>
            </a: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" spc="-1" strike="noStrike">
                <a:solidFill>
                  <a:srgbClr val="000000"/>
                </a:solidFill>
                <a:latin typeface="Arial"/>
                <a:ea typeface="Times New Roman"/>
              </a:rPr>
              <a:t>de lixo, com LO do COPAM.</a:t>
            </a:r>
            <a:r>
              <a:rPr b="1" lang="pt-PT" sz="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4700520" y="3745080"/>
            <a:ext cx="762120" cy="7207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008ae8"/>
            </a:outerShdw>
          </a:effectLst>
        </p:spPr>
      </p:pic>
      <p:pic>
        <p:nvPicPr>
          <p:cNvPr id="275" name="" descr=""/>
          <p:cNvPicPr/>
          <p:nvPr/>
        </p:nvPicPr>
        <p:blipFill>
          <a:blip r:embed="rId2"/>
          <a:stretch/>
        </p:blipFill>
        <p:spPr>
          <a:xfrm>
            <a:off x="4395960" y="4248000"/>
            <a:ext cx="990360" cy="6289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graphicFrame>
        <p:nvGraphicFramePr>
          <p:cNvPr id="276" name=""/>
          <p:cNvGraphicFramePr/>
          <p:nvPr/>
        </p:nvGraphicFramePr>
        <p:xfrm>
          <a:off x="3862440" y="4202280"/>
          <a:ext cx="838080" cy="750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62440" y="4202280"/>
                    <a:ext cx="838080" cy="75060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8ae8"/>
                    </a:outerShdw>
                  </a:effectLst>
                </p:spPr>
              </p:pic>
            </p:oleObj>
          </a:graphicData>
        </a:graphic>
      </p:graphicFrame>
      <p:sp>
        <p:nvSpPr>
          <p:cNvPr id="278" name=""/>
          <p:cNvSpPr/>
          <p:nvPr/>
        </p:nvSpPr>
        <p:spPr>
          <a:xfrm>
            <a:off x="1042920" y="1600200"/>
            <a:ext cx="1905120" cy="1371600"/>
          </a:xfrm>
          <a:prstGeom prst="ellipse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537d4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ff00"/>
                </a:solidFill>
                <a:latin typeface="Arial"/>
              </a:rPr>
              <a:t>IE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ff00"/>
                </a:solidFill>
                <a:latin typeface="Arial"/>
              </a:rPr>
              <a:t>Licenciament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ff00"/>
                </a:solidFill>
                <a:latin typeface="Arial"/>
              </a:rPr>
              <a:t>APEF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148440" y="1600200"/>
            <a:ext cx="1905120" cy="1295280"/>
          </a:xfrm>
          <a:prstGeom prst="ellipse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408e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IGA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Arial"/>
              </a:rPr>
              <a:t>Outorg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148440" y="5181480"/>
            <a:ext cx="2057400" cy="1371600"/>
          </a:xfrm>
          <a:prstGeom prst="ellipse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17181" dir="2438368" blurRad="0" rotWithShape="0">
              <a:srgbClr val="a87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FEA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Licenciament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119240" y="5181480"/>
            <a:ext cx="1905120" cy="1295640"/>
          </a:xfrm>
          <a:prstGeom prst="ellipse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c8c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SEM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Arial"/>
              </a:rPr>
              <a:t>GE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89360" y="189000"/>
            <a:ext cx="8735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 u="sng">
                <a:solidFill>
                  <a:srgbClr val="99ff99"/>
                </a:solidFill>
                <a:uFillTx/>
                <a:latin typeface="Arial"/>
              </a:rPr>
              <a:t>SISTEMA INTEGRADO DE MEIO AMBIENTE - SIA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500"/>
                            </p:stCondLst>
                            <p:childTnLst>
                              <p:par>
                                <p:cTn id="1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15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2000"/>
                            </p:stCondLst>
                            <p:childTnLst>
                              <p:par>
                                <p:cTn id="1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500"/>
                            </p:stCondLst>
                            <p:childTnLst>
                              <p:par>
                                <p:cTn id="1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500"/>
                            </p:stCondLst>
                            <p:childTnLst>
                              <p:par>
                                <p:cTn id="216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18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2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2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1500"/>
                            </p:stCondLst>
                            <p:childTnLst>
                              <p:par>
                                <p:cTn id="2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26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2000"/>
                            </p:stCondLst>
                            <p:childTnLst>
                              <p:par>
                                <p:cTn id="228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30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3086280" y="1341360"/>
            <a:ext cx="3073320" cy="962280"/>
          </a:xfrm>
          <a:prstGeom prst="ellipse">
            <a:avLst/>
          </a:prstGeom>
          <a:gradFill rotWithShape="0">
            <a:gsLst>
              <a:gs pos="0">
                <a:srgbClr val="752f5e"/>
              </a:gs>
              <a:gs pos="50000">
                <a:srgbClr val="ff66cc"/>
              </a:gs>
              <a:gs pos="100000">
                <a:srgbClr val="752f5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CADASTRAMENTO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E ORIENTAÇÃ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243240" y="2590920"/>
            <a:ext cx="2757600" cy="969840"/>
          </a:xfrm>
          <a:prstGeom prst="ellipse">
            <a:avLst/>
          </a:prstGeom>
          <a:gradFill rotWithShape="0">
            <a:gsLst>
              <a:gs pos="0">
                <a:srgbClr val="43a821"/>
              </a:gs>
              <a:gs pos="50000">
                <a:srgbClr val="66ff33"/>
              </a:gs>
              <a:gs pos="100000">
                <a:srgbClr val="43a82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FORMALIZAÇÃ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E DISTRIBUIÇÃ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763800" y="3860640"/>
            <a:ext cx="1717920" cy="503280"/>
          </a:xfrm>
          <a:prstGeom prst="ellipse">
            <a:avLst/>
          </a:prstGeom>
          <a:gradFill rotWithShape="0">
            <a:gsLst>
              <a:gs pos="0">
                <a:srgbClr val="43a8a8"/>
              </a:gs>
              <a:gs pos="50000">
                <a:srgbClr val="66ffff"/>
              </a:gs>
              <a:gs pos="100000">
                <a:srgbClr val="43a8a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ANÁLIS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673440" y="4653000"/>
            <a:ext cx="1897200" cy="504720"/>
          </a:xfrm>
          <a:prstGeom prst="ellipse">
            <a:avLst/>
          </a:prstGeom>
          <a:gradFill rotWithShape="0">
            <a:gsLst>
              <a:gs pos="0">
                <a:srgbClr val="9ba878"/>
              </a:gs>
              <a:gs pos="50000">
                <a:srgbClr val="ecffb7"/>
              </a:gs>
              <a:gs pos="100000">
                <a:srgbClr val="9ba87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DECISÃ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621320" y="2303640"/>
            <a:ext cx="0" cy="3045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621320" y="3573360"/>
            <a:ext cx="0" cy="304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621320" y="4365720"/>
            <a:ext cx="0" cy="3045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79280" y="115920"/>
            <a:ext cx="8785440" cy="9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cc00"/>
                </a:solidFill>
                <a:latin typeface="Arial"/>
              </a:rPr>
              <a:t>  </a:t>
            </a:r>
            <a:r>
              <a:rPr b="1" lang="pt-BR" sz="3200" spc="-1" strike="noStrike">
                <a:solidFill>
                  <a:srgbClr val="ffcc00"/>
                </a:solidFill>
                <a:latin typeface="Arial"/>
              </a:rPr>
              <a:t>MÓDULOS SIAM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291" name=""/>
          <p:cNvGrpSpPr/>
          <p:nvPr/>
        </p:nvGrpSpPr>
        <p:grpSpPr>
          <a:xfrm>
            <a:off x="6561720" y="5278680"/>
            <a:ext cx="1996200" cy="1361520"/>
            <a:chOff x="6561720" y="5278680"/>
            <a:chExt cx="1996200" cy="1361520"/>
          </a:xfrm>
        </p:grpSpPr>
        <p:sp>
          <p:nvSpPr>
            <p:cNvPr id="292" name=""/>
            <p:cNvSpPr txBox="1"/>
            <p:nvPr/>
          </p:nvSpPr>
          <p:spPr>
            <a:xfrm rot="19488000">
              <a:off x="6659640" y="5516280"/>
              <a:ext cx="1038240" cy="669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ArchUpPour">
                <a:avLst>
                  <a:gd name="adj1" fmla="val 10800000"/>
                  <a:gd name="adj2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1" strike="noStrike">
                  <a:ln w="9360">
                    <a:solidFill>
                      <a:srgbClr val="afe1ff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Arial Unicode MS"/>
                </a:rPr>
                <a:t>DvRC</a:t>
              </a:r>
              <a:endParaRPr b="0" lang="en-US" sz="2800" spc="1" strike="noStrike">
                <a:ln w="9360">
                  <a:solidFill>
                    <a:srgbClr val="afe1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Unicode MS"/>
                <a:ea typeface="Arial Unicode MS"/>
              </a:endParaRPr>
            </a:p>
          </p:txBody>
        </p:sp>
        <p:sp>
          <p:nvSpPr>
            <p:cNvPr id="293" name=""/>
            <p:cNvSpPr txBox="1"/>
            <p:nvPr/>
          </p:nvSpPr>
          <p:spPr>
            <a:xfrm rot="19488000">
              <a:off x="7421400" y="5732280"/>
              <a:ext cx="1038240" cy="669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ArchDownPour">
                <a:avLst>
                  <a:gd name="adj1" fmla="val 0"/>
                  <a:gd name="adj2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1" strike="noStrike">
                  <a:ln w="9360">
                    <a:solidFill>
                      <a:srgbClr val="afe1ff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Arial Unicode MS"/>
                </a:rPr>
                <a:t>IGAM</a:t>
              </a:r>
              <a:endParaRPr b="0" i="1" lang="en-US" sz="2800" spc="1" strike="noStrike">
                <a:ln w="9360">
                  <a:solidFill>
                    <a:srgbClr val="afe1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Unicode MS"/>
                <a:ea typeface="Arial Unicode MS"/>
              </a:endParaRPr>
            </a:p>
          </p:txBody>
        </p:sp>
      </p:grpSp>
      <p:sp>
        <p:nvSpPr>
          <p:cNvPr id="294" name=""/>
          <p:cNvSpPr/>
          <p:nvPr/>
        </p:nvSpPr>
        <p:spPr>
          <a:xfrm>
            <a:off x="1491840" y="1533600"/>
            <a:ext cx="99144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440" indent="-1440">
              <a:lnSpc>
                <a:spcPct val="80000"/>
              </a:lnSpc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FCE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563880" y="1533600"/>
            <a:ext cx="103104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440" indent="-1440">
              <a:lnSpc>
                <a:spcPct val="80000"/>
              </a:lnSpc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FOB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484360" y="1749600"/>
            <a:ext cx="358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208560" y="1749600"/>
            <a:ext cx="358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578400" y="5445000"/>
            <a:ext cx="2087280" cy="648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PUBLICAÇÕ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622760" y="5157720"/>
            <a:ext cx="0" cy="304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0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00"/>
                            </p:stCondLst>
                            <p:childTnLst>
                              <p:par>
                                <p:cTn id="2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500"/>
                            </p:stCondLst>
                            <p:childTnLst>
                              <p:par>
                                <p:cTn id="2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990720" y="3500280"/>
            <a:ext cx="7619760" cy="27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entrais de Orientação Virtuais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entral de Digitalização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fra – estrutura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igração de Banco de Dados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reinamentos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ampanha de Comunicação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 rot="19488000">
            <a:off x="6659640" y="5516280"/>
            <a:ext cx="1038240" cy="66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ArchUpPour">
              <a:avLst>
                <a:gd name="adj1" fmla="val 10800000"/>
                <a:gd name="adj2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afe1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Unicode MS"/>
              </a:rPr>
              <a:t>DvRC</a:t>
            </a:r>
            <a:endParaRPr b="0" lang="en-US" sz="2800" spc="1" strike="noStrike">
              <a:ln w="9360">
                <a:solidFill>
                  <a:srgbClr val="afe1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Unicode MS"/>
              <a:ea typeface="Arial Unicode MS"/>
            </a:endParaRPr>
          </a:p>
        </p:txBody>
      </p:sp>
      <p:sp>
        <p:nvSpPr>
          <p:cNvPr id="302" name=""/>
          <p:cNvSpPr txBox="1"/>
          <p:nvPr/>
        </p:nvSpPr>
        <p:spPr>
          <a:xfrm rot="19488000">
            <a:off x="7421400" y="5732280"/>
            <a:ext cx="1038240" cy="66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ArchDownPour">
              <a:avLst>
                <a:gd name="adj1" fmla="val 0"/>
                <a:gd name="adj2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9360">
                  <a:solidFill>
                    <a:srgbClr val="afe1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Unicode MS"/>
              </a:rPr>
              <a:t>IGAM</a:t>
            </a:r>
            <a:endParaRPr b="0" i="1" lang="en-US" sz="2800" spc="1" strike="noStrike">
              <a:ln w="9360">
                <a:solidFill>
                  <a:srgbClr val="afe1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Unicode MS"/>
              <a:ea typeface="Arial Unicode MS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79280" y="2565000"/>
            <a:ext cx="8785440" cy="9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cc00"/>
                </a:solidFill>
                <a:latin typeface="Arial"/>
              </a:rPr>
              <a:t>  </a:t>
            </a:r>
            <a:r>
              <a:rPr b="1" lang="pt-BR" sz="3200" spc="-1" strike="noStrike">
                <a:solidFill>
                  <a:srgbClr val="ffcc00"/>
                </a:solidFill>
                <a:latin typeface="Arial"/>
              </a:rPr>
              <a:t>REQUISITOS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79280" y="115920"/>
            <a:ext cx="8785440" cy="98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cc00"/>
                </a:solidFill>
                <a:latin typeface="Arial"/>
              </a:rPr>
              <a:t>  </a:t>
            </a:r>
            <a:r>
              <a:rPr b="1" lang="pt-BR" sz="3200" spc="-1" strike="noStrike">
                <a:solidFill>
                  <a:srgbClr val="ffcc00"/>
                </a:solidFill>
                <a:latin typeface="Arial"/>
              </a:rPr>
              <a:t>PRODUT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06600" y="907560"/>
            <a:ext cx="793080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179280">
              <a:spcBef>
                <a:spcPts val="1500"/>
              </a:spcBef>
              <a:buClr>
                <a:srgbClr val="ff0000"/>
              </a:buClr>
              <a:buSzPct val="5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FCEI e FOBI eletrônicos, em agosto de 2003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79280">
              <a:spcBef>
                <a:spcPts val="1500"/>
              </a:spcBef>
              <a:buClr>
                <a:srgbClr val="ff0000"/>
              </a:buClr>
              <a:buSzPct val="5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Sistema Integrado Licenciamento, em outubro de 2003 </a:t>
            </a:r>
            <a:r>
              <a:rPr b="1" lang="pt-B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Licença + APEF + Outorg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0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1" dur="500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4" dur="500"/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9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2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 rot="19488000">
            <a:off x="6432480" y="5516280"/>
            <a:ext cx="1038240" cy="66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ArchUpPour">
              <a:avLst>
                <a:gd name="adj1" fmla="val 10800000"/>
                <a:gd name="adj2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afe1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Unicode MS"/>
              </a:rPr>
              <a:t>DvRC</a:t>
            </a:r>
            <a:endParaRPr b="0" lang="en-US" sz="2800" spc="1" strike="noStrike">
              <a:ln w="9360">
                <a:solidFill>
                  <a:srgbClr val="afe1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Unicode MS"/>
              <a:ea typeface="Arial Unicode MS"/>
            </a:endParaRPr>
          </a:p>
        </p:txBody>
      </p:sp>
      <p:sp>
        <p:nvSpPr>
          <p:cNvPr id="307" name=""/>
          <p:cNvSpPr txBox="1"/>
          <p:nvPr/>
        </p:nvSpPr>
        <p:spPr>
          <a:xfrm rot="19488000">
            <a:off x="7194600" y="5732280"/>
            <a:ext cx="1038240" cy="66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ArchDownPour">
              <a:avLst>
                <a:gd name="adj1" fmla="val 0"/>
                <a:gd name="adj2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9360">
                  <a:solidFill>
                    <a:srgbClr val="afe1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Unicode MS"/>
              </a:rPr>
              <a:t>IGAM</a:t>
            </a:r>
            <a:endParaRPr b="0" i="1" lang="en-US" sz="2800" spc="1" strike="noStrike">
              <a:ln w="9360">
                <a:solidFill>
                  <a:srgbClr val="afe1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Unicode MS"/>
              <a:ea typeface="Arial Unicode MS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611280" y="2057400"/>
            <a:ext cx="1681200" cy="987480"/>
          </a:xfrm>
          <a:prstGeom prst="rect">
            <a:avLst/>
          </a:prstGeom>
          <a:ln w="0">
            <a:noFill/>
          </a:ln>
        </p:spPr>
      </p:pic>
      <p:sp>
        <p:nvSpPr>
          <p:cNvPr id="309" name=""/>
          <p:cNvSpPr/>
          <p:nvPr/>
        </p:nvSpPr>
        <p:spPr>
          <a:xfrm rot="10906200">
            <a:off x="991800" y="1599480"/>
            <a:ext cx="1155600" cy="444600"/>
          </a:xfrm>
          <a:custGeom>
            <a:avLst/>
            <a:gdLst>
              <a:gd name="textAreaLeft" fmla="*/ 201960 w 1155600"/>
              <a:gd name="textAreaRight" fmla="*/ 837720 w 1155600"/>
              <a:gd name="textAreaTop" fmla="*/ 59400 h 444600"/>
              <a:gd name="textAreaBottom" fmla="*/ 385200 h 444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836360" y="1579680"/>
            <a:ext cx="8056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00"/>
                </a:solidFill>
                <a:latin typeface="Arial Unicode MS"/>
              </a:rPr>
              <a:t>FCEI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915840" y="2924280"/>
            <a:ext cx="1138320" cy="504720"/>
          </a:xfrm>
          <a:custGeom>
            <a:avLst/>
            <a:gdLst>
              <a:gd name="textAreaLeft" fmla="*/ 199080 w 1138320"/>
              <a:gd name="textAreaRight" fmla="*/ 825480 w 1138320"/>
              <a:gd name="textAreaTop" fmla="*/ 67320 h 504720"/>
              <a:gd name="textAreaBottom" fmla="*/ 43740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357200" y="3124080"/>
            <a:ext cx="10828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1" lang="pt-BR" sz="2300" spc="-1" strike="noStrike">
                <a:solidFill>
                  <a:srgbClr val="000000"/>
                </a:solidFill>
                <a:latin typeface="Arial Unicode MS"/>
              </a:rPr>
              <a:t>FOBI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516040" y="2438280"/>
            <a:ext cx="457200" cy="381240"/>
          </a:xfrm>
          <a:prstGeom prst="rightArrow">
            <a:avLst>
              <a:gd name="adj1" fmla="val 50000"/>
              <a:gd name="adj2" fmla="val 29981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2"/>
          <a:stretch/>
        </p:blipFill>
        <p:spPr>
          <a:xfrm>
            <a:off x="3193920" y="1676520"/>
            <a:ext cx="549360" cy="609480"/>
          </a:xfrm>
          <a:prstGeom prst="rect">
            <a:avLst/>
          </a:prstGeom>
          <a:ln w="0">
            <a:noFill/>
          </a:ln>
        </p:spPr>
      </p:pic>
      <p:pic>
        <p:nvPicPr>
          <p:cNvPr id="315" name="" descr=""/>
          <p:cNvPicPr/>
          <p:nvPr/>
        </p:nvPicPr>
        <p:blipFill>
          <a:blip r:embed="rId3"/>
          <a:stretch/>
        </p:blipFill>
        <p:spPr>
          <a:xfrm>
            <a:off x="5024520" y="1143000"/>
            <a:ext cx="1149120" cy="762120"/>
          </a:xfrm>
          <a:prstGeom prst="rect">
            <a:avLst/>
          </a:prstGeom>
          <a:ln w="0">
            <a:noFill/>
          </a:ln>
        </p:spPr>
      </p:pic>
      <p:pic>
        <p:nvPicPr>
          <p:cNvPr id="316" name="" descr=""/>
          <p:cNvPicPr/>
          <p:nvPr/>
        </p:nvPicPr>
        <p:blipFill>
          <a:blip r:embed="rId4"/>
          <a:stretch/>
        </p:blipFill>
        <p:spPr>
          <a:xfrm>
            <a:off x="5024520" y="2133720"/>
            <a:ext cx="1225440" cy="812520"/>
          </a:xfrm>
          <a:prstGeom prst="rect">
            <a:avLst/>
          </a:prstGeom>
          <a:ln w="0">
            <a:noFill/>
          </a:ln>
        </p:spPr>
      </p:pic>
      <p:pic>
        <p:nvPicPr>
          <p:cNvPr id="317" name="" descr=""/>
          <p:cNvPicPr/>
          <p:nvPr/>
        </p:nvPicPr>
        <p:blipFill>
          <a:blip r:embed="rId5"/>
          <a:stretch/>
        </p:blipFill>
        <p:spPr>
          <a:xfrm>
            <a:off x="4948200" y="3276720"/>
            <a:ext cx="1301760" cy="863640"/>
          </a:xfrm>
          <a:prstGeom prst="rect">
            <a:avLst/>
          </a:prstGeom>
          <a:ln w="0">
            <a:noFill/>
          </a:ln>
        </p:spPr>
      </p:pic>
      <p:pic>
        <p:nvPicPr>
          <p:cNvPr id="318" name="" descr=""/>
          <p:cNvPicPr/>
          <p:nvPr/>
        </p:nvPicPr>
        <p:blipFill>
          <a:blip r:embed="rId6"/>
          <a:stretch/>
        </p:blipFill>
        <p:spPr>
          <a:xfrm>
            <a:off x="3049560" y="2895480"/>
            <a:ext cx="773280" cy="693720"/>
          </a:xfrm>
          <a:prstGeom prst="rect">
            <a:avLst/>
          </a:prstGeom>
          <a:ln w="0">
            <a:noFill/>
          </a:ln>
        </p:spPr>
      </p:pic>
      <p:sp>
        <p:nvSpPr>
          <p:cNvPr id="319" name=""/>
          <p:cNvSpPr/>
          <p:nvPr/>
        </p:nvSpPr>
        <p:spPr>
          <a:xfrm>
            <a:off x="3281760" y="2514600"/>
            <a:ext cx="3484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6d6a00"/>
                </a:solidFill>
                <a:latin typeface="Arial Unicode MS"/>
              </a:rPr>
              <a:t>+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421160" y="1600200"/>
            <a:ext cx="380880" cy="2209680"/>
          </a:xfrm>
          <a:custGeom>
            <a:avLst/>
            <a:gdLst>
              <a:gd name="textAreaLeft" fmla="*/ 243360 w 380880"/>
              <a:gd name="textAreaRight" fmla="*/ 381240 w 380880"/>
              <a:gd name="textAreaTop" fmla="*/ 57600 h 2209680"/>
              <a:gd name="textAreaBottom" fmla="*/ 2152080 h 2209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6707160" y="1835280"/>
            <a:ext cx="1981080" cy="520200"/>
          </a:xfrm>
          <a:prstGeom prst="rect">
            <a:avLst/>
          </a:prstGeom>
          <a:gradFill rotWithShape="0">
            <a:gsLst>
              <a:gs pos="0">
                <a:srgbClr val="467546"/>
              </a:gs>
              <a:gs pos="50000">
                <a:srgbClr val="99ff99"/>
              </a:gs>
              <a:gs pos="100000">
                <a:srgbClr val="46754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 Unicode MS"/>
              </a:rPr>
              <a:t>INFORMAÇÕES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 Unicode MS"/>
              </a:rPr>
              <a:t>COMPLEMENTAR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707160" y="3048120"/>
            <a:ext cx="1981080" cy="596160"/>
          </a:xfrm>
          <a:prstGeom prst="rect">
            <a:avLst/>
          </a:prstGeom>
          <a:gradFill rotWithShape="0">
            <a:gsLst>
              <a:gs pos="0">
                <a:srgbClr val="467546"/>
              </a:gs>
              <a:gs pos="50000">
                <a:srgbClr val="99ff99"/>
              </a:gs>
              <a:gs pos="100000">
                <a:srgbClr val="46754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 Unicode MS"/>
              </a:rPr>
              <a:t>CONDICIONANT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Documents"/>
          <p:cNvSpPr/>
          <p:nvPr/>
        </p:nvSpPr>
        <p:spPr>
          <a:xfrm>
            <a:off x="3430440" y="1828800"/>
            <a:ext cx="447840" cy="6094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7"/>
          <a:stretch/>
        </p:blipFill>
        <p:spPr>
          <a:xfrm>
            <a:off x="3025800" y="1905120"/>
            <a:ext cx="611280" cy="68580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/>
          <p:nvPr/>
        </p:nvSpPr>
        <p:spPr>
          <a:xfrm rot="10800000">
            <a:off x="6326280" y="1600200"/>
            <a:ext cx="380880" cy="2209680"/>
          </a:xfrm>
          <a:custGeom>
            <a:avLst/>
            <a:gdLst>
              <a:gd name="textAreaLeft" fmla="*/ 243360 w 380880"/>
              <a:gd name="textAreaRight" fmla="*/ 381240 w 380880"/>
              <a:gd name="textAreaTop" fmla="*/ 57600 h 2209680"/>
              <a:gd name="textAreaBottom" fmla="*/ 2152080 h 2209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130720" y="1757520"/>
            <a:ext cx="9838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00"/>
                </a:solidFill>
                <a:latin typeface="Arial Black"/>
              </a:rPr>
              <a:t>IGAM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253120" y="2819520"/>
            <a:ext cx="9903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00"/>
                </a:solidFill>
                <a:latin typeface="Arial Black"/>
              </a:rPr>
              <a:t>IEF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232240" y="3981600"/>
            <a:ext cx="9824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00"/>
                </a:solidFill>
                <a:latin typeface="Arial Black"/>
              </a:rPr>
              <a:t>FEAM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2668680" y="4211640"/>
            <a:ext cx="1523880" cy="596160"/>
          </a:xfrm>
          <a:prstGeom prst="rect">
            <a:avLst/>
          </a:prstGeom>
          <a:gradFill rotWithShape="0">
            <a:gsLst>
              <a:gs pos="0">
                <a:srgbClr val="467546"/>
              </a:gs>
              <a:gs pos="50000">
                <a:srgbClr val="99ff99"/>
              </a:gs>
              <a:gs pos="100000">
                <a:srgbClr val="46754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 Unicode MS"/>
              </a:rPr>
              <a:t>PUBLICAÇÕ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2516040" y="1125360"/>
            <a:ext cx="1981440" cy="596160"/>
          </a:xfrm>
          <a:prstGeom prst="rect">
            <a:avLst/>
          </a:prstGeom>
          <a:gradFill rotWithShape="0">
            <a:gsLst>
              <a:gs pos="0">
                <a:srgbClr val="467546"/>
              </a:gs>
              <a:gs pos="50000">
                <a:srgbClr val="99ff99"/>
              </a:gs>
              <a:gs pos="100000">
                <a:srgbClr val="46754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 Unicode MS"/>
              </a:rPr>
              <a:t>PROCESSO SEMA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925880" y="4419720"/>
            <a:ext cx="147636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430440" y="5181480"/>
            <a:ext cx="4572000" cy="656640"/>
          </a:xfrm>
          <a:prstGeom prst="rect">
            <a:avLst/>
          </a:prstGeom>
          <a:gradFill rotWithShape="0">
            <a:gsLst>
              <a:gs pos="0">
                <a:srgbClr val="467546"/>
              </a:gs>
              <a:gs pos="50000">
                <a:srgbClr val="99ff99"/>
              </a:gs>
              <a:gs pos="100000">
                <a:srgbClr val="46754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 Unicode MS"/>
              </a:rPr>
              <a:t>LICENCIAMENTO AMBIENTAL INTEGRAD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040280" y="6172200"/>
            <a:ext cx="3200400" cy="596160"/>
          </a:xfrm>
          <a:prstGeom prst="rect">
            <a:avLst/>
          </a:prstGeom>
          <a:gradFill rotWithShape="0">
            <a:gsLst>
              <a:gs pos="0">
                <a:srgbClr val="467546"/>
              </a:gs>
              <a:gs pos="50000">
                <a:srgbClr val="99ff99"/>
              </a:gs>
              <a:gs pos="100000">
                <a:srgbClr val="46754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 Unicode MS"/>
              </a:rPr>
              <a:t>LICENÇAS, APEF E OUTORGA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049560" y="3733920"/>
            <a:ext cx="79056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259240" y="5715000"/>
            <a:ext cx="79056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79280" y="115920"/>
            <a:ext cx="8785440" cy="98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cc00"/>
                </a:solidFill>
                <a:latin typeface="Arial"/>
              </a:rPr>
              <a:t>  </a:t>
            </a:r>
            <a:r>
              <a:rPr b="1" lang="pt-BR" sz="3200" spc="-1" strike="noStrike">
                <a:solidFill>
                  <a:srgbClr val="ffcc00"/>
                </a:solidFill>
                <a:latin typeface="Arial"/>
              </a:rPr>
              <a:t>FLUX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0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500"/>
                            </p:stCondLst>
                            <p:childTnLst>
                              <p:par>
                                <p:cTn id="2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500"/>
                            </p:stCondLst>
                            <p:childTnLst>
                              <p:par>
                                <p:cTn id="3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500"/>
                            </p:stCondLst>
                            <p:childTnLst>
                              <p:par>
                                <p:cTn id="312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1000"/>
                            </p:stCondLst>
                            <p:childTnLst>
                              <p:par>
                                <p:cTn id="317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1500"/>
                            </p:stCondLst>
                            <p:childTnLst>
                              <p:par>
                                <p:cTn id="322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2000"/>
                            </p:stCondLst>
                            <p:childTnLst>
                              <p:par>
                                <p:cTn id="3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2500"/>
                            </p:stCondLst>
                            <p:childTnLst>
                              <p:par>
                                <p:cTn id="330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00"/>
                            </p:stCondLst>
                            <p:childTnLst>
                              <p:par>
                                <p:cTn id="3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9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500"/>
                            </p:stCondLst>
                            <p:childTnLst>
                              <p:par>
                                <p:cTn id="3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1000"/>
                            </p:stCondLst>
                            <p:childTnLst>
                              <p:par>
                                <p:cTn id="3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2000"/>
                            </p:stCondLst>
                            <p:childTnLst>
                              <p:par>
                                <p:cTn id="3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2500"/>
                            </p:stCondLst>
                            <p:childTnLst>
                              <p:par>
                                <p:cTn id="3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3000"/>
                            </p:stCondLst>
                            <p:childTnLst>
                              <p:par>
                                <p:cTn id="3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2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500"/>
                            </p:stCondLst>
                            <p:childTnLst>
                              <p:par>
                                <p:cTn id="3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500"/>
                            </p:stCondLst>
                            <p:childTnLst>
                              <p:par>
                                <p:cTn id="3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3T19:05:33Z</dcterms:created>
  <dc:creator>ASCOM</dc:creator>
  <dc:description/>
  <dc:language>en-US</dc:language>
  <cp:lastModifiedBy>dico-outorga</cp:lastModifiedBy>
  <dcterms:modified xsi:type="dcterms:W3CDTF">2004-04-28T19:45:29Z</dcterms:modified>
  <cp:revision>133</cp:revision>
  <dc:subject/>
  <dc:title>Apresentação do PowerPoint</dc:title>
</cp:coreProperties>
</file>