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117-BD48-4CC5-BA7A-6E946F4B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DFF-B78A-4571-9BC2-87F8B3AC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BBE-5A05-43CD-9C34-1333E3F1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168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9120" y="198108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424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168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9120" y="413064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A94-DA22-44D7-8CBD-F7860261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43E-BB12-4C36-898B-174F19A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BE0-8310-4648-9F32-05D760A7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76D-DC97-499B-A855-CDFB471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B6B-E811-414B-B640-2EC45014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609120"/>
            <a:ext cx="8096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610-4C12-46D3-8E08-837F9E4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1A3-907C-4F1A-9C25-EBF78EA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240" y="413064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D2C-C24B-4E9A-ADE6-C805A43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4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240" y="1981080"/>
            <a:ext cx="395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4240" y="4130640"/>
            <a:ext cx="809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644-1CCC-4190-80C4-9A4B747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981080"/>
            <a:ext cx="809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248520"/>
            <a:ext cx="198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24852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248520"/>
            <a:ext cx="19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305-E054-4A89-AB1C-D1A5559A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03920" y="457200"/>
            <a:ext cx="3249720" cy="4457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84120" y="2743200"/>
            <a:ext cx="5064120" cy="32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358920"/>
            <a:ext cx="5105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TORGA DE DIREITO DE USO DA ÁGUA NA MINE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PERIÊNCIA DO ESTADO DE MIN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1814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ria Luiza Silva 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57150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sília, março de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836640"/>
            <a:ext cx="899136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Execução do Proj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numérico de fluxo subterrâneo d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ados consistidos da rede de monitoramento oper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ventário dos pontos d’água e dos usuários de águas superficiais e subterrâneas na área de influê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o sistema de rebaixamento de nível d’água (estruturas de captação, vazão máxima, NA projetado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manejo da água explotada no rebaix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lano de prevenção, controle e mitigação de impac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1467000"/>
            <a:ext cx="7086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ção das interferências e impactos, quantitativos e qualitativos, que a atividade de rebaixamento de nível d’água poderá causar nos recursos hídricos na área de influência d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295280"/>
            <a:ext cx="807732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 QUE É OUTORGADO</a:t>
            </a:r>
            <a:r>
              <a:rPr b="0" lang="pt-PT" sz="2400" spc="-1" strike="noStrike">
                <a:solidFill>
                  <a:srgbClr val="ffcc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A outorga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é concedida para a vazão do “Sistema de Rebaixamento” e não para cada estrutura de captação de água subterrâ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20000"/>
              </a:lnSpc>
              <a:spcBef>
                <a:spcPts val="2401"/>
              </a:spcBef>
              <a:buClr>
                <a:srgbClr val="00ffff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finalidade de uso da água é o rebaixamento de NA, independentemente da forma de captação no aqüíf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1197000"/>
            <a:ext cx="7467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Projeto e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Pesquisa Hidroge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acordo com o cronograma pesquisa, podendo ser renov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Fase de Execuçã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ff"/>
                </a:solidFill>
                <a:latin typeface="Wingdings 3"/>
                <a:ea typeface="Wingdings 3"/>
              </a:rPr>
              <a:t></a:t>
            </a:r>
            <a:r>
              <a:rPr b="1" lang="pt-BR" sz="2800" spc="-1" strike="noStrike">
                <a:solidFill>
                  <a:srgbClr val="00ff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Outorga para Rebaixamento de Nível D’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validade de 2 anos, renováv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Outorgas com condici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LUXOGRAMA GERAL DO USO DA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Mineração de Ferro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com Beneficia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92640" y="259092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Benefi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5240" y="1600200"/>
            <a:ext cx="9903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35840" y="1600200"/>
            <a:ext cx="25146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po de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9040" y="4648320"/>
            <a:ext cx="1981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745320" y="2209680"/>
            <a:ext cx="838080" cy="914400"/>
          </a:xfrm>
          <a:custGeom>
            <a:avLst/>
            <a:gdLst>
              <a:gd name="textAreaLeft" fmla="*/ 0 w 838080"/>
              <a:gd name="textAreaRight" fmla="*/ 838440 w 838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rot="10800000">
            <a:off x="1638720" y="2209680"/>
            <a:ext cx="838440" cy="914400"/>
          </a:xfrm>
          <a:custGeom>
            <a:avLst/>
            <a:gdLst>
              <a:gd name="textAreaLeft" fmla="*/ -360 w 838440"/>
              <a:gd name="textAreaRight" fmla="*/ 83844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54440" y="350532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087880" y="3276360"/>
            <a:ext cx="533520" cy="990360"/>
          </a:xfrm>
          <a:prstGeom prst="downArrow">
            <a:avLst>
              <a:gd name="adj1" fmla="val 50000"/>
              <a:gd name="adj2" fmla="val 4640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83000" y="52578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108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baix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2164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844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j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02080" y="426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circu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720" y="6004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99960"/>
            <a:ext cx="8001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336680"/>
            <a:ext cx="85345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Minas Gerais é um Estado com forte vocação para desenvolvimento de atividades minerár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é uma atividade dinâmica do ponto de vista do uso de recursos hídr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A mineração normalmente utiliza grandes volumes de água em seus processos </a:t>
            </a:r>
            <a:r>
              <a:rPr b="0" lang="pt-PT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 geração de confli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80880"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IGAM busca o aprimoramento dos procedimentos de análise e das exigências técnicas, de forma a compatibilizar a atividade minerária e a gestão das águas no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Unicode MS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28480" y="2637000"/>
            <a:ext cx="666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ffff"/>
                </a:solidFill>
                <a:latin typeface="CAC Futura Casual Bold"/>
              </a:rPr>
              <a:t>Maria Luiza Silva Ram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ffff"/>
                </a:solidFill>
                <a:latin typeface="CAC Futura Casual Bold"/>
              </a:rPr>
              <a:t>malu@igam.mg.gov.br</a:t>
            </a:r>
            <a:r>
              <a:rPr b="1" lang="pt-BR" sz="2600" spc="-1" strike="noStrike">
                <a:solidFill>
                  <a:srgbClr val="00ffff"/>
                </a:solidFill>
                <a:latin typeface="Arial Unicode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Divisão de Instrumentalização e Cont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(DvRC/ IG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Unicode MS"/>
              </a:rPr>
              <a:t>Telefone: (31) 3337-3355, ramal 1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ff"/>
                </a:solidFill>
                <a:latin typeface="Arial Unicode MS"/>
              </a:rPr>
              <a:t>www.igam.mg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830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INCIPAIS USOS DE RECURSOS HÍDRICOS  NA MINERAÇÃO SUJEITOS A OUTORG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355760"/>
            <a:ext cx="7696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direta em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Captação 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Poços tubulares e demais estruturas de captação de água subterrâ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Barramento para disposição de rejeitos, contenção de sedimentos e/ou recirculaçã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Rebaixamento de nível d’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ffff"/>
                </a:solidFill>
                <a:latin typeface="Arial"/>
              </a:rPr>
              <a:t>Dragagem em curso de água para extração mi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1371600"/>
            <a:ext cx="807732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IPO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ireta no curso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m barramento com regularização de vaz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de água captado a ser utilizado nas atividades minerárias de acordo com a disponibilidade hídrica e os critéri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CAPTAÇÃO EM CORPO DE 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981080"/>
            <a:ext cx="708660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INFORMAÇÕES SOLICITADAS PELO I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Volume de material afluente ao reservató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Características do material aflu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Balanço hídrico entre o volume de água lançado no reservatório e o volume a ser recircul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2100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Dimensionamento das estruturas de descarga considerando a vazão mínima residual e a cheia máxima de pro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2104920"/>
            <a:ext cx="70866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QUAL O FOCO DE ANÁLISE DO IG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a vida útil do barramento em função da sua capacidade de acumulação e das características do material afluen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valiar o dimensionamento das estruturas de descarga do barr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730520"/>
            <a:ext cx="8381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ctr"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 QUE É OUTORG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spcBef>
                <a:spcPts val="2999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 barramento que poderá ter as seguintes final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eber a polpa de rejeitos gerada no processo de benefici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er os finos e sedimentos existentes nas áreas de ext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3760" indent="-293760" algn="just">
              <a:lnSpc>
                <a:spcPct val="15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circulação de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5360" y="152280"/>
            <a:ext cx="907416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00"/>
                </a:solidFill>
                <a:latin typeface="Arial"/>
              </a:rPr>
              <a:t>OUTORGA PARA BARRAMENTO COM FINS DE DISPOSIÇÃO DE REJEITO, CONTENÇÃO DE SEDIMENTOS E/OU RECIRCUL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371600"/>
            <a:ext cx="80773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pt-PT" sz="2400" spc="-1" strike="noStrike">
                <a:solidFill>
                  <a:srgbClr val="ff9900"/>
                </a:solidFill>
                <a:latin typeface="Arial"/>
              </a:rPr>
              <a:t>O rebaixamento de NA tem por objetivo manter o nível d’água em uma determinada cota que permita a continuidade das atividades de lavra</a:t>
            </a:r>
            <a:r>
              <a:rPr b="0" lang="pt-BR" sz="2400" spc="-1" strike="noStrike">
                <a:solidFill>
                  <a:srgbClr val="ffcc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CAP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Poços tubulares (bateria de poç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Galerias de drenag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Drenos horizont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ffff"/>
                </a:solidFill>
                <a:latin typeface="Arial"/>
              </a:rPr>
              <a:t>- Bombeamento no fundo da c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58080" y="4724280"/>
            <a:ext cx="936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57720" y="5372280"/>
            <a:ext cx="93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97680" y="4989600"/>
            <a:ext cx="23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AIXA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71440"/>
            <a:ext cx="84582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tivo: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ção das características hidrogeológicas e geométricas do aqüífero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mbeamento de poços tubulares (24 horas / pré - rebaix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formações solicit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crição detalhada e cronograma dos estudos técni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é - projeto do sistema de rebaixamento (estruturas de captação, vazões, cotas, et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utorização para perfuração dos poços tubular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jeto de instalação da 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ros dados específicos ao empreend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277920">
              <a:lnSpc>
                <a:spcPct val="100000"/>
              </a:lnSpc>
              <a:buClr>
                <a:srgbClr val="00ffff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981000"/>
            <a:ext cx="845820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se de Projeto e Pesquisa Hidrogeológica (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açã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odelo hidrogeológico conceitual e modelo matemático de fluxo subterrâne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r o sistema de rebaixamento a ser implan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de de monitoramento hidrológico, pluviométrico e piezométr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finição da área de influência do rebaixamento e os possíveis impactos na disponibilidade hídr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edidas mitigadoras a serem executadas nos diversos cenários de impacto previ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24480"/>
            <a:ext cx="9524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997840" y="6381720"/>
            <a:ext cx="500040" cy="439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80880"/>
            <a:ext cx="89154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UTORGA PARA REBAIXAMENTO DE NÍVEL D’ÁGU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5T13:25:36Z</dcterms:created>
  <dc:creator>LCC-DEGEO</dc:creator>
  <dc:description/>
  <dc:language>en-US</dc:language>
  <cp:lastModifiedBy>dico-outorga</cp:lastModifiedBy>
  <dcterms:modified xsi:type="dcterms:W3CDTF">2004-03-15T22:28:38Z</dcterms:modified>
  <cp:revision>248</cp:revision>
  <dc:subject/>
  <dc:title>INTRODUÇÃO</dc:title>
</cp:coreProperties>
</file>