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6F7-A6A8-431C-8CEC-F9534596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26E-DFA0-468D-9D29-3ADF03D1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5E4-13C7-4C3D-B689-E5704595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772-A045-40D9-9297-11C4C220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5E1-4E91-4826-9A86-25A6DFF9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A7D-A758-42D3-B365-82FC9C3D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464-55A5-407A-8866-96D14FC1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11B-4567-4B47-90F4-6239B6D1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D0A-9E6A-4410-ABDD-A75E3DCD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7AB-0ADC-4AB1-BF51-9137ED5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2AE-169B-44A8-8C71-25D9BD2D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5D0-9AC9-47E8-A65B-7F4110E6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7EBD-362E-4D21-97D1-B502C75FA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6600" y="4917960"/>
            <a:ext cx="59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CIANO MENESES CARDOSO DA SILVA, D.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960" y="2492280"/>
            <a:ext cx="9027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Procedimentos para obtenção 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outorga para mineraçã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311640" cy="144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14360" y="173052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intendência de Outorga e Cobrança - S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óximos pas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NA promoverá uma campanha de regularização dos usuários do setor minerário em rios de domínio da Uni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beira do Igu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Jequitinhon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íba do Sul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Obrigado pela atençã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iano Meneses Cardoso da Sil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ente de Outorga da S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meneses@ana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1) 445-52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-270000"/>
            <a:ext cx="8064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cessos extração em cav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9080" y="590400"/>
            <a:ext cx="9002520" cy="3108600"/>
            <a:chOff x="19080" y="590400"/>
            <a:chExt cx="9002520" cy="31086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rcRect l="5861" t="8007" r="2635" b="3142"/>
            <a:stretch/>
          </p:blipFill>
          <p:spPr>
            <a:xfrm>
              <a:off x="19080" y="590400"/>
              <a:ext cx="9002520" cy="31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334120" y="2743200"/>
              <a:ext cx="2603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urante a ext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160" y="3689280"/>
            <a:ext cx="8940600" cy="3111480"/>
            <a:chOff x="38160" y="3689280"/>
            <a:chExt cx="8940600" cy="3111480"/>
          </a:xfrm>
        </p:grpSpPr>
        <p:pic>
          <p:nvPicPr>
            <p:cNvPr id="71" name="" descr=""/>
            <p:cNvPicPr/>
            <p:nvPr/>
          </p:nvPicPr>
          <p:blipFill>
            <a:blip r:embed="rId2"/>
            <a:srcRect l="5771" t="7479" r="0" b="3155"/>
            <a:stretch/>
          </p:blipFill>
          <p:spPr>
            <a:xfrm>
              <a:off x="38160" y="3689280"/>
              <a:ext cx="894060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181480" y="5867280"/>
              <a:ext cx="26035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pós a ext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3699000"/>
            <a:ext cx="912024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82296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administ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mulários de solicitação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dentificação do reque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va de que o requerente possui prioridade à obtenção do titulo minerário junto ao DN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cenciamento ambiental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6425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crição do sistema de captação ou lanç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racterização dos efluentes, incluindo esgotos sanit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ação da vazão a cada mês (vazão, h/dia, dias/mês, volume diário, volume mens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zão atual ou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126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o empreend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642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ipologia da extração mine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lanta planialtimétrica, georreferenciada, das instalações, cont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ordenadas do ponto/trecho de captação ou lan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manancial de captação ou lan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áreas de lavra, deposição de minério/rejeito, esté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ruturas destinadas à contenção de resíduos originados do beneficiamento de min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dicação da localização dos tanques de contenção de óleos e grax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racterização geotécnica do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lanço hídrico do proces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170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o empreendimen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425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luxograma simplificado do processo produtivo, indicando as fases em que é utilizada a águ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nidade (t, kg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dução (unidades/mê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umo de água (m³/unid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m leito de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ção de areia (draga ou bomba de suc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á outorga de captação da água utilizada para transporte da polpa para o pátio de estoc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outorga para o revolvimento do leito do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ção de ouro e diam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nas revolvimento do leito do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captação nem lançamento de eflu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Em leito de rio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svio temporário do l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lteração de regime, velocidade de escoamento, enchent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terferência com naveg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rragem de rejeito no l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ática sendo co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rragem para reservação (regularização de vaz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Fora de leito de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vação com exposição de nível d’água (extração em ca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vação a meia encosta a se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monte por explo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todos esses casos é possível ha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vagem de minério (benefici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de minério (polpa em minerodu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to de água para desmonte (desmonte hidrául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outorga para 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8408880" y="155880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tegorias de outorga para miner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ência” da ANA (23 proces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 outor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indefer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em anál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guardando docu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1:11:43Z</dcterms:created>
  <dc:creator>Meu Computador</dc:creator>
  <dc:description/>
  <dc:language>en-US</dc:language>
  <cp:lastModifiedBy>LUCIANO</cp:lastModifiedBy>
  <dcterms:modified xsi:type="dcterms:W3CDTF">2004-03-15T22:21:29Z</dcterms:modified>
  <cp:revision>89</cp:revision>
  <dc:subject/>
  <dc:title>Slide sem título </dc:title>
</cp:coreProperties>
</file>