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CE0-DB4F-4EBD-9E07-053E4F17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138-2E87-48BA-8578-AE20ABD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0AA-F7B4-4D5E-AF32-4E0C9B86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2AA-9429-4753-87C4-9917227D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361-3642-4D29-91F6-DDABD8F0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9DA-B486-410D-8446-CF5F43BC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CF8-5DF1-4403-A081-F114115D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CD3-C09B-4849-871D-B1AE4960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32E-68EE-4685-AB68-6A8CE48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930-E02B-400F-B0C9-41896031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DEB-014C-4509-A3EE-627CF31A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87F-8612-4630-A1EF-196EDAF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3BC5-C0C8-4DBD-AC55-4E1367FF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895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ROCEDIMENTOS DE OUTORGA, LICENCIAMENTO E CONCESSÕES DE USO DE RECURSOS HÍDRICOS DESTINADOS À GERAÇÃO DE ENERGIA ELÉ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0160" y="2133720"/>
            <a:ext cx="454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UPERINTENDÊNCIA DE OUTORGA E COBRA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47840" y="152280"/>
            <a:ext cx="4610160" cy="2019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556160"/>
            <a:ext cx="8569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Francisco Lopes Viana – S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Martha Sugai – 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Alan Vaz Lopes – S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CONCESS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249200"/>
            <a:ext cx="8496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INAS HIDRELÉTRICAS (P &gt; 30MW): CONC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it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deve solicitar a declaração de reserva de disponibilidade hídrica - DRD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DH é transformada automaticamente em outorga àquele que recebe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s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860640"/>
            <a:ext cx="8496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QUENAS CENTRAIS HIDRELÉTRICAS (P &lt; 30M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UTOR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deve solicitar a declaração de reserva de disponibilidade hídrica - DRD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DH é transformada automaticamente em outorga àquele que recebe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“CONCESSÕ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249200"/>
            <a:ext cx="8496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TRAIS GERADORAS (P &lt; 1 MW): 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 interessado deve solicitar a outorga de direito de uso de recursos hídricos, exigindo-se 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évio junto à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357720"/>
            <a:ext cx="849600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INAS TERMELÉTRICAS: AUTOR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ício do uso da á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interessado deve solicitar a outorga de direito de uso de recursos hídricos, exigindo-s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tida pel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nteressado pode, a seu critério, solicitar a outorga preventiva, que não confere direito de uso mas permite o planejamento do empreend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“CONCESSÕ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4022640"/>
            <a:ext cx="403848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03480"/>
            <a:ext cx="58672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640" y="2727360"/>
            <a:ext cx="1343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ENT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udo da b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58436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UD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A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17528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58436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CIT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158436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Á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417528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17528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R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85144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0" idx="0"/>
            <a:endCxn id="91" idx="1"/>
          </p:cNvCxnSpPr>
          <p:nvPr/>
        </p:nvCxnSpPr>
        <p:spPr>
          <a:xfrm flipH="1" flipV="1" rot="5400000">
            <a:off x="1245240" y="1838520"/>
            <a:ext cx="801000" cy="97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2" idx="1"/>
          </p:cNvCxnSpPr>
          <p:nvPr/>
        </p:nvCxnSpPr>
        <p:spPr>
          <a:xfrm flipH="1" rot="16200000">
            <a:off x="1359720" y="3743640"/>
            <a:ext cx="572040" cy="97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3"/>
            <a:endCxn id="96" idx="1"/>
          </p:cNvCxnSpPr>
          <p:nvPr/>
        </p:nvCxnSpPr>
        <p:spPr>
          <a:xfrm>
            <a:off x="3657240" y="45176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6" idx="3"/>
            <a:endCxn id="95" idx="1"/>
          </p:cNvCxnSpPr>
          <p:nvPr/>
        </p:nvCxnSpPr>
        <p:spPr>
          <a:xfrm>
            <a:off x="5486400" y="451764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4" idx="3"/>
            <a:endCxn id="95" idx="0"/>
          </p:cNvCxnSpPr>
          <p:nvPr/>
        </p:nvCxnSpPr>
        <p:spPr>
          <a:xfrm>
            <a:off x="7238520" y="1926720"/>
            <a:ext cx="839160" cy="224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7" idx="3"/>
            <a:endCxn id="95" idx="2"/>
          </p:cNvCxnSpPr>
          <p:nvPr/>
        </p:nvCxnSpPr>
        <p:spPr>
          <a:xfrm flipV="1">
            <a:off x="5486040" y="4860720"/>
            <a:ext cx="259164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1" idx="3"/>
            <a:endCxn id="93" idx="1"/>
          </p:cNvCxnSpPr>
          <p:nvPr/>
        </p:nvCxnSpPr>
        <p:spPr>
          <a:xfrm>
            <a:off x="3657240" y="19267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3"/>
            <a:endCxn id="94" idx="1"/>
          </p:cNvCxnSpPr>
          <p:nvPr/>
        </p:nvCxnSpPr>
        <p:spPr>
          <a:xfrm>
            <a:off x="5486040" y="19267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152880" y="2955960"/>
            <a:ext cx="20286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 (DRD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6" idx="0"/>
            <a:endCxn id="93" idx="2"/>
          </p:cNvCxnSpPr>
          <p:nvPr/>
        </p:nvCxnSpPr>
        <p:spPr>
          <a:xfrm flipV="1">
            <a:off x="4167000" y="2269440"/>
            <a:ext cx="5576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6" idx="2"/>
            <a:endCxn id="96" idx="0"/>
          </p:cNvCxnSpPr>
          <p:nvPr/>
        </p:nvCxnSpPr>
        <p:spPr>
          <a:xfrm>
            <a:off x="4167000" y="3412800"/>
            <a:ext cx="5576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037960" y="12175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AS (P &gt; 30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38320" y="49975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H (P &lt; 30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0560" y="6308640"/>
            <a:ext cx="28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TRAIS (P &lt; 1 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5562720"/>
            <a:ext cx="202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ORGA 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4 – OUTORGA E “LICENCIAMEN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LICENCI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0880"/>
            <a:ext cx="84960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ência de regulamentação (integração de procediment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ualmente, a ANEEL exige a entrega de estudos ambientais ao órgão competente antes da autorização ou conce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condições ambientais para emissão da DRDH estão sendo definidas em articulação com órgãos ambientais, não havendo resoluções conju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ras de operação e vazões mínimas (ecológicas) são definidas para atendimento a requisitos ambientais (10% da vazão méd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ções podem ser alteradas mesmo após a outorga, conforme licença de instalação e de op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ndeferimento ou cassação de licenças pode implicar na suspensão da DRDH ou da outo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E LICENCI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569960"/>
            <a:ext cx="8496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INAS HIDRELÉTRICAS (P &gt; 30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it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exige a entrega dos estudos ambientais aos órgãos competentes (IBAMA/O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246480"/>
            <a:ext cx="8496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QUENAS CENTRAIS HIDRELÉTRICAS (P &lt; 30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mente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ANEEL exige 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o no órgão ambien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 condiciona o início da construção 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ença de instal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5 – 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67000"/>
            <a:ext cx="84960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PRELI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HIDR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E DO EMPRE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ILIZAÇÃO COM MÚLTIPLOS USOS NA B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A MON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A JU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RAS OPE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CTOS SOBRE A G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920" y="1143000"/>
            <a:ext cx="8542440" cy="2592720"/>
            <a:chOff x="304920" y="1143000"/>
            <a:chExt cx="8542440" cy="2592720"/>
          </a:xfrm>
        </p:grpSpPr>
        <p:sp>
          <p:nvSpPr>
            <p:cNvPr id="136" name=""/>
            <p:cNvSpPr/>
            <p:nvPr/>
          </p:nvSpPr>
          <p:spPr>
            <a:xfrm>
              <a:off x="4095720" y="11430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US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04920" y="1324080"/>
              <a:ext cx="8542440" cy="2411640"/>
              <a:chOff x="304920" y="1324080"/>
              <a:chExt cx="8542440" cy="2411640"/>
            </a:xfrm>
          </p:grpSpPr>
          <p:sp>
            <p:nvSpPr>
              <p:cNvPr id="138" name=""/>
              <p:cNvSpPr/>
              <p:nvPr/>
            </p:nvSpPr>
            <p:spPr>
              <a:xfrm>
                <a:off x="5502240" y="1419120"/>
                <a:ext cx="2727360" cy="1400400"/>
              </a:xfrm>
              <a:custGeom>
                <a:avLst/>
                <a:gdLst/>
                <a:ahLst/>
                <a:rect l="l" t="t" r="r" b="b"/>
                <a:pathLst>
                  <a:path w="1718" h="882">
                    <a:moveTo>
                      <a:pt x="1718" y="738"/>
                    </a:moveTo>
                    <a:lnTo>
                      <a:pt x="1718" y="690"/>
                    </a:lnTo>
                    <a:lnTo>
                      <a:pt x="1718" y="546"/>
                    </a:lnTo>
                    <a:lnTo>
                      <a:pt x="1526" y="354"/>
                    </a:lnTo>
                    <a:lnTo>
                      <a:pt x="1430" y="354"/>
                    </a:lnTo>
                    <a:lnTo>
                      <a:pt x="1238" y="258"/>
                    </a:lnTo>
                    <a:lnTo>
                      <a:pt x="950" y="162"/>
                    </a:lnTo>
                    <a:lnTo>
                      <a:pt x="614" y="66"/>
                    </a:lnTo>
                    <a:lnTo>
                      <a:pt x="467" y="69"/>
                    </a:lnTo>
                    <a:lnTo>
                      <a:pt x="248" y="59"/>
                    </a:lnTo>
                    <a:lnTo>
                      <a:pt x="0" y="0"/>
                    </a:lnTo>
                    <a:lnTo>
                      <a:pt x="129" y="198"/>
                    </a:lnTo>
                    <a:lnTo>
                      <a:pt x="208" y="357"/>
                    </a:lnTo>
                    <a:lnTo>
                      <a:pt x="230" y="498"/>
                    </a:lnTo>
                    <a:lnTo>
                      <a:pt x="230" y="738"/>
                    </a:lnTo>
                    <a:lnTo>
                      <a:pt x="470" y="882"/>
                    </a:lnTo>
                    <a:lnTo>
                      <a:pt x="710" y="882"/>
                    </a:lnTo>
                    <a:lnTo>
                      <a:pt x="902" y="834"/>
                    </a:lnTo>
                    <a:lnTo>
                      <a:pt x="1046" y="738"/>
                    </a:lnTo>
                    <a:lnTo>
                      <a:pt x="1238" y="738"/>
                    </a:lnTo>
                    <a:lnTo>
                      <a:pt x="1430" y="834"/>
                    </a:lnTo>
                    <a:lnTo>
                      <a:pt x="1574" y="834"/>
                    </a:lnTo>
                    <a:lnTo>
                      <a:pt x="1718" y="73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304920" y="1447920"/>
                <a:ext cx="4662720" cy="1873080"/>
                <a:chOff x="304920" y="1447920"/>
                <a:chExt cx="4662720" cy="1873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98600" y="1844640"/>
                  <a:ext cx="41580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10200" y="14637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na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038480" y="3063960"/>
                  <a:ext cx="3812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268308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re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353040" y="144792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ver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191120" y="2073240"/>
                  <a:ext cx="7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tur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1120" y="2225880"/>
                  <a:ext cx="2819160" cy="761760"/>
                </a:xfrm>
                <a:custGeom>
                  <a:avLst/>
                  <a:gdLst/>
                  <a:ahLst/>
                  <a:rect l="l" t="t" r="r" b="b"/>
                  <a:pathLst>
                    <a:path w="1296" h="384">
                      <a:moveTo>
                        <a:pt x="0" y="0"/>
                      </a:moveTo>
                      <a:lnTo>
                        <a:pt x="1296" y="0"/>
                      </a:lnTo>
                      <a:lnTo>
                        <a:pt x="1152" y="3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920" y="2102040"/>
                  <a:ext cx="3886200" cy="121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00400" y="2075040"/>
                  <a:ext cx="647640" cy="1131840"/>
                </a:xfrm>
                <a:custGeom>
                  <a:avLst/>
                  <a:gdLst/>
                  <a:ahLst/>
                  <a:rect l="l" t="t" r="r" b="b"/>
                  <a:pathLst>
                    <a:path w="408" h="713">
                      <a:moveTo>
                        <a:pt x="0" y="575"/>
                      </a:moveTo>
                      <a:lnTo>
                        <a:pt x="408" y="713"/>
                      </a:lnTo>
                      <a:lnTo>
                        <a:pt x="408" y="0"/>
                      </a:lnTo>
                      <a:lnTo>
                        <a:pt x="219" y="0"/>
                      </a:lnTo>
                      <a:lnTo>
                        <a:pt x="0" y="57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52680" y="1832040"/>
                  <a:ext cx="685800" cy="241200"/>
                </a:xfrm>
                <a:custGeom>
                  <a:avLst/>
                  <a:gdLst/>
                  <a:ahLst/>
                  <a:rect l="l" t="t" r="r" b="b"/>
                  <a:pathLst>
                    <a:path w="432" h="152">
                      <a:moveTo>
                        <a:pt x="0" y="104"/>
                      </a:moveTo>
                      <a:cubicBezTo>
                        <a:pt x="84" y="52"/>
                        <a:pt x="168" y="0"/>
                        <a:pt x="240" y="8"/>
                      </a:cubicBezTo>
                      <a:cubicBezTo>
                        <a:pt x="312" y="16"/>
                        <a:pt x="400" y="128"/>
                        <a:pt x="432" y="15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191120" y="2454480"/>
                  <a:ext cx="3808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5375160" y="1324080"/>
                <a:ext cx="3130560" cy="1357200"/>
              </a:xfrm>
              <a:custGeom>
                <a:avLst/>
                <a:gdLst/>
                <a:ahLst/>
                <a:rect l="l" t="t" r="r" b="b"/>
                <a:pathLst>
                  <a:path w="1972" h="855">
                    <a:moveTo>
                      <a:pt x="0" y="0"/>
                    </a:moveTo>
                    <a:cubicBezTo>
                      <a:pt x="58" y="38"/>
                      <a:pt x="259" y="176"/>
                      <a:pt x="340" y="231"/>
                    </a:cubicBezTo>
                    <a:cubicBezTo>
                      <a:pt x="421" y="286"/>
                      <a:pt x="444" y="295"/>
                      <a:pt x="484" y="327"/>
                    </a:cubicBezTo>
                    <a:cubicBezTo>
                      <a:pt x="524" y="359"/>
                      <a:pt x="572" y="383"/>
                      <a:pt x="580" y="423"/>
                    </a:cubicBezTo>
                    <a:cubicBezTo>
                      <a:pt x="588" y="463"/>
                      <a:pt x="548" y="527"/>
                      <a:pt x="532" y="567"/>
                    </a:cubicBezTo>
                    <a:cubicBezTo>
                      <a:pt x="516" y="607"/>
                      <a:pt x="460" y="639"/>
                      <a:pt x="484" y="663"/>
                    </a:cubicBezTo>
                    <a:cubicBezTo>
                      <a:pt x="508" y="687"/>
                      <a:pt x="612" y="719"/>
                      <a:pt x="676" y="711"/>
                    </a:cubicBezTo>
                    <a:cubicBezTo>
                      <a:pt x="740" y="703"/>
                      <a:pt x="820" y="655"/>
                      <a:pt x="868" y="615"/>
                    </a:cubicBezTo>
                    <a:cubicBezTo>
                      <a:pt x="916" y="575"/>
                      <a:pt x="900" y="495"/>
                      <a:pt x="964" y="471"/>
                    </a:cubicBezTo>
                    <a:cubicBezTo>
                      <a:pt x="1028" y="447"/>
                      <a:pt x="1164" y="455"/>
                      <a:pt x="1252" y="471"/>
                    </a:cubicBezTo>
                    <a:cubicBezTo>
                      <a:pt x="1340" y="487"/>
                      <a:pt x="1436" y="527"/>
                      <a:pt x="1492" y="567"/>
                    </a:cubicBezTo>
                    <a:cubicBezTo>
                      <a:pt x="1548" y="607"/>
                      <a:pt x="1532" y="671"/>
                      <a:pt x="1588" y="711"/>
                    </a:cubicBezTo>
                    <a:cubicBezTo>
                      <a:pt x="1644" y="751"/>
                      <a:pt x="1764" y="783"/>
                      <a:pt x="1828" y="807"/>
                    </a:cubicBezTo>
                    <a:cubicBezTo>
                      <a:pt x="1892" y="831"/>
                      <a:pt x="1932" y="843"/>
                      <a:pt x="1972" y="855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3199680" y="2590560"/>
                <a:ext cx="5647680" cy="1145160"/>
                <a:chOff x="3199680" y="2590560"/>
                <a:chExt cx="5647680" cy="11451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626160" y="3336840"/>
                  <a:ext cx="222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ixo + casa de forç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54" name=""/>
                <p:cNvCxnSpPr>
                  <a:stCxn id="153" idx="1"/>
                  <a:endCxn id="148" idx="0"/>
                </p:cNvCxnSpPr>
                <p:nvPr/>
              </p:nvCxnSpPr>
              <p:spPr>
                <a:xfrm rot="10800000">
                  <a:off x="3199680" y="2986920"/>
                  <a:ext cx="3429720" cy="5482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5" name=""/>
                <p:cNvCxnSpPr>
                  <a:stCxn id="153" idx="0"/>
                  <a:endCxn id="138" idx="0"/>
                </p:cNvCxnSpPr>
                <p:nvPr/>
              </p:nvCxnSpPr>
              <p:spPr>
                <a:xfrm flipH="1" flipV="1" rot="5400000">
                  <a:off x="7610040" y="2717280"/>
                  <a:ext cx="746640" cy="492840"/>
                </a:xfrm>
                <a:prstGeom prst="bentConnector4">
                  <a:avLst>
                    <a:gd name="adj1" fmla="val 34635"/>
                    <a:gd name="adj2" fmla="val 10482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156" name=""/>
          <p:cNvGrpSpPr/>
          <p:nvPr/>
        </p:nvGrpSpPr>
        <p:grpSpPr>
          <a:xfrm>
            <a:off x="574560" y="3809880"/>
            <a:ext cx="7890120" cy="2608920"/>
            <a:chOff x="574560" y="3809880"/>
            <a:chExt cx="7890120" cy="2608920"/>
          </a:xfrm>
        </p:grpSpPr>
        <p:grpSp>
          <p:nvGrpSpPr>
            <p:cNvPr id="157" name=""/>
            <p:cNvGrpSpPr/>
            <p:nvPr/>
          </p:nvGrpSpPr>
          <p:grpSpPr>
            <a:xfrm>
              <a:off x="574560" y="3809880"/>
              <a:ext cx="7890120" cy="2608920"/>
              <a:chOff x="574560" y="3809880"/>
              <a:chExt cx="7890120" cy="2608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104080" y="6019920"/>
                <a:ext cx="151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sa de forç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574560" y="4178160"/>
                <a:ext cx="4800600" cy="1994040"/>
                <a:chOff x="574560" y="4178160"/>
                <a:chExt cx="4800600" cy="19940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74560" y="4863960"/>
                  <a:ext cx="480060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7200" y="4711680"/>
                  <a:ext cx="10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84960" y="41781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na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200400" y="6019920"/>
                  <a:ext cx="7621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11640" y="571500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re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49920" y="4254480"/>
                  <a:ext cx="76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ver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581280" y="5273640"/>
                  <a:ext cx="8445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657600" y="4876920"/>
                  <a:ext cx="7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tur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066680" y="4952880"/>
                  <a:ext cx="1752840" cy="304920"/>
                </a:xfrm>
                <a:custGeom>
                  <a:avLst/>
                  <a:gdLst/>
                  <a:ahLst/>
                  <a:rect l="l" t="t" r="r" b="b"/>
                  <a:pathLst>
                    <a:path w="1104" h="192">
                      <a:moveTo>
                        <a:pt x="0" y="0"/>
                      </a:moveTo>
                      <a:lnTo>
                        <a:pt x="1104" y="0"/>
                      </a:lnTo>
                      <a:lnTo>
                        <a:pt x="1008" y="1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666880" y="4800600"/>
                  <a:ext cx="381240" cy="533520"/>
                </a:xfrm>
                <a:custGeom>
                  <a:avLst/>
                  <a:gdLst/>
                  <a:ahLst/>
                  <a:rect l="l" t="t" r="r" b="b"/>
                  <a:pathLst>
                    <a:path w="240" h="336">
                      <a:moveTo>
                        <a:pt x="0" y="288"/>
                      </a:moveTo>
                      <a:lnTo>
                        <a:pt x="144" y="0"/>
                      </a:lnTo>
                      <a:lnTo>
                        <a:pt x="240" y="0"/>
                      </a:lnTo>
                      <a:lnTo>
                        <a:pt x="240" y="336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43200" y="4635360"/>
                  <a:ext cx="685800" cy="241560"/>
                </a:xfrm>
                <a:custGeom>
                  <a:avLst/>
                  <a:gdLst/>
                  <a:ahLst/>
                  <a:rect l="l" t="t" r="r" b="b"/>
                  <a:pathLst>
                    <a:path w="432" h="152">
                      <a:moveTo>
                        <a:pt x="0" y="104"/>
                      </a:moveTo>
                      <a:cubicBezTo>
                        <a:pt x="84" y="52"/>
                        <a:pt x="168" y="0"/>
                        <a:pt x="240" y="8"/>
                      </a:cubicBezTo>
                      <a:cubicBezTo>
                        <a:pt x="312" y="16"/>
                        <a:pt x="400" y="128"/>
                        <a:pt x="432" y="15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48120" y="5257800"/>
                  <a:ext cx="1758960" cy="406440"/>
                </a:xfrm>
                <a:custGeom>
                  <a:avLst/>
                  <a:gdLst/>
                  <a:ahLst/>
                  <a:rect l="l" t="t" r="r" b="b"/>
                  <a:pathLst>
                    <a:path w="1108" h="256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104" y="256"/>
                      </a:lnTo>
                      <a:lnTo>
                        <a:pt x="1108" y="20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800600" y="541008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4" y="164"/>
                      </a:moveTo>
                      <a:lnTo>
                        <a:pt x="0" y="0"/>
                      </a:lnTo>
                      <a:lnTo>
                        <a:pt x="96" y="0"/>
                      </a:lnTo>
                      <a:lnTo>
                        <a:pt x="100" y="180"/>
                      </a:lnTo>
                      <a:lnTo>
                        <a:pt x="4" y="164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428920" y="5229360"/>
                  <a:ext cx="2676600" cy="714240"/>
                </a:xfrm>
                <a:custGeom>
                  <a:avLst/>
                  <a:gdLst/>
                  <a:ahLst/>
                  <a:rect l="l" t="t" r="r" b="b"/>
                  <a:pathLst>
                    <a:path w="1686" h="450">
                      <a:moveTo>
                        <a:pt x="102" y="18"/>
                      </a:moveTo>
                      <a:lnTo>
                        <a:pt x="102" y="66"/>
                      </a:lnTo>
                      <a:lnTo>
                        <a:pt x="246" y="162"/>
                      </a:lnTo>
                      <a:lnTo>
                        <a:pt x="582" y="210"/>
                      </a:lnTo>
                      <a:lnTo>
                        <a:pt x="1110" y="306"/>
                      </a:lnTo>
                      <a:lnTo>
                        <a:pt x="1446" y="354"/>
                      </a:lnTo>
                      <a:lnTo>
                        <a:pt x="1590" y="306"/>
                      </a:lnTo>
                      <a:lnTo>
                        <a:pt x="1686" y="306"/>
                      </a:lnTo>
                      <a:lnTo>
                        <a:pt x="1590" y="402"/>
                      </a:lnTo>
                      <a:lnTo>
                        <a:pt x="1398" y="450"/>
                      </a:lnTo>
                      <a:lnTo>
                        <a:pt x="918" y="354"/>
                      </a:lnTo>
                      <a:lnTo>
                        <a:pt x="486" y="306"/>
                      </a:lnTo>
                      <a:lnTo>
                        <a:pt x="102" y="258"/>
                      </a:lnTo>
                      <a:lnTo>
                        <a:pt x="6" y="16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3236760" y="3809880"/>
                <a:ext cx="272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333399"/>
                    </a:solidFill>
                    <a:uFillTx/>
                    <a:latin typeface="Arial"/>
                  </a:rPr>
                  <a:t>PEQUENA CENTR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5334120" y="4038480"/>
                <a:ext cx="3130560" cy="1905120"/>
                <a:chOff x="5334120" y="4038480"/>
                <a:chExt cx="3130560" cy="1905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391880" y="4038480"/>
                  <a:ext cx="619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ix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86400" y="4695840"/>
                  <a:ext cx="922320" cy="647640"/>
                </a:xfrm>
                <a:custGeom>
                  <a:avLst/>
                  <a:gdLst/>
                  <a:ahLst/>
                  <a:rect l="l" t="t" r="r" b="b"/>
                  <a:pathLst>
                    <a:path w="581" h="408">
                      <a:moveTo>
                        <a:pt x="491" y="363"/>
                      </a:moveTo>
                      <a:lnTo>
                        <a:pt x="581" y="202"/>
                      </a:lnTo>
                      <a:lnTo>
                        <a:pt x="451" y="102"/>
                      </a:lnTo>
                      <a:lnTo>
                        <a:pt x="248" y="59"/>
                      </a:lnTo>
                      <a:lnTo>
                        <a:pt x="0" y="0"/>
                      </a:lnTo>
                      <a:lnTo>
                        <a:pt x="129" y="198"/>
                      </a:lnTo>
                      <a:lnTo>
                        <a:pt x="208" y="357"/>
                      </a:lnTo>
                      <a:lnTo>
                        <a:pt x="275" y="408"/>
                      </a:lnTo>
                      <a:lnTo>
                        <a:pt x="386" y="408"/>
                      </a:lnTo>
                      <a:lnTo>
                        <a:pt x="471" y="373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34120" y="4586400"/>
                  <a:ext cx="3130560" cy="1357200"/>
                </a:xfrm>
                <a:custGeom>
                  <a:avLst/>
                  <a:gdLst/>
                  <a:ahLst/>
                  <a:rect l="l" t="t" r="r" b="b"/>
                  <a:pathLst>
                    <a:path w="1972" h="855">
                      <a:moveTo>
                        <a:pt x="0" y="0"/>
                      </a:moveTo>
                      <a:cubicBezTo>
                        <a:pt x="58" y="38"/>
                        <a:pt x="259" y="176"/>
                        <a:pt x="340" y="231"/>
                      </a:cubicBezTo>
                      <a:cubicBezTo>
                        <a:pt x="421" y="286"/>
                        <a:pt x="444" y="295"/>
                        <a:pt x="484" y="327"/>
                      </a:cubicBezTo>
                      <a:cubicBezTo>
                        <a:pt x="524" y="359"/>
                        <a:pt x="572" y="383"/>
                        <a:pt x="580" y="423"/>
                      </a:cubicBezTo>
                      <a:cubicBezTo>
                        <a:pt x="588" y="463"/>
                        <a:pt x="548" y="527"/>
                        <a:pt x="532" y="567"/>
                      </a:cubicBezTo>
                      <a:cubicBezTo>
                        <a:pt x="516" y="607"/>
                        <a:pt x="460" y="639"/>
                        <a:pt x="484" y="663"/>
                      </a:cubicBezTo>
                      <a:cubicBezTo>
                        <a:pt x="508" y="687"/>
                        <a:pt x="612" y="719"/>
                        <a:pt x="676" y="711"/>
                      </a:cubicBezTo>
                      <a:cubicBezTo>
                        <a:pt x="740" y="703"/>
                        <a:pt x="820" y="655"/>
                        <a:pt x="868" y="615"/>
                      </a:cubicBezTo>
                      <a:cubicBezTo>
                        <a:pt x="916" y="575"/>
                        <a:pt x="900" y="495"/>
                        <a:pt x="964" y="471"/>
                      </a:cubicBezTo>
                      <a:cubicBezTo>
                        <a:pt x="1028" y="447"/>
                        <a:pt x="1164" y="455"/>
                        <a:pt x="1252" y="471"/>
                      </a:cubicBezTo>
                      <a:cubicBezTo>
                        <a:pt x="1340" y="487"/>
                        <a:pt x="1436" y="527"/>
                        <a:pt x="1492" y="567"/>
                      </a:cubicBezTo>
                      <a:cubicBezTo>
                        <a:pt x="1548" y="607"/>
                        <a:pt x="1532" y="671"/>
                        <a:pt x="1588" y="711"/>
                      </a:cubicBezTo>
                      <a:cubicBezTo>
                        <a:pt x="1644" y="751"/>
                        <a:pt x="1764" y="783"/>
                        <a:pt x="1828" y="807"/>
                      </a:cubicBezTo>
                      <a:cubicBezTo>
                        <a:pt x="1892" y="831"/>
                        <a:pt x="1932" y="843"/>
                        <a:pt x="1972" y="855"/>
                      </a:cubicBezTo>
                    </a:path>
                  </a:pathLst>
                </a:custGeom>
                <a:noFill/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248520" y="5232240"/>
                  <a:ext cx="533160" cy="177840"/>
                </a:xfrm>
                <a:custGeom>
                  <a:avLst/>
                  <a:gdLst/>
                  <a:ahLst/>
                  <a:rect l="l" t="t" r="r" b="b"/>
                  <a:pathLst>
                    <a:path w="336" h="112">
                      <a:moveTo>
                        <a:pt x="0" y="16"/>
                      </a:moveTo>
                      <a:cubicBezTo>
                        <a:pt x="68" y="8"/>
                        <a:pt x="136" y="0"/>
                        <a:pt x="192" y="16"/>
                      </a:cubicBezTo>
                      <a:cubicBezTo>
                        <a:pt x="248" y="32"/>
                        <a:pt x="292" y="72"/>
                        <a:pt x="336" y="11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80" name=""/>
              <p:cNvCxnSpPr>
                <a:stCxn id="158" idx="0"/>
                <a:endCxn id="173" idx="0"/>
              </p:cNvCxnSpPr>
              <p:nvPr/>
            </p:nvCxnSpPr>
            <p:spPr>
              <a:xfrm flipV="1" rot="16200000">
                <a:off x="5253120" y="5413320"/>
                <a:ext cx="305640" cy="9072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1" name=""/>
              <p:cNvCxnSpPr>
                <a:stCxn id="158" idx="3"/>
                <a:endCxn id="179" idx="0"/>
              </p:cNvCxnSpPr>
              <p:nvPr/>
            </p:nvCxnSpPr>
            <p:spPr>
              <a:xfrm flipV="1">
                <a:off x="6613560" y="5409360"/>
                <a:ext cx="187920" cy="808920"/>
              </a:xfrm>
              <a:prstGeom prst="bentConnector3">
                <a:avLst>
                  <a:gd name="adj1" fmla="val 21170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82" name=""/>
            <p:cNvSpPr/>
            <p:nvPr/>
          </p:nvSpPr>
          <p:spPr>
            <a:xfrm flipH="1">
              <a:off x="6324480" y="434340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273320"/>
            <a:ext cx="849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ÁLISE PRELI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ção da documentação apresentada pela A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ção do aproveitamento (rio, ba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ntamento de planos de recursos hídricos, planos setoriais e inventários hidrelé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011480"/>
            <a:ext cx="8496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ANÁLISE HIDROLÓGICA (ANEEL/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dos postos hidrometeorológ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a série de vazões médias mens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ção de vazões características máximas, médias e mí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717560"/>
            <a:ext cx="8458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LARAÇÃO DE RESERVA DE DISPONIBILIDADE HÍDRICA - DR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ORGA E CONCES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ORGA E LIC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273320"/>
            <a:ext cx="8496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ANÁLISE DO EMPREENDIMENTO (AN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físicas (arranjo selecionado, áreas inundadas, volumes, cotas, cu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reservatório (enchimento, residência, condições operativas, remanso, assore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hidráulicas (órgãos extravasores, vazão remanescente, vazão máxima turbi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energéticas (potência instalada, energia média, turbinas, rendi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273320"/>
            <a:ext cx="849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COMPATIBILIZAÇÃO COM MÚLTIPLOS USOS (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e usos consuntivos a montante e sua evolução prevista no período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sedentação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rrig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e restrições ambi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vantamento de usos a jusante e necessidade de alocação de vazões (navegação, controle de cheias, outros u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7440" y="142920"/>
            <a:ext cx="646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DIMENTOS TÉCN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273320"/>
            <a:ext cx="84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ACTOS SOBRE A GERAÇÃO (ANEEL/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ão do efeito de usos múltiplos e restrições ambientais sobre a atratividade econômica do aprovei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ntamento de custos de investimento e de 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va da energia gerada na situação original de projeto e na situação que considera os múltiplos 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236232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ESERVAÇÃO 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USOS MÚLTIPLOS DOS RECURSOS HÍDRICO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1523880"/>
            <a:ext cx="784872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séries de vazões méd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vazões máxi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vazões mínim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ransporte de sedimen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ondições de enchimento do reservató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empo de residênc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ondições de assoreamento do reservató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reman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ão remanescente, quando cou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ções de montante e jus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ENÁRIOS BASE DE USOS MÚLTIPL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04560" y="6858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valiação  de dados técnicos e oper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1523880"/>
            <a:ext cx="784872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nários: Prazo da outorga (art. 5, Lei 9984, 200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§ 4º As outorgas de direito de uso de recursos hídricos para concessionárias e autorizadas de serviços públicos e de geração de energia hidrelétrica vigorarão por prazos coincidentes com os dos correspondentes contratos de concessão ou atos administrativos de autoriz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457200"/>
            <a:ext cx="883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OS MULTIPLOS  NÃO CONSU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1880" y="5946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11600" y="137160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E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4760" y="47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70600" y="411480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REAÇÃO E 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21360" y="419112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SCA E AQUICUL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1828800" cy="1228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743200" y="4724280"/>
            <a:ext cx="1714680" cy="1238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495680" y="2133720"/>
            <a:ext cx="2051280" cy="1369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91120" y="1371600"/>
            <a:ext cx="262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E DE CHE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2232000" cy="150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4038480"/>
            <a:ext cx="289548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4038480"/>
            <a:ext cx="281916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371600"/>
            <a:ext cx="2743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477720"/>
            <a:ext cx="7696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OS MULTIPLOS CONSU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1880" y="5946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4760" y="47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676520"/>
            <a:ext cx="22096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ENTO HUM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rbano e rur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3840" y="4038480"/>
            <a:ext cx="28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ENTO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257800" y="4648320"/>
            <a:ext cx="2158920" cy="1417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016000" cy="142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2240" y="16765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RIG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1800360" cy="1301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36400" y="5029200"/>
            <a:ext cx="115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876920"/>
            <a:ext cx="13716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4038480"/>
            <a:ext cx="35053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600200"/>
            <a:ext cx="15238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523880"/>
            <a:ext cx="784872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Cenários: usos consun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i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71240" y="533520"/>
            <a:ext cx="469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ÇAO DAS ÁREAS IRRI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935680" cy="3544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" y="518148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os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50    1960    1970    1980    1990   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Área Irrigada (1000ha)   64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      796    1.600   2.700   2.870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78000" y="2895480"/>
            <a:ext cx="47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1 - BASE 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25000" y="533520"/>
            <a:ext cx="51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S IRRIGADAS NO BRASIL em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1219320"/>
            <a:ext cx="62485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gião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Área Irrigada (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or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 86.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Nordeste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  <a:ea typeface="Arial"/>
              </a:rPr>
              <a:t>  495.3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udes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890.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u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.195.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entro-Oest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201.7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otal Brasi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.870.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90680" y="30481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IO GRAN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84160" y="2743200"/>
            <a:ext cx="496800" cy="868320"/>
          </a:xfrm>
          <a:prstGeom prst="rect">
            <a:avLst/>
          </a:prstGeom>
          <a:solidFill>
            <a:srgbClr val="fae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00800" y="3733920"/>
            <a:ext cx="1474920" cy="201600"/>
          </a:xfrm>
          <a:prstGeom prst="rect">
            <a:avLst/>
          </a:prstGeom>
          <a:solidFill>
            <a:srgbClr val="fae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2793960"/>
            <a:ext cx="5662440" cy="7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52960" y="3809880"/>
            <a:ext cx="566244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6613560"/>
            <a:ext cx="9144000" cy="244440"/>
            <a:chOff x="0" y="6613560"/>
            <a:chExt cx="9144000" cy="244440"/>
          </a:xfrm>
        </p:grpSpPr>
        <p:grpSp>
          <p:nvGrpSpPr>
            <p:cNvPr id="244" name=""/>
            <p:cNvGrpSpPr/>
            <p:nvPr/>
          </p:nvGrpSpPr>
          <p:grpSpPr>
            <a:xfrm>
              <a:off x="0" y="6613560"/>
              <a:ext cx="9144000" cy="244440"/>
              <a:chOff x="0" y="6613560"/>
              <a:chExt cx="9144000" cy="24444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6629400"/>
                <a:ext cx="9144000" cy="228600"/>
              </a:xfrm>
              <a:prstGeom prst="rect">
                <a:avLst/>
              </a:prstGeom>
              <a:solidFill>
                <a:srgbClr val="fae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414920" y="6613560"/>
                <a:ext cx="1533960" cy="215640"/>
              </a:xfrm>
              <a:prstGeom prst="rect">
                <a:avLst/>
              </a:prstGeom>
              <a:solidFill>
                <a:srgbClr val="fae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Consórcio FAHMA – DREER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0240" y="6613560"/>
                <a:ext cx="2434680" cy="215640"/>
              </a:xfrm>
              <a:prstGeom prst="rect">
                <a:avLst/>
              </a:prstGeom>
              <a:solidFill>
                <a:srgbClr val="fae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Operador Nacional do Sistema Elétrico - 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06000" y="33336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xas 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87280" y="1197000"/>
            <a:ext cx="7200720" cy="5207040"/>
            <a:chOff x="1187280" y="1197000"/>
            <a:chExt cx="7200720" cy="5207040"/>
          </a:xfrm>
        </p:grpSpPr>
        <p:sp>
          <p:nvSpPr>
            <p:cNvPr id="251" name=""/>
            <p:cNvSpPr/>
            <p:nvPr/>
          </p:nvSpPr>
          <p:spPr>
            <a:xfrm>
              <a:off x="7713000" y="6143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3800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6336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8360" y="6143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336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3872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63360" y="6143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872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13720" y="6143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7280" y="614376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13000" y="58834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3800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6336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8360" y="58834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7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1336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3872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63360" y="58834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872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3720" y="58834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87280" y="588348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13000" y="562284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3800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336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88360" y="562284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1336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3872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63360" y="562284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8872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13720" y="562284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7280" y="5622840"/>
              <a:ext cx="112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13000" y="53625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800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6336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88360" y="53625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1336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3872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63360" y="53625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872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13720" y="53625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87280" y="536256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RRIGAÇ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13000" y="5102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3800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6336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88360" y="5102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336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3872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63360" y="5102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7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872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13720" y="5102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7280" y="510228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13000" y="48420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3800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6336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88360" y="48420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336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2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3872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63360" y="48420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8872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13720" y="48420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87280" y="484200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13000" y="45817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3800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6336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88360" y="45817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1336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3872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63360" y="45817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8872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13720" y="45817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87280" y="458172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13000" y="4321080"/>
              <a:ext cx="67500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3800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6336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88360" y="4321080"/>
              <a:ext cx="67500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1336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872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63360" y="4321080"/>
              <a:ext cx="67500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8872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3720" y="4321080"/>
              <a:ext cx="6746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87280" y="4321080"/>
              <a:ext cx="1126440" cy="26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USTR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13000" y="40608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3800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6336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88360" y="40608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4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1336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3872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360" y="40608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8872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13720" y="40608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87280" y="406080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13000" y="38005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3800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6336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88360" y="38005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1336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3872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8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63360" y="380052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8872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13720" y="380052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7280" y="380052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13000" y="35402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3800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6336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88360" y="35402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336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3872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63360" y="35402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8872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13720" y="35402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3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87280" y="354024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13000" y="32799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3800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6336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88360" y="32799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1336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3872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3360" y="327996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8872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3720" y="327996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7280" y="327996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IM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3000" y="301932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3800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6336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88360" y="301932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1336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3872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8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63360" y="301932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8872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13720" y="301932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87280" y="3019320"/>
              <a:ext cx="112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13000" y="27590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3800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6336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88360" y="27590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1336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9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3872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63360" y="275904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8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8872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13720" y="275904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7280" y="275904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13000" y="2498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800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6336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88360" y="2498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1336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3872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3360" y="249876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8872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13720" y="249876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87280" y="249876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13000" y="223848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800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6336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8360" y="223848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1336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3872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63360" y="223848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8872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3720" y="223848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87280" y="223848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U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13000" y="19782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3800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6336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88360" y="19782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1336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3872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63360" y="197820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8872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13720" y="197820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7280" y="197820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13000" y="171756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3800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6336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88360" y="171756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66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336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1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3872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9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63360" y="1717560"/>
              <a:ext cx="67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8872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13720" y="1717560"/>
              <a:ext cx="674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87280" y="1717560"/>
              <a:ext cx="11264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13000" y="1457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3800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6336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88360" y="1457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336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3872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63360" y="1457280"/>
              <a:ext cx="67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8872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3720" y="1457280"/>
              <a:ext cx="67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87280" y="1457280"/>
              <a:ext cx="11264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13000" y="119700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3800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6336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88360" y="119700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1336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3872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63360" y="1197000"/>
              <a:ext cx="67500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8872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3720" y="1197000"/>
              <a:ext cx="6746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187280" y="1197000"/>
              <a:ext cx="1126440" cy="260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RBA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87280" y="11970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87280" y="64040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8728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8800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87280" y="14572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372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8872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63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872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3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88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6336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800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13000" y="1197000"/>
              <a:ext cx="0" cy="5207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17175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87280" y="19782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87280" y="22384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7280" y="24987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87280" y="27590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87280" y="301932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87280" y="32799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7280" y="35402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7280" y="380052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40608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7280" y="43210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87280" y="458172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87280" y="484200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87280" y="51022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7280" y="53625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87280" y="562284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87280" y="588348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7280" y="6143760"/>
              <a:ext cx="7200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659640" y="167400"/>
            <a:ext cx="234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963160" y="762120"/>
            <a:ext cx="34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volução da Área Irri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896760" y="1700280"/>
          <a:ext cx="756288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700280"/>
                    <a:ext cx="756288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6659640" y="167400"/>
            <a:ext cx="2340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539640" y="1655640"/>
          <a:ext cx="833436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55640"/>
                    <a:ext cx="833436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0" name=""/>
          <p:cNvGrpSpPr/>
          <p:nvPr/>
        </p:nvGrpSpPr>
        <p:grpSpPr>
          <a:xfrm>
            <a:off x="7524720" y="5794200"/>
            <a:ext cx="1219320" cy="723960"/>
            <a:chOff x="7524720" y="5794200"/>
            <a:chExt cx="1219320" cy="723960"/>
          </a:xfrm>
        </p:grpSpPr>
        <p:sp>
          <p:nvSpPr>
            <p:cNvPr id="491" name=""/>
            <p:cNvSpPr/>
            <p:nvPr/>
          </p:nvSpPr>
          <p:spPr>
            <a:xfrm>
              <a:off x="7524720" y="5794200"/>
              <a:ext cx="1219320" cy="72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7000" y="5864040"/>
              <a:ext cx="152640" cy="1526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77000" y="6073560"/>
              <a:ext cx="152640" cy="15264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77000" y="6283440"/>
              <a:ext cx="152640" cy="152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94440" y="5794200"/>
              <a:ext cx="747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tira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etor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onsum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352680" y="914400"/>
            <a:ext cx="2971800" cy="368280"/>
          </a:xfrm>
          <a:prstGeom prst="rect">
            <a:avLst/>
          </a:prstGeom>
          <a:solidFill>
            <a:srgbClr val="eeebb6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Vazões acumuladas na seção do aproveitamento de Água Vermelha, na Bacia do 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28720" y="1809720"/>
            <a:ext cx="7775640" cy="231120"/>
          </a:xfrm>
          <a:prstGeom prst="rect">
            <a:avLst/>
          </a:prstGeom>
          <a:solidFill>
            <a:srgbClr val="eeebb6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édias anuais da vazão total acumulada na seção do aproveitamento de Água Vermelha, na Bacia do 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55640" y="2558880"/>
            <a:ext cx="8065800" cy="2679840"/>
            <a:chOff x="755640" y="2558880"/>
            <a:chExt cx="8065800" cy="2679840"/>
          </a:xfrm>
        </p:grpSpPr>
        <p:sp>
          <p:nvSpPr>
            <p:cNvPr id="499" name=""/>
            <p:cNvSpPr/>
            <p:nvPr/>
          </p:nvSpPr>
          <p:spPr>
            <a:xfrm>
              <a:off x="7961760" y="47815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11520" y="4781520"/>
              <a:ext cx="749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26000" y="478152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7760" y="4781520"/>
              <a:ext cx="85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16080" y="4781520"/>
              <a:ext cx="75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32000" y="4781520"/>
              <a:ext cx="78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72320" y="47815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20280" y="4781520"/>
              <a:ext cx="751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36560" y="4781520"/>
              <a:ext cx="78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5640" y="4781520"/>
              <a:ext cx="88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61760" y="43243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11520" y="4324320"/>
              <a:ext cx="749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6000" y="432432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67760" y="4324320"/>
              <a:ext cx="85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,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16080" y="4324320"/>
              <a:ext cx="75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32000" y="4324320"/>
              <a:ext cx="78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72320" y="4324320"/>
              <a:ext cx="85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,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0280" y="4324320"/>
              <a:ext cx="751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,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36560" y="4324320"/>
              <a:ext cx="78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5640" y="4324320"/>
              <a:ext cx="880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To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61760" y="3978360"/>
              <a:ext cx="859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,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11520" y="3978360"/>
              <a:ext cx="7498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26000" y="3978360"/>
              <a:ext cx="785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,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67760" y="3978360"/>
              <a:ext cx="8582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16080" y="3978360"/>
              <a:ext cx="751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,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32000" y="3978360"/>
              <a:ext cx="7837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5,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2320" y="3978360"/>
              <a:ext cx="859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0280" y="3978360"/>
              <a:ext cx="751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7,5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36560" y="3978360"/>
              <a:ext cx="783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,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5640" y="3978360"/>
              <a:ext cx="8809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61760" y="3633840"/>
              <a:ext cx="859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11520" y="3633840"/>
              <a:ext cx="7498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26000" y="3633840"/>
              <a:ext cx="785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67760" y="3633840"/>
              <a:ext cx="8582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16080" y="3633840"/>
              <a:ext cx="7513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2000" y="3633840"/>
              <a:ext cx="783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72320" y="3633840"/>
              <a:ext cx="859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20280" y="3633840"/>
              <a:ext cx="751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36560" y="3633840"/>
              <a:ext cx="7833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,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55640" y="3633840"/>
              <a:ext cx="8809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61760" y="3289320"/>
              <a:ext cx="8596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11520" y="3289320"/>
              <a:ext cx="7498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o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26000" y="3289320"/>
              <a:ext cx="78552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67760" y="3289320"/>
              <a:ext cx="85824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16080" y="3289320"/>
              <a:ext cx="75132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o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32000" y="3289320"/>
              <a:ext cx="78372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72320" y="3289320"/>
              <a:ext cx="8596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20280" y="3289320"/>
              <a:ext cx="75168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o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36560" y="3289320"/>
              <a:ext cx="783360" cy="34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ir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" y="3289320"/>
              <a:ext cx="8809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26000" y="2558880"/>
              <a:ext cx="2395440" cy="730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32000" y="2558880"/>
              <a:ext cx="2394000" cy="730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36560" y="2558880"/>
              <a:ext cx="2395440" cy="730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" y="2558880"/>
              <a:ext cx="880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5640" y="2558880"/>
              <a:ext cx="880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5640" y="523872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640" y="2558880"/>
              <a:ext cx="0" cy="1074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82144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36560" y="2558880"/>
              <a:ext cx="7184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36560" y="3289320"/>
              <a:ext cx="71848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3656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3200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426000" y="2558880"/>
              <a:ext cx="0" cy="26798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5640" y="363384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2028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7232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1608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6776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1152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61760" y="3289320"/>
              <a:ext cx="0" cy="194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5640" y="397836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5640" y="3633840"/>
              <a:ext cx="0" cy="16048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5640" y="432432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5640" y="4781520"/>
              <a:ext cx="80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2987640" y="2421000"/>
            <a:ext cx="5329440" cy="3025800"/>
            <a:chOff x="2987640" y="2421000"/>
            <a:chExt cx="5329440" cy="3025800"/>
          </a:xfrm>
        </p:grpSpPr>
        <p:sp>
          <p:nvSpPr>
            <p:cNvPr id="574" name=""/>
            <p:cNvSpPr/>
            <p:nvPr/>
          </p:nvSpPr>
          <p:spPr>
            <a:xfrm>
              <a:off x="7164360" y="5021280"/>
              <a:ext cx="1152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96000" y="5021280"/>
              <a:ext cx="1368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73720" y="5021280"/>
              <a:ext cx="132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87640" y="5021280"/>
              <a:ext cx="14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An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64360" y="4595760"/>
              <a:ext cx="1152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96000" y="4595760"/>
              <a:ext cx="1368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4,9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73720" y="4595760"/>
              <a:ext cx="132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,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87640" y="4595760"/>
              <a:ext cx="14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ção 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64360" y="4170240"/>
              <a:ext cx="11527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,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96000" y="4170240"/>
              <a:ext cx="1368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,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73720" y="4170240"/>
              <a:ext cx="1322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87640" y="4170240"/>
              <a:ext cx="1486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4360" y="3745080"/>
              <a:ext cx="11527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96000" y="3745080"/>
              <a:ext cx="13683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73720" y="3745080"/>
              <a:ext cx="13222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87640" y="3745080"/>
              <a:ext cx="14860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64360" y="3321000"/>
              <a:ext cx="1152720" cy="424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96000" y="3321000"/>
              <a:ext cx="1368360" cy="424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t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73720" y="3321000"/>
              <a:ext cx="1322280" cy="424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nd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87640" y="3321000"/>
              <a:ext cx="1486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73720" y="2421000"/>
              <a:ext cx="3843360" cy="900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zões de Consu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87640" y="2421000"/>
              <a:ext cx="1486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87640" y="2421000"/>
              <a:ext cx="1486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87640" y="544680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87640" y="2421000"/>
              <a:ext cx="0" cy="1324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17080" y="2421000"/>
              <a:ext cx="0" cy="30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73720" y="2421000"/>
              <a:ext cx="3843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73720" y="3321000"/>
              <a:ext cx="38433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73720" y="2421000"/>
              <a:ext cx="0" cy="30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87640" y="374508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96000" y="3321000"/>
              <a:ext cx="0" cy="21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4360" y="3321000"/>
              <a:ext cx="0" cy="2125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87640" y="417024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87640" y="3745080"/>
              <a:ext cx="0" cy="1701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987640" y="459576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87640" y="5021280"/>
              <a:ext cx="5329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666880" y="1219320"/>
            <a:ext cx="3886200" cy="368280"/>
          </a:xfrm>
          <a:prstGeom prst="rect">
            <a:avLst/>
          </a:prstGeom>
          <a:solidFill>
            <a:srgbClr val="eeebb6"/>
          </a:solidFill>
          <a:ln w="9360">
            <a:solidFill>
              <a:srgbClr val="000000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édias anuais da vazão total acumulada na seção do aproveitamento de Água Vermelha, na Bacia do Rio Gran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57200" y="182880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 o impacto dos usos de recursos hídricos na energia do aproveitam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37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127400" y="981000"/>
            <a:ext cx="4768920" cy="56880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457200" y="4191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HEs: energia assegurada, próxima adição no 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5372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96880" y="914400"/>
            <a:ext cx="66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CIAMENTO AMBIENTAL DE USINAS HIDRELÉ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2057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oluções Cona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49160" y="441972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ção CNPE: 15/2002 – GT licença prévia antes de licitar ou autorizar a partir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50560" y="1905120"/>
            <a:ext cx="11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06/198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7/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79/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867280" y="2286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94360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34320" y="198108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GT Câmar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de Atividades Minerárias, Energia... CO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595600" y="533520"/>
            <a:ext cx="3951360" cy="17301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220760" y="2286000"/>
            <a:ext cx="67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UPERINTENDÊNCIA DE OUTORGA E COBR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01680" y="3200400"/>
            <a:ext cx="6762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CONT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fcoviana@ana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vazlopes@ana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martha.sugai@ana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(61) 445-52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(61) 445-535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(61) 445-52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317600"/>
            <a:ext cx="84960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</a:rPr>
              <a:t>1 – CONSTITUIÇÃO FEDERAL / 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 2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pete à Uni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explorar, diretamente ou mediante autorização, permiss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concessão, os serviços e instalações de energia elétrica e 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oveitamento energético de cursos d’água, em articulação com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Estados onde se situam os potenciais hidroenergét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instituir sistema nacional de gerenciamento de recurs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ídricos 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efinir critérios de outorga de direito de seu u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0360" y="4471920"/>
            <a:ext cx="8388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 – LEI Nº 9.433 /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Estão sujeitos a outorga pelo Poder Público os direit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seguintes usos de recursos hídr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proveitamento dos potenciais hidrelétr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249200"/>
            <a:ext cx="8496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– LEI Nº 9.984 /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 7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ara licitar a concessão ou autorizar o us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cial de energia hidráulica em corpo de água de domín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União, a ANEEL deverá promover, junto à ANA, a prév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ção de declaração de reserva de disponibilidade híd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587840"/>
            <a:ext cx="86421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 – RESOLUÇÃO ANA Nº 131 /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menta procedimentos para emissão de declaraçã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 de disponibilidade hídrica para potenciais hidráulicos 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s d’água de domínio da Uni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ispensa de outorga 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eitamentos já autorizados ou concedidos pela AN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7440" y="142920"/>
            <a:ext cx="566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SE 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3352680"/>
            <a:ext cx="8642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 – DECRETO Nº 3.692 /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a da Resolução conjunta ANA / ANEEL que regulamenta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imentos entre 19/12/2000 e 19/12/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28954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2 – A DECLARAÇÃO DE RESERVA DE DISPONIBILIDADE HÍD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249200"/>
            <a:ext cx="84960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C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RDH tem características  semelhantes à outorga preventiv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não conferir direito de uso, mas é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orm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amen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 outorga de direito de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7440" y="142920"/>
            <a:ext cx="624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DECLARAÇÃO DE RESERVA DE DISPONIBILIDADE HÍD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8040" y="3430440"/>
            <a:ext cx="87166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– Reservar as vazões necessárias à viabilidade do aproveit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relétrico, criando as condições para o exercício do direit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esso à água, planejado pelo setor elétr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– Assegurar o controle qualitativo e qualitativo de usos da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480060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RUMENTO D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o planejamento a longo prazo de alocações de água entre usuários na bacia, balizand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lanos de recursos hídric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lanos do setor elétr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219320"/>
            <a:ext cx="86868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TRUMENTO DE REG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definir consumos de água máximos na baci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ta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orna-se critério referência de outorga para outros u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definir regras de operação do reservatório, estabelece vazões de referênci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jusante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das na outorga de outros u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 definir níveis operativos do reservatório, estabelece condições de captação no lago form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7440" y="142920"/>
            <a:ext cx="624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DECLARAÇÃO DE RESERVA DE DISPONIBILIDADE HÍD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3 – OUTORGA E “CONCESSÕ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9764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8:44:45Z</dcterms:created>
  <dc:creator>Dr João Vieira Lopes</dc:creator>
  <dc:description/>
  <dc:language>en-US</dc:language>
  <cp:lastModifiedBy>est4036</cp:lastModifiedBy>
  <dcterms:modified xsi:type="dcterms:W3CDTF">2003-12-02T11:42:34Z</dcterms:modified>
  <cp:revision>48</cp:revision>
  <dc:subject/>
  <dc:title>Slide 1</dc:title>
</cp:coreProperties>
</file>