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presentação CTPO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Outorga, licenciamento e concessões de uso de recursos hídricos destinados à geração de energia el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21/10/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17880" y="3886200"/>
            <a:ext cx="0" cy="227160"/>
          </a:xfrm>
          <a:prstGeom prst="line">
            <a:avLst/>
          </a:prstGeom>
          <a:ln cap="rnd" w="19080">
            <a:solidFill>
              <a:srgbClr val="33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22400" y="2362320"/>
            <a:ext cx="2060640" cy="17701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ffcc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2400" y="2797920"/>
            <a:ext cx="1470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U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65480" y="2362320"/>
            <a:ext cx="55641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21120" y="2133720"/>
            <a:ext cx="0" cy="197640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3240" y="2133720"/>
            <a:ext cx="0" cy="144756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64320" y="2133720"/>
            <a:ext cx="0" cy="190476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51600" y="1905120"/>
            <a:ext cx="457200" cy="3808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192"/>
                </a:moveTo>
                <a:lnTo>
                  <a:pt x="96" y="384"/>
                </a:lnTo>
                <a:lnTo>
                  <a:pt x="336" y="0"/>
                </a:lnTo>
                <a:lnTo>
                  <a:pt x="384" y="192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08800" y="2057400"/>
            <a:ext cx="12193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139920" y="2133720"/>
            <a:ext cx="38116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19680" y="2060640"/>
            <a:ext cx="0" cy="1443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240" y="2060640"/>
            <a:ext cx="0" cy="1443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65760" y="2060640"/>
            <a:ext cx="0" cy="1443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2920" y="2540160"/>
            <a:ext cx="781200" cy="304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98800" y="2540160"/>
            <a:ext cx="2743200" cy="304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2920" y="2540160"/>
            <a:ext cx="2063880" cy="304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12920" y="3124080"/>
            <a:ext cx="781200" cy="304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98800" y="3124080"/>
            <a:ext cx="2743200" cy="30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2920" y="3124080"/>
            <a:ext cx="206388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12920" y="3659040"/>
            <a:ext cx="781200" cy="304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02040" y="3659040"/>
            <a:ext cx="477684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87680" y="1676520"/>
            <a:ext cx="7174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1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9880" y="1676520"/>
            <a:ext cx="715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5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960" y="1676520"/>
            <a:ext cx="843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3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22400" y="4343400"/>
            <a:ext cx="2058840" cy="1674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00ffcc"/>
              </a:gs>
              <a:gs pos="100000">
                <a:srgbClr val="00ffcc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720" y="4547160"/>
            <a:ext cx="14036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5480" y="4343400"/>
            <a:ext cx="5564160" cy="167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17880" y="4343400"/>
            <a:ext cx="0" cy="167472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000" y="4343400"/>
            <a:ext cx="0" cy="167472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61080" y="4343400"/>
            <a:ext cx="0" cy="167472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05000" y="4495680"/>
            <a:ext cx="1544760" cy="304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9760" y="4495680"/>
            <a:ext cx="4040280" cy="30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05000" y="5052960"/>
            <a:ext cx="1544760" cy="304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9760" y="5052960"/>
            <a:ext cx="4040280" cy="30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79800" y="3809880"/>
            <a:ext cx="163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809880"/>
            <a:ext cx="163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70720" y="3809880"/>
            <a:ext cx="163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0000" y="3962520"/>
            <a:ext cx="0" cy="15084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61080" y="3962520"/>
            <a:ext cx="0" cy="22680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95560" y="6172200"/>
            <a:ext cx="30456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ccff"/>
              </a:gs>
            </a:gsLst>
            <a:lin ang="5400000"/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49720" y="6172200"/>
            <a:ext cx="304920" cy="30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78520" y="6172200"/>
            <a:ext cx="304920" cy="304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6680" y="6172200"/>
            <a:ext cx="2602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pt-BR" sz="1200" spc="-1" strike="noStrike">
                <a:solidFill>
                  <a:srgbClr val="ffffff"/>
                </a:solidFill>
                <a:latin typeface="Verdana"/>
              </a:rPr>
              <a:t>Concessão Mediante Lici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61040" y="6172200"/>
            <a:ext cx="1645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t-BR" sz="1200" spc="-1" strike="noStrike">
                <a:solidFill>
                  <a:srgbClr val="ffffff"/>
                </a:solidFill>
                <a:latin typeface="Verdana"/>
              </a:rPr>
              <a:t>Autor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9680" y="6300720"/>
            <a:ext cx="2884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1200" spc="-1" strike="noStrike">
                <a:solidFill>
                  <a:srgbClr val="ffffff"/>
                </a:solidFill>
                <a:latin typeface="Verdana"/>
              </a:rPr>
              <a:t>Comunicação à ANEEL-Regi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4040" y="2060640"/>
            <a:ext cx="0" cy="1443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22800" y="1676520"/>
            <a:ext cx="846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" rIns="2520" tIns="1440" bIns="1440" anchor="ctr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10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18080" y="3967200"/>
            <a:ext cx="0" cy="25236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18080" y="4813200"/>
            <a:ext cx="0" cy="21600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18080" y="5410080"/>
            <a:ext cx="0" cy="60804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4040" y="2362320"/>
            <a:ext cx="0" cy="15228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05000" y="5584680"/>
            <a:ext cx="1544760" cy="304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9760" y="5584680"/>
            <a:ext cx="404028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6680" y="2590920"/>
            <a:ext cx="2039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Autop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17840" y="3124080"/>
            <a:ext cx="2039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P I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6840" y="3657600"/>
            <a:ext cx="20383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Serviç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6680" y="4495680"/>
            <a:ext cx="2039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Autop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87680" y="5105520"/>
            <a:ext cx="2039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P I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36680" y="5638680"/>
            <a:ext cx="2039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Serviç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16640" y="2895480"/>
            <a:ext cx="0" cy="15264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6640" y="3429000"/>
            <a:ext cx="0" cy="17604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16640" y="4343400"/>
            <a:ext cx="0" cy="139680"/>
          </a:xfrm>
          <a:prstGeom prst="line">
            <a:avLst/>
          </a:prstGeom>
          <a:ln w="1908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0952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1- MODELAGEM A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5520" y="129528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dffdd"/>
                </a:solidFill>
                <a:latin typeface="Verdana"/>
              </a:rPr>
              <a:t>Limites de Outorga (Lei 9.648/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0600" y="1306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867280"/>
            <a:ext cx="360" cy="22860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960" y="5791320"/>
            <a:ext cx="8580600" cy="838080"/>
          </a:xfrm>
          <a:prstGeom prst="rect">
            <a:avLst/>
          </a:prstGeom>
          <a:noFill/>
          <a:ln w="1908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0960" y="2133720"/>
            <a:ext cx="8580600" cy="914400"/>
          </a:xfrm>
          <a:prstGeom prst="rect">
            <a:avLst/>
          </a:prstGeom>
          <a:noFill/>
          <a:ln w="1908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56880" y="5579280"/>
            <a:ext cx="360" cy="7700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30680" y="3693960"/>
            <a:ext cx="914400" cy="360"/>
          </a:xfrm>
          <a:prstGeom prst="line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38760" y="2817720"/>
            <a:ext cx="360" cy="143820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97360" y="5550840"/>
            <a:ext cx="360" cy="6951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1295280"/>
            <a:ext cx="893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Verdana"/>
              </a:rPr>
              <a:t>CONCESSÃO: UHE -  MAIORES QUE 30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20920" y="2227320"/>
            <a:ext cx="3095640" cy="635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CITAÇÃO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UTORGA POTENCIAL CONTRATO CONCES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6019920"/>
            <a:ext cx="422280" cy="43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7360" y="440856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433224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543080" y="5485680"/>
            <a:ext cx="360" cy="68580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08880" y="6248520"/>
            <a:ext cx="1149480" cy="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743200"/>
            <a:ext cx="360" cy="15908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72080" y="2347920"/>
            <a:ext cx="2798640" cy="453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VALIAÇÃO PARA INÍCIO DE O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3390840"/>
            <a:ext cx="855720" cy="4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uto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H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6019920"/>
            <a:ext cx="530280" cy="43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6019920"/>
            <a:ext cx="533520" cy="43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3308400"/>
            <a:ext cx="1968840" cy="63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erva de Disponibilidade Híd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27440" y="3741840"/>
            <a:ext cx="360" cy="528480"/>
          </a:xfrm>
          <a:prstGeom prst="line">
            <a:avLst/>
          </a:prstGeom>
          <a:noFill/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6027840"/>
            <a:ext cx="2514600" cy="43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STÁGIO LICENCIAMENTO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4325040"/>
            <a:ext cx="1476360" cy="123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160" y="2438280"/>
            <a:ext cx="1758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ccccff"/>
                </a:solidFill>
                <a:latin typeface="Arial"/>
              </a:rPr>
              <a:t>ANEEL  </a:t>
            </a:r>
            <a:r>
              <a:rPr b="1" lang="pt-BR" sz="17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2440" y="6095880"/>
            <a:ext cx="2531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33cccc"/>
                </a:solidFill>
                <a:latin typeface="Arial"/>
              </a:rPr>
              <a:t>MEIO AMBIENTE </a:t>
            </a:r>
            <a:r>
              <a:rPr b="1" lang="pt-BR" sz="1700" spc="-1" strike="noStrike">
                <a:solidFill>
                  <a:srgbClr val="33cccc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867280"/>
            <a:ext cx="381240" cy="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0960" y="3200400"/>
            <a:ext cx="8580600" cy="838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160" y="3429000"/>
            <a:ext cx="1758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RH </a:t>
            </a:r>
            <a:r>
              <a:rPr b="1" lang="pt-BR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4325040"/>
            <a:ext cx="1846440" cy="1232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ECUTIVO 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ONSTRU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19560" y="4340160"/>
            <a:ext cx="1477800" cy="1195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OJETO BÁS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27440" y="4340160"/>
            <a:ext cx="492120" cy="11955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4323600"/>
            <a:ext cx="1593720" cy="1232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VIABILIDA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325040"/>
            <a:ext cx="1598400" cy="123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INVENTÁ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08760" y="5943600"/>
            <a:ext cx="1335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RENOV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723560" y="5562000"/>
            <a:ext cx="360" cy="306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20040" y="20952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2- PROCESSO U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848720" y="3581280"/>
            <a:ext cx="1143000" cy="1219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2640" bIns="62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3581280"/>
            <a:ext cx="141120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2640" bIns="62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3581280"/>
            <a:ext cx="1181160" cy="1219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2640" bIns="62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581280"/>
            <a:ext cx="1447920" cy="1219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2640" bIns="62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3581280"/>
            <a:ext cx="1447920" cy="1219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2640" bIns="62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0960" y="1160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9880" y="1306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9880" y="14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9880" y="15987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9880" y="1744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890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9880" y="2035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0680" y="49849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0680" y="5130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0680" y="52768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50680" y="54198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0680" y="5565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0680" y="57117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0680" y="58579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71760" y="30765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71760" y="33228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0720" y="403848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VENTÁ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36680" y="3570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71760" y="38178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1760" y="4789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98960" y="30765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98960" y="33228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4960" y="4038480"/>
            <a:ext cx="113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IA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7640" y="3570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8960" y="38178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5520" y="154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16600" y="1965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920" y="6254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82520" y="607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8000" y="570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2960" y="30574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7760" y="3809880"/>
            <a:ext cx="90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11480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BÁ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02360" y="35528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82960" y="47721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59480" y="30574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4800" y="3733920"/>
            <a:ext cx="90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J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32600" y="33051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72520" y="3962520"/>
            <a:ext cx="113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ECUTIVO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42040" y="3551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8360" y="4191120"/>
            <a:ext cx="127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STR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0960" y="37987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34200" y="30607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4200" y="3308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9080" y="4038480"/>
            <a:ext cx="102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58080" y="3556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34200" y="3801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47721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4200" y="2884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23520" y="28843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8480" y="30193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8480" y="3267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8480" y="3513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8480" y="47322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1752480"/>
            <a:ext cx="221004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ício Operação Comer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6172200"/>
            <a:ext cx="6094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12640" y="6254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172200"/>
            <a:ext cx="6094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6172200"/>
            <a:ext cx="6094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4100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Renov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6172200"/>
            <a:ext cx="34308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cenciamento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6248520"/>
            <a:ext cx="557280" cy="326880"/>
          </a:xfrm>
          <a:prstGeom prst="rightArrow">
            <a:avLst>
              <a:gd name="adj1" fmla="val 50000"/>
              <a:gd name="adj2" fmla="val 42621"/>
            </a:avLst>
          </a:prstGeom>
          <a:solidFill>
            <a:srgbClr val="ff6600"/>
          </a:solidFill>
          <a:ln w="316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2438280"/>
            <a:ext cx="360" cy="10670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4876920"/>
            <a:ext cx="360" cy="12189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8538840" y="5186520"/>
            <a:ext cx="360" cy="120960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4800600"/>
            <a:ext cx="360" cy="129528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48720" y="4800600"/>
            <a:ext cx="360" cy="137160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137160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31ffc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LICI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Outorga Potencial Contrato Conces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760" y="203040"/>
            <a:ext cx="655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Narrow"/>
              </a:rPr>
              <a:t>2A – PROCESSO UHE – EST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(Res CNPE 15, 22/11/02, e Res CNPE 005, de 21/07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514600"/>
            <a:ext cx="28954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íd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2666880"/>
            <a:ext cx="557280" cy="327240"/>
          </a:xfrm>
          <a:prstGeom prst="rightArrow">
            <a:avLst>
              <a:gd name="adj1" fmla="val 50000"/>
              <a:gd name="adj2" fmla="val 42574"/>
            </a:avLst>
          </a:prstGeom>
          <a:solidFill>
            <a:srgbClr val="000000"/>
          </a:solidFill>
          <a:ln w="316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590920"/>
            <a:ext cx="7617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R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2590920"/>
            <a:ext cx="13716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OUTO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rot="5389800">
            <a:off x="5561640" y="2894400"/>
            <a:ext cx="1219320" cy="1440"/>
          </a:xfrm>
          <a:prstGeom prst="line">
            <a:avLst/>
          </a:prstGeom>
          <a:noFill/>
          <a:ln w="38160">
            <a:solidFill>
              <a:srgbClr val="31f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3581280"/>
            <a:ext cx="16002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2640" bIns="62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" y="3809880"/>
            <a:ext cx="11376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LANO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PAN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Longo Pr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Dece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5257800"/>
            <a:ext cx="2133720" cy="26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66"/>
                </a:solidFill>
                <a:latin typeface="Arial"/>
              </a:rPr>
              <a:t>Agenda Ambient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5638680"/>
            <a:ext cx="3352680" cy="3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3000" bIns="63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66"/>
                </a:solidFill>
                <a:latin typeface="Arial"/>
              </a:rPr>
              <a:t>Avaliação Ambiental Estratégic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4876920"/>
            <a:ext cx="360" cy="3045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4800600"/>
            <a:ext cx="360" cy="76212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581280"/>
            <a:ext cx="304920" cy="1219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67080" y="2743200"/>
            <a:ext cx="446040" cy="3492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743200"/>
            <a:ext cx="1800" cy="1449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37760" y="5485680"/>
            <a:ext cx="360" cy="77940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419000" y="5409360"/>
            <a:ext cx="360" cy="85572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04240" y="4250520"/>
            <a:ext cx="1687320" cy="123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1840" y="2352600"/>
            <a:ext cx="1617840" cy="468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TORIZAÇÃO PL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6019920"/>
            <a:ext cx="49356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4268880"/>
            <a:ext cx="802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7103520" y="5411880"/>
            <a:ext cx="360" cy="8366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85040" y="6248520"/>
            <a:ext cx="1125720" cy="14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04240" y="2819520"/>
            <a:ext cx="1440" cy="1449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11760" y="2352600"/>
            <a:ext cx="1970280" cy="453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ÍCIO DA O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92920" y="6014880"/>
            <a:ext cx="46044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6019920"/>
            <a:ext cx="42228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2362320"/>
            <a:ext cx="1676520" cy="468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TO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DICIO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67000"/>
            <a:ext cx="844560" cy="4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utorga   RH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3733920"/>
            <a:ext cx="360" cy="496800"/>
          </a:xfrm>
          <a:prstGeom prst="line">
            <a:avLst/>
          </a:prstGeom>
          <a:noFill/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675240" y="2742480"/>
            <a:ext cx="210960" cy="176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27720" bIns="-277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2743200"/>
            <a:ext cx="1440" cy="144792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280" y="2438280"/>
            <a:ext cx="140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ccccff"/>
                </a:solidFill>
                <a:latin typeface="Arial"/>
              </a:rPr>
              <a:t>ANEEL  </a:t>
            </a:r>
            <a:r>
              <a:rPr b="1" lang="pt-BR" sz="17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5943600"/>
            <a:ext cx="22100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33cccc"/>
                </a:solidFill>
                <a:latin typeface="Arial"/>
              </a:rPr>
              <a:t>MEIO AMBIENTE </a:t>
            </a:r>
            <a:r>
              <a:rPr b="1" lang="pt-BR" sz="1700" spc="-1" strike="noStrike">
                <a:solidFill>
                  <a:srgbClr val="33cccc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5715000"/>
            <a:ext cx="8580600" cy="838080"/>
          </a:xfrm>
          <a:prstGeom prst="rect">
            <a:avLst/>
          </a:prstGeom>
          <a:noFill/>
          <a:ln w="1908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0960" y="2133720"/>
            <a:ext cx="8580600" cy="914400"/>
          </a:xfrm>
          <a:prstGeom prst="rect">
            <a:avLst/>
          </a:prstGeom>
          <a:noFill/>
          <a:ln w="1908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0960" y="3124080"/>
            <a:ext cx="8580600" cy="83844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160" y="3352680"/>
            <a:ext cx="1758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RH </a:t>
            </a:r>
            <a:r>
              <a:rPr b="1" lang="pt-BR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30880" y="4250520"/>
            <a:ext cx="2673360" cy="123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ECUTIVO / CONSTRU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4248720"/>
            <a:ext cx="1524240" cy="123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BÁS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4267080"/>
            <a:ext cx="1828800" cy="1198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INVENTÁ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5981760"/>
            <a:ext cx="13366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RENOV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20040" y="21096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3- PROCESSO P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580560" y="5410080"/>
            <a:ext cx="360" cy="7797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5943600"/>
            <a:ext cx="1523880" cy="43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TOCOLO LICENCI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3195360"/>
            <a:ext cx="1930320" cy="63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erva de Disponibilidade Híd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267080"/>
            <a:ext cx="685800" cy="1219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1295280"/>
            <a:ext cx="8721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Verdana"/>
              </a:rPr>
              <a:t>PCH (POTÊNCIA &gt; 1 e &lt; 30 M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1295280"/>
            <a:ext cx="8721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Verdana"/>
              </a:rPr>
              <a:t>PCH (POTÊNCIA &gt; 1 e &lt; 30 M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8560" y="1543320"/>
            <a:ext cx="110520" cy="630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029200" y="2819520"/>
            <a:ext cx="1440" cy="1449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276000" y="5410080"/>
            <a:ext cx="360" cy="7797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104800" y="5409360"/>
            <a:ext cx="360" cy="85572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5200" y="4250520"/>
            <a:ext cx="1476360" cy="123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2362320"/>
            <a:ext cx="1617840" cy="468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CITAÇÃ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TOR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6019920"/>
            <a:ext cx="49356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268880"/>
            <a:ext cx="802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7314480" y="5410080"/>
            <a:ext cx="360" cy="8366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85040" y="6248520"/>
            <a:ext cx="1125720" cy="144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2819520"/>
            <a:ext cx="1440" cy="1449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11760" y="2352600"/>
            <a:ext cx="1970280" cy="4539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ÍCIO DA OPE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6600" y="5943600"/>
            <a:ext cx="46044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1295280"/>
            <a:ext cx="8721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Verdana"/>
              </a:rPr>
              <a:t>PCH (POTÊNCIA &gt; 1 e &lt; 30 M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6019920"/>
            <a:ext cx="42228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276720"/>
            <a:ext cx="844560" cy="4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utorga   RH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3286080"/>
            <a:ext cx="1930320" cy="63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erva de Disponibilidade Híd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2280" y="2438280"/>
            <a:ext cx="2092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ccccff"/>
                </a:solidFill>
                <a:latin typeface="Arial"/>
              </a:rPr>
              <a:t>ANEEL/MME  </a:t>
            </a:r>
            <a:r>
              <a:rPr b="1" lang="pt-BR" sz="17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2440" y="5962680"/>
            <a:ext cx="2320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33cccc"/>
                </a:solidFill>
                <a:latin typeface="Arial"/>
              </a:rPr>
              <a:t>MEIO AMBIENTE </a:t>
            </a:r>
            <a:r>
              <a:rPr b="1" lang="pt-BR" sz="1700" spc="-1" strike="noStrike">
                <a:solidFill>
                  <a:srgbClr val="33cccc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5715000"/>
            <a:ext cx="8580600" cy="838080"/>
          </a:xfrm>
          <a:prstGeom prst="rect">
            <a:avLst/>
          </a:prstGeom>
          <a:noFill/>
          <a:ln w="1908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0960" y="2133720"/>
            <a:ext cx="8580600" cy="914400"/>
          </a:xfrm>
          <a:prstGeom prst="rect">
            <a:avLst/>
          </a:prstGeom>
          <a:noFill/>
          <a:ln w="1908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124080"/>
            <a:ext cx="8580600" cy="83844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160" y="3352680"/>
            <a:ext cx="1758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RH </a:t>
            </a:r>
            <a:r>
              <a:rPr b="1" lang="pt-BR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4248720"/>
            <a:ext cx="2151360" cy="123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ECUTIVO / CONSTRU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4268160"/>
            <a:ext cx="1506600" cy="1193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OJE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BÁS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4267080"/>
            <a:ext cx="1600200" cy="1198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INVENTÁR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43800" y="5943600"/>
            <a:ext cx="13366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RENOV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78560" y="1543320"/>
            <a:ext cx="110520" cy="630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360" y="363600"/>
            <a:ext cx="655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3A – PROCESSO PCH – EST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(Res CNPE 15, 22/11/02, e Res CNPE 005, de 21/07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4267080"/>
            <a:ext cx="152640" cy="1219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267080"/>
            <a:ext cx="16002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5640" rIns="125640" tIns="62640" bIns="62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0640" y="4419720"/>
            <a:ext cx="11376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LANO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PAN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Longo Pr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Dece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14600" y="6019920"/>
            <a:ext cx="60948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66"/>
                </a:solidFill>
                <a:latin typeface="Arial"/>
              </a:rPr>
              <a:t>A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6019920"/>
            <a:ext cx="685800" cy="360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66"/>
                </a:solidFill>
                <a:latin typeface="Arial"/>
              </a:rPr>
              <a:t>AA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114080" y="5410080"/>
            <a:ext cx="360" cy="7797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5867280"/>
            <a:ext cx="1447920" cy="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1370880" y="5562000"/>
            <a:ext cx="360" cy="30636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5867280"/>
            <a:ext cx="360" cy="228600"/>
          </a:xfrm>
          <a:prstGeom prst="lin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" rIns="18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9:22:41Z</dcterms:created>
  <dc:creator>Rone Cesar Alexandre</dc:creator>
  <dc:description/>
  <dc:language>en-US</dc:language>
  <cp:lastModifiedBy>Aneel</cp:lastModifiedBy>
  <cp:lastPrinted>2002-10-15T21:33:31Z</cp:lastPrinted>
  <dcterms:modified xsi:type="dcterms:W3CDTF">2003-10-21T12:03:56Z</dcterms:modified>
  <cp:revision>495</cp:revision>
  <dc:subject>Aproveitamentos Hidroenergéticos</dc:subject>
  <dc:title>Usinas Hidrelétricas - UHE</dc:title>
</cp:coreProperties>
</file>