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04760 w 9144000"/>
              <a:gd name="textAreaRight" fmla="*/ 903924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8470" y="21270"/>
                </a:lnTo>
                <a:lnTo>
                  <a:pt x="28470" y="33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330" y="21270"/>
                </a:lnTo>
                <a:lnTo>
                  <a:pt x="28470" y="2127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330" y="330"/>
                </a:lnTo>
                <a:lnTo>
                  <a:pt x="330" y="212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380880" y="6419880"/>
            <a:ext cx="8363160" cy="1332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04760 w 9144000"/>
              <a:gd name="textAreaRight" fmla="*/ 903924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8470" y="21270"/>
                </a:lnTo>
                <a:lnTo>
                  <a:pt x="28470" y="33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330" y="21270"/>
                </a:lnTo>
                <a:lnTo>
                  <a:pt x="28470" y="2127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330" y="330"/>
                </a:lnTo>
                <a:lnTo>
                  <a:pt x="330" y="212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388800"/>
            <a:ext cx="7696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ANA – AGÊNCIA NACIONAL DE ÁGU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8320" y="849240"/>
            <a:ext cx="7700760" cy="93600"/>
          </a:xfrm>
          <a:prstGeom prst="rect">
            <a:avLst/>
          </a:prstGeom>
          <a:gradFill rotWithShape="0">
            <a:gsLst>
              <a:gs pos="0">
                <a:srgbClr val="0042a7"/>
              </a:gs>
              <a:gs pos="50000">
                <a:srgbClr val="0066ff"/>
              </a:gs>
              <a:gs pos="100000">
                <a:srgbClr val="0042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3160" y="260280"/>
            <a:ext cx="96984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141720"/>
            <a:ext cx="830592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Times New Roman"/>
              </a:rPr>
              <a:t>RESOLUÇÃO ANA/A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eunião da Câmara Técnica de Integração de Procedimentos, Ações de Outorga e Ações Reguladoras,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Brasília-DF, 16 de maio d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artha Regina von Borstel Sug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64000" y="716040"/>
            <a:ext cx="2520720" cy="170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utorga de direito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stã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ujeitos à outorg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(art. 12, Lei 9.433, de 08 de janeiro de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V - aproveitamento dos potenciais hidrelé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981000"/>
            <a:ext cx="8001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799"/>
              </a:spcBef>
              <a:spcAft>
                <a:spcPts val="1400"/>
              </a:spcAft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stará condicionada às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ioridades de us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estabelecidas nos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lanos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799"/>
              </a:spcBef>
              <a:spcAft>
                <a:spcPts val="1400"/>
              </a:spcAft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verá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speitar a class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em que o corpo de água estiver enquad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799"/>
              </a:spcBef>
              <a:spcAft>
                <a:spcPts val="1400"/>
              </a:spcAft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nutenção de condições adequadas ao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transporte aquaviári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, quando for o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799"/>
              </a:spcBef>
              <a:spcAft>
                <a:spcPts val="1400"/>
              </a:spcAft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verá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SERVAR O USO MÚLTIPLO DESTES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Suspensão da Outor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arcial ou totalmen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em definitivo ou por praz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ão cumprimen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ermos da outorga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usência de us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r três anos consec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cessidade premente de água para atender 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tuações de calamidad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u de se prevenir ou reverter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rave degradação ambient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cessidade de se atender 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sos priori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cessidade de serem mantidas a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aracterísticas de navegabilidad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o corpo de á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13040" y="196920"/>
            <a:ext cx="3587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Usos da Águ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2120" y="1066680"/>
            <a:ext cx="6415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ne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bastecimento de água, esgotament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anitário, drenagem urbana e de resíduo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óli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qüicul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criação de peixes e espécies aquát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riação de animais para fins comer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ração de energia el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rri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creação, turismo e paisa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1514520" cy="1524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181476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92120" y="1066680"/>
            <a:ext cx="796752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Decreto n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º</a:t>
            </a: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 2.335/199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06/10/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92120" y="476280"/>
            <a:ext cx="796752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Á ANEEL compete (art 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)</a:t>
            </a: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omover a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ticulação com os Estados no Distrito Federal para o aproveitamento energético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dos cursos de água e a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atibilização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com a Política Nacional de Recursos Hídricos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iso XXI)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xpedir as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outorgas dos direitos de uso dos recursos hídricos para fins de aproveitamento dos potenciais de energia hidráulic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em harmonia com a Política Nacional de Recursos hídricos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iso XXV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205000"/>
            <a:ext cx="8424720" cy="30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Resoluções 393, 394 e 395 da ANE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04/12/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Resoluções da ANEEL – 393 (04/12/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abelece procedimentos para registro e aprovação dos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tudos de inventário hidrelétric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de bacias hidrográ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titulares de registro de estudos de inventário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verão formalizar consult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aos órgãos ambientais para definição dos estudos relativos aos aspectos ambientais e aos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órgãos de recursos hídrico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nos níveis Estadual e federal, com vistas à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lhor definição do aproveitamento ótimo e da garantia do uso múltiplo dos recursos hídricos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(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t. 13)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Manual de Inventário Hidrelétrico de B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Na primeira fase dos estudos (planejamento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75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oleta de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Times New Roman"/>
              </a:rPr>
              <a:t>dados e informaçõe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acerca dos </a:t>
            </a: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diversos uso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de recursos hídricos com o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Times New Roman"/>
              </a:rPr>
              <a:t>objetivo de identificar as potencialidade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da bacia hidrográfica em estudo e verificar a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mpatibilidade e atualidade dos planos setoriais e integrados disponívei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75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Definição de um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Times New Roman"/>
              </a:rPr>
              <a:t>cenário-base</a:t>
            </a: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, de longo prazo, em relação ao qual serão avaliados os benefícios energéticos e os impactos ambientais das alternativas de divisão de que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6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ar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da trecho do ri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s parcelas de vazão e queda comprometidas com os outros u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Resoluções da ANEEL – 394 (04/12/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abelece critérios para o enquadramento de empreendimentos hidrelétricos na condição de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PCHs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Preâmbulo 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10/07/1934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ecreto 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24.643 – Código de Á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05/10/1988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mulgada a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nstituiçã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07/1995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cionad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Lei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 9.074, estabelece normas para outorg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prorogações das concessões e permissões de serviço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/12/1996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cionad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Lei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 9.427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institu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AN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08/01/1997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ancionad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a Lei 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9.433,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stitui a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olítica Nacional de Recursos Hídricos;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ria o Sistema Nacional de Gerenciamento de Recur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06/10/1997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ecreto 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2.335,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gulamenta 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AN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04/12/1998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Resoluções 393, 394 e 395 da ANEEL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17/07/2000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ancionad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a Lei 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9.984,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qu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stitui 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19/12/2000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ecreto 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3.692,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gulamenta 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Resoluções da ANEEL – 395 (04/12/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estudos de viabilidade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 e de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projeto básico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 serão objeto de avaliação quanto aos seguintes aspectos (art. 12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r>
              <a:rPr b="0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articulação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 com os órgãos ambientais e de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gestão de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recursos hídricos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, nos níveis Federal e Estadual, bem 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como junto a outras instituições com interesse direto no 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empreendimento, visando a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definição do aproveitamento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ótimo e preservando o uso múltiplo das águas</a:t>
            </a:r>
            <a:r>
              <a:rPr b="0" lang="pt-BR" sz="25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Instruções para Estudos de Vi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o início dos estudos de viabilidade deverá ser realizada uma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valiação do cenário-bas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adotado nos estudos de inventário, dando-se especial atenção a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evolução dos usos múltiplo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dos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ursos hídricos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 e das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estões ambientai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mais rele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Lei n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</a:t>
            </a: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 9.984/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de 17/07/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Art. 4</a:t>
            </a:r>
            <a:r>
              <a:rPr b="1" lang="pt-BR" sz="25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o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A atuação da ANA ...obedecerá aos fundamentos,   objetivos, diretrizes e instrumentos da Política Nacional de Recursos Hídricos e será desenvolvida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 articulação com órgãos e entidades públicas e privadas integrantes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do Sistema Nacional de Gerenciamento de Recursos Hídricos, cabendo-lh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IV – </a:t>
            </a:r>
            <a:r>
              <a:rPr b="1" lang="pt-BR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utorgar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por intermédio de autorização, o direito de uso de recursos hídricos em corpos de água de domínio da União, observado o disposto nos arts. 5</a:t>
            </a:r>
            <a:r>
              <a:rPr b="0" lang="pt-BR" sz="25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, 6</a:t>
            </a:r>
            <a:r>
              <a:rPr b="0" lang="pt-BR" sz="25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, 7</a:t>
            </a:r>
            <a:r>
              <a:rPr b="0" lang="pt-BR" sz="25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  <a:ea typeface="Arial"/>
              </a:rPr>
              <a:t> e 8</a:t>
            </a:r>
            <a:r>
              <a:rPr b="0" lang="pt-BR" sz="25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Prazos das outorgas (Lei N.º 9.984/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–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té dois an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para início da implantação do empreendimento objeto da outorg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I –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té seis an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para conclusão da implantação do empreendimento proje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II –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té trinta e cinco an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para vigência da outorga de direito de 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ra concessionárias e autorizadas de </a:t>
            </a:r>
            <a:r>
              <a:rPr b="1" i="1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geração de energia hidrelétrica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vigorarão por </a:t>
            </a:r>
            <a:r>
              <a:rPr b="1" i="1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azos coincidentes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com os dos correspondentes contratos de concessão ou atos administrativos de autorização.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vis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Declaração de reserva de disponibilidade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38224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62120" indent="-38124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ara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licitar a concessã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ou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utoriza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o uso de potencial de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energia hidráulic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em corpo de água de domínio da União, a  ANEEL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deverá promove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, junto à ANA, a prévia obtenção de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declaração de reserva de disponibilidade hídric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6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Quando o potencial hidráulico localizar-se em corpo de água de domínio dos Estados ou do Distrito Federal, será obtida em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rticulação com a respectiva entidade gestora de recursos hídricos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6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eclaração de reserva de disponibilidade hídrica será transformada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utomaticament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em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outorg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de direito de uso de recursos hídrico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...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gras de caráter transitóri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, para vigorarem na fase de implementação das atividades da ANA, regulando a emissão temporária, pela ANEEL, das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clarações de reserva de disponibilidade híd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Decreto n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</a:t>
            </a: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 3.6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19/12/2000)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00"/>
                </a:solidFill>
                <a:latin typeface="Arial"/>
                <a:ea typeface="Arial"/>
              </a:rPr>
              <a:t>Art. 2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  <a:ea typeface="Arial"/>
              </a:rPr>
              <a:t>Atendido ao disposto no parágrafo único do art.26 da Lei 9984/2000, a ANA e a ANEEL emitirão RESOLUÇÃO CONJUNTA, estabelecendo, em caráter temporário e em </a:t>
            </a:r>
            <a:r>
              <a:rPr b="0" lang="pt-BR" sz="2900" spc="-1" strike="noStrike">
                <a:solidFill>
                  <a:srgbClr val="ffffff"/>
                </a:solidFill>
                <a:latin typeface="Arial"/>
                <a:ea typeface="Arial"/>
              </a:rPr>
              <a:t>regime de transição, os procedimentos a serem por esta adotados para emissão de declarações de reserva de disponibilidade hídrica e de outorga de direito  de uso de recursos hídricos, para fins de licitação da exploração de potencial hidrául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RESOLUÇÃO ANA/AN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(em aprovaçã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Código de Águ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10/07/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valiação  ANA e Estados dos dados técnicos e oper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ANEEL solicitará à ANA a avaliação dos dados técnicos e operacionais do empreendimento que caracterizam a utilização dos recursos hídricos e as suas possíveis interferências em outros u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ndo se tratar de potenciais hidráulicos localizados em rios de domínio dos Estados ou do Distrito Federal, a avaliação prevista no parágrafo anterior dar-se-á pela ANA em articulação com o órgão ou entidade gestora dos recursos hídricos da respectiva unidade da federaç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valiação  ANA e Estados dos dados técnicos e oper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séries de vazões méd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s vazões máx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s vazões mínima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transporte de sedimen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s condições de enchimento do reservató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tempo de resid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s condições de assoreamento do reservató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reman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zão remanescente, quando cou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trições de montante e jus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NÁRIOS BASE DE USOS MÚLTIPL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211640" y="1484280"/>
          <a:ext cx="30621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30621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4572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Perda de energia garantida em função da  retirada de 1 m</a:t>
            </a:r>
            <a:r>
              <a:rPr b="1" lang="pt-BR" sz="2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/s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para uso consun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49056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90560" y="3809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90560" y="5334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90560" y="4343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6880" y="2819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2,79 MW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86880" y="35053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2,54 MW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6880" y="41148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2,08 MW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85360" y="5029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1,06 MW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0560" y="5715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86880" y="5486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0 MW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04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1280" y="205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3,22 MW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Prazo da aprovação dos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924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ssenta dia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na hipótese de potenciais hidráulicos localizados em rios de domínio da Uni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venta dia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na hipótese de potenciais hidráulicos localizados em rios de domínio dos Estados ou do Distrito Feder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prazos de que trata este artigo serão suspensos sempre que houver necessidade da complementação de informações ou document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Declaração em outorg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79246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claração de reserva de disponibilidade hídrica será transformada, automaticamente, pela ANA, em outorga de direito de uso de recursos hídric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.... em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vor da entidad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que receber da ANEEL 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cessão ou a autorização de uso do potencial de energia hidráulic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mediante apresent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contrato de concessão ou ato administrativo de autor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estatuto ou contrato social, atualizado, ou do ato constitutivo das empresas formadoras do consórcio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cópia da ficha técnica do empreendimento, com a Anotação de Responsabilidade Técnica – AR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Prazo da 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7924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outorga de direito de uso de recursos hídricos para concessionárias e autorizadas de geração de energia hidrelétrica vigorará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r prazo coincidente com o do correspondente contrato de concessão ou ato administrativo de autoriz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... outras revisõ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que possam ser necessárias,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 cada cinco anos, ou em outro praz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atível com a revisão da respectiva energia assegurada,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qualquer alteração dos dados técnicos ou operacionais do empreendiment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naquilo em que caracterizam a utilização dos recursos hídricos e as suas possíveis interferências em outros uso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Objeto e Vigência da Resolu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7924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ão sujeitos à aplicação  desta Resolução 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tudos de viabilidade das usinas hidrelétricas (UHEs) e os projetos básicos das pequenas centrais hidrelétricas (PCH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ágrafo único. O disposto neste artig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ão dispensa os empreendimentos referidos no art. 8º da Lei nº 9.07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de 1995, da obrigação legal de obter a outorga de direito de uso de recursos hídricos emitida pela 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t. 9º Os procedimentos determinados por esta Resoluçã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gorarão até o dia 19 de dezembro de 2002,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onforme disposto no art.23 do Decreto nº 3.692, de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7924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E os demais aproveitamentos?</a:t>
            </a:r>
            <a:r>
              <a:rPr b="1" lang="pt-BR" sz="9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Outorga para empreendimentos já outorgados pela ANEEL por concessão ou auto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7924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tes da Lei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 9.433, de 08 de janeiro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a Lei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 9.433/1997 e o Decreto 2.335, de  06/10/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o Decreto 2.335/1997 e a Lei n° 9.984, de 17/07/2000 (criação da A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ois da Lei n° 9.984 (criação da A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10000"/>
              </a:lnSpc>
              <a:spcBef>
                <a:spcPts val="27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ETAPAS DE ESTUDO DE APROVEITAMENTOS HIDRELÉTR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parcial de apresentação da SPH/ANEEL em 05/04/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Em todos os aproveitamentos de energia hidráulica serão satisfeitas exigências acauteladoras dos interesses gerais (art. 14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 alimentação e das necessidades das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pulações ribeiri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 insalubridade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 nav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 irri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 proteção contra inund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 conservação e livre circulação do pei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 escoamento e rejeição das á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767400"/>
            <a:ext cx="167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8920" y="3734280"/>
            <a:ext cx="127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658320"/>
            <a:ext cx="19051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XECUTIVO / 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06560" y="3816720"/>
            <a:ext cx="1436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1828800"/>
            <a:ext cx="16002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TO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638680"/>
            <a:ext cx="21574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000" y="3429000"/>
            <a:ext cx="876276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4472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2620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2133720"/>
            <a:ext cx="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62520" y="457200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86600" y="457200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5257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1880640"/>
            <a:ext cx="1630080" cy="91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rovação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ício da operação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9240" y="5486400"/>
            <a:ext cx="18036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89920" y="4724280"/>
            <a:ext cx="19540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NOVA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PROCEDIMENTOS PARA IMPLANTAÇÃO DE APROVEITAMENTOS HIDRELÉTRICOS COM POTÊNCIA INSTALADA ENTRE 1 e 30 M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852560"/>
            <a:ext cx="14479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133720"/>
            <a:ext cx="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394000"/>
            <a:ext cx="14475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6668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256280"/>
            <a:ext cx="167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33840" y="4146840"/>
            <a:ext cx="127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147200"/>
            <a:ext cx="21337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XECUTIVO/ 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06560" y="4305600"/>
            <a:ext cx="1436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133720"/>
            <a:ext cx="16761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TO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DICIO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6192720"/>
            <a:ext cx="21574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6000" y="3917880"/>
            <a:ext cx="876276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9178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26200" y="39178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648320" y="510516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86600" y="5060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574668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352680"/>
            <a:ext cx="0" cy="565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94600" y="2590920"/>
            <a:ext cx="16300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PROVAÇÃO P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ÍCIO DA OPER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9240" y="5975280"/>
            <a:ext cx="18036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89920" y="5213520"/>
            <a:ext cx="19540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NOVA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793960"/>
            <a:ext cx="1858680" cy="635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SERV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ÍD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410080"/>
            <a:ext cx="1981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ERM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FER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666880" y="5060520"/>
            <a:ext cx="0" cy="577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917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708200"/>
            <a:ext cx="213372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PROV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 BÁ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209680"/>
            <a:ext cx="0" cy="1632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2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PROCEDIMENTOS PARA IMPLANTAÇÃO DE APROVEITAMENTOS HIDRELÉTRICOS COM POTÊNCIA INSTALADA ENTRE 1 e 30 M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OUTORGA DE AUTORIZAÇÃO “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Arial"/>
              </a:rPr>
              <a:t>CONDICIONADA</a:t>
            </a: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197" idx="2"/>
          </p:cNvCxnSpPr>
          <p:nvPr/>
        </p:nvCxnSpPr>
        <p:spPr>
          <a:xfrm flipH="1" rot="16200000">
            <a:off x="2023200" y="2620800"/>
            <a:ext cx="1311480" cy="1245240"/>
          </a:xfrm>
          <a:prstGeom prst="bentConnector3">
            <a:avLst>
              <a:gd name="adj1" fmla="val 76029"/>
            </a:avLst>
          </a:prstGeom>
          <a:ln w="349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9" idx="3"/>
            <a:endCxn id="199" idx="0"/>
          </p:cNvCxnSpPr>
          <p:nvPr/>
        </p:nvCxnSpPr>
        <p:spPr>
          <a:xfrm>
            <a:off x="4221000" y="3111120"/>
            <a:ext cx="377280" cy="788040"/>
          </a:xfrm>
          <a:prstGeom prst="bentConnector2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3808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PROCEDIMENTOS INSTITUCIONAIS PARA IMPLANTAÇÃO DE APROVEITAMENTOS HIDRELÉTRIC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USINAS MAIORES QUE 30 M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520" y="3886560"/>
            <a:ext cx="1560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26440" y="3816720"/>
            <a:ext cx="1568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VIABIL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8080" y="3748320"/>
            <a:ext cx="127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45120" y="3599280"/>
            <a:ext cx="21337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XECUTIVO 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6560" y="3816720"/>
            <a:ext cx="1436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2133720"/>
            <a:ext cx="13716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CI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3280" y="5638680"/>
            <a:ext cx="17838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6000" y="3429000"/>
            <a:ext cx="876276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2124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2144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2620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4382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57164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181480" y="457200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086600" y="457164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96080" y="5257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1956960"/>
            <a:ext cx="1630440" cy="91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rovação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ício da operação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25760" y="1828800"/>
            <a:ext cx="235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rovação dos estu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68400" y="5486400"/>
            <a:ext cx="17154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30680" y="5257800"/>
            <a:ext cx="18036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89920" y="4724280"/>
            <a:ext cx="19540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NOVA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852560"/>
            <a:ext cx="14479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133720"/>
            <a:ext cx="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622600"/>
            <a:ext cx="14475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2895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PROCEDIMENTOS INSTITUCIONAIS PARA IMPLANTAÇÃO DE APROVEITAMENTOS HIDRELÉTRIC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00"/>
                </a:solidFill>
                <a:latin typeface="Arial"/>
              </a:rPr>
              <a:t>USINAS MAIORES QUE 30 M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2240" y="3816720"/>
            <a:ext cx="1904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26440" y="3816720"/>
            <a:ext cx="1568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VIABIL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35560" y="3731040"/>
            <a:ext cx="127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5920" y="3582000"/>
            <a:ext cx="21337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XECUTIVO 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3800" y="3799080"/>
            <a:ext cx="1436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1752480"/>
            <a:ext cx="13716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CI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11520" y="5638680"/>
            <a:ext cx="17841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6000" y="3429000"/>
            <a:ext cx="336528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4472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452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83320" y="342900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0574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957480" y="457164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457200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86600" y="457164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54864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1956960"/>
            <a:ext cx="1630440" cy="91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rovação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ício da operação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2441520"/>
            <a:ext cx="990720" cy="4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PROVAESTU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59480" y="5562720"/>
            <a:ext cx="12078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5334120"/>
            <a:ext cx="12384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EN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70800" y="4734000"/>
            <a:ext cx="1344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NOVAÇÃO DA 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211840"/>
            <a:ext cx="2135160" cy="711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ERV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ÍD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29718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7240" y="283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29718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4680" y="5014800"/>
            <a:ext cx="253512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AGNÓSTICO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(RADIOGRAF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95480" y="45720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429000"/>
            <a:ext cx="4648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3924000" y="415296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68280"/>
            <a:ext cx="8381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Constituição Feder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(05/10/19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333000"/>
            <a:ext cx="83818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ão bens da União (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ciso VIII do art. 20)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s potencias de energi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pete à Uniã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(alínea “b”do inciso XII do art.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plorar , diretamente ou mediante autorização, concessão ou permissão (inciso X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b) Os serviços e instalações de energia elétrica e o aproveitament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nergético dos cursos de água, em articulação com os Estados onde se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tuam os potenciais hidroenerg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rt. 176: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.. Os potenciais de energia hidráulica constituem propriedade distinta da do solo, para efeito de exploração ou aproveitamento e pertencem à União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818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i </a:t>
            </a: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 9.07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7/07/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Art. 5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981000"/>
            <a:ext cx="83818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nhum aproveitamento poderá ser licitado sem a definição do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proveitamento ótim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pelo poder concedente, podendo ser atribuida ao licitante vencedor a responsabilidade dos projetos básicos e executivo (parágrafo 2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-se “aproveitamento ótimo”, todo potencial definido em sua concepção global pelo melhor eixodo barramento, arranjo físico, níveis de água operativos, reservatório e potência, integrante da alternativa escolhida para divisão de quedas de uma bacia hidr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268280"/>
            <a:ext cx="8381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Lei n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º</a:t>
            </a:r>
            <a:r>
              <a:rPr b="1" lang="pt-BR" sz="5400" spc="-1" strike="noStrike">
                <a:solidFill>
                  <a:srgbClr val="ffff00"/>
                </a:solidFill>
                <a:latin typeface="Times New Roman"/>
              </a:rPr>
              <a:t> 9.433/199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24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08/01/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o de Tarso Saudades</cp:lastModifiedBy>
  <cp:lastPrinted>2001-08-30T09:58:36Z</cp:lastPrinted>
  <dcterms:modified xsi:type="dcterms:W3CDTF">2002-05-20T19:13:37Z</dcterms:modified>
  <cp:revision>138</cp:revision>
  <dc:subject/>
  <dc:title>Apresentação do PowerPoint</dc:title>
</cp:coreProperties>
</file>