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35E-C26E-41D2-A1F5-B62D1547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674-2F90-406B-B196-ABEFFB1E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9F2-98F7-49B6-AB5A-862428E7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4B0-59E9-4B86-95CC-7EFFDEEF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1366-0064-46E8-AE99-0D2B96DB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BBC-BAB7-435C-852B-CC6F3A5A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925F-76DD-4725-8773-AB0ED976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39D-2A04-4930-B8C7-A1188918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BA5-E40E-4D2D-BF1D-E7E4F20E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D88-75DC-4B95-A38D-A08377DE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5FD-E988-446D-9B44-580249B0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5932-156B-4DFA-A22B-FA5DF354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9B17-5B28-4C34-93D2-470FEF60E4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OUTORGA DE LANÇAMENTO DE EFLUENTES 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Not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Bacia do Rio Paraíba do S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Abril d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99"/>
                </a:solidFill>
                <a:latin typeface="Tahoma"/>
              </a:rPr>
              <a:t>Monica Po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i="1" lang="en-US" sz="3200" spc="-1" strike="noStrike">
                <a:solidFill>
                  <a:srgbClr val="ffff66"/>
                </a:solidFill>
                <a:latin typeface="Tahoma"/>
              </a:rPr>
              <a:t>Por que outorgar lançament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ão há sistema de tratamento 100%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á necessidade de reservar água para o transporte, assimilação (auto-depuração) ou diluição da carga remanesc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arantia da vazão alocada especificamente para manter o corpo receptor dentro dos limites ou metas de qualidade defin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estão INTEG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Como faz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 processo é complexo, pois o desconhecimento é 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omeçar SIMPLES, mas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eocupar-se com poluente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nalisar Demanda Bioquímica de Oxigê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10960" y="1544400"/>
            <a:ext cx="87919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ação de di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diluição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. 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/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manancial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Indisponível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Diluição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+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efluente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(Cálculos de deca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rivada da equação geral de mistura (balanço de ma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Tahoma"/>
              </a:rPr>
              <a:t>                  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final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= (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+ 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/ (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+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forma” qualidade em quant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ivalente em vaz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nifica procedimentos de outo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râmetros conservativos e não-conserv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eixe de tubos e c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Por que DB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Lançamentos de matéria orgânica são a forma mais frequente de poluição n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No Paraíba do Sul, apenas 69% do esgoto é coletado e 9% da carga é remo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Isto também é verdade no resto d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52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77920" y="1438200"/>
            <a:ext cx="67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eixe de tubos e cones (Vazão indisponíve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57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62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21487800">
            <a:off x="7175520" y="518004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657600" y="2912040"/>
            <a:ext cx="5063760" cy="3488760"/>
            <a:chOff x="3657600" y="2912040"/>
            <a:chExt cx="5063760" cy="3488760"/>
          </a:xfrm>
        </p:grpSpPr>
        <p:sp>
          <p:nvSpPr>
            <p:cNvPr id="69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10400">
              <a:off x="7360920" y="3076200"/>
              <a:ext cx="82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lux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463840" y="4586040"/>
            <a:ext cx="2295000" cy="1837800"/>
            <a:chOff x="2463840" y="4586040"/>
            <a:chExt cx="2295000" cy="1837800"/>
          </a:xfrm>
        </p:grpSpPr>
        <p:sp>
          <p:nvSpPr>
            <p:cNvPr id="79" name=""/>
            <p:cNvSpPr/>
            <p:nvPr/>
          </p:nvSpPr>
          <p:spPr>
            <a:xfrm rot="133200">
              <a:off x="414972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811400">
              <a:off x="2381760" y="5181480"/>
              <a:ext cx="245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7000" y="4679280"/>
            <a:ext cx="2769120" cy="1721520"/>
            <a:chOff x="567000" y="4679280"/>
            <a:chExt cx="2769120" cy="1721520"/>
          </a:xfrm>
        </p:grpSpPr>
        <p:sp>
          <p:nvSpPr>
            <p:cNvPr id="82" name=""/>
            <p:cNvSpPr/>
            <p:nvPr/>
          </p:nvSpPr>
          <p:spPr>
            <a:xfrm>
              <a:off x="2742480" y="6095880"/>
              <a:ext cx="28116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456800">
              <a:off x="508320" y="525744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não-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7520" y="1679400"/>
            <a:ext cx="1699200" cy="1140120"/>
            <a:chOff x="47520" y="1679400"/>
            <a:chExt cx="1699200" cy="1140120"/>
          </a:xfrm>
        </p:grpSpPr>
        <p:sp>
          <p:nvSpPr>
            <p:cNvPr id="85" name=""/>
            <p:cNvSpPr/>
            <p:nvPr/>
          </p:nvSpPr>
          <p:spPr>
            <a:xfrm>
              <a:off x="47520" y="2057400"/>
              <a:ext cx="1546560" cy="762120"/>
            </a:xfrm>
            <a:custGeom>
              <a:avLst/>
              <a:gdLst>
                <a:gd name="textAreaLeft" fmla="*/ 0 w 1546560"/>
                <a:gd name="textAreaRight" fmla="*/ 1546920 w 15465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160" y="1679400"/>
              <a:ext cx="166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nça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89280" y="2459160"/>
            <a:ext cx="6403680" cy="1263600"/>
            <a:chOff x="2789280" y="2459160"/>
            <a:chExt cx="6403680" cy="1263600"/>
          </a:xfrm>
        </p:grpSpPr>
        <p:sp>
          <p:nvSpPr>
            <p:cNvPr id="88" name=""/>
            <p:cNvSpPr/>
            <p:nvPr/>
          </p:nvSpPr>
          <p:spPr>
            <a:xfrm>
              <a:off x="2789280" y="2884320"/>
              <a:ext cx="60912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84520" y="2459160"/>
              <a:ext cx="4708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azão indisponível com a concentração máxima 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asse de enquadramento ou do pacto de ba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130200" y="2743200"/>
              <a:ext cx="132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os demais parâmetr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vem ser objeto de análise fu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É preciso aumentar o conhecimento sobre a bacia e sobre os usu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o cadastro deve ser pedida informação sobre outros parâ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riar sistema de informação para embasar o aperfeiçoamento d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5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as bacias que já estão degradad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riação de metas intermediárias através da negociação de pacto entre os usu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is metas refletem os investimentos a serem f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ve-se dar preferência ao pacto por ser um acordo coletivo (Comit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À medida em que as metas vão sendo alcançadas, novas metas mais restritivas podem ser negoci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 outorgas serão revistas à luz das novas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98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101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106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04:48:45Z</dcterms:created>
  <dc:creator>Monica Porto</dc:creator>
  <dc:description/>
  <dc:language>en-US</dc:language>
  <cp:lastModifiedBy>Monica Porto</cp:lastModifiedBy>
  <dcterms:modified xsi:type="dcterms:W3CDTF">2002-04-03T11:55:42Z</dcterms:modified>
  <cp:revision>3</cp:revision>
  <dc:subject/>
  <dc:title>OUTORGA DE LANÇAMENTO DE EFLUENTES  Nota Técnica</dc:title>
</cp:coreProperties>
</file>