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2101-80B6-49D3-9D1F-9E0805DBE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17C1-8EB1-4CC4-B0BA-2459B1D38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7647-757C-46CC-9BF3-FAF3940DF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DDFA-2487-4EB5-8E9C-FAC592226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D4E0-FFD1-4C44-A93F-9ABBA4420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D76D-DE13-468D-B44F-55129F9E0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16B6-0E81-47FE-8713-64330DC70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DAB9-FE8B-4512-817A-BB5978CB7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F6BE-5C4E-431F-BFDC-A706E21D8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8E82-441C-44A2-954E-9F63D486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2108-A879-4FB5-9CC3-0FE9F67D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F426-A686-4389-80A2-2F78430F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6E739-CE87-48C4-85FB-725456BD9F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O conceito de outorga de diluição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utorg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 solicitação de uso d’água ao poder públ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 interferência na qualidade e na quant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utorga de direito de uso: instrumento da lei 9433(uso específico, prazo, termos e condiçõ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gestão do recurso hídrico” / confl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Água: bem de domínio públ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Legislação estadual de apoio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Lei estadual 7663/91...instrum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regulamentação da outorga e licenciamento das obras: decreto estadual 41258 e portaria DAEE 717/9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AEE: órgão outorgante estad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lei estadual 997, regulamentado pelo decreto est 846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153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OBLEMAS OPERACIONA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837720"/>
            <a:ext cx="7620120" cy="5791320"/>
          </a:xfrm>
          <a:prstGeom prst="rect">
            <a:avLst/>
          </a:prstGeom>
          <a:noFill/>
          <a:ln w="9360">
            <a:solidFill>
              <a:srgbClr val="cdffed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Qualidade: parametro único: DBO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5,2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representativ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limite inferior: 2mg/L! CONAMA20,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CLASSE 2: DBO ATÉ  5 MG/l,  OD&gt;5MG/l 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aportes localiz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feitos multiplicativos e sinérg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portes poluidores/efluentes difu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ariabilidade do processo produ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Quantidade: vazão de referênc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“condição de estiagem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 “vazões em marcha”/CARGAS/ ‘ferrament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 variabilidade do ciclo an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estão da qualidade!Apoio técnico e ’ferrament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PARA VIABILIZAR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INTEGRAÇÃO ESTADUAL E FED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GILIDADE E TRANSPARÊ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NA PRÁTIC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cadastros comuns e integr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apoio/ integração/ ação eficaz dos sistemas de fiscalização e polícia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9000" y="-412920"/>
            <a:ext cx="3657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omínio das águas: União - a solicitação de outorga deverá ser feita às autoridades outorgantes estaduais: compatibilização / integração dos sistemas de outorga estadual e federa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Usos outorgávei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captação superficial e subterrân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lançamento de efluentes (dom e in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mineração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ioridades de uso / Planos de ba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pt-BR" sz="4000" spc="-1" strike="noStrike">
                <a:solidFill>
                  <a:srgbClr val="000000"/>
                </a:solidFill>
                <a:latin typeface="Times New Roman"/>
              </a:rPr>
              <a:t>PRINCÍPIO BÁSICO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Tirar  “proveito” da capacidade de diluição e de autodepuração dos corpos d’água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 autodepuração é um fenômeno natu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respeita as características “naturais”, desejáveis ou “meta” para o corpo recep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5640" y="36720"/>
            <a:ext cx="6172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ORTANTO: calcada na busca de uma qualidade desejada e cujos instrumentos sã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planejamento: o enquadra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operacionais: ação de controle(poder de polícia) e o monitoramento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ILUIÇÃO LEGA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2193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lementos da gestão racional de recursos hídric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ficiência econôm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nservação ambi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geração de benefí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financiamento da gest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ara tanto: -simplicid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facilidade de implement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aceitabilidade política e soci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Princípios a serem observado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locação dos cu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Motivação ética: justiça e equ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 POLUIDOR PAG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s usuários de recursos naturais sujeitos à aplicação de intrum economicos/ benefício da comunidade   -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 USUÁRIO PAGADOR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 aplicação da cobrança para os usos outorgáve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 manutenção de níveis de qualidade desejáve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 rotina de fiscalização e polícia: qualidade ambi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Legislação federal de apoio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077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Lei 9433...INSTRUM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 importância da interligação do sistema de outorga com o sistema de licenciamento ambi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utorga precede o licenciamento ambi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ecisão final compete ao órgão ambiental (lei federal 693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onto importante da interface dos dois sistemas: OUTORGA PARA LANÇAMENTO DE EFLUENT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Legislação federal de apoi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73911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nstituição federal: e art 170 (prevalece a atividade ambient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Lei de crimes (lei 9605 (art 54)...dez 9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AMA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NAMA 20/86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 art 22: não será permitida diluição de efluentes industriais e parágrafo únic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 art 23; não conferir caract em desacordo.../paragr.ún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 art 35...fiscalização...estadual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ART 12,13,15,17 E 19, 21, 23 (est. impacto), 35, 37, 39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57400" y="36720"/>
            <a:ext cx="6781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NAMA 5: o que deve ser licenciado e como funciona no ES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sist abast água: DA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sist esg sani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DAIA: parte das ca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coletores/intercept: DAIA/C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etes, emissários, disp final: LP/DAIA                                                   LI/LO/Cetes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6T19:35:43Z</dcterms:created>
  <dc:creator>CETESB</dc:creator>
  <dc:description/>
  <dc:language>en-US</dc:language>
  <cp:lastModifiedBy>CETESB</cp:lastModifiedBy>
  <cp:lastPrinted>2002-04-01T19:41:55Z</cp:lastPrinted>
  <dcterms:modified xsi:type="dcterms:W3CDTF">2002-04-02T15:00:26Z</dcterms:modified>
  <cp:revision>34</cp:revision>
  <dc:subject/>
  <dc:title>O conceito de outorga de diluição:</dc:title>
</cp:coreProperties>
</file>