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CHICOTE.WAV" ContentType="audio/x-wav"/>
  <Override PartName="/ppt/media/carbrak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D85-7DF3-4673-B54A-C775873B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451-4838-452C-8A40-FBA34057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EB97-978E-4934-AC72-3A533BB3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F3E-71DD-4C43-AEB4-B8A41110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16F-9F8D-43DA-8256-7378CD66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ABFB-CFF8-4783-95B4-3F1EF6DC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3AF-8960-4FE1-99CB-5190D00E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DBFA-A221-4F6F-BDB7-08DB52F7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6724-4DD7-4A2E-B571-84B3C52A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BA0-C15B-4529-B980-BFE5EC8D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8FF-9E91-44AB-AB45-86BD515D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830A-8995-4B54-B89F-A2776453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04B9-5DC5-49DB-BBBC-1598E3F55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COT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10960" y="1849320"/>
            <a:ext cx="879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quação de dil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diluição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=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efluente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efluente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-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permitid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 /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permitid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-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manancial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7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rivada da equação geral de mistura (balanço de mas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                 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final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=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+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/ (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+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nsforma” qualidade em quant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quivalente em vaz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nifica procedimentos de outo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âmetros conservativos e não-conserv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eixe de tubos e c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52440" y="304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24080" y="914400"/>
            <a:ext cx="3276720" cy="2590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NE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743200"/>
            <a:ext cx="3429000" cy="2819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2895480"/>
            <a:ext cx="3505320" cy="26672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COT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" fill="hold">
                      <p:stCondLst>
                        <p:cond delay="indefinite"/>
                      </p:stCondLst>
                      <p:childTnLst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657600" y="3352680"/>
            <a:ext cx="3165480" cy="2051280"/>
            <a:chOff x="3657600" y="3352680"/>
            <a:chExt cx="3165480" cy="2051280"/>
          </a:xfrm>
        </p:grpSpPr>
        <p:sp>
          <p:nvSpPr>
            <p:cNvPr id="44" name=""/>
            <p:cNvSpPr/>
            <p:nvPr/>
          </p:nvSpPr>
          <p:spPr>
            <a:xfrm>
              <a:off x="3657600" y="3352680"/>
              <a:ext cx="316548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3938400" y="373392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72080" y="1447920"/>
            <a:ext cx="38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ixe de tubos e c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sp>
          <p:nvSpPr>
            <p:cNvPr id="49" name=""/>
            <p:cNvSpPr/>
            <p:nvPr/>
          </p:nvSpPr>
          <p:spPr>
            <a:xfrm>
              <a:off x="297000" y="2209680"/>
              <a:ext cx="462744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8600" y="2808360"/>
              <a:ext cx="3306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70200" y="2884320"/>
            <a:ext cx="631800" cy="8384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55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 rot="133200">
            <a:off x="7175160" y="517968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657600" y="2871360"/>
            <a:ext cx="5063760" cy="3529440"/>
            <a:chOff x="3657600" y="2871360"/>
            <a:chExt cx="5063760" cy="3529440"/>
          </a:xfrm>
        </p:grpSpPr>
        <p:sp>
          <p:nvSpPr>
            <p:cNvPr id="62" name=""/>
            <p:cNvSpPr/>
            <p:nvPr/>
          </p:nvSpPr>
          <p:spPr>
            <a:xfrm>
              <a:off x="3657600" y="36576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52160" y="34290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15480" y="541008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59680" y="37339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56600" y="4343400"/>
              <a:ext cx="3164760" cy="205092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837760" y="472428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38400" y="41911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7103520" y="3123720"/>
              <a:ext cx="1265760" cy="68580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10400">
              <a:off x="7351200" y="304776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Flux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448720" y="4564440"/>
            <a:ext cx="2216880" cy="1859400"/>
            <a:chOff x="2448720" y="4564440"/>
            <a:chExt cx="2216880" cy="1859400"/>
          </a:xfrm>
        </p:grpSpPr>
        <p:sp>
          <p:nvSpPr>
            <p:cNvPr id="72" name=""/>
            <p:cNvSpPr/>
            <p:nvPr/>
          </p:nvSpPr>
          <p:spPr>
            <a:xfrm rot="133200">
              <a:off x="414936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811400">
              <a:off x="2381400" y="5130360"/>
              <a:ext cx="235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Parâmetro conserv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47200" y="4656240"/>
            <a:ext cx="2665440" cy="1744560"/>
            <a:chOff x="547200" y="4656240"/>
            <a:chExt cx="2665440" cy="1744560"/>
          </a:xfrm>
        </p:grpSpPr>
        <p:sp>
          <p:nvSpPr>
            <p:cNvPr id="75" name=""/>
            <p:cNvSpPr/>
            <p:nvPr/>
          </p:nvSpPr>
          <p:spPr>
            <a:xfrm>
              <a:off x="2743920" y="6095880"/>
              <a:ext cx="28152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456800">
              <a:off x="500760" y="5206680"/>
              <a:ext cx="27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Parâmetro não-conserv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7520" y="1638360"/>
            <a:ext cx="1716840" cy="1181160"/>
            <a:chOff x="47520" y="1638360"/>
            <a:chExt cx="1716840" cy="1181160"/>
          </a:xfrm>
        </p:grpSpPr>
        <p:sp>
          <p:nvSpPr>
            <p:cNvPr id="78" name=""/>
            <p:cNvSpPr/>
            <p:nvPr/>
          </p:nvSpPr>
          <p:spPr>
            <a:xfrm>
              <a:off x="47520" y="2057400"/>
              <a:ext cx="1546920" cy="762120"/>
            </a:xfrm>
            <a:custGeom>
              <a:avLst/>
              <a:gdLst>
                <a:gd name="textAreaLeft" fmla="*/ 0 w 1546920"/>
                <a:gd name="textAreaRight" fmla="*/ 1547280 w 15469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880" y="163836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Lanç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58960" y="1447920"/>
            <a:ext cx="66117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mplo da Prefeitura Municipal de Areias -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nstrução de barr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aptação de água (9,72 l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ançamento de efluentes (23,6 l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Análise quanti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de referência 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7,10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) = 204,8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após Barramento = 543,3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Análise quali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diluiçã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efluent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efluent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300 m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ficiência do tratamento = 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de diluição = 324,7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3235320" cy="915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92120" y="1676520"/>
            <a:ext cx="8018640" cy="4647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286240" y="4317840"/>
            <a:ext cx="341280" cy="609840"/>
            <a:chOff x="5286240" y="4317840"/>
            <a:chExt cx="341280" cy="609840"/>
          </a:xfrm>
        </p:grpSpPr>
        <p:sp>
          <p:nvSpPr>
            <p:cNvPr id="86" name=""/>
            <p:cNvSpPr/>
            <p:nvPr/>
          </p:nvSpPr>
          <p:spPr>
            <a:xfrm>
              <a:off x="5627520" y="431784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86240" y="4317840"/>
              <a:ext cx="34128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73880" y="3124080"/>
            <a:ext cx="3779280" cy="730440"/>
            <a:chOff x="1073880" y="3124080"/>
            <a:chExt cx="3779280" cy="730440"/>
          </a:xfrm>
        </p:grpSpPr>
        <p:sp>
          <p:nvSpPr>
            <p:cNvPr id="89" name=""/>
            <p:cNvSpPr/>
            <p:nvPr/>
          </p:nvSpPr>
          <p:spPr>
            <a:xfrm>
              <a:off x="4360680" y="312408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3160" y="312408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17120" y="3657600"/>
              <a:ext cx="32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73880" y="3486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Courier New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085040" y="3695760"/>
            <a:ext cx="4248720" cy="838080"/>
            <a:chOff x="1085040" y="3695760"/>
            <a:chExt cx="4248720" cy="838080"/>
          </a:xfrm>
        </p:grpSpPr>
        <p:sp>
          <p:nvSpPr>
            <p:cNvPr id="94" name=""/>
            <p:cNvSpPr/>
            <p:nvPr/>
          </p:nvSpPr>
          <p:spPr>
            <a:xfrm>
              <a:off x="4841640" y="369576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99200" y="370836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616760" y="4317840"/>
              <a:ext cx="3681720" cy="25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85040" y="4165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34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000000"/>
                </a:solidFill>
                <a:latin typeface="Times New Roman"/>
              </a:rPr>
              <a:t>SISTEMA DE APOIO AO GERENCIAMENTO DE USUÁRIOS DE ÁGUA - SISAGU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10960" y="1757520"/>
            <a:ext cx="3093840" cy="916920"/>
            <a:chOff x="210960" y="1757520"/>
            <a:chExt cx="3093840" cy="916920"/>
          </a:xfrm>
        </p:grpSpPr>
        <p:sp>
          <p:nvSpPr>
            <p:cNvPr id="100" name=""/>
            <p:cNvSpPr/>
            <p:nvPr/>
          </p:nvSpPr>
          <p:spPr>
            <a:xfrm>
              <a:off x="210960" y="1757520"/>
              <a:ext cx="2428560" cy="916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Solicitações de Outorga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adastros de usuário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Outorgas estaduai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2480" y="2209680"/>
              <a:ext cx="5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14480" y="1816200"/>
            <a:ext cx="5376240" cy="3829680"/>
            <a:chOff x="114480" y="1816200"/>
            <a:chExt cx="5376240" cy="3829680"/>
          </a:xfrm>
        </p:grpSpPr>
        <p:grpSp>
          <p:nvGrpSpPr>
            <p:cNvPr id="103" name=""/>
            <p:cNvGrpSpPr/>
            <p:nvPr/>
          </p:nvGrpSpPr>
          <p:grpSpPr>
            <a:xfrm>
              <a:off x="3376080" y="1816200"/>
              <a:ext cx="2114640" cy="1272600"/>
              <a:chOff x="3376080" y="1816200"/>
              <a:chExt cx="2114640" cy="12726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76080" y="1816200"/>
                <a:ext cx="2109960" cy="914400"/>
              </a:xfrm>
              <a:prstGeom prst="ellipse">
                <a:avLst/>
              </a:prstGeom>
              <a:solidFill>
                <a:srgbClr val="ffcc66"/>
              </a:solidFill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692160" y="1895400"/>
                <a:ext cx="1553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600" spc="-1" strike="noStrike">
                    <a:solidFill>
                      <a:srgbClr val="000000"/>
                    </a:solidFill>
                    <a:latin typeface="Times New Roman"/>
                  </a:rPr>
                  <a:t>SISCO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59960" y="2629080"/>
                <a:ext cx="203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Administrativ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14480" y="5308560"/>
              <a:ext cx="37130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SISCO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: Sistema de Controle de Outorg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599080" y="4330440"/>
            <a:ext cx="2849400" cy="1084320"/>
            <a:chOff x="5599080" y="4330440"/>
            <a:chExt cx="2849400" cy="1084320"/>
          </a:xfrm>
        </p:grpSpPr>
        <p:sp>
          <p:nvSpPr>
            <p:cNvPr id="109" name=""/>
            <p:cNvSpPr/>
            <p:nvPr/>
          </p:nvSpPr>
          <p:spPr>
            <a:xfrm>
              <a:off x="5599080" y="4834080"/>
              <a:ext cx="284940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odelos de simulação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ODSIM, PROPAGAR, Out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76320" y="43308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783560" y="433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839640" y="1751040"/>
            <a:ext cx="2113200" cy="1372680"/>
            <a:chOff x="6839640" y="1751040"/>
            <a:chExt cx="2113200" cy="1372680"/>
          </a:xfrm>
        </p:grpSpPr>
        <p:sp>
          <p:nvSpPr>
            <p:cNvPr id="113" name=""/>
            <p:cNvSpPr/>
            <p:nvPr/>
          </p:nvSpPr>
          <p:spPr>
            <a:xfrm>
              <a:off x="6839640" y="1751040"/>
              <a:ext cx="2113200" cy="6426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obrança pelo u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os recursos hídr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314840" y="2514240"/>
              <a:ext cx="563040" cy="6094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17360" y="2666880"/>
            <a:ext cx="5172120" cy="3359880"/>
            <a:chOff x="117360" y="2666880"/>
            <a:chExt cx="5172120" cy="3359880"/>
          </a:xfrm>
        </p:grpSpPr>
        <p:sp>
          <p:nvSpPr>
            <p:cNvPr id="116" name=""/>
            <p:cNvSpPr/>
            <p:nvPr/>
          </p:nvSpPr>
          <p:spPr>
            <a:xfrm flipH="1">
              <a:off x="2954160" y="2666880"/>
              <a:ext cx="56232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17360" y="3352680"/>
              <a:ext cx="5172120" cy="2674080"/>
              <a:chOff x="117360" y="3352680"/>
              <a:chExt cx="5172120" cy="267408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50440" y="3352680"/>
                <a:ext cx="2613960" cy="1450440"/>
                <a:chOff x="550440" y="3352680"/>
                <a:chExt cx="2613960" cy="14504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62320" y="3352680"/>
                  <a:ext cx="2602080" cy="1092240"/>
                </a:xfrm>
                <a:prstGeom prst="ellipse">
                  <a:avLst/>
                </a:prstGeom>
                <a:solidFill>
                  <a:srgbClr val="ffcc66"/>
                </a:solidFill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50440" y="3571920"/>
                  <a:ext cx="21391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32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1" lang="pt-BR" sz="3600" spc="-1" strike="noStrike">
                      <a:solidFill>
                        <a:srgbClr val="000000"/>
                      </a:solidFill>
                      <a:latin typeface="Times New Roman"/>
                    </a:rPr>
                    <a:t>SIGEO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18280" y="4343400"/>
                  <a:ext cx="174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Espaci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117360" y="5689440"/>
                <a:ext cx="517212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SIGEO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: Sistema de Informações Georreferenciad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132480" y="2590920"/>
            <a:ext cx="8060400" cy="3845520"/>
            <a:chOff x="132480" y="2590920"/>
            <a:chExt cx="8060400" cy="3845520"/>
          </a:xfrm>
        </p:grpSpPr>
        <p:grpSp>
          <p:nvGrpSpPr>
            <p:cNvPr id="124" name=""/>
            <p:cNvGrpSpPr/>
            <p:nvPr/>
          </p:nvGrpSpPr>
          <p:grpSpPr>
            <a:xfrm>
              <a:off x="3446640" y="2590920"/>
              <a:ext cx="2673000" cy="1218960"/>
              <a:chOff x="3446640" y="2590920"/>
              <a:chExt cx="2673000" cy="1218960"/>
            </a:xfrm>
          </p:grpSpPr>
          <p:sp>
            <p:nvSpPr>
              <p:cNvPr id="125" name=""/>
              <p:cNvSpPr/>
              <p:nvPr/>
            </p:nvSpPr>
            <p:spPr>
              <a:xfrm>
                <a:off x="5416560" y="2590920"/>
                <a:ext cx="70308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46640" y="3809880"/>
                <a:ext cx="225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32480" y="3365640"/>
              <a:ext cx="8060400" cy="3070800"/>
              <a:chOff x="132480" y="3365640"/>
              <a:chExt cx="8060400" cy="30708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5827680" y="3365640"/>
                <a:ext cx="2365200" cy="1361160"/>
                <a:chOff x="5827680" y="3365640"/>
                <a:chExt cx="2365200" cy="13611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827680" y="3365640"/>
                  <a:ext cx="2365200" cy="990360"/>
                </a:xfrm>
                <a:prstGeom prst="ellipse">
                  <a:avLst/>
                </a:prstGeom>
                <a:solidFill>
                  <a:srgbClr val="ffcc66"/>
                </a:solidFill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339600" y="3524400"/>
                  <a:ext cx="147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3600" spc="-1" strike="noStrike">
                      <a:solidFill>
                        <a:srgbClr val="000000"/>
                      </a:solidFill>
                      <a:latin typeface="Times New Roman"/>
                    </a:rPr>
                    <a:t>SQAO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519960" y="4267080"/>
                  <a:ext cx="116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Técnic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132480" y="6099120"/>
                <a:ext cx="492660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SQAO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: Sistema Qualiquantitativo de Análise de Outorg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240" y="190512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 de apoio técnico à decisão sobre outo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trole técnico dos pleitos de outo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nálise quantitativa e qualit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trecho do mana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parâmetro de qualidade da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mê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laboração de gráficos e tabelas de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71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Sistema Quali-quantitativo</a:t>
            </a:r>
            <a:br>
              <a:rPr sz="4400"/>
            </a:b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de Análise de Outorgas - SQA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4448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08280" y="3257640"/>
            <a:ext cx="365760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lanos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3520" y="3802320"/>
            <a:ext cx="2748960" cy="2718720"/>
            <a:chOff x="533520" y="3802320"/>
            <a:chExt cx="2748960" cy="2718720"/>
          </a:xfrm>
        </p:grpSpPr>
        <p:sp>
          <p:nvSpPr>
            <p:cNvPr id="141" name=""/>
            <p:cNvSpPr/>
            <p:nvPr/>
          </p:nvSpPr>
          <p:spPr>
            <a:xfrm rot="10740600">
              <a:off x="1679040" y="3809520"/>
              <a:ext cx="840240" cy="990360"/>
            </a:xfrm>
            <a:custGeom>
              <a:avLst/>
              <a:gdLst>
                <a:gd name="textAreaLeft" fmla="*/ 280080 w 840240"/>
                <a:gd name="textAreaRight" fmla="*/ 702000 w 840240"/>
                <a:gd name="textAreaTop" fmla="*/ 587160 h 990360"/>
                <a:gd name="textAreaBottom" fmla="*/ 827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10520" y="4876560"/>
              <a:ext cx="183276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679040" y="5410080"/>
              <a:ext cx="457920" cy="4572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520" y="6000480"/>
              <a:ext cx="274896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Enquadramen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64280" y="3727080"/>
            <a:ext cx="3879720" cy="2801880"/>
            <a:chOff x="5264280" y="3727080"/>
            <a:chExt cx="3879720" cy="2801880"/>
          </a:xfrm>
        </p:grpSpPr>
        <p:sp>
          <p:nvSpPr>
            <p:cNvPr id="146" name=""/>
            <p:cNvSpPr/>
            <p:nvPr/>
          </p:nvSpPr>
          <p:spPr>
            <a:xfrm flipH="1" rot="10859400">
              <a:off x="6595920" y="3733920"/>
              <a:ext cx="803160" cy="993600"/>
            </a:xfrm>
            <a:custGeom>
              <a:avLst/>
              <a:gdLst>
                <a:gd name="textAreaLeft" fmla="*/ 267480 w 803160"/>
                <a:gd name="textAreaRight" fmla="*/ 670680 w 803160"/>
                <a:gd name="textAreaTop" fmla="*/ 588960 h 993600"/>
                <a:gd name="textAreaBottom" fmla="*/ 83016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30720" y="4835880"/>
              <a:ext cx="228096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Banco de d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961680" y="5415840"/>
              <a:ext cx="437760" cy="458640"/>
            </a:xfrm>
            <a:prstGeom prst="upArrow">
              <a:avLst>
                <a:gd name="adj1" fmla="val 50000"/>
                <a:gd name="adj2" fmla="val 26192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64280" y="6008400"/>
              <a:ext cx="387972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Sistema de Informaçõ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095880" y="990720"/>
            <a:ext cx="2160720" cy="2725200"/>
            <a:chOff x="6095880" y="990720"/>
            <a:chExt cx="2160720" cy="2725200"/>
          </a:xfrm>
        </p:grpSpPr>
        <p:sp>
          <p:nvSpPr>
            <p:cNvPr id="151" name=""/>
            <p:cNvSpPr/>
            <p:nvPr/>
          </p:nvSpPr>
          <p:spPr>
            <a:xfrm rot="11400">
              <a:off x="6640920" y="2723760"/>
              <a:ext cx="774000" cy="990720"/>
            </a:xfrm>
            <a:custGeom>
              <a:avLst/>
              <a:gdLst>
                <a:gd name="textAreaLeft" fmla="*/ 258120 w 774000"/>
                <a:gd name="textAreaRight" fmla="*/ 646560 w 774000"/>
                <a:gd name="textAreaTop" fmla="*/ 587160 h 990720"/>
                <a:gd name="textAreaBottom" fmla="*/ 827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9760" y="2152440"/>
              <a:ext cx="168840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57720" y="1581120"/>
              <a:ext cx="421920" cy="457200"/>
            </a:xfrm>
            <a:prstGeom prst="upArrow">
              <a:avLst>
                <a:gd name="adj1" fmla="val 50000"/>
                <a:gd name="adj2" fmla="val 2709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5880" y="990720"/>
              <a:ext cx="216072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Outorg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914400" y="1066680"/>
            <a:ext cx="1992240" cy="2706480"/>
            <a:chOff x="914400" y="1066680"/>
            <a:chExt cx="1992240" cy="2706480"/>
          </a:xfrm>
        </p:grpSpPr>
        <p:sp>
          <p:nvSpPr>
            <p:cNvPr id="156" name=""/>
            <p:cNvSpPr/>
            <p:nvPr/>
          </p:nvSpPr>
          <p:spPr>
            <a:xfrm flipH="1" rot="21588600">
              <a:off x="1687680" y="2781000"/>
              <a:ext cx="773640" cy="990720"/>
            </a:xfrm>
            <a:custGeom>
              <a:avLst/>
              <a:gdLst>
                <a:gd name="textAreaLeft" fmla="*/ 257760 w 773640"/>
                <a:gd name="textAreaRight" fmla="*/ 646200 w 773640"/>
                <a:gd name="textAreaTop" fmla="*/ 587160 h 990720"/>
                <a:gd name="textAreaBottom" fmla="*/ 827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72440" y="2228760"/>
              <a:ext cx="168732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05320" y="1695600"/>
              <a:ext cx="421560" cy="457200"/>
            </a:xfrm>
            <a:prstGeom prst="upArrow">
              <a:avLst>
                <a:gd name="adj1" fmla="val 50000"/>
                <a:gd name="adj2" fmla="val 27114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4400" y="1066680"/>
              <a:ext cx="1992240" cy="520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Cobranç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69720" y="152280"/>
            <a:ext cx="84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rumentos da Política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2:02:12Z</dcterms:created>
  <dc:creator>SPOACGMI</dc:creator>
  <dc:description/>
  <dc:language>en-US</dc:language>
  <cp:lastModifiedBy>SPOACGMI</cp:lastModifiedBy>
  <dcterms:modified xsi:type="dcterms:W3CDTF">2002-04-04T12:18:40Z</dcterms:modified>
  <cp:revision>3</cp:revision>
  <dc:subject/>
  <dc:title>Slide sem título </dc:title>
</cp:coreProperties>
</file>