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27D1B-2BC6-4015-80D4-7A79AB49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95A9D-587A-491A-9A57-34DDCFD7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DFD4C-800A-460F-B134-C0C88BBB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42656-AC4F-4CF6-8F7B-10A3AAE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214AA-8DA8-4F7C-B6C2-F76EAAD0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2137A-5A1B-4A24-9731-A9F6B33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B7F0A-DD1E-4D1E-B361-6353376E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C8DF0-3628-420D-AB85-F983CF6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29378-B229-4338-B5A0-A0475C4AF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F7AE-A3AA-4C00-BFBE-A1F1FDBB6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3FA1-7BCB-450E-8674-77515C44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A4A4-D844-4B5E-9062-02C21CD6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2F0D-4CD8-4C5B-8D78-F612DE2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2874-6C92-44ED-8E81-6342575B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9F24C-EC55-40C3-9EF9-89B45CD2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BA0D-D3B4-41ED-AF37-6750FCA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DF9B9-E04B-4081-9EC1-A1C6CCA9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5838-93F5-4B06-B9FE-75BB761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7F76-941E-4EA8-82AB-868AC79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AE79-E937-4579-A0CD-F129911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02B98-A9BF-47F3-AE67-C9273935A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6B59B-CAD4-4765-A204-A307199E1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4AC0B-75E0-4547-B104-EFAD34B8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48D82-BC47-49F4-9D78-A38A332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EBEDC-97C4-4963-A927-A424F26A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74B51-462D-46EF-877D-6253AE0F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85A27-887A-4C61-93F7-ABD36ED2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3D23A-C8C3-4F5C-9347-B9550B4A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EB9B1-14D6-4630-BE23-C15D786A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CF8B2-8FA7-4898-B1A8-F5E40F8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091D-E24E-422F-9674-C98189C5C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72117-43EB-40ED-A024-C658357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B0857-05C1-4BAA-B53E-4ADAD89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8F25D-B1BC-4223-A66A-1070BD29B3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4960C-D783-4677-B776-F4A23C999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E3139-40B0-455F-9BCB-3B79C1C7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2C89EB-27A1-47A1-99EC-25C5002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36BA0-8D7E-40F0-8345-2D25FE5B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B82DF-4177-432D-BC85-F0B95061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2DB3C-2EF6-4281-9D0A-5A204FC3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BFCC56-DC07-4174-A504-36F7588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208D-26C3-4E3A-A0BC-E1B6B5F9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AC649E-590D-4657-8471-527A8EC6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D8DD2-31CE-43BA-AC3D-9A0DAB1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F51AF-97E4-46ED-AB6C-3B658D1C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45491-38BC-4243-BEFA-60DF8DB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30B9EF-CD25-4023-931A-2F952883A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3A46-0111-4F49-8ADD-0A11AD4B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B85B-2F78-40B5-98C5-BA93FF35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3022-D7DE-423B-B8CB-743B7AE1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A6D7-8567-40D5-BF0E-8B9741B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D3EA-D612-4DD4-B28F-F5FF275B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711A-BFC8-455C-830D-9623D65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6492-55B3-49B3-954C-A361B612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5ECE-114E-4ADD-AC6C-AB857EF0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972A-240D-44C7-B325-EB21F54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4817-6827-4152-861A-F95AE6F90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06651-D7E5-4C14-BFFA-4DC4C4A25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6A87A-CBAE-4B55-AD0F-CF253979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2C40-5482-4374-8397-600B1337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67F44-3EFF-4400-96A1-A428FA8F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1219-ADA6-4668-B945-60B2F702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D0EA8-5B73-483F-B9F3-A776B651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471A-1C52-44F2-AF82-B88A373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FE251-40E4-474B-8A63-80BBA1B5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B5B4-4555-4AC6-B701-C3D1ABD7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B0466-4F89-4A87-91F5-68CC1D27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5C91-6674-4CB4-A4BB-54764219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84F4C-39FC-485B-A965-273C6998A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467B-A85B-4B23-9547-5A5FEACFA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579D-5FB8-4130-9155-EF80A92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709F-DD85-4995-92C1-2BA1EABC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94DB-5BBD-48C1-B4EE-030EDE86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89F4-367F-4A35-9698-39D77C39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BEE7-1E31-456C-A30A-6F1B949B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E8BA-EDA0-481C-B986-EB1A7998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C1F-BCC7-4D5A-94E6-7D9B8EB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3893-5BB0-436F-BB19-5F30AAB7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1B12-EBA0-45C5-84FF-3635D42D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A8A8-F4F3-473C-85FC-0AE3EB0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060-BC85-44DD-9C2F-9AE11B326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6BAB7-2A02-460A-A187-6BBA82311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35D0B-5BA5-414E-98F4-2648B640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02653-01D4-4540-B470-89ACE258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65167-C713-4558-8AD3-18C20A28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3DBE3-F10F-4C1B-BF99-3F3CFCBC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078F7-7942-448A-B118-8E763866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352A9-A413-4ECD-BBE7-B52DBD35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70355-2A07-4BE2-B1F2-9FB8C3C1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F9CB1-0C66-49B8-A6E7-0DA4F9F2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D9CB5-33A4-4756-9E04-4552EB8D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E3040-8DD1-4EF0-90CF-CBB0831F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3AB65-5BE2-4A72-98C4-30B1EE219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61AB5-C94F-4F29-8824-55763FEF9F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DA894-AD6C-4639-B0A0-10D5701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2CA0F-07FC-4963-84A2-2C7635A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4A2D2-B236-46EC-8047-5FC1D3A7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78F83-59B1-40F2-92C4-3B53398A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3C097-932D-4C0F-908E-1D4415C5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35106-0F41-42B3-8631-1B8D0FC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7F4FF-B85E-46C8-BA58-B79AC921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808A2-5B0C-4C13-B8EC-CDC7A227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2F4AB-E46B-4EC7-8A81-7D325AA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54F26-DE1F-4857-8762-4DAA5BB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ED876-D08E-4865-A099-8D34AC80FE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0B67-A97C-4D5B-B2BF-6C41504838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816D-0BF4-43BD-90D5-515B4CA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D262-DBDB-436B-BACB-321E26FD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630D-F4B0-432F-90C4-17B7AE3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3DD1-3BE6-44E6-9369-85660EB0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7FCB-C554-4F65-AF08-D24988A5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1A1CB-7D0E-43D0-9D8B-2E5CC83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9788-F026-4C7F-BBC9-553A60B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DA06-7C74-4A1F-9612-5505C71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9CC2-8C32-4B04-8F3A-2D259E7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4AEF-7779-4E58-9811-D887D42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817D-2518-475E-9659-9A1DAC5C7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A629B-7FD3-4ABC-9F4E-BBB3F2E0A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29E81-FA3F-491D-9CBF-E6BDFA8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04E95-F8A0-4EE2-A0E6-2CE26E4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CDB98-9570-48EA-BE9E-6931A01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7EAF6-FBFE-4A3C-B84E-7B2E949E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0F9F5-E30F-43FB-98CE-C0DD7CC0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BB39C-A08A-42D8-8B32-A7AEA4F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2B604-04E0-4F21-8CFE-65225957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6E8E5-668C-4662-8BC6-E76729D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B1482-6658-40BD-A09F-FB879E6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CE6FE-BBCB-4598-93A1-0369663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D1647-5E3B-45CF-A6C6-0B291331E8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EBDE4E-A1E0-4AD5-AA83-4CB52042E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4D2FB-32F6-4BF8-A6A7-1C303BAF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F59DB-0D14-4A57-B554-A3CA6383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7387FB-C287-4800-AB4C-E659FC244128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94C6E2-9576-4FA0-86D5-30957E4505B4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506F17-B599-410B-B51A-117849678762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74A715-488C-4E0C-BD2D-39ABF21FACB1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0D75CB-2082-4571-8068-F0C3C5D0CD13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1A5C3C-0F98-49DF-814E-529608CA2225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E38A00-C016-4403-8251-7752F1323306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D34640-E84F-426A-8670-47AC3791C5B1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8C2C39-CDD6-4860-A364-F7BB39D39335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58EC65-34C1-40CE-98AB-F6C0D4C865C1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80" y="196920"/>
            <a:ext cx="9144000" cy="1440"/>
          </a:xfrm>
          <a:custGeom>
            <a:avLst/>
            <a:gdLst/>
            <a:ahLst/>
            <a:rect l="l" t="t" r="r" b="b"/>
            <a:pathLst>
              <a:path w="25401" h="1">
                <a:moveTo>
                  <a:pt x="0" y="0"/>
                </a:moveTo>
                <a:lnTo>
                  <a:pt x="2540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048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219400" y="0"/>
            <a:ext cx="461484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6743880" y="0"/>
            <a:ext cx="240012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44720" y="37800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80FB8B-7C56-4231-8379-D60CD2523976}" type="slidenum">
              <a:rPr b="0" lang="en-GB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icardo.andrade@ana.gov.br" TargetMode="External"/><Relationship Id="rId2" Type="http://schemas.openxmlformats.org/officeDocument/2006/relationships/hyperlink" Target="mailto:cesar.pimentel@ana.gov.br" TargetMode="External"/><Relationship Id="rId3" Type="http://schemas.openxmlformats.org/officeDocument/2006/relationships/hyperlink" Target="mailto:rodrigo.carvalho@mma.gov.br" TargetMode="External"/><Relationship Id="rId4" Type="http://schemas.openxmlformats.org/officeDocument/2006/relationships/hyperlink" Target="mailto:Luciane.loutrenco@mma.gov.br" TargetMode="External"/><Relationship Id="rId5" Type="http://schemas.openxmlformats.org/officeDocument/2006/relationships/hyperlink" Target="mailto:dchristofidis@gmail.com" TargetMode="External"/><Relationship Id="rId6" Type="http://schemas.openxmlformats.org/officeDocument/2006/relationships/hyperlink" Target="mailto:dchristofidis@gmail.com" TargetMode="External"/><Relationship Id="rId7" Type="http://schemas.openxmlformats.org/officeDocument/2006/relationships/hyperlink" Target="mailto:dchristofidis@gmail.com" TargetMode="External"/><Relationship Id="rId8" Type="http://schemas.openxmlformats.org/officeDocument/2006/relationships/hyperlink" Target="mailto:emiranda@cidades.pmss.gov.br" TargetMode="External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25360" y="6093000"/>
            <a:ext cx="86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novembr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2344680"/>
            <a:ext cx="868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INTERÁGU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rograma de Desenvolvimento do Setor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520" y="433440"/>
            <a:ext cx="31924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Águas Subterrân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da da ANA em Usos Sustentável de Água e Sol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Produtor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tlas de Abastecimento de Água e sistema de acompanhamento e atual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Nacional de Resíduos Sólido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 Proteção aos Mananciais Urba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3701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28600" y="1981080"/>
            <a:ext cx="8686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o Nacional de Infraestrutura Híd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esenvolvimento da Agricultura Irrig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grama Drenagem Urbana e Controle de Erosão Marítima e Fluv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Nacional de Irrig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estudos de viabilidade técnica, econômico-social, financeira e 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de planos de segurança de barr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de ações para prevenção e controle de eventos crít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3748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a Política de Saneamento, nos termos da Lei nº 11.445/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antação do Sistema Nacional de Informações em Saneamento Básico – SIN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mpliação da Rede Nacional de Capacitação e Extensão Tecnológica em Saneamento Ambiental – ReC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pansão do Sistema Integrado de Gestão de Serviços de Saneamento – GS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lementação do Plano Nacional de Saneamento Bás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C – Sane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8600" y="1981080"/>
            <a:ext cx="86868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jeto de Racionalização do Uso da Água na Agricul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ções de revitalização de bacias hidrográ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lanejamento integrado e regulação em recursos hídricos e saneamento; em energia e navegação; eficiência energética nos serviços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de hidrovias e aproveitamentos hidrelétr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tibilização e integração de procedimentos de licenciamento ambiental - reunindo estudos de aproveitamentos hidrelétricos, planos estratégicos de bacias hidrográficas, avaliação ambiental integ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28600" y="19810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ompanhamento das ações, de modo a assegurar o cumprimento das metas, dos cronogramas e dos obje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nanciamento das atividades das unidades de gerenci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envolvimento e implantação de sistema de monitoramento e avali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laboração e implementação do Plano de Comun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41720" y="609300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Mais exemplos podem ser vistos na Carta Consu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Exemplos de Ações Prevista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r" pos="86979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Valores </a:t>
            </a: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US$ mil)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18960" y="1800360"/>
            <a:ext cx="8507520" cy="1774800"/>
            <a:chOff x="318960" y="1800360"/>
            <a:chExt cx="8507520" cy="1774800"/>
          </a:xfrm>
        </p:grpSpPr>
        <p:sp>
          <p:nvSpPr>
            <p:cNvPr id="618" name=""/>
            <p:cNvSpPr/>
            <p:nvPr/>
          </p:nvSpPr>
          <p:spPr>
            <a:xfrm>
              <a:off x="318960" y="1800360"/>
              <a:ext cx="4162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COMPONEN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81640" y="18003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Emprésti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920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ntrapart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77120" y="18003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960" y="202248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98560" y="202248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43000" y="202248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81640" y="20224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3.2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920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1.07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377120" y="20224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960" y="224316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8560" y="224316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3000" y="224316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 Hídric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81640" y="22431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0.8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2920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6.9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77120" y="22431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960" y="2465280"/>
              <a:ext cx="14796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98560" y="2465280"/>
              <a:ext cx="2444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43000" y="2465280"/>
              <a:ext cx="24386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81640" y="2465280"/>
              <a:ext cx="14475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4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2920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77120" y="2465280"/>
              <a:ext cx="14479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960" y="2687760"/>
              <a:ext cx="1479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8560" y="2687760"/>
              <a:ext cx="2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43000" y="2687760"/>
              <a:ext cx="2438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Ações Interseto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81640" y="268776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5.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.25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77120" y="268776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1.0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960" y="2908440"/>
              <a:ext cx="1479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Componente 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98560" y="2908440"/>
              <a:ext cx="244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3000" y="2908440"/>
              <a:ext cx="2438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onitoramento e Avaliaç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1640" y="290844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.3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2920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1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7120" y="290844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.5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8960" y="3130560"/>
              <a:ext cx="4162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1640" y="3130560"/>
              <a:ext cx="14475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97.5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2920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32.5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7120" y="3130560"/>
              <a:ext cx="1447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069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81640" y="3352680"/>
              <a:ext cx="1447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2920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5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3352680"/>
              <a:ext cx="1447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82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816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2920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7712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8960" y="202248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960" y="22431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8960" y="246528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960" y="26877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8960" y="290844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960" y="31305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81640" y="3352680"/>
              <a:ext cx="4343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8960" y="1800360"/>
              <a:ext cx="180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25040" y="1800360"/>
              <a:ext cx="1440" cy="177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960" y="1800360"/>
              <a:ext cx="850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960" y="3573360"/>
              <a:ext cx="8506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9280" y="4219560"/>
            <a:ext cx="8821800" cy="1541520"/>
            <a:chOff x="179280" y="4219560"/>
            <a:chExt cx="8821800" cy="1541520"/>
          </a:xfrm>
        </p:grpSpPr>
        <p:sp>
          <p:nvSpPr>
            <p:cNvPr id="674" name=""/>
            <p:cNvSpPr/>
            <p:nvPr/>
          </p:nvSpPr>
          <p:spPr>
            <a:xfrm>
              <a:off x="179280" y="4219560"/>
              <a:ext cx="432288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POR EXECU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02160" y="4219560"/>
              <a:ext cx="33703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COMPON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72480" y="4219560"/>
              <a:ext cx="112716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216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26080" y="444024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Inter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50000" y="444024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Monito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9280" y="4659480"/>
              <a:ext cx="26701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o Meio Ambiente 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9640" y="4659480"/>
              <a:ext cx="16225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Recursos Hídr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0216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4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26080" y="465948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50000" y="465948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72480" y="465948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52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9280" y="4879800"/>
              <a:ext cx="2670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49400" y="4879800"/>
              <a:ext cx="201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52800" y="4879800"/>
              <a:ext cx="1449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Infraestru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0216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27.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26080" y="487980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50000" y="487980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72480" y="487980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6.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9280" y="5099040"/>
              <a:ext cx="2670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Ministério das Cida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9400" y="5099040"/>
              <a:ext cx="201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2800" y="5099040"/>
              <a:ext cx="1449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aneam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0216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2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6080" y="5099040"/>
              <a:ext cx="1123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7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0000" y="5099040"/>
              <a:ext cx="11224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72480" y="5099040"/>
              <a:ext cx="1127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4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280" y="5319720"/>
              <a:ext cx="4322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0216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04.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26080" y="5319720"/>
              <a:ext cx="1123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2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50000" y="5319720"/>
              <a:ext cx="1122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4.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72480" y="5319720"/>
              <a:ext cx="112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804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alibri"/>
                </a:rPr>
                <a:t>130.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0216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8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26080" y="5538960"/>
              <a:ext cx="112392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6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50000" y="5538960"/>
              <a:ext cx="11224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3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72480" y="5538960"/>
              <a:ext cx="11271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10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0216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26080" y="4440240"/>
              <a:ext cx="144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50000" y="4440240"/>
              <a:ext cx="1800" cy="13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7248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2160" y="4440240"/>
              <a:ext cx="3370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9280" y="465948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9280" y="487980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280" y="509904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9280" y="531972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02160" y="5538960"/>
              <a:ext cx="4497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9280" y="4219560"/>
              <a:ext cx="180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999640" y="4219560"/>
              <a:ext cx="1440" cy="15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9280" y="4219560"/>
              <a:ext cx="8820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9280" y="5759280"/>
              <a:ext cx="8820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6680" y="4873680"/>
            <a:ext cx="30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nistério da Integração Nacional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28600" y="2933640"/>
            <a:ext cx="86472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idade de Preparação do Programa – UPP, instituída pela Resolução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555, de 11 de agosto de 2009, que tem como funções princip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entralizar o planej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companhar a preparação das atividades dos componentes setoriai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ordenar a preparação das atividades do componente interse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ação dos membros representantes de cada Executor, por meio da Portaria ANA 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21, de 13 de outubro d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1998720"/>
            <a:ext cx="8686800" cy="83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arta-Consulta aprovada pela COFIEX na 83ª Reun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comendação nº 1118, 13 de julh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ronograma da Preparaçã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301840"/>
            <a:ext cx="868680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zembro 2009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Banco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rç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rovação do Programa pelo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Senado Fed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bril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Lançamento dos Edita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1000" indent="-2151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5100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lho de 201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Início das contrataçõ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s ações do primeir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137808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Datas estimadas pela Equipe de Preparação – UPP e 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emissas para identificação de 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8600" y="198108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abrangência do INTERÁGUAS é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todo o território nacion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be a cada executor definir a concentração das su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concentrar as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ções intersetoria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priorizando áreas com insuficiência no planejamento e gest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136836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" y="5057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00000"/>
              </a:lnSpc>
              <a:tabLst>
                <a:tab algn="l" pos="0"/>
                <a:tab algn="l" pos="5396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bs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ra a concentração das ações intersetoriais, foram selecionadas duas bacias para as ações setoriais prioritárias: São Francisco e Araguaia-Tocant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1981080"/>
            <a:ext cx="86472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 ações intersetoriais envolvem mais de uma instituição ou ministé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ndo se tratar de um ou mais dos ministérios executores do Programa, as ações serão coordenadas pelo executor que tiver maior afinidade com a ação pretendida, a critério do Comitê Ge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derão ser envolvidos, em casos específicos, outras instituições que não façam parte dos ministérios executores. Nesses casos, a ação intersetorial seria coordenada pelo ministério exec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1660680"/>
            <a:ext cx="86868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1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s Usos Múltiplos da Ág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Justif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incipais Executores e Instituições Potencialmente Envolv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ranjo Institucio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emplos de Ações Prev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alores (em US$)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Sum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54176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2.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ituação A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onograma da Preparação – Estim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missa para identificação das 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formações Complement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3538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mbros Integrantes da Unidade de Preparação do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formaçõe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1373040"/>
            <a:ext cx="91440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TERSETORI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8600" y="1981080"/>
            <a:ext cx="86472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ações mais complexas, envolvendo várias instituições, poderá ser necessário estruturar um grupo de trabalho formal, como é o caso do planejamento conjunto de empreendimentos hidrelétricos e navegação fluv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jetos já em desenvolvimento pelos ministérios executores poderão derivar para ações a serem parcial ou totalmente apoiadas pelo Interágu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ecretaria Técnica do Programa, integrada pelos três ministérios executores, estará atenta para evitar que haja superposição de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Unidade de 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28600" y="1619280"/>
            <a:ext cx="8688240" cy="4707000"/>
            <a:chOff x="228600" y="1619280"/>
            <a:chExt cx="8688240" cy="4707000"/>
          </a:xfrm>
        </p:grpSpPr>
        <p:sp>
          <p:nvSpPr>
            <p:cNvPr id="749" name=""/>
            <p:cNvSpPr/>
            <p:nvPr/>
          </p:nvSpPr>
          <p:spPr>
            <a:xfrm>
              <a:off x="228600" y="1619280"/>
              <a:ext cx="8686800" cy="4143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Membros integrantes da U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" y="203364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Agência Nacional de Águ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86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icardo Medeiros de Andr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1"/>
                </a:rPr>
                <a:t>ricardo.andrade@an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72000" y="2448000"/>
              <a:ext cx="4343400" cy="68724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Cesar Eduardo Bertozzo Pimen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 u="sng">
                  <a:solidFill>
                    <a:srgbClr val="ccccff"/>
                  </a:solidFill>
                  <a:uFillTx/>
                  <a:latin typeface="Calibri"/>
                  <a:hlinkClick r:id="rId2"/>
                </a:rPr>
                <a:t>cesar.pimentel@ana.gov.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8600" y="313524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Recursos Hídricos e Ambiente Urbano do Ministério do Meio 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86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odrigo Speziali Carval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3"/>
                </a:rPr>
                <a:t>rodrigo.carvalh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3548160"/>
              <a:ext cx="4343400" cy="69840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Luciane Lourenç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4"/>
                </a:rPr>
                <a:t>luciane.loutrenco@mma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600" y="4246560"/>
              <a:ext cx="8686800" cy="41292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de Infraestrutura Hídrica do Ministério da Integraçã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86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Demetrios Christofid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5"/>
                </a:rPr>
                <a:t>dchristofidis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465948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Josimar Alves de Olivei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6"/>
                </a:rPr>
                <a:t>josimar.oliveira@integracao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" y="5284800"/>
              <a:ext cx="8686800" cy="414360"/>
            </a:xfrm>
            <a:prstGeom prst="rect">
              <a:avLst/>
            </a:prstGeom>
            <a:solidFill>
              <a:srgbClr val="d0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Pela Secretaria Nacional de Saneamento Ambiental do Ministério das C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86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Sergio Antonio Gonçal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7"/>
                </a:rPr>
                <a:t>sergio.goncalves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0" y="5699160"/>
              <a:ext cx="4343400" cy="625320"/>
            </a:xfrm>
            <a:prstGeom prst="rect">
              <a:avLst/>
            </a:prstGeom>
            <a:solidFill>
              <a:srgbClr val="e9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Ernani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 u="sng">
                  <a:solidFill>
                    <a:srgbClr val="ccccff"/>
                  </a:solidFill>
                  <a:uFillTx/>
                  <a:latin typeface="Calibri"/>
                  <a:hlinkClick r:id="rId8"/>
                </a:rPr>
                <a:t>ernani.miranda@cidades.gov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2448000"/>
              <a:ext cx="1440" cy="68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0" y="3548160"/>
              <a:ext cx="1440" cy="69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465948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5699160"/>
              <a:ext cx="14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600" y="2033640"/>
              <a:ext cx="8686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" y="24480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600" y="313524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600" y="3548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600" y="42465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600" y="46594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600" y="528480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600" y="569916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6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915400" y="1619280"/>
              <a:ext cx="1440" cy="470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600" y="1619280"/>
              <a:ext cx="8686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600" y="6324480"/>
              <a:ext cx="8686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753080" y="533520"/>
            <a:ext cx="41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repara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990720"/>
            <a:ext cx="9144000" cy="399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879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Obrig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8960" y="3149640"/>
            <a:ext cx="8506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s Usos Múltiplos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852360" y="5208480"/>
            <a:ext cx="1476000" cy="1354680"/>
            <a:chOff x="3852360" y="5208480"/>
            <a:chExt cx="1476000" cy="1354680"/>
          </a:xfrm>
        </p:grpSpPr>
        <p:sp>
          <p:nvSpPr>
            <p:cNvPr id="535" name=""/>
            <p:cNvSpPr/>
            <p:nvPr/>
          </p:nvSpPr>
          <p:spPr>
            <a:xfrm>
              <a:off x="3852360" y="628668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Recreação e Tur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3875040" y="5208480"/>
              <a:ext cx="14382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"/>
          <p:cNvGrpSpPr/>
          <p:nvPr/>
        </p:nvGrpSpPr>
        <p:grpSpPr>
          <a:xfrm>
            <a:off x="6607080" y="1800360"/>
            <a:ext cx="1739880" cy="1354320"/>
            <a:chOff x="6607080" y="1800360"/>
            <a:chExt cx="1739880" cy="1354320"/>
          </a:xfrm>
        </p:grpSpPr>
        <p:sp>
          <p:nvSpPr>
            <p:cNvPr id="538" name=""/>
            <p:cNvSpPr/>
            <p:nvPr/>
          </p:nvSpPr>
          <p:spPr>
            <a:xfrm>
              <a:off x="6607080" y="2878200"/>
              <a:ext cx="173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"/>
            <a:stretch/>
          </p:blipFill>
          <p:spPr>
            <a:xfrm>
              <a:off x="6750000" y="180036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"/>
          <p:cNvGrpSpPr/>
          <p:nvPr/>
        </p:nvGrpSpPr>
        <p:grpSpPr>
          <a:xfrm>
            <a:off x="3822840" y="1800360"/>
            <a:ext cx="1447560" cy="1357560"/>
            <a:chOff x="3822840" y="1800360"/>
            <a:chExt cx="1447560" cy="1357560"/>
          </a:xfrm>
        </p:grpSpPr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3822840" y="1800360"/>
              <a:ext cx="143964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3822840" y="28814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Irri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844920" y="1800360"/>
            <a:ext cx="1684800" cy="1357560"/>
            <a:chOff x="844920" y="1800360"/>
            <a:chExt cx="1684800" cy="1357560"/>
          </a:xfrm>
        </p:grpSpPr>
        <p:sp>
          <p:nvSpPr>
            <p:cNvPr id="544" name=""/>
            <p:cNvSpPr/>
            <p:nvPr/>
          </p:nvSpPr>
          <p:spPr>
            <a:xfrm>
              <a:off x="844920" y="2881440"/>
              <a:ext cx="168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Abastecimento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4"/>
            <a:stretch/>
          </p:blipFill>
          <p:spPr>
            <a:xfrm>
              <a:off x="974880" y="1800360"/>
              <a:ext cx="1439640" cy="10792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46" name=""/>
          <p:cNvGrpSpPr/>
          <p:nvPr/>
        </p:nvGrpSpPr>
        <p:grpSpPr>
          <a:xfrm>
            <a:off x="957240" y="3524400"/>
            <a:ext cx="1461960" cy="1354320"/>
            <a:chOff x="957240" y="3524400"/>
            <a:chExt cx="1461960" cy="1354320"/>
          </a:xfrm>
        </p:grpSpPr>
        <p:sp>
          <p:nvSpPr>
            <p:cNvPr id="547" name=""/>
            <p:cNvSpPr/>
            <p:nvPr/>
          </p:nvSpPr>
          <p:spPr>
            <a:xfrm>
              <a:off x="957240" y="4602240"/>
              <a:ext cx="14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Naveg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9716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1015920" y="5208480"/>
            <a:ext cx="1440000" cy="1360800"/>
            <a:chOff x="1015920" y="5208480"/>
            <a:chExt cx="1440000" cy="1360800"/>
          </a:xfrm>
        </p:grpSpPr>
        <p:sp>
          <p:nvSpPr>
            <p:cNvPr id="550" name=""/>
            <p:cNvSpPr/>
            <p:nvPr/>
          </p:nvSpPr>
          <p:spPr>
            <a:xfrm>
              <a:off x="1021680" y="629280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Pesca e Aquicu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1015920" y="5208480"/>
              <a:ext cx="1440000" cy="1081080"/>
            </a:xfrm>
            <a:prstGeom prst="rect">
              <a:avLst/>
            </a:prstGeom>
            <a:ln w="25560">
              <a:solidFill>
                <a:srgbClr val="4f81bd"/>
              </a:solidFill>
              <a:miter/>
            </a:ln>
          </p:spPr>
        </p:pic>
      </p:grpSp>
      <p:grpSp>
        <p:nvGrpSpPr>
          <p:cNvPr id="552" name=""/>
          <p:cNvGrpSpPr/>
          <p:nvPr/>
        </p:nvGrpSpPr>
        <p:grpSpPr>
          <a:xfrm>
            <a:off x="6778800" y="5208480"/>
            <a:ext cx="1485360" cy="1352880"/>
            <a:chOff x="6778800" y="5208480"/>
            <a:chExt cx="1485360" cy="1352880"/>
          </a:xfrm>
        </p:grpSpPr>
        <p:pic>
          <p:nvPicPr>
            <p:cNvPr id="553" name="" descr=""/>
            <p:cNvPicPr/>
            <p:nvPr/>
          </p:nvPicPr>
          <p:blipFill>
            <a:blip r:embed="rId7">
              <a:lum contrast="12000"/>
            </a:blip>
            <a:stretch/>
          </p:blipFill>
          <p:spPr>
            <a:xfrm>
              <a:off x="6800760" y="5208480"/>
              <a:ext cx="14400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778800" y="628488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Diluição de Eflu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822840" y="3524400"/>
            <a:ext cx="1447560" cy="1360440"/>
            <a:chOff x="3822840" y="3524400"/>
            <a:chExt cx="1447560" cy="1360440"/>
          </a:xfrm>
        </p:grpSpPr>
        <p:sp>
          <p:nvSpPr>
            <p:cNvPr id="556" name=""/>
            <p:cNvSpPr/>
            <p:nvPr/>
          </p:nvSpPr>
          <p:spPr>
            <a:xfrm>
              <a:off x="3822840" y="4608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Hidroeletric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8"/>
            <a:stretch/>
          </p:blipFill>
          <p:spPr>
            <a:xfrm>
              <a:off x="3822840" y="3524400"/>
              <a:ext cx="143964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6753240" y="3524400"/>
            <a:ext cx="1447920" cy="1359000"/>
            <a:chOff x="6753240" y="3524400"/>
            <a:chExt cx="1447920" cy="1359000"/>
          </a:xfrm>
        </p:grpSpPr>
        <p:sp>
          <p:nvSpPr>
            <p:cNvPr id="559" name=""/>
            <p:cNvSpPr/>
            <p:nvPr/>
          </p:nvSpPr>
          <p:spPr>
            <a:xfrm>
              <a:off x="6753240" y="4606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1f497d"/>
                  </a:solidFill>
                  <a:latin typeface="Calibri"/>
                </a:rPr>
                <a:t>Controle de Che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6753240" y="3524400"/>
              <a:ext cx="144000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8600" y="1557360"/>
            <a:ext cx="8647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cessidade de busc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melhor articulação e coordenação de ações no setor águ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usos múltiplos dos recursos e serviços associad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i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mbiente integrador, com autonomia e flexibilidad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os setores participantes, tanto na proposição quanto na execução das 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ar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ntinuidade a programas setoriais exitoso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PMSS, PROÁGUA, etc.) e tratamento mais explícito de temas transversais priorit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talecer iniciativas d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articulação intersetorial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á em cur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buscando maior eficiência na implementação e respostas mais ráp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1565280"/>
            <a:ext cx="864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grama a ser viabilizado por meio de um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cordo de empréstimo com o Banco Mund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cujo objetivo é dar suporte à implementação de políticas e planos nacionais no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etor águ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poiando programas setoriais específicos e facilitando o tratamento integrado de temas transversais de intere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8960" y="442440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do Empréstim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é US$ 95.575.000,00 (75%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8960" y="562932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or total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até US$ 130.1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8960" y="4876920"/>
            <a:ext cx="855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68272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apartida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até US$ 32.525.000,00 (25%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República Federativa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8960" y="6081840"/>
            <a:ext cx="85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zo de Execução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5 (cinco) 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335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ibuir para o fortalecimento da capacidade de planejamento e gestão no setor água, vis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39640" y="2160720"/>
            <a:ext cx="8325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eficiência no uso da água e na prestação de serviço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umentar a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oferta sustentável de água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 quantidade e qualidade adequadas aos usos múltiplo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450720"/>
                <a:tab algn="l" pos="1365120"/>
                <a:tab algn="l" pos="2279520"/>
                <a:tab algn="l" pos="3193920"/>
                <a:tab algn="l" pos="4108320"/>
                <a:tab algn="l" pos="5022720"/>
                <a:tab algn="l" pos="5937120"/>
                <a:tab algn="l" pos="6851520"/>
                <a:tab algn="l" pos="7765920"/>
                <a:tab algn="l" pos="8680320"/>
                <a:tab algn="l" pos="9594720"/>
                <a:tab algn="l" pos="1050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lhorar a aplicação de recursos público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etor água, com a consequente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dução de deseconomia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usadas por deficiências na articulação e na coordenação interseto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5580000"/>
            <a:ext cx="882036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ta-se de um programa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xclusivamente</a:t>
            </a:r>
            <a:r>
              <a:rPr b="1" lang="en-GB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oltado para o  </a:t>
            </a:r>
            <a:br>
              <a:rPr sz="2400"/>
            </a:b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lanejamento e gestão no setor água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ão possuindo recursos para o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Principais Exec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" y="1582560"/>
            <a:ext cx="864720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Recursos Hídricos e Ambiente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gência Nacional de Á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Integraçã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de Infraestrutura Híd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Defes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s C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cretaria Nacional de Saneament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15296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Instituições Potencialmente Envolv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737240"/>
            <a:ext cx="8647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e Minas e Ene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s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Agricultura, Pecuária e Abast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o Desenvolvimento Agr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inistério da Saúde - FUN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Arranj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18960" y="1538280"/>
            <a:ext cx="6786720" cy="4977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105680" y="1851120"/>
            <a:ext cx="1628640" cy="83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mbros Consul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ME - MT - M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0040" y="1619280"/>
            <a:ext cx="8325000" cy="1123920"/>
          </a:xfrm>
          <a:prstGeom prst="rect">
            <a:avLst/>
          </a:prstGeom>
          <a:noFill/>
          <a:ln w="1908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985680"/>
            <a:ext cx="9144000" cy="398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tabLst>
                <a:tab algn="l" pos="0"/>
                <a:tab algn="l" pos="17604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1533600"/>
            <a:ext cx="8647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A –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B – Irrigação, Infraestrutura e Defes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C – San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D – Ações em Bacias Selecio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Componente E – Monitoramento 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480" y="4511520"/>
            <a:ext cx="7510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da um dos três primeiros componentes desdobra-se em três subcompone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Planejamento e Gest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Estudos 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componente Fortalecimento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48480" y="533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lnSpc>
                <a:spcPct val="100000"/>
              </a:lnSpc>
              <a:tabLst>
                <a:tab algn="l" pos="0"/>
                <a:tab algn="l" pos="174600"/>
                <a:tab algn="l" pos="1089000"/>
                <a:tab algn="l" pos="2003400"/>
                <a:tab algn="l" pos="2917800"/>
                <a:tab algn="l" pos="3832200"/>
                <a:tab algn="l" pos="4746600"/>
                <a:tab algn="l" pos="5661000"/>
                <a:tab algn="l" pos="6575400"/>
                <a:tab algn="l" pos="7489800"/>
                <a:tab algn="l" pos="8404200"/>
                <a:tab algn="l" pos="9318600"/>
                <a:tab algn="l" pos="102330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ardo.andrade</dc:creator>
  <dc:description/>
  <dc:language>en-US</dc:language>
  <cp:lastModifiedBy>Ricardo</cp:lastModifiedBy>
  <cp:revision>0</cp:revision>
  <dc:subject/>
  <dc:title>Slide 1</dc:title>
</cp:coreProperties>
</file>