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10288588" cy="6858000"/>
  <p:notesSz cx="6883400" cy="10015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83200" cy="1001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883560" cy="10015560"/>
          </a:xfrm>
          <a:custGeom>
            <a:avLst/>
            <a:gdLst>
              <a:gd name="textAreaLeft" fmla="*/ 360 w 6883560"/>
              <a:gd name="textAreaRight" fmla="*/ 6883200 w 6883560"/>
              <a:gd name="textAreaTop" fmla="*/ 360 h 10015560"/>
              <a:gd name="textAreaBottom" fmla="*/ 10015200 h 10015560"/>
            </a:gdLst>
            <a:ahLst/>
            <a:rect l="textAreaLeft" t="textAreaTop" r="textAreaRight" b="textAreaBottom"/>
            <a:pathLst>
              <a:path w="21600" h="31427">
                <a:moveTo>
                  <a:pt x="4" y="0"/>
                </a:moveTo>
                <a:arcTo wR="4" hR="4" stAng="16200000" swAng="-5400000"/>
                <a:lnTo>
                  <a:pt x="0" y="31423"/>
                </a:lnTo>
                <a:arcTo wR="4" hR="4" stAng="10800000" swAng="-5400000"/>
                <a:lnTo>
                  <a:pt x="21596" y="31427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6883560" cy="10015560"/>
          </a:xfrm>
          <a:custGeom>
            <a:avLst/>
            <a:gdLst>
              <a:gd name="textAreaLeft" fmla="*/ 360 w 6883560"/>
              <a:gd name="textAreaRight" fmla="*/ 6883200 w 6883560"/>
              <a:gd name="textAreaTop" fmla="*/ 360 h 10015560"/>
              <a:gd name="textAreaBottom" fmla="*/ 10015200 h 10015560"/>
            </a:gdLst>
            <a:ahLst/>
            <a:rect l="textAreaLeft" t="textAreaTop" r="textAreaRight" b="textAreaBottom"/>
            <a:pathLst>
              <a:path w="21600" h="31427">
                <a:moveTo>
                  <a:pt x="4" y="0"/>
                </a:moveTo>
                <a:arcTo wR="4" hR="4" stAng="16200000" swAng="-5400000"/>
                <a:lnTo>
                  <a:pt x="0" y="31423"/>
                </a:lnTo>
                <a:arcTo wR="4" hR="4" stAng="10800000" swAng="-5400000"/>
                <a:lnTo>
                  <a:pt x="21596" y="31427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AutoShape 3"/>
          <p:cNvSpPr/>
          <p:nvPr/>
        </p:nvSpPr>
        <p:spPr>
          <a:xfrm>
            <a:off x="0" y="0"/>
            <a:ext cx="6883560" cy="10015560"/>
          </a:xfrm>
          <a:custGeom>
            <a:avLst/>
            <a:gdLst>
              <a:gd name="textAreaLeft" fmla="*/ 360 w 6883560"/>
              <a:gd name="textAreaRight" fmla="*/ 6883200 w 6883560"/>
              <a:gd name="textAreaTop" fmla="*/ 360 h 10015560"/>
              <a:gd name="textAreaBottom" fmla="*/ 10015200 h 10015560"/>
            </a:gdLst>
            <a:ahLst/>
            <a:rect l="textAreaLeft" t="textAreaTop" r="textAreaRight" b="textAreaBottom"/>
            <a:pathLst>
              <a:path w="21600" h="31427">
                <a:moveTo>
                  <a:pt x="4" y="0"/>
                </a:moveTo>
                <a:arcTo wR="4" hR="4" stAng="16200000" swAng="-5400000"/>
                <a:lnTo>
                  <a:pt x="0" y="31423"/>
                </a:lnTo>
                <a:arcTo wR="4" hR="4" stAng="10800000" swAng="-5400000"/>
                <a:lnTo>
                  <a:pt x="21596" y="31427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AutoShape 4"/>
          <p:cNvSpPr/>
          <p:nvPr/>
        </p:nvSpPr>
        <p:spPr>
          <a:xfrm>
            <a:off x="0" y="0"/>
            <a:ext cx="6883560" cy="10015560"/>
          </a:xfrm>
          <a:custGeom>
            <a:avLst/>
            <a:gdLst>
              <a:gd name="textAreaLeft" fmla="*/ 360 w 6883560"/>
              <a:gd name="textAreaRight" fmla="*/ 6883200 w 6883560"/>
              <a:gd name="textAreaTop" fmla="*/ 360 h 10015560"/>
              <a:gd name="textAreaBottom" fmla="*/ 10015200 h 10015560"/>
            </a:gdLst>
            <a:ahLst/>
            <a:rect l="textAreaLeft" t="textAreaTop" r="textAreaRight" b="textAreaBottom"/>
            <a:pathLst>
              <a:path w="21600" h="31427">
                <a:moveTo>
                  <a:pt x="4" y="0"/>
                </a:moveTo>
                <a:arcTo wR="4" hR="4" stAng="16200000" swAng="-5400000"/>
                <a:lnTo>
                  <a:pt x="0" y="31423"/>
                </a:lnTo>
                <a:arcTo wR="4" hR="4" stAng="10800000" swAng="-5400000"/>
                <a:lnTo>
                  <a:pt x="21596" y="31427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AutoShape 5"/>
          <p:cNvSpPr/>
          <p:nvPr/>
        </p:nvSpPr>
        <p:spPr>
          <a:xfrm>
            <a:off x="0" y="0"/>
            <a:ext cx="6881760" cy="10015560"/>
          </a:xfrm>
          <a:custGeom>
            <a:avLst/>
            <a:gdLst>
              <a:gd name="textAreaLeft" fmla="*/ 360 w 6881760"/>
              <a:gd name="textAreaRight" fmla="*/ 6881400 w 6881760"/>
              <a:gd name="textAreaTop" fmla="*/ 360 h 10015560"/>
              <a:gd name="textAreaBottom" fmla="*/ 10015200 h 10015560"/>
            </a:gdLst>
            <a:ahLst/>
            <a:rect l="textAreaLeft" t="textAreaTop" r="textAreaRight" b="textAreaBottom"/>
            <a:pathLst>
              <a:path w="21600" h="31436">
                <a:moveTo>
                  <a:pt x="5" y="0"/>
                </a:moveTo>
                <a:arcTo wR="5" hR="5" stAng="16200000" swAng="-5400000"/>
                <a:lnTo>
                  <a:pt x="0" y="31431"/>
                </a:lnTo>
                <a:arcTo wR="5" hR="5" stAng="10800000" swAng="-5400000"/>
                <a:lnTo>
                  <a:pt x="21595" y="31436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AutoShape 6"/>
          <p:cNvSpPr/>
          <p:nvPr/>
        </p:nvSpPr>
        <p:spPr>
          <a:xfrm>
            <a:off x="0" y="0"/>
            <a:ext cx="6881760" cy="10015560"/>
          </a:xfrm>
          <a:custGeom>
            <a:avLst/>
            <a:gdLst>
              <a:gd name="textAreaLeft" fmla="*/ 360 w 6881760"/>
              <a:gd name="textAreaRight" fmla="*/ 6881400 w 6881760"/>
              <a:gd name="textAreaTop" fmla="*/ 360 h 10015560"/>
              <a:gd name="textAreaBottom" fmla="*/ 10015200 h 10015560"/>
            </a:gdLst>
            <a:ahLst/>
            <a:rect l="textAreaLeft" t="textAreaTop" r="textAreaRight" b="textAreaBottom"/>
            <a:pathLst>
              <a:path w="21600" h="31436">
                <a:moveTo>
                  <a:pt x="5" y="0"/>
                </a:moveTo>
                <a:arcTo wR="5" hR="5" stAng="16200000" swAng="-5400000"/>
                <a:lnTo>
                  <a:pt x="0" y="31431"/>
                </a:lnTo>
                <a:arcTo wR="5" hR="5" stAng="10800000" swAng="-5400000"/>
                <a:lnTo>
                  <a:pt x="21595" y="31436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AutoShape 7"/>
          <p:cNvSpPr/>
          <p:nvPr/>
        </p:nvSpPr>
        <p:spPr>
          <a:xfrm>
            <a:off x="0" y="0"/>
            <a:ext cx="6881760" cy="10015560"/>
          </a:xfrm>
          <a:custGeom>
            <a:avLst/>
            <a:gdLst>
              <a:gd name="textAreaLeft" fmla="*/ 360 w 6881760"/>
              <a:gd name="textAreaRight" fmla="*/ 6881400 w 6881760"/>
              <a:gd name="textAreaTop" fmla="*/ 360 h 10015560"/>
              <a:gd name="textAreaBottom" fmla="*/ 10015200 h 10015560"/>
            </a:gdLst>
            <a:ahLst/>
            <a:rect l="textAreaLeft" t="textAreaTop" r="textAreaRight" b="textAreaBottom"/>
            <a:pathLst>
              <a:path w="21600" h="31436">
                <a:moveTo>
                  <a:pt x="5" y="0"/>
                </a:moveTo>
                <a:arcTo wR="5" hR="5" stAng="16200000" swAng="-5400000"/>
                <a:lnTo>
                  <a:pt x="0" y="31431"/>
                </a:lnTo>
                <a:arcTo wR="5" hR="5" stAng="10800000" swAng="-5400000"/>
                <a:lnTo>
                  <a:pt x="21595" y="31436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AutoShape 8"/>
          <p:cNvSpPr/>
          <p:nvPr/>
        </p:nvSpPr>
        <p:spPr>
          <a:xfrm>
            <a:off x="0" y="0"/>
            <a:ext cx="6881760" cy="10015560"/>
          </a:xfrm>
          <a:custGeom>
            <a:avLst/>
            <a:gdLst>
              <a:gd name="textAreaLeft" fmla="*/ 360 w 6881760"/>
              <a:gd name="textAreaRight" fmla="*/ 6881400 w 6881760"/>
              <a:gd name="textAreaTop" fmla="*/ 360 h 10015560"/>
              <a:gd name="textAreaBottom" fmla="*/ 10015200 h 10015560"/>
            </a:gdLst>
            <a:ahLst/>
            <a:rect l="textAreaLeft" t="textAreaTop" r="textAreaRight" b="textAreaBottom"/>
            <a:pathLst>
              <a:path w="21600" h="31436">
                <a:moveTo>
                  <a:pt x="5" y="0"/>
                </a:moveTo>
                <a:arcTo wR="5" hR="5" stAng="16200000" swAng="-5400000"/>
                <a:lnTo>
                  <a:pt x="0" y="31431"/>
                </a:lnTo>
                <a:arcTo wR="5" hR="5" stAng="10800000" swAng="-5400000"/>
                <a:lnTo>
                  <a:pt x="21595" y="31436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AutoShape 9"/>
          <p:cNvSpPr/>
          <p:nvPr/>
        </p:nvSpPr>
        <p:spPr>
          <a:xfrm>
            <a:off x="0" y="0"/>
            <a:ext cx="6881760" cy="10015560"/>
          </a:xfrm>
          <a:custGeom>
            <a:avLst/>
            <a:gdLst>
              <a:gd name="textAreaLeft" fmla="*/ 360 w 6881760"/>
              <a:gd name="textAreaRight" fmla="*/ 6881400 w 6881760"/>
              <a:gd name="textAreaTop" fmla="*/ 360 h 10015560"/>
              <a:gd name="textAreaBottom" fmla="*/ 10015200 h 10015560"/>
            </a:gdLst>
            <a:ahLst/>
            <a:rect l="textAreaLeft" t="textAreaTop" r="textAreaRight" b="textAreaBottom"/>
            <a:pathLst>
              <a:path w="21600" h="31436">
                <a:moveTo>
                  <a:pt x="5" y="0"/>
                </a:moveTo>
                <a:arcTo wR="5" hR="5" stAng="16200000" swAng="-5400000"/>
                <a:lnTo>
                  <a:pt x="0" y="31431"/>
                </a:lnTo>
                <a:arcTo wR="5" hR="5" stAng="10800000" swAng="-5400000"/>
                <a:lnTo>
                  <a:pt x="21595" y="31436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Text Box 10"/>
          <p:cNvSpPr/>
          <p:nvPr/>
        </p:nvSpPr>
        <p:spPr>
          <a:xfrm>
            <a:off x="623880" y="750960"/>
            <a:ext cx="5635800" cy="3755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688680" y="4756320"/>
            <a:ext cx="5499000" cy="45021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ldImg"/>
          </p:nvPr>
        </p:nvSpPr>
        <p:spPr>
          <a:xfrm>
            <a:off x="623880" y="760320"/>
            <a:ext cx="5627520" cy="37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1"/>
          <p:cNvSpPr/>
          <p:nvPr/>
        </p:nvSpPr>
        <p:spPr>
          <a:xfrm>
            <a:off x="623880" y="750960"/>
            <a:ext cx="5635800" cy="3755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body"/>
          </p:nvPr>
        </p:nvSpPr>
        <p:spPr>
          <a:xfrm>
            <a:off x="689040" y="4756320"/>
            <a:ext cx="5500800" cy="45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1"/>
          <p:cNvSpPr/>
          <p:nvPr/>
        </p:nvSpPr>
        <p:spPr>
          <a:xfrm>
            <a:off x="623880" y="750960"/>
            <a:ext cx="5634000" cy="3755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body"/>
          </p:nvPr>
        </p:nvSpPr>
        <p:spPr>
          <a:xfrm>
            <a:off x="689040" y="4756320"/>
            <a:ext cx="5500800" cy="45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1"/>
          <p:cNvSpPr/>
          <p:nvPr/>
        </p:nvSpPr>
        <p:spPr>
          <a:xfrm>
            <a:off x="623880" y="750960"/>
            <a:ext cx="5634000" cy="3755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body"/>
          </p:nvPr>
        </p:nvSpPr>
        <p:spPr>
          <a:xfrm>
            <a:off x="689040" y="4756320"/>
            <a:ext cx="5500800" cy="45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1"/>
          <p:cNvSpPr/>
          <p:nvPr/>
        </p:nvSpPr>
        <p:spPr>
          <a:xfrm>
            <a:off x="623880" y="750960"/>
            <a:ext cx="5634000" cy="3755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body"/>
          </p:nvPr>
        </p:nvSpPr>
        <p:spPr>
          <a:xfrm>
            <a:off x="689040" y="4756320"/>
            <a:ext cx="5500800" cy="45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1"/>
          <p:cNvSpPr/>
          <p:nvPr/>
        </p:nvSpPr>
        <p:spPr>
          <a:xfrm>
            <a:off x="623880" y="760320"/>
            <a:ext cx="5632560" cy="375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body"/>
          </p:nvPr>
        </p:nvSpPr>
        <p:spPr>
          <a:xfrm>
            <a:off x="689040" y="4756320"/>
            <a:ext cx="5500800" cy="45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5280" y="468360"/>
            <a:ext cx="8769240" cy="133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5280" y="1906200"/>
            <a:ext cx="8769240" cy="20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5280" y="4155120"/>
            <a:ext cx="8769240" cy="20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5280" y="468360"/>
            <a:ext cx="8769240" cy="133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5280" y="1906200"/>
            <a:ext cx="4279320" cy="20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48800" y="1906200"/>
            <a:ext cx="4279320" cy="20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5280" y="4155120"/>
            <a:ext cx="4279320" cy="20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248800" y="4155120"/>
            <a:ext cx="4279320" cy="20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5280" y="468360"/>
            <a:ext cx="8769240" cy="133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5280" y="1906200"/>
            <a:ext cx="2823480" cy="20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0240" y="1906200"/>
            <a:ext cx="2823480" cy="20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85200" y="1906200"/>
            <a:ext cx="2823480" cy="20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5280" y="4155120"/>
            <a:ext cx="2823480" cy="20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20240" y="4155120"/>
            <a:ext cx="2823480" cy="20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85200" y="4155120"/>
            <a:ext cx="2823480" cy="20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5280" y="468360"/>
            <a:ext cx="8769240" cy="133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5280" y="1906200"/>
            <a:ext cx="8769240" cy="43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280" y="468360"/>
            <a:ext cx="8769240" cy="133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5280" y="1906200"/>
            <a:ext cx="8769240" cy="43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280" y="468360"/>
            <a:ext cx="8769240" cy="133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5280" y="1906200"/>
            <a:ext cx="4279320" cy="43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248800" y="1906200"/>
            <a:ext cx="4279320" cy="43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5280" y="468360"/>
            <a:ext cx="8769240" cy="133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5280" y="468360"/>
            <a:ext cx="8769240" cy="61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280" y="468360"/>
            <a:ext cx="8769240" cy="133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5280" y="1906200"/>
            <a:ext cx="4279320" cy="20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48800" y="1906200"/>
            <a:ext cx="4279320" cy="43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5280" y="4155120"/>
            <a:ext cx="4279320" cy="20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5280" y="468360"/>
            <a:ext cx="8769240" cy="133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5280" y="1906200"/>
            <a:ext cx="4279320" cy="43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48800" y="1906200"/>
            <a:ext cx="4279320" cy="20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248800" y="4155120"/>
            <a:ext cx="4279320" cy="20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5280" y="468360"/>
            <a:ext cx="8769240" cy="133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5280" y="1906200"/>
            <a:ext cx="4279320" cy="20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48800" y="1906200"/>
            <a:ext cx="4279320" cy="20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5280" y="4155120"/>
            <a:ext cx="8769240" cy="20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10287000" cy="9428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55280" y="468360"/>
            <a:ext cx="8769240" cy="133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55280" y="1906200"/>
            <a:ext cx="8769240" cy="43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4" descr=""/>
          <p:cNvPicPr/>
          <p:nvPr/>
        </p:nvPicPr>
        <p:blipFill>
          <a:blip r:embed="rId3"/>
          <a:stretch/>
        </p:blipFill>
        <p:spPr>
          <a:xfrm>
            <a:off x="0" y="6620040"/>
            <a:ext cx="10329840" cy="237960"/>
          </a:xfrm>
          <a:prstGeom prst="rect">
            <a:avLst/>
          </a:prstGeom>
          <a:ln w="0">
            <a:noFill/>
          </a:ln>
        </p:spPr>
      </p:pic>
      <p:sp>
        <p:nvSpPr>
          <p:cNvPr id="4" name="Text Box 5"/>
          <p:cNvSpPr/>
          <p:nvPr/>
        </p:nvSpPr>
        <p:spPr>
          <a:xfrm>
            <a:off x="822240" y="0"/>
            <a:ext cx="3889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Times New Roman"/>
              </a:rPr>
              <a:t>Ministério do Meio Ambiente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Times New Roman"/>
              </a:rPr>
              <a:t>Secretaria de Recursos Hídricos e Ambiente Urbano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1"/>
          <p:cNvSpPr/>
          <p:nvPr/>
        </p:nvSpPr>
        <p:spPr>
          <a:xfrm>
            <a:off x="1616040" y="5589720"/>
            <a:ext cx="65530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Brasília, 03 de março de 200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Text Box 2"/>
          <p:cNvSpPr/>
          <p:nvPr/>
        </p:nvSpPr>
        <p:spPr>
          <a:xfrm>
            <a:off x="2192400" y="2997360"/>
            <a:ext cx="5832360" cy="5875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pt-BR" sz="3600" spc="-1" strike="noStrike">
                <a:solidFill>
                  <a:srgbClr val="ffffff"/>
                </a:solidFill>
                <a:latin typeface="Times New Roman"/>
              </a:rPr>
              <a:t>INFORME SIGEOR 2009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2192040" y="981000"/>
            <a:ext cx="5490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Plano Nacional de Recursos Hídric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476280"/>
            <a:ext cx="9648720" cy="70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6666"/>
                </a:solidFill>
                <a:latin typeface="Verdana"/>
              </a:rPr>
              <a:t>Apresentaç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-360" y="1197000"/>
            <a:ext cx="9968040" cy="761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 algn="just">
              <a:lnSpc>
                <a:spcPct val="11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integra o conjunto de documentos previstos pelo Sistema de Gerenciamento Orientado para Resultados – SIGEOR, do Plano Nacional de Recursos Hídricos - PNRH, conforme proposta aprovada pelo Conselho Nacional de Recursos Hídricos – CNRH (Resolução CNRH no 69/2006);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apresenta a evolução do processo de implementação do Plano Nacional de Recursos Hídricos durante o exercício de 2009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visa proporcionar aos atores envolvidos no processo de implementação do PNRH informações acerca do andamento das ações e atividades previstas em seus programa e subprogramas, de modo que este possa ser avaliado e monitorado, com intuito de conferir maior efetividade ao gerenciamento do Plano e subsidiar o seu processo de revisão em 2010;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parâmetro utilizado como referência para avaliação dos progressos, pendências e pontos críticos relacionados à implementação do PNRH é o documento de Detalhamento Operativo dos Programas I ao VII e o Detalhamento Operativo do Programa VIII do PNRH (Resolução CNRH n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 80/2007 e Resolução CNRH n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  <a:ea typeface="Arial"/>
              </a:rPr>
              <a:t>° 99/2009, respectivamente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A Gestão Orientada para Resultado – GEOR, adotada no PNRH, tem como objetivo definir os resultados que os organismos encarregados da concepção e gerenciamento de planos e programas pretendem atingir com a implementação destes, bem como criar nessas organizações uma cultura de gestão baseada em fatos e dados, voltada para o atingimento de resultados e metas, de forma transparente e responsabilizável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just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just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just">
              <a:lnSpc>
                <a:spcPct val="13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1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1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79640" y="549000"/>
            <a:ext cx="8099280" cy="4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6666"/>
                </a:solidFill>
                <a:latin typeface="Verdana"/>
              </a:rPr>
              <a:t>Informe Sigeor 20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648720" cy="56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0000"/>
              </a:lnSpc>
              <a:spcBef>
                <a:spcPts val="799"/>
              </a:spcBef>
              <a:spcAft>
                <a:spcPts val="601"/>
              </a:spcAft>
              <a:buNone/>
              <a:tabLst>
                <a:tab algn="l" pos="0"/>
                <a:tab algn="l" pos="34308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3092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404280"/>
                <a:tab algn="l" pos="9428040"/>
                <a:tab algn="l" pos="9877320"/>
                <a:tab algn="l" pos="10326600"/>
                <a:tab algn="l" pos="10775880"/>
                <a:tab algn="l" pos="10779120"/>
                <a:tab algn="l" pos="1078056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3"/>
          <p:cNvSpPr/>
          <p:nvPr/>
        </p:nvSpPr>
        <p:spPr>
          <a:xfrm>
            <a:off x="247680" y="1052640"/>
            <a:ext cx="9864720" cy="54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ANÁLISE </a:t>
            </a: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→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RECOMENDAÇÕES: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1 – Formalizar a institucionalização do GTCE, objetivando dar operacionalidade ao Sistema de Gerenciamento Orientado para Resultados do Plano Nacional de Recursos Hídricos (SIGEOR/PNRH), aprovado por meio da Resolução CNRH no 69, de 19 de março de 2007;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2 – Estruturar o Sistema de Informações do Plano Nacional de Recursos Hídricos – SI-PNRH, de forma articulada e integrado ao Sistema Nacional de Informações sobre Recursos Hídricos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3 – Consolidar um documento, a ser elaborado pelo GTCE, contendo a descrição de como deve se dar, ao longo do tempo, a dinâmica de correlação entre as pautas desenvolvidas pelas Câmaras Técnicas do Conselho Nacional de Recursos Hídricos e os temas dos programas do Plano Nacional de Recursos Hídricos, considerando a Matriz de Detalhamento e do processo de planejamento estratégico do SINGREH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4 – Propor, na forma de um documento do GTCE, as adequações necessárias em cada ação do PNRH, objetivando subsidiar o seu processo de revisão em 2010;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5 – Estruturar indicadores para o monitoramento do alcance dos objetivos estratégicos do PNRH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79640" y="765000"/>
            <a:ext cx="809928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6666"/>
                </a:solidFill>
                <a:latin typeface="Verdana"/>
              </a:rPr>
              <a:t>Elaboração Informe Sigeor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18600" y="1628280"/>
            <a:ext cx="9649080" cy="51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120000"/>
              </a:lnSpc>
              <a:spcBef>
                <a:spcPts val="799"/>
              </a:spcBef>
              <a:spcAft>
                <a:spcPts val="700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Metodologi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20000"/>
              </a:lnSpc>
              <a:spcBef>
                <a:spcPts val="799"/>
              </a:spcBef>
              <a:spcAft>
                <a:spcPts val="700"/>
              </a:spcAft>
              <a:buClr>
                <a:srgbClr val="000000"/>
              </a:buClr>
              <a:buFont typeface="Times New Roman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ontos foca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20000"/>
              </a:lnSpc>
              <a:spcBef>
                <a:spcPts val="799"/>
              </a:spcBef>
              <a:spcAft>
                <a:spcPts val="700"/>
              </a:spcAft>
              <a:buClr>
                <a:srgbClr val="000000"/>
              </a:buClr>
              <a:buFont typeface="Times New Roman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ritério de apropriação das diferentes tipologias de ações em curso nas instituições executores: contribuição para o alcance dos objetivos específicos do respectivo subprogram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20000"/>
              </a:lnSpc>
              <a:spcBef>
                <a:spcPts val="799"/>
              </a:spcBef>
              <a:spcAft>
                <a:spcPts val="700"/>
              </a:spcAft>
              <a:buClr>
                <a:srgbClr val="000000"/>
              </a:buClr>
              <a:buFont typeface="Times New Roman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dentificação de Pêndências, Críticas e/ou Dificuldade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20000"/>
              </a:lnSpc>
              <a:spcBef>
                <a:spcPts val="799"/>
              </a:spcBef>
              <a:spcAft>
                <a:spcPts val="700"/>
              </a:spcAft>
              <a:buClr>
                <a:srgbClr val="000000"/>
              </a:buClr>
              <a:buFont typeface="Times New Roman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ugestões de adequação do subprograma e suas ações: qto à forma e/ou conteú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ctr">
              <a:lnSpc>
                <a:spcPct val="120000"/>
              </a:lnSpc>
              <a:spcBef>
                <a:spcPts val="799"/>
              </a:spcBef>
              <a:spcAft>
                <a:spcPts val="700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ctr">
              <a:lnSpc>
                <a:spcPct val="120000"/>
              </a:lnSpc>
              <a:spcBef>
                <a:spcPts val="799"/>
              </a:spcBef>
              <a:spcAft>
                <a:spcPts val="700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Revisão do PNR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20000"/>
              </a:lnSpc>
              <a:spcBef>
                <a:spcPts val="799"/>
              </a:spcBef>
              <a:spcAft>
                <a:spcPts val="700"/>
              </a:spcAft>
              <a:buClr>
                <a:srgbClr val="000000"/>
              </a:buClr>
              <a:buFont typeface="Times New Roman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Ampliação da consul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ctr">
              <a:lnSpc>
                <a:spcPct val="120000"/>
              </a:lnSpc>
              <a:spcBef>
                <a:spcPts val="799"/>
              </a:spcBef>
              <a:spcAft>
                <a:spcPts val="700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55280" y="468000"/>
            <a:ext cx="8783640" cy="133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6666"/>
                </a:solidFill>
                <a:latin typeface="Verdana"/>
              </a:rPr>
              <a:t>Elaboração Informe Sigeor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"/>
          <p:cNvSpPr/>
          <p:nvPr/>
        </p:nvSpPr>
        <p:spPr>
          <a:xfrm>
            <a:off x="1886040" y="2425680"/>
            <a:ext cx="2692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Text Box 3"/>
          <p:cNvSpPr/>
          <p:nvPr/>
        </p:nvSpPr>
        <p:spPr>
          <a:xfrm>
            <a:off x="1955880" y="1916280"/>
            <a:ext cx="61405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249120" y="1625760"/>
          <a:ext cx="9690120" cy="4921200"/>
        </p:xfrm>
        <a:graphic>
          <a:graphicData uri="http://schemas.openxmlformats.org/drawingml/2006/table">
            <a:tbl>
              <a:tblPr/>
              <a:tblGrid>
                <a:gridCol w="1974960"/>
                <a:gridCol w="7715160"/>
              </a:tblGrid>
              <a:tr h="1339560">
                <a:tc>
                  <a:txBody>
                    <a:bodyPr lIns="90000" rIns="90000" tIns="28080" bIns="46800" anchor="ctr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bprograma: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39920">
                <a:tc>
                  <a:txBody>
                    <a:bodyPr lIns="90000" rIns="90000" tIns="28080" bIns="46800" anchor="ctr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bjetivo Geral: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7720">
                <a:tc gridSpan="2">
                  <a:txBody>
                    <a:bodyPr lIns="90000" rIns="90000" tIns="28080" bIns="46800" anchor="ctr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stágio atual das ações em desenvolvimento: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46280">
                <a:tc gridSpan="2">
                  <a:txBody>
                    <a:bodyPr lIns="90000" rIns="90000" tIns="28080" bIns="46800" anchor="ctr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ndências, dificuldades e críticas: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47720">
                <a:tc gridSpan="2">
                  <a:txBody>
                    <a:bodyPr lIns="90000" rIns="90000" tIns="28080" bIns="46800" anchor="ctr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posições de adequação: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2T23:43:12Z</dcterms:created>
  <dc:creator>osvaldo</dc:creator>
  <dc:description/>
  <dc:language>en-US</dc:language>
  <cp:lastModifiedBy>ADRIANA</cp:lastModifiedBy>
  <dcterms:modified xsi:type="dcterms:W3CDTF">2010-03-03T23:19:00Z</dcterms:modified>
  <cp:revision>7</cp:revision>
  <dc:subject/>
  <dc:title>Slide 1</dc:title>
</cp:coreProperties>
</file>