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8033A-2FAA-4D27-B327-7D90FF7E4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4919F-0DEC-48C4-9246-91EC26835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5D9FE-A252-4CBB-B4BB-1BCE0C7E4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E0F74-0806-4B21-9BD2-B06672E8E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1410A-CFFB-4A34-B570-6DAF16C93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EF41A-93F9-4BB8-A81E-90CF3941E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D55E5-9520-4088-9F0A-1A4E4CDEC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DE14D-ADDE-4C04-823D-ABABE9996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397C0-9093-4044-89FD-0A1F20AF7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5B5AA-3EE3-4CED-8C1E-0D18194FD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27239-8033-48ED-975B-17677A615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63F73-D850-4918-8284-3D8A9963A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97251-3A78-4201-AFB0-93695083CDB4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mailto:mauri.pereira@ana.gov.br);" TargetMode="External"/><Relationship Id="rId2" Type="http://schemas.openxmlformats.org/officeDocument/2006/relationships/hyperlink" Target="mailto:nelson.freitas@ana.gov.br);" TargetMode="External"/><Relationship Id="rId3" Type="http://schemas.openxmlformats.org/officeDocument/2006/relationships/hyperlink" Target="mailto:viviani.alves@ana.gov.br);" TargetMode="External"/><Relationship Id="rId4" Type="http://schemas.openxmlformats.org/officeDocument/2006/relationships/hyperlink" Target="mailto:wilde@ana.gov.br);" TargetMode="External"/><Relationship Id="rId5" Type="http://schemas.openxmlformats.org/officeDocument/2006/relationships/hyperlink" Target="mailto:martha.sugai@copel.com);" TargetMode="External"/><Relationship Id="rId6" Type="http://schemas.openxmlformats.org/officeDocument/2006/relationships/hyperlink" Target="mailto:rmancini@sp.gov.br);" TargetMode="External"/><Relationship Id="rId7" Type="http://schemas.openxmlformats.org/officeDocument/2006/relationships/hyperlink" Target="mailto:grh@iema.es.gov.br);" TargetMode="External"/><Relationship Id="rId8" Type="http://schemas.openxmlformats.org/officeDocument/2006/relationships/hyperlink" Target="mailto:breno.lasmar@meioambiente.mg.gov.br);" TargetMode="External"/><Relationship Id="rId9" Type="http://schemas.openxmlformats.org/officeDocument/2006/relationships/hyperlink" Target="mailto:marilia.melo@meioambiente.mg.gov.br);" TargetMode="External"/><Relationship Id="rId10" Type="http://schemas.openxmlformats.org/officeDocument/2006/relationships/hyperlink" Target="mailto:fatimacasarim@inea.rj.gov.br);" TargetMode="External"/><Relationship Id="rId11" Type="http://schemas.openxmlformats.org/officeDocument/2006/relationships/hyperlink" Target="mailto:formiga.inea@gmail.com);" TargetMode="External"/><Relationship Id="rId12" Type="http://schemas.openxmlformats.org/officeDocument/2006/relationships/hyperlink" Target="mailto:george.silva@inga.ba.gov.br);" TargetMode="External"/><Relationship Id="rId13" Type="http://schemas.openxmlformats.org/officeDocument/2006/relationships/hyperlink" Target="mailto:carmo_neves@uol.com.br);" TargetMode="External"/><Relationship Id="rId14" Type="http://schemas.openxmlformats.org/officeDocument/2006/relationships/hyperlink" Target="mailto:donipm@ig.com.br);" TargetMode="External"/><Relationship Id="rId1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3333cc"/>
                </a:solidFill>
                <a:latin typeface="Verdana"/>
              </a:rPr>
              <a:t>Apresentação do Relatório do Grupo de Trabalho “Unidades de Gestão de Recursos Hídricos” – </a:t>
            </a:r>
            <a:br>
              <a:rPr sz="3200"/>
            </a:br>
            <a:r>
              <a:rPr b="1" lang="pt-BR" sz="3200" spc="-1" strike="noStrike">
                <a:solidFill>
                  <a:srgbClr val="3333cc"/>
                </a:solidFill>
                <a:latin typeface="Verdana"/>
              </a:rPr>
              <a:t>GT “UGRH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5300640"/>
            <a:ext cx="64008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59</a:t>
            </a:r>
            <a:r>
              <a:rPr b="0" lang="pt-BR" sz="2800" spc="-1" strike="noStrike" baseline="30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Reunião da CTIL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Brasília, 14 de outubro de 200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820728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cc"/>
                </a:solidFill>
                <a:latin typeface="Verdana"/>
              </a:rPr>
              <a:t>AÇOES PARA A DEFINIÇAO DO MAPA DE UNIDADES DE PLANEJAMENTO E GESTA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24000" y="1483920"/>
            <a:ext cx="842472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Times New Roman"/>
              </a:rPr>
              <a:t>identificar unidades de planejamento e gestão de recursos hídricos adotadas nos estado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Times New Roman"/>
              </a:rPr>
              <a:t>avaliar a utilização de ferramentas de geoprocessamento, modelos matemáticos e estatísticos de análise (por exemplo, multicritério e análise de clusters) e métodos de tomada de decisão, dentre outros, para definir metodologia de agrupamento de unidades nacionai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Times New Roman"/>
              </a:rPr>
              <a:t>elaborar mapa estratégico de unidades de planejamento e gestão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Times New Roman"/>
              </a:rPr>
              <a:t>consultar e negociar mapa estratégico com Unidades da Federação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Times New Roman"/>
              </a:rPr>
              <a:t>internalizar as diretrizes do mapa estratégico nos programas e nos subprogramas do PNRH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Times New Roman"/>
              </a:rPr>
              <a:t>realizar avaliações periódicas das metas do mapa estratégico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50560" y="404640"/>
            <a:ext cx="849636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3333cc"/>
                </a:solidFill>
                <a:latin typeface="Verdana"/>
              </a:rPr>
              <a:t>4 - DESCRIÇÃO DOS TRABALHOS DO GT</a:t>
            </a:r>
            <a:r>
              <a:rPr b="1" lang="pt-BR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77724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r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1ª Reunião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em 16 de junho de 2009 – antes da reunião foi distribuída a </a:t>
            </a: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“1ª Minuta do Relatório de apoio para os trabalhos do GT”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, com </a:t>
            </a:r>
            <a:r>
              <a:rPr b="1" i="1" lang="pt-BR" sz="2800" spc="-1" strike="noStrike" u="sng">
                <a:solidFill>
                  <a:srgbClr val="000000"/>
                </a:solidFill>
                <a:uFillTx/>
                <a:latin typeface="Times New Roman"/>
              </a:rPr>
              <a:t>fatos que antecederam criação do GT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pt-BR" sz="2800" spc="-1" strike="noStrike" u="sng">
                <a:solidFill>
                  <a:srgbClr val="000000"/>
                </a:solidFill>
                <a:uFillTx/>
                <a:latin typeface="Times New Roman"/>
              </a:rPr>
              <a:t>dispositivos legais do regimento que tratam dos Grupos de Trabalho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e </a:t>
            </a:r>
            <a:r>
              <a:rPr b="1" i="1" lang="pt-BR" sz="2800" spc="-1" strike="noStrike" u="sng">
                <a:solidFill>
                  <a:srgbClr val="000000"/>
                </a:solidFill>
                <a:uFillTx/>
                <a:latin typeface="Times New Roman"/>
              </a:rPr>
              <a:t>questões identificadas com relação a proposta de resolução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a serem analisadas pelo G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 algn="r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Após a reunião as questões foram agrupadas em 6 temas e respostas construídas com base nos nas discussões que ocorreram na reunião e nas informações prestadas pela ANA, conforme apresentado no item 2 do relatório.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000" y="333360"/>
            <a:ext cx="82040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3333cc"/>
                </a:solidFill>
                <a:latin typeface="Verdana"/>
              </a:rPr>
              <a:t>4 - DESCRIÇÃO DOS TRABALHOS DO G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6421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Verdana"/>
              </a:rPr>
              <a:t>2ª Reunião</a:t>
            </a: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 em 04/08/200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22240" indent="-28584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alterações introduzidas na relatór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22240" indent="-28584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aplicação da metodolog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30480" indent="-22860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selecionadas: Bacia do rio Grande; Paranaíba e Mundaú/Parnaíb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30480" indent="-22860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mapas na parede mostrando a aplicação às demais baci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30480" indent="-22860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base territorial: Nota técnica da ANA (aplicação da metodologia e dos critérios utilizados, como também dos resultados)</a:t>
            </a: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 --</a:t>
            </a:r>
            <a:r>
              <a:rPr b="0" lang="pt-B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t-BR" sz="2400" spc="-1" strike="noStrike" u="sng">
                <a:solidFill>
                  <a:srgbClr val="3333cc"/>
                </a:solidFill>
                <a:uFillTx/>
                <a:latin typeface="Verdana"/>
              </a:rPr>
              <a:t>NT 072/2009/SA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22240" indent="-28584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discussão da proposta de resoluç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30480" indent="-228600" algn="just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qual o conteúdo do pacto, se este deveria ou não apresentar a alocação quali-quantitativa dos recursos hídrico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1230480" indent="-228600" algn="just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tipologia de comitê: único ou de integração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1230480" indent="-228600" algn="just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delegação de competências do CNRH para os CERH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000" y="333360"/>
            <a:ext cx="82040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3333cc"/>
                </a:solidFill>
                <a:latin typeface="Verdana"/>
              </a:rPr>
              <a:t>4 - DESCRIÇÃO DOS TRABALHOS DO G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50920" y="907560"/>
            <a:ext cx="864216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r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Verdana"/>
              </a:rPr>
              <a:t>delegação de competências do   CNRH para os CERH</a:t>
            </a: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 no que se refere às propostas encaminhadas a esses pelos comitês de bacia </a:t>
            </a:r>
            <a:r>
              <a:rPr b="0" lang="pt-B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 muito difícil no momento definir uma </a:t>
            </a:r>
            <a:r>
              <a:rPr b="1" lang="pt-BR" sz="2800" spc="-1" strike="noStrike">
                <a:solidFill>
                  <a:srgbClr val="000000"/>
                </a:solidFill>
                <a:latin typeface="Verdana"/>
              </a:rPr>
              <a:t>regra geral pelas particularidades de cada caso</a:t>
            </a: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, principalmente considerando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22240" indent="-285840" algn="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000000"/>
                </a:solidFill>
                <a:uFillTx/>
                <a:latin typeface="Verdana"/>
              </a:rPr>
              <a:t>o sistema hídrico</a:t>
            </a: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 (corpo hídrico que passa por um Estado e depois por outro ou corpo hídrico que faz fronteira entre os Estados envolvidos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22240" indent="-285840" algn="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o </a:t>
            </a:r>
            <a:r>
              <a:rPr b="0" lang="pt-BR" sz="2400" spc="-1" strike="noStrike" u="sng">
                <a:solidFill>
                  <a:srgbClr val="000000"/>
                </a:solidFill>
                <a:uFillTx/>
                <a:latin typeface="Verdana"/>
              </a:rPr>
              <a:t>estágio de implementação dos Sistema Estaduais</a:t>
            </a: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; 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22240" indent="-285840" algn="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0" lang="pt-BR" sz="2400" spc="-1" strike="noStrike" u="sng">
                <a:solidFill>
                  <a:srgbClr val="000000"/>
                </a:solidFill>
                <a:uFillTx/>
                <a:latin typeface="Verdana"/>
              </a:rPr>
              <a:t>previsão ou não destas competências nas respectivas legislações estaduais</a:t>
            </a: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4978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3333cc"/>
                </a:solidFill>
                <a:latin typeface="Verdana"/>
              </a:rPr>
              <a:t>4 - DESCRIÇÃO DOS TRABALHOS DO G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11280" y="1483920"/>
            <a:ext cx="77724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r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imes New Roman"/>
              </a:rPr>
              <a:t>2ª Reunião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 em 04/08/200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22240" indent="-28584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imes New Roman"/>
              </a:rPr>
              <a:t>Novos objetivos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 da resolução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230480" indent="-2286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000000"/>
                </a:solidFill>
                <a:uFillTx/>
                <a:latin typeface="Verdana"/>
              </a:rPr>
              <a:t>definir uma base territorial</a:t>
            </a: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 com as áreas de atuação de comitês de bacias de rios de domínio da Uni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30480" indent="-2286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estabelecer </a:t>
            </a:r>
            <a:r>
              <a:rPr b="0" lang="pt-BR" sz="2400" spc="-1" strike="noStrike" u="sng">
                <a:solidFill>
                  <a:srgbClr val="000000"/>
                </a:solidFill>
                <a:uFillTx/>
                <a:latin typeface="Verdana"/>
              </a:rPr>
              <a:t>condições para a criação de comitês de bacia, complementares</a:t>
            </a: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 à Resolução CNRH nº 5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30480" indent="-2286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definir </a:t>
            </a:r>
            <a:r>
              <a:rPr b="0" lang="pt-BR" sz="2400" spc="-1" strike="noStrike" u="sng">
                <a:solidFill>
                  <a:srgbClr val="000000"/>
                </a:solidFill>
                <a:uFillTx/>
                <a:latin typeface="Verdana"/>
              </a:rPr>
              <a:t>processo de acompanhamento do funcionamento dos comitês de bacia</a:t>
            </a: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 cuja criação foi aprovada pelo CNRH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4920" y="836640"/>
            <a:ext cx="828036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3333cc"/>
                </a:solidFill>
                <a:latin typeface="Verdana"/>
              </a:rPr>
              <a:t>4 - DESCRIÇÃO DOS TRABALHOS DO GT</a:t>
            </a: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94920" y="1267920"/>
            <a:ext cx="84978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r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3ª Reunião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em 03/03/200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2240" indent="-285840" algn="r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Revisão da proposta levando em conta as novas sugestões encaminhadas pela CRH/SP e A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2240" indent="-285840" algn="r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Discussão sobre o anexo da resolução, que apresenta o Mapa com as UGR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30480" indent="-228600" algn="r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Sugerido que a criação de UGRH na </a:t>
            </a:r>
            <a:r>
              <a:rPr b="1" lang="pt-BR" sz="1800" spc="-1" strike="noStrike" u="sng">
                <a:solidFill>
                  <a:srgbClr val="000000"/>
                </a:solidFill>
                <a:uFillTx/>
                <a:latin typeface="Verdana"/>
              </a:rPr>
              <a:t>Região Hidrográfica Amazônica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 seja remetida à revisão do Plano, em 201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30480" indent="-228600" algn="r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 delimitação da </a:t>
            </a:r>
            <a:r>
              <a:rPr b="1" lang="pt-BR" sz="1800" spc="-1" strike="noStrike" u="sng">
                <a:solidFill>
                  <a:srgbClr val="000000"/>
                </a:solidFill>
                <a:uFillTx/>
                <a:latin typeface="Verdana"/>
                <a:ea typeface="ＭＳ Ｐゴシック"/>
              </a:rPr>
              <a:t>Unidade do Tocantins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levou em conta o disposto na Resolução nº 101, que aprovou o Plano Estratégico do Tocantins-Araguaia e estabelece que devem ser </a:t>
            </a:r>
            <a:r>
              <a:rPr b="0" i="1" lang="pt-BR" sz="1800" spc="-1" strike="noStrike" u="sng">
                <a:solidFill>
                  <a:srgbClr val="000000"/>
                </a:solidFill>
                <a:uFillTx/>
                <a:latin typeface="Verdana"/>
                <a:ea typeface="ＭＳ Ｐゴシック"/>
              </a:rPr>
              <a:t>empreendidos esforços</a:t>
            </a:r>
            <a:r>
              <a:rPr b="0" i="1" lang="pt-BR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visando, </a:t>
            </a:r>
            <a:r>
              <a:rPr b="0" i="1" lang="pt-BR" sz="1800" spc="-1" strike="noStrike" u="sng">
                <a:solidFill>
                  <a:srgbClr val="000000"/>
                </a:solidFill>
                <a:uFillTx/>
                <a:latin typeface="Verdana"/>
                <a:ea typeface="ＭＳ Ｐゴシック"/>
              </a:rPr>
              <a:t>com brevidade possível</a:t>
            </a:r>
            <a:r>
              <a:rPr b="0" i="1" lang="pt-BR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, </a:t>
            </a:r>
            <a:r>
              <a:rPr b="0" i="1" lang="pt-BR" sz="1800" spc="-1" strike="noStrike" u="sng">
                <a:solidFill>
                  <a:srgbClr val="000000"/>
                </a:solidFill>
                <a:uFillTx/>
                <a:latin typeface="Verdana"/>
                <a:ea typeface="ＭＳ Ｐゴシック"/>
              </a:rPr>
              <a:t>promover as condições necessárias à criação e funcionamento do Comitê de Bacia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3333cc"/>
                </a:solidFill>
                <a:latin typeface="Verdana"/>
              </a:rPr>
              <a:t>5 - ENCAMINHAMENTOS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11280" y="980640"/>
            <a:ext cx="77724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O GT sugere o </a:t>
            </a:r>
            <a:r>
              <a:rPr b="1" lang="pt-BR" sz="2800" spc="-1" strike="noStrike" u="sng">
                <a:solidFill>
                  <a:srgbClr val="000000"/>
                </a:solidFill>
                <a:uFillTx/>
                <a:latin typeface="Times New Roman"/>
              </a:rPr>
              <a:t>encaminhamento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da </a:t>
            </a: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nova proposta de Resolução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sobre UGRH, conforme minuta apresentada no 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NEXO III, </a:t>
            </a:r>
            <a:r>
              <a:rPr b="1" lang="pt-BR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à CTPNR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de </a:t>
            </a:r>
            <a:r>
              <a:rPr b="1" lang="pt-BR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proposta de que o tema relativo à possibilidade de delegação de atribuições do CNRH aos CERH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, conforme previsto na proposta original da Resolução, </a:t>
            </a:r>
            <a:r>
              <a:rPr b="1" lang="pt-BR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eja apreciado pelas instâncias competentes do CNRH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visando avaliar sua pertinência,  adequação, temporalidade e, caso conveniente, os procedimentos legais para sua implementaç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3333cc"/>
                </a:solidFill>
                <a:latin typeface="Verdana"/>
              </a:rPr>
              <a:t>ANEXOS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9640" y="1530360"/>
            <a:ext cx="777240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r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imes New Roman"/>
              </a:rPr>
              <a:t>Anexo I - Lista de participantes de uma ou mais Reuniões do G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 algn="r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imes New Roman"/>
              </a:rPr>
              <a:t>Anexo II - Memórias das Reuniões do G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 algn="r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imes New Roman"/>
              </a:rPr>
              <a:t>Anexo III – Proposta de Resoluçã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23640" y="609480"/>
            <a:ext cx="81342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3333cc"/>
                </a:solidFill>
                <a:latin typeface="Verdana"/>
              </a:rPr>
              <a:t>Muito obrigada aos colegas do GT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9640" y="836640"/>
            <a:ext cx="77724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ANA: Mauri César B. Pereira (</a:t>
            </a:r>
            <a:r>
              <a:rPr b="0" lang="pt-BR" sz="1400" spc="-1" strike="noStrike" u="sng">
                <a:solidFill>
                  <a:srgbClr val="ccccff"/>
                </a:solidFill>
                <a:uFillTx/>
                <a:latin typeface="Times New Roman"/>
                <a:ea typeface="ＭＳ Ｐゴシック"/>
                <a:hlinkClick r:id="rId1"/>
              </a:rPr>
              <a:t>mauri.pereira@ana.gov.br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NA: Nelson Neto de Freitas (</a:t>
            </a:r>
            <a:r>
              <a:rPr b="0" lang="pt-BR" sz="1400" spc="-1" strike="noStrike" u="sng">
                <a:solidFill>
                  <a:srgbClr val="ccccff"/>
                </a:solidFill>
                <a:uFillTx/>
                <a:latin typeface="Times New Roman"/>
                <a:ea typeface="ＭＳ Ｐゴシック"/>
                <a:hlinkClick r:id="rId2"/>
              </a:rPr>
              <a:t>nelson.freitas@ana.gov.br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NA: Viviani Pineli Alves (</a:t>
            </a:r>
            <a:r>
              <a:rPr b="0" lang="pt-BR" sz="1400" spc="-1" strike="noStrike" u="sng">
                <a:solidFill>
                  <a:srgbClr val="ccccff"/>
                </a:solidFill>
                <a:uFillTx/>
                <a:latin typeface="Times New Roman"/>
                <a:ea typeface="ＭＳ Ｐゴシック"/>
                <a:hlinkClick r:id="rId3"/>
              </a:rPr>
              <a:t>viviani.alves@ana.gov.br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NA: Wilde Cardoso Gontijo Jr. 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(</a:t>
            </a:r>
            <a:r>
              <a:rPr b="0" lang="de-DE" sz="1400" spc="-1" strike="noStrike" u="sng">
                <a:solidFill>
                  <a:srgbClr val="ccccff"/>
                </a:solidFill>
                <a:uFillTx/>
                <a:latin typeface="Times New Roman"/>
                <a:ea typeface="ＭＳ Ｐゴシック"/>
                <a:hlinkClick r:id="rId4"/>
              </a:rPr>
              <a:t>wilde@ana.gov.br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ERH-PR: Martha R. Von Borstel Sugai (</a:t>
            </a:r>
            <a:r>
              <a:rPr b="0" lang="de-DE" sz="1400" spc="-1" strike="noStrike" u="sng">
                <a:solidFill>
                  <a:srgbClr val="ccccff"/>
                </a:solidFill>
                <a:uFillTx/>
                <a:latin typeface="Times New Roman"/>
                <a:ea typeface="ＭＳ Ｐゴシック"/>
                <a:hlinkClick r:id="rId5"/>
              </a:rPr>
              <a:t>martha.sugai@copel.com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ERH-SP: Rosa Mancini (</a:t>
            </a:r>
            <a:r>
              <a:rPr b="0" lang="pt-BR" sz="1400" spc="-1" strike="noStrike" u="sng">
                <a:solidFill>
                  <a:srgbClr val="ccccff"/>
                </a:solidFill>
                <a:uFillTx/>
                <a:latin typeface="Times New Roman"/>
                <a:ea typeface="ＭＳ Ｐゴシック"/>
                <a:hlinkClick r:id="rId6"/>
              </a:rPr>
              <a:t>rmancini@sp.gov.br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IEMA-ES: Robson Monteiro dos Santos (</a:t>
            </a:r>
            <a:r>
              <a:rPr b="0" lang="pt-BR" sz="1400" spc="-1" strike="noStrike" u="sng">
                <a:solidFill>
                  <a:srgbClr val="ccccff"/>
                </a:solidFill>
                <a:uFillTx/>
                <a:latin typeface="Times New Roman"/>
                <a:ea typeface="ＭＳ Ｐゴシック"/>
                <a:hlinkClick r:id="rId7"/>
              </a:rPr>
              <a:t>grh@iema.es.gov.br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IGAM: Breno Esteves Lasmar (</a:t>
            </a:r>
            <a:r>
              <a:rPr b="0" lang="pt-BR" sz="1400" spc="-1" strike="noStrike" u="sng">
                <a:solidFill>
                  <a:srgbClr val="ccccff"/>
                </a:solidFill>
                <a:uFillTx/>
                <a:latin typeface="Times New Roman"/>
                <a:ea typeface="ＭＳ Ｐゴシック"/>
                <a:hlinkClick r:id="rId8"/>
              </a:rPr>
              <a:t>breno.lasmar@meioambiente.mg.gov.br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IGAM: Marilia Carvalho de Melo (</a:t>
            </a:r>
            <a:r>
              <a:rPr b="0" lang="pt-BR" sz="1400" spc="-1" strike="noStrike" u="sng">
                <a:solidFill>
                  <a:srgbClr val="ccccff"/>
                </a:solidFill>
                <a:uFillTx/>
                <a:latin typeface="Times New Roman"/>
                <a:ea typeface="ＭＳ Ｐゴシック"/>
                <a:hlinkClick r:id="rId9"/>
              </a:rPr>
              <a:t>marilia.melo@meioambiente.mg.gov.br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INEA/RJ: Fatima Casarin (</a:t>
            </a:r>
            <a:r>
              <a:rPr b="0" lang="pt-BR" sz="1400" spc="-1" strike="noStrike" u="sng">
                <a:solidFill>
                  <a:srgbClr val="ccccff"/>
                </a:solidFill>
                <a:uFillTx/>
                <a:latin typeface="Times New Roman"/>
                <a:ea typeface="ＭＳ Ｐゴシック"/>
                <a:hlinkClick r:id="rId10"/>
              </a:rPr>
              <a:t>fatimacasarim@inea.rj.gov.br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INEA/RJ: Rosa Maria Formiga Johnsson (</a:t>
            </a:r>
            <a:r>
              <a:rPr b="0" lang="pt-BR" sz="1400" spc="-1" strike="noStrike" u="sng">
                <a:solidFill>
                  <a:srgbClr val="ccccff"/>
                </a:solidFill>
                <a:uFillTx/>
                <a:latin typeface="Times New Roman"/>
                <a:ea typeface="ＭＳ Ｐゴシック"/>
                <a:hlinkClick r:id="rId11"/>
              </a:rPr>
              <a:t>formiga.inea@gmail.com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INGA-BA: José George dos Santos Silva (</a:t>
            </a:r>
            <a:r>
              <a:rPr b="0" lang="pt-BR" sz="1400" spc="-1" strike="noStrike" u="sng">
                <a:solidFill>
                  <a:srgbClr val="ccccff"/>
                </a:solidFill>
                <a:uFillTx/>
                <a:latin typeface="Times New Roman"/>
                <a:ea typeface="ＭＳ Ｐゴシック"/>
                <a:hlinkClick r:id="rId12"/>
              </a:rPr>
              <a:t>george.silva@inga.ba.gov.br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Instituto de Proteção Ambiental do Amazonas: Maria do Carmo N. dos Santos (</a:t>
            </a:r>
            <a:r>
              <a:rPr b="0" lang="pt-BR" sz="1400" spc="-1" strike="noStrike" u="sng">
                <a:solidFill>
                  <a:srgbClr val="ccccff"/>
                </a:solidFill>
                <a:uFillTx/>
                <a:latin typeface="Times New Roman"/>
                <a:ea typeface="ＭＳ Ｐゴシック"/>
                <a:hlinkClick r:id="rId13"/>
              </a:rPr>
              <a:t>carmo_neves@uol.com.br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Ministério da Integração Nacional: Donivaldo Pedro Martins (</a:t>
            </a:r>
            <a:r>
              <a:rPr b="0" lang="pt-BR" sz="1400" spc="-1" strike="noStrike" u="sng">
                <a:solidFill>
                  <a:srgbClr val="ccccff"/>
                </a:solidFill>
                <a:uFillTx/>
                <a:latin typeface="Times New Roman"/>
                <a:ea typeface="ＭＳ Ｐゴシック"/>
                <a:hlinkClick r:id="rId14"/>
              </a:rPr>
              <a:t>donipm@ig.com.br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Ministério da Justiça: Carlos Hugo Suarez Sampaio (hugo.suarez@mj.gov.br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Ministério da Pesca – RJ: Neide Cléa de A. Ribeiro (nedecar@seap.gov.br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Ministério da Pesca: Marcelo Barbosa Sampaio (Marcelo@seap.gov.br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RQM: Wilson Filho (azefilho@hotmail.com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EMA-MT: Leonice de Souza Lotufo (leolotufo@sema.mt.gov.br, leonicemt@yahoo.com.br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RH – Pernambuco: Marisa S. L. Figueiroa (marisa.figueiroa@srh.pe.gov.br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RH/SEMARH-AL: José Roberto Valois Lobo (srh@semarh.al.gov.br, loboroberto@ig.com.br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RHU/MMA (consultor): Gilberto Valente Canali (gvcanali@uol.com.br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RHU/MMA: Marco Neves (marco.neves@mma.gov.br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RHU/MMA: Marley Caetano de Mendonça (maley.mendonça@mma.gov.br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RHU/MMA: Roberto Alves Monteiro (roberto.monteiro@mma.gov.br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684360" y="765000"/>
            <a:ext cx="7772400" cy="532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imes New Roman"/>
              </a:rPr>
              <a:t>Martha Regina von Borstel Sugai (coordenadora do GT, representando o Conselho de Recursos Hídricos do Estado do Paraná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imes New Roman"/>
              </a:rPr>
              <a:t>Marilia Carvalho de Mel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imes New Roman"/>
              </a:rPr>
              <a:t>(relatora, IGAM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609480"/>
            <a:ext cx="842472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3333cc"/>
                </a:solidFill>
                <a:latin typeface="Verdana"/>
              </a:rPr>
              <a:t>ESTRUTURA DO RELATÓRIO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77724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 algn="r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INTRODU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 algn="r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QUESTÕES ANALISADAS E SUAS RESPOSTAS SEGUNDO O G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 algn="r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BASE LEGAL RELEVANTE AO T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 algn="r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DESCRIÇAO DOS TRABALHOS PARA  ELABORAÇAO DA PROPOSTA DE RESOLUÇAO DO G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 algn="r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ENCAMINHAMEN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REFERÊNC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ANEX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3333cc"/>
                </a:solidFill>
                <a:latin typeface="Verdana"/>
              </a:rPr>
              <a:t>1 - INTRODUÇÃO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8000" y="981000"/>
            <a:ext cx="828036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r">
              <a:lnSpc>
                <a:spcPct val="110000"/>
              </a:lnSpc>
              <a:spcBef>
                <a:spcPts val="10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Verdana"/>
              </a:rPr>
              <a:t>Criação do GT “UGRH</a:t>
            </a: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”:</a:t>
            </a: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22240" indent="-285840" algn="r">
              <a:lnSpc>
                <a:spcPct val="110000"/>
              </a:lnSpc>
              <a:spcBef>
                <a:spcPts val="876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000000"/>
                </a:solidFill>
                <a:uFillTx/>
                <a:latin typeface="Verdana"/>
              </a:rPr>
              <a:t>XXI Reunião Ordinária do CNRH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realizada nos dias 25 e 26/05/2009, no âmbito da</a:t>
            </a: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t-BR" sz="2000" spc="-1" strike="noStrike" u="sng">
                <a:solidFill>
                  <a:srgbClr val="000000"/>
                </a:solidFill>
                <a:uFillTx/>
                <a:latin typeface="Verdana"/>
              </a:rPr>
              <a:t>CTPNRH</a:t>
            </a: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 algn="r">
              <a:lnSpc>
                <a:spcPct val="110000"/>
              </a:lnSpc>
              <a:spcBef>
                <a:spcPts val="10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Verdana"/>
              </a:rPr>
              <a:t>Prazo de conclusão dos seus trabalhos</a:t>
            </a: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22240" indent="-285840" algn="r">
              <a:lnSpc>
                <a:spcPct val="110000"/>
              </a:lnSpc>
              <a:spcBef>
                <a:spcPts val="876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0" lang="pt-BR" sz="2000" spc="-1" strike="noStrike" u="sng">
                <a:solidFill>
                  <a:srgbClr val="000000"/>
                </a:solidFill>
                <a:uFillTx/>
                <a:latin typeface="Verdana"/>
              </a:rPr>
              <a:t>1ª  reunião do CNRH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a ser realizada no </a:t>
            </a:r>
            <a:r>
              <a:rPr b="0" lang="pt-BR" sz="2000" spc="-1" strike="noStrike" u="sng">
                <a:solidFill>
                  <a:srgbClr val="000000"/>
                </a:solidFill>
                <a:uFillTx/>
                <a:latin typeface="Verdana"/>
              </a:rPr>
              <a:t>2º semestre de 2009</a:t>
            </a: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30480" indent="-228600" algn="r">
              <a:lnSpc>
                <a:spcPct val="110000"/>
              </a:lnSpc>
              <a:spcBef>
                <a:spcPts val="788"/>
              </a:spcBef>
              <a:buClr>
                <a:srgbClr val="3333cc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Verdana"/>
              </a:rPr>
              <a:t>que será no dia 28/10: novo prazo: até o final do ano (Ofício 01/2009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 algn="r">
              <a:lnSpc>
                <a:spcPct val="110000"/>
              </a:lnSpc>
              <a:spcBef>
                <a:spcPts val="10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Verdana"/>
              </a:rPr>
              <a:t>Objetivo</a:t>
            </a: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22240" indent="-285840" algn="r">
              <a:lnSpc>
                <a:spcPct val="110000"/>
              </a:lnSpc>
              <a:spcBef>
                <a:spcPts val="876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analisar e apresentar uma nova proposta de resolução que “</a:t>
            </a:r>
            <a:r>
              <a:rPr b="0" lang="pt-BR" sz="2000" spc="-1" strike="noStrike" u="sng">
                <a:solidFill>
                  <a:srgbClr val="000000"/>
                </a:solidFill>
                <a:uFillTx/>
                <a:latin typeface="Verdana"/>
              </a:rPr>
              <a:t>Cria Unidades de Gestão de Recursos Hídricos de Rios de Domínio da União - UGRH e estabelece diretrizes e procedimentos complementares para a criação de comitês de bacia hidrográfica</a:t>
            </a: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”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3333cc"/>
                </a:solidFill>
                <a:latin typeface="Verdana"/>
              </a:rPr>
              <a:t>1 - INTRODUÇÃO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94920" y="981000"/>
            <a:ext cx="828036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 u="sng">
                <a:solidFill>
                  <a:srgbClr val="000000"/>
                </a:solidFill>
                <a:uFillTx/>
                <a:latin typeface="Verdana"/>
              </a:rPr>
              <a:t>Tramitação no CNRH até a criação do GT (</a:t>
            </a:r>
            <a:r>
              <a:rPr b="0" lang="pt-BR" sz="2800" spc="-1" strike="noStrike" u="sng">
                <a:solidFill>
                  <a:srgbClr val="3333cc"/>
                </a:solidFill>
                <a:uFillTx/>
                <a:latin typeface="Verdana"/>
              </a:rPr>
              <a:t>ver Relatório de apoio aos trabalhos do GT</a:t>
            </a:r>
            <a:r>
              <a:rPr b="1" lang="pt-BR" sz="2800" spc="-1" strike="noStrike" u="sng">
                <a:solidFill>
                  <a:srgbClr val="000000"/>
                </a:solidFill>
                <a:uFillTx/>
                <a:latin typeface="Verdana"/>
              </a:rPr>
              <a:t>):</a:t>
            </a: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22240" indent="-285840" algn="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55ª reunião CTPNRH</a:t>
            </a: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, 16 e 17/02/2009, a proposta foi analisada e aprovada, conforme Nota Técnica 01/2009 da CTPNR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22240" indent="-285840" algn="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107ª reunião da CTIL</a:t>
            </a: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, 02 e 03/03/2009, a proposta foi analisada e aprovado o encaminhamento ao Plená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22240" indent="-285840" algn="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24ª Reunião Extraordinária do CNRH</a:t>
            </a: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, 26/03/2009, decidiu-se pela ampliação do debate antes da delibera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22240" indent="-285840" algn="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Oficina</a:t>
            </a: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 referente à proposta de resolução que “</a:t>
            </a:r>
            <a:r>
              <a:rPr b="0" lang="pt-BR" sz="2400" spc="-1" strike="noStrike" u="sng">
                <a:solidFill>
                  <a:srgbClr val="000000"/>
                </a:solidFill>
                <a:uFillTx/>
                <a:latin typeface="Verdana"/>
              </a:rPr>
              <a:t>Cria  UGRHs e estabelece diretrizes e procedimentos complementares para a criação de comitês de bacia hidrográfica</a:t>
            </a: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”, 14/05/2009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3333cc"/>
                </a:solidFill>
                <a:latin typeface="Verdana"/>
              </a:rPr>
              <a:t>1 - INTRODUÇÃO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50560" y="1197000"/>
            <a:ext cx="8497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r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 u="sng">
                <a:solidFill>
                  <a:srgbClr val="000000"/>
                </a:solidFill>
                <a:uFillTx/>
                <a:latin typeface="Verdana"/>
              </a:rPr>
              <a:t>Reuniões do GT:</a:t>
            </a: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22240" indent="-285840" algn="r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a 1ª reunião em </a:t>
            </a:r>
            <a:r>
              <a:rPr b="0" lang="pt-BR" sz="2400" spc="-1" strike="noStrike" u="sng">
                <a:solidFill>
                  <a:srgbClr val="000000"/>
                </a:solidFill>
                <a:uFillTx/>
                <a:latin typeface="Verdana"/>
              </a:rPr>
              <a:t>16/06/2009</a:t>
            </a: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, em Brasíl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30480" indent="-228600" algn="r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3333cc"/>
                </a:solidFill>
                <a:latin typeface="Verdana"/>
              </a:rPr>
              <a:t>foram debatidas as questões levantadas durante a tramitação que antecedeu a criação do GT</a:t>
            </a:r>
            <a:r>
              <a:rPr b="0" i="1" lang="pt-BR" sz="2000" spc="-1" strike="noStrike">
                <a:solidFill>
                  <a:srgbClr val="000000"/>
                </a:solidFill>
                <a:latin typeface="Verdana"/>
              </a:rPr>
              <a:t>, concluindo-se que havia a </a:t>
            </a:r>
            <a:r>
              <a:rPr b="1" i="1" lang="pt-BR" sz="2000" spc="-1" strike="noStrike">
                <a:solidFill>
                  <a:srgbClr val="3333cc"/>
                </a:solidFill>
                <a:latin typeface="Verdana"/>
              </a:rPr>
              <a:t>necessidade de uma revisão porque a mesma não estava atendendo os objetivos</a:t>
            </a:r>
            <a:r>
              <a:rPr b="0" i="1" lang="pt-BR" sz="2000" spc="-1" strike="noStrike">
                <a:solidFill>
                  <a:srgbClr val="000000"/>
                </a:solidFill>
                <a:latin typeface="Verdana"/>
              </a:rPr>
              <a:t> a que se propunha, em particular no que se referia a comitê de bacia e não de ri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2240" indent="-2858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a 2ª reunião em </a:t>
            </a:r>
            <a:r>
              <a:rPr b="0" lang="pt-BR" sz="2400" spc="-1" strike="noStrike" u="sng">
                <a:solidFill>
                  <a:srgbClr val="000000"/>
                </a:solidFill>
                <a:uFillTx/>
                <a:latin typeface="Verdana"/>
              </a:rPr>
              <a:t>04/08/2009</a:t>
            </a: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, no Rio de Janei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30480" indent="-228600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Verdana"/>
                <a:ea typeface="ＭＳ Ｐゴシック"/>
              </a:rPr>
              <a:t>Marilia Carvalho de Melo (IGAM) – relatora do GT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2240" indent="-2858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 3ª reunião em </a:t>
            </a:r>
            <a:r>
              <a:rPr b="0" lang="pt-BR" sz="2400" spc="-1" strike="noStrike" u="sng">
                <a:solidFill>
                  <a:srgbClr val="000000"/>
                </a:solidFill>
                <a:uFillTx/>
                <a:latin typeface="Verdana"/>
                <a:ea typeface="ＭＳ Ｐゴシック"/>
              </a:rPr>
              <a:t>03/09/2009</a:t>
            </a:r>
            <a:r>
              <a:rPr b="0" lang="pt-BR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, em Brasíli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3333cc"/>
                </a:solidFill>
                <a:latin typeface="Verdana"/>
              </a:rPr>
              <a:t>2 - QUESTÕES ANALISADAS E RESPOSTAS</a:t>
            </a:r>
            <a:r>
              <a:rPr b="1" lang="pt-BR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11280" y="1196640"/>
            <a:ext cx="77724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r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Verdana"/>
              </a:rPr>
              <a:t>Objetivos da Resolução</a:t>
            </a: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 algn="r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Verdana"/>
              </a:rPr>
              <a:t>Unidades de Gerenciament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 algn="r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Verdana"/>
              </a:rPr>
              <a:t>Classificação das Unidades de Gerenciament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 algn="r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Verdana"/>
              </a:rPr>
              <a:t>Comitê de integraç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 algn="r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Verdana"/>
              </a:rPr>
              <a:t>Pac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 algn="r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Verdana"/>
              </a:rPr>
              <a:t>Acompanham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404640"/>
            <a:ext cx="878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3333cc"/>
                </a:solidFill>
                <a:latin typeface="Verdana"/>
              </a:rPr>
              <a:t>3 - BASE LEGAL RELEVANTE AO T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50560" y="1196640"/>
            <a:ext cx="84978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r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Lei nº 9.433 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de 08/01/199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22240" indent="-285840" algn="r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000000"/>
                </a:solidFill>
                <a:latin typeface="Verdana"/>
              </a:rPr>
              <a:t>a bacia hidrográfica é a unidade territorial </a:t>
            </a: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(art. 1</a:t>
            </a:r>
            <a:r>
              <a:rPr b="0" lang="pt-BR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°, 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2240" indent="-285840" algn="r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000000"/>
                </a:solidFill>
                <a:latin typeface="Verdana"/>
              </a:rPr>
              <a:t>área de atuação dos comitês </a:t>
            </a: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(art. 37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2240" indent="-285840" algn="r">
              <a:lnSpc>
                <a:spcPct val="100000"/>
              </a:lnSpc>
              <a:spcBef>
                <a:spcPts val="400"/>
              </a:spcBef>
              <a:buClr>
                <a:srgbClr val="3333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 u="sng">
                <a:solidFill>
                  <a:srgbClr val="3333cc"/>
                </a:solidFill>
                <a:uFillTx/>
                <a:latin typeface="Verdana"/>
              </a:rPr>
              <a:t>União articular-se com os Estados tendo em vista o gerenciamento dos recursos hídricos de interesse comum </a:t>
            </a:r>
            <a:r>
              <a:rPr b="0" lang="pt-BR" sz="1600" spc="-1" strike="noStrike" u="sng">
                <a:solidFill>
                  <a:srgbClr val="3333cc"/>
                </a:solidFill>
                <a:uFillTx/>
                <a:latin typeface="Verdana"/>
              </a:rPr>
              <a:t>(art. 4</a:t>
            </a:r>
            <a:r>
              <a:rPr b="0" lang="pt-BR" sz="1600" spc="-1" strike="noStrike" u="sng">
                <a:solidFill>
                  <a:srgbClr val="3333cc"/>
                </a:solidFill>
                <a:uFillTx/>
                <a:latin typeface="Verdana"/>
                <a:ea typeface="Times New Roman"/>
              </a:rPr>
              <a:t>°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 algn="r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Art. 5º </a:t>
            </a: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Resolução nº 5 do CNRH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, de 10/04/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22240" indent="-285840" algn="r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i="1" lang="pt-BR" sz="1600" spc="-1" strike="noStrike">
                <a:solidFill>
                  <a:srgbClr val="000000"/>
                </a:solidFill>
                <a:latin typeface="Verdana"/>
              </a:rPr>
              <a:t>a área de atuação de cada Comitê será estabelecida no decreto de sua instituição, com base no disposto na Lei nº 9.433, de 1997, nesta Resolução e na </a:t>
            </a:r>
            <a:r>
              <a:rPr b="1" i="1" lang="pt-BR" sz="1600" spc="-1" strike="noStrike" u="sng">
                <a:solidFill>
                  <a:srgbClr val="000000"/>
                </a:solidFill>
                <a:uFillTx/>
                <a:latin typeface="Verdana"/>
              </a:rPr>
              <a:t>Divisão Hidrográfica Nacional</a:t>
            </a:r>
            <a:r>
              <a:rPr b="0" i="1" lang="pt-BR" sz="1600" spc="-1" strike="noStrike">
                <a:solidFill>
                  <a:srgbClr val="000000"/>
                </a:solidFill>
                <a:latin typeface="Verdana"/>
              </a:rPr>
              <a:t>, a ser incluída no Plano Nacional de Recursos hídricos, onde deve constar a caracterização das bacias hidrográficas brasileiras, seus níveis e vinculações</a:t>
            </a: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”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 algn="r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Divisão Hidrográfica Nacional: </a:t>
            </a: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Resolução CNRH nº 32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 de 15/10/200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 algn="r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ubprograma </a:t>
            </a:r>
            <a:r>
              <a:rPr b="1" lang="pt-BR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“</a:t>
            </a:r>
            <a:r>
              <a:rPr b="1" i="1" lang="pt-BR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I.4 Estudos para a Definição de Unidades Territoriais para a Instalação de Modelos Institucionais e Respectivos Instrumentos de Gestão de Recursos Hídricos</a:t>
            </a:r>
            <a:r>
              <a:rPr b="1" lang="pt-BR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” 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do PNR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820728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3333cc"/>
                </a:solidFill>
                <a:latin typeface="Verdana"/>
              </a:rPr>
              <a:t>Subprograma I.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24000" y="1125360"/>
            <a:ext cx="842472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objetivo geral “</a:t>
            </a:r>
            <a:r>
              <a:rPr b="1" lang="pt-BR" sz="2400" spc="-1" strike="noStrike" u="sng">
                <a:solidFill>
                  <a:srgbClr val="3333cc"/>
                </a:solidFill>
                <a:uFillTx/>
                <a:latin typeface="Verdana"/>
              </a:rPr>
              <a:t>definir e caracterizar unidades territoriais de planejamento e gestão de recursos hídricos</a:t>
            </a: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 para orientar a implantação do SINGREH e a implementação dos instrumentos da Política Nacional de Recursos Hídricos”</a:t>
            </a: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Verdana"/>
              </a:rPr>
              <a:t>objetivos específicos</a:t>
            </a: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22240" indent="-285840" algn="just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3333cc"/>
                </a:solidFill>
                <a:latin typeface="Verdana"/>
              </a:rPr>
              <a:t>“</a:t>
            </a:r>
            <a:r>
              <a:rPr b="1" i="1" lang="pt-BR" sz="2000" spc="-1" strike="noStrike">
                <a:solidFill>
                  <a:srgbClr val="3333cc"/>
                </a:solidFill>
                <a:latin typeface="Verdana"/>
              </a:rPr>
              <a:t>selecionar as principais variáveis e aspectos – hidrológicos, ambientais, socioeconômicos e político-institucionais – a serem considerados nos recortes que definem as unidades de planejamento, de gestão e de intervenção em recursos hídrico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2240" indent="-285840" algn="just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3333cc"/>
                </a:solidFill>
                <a:latin typeface="Verdana"/>
              </a:rPr>
              <a:t>elaborar proposta metodológica para definição de mapa estratégico para a implantação do SINGREH e dos instrumentos de gestão de recursos hídrico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2240" indent="-28584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elaborar estudos sobre modelos institucionais de gerenciamento, para dar suporte à implementação de instrumentos de gestão, segundo disposto no Programa III, em especial para atendimento de demandas específicas do SINGREH”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820728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cc"/>
                </a:solidFill>
                <a:latin typeface="Verdana"/>
              </a:rPr>
              <a:t>AÇÕES PARA A DEFINIÇAO E CARACTERIZAÇAO DAS UNI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24000" y="1483920"/>
            <a:ext cx="842472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00"/>
                </a:solidFill>
                <a:latin typeface="Times New Roman"/>
              </a:rPr>
              <a:t>definir premissas e conceito de unidades territoriais de planejamento e gestão de recursos hídricos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00"/>
                </a:solidFill>
                <a:latin typeface="Times New Roman"/>
              </a:rPr>
              <a:t>selecionar critérios hidrológicos, ambientais, socioeconômicos, políticos e institucionais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00"/>
                </a:solidFill>
                <a:latin typeface="Times New Roman"/>
              </a:rPr>
              <a:t>avaliar a aplicabilidade de outras categorias de critérios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00"/>
                </a:solidFill>
                <a:latin typeface="Times New Roman"/>
              </a:rPr>
              <a:t>montar base de dados com informações sobre os critérios adotad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Sugai</cp:lastModifiedBy>
  <dcterms:modified xsi:type="dcterms:W3CDTF">2009-10-14T11:31:22Z</dcterms:modified>
  <cp:revision>42</cp:revision>
  <dc:subject/>
  <dc:title>PowerPoint Presentation</dc:title>
</cp:coreProperties>
</file>