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0" y="72936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3240" y="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43240" y="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43240" y="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43240" y="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43240" y="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43240" y="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43240" y="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43240" y="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3240" y="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43240" y="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43240" y="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43240" y="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43240" y="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43240" y="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43240" y="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4143240" y="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98800" cy="35989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3240" y="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43240" y="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43240" y="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19320" y="720720"/>
            <a:ext cx="4876560" cy="360036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0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43240" y="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1040" y="4156920"/>
            <a:ext cx="77979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1040" y="415692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415692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064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64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4320" y="1906560"/>
            <a:ext cx="251064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1040" y="4156920"/>
            <a:ext cx="251064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64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4320" y="4156920"/>
            <a:ext cx="251064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7979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71040" y="490320"/>
            <a:ext cx="7797960" cy="59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71040" y="415692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7979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7040" y="415692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71040" y="4156920"/>
            <a:ext cx="77979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71040" y="4156920"/>
            <a:ext cx="77979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1040" y="415692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7040" y="415692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064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64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4320" y="1906560"/>
            <a:ext cx="251064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71040" y="4156920"/>
            <a:ext cx="251064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64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4320" y="4156920"/>
            <a:ext cx="251064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7979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71040" y="490320"/>
            <a:ext cx="7797960" cy="59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1040" y="415692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7040" y="415692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1040" y="4156920"/>
            <a:ext cx="77979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79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71040" y="4156920"/>
            <a:ext cx="77979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71040" y="415692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7040" y="415692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064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07680" y="1906560"/>
            <a:ext cx="251064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4320" y="1906560"/>
            <a:ext cx="251064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71040" y="4156920"/>
            <a:ext cx="251064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07680" y="4156920"/>
            <a:ext cx="251064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4320" y="4156920"/>
            <a:ext cx="251064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1040" y="490320"/>
            <a:ext cx="7797960" cy="59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1040" y="415692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415692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906560"/>
            <a:ext cx="380520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1040" y="4156920"/>
            <a:ext cx="7797960" cy="20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1549440" y="0"/>
            <a:ext cx="2878200" cy="6253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324000" y="6647040"/>
            <a:ext cx="2841480" cy="23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79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79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549440" y="0"/>
            <a:ext cx="2878200" cy="625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24000" y="6647040"/>
            <a:ext cx="2841480" cy="239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224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7200" y="3429000"/>
            <a:ext cx="3886200" cy="3356280"/>
            <a:chOff x="457200" y="3429000"/>
            <a:chExt cx="3886200" cy="3356280"/>
          </a:xfrm>
        </p:grpSpPr>
        <p:sp>
          <p:nvSpPr>
            <p:cNvPr id="87" name=""/>
            <p:cNvSpPr/>
            <p:nvPr/>
          </p:nvSpPr>
          <p:spPr>
            <a:xfrm>
              <a:off x="457200" y="3429000"/>
              <a:ext cx="3886200" cy="2666880"/>
            </a:xfrm>
            <a:prstGeom prst="roundRect">
              <a:avLst>
                <a:gd name="adj" fmla="val 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3429000"/>
              <a:ext cx="3886200" cy="33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9840" indent="-339840">
                <a:lnSpc>
                  <a:spcPct val="93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Click to edit Master text sty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Second lev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Third lev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Fourth lev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Fifth lev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724280" y="3429000"/>
            <a:ext cx="3886200" cy="3356280"/>
            <a:chOff x="4724280" y="3429000"/>
            <a:chExt cx="3886200" cy="3356280"/>
          </a:xfrm>
        </p:grpSpPr>
        <p:sp>
          <p:nvSpPr>
            <p:cNvPr id="90" name=""/>
            <p:cNvSpPr/>
            <p:nvPr/>
          </p:nvSpPr>
          <p:spPr>
            <a:xfrm>
              <a:off x="4724280" y="3429000"/>
              <a:ext cx="3886200" cy="2666880"/>
            </a:xfrm>
            <a:prstGeom prst="roundRect">
              <a:avLst>
                <a:gd name="adj" fmla="val 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24280" y="3429000"/>
              <a:ext cx="3886200" cy="33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39840" indent="-339840">
                <a:lnSpc>
                  <a:spcPct val="93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Click to edit Master text sty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Second lev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Third lev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Fourth lev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840" indent="-33984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Fifth lev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73160"/>
            <a:ext cx="822636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777240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88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64760"/>
                <a:tab algn="l" pos="9914040"/>
                <a:tab algn="l" pos="10363320"/>
                <a:tab algn="l" pos="10812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Águas para o futuro: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rês Cenários para 2020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ntificação dos cenários de recursos hídricos 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lhando os cenár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99ff"/>
                </a:solidFill>
                <a:latin typeface="Arial Black"/>
              </a:rPr>
              <a:t>Resumo: cenários de área irrigada 2020</a:t>
            </a:r>
            <a:endParaRPr b="0" lang="en-US" sz="28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ande a moderado incremento da área irrigada, dependendo do cenári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rodução agrícola aumentará mais do que a área, devido ao melhor manejo e ao uso de técnicas de irrigação que promovem a conservação de á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to ocorrerá especialmente no Cenário 1 e nas bacias onde os instrumentos de gestão acham-se melhor implementados e operacionaliz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88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64760"/>
                <a:tab algn="l" pos="9914040"/>
                <a:tab algn="l" pos="10363320"/>
                <a:tab algn="l" pos="10812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alanço Hídrico Expedito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93048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ff"/>
                </a:solidFill>
                <a:latin typeface="Arial Black"/>
              </a:rPr>
              <a:t>Metodologia</a:t>
            </a: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862160" y="1906560"/>
            <a:ext cx="382428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606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os consuntivos consider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rrig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bastecimento doméstico (urbano e rur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bastecimento industri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cuá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760" y="1906200"/>
            <a:ext cx="3824280" cy="42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lizado nas 56 unidades hidrográficas em que foi dividido o país para fins específicos deste balanço hídri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umulação, de montante para jusante, da vazão média e das demandas consuntiv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otadas taxas de consumo de água para cada 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274320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ff"/>
                </a:solidFill>
                <a:latin typeface="Arial Black"/>
              </a:rPr>
              <a:t>Cenário 1</a:t>
            </a: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056120" y="27000"/>
            <a:ext cx="4836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400" y="274320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ff"/>
                </a:solidFill>
                <a:latin typeface="Arial Black"/>
              </a:rPr>
              <a:t>Cenário 2</a:t>
            </a: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056120" y="0"/>
            <a:ext cx="4836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400" y="274320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ff"/>
                </a:solidFill>
                <a:latin typeface="Arial Black"/>
              </a:rPr>
              <a:t>Cenário 3</a:t>
            </a: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048200" y="0"/>
            <a:ext cx="4836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88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64760"/>
                <a:tab algn="l" pos="9914040"/>
                <a:tab algn="l" pos="10363320"/>
                <a:tab algn="l" pos="10812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ração de Energia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93048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400" y="795240"/>
            <a:ext cx="780120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 Black"/>
              </a:rPr>
              <a:t>Prospecção do incremento da geração de energia</a:t>
            </a:r>
            <a:endParaRPr b="0" lang="en-US" sz="2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ências principa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ência Nacional de Águas. Caderno de Recursos Hídricos, Volume 8, Aproveitamento do Potencial Hidráulico para geração de Energia Elétrica. 200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presa de Pesquisa Energética. Estudo de premissas básicas para as projeções do mercado de energia elétrica. Relatório Final. Rio de Janeiro, 2005. Obtido em </a:t>
            </a:r>
            <a:r>
              <a:rPr b="0" lang="en-GB" sz="2000" spc="-1" strike="noStrike" u="sng">
                <a:solidFill>
                  <a:srgbClr val="3333cc"/>
                </a:solidFill>
                <a:uFillTx/>
                <a:latin typeface="Arial"/>
              </a:rPr>
              <a:t>http://www.epe.gov.b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m Dezembro de 200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/UNESCO. Plano Nacional de Recursos Hídricos – Estudo de Cenários para o PNRH 2020. Avaliação dos Cenários Prováveis (Versão Preliminar).  Relatório de consultoria para a UNESCO e ANA, em 3 de Dezembro de 200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ff"/>
                </a:solidFill>
                <a:latin typeface="Arial Black"/>
              </a:rPr>
              <a:t>Modelagem</a:t>
            </a: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2428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ção entre os aumentos de consumo de energia elétrica e os aumentos do PIB  (elasticidade-renda do consumo de energia elétrica)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ε = 4,8689*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Y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0,879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960" y="1906200"/>
            <a:ext cx="382428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ção entre as elasticidade-renda do consumo de energia elétrica e o temp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ε = - 0,7476*Ln(t)+3,4724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80" y="234360"/>
            <a:ext cx="1124640" cy="264240"/>
          </a:xfrm>
          <a:prstGeom prst="roundRect">
            <a:avLst>
              <a:gd name="adj" fmla="val 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ff"/>
                </a:solidFill>
                <a:latin typeface="Arial Black"/>
              </a:rPr>
              <a:t>Outras premissas</a:t>
            </a: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606600">
              <a:lnSpc>
                <a:spcPct val="93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oque” de hidrelétricas informadas pelo setor: concedidas, a serem licitadas, estratégicas, em cada região hidrográfic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stema totalmente interligad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ndo estoque for insuficiente, busca de outras alternativas de ger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ff"/>
                </a:solidFill>
                <a:latin typeface="Arial Black"/>
              </a:rPr>
              <a:t>Prospecções:</a:t>
            </a: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2428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ágio de implementação dos instrumentos de gestão de recursos hídr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n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quadramen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torg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branç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ensação a municíp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stema de Inform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7960" y="1906200"/>
            <a:ext cx="382428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remento nos principais usos setoriais de águ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rrig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veg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532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luição de esgotos, domésticos e industri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99ff"/>
                </a:solidFill>
                <a:latin typeface="Arial Black"/>
              </a:rPr>
              <a:t>Resumo: cenários de geração de energia em 2020</a:t>
            </a:r>
            <a:endParaRPr b="0" lang="en-US" sz="32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1040" y="1860480"/>
            <a:ext cx="80154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atriz de energia elétrica deverá ser substancialmente alterada, com ênfase em outras fo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ausa será o esgotamento do potencial  hidroelétrico no país, em ger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 aos problemas ambientais para implantar hidrelétricas nas Regiões Amazônica e do Tocantins-Araguaia, aonde ainda existirá potencial não explora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cessidade de articulação da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áre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 Recursos Hídricos e de Meio Ambiente com o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tor Elétric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visando o melhor encaminhamento dos conflitos decorrentes das pressões de desenvolvimento e de proteção ambiental, em especial nas Regiões Amazônica e do Tocantins-Aragua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88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64760"/>
                <a:tab algn="l" pos="9914040"/>
                <a:tab algn="l" pos="10363320"/>
                <a:tab algn="l" pos="10812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vegação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93048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1400" y="609120"/>
            <a:ext cx="78012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ff"/>
                </a:solidFill>
                <a:latin typeface="Arial Black"/>
              </a:rPr>
              <a:t>Prospecção do incremento da extensão das hidrovias</a:t>
            </a: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33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erênc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A. A navegação interior e sua sua interface com o setor de recursos hídricos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tencial navegável ainda não utiliza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nâmica econômica reg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 Black"/>
              </a:rPr>
              <a:t>Resumo: cenários de hidrovias em 2020</a:t>
            </a:r>
            <a:endParaRPr b="0" lang="en-US" sz="2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1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93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aumento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m comprimen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das hidrovias será pequeno, pois os trechos navegáveis dos rios são usados atualmente em menos da meta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rá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tensificaçã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a utilização das hidrovias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rga transportad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, em especial nas regiões hidrográficas com maior dinâmica econômica, em especial decorrente d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gricultura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cluindo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rrigad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cessidade de articulação entre a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a de Recursos Hídric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 o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tores de Energia e Navegaçã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de forma a evitar conflitos e potencializar cooperação em projetos de multi-uso das águ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88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64760"/>
                <a:tab algn="l" pos="9914040"/>
                <a:tab algn="l" pos="10363320"/>
                <a:tab algn="l" pos="10812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luição de esgotos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93048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ff"/>
                </a:solidFill>
                <a:latin typeface="Arial Black"/>
              </a:rPr>
              <a:t>Referência:</a:t>
            </a: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stério das Cidades. Dimensionamento das necessidades de investimentos para a universalização dos serviços de abastecimento de água e de coleta e tratamento de esgotos sanitários no Brasil. Programa de Modernização do Setor de Saneamento – PMSS II. Brasília, Maio de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99ff"/>
                </a:solidFill>
                <a:latin typeface="Arial Black"/>
              </a:rPr>
              <a:t>Investimentos em esgotamento sanitário até 2020 para universalização</a:t>
            </a:r>
            <a:endParaRPr b="0" lang="en-US" sz="28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1200" cy="31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25080" indent="-325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ande demanda de investimentos o que dificulta o atingimento desta meta em bacias que não tenham os instrumentos de gestão devidamente implementados e operativ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080" indent="-325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anda de programas similares ao PRODES (Programa de Despoluição de Bacias Hidrográficas) sustentados pela cobrança pelo uso de ág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 Black"/>
              </a:rPr>
              <a:t>Resumo: cenários de diluição de esgotos em 2020</a:t>
            </a:r>
            <a:endParaRPr b="0" lang="en-US" sz="20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5337000"/>
            <a:ext cx="82296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lhorias relativamente maiores nas regiões hidrográficas que apresentam maiores impactos na qualidade de água, devido às atividades econômicas e densidade popul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12596760" cy="23097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79280" y="4057560"/>
            <a:ext cx="13393800" cy="11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e o melhor cenário se realize!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387440"/>
            <a:ext cx="8001000" cy="19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88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64760"/>
                <a:tab algn="l" pos="9914040"/>
                <a:tab algn="l" pos="10363320"/>
                <a:tab algn="l" pos="10812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stágio de implementação dos instrumentos de gestão de recursos hídricos</a:t>
            </a:r>
            <a:endParaRPr b="0" lang="en-US" sz="3200" spc="-1" strike="noStrike">
              <a:solidFill>
                <a:srgbClr val="0099ff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52480" y="4138560"/>
            <a:ext cx="10796760" cy="1119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rot="16200000">
            <a:off x="297000" y="5037120"/>
            <a:ext cx="228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ven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52480" y="5181480"/>
            <a:ext cx="10796760" cy="14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3320" y="566640"/>
            <a:ext cx="780120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99ff"/>
                </a:solidFill>
                <a:latin typeface="Arial Black"/>
              </a:rPr>
              <a:t>Prospecção da implementação dos instrumentos de gestão</a:t>
            </a:r>
            <a:endParaRPr b="0" lang="en-US" sz="1800" spc="-1" strike="noStrike">
              <a:solidFill>
                <a:srgbClr val="0099ff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10796400" cy="1976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219320" y="4805280"/>
            <a:ext cx="10796400" cy="1976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33520" y="1676520"/>
            <a:ext cx="761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9320" y="3505320"/>
            <a:ext cx="461880" cy="731160"/>
          </a:xfrm>
          <a:custGeom>
            <a:avLst/>
            <a:gdLst>
              <a:gd name="textAreaLeft" fmla="*/ 360 w 461880"/>
              <a:gd name="textAreaRight" fmla="*/ 461520 w 461880"/>
              <a:gd name="textAreaTop" fmla="*/ 360 h 731160"/>
              <a:gd name="textAreaBottom" fmla="*/ 730800 h 731160"/>
            </a:gdLst>
            <a:ahLst/>
            <a:rect l="textAreaLeft" t="textAreaTop" r="textAreaRight" b="textAreaBottom"/>
            <a:pathLst>
              <a:path w="21600" h="34183">
                <a:moveTo>
                  <a:pt x="74" y="0"/>
                </a:moveTo>
                <a:arcTo wR="74" hR="74" stAng="16200000" swAng="-5400000"/>
                <a:lnTo>
                  <a:pt x="0" y="34109"/>
                </a:lnTo>
                <a:arcTo wR="74" hR="74" stAng="10800000" swAng="-5400000"/>
                <a:lnTo>
                  <a:pt x="21526" y="34183"/>
                </a:lnTo>
                <a:arcTo wR="74" hR="74" stAng="5400000" swAng="-5400000"/>
                <a:lnTo>
                  <a:pt x="21600" y="74"/>
                </a:lnTo>
                <a:arcTo wR="74" hR="7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9320" y="5334120"/>
            <a:ext cx="461880" cy="731160"/>
          </a:xfrm>
          <a:custGeom>
            <a:avLst/>
            <a:gdLst>
              <a:gd name="textAreaLeft" fmla="*/ 360 w 461880"/>
              <a:gd name="textAreaRight" fmla="*/ 461520 w 461880"/>
              <a:gd name="textAreaTop" fmla="*/ 360 h 731160"/>
              <a:gd name="textAreaBottom" fmla="*/ 730800 h 731160"/>
            </a:gdLst>
            <a:ahLst/>
            <a:rect l="textAreaLeft" t="textAreaTop" r="textAreaRight" b="textAreaBottom"/>
            <a:pathLst>
              <a:path w="21600" h="34183">
                <a:moveTo>
                  <a:pt x="74" y="0"/>
                </a:moveTo>
                <a:arcTo wR="74" hR="74" stAng="16200000" swAng="-5400000"/>
                <a:lnTo>
                  <a:pt x="0" y="34109"/>
                </a:lnTo>
                <a:arcTo wR="74" hR="74" stAng="10800000" swAng="-5400000"/>
                <a:lnTo>
                  <a:pt x="21526" y="34183"/>
                </a:lnTo>
                <a:arcTo wR="74" hR="74" stAng="5400000" swAng="-5400000"/>
                <a:lnTo>
                  <a:pt x="21600" y="74"/>
                </a:lnTo>
                <a:arcTo wR="74" hR="74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219320" y="3027240"/>
            <a:ext cx="10796400" cy="19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041200"/>
            <a:ext cx="777240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88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64760"/>
                <a:tab algn="l" pos="9914040"/>
                <a:tab algn="l" pos="10363320"/>
                <a:tab algn="l" pos="10812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cremento nos principais usos setoriais de água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93048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99ff"/>
                </a:solidFill>
                <a:latin typeface="Arial Black"/>
              </a:rPr>
              <a:t>Nota relevante:</a:t>
            </a:r>
            <a:endParaRPr b="0" lang="en-US" sz="36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1400" y="1523520"/>
            <a:ext cx="78012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ão cabe à área de Recursos Hídricos fazer o Planejamento Setorial dos usos da águ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 que deveria 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da Setor usuário de água deveria fazer o seu próprio planejamento: esta é uma tarefa para os respectivos ministérios setoriais, ou entidades afi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área de recursos hídricos, nos seus planos, analisaria transversalmente os resultados e os compararia com a base de disponibilidade de águ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vendo conflitos, buscaria articulação com os setores envolvidos, visando harmonizá-l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o sinalização aos usos setorais, aprovaria nos colegiados específicos as prioridades de uso de água em cada unidade de planejamento – regiões e bacias,considerando as dominialidades da águ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 que foi possív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PNRH realizou aproximações a respeito do que poderia ser a demanda hídrica setorial, uma vez que os setores não dispõem dessas estimativ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74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 base nessas projeções, realizou suas análises que estarão no PNR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 que virá adiante: em revisões/atualizações do PNRH, na medida em que as projeções setoriais estejam disponíveis, elas serão consideradas em suas repercussões nos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880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64760"/>
                <a:tab algn="l" pos="9914040"/>
                <a:tab algn="l" pos="10363320"/>
                <a:tab algn="l" pos="10812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rrigação</a:t>
            </a:r>
            <a:endParaRPr b="0" lang="en-US" sz="44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93048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99ff"/>
                </a:solidFill>
                <a:latin typeface="Arial Black"/>
              </a:rPr>
              <a:t>Prospecção do incremento da área irrigada </a:t>
            </a:r>
            <a:endParaRPr b="0" lang="en-US" sz="28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606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erências principa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 de Recursos Hídricos. Caderno Setorial: Setor Agropecuário e Recursos Hídricos, 200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ibuições de SAS/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xas de incremento no período 1996-2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tencial irrigado sustentável por esta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nâmica e perspectivas econômicas regionais identificadas na cenariz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1400" y="490320"/>
            <a:ext cx="7801200" cy="8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99ff"/>
                </a:solidFill>
                <a:latin typeface="Arial Black"/>
              </a:rPr>
              <a:t>Tendências regionais, no Cenário 1</a:t>
            </a:r>
            <a:endParaRPr b="0" lang="en-US" sz="2800" spc="-1" strike="noStrike">
              <a:solidFill>
                <a:srgbClr val="0099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6600" indent="-606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mazônic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forte tendência de expansão, concentrada no Mato Grosso, aproveitando os recursos naturais de solo, água e clima, a infraestrutura energética e de transportes, e a dinâmica econômica, com certa inércia no restan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ocantins-Araguai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existirá forte tendência de expansão em toda região aproveitando as mesmas condições da Amazônic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rdeste Ociden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a inércia tecnológica e socioeconômica limitará o incremento, embora ele ocorra de forma mais acelerada que no passado, induzida e acompanhando o forte incremento da área irrigada no Tocantins-Araguai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arnaíb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apresentará tendência de expansão, em valores bem superiores aos históricos; carências de água em certas bacias e, em especial, à certa inércia tecnológica e socioeconômica que ainda persiste, a área irrigada estará distante do potenc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rdeste Orien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embora já tenha ultrapassado o potencial sustentado, a área irrigada continuará aumentan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800600" y="1447920"/>
            <a:ext cx="4191120" cy="4952880"/>
            <a:chOff x="4800600" y="1447920"/>
            <a:chExt cx="4191120" cy="4952880"/>
          </a:xfrm>
        </p:grpSpPr>
        <p:sp>
          <p:nvSpPr>
            <p:cNvPr id="162" name=""/>
            <p:cNvSpPr/>
            <p:nvPr/>
          </p:nvSpPr>
          <p:spPr>
            <a:xfrm>
              <a:off x="4800600" y="1447920"/>
              <a:ext cx="4191120" cy="4952880"/>
            </a:xfrm>
            <a:custGeom>
              <a:avLst/>
              <a:gdLst>
                <a:gd name="textAreaLeft" fmla="*/ 360 w 4191120"/>
                <a:gd name="textAreaRight" fmla="*/ 4190760 w 4191120"/>
                <a:gd name="textAreaTop" fmla="*/ 360 h 4952880"/>
                <a:gd name="textAreaBottom" fmla="*/ 4952520 h 4952880"/>
              </a:gdLst>
              <a:ahLst/>
              <a:rect l="textAreaLeft" t="textAreaTop" r="textAreaRight" b="textAreaBottom"/>
              <a:pathLst>
                <a:path w="21600" h="25526">
                  <a:moveTo>
                    <a:pt x="8" y="0"/>
                  </a:moveTo>
                  <a:arcTo wR="8" hR="8" stAng="16200000" swAng="-5400000"/>
                  <a:lnTo>
                    <a:pt x="0" y="25518"/>
                  </a:lnTo>
                  <a:arcTo wR="8" hR="8" stAng="10800000" swAng="-5400000"/>
                  <a:lnTo>
                    <a:pt x="21592" y="25526"/>
                  </a:lnTo>
                  <a:arcTo wR="8" hR="8" stAng="5400000" swAng="-5400000"/>
                  <a:lnTo>
                    <a:pt x="21600" y="8"/>
                  </a:lnTo>
                  <a:arcTo wR="8" hR="8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1447920"/>
              <a:ext cx="4191120" cy="40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606600" indent="-606600">
                <a:lnSpc>
                  <a:spcPct val="80000"/>
                </a:lnSpc>
                <a:spcBef>
                  <a:spcPts val="799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606600"/>
                  <a:tab algn="l" pos="1054080"/>
                  <a:tab algn="l" pos="1503360"/>
                  <a:tab algn="l" pos="1952640"/>
                  <a:tab algn="l" pos="2401920"/>
                  <a:tab algn="l" pos="2851200"/>
                  <a:tab algn="l" pos="3300480"/>
                  <a:tab algn="l" pos="3749760"/>
                  <a:tab algn="l" pos="4199040"/>
                  <a:tab algn="l" pos="4648320"/>
                  <a:tab algn="l" pos="5097600"/>
                  <a:tab algn="l" pos="5546880"/>
                  <a:tab algn="l" pos="5996160"/>
                  <a:tab algn="l" pos="6445080"/>
                  <a:tab algn="l" pos="6894360"/>
                  <a:tab algn="l" pos="7343640"/>
                  <a:tab algn="l" pos="7792920"/>
                  <a:tab algn="l" pos="8242200"/>
                  <a:tab algn="l" pos="8691480"/>
                  <a:tab algn="l" pos="9140760"/>
                  <a:tab algn="l" pos="959004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São Francisco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: tendência à expansão, aproveitando a infraestrutura de escoamento e comercialização já implantad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6600" indent="-606600">
                <a:lnSpc>
                  <a:spcPct val="80000"/>
                </a:lnSpc>
                <a:spcBef>
                  <a:spcPts val="799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606600"/>
                  <a:tab algn="l" pos="1054080"/>
                  <a:tab algn="l" pos="1503360"/>
                  <a:tab algn="l" pos="1952640"/>
                  <a:tab algn="l" pos="2401920"/>
                  <a:tab algn="l" pos="2851200"/>
                  <a:tab algn="l" pos="3300480"/>
                  <a:tab algn="l" pos="3749760"/>
                  <a:tab algn="l" pos="4199040"/>
                  <a:tab algn="l" pos="4648320"/>
                  <a:tab algn="l" pos="5097600"/>
                  <a:tab algn="l" pos="5546880"/>
                  <a:tab algn="l" pos="5996160"/>
                  <a:tab algn="l" pos="6445080"/>
                  <a:tab algn="l" pos="6894360"/>
                  <a:tab algn="l" pos="7343640"/>
                  <a:tab algn="l" pos="7792920"/>
                  <a:tab algn="l" pos="8242200"/>
                  <a:tab algn="l" pos="8691480"/>
                  <a:tab algn="l" pos="9140760"/>
                  <a:tab algn="l" pos="959004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Atlântico Leste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: crescimento em especial no norte do Espírito Santo e no sul da Bahia apesar, nesse caso, das limitações de quantidade de água e diferenças de nível topográfico entre áreas irrigáveis e fontes de água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6600" indent="-606600">
                <a:lnSpc>
                  <a:spcPct val="80000"/>
                </a:lnSpc>
                <a:spcBef>
                  <a:spcPts val="799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606600"/>
                  <a:tab algn="l" pos="1054080"/>
                  <a:tab algn="l" pos="1503360"/>
                  <a:tab algn="l" pos="1952640"/>
                  <a:tab algn="l" pos="2401920"/>
                  <a:tab algn="l" pos="2851200"/>
                  <a:tab algn="l" pos="3300480"/>
                  <a:tab algn="l" pos="3749760"/>
                  <a:tab algn="l" pos="4199040"/>
                  <a:tab algn="l" pos="4648320"/>
                  <a:tab algn="l" pos="5097600"/>
                  <a:tab algn="l" pos="5546880"/>
                  <a:tab algn="l" pos="5996160"/>
                  <a:tab algn="l" pos="6445080"/>
                  <a:tab algn="l" pos="6894360"/>
                  <a:tab algn="l" pos="7343640"/>
                  <a:tab algn="l" pos="7792920"/>
                  <a:tab algn="l" pos="8242200"/>
                  <a:tab algn="l" pos="8691480"/>
                  <a:tab algn="l" pos="9140760"/>
                  <a:tab algn="l" pos="959004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Atlântico Sudeste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: aumento moderado, com novas áreas previstas especialmente no Norte Fluminense e na proximidade das maiores cidades ao longo do rio Paraíba do Sul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6600" indent="-606600">
                <a:lnSpc>
                  <a:spcPct val="80000"/>
                </a:lnSpc>
                <a:spcBef>
                  <a:spcPts val="799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606600"/>
                  <a:tab algn="l" pos="1054080"/>
                  <a:tab algn="l" pos="1503360"/>
                  <a:tab algn="l" pos="1952640"/>
                  <a:tab algn="l" pos="2401920"/>
                  <a:tab algn="l" pos="2851200"/>
                  <a:tab algn="l" pos="3300480"/>
                  <a:tab algn="l" pos="3749760"/>
                  <a:tab algn="l" pos="4199040"/>
                  <a:tab algn="l" pos="4648320"/>
                  <a:tab algn="l" pos="5097600"/>
                  <a:tab algn="l" pos="5546880"/>
                  <a:tab algn="l" pos="5996160"/>
                  <a:tab algn="l" pos="6445080"/>
                  <a:tab algn="l" pos="6894360"/>
                  <a:tab algn="l" pos="7343640"/>
                  <a:tab algn="l" pos="7792920"/>
                  <a:tab algn="l" pos="8242200"/>
                  <a:tab algn="l" pos="8691480"/>
                  <a:tab algn="l" pos="9140760"/>
                  <a:tab algn="l" pos="959004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Atlântico Sul e Uruguai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: expansão limitada; o aumento de produção poderá ser realizado pelo emprego de variedades mais produtivas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6600" indent="-606600">
                <a:lnSpc>
                  <a:spcPct val="80000"/>
                </a:lnSpc>
                <a:spcBef>
                  <a:spcPts val="799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606600"/>
                  <a:tab algn="l" pos="1054080"/>
                  <a:tab algn="l" pos="1503360"/>
                  <a:tab algn="l" pos="1952640"/>
                  <a:tab algn="l" pos="2401920"/>
                  <a:tab algn="l" pos="2851200"/>
                  <a:tab algn="l" pos="3300480"/>
                  <a:tab algn="l" pos="3749760"/>
                  <a:tab algn="l" pos="4199040"/>
                  <a:tab algn="l" pos="4648320"/>
                  <a:tab algn="l" pos="5097600"/>
                  <a:tab algn="l" pos="5546880"/>
                  <a:tab algn="l" pos="5996160"/>
                  <a:tab algn="l" pos="6445080"/>
                  <a:tab algn="l" pos="6894360"/>
                  <a:tab algn="l" pos="7343640"/>
                  <a:tab algn="l" pos="7792920"/>
                  <a:tab algn="l" pos="8242200"/>
                  <a:tab algn="l" pos="8691480"/>
                  <a:tab algn="l" pos="9140760"/>
                  <a:tab algn="l" pos="959004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araná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: expansão será moderada e concentrada no estado de São Paulo e Mato Grosso do Sul; os incrementos ocorrerão, em espacial, nas plantações de citros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6600" indent="-606600">
                <a:lnSpc>
                  <a:spcPct val="80000"/>
                </a:lnSpc>
                <a:spcBef>
                  <a:spcPts val="799"/>
                </a:spcBef>
                <a:buClr>
                  <a:srgbClr val="000000"/>
                </a:buClr>
                <a:buFont typeface="Times New Roman"/>
                <a:buAutoNum type="arabicPeriod"/>
                <a:tabLst>
                  <a:tab algn="l" pos="606600"/>
                  <a:tab algn="l" pos="1054080"/>
                  <a:tab algn="l" pos="1503360"/>
                  <a:tab algn="l" pos="1952640"/>
                  <a:tab algn="l" pos="2401920"/>
                  <a:tab algn="l" pos="2851200"/>
                  <a:tab algn="l" pos="3300480"/>
                  <a:tab algn="l" pos="3749760"/>
                  <a:tab algn="l" pos="4199040"/>
                  <a:tab algn="l" pos="4648320"/>
                  <a:tab algn="l" pos="5097600"/>
                  <a:tab algn="l" pos="5546880"/>
                  <a:tab algn="l" pos="5996160"/>
                  <a:tab algn="l" pos="6445080"/>
                  <a:tab algn="l" pos="6894360"/>
                  <a:tab algn="l" pos="7343640"/>
                  <a:tab algn="l" pos="7792920"/>
                  <a:tab algn="l" pos="8242200"/>
                  <a:tab algn="l" pos="8691480"/>
                  <a:tab algn="l" pos="9140760"/>
                  <a:tab algn="l" pos="959004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araguai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: expansão da irrigação será restringida por questões ambientai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