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1400" y="495000"/>
            <a:ext cx="780264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78026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71400" y="4159080"/>
            <a:ext cx="78026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71400" y="495000"/>
            <a:ext cx="780264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380736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9560" y="1906200"/>
            <a:ext cx="380736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71400" y="4159080"/>
            <a:ext cx="380736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9560" y="4159080"/>
            <a:ext cx="380736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1400" y="495000"/>
            <a:ext cx="780264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251208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480" y="1906200"/>
            <a:ext cx="251208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7560" y="1906200"/>
            <a:ext cx="251208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71400" y="4159080"/>
            <a:ext cx="251208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480" y="4159080"/>
            <a:ext cx="251208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7560" y="4159080"/>
            <a:ext cx="251208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71400" y="495000"/>
            <a:ext cx="780264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71400" y="1906200"/>
            <a:ext cx="78026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71400" y="495000"/>
            <a:ext cx="780264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78026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1400" y="495000"/>
            <a:ext cx="780264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380736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9560" y="1906200"/>
            <a:ext cx="380736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1400" y="495000"/>
            <a:ext cx="780264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71400" y="495000"/>
            <a:ext cx="7802640" cy="59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1400" y="495000"/>
            <a:ext cx="780264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380736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9560" y="1906200"/>
            <a:ext cx="380736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71400" y="4159080"/>
            <a:ext cx="380736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1400" y="495000"/>
            <a:ext cx="780264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380736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9560" y="1906200"/>
            <a:ext cx="380736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9560" y="4159080"/>
            <a:ext cx="380736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1400" y="495000"/>
            <a:ext cx="780264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380736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9560" y="1906200"/>
            <a:ext cx="380736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71400" y="4159080"/>
            <a:ext cx="78026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428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-19080" y="6621480"/>
            <a:ext cx="9182160" cy="23796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1549440" y="0"/>
            <a:ext cx="2878200" cy="62532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5"/>
          <a:stretch/>
        </p:blipFill>
        <p:spPr>
          <a:xfrm>
            <a:off x="324000" y="6647040"/>
            <a:ext cx="2841480" cy="239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71400" y="495000"/>
            <a:ext cx="780264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71400" y="1906200"/>
            <a:ext cx="78026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1639800" y="1127160"/>
            <a:ext cx="5881680" cy="1438200"/>
            <a:chOff x="1639800" y="1127160"/>
            <a:chExt cx="5881680" cy="1438200"/>
          </a:xfrm>
        </p:grpSpPr>
        <p:sp>
          <p:nvSpPr>
            <p:cNvPr id="43" name=""/>
            <p:cNvSpPr/>
            <p:nvPr/>
          </p:nvSpPr>
          <p:spPr>
            <a:xfrm>
              <a:off x="1639800" y="1127160"/>
              <a:ext cx="5881680" cy="1438200"/>
            </a:xfrm>
            <a:prstGeom prst="roundRect">
              <a:avLst>
                <a:gd name="adj" fmla="val 1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39800" y="1127160"/>
              <a:ext cx="5881680" cy="12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99"/>
                  </a:solidFill>
                  <a:latin typeface="Times New Roman"/>
                </a:rPr>
                <a:t>Ministério do Meio Ambiente</a:t>
              </a:r>
              <a:br>
                <a:rPr sz="2800"/>
              </a:br>
              <a:r>
                <a:rPr b="0" lang="en-GB" sz="2800" spc="-1" strike="noStrike">
                  <a:solidFill>
                    <a:srgbClr val="333399"/>
                  </a:solidFill>
                  <a:latin typeface="Times New Roman"/>
                </a:rPr>
                <a:t> Secretaria de Recursos Hídricos – SRH/MMA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955960" y="2925720"/>
            <a:ext cx="327168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108000" y="984240"/>
            <a:ext cx="936720" cy="5472000"/>
            <a:chOff x="108000" y="984240"/>
            <a:chExt cx="936720" cy="5472000"/>
          </a:xfrm>
        </p:grpSpPr>
        <p:sp>
          <p:nvSpPr>
            <p:cNvPr id="157" name=""/>
            <p:cNvSpPr/>
            <p:nvPr/>
          </p:nvSpPr>
          <p:spPr>
            <a:xfrm rot="10800000">
              <a:off x="108000" y="984240"/>
              <a:ext cx="936720" cy="5472000"/>
            </a:xfrm>
            <a:custGeom>
              <a:avLst/>
              <a:gdLst>
                <a:gd name="textAreaLeft" fmla="*/ 360 w 936720"/>
                <a:gd name="textAreaRight" fmla="*/ 936360 w 936720"/>
                <a:gd name="textAreaTop" fmla="*/ 360 h 5472000"/>
                <a:gd name="textAreaBottom" fmla="*/ 5471640 h 5472000"/>
              </a:gdLst>
              <a:ahLst/>
              <a:rect l="textAreaLeft" t="textAreaTop" r="textAreaRight" b="textAreaBottom"/>
              <a:pathLst>
                <a:path w="21600" h="126140">
                  <a:moveTo>
                    <a:pt x="36" y="0"/>
                  </a:moveTo>
                  <a:arcTo wR="36" hR="36" stAng="16200000" swAng="-5400000"/>
                  <a:lnTo>
                    <a:pt x="0" y="126104"/>
                  </a:lnTo>
                  <a:arcTo wR="36" hR="36" stAng="10800000" swAng="-5400000"/>
                  <a:lnTo>
                    <a:pt x="21564" y="126140"/>
                  </a:lnTo>
                  <a:arcTo wR="36" hR="36" stAng="5400000" swAng="-5400000"/>
                  <a:lnTo>
                    <a:pt x="21600" y="36"/>
                  </a:lnTo>
                  <a:arcTo wR="36" hR="36" stAng="0" swAng="-5400000"/>
                  <a:close/>
                </a:path>
              </a:pathLst>
            </a:custGeom>
            <a:solidFill>
              <a:srgbClr val="ccfff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0800000">
              <a:off x="108000" y="984240"/>
              <a:ext cx="936720" cy="54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 vert="eaVer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Arial"/>
                </a:rPr>
                <a:t>Panorama e Estado dos Recursos Hídricosdo Brasi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1692360" y="692280"/>
            <a:ext cx="7272360" cy="946080"/>
            <a:chOff x="1692360" y="692280"/>
            <a:chExt cx="7272360" cy="946080"/>
          </a:xfrm>
        </p:grpSpPr>
        <p:sp>
          <p:nvSpPr>
            <p:cNvPr id="160" name=""/>
            <p:cNvSpPr/>
            <p:nvPr/>
          </p:nvSpPr>
          <p:spPr>
            <a:xfrm>
              <a:off x="1692360" y="692280"/>
              <a:ext cx="7272360" cy="946080"/>
            </a:xfrm>
            <a:prstGeom prst="roundRect">
              <a:avLst>
                <a:gd name="adj" fmla="val 167"/>
              </a:avLst>
            </a:prstGeom>
            <a:solidFill>
              <a:srgbClr val="cc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692360" y="692280"/>
              <a:ext cx="7272360" cy="88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2. Histórico do Desenvolvimento da Gestão Integrada dos RH no Brasi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62" name=""/>
          <p:cNvCxnSpPr/>
          <p:nvPr/>
        </p:nvCxnSpPr>
        <p:spPr>
          <a:xfrm flipV="1">
            <a:off x="1042920" y="1050480"/>
            <a:ext cx="505440" cy="21816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" name=""/>
          <p:cNvSpPr/>
          <p:nvPr/>
        </p:nvSpPr>
        <p:spPr>
          <a:xfrm>
            <a:off x="1403280" y="1906560"/>
            <a:ext cx="7489800" cy="37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borda as formas de gestão das águas no País, perpassand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pela resolução de conflitos, por meio das Ordenações do Reino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pelas Constituição do Império, Códigos de Águas e Constituições Republicanas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pelas Conferências Internacionais de Estocolmo, Mar del Plata, e Dublin; 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pelas diversas experiências desenvolvidas no País, como por exemplo os Comitês Especiais de Estudos Integrados de Bacias Hidrográficas - CEEIBH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108000" y="984240"/>
            <a:ext cx="936720" cy="5472000"/>
            <a:chOff x="108000" y="984240"/>
            <a:chExt cx="936720" cy="5472000"/>
          </a:xfrm>
        </p:grpSpPr>
        <p:sp>
          <p:nvSpPr>
            <p:cNvPr id="165" name=""/>
            <p:cNvSpPr/>
            <p:nvPr/>
          </p:nvSpPr>
          <p:spPr>
            <a:xfrm rot="10800000">
              <a:off x="108000" y="984240"/>
              <a:ext cx="936720" cy="5472000"/>
            </a:xfrm>
            <a:custGeom>
              <a:avLst/>
              <a:gdLst>
                <a:gd name="textAreaLeft" fmla="*/ 360 w 936720"/>
                <a:gd name="textAreaRight" fmla="*/ 936360 w 936720"/>
                <a:gd name="textAreaTop" fmla="*/ 360 h 5472000"/>
                <a:gd name="textAreaBottom" fmla="*/ 5471640 h 5472000"/>
              </a:gdLst>
              <a:ahLst/>
              <a:rect l="textAreaLeft" t="textAreaTop" r="textAreaRight" b="textAreaBottom"/>
              <a:pathLst>
                <a:path w="21600" h="126140">
                  <a:moveTo>
                    <a:pt x="36" y="0"/>
                  </a:moveTo>
                  <a:arcTo wR="36" hR="36" stAng="16200000" swAng="-5400000"/>
                  <a:lnTo>
                    <a:pt x="0" y="126104"/>
                  </a:lnTo>
                  <a:arcTo wR="36" hR="36" stAng="10800000" swAng="-5400000"/>
                  <a:lnTo>
                    <a:pt x="21564" y="126140"/>
                  </a:lnTo>
                  <a:arcTo wR="36" hR="36" stAng="5400000" swAng="-5400000"/>
                  <a:lnTo>
                    <a:pt x="21600" y="36"/>
                  </a:lnTo>
                  <a:arcTo wR="36" hR="36" stAng="0" swAng="-5400000"/>
                  <a:close/>
                </a:path>
              </a:pathLst>
            </a:custGeom>
            <a:solidFill>
              <a:srgbClr val="ccfff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10800000">
              <a:off x="108000" y="984240"/>
              <a:ext cx="936720" cy="54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 vert="eaVer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Arial"/>
                </a:rPr>
                <a:t>Panorama e Estado dos Recursos Hídricosdo Brasi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1692360" y="692280"/>
            <a:ext cx="7343640" cy="946080"/>
            <a:chOff x="1692360" y="692280"/>
            <a:chExt cx="7343640" cy="946080"/>
          </a:xfrm>
        </p:grpSpPr>
        <p:sp>
          <p:nvSpPr>
            <p:cNvPr id="168" name=""/>
            <p:cNvSpPr/>
            <p:nvPr/>
          </p:nvSpPr>
          <p:spPr>
            <a:xfrm>
              <a:off x="1692360" y="692280"/>
              <a:ext cx="7343640" cy="946080"/>
            </a:xfrm>
            <a:prstGeom prst="roundRect">
              <a:avLst>
                <a:gd name="adj" fmla="val 167"/>
              </a:avLst>
            </a:prstGeom>
            <a:solidFill>
              <a:srgbClr val="cc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92360" y="692280"/>
              <a:ext cx="7343640" cy="88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3. Base Jurídica e Institucional do Modelo de Gestão de Integrad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70" name=""/>
          <p:cNvCxnSpPr/>
          <p:nvPr/>
        </p:nvCxnSpPr>
        <p:spPr>
          <a:xfrm flipV="1">
            <a:off x="1116000" y="1050480"/>
            <a:ext cx="505440" cy="21816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1332000" y="1596960"/>
            <a:ext cx="7704000" cy="47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presenta a base jurídica para a gestão integrada dos recursos hídricos do Brasil estabelecida a partir Constituição Federal de 1988, destacando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 definição dos domínios (Federal e Estaduais) sobre os recursos hídrico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 instituição da Política Nacional de Recursos Hídricos e a criação do Sistema Nacional de Gerenciamento de Recursos Hídricos (SINGREH) – Lei 9.433/97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os instrumentos para a efetivação da Política Nacional de Recursos Hídricos; 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 própria estrutura e dinâmica de funcionamento do SINGREH, contemplando os Sistemas Estaduais de Recursos Hídric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108000" y="984240"/>
            <a:ext cx="936720" cy="5472000"/>
            <a:chOff x="108000" y="984240"/>
            <a:chExt cx="936720" cy="5472000"/>
          </a:xfrm>
        </p:grpSpPr>
        <p:sp>
          <p:nvSpPr>
            <p:cNvPr id="173" name=""/>
            <p:cNvSpPr/>
            <p:nvPr/>
          </p:nvSpPr>
          <p:spPr>
            <a:xfrm rot="10800000">
              <a:off x="108000" y="984240"/>
              <a:ext cx="936720" cy="5472000"/>
            </a:xfrm>
            <a:custGeom>
              <a:avLst/>
              <a:gdLst>
                <a:gd name="textAreaLeft" fmla="*/ 360 w 936720"/>
                <a:gd name="textAreaRight" fmla="*/ 936360 w 936720"/>
                <a:gd name="textAreaTop" fmla="*/ 360 h 5472000"/>
                <a:gd name="textAreaBottom" fmla="*/ 5471640 h 5472000"/>
              </a:gdLst>
              <a:ahLst/>
              <a:rect l="textAreaLeft" t="textAreaTop" r="textAreaRight" b="textAreaBottom"/>
              <a:pathLst>
                <a:path w="21600" h="126140">
                  <a:moveTo>
                    <a:pt x="36" y="0"/>
                  </a:moveTo>
                  <a:arcTo wR="36" hR="36" stAng="16200000" swAng="-5400000"/>
                  <a:lnTo>
                    <a:pt x="0" y="126104"/>
                  </a:lnTo>
                  <a:arcTo wR="36" hR="36" stAng="10800000" swAng="-5400000"/>
                  <a:lnTo>
                    <a:pt x="21564" y="126140"/>
                  </a:lnTo>
                  <a:arcTo wR="36" hR="36" stAng="5400000" swAng="-5400000"/>
                  <a:lnTo>
                    <a:pt x="21600" y="36"/>
                  </a:lnTo>
                  <a:arcTo wR="36" hR="36" stAng="0" swAng="-5400000"/>
                  <a:close/>
                </a:path>
              </a:pathLst>
            </a:custGeom>
            <a:solidFill>
              <a:srgbClr val="ccfff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10800000">
              <a:off x="108000" y="984240"/>
              <a:ext cx="936720" cy="54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 vert="eaVer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Arial"/>
                </a:rPr>
                <a:t>Panorama e Estado dos Recursos Hídricosdo Brasi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1763640" y="692280"/>
            <a:ext cx="6985080" cy="946080"/>
            <a:chOff x="1763640" y="692280"/>
            <a:chExt cx="6985080" cy="946080"/>
          </a:xfrm>
        </p:grpSpPr>
        <p:sp>
          <p:nvSpPr>
            <p:cNvPr id="176" name=""/>
            <p:cNvSpPr/>
            <p:nvPr/>
          </p:nvSpPr>
          <p:spPr>
            <a:xfrm>
              <a:off x="1763640" y="692280"/>
              <a:ext cx="6985080" cy="946080"/>
            </a:xfrm>
            <a:prstGeom prst="roundRect">
              <a:avLst>
                <a:gd name="adj" fmla="val 167"/>
              </a:avLst>
            </a:prstGeom>
            <a:solidFill>
              <a:srgbClr val="cc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763640" y="692280"/>
              <a:ext cx="6985080" cy="88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4. Situação Atual da Implementação da Política Nacional de Recursos Hídric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78" name=""/>
          <p:cNvCxnSpPr/>
          <p:nvPr/>
        </p:nvCxnSpPr>
        <p:spPr>
          <a:xfrm flipV="1">
            <a:off x="1186920" y="1050480"/>
            <a:ext cx="505800" cy="218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9" name=""/>
          <p:cNvSpPr/>
          <p:nvPr/>
        </p:nvSpPr>
        <p:spPr>
          <a:xfrm>
            <a:off x="1332000" y="1859040"/>
            <a:ext cx="7704000" cy="41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presenta em síntese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o estágio de implementação dos instrumentos da Política de Recursos Hídrico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o estágio de estruturação dos colegiados previstos no SINGREH e da atuação dos Órgãos da Administração Pública Responsáveis pela Gestão de Recursos Hídricos, federais e estaduai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os Modelos Administrativos instituídos nas Unidades Federada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 dinâmica de articulação entre os Órgãos da Administração Pública e os colegiados, na esfera federal e estaduais, e destes com o CNRH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108000" y="984240"/>
            <a:ext cx="936720" cy="5472000"/>
            <a:chOff x="108000" y="984240"/>
            <a:chExt cx="936720" cy="5472000"/>
          </a:xfrm>
        </p:grpSpPr>
        <p:sp>
          <p:nvSpPr>
            <p:cNvPr id="181" name=""/>
            <p:cNvSpPr/>
            <p:nvPr/>
          </p:nvSpPr>
          <p:spPr>
            <a:xfrm rot="10800000">
              <a:off x="108000" y="984240"/>
              <a:ext cx="936720" cy="5472000"/>
            </a:xfrm>
            <a:custGeom>
              <a:avLst/>
              <a:gdLst>
                <a:gd name="textAreaLeft" fmla="*/ 360 w 936720"/>
                <a:gd name="textAreaRight" fmla="*/ 936360 w 936720"/>
                <a:gd name="textAreaTop" fmla="*/ 360 h 5472000"/>
                <a:gd name="textAreaBottom" fmla="*/ 5471640 h 5472000"/>
              </a:gdLst>
              <a:ahLst/>
              <a:rect l="textAreaLeft" t="textAreaTop" r="textAreaRight" b="textAreaBottom"/>
              <a:pathLst>
                <a:path w="21600" h="126140">
                  <a:moveTo>
                    <a:pt x="36" y="0"/>
                  </a:moveTo>
                  <a:arcTo wR="36" hR="36" stAng="16200000" swAng="-5400000"/>
                  <a:lnTo>
                    <a:pt x="0" y="126104"/>
                  </a:lnTo>
                  <a:arcTo wR="36" hR="36" stAng="10800000" swAng="-5400000"/>
                  <a:lnTo>
                    <a:pt x="21564" y="126140"/>
                  </a:lnTo>
                  <a:arcTo wR="36" hR="36" stAng="5400000" swAng="-5400000"/>
                  <a:lnTo>
                    <a:pt x="21600" y="36"/>
                  </a:lnTo>
                  <a:arcTo wR="36" hR="36" stAng="0" swAng="-5400000"/>
                  <a:close/>
                </a:path>
              </a:pathLst>
            </a:custGeom>
            <a:solidFill>
              <a:srgbClr val="ccfff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10800000">
              <a:off x="108000" y="984240"/>
              <a:ext cx="936720" cy="54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 vert="eaVer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Arial"/>
                </a:rPr>
                <a:t>Panorama e Estado dos Recursos Hídricosdo Brasi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1763640" y="692280"/>
            <a:ext cx="6985080" cy="946080"/>
            <a:chOff x="1763640" y="692280"/>
            <a:chExt cx="6985080" cy="946080"/>
          </a:xfrm>
        </p:grpSpPr>
        <p:sp>
          <p:nvSpPr>
            <p:cNvPr id="184" name=""/>
            <p:cNvSpPr/>
            <p:nvPr/>
          </p:nvSpPr>
          <p:spPr>
            <a:xfrm>
              <a:off x="1763640" y="692280"/>
              <a:ext cx="6985080" cy="946080"/>
            </a:xfrm>
            <a:prstGeom prst="roundRect">
              <a:avLst>
                <a:gd name="adj" fmla="val 167"/>
              </a:avLst>
            </a:prstGeom>
            <a:solidFill>
              <a:srgbClr val="cc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763640" y="692280"/>
              <a:ext cx="6985080" cy="88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4. Situação Atual da Implementação da Política Nacional de Recursos Hídricos (cont...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6" name=""/>
          <p:cNvCxnSpPr/>
          <p:nvPr/>
        </p:nvCxnSpPr>
        <p:spPr>
          <a:xfrm flipV="1">
            <a:off x="1186920" y="1050480"/>
            <a:ext cx="505800" cy="218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7" name=""/>
          <p:cNvSpPr/>
          <p:nvPr/>
        </p:nvSpPr>
        <p:spPr>
          <a:xfrm>
            <a:off x="1189080" y="1658880"/>
            <a:ext cx="7704000" cy="44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 articulação com as demais políticas públicas, setoriais ou transversai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o estágio atual da implementação da Política Nacional de Recursos Hídricos, apontando os principais avanços e desafios, em particular com relação à(s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- articulação com o quadro administrativo brasileiro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- necessidades de regulamentação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- questão da dominialidad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- consolidação da gestão participativa; 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- aos custos operacionais de sua implementaçã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108000" y="984240"/>
            <a:ext cx="936720" cy="5472000"/>
            <a:chOff x="108000" y="984240"/>
            <a:chExt cx="936720" cy="5472000"/>
          </a:xfrm>
        </p:grpSpPr>
        <p:sp>
          <p:nvSpPr>
            <p:cNvPr id="189" name=""/>
            <p:cNvSpPr/>
            <p:nvPr/>
          </p:nvSpPr>
          <p:spPr>
            <a:xfrm rot="10800000">
              <a:off x="108000" y="984240"/>
              <a:ext cx="936720" cy="5472000"/>
            </a:xfrm>
            <a:custGeom>
              <a:avLst/>
              <a:gdLst>
                <a:gd name="textAreaLeft" fmla="*/ 360 w 936720"/>
                <a:gd name="textAreaRight" fmla="*/ 936360 w 936720"/>
                <a:gd name="textAreaTop" fmla="*/ 360 h 5472000"/>
                <a:gd name="textAreaBottom" fmla="*/ 5471640 h 5472000"/>
              </a:gdLst>
              <a:ahLst/>
              <a:rect l="textAreaLeft" t="textAreaTop" r="textAreaRight" b="textAreaBottom"/>
              <a:pathLst>
                <a:path w="21600" h="126140">
                  <a:moveTo>
                    <a:pt x="36" y="0"/>
                  </a:moveTo>
                  <a:arcTo wR="36" hR="36" stAng="16200000" swAng="-5400000"/>
                  <a:lnTo>
                    <a:pt x="0" y="126104"/>
                  </a:lnTo>
                  <a:arcTo wR="36" hR="36" stAng="10800000" swAng="-5400000"/>
                  <a:lnTo>
                    <a:pt x="21564" y="126140"/>
                  </a:lnTo>
                  <a:arcTo wR="36" hR="36" stAng="5400000" swAng="-5400000"/>
                  <a:lnTo>
                    <a:pt x="21600" y="36"/>
                  </a:lnTo>
                  <a:arcTo wR="36" hR="36" stAng="0" swAng="-5400000"/>
                  <a:close/>
                </a:path>
              </a:pathLst>
            </a:custGeom>
            <a:solidFill>
              <a:srgbClr val="ccfff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10800000">
              <a:off x="108000" y="984240"/>
              <a:ext cx="936720" cy="54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 vert="eaVer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Arial"/>
                </a:rPr>
                <a:t>Panorama e Estado dos Recursos Hídricosdo Brasi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763640" y="692280"/>
            <a:ext cx="6985080" cy="946080"/>
            <a:chOff x="1763640" y="692280"/>
            <a:chExt cx="6985080" cy="946080"/>
          </a:xfrm>
        </p:grpSpPr>
        <p:sp>
          <p:nvSpPr>
            <p:cNvPr id="192" name=""/>
            <p:cNvSpPr/>
            <p:nvPr/>
          </p:nvSpPr>
          <p:spPr>
            <a:xfrm>
              <a:off x="1763640" y="692280"/>
              <a:ext cx="6985080" cy="946080"/>
            </a:xfrm>
            <a:prstGeom prst="roundRect">
              <a:avLst>
                <a:gd name="adj" fmla="val 167"/>
              </a:avLst>
            </a:prstGeom>
            <a:solidFill>
              <a:srgbClr val="cc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763640" y="692280"/>
              <a:ext cx="6985080" cy="88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5. Os Recursos Hídricos no Contexto das Relações Internacionai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94" name=""/>
          <p:cNvCxnSpPr/>
          <p:nvPr/>
        </p:nvCxnSpPr>
        <p:spPr>
          <a:xfrm flipV="1">
            <a:off x="1116000" y="1052280"/>
            <a:ext cx="505440" cy="21816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258920" y="1557360"/>
            <a:ext cx="7704000" cy="49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presenta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s Convenções e Declarações Internacionais das quais o País é signatário, destacando: i) Agenda 21; ii) Convenção-Quadro das Nações Unidas sobre Mudança Climática; iii) Convenção sobre Diversidade Biológica; iv) Convenção RAMSAR; v) Convenção de Combate a Desertificação; e vi) Declaração do Milênio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s posições adotadas pelo País nas agendas internacionais que possuem inter-relação com a temática água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os mecanismos institucionais de cooperação com os Países vizinhos: i) Tratados de Cooperação Amazônica e da Bacia do Prata; ii) Proposta de Estratégia Comum entre os Países da América Latina e Caribe para o Gerenciamento dos Recursos Hídricos; entre outr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"/>
          <p:cNvGrpSpPr/>
          <p:nvPr/>
        </p:nvGrpSpPr>
        <p:grpSpPr>
          <a:xfrm>
            <a:off x="108000" y="984240"/>
            <a:ext cx="936720" cy="5472000"/>
            <a:chOff x="108000" y="984240"/>
            <a:chExt cx="936720" cy="5472000"/>
          </a:xfrm>
        </p:grpSpPr>
        <p:sp>
          <p:nvSpPr>
            <p:cNvPr id="197" name=""/>
            <p:cNvSpPr/>
            <p:nvPr/>
          </p:nvSpPr>
          <p:spPr>
            <a:xfrm rot="10800000">
              <a:off x="108000" y="984240"/>
              <a:ext cx="936720" cy="5472000"/>
            </a:xfrm>
            <a:custGeom>
              <a:avLst/>
              <a:gdLst>
                <a:gd name="textAreaLeft" fmla="*/ 360 w 936720"/>
                <a:gd name="textAreaRight" fmla="*/ 936360 w 936720"/>
                <a:gd name="textAreaTop" fmla="*/ 360 h 5472000"/>
                <a:gd name="textAreaBottom" fmla="*/ 5471640 h 5472000"/>
              </a:gdLst>
              <a:ahLst/>
              <a:rect l="textAreaLeft" t="textAreaTop" r="textAreaRight" b="textAreaBottom"/>
              <a:pathLst>
                <a:path w="21600" h="126140">
                  <a:moveTo>
                    <a:pt x="36" y="0"/>
                  </a:moveTo>
                  <a:arcTo wR="36" hR="36" stAng="16200000" swAng="-5400000"/>
                  <a:lnTo>
                    <a:pt x="0" y="126104"/>
                  </a:lnTo>
                  <a:arcTo wR="36" hR="36" stAng="10800000" swAng="-5400000"/>
                  <a:lnTo>
                    <a:pt x="21564" y="126140"/>
                  </a:lnTo>
                  <a:arcTo wR="36" hR="36" stAng="5400000" swAng="-5400000"/>
                  <a:lnTo>
                    <a:pt x="21600" y="36"/>
                  </a:lnTo>
                  <a:arcTo wR="36" hR="36" stAng="0" swAng="-5400000"/>
                  <a:close/>
                </a:path>
              </a:pathLst>
            </a:custGeom>
            <a:solidFill>
              <a:srgbClr val="ccfff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0800000">
              <a:off x="108000" y="984240"/>
              <a:ext cx="936720" cy="54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 vert="eaVer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Arial"/>
                </a:rPr>
                <a:t>Panorama e Estado dos Recursos Hídricosdo Brasi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1763640" y="692280"/>
            <a:ext cx="6985080" cy="946080"/>
            <a:chOff x="1763640" y="692280"/>
            <a:chExt cx="6985080" cy="946080"/>
          </a:xfrm>
        </p:grpSpPr>
        <p:sp>
          <p:nvSpPr>
            <p:cNvPr id="200" name=""/>
            <p:cNvSpPr/>
            <p:nvPr/>
          </p:nvSpPr>
          <p:spPr>
            <a:xfrm>
              <a:off x="1763640" y="692280"/>
              <a:ext cx="6985080" cy="946080"/>
            </a:xfrm>
            <a:prstGeom prst="roundRect">
              <a:avLst>
                <a:gd name="adj" fmla="val 167"/>
              </a:avLst>
            </a:prstGeom>
            <a:solidFill>
              <a:srgbClr val="cc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763640" y="692280"/>
              <a:ext cx="6985080" cy="88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6. Conjuntura Macroeconômica e Recursos Hídric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2" name=""/>
          <p:cNvCxnSpPr/>
          <p:nvPr/>
        </p:nvCxnSpPr>
        <p:spPr>
          <a:xfrm flipV="1">
            <a:off x="1116000" y="1052280"/>
            <a:ext cx="505440" cy="21816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"/>
          <p:cNvSpPr/>
          <p:nvPr/>
        </p:nvSpPr>
        <p:spPr>
          <a:xfrm>
            <a:off x="1258920" y="2122560"/>
            <a:ext cx="7704000" cy="34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presenta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os aspectos relativos à conjuntura macro-econômica nacional e internacional que influenciam nos recursos hídricos, enfatizando o perfil da pauta exportadora do País frente a relação dos setores com a disponibilidade de recursos hídrico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uma análise do padrão produtivo nacional, focado no atendimento da demanda interna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bs: as informações referentes a esta temática são complementadas pelo Estudo de Cenários do PNR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"/>
          <p:cNvGrpSpPr/>
          <p:nvPr/>
        </p:nvGrpSpPr>
        <p:grpSpPr>
          <a:xfrm>
            <a:off x="108000" y="984240"/>
            <a:ext cx="936720" cy="5472000"/>
            <a:chOff x="108000" y="984240"/>
            <a:chExt cx="936720" cy="5472000"/>
          </a:xfrm>
        </p:grpSpPr>
        <p:sp>
          <p:nvSpPr>
            <p:cNvPr id="205" name=""/>
            <p:cNvSpPr/>
            <p:nvPr/>
          </p:nvSpPr>
          <p:spPr>
            <a:xfrm rot="10800000">
              <a:off x="108000" y="984240"/>
              <a:ext cx="936720" cy="5472000"/>
            </a:xfrm>
            <a:custGeom>
              <a:avLst/>
              <a:gdLst>
                <a:gd name="textAreaLeft" fmla="*/ 360 w 936720"/>
                <a:gd name="textAreaRight" fmla="*/ 936360 w 936720"/>
                <a:gd name="textAreaTop" fmla="*/ 360 h 5472000"/>
                <a:gd name="textAreaBottom" fmla="*/ 5471640 h 5472000"/>
              </a:gdLst>
              <a:ahLst/>
              <a:rect l="textAreaLeft" t="textAreaTop" r="textAreaRight" b="textAreaBottom"/>
              <a:pathLst>
                <a:path w="21600" h="126140">
                  <a:moveTo>
                    <a:pt x="36" y="0"/>
                  </a:moveTo>
                  <a:arcTo wR="36" hR="36" stAng="16200000" swAng="-5400000"/>
                  <a:lnTo>
                    <a:pt x="0" y="126104"/>
                  </a:lnTo>
                  <a:arcTo wR="36" hR="36" stAng="10800000" swAng="-5400000"/>
                  <a:lnTo>
                    <a:pt x="21564" y="126140"/>
                  </a:lnTo>
                  <a:arcTo wR="36" hR="36" stAng="5400000" swAng="-5400000"/>
                  <a:lnTo>
                    <a:pt x="21600" y="36"/>
                  </a:lnTo>
                  <a:arcTo wR="36" hR="36" stAng="0" swAng="-5400000"/>
                  <a:close/>
                </a:path>
              </a:pathLst>
            </a:custGeom>
            <a:solidFill>
              <a:srgbClr val="ccfff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0800000">
              <a:off x="108000" y="984240"/>
              <a:ext cx="936720" cy="54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 vert="eaVer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Arial"/>
                </a:rPr>
                <a:t>Panorama e Estado dos Recursos Hídricosdo Brasi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763640" y="692280"/>
            <a:ext cx="7201080" cy="946080"/>
            <a:chOff x="1763640" y="692280"/>
            <a:chExt cx="7201080" cy="946080"/>
          </a:xfrm>
        </p:grpSpPr>
        <p:sp>
          <p:nvSpPr>
            <p:cNvPr id="208" name=""/>
            <p:cNvSpPr/>
            <p:nvPr/>
          </p:nvSpPr>
          <p:spPr>
            <a:xfrm>
              <a:off x="1763640" y="692280"/>
              <a:ext cx="7201080" cy="946080"/>
            </a:xfrm>
            <a:prstGeom prst="roundRect">
              <a:avLst>
                <a:gd name="adj" fmla="val 167"/>
              </a:avLst>
            </a:prstGeom>
            <a:solidFill>
              <a:srgbClr val="cc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763640" y="692280"/>
              <a:ext cx="7201080" cy="88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7. Biomas, Ecorregiões Aquáticas e os Principais Ecossitemas Brasileir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0" name=""/>
          <p:cNvCxnSpPr/>
          <p:nvPr/>
        </p:nvCxnSpPr>
        <p:spPr>
          <a:xfrm flipV="1">
            <a:off x="1116000" y="1123560"/>
            <a:ext cx="505440" cy="21816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"/>
          <p:cNvSpPr/>
          <p:nvPr/>
        </p:nvSpPr>
        <p:spPr>
          <a:xfrm>
            <a:off x="1187280" y="1773360"/>
            <a:ext cx="7885440" cy="39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presenta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 interface entre as questões relacionadas com a conservação ambiental e os recursos hídricos, em particular no que se refere aos principais Biomas do Paí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o conceito e as ecorregiões aquáticas do Brasil a fim de contribuir para uma maior articulação entre o Sistema Nacional de Unidades de Conservação e o SINGREH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o planejamento biorregional, com ênfase no Programa de Corredores Ecológicos das Florestas Tropicais no âmbito do PPG7, e a temática das áreas úmida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"/>
          <p:cNvGrpSpPr/>
          <p:nvPr/>
        </p:nvGrpSpPr>
        <p:grpSpPr>
          <a:xfrm>
            <a:off x="108000" y="984240"/>
            <a:ext cx="936720" cy="5472000"/>
            <a:chOff x="108000" y="984240"/>
            <a:chExt cx="936720" cy="5472000"/>
          </a:xfrm>
        </p:grpSpPr>
        <p:sp>
          <p:nvSpPr>
            <p:cNvPr id="213" name=""/>
            <p:cNvSpPr/>
            <p:nvPr/>
          </p:nvSpPr>
          <p:spPr>
            <a:xfrm rot="10800000">
              <a:off x="108000" y="984240"/>
              <a:ext cx="936720" cy="5472000"/>
            </a:xfrm>
            <a:custGeom>
              <a:avLst/>
              <a:gdLst>
                <a:gd name="textAreaLeft" fmla="*/ 360 w 936720"/>
                <a:gd name="textAreaRight" fmla="*/ 936360 w 936720"/>
                <a:gd name="textAreaTop" fmla="*/ 360 h 5472000"/>
                <a:gd name="textAreaBottom" fmla="*/ 5471640 h 5472000"/>
              </a:gdLst>
              <a:ahLst/>
              <a:rect l="textAreaLeft" t="textAreaTop" r="textAreaRight" b="textAreaBottom"/>
              <a:pathLst>
                <a:path w="21600" h="126140">
                  <a:moveTo>
                    <a:pt x="36" y="0"/>
                  </a:moveTo>
                  <a:arcTo wR="36" hR="36" stAng="16200000" swAng="-5400000"/>
                  <a:lnTo>
                    <a:pt x="0" y="126104"/>
                  </a:lnTo>
                  <a:arcTo wR="36" hR="36" stAng="10800000" swAng="-5400000"/>
                  <a:lnTo>
                    <a:pt x="21564" y="126140"/>
                  </a:lnTo>
                  <a:arcTo wR="36" hR="36" stAng="5400000" swAng="-5400000"/>
                  <a:lnTo>
                    <a:pt x="21600" y="36"/>
                  </a:lnTo>
                  <a:arcTo wR="36" hR="36" stAng="0" swAng="-5400000"/>
                  <a:close/>
                </a:path>
              </a:pathLst>
            </a:custGeom>
            <a:solidFill>
              <a:srgbClr val="ccfff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10800000">
              <a:off x="108000" y="984240"/>
              <a:ext cx="936720" cy="54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 vert="eaVer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Arial"/>
                </a:rPr>
                <a:t>Panorama e Estado dos Recursos Hídricosdo Brasi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1763640" y="609480"/>
            <a:ext cx="7201080" cy="946440"/>
            <a:chOff x="1763640" y="609480"/>
            <a:chExt cx="7201080" cy="946440"/>
          </a:xfrm>
        </p:grpSpPr>
        <p:sp>
          <p:nvSpPr>
            <p:cNvPr id="216" name=""/>
            <p:cNvSpPr/>
            <p:nvPr/>
          </p:nvSpPr>
          <p:spPr>
            <a:xfrm>
              <a:off x="1763640" y="609480"/>
              <a:ext cx="7201080" cy="946440"/>
            </a:xfrm>
            <a:prstGeom prst="roundRect">
              <a:avLst>
                <a:gd name="adj" fmla="val 167"/>
              </a:avLst>
            </a:prstGeom>
            <a:solidFill>
              <a:srgbClr val="cc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763640" y="609480"/>
              <a:ext cx="7201080" cy="88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8. Aspectos Sócio-Culturais do Uso da Água e as Sociedades Tradicionai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8" name=""/>
          <p:cNvCxnSpPr/>
          <p:nvPr/>
        </p:nvCxnSpPr>
        <p:spPr>
          <a:xfrm flipV="1">
            <a:off x="1116000" y="1050480"/>
            <a:ext cx="505440" cy="21816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1187280" y="1741320"/>
            <a:ext cx="7885440" cy="48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Busca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inserir na discussão sobre gestão de recursos hídricos a dimensão cultural, enfatizando as “representações da água” nas diferentes culturas e, conseqüentemente, modos de vida da populaçã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presenta informações sobr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 relação das sociedades tradicionais e urbano-industriais com a água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 caracterização e distribuição das populações tradicionais, bem como alguns aspectos da sua relação com os Bioma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bs 1: utilizou-se como referência duas classificações para as populações tradicionais: (1) Povos Indígenas e (2) Populações Tradicionais não Indígenas (sertanajos, varjeiros, caboclos-ribeirinhos, entre outro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"/>
          <p:cNvGrpSpPr/>
          <p:nvPr/>
        </p:nvGrpSpPr>
        <p:grpSpPr>
          <a:xfrm>
            <a:off x="108000" y="984240"/>
            <a:ext cx="936720" cy="5472000"/>
            <a:chOff x="108000" y="984240"/>
            <a:chExt cx="936720" cy="5472000"/>
          </a:xfrm>
        </p:grpSpPr>
        <p:sp>
          <p:nvSpPr>
            <p:cNvPr id="221" name=""/>
            <p:cNvSpPr/>
            <p:nvPr/>
          </p:nvSpPr>
          <p:spPr>
            <a:xfrm rot="10800000">
              <a:off x="108000" y="984240"/>
              <a:ext cx="936720" cy="5472000"/>
            </a:xfrm>
            <a:custGeom>
              <a:avLst/>
              <a:gdLst>
                <a:gd name="textAreaLeft" fmla="*/ 360 w 936720"/>
                <a:gd name="textAreaRight" fmla="*/ 936360 w 936720"/>
                <a:gd name="textAreaTop" fmla="*/ 360 h 5472000"/>
                <a:gd name="textAreaBottom" fmla="*/ 5471640 h 5472000"/>
              </a:gdLst>
              <a:ahLst/>
              <a:rect l="textAreaLeft" t="textAreaTop" r="textAreaRight" b="textAreaBottom"/>
              <a:pathLst>
                <a:path w="21600" h="126140">
                  <a:moveTo>
                    <a:pt x="36" y="0"/>
                  </a:moveTo>
                  <a:arcTo wR="36" hR="36" stAng="16200000" swAng="-5400000"/>
                  <a:lnTo>
                    <a:pt x="0" y="126104"/>
                  </a:lnTo>
                  <a:arcTo wR="36" hR="36" stAng="10800000" swAng="-5400000"/>
                  <a:lnTo>
                    <a:pt x="21564" y="126140"/>
                  </a:lnTo>
                  <a:arcTo wR="36" hR="36" stAng="5400000" swAng="-5400000"/>
                  <a:lnTo>
                    <a:pt x="21600" y="36"/>
                  </a:lnTo>
                  <a:arcTo wR="36" hR="36" stAng="0" swAng="-5400000"/>
                  <a:close/>
                </a:path>
              </a:pathLst>
            </a:custGeom>
            <a:solidFill>
              <a:srgbClr val="ccfff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10800000">
              <a:off x="108000" y="984240"/>
              <a:ext cx="936720" cy="54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 vert="eaVer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Arial"/>
                </a:rPr>
                <a:t>Panorama e Estado dos Recursos Hídricosdo Brasi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1763640" y="692280"/>
            <a:ext cx="7201080" cy="519120"/>
            <a:chOff x="1763640" y="692280"/>
            <a:chExt cx="7201080" cy="519120"/>
          </a:xfrm>
        </p:grpSpPr>
        <p:sp>
          <p:nvSpPr>
            <p:cNvPr id="224" name=""/>
            <p:cNvSpPr/>
            <p:nvPr/>
          </p:nvSpPr>
          <p:spPr>
            <a:xfrm>
              <a:off x="1763640" y="692280"/>
              <a:ext cx="7201080" cy="519120"/>
            </a:xfrm>
            <a:prstGeom prst="roundRect">
              <a:avLst>
                <a:gd name="adj" fmla="val 306"/>
              </a:avLst>
            </a:prstGeom>
            <a:solidFill>
              <a:srgbClr val="cc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763640" y="692280"/>
              <a:ext cx="720108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9. Situação Atual das Águas do Brasi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26" name=""/>
          <p:cNvCxnSpPr/>
          <p:nvPr/>
        </p:nvCxnSpPr>
        <p:spPr>
          <a:xfrm flipV="1">
            <a:off x="1116000" y="980640"/>
            <a:ext cx="505440" cy="21816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7" name=""/>
          <p:cNvSpPr/>
          <p:nvPr/>
        </p:nvSpPr>
        <p:spPr>
          <a:xfrm>
            <a:off x="1143000" y="1463760"/>
            <a:ext cx="7885080" cy="47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presenta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 situação atual e o Programa de Modernização da rede hidrométrica (quali-quantitativa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um panorama da disponibilidade das águas superficiais e subterrâneas, tendo como referência, para as primeiras, as vazões médias, vazões de estiagem, vazões específicas e vazões regularizada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um panorama da qualidade das águas superficiais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um diagnóstico da situação das águas subterrâneas no País, com uma caracterização sucinta dos domínio hidrogeológicos, dos principais sistemas aquíferos e dos respectivos potenciais hídricos, bem como um panorama da sua qualidad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"/>
          <p:cNvGrpSpPr/>
          <p:nvPr/>
        </p:nvGrpSpPr>
        <p:grpSpPr>
          <a:xfrm>
            <a:off x="108000" y="984240"/>
            <a:ext cx="936720" cy="5472000"/>
            <a:chOff x="108000" y="984240"/>
            <a:chExt cx="936720" cy="5472000"/>
          </a:xfrm>
        </p:grpSpPr>
        <p:sp>
          <p:nvSpPr>
            <p:cNvPr id="229" name=""/>
            <p:cNvSpPr/>
            <p:nvPr/>
          </p:nvSpPr>
          <p:spPr>
            <a:xfrm rot="10800000">
              <a:off x="108000" y="984240"/>
              <a:ext cx="936720" cy="5472000"/>
            </a:xfrm>
            <a:custGeom>
              <a:avLst/>
              <a:gdLst>
                <a:gd name="textAreaLeft" fmla="*/ 360 w 936720"/>
                <a:gd name="textAreaRight" fmla="*/ 936360 w 936720"/>
                <a:gd name="textAreaTop" fmla="*/ 360 h 5472000"/>
                <a:gd name="textAreaBottom" fmla="*/ 5471640 h 5472000"/>
              </a:gdLst>
              <a:ahLst/>
              <a:rect l="textAreaLeft" t="textAreaTop" r="textAreaRight" b="textAreaBottom"/>
              <a:pathLst>
                <a:path w="21600" h="126140">
                  <a:moveTo>
                    <a:pt x="36" y="0"/>
                  </a:moveTo>
                  <a:arcTo wR="36" hR="36" stAng="16200000" swAng="-5400000"/>
                  <a:lnTo>
                    <a:pt x="0" y="126104"/>
                  </a:lnTo>
                  <a:arcTo wR="36" hR="36" stAng="10800000" swAng="-5400000"/>
                  <a:lnTo>
                    <a:pt x="21564" y="126140"/>
                  </a:lnTo>
                  <a:arcTo wR="36" hR="36" stAng="5400000" swAng="-5400000"/>
                  <a:lnTo>
                    <a:pt x="21600" y="36"/>
                  </a:lnTo>
                  <a:arcTo wR="36" hR="36" stAng="0" swAng="-5400000"/>
                  <a:close/>
                </a:path>
              </a:pathLst>
            </a:custGeom>
            <a:solidFill>
              <a:srgbClr val="ccfff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0800000">
              <a:off x="108000" y="984240"/>
              <a:ext cx="936720" cy="54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 vert="eaVer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Arial"/>
                </a:rPr>
                <a:t>Panorama e Estado dos Recursos Hídricosdo Brasi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763640" y="1081080"/>
            <a:ext cx="7201080" cy="519120"/>
            <a:chOff x="1763640" y="1081080"/>
            <a:chExt cx="7201080" cy="519120"/>
          </a:xfrm>
        </p:grpSpPr>
        <p:sp>
          <p:nvSpPr>
            <p:cNvPr id="232" name=""/>
            <p:cNvSpPr/>
            <p:nvPr/>
          </p:nvSpPr>
          <p:spPr>
            <a:xfrm>
              <a:off x="1763640" y="1081080"/>
              <a:ext cx="7201080" cy="519120"/>
            </a:xfrm>
            <a:prstGeom prst="roundRect">
              <a:avLst>
                <a:gd name="adj" fmla="val 306"/>
              </a:avLst>
            </a:prstGeom>
            <a:solidFill>
              <a:srgbClr val="cc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763640" y="1081080"/>
              <a:ext cx="720108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9. Situação das Águas do Brasil (cont...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34" name=""/>
          <p:cNvCxnSpPr/>
          <p:nvPr/>
        </p:nvCxnSpPr>
        <p:spPr>
          <a:xfrm flipV="1">
            <a:off x="1116000" y="1341000"/>
            <a:ext cx="505440" cy="21816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5" name=""/>
          <p:cNvSpPr/>
          <p:nvPr/>
        </p:nvSpPr>
        <p:spPr>
          <a:xfrm>
            <a:off x="1187280" y="2216160"/>
            <a:ext cx="7885440" cy="29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spectos relativos à captação e manejo das águas de chuva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 caracterização das demandas por recursos hídricos no País, considerando as vazões de retirada, de consumo e de retorno, bem como os aspectos qualitativos; 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o balanço entre as disponibilidades e as demandas por recursos hídricos, tendo como referência as vazões médias e de retirad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250920" y="2276640"/>
            <a:ext cx="8569080" cy="2135160"/>
            <a:chOff x="250920" y="2276640"/>
            <a:chExt cx="8569080" cy="2135160"/>
          </a:xfrm>
        </p:grpSpPr>
        <p:sp>
          <p:nvSpPr>
            <p:cNvPr id="47" name=""/>
            <p:cNvSpPr/>
            <p:nvPr/>
          </p:nvSpPr>
          <p:spPr>
            <a:xfrm>
              <a:off x="250920" y="2276640"/>
              <a:ext cx="8569080" cy="2135160"/>
            </a:xfrm>
            <a:prstGeom prst="roundRect">
              <a:avLst>
                <a:gd name="adj" fmla="val 74"/>
              </a:avLst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2276640"/>
              <a:ext cx="8569080" cy="21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GB" sz="4800" spc="-1" strike="noStrike">
                  <a:solidFill>
                    <a:srgbClr val="000000"/>
                  </a:solidFill>
                  <a:latin typeface="Arial"/>
                </a:rPr>
                <a:t>Panorama e Estado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GB" sz="4800" spc="-1" strike="noStrike">
                  <a:solidFill>
                    <a:srgbClr val="000000"/>
                  </a:solidFill>
                  <a:latin typeface="Arial"/>
                </a:rPr>
                <a:t>dos Recursos Hídricos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GB" sz="4800" spc="-1" strike="noStrike">
                  <a:solidFill>
                    <a:srgbClr val="000000"/>
                  </a:solidFill>
                  <a:latin typeface="Arial"/>
                </a:rPr>
                <a:t>do Brasil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108000" y="984240"/>
            <a:ext cx="936720" cy="5472000"/>
            <a:chOff x="108000" y="984240"/>
            <a:chExt cx="936720" cy="5472000"/>
          </a:xfrm>
        </p:grpSpPr>
        <p:sp>
          <p:nvSpPr>
            <p:cNvPr id="237" name=""/>
            <p:cNvSpPr/>
            <p:nvPr/>
          </p:nvSpPr>
          <p:spPr>
            <a:xfrm rot="10800000">
              <a:off x="108000" y="984240"/>
              <a:ext cx="936720" cy="5472000"/>
            </a:xfrm>
            <a:custGeom>
              <a:avLst/>
              <a:gdLst>
                <a:gd name="textAreaLeft" fmla="*/ 360 w 936720"/>
                <a:gd name="textAreaRight" fmla="*/ 936360 w 936720"/>
                <a:gd name="textAreaTop" fmla="*/ 360 h 5472000"/>
                <a:gd name="textAreaBottom" fmla="*/ 5471640 h 5472000"/>
              </a:gdLst>
              <a:ahLst/>
              <a:rect l="textAreaLeft" t="textAreaTop" r="textAreaRight" b="textAreaBottom"/>
              <a:pathLst>
                <a:path w="21600" h="126140">
                  <a:moveTo>
                    <a:pt x="36" y="0"/>
                  </a:moveTo>
                  <a:arcTo wR="36" hR="36" stAng="16200000" swAng="-5400000"/>
                  <a:lnTo>
                    <a:pt x="0" y="126104"/>
                  </a:lnTo>
                  <a:arcTo wR="36" hR="36" stAng="10800000" swAng="-5400000"/>
                  <a:lnTo>
                    <a:pt x="21564" y="126140"/>
                  </a:lnTo>
                  <a:arcTo wR="36" hR="36" stAng="5400000" swAng="-5400000"/>
                  <a:lnTo>
                    <a:pt x="21600" y="36"/>
                  </a:lnTo>
                  <a:arcTo wR="36" hR="36" stAng="0" swAng="-5400000"/>
                  <a:close/>
                </a:path>
              </a:pathLst>
            </a:custGeom>
            <a:solidFill>
              <a:srgbClr val="ccfff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10800000">
              <a:off x="108000" y="984240"/>
              <a:ext cx="936720" cy="54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 vert="eaVer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Arial"/>
                </a:rPr>
                <a:t>Panorama e Estado dos Recursos Hídricosdo Brasi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1763640" y="692280"/>
            <a:ext cx="7201080" cy="946080"/>
            <a:chOff x="1763640" y="692280"/>
            <a:chExt cx="7201080" cy="946080"/>
          </a:xfrm>
        </p:grpSpPr>
        <p:sp>
          <p:nvSpPr>
            <p:cNvPr id="240" name=""/>
            <p:cNvSpPr/>
            <p:nvPr/>
          </p:nvSpPr>
          <p:spPr>
            <a:xfrm>
              <a:off x="1763640" y="692280"/>
              <a:ext cx="7201080" cy="946080"/>
            </a:xfrm>
            <a:prstGeom prst="roundRect">
              <a:avLst>
                <a:gd name="adj" fmla="val 167"/>
              </a:avLst>
            </a:prstGeom>
            <a:solidFill>
              <a:srgbClr val="cc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763640" y="692280"/>
              <a:ext cx="7201080" cy="88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10. Experiências Existentes em Situações Especiais de Planejamento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42" name=""/>
          <p:cNvCxnSpPr/>
          <p:nvPr/>
        </p:nvCxnSpPr>
        <p:spPr>
          <a:xfrm flipV="1">
            <a:off x="1116000" y="1123560"/>
            <a:ext cx="505440" cy="21816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3" name=""/>
          <p:cNvSpPr/>
          <p:nvPr/>
        </p:nvSpPr>
        <p:spPr>
          <a:xfrm>
            <a:off x="1187280" y="2060640"/>
            <a:ext cx="7728120" cy="35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presenta experiências que, em função de suas particularidades, não adotam necessariamente a bacia hidrográfica como recorte para planejamento e gestão dos recursos hídricos, a saber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s áreas suscetíveis à desertificação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o Pantanal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 interligação de bacias do Sistema Cantareira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 interligação das bacias Paraíba do Sul e Guandú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 Lagoa Miri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"/>
          <p:cNvGrpSpPr/>
          <p:nvPr/>
        </p:nvGrpSpPr>
        <p:grpSpPr>
          <a:xfrm>
            <a:off x="108000" y="984240"/>
            <a:ext cx="936720" cy="5472000"/>
            <a:chOff x="108000" y="984240"/>
            <a:chExt cx="936720" cy="5472000"/>
          </a:xfrm>
        </p:grpSpPr>
        <p:sp>
          <p:nvSpPr>
            <p:cNvPr id="245" name=""/>
            <p:cNvSpPr/>
            <p:nvPr/>
          </p:nvSpPr>
          <p:spPr>
            <a:xfrm rot="10800000">
              <a:off x="108000" y="984240"/>
              <a:ext cx="936720" cy="5472000"/>
            </a:xfrm>
            <a:custGeom>
              <a:avLst/>
              <a:gdLst>
                <a:gd name="textAreaLeft" fmla="*/ 360 w 936720"/>
                <a:gd name="textAreaRight" fmla="*/ 936360 w 936720"/>
                <a:gd name="textAreaTop" fmla="*/ 360 h 5472000"/>
                <a:gd name="textAreaBottom" fmla="*/ 5471640 h 5472000"/>
              </a:gdLst>
              <a:ahLst/>
              <a:rect l="textAreaLeft" t="textAreaTop" r="textAreaRight" b="textAreaBottom"/>
              <a:pathLst>
                <a:path w="21600" h="126140">
                  <a:moveTo>
                    <a:pt x="36" y="0"/>
                  </a:moveTo>
                  <a:arcTo wR="36" hR="36" stAng="16200000" swAng="-5400000"/>
                  <a:lnTo>
                    <a:pt x="0" y="126104"/>
                  </a:lnTo>
                  <a:arcTo wR="36" hR="36" stAng="10800000" swAng="-5400000"/>
                  <a:lnTo>
                    <a:pt x="21564" y="126140"/>
                  </a:lnTo>
                  <a:arcTo wR="36" hR="36" stAng="5400000" swAng="-5400000"/>
                  <a:lnTo>
                    <a:pt x="21600" y="36"/>
                  </a:lnTo>
                  <a:arcTo wR="36" hR="36" stAng="0" swAng="-5400000"/>
                  <a:close/>
                </a:path>
              </a:pathLst>
            </a:custGeom>
            <a:solidFill>
              <a:srgbClr val="ccfff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10800000">
              <a:off x="108000" y="984240"/>
              <a:ext cx="936720" cy="54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 vert="eaVer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Arial"/>
                </a:rPr>
                <a:t>Panorama e Estado dos Recursos Hídricosdo Brasi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1763640" y="692280"/>
            <a:ext cx="7201080" cy="946080"/>
            <a:chOff x="1763640" y="692280"/>
            <a:chExt cx="7201080" cy="946080"/>
          </a:xfrm>
        </p:grpSpPr>
        <p:sp>
          <p:nvSpPr>
            <p:cNvPr id="248" name=""/>
            <p:cNvSpPr/>
            <p:nvPr/>
          </p:nvSpPr>
          <p:spPr>
            <a:xfrm>
              <a:off x="1763640" y="692280"/>
              <a:ext cx="7201080" cy="946080"/>
            </a:xfrm>
            <a:prstGeom prst="roundRect">
              <a:avLst>
                <a:gd name="adj" fmla="val 167"/>
              </a:avLst>
            </a:prstGeom>
            <a:solidFill>
              <a:srgbClr val="cc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763640" y="692280"/>
              <a:ext cx="7201080" cy="88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11. Desafios e Oportunidades para a Gestão das Águas do Brasil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50" name=""/>
          <p:cNvCxnSpPr/>
          <p:nvPr/>
        </p:nvCxnSpPr>
        <p:spPr>
          <a:xfrm flipV="1">
            <a:off x="1116000" y="1123560"/>
            <a:ext cx="505440" cy="21816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1" name=""/>
          <p:cNvSpPr/>
          <p:nvPr/>
        </p:nvSpPr>
        <p:spPr>
          <a:xfrm>
            <a:off x="1187280" y="2060640"/>
            <a:ext cx="7885440" cy="36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presenta a síntese das informações dos Capítulos anteriore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Enfatiza as oportunidades e os desafios para a gestão dos recursos hídricos no País, focando os seguintes tema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os usos múltiplos - Saneamento ambiental (abastecimento público, esgotamento sanitário, resíduos sólidos); agricultura e pecuária; geração de energia elétrica; indústria; transporte aquaviário; aqüicultura e pesca; e turismo e lazer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os conflitos pelo uso da água, apresentados de forma sucinta, por Região Hidrográfica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"/>
          <p:cNvGrpSpPr/>
          <p:nvPr/>
        </p:nvGrpSpPr>
        <p:grpSpPr>
          <a:xfrm>
            <a:off x="108000" y="984240"/>
            <a:ext cx="936720" cy="5472000"/>
            <a:chOff x="108000" y="984240"/>
            <a:chExt cx="936720" cy="5472000"/>
          </a:xfrm>
        </p:grpSpPr>
        <p:sp>
          <p:nvSpPr>
            <p:cNvPr id="253" name=""/>
            <p:cNvSpPr/>
            <p:nvPr/>
          </p:nvSpPr>
          <p:spPr>
            <a:xfrm rot="10800000">
              <a:off x="108000" y="984240"/>
              <a:ext cx="936720" cy="5472000"/>
            </a:xfrm>
            <a:custGeom>
              <a:avLst/>
              <a:gdLst>
                <a:gd name="textAreaLeft" fmla="*/ 360 w 936720"/>
                <a:gd name="textAreaRight" fmla="*/ 936360 w 936720"/>
                <a:gd name="textAreaTop" fmla="*/ 360 h 5472000"/>
                <a:gd name="textAreaBottom" fmla="*/ 5471640 h 5472000"/>
              </a:gdLst>
              <a:ahLst/>
              <a:rect l="textAreaLeft" t="textAreaTop" r="textAreaRight" b="textAreaBottom"/>
              <a:pathLst>
                <a:path w="21600" h="126140">
                  <a:moveTo>
                    <a:pt x="36" y="0"/>
                  </a:moveTo>
                  <a:arcTo wR="36" hR="36" stAng="16200000" swAng="-5400000"/>
                  <a:lnTo>
                    <a:pt x="0" y="126104"/>
                  </a:lnTo>
                  <a:arcTo wR="36" hR="36" stAng="10800000" swAng="-5400000"/>
                  <a:lnTo>
                    <a:pt x="21564" y="126140"/>
                  </a:lnTo>
                  <a:arcTo wR="36" hR="36" stAng="5400000" swAng="-5400000"/>
                  <a:lnTo>
                    <a:pt x="21600" y="36"/>
                  </a:lnTo>
                  <a:arcTo wR="36" hR="36" stAng="0" swAng="-5400000"/>
                  <a:close/>
                </a:path>
              </a:pathLst>
            </a:custGeom>
            <a:solidFill>
              <a:srgbClr val="ccfff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10800000">
              <a:off x="108000" y="984240"/>
              <a:ext cx="936720" cy="54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 vert="eaVer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Arial"/>
                </a:rPr>
                <a:t>Panorama e Estado dos Recursos Hídricosdo Brasi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1763640" y="692280"/>
            <a:ext cx="7201080" cy="946080"/>
            <a:chOff x="1763640" y="692280"/>
            <a:chExt cx="7201080" cy="946080"/>
          </a:xfrm>
        </p:grpSpPr>
        <p:sp>
          <p:nvSpPr>
            <p:cNvPr id="256" name=""/>
            <p:cNvSpPr/>
            <p:nvPr/>
          </p:nvSpPr>
          <p:spPr>
            <a:xfrm>
              <a:off x="1763640" y="692280"/>
              <a:ext cx="7201080" cy="946080"/>
            </a:xfrm>
            <a:prstGeom prst="roundRect">
              <a:avLst>
                <a:gd name="adj" fmla="val 167"/>
              </a:avLst>
            </a:prstGeom>
            <a:solidFill>
              <a:srgbClr val="cc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763640" y="692280"/>
              <a:ext cx="7201080" cy="88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11. Desafios e Oportunidades para a Gestão das Águas do Brasil (cont...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58" name=""/>
          <p:cNvCxnSpPr/>
          <p:nvPr/>
        </p:nvCxnSpPr>
        <p:spPr>
          <a:xfrm flipV="1">
            <a:off x="1116000" y="1123560"/>
            <a:ext cx="505440" cy="21816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9" name=""/>
          <p:cNvSpPr/>
          <p:nvPr/>
        </p:nvSpPr>
        <p:spPr>
          <a:xfrm>
            <a:off x="1187280" y="2060640"/>
            <a:ext cx="7885440" cy="42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s perspectivas de aproveitamento sustentável da água, com base nos seguintes condicionantes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- fatores físicos (clima e suceptibilidade erosiva dos solos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- bióticos, situação dos biomas e das ecorregiões aquática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- atividades produtivas instaladas; 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- o uso e ocupação da terr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uma Análise Síntese das Regiões Hidrográficas Brasileiras, tendo como referência a classificação dos corpos de água pela relação vazões de retirada/vazão média, e os desafios para a gestão visando a sustentabilidade hídric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250920" y="907920"/>
            <a:ext cx="8569080" cy="5135040"/>
            <a:chOff x="250920" y="907920"/>
            <a:chExt cx="8569080" cy="5135040"/>
          </a:xfrm>
        </p:grpSpPr>
        <p:sp>
          <p:nvSpPr>
            <p:cNvPr id="50" name=""/>
            <p:cNvSpPr/>
            <p:nvPr/>
          </p:nvSpPr>
          <p:spPr>
            <a:xfrm>
              <a:off x="250920" y="907920"/>
              <a:ext cx="8569080" cy="5133960"/>
            </a:xfrm>
            <a:prstGeom prst="roundRect">
              <a:avLst>
                <a:gd name="adj" fmla="val 28"/>
              </a:avLst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907920"/>
              <a:ext cx="8569080" cy="51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GB" sz="4800" spc="-1" strike="noStrike">
                  <a:solidFill>
                    <a:srgbClr val="000000"/>
                  </a:solidFill>
                  <a:latin typeface="Arial"/>
                </a:rPr>
                <a:t>Principais Insumos: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3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Documento Básico de Referência – DBR (SRH, ANA, 2005);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3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Estudos nacionais realizados pela Agência Nacional de Águas – ANA;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3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o Acúmulo dos trabalhos desenvolvidos em consonância com as Comissões Executivas Regionais – CERs para elaboração dos Cadernos Regionais de Recursos Hídricos;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3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pelos Cadernos Setoriais de Recursos Hídricos e;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3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pelos relatórios de Oficinas Temáticas e Setoriais Realizadas pela SRH/MMA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3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Contribuições dos membros da CT-PNRH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108000" y="839880"/>
            <a:ext cx="936720" cy="5472000"/>
            <a:chOff x="108000" y="839880"/>
            <a:chExt cx="936720" cy="5472000"/>
          </a:xfrm>
        </p:grpSpPr>
        <p:sp>
          <p:nvSpPr>
            <p:cNvPr id="53" name=""/>
            <p:cNvSpPr/>
            <p:nvPr/>
          </p:nvSpPr>
          <p:spPr>
            <a:xfrm rot="10800000">
              <a:off x="108000" y="839880"/>
              <a:ext cx="936720" cy="5472000"/>
            </a:xfrm>
            <a:custGeom>
              <a:avLst/>
              <a:gdLst>
                <a:gd name="textAreaLeft" fmla="*/ 360 w 936720"/>
                <a:gd name="textAreaRight" fmla="*/ 936360 w 936720"/>
                <a:gd name="textAreaTop" fmla="*/ 360 h 5472000"/>
                <a:gd name="textAreaBottom" fmla="*/ 5471640 h 5472000"/>
              </a:gdLst>
              <a:ahLst/>
              <a:rect l="textAreaLeft" t="textAreaTop" r="textAreaRight" b="textAreaBottom"/>
              <a:pathLst>
                <a:path w="21600" h="126140">
                  <a:moveTo>
                    <a:pt x="36" y="0"/>
                  </a:moveTo>
                  <a:arcTo wR="36" hR="36" stAng="16200000" swAng="-5400000"/>
                  <a:lnTo>
                    <a:pt x="0" y="126104"/>
                  </a:lnTo>
                  <a:arcTo wR="36" hR="36" stAng="10800000" swAng="-5400000"/>
                  <a:lnTo>
                    <a:pt x="21564" y="126140"/>
                  </a:lnTo>
                  <a:arcTo wR="36" hR="36" stAng="5400000" swAng="-5400000"/>
                  <a:lnTo>
                    <a:pt x="21600" y="36"/>
                  </a:lnTo>
                  <a:arcTo wR="36" hR="36" stAng="0" swAng="-5400000"/>
                  <a:close/>
                </a:path>
              </a:pathLst>
            </a:custGeom>
            <a:solidFill>
              <a:srgbClr val="ccfff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rot="10800000">
              <a:off x="108000" y="839880"/>
              <a:ext cx="936720" cy="54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 vert="eaVer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Arial"/>
                </a:rPr>
                <a:t>Panorama e Estado dos Recursos Hídricosdo Brasi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1403280" y="1790640"/>
            <a:ext cx="978120" cy="487440"/>
            <a:chOff x="1403280" y="1790640"/>
            <a:chExt cx="978120" cy="487440"/>
          </a:xfrm>
        </p:grpSpPr>
        <p:sp>
          <p:nvSpPr>
            <p:cNvPr id="56" name=""/>
            <p:cNvSpPr/>
            <p:nvPr/>
          </p:nvSpPr>
          <p:spPr>
            <a:xfrm>
              <a:off x="1555920" y="1790640"/>
              <a:ext cx="825480" cy="487440"/>
            </a:xfrm>
            <a:custGeom>
              <a:avLst/>
              <a:gdLst/>
              <a:ahLst/>
              <a:rect l="l" t="t" r="r" b="b"/>
              <a:pathLst>
                <a:path w="2291" h="1352">
                  <a:moveTo>
                    <a:pt x="0" y="337"/>
                  </a:moveTo>
                  <a:lnTo>
                    <a:pt x="1611" y="337"/>
                  </a:lnTo>
                  <a:lnTo>
                    <a:pt x="1611" y="0"/>
                  </a:lnTo>
                  <a:lnTo>
                    <a:pt x="2290" y="675"/>
                  </a:lnTo>
                  <a:lnTo>
                    <a:pt x="1611" y="1351"/>
                  </a:lnTo>
                  <a:lnTo>
                    <a:pt x="1611" y="1013"/>
                  </a:lnTo>
                  <a:lnTo>
                    <a:pt x="0" y="1013"/>
                  </a:lnTo>
                  <a:lnTo>
                    <a:pt x="0" y="337"/>
                  </a:lnTo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03280" y="1911240"/>
              <a:ext cx="30240" cy="244440"/>
            </a:xfrm>
            <a:custGeom>
              <a:avLst/>
              <a:gdLst/>
              <a:ahLst/>
              <a:rect l="l" t="t" r="r" b="b"/>
              <a:pathLst>
                <a:path w="85" h="677">
                  <a:moveTo>
                    <a:pt x="0" y="0"/>
                  </a:moveTo>
                  <a:lnTo>
                    <a:pt x="84" y="0"/>
                  </a:lnTo>
                  <a:lnTo>
                    <a:pt x="84" y="676"/>
                  </a:lnTo>
                  <a:lnTo>
                    <a:pt x="0" y="676"/>
                  </a:lnTo>
                  <a:lnTo>
                    <a:pt x="0" y="0"/>
                  </a:lnTo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463760" y="1911240"/>
              <a:ext cx="61920" cy="244440"/>
            </a:xfrm>
            <a:custGeom>
              <a:avLst/>
              <a:gdLst/>
              <a:ahLst/>
              <a:rect l="l" t="t" r="r" b="b"/>
              <a:pathLst>
                <a:path w="171" h="677">
                  <a:moveTo>
                    <a:pt x="0" y="0"/>
                  </a:moveTo>
                  <a:lnTo>
                    <a:pt x="170" y="0"/>
                  </a:lnTo>
                  <a:lnTo>
                    <a:pt x="170" y="676"/>
                  </a:lnTo>
                  <a:lnTo>
                    <a:pt x="0" y="676"/>
                  </a:lnTo>
                  <a:lnTo>
                    <a:pt x="0" y="0"/>
                  </a:lnTo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1403280" y="3159000"/>
            <a:ext cx="978120" cy="487440"/>
            <a:chOff x="1403280" y="3159000"/>
            <a:chExt cx="978120" cy="487440"/>
          </a:xfrm>
        </p:grpSpPr>
        <p:sp>
          <p:nvSpPr>
            <p:cNvPr id="60" name=""/>
            <p:cNvSpPr/>
            <p:nvPr/>
          </p:nvSpPr>
          <p:spPr>
            <a:xfrm>
              <a:off x="1555920" y="3159000"/>
              <a:ext cx="825480" cy="487440"/>
            </a:xfrm>
            <a:custGeom>
              <a:avLst/>
              <a:gdLst/>
              <a:ahLst/>
              <a:rect l="l" t="t" r="r" b="b"/>
              <a:pathLst>
                <a:path w="2291" h="1352">
                  <a:moveTo>
                    <a:pt x="0" y="337"/>
                  </a:moveTo>
                  <a:lnTo>
                    <a:pt x="1611" y="337"/>
                  </a:lnTo>
                  <a:lnTo>
                    <a:pt x="1611" y="0"/>
                  </a:lnTo>
                  <a:lnTo>
                    <a:pt x="2290" y="675"/>
                  </a:lnTo>
                  <a:lnTo>
                    <a:pt x="1611" y="1351"/>
                  </a:lnTo>
                  <a:lnTo>
                    <a:pt x="1611" y="1013"/>
                  </a:lnTo>
                  <a:lnTo>
                    <a:pt x="0" y="1013"/>
                  </a:lnTo>
                  <a:lnTo>
                    <a:pt x="0" y="337"/>
                  </a:lnTo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403280" y="3279600"/>
              <a:ext cx="30240" cy="244800"/>
            </a:xfrm>
            <a:custGeom>
              <a:avLst/>
              <a:gdLst/>
              <a:ahLst/>
              <a:rect l="l" t="t" r="r" b="b"/>
              <a:pathLst>
                <a:path w="85" h="677">
                  <a:moveTo>
                    <a:pt x="0" y="0"/>
                  </a:moveTo>
                  <a:lnTo>
                    <a:pt x="84" y="0"/>
                  </a:lnTo>
                  <a:lnTo>
                    <a:pt x="84" y="676"/>
                  </a:lnTo>
                  <a:lnTo>
                    <a:pt x="0" y="676"/>
                  </a:lnTo>
                  <a:lnTo>
                    <a:pt x="0" y="0"/>
                  </a:lnTo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463760" y="3279600"/>
              <a:ext cx="61920" cy="244800"/>
            </a:xfrm>
            <a:custGeom>
              <a:avLst/>
              <a:gdLst/>
              <a:ahLst/>
              <a:rect l="l" t="t" r="r" b="b"/>
              <a:pathLst>
                <a:path w="171" h="677">
                  <a:moveTo>
                    <a:pt x="0" y="0"/>
                  </a:moveTo>
                  <a:lnTo>
                    <a:pt x="170" y="0"/>
                  </a:lnTo>
                  <a:lnTo>
                    <a:pt x="170" y="676"/>
                  </a:lnTo>
                  <a:lnTo>
                    <a:pt x="0" y="676"/>
                  </a:lnTo>
                  <a:lnTo>
                    <a:pt x="0" y="0"/>
                  </a:lnTo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1403280" y="4527720"/>
            <a:ext cx="978120" cy="485640"/>
            <a:chOff x="1403280" y="4527720"/>
            <a:chExt cx="978120" cy="485640"/>
          </a:xfrm>
        </p:grpSpPr>
        <p:sp>
          <p:nvSpPr>
            <p:cNvPr id="64" name=""/>
            <p:cNvSpPr/>
            <p:nvPr/>
          </p:nvSpPr>
          <p:spPr>
            <a:xfrm>
              <a:off x="1555920" y="4527720"/>
              <a:ext cx="825480" cy="485640"/>
            </a:xfrm>
            <a:custGeom>
              <a:avLst/>
              <a:gdLst/>
              <a:ahLst/>
              <a:rect l="l" t="t" r="r" b="b"/>
              <a:pathLst>
                <a:path w="2291" h="1351">
                  <a:moveTo>
                    <a:pt x="0" y="337"/>
                  </a:moveTo>
                  <a:lnTo>
                    <a:pt x="1611" y="337"/>
                  </a:lnTo>
                  <a:lnTo>
                    <a:pt x="1611" y="0"/>
                  </a:lnTo>
                  <a:lnTo>
                    <a:pt x="2290" y="675"/>
                  </a:lnTo>
                  <a:lnTo>
                    <a:pt x="1611" y="1350"/>
                  </a:lnTo>
                  <a:lnTo>
                    <a:pt x="1611" y="1012"/>
                  </a:lnTo>
                  <a:lnTo>
                    <a:pt x="0" y="1012"/>
                  </a:lnTo>
                  <a:lnTo>
                    <a:pt x="0" y="337"/>
                  </a:lnTo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403280" y="4649760"/>
              <a:ext cx="30240" cy="243000"/>
            </a:xfrm>
            <a:custGeom>
              <a:avLst/>
              <a:gdLst/>
              <a:ahLst/>
              <a:rect l="l" t="t" r="r" b="b"/>
              <a:pathLst>
                <a:path w="85" h="676">
                  <a:moveTo>
                    <a:pt x="0" y="0"/>
                  </a:moveTo>
                  <a:lnTo>
                    <a:pt x="84" y="0"/>
                  </a:lnTo>
                  <a:lnTo>
                    <a:pt x="84" y="675"/>
                  </a:lnTo>
                  <a:lnTo>
                    <a:pt x="0" y="675"/>
                  </a:lnTo>
                  <a:lnTo>
                    <a:pt x="0" y="0"/>
                  </a:lnTo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463760" y="4649760"/>
              <a:ext cx="61920" cy="243000"/>
            </a:xfrm>
            <a:custGeom>
              <a:avLst/>
              <a:gdLst/>
              <a:ahLst/>
              <a:rect l="l" t="t" r="r" b="b"/>
              <a:pathLst>
                <a:path w="171" h="676">
                  <a:moveTo>
                    <a:pt x="0" y="0"/>
                  </a:moveTo>
                  <a:lnTo>
                    <a:pt x="170" y="0"/>
                  </a:lnTo>
                  <a:lnTo>
                    <a:pt x="170" y="675"/>
                  </a:lnTo>
                  <a:lnTo>
                    <a:pt x="0" y="675"/>
                  </a:lnTo>
                  <a:lnTo>
                    <a:pt x="0" y="0"/>
                  </a:lnTo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403280" y="5823000"/>
            <a:ext cx="978120" cy="485640"/>
            <a:chOff x="1403280" y="5823000"/>
            <a:chExt cx="978120" cy="485640"/>
          </a:xfrm>
        </p:grpSpPr>
        <p:sp>
          <p:nvSpPr>
            <p:cNvPr id="68" name=""/>
            <p:cNvSpPr/>
            <p:nvPr/>
          </p:nvSpPr>
          <p:spPr>
            <a:xfrm>
              <a:off x="1555920" y="5823000"/>
              <a:ext cx="825480" cy="485640"/>
            </a:xfrm>
            <a:custGeom>
              <a:avLst/>
              <a:gdLst/>
              <a:ahLst/>
              <a:rect l="l" t="t" r="r" b="b"/>
              <a:pathLst>
                <a:path w="2291" h="1351">
                  <a:moveTo>
                    <a:pt x="0" y="337"/>
                  </a:moveTo>
                  <a:lnTo>
                    <a:pt x="1611" y="337"/>
                  </a:lnTo>
                  <a:lnTo>
                    <a:pt x="1611" y="0"/>
                  </a:lnTo>
                  <a:lnTo>
                    <a:pt x="2290" y="675"/>
                  </a:lnTo>
                  <a:lnTo>
                    <a:pt x="1611" y="1350"/>
                  </a:lnTo>
                  <a:lnTo>
                    <a:pt x="1611" y="1012"/>
                  </a:lnTo>
                  <a:lnTo>
                    <a:pt x="0" y="1012"/>
                  </a:lnTo>
                  <a:lnTo>
                    <a:pt x="0" y="337"/>
                  </a:lnTo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403280" y="5943600"/>
              <a:ext cx="30240" cy="243000"/>
            </a:xfrm>
            <a:custGeom>
              <a:avLst/>
              <a:gdLst/>
              <a:ahLst/>
              <a:rect l="l" t="t" r="r" b="b"/>
              <a:pathLst>
                <a:path w="85" h="676">
                  <a:moveTo>
                    <a:pt x="0" y="0"/>
                  </a:moveTo>
                  <a:lnTo>
                    <a:pt x="84" y="0"/>
                  </a:lnTo>
                  <a:lnTo>
                    <a:pt x="84" y="675"/>
                  </a:lnTo>
                  <a:lnTo>
                    <a:pt x="0" y="675"/>
                  </a:lnTo>
                  <a:lnTo>
                    <a:pt x="0" y="0"/>
                  </a:lnTo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463760" y="5943600"/>
              <a:ext cx="61920" cy="243000"/>
            </a:xfrm>
            <a:custGeom>
              <a:avLst/>
              <a:gdLst/>
              <a:ahLst/>
              <a:rect l="l" t="t" r="r" b="b"/>
              <a:pathLst>
                <a:path w="171" h="676">
                  <a:moveTo>
                    <a:pt x="0" y="0"/>
                  </a:moveTo>
                  <a:lnTo>
                    <a:pt x="170" y="0"/>
                  </a:lnTo>
                  <a:lnTo>
                    <a:pt x="170" y="675"/>
                  </a:lnTo>
                  <a:lnTo>
                    <a:pt x="0" y="675"/>
                  </a:lnTo>
                  <a:lnTo>
                    <a:pt x="0" y="0"/>
                  </a:lnTo>
                </a:path>
              </a:pathLst>
            </a:custGeom>
            <a:solidFill>
              <a:srgbClr val="00b8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2687760" y="1609560"/>
            <a:ext cx="611964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texto Nacional e Internacional - Histórico e aspectos políticos, legais e institucionais da gestão integrada dos recursos hídricos no Bras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00360" y="2781360"/>
            <a:ext cx="611964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pectos que condicionam a demanda por recursos hídricos – macroeconômicos, ambientais e sócio-cultura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700360" y="4186080"/>
            <a:ext cx="611964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lanço entre a disponibilidade e a demanda por recursos hídricos e situações especiais de planejamen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00360" y="5630760"/>
            <a:ext cx="619272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álise integrada, desafios e oportunidades para a gestão dos recursos hídricos no Bras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59280" y="765000"/>
            <a:ext cx="58338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randes Blocos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108000" y="912960"/>
            <a:ext cx="936720" cy="5472000"/>
            <a:chOff x="108000" y="912960"/>
            <a:chExt cx="936720" cy="5472000"/>
          </a:xfrm>
        </p:grpSpPr>
        <p:sp>
          <p:nvSpPr>
            <p:cNvPr id="77" name=""/>
            <p:cNvSpPr/>
            <p:nvPr/>
          </p:nvSpPr>
          <p:spPr>
            <a:xfrm rot="10800000">
              <a:off x="108000" y="912960"/>
              <a:ext cx="936720" cy="5472000"/>
            </a:xfrm>
            <a:custGeom>
              <a:avLst/>
              <a:gdLst>
                <a:gd name="textAreaLeft" fmla="*/ 360 w 936720"/>
                <a:gd name="textAreaRight" fmla="*/ 936360 w 936720"/>
                <a:gd name="textAreaTop" fmla="*/ 360 h 5472000"/>
                <a:gd name="textAreaBottom" fmla="*/ 5471640 h 5472000"/>
              </a:gdLst>
              <a:ahLst/>
              <a:rect l="textAreaLeft" t="textAreaTop" r="textAreaRight" b="textAreaBottom"/>
              <a:pathLst>
                <a:path w="21600" h="126140">
                  <a:moveTo>
                    <a:pt x="36" y="0"/>
                  </a:moveTo>
                  <a:arcTo wR="36" hR="36" stAng="16200000" swAng="-5400000"/>
                  <a:lnTo>
                    <a:pt x="0" y="126104"/>
                  </a:lnTo>
                  <a:arcTo wR="36" hR="36" stAng="10800000" swAng="-5400000"/>
                  <a:lnTo>
                    <a:pt x="21564" y="126140"/>
                  </a:lnTo>
                  <a:arcTo wR="36" hR="36" stAng="5400000" swAng="-5400000"/>
                  <a:lnTo>
                    <a:pt x="21600" y="36"/>
                  </a:lnTo>
                  <a:arcTo wR="36" hR="36" stAng="0" swAng="-5400000"/>
                  <a:close/>
                </a:path>
              </a:pathLst>
            </a:custGeom>
            <a:solidFill>
              <a:srgbClr val="ccfff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0800000">
              <a:off x="108000" y="912960"/>
              <a:ext cx="936720" cy="54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 vert="eaVer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Arial"/>
                </a:rPr>
                <a:t>Panorama e Estado dos Recursos Hídricos do Brasi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1116000" y="836640"/>
            <a:ext cx="7848720" cy="1187280"/>
            <a:chOff x="1116000" y="836640"/>
            <a:chExt cx="7848720" cy="1187280"/>
          </a:xfrm>
        </p:grpSpPr>
        <p:sp>
          <p:nvSpPr>
            <p:cNvPr id="80" name=""/>
            <p:cNvSpPr/>
            <p:nvPr/>
          </p:nvSpPr>
          <p:spPr>
            <a:xfrm>
              <a:off x="1116000" y="836640"/>
              <a:ext cx="7848720" cy="1187280"/>
            </a:xfrm>
            <a:prstGeom prst="roundRect">
              <a:avLst>
                <a:gd name="adj" fmla="val 130"/>
              </a:avLst>
            </a:prstGeom>
            <a:solidFill>
              <a:srgbClr val="cc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116000" y="836640"/>
              <a:ext cx="7848720" cy="11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Contexto Nacional e Internacional - Histórico e aspectos políticos, legais e institucionais da gestão integrada dos recursos hídricos no Brasil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908000" y="2708280"/>
            <a:ext cx="709308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. Histórico do Desenvolvimento da Gestão Integrada dos R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8000" y="3614760"/>
            <a:ext cx="694872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. Base Jurídica e Institucional do Modelo de Gestão de Integ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71640" y="4551480"/>
            <a:ext cx="702144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. Situação Atual da Implementação da Política Nacional de R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08000" y="5559480"/>
            <a:ext cx="716472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5. Os Recursos Hídricos no Contexto das Relações Internaciona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08000" y="2133720"/>
            <a:ext cx="69138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. O Plano Nacional de Recursos Hídricos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108000" y="912960"/>
            <a:ext cx="936720" cy="5472000"/>
            <a:chOff x="108000" y="912960"/>
            <a:chExt cx="936720" cy="5472000"/>
          </a:xfrm>
        </p:grpSpPr>
        <p:sp>
          <p:nvSpPr>
            <p:cNvPr id="88" name=""/>
            <p:cNvSpPr/>
            <p:nvPr/>
          </p:nvSpPr>
          <p:spPr>
            <a:xfrm rot="10800000">
              <a:off x="108000" y="912960"/>
              <a:ext cx="936720" cy="5472000"/>
            </a:xfrm>
            <a:custGeom>
              <a:avLst/>
              <a:gdLst>
                <a:gd name="textAreaLeft" fmla="*/ 360 w 936720"/>
                <a:gd name="textAreaRight" fmla="*/ 936360 w 936720"/>
                <a:gd name="textAreaTop" fmla="*/ 360 h 5472000"/>
                <a:gd name="textAreaBottom" fmla="*/ 5471640 h 5472000"/>
              </a:gdLst>
              <a:ahLst/>
              <a:rect l="textAreaLeft" t="textAreaTop" r="textAreaRight" b="textAreaBottom"/>
              <a:pathLst>
                <a:path w="21600" h="126140">
                  <a:moveTo>
                    <a:pt x="36" y="0"/>
                  </a:moveTo>
                  <a:arcTo wR="36" hR="36" stAng="16200000" swAng="-5400000"/>
                  <a:lnTo>
                    <a:pt x="0" y="126104"/>
                  </a:lnTo>
                  <a:arcTo wR="36" hR="36" stAng="10800000" swAng="-5400000"/>
                  <a:lnTo>
                    <a:pt x="21564" y="126140"/>
                  </a:lnTo>
                  <a:arcTo wR="36" hR="36" stAng="5400000" swAng="-5400000"/>
                  <a:lnTo>
                    <a:pt x="21600" y="36"/>
                  </a:lnTo>
                  <a:arcTo wR="36" hR="36" stAng="0" swAng="-5400000"/>
                  <a:close/>
                </a:path>
              </a:pathLst>
            </a:custGeom>
            <a:solidFill>
              <a:srgbClr val="ccfff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0800000">
              <a:off x="108000" y="912960"/>
              <a:ext cx="936720" cy="54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 vert="eaVer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Arial"/>
                </a:rPr>
                <a:t>Panorama e Estado dos Recursos Hídricos do Brasi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1116000" y="836640"/>
            <a:ext cx="7848720" cy="822240"/>
            <a:chOff x="1116000" y="836640"/>
            <a:chExt cx="7848720" cy="822240"/>
          </a:xfrm>
        </p:grpSpPr>
        <p:sp>
          <p:nvSpPr>
            <p:cNvPr id="91" name=""/>
            <p:cNvSpPr/>
            <p:nvPr/>
          </p:nvSpPr>
          <p:spPr>
            <a:xfrm>
              <a:off x="1116000" y="836640"/>
              <a:ext cx="7848720" cy="822240"/>
            </a:xfrm>
            <a:prstGeom prst="roundRect">
              <a:avLst>
                <a:gd name="adj" fmla="val 190"/>
              </a:avLst>
            </a:prstGeom>
            <a:solidFill>
              <a:srgbClr val="cc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116000" y="836640"/>
              <a:ext cx="7848720" cy="77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Aspectos que condicionam a demanda por recursos hídricos – macroeconômicos, ambientais e sócio-culturai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1835280" y="1952640"/>
            <a:ext cx="705960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6. Conjuntura Macro Econômica e os Recursos Hídr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71640" y="2822400"/>
            <a:ext cx="752472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7. Biomas, Ecorregiões Aquáticas e os Principais Ecossist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08000" y="4046400"/>
            <a:ext cx="716472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8. Aspectos Sócio-Culturais do Uso da Água e as Sociedades Tradicion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108000" y="912960"/>
            <a:ext cx="936720" cy="5472000"/>
            <a:chOff x="108000" y="912960"/>
            <a:chExt cx="936720" cy="5472000"/>
          </a:xfrm>
        </p:grpSpPr>
        <p:sp>
          <p:nvSpPr>
            <p:cNvPr id="97" name=""/>
            <p:cNvSpPr/>
            <p:nvPr/>
          </p:nvSpPr>
          <p:spPr>
            <a:xfrm rot="10800000">
              <a:off x="108000" y="912960"/>
              <a:ext cx="936720" cy="5472000"/>
            </a:xfrm>
            <a:custGeom>
              <a:avLst/>
              <a:gdLst>
                <a:gd name="textAreaLeft" fmla="*/ 360 w 936720"/>
                <a:gd name="textAreaRight" fmla="*/ 936360 w 936720"/>
                <a:gd name="textAreaTop" fmla="*/ 360 h 5472000"/>
                <a:gd name="textAreaBottom" fmla="*/ 5471640 h 5472000"/>
              </a:gdLst>
              <a:ahLst/>
              <a:rect l="textAreaLeft" t="textAreaTop" r="textAreaRight" b="textAreaBottom"/>
              <a:pathLst>
                <a:path w="21600" h="126140">
                  <a:moveTo>
                    <a:pt x="36" y="0"/>
                  </a:moveTo>
                  <a:arcTo wR="36" hR="36" stAng="16200000" swAng="-5400000"/>
                  <a:lnTo>
                    <a:pt x="0" y="126104"/>
                  </a:lnTo>
                  <a:arcTo wR="36" hR="36" stAng="10800000" swAng="-5400000"/>
                  <a:lnTo>
                    <a:pt x="21564" y="126140"/>
                  </a:lnTo>
                  <a:arcTo wR="36" hR="36" stAng="5400000" swAng="-5400000"/>
                  <a:lnTo>
                    <a:pt x="21600" y="36"/>
                  </a:lnTo>
                  <a:arcTo wR="36" hR="36" stAng="0" swAng="-5400000"/>
                  <a:close/>
                </a:path>
              </a:pathLst>
            </a:custGeom>
            <a:solidFill>
              <a:srgbClr val="ccfff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rot="10800000">
              <a:off x="108000" y="912960"/>
              <a:ext cx="936720" cy="54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 vert="eaVer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Arial"/>
                </a:rPr>
                <a:t>Panorama e Estado dos Recursos Hídricosdo Brasi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116000" y="836640"/>
            <a:ext cx="7848720" cy="822240"/>
            <a:chOff x="1116000" y="836640"/>
            <a:chExt cx="7848720" cy="822240"/>
          </a:xfrm>
        </p:grpSpPr>
        <p:sp>
          <p:nvSpPr>
            <p:cNvPr id="100" name=""/>
            <p:cNvSpPr/>
            <p:nvPr/>
          </p:nvSpPr>
          <p:spPr>
            <a:xfrm>
              <a:off x="1116000" y="836640"/>
              <a:ext cx="7848720" cy="822240"/>
            </a:xfrm>
            <a:prstGeom prst="roundRect">
              <a:avLst>
                <a:gd name="adj" fmla="val 190"/>
              </a:avLst>
            </a:prstGeom>
            <a:solidFill>
              <a:srgbClr val="cc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116000" y="836640"/>
              <a:ext cx="7848720" cy="77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Balanço entre a disponibilidade e a demanda por recursos hídricos e situações especiais de planejamento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1835280" y="1952640"/>
            <a:ext cx="705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9. Situação das Águas do Brasil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63640" y="2565360"/>
            <a:ext cx="752472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0. Experiências Existentes em Situações Especiais de     Planejamento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295280" y="3645000"/>
            <a:ext cx="7848720" cy="822240"/>
            <a:chOff x="1295280" y="3645000"/>
            <a:chExt cx="7848720" cy="822240"/>
          </a:xfrm>
        </p:grpSpPr>
        <p:sp>
          <p:nvSpPr>
            <p:cNvPr id="105" name=""/>
            <p:cNvSpPr/>
            <p:nvPr/>
          </p:nvSpPr>
          <p:spPr>
            <a:xfrm>
              <a:off x="1295280" y="3645000"/>
              <a:ext cx="7848720" cy="822240"/>
            </a:xfrm>
            <a:prstGeom prst="roundRect">
              <a:avLst>
                <a:gd name="adj" fmla="val 190"/>
              </a:avLst>
            </a:prstGeom>
            <a:solidFill>
              <a:srgbClr val="cc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295280" y="3645000"/>
              <a:ext cx="7848720" cy="77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Análise integrada, desafios e oportunidades para a gestão dos recursos hídrico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1908000" y="4795920"/>
            <a:ext cx="676764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1. Desafios e Oportunidades para a Gestão das Águas do Bras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108000" y="839880"/>
            <a:ext cx="936720" cy="5472000"/>
            <a:chOff x="108000" y="839880"/>
            <a:chExt cx="936720" cy="5472000"/>
          </a:xfrm>
        </p:grpSpPr>
        <p:sp>
          <p:nvSpPr>
            <p:cNvPr id="109" name=""/>
            <p:cNvSpPr/>
            <p:nvPr/>
          </p:nvSpPr>
          <p:spPr>
            <a:xfrm rot="10800000">
              <a:off x="108000" y="839880"/>
              <a:ext cx="936720" cy="5472000"/>
            </a:xfrm>
            <a:custGeom>
              <a:avLst/>
              <a:gdLst>
                <a:gd name="textAreaLeft" fmla="*/ 360 w 936720"/>
                <a:gd name="textAreaRight" fmla="*/ 936360 w 936720"/>
                <a:gd name="textAreaTop" fmla="*/ 360 h 5472000"/>
                <a:gd name="textAreaBottom" fmla="*/ 5471640 h 5472000"/>
              </a:gdLst>
              <a:ahLst/>
              <a:rect l="textAreaLeft" t="textAreaTop" r="textAreaRight" b="textAreaBottom"/>
              <a:pathLst>
                <a:path w="21600" h="126140">
                  <a:moveTo>
                    <a:pt x="36" y="0"/>
                  </a:moveTo>
                  <a:arcTo wR="36" hR="36" stAng="16200000" swAng="-5400000"/>
                  <a:lnTo>
                    <a:pt x="0" y="126104"/>
                  </a:lnTo>
                  <a:arcTo wR="36" hR="36" stAng="10800000" swAng="-5400000"/>
                  <a:lnTo>
                    <a:pt x="21564" y="126140"/>
                  </a:lnTo>
                  <a:arcTo wR="36" hR="36" stAng="5400000" swAng="-5400000"/>
                  <a:lnTo>
                    <a:pt x="21600" y="36"/>
                  </a:lnTo>
                  <a:arcTo wR="36" hR="36" stAng="0" swAng="-5400000"/>
                  <a:close/>
                </a:path>
              </a:pathLst>
            </a:custGeom>
            <a:solidFill>
              <a:srgbClr val="ccfff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10800000">
              <a:off x="108000" y="839880"/>
              <a:ext cx="936720" cy="54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 vert="eaVer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Arial"/>
                </a:rPr>
                <a:t>Panorama e Estado dos Recursos Hídricosdo Brasi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981080" y="762120"/>
            <a:ext cx="6985080" cy="396720"/>
            <a:chOff x="1981080" y="762120"/>
            <a:chExt cx="6985080" cy="396720"/>
          </a:xfrm>
        </p:grpSpPr>
        <p:sp>
          <p:nvSpPr>
            <p:cNvPr id="112" name=""/>
            <p:cNvSpPr/>
            <p:nvPr/>
          </p:nvSpPr>
          <p:spPr>
            <a:xfrm>
              <a:off x="1981080" y="762120"/>
              <a:ext cx="6985080" cy="396720"/>
            </a:xfrm>
            <a:prstGeom prst="roundRect">
              <a:avLst>
                <a:gd name="adj" fmla="val 398"/>
              </a:avLst>
            </a:prstGeom>
            <a:solidFill>
              <a:srgbClr val="cc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981080" y="762120"/>
              <a:ext cx="698508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1. O Plano Nacional de Recursos Hídricos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1979640" y="3429000"/>
            <a:ext cx="6194520" cy="396720"/>
            <a:chOff x="1979640" y="3429000"/>
            <a:chExt cx="6194520" cy="396720"/>
          </a:xfrm>
        </p:grpSpPr>
        <p:sp>
          <p:nvSpPr>
            <p:cNvPr id="115" name=""/>
            <p:cNvSpPr/>
            <p:nvPr/>
          </p:nvSpPr>
          <p:spPr>
            <a:xfrm>
              <a:off x="1979640" y="3429000"/>
              <a:ext cx="6194520" cy="396720"/>
            </a:xfrm>
            <a:prstGeom prst="roundRect">
              <a:avLst>
                <a:gd name="adj" fmla="val 398"/>
              </a:avLst>
            </a:prstGeom>
            <a:solidFill>
              <a:srgbClr val="cc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979640" y="3429000"/>
              <a:ext cx="619452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6. Conjuntura Macro Econômica e os Recursos Hídric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979640" y="3933720"/>
            <a:ext cx="7164360" cy="397080"/>
            <a:chOff x="1979640" y="3933720"/>
            <a:chExt cx="7164360" cy="397080"/>
          </a:xfrm>
        </p:grpSpPr>
        <p:sp>
          <p:nvSpPr>
            <p:cNvPr id="118" name=""/>
            <p:cNvSpPr/>
            <p:nvPr/>
          </p:nvSpPr>
          <p:spPr>
            <a:xfrm>
              <a:off x="1979640" y="3933720"/>
              <a:ext cx="7164360" cy="397080"/>
            </a:xfrm>
            <a:prstGeom prst="roundRect">
              <a:avLst>
                <a:gd name="adj" fmla="val 398"/>
              </a:avLst>
            </a:prstGeom>
            <a:solidFill>
              <a:srgbClr val="cc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79640" y="3933720"/>
              <a:ext cx="716436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7. Biomas, Ecorregiões Aquáticas e os Principais Ecossitem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979640" y="4365720"/>
            <a:ext cx="7164360" cy="701640"/>
            <a:chOff x="1979640" y="4365720"/>
            <a:chExt cx="7164360" cy="701640"/>
          </a:xfrm>
        </p:grpSpPr>
        <p:sp>
          <p:nvSpPr>
            <p:cNvPr id="121" name=""/>
            <p:cNvSpPr/>
            <p:nvPr/>
          </p:nvSpPr>
          <p:spPr>
            <a:xfrm>
              <a:off x="1979640" y="4365720"/>
              <a:ext cx="7164360" cy="701640"/>
            </a:xfrm>
            <a:prstGeom prst="roundRect">
              <a:avLst>
                <a:gd name="adj" fmla="val 222"/>
              </a:avLst>
            </a:prstGeom>
            <a:solidFill>
              <a:srgbClr val="cc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79640" y="4365720"/>
              <a:ext cx="716436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8. Aspectos Sócio-Culturais do Uso da Água e as Sociedades Tradiciona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1979640" y="5084640"/>
            <a:ext cx="5473800" cy="397080"/>
            <a:chOff x="1979640" y="5084640"/>
            <a:chExt cx="5473800" cy="397080"/>
          </a:xfrm>
        </p:grpSpPr>
        <p:sp>
          <p:nvSpPr>
            <p:cNvPr id="124" name=""/>
            <p:cNvSpPr/>
            <p:nvPr/>
          </p:nvSpPr>
          <p:spPr>
            <a:xfrm>
              <a:off x="1979640" y="5084640"/>
              <a:ext cx="5473800" cy="397080"/>
            </a:xfrm>
            <a:prstGeom prst="roundRect">
              <a:avLst>
                <a:gd name="adj" fmla="val 398"/>
              </a:avLst>
            </a:prstGeom>
            <a:solidFill>
              <a:srgbClr val="cc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79640" y="5084640"/>
              <a:ext cx="547380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9. Situação das Águas do Brasi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1979640" y="6165720"/>
            <a:ext cx="6913440" cy="397080"/>
            <a:chOff x="1979640" y="6165720"/>
            <a:chExt cx="6913440" cy="397080"/>
          </a:xfrm>
        </p:grpSpPr>
        <p:sp>
          <p:nvSpPr>
            <p:cNvPr id="127" name=""/>
            <p:cNvSpPr/>
            <p:nvPr/>
          </p:nvSpPr>
          <p:spPr>
            <a:xfrm>
              <a:off x="1979640" y="6165720"/>
              <a:ext cx="6913440" cy="397080"/>
            </a:xfrm>
            <a:prstGeom prst="roundRect">
              <a:avLst>
                <a:gd name="adj" fmla="val 398"/>
              </a:avLst>
            </a:prstGeom>
            <a:solidFill>
              <a:srgbClr val="cc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979640" y="6165720"/>
              <a:ext cx="691344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11. Desafios e Oportunidades para a Gestão das Águas do Brasi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1979640" y="5445000"/>
            <a:ext cx="6913440" cy="701640"/>
            <a:chOff x="1979640" y="5445000"/>
            <a:chExt cx="6913440" cy="701640"/>
          </a:xfrm>
        </p:grpSpPr>
        <p:sp>
          <p:nvSpPr>
            <p:cNvPr id="130" name=""/>
            <p:cNvSpPr/>
            <p:nvPr/>
          </p:nvSpPr>
          <p:spPr>
            <a:xfrm>
              <a:off x="1979640" y="5445000"/>
              <a:ext cx="6913440" cy="701640"/>
            </a:xfrm>
            <a:prstGeom prst="roundRect">
              <a:avLst>
                <a:gd name="adj" fmla="val 222"/>
              </a:avLst>
            </a:prstGeom>
            <a:solidFill>
              <a:srgbClr val="cc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79640" y="5445000"/>
              <a:ext cx="69134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10. Experiências Existentes em Situações Especiais de Planejamento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979640" y="1341360"/>
            <a:ext cx="7129440" cy="397080"/>
            <a:chOff x="1979640" y="1341360"/>
            <a:chExt cx="7129440" cy="397080"/>
          </a:xfrm>
        </p:grpSpPr>
        <p:sp>
          <p:nvSpPr>
            <p:cNvPr id="133" name=""/>
            <p:cNvSpPr/>
            <p:nvPr/>
          </p:nvSpPr>
          <p:spPr>
            <a:xfrm>
              <a:off x="1979640" y="1341360"/>
              <a:ext cx="7129440" cy="397080"/>
            </a:xfrm>
            <a:prstGeom prst="roundRect">
              <a:avLst>
                <a:gd name="adj" fmla="val 398"/>
              </a:avLst>
            </a:prstGeom>
            <a:solidFill>
              <a:srgbClr val="cc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79640" y="1341360"/>
              <a:ext cx="712944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2. Histórico do Desenvolvimento da Gestão Integrada dos R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1979640" y="1916280"/>
            <a:ext cx="7164360" cy="396720"/>
            <a:chOff x="1979640" y="1916280"/>
            <a:chExt cx="7164360" cy="396720"/>
          </a:xfrm>
        </p:grpSpPr>
        <p:sp>
          <p:nvSpPr>
            <p:cNvPr id="136" name=""/>
            <p:cNvSpPr/>
            <p:nvPr/>
          </p:nvSpPr>
          <p:spPr>
            <a:xfrm>
              <a:off x="1979640" y="1916280"/>
              <a:ext cx="7164360" cy="396720"/>
            </a:xfrm>
            <a:prstGeom prst="roundRect">
              <a:avLst>
                <a:gd name="adj" fmla="val 398"/>
              </a:avLst>
            </a:prstGeom>
            <a:solidFill>
              <a:srgbClr val="cc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979640" y="1916280"/>
              <a:ext cx="716436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3. Base Jurídica e Institucional do Modelo de Gestão de Integra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1979640" y="2421000"/>
            <a:ext cx="7164360" cy="396720"/>
            <a:chOff x="1979640" y="2421000"/>
            <a:chExt cx="7164360" cy="396720"/>
          </a:xfrm>
        </p:grpSpPr>
        <p:sp>
          <p:nvSpPr>
            <p:cNvPr id="139" name=""/>
            <p:cNvSpPr/>
            <p:nvPr/>
          </p:nvSpPr>
          <p:spPr>
            <a:xfrm>
              <a:off x="1979640" y="2421000"/>
              <a:ext cx="7164360" cy="396720"/>
            </a:xfrm>
            <a:prstGeom prst="roundRect">
              <a:avLst>
                <a:gd name="adj" fmla="val 398"/>
              </a:avLst>
            </a:prstGeom>
            <a:solidFill>
              <a:srgbClr val="cc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979640" y="2421000"/>
              <a:ext cx="716436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4. Situação Atual da Implementação da Política Nacional de R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979640" y="2924280"/>
            <a:ext cx="7164360" cy="396720"/>
            <a:chOff x="1979640" y="2924280"/>
            <a:chExt cx="7164360" cy="396720"/>
          </a:xfrm>
        </p:grpSpPr>
        <p:sp>
          <p:nvSpPr>
            <p:cNvPr id="142" name=""/>
            <p:cNvSpPr/>
            <p:nvPr/>
          </p:nvSpPr>
          <p:spPr>
            <a:xfrm>
              <a:off x="1979640" y="2924280"/>
              <a:ext cx="7164360" cy="396720"/>
            </a:xfrm>
            <a:prstGeom prst="roundRect">
              <a:avLst>
                <a:gd name="adj" fmla="val 398"/>
              </a:avLst>
            </a:prstGeom>
            <a:solidFill>
              <a:srgbClr val="cc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79640" y="2924280"/>
              <a:ext cx="716436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2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5. Os Recursos Hídricos no Contexto das Relações Internacionai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1676520" y="838080"/>
            <a:ext cx="457200" cy="2514600"/>
          </a:xfrm>
          <a:custGeom>
            <a:avLst/>
            <a:gdLst/>
            <a:ahLst/>
            <a:rect l="l" t="t" r="r" b="b"/>
            <a:pathLst>
              <a:path w="1272" h="6987">
                <a:moveTo>
                  <a:pt x="1271" y="0"/>
                </a:moveTo>
                <a:cubicBezTo>
                  <a:pt x="953" y="0"/>
                  <a:pt x="635" y="291"/>
                  <a:pt x="635" y="582"/>
                </a:cubicBezTo>
                <a:lnTo>
                  <a:pt x="635" y="2910"/>
                </a:lnTo>
                <a:cubicBezTo>
                  <a:pt x="635" y="3201"/>
                  <a:pt x="317" y="3493"/>
                  <a:pt x="0" y="3493"/>
                </a:cubicBezTo>
                <a:cubicBezTo>
                  <a:pt x="317" y="3493"/>
                  <a:pt x="635" y="3784"/>
                  <a:pt x="635" y="4075"/>
                </a:cubicBezTo>
                <a:lnTo>
                  <a:pt x="635" y="6403"/>
                </a:lnTo>
                <a:cubicBezTo>
                  <a:pt x="635" y="6694"/>
                  <a:pt x="953" y="6986"/>
                  <a:pt x="1271" y="698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28800" y="3505320"/>
            <a:ext cx="228600" cy="1600200"/>
          </a:xfrm>
          <a:custGeom>
            <a:avLst/>
            <a:gdLst/>
            <a:ahLst/>
            <a:rect l="l" t="t" r="r" b="b"/>
            <a:pathLst>
              <a:path w="637" h="4447">
                <a:moveTo>
                  <a:pt x="636" y="0"/>
                </a:moveTo>
                <a:cubicBezTo>
                  <a:pt x="477" y="0"/>
                  <a:pt x="318" y="185"/>
                  <a:pt x="318" y="370"/>
                </a:cubicBezTo>
                <a:lnTo>
                  <a:pt x="318" y="1852"/>
                </a:lnTo>
                <a:cubicBezTo>
                  <a:pt x="318" y="2037"/>
                  <a:pt x="159" y="2223"/>
                  <a:pt x="0" y="2223"/>
                </a:cubicBezTo>
                <a:cubicBezTo>
                  <a:pt x="159" y="2223"/>
                  <a:pt x="318" y="2408"/>
                  <a:pt x="318" y="2593"/>
                </a:cubicBezTo>
                <a:lnTo>
                  <a:pt x="318" y="4075"/>
                </a:lnTo>
                <a:cubicBezTo>
                  <a:pt x="318" y="4260"/>
                  <a:pt x="477" y="4446"/>
                  <a:pt x="636" y="444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05120" y="5181480"/>
            <a:ext cx="152280" cy="992160"/>
          </a:xfrm>
          <a:custGeom>
            <a:avLst/>
            <a:gdLst/>
            <a:ahLst/>
            <a:rect l="l" t="t" r="r" b="b"/>
            <a:pathLst>
              <a:path w="425" h="2754">
                <a:moveTo>
                  <a:pt x="424" y="0"/>
                </a:moveTo>
                <a:cubicBezTo>
                  <a:pt x="318" y="0"/>
                  <a:pt x="212" y="114"/>
                  <a:pt x="212" y="229"/>
                </a:cubicBezTo>
                <a:lnTo>
                  <a:pt x="212" y="1147"/>
                </a:lnTo>
                <a:cubicBezTo>
                  <a:pt x="212" y="1261"/>
                  <a:pt x="106" y="1376"/>
                  <a:pt x="0" y="1376"/>
                </a:cubicBezTo>
                <a:cubicBezTo>
                  <a:pt x="106" y="1376"/>
                  <a:pt x="212" y="1491"/>
                  <a:pt x="212" y="1605"/>
                </a:cubicBezTo>
                <a:lnTo>
                  <a:pt x="212" y="2523"/>
                </a:lnTo>
                <a:cubicBezTo>
                  <a:pt x="212" y="2638"/>
                  <a:pt x="318" y="2753"/>
                  <a:pt x="424" y="275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05120" y="6248520"/>
            <a:ext cx="152280" cy="304560"/>
          </a:xfrm>
          <a:custGeom>
            <a:avLst/>
            <a:gdLst/>
            <a:ahLst/>
            <a:rect l="l" t="t" r="r" b="b"/>
            <a:pathLst>
              <a:path w="425" h="848">
                <a:moveTo>
                  <a:pt x="424" y="0"/>
                </a:moveTo>
                <a:cubicBezTo>
                  <a:pt x="318" y="0"/>
                  <a:pt x="212" y="35"/>
                  <a:pt x="212" y="70"/>
                </a:cubicBezTo>
                <a:lnTo>
                  <a:pt x="212" y="352"/>
                </a:lnTo>
                <a:cubicBezTo>
                  <a:pt x="212" y="388"/>
                  <a:pt x="106" y="423"/>
                  <a:pt x="0" y="423"/>
                </a:cubicBezTo>
                <a:cubicBezTo>
                  <a:pt x="106" y="423"/>
                  <a:pt x="212" y="458"/>
                  <a:pt x="212" y="494"/>
                </a:cubicBezTo>
                <a:lnTo>
                  <a:pt x="212" y="776"/>
                </a:lnTo>
                <a:cubicBezTo>
                  <a:pt x="212" y="811"/>
                  <a:pt x="318" y="847"/>
                  <a:pt x="424" y="84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108000" y="984240"/>
            <a:ext cx="936720" cy="5472000"/>
            <a:chOff x="108000" y="984240"/>
            <a:chExt cx="936720" cy="5472000"/>
          </a:xfrm>
        </p:grpSpPr>
        <p:sp>
          <p:nvSpPr>
            <p:cNvPr id="149" name=""/>
            <p:cNvSpPr/>
            <p:nvPr/>
          </p:nvSpPr>
          <p:spPr>
            <a:xfrm rot="10800000">
              <a:off x="108000" y="984240"/>
              <a:ext cx="936720" cy="5472000"/>
            </a:xfrm>
            <a:custGeom>
              <a:avLst/>
              <a:gdLst>
                <a:gd name="textAreaLeft" fmla="*/ 360 w 936720"/>
                <a:gd name="textAreaRight" fmla="*/ 936360 w 936720"/>
                <a:gd name="textAreaTop" fmla="*/ 360 h 5472000"/>
                <a:gd name="textAreaBottom" fmla="*/ 5471640 h 5472000"/>
              </a:gdLst>
              <a:ahLst/>
              <a:rect l="textAreaLeft" t="textAreaTop" r="textAreaRight" b="textAreaBottom"/>
              <a:pathLst>
                <a:path w="21600" h="126140">
                  <a:moveTo>
                    <a:pt x="36" y="0"/>
                  </a:moveTo>
                  <a:arcTo wR="36" hR="36" stAng="16200000" swAng="-5400000"/>
                  <a:lnTo>
                    <a:pt x="0" y="126104"/>
                  </a:lnTo>
                  <a:arcTo wR="36" hR="36" stAng="10800000" swAng="-5400000"/>
                  <a:lnTo>
                    <a:pt x="21564" y="126140"/>
                  </a:lnTo>
                  <a:arcTo wR="36" hR="36" stAng="5400000" swAng="-5400000"/>
                  <a:lnTo>
                    <a:pt x="21600" y="36"/>
                  </a:lnTo>
                  <a:arcTo wR="36" hR="36" stAng="0" swAng="-5400000"/>
                  <a:close/>
                </a:path>
              </a:pathLst>
            </a:custGeom>
            <a:solidFill>
              <a:srgbClr val="ccfff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10800000">
              <a:off x="108000" y="984240"/>
              <a:ext cx="936720" cy="54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 vert="eaVer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Arial"/>
                </a:rPr>
                <a:t>Panorama e Estado dos Recursos Hídricosdo Brasi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1763640" y="685800"/>
            <a:ext cx="7129440" cy="519120"/>
            <a:chOff x="1763640" y="685800"/>
            <a:chExt cx="7129440" cy="519120"/>
          </a:xfrm>
        </p:grpSpPr>
        <p:sp>
          <p:nvSpPr>
            <p:cNvPr id="152" name=""/>
            <p:cNvSpPr/>
            <p:nvPr/>
          </p:nvSpPr>
          <p:spPr>
            <a:xfrm>
              <a:off x="1763640" y="685800"/>
              <a:ext cx="7129440" cy="519120"/>
            </a:xfrm>
            <a:prstGeom prst="roundRect">
              <a:avLst>
                <a:gd name="adj" fmla="val 306"/>
              </a:avLst>
            </a:prstGeom>
            <a:solidFill>
              <a:srgbClr val="cc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63640" y="685800"/>
              <a:ext cx="712944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7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1. O Plano Nacional de Recursos Hídricos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4" name=""/>
          <p:cNvCxnSpPr/>
          <p:nvPr/>
        </p:nvCxnSpPr>
        <p:spPr>
          <a:xfrm flipV="1">
            <a:off x="1116000" y="980640"/>
            <a:ext cx="505440" cy="21816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187280" y="1219320"/>
            <a:ext cx="7705800" cy="52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Histórico da construção do Plano Nacional de Recursos Hídricos, desde a iniciativa do DNAEE em 1985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Bases conceituais assumidas e o processo de construção do PNRH, destacand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s discussões da CT-PNRH desde a sua criação em 1999 e a prioridade ao planejamento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 afirmação dos princípios estabelecidos na Política Nacional de Recursos Hídrico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 articulação de uma base técnica consistente com um amplo processo de participação e envolvimento social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s vertentes de trabalho: i) Nacional, por meio das análises vertical, horizontal e transversal, e ii) Regional, o processo de formação e as atividades desenvolvidas em conjunto com as CER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