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1A51-4534-4F4F-8743-9571874B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2F7C-6072-4C07-BA4F-9CC33DAE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752D-B587-4F2F-9CED-694D63A59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5F8C-037B-4252-A886-CE7F42AA8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1101-68E5-4579-AAD0-53957623C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A2941-0F7E-4E37-B149-29C9FBA1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2975-6E6C-4A39-987B-5EF46560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9B842-3E24-4FE5-B749-F57C50D4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8A91-0A03-45B1-9D5C-942425C1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5F740-239C-456E-957A-AF06F5D5E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4708-0FD3-42DD-8856-F7956B2C2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131D-7FCC-44DA-A450-7E226FF4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30ADA-588B-495A-991E-13A972FF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0502-4FE4-4009-8CDA-E753015A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D188-90C2-42C3-9172-7A84BDCA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E7688-76A7-41D6-8926-754123414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E71C-946D-47DC-862A-A873D5997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27AF-EC4B-4A58-B7C7-3BF8ED4AA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757E-111A-4910-9C05-4D21B8CD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7787-3EEC-481D-A276-930269687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03F-6D23-4853-93A6-8004F5E3D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B10D-9590-43C5-98F5-929FEC50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2BA-85CC-48F1-AC1D-15997EFC7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A766-5CEF-4954-8A6E-27D13AA0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D6B6F-017A-4DAF-9EB0-706C14D6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B8F4-B08D-4433-AFDD-6D0F463337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0920" y="981000"/>
            <a:ext cx="86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UNIÃO DA CÂMARA TÉCNICA DO PLANO NACIONAL DE RECURSOS HÍD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14800" y="6157080"/>
            <a:ext cx="29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Brasília, janeiro de 2006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3637080" y="2852640"/>
            <a:ext cx="2158920" cy="1752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508464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ROGRAMAS NACIONAIS E M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continu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68360" y="17002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6 - Planos de Recursos Hídricos e Enquadra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rpos Hídricos em Classes de Us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8360" y="29242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7 – Aplicação de Instrumentos Econômicos à Gestã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cobrança, outros instrumentos econômicos, mecanismo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ensação financei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4005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8 – Sistema Nacional de Informações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9 - Apoio ao Desenvolvimento de Sistemas de Suporte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apoio técnico à solução de conflit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68360" y="105264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V. Desenvolvimento Tecnológico, Capacitação 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municação Social em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68360" y="2346480"/>
            <a:ext cx="8280360" cy="865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V.1 – Desenvolvimento e Consolidação de Conhecimento e de Avanç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ecnológicos em Gestã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articulado ao CT-Hidro – atuar nas lacunas de conhecimento, inovaçã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8360" y="3643200"/>
            <a:ext cx="8280360" cy="1152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2 – Capacitação e Educação Ambiental com Foco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formar multiplicadores, educação ambiental, articulação com MEC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usão de boas prática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360" y="5229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V.3 – Comunicação Social em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difusão, formação de redes, ações específicas para envolvimento de municípios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765000"/>
            <a:ext cx="8280360" cy="863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V. Programa de Articulação Intersetorial, Interinstitucio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 Intra-institucional da Gestão de Recursos Hídricos</a:t>
            </a: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131920"/>
            <a:ext cx="8280360" cy="8654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.1 – Avaliação de Impactos Setoriais na 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360" y="3357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.2 – Compatibilização e Integração de Projetos Setoriais e Incorpor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e Diretrizes de Interesse para a GI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692280"/>
            <a:ext cx="8280360" cy="649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. Programa de Aproveitamento Múltiplo e Contr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egrad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484280"/>
            <a:ext cx="8280360" cy="720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1 – Gestão em Áreas Sujeitas a Eventos Hidrológicos Cr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14172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3 – Gestão de Demandas, Resolução de Conflito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o Múltiplo e Integrad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407664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4 – Intervenções Integradas em Saneamento e Gestão Ambiental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rsos Hídricos no Meio Urbano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interfaces com a área de recurs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ídricos, RH como fonte complementar, instrumentos, sinergias Min. Cidad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508464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5 – Ações Integradas de Conservação de Solos e Água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ejo de Micro-bacias no Meio Rur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349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2 –Gestão da Oferta, Ampliação, Racionalização e Reuso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5950080"/>
            <a:ext cx="8280360" cy="792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.6 – Estudos sobre Critérios e Objetivos Múltiplos voltados à Definiç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trições Operativas em Reservatórios de Geração Hidrelétr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76356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. Programas Setoriais voltados aos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2131920"/>
            <a:ext cx="8280360" cy="10810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1 – Despoluição de Bacias Hidr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aspectos técnicos dos sistemas de tratament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ssociadas a metas de avanço do SINGREH)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8280360" cy="107928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II.2 – Otimização do Uso da Água em Cultivos Irrig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(modernização das práticas de irrigação, otimização de regr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Operacionais, articulação MI e MAPA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68360" y="765000"/>
            <a:ext cx="8280360" cy="9352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III. Programa Nacional de Águas Subterrân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191628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X. Programa de Gestão de Recursos Hídricos Integ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o Gerenciamento Cost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3068640"/>
            <a:ext cx="8280360" cy="865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. Programa de Gestão Ambiental de Recur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ídricos na Região Amazô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4363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. Programa de Conservação das Águas no Panta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68360" y="5300640"/>
            <a:ext cx="828036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. Programa de Gestão Sustentável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 e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vivência com o Semi-árido Brasil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08000" y="2563920"/>
            <a:ext cx="8964720" cy="108108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XIII. Programa de Gerenciamento Executivo e de Monitoramento e Avaliação da Implement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o PNR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08000" y="62064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9280" y="1700280"/>
            <a:ext cx="896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A concepção de indicadores deverá considerar a dimensão e a diversidade sócioambiental do País, a complexidade institucional em que se insere o PNRH e os seus propósitos em relação à GIRH         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4000" y="4653000"/>
            <a:ext cx="882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stabelecer um foco para os trabalhos de implementação, monitoramento e avaliação do Plan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916360" y="3716280"/>
            <a:ext cx="355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variada gama de a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302724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332320"/>
            <a:ext cx="485640" cy="617760"/>
          </a:xfrm>
          <a:prstGeom prst="downArrow">
            <a:avLst>
              <a:gd name="adj1" fmla="val 50000"/>
              <a:gd name="adj2" fmla="val 318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84720" y="4106880"/>
            <a:ext cx="485640" cy="617400"/>
          </a:xfrm>
          <a:prstGeom prst="downArrow">
            <a:avLst>
              <a:gd name="adj1" fmla="val 50000"/>
              <a:gd name="adj2" fmla="val 3178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9280" y="595008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Verdana"/>
              </a:rPr>
              <a:t>Sistema de Gerenciamento Orientado para Resultados (SIGEOR)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08000" y="619560"/>
            <a:ext cx="896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 subsídio a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GEOR propõe-se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o </a:t>
            </a:r>
            <a:r>
              <a:rPr b="1" lang="en-US" sz="2200" spc="-1" strike="noStrike">
                <a:solidFill>
                  <a:srgbClr val="0066ff"/>
                </a:solidFill>
                <a:latin typeface="Verdana"/>
              </a:rPr>
              <a:t>Sistema de Implantação, Monitoramento e Avaliação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do PNR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184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08360" y="155736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08360" y="765000"/>
            <a:ext cx="144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nte: ANA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08000" y="1019160"/>
            <a:ext cx="896472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UM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ESTRUTURA DE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SCRIÇÃO GERAL DOS PROGRAMAS DO PLANO NACIONAL DE RECURSOS HÍDR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RENCIAMENTO E SISTEMÁTICA DE MONITORAMENTO E AVALI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S METAS DO PLANO NACIONAL DE RECURSOS HÍDRIC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08000" y="54936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Verdana"/>
              </a:rPr>
              <a:t>AS METAS DO PNR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200960"/>
            <a:ext cx="878544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diretrize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orientam a tomada de decisão traduzida em programas e subprograma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program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estabelecem os marcos operacionais para o alcance dos objetivos, geral e estratégicos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vinculadas aos indicadores de monitoramento e avaliação, são estabelecidas para aferir os resultados intermediários, alimentando a construção do ciclo virtuoso do planejamento-ação-indução-controle-aperfeiçoamento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devem traduzir a efetividade das ações propostas e ser estabelecidas de forma realísticas;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para a formulação das</a:t>
            </a:r>
            <a:r>
              <a:rPr b="0" lang="pt-BR" sz="1900" spc="-1" strike="noStrike">
                <a:solidFill>
                  <a:srgbClr val="0066ff"/>
                </a:solidFill>
                <a:latin typeface="Verdana"/>
              </a:rPr>
              <a:t> </a:t>
            </a:r>
            <a:r>
              <a:rPr b="0" i="1" lang="pt-BR" sz="1900" spc="-1" strike="noStrike">
                <a:solidFill>
                  <a:srgbClr val="0066ff"/>
                </a:solidFill>
                <a:latin typeface="Verdana"/>
              </a:rPr>
              <a:t>metas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 são consideradas cinco variáveis: </a:t>
            </a:r>
            <a:r>
              <a:rPr b="1" lang="pt-BR" sz="1900" spc="-1" strike="noStrike">
                <a:solidFill>
                  <a:srgbClr val="000000"/>
                </a:solidFill>
                <a:latin typeface="Verdana"/>
              </a:rPr>
              <a:t>especificidade; mensurabilidade; exeqüibilidade; relevância e tempo</a:t>
            </a:r>
            <a:r>
              <a:rPr b="0" lang="pt-BR" sz="1900" spc="-1" strike="noStrike">
                <a:solidFill>
                  <a:srgbClr val="000000"/>
                </a:solidFill>
                <a:latin typeface="Verdana"/>
              </a:rPr>
              <a:t>, bem como os fundamentos que estabeleceram os marcos referenciais para a elaboração do PNRH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1414440"/>
            <a:ext cx="8785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optou-se por privilegiar, no horizonte emergencial, a formulação de metas de performance e de processo em relação às metas de resultad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porque o alcance dos objetivos finalísticos, essência do Plano Nacional de Recursos Hídricos, está intimamente relacionado a ações de diversos agentes políticos e sociais, com agendas próp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... as metas exeqüíveis na fase inicial que impulsiona a implementação do PNRH, se atêm aos processos de construção efetiva das parceri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108000" y="814320"/>
          <a:ext cx="8869320" cy="5710320"/>
        </p:xfrm>
        <a:graphic>
          <a:graphicData uri="http://schemas.openxmlformats.org/drawingml/2006/table">
            <a:tbl>
              <a:tblPr/>
              <a:tblGrid>
                <a:gridCol w="3039840"/>
                <a:gridCol w="5829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25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 Elaborar e aprovar no âmbito do CNRH documento denominado Estratégia de Implement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laborado após a aprovação do PNRH, definindo como materializar as propostos do Pla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strumentos econômicos e os mecanismos institucionais, extra-SINGREH, a serem adotado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dentificação de fontes orçamentárias e de financiamento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canismos de integração entre SISNAMA e SINGREH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71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ortalecimento de inserção do SINGREH nas demais políticas públic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- Desenvolver, propor e aprovar o SIGEOR, no âmbito do C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truturação do SIGEOR em consonância com as competências da SRH/MMA, ANA e CNRH, visando o controle e à avaliação do PNRH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- Detalhar, no nível operacional, e implementar o Sistema de Implantação, Monitoramento e Avaliação do PNRH e o Sub-sistema de Informações de Monitoramento e Avaliação do PN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sociado a essa tarefa está o início da implementação do programa estabelecido para o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 Programa III -Desenvolvimento e Implementação de Instrumentos de Gestão de Recursos Hídrico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, detalhado na meta 4 apresentada a segu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34920" y="708120"/>
          <a:ext cx="9144000" cy="6033960"/>
        </p:xfrm>
        <a:graphic>
          <a:graphicData uri="http://schemas.openxmlformats.org/drawingml/2006/table">
            <a:tbl>
              <a:tblPr/>
              <a:tblGrid>
                <a:gridCol w="3305160"/>
                <a:gridCol w="5838840"/>
              </a:tblGrid>
              <a:tr h="603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- Implementar as ações para a efetivação programa estabelecido para o </a:t>
                      </a:r>
                      <a:r>
                        <a:rPr b="1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 - Programa III -Desenvolvimento e Implementação de Instrumentos de Gestão de Recursos Hídricos</a:t>
                      </a: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 5 dos seus 9 Subprograma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- Cadastro Nacional de Usos e Usuários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- Rede Hidrológica Quali-Quantitativa Nacion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- Processamento, Armazenamento, Interpretação e Difusão de Informação Hidrológica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- Sistema Nacional de Informações de Recursos Hídrico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- Apoio ao Desenvolvimento de Sistemas de Suporte à Decisão1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44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sforços humanos e orçamentários para o fortalecimento e implementação das ações para a viabilidade de implementação dos 5 Subprogramas, devendo: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presentar ao CNRH um cronograma físico-financeiro no qual deverão estar descritas metas de resultados para cada um dos 9 subprogramas, incluindo atores, responsáveis, fontes orçamentárias e de financiamento;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umento da capacidade, eficiência e eficácia do Sistema Nacional de Informaçõe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257040" y="811080"/>
          <a:ext cx="8778960" cy="5713560"/>
        </p:xfrm>
        <a:graphic>
          <a:graphicData uri="http://schemas.openxmlformats.org/drawingml/2006/table">
            <a:tbl>
              <a:tblPr/>
              <a:tblGrid>
                <a:gridCol w="3235320"/>
                <a:gridCol w="5543640"/>
              </a:tblGrid>
              <a:tr h="571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- Detalhar, no nível operacional, os Programas e Subprogramas estabelecidos e aprovados, juntamente com o PNRH, para os Componentes Gestão Nacional e Gerenciamento Integ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IRH no Brasi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Estudos Estratégicos sobre Recursos Hídricos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Desenvolvimento Institucional da GIRH no Brasil e seus 4 Subprogramas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II -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e Implementação de Instrumentos de Gestão de Recursos Hídricos  e 4 dos seus 9 Subprograma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esenvolvimento Tecnológico, Capacitação e Comunicação Social em Recursos Hídricos e seus 3 Subprogram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 e Intra-institucional da GIR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Articulação Intersetorial, Inter e Intra-institucional da Gestão de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Wingdings" charset="2"/>
                        <a:buChar char="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: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.</a:t>
                      </a: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de Usos Múltiplos e Gestão Integrada de Recursos Hídricos e seus 6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8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1238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: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Setoriais voltados aos Recursos Hídricos e seus 2 Subprogra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179280" y="1003320"/>
          <a:ext cx="8820360" cy="3476520"/>
        </p:xfrm>
        <a:graphic>
          <a:graphicData uri="http://schemas.openxmlformats.org/drawingml/2006/table">
            <a:tbl>
              <a:tblPr/>
              <a:tblGrid>
                <a:gridCol w="88203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 - Detalhar, no nível operacional, os Programas e Subprogramas estabelecidos e aprovados, juntamente com o PNRH, para o Componente de Programas Regionais de Recursos Hídrico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VIII: Programa Nacional de Águas Subterrâne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IX: Gestão de Recursos Hídricos Integrados ao Gerenciamento Cost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: Gestão Ambiental de Recursos Hídricos na Região Amazôn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: Conservação das Águas no Panta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 XII: Gestão Sustentável de Recursos Hídricos e Convivência com o Semi-árido Brasil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8000" y="620640"/>
            <a:ext cx="901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Verdana"/>
              </a:rPr>
              <a:t>A ESTRUTURA DE PROGRAMAS DO PLANO NACIONAL DE RECURSOS HÍD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49400" y="1557360"/>
            <a:ext cx="8886600" cy="46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 PNRH foi estruturado em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componentes, 13 programas e 30 subprogra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m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voltado para o  ordenamento institucional da GIRH no Brasil, para os instrumentos da política e ações de capacitação e comunicação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gund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temas relacionados aos setores usuários e aos usos múltiplos dos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erceir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expressa ações em Situações Especiais de Planej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Quarto componente</a:t>
            </a:r>
            <a:r>
              <a:rPr b="1" i="1" lang="en-US" sz="1800" spc="-1" strike="noStrike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valiações sistemáticas do processo de implementação do Plano Nacional de Recursos Hídricos e do alcance de seu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245200" y="1405080"/>
            <a:ext cx="1990800" cy="4832280"/>
          </a:xfrm>
          <a:prstGeom prst="rect">
            <a:avLst/>
          </a:prstGeom>
          <a:gradFill rotWithShape="0">
            <a:gsLst>
              <a:gs pos="0">
                <a:srgbClr val="5e7575"/>
              </a:gs>
              <a:gs pos="50000">
                <a:srgbClr val="ccffff">
                  <a:alpha val="38039"/>
                </a:srgbClr>
              </a:gs>
              <a:gs pos="100000">
                <a:srgbClr val="5e75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PL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RECURS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80"/>
                </a:solidFill>
                <a:latin typeface="Verdana"/>
              </a:rPr>
              <a:t>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1484280"/>
            <a:ext cx="45558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1 –Desenvolvimento da GIRH no Brasi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637000"/>
            <a:ext cx="460980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Componente 2 – Articulação Intersetorial, Interinstitucional e Intrainstitucional da GI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3880" y="4294080"/>
            <a:ext cx="4218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3 – Programas Regionais de Recursos Hídric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5688000"/>
            <a:ext cx="42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Componente 4 –Gerenciamento de Implementação do PN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19280" y="356544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125800"/>
            <a:ext cx="635040" cy="43956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19280" y="5149800"/>
            <a:ext cx="635040" cy="439920"/>
          </a:xfrm>
          <a:custGeom>
            <a:avLst/>
            <a:gdLst/>
            <a:ahLst/>
            <a:rect l="l" t="t" r="r" b="b"/>
            <a:pathLst>
              <a:path w="662" h="662">
                <a:moveTo>
                  <a:pt x="0" y="172"/>
                </a:moveTo>
                <a:lnTo>
                  <a:pt x="330" y="0"/>
                </a:lnTo>
                <a:lnTo>
                  <a:pt x="661" y="172"/>
                </a:lnTo>
                <a:lnTo>
                  <a:pt x="435" y="172"/>
                </a:lnTo>
                <a:lnTo>
                  <a:pt x="435" y="488"/>
                </a:lnTo>
                <a:lnTo>
                  <a:pt x="661" y="488"/>
                </a:lnTo>
                <a:lnTo>
                  <a:pt x="330" y="661"/>
                </a:lnTo>
                <a:lnTo>
                  <a:pt x="0" y="488"/>
                </a:lnTo>
                <a:lnTo>
                  <a:pt x="225" y="488"/>
                </a:lnTo>
                <a:lnTo>
                  <a:pt x="225" y="172"/>
                </a:lnTo>
                <a:lnTo>
                  <a:pt x="0" y="172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66699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-6336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rutura de Programas do PN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765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358920"/>
          <a:ext cx="9144000" cy="651492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50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Desenvolvimento da Gestão Integrada dos Recursos Hídricos - -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. Programa de Estudos Estratégicos sobr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. Programa de Desenvolvimento Institucional da GIRH no Bras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II. Programa de Desenvolvimento e Implementação de Instrumentos de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V. Desenvolvimento Tecnológico, Capacitação e Comunicação Social em Recursos Hídrico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7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a Articulação Intersetorial, Interinstitucional e Intrainstitucional da GI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. Programa de Articulação Intersetorial, Interinstitucional e Intrainstitucional da Gestão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. Programa de Usos Múltiplos e Gestão Integrada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. Programas Setoriais voltados aos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Programas Regionais de Recursos Hídr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III. Programa Nacional de Águas Subterrân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X. Programa de Gestão de Recursos Hídricos Integrados ao Gerenciamento Cost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. Programa de Gestão Ambiental de Recursos Hídricos na Região Amazônic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. Programa de Conservação das Águas no Panta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. Programa de Gestão Sustentável de Recursos Hídricos e Convivência com o Semi-árido Brasilei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mponente de Gerenciament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III. Programa de Gerenciamento Executivo e de Monitoramento e Avaliação da Implementação do PN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 flipV="1">
            <a:off x="4800600" y="5911920"/>
            <a:ext cx="750960" cy="457200"/>
          </a:xfrm>
          <a:prstGeom prst="wedgeRectCallout">
            <a:avLst>
              <a:gd name="adj1" fmla="val -58708"/>
              <a:gd name="adj2" fmla="val -103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ções Gerenciais</a:t>
            </a:r>
            <a:r>
              <a:rPr b="0" lang="en-U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565440" y="76320"/>
            <a:ext cx="9144000" cy="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-3565440" y="76320"/>
            <a:ext cx="33145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565440" y="76320"/>
            <a:ext cx="5029200" cy="3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11600" y="16588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11600" y="1117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1600" y="18813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11600" y="2735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4920" y="155520"/>
          <a:ext cx="8370720" cy="6729480"/>
        </p:xfrm>
        <a:graphic>
          <a:graphicData uri="http://schemas.openxmlformats.org/drawingml/2006/table">
            <a:tbl>
              <a:tblPr/>
              <a:tblGrid>
                <a:gridCol w="649080"/>
                <a:gridCol w="2692440"/>
                <a:gridCol w="1714320"/>
                <a:gridCol w="1371600"/>
                <a:gridCol w="1943280"/>
              </a:tblGrid>
              <a:tr h="792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ão Tempo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rogramas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8000" rIns="18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ções e objetivos ao longo do te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13">
                  <a:txBody>
                    <a:bodyPr lIns="18000" rIns="90000" tIns="46800" bIns="46800" anchor="b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imensões Técnicas e Grau de Ênf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udos Estratégicos sobr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variáveis críticas e estratégicas, transversais ao Plan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tualizar periodicamente os estudos, acompanhando alterações de fatores estratég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Institucional da GIRH no Brasi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stalar as bases institucionais e legais do SINGREH e dos SEGRH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Conferir sustentabilidade aos Sistemas Nacional e Estadu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ncorporar ajustes e inovaçõ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e Implementação de Instrumentos de Gestão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mplementar os instrumentos que conferem efetividade à GI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ção continuada de ajustes, aprimoramento e inovaçã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Desenvolvimento Tecnológico, Capacitação e Comunicação Social em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o transversal continuado à implementação dos programas e interação dos atores sociais junto ao PNRH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rticulação Intersetorial, Inter e Intra-institucional da Gestão de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Identificar e interferir de modo pró-ativo em investimentos de setores usuári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anter a articulação intersetorial, inter e intra-institucional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Usos Múltiplos e Gestão Integrada de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r a oferta e a demanda, gerir o s eventos críticos e conflitos por usos múltiplos, mantendo a coordenação e integração de ações institucionais e estrutura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Setoriais voltados aos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estruturais com ênfases em temas setoriais prioritários, na perspectiva dos recursos hídrico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gramas Regionais em Recursos Hídric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romover ações integradas em regiões que exigem abordagens especializada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Gerenciamento, Monitoramento e Avaliação da Execução do PNR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poiar a execução, monitorar e avaliar os avanços obtidos nos produtos intermediários e nos resultados substantivos do Plano, subsidiando adequações periódica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7" name=""/>
          <p:cNvSpPr/>
          <p:nvPr/>
        </p:nvSpPr>
        <p:spPr>
          <a:xfrm>
            <a:off x="252360" y="1197000"/>
            <a:ext cx="358920" cy="5616720"/>
          </a:xfrm>
          <a:prstGeom prst="downArrow">
            <a:avLst>
              <a:gd name="adj1" fmla="val 50000"/>
              <a:gd name="adj2" fmla="val 3912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4360" y="333360"/>
            <a:ext cx="7632720" cy="431640"/>
          </a:xfrm>
          <a:prstGeom prst="rightArrow">
            <a:avLst>
              <a:gd name="adj1" fmla="val 50000"/>
              <a:gd name="adj2" fmla="val 4420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88360" y="765000"/>
            <a:ext cx="684360" cy="3025800"/>
          </a:xfrm>
          <a:prstGeom prst="leftArrowCallout">
            <a:avLst>
              <a:gd name="adj1" fmla="val 110544"/>
              <a:gd name="adj2" fmla="val 110534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Institucionais Estrutur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8360" y="3860640"/>
            <a:ext cx="684360" cy="2017800"/>
          </a:xfrm>
          <a:prstGeom prst="leftArrowCallout">
            <a:avLst>
              <a:gd name="adj1" fmla="val 73718"/>
              <a:gd name="adj2" fmla="val 73711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Verdana"/>
              </a:rPr>
              <a:t>Ações Físcas e Institucion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8360" y="5877000"/>
            <a:ext cx="684360" cy="1008000"/>
          </a:xfrm>
          <a:prstGeom prst="leftArrowCallout">
            <a:avLst>
              <a:gd name="adj1" fmla="val 36826"/>
              <a:gd name="adj2" fmla="val 36823"/>
              <a:gd name="adj3" fmla="val 16667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ções Gerenci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buClr>
                <a:srgbClr val="00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grama de Estudos Estratégicos sob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1844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1 - Estudos Estratégicos sobre Contexto Macro-econômico Global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ção Geopolítica da GIRH no Contexto Latino-americano e Caribenh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2925720"/>
            <a:ext cx="8280360" cy="93672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2 - Estudos Estratégicos sobre Cenários Nacionais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envolvimento e Impactos Regionais que afetam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stã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9640" y="4078440"/>
            <a:ext cx="8280360" cy="122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.3 – Implementação de Acordos Internacionais em Corpos de Águ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ransfronteiriços e Desenvolviment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strumentos de Gestão e de Apoio à Decis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rtilhados com países vizinh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58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.4 – Estudos para a Definição de Unidades Territoriais para 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alação de Modelos Institucionais e Respectiv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mentos de Gestão de Recursos Hídri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468360" y="90792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. Programa de Desenvolvimento Institu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a GIRH no Brasi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68360" y="1917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1 - Organização e Apoio ao SINGREH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(atuação dos entes do Sistem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mites, articulação, formas de interação dos Planos, representação, representatividade)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2997360"/>
            <a:ext cx="8280360" cy="93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2 – Apoio à Organização de SEGRH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(convênios de cooperação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414972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.3 – Adequação, Complementação e Convergência do Marco Legal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ituci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esfera federal e estadu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9640" y="530064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.4 - Sustentabilidade Econômico-Financeira da Gestã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cursos Hídric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fontes de receita e financiamento, linhas de crédi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ara ações que promovam a GIR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765000"/>
            <a:ext cx="8280360" cy="6494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II. Programa de Desenvolvimento e Implementaçã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strumentos de Gestão de Recursos Hídric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360" y="1700280"/>
            <a:ext cx="8280360" cy="576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1 – Cadastro Nacional de Usos e Usuá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492280"/>
            <a:ext cx="8280360" cy="79236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II.2 - Rede Hidrológica Quali-quantitativa Nacional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(expansão, modernizaçã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dequação, operação  e manutenção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tegração com redes setoriais, referências de métodos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357336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3 - Processamento, Armazenamento, Interpretação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usão de Informação Hidrológ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9640" y="4653000"/>
            <a:ext cx="8280360" cy="863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4 – Metodologias e Sistemas de Outorga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reitos de Uso de Recursos Hídr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5805360"/>
            <a:ext cx="8280360" cy="64800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.5 – Fiscalização do Uso de Recursos Hídric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19:19:56Z</dcterms:created>
  <dc:creator>Fátima</dc:creator>
  <dc:description/>
  <dc:language>en-US</dc:language>
  <cp:lastModifiedBy>.</cp:lastModifiedBy>
  <dcterms:modified xsi:type="dcterms:W3CDTF">2006-01-12T14:18:50Z</dcterms:modified>
  <cp:revision>162</cp:revision>
  <dc:subject/>
  <dc:title>Slide 1</dc:title>
</cp:coreProperties>
</file>