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7234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71400" y="490680"/>
            <a:ext cx="780120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71400" y="1906200"/>
            <a:ext cx="7801200" cy="205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71400" y="4158720"/>
            <a:ext cx="7801200" cy="205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71400" y="490680"/>
            <a:ext cx="780120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71400" y="1906200"/>
            <a:ext cx="3806640" cy="205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840" y="1906200"/>
            <a:ext cx="3806640" cy="205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71400" y="4158720"/>
            <a:ext cx="3806640" cy="205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840" y="4158720"/>
            <a:ext cx="3806640" cy="205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71400" y="490680"/>
            <a:ext cx="780120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71400" y="1906200"/>
            <a:ext cx="2511720" cy="205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906200"/>
            <a:ext cx="2511720" cy="205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6840" y="1906200"/>
            <a:ext cx="2511720" cy="205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71400" y="4158720"/>
            <a:ext cx="2511720" cy="205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4158720"/>
            <a:ext cx="2511720" cy="205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6840" y="4158720"/>
            <a:ext cx="2511720" cy="205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71400" y="490680"/>
            <a:ext cx="780120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71400" y="1906200"/>
            <a:ext cx="7801200" cy="43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71400" y="490680"/>
            <a:ext cx="780120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71400" y="1906200"/>
            <a:ext cx="7801200" cy="43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71400" y="490680"/>
            <a:ext cx="780120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71400" y="1906200"/>
            <a:ext cx="3806640" cy="43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840" y="1906200"/>
            <a:ext cx="3806640" cy="43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71400" y="490680"/>
            <a:ext cx="780120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71400" y="490680"/>
            <a:ext cx="78012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71400" y="490680"/>
            <a:ext cx="780120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71400" y="1906200"/>
            <a:ext cx="3806640" cy="205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840" y="1906200"/>
            <a:ext cx="3806640" cy="43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71400" y="4158720"/>
            <a:ext cx="3806640" cy="205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71400" y="490680"/>
            <a:ext cx="780120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71400" y="1906200"/>
            <a:ext cx="3806640" cy="43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840" y="1906200"/>
            <a:ext cx="3806640" cy="205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840" y="4158720"/>
            <a:ext cx="3806640" cy="205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71400" y="490680"/>
            <a:ext cx="780120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71400" y="1906200"/>
            <a:ext cx="3806640" cy="205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840" y="1906200"/>
            <a:ext cx="3806640" cy="205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71400" y="4158720"/>
            <a:ext cx="7801200" cy="205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94284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-19080" y="6647040"/>
            <a:ext cx="9182160" cy="237960"/>
          </a:xfrm>
          <a:prstGeom prst="rect">
            <a:avLst/>
          </a:prstGeom>
          <a:ln w="0">
            <a:noFill/>
          </a:ln>
        </p:spPr>
      </p:pic>
      <p:pic>
        <p:nvPicPr>
          <p:cNvPr id="2" name="" descr=""/>
          <p:cNvPicPr/>
          <p:nvPr/>
        </p:nvPicPr>
        <p:blipFill>
          <a:blip r:embed="rId4"/>
          <a:stretch/>
        </p:blipFill>
        <p:spPr>
          <a:xfrm>
            <a:off x="1549440" y="0"/>
            <a:ext cx="2878200" cy="625320"/>
          </a:xfrm>
          <a:prstGeom prst="rect">
            <a:avLst/>
          </a:prstGeom>
          <a:ln w="0">
            <a:noFill/>
          </a:ln>
        </p:spPr>
      </p:pic>
      <p:pic>
        <p:nvPicPr>
          <p:cNvPr id="3" name="" descr=""/>
          <p:cNvPicPr/>
          <p:nvPr/>
        </p:nvPicPr>
        <p:blipFill>
          <a:blip r:embed="rId5"/>
          <a:stretch/>
        </p:blipFill>
        <p:spPr>
          <a:xfrm>
            <a:off x="324000" y="6647040"/>
            <a:ext cx="2841480" cy="239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71400" y="490680"/>
            <a:ext cx="780120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71400" y="1906200"/>
            <a:ext cx="7801200" cy="43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4800" indent="-334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77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esa.un.org/unpp/" TargetMode="External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2280" y="764640"/>
            <a:ext cx="655344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3500" spc="-1" strike="noStrike">
                <a:solidFill>
                  <a:srgbClr val="000000"/>
                </a:solidFill>
                <a:latin typeface="Arial"/>
              </a:rPr>
              <a:t>PLANO NACIONAL DE RECURSOS HIDRICOS - PNRH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73200" y="2692080"/>
            <a:ext cx="7767360" cy="26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480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Arial"/>
              </a:rPr>
              <a:t>ÁGUAS PARA O FUTUR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480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480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TRÊS CENÁRIOS DE RECURSOS HÍDRICOS PARA O BRASIL, 20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7086600" y="0"/>
            <a:ext cx="1827360" cy="1533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514600" y="6248520"/>
            <a:ext cx="402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Brasília, janeiro de 200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71400" y="490680"/>
            <a:ext cx="780120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Por uma estratégia robusta: </a:t>
            </a:r>
            <a:br>
              <a:rPr sz="3600"/>
            </a:b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princípio e ameaça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839808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marL="441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41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Adotar medidas que visem combater as ameaças constantes em todos os cenári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1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41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pt-BR" sz="3000" spc="-1" strike="noStrike">
                <a:solidFill>
                  <a:srgbClr val="cc6600"/>
                </a:solidFill>
                <a:latin typeface="Arial"/>
              </a:rPr>
              <a:t>principal ameaça</a:t>
            </a:r>
            <a:r>
              <a:rPr b="1" lang="pt-BR" sz="3000" spc="-1" strike="noStrike">
                <a:solidFill>
                  <a:srgbClr val="000000"/>
                </a:solidFill>
                <a:latin typeface="Arial"/>
              </a:rPr>
              <a:t> advém da possibilidade da junção entre um sistema de gestão ineficiente e uma grande expansão das atividades econômicas e urbana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41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41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71400" y="490680"/>
            <a:ext cx="780120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Por uma estratégia robusta: </a:t>
            </a:r>
            <a:br>
              <a:rPr sz="3600"/>
            </a:b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enfrentando as ameaç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71400" y="1906200"/>
            <a:ext cx="7801200" cy="43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480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480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</a:rPr>
              <a:t>Três são as melhores maneiras de enfrentar as ameaças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480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3000" spc="-1" strike="noStrike">
                <a:solidFill>
                  <a:srgbClr val="0000ff"/>
                </a:solidFill>
                <a:latin typeface="Arial"/>
              </a:rPr>
              <a:t>incentivos tecnológicos,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480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3000" spc="-1" strike="noStrike">
                <a:solidFill>
                  <a:srgbClr val="0000ff"/>
                </a:solidFill>
                <a:latin typeface="Arial"/>
              </a:rPr>
              <a:t>integração de políticas 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480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3000" spc="-1" strike="noStrike">
                <a:solidFill>
                  <a:srgbClr val="0000ff"/>
                </a:solidFill>
                <a:latin typeface="Arial"/>
              </a:rPr>
              <a:t>melhoria de gestão.</a:t>
            </a:r>
            <a:r>
              <a:rPr b="0" lang="pt-BR" sz="3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480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71400" y="490680"/>
            <a:ext cx="780120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Por uma estratégia robusta:</a:t>
            </a:r>
            <a:br>
              <a:rPr sz="3600"/>
            </a:b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pontos operativ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3640" y="2057400"/>
            <a:ext cx="8569080" cy="40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560160" indent="-5601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99"/>
                </a:solidFill>
                <a:latin typeface="Arial"/>
              </a:rPr>
              <a:t>Consolidar o marco institucional e legal já existen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0160" indent="-5601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99"/>
                </a:solidFill>
                <a:latin typeface="Arial"/>
              </a:rPr>
              <a:t>Fortalecer o sistema de gestão, incluindo educação ambiental e qualificação de quadr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0160" indent="-5601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99"/>
                </a:solidFill>
                <a:latin typeface="Arial"/>
              </a:rPr>
              <a:t>Concentrar a ação na gestão de demanda, sem esquecer a ofer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0160" indent="-5601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99"/>
                </a:solidFill>
                <a:latin typeface="Arial"/>
              </a:rPr>
              <a:t>Propor formas de integração das políticas públicas, a cada setor específic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60160" indent="-5601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99"/>
                </a:solidFill>
                <a:latin typeface="Arial"/>
              </a:rPr>
              <a:t>Enfrentar os problemas nas regiões já críticas e antecipar nas regiões tendencialmente crític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71400" y="490680"/>
            <a:ext cx="780120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Possíveis nom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71400" y="1906200"/>
            <a:ext cx="7801200" cy="43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4800" indent="-334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nário 1. Água para todos; Águas em fluxo; Água como bem comum; Águas limpas ou azu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nário 2. Água para alguns; Águas escassas; Água com bem econômico; Águas turvas ou marr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nário 3. Água para poucos; Águas estagnadas;  Água como bem secundário; Águas estagnadas ou amarel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71400" y="490320"/>
            <a:ext cx="7801200" cy="94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3200" spc="-1" strike="noStrike">
                <a:solidFill>
                  <a:srgbClr val="cc9900"/>
                </a:solidFill>
                <a:latin typeface="Arial"/>
              </a:rPr>
              <a:t>Passos na construção dos cenár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114800" cy="45720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marL="334800" indent="-334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400" spc="-1" strike="noStrike">
                <a:solidFill>
                  <a:srgbClr val="00cc99"/>
                </a:solidFill>
                <a:latin typeface="Arial"/>
              </a:rPr>
              <a:t>Definições básicas da 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400" spc="-1" strike="noStrike">
                <a:solidFill>
                  <a:srgbClr val="00cc99"/>
                </a:solidFill>
                <a:latin typeface="Arial"/>
              </a:rPr>
              <a:t>Processamentos e estudos pela SR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400" spc="-1" strike="noStrike">
                <a:solidFill>
                  <a:srgbClr val="00cc99"/>
                </a:solidFill>
                <a:latin typeface="Arial"/>
              </a:rPr>
              <a:t>Estudos pela A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400" spc="-1" strike="noStrike">
                <a:solidFill>
                  <a:srgbClr val="00cc99"/>
                </a:solidFill>
                <a:latin typeface="Arial"/>
              </a:rPr>
              <a:t>Reuniões executivas regiona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400" spc="-1" strike="noStrike">
                <a:solidFill>
                  <a:srgbClr val="00cc99"/>
                </a:solidFill>
                <a:latin typeface="Arial"/>
              </a:rPr>
              <a:t>Equipe de Cenár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400" spc="-1" strike="noStrike">
                <a:solidFill>
                  <a:srgbClr val="00cc99"/>
                </a:solidFill>
                <a:latin typeface="Arial"/>
              </a:rPr>
              <a:t>Oficinas naciona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400" spc="-1" strike="noStrike">
                <a:solidFill>
                  <a:srgbClr val="00cc99"/>
                </a:solidFill>
                <a:latin typeface="Arial"/>
              </a:rPr>
              <a:t>Câmara Técn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48320" y="1752480"/>
            <a:ext cx="4190760" cy="4572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Descrição do ponto de partid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Identificação dos principa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tores e variáve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Definição das Incertezas Crít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Geração dos cená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Detalhamento dos cená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Início das quantificaçõ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71400" y="490680"/>
            <a:ext cx="780120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Incertezas crític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853416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4800" indent="-334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Ritmo do crescimento econômico mund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Dinâmica econômica nac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Desempenho das principais atividades econômicas (irrigação, pecuária, indústria, hidrelétrica, navegação, turismo e aqüicultura e pesc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Saneam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Gest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4800" indent="-334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Investimento em proteç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30240" y="1145880"/>
            <a:ext cx="5533920" cy="57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3700" spc="-1" strike="noStrike">
                <a:solidFill>
                  <a:srgbClr val="000000"/>
                </a:solidFill>
                <a:latin typeface="Arial"/>
              </a:rPr>
              <a:t>Três hipóteses de futuro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8360" y="2061720"/>
            <a:ext cx="7991280" cy="380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69800" indent="-469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Cenário 1. </a:t>
            </a:r>
            <a:r>
              <a:rPr b="0" lang="pt-BR" sz="3200" spc="-1" strike="noStrike">
                <a:solidFill>
                  <a:srgbClr val="ff0000"/>
                </a:solidFill>
                <a:latin typeface="Arial"/>
              </a:rPr>
              <a:t>??????</a:t>
            </a:r>
            <a:r>
              <a:rPr b="0" lang="pt-BR" sz="32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Brasil sustentável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Cenário 2. </a:t>
            </a:r>
            <a:r>
              <a:rPr b="0" lang="pt-BR" sz="3200" spc="-1" strike="noStrike">
                <a:solidFill>
                  <a:srgbClr val="ff0000"/>
                </a:solidFill>
                <a:latin typeface="Arial"/>
              </a:rPr>
              <a:t>????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Brasil excludente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Cenário 3. </a:t>
            </a:r>
            <a:r>
              <a:rPr b="0" lang="pt-BR" sz="3200" spc="-1" strike="noStrike">
                <a:solidFill>
                  <a:srgbClr val="ff0000"/>
                </a:solidFill>
                <a:latin typeface="Arial"/>
              </a:rPr>
              <a:t>???????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Brasil insuportável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7240680" y="66600"/>
            <a:ext cx="1827000" cy="15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533520" y="573120"/>
            <a:ext cx="8458200" cy="61707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676520" y="2590920"/>
            <a:ext cx="838080" cy="685800"/>
          </a:xfrm>
          <a:prstGeom prst="ellipse">
            <a:avLst/>
          </a:prstGeom>
          <a:noFill/>
          <a:ln w="28440">
            <a:solidFill>
              <a:srgbClr val="4818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438280" y="3962520"/>
            <a:ext cx="838440" cy="685800"/>
          </a:xfrm>
          <a:prstGeom prst="ellipse">
            <a:avLst/>
          </a:prstGeom>
          <a:noFill/>
          <a:ln w="28440">
            <a:solidFill>
              <a:srgbClr val="4818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438280" y="1295280"/>
            <a:ext cx="838440" cy="685800"/>
          </a:xfrm>
          <a:prstGeom prst="ellipse">
            <a:avLst/>
          </a:prstGeom>
          <a:noFill/>
          <a:ln w="28440">
            <a:solidFill>
              <a:srgbClr val="4818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952880" y="2133720"/>
            <a:ext cx="838440" cy="685800"/>
          </a:xfrm>
          <a:prstGeom prst="ellipse">
            <a:avLst/>
          </a:prstGeom>
          <a:noFill/>
          <a:ln w="28440">
            <a:solidFill>
              <a:srgbClr val="4818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248520" y="3962520"/>
            <a:ext cx="838080" cy="685800"/>
          </a:xfrm>
          <a:prstGeom prst="ellipse">
            <a:avLst/>
          </a:prstGeom>
          <a:noFill/>
          <a:ln w="28440">
            <a:solidFill>
              <a:srgbClr val="4818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838080" cy="685800"/>
          </a:xfrm>
          <a:prstGeom prst="ellipse">
            <a:avLst/>
          </a:prstGeom>
          <a:noFill/>
          <a:ln w="28440">
            <a:solidFill>
              <a:srgbClr val="4818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228600" y="152280"/>
            <a:ext cx="1600200" cy="1343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609480" y="520560"/>
            <a:ext cx="8458200" cy="61851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5791320" y="2057400"/>
            <a:ext cx="838080" cy="685800"/>
          </a:xfrm>
          <a:prstGeom prst="ellipse">
            <a:avLst/>
          </a:prstGeom>
          <a:noFill/>
          <a:ln w="28440">
            <a:solidFill>
              <a:srgbClr val="4818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2057400"/>
            <a:ext cx="838080" cy="685800"/>
          </a:xfrm>
          <a:prstGeom prst="ellipse">
            <a:avLst/>
          </a:prstGeom>
          <a:noFill/>
          <a:ln w="28440">
            <a:solidFill>
              <a:srgbClr val="4818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971800" y="3048120"/>
            <a:ext cx="838080" cy="685800"/>
          </a:xfrm>
          <a:prstGeom prst="ellipse">
            <a:avLst/>
          </a:prstGeom>
          <a:noFill/>
          <a:ln w="28440">
            <a:solidFill>
              <a:srgbClr val="4818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029200" y="2057400"/>
            <a:ext cx="838080" cy="685800"/>
          </a:xfrm>
          <a:prstGeom prst="ellipse">
            <a:avLst/>
          </a:prstGeom>
          <a:noFill/>
          <a:ln w="28440">
            <a:solidFill>
              <a:srgbClr val="4818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2590920"/>
            <a:ext cx="838080" cy="685800"/>
          </a:xfrm>
          <a:prstGeom prst="ellipse">
            <a:avLst/>
          </a:prstGeom>
          <a:noFill/>
          <a:ln w="28440">
            <a:solidFill>
              <a:srgbClr val="4818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58000" y="2514600"/>
            <a:ext cx="838080" cy="685800"/>
          </a:xfrm>
          <a:prstGeom prst="ellipse">
            <a:avLst/>
          </a:prstGeom>
          <a:noFill/>
          <a:ln w="28440">
            <a:solidFill>
              <a:srgbClr val="4818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228600" y="152280"/>
            <a:ext cx="1600200" cy="1343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8610480" cy="62960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600200" y="2514600"/>
            <a:ext cx="838080" cy="685800"/>
          </a:xfrm>
          <a:prstGeom prst="ellipse">
            <a:avLst/>
          </a:prstGeom>
          <a:noFill/>
          <a:ln w="28440">
            <a:solidFill>
              <a:srgbClr val="4818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819520" y="1981080"/>
            <a:ext cx="838080" cy="685800"/>
          </a:xfrm>
          <a:prstGeom prst="ellipse">
            <a:avLst/>
          </a:prstGeom>
          <a:noFill/>
          <a:ln w="28440">
            <a:solidFill>
              <a:srgbClr val="4818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952880" y="1981080"/>
            <a:ext cx="838440" cy="685800"/>
          </a:xfrm>
          <a:prstGeom prst="ellipse">
            <a:avLst/>
          </a:prstGeom>
          <a:noFill/>
          <a:ln w="28440">
            <a:solidFill>
              <a:srgbClr val="4818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791320" y="1981080"/>
            <a:ext cx="838080" cy="685800"/>
          </a:xfrm>
          <a:prstGeom prst="ellipse">
            <a:avLst/>
          </a:prstGeom>
          <a:noFill/>
          <a:ln w="28440">
            <a:solidFill>
              <a:srgbClr val="4818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848720" y="1981080"/>
            <a:ext cx="838080" cy="685800"/>
          </a:xfrm>
          <a:prstGeom prst="ellipse">
            <a:avLst/>
          </a:prstGeom>
          <a:noFill/>
          <a:ln w="28440">
            <a:solidFill>
              <a:srgbClr val="4818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228600" y="152280"/>
            <a:ext cx="1600200" cy="1343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Síntese dos cenári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7240680" y="66600"/>
            <a:ext cx="1827000" cy="15336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0" y="4584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800" y="712944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228600" y="1600200"/>
          <a:ext cx="8724960" cy="4976640"/>
        </p:xfrm>
        <a:graphic>
          <a:graphicData uri="http://schemas.openxmlformats.org/drawingml/2006/table">
            <a:tbl>
              <a:tblPr/>
              <a:tblGrid>
                <a:gridCol w="2768760"/>
                <a:gridCol w="2120760"/>
                <a:gridCol w="1968480"/>
                <a:gridCol w="1866960"/>
              </a:tblGrid>
              <a:tr h="487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Lucida Sans Unicode"/>
                        </a:rPr>
                        <a:t>Indicadores /  Cenário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6666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Cenário 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Cenário 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Cenário 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55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Lucida Sans Unicode"/>
                        </a:rPr>
                        <a:t>População (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6666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2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21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22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58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Lucida Sans Unicode"/>
                        </a:rPr>
                        <a:t>PIB (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6666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R$ 3.631 trilhõ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US$ 1.613 trilhã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R$ 3.125 trilhõ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US$ 1.388 trilhã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R$ 2,315 trilhõ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US$ </a:t>
                      </a: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1.028 trilhã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44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Lucida Sans Unicode"/>
                        </a:rPr>
                        <a:t>Taxa de cresciment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6666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4,5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3.5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1,5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39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Lucida Sans Unicode"/>
                        </a:rPr>
                        <a:t>PIB per capta (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6666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US$ 7.7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US$ 6.3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US$ 4.5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26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Lucida Sans Unicode"/>
                        </a:rPr>
                        <a:t>1. Cenários Mundiai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6666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Longo ciclo de prosperidad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Dinamismo Excludent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Instabilidade e fragmentaçã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41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Lucida Sans Unicode"/>
                        </a:rPr>
                        <a:t>2. Cenários nacionai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6666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Desenvolvimento integrad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Modernização com exclusã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Estagnação e Pobrez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11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Lucida Sans Unicode"/>
                        </a:rPr>
                        <a:t>3. Atividades Produtivas: indústria, agricultura e pecuária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6666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Grande crescimento com médios impacto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Grande crescimento com fortes impacto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Pequeno crescimento com médios impacto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93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Lucida Sans Unicode"/>
                        </a:rPr>
                        <a:t>4. Usinas Hidroelétrica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6666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Forte expansã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Forte expansã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Pequena  expansã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69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Lucida Sans Unicode"/>
                        </a:rPr>
                        <a:t>5. Saneament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6666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Estatal com eficiência em direção a universalização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Participação privada com pouca expansã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Estatal sem eficiênci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52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Lucida Sans Unicode"/>
                        </a:rPr>
                        <a:t>6. Gestã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6666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Operativ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Economicist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Burocrátic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95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100" spc="-1" strike="noStrike">
                          <a:solidFill>
                            <a:srgbClr val="ffffff"/>
                          </a:solidFill>
                          <a:latin typeface="Times New Roman"/>
                          <a:ea typeface="Lucida Sans Unicode"/>
                        </a:rPr>
                        <a:t>7. Investimentos e despesas públicas em proteção e gestão de recursos hídrico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6666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Grandes, massivos e corretivo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 </a:t>
                      </a: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Pequenos, seletivos e corretivo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Lucida Sans Unicode"/>
                        </a:rPr>
                        <a:t>Pequenos, seletivos e corretivo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82" name=""/>
          <p:cNvSpPr/>
          <p:nvPr/>
        </p:nvSpPr>
        <p:spPr>
          <a:xfrm>
            <a:off x="250920" y="6416640"/>
            <a:ext cx="7597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Arial"/>
              </a:rPr>
              <a:t>Fonte própria. Baseada em Macroplan, 2004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nte: ONU (World Population Prospects, 2004). </a:t>
            </a:r>
            <a:r>
              <a:rPr b="0" lang="pt-BR" sz="800" spc="-1" strike="noStrike">
                <a:solidFill>
                  <a:srgbClr val="000000"/>
                </a:solidFill>
                <a:latin typeface="Arial"/>
              </a:rPr>
              <a:t>Disponível em </a:t>
            </a:r>
            <a:r>
              <a:rPr b="0" lang="pt-BR" sz="8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http://esa.un.org/unpp/</a:t>
            </a:r>
            <a:r>
              <a:rPr b="0" lang="pt-BR" sz="8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(2)   </a:t>
            </a:r>
            <a:r>
              <a:rPr b="0" lang="pt-BR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Dólar em R$ 2,25, segundo cotação fechada estabelecida pela ONU para o mês de novembro de 2005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71400" y="490680"/>
            <a:ext cx="780120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Por uma estratégia robusta:</a:t>
            </a:r>
            <a:br>
              <a:rPr sz="3600"/>
            </a:b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Invarian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marL="585000" indent="-58500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erto crescimento das atividades econômicas, especialmente irrig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xpansão do agronegóc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rescimento dos problemas de sanea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Uso de energia hidráulica com construção de barrag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isco do SINGREH ser burocratizado e perder operativid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essão para adoção de novas técnicas de uso dos recursos hídr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nvestimentos para manejo eficaz dos recursos hídr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limar Pinheiro do Nascimento</cp:lastModifiedBy>
  <dcterms:modified xsi:type="dcterms:W3CDTF">2006-01-12T16:25:34Z</dcterms:modified>
  <cp:revision>7</cp:revision>
  <dc:subject/>
  <dc:title>Slide 1</dc:title>
</cp:coreProperties>
</file>