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2148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PNRH – Algumas questões a serem reflet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2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Aspectos de Relativos ao Posicionamento Estratégico do PN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052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ão apresentadas questões relacionadas ao posicionamento do PNRH no contexto estratégico da gestão dos recursos hídr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Quais seriam os responsáveis pela implementação do PNR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5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Aspectos Legais e de Adequaçã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852640"/>
            <a:ext cx="8064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ão apresentadas questões e temas relativos à adequação legal e institucional do sistema de gestão de recursos hídricos, para suprir lacunas existentes e adaptação aos desafios atuais do processo de implementação do SINGRE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Demandas por revisão da legislação existente e/ou regulamen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Adequação da gestão de recursos hídricos para áreas onde não há confl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Mecanismos de alocação de água para os usos múlti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Proposição de unidades de ges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2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Aspectos de Articulação Vertical e Interna do SINGR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433520"/>
            <a:ext cx="806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ão apresentadas as questões que versam sobre os desafios relacionados à articulação das instâncias do sistema, tendo como referência as dominialidades dos recursos hídricos estabelecidas na Constituição de 1988, os princípios da descentralização, participação e da subsidiar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o deverá ser a divisão de encargos/atribuições em escala nacional/estadual/bacia hidrográ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stema de Planejamento (condições de contorno e estrutura institu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Regras para as relações institucionais entre os entes do SINGRE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Regras para a solução de conflitos de qualidade e quantidade de água entr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Aspectos de Articulação Horizontal e Externa do SINGREH, com as demais Políticas Públicas Setori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657440"/>
            <a:ext cx="806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ão apresentados os questionamentos sobre os desafios relacionados à busca da articulação do SINGREH com outras políticas públicas e sistemas de gestão ou gerenciamento setoriais, tendo como referência as competências e os instrumentos de gestão previstos na Política Nacional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retrizes de articulação do SINGREH com o SISNAMA, considerando a dinâmica de atuação, as instâncias de discussão/delibe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posição de mecanismo de harmonização de políticas públicas setoriais que tenham relação com 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Questões Identificadas a partir de peculiaridades regionais e unidades espa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33520"/>
            <a:ext cx="806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ão apresentadas as questões que foram formuladas à partir de referências espaciais, ou seja, bacias hidrográficas com alguma especificidade comum, regiões administrativas, entre ou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Alternativas para resolução de conflitos em Bacias de Águas Transfronteiriç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Situações Especiais de Planejamento – S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3519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Questões Identificadas com a Implementação dos Instrumentos da Política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357800"/>
            <a:ext cx="8064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retrizes gerais para a aplicação dos instrumentos de gestã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Sistema de informações sobr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retrizes Gerenciais (articulação e conteúdo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nibilização de inform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95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  <a:ea typeface="Arial"/>
              </a:rPr>
              <a:t>Questões Identificadas com a sustentabilidade finaceira do PN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54296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Alternativas de sustentabilidade financeira do SINGRE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Alternativas para o custeio de intervençõe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0" y="3506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Temas transversais que perpassam todas as questões e temas apresentados para o PN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3448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Integração efetiva das águas superficiais e subterrân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Dominialidade das águas superfi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Dominialidade das águas subterrân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Participação X representa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1:33:53Z</dcterms:created>
  <dc:creator>gtce</dc:creator>
  <dc:description/>
  <dc:language>en-US</dc:language>
  <cp:lastModifiedBy>gtce</cp:lastModifiedBy>
  <dcterms:modified xsi:type="dcterms:W3CDTF">2005-01-25T13:18:31Z</dcterms:modified>
  <cp:revision>114</cp:revision>
  <dc:subject/>
  <dc:title>Slide 1</dc:title>
</cp:coreProperties>
</file>