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18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8440"/>
              <a:gd name="textAreaBottom" fmla="*/ 9118080 h 9118440"/>
            </a:gdLst>
            <a:ahLst/>
            <a:rect l="textAreaLeft" t="textAreaTop" r="textAreaRight" b="textAreaBottom"/>
            <a:pathLst>
              <a:path w="21600" h="28719">
                <a:moveTo>
                  <a:pt x="5" y="0"/>
                </a:moveTo>
                <a:arcTo wR="5" hR="5" stAng="16200000" swAng="-5400000"/>
                <a:lnTo>
                  <a:pt x="0" y="28714"/>
                </a:lnTo>
                <a:arcTo wR="5" hR="5" stAng="10800000" swAng="-5400000"/>
                <a:lnTo>
                  <a:pt x="21595" y="2871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9480" y="682560"/>
            <a:ext cx="455904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685440" y="4330800"/>
            <a:ext cx="547524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4968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9480" y="682560"/>
            <a:ext cx="45590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70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49480" y="682560"/>
            <a:ext cx="455904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70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49480" y="682560"/>
            <a:ext cx="455904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70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49480" y="682560"/>
            <a:ext cx="45590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49480" y="69372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70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79360" y="684360"/>
            <a:ext cx="450072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99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257480" y="676440"/>
            <a:ext cx="4800600" cy="33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440" y="4330440"/>
            <a:ext cx="54687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79360" y="684360"/>
            <a:ext cx="450072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99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79360" y="684360"/>
            <a:ext cx="450072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99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9480" y="69372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70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49480" y="682560"/>
            <a:ext cx="455904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70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49480" y="682560"/>
            <a:ext cx="455904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70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49480" y="682560"/>
            <a:ext cx="455904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70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98640" y="692280"/>
            <a:ext cx="4851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440" y="4330440"/>
            <a:ext cx="54687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98640" y="692280"/>
            <a:ext cx="4851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440" y="4330440"/>
            <a:ext cx="54687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49480" y="682560"/>
            <a:ext cx="456084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70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49480" y="682560"/>
            <a:ext cx="455904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7704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785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853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400" y="4156200"/>
            <a:ext cx="77853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785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990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906560"/>
            <a:ext cx="37990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7990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4156200"/>
            <a:ext cx="37990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785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66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3720" y="1906560"/>
            <a:ext cx="25066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040" y="1906560"/>
            <a:ext cx="25066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400" y="4156200"/>
            <a:ext cx="25066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3720" y="4156200"/>
            <a:ext cx="25066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040" y="4156200"/>
            <a:ext cx="25066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785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853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785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853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785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99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906560"/>
            <a:ext cx="3799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785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400" y="471240"/>
            <a:ext cx="778536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785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990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906560"/>
            <a:ext cx="3799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7990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785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99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06560"/>
            <a:ext cx="37990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4156200"/>
            <a:ext cx="37990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785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7990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906560"/>
            <a:ext cx="37990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77853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9080" y="6621480"/>
            <a:ext cx="9182160" cy="2379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785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853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8960" indent="-31896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9800" y="1268280"/>
            <a:ext cx="49672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9680" y="1144440"/>
            <a:ext cx="482436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 4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r as ações para a efetivação programa estabelecido para 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e de Desenvolvimento da GIRH no Brasil - Programa III -Desenvolvimento e Implementação de Instrumentos de 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5 dos seus 9 Subprogra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5240" y="3645000"/>
            <a:ext cx="453708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 5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lhar, no nível operacional, os Programas e Subprogramas estabelecidos e aprovados, juntamente com o PNRH, para os Componentes Gestão Nacional e Gerenciamento Inte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2727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1773360"/>
            <a:ext cx="3419640" cy="4057920"/>
          </a:xfrm>
          <a:prstGeom prst="rect">
            <a:avLst/>
          </a:prstGeom>
          <a:noFill/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tas de detalhamento elaboradas pelas equipes técnicas da SRHU/MMA e 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reciação e discussão das propostas no âmbito do CNRH, especificamente na CT-PNRH e na CT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ta de apreciação pelo plenário do CNRH: dezembro de 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2040" y="5013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5240" y="1103400"/>
            <a:ext cx="453708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 6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lhar, no nível operacional, os Programas estabelecidos e aprovados relativos ao Componente de Programas Regionais de Recursos Hídri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VIII: Programa Nacional de Águas Subterrâ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IX: Gestão de Recursos Hídricos Integrados ao Gerenciamento Cost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X: Gestão Ambiental de Recursos Hídricos na Região Amazô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XI: Conservação das Águas no Panta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XII: Gestão Sustentável de Recursos Hídricos e Convivência com o Semi-árido Brasil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2040" y="2565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1989000"/>
            <a:ext cx="3635280" cy="1923480"/>
          </a:xfrm>
          <a:prstGeom prst="rect">
            <a:avLst/>
          </a:prstGeom>
          <a:noFill/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ta da SRHU/MMA e ANA de prorrograr o prazo para atender essa meta, devido a sua vinculação com o detalhamento dos demais subprogra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9600" y="387360"/>
            <a:ext cx="7799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b84747"/>
                </a:solidFill>
                <a:latin typeface="Arial"/>
              </a:rPr>
              <a:t>Resolução 58, de 30 de janeiro de 2006, do Conselho Nacional de Recursos Hídr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8920" y="1595520"/>
            <a:ext cx="88203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va o Plano Nacional de Recursos Hídricos – PNRH, composto dos seguintes volu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– Panorama e Estado dos Recursos Hídricos no Bras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– Águas para o Futuro: Cenários para 20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 – Diretriz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– Programas Nacionais e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elece que o detalhamento operativo dos programas e metas contidos no volume IV deverá ser coordenado pela SRHU/MMA e submetido a aprovação do CNRH até 31 de dezembro de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elece que a  SRHU/MMA, em articulação com a CT-PNRH e apoio da ANA, deverá proceder a revisão do PNRH, a cada 4 anos, para orientar a elaboração dos Programas Plurianuais-PPAs federal, estaduais e distr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612720" y="2565360"/>
            <a:ext cx="7775280" cy="1736280"/>
            <a:chOff x="612720" y="2565360"/>
            <a:chExt cx="7775280" cy="1736280"/>
          </a:xfrm>
        </p:grpSpPr>
        <p:sp>
          <p:nvSpPr>
            <p:cNvPr id="132" name=""/>
            <p:cNvSpPr/>
            <p:nvPr/>
          </p:nvSpPr>
          <p:spPr>
            <a:xfrm>
              <a:off x="612720" y="2565360"/>
              <a:ext cx="7774200" cy="17348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Estratégia de Implementação do PLANO NACIONAL DE RECURSOS HÍDRIC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2720" y="2565360"/>
              <a:ext cx="1440" cy="1734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6920" y="2565360"/>
              <a:ext cx="1080" cy="1734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2720" y="2565360"/>
              <a:ext cx="7774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2720" y="4300200"/>
              <a:ext cx="7774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25560"/>
            <a:ext cx="8893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Verdana"/>
              </a:rPr>
              <a:t>ESTRATÉGIA DE IMPLEMENTAÇÃO DO PN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efinir a forma de concretizar o que foi proposto no PNRH, respeitando a característica de proceso do mesm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9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</a:rPr>
              <a:t>A ARTICULAÇÃO DOS NÍVEIS DE PLANEJAMENTO DE RECURSOS HÍDRICOS E O PNRH</a:t>
            </a: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24400"/>
            <a:ext cx="914400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afios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uscar ações efetivas de articulação e integração dos diversos níveis de planejamento de recursos hídricos, reconhecendo as seguintes premiss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exibilidade para incorporar as disparidades e particularidades regionais do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nhecer as entidades colegiadas do SINGREH, Conselhos e Comitês de Bacia, como lócus preferencial da articulaçã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nhecer a relevância do diálogo entre as entidades outorgantes, da União (ANA) e das Unidades Federadas, e delas com as Agências de Ág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440" y="4311720"/>
            <a:ext cx="91454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ixos de articu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ição de pactos via elaboração de Programas e subprogramas do PN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sideração das diretrizes do PNRH nos Planos das Unidades Federadas e nos planos de bacia, guardadas as diferenças de enfoque e de abrang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utilização adaptada dos conceitos e da metodologia do PN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bases de informações utilizadas para a elaboração do PNRH como contribuição aos estados no desenvolvimento dos estudos regiona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36360" y="763920"/>
            <a:ext cx="90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MECANISMOS INSTITUCIONAIS EXTRA-SINGREH PARA A IMPLEMENTAÇÃOM DO PNRH E INSERÇÃO DO SINGREH NAS DEMAIS POLÍTICAS PÚB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19040"/>
            <a:ext cx="9144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rticulação com os Setores Intervenientes na Gestão dos Recursos Hídricos no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nstrução de agenda específica de trabalho com duas vertentes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vertente pública e vertente priv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076640"/>
            <a:ext cx="914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 algn="just">
              <a:lnSpc>
                <a:spcPct val="115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rticulação com a Gestão Ambiental, Municipal e outras Políticas Correlatas -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ior envolvimento dos municíp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15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15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15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rticulação da gestão de recursos hídricos com as políticas de desenvolvimento nacional e region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nalizar a perspectiva dos recursos hídricos, nos programas estratégicos de crescimento e desenvolvimento do País que tenham na água um elemento estrutur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025720"/>
            <a:ext cx="896472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 algn="just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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dentificar e efetivar fontes seguras de financiamento para viabilizar os progra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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corporar a política de gestão das águas na política macroeconômica do País – orçamentos e prior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mprender negociações com intuito de obter financiamento a partir de: LDO, OGU e P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ensibilizar sobre a importancia dos instrumentos da política e a consolidação do SINGREH para o desenvolvimento sustent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alizar uma análise de adequação dos programas frente ao conjunto de investimentos dos diversos agentes de fo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 algn="just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uscar parcerias com entidades públicas, privadas, e com organizações da sociedad civi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300" spc="-1" strike="noStrike">
                <a:solidFill>
                  <a:srgbClr val="0066ff"/>
                </a:solidFill>
                <a:latin typeface="Verdana"/>
              </a:rPr>
              <a:t>INSTRUMENTOS ECONÔMICOS E IDENTIFICAÇÃO DE FONTES ORÇAMENTÁRIAS E DE FINANCIAMIEN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612720" y="2565360"/>
            <a:ext cx="7775280" cy="1736280"/>
            <a:chOff x="612720" y="2565360"/>
            <a:chExt cx="7775280" cy="1736280"/>
          </a:xfrm>
        </p:grpSpPr>
        <p:sp>
          <p:nvSpPr>
            <p:cNvPr id="147" name=""/>
            <p:cNvSpPr/>
            <p:nvPr/>
          </p:nvSpPr>
          <p:spPr>
            <a:xfrm>
              <a:off x="612720" y="2565360"/>
              <a:ext cx="7774200" cy="17348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Detalhamento dos subprogramas do PLANO NACIONAL DE RECURSOS HÍDRIC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2720" y="2565360"/>
              <a:ext cx="1440" cy="1734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6920" y="2565360"/>
              <a:ext cx="1080" cy="1734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2720" y="2565360"/>
              <a:ext cx="7774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720" y="4300200"/>
              <a:ext cx="7774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9280" y="549360"/>
            <a:ext cx="878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riz para Detalhamento de Programas e Sub-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9280" y="1197000"/>
            <a:ext cx="8856360" cy="5501880"/>
            <a:chOff x="179280" y="1197000"/>
            <a:chExt cx="8856360" cy="5501880"/>
          </a:xfrm>
        </p:grpSpPr>
        <p:sp>
          <p:nvSpPr>
            <p:cNvPr id="154" name=""/>
            <p:cNvSpPr/>
            <p:nvPr/>
          </p:nvSpPr>
          <p:spPr>
            <a:xfrm>
              <a:off x="179280" y="1197000"/>
              <a:ext cx="1563120" cy="901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Programas e Sub-progra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42400" y="1197000"/>
              <a:ext cx="1563480" cy="901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Objetivos e Principais Ações Previs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05880" y="1197000"/>
              <a:ext cx="1635120" cy="901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Inter-relações e Dependê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41000" y="1197000"/>
              <a:ext cx="1489320" cy="901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Natureza dos Produ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30680" y="1197000"/>
              <a:ext cx="1487880" cy="901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Produtos Parciais ou Intermediá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18560" y="1197000"/>
              <a:ext cx="1114920" cy="901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Continu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.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280" y="2098440"/>
              <a:ext cx="1563120" cy="18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42400" y="2098440"/>
              <a:ext cx="1563480" cy="18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05880" y="2098440"/>
              <a:ext cx="1635120" cy="18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41000" y="2098440"/>
              <a:ext cx="1489320" cy="18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30680" y="2098440"/>
              <a:ext cx="1487880" cy="18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18560" y="2098440"/>
              <a:ext cx="1114920" cy="18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9280" y="3973680"/>
              <a:ext cx="1563120" cy="1005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.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Continu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42400" y="3973680"/>
              <a:ext cx="1563480" cy="1005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Interlocução Necessária e Modelo de Implement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05880" y="3973680"/>
              <a:ext cx="1635120" cy="1005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Variáveis Fora da Governabilidade do SINGRE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1000" y="3973680"/>
              <a:ext cx="1489320" cy="1005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Produtos Fin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30680" y="3973680"/>
              <a:ext cx="1487880" cy="1005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Conteúdo Relevante para o CNR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18560" y="3973680"/>
              <a:ext cx="1114920" cy="1005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Conteúdo objeto das Câmaras Técn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9280" y="4979520"/>
              <a:ext cx="1563120" cy="13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42400" y="4979520"/>
              <a:ext cx="1563480" cy="13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05880" y="4979520"/>
              <a:ext cx="1635120" cy="13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41000" y="4979520"/>
              <a:ext cx="1489320" cy="13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30680" y="4979520"/>
              <a:ext cx="1487880" cy="13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18560" y="4979520"/>
              <a:ext cx="1114920" cy="13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9280" y="6284160"/>
              <a:ext cx="156312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42400" y="6284160"/>
              <a:ext cx="1563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05880" y="6284160"/>
              <a:ext cx="163512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41000" y="6284160"/>
              <a:ext cx="148932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0680" y="6284160"/>
              <a:ext cx="14878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18560" y="6284160"/>
              <a:ext cx="111492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42400" y="1197000"/>
              <a:ext cx="1800" cy="550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05880" y="1197000"/>
              <a:ext cx="1440" cy="550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41000" y="1197000"/>
              <a:ext cx="1800" cy="550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30680" y="1197000"/>
              <a:ext cx="1800" cy="550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560" y="1197000"/>
              <a:ext cx="1440" cy="550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9280" y="2098440"/>
              <a:ext cx="8854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9280" y="3973680"/>
              <a:ext cx="8854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9280" y="4979520"/>
              <a:ext cx="8854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9280" y="6284160"/>
              <a:ext cx="8854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9280" y="1197000"/>
              <a:ext cx="1440" cy="5500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33840" y="1197000"/>
              <a:ext cx="1800" cy="55008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9280" y="1197000"/>
              <a:ext cx="88545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9280" y="6697800"/>
              <a:ext cx="88545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245440" y="1052640"/>
            <a:ext cx="574560" cy="1944720"/>
          </a:xfrm>
          <a:custGeom>
            <a:avLst/>
            <a:gdLst>
              <a:gd name="textAreaLeft" fmla="*/ 89640 w 574560"/>
              <a:gd name="textAreaRight" fmla="*/ 502920 w 5745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7440" y="4005360"/>
            <a:ext cx="574920" cy="1944720"/>
          </a:xfrm>
          <a:custGeom>
            <a:avLst/>
            <a:gdLst>
              <a:gd name="textAreaLeft" fmla="*/ 89640 w 574920"/>
              <a:gd name="textAreaRight" fmla="*/ 503280 w 57492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6308640"/>
            <a:ext cx="8569440" cy="1800"/>
          </a:xfrm>
          <a:prstGeom prst="line">
            <a:avLst/>
          </a:prstGeom>
          <a:ln w="93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0" y="1052640"/>
            <a:ext cx="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2200" y="1773000"/>
            <a:ext cx="778500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1896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9760"/>
                <a:tab algn="l" pos="717696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PNRH possui como característica uma permanente flexibilida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1896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9760"/>
                <a:tab algn="l" pos="717696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em outros termos, o Plano não deve ser entendido como um episódio, mas como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5680" y="4321440"/>
            <a:ext cx="292104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Verdana"/>
              </a:rPr>
              <a:t>PROCES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3213000"/>
            <a:ext cx="388764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sencialmente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dinâmico, flexível, permanente, participativo e sob uma abordagem integrada e multi-disciplinar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5321160"/>
            <a:ext cx="41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.. respeitando a necessidade de contemplar os atributos previstos nos artigo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º e 8º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d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ei nº 9.433/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86040" y="3429000"/>
            <a:ext cx="814680" cy="866880"/>
          </a:xfrm>
          <a:custGeom>
            <a:avLst/>
            <a:gdLst>
              <a:gd name="textAreaLeft" fmla="*/ 0 w 814680"/>
              <a:gd name="textAreaRight" fmla="*/ 815040 w 8146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38880" y="4797360"/>
            <a:ext cx="609480" cy="432000"/>
          </a:xfrm>
          <a:custGeom>
            <a:avLst/>
            <a:gdLst>
              <a:gd name="textAreaLeft" fmla="*/ 0 w 609480"/>
              <a:gd name="textAreaRight" fmla="*/ 609840 w 6094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6560" y="547560"/>
            <a:ext cx="878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riz para Detalhamento de Programas e Sub-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192320"/>
            <a:ext cx="835344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Alguns desta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Inter-relações e dependências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istem programas que recebem informações de outros, enquanto alguns são estratégicos para a implementação de outr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Modelo de implementação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istem programas com implementação centralizada na União, outros que exigem negociação com os estados e outros que possuem previsão de instalação de unidades descentralizad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Natureza dos produtos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maioria dos programas resulta em estudos e relatórios técnicos, entretanto, outros tipos de produtos serão gerados, tais como banco de dados e sistema de informações, e estruturação de programas e proje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Governabilidade e fontes de financiamento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istem programas com fontes orçamentárias com boa governabilidade do SINGREH, enquanto outros não possuem recursos definidos ou não dependem exclusivamente dos esforços dos entes do SINGRE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Informes ao CNRH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mais importante será a apresentação de resultados concretos, que atestem a evolução na implementação do PNR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Câmaras Técnicas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utas de reuniões que tratem do escopo e das necessidades dos programas e subprogramas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920" y="2563920"/>
            <a:ext cx="504720" cy="1728720"/>
          </a:xfrm>
          <a:custGeom>
            <a:avLst/>
            <a:gdLst>
              <a:gd name="textAreaLeft" fmla="*/ 67320 w 504720"/>
              <a:gd name="textAreaRight" fmla="*/ 437400 w 504720"/>
              <a:gd name="textAreaTop" fmla="*/ 303840 h 1728720"/>
              <a:gd name="textAreaBottom" fmla="*/ 124848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708"/>
                <a:lnTo>
                  <a:pt x="14400" y="21165"/>
                </a:lnTo>
                <a:lnTo>
                  <a:pt x="21600" y="17300"/>
                </a:lnTo>
                <a:lnTo>
                  <a:pt x="14400" y="12565"/>
                </a:lnTo>
                <a:lnTo>
                  <a:pt x="14400" y="14765"/>
                </a:lnTo>
                <a:arcTo wR="21600" hR="7600" stAng="8108292" swAng="2345122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2920" y="563400"/>
            <a:ext cx="889308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riz para Detalhamento de Programas e Sub-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1355760"/>
            <a:ext cx="8902440" cy="4676400"/>
            <a:chOff x="108000" y="1355760"/>
            <a:chExt cx="8902440" cy="4676400"/>
          </a:xfrm>
        </p:grpSpPr>
        <p:sp>
          <p:nvSpPr>
            <p:cNvPr id="206" name=""/>
            <p:cNvSpPr/>
            <p:nvPr/>
          </p:nvSpPr>
          <p:spPr>
            <a:xfrm>
              <a:off x="108000" y="1355760"/>
              <a:ext cx="1712160" cy="532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Programas e Sub-progra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0160" y="1355760"/>
              <a:ext cx="1788480" cy="532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Objetivos e Principais A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08640" y="1355760"/>
              <a:ext cx="1785240" cy="532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Inter-relações e Dependê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94240" y="1355760"/>
              <a:ext cx="1635840" cy="532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Natureza dos Produ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30080" y="1355760"/>
              <a:ext cx="1770840" cy="532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Produtos Parciais ou Intermediá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801280" y="1355760"/>
              <a:ext cx="207720" cy="532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8000" y="1888560"/>
              <a:ext cx="1712160" cy="41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cccc00"/>
                  </a:solidFill>
                  <a:latin typeface="Arial"/>
                </a:rPr>
                <a:t>I.1. Estudos Estratégicos sobre Contexto Macro-econômico Global e Inserção Geopolítica da GIRH no Contexto Latino-americano e Caribenho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0160" y="1888560"/>
              <a:ext cx="1788480" cy="41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dentificar e acompanhar a evolução de variáveis críticas e estratégicas, transversais ao PNRH, relativas ao contexto macroeconômico global e à inserção geopolítica do Brasil na América do Sul e subsidiar o diálogo com outros países no que tange a temas com repercussões sobre os recursos hídrico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08640" y="1888560"/>
              <a:ext cx="1785240" cy="41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Subsidia Cenários do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.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Instrui a revisão ou conteúdos de novos Acordos do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.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Confere dados ao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II.8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Indica critérios para priorizar os programas regionais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94240" y="1888560"/>
              <a:ext cx="1635840" cy="41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udos macro-econômicos especializ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30080" y="1888560"/>
              <a:ext cx="1770840" cy="41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ermos de Referência para contratação de especialistas e para atualizações periódicas, sempre que alterações de variáveis do contexto global indicarem necessidade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801280" y="1888560"/>
              <a:ext cx="207720" cy="41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0160" y="1355760"/>
              <a:ext cx="1080" cy="46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8640" y="1355760"/>
              <a:ext cx="1080" cy="46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4240" y="1355760"/>
              <a:ext cx="1080" cy="46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0080" y="1355760"/>
              <a:ext cx="1080" cy="46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01280" y="1355760"/>
              <a:ext cx="1440" cy="467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1888560"/>
              <a:ext cx="8901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8000" y="1355760"/>
              <a:ext cx="1080" cy="467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009360" y="1355760"/>
              <a:ext cx="1080" cy="46749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8000" y="1355760"/>
              <a:ext cx="89013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8000" y="6030720"/>
              <a:ext cx="890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245440" y="4869000"/>
            <a:ext cx="574560" cy="1944720"/>
          </a:xfrm>
          <a:custGeom>
            <a:avLst/>
            <a:gdLst>
              <a:gd name="textAreaLeft" fmla="*/ 89640 w 574560"/>
              <a:gd name="textAreaRight" fmla="*/ 502920 w 5745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66560" y="563400"/>
            <a:ext cx="87138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riz para Detalhamento de Programas e Sub-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532720" y="1555920"/>
            <a:ext cx="1800" cy="497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574640"/>
            <a:ext cx="8376840" cy="4951080"/>
            <a:chOff x="179280" y="1574640"/>
            <a:chExt cx="8376840" cy="4951080"/>
          </a:xfrm>
        </p:grpSpPr>
        <p:sp>
          <p:nvSpPr>
            <p:cNvPr id="232" name=""/>
            <p:cNvSpPr/>
            <p:nvPr/>
          </p:nvSpPr>
          <p:spPr>
            <a:xfrm>
              <a:off x="179280" y="1574640"/>
              <a:ext cx="20772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000" y="1574640"/>
              <a:ext cx="176148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Interlocução Necessária e Modelo de Implement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48480" y="1574640"/>
              <a:ext cx="165492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Variáveis Fora da Governabilidade do SINGRE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3760" y="1574640"/>
              <a:ext cx="151236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Produtos Fin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16120" y="1574640"/>
              <a:ext cx="158328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Conteúdo Relevante para o CNR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99400" y="1574640"/>
              <a:ext cx="165528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Conteúdo objeto das Câmaras Técn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9280" y="2518560"/>
              <a:ext cx="207720" cy="40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000" y="2518560"/>
              <a:ext cx="1761480" cy="40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cccc00"/>
                  </a:solidFill>
                  <a:latin typeface="Arial"/>
                </a:rPr>
                <a:t>Núcleo de Assuntos Estratégicos (NAE), vinculado à Secretaria de Planejamento de Longo Prazo (ou Ministério equivalente),  IPEA e MPO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cc9900"/>
                  </a:solidFill>
                  <a:latin typeface="Arial"/>
                </a:rPr>
                <a:t>Implementação centralizada na Uniã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48480" y="2518560"/>
              <a:ext cx="1654920" cy="40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xto macro-econômico globa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ordos econômicos que impactem recursos hídricos, motivados por variáveis externas ao SINGREH (p.ex., desenvolvimento  econômico do país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3760" y="2518560"/>
              <a:ext cx="1512360" cy="40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os Técnicos, no formato de estudos, notas ou parecer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16120" y="2518560"/>
              <a:ext cx="1583280" cy="40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ormes resumidos ao CNRH, com destaque para resultados dos estudo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99400" y="2518560"/>
              <a:ext cx="1655280" cy="40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rificar temas específicos, para as diferentes C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7000" y="1574640"/>
              <a:ext cx="1080" cy="495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48480" y="1574640"/>
              <a:ext cx="1080" cy="49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3760" y="1574640"/>
              <a:ext cx="1440" cy="49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16120" y="1574640"/>
              <a:ext cx="1080" cy="49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99400" y="1574640"/>
              <a:ext cx="1440" cy="49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9280" y="2518560"/>
              <a:ext cx="837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9280" y="1574640"/>
              <a:ext cx="1440" cy="495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555040" y="1574640"/>
              <a:ext cx="1080" cy="4950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9280" y="1574640"/>
              <a:ext cx="8375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9280" y="6524640"/>
              <a:ext cx="837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09440" y="836640"/>
            <a:ext cx="574920" cy="1944720"/>
          </a:xfrm>
          <a:custGeom>
            <a:avLst/>
            <a:gdLst>
              <a:gd name="textAreaLeft" fmla="*/ 89640 w 574920"/>
              <a:gd name="textAreaRight" fmla="*/ 503280 w 57492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2920" y="492120"/>
            <a:ext cx="88930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riz para Detalhamento de Programas e Sub-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08000" y="1355760"/>
            <a:ext cx="8902440" cy="4932000"/>
            <a:chOff x="108000" y="1355760"/>
            <a:chExt cx="8902440" cy="4932000"/>
          </a:xfrm>
        </p:grpSpPr>
        <p:sp>
          <p:nvSpPr>
            <p:cNvPr id="257" name=""/>
            <p:cNvSpPr/>
            <p:nvPr/>
          </p:nvSpPr>
          <p:spPr>
            <a:xfrm>
              <a:off x="108000" y="1355760"/>
              <a:ext cx="1712160" cy="533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Programas e Sub-progra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20160" y="1355760"/>
              <a:ext cx="1788480" cy="533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Objetivos e Principais A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08640" y="1355760"/>
              <a:ext cx="1785240" cy="533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Inter-relações e Dependê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94240" y="1355760"/>
              <a:ext cx="1635840" cy="533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Natureza dos Produ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30080" y="1355760"/>
              <a:ext cx="1770840" cy="533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Produtos Parciais ou Intermediá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801280" y="1355760"/>
              <a:ext cx="207720" cy="533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1888920"/>
              <a:ext cx="1712160" cy="43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cccc00"/>
                  </a:solidFill>
                  <a:latin typeface="Arial"/>
                </a:rPr>
                <a:t>III.4. Metodologias e sistemas de outorga de direito de uso de recursos hídr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0160" y="1888920"/>
              <a:ext cx="1788480" cy="43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evar o percentual de regularização de usuários de recursos hídricos no Brasil, por meio dos atos de outorga de direito de uso da água e cadastramento de usos classificados como insignific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08640" y="1888920"/>
              <a:ext cx="1785240" cy="43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Prioridades devem ser definidas com base em dados advindos dos subprogramas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.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I.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Insumos e subsídios técnicos são conferidos pelos subprogramas  II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.1, III.2, III.3, III.8, III.9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O subprograma deve interagir com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.1, IV.3, VI.1, VI.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94240" y="1888920"/>
              <a:ext cx="1635840" cy="43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latórios técnicos definindo metodologias e sistemáticas para concessão de outorgas. Convênios com os Estados para convergência de metodologias e crité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30080" y="1888920"/>
              <a:ext cx="1770840" cy="43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cumento preliminar com a definição de unidades territoriais de gestão, metodologia e critérios para a concessão de outorgas, a serem convergidos com os órgãos gestores estaduai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01280" y="1888920"/>
              <a:ext cx="207720" cy="43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20160" y="1355760"/>
              <a:ext cx="1080" cy="493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08640" y="1355760"/>
              <a:ext cx="1080" cy="493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94240" y="1355760"/>
              <a:ext cx="1080" cy="493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30080" y="1355760"/>
              <a:ext cx="1080" cy="493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801280" y="1355760"/>
              <a:ext cx="1440" cy="493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8000" y="1888920"/>
              <a:ext cx="8901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8000" y="1355760"/>
              <a:ext cx="1080" cy="493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009360" y="1355760"/>
              <a:ext cx="1080" cy="49305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8000" y="1355760"/>
              <a:ext cx="89013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8000" y="6286320"/>
              <a:ext cx="8901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8245440" y="4869000"/>
            <a:ext cx="574560" cy="1944720"/>
          </a:xfrm>
          <a:custGeom>
            <a:avLst/>
            <a:gdLst>
              <a:gd name="textAreaLeft" fmla="*/ 89640 w 574560"/>
              <a:gd name="textAreaRight" fmla="*/ 502920 w 5745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347760"/>
            <a:ext cx="8713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riz para Detalhamento de Programas e Sub-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8532720" y="1555920"/>
            <a:ext cx="1800" cy="497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9280" y="1035000"/>
            <a:ext cx="8376840" cy="5216040"/>
            <a:chOff x="179280" y="1035000"/>
            <a:chExt cx="8376840" cy="5216040"/>
          </a:xfrm>
        </p:grpSpPr>
        <p:sp>
          <p:nvSpPr>
            <p:cNvPr id="283" name=""/>
            <p:cNvSpPr/>
            <p:nvPr/>
          </p:nvSpPr>
          <p:spPr>
            <a:xfrm>
              <a:off x="179280" y="1035000"/>
              <a:ext cx="20772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7000" y="1035000"/>
              <a:ext cx="176148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Interlocução Necessária e Modelo de Implement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8480" y="1035000"/>
              <a:ext cx="165492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Variáveis Fora da Governabilidade do SINGRE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3760" y="1035000"/>
              <a:ext cx="151236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Produtos Fin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16120" y="1035000"/>
              <a:ext cx="158328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Conteúdo Relevante para o CNR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99400" y="1035000"/>
              <a:ext cx="1655280" cy="943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68ae"/>
                  </a:solidFill>
                  <a:latin typeface="Arial"/>
                </a:rPr>
                <a:t>Conteúdo objeto das Câmaras Técn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9280" y="1978920"/>
              <a:ext cx="207720" cy="42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000" y="1978920"/>
              <a:ext cx="1761480" cy="42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cccc00"/>
                  </a:solidFill>
                  <a:latin typeface="Arial"/>
                </a:rPr>
                <a:t>Interlocução principal entre a ANA e órgãos gestores estaduai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cccc00"/>
                  </a:solidFill>
                  <a:latin typeface="Arial"/>
                </a:rPr>
                <a:t>Conselhos e comitês devem ser consultado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Sistemática definida em cada bacia e consolidada no Estado. Em bacias com rios de domínio federal, caberá à União convergir critérios com os Estados envolvido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48480" y="1978920"/>
              <a:ext cx="1654920" cy="42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À exceção de deficiências nas bases de informações, a concessão de outorgas deve estar sob amplo controle do SINGRE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3760" y="1978920"/>
              <a:ext cx="1512360" cy="42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ênios de cooperação entre ANA e Estados – órgãos gestores, consolidando a convergência de critérios, bases territoriais e metodologia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16120" y="1978920"/>
              <a:ext cx="1583280" cy="42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ormes técnicos e justificativas que respaldem Minutas de Resoluções do CNRH, a respeito do instrumento da Outorg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99400" y="1978920"/>
              <a:ext cx="1655280" cy="42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RCO – Estudos para proposição de outorga em região costeir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T-POAR –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ompanhamento de estudos e propostas e subsídios às deliberações do CNR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000" y="1035000"/>
              <a:ext cx="1080" cy="521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48480" y="1035000"/>
              <a:ext cx="1080" cy="521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3760" y="1035000"/>
              <a:ext cx="1440" cy="521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16120" y="1035000"/>
              <a:ext cx="1080" cy="521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99400" y="1035000"/>
              <a:ext cx="1440" cy="521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9280" y="1978920"/>
              <a:ext cx="837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9280" y="1035000"/>
              <a:ext cx="1440" cy="521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55040" y="1035000"/>
              <a:ext cx="1080" cy="52149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9280" y="1035000"/>
              <a:ext cx="8375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9280" y="6249960"/>
              <a:ext cx="837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81080" y="765000"/>
            <a:ext cx="358560" cy="1368720"/>
          </a:xfrm>
          <a:custGeom>
            <a:avLst/>
            <a:gdLst>
              <a:gd name="textAreaLeft" fmla="*/ 55800 w 358560"/>
              <a:gd name="textAreaRight" fmla="*/ 313920 w 358560"/>
              <a:gd name="textAreaTop" fmla="*/ 342000 h 1368720"/>
              <a:gd name="textAreaBottom" fmla="*/ 1026720 h 136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 flipV="1">
            <a:off x="8532720" y="1555920"/>
            <a:ext cx="1800" cy="497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50920" y="1687680"/>
            <a:ext cx="8604000" cy="48369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749016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8930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spectos Metodológico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Bases Conceituai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844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idados metodológico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4581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...em grande medida, o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Verdana"/>
              </a:rPr>
              <a:t>Sistema Institucional conformará o PNRH, e a partir de um diálogo entre ambos será possível que o Plano proporcione adaptações progressivas no desenho institucional previsto para o Sistema.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242100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a formulação de diretrizes guardou estreita coerência com a Política Nacional de Recursos Hídricos; 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buscou a mútua sinergia entre a implementação do Plano e a construção simultânea do SINGREH, ou sej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349360"/>
            <a:ext cx="863640" cy="792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213000"/>
            <a:ext cx="863640" cy="77472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3680 h 774720"/>
              <a:gd name="textAreaBottom" fmla="*/ 581040 h 77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3933720"/>
            <a:ext cx="733680" cy="1368360"/>
          </a:xfrm>
          <a:custGeom>
            <a:avLst/>
            <a:gdLst>
              <a:gd name="textAreaLeft" fmla="*/ 98280 w 733680"/>
              <a:gd name="textAreaRight" fmla="*/ 635400 w 733680"/>
              <a:gd name="textAreaTop" fmla="*/ 240480 h 1368360"/>
              <a:gd name="textAreaBottom" fmla="*/ 98820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708"/>
                <a:lnTo>
                  <a:pt x="14400" y="21165"/>
                </a:lnTo>
                <a:lnTo>
                  <a:pt x="21600" y="17300"/>
                </a:lnTo>
                <a:lnTo>
                  <a:pt x="14400" y="12565"/>
                </a:lnTo>
                <a:lnTo>
                  <a:pt x="14400" y="14765"/>
                </a:lnTo>
                <a:arcTo wR="21600" hR="7600" stAng="8108292" swAng="2345122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8460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jetivos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Estratégicos do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720" y="1628280"/>
            <a:ext cx="89643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192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ue se pretende alcançar com a implementação do PNRH ?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m três dimensões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285264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lhoria das disponibilidades hídrica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superficiais e subterrâneas, em qualidade e em quantida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redução dos conflitos reais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 potenciais de uso da água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o também, a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mitigação de efeitos de eventos hidrológicos crítico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percepção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da conservação da água como valor socioambiental relevant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3600" y="2781360"/>
            <a:ext cx="976320" cy="64908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645000"/>
            <a:ext cx="976320" cy="64908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508640"/>
            <a:ext cx="976320" cy="64908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560520"/>
            <a:ext cx="8785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guns Conceitos Importantes para o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N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700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0820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1413000"/>
            <a:ext cx="795672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37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o PNR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37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stabelecer um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acto nacional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para a definição de diretrizes e políticas públicas, voltadas para a melhoria da oferta de água, em qualidade e quantidade, gerenciando as demandas e considerando a água um elemento estruturante para a implementação das políticas setoriais, sob a ótica do desenvolvimento sustentável e da inclusã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6680" y="1700280"/>
            <a:ext cx="733320" cy="1511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65680 h 1511280"/>
              <a:gd name="textAreaBottom" fmla="*/ 109152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708"/>
                <a:lnTo>
                  <a:pt x="14400" y="21165"/>
                </a:lnTo>
                <a:lnTo>
                  <a:pt x="21600" y="17300"/>
                </a:lnTo>
                <a:lnTo>
                  <a:pt x="14400" y="12565"/>
                </a:lnTo>
                <a:lnTo>
                  <a:pt x="14400" y="14765"/>
                </a:lnTo>
                <a:arcTo wR="21600" hR="7600" stAng="8108292" swAng="2345122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3860640"/>
            <a:ext cx="9143640" cy="1152000"/>
            <a:chOff x="0" y="3860640"/>
            <a:chExt cx="9143640" cy="1152000"/>
          </a:xfrm>
        </p:grpSpPr>
        <p:sp>
          <p:nvSpPr>
            <p:cNvPr id="87" name=""/>
            <p:cNvSpPr/>
            <p:nvPr/>
          </p:nvSpPr>
          <p:spPr>
            <a:xfrm>
              <a:off x="0" y="3860640"/>
              <a:ext cx="9142200" cy="1149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68ae"/>
                  </a:solidFill>
                  <a:latin typeface="Arial"/>
                </a:rPr>
                <a:t>A interlocução preferencial do PNRH deve se dar com os SEGRHs, evitando-se relacionamentos diretos da União com instâncias loca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860640"/>
              <a:ext cx="1800" cy="114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2200" y="3860640"/>
              <a:ext cx="1440" cy="114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860640"/>
              <a:ext cx="914220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010120"/>
              <a:ext cx="914220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332000" y="5084640"/>
            <a:ext cx="6983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á uma Relação Dinâmica entre o SINGREH e o P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5661000"/>
            <a:ext cx="3671640" cy="861840"/>
            <a:chOff x="0" y="5661000"/>
            <a:chExt cx="3671640" cy="861840"/>
          </a:xfrm>
        </p:grpSpPr>
        <p:sp>
          <p:nvSpPr>
            <p:cNvPr id="94" name=""/>
            <p:cNvSpPr/>
            <p:nvPr/>
          </p:nvSpPr>
          <p:spPr>
            <a:xfrm>
              <a:off x="0" y="5661000"/>
              <a:ext cx="3670200" cy="86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68ae"/>
                  </a:solidFill>
                  <a:latin typeface="Arial"/>
                </a:rPr>
                <a:t>O Sistema de Gestão conformará o Pl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5661000"/>
              <a:ext cx="1440" cy="86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70200" y="5661000"/>
              <a:ext cx="1440" cy="86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661000"/>
              <a:ext cx="3670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6521760"/>
              <a:ext cx="3670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572000" y="5516640"/>
            <a:ext cx="4571640" cy="1007640"/>
            <a:chOff x="4572000" y="5516640"/>
            <a:chExt cx="4571640" cy="1007640"/>
          </a:xfrm>
        </p:grpSpPr>
        <p:sp>
          <p:nvSpPr>
            <p:cNvPr id="100" name=""/>
            <p:cNvSpPr/>
            <p:nvPr/>
          </p:nvSpPr>
          <p:spPr>
            <a:xfrm>
              <a:off x="4572000" y="5516640"/>
              <a:ext cx="4569840" cy="1006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68ae"/>
                  </a:solidFill>
                  <a:latin typeface="Arial"/>
                </a:rPr>
                <a:t>enquanto o Plano deve ser a espinha dorsal das pautas e processos decisórios do Sist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0" y="5516640"/>
              <a:ext cx="1440" cy="10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1840" y="5516640"/>
              <a:ext cx="1800" cy="10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5516640"/>
              <a:ext cx="4569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6523200"/>
              <a:ext cx="4569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64000" y="5445000"/>
            <a:ext cx="1079280" cy="1224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33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156.862745098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156.862745098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156.862745098" l="25098.0392156863"/>
                                      </p:by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89000"/>
            <a:ext cx="776916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47ff"/>
                </a:solidFill>
                <a:latin typeface="Verdana"/>
              </a:rPr>
              <a:t>ESTRUTURA DE PROGRAMAS DO P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109520"/>
          <a:ext cx="8893080" cy="53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9520"/>
                    <a:ext cx="889308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826920" y="620640"/>
          <a:ext cx="7075800" cy="58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7075800" cy="58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2276640"/>
            <a:ext cx="8569080" cy="77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Metas do PNR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8000" y="1125360"/>
            <a:ext cx="482436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Elaborar e aprovar no âmbito do CNRH documento denominado Estratégia de Implementação do PNR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2565360"/>
            <a:ext cx="460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senvolver, propor e aprovar o SIGEOR, no âmbito do CNR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3876840"/>
            <a:ext cx="45370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talhar, no nível operacional, e implementar o Sistema de Implantação, Monitoramento e Avaliação do PNRH e o Sub-sistema de Informações de Monitoramento e Avaliação do PNRH, vis a vis a implementação de ações para o fortalecimento dos instrumentos de gestão e do SINGRE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1647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1341360"/>
            <a:ext cx="3203640" cy="703800"/>
          </a:xfrm>
          <a:prstGeom prst="rect">
            <a:avLst/>
          </a:prstGeom>
          <a:noFill/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olução CNRH nº 67 de dezembro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7680" y="27986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57340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2708280"/>
            <a:ext cx="3241440" cy="703800"/>
          </a:xfrm>
          <a:prstGeom prst="rect">
            <a:avLst/>
          </a:prstGeom>
          <a:noFill/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olução CNRH nº 69 de março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4357800"/>
            <a:ext cx="3851280" cy="1923480"/>
          </a:xfrm>
          <a:prstGeom prst="rect">
            <a:avLst/>
          </a:prstGeom>
          <a:noFill/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a atividade decorre do detalhamento dos subprogramas que estão em debate, visto que os indicadores de cada subprograma serão definidos em seu detalhament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BA</cp:lastModifiedBy>
  <dcterms:modified xsi:type="dcterms:W3CDTF">2007-10-24T14:28:01Z</dcterms:modified>
  <cp:revision>14</cp:revision>
  <dc:subject/>
  <dc:title>Slide 1</dc:title>
</cp:coreProperties>
</file>