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6F5-CF98-4725-B8F8-774D5CE4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664-41B5-4978-B783-12707A89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296-80C3-49F1-A195-4132A83A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D1F-231D-4FCD-91F9-DB44FF87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00F7-9714-49B3-9853-3901AC8CA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AD5A-2BBB-4FD4-AE6B-55C5D2D4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2AA0-22CD-4E3C-BC8E-61571FAD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6517-6230-4B6A-A776-FAFB656B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8C2-8EB1-447E-8490-969AC587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D96F-07E9-47A9-9987-B439F1C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5765-FF99-4DBB-A8F9-2E36AFC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89A1-77FC-4A7A-B0FF-23E7EAE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5A0-0909-4AA0-86C4-70A5781C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4A2-CDAE-49A8-9787-7B0A2DA6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AC93-FAB8-4C1A-9A3C-2FD991F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7BB7-8D1D-4211-B080-0246F2D2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251C-CF80-4598-972D-4F4AFA1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3D98-93AE-4D05-9965-F8D91DA0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A9E-11F3-41F8-8DEB-D231A316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145-2FA6-4AA2-A6AB-EF41286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CB4-28F0-42C9-9340-96E6554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444-2D95-4E53-85FD-3B0F9FFF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5100-1AEF-4F20-A0B9-C820EEFD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597-BDCB-4ED8-BAD8-CD6A7B76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C872-CA11-464E-B986-521979023AD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E5C-954E-44FC-85E7-8174F282AB1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660066"/>
                </a:solidFill>
                <a:latin typeface="Tahoma"/>
              </a:rPr>
              <a:t>Entidade delegatária para a Agência de Águ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ntidade Delegatária: Consórcio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azo determinado: até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critório Regional em Piracicab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argos e estrutura próprios p/ as funções delegad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mponentes da direção submetidos à CT-PL e Plenários PCJ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rientação dos trabalhos: CT-P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Estrutura da Direção: Coordenador Geral; Coordenador Técnico e Coordenador Adm./Financ.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rimeira atribuição: criação da “Agência PCJ”; processo seletivo para funcionamento da Agência PCJ e escolha da sede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Outras atribuições de Agência de Águ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rias para desenvolver as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Não será a Secretaria Executiva, mas apoiará suas atividad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Trabalho conjunto SE e ED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49:47Z</dcterms:modified>
  <cp:revision>17</cp:revision>
  <dc:subject/>
  <dc:title>Cobrança pelo uso das águas</dc:title>
</cp:coreProperties>
</file>