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F8AC-6E41-4A17-8CE3-D114DF02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A2A-C4DB-4124-AC2D-DD82CB7B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D00-7702-4437-91DC-65DD35C1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2C3-43BA-487A-9FA1-B2E3723E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3943-1186-4BBD-8C34-60874B56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FAE7-AF4D-4387-B27E-DA859373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A55B-70AB-4BCB-ADF9-108BB36D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A6A4-DA04-49BF-B6B2-74AB36E3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5064-64BF-4B9C-8718-599121DB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048B-1999-489C-A410-456D0C91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6645-A93C-4BB8-8A54-46DCC0F4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E53-C121-427E-B184-C8C21221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7FF-7A1C-49B2-9698-4D3A9B93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EC79-8B92-47CA-B0F7-12AB285F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3055-624B-4F4C-9985-1E6460C4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0C9B-D01D-4560-A091-A6A65369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F9BC-5349-420F-87E7-ACC6BF8D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407-A91F-45B8-B541-BAF7DA7B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D32A-1606-4206-B6E7-54D0168B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90DC-328C-43F6-93D6-E049BDE1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510-6EC2-496B-89C9-A26297CA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3B6-136A-4C05-BD3C-1C18DF94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6C8-7933-4D7E-A0CE-29CB480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23F-B776-4763-8F50-9ABAD03B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5A78-9DF9-4B73-9BA8-2FF55795D904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5550-82CE-4BE1-9693-F412BB579DDF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rança pelo uso dos recursos híd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ício: a partir de 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de janeiro de 2006, com Plano e Agênci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odos usos significantes: CT-OL usos insignificant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gressividade: 60% (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75% (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100% (3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alidade da proposta: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eneficiários: tod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ndicionantes para acesso e indic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o de regularização dos usos e campanha de divulg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ntribuição Regional Voluntária - CRV”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FEHIDR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ontuação extra: PE = PE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ax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P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extingue-se com a cobrança estadu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rreção de valores e compensação no ano posterio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gamento com atraso: multa de 2% e SELI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Aplicação $: Programas do Plano e regras de hierarquiz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460600"/>
                <a:ext cx="216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obrança será feita levando-se em consideração os seguintes aspecto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o d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ca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a e transposta para outras bacias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trans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lançado n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lanç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onsumido do corpo hídrico (diferença entre o volume captado e o lançado), que será denotado por “Qcons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carga orgânica lançada no corpo hídrico, denotada por “CO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DBO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060640"/>
            <a:ext cx="849636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sobre a captação: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outorga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edição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e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class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sobre o consumo: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retorno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/ irrigação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CT-Rur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pela poluição: DBO (2 anos), após: acrescentar carga inorgânic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de PCHs: Energia: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nominal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gerada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 0,01TA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brança Total: </a:t>
            </a:r>
            <a:r>
              <a:rPr b="0" lang="el-GR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Σ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  <a:ea typeface="Times New Roman"/>
              </a:rPr>
              <a:t>cobranças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  <a:ea typeface="Times New Roman"/>
              </a:rPr>
              <a:t>Gestão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= 1 ou 0 (definido pelos Comitês PCJ = f(garantia de retorno do $)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060640"/>
            <a:ext cx="8351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rcelas e valor mínimo: R$ 20,00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Abatimento do Valor devido a CO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ações do Plano de Bacia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Abatimento do valor devido pelo setor rural: CT-Rural p/ definir ações passíveis de abatiment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Regularização de débit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ores dos PUB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839440" cy="3795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stimativa preliminar de arrecad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80360" y="5084640"/>
            <a:ext cx="1763640" cy="1038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642160" cy="4967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1-06T19:30:15Z</dcterms:modified>
  <cp:revision>15</cp:revision>
  <dc:subject/>
  <dc:title>Cobrança pelo uso das águas</dc:title>
</cp:coreProperties>
</file>