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3C3-14B6-47D2-9A8F-93D0E858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78E-4B7A-46C1-80A1-68EA901B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E83-ECB4-44F5-BE29-A328CCC6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C34-F5AE-4FC9-AFEB-57505040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BB31-0EB9-43D8-83C7-F44520C6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4F92-F28B-4E6A-8DF2-A73557CE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FC44-60D9-4C92-BF1E-DEEA5D7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AFCA-1498-4A5C-A9DA-D50B14DE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DCD1-EDB6-4467-AF37-9807274A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FC07-6134-4D77-B4E3-9691A715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B0DC-0451-47A3-B9EF-DCBD6B34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64B-4780-4AA1-B7FF-0145D758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AA6F-24B2-4470-9E02-E2E9DF85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21CE-4891-440C-8C05-7BB3406B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ED7D-BA27-47F2-9C97-6ABED86E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31FA-EF55-48D6-B689-9706CF7D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79A7-9E7B-4682-BF47-A28AA029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72C-17AF-41FD-8222-8E8A0A3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033-5A12-446F-BB76-67B9FF7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6BF-305D-4BC5-B9E0-B9F7E66E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289-19A2-4D65-AFEE-1EFB7F09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61C-8469-4306-9640-0FFBCDC7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30B-8235-471D-8421-34D2EDDF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E45-3CAC-4285-8AB6-D1088BB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1AB5-F87E-40C0-AEFC-1E9B6E70208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Brasil - Um país de tod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237360"/>
            <a:ext cx="1116000" cy="40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BB80-557B-4C25-AFDC-FD1AAA3DAE1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Dario.almeida@dnpm.gov.br" TargetMode="External"/><Relationship Id="rId2" Type="http://schemas.openxmlformats.org/officeDocument/2006/relationships/hyperlink" Target="mailto:Dario.almeida@dnpm.gov.br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486560" cy="1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CNRH - CTPOAR</a:t>
            </a:r>
            <a:br>
              <a:rPr sz="32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GRUPO DE TRABALHO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357720"/>
            <a:ext cx="820872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Eng. de Minas Dário Moraes de Almeida DNPM/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09/08/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5950080"/>
            <a:ext cx="7199280" cy="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-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276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Propos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2670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5084640"/>
            <a:ext cx="631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Resulta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79520"/>
            <a:ext cx="861048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COMPOSIÇÃO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GOV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SOCIED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USUÁRIOS </a:t>
            </a:r>
            <a:r>
              <a:rPr b="1" i="1" lang="pt-BR" sz="2800" spc="-1" strike="noStrike">
                <a:solidFill>
                  <a:srgbClr val="ffffff"/>
                </a:solidFill>
                <a:latin typeface="Arial Black"/>
              </a:rPr>
              <a:t>(EMPRESAS MINERA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60280"/>
            <a:ext cx="8381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HISTÓRICO DAS REUNI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 DE TRABALH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CRITÉ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DETALHAMENTO DO PU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QUESTIONAMEN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479520"/>
            <a:ext cx="8610480" cy="70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JURÍD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ROPOSTA DE RESOLU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MANUAL TÉCN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TERMO DE REFERÊ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479520"/>
            <a:ext cx="861048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TÉCN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OR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ETALH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REGIONA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OCUMENTOS REFERENTES             A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INCIPAIS QUESTIONAMEN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852640"/>
            <a:ext cx="860436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JURÍD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CLASSIFICAÇÃO  DE POR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IMPACTOS  N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479520"/>
            <a:ext cx="883908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OPOSIÇÕES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SIMPL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DOCUMENTOS TÉCNICOS (R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SUÁRIOS MÚLTI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MANUTENÇÃO  DA     QUALIDADE 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TILIZAÇÃO RACIONAL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79520"/>
            <a:ext cx="86104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QUESTIONAMEN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ff0033"/>
                </a:solidFill>
                <a:uFillTx/>
                <a:latin typeface="Arial Black"/>
              </a:rPr>
              <a:t>d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1"/>
              </a:rPr>
              <a:t>ario.almeida@dnpm.gov.b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2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(048) 216 23 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00:56:08Z</dcterms:created>
  <dc:creator>Peterson</dc:creator>
  <dc:description/>
  <dc:language>en-US</dc:language>
  <cp:lastModifiedBy>CGTI-SPOA</cp:lastModifiedBy>
  <cp:lastPrinted>2002-05-06T11:43:08Z</cp:lastPrinted>
  <dcterms:modified xsi:type="dcterms:W3CDTF">2005-08-15T20:07:50Z</dcterms:modified>
  <cp:revision>43</cp:revision>
  <dc:subject/>
  <dc:title>Apresentação do PowerPoint</dc:title>
</cp:coreProperties>
</file>