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0BCC-C788-4350-804C-D35AD9FB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ECD-1EE7-4614-B725-F803A69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5DF-472B-417A-98AE-8091B65E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A69-52B4-495D-B414-8671C0EE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04D0-8D46-42B3-A4F3-AA234B36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9EB0-B08A-46A4-B0A3-F18C2F20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FEC4-C37B-48C2-9060-AB79EF9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6993-02BF-4626-861E-69692DA7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E9D-A94C-4ABE-8188-4FBB5E12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3094-0E48-4B48-A9FC-E3CEF268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520-0911-494E-8682-6435439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5A0-6DD5-4686-89AD-A30AABA1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7AC8-5CCE-452E-9311-A921FBDD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7E1C-4200-4BBC-9A18-E7FC37A9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B3EC-F9BF-424F-A888-2C631A25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D19C-07AD-4EFF-8C25-3DE41CD3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14E9-BEB0-4720-95F4-B0530D27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801-0B7F-46F8-8251-8DA6268F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54A-67B8-4B4B-8DB2-D471A059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161-7771-4488-AC16-D0A81800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11D-B13F-4AEC-9514-9CEA94BE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27E-7D8A-43E6-9AB5-2E206FDE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6AC-75FE-478A-9C83-D62F4A5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EED7-21AF-4930-A27B-BA997881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8C22-D44B-4FC4-9808-7691E3EE6643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Brasil - Um país de todo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1116000" cy="40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3526-9060-4B24-B046-F02BB48A745E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Dario.almeida@dnpm.gov.br" TargetMode="External"/><Relationship Id="rId2" Type="http://schemas.openxmlformats.org/officeDocument/2006/relationships/hyperlink" Target="mailto:Dario.almeida@dnpm.gov.br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486560" cy="12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CNRH - CTPOAR</a:t>
            </a:r>
            <a:br>
              <a:rPr sz="3200"/>
            </a:br>
            <a:r>
              <a:rPr b="1" i="1" lang="pt-BR" sz="3200" spc="-1" strike="noStrike">
                <a:solidFill>
                  <a:srgbClr val="ffff00"/>
                </a:solidFill>
                <a:latin typeface="Arial Black"/>
              </a:rPr>
              <a:t>GRUPO DE TRABALH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357720"/>
            <a:ext cx="820872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Eng. de Minas Dário Moraes de Almeida DNPM/S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 Unicode MS"/>
              </a:rPr>
              <a:t>09/08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4360" y="5950080"/>
            <a:ext cx="7199280" cy="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pt-BR" sz="4400" spc="-1" strike="noStrike">
                <a:solidFill>
                  <a:srgbClr val="00ffff"/>
                </a:solidFill>
                <a:latin typeface="Arial Black"/>
              </a:rPr>
              <a:t>Plano de Utilização da Água na Mineração - PU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692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3276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Propos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27280" y="42670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5084640"/>
            <a:ext cx="631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Resultad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479520"/>
            <a:ext cx="8610480" cy="50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COMPOSIÇÃO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GOVER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SOCIED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USUÁRIOS </a:t>
            </a:r>
            <a:r>
              <a:rPr b="1" i="1" lang="pt-BR" sz="2800" spc="-1" strike="noStrike">
                <a:solidFill>
                  <a:srgbClr val="ffffff"/>
                </a:solidFill>
                <a:latin typeface="Arial Black"/>
              </a:rPr>
              <a:t>(EMPRESAS MINERA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260280"/>
            <a:ext cx="8381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HISTÓRICO DAS REUNIÕ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METODOLOGIA DE TRABAL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CRITÉ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DETALHAMENTO DO PU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QUESTIONAMEN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479520"/>
            <a:ext cx="8610480" cy="70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JURÍD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ROPOSTA DE RESOLUÇÃ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MANUAL TÉCN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TERMO DE REFERÊNC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479520"/>
            <a:ext cx="861048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ASPECTOS TÉCNIC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POR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ETALH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REGIONA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DOCUMENTOS REFERENTES             A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INCIPAIS QUESTIONAMENT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2852640"/>
            <a:ext cx="8604360" cy="35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ASPECTOS JURÍD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CLASSIFICAÇÃO  DE POR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IMPACTOS  NOS RECURSOS HÍDRIC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479520"/>
            <a:ext cx="8839080" cy="55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PROPOSIÇÕES DO G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SIMPLIFIC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DOCUMENTOS TÉCNICOS (R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SUÁRIOS MÚLTI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MANUTENÇÃO  DA     QUALIDADE 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i="1" lang="pt-BR" sz="3200" spc="-1" strike="noStrike">
                <a:solidFill>
                  <a:srgbClr val="ffffff"/>
                </a:solidFill>
                <a:latin typeface="Arial Black"/>
              </a:rPr>
              <a:t>UTILIZAÇÃO RACIONAL DOS RECURSOS HÍD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479520"/>
            <a:ext cx="86104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ff00"/>
                </a:solidFill>
                <a:latin typeface="Arial Black"/>
              </a:rPr>
              <a:t>QUESTIONAMEN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 u="sng">
                <a:solidFill>
                  <a:srgbClr val="ff0033"/>
                </a:solidFill>
                <a:uFillTx/>
                <a:latin typeface="Arial Black"/>
              </a:rPr>
              <a:t>d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1"/>
              </a:rPr>
              <a:t>ario.almeida@dnpm.gov.b</a:t>
            </a:r>
            <a:r>
              <a:rPr b="0" lang="pt-BR" sz="3600" spc="-1" strike="noStrike" u="sng">
                <a:solidFill>
                  <a:srgbClr val="ff0033"/>
                </a:solidFill>
                <a:uFillTx/>
                <a:latin typeface="Arial Black"/>
                <a:hlinkClick r:id="rId2"/>
              </a:rPr>
              <a:t>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ffffff"/>
                </a:solidFill>
                <a:latin typeface="Arial Black"/>
              </a:rPr>
              <a:t>(048) 216 23 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3T00:56:08Z</dcterms:created>
  <dc:creator>Peterson</dc:creator>
  <dc:description/>
  <dc:language>en-US</dc:language>
  <cp:lastModifiedBy>CGTI-SPOA</cp:lastModifiedBy>
  <cp:lastPrinted>2002-05-06T11:43:08Z</cp:lastPrinted>
  <dcterms:modified xsi:type="dcterms:W3CDTF">2005-08-15T20:07:50Z</dcterms:modified>
  <cp:revision>43</cp:revision>
  <dc:subject/>
  <dc:title>Apresentação do PowerPoint</dc:title>
</cp:coreProperties>
</file>