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32C-EB49-4C6D-8B62-8B77014C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5DA-665A-4572-8A12-9772D7BE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F27-96B4-4D4E-989A-DAE763D9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474-FA13-4205-B683-CC3A03F6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477D-A0FE-41F9-A376-4CE0133D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F1C0-8A59-4FF6-A907-AD000E64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8778-3232-493E-BC9D-4C5AFD6D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8138-F709-4B19-9FC2-595D84ED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26DD-D5E0-493A-85F9-4C954CA6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5C68-1050-4B05-A267-6AC3C8D4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F350-80B4-488B-9D0B-123D5212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00E-D7E9-41FB-9F28-E493E380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BF8A-6AE7-4EC8-9CA0-5628DF92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302A-AD2C-435F-90E1-B057CBC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AA7C-55D4-4780-88D8-C8DC41E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88C5-AD4B-4CAB-BB2B-664EFE38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7E1B-59F6-4587-A83A-6EAFEB41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697-9103-4864-ACE9-E4FF9BA8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D6F-F0BA-4BC9-8086-536F7726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A1A-EEE9-4820-B6F9-1E75FA5D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D78-8F29-4E50-9B6D-12B3E018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B7F-94C6-4D17-A788-334BE121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A96-F124-495F-A5B7-AD00E97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06F-E43C-4E32-B488-F2C71B4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ECB-A718-439E-8577-AA28F6A24E9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Brasil - Um país de tod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237360"/>
            <a:ext cx="1116000" cy="40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D301-C205-4456-AAED-1DB854783CB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Dario.almeida@dnpm.gov.br" TargetMode="External"/><Relationship Id="rId2" Type="http://schemas.openxmlformats.org/officeDocument/2006/relationships/hyperlink" Target="mailto:Dario.almeida@dnpm.gov.br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486560" cy="1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CNRH - CTPOAR</a:t>
            </a:r>
            <a:br>
              <a:rPr sz="32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GRUPO DE TRABALHO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357720"/>
            <a:ext cx="820872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Eng. de Minas Dário Moraes de Almeida DNPM/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09/08/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5950080"/>
            <a:ext cx="7199280" cy="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-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276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Propos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2670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5084640"/>
            <a:ext cx="631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Resulta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79520"/>
            <a:ext cx="861048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COMPOSIÇÃO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GOV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SOCIED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USUÁRIOS </a:t>
            </a:r>
            <a:r>
              <a:rPr b="1" i="1" lang="pt-BR" sz="2800" spc="-1" strike="noStrike">
                <a:solidFill>
                  <a:srgbClr val="ffffff"/>
                </a:solidFill>
                <a:latin typeface="Arial Black"/>
              </a:rPr>
              <a:t>(EMPRESAS MINERA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60280"/>
            <a:ext cx="8381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HISTÓRICO DAS REUNI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 DE TRABALH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CRITÉ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DETALHAMENTO DO PU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QUESTIONAMEN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479520"/>
            <a:ext cx="8610480" cy="70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JURÍD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ROPOSTA DE RESOLU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MANUAL TÉCN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TERMO DE REFERÊ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479520"/>
            <a:ext cx="861048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TÉCN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OR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ETALH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REGIONA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OCUMENTOS REFERENTES             A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INCIPAIS QUESTIONAMEN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852640"/>
            <a:ext cx="860436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JURÍD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CLASSIFICAÇÃO  DE POR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IMPACTOS  N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479520"/>
            <a:ext cx="883908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OPOSIÇÕES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SIMPL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DOCUMENTOS TÉCNICOS (R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SUÁRIOS MÚLTI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MANUTENÇÃO  DA     QUALIDADE 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TILIZAÇÃO RACIONAL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79520"/>
            <a:ext cx="86104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QUESTIONAMEN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ff0033"/>
                </a:solidFill>
                <a:uFillTx/>
                <a:latin typeface="Arial Black"/>
              </a:rPr>
              <a:t>d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1"/>
              </a:rPr>
              <a:t>ario.almeida@dnpm.gov.b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2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(048) 216 23 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00:56:08Z</dcterms:created>
  <dc:creator>Peterson</dc:creator>
  <dc:description/>
  <dc:language>en-US</dc:language>
  <cp:lastModifiedBy>CGTI-SPOA</cp:lastModifiedBy>
  <cp:lastPrinted>2002-05-06T11:43:08Z</cp:lastPrinted>
  <dcterms:modified xsi:type="dcterms:W3CDTF">2005-08-15T20:07:50Z</dcterms:modified>
  <cp:revision>43</cp:revision>
  <dc:subject/>
  <dc:title>Apresentação do PowerPoint</dc:title>
</cp:coreProperties>
</file>