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669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1480" y="762120"/>
            <a:ext cx="47750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068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ldImg"/>
          </p:nvPr>
        </p:nvSpPr>
        <p:spPr>
          <a:xfrm>
            <a:off x="1011240" y="735120"/>
            <a:ext cx="48117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041480" y="762120"/>
            <a:ext cx="47750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14040" y="4572000"/>
            <a:ext cx="500868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11240" y="735120"/>
            <a:ext cx="4827600" cy="36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572000"/>
            <a:ext cx="500868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41480" y="762120"/>
            <a:ext cx="47750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14040" y="4572000"/>
            <a:ext cx="500868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11240" y="735120"/>
            <a:ext cx="4816440" cy="36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14040" y="4572000"/>
            <a:ext cx="500868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41480" y="762120"/>
            <a:ext cx="47750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14040" y="4572000"/>
            <a:ext cx="500868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11240" y="735120"/>
            <a:ext cx="4821120" cy="36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572000"/>
            <a:ext cx="500868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11240" y="735120"/>
            <a:ext cx="4818240" cy="360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572000"/>
            <a:ext cx="500868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11240" y="735120"/>
            <a:ext cx="4830840" cy="36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14040" y="4572000"/>
            <a:ext cx="500868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11240" y="735120"/>
            <a:ext cx="4827600" cy="36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040" y="4572000"/>
            <a:ext cx="500868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79160"/>
            <a:ext cx="773280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328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83560"/>
            <a:ext cx="77328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79160"/>
            <a:ext cx="773280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735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7735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37735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8320" y="4183560"/>
            <a:ext cx="37735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9160"/>
            <a:ext cx="773280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8976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00480" y="1980720"/>
            <a:ext cx="248976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15160" y="1980720"/>
            <a:ext cx="248976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83560"/>
            <a:ext cx="248976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00480" y="4183560"/>
            <a:ext cx="248976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15160" y="4183560"/>
            <a:ext cx="248976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79160"/>
            <a:ext cx="773280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328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79160"/>
            <a:ext cx="773280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328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79160"/>
            <a:ext cx="773280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735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7735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79160"/>
            <a:ext cx="773280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479160"/>
            <a:ext cx="7732800" cy="63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79160"/>
            <a:ext cx="773280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735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7735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37735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79160"/>
            <a:ext cx="773280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735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7735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8320" y="4183560"/>
            <a:ext cx="37735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79160"/>
            <a:ext cx="773280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735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7735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77328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0"/>
            <a:ext cx="9128160" cy="6810480"/>
            <a:chOff x="0" y="0"/>
            <a:chExt cx="9128160" cy="6810480"/>
          </a:xfrm>
        </p:grpSpPr>
        <p:grpSp>
          <p:nvGrpSpPr>
            <p:cNvPr id="4" name=""/>
            <p:cNvGrpSpPr/>
            <p:nvPr/>
          </p:nvGrpSpPr>
          <p:grpSpPr>
            <a:xfrm>
              <a:off x="0" y="0"/>
              <a:ext cx="9128160" cy="2664000"/>
              <a:chOff x="0" y="0"/>
              <a:chExt cx="9128160" cy="2664000"/>
            </a:xfrm>
          </p:grpSpPr>
          <p:graphicFrame>
            <p:nvGraphicFramePr>
              <p:cNvPr id="5" name=""/>
              <p:cNvGraphicFramePr/>
              <p:nvPr/>
            </p:nvGraphicFramePr>
            <p:xfrm>
              <a:off x="0" y="0"/>
              <a:ext cx="9128160" cy="2664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0" y="0"/>
                        <a:ext cx="9128160" cy="2664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985160" y="835200"/>
                <a:ext cx="946080" cy="30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752480" y="800280"/>
                <a:ext cx="2495520" cy="444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" name="" descr=""/>
            <p:cNvPicPr/>
            <p:nvPr/>
          </p:nvPicPr>
          <p:blipFill>
            <a:blip r:embed="rId9"/>
            <a:stretch/>
          </p:blipFill>
          <p:spPr>
            <a:xfrm>
              <a:off x="7467480" y="6232680"/>
              <a:ext cx="160020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79160"/>
            <a:ext cx="773280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328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lnSpc>
                <a:spcPct val="5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3440" indent="-246240">
              <a:lnSpc>
                <a:spcPct val="5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5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5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5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5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ma.gov.br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0200" y="1119240"/>
            <a:ext cx="88394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PROGRAMA NACIONAL DE ÁGUAS SUBTERRÂNEAS  DETALHAMENTO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60080" y="2782440"/>
            <a:ext cx="785340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Arial"/>
                <a:ea typeface="Tahoma"/>
              </a:rPr>
              <a:t>CÂMARA TÉCNICA INSTITUCIONAL E LEG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Arial"/>
                <a:ea typeface="Tahoma"/>
              </a:rPr>
              <a:t>26 e 27 de novembro de 200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300dc"/>
                </a:solidFill>
                <a:latin typeface="Verdana"/>
                <a:ea typeface="Tahoma"/>
              </a:rPr>
              <a:t>Claudia Ferreira Lima – SRHU/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60360" y="1440000"/>
            <a:ext cx="8459640" cy="60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GB" sz="1800" spc="-1" strike="noStrike">
                <a:solidFill>
                  <a:srgbClr val="000080"/>
                </a:solidFill>
                <a:latin typeface="Arial"/>
                <a:ea typeface="Arial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oiar as ações voltadas para capacitação, comunicação e mobilização social dos demais programas do PNRH e subprogramas do Programa VII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Propor parcerias com outras secretarias do Ministério do Meio Ambiente, Ministério da Educação e instituições com vistas a inserir a abordagem da temática das águas subterrâneas em projetos de EA e em fóruns particip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r e replicar experiências exitosas em recursos hídricos subterrâ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D-</a:t>
            </a:r>
            <a:r>
              <a:rPr b="1" lang="en-GB" sz="1800" spc="-1" strike="noStrike">
                <a:solidFill>
                  <a:srgbClr val="000080"/>
                </a:solidFill>
                <a:latin typeface="Arial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mover e elaborar cursos de fortalecimento de capacidades em gestão de recursos hídricos para entes do SINGREH, setores usuários e atores soci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E- </a:t>
            </a:r>
            <a:r>
              <a:rPr b="0" lang="en-GB" sz="18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car parceria e apoiar universidades, centros de pesquisa, associações técnicas, de usuários e na realização de estudos, trabalhos, publicações com enfoque em águas subterrâneas e GI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F-</a:t>
            </a:r>
            <a:r>
              <a:rPr b="0" lang="en-GB" sz="18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oiar e promover o desenvolvimento de capacidades e integração entre países/estados que compartilham aqüí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541080"/>
            <a:ext cx="914400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400"/>
            </a:br>
            <a:r>
              <a:rPr b="1" lang="en-GB" sz="5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Verdana"/>
              </a:rPr>
              <a:t>Ministério do Meio Ambiente</a:t>
            </a:r>
            <a:r>
              <a:rPr b="1" lang="en-GB" sz="5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5400"/>
            </a:br>
            <a:r>
              <a:rPr b="1" lang="en-GB" sz="2800" spc="-1" strike="noStrike">
                <a:solidFill>
                  <a:srgbClr val="3333cc"/>
                </a:solidFill>
                <a:latin typeface="Verdana"/>
              </a:rPr>
              <a:t>Secretaria de Recursos Hídricos e Ambiente Urbano - SRHU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330804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Verdana"/>
              </a:rPr>
              <a:t>Sites: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r>
              <a:rPr b="0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mma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claudia.lima@mma.gov.b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80360" cy="6858000"/>
          </a:xfrm>
          <a:prstGeom prst="roundRect">
            <a:avLst>
              <a:gd name="adj" fmla="val 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40720" y="2700360"/>
            <a:ext cx="190440" cy="289080"/>
          </a:xfrm>
          <a:custGeom>
            <a:avLst/>
            <a:gdLst/>
            <a:ahLst/>
            <a:rect l="l" t="t" r="r" b="b"/>
            <a:pathLst>
              <a:path w="1390" h="3176">
                <a:moveTo>
                  <a:pt x="346" y="0"/>
                </a:moveTo>
                <a:lnTo>
                  <a:pt x="346" y="2480"/>
                </a:lnTo>
                <a:lnTo>
                  <a:pt x="0" y="2480"/>
                </a:lnTo>
                <a:lnTo>
                  <a:pt x="694" y="3175"/>
                </a:lnTo>
                <a:lnTo>
                  <a:pt x="1389" y="2480"/>
                </a:lnTo>
                <a:lnTo>
                  <a:pt x="1041" y="2480"/>
                </a:lnTo>
                <a:lnTo>
                  <a:pt x="1041" y="0"/>
                </a:lnTo>
                <a:lnTo>
                  <a:pt x="346" y="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44520" y="3240000"/>
            <a:ext cx="2355840" cy="998640"/>
            <a:chOff x="344520" y="3240000"/>
            <a:chExt cx="2355840" cy="998640"/>
          </a:xfrm>
        </p:grpSpPr>
        <p:sp>
          <p:nvSpPr>
            <p:cNvPr id="82" name=""/>
            <p:cNvSpPr/>
            <p:nvPr/>
          </p:nvSpPr>
          <p:spPr>
            <a:xfrm>
              <a:off x="344520" y="3240000"/>
              <a:ext cx="2355840" cy="998640"/>
            </a:xfrm>
            <a:prstGeom prst="roundRect">
              <a:avLst>
                <a:gd name="adj" fmla="val 16718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1760" y="3417840"/>
              <a:ext cx="224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nálise da Proposta ao GTCE Estratég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016680" y="900000"/>
            <a:ext cx="642960" cy="285840"/>
          </a:xfrm>
          <a:custGeom>
            <a:avLst/>
            <a:gdLst/>
            <a:ahLst/>
            <a:rect l="l" t="t" r="r" b="b"/>
            <a:pathLst>
              <a:path w="1787" h="794">
                <a:moveTo>
                  <a:pt x="0" y="197"/>
                </a:moveTo>
                <a:lnTo>
                  <a:pt x="1389" y="197"/>
                </a:lnTo>
                <a:lnTo>
                  <a:pt x="1389" y="0"/>
                </a:lnTo>
                <a:lnTo>
                  <a:pt x="1786" y="396"/>
                </a:lnTo>
                <a:lnTo>
                  <a:pt x="1389" y="793"/>
                </a:lnTo>
                <a:lnTo>
                  <a:pt x="1389" y="594"/>
                </a:lnTo>
                <a:lnTo>
                  <a:pt x="0" y="594"/>
                </a:lnTo>
                <a:lnTo>
                  <a:pt x="0" y="197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60360" y="900000"/>
            <a:ext cx="2427120" cy="1079640"/>
            <a:chOff x="360360" y="900000"/>
            <a:chExt cx="2427120" cy="1079640"/>
          </a:xfrm>
        </p:grpSpPr>
        <p:sp>
          <p:nvSpPr>
            <p:cNvPr id="86" name=""/>
            <p:cNvSpPr/>
            <p:nvPr/>
          </p:nvSpPr>
          <p:spPr>
            <a:xfrm>
              <a:off x="360360" y="900000"/>
              <a:ext cx="2427120" cy="1079640"/>
            </a:xfrm>
            <a:prstGeom prst="roundRect">
              <a:avLst>
                <a:gd name="adj" fmla="val 16616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9040" y="1027080"/>
              <a:ext cx="230832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inalização da preparação dos links aos outros program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789280" y="1397160"/>
            <a:ext cx="642960" cy="287280"/>
          </a:xfrm>
          <a:custGeom>
            <a:avLst/>
            <a:gdLst/>
            <a:ahLst/>
            <a:rect l="l" t="t" r="r" b="b"/>
            <a:pathLst>
              <a:path w="1787" h="798">
                <a:moveTo>
                  <a:pt x="0" y="198"/>
                </a:moveTo>
                <a:lnTo>
                  <a:pt x="1389" y="198"/>
                </a:lnTo>
                <a:lnTo>
                  <a:pt x="1389" y="0"/>
                </a:lnTo>
                <a:lnTo>
                  <a:pt x="1786" y="398"/>
                </a:lnTo>
                <a:lnTo>
                  <a:pt x="1389" y="797"/>
                </a:lnTo>
                <a:lnTo>
                  <a:pt x="1389" y="598"/>
                </a:lnTo>
                <a:lnTo>
                  <a:pt x="0" y="598"/>
                </a:lnTo>
                <a:lnTo>
                  <a:pt x="0" y="198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759280" y="3598200"/>
            <a:ext cx="720720" cy="181080"/>
          </a:xfrm>
          <a:custGeom>
            <a:avLst/>
            <a:gdLst/>
            <a:ahLst/>
            <a:rect l="l" t="t" r="r" b="b"/>
            <a:pathLst>
              <a:path w="1787" h="799">
                <a:moveTo>
                  <a:pt x="1786" y="198"/>
                </a:moveTo>
                <a:lnTo>
                  <a:pt x="397" y="198"/>
                </a:lnTo>
                <a:lnTo>
                  <a:pt x="397" y="0"/>
                </a:lnTo>
                <a:lnTo>
                  <a:pt x="0" y="398"/>
                </a:lnTo>
                <a:lnTo>
                  <a:pt x="397" y="798"/>
                </a:lnTo>
                <a:lnTo>
                  <a:pt x="397" y="598"/>
                </a:lnTo>
                <a:lnTo>
                  <a:pt x="1786" y="598"/>
                </a:lnTo>
                <a:lnTo>
                  <a:pt x="1786" y="198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08200" y="536400"/>
            <a:ext cx="1531800" cy="368280"/>
            <a:chOff x="808200" y="536400"/>
            <a:chExt cx="1531800" cy="368280"/>
          </a:xfrm>
        </p:grpSpPr>
        <p:sp>
          <p:nvSpPr>
            <p:cNvPr id="91" name=""/>
            <p:cNvSpPr/>
            <p:nvPr/>
          </p:nvSpPr>
          <p:spPr>
            <a:xfrm>
              <a:off x="808200" y="581040"/>
              <a:ext cx="1531800" cy="277920"/>
            </a:xfrm>
            <a:prstGeom prst="roundRect">
              <a:avLst>
                <a:gd name="adj" fmla="val 560"/>
              </a:avLst>
            </a:prstGeom>
            <a:solidFill>
              <a:srgbClr val="ccc1da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8200" y="536400"/>
              <a:ext cx="15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Abr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959280" y="360360"/>
            <a:ext cx="1498680" cy="388800"/>
            <a:chOff x="3959280" y="360360"/>
            <a:chExt cx="1498680" cy="388800"/>
          </a:xfrm>
        </p:grpSpPr>
        <p:sp>
          <p:nvSpPr>
            <p:cNvPr id="94" name=""/>
            <p:cNvSpPr/>
            <p:nvPr/>
          </p:nvSpPr>
          <p:spPr>
            <a:xfrm>
              <a:off x="3959280" y="433440"/>
              <a:ext cx="1498680" cy="239760"/>
            </a:xfrm>
            <a:prstGeom prst="roundRect">
              <a:avLst>
                <a:gd name="adj" fmla="val 560"/>
              </a:avLst>
            </a:prstGeom>
            <a:solidFill>
              <a:srgbClr val="ccc1da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59280" y="360360"/>
              <a:ext cx="1498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480000" y="3357720"/>
            <a:ext cx="2519640" cy="909360"/>
            <a:chOff x="6480000" y="3357720"/>
            <a:chExt cx="2519640" cy="909360"/>
          </a:xfrm>
        </p:grpSpPr>
        <p:sp>
          <p:nvSpPr>
            <p:cNvPr id="97" name=""/>
            <p:cNvSpPr/>
            <p:nvPr/>
          </p:nvSpPr>
          <p:spPr>
            <a:xfrm>
              <a:off x="6480000" y="3357720"/>
              <a:ext cx="2519640" cy="909360"/>
            </a:xfrm>
            <a:prstGeom prst="roundRect">
              <a:avLst>
                <a:gd name="adj" fmla="val 16616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48400" y="3370320"/>
              <a:ext cx="2384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azo final para o recebimento de contribuições  CTAS/ estados e CBH (proposta enviada por email)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662200" y="3500280"/>
            <a:ext cx="642960" cy="287640"/>
          </a:xfrm>
          <a:custGeom>
            <a:avLst/>
            <a:gdLst/>
            <a:ahLst/>
            <a:rect l="l" t="t" r="r" b="b"/>
            <a:pathLst>
              <a:path w="1787" h="799">
                <a:moveTo>
                  <a:pt x="1786" y="198"/>
                </a:moveTo>
                <a:lnTo>
                  <a:pt x="397" y="198"/>
                </a:lnTo>
                <a:lnTo>
                  <a:pt x="397" y="0"/>
                </a:lnTo>
                <a:lnTo>
                  <a:pt x="0" y="398"/>
                </a:lnTo>
                <a:lnTo>
                  <a:pt x="397" y="798"/>
                </a:lnTo>
                <a:lnTo>
                  <a:pt x="397" y="598"/>
                </a:lnTo>
                <a:lnTo>
                  <a:pt x="1786" y="598"/>
                </a:lnTo>
                <a:lnTo>
                  <a:pt x="1786" y="198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79440" y="5443560"/>
            <a:ext cx="1744560" cy="998640"/>
            <a:chOff x="379440" y="5443560"/>
            <a:chExt cx="1744560" cy="998640"/>
          </a:xfrm>
        </p:grpSpPr>
        <p:sp>
          <p:nvSpPr>
            <p:cNvPr id="101" name=""/>
            <p:cNvSpPr/>
            <p:nvPr/>
          </p:nvSpPr>
          <p:spPr>
            <a:xfrm>
              <a:off x="379440" y="5443560"/>
              <a:ext cx="1744560" cy="998640"/>
            </a:xfrm>
            <a:prstGeom prst="roundRect">
              <a:avLst>
                <a:gd name="adj" fmla="val 16718"/>
              </a:avLst>
            </a:prstGeom>
            <a:noFill/>
            <a:ln w="2556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2280" y="5484960"/>
              <a:ext cx="1658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união Conjunta CT-PNRH/C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378400" y="4340520"/>
            <a:ext cx="1461960" cy="520200"/>
            <a:chOff x="5378400" y="4340520"/>
            <a:chExt cx="1461960" cy="520200"/>
          </a:xfrm>
        </p:grpSpPr>
        <p:sp>
          <p:nvSpPr>
            <p:cNvPr id="104" name=""/>
            <p:cNvSpPr/>
            <p:nvPr/>
          </p:nvSpPr>
          <p:spPr>
            <a:xfrm>
              <a:off x="5378400" y="4371840"/>
              <a:ext cx="1461960" cy="455760"/>
            </a:xfrm>
            <a:prstGeom prst="roundRect">
              <a:avLst>
                <a:gd name="adj" fmla="val 16782"/>
              </a:avLst>
            </a:prstGeom>
            <a:solidFill>
              <a:srgbClr val="ff99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03960" y="4340520"/>
              <a:ext cx="1411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Adequação do Progr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258920" y="4257720"/>
            <a:ext cx="287280" cy="716040"/>
          </a:xfrm>
          <a:custGeom>
            <a:avLst/>
            <a:gdLst/>
            <a:ahLst/>
            <a:rect l="l" t="t" r="r" b="b"/>
            <a:pathLst>
              <a:path w="798" h="1989">
                <a:moveTo>
                  <a:pt x="198" y="0"/>
                </a:moveTo>
                <a:lnTo>
                  <a:pt x="198" y="1590"/>
                </a:lnTo>
                <a:lnTo>
                  <a:pt x="0" y="1590"/>
                </a:lnTo>
                <a:lnTo>
                  <a:pt x="398" y="1988"/>
                </a:lnTo>
                <a:lnTo>
                  <a:pt x="797" y="1590"/>
                </a:lnTo>
                <a:lnTo>
                  <a:pt x="598" y="1590"/>
                </a:lnTo>
                <a:lnTo>
                  <a:pt x="598" y="0"/>
                </a:lnTo>
                <a:lnTo>
                  <a:pt x="198" y="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60720" y="5759280"/>
            <a:ext cx="539640" cy="287640"/>
          </a:xfrm>
          <a:custGeom>
            <a:avLst/>
            <a:gdLst/>
            <a:ahLst/>
            <a:rect l="l" t="t" r="r" b="b"/>
            <a:pathLst>
              <a:path w="1787" h="799">
                <a:moveTo>
                  <a:pt x="0" y="198"/>
                </a:moveTo>
                <a:lnTo>
                  <a:pt x="1389" y="198"/>
                </a:lnTo>
                <a:lnTo>
                  <a:pt x="1389" y="0"/>
                </a:lnTo>
                <a:lnTo>
                  <a:pt x="1786" y="398"/>
                </a:lnTo>
                <a:lnTo>
                  <a:pt x="1389" y="798"/>
                </a:lnTo>
                <a:lnTo>
                  <a:pt x="1389" y="598"/>
                </a:lnTo>
                <a:lnTo>
                  <a:pt x="0" y="598"/>
                </a:lnTo>
                <a:lnTo>
                  <a:pt x="0" y="198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605640" y="5418000"/>
            <a:ext cx="2212920" cy="998640"/>
            <a:chOff x="6605640" y="5418000"/>
            <a:chExt cx="2212920" cy="998640"/>
          </a:xfrm>
        </p:grpSpPr>
        <p:sp>
          <p:nvSpPr>
            <p:cNvPr id="109" name=""/>
            <p:cNvSpPr/>
            <p:nvPr/>
          </p:nvSpPr>
          <p:spPr>
            <a:xfrm>
              <a:off x="6605640" y="5418000"/>
              <a:ext cx="2212920" cy="998640"/>
            </a:xfrm>
            <a:prstGeom prst="roundRect">
              <a:avLst>
                <a:gd name="adj" fmla="val 16718"/>
              </a:avLst>
            </a:prstGeom>
            <a:solidFill>
              <a:srgbClr val="99c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61080" y="5599080"/>
              <a:ext cx="210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união  C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622920" y="5059080"/>
            <a:ext cx="2160720" cy="337320"/>
            <a:chOff x="6622920" y="5059080"/>
            <a:chExt cx="2160720" cy="337320"/>
          </a:xfrm>
        </p:grpSpPr>
        <p:sp>
          <p:nvSpPr>
            <p:cNvPr id="112" name=""/>
            <p:cNvSpPr/>
            <p:nvPr/>
          </p:nvSpPr>
          <p:spPr>
            <a:xfrm>
              <a:off x="6622920" y="5059440"/>
              <a:ext cx="2160720" cy="330120"/>
            </a:xfrm>
            <a:prstGeom prst="roundRect">
              <a:avLst>
                <a:gd name="adj" fmla="val 560"/>
              </a:avLst>
            </a:prstGeom>
            <a:solidFill>
              <a:srgbClr val="ccc1da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22920" y="5059080"/>
              <a:ext cx="21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26/27 novemb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03280" y="5040360"/>
            <a:ext cx="1476360" cy="466560"/>
            <a:chOff x="503280" y="5040360"/>
            <a:chExt cx="1476360" cy="466560"/>
          </a:xfrm>
        </p:grpSpPr>
        <p:sp>
          <p:nvSpPr>
            <p:cNvPr id="115" name=""/>
            <p:cNvSpPr/>
            <p:nvPr/>
          </p:nvSpPr>
          <p:spPr>
            <a:xfrm>
              <a:off x="503280" y="5127480"/>
              <a:ext cx="1476360" cy="289080"/>
            </a:xfrm>
            <a:prstGeom prst="roundRect">
              <a:avLst>
                <a:gd name="adj" fmla="val 560"/>
              </a:avLst>
            </a:prstGeom>
            <a:solidFill>
              <a:srgbClr val="ccc1da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3280" y="5040360"/>
              <a:ext cx="14763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95640" y="2286000"/>
            <a:ext cx="1461960" cy="520200"/>
            <a:chOff x="2195640" y="2286000"/>
            <a:chExt cx="1461960" cy="520200"/>
          </a:xfrm>
        </p:grpSpPr>
        <p:sp>
          <p:nvSpPr>
            <p:cNvPr id="118" name=""/>
            <p:cNvSpPr/>
            <p:nvPr/>
          </p:nvSpPr>
          <p:spPr>
            <a:xfrm>
              <a:off x="2195640" y="2316240"/>
              <a:ext cx="1461960" cy="455400"/>
            </a:xfrm>
            <a:prstGeom prst="roundRect">
              <a:avLst>
                <a:gd name="adj" fmla="val 16782"/>
              </a:avLst>
            </a:prstGeom>
            <a:solidFill>
              <a:srgbClr val="ff99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20840" y="2286000"/>
              <a:ext cx="1411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Adequação do Progr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119640" y="5040360"/>
            <a:ext cx="71640" cy="577800"/>
          </a:xfrm>
          <a:custGeom>
            <a:avLst/>
            <a:gdLst/>
            <a:ahLst/>
            <a:rect l="l" t="t" r="r" b="b"/>
            <a:pathLst>
              <a:path w="199" h="1605">
                <a:moveTo>
                  <a:pt x="0" y="318"/>
                </a:moveTo>
                <a:lnTo>
                  <a:pt x="98" y="0"/>
                </a:lnTo>
                <a:lnTo>
                  <a:pt x="198" y="318"/>
                </a:lnTo>
                <a:lnTo>
                  <a:pt x="148" y="318"/>
                </a:lnTo>
                <a:lnTo>
                  <a:pt x="148" y="1285"/>
                </a:lnTo>
                <a:lnTo>
                  <a:pt x="198" y="1285"/>
                </a:lnTo>
                <a:lnTo>
                  <a:pt x="98" y="1604"/>
                </a:lnTo>
                <a:lnTo>
                  <a:pt x="0" y="1285"/>
                </a:lnTo>
                <a:lnTo>
                  <a:pt x="48" y="1285"/>
                </a:lnTo>
                <a:lnTo>
                  <a:pt x="48" y="318"/>
                </a:lnTo>
                <a:lnTo>
                  <a:pt x="0" y="318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219640" y="2340000"/>
            <a:ext cx="1366920" cy="520200"/>
            <a:chOff x="5219640" y="2340000"/>
            <a:chExt cx="1366920" cy="520200"/>
          </a:xfrm>
        </p:grpSpPr>
        <p:sp>
          <p:nvSpPr>
            <p:cNvPr id="122" name=""/>
            <p:cNvSpPr/>
            <p:nvPr/>
          </p:nvSpPr>
          <p:spPr>
            <a:xfrm>
              <a:off x="5219640" y="2381400"/>
              <a:ext cx="1366920" cy="430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43400" y="234000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Adequação do Progr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 flipH="1">
            <a:off x="6119640" y="2879640"/>
            <a:ext cx="108000" cy="549360"/>
          </a:xfrm>
          <a:custGeom>
            <a:avLst/>
            <a:gdLst/>
            <a:ahLst/>
            <a:rect l="l" t="t" r="r" b="b"/>
            <a:pathLst>
              <a:path w="204" h="1200">
                <a:moveTo>
                  <a:pt x="0" y="237"/>
                </a:moveTo>
                <a:lnTo>
                  <a:pt x="101" y="0"/>
                </a:lnTo>
                <a:lnTo>
                  <a:pt x="203" y="237"/>
                </a:lnTo>
                <a:lnTo>
                  <a:pt x="152" y="237"/>
                </a:lnTo>
                <a:lnTo>
                  <a:pt x="152" y="960"/>
                </a:lnTo>
                <a:lnTo>
                  <a:pt x="203" y="960"/>
                </a:lnTo>
                <a:lnTo>
                  <a:pt x="101" y="1199"/>
                </a:lnTo>
                <a:lnTo>
                  <a:pt x="0" y="960"/>
                </a:lnTo>
                <a:lnTo>
                  <a:pt x="50" y="960"/>
                </a:lnTo>
                <a:lnTo>
                  <a:pt x="50" y="237"/>
                </a:lnTo>
                <a:lnTo>
                  <a:pt x="0" y="237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140600" y="1619280"/>
            <a:ext cx="1498680" cy="360360"/>
            <a:chOff x="7140600" y="1619280"/>
            <a:chExt cx="1498680" cy="360360"/>
          </a:xfrm>
        </p:grpSpPr>
        <p:sp>
          <p:nvSpPr>
            <p:cNvPr id="126" name=""/>
            <p:cNvSpPr/>
            <p:nvPr/>
          </p:nvSpPr>
          <p:spPr>
            <a:xfrm>
              <a:off x="7140600" y="1687680"/>
              <a:ext cx="1498680" cy="222120"/>
            </a:xfrm>
            <a:prstGeom prst="roundRect">
              <a:avLst>
                <a:gd name="adj" fmla="val 560"/>
              </a:avLst>
            </a:prstGeom>
            <a:solidFill>
              <a:srgbClr val="ccc1da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40600" y="1619280"/>
              <a:ext cx="1498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251240" y="360360"/>
            <a:ext cx="8254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20000" y="1619280"/>
            <a:ext cx="1800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5 e  6 de ago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832440" y="3025800"/>
            <a:ext cx="1979640" cy="368280"/>
            <a:chOff x="6832440" y="3025800"/>
            <a:chExt cx="1979640" cy="368280"/>
          </a:xfrm>
        </p:grpSpPr>
        <p:sp>
          <p:nvSpPr>
            <p:cNvPr id="131" name=""/>
            <p:cNvSpPr/>
            <p:nvPr/>
          </p:nvSpPr>
          <p:spPr>
            <a:xfrm>
              <a:off x="6832440" y="3081240"/>
              <a:ext cx="1979640" cy="252360"/>
            </a:xfrm>
            <a:prstGeom prst="roundRect">
              <a:avLst>
                <a:gd name="adj" fmla="val 560"/>
              </a:avLst>
            </a:prstGeom>
            <a:solidFill>
              <a:srgbClr val="ccc1da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32440" y="302580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29 de agos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759280" y="5832360"/>
            <a:ext cx="642960" cy="287280"/>
          </a:xfrm>
          <a:custGeom>
            <a:avLst/>
            <a:gdLst/>
            <a:ahLst/>
            <a:rect l="l" t="t" r="r" b="b"/>
            <a:pathLst>
              <a:path w="1787" h="799">
                <a:moveTo>
                  <a:pt x="0" y="198"/>
                </a:moveTo>
                <a:lnTo>
                  <a:pt x="1389" y="198"/>
                </a:lnTo>
                <a:lnTo>
                  <a:pt x="1389" y="0"/>
                </a:lnTo>
                <a:lnTo>
                  <a:pt x="1786" y="398"/>
                </a:lnTo>
                <a:lnTo>
                  <a:pt x="1389" y="798"/>
                </a:lnTo>
                <a:lnTo>
                  <a:pt x="1389" y="598"/>
                </a:lnTo>
                <a:lnTo>
                  <a:pt x="0" y="598"/>
                </a:lnTo>
                <a:lnTo>
                  <a:pt x="0" y="198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79760" y="4859280"/>
            <a:ext cx="120600" cy="792360"/>
          </a:xfrm>
          <a:custGeom>
            <a:avLst/>
            <a:gdLst/>
            <a:ahLst/>
            <a:rect l="l" t="t" r="r" b="b"/>
            <a:pathLst>
              <a:path w="199" h="1605">
                <a:moveTo>
                  <a:pt x="0" y="318"/>
                </a:moveTo>
                <a:lnTo>
                  <a:pt x="98" y="0"/>
                </a:lnTo>
                <a:lnTo>
                  <a:pt x="198" y="318"/>
                </a:lnTo>
                <a:lnTo>
                  <a:pt x="148" y="318"/>
                </a:lnTo>
                <a:lnTo>
                  <a:pt x="148" y="1285"/>
                </a:lnTo>
                <a:lnTo>
                  <a:pt x="198" y="1285"/>
                </a:lnTo>
                <a:lnTo>
                  <a:pt x="98" y="1604"/>
                </a:lnTo>
                <a:lnTo>
                  <a:pt x="0" y="1285"/>
                </a:lnTo>
                <a:lnTo>
                  <a:pt x="48" y="1285"/>
                </a:lnTo>
                <a:lnTo>
                  <a:pt x="48" y="318"/>
                </a:lnTo>
                <a:lnTo>
                  <a:pt x="0" y="318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138400" y="4340520"/>
            <a:ext cx="1461960" cy="520200"/>
            <a:chOff x="2138400" y="4340520"/>
            <a:chExt cx="1461960" cy="520200"/>
          </a:xfrm>
        </p:grpSpPr>
        <p:sp>
          <p:nvSpPr>
            <p:cNvPr id="136" name=""/>
            <p:cNvSpPr/>
            <p:nvPr/>
          </p:nvSpPr>
          <p:spPr>
            <a:xfrm>
              <a:off x="2138400" y="4371840"/>
              <a:ext cx="1461960" cy="455760"/>
            </a:xfrm>
            <a:prstGeom prst="roundRect">
              <a:avLst>
                <a:gd name="adj" fmla="val 16782"/>
              </a:avLst>
            </a:prstGeom>
            <a:solidFill>
              <a:srgbClr val="ff99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63600" y="4340520"/>
              <a:ext cx="1411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Adequação do Progr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405240" y="3252600"/>
            <a:ext cx="2355840" cy="1067400"/>
            <a:chOff x="3405240" y="3252600"/>
            <a:chExt cx="2355840" cy="1067400"/>
          </a:xfrm>
        </p:grpSpPr>
        <p:sp>
          <p:nvSpPr>
            <p:cNvPr id="139" name=""/>
            <p:cNvSpPr/>
            <p:nvPr/>
          </p:nvSpPr>
          <p:spPr>
            <a:xfrm>
              <a:off x="3405240" y="3303720"/>
              <a:ext cx="2355840" cy="968400"/>
            </a:xfrm>
            <a:prstGeom prst="roundRect">
              <a:avLst>
                <a:gd name="adj" fmla="val 16616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63920" y="3252600"/>
              <a:ext cx="2238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presentação do PNAS na CTAS e discussão na CTAS – Proposta CTAS concluí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79280" y="5043600"/>
            <a:ext cx="216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01/02 Outub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-360"/>
            <a:ext cx="3419640" cy="405360"/>
            <a:chOff x="0" y="-360"/>
            <a:chExt cx="3419640" cy="405360"/>
          </a:xfrm>
        </p:grpSpPr>
        <p:sp>
          <p:nvSpPr>
            <p:cNvPr id="143" name=""/>
            <p:cNvSpPr/>
            <p:nvPr/>
          </p:nvSpPr>
          <p:spPr>
            <a:xfrm>
              <a:off x="0" y="30240"/>
              <a:ext cx="3419640" cy="345960"/>
            </a:xfrm>
            <a:prstGeom prst="roundRect">
              <a:avLst>
                <a:gd name="adj" fmla="val 16616"/>
              </a:avLst>
            </a:prstGeom>
            <a:solidFill>
              <a:srgbClr val="ffff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3600" y="-360"/>
              <a:ext cx="323532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PNAS 200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440160" y="720720"/>
            <a:ext cx="2606760" cy="1260360"/>
            <a:chOff x="3440160" y="720720"/>
            <a:chExt cx="2606760" cy="1260360"/>
          </a:xfrm>
        </p:grpSpPr>
        <p:sp>
          <p:nvSpPr>
            <p:cNvPr id="146" name=""/>
            <p:cNvSpPr/>
            <p:nvPr/>
          </p:nvSpPr>
          <p:spPr>
            <a:xfrm>
              <a:off x="3440160" y="720720"/>
              <a:ext cx="2606760" cy="1260360"/>
            </a:xfrm>
            <a:prstGeom prst="roundRect">
              <a:avLst>
                <a:gd name="adj" fmla="val 16616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3520" y="771480"/>
              <a:ext cx="247968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scussão e Preparação de Proposta Conjunta – GTCE Téc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SRHU:Adriana/Claudia/Roseli/Laula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ANA: Frabricio, Fernando,Fláv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7750080" y="1258920"/>
            <a:ext cx="169920" cy="360360"/>
          </a:xfrm>
          <a:custGeom>
            <a:avLst/>
            <a:gdLst/>
            <a:ahLst/>
            <a:rect l="l" t="t" r="r" b="b"/>
            <a:pathLst>
              <a:path w="1390" h="3176">
                <a:moveTo>
                  <a:pt x="346" y="0"/>
                </a:moveTo>
                <a:lnTo>
                  <a:pt x="346" y="2480"/>
                </a:lnTo>
                <a:lnTo>
                  <a:pt x="0" y="2480"/>
                </a:lnTo>
                <a:lnTo>
                  <a:pt x="694" y="3175"/>
                </a:lnTo>
                <a:lnTo>
                  <a:pt x="1389" y="2480"/>
                </a:lnTo>
                <a:lnTo>
                  <a:pt x="1041" y="2480"/>
                </a:lnTo>
                <a:lnTo>
                  <a:pt x="1041" y="0"/>
                </a:lnTo>
                <a:lnTo>
                  <a:pt x="346" y="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686640" y="399960"/>
            <a:ext cx="2133360" cy="1009800"/>
            <a:chOff x="6686640" y="399960"/>
            <a:chExt cx="2133360" cy="1009800"/>
          </a:xfrm>
        </p:grpSpPr>
        <p:sp>
          <p:nvSpPr>
            <p:cNvPr id="150" name=""/>
            <p:cNvSpPr/>
            <p:nvPr/>
          </p:nvSpPr>
          <p:spPr>
            <a:xfrm>
              <a:off x="6686640" y="403200"/>
              <a:ext cx="2133360" cy="1006560"/>
            </a:xfrm>
            <a:prstGeom prst="roundRect">
              <a:avLst>
                <a:gd name="adj" fmla="val 16616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40640" y="399960"/>
              <a:ext cx="2025360" cy="10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Apresentação do fluxo de tramitação do PNAS para aprovação na reunião da CTAS </a:t>
              </a: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</a:rPr>
                <a:t>(Laula)</a:t>
              </a: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020000" y="71280"/>
            <a:ext cx="1619280" cy="360360"/>
            <a:chOff x="7020000" y="71280"/>
            <a:chExt cx="1619280" cy="360360"/>
          </a:xfrm>
        </p:grpSpPr>
        <p:sp>
          <p:nvSpPr>
            <p:cNvPr id="153" name=""/>
            <p:cNvSpPr/>
            <p:nvPr/>
          </p:nvSpPr>
          <p:spPr>
            <a:xfrm>
              <a:off x="7020000" y="139680"/>
              <a:ext cx="1619280" cy="222120"/>
            </a:xfrm>
            <a:prstGeom prst="roundRect">
              <a:avLst>
                <a:gd name="adj" fmla="val 560"/>
              </a:avLst>
            </a:prstGeom>
            <a:solidFill>
              <a:srgbClr val="ccc1da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20000" y="71280"/>
              <a:ext cx="16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840360" y="71280"/>
            <a:ext cx="1800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 e 13 jun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00360" y="2944800"/>
            <a:ext cx="1979640" cy="368280"/>
            <a:chOff x="3600360" y="2944800"/>
            <a:chExt cx="1979640" cy="368280"/>
          </a:xfrm>
        </p:grpSpPr>
        <p:sp>
          <p:nvSpPr>
            <p:cNvPr id="157" name=""/>
            <p:cNvSpPr/>
            <p:nvPr/>
          </p:nvSpPr>
          <p:spPr>
            <a:xfrm>
              <a:off x="3600360" y="2970360"/>
              <a:ext cx="1979640" cy="311040"/>
            </a:xfrm>
            <a:prstGeom prst="roundRect">
              <a:avLst>
                <a:gd name="adj" fmla="val 560"/>
              </a:avLst>
            </a:prstGeom>
            <a:solidFill>
              <a:srgbClr val="ccc1da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00360" y="294480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10/11/12 setemb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39640" y="2876400"/>
            <a:ext cx="1979640" cy="368280"/>
            <a:chOff x="539640" y="2876400"/>
            <a:chExt cx="1979640" cy="368280"/>
          </a:xfrm>
        </p:grpSpPr>
        <p:sp>
          <p:nvSpPr>
            <p:cNvPr id="160" name=""/>
            <p:cNvSpPr/>
            <p:nvPr/>
          </p:nvSpPr>
          <p:spPr>
            <a:xfrm>
              <a:off x="539640" y="2933640"/>
              <a:ext cx="1979640" cy="249120"/>
            </a:xfrm>
            <a:prstGeom prst="roundRect">
              <a:avLst>
                <a:gd name="adj" fmla="val 560"/>
              </a:avLst>
            </a:prstGeom>
            <a:solidFill>
              <a:srgbClr val="ccc1da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9640" y="287640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etemb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624720" y="1866960"/>
            <a:ext cx="2519280" cy="909720"/>
            <a:chOff x="6624720" y="1866960"/>
            <a:chExt cx="2519280" cy="909720"/>
          </a:xfrm>
        </p:grpSpPr>
        <p:sp>
          <p:nvSpPr>
            <p:cNvPr id="163" name=""/>
            <p:cNvSpPr/>
            <p:nvPr/>
          </p:nvSpPr>
          <p:spPr>
            <a:xfrm>
              <a:off x="6624720" y="1866960"/>
              <a:ext cx="2519280" cy="909720"/>
            </a:xfrm>
            <a:prstGeom prst="roundRect">
              <a:avLst>
                <a:gd name="adj" fmla="val 16616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92760" y="1878120"/>
              <a:ext cx="2384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presentação e posterior divulgação da proposta do PNAS - Reunião CTAS- prazo 15 dias análise (Claudia e Laula)</a:t>
              </a: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H="1">
            <a:off x="2952720" y="2871720"/>
            <a:ext cx="108000" cy="549360"/>
          </a:xfrm>
          <a:custGeom>
            <a:avLst/>
            <a:gdLst/>
            <a:ahLst/>
            <a:rect l="l" t="t" r="r" b="b"/>
            <a:pathLst>
              <a:path w="204" h="1200">
                <a:moveTo>
                  <a:pt x="0" y="237"/>
                </a:moveTo>
                <a:lnTo>
                  <a:pt x="101" y="0"/>
                </a:lnTo>
                <a:lnTo>
                  <a:pt x="203" y="237"/>
                </a:lnTo>
                <a:lnTo>
                  <a:pt x="152" y="237"/>
                </a:lnTo>
                <a:lnTo>
                  <a:pt x="152" y="960"/>
                </a:lnTo>
                <a:lnTo>
                  <a:pt x="203" y="960"/>
                </a:lnTo>
                <a:lnTo>
                  <a:pt x="101" y="1199"/>
                </a:lnTo>
                <a:lnTo>
                  <a:pt x="0" y="960"/>
                </a:lnTo>
                <a:lnTo>
                  <a:pt x="50" y="960"/>
                </a:lnTo>
                <a:lnTo>
                  <a:pt x="50" y="237"/>
                </a:lnTo>
                <a:lnTo>
                  <a:pt x="0" y="237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879640" y="5400720"/>
            <a:ext cx="2700360" cy="976320"/>
            <a:chOff x="2879640" y="5400720"/>
            <a:chExt cx="2700360" cy="976320"/>
          </a:xfrm>
        </p:grpSpPr>
        <p:sp>
          <p:nvSpPr>
            <p:cNvPr id="167" name=""/>
            <p:cNvSpPr/>
            <p:nvPr/>
          </p:nvSpPr>
          <p:spPr>
            <a:xfrm>
              <a:off x="2879640" y="5400720"/>
              <a:ext cx="2700360" cy="976320"/>
            </a:xfrm>
            <a:prstGeom prst="roundRect">
              <a:avLst>
                <a:gd name="adj" fmla="val 16616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52720" y="5545080"/>
              <a:ext cx="25542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vulgação da proposta do PNAS no XV Congresso Brasileiro de Águas Subterrâneas  </a:t>
              </a: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240000" y="5059080"/>
            <a:ext cx="2160720" cy="337320"/>
            <a:chOff x="3240000" y="5059080"/>
            <a:chExt cx="2160720" cy="337320"/>
          </a:xfrm>
        </p:grpSpPr>
        <p:sp>
          <p:nvSpPr>
            <p:cNvPr id="170" name=""/>
            <p:cNvSpPr/>
            <p:nvPr/>
          </p:nvSpPr>
          <p:spPr>
            <a:xfrm>
              <a:off x="3240000" y="5059440"/>
              <a:ext cx="2160720" cy="330120"/>
            </a:xfrm>
            <a:prstGeom prst="roundRect">
              <a:avLst>
                <a:gd name="adj" fmla="val 560"/>
              </a:avLst>
            </a:prstGeom>
            <a:solidFill>
              <a:srgbClr val="ccc1da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40000" y="5059080"/>
              <a:ext cx="21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11 a 14  novemb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71640" y="3348000"/>
            <a:ext cx="3779640" cy="900000"/>
          </a:xfrm>
          <a:prstGeom prst="roundRect">
            <a:avLst>
              <a:gd name="adj" fmla="val 176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79640" y="3421080"/>
            <a:ext cx="34146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Aft>
                <a:spcPts val="56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mpliação do Conhecimento Hidrogeológico Bá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4427640"/>
            <a:ext cx="3779640" cy="90000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0680" y="4572000"/>
            <a:ext cx="34149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Aft>
                <a:spcPts val="56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pectos institucionais e leg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36720" y="5508720"/>
            <a:ext cx="3779640" cy="900000"/>
          </a:xfrm>
          <a:prstGeom prst="roundRect">
            <a:avLst>
              <a:gd name="adj" fmla="val 176"/>
            </a:avLst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4320" y="5651640"/>
            <a:ext cx="34146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Aft>
                <a:spcPts val="56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pacitação, Comunicação e Mobilização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00720" y="2232000"/>
            <a:ext cx="3419280" cy="1044720"/>
          </a:xfrm>
          <a:prstGeom prst="roundRect">
            <a:avLst>
              <a:gd name="adj" fmla="val 148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00720" y="2411280"/>
            <a:ext cx="3419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Aft>
                <a:spcPts val="56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tos e Estudos para Aqüíferos de Abrangência Transfronteiriça e Interesta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00720" y="3421080"/>
            <a:ext cx="3419280" cy="720720"/>
          </a:xfrm>
          <a:prstGeom prst="roundRect">
            <a:avLst>
              <a:gd name="adj" fmla="val 218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3564000"/>
            <a:ext cx="3060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Aft>
                <a:spcPts val="56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tos em Escal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00720" y="4211640"/>
            <a:ext cx="3419280" cy="900000"/>
          </a:xfrm>
          <a:prstGeom prst="roundRect">
            <a:avLst>
              <a:gd name="adj" fmla="val 176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4243320"/>
            <a:ext cx="30607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Aft>
                <a:spcPts val="56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nitoramento Quali-quantitativo das Águas Subterrâ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2" idx="3"/>
            <a:endCxn id="179" idx="1"/>
          </p:cNvCxnSpPr>
          <p:nvPr/>
        </p:nvCxnSpPr>
        <p:spPr>
          <a:xfrm flipV="1">
            <a:off x="4751280" y="2806200"/>
            <a:ext cx="650160" cy="9914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85" name=""/>
          <p:cNvCxnSpPr>
            <a:stCxn id="172" idx="3"/>
            <a:endCxn id="180" idx="1"/>
          </p:cNvCxnSpPr>
          <p:nvPr/>
        </p:nvCxnSpPr>
        <p:spPr>
          <a:xfrm flipV="1">
            <a:off x="4751280" y="3781080"/>
            <a:ext cx="651600" cy="165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86" name=""/>
          <p:cNvCxnSpPr>
            <a:stCxn id="172" idx="3"/>
            <a:endCxn id="182" idx="1"/>
          </p:cNvCxnSpPr>
          <p:nvPr/>
        </p:nvCxnSpPr>
        <p:spPr>
          <a:xfrm>
            <a:off x="4751280" y="3796920"/>
            <a:ext cx="651600" cy="8643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179280" y="1079640"/>
            <a:ext cx="7920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80099"/>
                </a:solidFill>
                <a:latin typeface="Arial"/>
                <a:ea typeface="Arial"/>
              </a:rPr>
              <a:t>PROGRAMA NACIONAL DE ÁGUAS SUBTERRÂNEAS P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303640"/>
            <a:ext cx="2880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80099"/>
                </a:solidFill>
                <a:latin typeface="Arial"/>
                <a:ea typeface="Arial"/>
              </a:rPr>
              <a:t>Subprograma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00720" y="-5284800"/>
            <a:ext cx="3600360" cy="138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80099"/>
                </a:solidFill>
                <a:latin typeface="Arial"/>
                <a:ea typeface="Arial"/>
              </a:rPr>
              <a:t>Ati0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280099"/>
                </a:solidFill>
                <a:latin typeface="Arial"/>
                <a:ea typeface="Arial"/>
              </a:rPr>
              <a:t>vidades do subprogra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720720" y="4464000"/>
            <a:ext cx="36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1260360" y="4464000"/>
            <a:ext cx="630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720720" y="1260360"/>
            <a:ext cx="36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-179280" y="1800360"/>
            <a:ext cx="918036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0360" y="3822840"/>
            <a:ext cx="81504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Aft>
                <a:spcPts val="56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rojetos e Estudos para Aqüíferos de Abrangência Transfronteiriça e Interesta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60360" y="1260360"/>
            <a:ext cx="6481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spcAft>
                <a:spcPts val="56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VIII.1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mpliação do Conhecimento Hidrogeológico Bá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50800" y="1979640"/>
          <a:ext cx="7900920" cy="14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1979640"/>
                    <a:ext cx="79009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39640" y="4500720"/>
          <a:ext cx="7912080" cy="1076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500720"/>
                    <a:ext cx="791208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98680" y="1292400"/>
            <a:ext cx="6242040" cy="42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1441440" y="5759280"/>
          <a:ext cx="6120000" cy="1078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1440" y="5759280"/>
                    <a:ext cx="612000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60360" y="1440000"/>
            <a:ext cx="81504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Aft>
                <a:spcPts val="56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b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tudos e projetos em escala 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feito da execução do subprograma são considerados projetos em escala local aqueles realizados em áreas restritas de um aqüífero regional ou local que estão circunscritos a uma determinada bacia hidrográfica ou a limites geográficos estaduais ou municipai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os mais detalh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acam-se áreas urban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2680" y="3492360"/>
            <a:ext cx="815004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Aft>
                <a:spcPts val="56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itoramento quali-quantitativo das águas subterrâ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inição de diretrizes nacionais para o monitoramento das águas subterrâneas é uma necessidade  para uma futura integração das redes de monitoramento e sistemas de informaçõ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diretrizes são importantes no sentido de compatibilizar e normatizar procedimentos comuns entre os estados, a fim de construir as bases para a definição do desenho das redes em bacias hidrográficas, hidrogeológicas ou locais, de acordo com suas especific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19120" y="1440000"/>
            <a:ext cx="848196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 legislação de recursos hídricos está muito mais avançada em relação às águas superficiai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aior parte órgãos gestores estaduais apresenta carências de quadro técnico e infra-estru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ei das Águas, em seu artigo 1º, inciso V, apresenta como um de seus fundamentos a bacia hidrográfica como a unidade territorial para a implementação e atuação do Sistema Nacional de Gerenciamento de Recursos Hídricos - limites destas nem sempre coincidem com o dos aqüíferos, ou mesmo com os das bacias hidroge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serção das águas subterrâneas no tema da gestão de recursos hídricos transfronteiriç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0720" y="1260360"/>
            <a:ext cx="27854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Aft>
                <a:spcPts val="56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VIII.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envolvimento dos aspectos institucionais e leg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9640" y="1619280"/>
            <a:ext cx="8280360" cy="40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Promoção da GIRH com ênfase nas águas subterrâneas em âmbito interse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Adoção de mecanismos para a promoção da GIRH em aqüíferos que abranjam a área de mais de bacia hidrográfica, interestaduais e transfronteiri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Discussão dos instrumentos de gestão de recursos hídricos e sua aplicação em gestão de águas subterrâ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Fortalecimento das estruturas institucionais a nível esta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912960" y="3254400"/>
          <a:ext cx="12600" cy="1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3254400"/>
                    <a:ext cx="1260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60360" y="-179280"/>
            <a:ext cx="8459640" cy="66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 notória a necessidade de capacitação em águas subterrâneas, porque as informações, os cursos e os trabalhos na área de hidrogeologia são esparsos. A sociedade pouco conhece e discute o assunto e são raras as iniciativas para a mobilização e educação ambiental que incorporem o tema. No que se referem à gestão das águas subterrâneas, as dificuldades e a falta de integração são ainda maiores, havendo a necessidade de envidar esforços no sentido de promover a inserção da temática nas ações e atividades relacionadas à Gestão Integrada de Recursos Hídricos (GIRH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verão ser promovidas ações que visem inserir a temática de águas subterrâneas nos espaços de educação ambiental, difusão de informações e mobilização social – Programa 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bjetiv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romover o desenvolvimento de capacidades em gestão de águas subterrâneas com vistas ao fortalecimento da GIRH</a:t>
            </a:r>
            <a:br>
              <a:rPr sz="1900"/>
            </a:br>
            <a:br>
              <a:rPr sz="1900"/>
            </a:br>
            <a:br>
              <a:rPr sz="19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9000"/>
              </a:lnSpc>
              <a:spcAft>
                <a:spcPts val="106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0720" y="1260360"/>
            <a:ext cx="27854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Aft>
                <a:spcPts val="56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VIII.3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pacitação, Comunicação e Mobilização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