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9D69-1929-4E1B-A1E3-FE85F0972A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FA5-7BE0-42F7-920B-49D9F56DF6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7EDE-BEB2-487D-A579-1DC9745428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013D-D1E7-44EC-ADC3-0B3135C9146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3783-E6B7-48B3-A866-D08E9918E4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5FBF-4852-4AA9-8584-15CE7DDE23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3E58-D61B-4944-B401-C77976AAD7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B188-FFF8-48AD-A8C8-2DCCEAFDFF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0cc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3"/>
          <p:cNvSpPr/>
          <p:nvPr/>
        </p:nvSpPr>
        <p:spPr>
          <a:xfrm>
            <a:off x="0" y="981000"/>
            <a:ext cx="9906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" name="Picture 25" descr="bacia2"/>
          <p:cNvPicPr/>
          <p:nvPr/>
        </p:nvPicPr>
        <p:blipFill>
          <a:blip r:embed="rId2"/>
          <a:stretch/>
        </p:blipFill>
        <p:spPr>
          <a:xfrm>
            <a:off x="0" y="-27000"/>
            <a:ext cx="9906120" cy="1052640"/>
          </a:xfrm>
          <a:prstGeom prst="rect">
            <a:avLst/>
          </a:prstGeom>
          <a:ln w="0">
            <a:noFill/>
          </a:ln>
        </p:spPr>
      </p:pic>
      <p:sp>
        <p:nvSpPr>
          <p:cNvPr id="3" name="Line 24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" name="Picture 33" descr="logo"/>
          <p:cNvPicPr/>
          <p:nvPr/>
        </p:nvPicPr>
        <p:blipFill>
          <a:blip r:embed="rId3"/>
          <a:stretch/>
        </p:blipFill>
        <p:spPr>
          <a:xfrm>
            <a:off x="304920" y="79200"/>
            <a:ext cx="1911240" cy="838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4" descr="Logo Governo"/>
          <p:cNvPicPr/>
          <p:nvPr/>
        </p:nvPicPr>
        <p:blipFill>
          <a:blip r:embed="rId4"/>
          <a:stretch/>
        </p:blipFill>
        <p:spPr>
          <a:xfrm>
            <a:off x="0" y="6356520"/>
            <a:ext cx="17827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Estado atual do processo de instalação do CBH Piranhas-Açu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8520" y="1773000"/>
            <a:ext cx="8915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1/2006- Instituído o CBH-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2/2006- Nomeação d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bril 2007- Nomeação nov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unho 2007 – Prorrogação mandato da Diretoria Provisória e do prazo para instalação d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etembro2007-1ª reunião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Out 2007-Oficina de Planejamento do processo de instalação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Dez 2007 - Prorrogação pelo CNRH do mandato da Diretoria Provisória e do prazo para instalação do Comitê (até dez 2008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0160" y="2060640"/>
            <a:ext cx="89154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an 2008-Instituição do Grupo de Apoio a Diretoria Provisória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1°semestre 2008- Reuniões da Direp e Grupo de Apo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Lançamento das Resoluções nº 03 e nº05, respectivamente tratam das Normas do Processo Eleitoral e Composiçã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3440" y="999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Tahoma"/>
              </a:rPr>
              <a:t>Composição do CBH Piranhas-Açu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3800" y="2071800"/>
          <a:ext cx="8915400" cy="212544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íb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o Grande do Nort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er Públic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(+2 Uniã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ário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edade Civi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016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060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Execução do processo a cargo de empresa contratada com recursos do PROÁGU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mpresa contratada: ADESE-Agência de Desenvolvimento Sustentável do Seridó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 coordenadores-1 para cada Est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mobilizadores- inicialmente 12 mobilizadores depois reduzidos para 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520" y="105264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Encontros regionais de mobilização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, Pombal, Cajazeiras e Itaporang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 e Assú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lenárias Eleitora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(2), Pombal e Cajazeir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, Assú e Currais Novo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Assembléia de Posse e eleição da Diretori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aterial de divulgação:spots radiofônicos folhetos, cartazes, banners, faixa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1071720"/>
          <a:ext cx="8915400" cy="4417920"/>
        </p:xfrm>
        <a:graphic>
          <a:graphicData uri="http://schemas.openxmlformats.org/drawingml/2006/table">
            <a:tbl>
              <a:tblPr/>
              <a:tblGrid>
                <a:gridCol w="1273320"/>
                <a:gridCol w="1274760"/>
                <a:gridCol w="1272960"/>
                <a:gridCol w="1273320"/>
                <a:gridCol w="1273320"/>
                <a:gridCol w="1274760"/>
                <a:gridCol w="1272960"/>
              </a:tblGrid>
              <a:tr h="58896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nograma instalação do CBH Piranhas-Açu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íci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min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ção da Empresa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 Material Gráfic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icina de Capacitação Mobilizadore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ção Social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1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ntros Regionai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3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íodo de Inscrições e habilit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ária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éia de Poss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6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UITO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OBRIG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iretoria Provisória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www.piranhasacu.cbh.gov.b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21:45Z</dcterms:created>
  <dc:creator>zecarlos</dc:creator>
  <dc:description/>
  <dc:language>en-US</dc:language>
  <cp:lastModifiedBy>zecarlos</cp:lastModifiedBy>
  <cp:lastPrinted>2001-06-06T00:02:34Z</cp:lastPrinted>
  <dcterms:modified xsi:type="dcterms:W3CDTF">2008-11-26T13:05:17Z</dcterms:modified>
  <cp:revision>54</cp:revision>
  <dc:subject/>
  <dc:title>Slide 1</dc:title>
</cp:coreProperties>
</file>