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907588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06480" y="698400"/>
            <a:ext cx="5045040" cy="34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4226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84556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5840" y="884556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AF0D-AB81-4B5D-90D3-DFF349340F5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906480" y="698400"/>
            <a:ext cx="5045040" cy="349272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4226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6200" y="884556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2194-FEDD-40E6-BB1B-2036100BC54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06480" y="698400"/>
            <a:ext cx="5045040" cy="349272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4226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6200" y="884556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D408-3C59-4D46-8C6B-F827075B5F6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906480" y="698400"/>
            <a:ext cx="5045040" cy="34927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4226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6200" y="884556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78C1-6B28-4A5D-8862-9C98F9434D5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906480" y="698400"/>
            <a:ext cx="5045040" cy="349272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4226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6200" y="884556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FD62-E87B-4A8C-BFCB-F86054B4424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906480" y="698400"/>
            <a:ext cx="5045040" cy="349272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4226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6200" y="884556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C3FC-D09F-4BAB-B1B2-7F07F83A453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06480" y="698400"/>
            <a:ext cx="5045040" cy="349272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4226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6200" y="884556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2425-7082-4AF9-9BEF-CF0D6DE2402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06480" y="698400"/>
            <a:ext cx="5045040" cy="34927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4226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6200" y="884556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54CF-F4A3-4AD1-974B-3A18CB39639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2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b0ccd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Line 23"/>
          <p:cNvSpPr/>
          <p:nvPr/>
        </p:nvSpPr>
        <p:spPr>
          <a:xfrm>
            <a:off x="0" y="981000"/>
            <a:ext cx="99061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" name="Picture 25" descr="bacia2"/>
          <p:cNvPicPr/>
          <p:nvPr/>
        </p:nvPicPr>
        <p:blipFill>
          <a:blip r:embed="rId2"/>
          <a:stretch/>
        </p:blipFill>
        <p:spPr>
          <a:xfrm>
            <a:off x="0" y="-27000"/>
            <a:ext cx="9906120" cy="1052640"/>
          </a:xfrm>
          <a:prstGeom prst="rect">
            <a:avLst/>
          </a:prstGeom>
          <a:ln w="0">
            <a:noFill/>
          </a:ln>
        </p:spPr>
      </p:pic>
      <p:sp>
        <p:nvSpPr>
          <p:cNvPr id="3" name="Line 24"/>
          <p:cNvSpPr/>
          <p:nvPr/>
        </p:nvSpPr>
        <p:spPr>
          <a:xfrm>
            <a:off x="0" y="630864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" name="Picture 33" descr="logo"/>
          <p:cNvPicPr/>
          <p:nvPr/>
        </p:nvPicPr>
        <p:blipFill>
          <a:blip r:embed="rId3"/>
          <a:stretch/>
        </p:blipFill>
        <p:spPr>
          <a:xfrm>
            <a:off x="304920" y="79200"/>
            <a:ext cx="1911240" cy="8384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34" descr="Logo Governo"/>
          <p:cNvPicPr/>
          <p:nvPr/>
        </p:nvPicPr>
        <p:blipFill>
          <a:blip r:embed="rId4"/>
          <a:stretch/>
        </p:blipFill>
        <p:spPr>
          <a:xfrm>
            <a:off x="0" y="6356520"/>
            <a:ext cx="1782720" cy="4572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Estado atual do processo de instalação do CBH Piranhas-Açu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907920"/>
            <a:ext cx="89154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CRONOLOGIA</a:t>
            </a:r>
            <a:endParaRPr b="1" lang="en-US" sz="2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88520" y="1773000"/>
            <a:ext cx="8915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29/11/2006- Instituído o CBH-Piranhas-Açu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29/12/2006- Nomeação da Diretoria Provisóri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Abril 2007- Nomeação nova Diretoria Provisóri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Junho 2007 – Prorrogação mandato da Diretoria Provisória e do prazo para instalação do Comitê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Setembro2007-1ª reunião Diretoria Provisóri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Out 2007-Oficina de Planejamento do processo de instalação do CBH Piranhas-Açu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Dez 2007 - Prorrogação pelo CNRH do mandato da Diretoria Provisória e do prazo para instalação do Comitê (até dez 2008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1052280"/>
            <a:ext cx="89154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CRONOLOGIA</a:t>
            </a:r>
            <a:endParaRPr b="1" lang="en-US" sz="2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0160" y="2060640"/>
            <a:ext cx="89154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Jan 2008-Instituição do Grupo de Apoio a Diretoria Provisória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1°semestre 2008- Reuniões da Direp e Grupo de Apoio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Lançamento das Resoluções nº 03 e nº05, respectivamente tratam das Normas do Processo Eleitoral e Composição Comitê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3440" y="9997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228b"/>
                </a:solidFill>
                <a:latin typeface="Tahoma"/>
              </a:rPr>
              <a:t>Composição do CBH Piranhas-Açu</a:t>
            </a:r>
            <a:endParaRPr b="1" lang="en-US" sz="2800" spc="-1" strike="noStrike">
              <a:solidFill>
                <a:srgbClr val="ffff99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23800" y="2071800"/>
          <a:ext cx="8915400" cy="2125440"/>
        </p:xfrm>
        <a:graphic>
          <a:graphicData uri="http://schemas.openxmlformats.org/drawingml/2006/table">
            <a:tbl>
              <a:tblPr/>
              <a:tblGrid>
                <a:gridCol w="2228760"/>
                <a:gridCol w="2229120"/>
                <a:gridCol w="2228760"/>
                <a:gridCol w="2228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raíba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io Grande do Nort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der Público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 (+2 União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suário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ciedade Civi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60160" y="1052280"/>
            <a:ext cx="89154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METODOLOGIA DE INSTALAÇÃO</a:t>
            </a:r>
            <a:endParaRPr b="1" lang="en-US" sz="2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15440" y="2060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Execução do processo a cargo de empresa contratada com recursos do PROÁGU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Empresa contratada: ADESE-Agência de Desenvolvimento Sustentável do Seridó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2 coordenadores-1 para cada Estad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mobilizadores- inicialmente 12 mobilizadores depois reduzidos para 6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8520" y="1052640"/>
            <a:ext cx="89154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METODOLOGIA DE INSTALAÇÃO</a:t>
            </a:r>
            <a:endParaRPr b="1" lang="en-US" sz="2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63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Encontros regionais de mobilização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20680">
              <a:spcBef>
                <a:spcPts val="499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Paraíba – Patos, Pombal, Cajazeiras e Itaporang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20680">
              <a:spcBef>
                <a:spcPts val="499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Rio Grande do Norte – Caicó e Assú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Plenárias Eleitora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20680">
              <a:spcBef>
                <a:spcPts val="499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Paraíba – Patos(2), Pombal e Cajazeira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20680">
              <a:spcBef>
                <a:spcPts val="499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Rio Grande do Norte – Caicó, Assú e Currais Novo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Assembléia de Posse e eleição da Diretori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Material de divulgação:spots radiofônicos folhetos, cartazes, banners, faixas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523800" y="1071720"/>
          <a:ext cx="8915400" cy="4417920"/>
        </p:xfrm>
        <a:graphic>
          <a:graphicData uri="http://schemas.openxmlformats.org/drawingml/2006/table">
            <a:tbl>
              <a:tblPr/>
              <a:tblGrid>
                <a:gridCol w="1273320"/>
                <a:gridCol w="1274760"/>
                <a:gridCol w="1272960"/>
                <a:gridCol w="1273320"/>
                <a:gridCol w="1273320"/>
                <a:gridCol w="1274760"/>
                <a:gridCol w="1272960"/>
              </a:tblGrid>
              <a:tr h="588960">
                <a:tc gridSpan="4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onograma instalação do CBH Piranhas-Açu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36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ício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ação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rmino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3668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tação da Empresa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/10/2008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/10/2008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668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ção Material Gráfico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/10/2008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/12/2008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36320"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icina de Capacitação Mobilizadores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/12/2008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6680"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ização Social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1/2009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5/2009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3668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ntros Regionais PB/RN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/02/2009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/02/2009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632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íodo de Inscrições e habilitação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/02/2009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/04/2009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36680"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enárias PB/RN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04/2009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/05/2009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6680"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mbléia de Posse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/06/2009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MUITO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OBRIGAD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Diretoria Provisória do CBH Piranhas-Açu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www.piranhasacu.cbh.gov.b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18:21:45Z</dcterms:created>
  <dc:creator>zecarlos</dc:creator>
  <dc:description/>
  <dc:language>en-US</dc:language>
  <cp:lastModifiedBy>zecarlos</cp:lastModifiedBy>
  <cp:lastPrinted>2001-06-06T00:02:34Z</cp:lastPrinted>
  <dcterms:modified xsi:type="dcterms:W3CDTF">2008-11-26T13:05:17Z</dcterms:modified>
  <cp:revision>54</cp:revision>
  <dc:subject/>
  <dc:title>Slide 1</dc:title>
</cp:coreProperties>
</file>