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A47-C882-4DC2-BC56-B3418DE4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D5A-C99A-425E-86F1-9FE7AA50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6CB-64B7-429D-A9D2-EA2AAC64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CA5-C6A5-4A42-8C2D-F3EAC524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A99-14B0-4B32-AC1B-C99DDB96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D4E-288C-4440-8876-43063C3E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0A0-DB94-4310-B36A-7AB1B2F2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22A-7449-40CC-81C6-D722521D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FC6-732A-4718-8397-D9528CB8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B59-E34F-4267-B3AB-F887B486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BBC-03CA-4FD2-B8E9-63E7372C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532-39ED-4C67-BE43-6DE75ABB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EC0B-49F8-4939-BF65-70F62F41C8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00"/>
                </a:solidFill>
                <a:latin typeface="Times New Roman"/>
              </a:rPr>
              <a:t>Secretaria Nacional </a:t>
            </a:r>
            <a:br>
              <a:rPr sz="4400"/>
            </a:br>
            <a:r>
              <a:rPr b="0" lang="pt-BR" sz="4400" spc="-1" strike="noStrike">
                <a:solidFill>
                  <a:srgbClr val="808000"/>
                </a:solidFill>
                <a:latin typeface="Times New Roman"/>
              </a:rPr>
              <a:t>de Programas Urbano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População Total por Região Metropolitana – Sede e Demais Municípios – 2000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Percentual de Domicílios com Renda do Chefe de Família Inferior a 1 Salário Mínimo – 2000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Renda Familiar Per Capita Média – 1991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Índice de Desenvolvimento Humano – 1991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Municípios com População Inferior a 20 mil Habitantes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5736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Índice de Desenvolvimento Urbano Médio dos Municípios Brasileiros por Faixa Populacional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8077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00"/>
                </a:solidFill>
                <a:latin typeface="Times New Roman"/>
              </a:rPr>
              <a:t>Índice de Desenvolvimento Humano 1991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Ministério das Cidad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ia Execu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ia de Habi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ia de Transporte e Mobi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ia de Sane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ia de Programas Urb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990720"/>
          <a:ext cx="82296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229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971800" y="16765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2880" y="167652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ELHO 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00"/>
                </a:solidFill>
                <a:latin typeface="Times New Roman"/>
              </a:rPr>
              <a:t>Brasil: População Total 200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85800" y="1981080"/>
          <a:ext cx="883908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8390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ecretaria Nacional de Programas Urbano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ular, articular e apoiar uma rede de parceiros por meio de processos participativos e democráticos, contribuindo para organização humanizada do espaço urbano, ampliando o acesso à terra urbanizada e transformando a cultura da exclusão territorial e degradação ambiental das cidades brasilei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Secretaria Nacional de Programas Urbanos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- formular e propor programas urbanos voltados para o conjunto dos municípios brasileiros, em consonância com as demais políticas setoriais, e em articulação o Conselho Nacional de Cidad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- formular e propor a Política Nacional de Desenvolvimento Urbano em consonância com as políticas de habitação, saneamento e mobilidade urbana, em articulação com o Conselho das Cidad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- acompanhar e avaliar a implementação da Política Nacional de Desenvolvimento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bano e de programas especiais urbanos, em consonância com a Secretaria Execut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- coordenar, acompanhar e avaliar a implementação dos instrumentos e programas de apoio à gestão, ao planejamento urbano e ao manejo do solo urba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- propor e promover ações de universalização do acesso à terra urbanizada, por parte dos moradores da cida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- promover a articulação e parcerias com os produtores de informação nos níveis federal, estadual e municipal, bem como, provenientes de organizações não governament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- apoiar em articulação com a Secretaria Executiva a integração de ações e programas desenvolvidos pelo Ministério e pelos demais órgãos federais, municipais, estaduais e Distrito Fede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- coordenar, acompanhar e avaliar a implementação de normas, procedimentos e programas relacionados à regularização fundiária urban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 - propor, promover e coordenar as ações voltadas para a gestão das regiões metropolitanas, aglomerações urbanas e microrregiõ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 propor, promover e coordenar as ações de desenvolvimento local em pequenas cidades, incentivando a formação do associativismo e cooperativismo municip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 - promover a articulação com as instituições e órgãos de apoio ao desenvolvimento municip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 - propor e promover mecanismos de participação e controle social das ações voltadas para gestão e planejamento urba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I - propor diretrizes nacionais para o financiamento dos programas urbano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V - coordenar e apoiar as atividades referentes à gestão urbana no Conselho Nacional das C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Programa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io à Gestão e ao Planejamento Terr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io à Regularização Fundiá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ção de Risco em Encostas Urb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bilitação e Reconversão de Áreas Cent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io à Gestão Metropolitana ao Associativismo Muni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poio à Gestão e ao Planejamento Territorial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templar a diversidade dos municípios brasileiros, complementando ou suplementando a ação dos governos municipais e estaduais priorizando o combate às desigualdades inter e intra-reg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centivar a formação de instâncias de integração entre municíp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strumentalizar o município para o planejamento urbano e territorial como processo permanente para romper a lógica da ilegalidade e da ocupação precária d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strumentalizar os atores da sociedade civil e do poder público para a gestão democrática, incentivando a sua participação na formulação de políticas, no planejamento e na gestão do terri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pacitar o município para a implementação do Estatuto da Cidade como instrumento fundamental para o desenvolvimento urbano socialmente justo e ambientalmente equilib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ormar uma Rede de assistência técnica composta de entidades e instituições comprometidas com a implementação do Estatuto da Cidade e com experiência no apoio à gestão municipal particip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poio à Regularização Fundiári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governo federal está elaborando um Programa de Regularização Fundiária Sustentável com o objetiv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i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ar e/ou suplement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ação dos governos munici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ndo de form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s dire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s  casos em que os assentamentos a serem regularizados estejam situados e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ras de propriedade da Uni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ções do Governo Federal tem como referências conceituais políticas- juríd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sso à ter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efeito jurídico da função social e ambiental da Propriedade (tanto privada quanto pública) e da cida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à morad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à segurança da posse como direitos humanos fundamenta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premacia d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Público sobre o Direito Priv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regulação da ordem urbanística e na interpretação e aplicação do Estatuto da Cidad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compreensão d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eza curati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s programas de regular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bjetivos Gerai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iar os municípios na implementação do Estatuto da Cida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ação do acesso, por parte da população de menor renda, à terra urbaniza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a integração, em todos os níveis de governo, de programas de regularização (urbanização e legalização) com políticas includentes de planejamento urban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o reconhecimento de maneira integrada do direitos sociais e constitucionais de moradia e preservação ambiental, qualidade de vida humana e preservação de recursos natur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00"/>
                </a:solidFill>
                <a:latin typeface="Times New Roman"/>
              </a:rPr>
              <a:t>Caracterização Geral:</a:t>
            </a:r>
            <a:br>
              <a:rPr sz="4400"/>
            </a:b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Perfil Demográfico dos Municípios Brasileiros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1981080"/>
          <a:ext cx="8152920" cy="4419360"/>
        </p:xfrm>
        <a:graphic>
          <a:graphicData uri="http://schemas.openxmlformats.org/drawingml/2006/table">
            <a:tbl>
              <a:tblPr/>
              <a:tblGrid>
                <a:gridCol w="8152920"/>
              </a:tblGrid>
              <a:tr h="44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95360" y="2344680"/>
            <a:ext cx="63532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o reconhecimento dos novos direitos e sua plena utilização, enfatizando que são formas de direito real de proprie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zar soluções coletivas a problemas que são col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r a remoção dos obstáculos da legislação federal fundiária, cartorária, urbanística e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entivar parcerias com  a sociedade civil, promovendo ampla participação popular em todas as etapas das intervenções de regularização fundiá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ação de uma rede de instituições não governamentais e entidades profissional que atuem no apoio técnico à gestão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  <a:ea typeface="Arial Unicode MS"/>
              </a:rPr>
              <a:t>Linhas de Ação / Sub-progra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gularização urbanística, jurídica e social em terras da Uni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gularização urbanística, jurídica e social em próprios municipais, estaduais e propriedades privadas com base no Estatuto da C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  <a:ea typeface="Arial Unicode MS"/>
              </a:rPr>
              <a:t>Ações Complementa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lizar o cadastramento do patrimônio da União, com ênfase nas áreas afetadas pela MP 2.220/01 (Concessão Especial de Uso para Fins de Mora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oio técnico e financeiro para a realização de cadastros municipais que registrem a identificação, o mapeamento das irregularidades urb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 Assistência técnica e jurídica aos municípios para montagem e/ou aperfeiçoamento de programas municipais de regularização fundiár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stemas de informações que identifiquem regimes de posse para subsidiar análises e revisões políticas no sentido de provê-las, acompanha-las e avalia-l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vulgação junto aos municípios e à sociedade das ações do Ministério e do escopo dos programas disponíveis, fontes de recursos existentes e da rede de assistência técn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CONTENÇÃO DE OCUPAÇÃO DE RISCO EM ENCOSTAS URBANAS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oiar a ação municipal, posto que as prefeituras são o agente capaz e com atribuições e responsabilidade para implementar os programas de gerenciamento de ris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r a  experiência já disponível nos vários municípios brasileiros que têm priorizado a ação preventiva de defesa civil nos programas de gestão de ris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r a capacitação técnica disponível nas universidades e institutos de pesquisa em várias regiões d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oiar-se na participação popular, por meio de núcleos de defesa civil formados entre a população moradora de áreas de ris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icular e compatibilizar internamente a ação vários órgãos do Governo Federal envolvidos, em particular o Ministério das Cidades, Ministério de Integração Nacional, Ministério de Minas e Energia e Ministério do Meio Ambiente, de modo a congregar esforços e competências especí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REABILITAÇÃO/REPOVOAMENTO DE ÁREAS URBANAS CONSOLIDADAS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senvolvimento da tipologia de áreas a serem objeto de tratamento específico, em conformidade com os fatores que lhes tenham produz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mulação e desenvolvimento de planos de ação voltados para o tratamento destas áre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laboração e implementação de acordos de cooperação entre os órgãos da administração pública envolv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  <a:ea typeface="Arial Unicode MS"/>
              </a:rPr>
              <a:t>APOIO</a:t>
            </a:r>
            <a:r>
              <a:rPr b="1" lang="en-US" sz="4000" spc="-1" strike="noStrike" u="sng">
                <a:solidFill>
                  <a:srgbClr val="808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1" lang="en-US" sz="4000" spc="-1" strike="noStrike">
                <a:solidFill>
                  <a:srgbClr val="808000"/>
                </a:solidFill>
                <a:latin typeface="Times New Roman"/>
                <a:ea typeface="Arial Unicode MS"/>
              </a:rPr>
              <a:t>À GESTÃO METROPOLITANA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pear as iniciativas atuais de gestão e o “estado da arte” da quest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bilização e promoção de fóruns de discussão nas várias regi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matação de parâmetros para criação de fundos de investimentos nas regiões metropoli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SISTEMA NACIONAL DE INDICADORES URBANOS – SNIU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plemento especial da PNAD, que atinge 126 mil domicílios, para apuração de informações relacionadas às questões urb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erfeiçoamento da Pesquisa de Informações Municipais – MUNIC, agregando informações de interesse do Ministério das C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ticulação do sistema de informações sobre as cidades com o Cadastro Único das Políticas Sociais (em elaboração pelo comitê de Políticas Sociais do governo), de forma a identificar territórios de concentração de pobreza no paí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DAR TRATAMENTO EQUÂNIME AOS MUNICÍPIOS CONSIDERANDO SEU GRANDE NÚMERO, SUA DIVERSIDADE E A DISTÂNCIA FÍSICA/ POLÍTICA/ ADMINISTRATI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idade de enfrentar distorçõ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acto Federativo: estimular redes de articulação municipal e discutir as bases de um novo pacto federativo que diminua as diferenças inter-regionais, como contribuição para o aperfeiçoamento da Constituição Fed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rdem Democrática: estimular redes de participação pop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Perfil dos Municípios Brasileiros por Faixa Populacional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773360"/>
            <a:ext cx="756144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ério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ação e prio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hecer as diferenças: estudar a tipologia e redes de municípios/regi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ear e atuar em áreas mais vulneráveis do ponto de vista sócio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ar istemas de indução e incentivo à contrapartida de Municípios e Es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os/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elecer canais de comun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Informação: criar programa diário na Radiobrás; formar telecentros ou centros de informação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Descentralização da ação da Secretaria para o apoio ao planejamento e gestão:  integrando e utilizando a estrutura da CAIXA; criar rede de assistência técn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ir com critérios territoriais para grupo interministerial de associativismo municip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Perfil dos Municípios por Faixa Populacional 2000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0773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Instrumentos de Gestão dos Municípios Brasileiros por Faixa Populacional 1999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2230560"/>
            <a:ext cx="84582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Instrumentos de Gestão dos Municípios Brasileiros por Faixa Populacional 1999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1717560"/>
            <a:ext cx="76964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Taxa Média de Crescimento Anual – 1991 a 2001 (%)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5:06:32Z</dcterms:created>
  <dc:creator>Sedu</dc:creator>
  <dc:description/>
  <dc:language>en-US</dc:language>
  <cp:lastModifiedBy>OtilieMP</cp:lastModifiedBy>
  <dcterms:modified xsi:type="dcterms:W3CDTF">2003-06-03T21:23:12Z</dcterms:modified>
  <cp:revision>22</cp:revision>
  <dc:subject/>
  <dc:title>Secretaria de Programas Urbanos</dc:title>
</cp:coreProperties>
</file>