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D31-CF01-4221-A1D0-FD441455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197-A3E4-4EF5-B323-5896C28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9A3-CC4E-4275-9699-B5CB3F94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9DF-8970-4207-A7BE-D223E415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07D-8FE8-4B39-AFD5-5B6B6157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1D49-B5AD-4E51-B374-90738132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75D-C54B-4C92-AEFA-1B9F4233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8BEF-BD08-4659-9E8D-13A70A48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5F2D-2382-445C-AD5E-D856EA0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620C-5D23-4737-9ED4-F5246B97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6FAC-A91F-4FB5-A70C-1A0D1FA0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966-00DF-42FD-84CB-E60ED39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0D51-D54A-4325-9DCB-3576EAF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CDF9-20B1-40EB-B7B7-CA6FF125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90CA-B408-4572-A627-F56E0D8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905-DE41-4488-A087-9BAD9A74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687-12C5-416F-A1EE-2E92E719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757-2F2D-4347-A3F6-99752F25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154-9903-4D40-A47C-A25EC9F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217-6ADE-4CAE-8983-782ADC24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3B5-75C2-4B59-9FE7-11DA5D2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21C-FC3C-4D50-ADB1-AC255AC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8D6-EEF3-4A07-B1A0-C1375131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5BE-E960-46FF-91B3-5BBBD3B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B2E-3E0B-4E42-855B-C9E00C1BD63B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BF4-61E1-476B-9350-50F3817A2F2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CEC1-30C6-443E-B77F-6E8FBA43853F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757F-D973-49D6-BD2C-9EEBFB48CA5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990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cc"/>
                </a:solidFill>
                <a:latin typeface="Arial Narrow"/>
              </a:rPr>
              <a:t>A Constituição do CEIVAP e a Resolução CNRH n.º 5/2000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274320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audio Serricch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1795-BED6-4086-8036-9D3D01A066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48487E-6172-4282-A1A5-5DD61FA42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presentaç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ã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alestra apresentada no Seminário “Diretrizes gerais para a instituição e funcionamento de Comitês de bacias hidrográficas”, CNRH, Brasília, 10 de dezembro d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laudio Serricchio – coordenador do escritório técnic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9FB-EFF4-4130-871D-4AAE1D0009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6DAE5-CF8C-41A5-B707-8285AEC60CE8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Tópic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cria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Lei 943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Resolução CNRH n.º 0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experiência da renovação da composi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Os demais passos do CEIVAP junto ao CNR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nclusões e recomend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C20-0856-4394-94D8-08A6265981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CA27A-F653-4F3A-8C9A-ADF847A3F3C4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criação do CEIVA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o pelo Decreto n.º 1842, de 22/03/1996, do Presidente da Re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stalado em 18/12/1997, com 39 membros, nomeados pelas Portarias 343 de 24/10/96 e 264 de 1/12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as Câmaras Técnicas Institucional e de Planejamento, em 28/01/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augurado o escritório-sede em 10/12/98, em Resende/R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CA8-7178-4E62-8120-8A4A969618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8FFC8-8B0D-4DCF-BCB8-299D2DE64CC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adequação do CEIVAP à 9433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à Lei 9433, de  08/01/1997, diante das definições das competências dos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lterações no Regimento Interno, em 9/12/99, ampliando a composição do CEIVAP para 57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alização dos primeiros fóruns públicos, em SP, RJ e MG,  para preenchimento de 18 novas va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665-B093-4939-A439-64212A5BC3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29D3-56D6-4590-B655-1CD89A785CE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dequação à Resolução n.º 05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do CEIVAP à Resolução CNRH n.º 05, de 10/04/2000, que estabelece diretrizes para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discussão e alterações no Regimento Interno do CEIVAP, em 21/07/00, ampliando a sua composição para 60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juste final na represent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usuários: 24 membros  (40 %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poder público: 21 membros  (35 %), sendo 3 da União, 9 dos estados e 9 dos municíp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organizações civis: 15 membros  (25 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B36-9A2E-497B-BDB5-5F38002741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3F0C7-12CE-4D6D-854C-F6E0CB39D6D4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experiência da renovação da composição do CEIVAP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laboração de regulamento e editais públicos em SP, RJ e MG, convocando o processo eleitoral para: municípios, usuários e organizações civis (formalidade e publicida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Realização de fóruns para cada segmento, em cada estado, para a escolha dos representantes pelos seus pares (municípios, usuários e organizações civi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oposição de critérios de escolha considerand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os diversos setores de cada seg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as distribuição espacial da representação, contemplando as diversas regiões e sub-ba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vanços na mobilização e representatividade do CEI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F45-FF25-420B-8026-A9591BCE5E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F3C25-8A09-4D30-B03B-9AC0DBB7797A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Os demais passos do CEIVAP junto ao CNRH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cobrança pelo uso da água na bacia do rio Paraíba do Sul: n.º 03, de 16/03/2001; n.º 08, de 6/12/2001 e n.º 15, de 4/11/2002, que resultaram nas Resoluções CNRH n.º 19, de 15/03/2002 e n.º 27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a criação da agência de águas da bacia do rio Paraíba do Sul: n.º 05, de 16/03/2001 e n.º 12, de 20/06/2002, que resultaram na Resolução CNRH n.º 26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AD4-E881-47B3-A2EA-5FA465E0B0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65742-8CD2-46F0-8075-8C053F45B5E3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Conclusões e Recomendaçõ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stão em fase avançada de implantação na bacia do rio Paraíba do Sul, os principais instrumentos necessários à gestão sustentável de R.H.:  Comitê, PRH, Agência, Outorga e Cobrança, sendo estratégica a sua con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preciso reiterar o caráter dos comitês como espaço de representação dos interesses relacionados ao usos múltiplos das águas (em detrimento da visão e demandas crescentes de representação política region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regulamentar o relacionamento formal e as competências entre comitês de bacias de diferentes níve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definir os atos dos comitês que exijam publicação no D.O. da União e os procedimentos para tanto, de modo a assegurar a sua legalidade e public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DD6-392A-4789-A7D3-D980395A0C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4B93E-FFF5-455A-B6F0-245ED98A5091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Serricchio</cp:lastModifiedBy>
  <dcterms:modified xsi:type="dcterms:W3CDTF">2002-12-09T21:29:25Z</dcterms:modified>
  <cp:revision>7</cp:revision>
  <dc:subject/>
  <dc:title>Apresentação do PowerPoint</dc:title>
</cp:coreProperties>
</file>