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341-0BC9-46FE-82C9-0F8451C8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8C2-1AF3-4397-AAAB-641E7AF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885-7F99-4E13-A944-60F459B3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C87-07AD-40CE-8108-FE7F9949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DAF-BC55-4200-89AD-C02F132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ABA-27B8-40F1-AE79-BC8FFC5B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D3D-D953-45AC-8DFD-12667F8D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E15-634B-461F-A06A-2A9360F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D75-3889-4532-A81C-9BE49067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CFF-4EB3-4E95-83BC-9B79F60B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AF1-7C1E-4ABA-AB12-D69E542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32A-32CA-43F8-B827-00081987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C3C6-E188-405F-838C-136F3DD0E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77600" cy="75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2:38:08Z</dcterms:created>
  <dc:creator>User</dc:creator>
  <dc:description/>
  <dc:language>en-US</dc:language>
  <cp:lastModifiedBy>SRH</cp:lastModifiedBy>
  <dcterms:modified xsi:type="dcterms:W3CDTF">2002-12-10T16:46:24Z</dcterms:modified>
  <cp:revision>1</cp:revision>
  <dc:subject/>
  <dc:title>Apresentação do PowerPoint</dc:title>
</cp:coreProperties>
</file>