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F80-0E72-4D50-A62B-F5DAD158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8AA-C34F-4DE2-93E3-BAF4BB81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8BD-D335-4156-9A6E-2100823B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F23-9FD7-4204-B021-600FD85B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94E-97B5-43F4-9755-195E39E4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E6D-25CB-4BFC-B7A1-0664438C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395-604F-42E2-98D8-E8D82B45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247F-D2E3-4AC0-A3A5-85C2AB5E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7A0-4AA7-4EF1-B374-A9EEC402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F17-7066-41B0-A44D-98129DF8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7AC-B03A-4354-997D-A8F3DB34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A90-DA5E-4834-85D8-306BF43E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A81E-ED56-4B75-9F50-9A01EDF5C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77600" cy="75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2:38:08Z</dcterms:created>
  <dc:creator>User</dc:creator>
  <dc:description/>
  <dc:language>en-US</dc:language>
  <cp:lastModifiedBy>SRH</cp:lastModifiedBy>
  <dcterms:modified xsi:type="dcterms:W3CDTF">2002-12-10T16:46:24Z</dcterms:modified>
  <cp:revision>1</cp:revision>
  <dc:subject/>
  <dc:title>Apresentação do PowerPoint</dc:title>
</cp:coreProperties>
</file>