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7F6-28DC-41A6-BB9B-8270B91E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191-B0DD-4393-BEAC-03EF08B4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038-9368-4F6D-933E-5E33C4A6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B46-68CC-4FCF-AC51-54F3C2A1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F17D-2172-48AA-9730-B3ED7167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6A6-89A1-4007-87BC-356E938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580E-33A5-43FF-BAB3-E34E604D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55DC-06EC-4E34-B881-91D49D3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C4E2-BFFC-4F9C-ACE8-E37F539B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15C9-5344-4298-835D-1A98138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3055-69DD-4E63-863C-9928565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324-4E56-46CB-9563-D9EBE85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71F3-A311-4DF1-B409-97D9736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C96E-6074-4040-879E-1D45278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C6E-96FE-47E5-BCAA-9656FC67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06A7-BCFB-4D69-8CAD-ACA0CFF8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0A62-BB2D-4355-8008-957CA969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A88-000B-413E-B241-48DAD322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E8A-F1B7-430C-B5F0-1B3C5FC3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17E-C63E-4530-8472-3963971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614-EB19-488D-8980-938C42FF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9F3-E284-4BE1-A57F-28830D08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8DF-BAB6-48FA-B914-2BD5335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D0C-3C44-45AF-8305-1410254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F897-EE3B-4A6C-AFEC-24590BC14161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A2D-3815-43F6-B8D7-CF057D1AF6A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7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602C-A2D1-427B-B02B-B07A64A27871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F070-0417-43B9-B7B3-60DB3437A98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990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cc"/>
                </a:solidFill>
                <a:latin typeface="Arial Narrow"/>
              </a:rPr>
              <a:t>A Constituição do CEIVAP e a Resolução CNRH n.º 5/2000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274320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audio Serricch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2136-61D8-4664-94FC-867109C1E1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E4BAEB1-23DD-4E81-8513-40FC06BF95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presentaç</a:t>
            </a: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ã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alestra apresentada no Seminário “Diretrizes gerais para a instituição e funcionamento de Comitês de bacias hidrográficas”, CNRH, Brasília, 10 de dezembro d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laudio Serricchio – coordenador do escritório técnic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988-9838-4EB1-AC17-250B19B83B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24618-F9D8-4845-AA2D-312B35C6BDC2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Tópico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criaçã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adequação do CEIVAP à Lei 943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adequação do CEIVAP à Resolução CNRH n.º 0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experiência da renovação da composiçã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Os demais passos do CEIVAP junto ao CNR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onclusões e recomend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0A5-D9C2-4841-93DF-C045A84A0B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679F0-FE81-4150-A7DE-FEA00EBB8DA6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criação do CEIVA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riado pelo Decreto n.º 1842, de 22/03/1996, do Presidente da Re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stalado em 18/12/1997, com 39 membros, nomeados pelas Portarias 343 de 24/10/96 e 264 de 1/12/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riadas Câmaras Técnicas Institucional e de Planejamento, em 28/01/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augurado o escritório-sede em 10/12/98, em Resende/R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0D7-4415-4157-A982-2E98BE7950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D34E1-C943-4ED9-A8F0-8B945546D775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adequação do CEIVAP à 9433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ecessidade de adequação à Lei 9433, de  08/01/1997, diante das definições das competências dos comitês de b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lterações no Regimento Interno, em 9/12/99, ampliando a composição do CEIVAP para 57 memb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alização dos primeiros fóruns públicos, em SP, RJ e MG,  para preenchimento de 18 novas va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7FA-4542-4E3A-825B-E489CD6879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CF5F6-589E-4F9C-9B38-DCB59CDB8956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dequação à Resolução n.º 05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ecessidade de adequação do CEIVAP à Resolução CNRH n.º 05, de 10/04/2000, que estabelece diretrizes para comitês de b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discussão e alterações no Regimento Interno do CEIVAP, em 21/07/00, ampliando a sua composição para 60 memb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juste final na represent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usuários: 24 membros  (40 %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poder público: 21 membros  (35 %), sendo 3 da União, 9 dos estados e 9 dos municíp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organizações civis: 15 membros  (25 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B7B-5CE9-4B33-8AD6-760F0CFB09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67684-1F0C-44A0-8013-37F106B2FDCE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experiência da renovação da composição do CEIVAP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laboração de regulamento e editais públicos em SP, RJ e MG, convocando o processo eleitoral para: municípios, usuários e organizações civis (formalidade e publicida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Realização de fóruns para cada segmento, em cada estado, para a escolha dos representantes pelos seus pares (municípios, usuários e organizações civi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oposição de critérios de escolha considerand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- os diversos setores de cada segm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- as distribuição espacial da representação, contemplando as diversas regiões e sub-ba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vanços na mobilização e representatividade do CEI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59A-0BDF-402A-AF5A-22F4A034CF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85E1E-DF89-46EE-9433-7DD0E22382E0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Os demais passos do CEIVAP junto ao CNRH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Submeteu à aprovação do CNRH as suas Deliberações sobre cobrança pelo uso da água na bacia do rio Paraíba do Sul: n.º 03, de 16/03/2001; n.º 08, de 6/12/2001 e n.º 15, de 4/11/2002, que resultaram nas Resoluções CNRH n.º 19, de 15/03/2002 e n.º 27, de 29/12/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Submeteu à aprovação do CNRH as suas Deliberações sobre a criação da agência de águas da bacia do rio Paraíba do Sul: n.º 05, de 16/03/2001 e n.º 12, de 20/06/2002, que resultaram na Resolução CNRH n.º 26, de 29/12/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83C-9455-4455-923F-5D47EA7BD1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54375-8A57-4D5C-933E-3B29037383EE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Conclusões e Recomendaçõ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stão em fase avançada de implantação na bacia do rio Paraíba do Sul, os principais instrumentos necessários à gestão sustentável de R.H.:  Comitê, PRH, Agência, Outorga e Cobrança, sendo estratégica a sua conclu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preciso reiterar o caráter dos comitês como espaço de representação dos interesses relacionados ao usos múltiplos das águas (em detrimento da visão e demandas crescentes de representação política region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necessário regulamentar o relacionamento formal e as competências entre comitês de bacias de diferentes níve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necessário definir os atos dos comitês que exijam publicação no D.O. da União e os procedimentos para tanto, de modo a assegurar a sua legalidade e public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B95-3786-4351-8BF5-9AA38FCDE3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F030B-4F8A-49DB-BC29-C0D2C691084C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 Serricchio</cp:lastModifiedBy>
  <dcterms:modified xsi:type="dcterms:W3CDTF">2002-12-09T21:29:25Z</dcterms:modified>
  <cp:revision>7</cp:revision>
  <dc:subject/>
  <dc:title>Apresentação do PowerPoint</dc:title>
</cp:coreProperties>
</file>