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479588" cy="1104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39E-9D0C-4E18-A51F-6648AC5C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1230624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5760" y="6654600"/>
            <a:ext cx="1230624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C62-9C8F-4422-B7AA-C320D400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576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39152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791-F2F1-4B60-B835-8E9F2F24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46640" y="319212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07880" y="319212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5760" y="665460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46640" y="665460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407880" y="665460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11E-08F0-4815-9BFD-27DC07CB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5760" y="3192120"/>
            <a:ext cx="1230624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F6F-7005-4206-8F20-FDAA83A5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1230624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C38-0D2D-45EC-9E4A-DCED5D96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F79-7D89-4F5F-B0C2-F4E60767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78A-2EB2-4094-BFD6-FD2B302A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5760" y="982440"/>
            <a:ext cx="123062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1FF-8533-4187-A3A6-1F64AE84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576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D97-F265-4A9A-BA5B-5DB3C981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9152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DBF-2921-4EF9-8B2A-BE937052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5760" y="6654600"/>
            <a:ext cx="1230624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3AC-4D64-4E7F-B845-490065B6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5760" y="3192120"/>
            <a:ext cx="1230624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 fontScale="97000"/>
          </a:bodyPr>
          <a:p>
            <a:pPr marL="546480" indent="-54648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4040" indent="-4554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1600" indent="-36468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549880" indent="-3650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278160" indent="-36288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278160" indent="-36288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278160" indent="-36288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85400" y="10066320"/>
            <a:ext cx="3016440" cy="73656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Autofit/>
          </a:bodyPr>
          <a:lstStyle>
            <a:lvl1pPr indent="0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  <a:defRPr b="0" lang="pt-B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46400" y="10066320"/>
            <a:ext cx="4584600" cy="73656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Autofit/>
          </a:bodyPr>
          <a:lstStyle>
            <a:lvl1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  <a:defRPr b="0" lang="pt-B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375920" y="10066320"/>
            <a:ext cx="3016080" cy="73656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Autofit/>
          </a:bodyPr>
          <a:lstStyle>
            <a:lvl1pPr indent="0" algn="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  <a:defRPr b="0" lang="pt-B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fld id="{E0A3FF78-8C4C-4141-8C3C-625135327433}" type="slidenum"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4840" y="465120"/>
            <a:ext cx="13528440" cy="9890280"/>
            <a:chOff x="474840" y="465120"/>
            <a:chExt cx="13528440" cy="9890280"/>
          </a:xfrm>
        </p:grpSpPr>
        <p:sp>
          <p:nvSpPr>
            <p:cNvPr id="42" name=""/>
            <p:cNvSpPr/>
            <p:nvPr/>
          </p:nvSpPr>
          <p:spPr>
            <a:xfrm>
              <a:off x="474840" y="465120"/>
              <a:ext cx="13528440" cy="989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156200" y="1344600"/>
              <a:ext cx="1725480" cy="1373040"/>
            </a:xfrm>
            <a:custGeom>
              <a:avLst/>
              <a:gdLst/>
              <a:ahLst/>
              <a:rect l="l" t="t" r="r" b="b"/>
              <a:pathLst>
                <a:path w="1087" h="865">
                  <a:moveTo>
                    <a:pt x="1068" y="18"/>
                  </a:moveTo>
                  <a:lnTo>
                    <a:pt x="1081" y="18"/>
                  </a:lnTo>
                  <a:lnTo>
                    <a:pt x="1087" y="18"/>
                  </a:lnTo>
                  <a:lnTo>
                    <a:pt x="1087" y="31"/>
                  </a:lnTo>
                  <a:lnTo>
                    <a:pt x="1068" y="62"/>
                  </a:lnTo>
                  <a:lnTo>
                    <a:pt x="1049" y="99"/>
                  </a:lnTo>
                  <a:lnTo>
                    <a:pt x="1036" y="118"/>
                  </a:lnTo>
                  <a:lnTo>
                    <a:pt x="1017" y="149"/>
                  </a:lnTo>
                  <a:lnTo>
                    <a:pt x="1011" y="168"/>
                  </a:lnTo>
                  <a:lnTo>
                    <a:pt x="992" y="217"/>
                  </a:lnTo>
                  <a:lnTo>
                    <a:pt x="979" y="249"/>
                  </a:lnTo>
                  <a:lnTo>
                    <a:pt x="979" y="261"/>
                  </a:lnTo>
                  <a:lnTo>
                    <a:pt x="973" y="286"/>
                  </a:lnTo>
                  <a:lnTo>
                    <a:pt x="960" y="305"/>
                  </a:lnTo>
                  <a:lnTo>
                    <a:pt x="947" y="329"/>
                  </a:lnTo>
                  <a:lnTo>
                    <a:pt x="935" y="342"/>
                  </a:lnTo>
                  <a:lnTo>
                    <a:pt x="928" y="361"/>
                  </a:lnTo>
                  <a:lnTo>
                    <a:pt x="922" y="373"/>
                  </a:lnTo>
                  <a:lnTo>
                    <a:pt x="922" y="379"/>
                  </a:lnTo>
                  <a:lnTo>
                    <a:pt x="922" y="398"/>
                  </a:lnTo>
                  <a:lnTo>
                    <a:pt x="928" y="404"/>
                  </a:lnTo>
                  <a:lnTo>
                    <a:pt x="935" y="417"/>
                  </a:lnTo>
                  <a:lnTo>
                    <a:pt x="941" y="429"/>
                  </a:lnTo>
                  <a:lnTo>
                    <a:pt x="941" y="442"/>
                  </a:lnTo>
                  <a:lnTo>
                    <a:pt x="947" y="460"/>
                  </a:lnTo>
                  <a:lnTo>
                    <a:pt x="947" y="479"/>
                  </a:lnTo>
                  <a:lnTo>
                    <a:pt x="947" y="516"/>
                  </a:lnTo>
                  <a:lnTo>
                    <a:pt x="941" y="547"/>
                  </a:lnTo>
                  <a:lnTo>
                    <a:pt x="935" y="572"/>
                  </a:lnTo>
                  <a:lnTo>
                    <a:pt x="935" y="603"/>
                  </a:lnTo>
                  <a:lnTo>
                    <a:pt x="935" y="628"/>
                  </a:lnTo>
                  <a:lnTo>
                    <a:pt x="941" y="647"/>
                  </a:lnTo>
                  <a:lnTo>
                    <a:pt x="941" y="684"/>
                  </a:lnTo>
                  <a:lnTo>
                    <a:pt x="941" y="715"/>
                  </a:lnTo>
                  <a:lnTo>
                    <a:pt x="935" y="747"/>
                  </a:lnTo>
                  <a:lnTo>
                    <a:pt x="928" y="771"/>
                  </a:lnTo>
                  <a:lnTo>
                    <a:pt x="922" y="803"/>
                  </a:lnTo>
                  <a:lnTo>
                    <a:pt x="909" y="827"/>
                  </a:lnTo>
                  <a:lnTo>
                    <a:pt x="903" y="865"/>
                  </a:lnTo>
                  <a:lnTo>
                    <a:pt x="871" y="846"/>
                  </a:lnTo>
                  <a:lnTo>
                    <a:pt x="839" y="834"/>
                  </a:lnTo>
                  <a:lnTo>
                    <a:pt x="801" y="815"/>
                  </a:lnTo>
                  <a:lnTo>
                    <a:pt x="763" y="809"/>
                  </a:lnTo>
                  <a:lnTo>
                    <a:pt x="744" y="796"/>
                  </a:lnTo>
                  <a:lnTo>
                    <a:pt x="725" y="784"/>
                  </a:lnTo>
                  <a:lnTo>
                    <a:pt x="712" y="765"/>
                  </a:lnTo>
                  <a:lnTo>
                    <a:pt x="693" y="747"/>
                  </a:lnTo>
                  <a:lnTo>
                    <a:pt x="674" y="734"/>
                  </a:lnTo>
                  <a:lnTo>
                    <a:pt x="649" y="722"/>
                  </a:lnTo>
                  <a:lnTo>
                    <a:pt x="642" y="709"/>
                  </a:lnTo>
                  <a:lnTo>
                    <a:pt x="630" y="703"/>
                  </a:lnTo>
                  <a:lnTo>
                    <a:pt x="604" y="697"/>
                  </a:lnTo>
                  <a:lnTo>
                    <a:pt x="585" y="690"/>
                  </a:lnTo>
                  <a:lnTo>
                    <a:pt x="566" y="678"/>
                  </a:lnTo>
                  <a:lnTo>
                    <a:pt x="553" y="672"/>
                  </a:lnTo>
                  <a:lnTo>
                    <a:pt x="553" y="653"/>
                  </a:lnTo>
                  <a:lnTo>
                    <a:pt x="553" y="634"/>
                  </a:lnTo>
                  <a:lnTo>
                    <a:pt x="547" y="628"/>
                  </a:lnTo>
                  <a:lnTo>
                    <a:pt x="547" y="616"/>
                  </a:lnTo>
                  <a:lnTo>
                    <a:pt x="541" y="616"/>
                  </a:lnTo>
                  <a:lnTo>
                    <a:pt x="534" y="616"/>
                  </a:lnTo>
                  <a:lnTo>
                    <a:pt x="528" y="622"/>
                  </a:lnTo>
                  <a:lnTo>
                    <a:pt x="515" y="628"/>
                  </a:lnTo>
                  <a:lnTo>
                    <a:pt x="509" y="628"/>
                  </a:lnTo>
                  <a:lnTo>
                    <a:pt x="496" y="628"/>
                  </a:lnTo>
                  <a:lnTo>
                    <a:pt x="496" y="622"/>
                  </a:lnTo>
                  <a:lnTo>
                    <a:pt x="490" y="603"/>
                  </a:lnTo>
                  <a:lnTo>
                    <a:pt x="496" y="591"/>
                  </a:lnTo>
                  <a:lnTo>
                    <a:pt x="496" y="572"/>
                  </a:lnTo>
                  <a:lnTo>
                    <a:pt x="490" y="560"/>
                  </a:lnTo>
                  <a:lnTo>
                    <a:pt x="490" y="547"/>
                  </a:lnTo>
                  <a:lnTo>
                    <a:pt x="477" y="541"/>
                  </a:lnTo>
                  <a:lnTo>
                    <a:pt x="464" y="541"/>
                  </a:lnTo>
                  <a:lnTo>
                    <a:pt x="452" y="554"/>
                  </a:lnTo>
                  <a:lnTo>
                    <a:pt x="439" y="572"/>
                  </a:lnTo>
                  <a:lnTo>
                    <a:pt x="426" y="578"/>
                  </a:lnTo>
                  <a:lnTo>
                    <a:pt x="420" y="591"/>
                  </a:lnTo>
                  <a:lnTo>
                    <a:pt x="401" y="597"/>
                  </a:lnTo>
                  <a:lnTo>
                    <a:pt x="382" y="603"/>
                  </a:lnTo>
                  <a:lnTo>
                    <a:pt x="369" y="603"/>
                  </a:lnTo>
                  <a:lnTo>
                    <a:pt x="356" y="597"/>
                  </a:lnTo>
                  <a:lnTo>
                    <a:pt x="344" y="591"/>
                  </a:lnTo>
                  <a:lnTo>
                    <a:pt x="318" y="572"/>
                  </a:lnTo>
                  <a:lnTo>
                    <a:pt x="280" y="554"/>
                  </a:lnTo>
                  <a:lnTo>
                    <a:pt x="229" y="529"/>
                  </a:lnTo>
                  <a:lnTo>
                    <a:pt x="178" y="516"/>
                  </a:lnTo>
                  <a:lnTo>
                    <a:pt x="166" y="522"/>
                  </a:lnTo>
                  <a:lnTo>
                    <a:pt x="134" y="522"/>
                  </a:lnTo>
                  <a:lnTo>
                    <a:pt x="115" y="516"/>
                  </a:lnTo>
                  <a:lnTo>
                    <a:pt x="83" y="504"/>
                  </a:lnTo>
                  <a:lnTo>
                    <a:pt x="70" y="498"/>
                  </a:lnTo>
                  <a:lnTo>
                    <a:pt x="64" y="485"/>
                  </a:lnTo>
                  <a:lnTo>
                    <a:pt x="58" y="479"/>
                  </a:lnTo>
                  <a:lnTo>
                    <a:pt x="39" y="448"/>
                  </a:lnTo>
                  <a:lnTo>
                    <a:pt x="19" y="417"/>
                  </a:lnTo>
                  <a:lnTo>
                    <a:pt x="13" y="404"/>
                  </a:lnTo>
                  <a:lnTo>
                    <a:pt x="7" y="385"/>
                  </a:lnTo>
                  <a:lnTo>
                    <a:pt x="0" y="367"/>
                  </a:lnTo>
                  <a:lnTo>
                    <a:pt x="0" y="348"/>
                  </a:lnTo>
                  <a:lnTo>
                    <a:pt x="7" y="329"/>
                  </a:lnTo>
                  <a:lnTo>
                    <a:pt x="13" y="311"/>
                  </a:lnTo>
                  <a:lnTo>
                    <a:pt x="26" y="267"/>
                  </a:lnTo>
                  <a:lnTo>
                    <a:pt x="32" y="230"/>
                  </a:lnTo>
                  <a:lnTo>
                    <a:pt x="39" y="211"/>
                  </a:lnTo>
                  <a:lnTo>
                    <a:pt x="45" y="180"/>
                  </a:lnTo>
                  <a:lnTo>
                    <a:pt x="45" y="136"/>
                  </a:lnTo>
                  <a:lnTo>
                    <a:pt x="45" y="105"/>
                  </a:lnTo>
                  <a:lnTo>
                    <a:pt x="51" y="93"/>
                  </a:lnTo>
                  <a:lnTo>
                    <a:pt x="51" y="87"/>
                  </a:lnTo>
                  <a:lnTo>
                    <a:pt x="64" y="99"/>
                  </a:lnTo>
                  <a:lnTo>
                    <a:pt x="70" y="112"/>
                  </a:lnTo>
                  <a:lnTo>
                    <a:pt x="77" y="118"/>
                  </a:lnTo>
                  <a:lnTo>
                    <a:pt x="89" y="124"/>
                  </a:lnTo>
                  <a:lnTo>
                    <a:pt x="89" y="118"/>
                  </a:lnTo>
                  <a:lnTo>
                    <a:pt x="102" y="118"/>
                  </a:lnTo>
                  <a:lnTo>
                    <a:pt x="108" y="124"/>
                  </a:lnTo>
                  <a:lnTo>
                    <a:pt x="121" y="124"/>
                  </a:lnTo>
                  <a:lnTo>
                    <a:pt x="134" y="118"/>
                  </a:lnTo>
                  <a:lnTo>
                    <a:pt x="147" y="118"/>
                  </a:lnTo>
                  <a:lnTo>
                    <a:pt x="153" y="118"/>
                  </a:lnTo>
                  <a:lnTo>
                    <a:pt x="153" y="124"/>
                  </a:lnTo>
                  <a:lnTo>
                    <a:pt x="153" y="136"/>
                  </a:lnTo>
                  <a:lnTo>
                    <a:pt x="159" y="149"/>
                  </a:lnTo>
                  <a:lnTo>
                    <a:pt x="166" y="161"/>
                  </a:lnTo>
                  <a:lnTo>
                    <a:pt x="166" y="174"/>
                  </a:lnTo>
                  <a:lnTo>
                    <a:pt x="166" y="180"/>
                  </a:lnTo>
                  <a:lnTo>
                    <a:pt x="159" y="186"/>
                  </a:lnTo>
                  <a:lnTo>
                    <a:pt x="159" y="193"/>
                  </a:lnTo>
                  <a:lnTo>
                    <a:pt x="159" y="199"/>
                  </a:lnTo>
                  <a:lnTo>
                    <a:pt x="159" y="205"/>
                  </a:lnTo>
                  <a:lnTo>
                    <a:pt x="166" y="205"/>
                  </a:lnTo>
                  <a:lnTo>
                    <a:pt x="172" y="205"/>
                  </a:lnTo>
                  <a:lnTo>
                    <a:pt x="178" y="199"/>
                  </a:lnTo>
                  <a:lnTo>
                    <a:pt x="178" y="193"/>
                  </a:lnTo>
                  <a:lnTo>
                    <a:pt x="178" y="186"/>
                  </a:lnTo>
                  <a:lnTo>
                    <a:pt x="178" y="180"/>
                  </a:lnTo>
                  <a:lnTo>
                    <a:pt x="178" y="174"/>
                  </a:lnTo>
                  <a:lnTo>
                    <a:pt x="178" y="168"/>
                  </a:lnTo>
                  <a:lnTo>
                    <a:pt x="178" y="161"/>
                  </a:lnTo>
                  <a:lnTo>
                    <a:pt x="178" y="155"/>
                  </a:lnTo>
                  <a:lnTo>
                    <a:pt x="172" y="149"/>
                  </a:lnTo>
                  <a:lnTo>
                    <a:pt x="172" y="143"/>
                  </a:lnTo>
                  <a:lnTo>
                    <a:pt x="172" y="130"/>
                  </a:lnTo>
                  <a:lnTo>
                    <a:pt x="172" y="124"/>
                  </a:lnTo>
                  <a:lnTo>
                    <a:pt x="178" y="124"/>
                  </a:lnTo>
                  <a:lnTo>
                    <a:pt x="185" y="124"/>
                  </a:lnTo>
                  <a:lnTo>
                    <a:pt x="197" y="124"/>
                  </a:lnTo>
                  <a:lnTo>
                    <a:pt x="204" y="130"/>
                  </a:lnTo>
                  <a:lnTo>
                    <a:pt x="217" y="136"/>
                  </a:lnTo>
                  <a:lnTo>
                    <a:pt x="229" y="136"/>
                  </a:lnTo>
                  <a:lnTo>
                    <a:pt x="242" y="149"/>
                  </a:lnTo>
                  <a:lnTo>
                    <a:pt x="248" y="155"/>
                  </a:lnTo>
                  <a:lnTo>
                    <a:pt x="255" y="155"/>
                  </a:lnTo>
                  <a:lnTo>
                    <a:pt x="261" y="155"/>
                  </a:lnTo>
                  <a:lnTo>
                    <a:pt x="267" y="161"/>
                  </a:lnTo>
                  <a:lnTo>
                    <a:pt x="267" y="174"/>
                  </a:lnTo>
                  <a:lnTo>
                    <a:pt x="274" y="174"/>
                  </a:lnTo>
                  <a:lnTo>
                    <a:pt x="280" y="174"/>
                  </a:lnTo>
                  <a:lnTo>
                    <a:pt x="286" y="161"/>
                  </a:lnTo>
                  <a:lnTo>
                    <a:pt x="286" y="155"/>
                  </a:lnTo>
                  <a:lnTo>
                    <a:pt x="299" y="155"/>
                  </a:lnTo>
                  <a:lnTo>
                    <a:pt x="312" y="149"/>
                  </a:lnTo>
                  <a:lnTo>
                    <a:pt x="318" y="143"/>
                  </a:lnTo>
                  <a:lnTo>
                    <a:pt x="318" y="136"/>
                  </a:lnTo>
                  <a:lnTo>
                    <a:pt x="325" y="130"/>
                  </a:lnTo>
                  <a:lnTo>
                    <a:pt x="331" y="124"/>
                  </a:lnTo>
                  <a:lnTo>
                    <a:pt x="344" y="124"/>
                  </a:lnTo>
                  <a:lnTo>
                    <a:pt x="344" y="130"/>
                  </a:lnTo>
                  <a:lnTo>
                    <a:pt x="350" y="124"/>
                  </a:lnTo>
                  <a:lnTo>
                    <a:pt x="350" y="112"/>
                  </a:lnTo>
                  <a:lnTo>
                    <a:pt x="356" y="105"/>
                  </a:lnTo>
                  <a:lnTo>
                    <a:pt x="363" y="105"/>
                  </a:lnTo>
                  <a:lnTo>
                    <a:pt x="369" y="99"/>
                  </a:lnTo>
                  <a:lnTo>
                    <a:pt x="375" y="93"/>
                  </a:lnTo>
                  <a:lnTo>
                    <a:pt x="382" y="87"/>
                  </a:lnTo>
                  <a:lnTo>
                    <a:pt x="388" y="93"/>
                  </a:lnTo>
                  <a:lnTo>
                    <a:pt x="394" y="93"/>
                  </a:lnTo>
                  <a:lnTo>
                    <a:pt x="394" y="80"/>
                  </a:lnTo>
                  <a:lnTo>
                    <a:pt x="407" y="80"/>
                  </a:lnTo>
                  <a:lnTo>
                    <a:pt x="426" y="80"/>
                  </a:lnTo>
                  <a:lnTo>
                    <a:pt x="439" y="93"/>
                  </a:lnTo>
                  <a:lnTo>
                    <a:pt x="439" y="99"/>
                  </a:lnTo>
                  <a:lnTo>
                    <a:pt x="445" y="105"/>
                  </a:lnTo>
                  <a:lnTo>
                    <a:pt x="452" y="112"/>
                  </a:lnTo>
                  <a:lnTo>
                    <a:pt x="452" y="124"/>
                  </a:lnTo>
                  <a:lnTo>
                    <a:pt x="445" y="130"/>
                  </a:lnTo>
                  <a:lnTo>
                    <a:pt x="445" y="136"/>
                  </a:lnTo>
                  <a:lnTo>
                    <a:pt x="439" y="143"/>
                  </a:lnTo>
                  <a:lnTo>
                    <a:pt x="433" y="149"/>
                  </a:lnTo>
                  <a:lnTo>
                    <a:pt x="439" y="161"/>
                  </a:lnTo>
                  <a:lnTo>
                    <a:pt x="445" y="155"/>
                  </a:lnTo>
                  <a:lnTo>
                    <a:pt x="452" y="155"/>
                  </a:lnTo>
                  <a:lnTo>
                    <a:pt x="458" y="143"/>
                  </a:lnTo>
                  <a:lnTo>
                    <a:pt x="464" y="136"/>
                  </a:lnTo>
                  <a:lnTo>
                    <a:pt x="471" y="130"/>
                  </a:lnTo>
                  <a:lnTo>
                    <a:pt x="477" y="130"/>
                  </a:lnTo>
                  <a:lnTo>
                    <a:pt x="490" y="130"/>
                  </a:lnTo>
                  <a:lnTo>
                    <a:pt x="496" y="136"/>
                  </a:lnTo>
                  <a:lnTo>
                    <a:pt x="509" y="143"/>
                  </a:lnTo>
                  <a:lnTo>
                    <a:pt x="515" y="143"/>
                  </a:lnTo>
                  <a:lnTo>
                    <a:pt x="522" y="143"/>
                  </a:lnTo>
                  <a:lnTo>
                    <a:pt x="528" y="143"/>
                  </a:lnTo>
                  <a:lnTo>
                    <a:pt x="534" y="136"/>
                  </a:lnTo>
                  <a:lnTo>
                    <a:pt x="541" y="136"/>
                  </a:lnTo>
                  <a:lnTo>
                    <a:pt x="553" y="149"/>
                  </a:lnTo>
                  <a:lnTo>
                    <a:pt x="553" y="143"/>
                  </a:lnTo>
                  <a:lnTo>
                    <a:pt x="560" y="143"/>
                  </a:lnTo>
                  <a:lnTo>
                    <a:pt x="560" y="130"/>
                  </a:lnTo>
                  <a:lnTo>
                    <a:pt x="566" y="130"/>
                  </a:lnTo>
                  <a:lnTo>
                    <a:pt x="572" y="130"/>
                  </a:lnTo>
                  <a:lnTo>
                    <a:pt x="579" y="130"/>
                  </a:lnTo>
                  <a:lnTo>
                    <a:pt x="585" y="124"/>
                  </a:lnTo>
                  <a:lnTo>
                    <a:pt x="585" y="118"/>
                  </a:lnTo>
                  <a:lnTo>
                    <a:pt x="591" y="118"/>
                  </a:lnTo>
                  <a:lnTo>
                    <a:pt x="591" y="112"/>
                  </a:lnTo>
                  <a:lnTo>
                    <a:pt x="598" y="112"/>
                  </a:lnTo>
                  <a:lnTo>
                    <a:pt x="604" y="112"/>
                  </a:lnTo>
                  <a:lnTo>
                    <a:pt x="617" y="112"/>
                  </a:lnTo>
                  <a:lnTo>
                    <a:pt x="623" y="112"/>
                  </a:lnTo>
                  <a:lnTo>
                    <a:pt x="630" y="118"/>
                  </a:lnTo>
                  <a:lnTo>
                    <a:pt x="636" y="124"/>
                  </a:lnTo>
                  <a:lnTo>
                    <a:pt x="642" y="124"/>
                  </a:lnTo>
                  <a:lnTo>
                    <a:pt x="649" y="124"/>
                  </a:lnTo>
                  <a:lnTo>
                    <a:pt x="655" y="124"/>
                  </a:lnTo>
                  <a:lnTo>
                    <a:pt x="661" y="124"/>
                  </a:lnTo>
                  <a:lnTo>
                    <a:pt x="661" y="130"/>
                  </a:lnTo>
                  <a:lnTo>
                    <a:pt x="661" y="136"/>
                  </a:lnTo>
                  <a:lnTo>
                    <a:pt x="661" y="143"/>
                  </a:lnTo>
                  <a:lnTo>
                    <a:pt x="661" y="149"/>
                  </a:lnTo>
                  <a:lnTo>
                    <a:pt x="655" y="149"/>
                  </a:lnTo>
                  <a:lnTo>
                    <a:pt x="649" y="155"/>
                  </a:lnTo>
                  <a:lnTo>
                    <a:pt x="642" y="155"/>
                  </a:lnTo>
                  <a:lnTo>
                    <a:pt x="642" y="161"/>
                  </a:lnTo>
                  <a:lnTo>
                    <a:pt x="642" y="168"/>
                  </a:lnTo>
                  <a:lnTo>
                    <a:pt x="636" y="174"/>
                  </a:lnTo>
                  <a:lnTo>
                    <a:pt x="636" y="180"/>
                  </a:lnTo>
                  <a:lnTo>
                    <a:pt x="642" y="180"/>
                  </a:lnTo>
                  <a:lnTo>
                    <a:pt x="649" y="180"/>
                  </a:lnTo>
                  <a:lnTo>
                    <a:pt x="661" y="174"/>
                  </a:lnTo>
                  <a:lnTo>
                    <a:pt x="661" y="168"/>
                  </a:lnTo>
                  <a:lnTo>
                    <a:pt x="668" y="155"/>
                  </a:lnTo>
                  <a:lnTo>
                    <a:pt x="674" y="155"/>
                  </a:lnTo>
                  <a:lnTo>
                    <a:pt x="674" y="149"/>
                  </a:lnTo>
                  <a:lnTo>
                    <a:pt x="687" y="143"/>
                  </a:lnTo>
                  <a:lnTo>
                    <a:pt x="693" y="136"/>
                  </a:lnTo>
                  <a:lnTo>
                    <a:pt x="700" y="136"/>
                  </a:lnTo>
                  <a:lnTo>
                    <a:pt x="706" y="136"/>
                  </a:lnTo>
                  <a:lnTo>
                    <a:pt x="719" y="143"/>
                  </a:lnTo>
                  <a:lnTo>
                    <a:pt x="725" y="143"/>
                  </a:lnTo>
                  <a:lnTo>
                    <a:pt x="731" y="143"/>
                  </a:lnTo>
                  <a:lnTo>
                    <a:pt x="744" y="143"/>
                  </a:lnTo>
                  <a:lnTo>
                    <a:pt x="750" y="143"/>
                  </a:lnTo>
                  <a:lnTo>
                    <a:pt x="763" y="143"/>
                  </a:lnTo>
                  <a:lnTo>
                    <a:pt x="769" y="149"/>
                  </a:lnTo>
                  <a:lnTo>
                    <a:pt x="776" y="155"/>
                  </a:lnTo>
                  <a:lnTo>
                    <a:pt x="776" y="161"/>
                  </a:lnTo>
                  <a:lnTo>
                    <a:pt x="776" y="174"/>
                  </a:lnTo>
                  <a:lnTo>
                    <a:pt x="776" y="186"/>
                  </a:lnTo>
                  <a:lnTo>
                    <a:pt x="782" y="193"/>
                  </a:lnTo>
                  <a:lnTo>
                    <a:pt x="782" y="205"/>
                  </a:lnTo>
                  <a:lnTo>
                    <a:pt x="788" y="205"/>
                  </a:lnTo>
                  <a:lnTo>
                    <a:pt x="795" y="205"/>
                  </a:lnTo>
                  <a:lnTo>
                    <a:pt x="795" y="199"/>
                  </a:lnTo>
                  <a:lnTo>
                    <a:pt x="795" y="193"/>
                  </a:lnTo>
                  <a:lnTo>
                    <a:pt x="795" y="186"/>
                  </a:lnTo>
                  <a:lnTo>
                    <a:pt x="788" y="180"/>
                  </a:lnTo>
                  <a:lnTo>
                    <a:pt x="788" y="174"/>
                  </a:lnTo>
                  <a:lnTo>
                    <a:pt x="788" y="168"/>
                  </a:lnTo>
                  <a:lnTo>
                    <a:pt x="788" y="155"/>
                  </a:lnTo>
                  <a:lnTo>
                    <a:pt x="788" y="143"/>
                  </a:lnTo>
                  <a:lnTo>
                    <a:pt x="795" y="136"/>
                  </a:lnTo>
                  <a:lnTo>
                    <a:pt x="801" y="130"/>
                  </a:lnTo>
                  <a:lnTo>
                    <a:pt x="808" y="130"/>
                  </a:lnTo>
                  <a:lnTo>
                    <a:pt x="814" y="130"/>
                  </a:lnTo>
                  <a:lnTo>
                    <a:pt x="820" y="130"/>
                  </a:lnTo>
                  <a:lnTo>
                    <a:pt x="827" y="130"/>
                  </a:lnTo>
                  <a:lnTo>
                    <a:pt x="833" y="136"/>
                  </a:lnTo>
                  <a:lnTo>
                    <a:pt x="839" y="143"/>
                  </a:lnTo>
                  <a:lnTo>
                    <a:pt x="839" y="155"/>
                  </a:lnTo>
                  <a:lnTo>
                    <a:pt x="846" y="161"/>
                  </a:lnTo>
                  <a:lnTo>
                    <a:pt x="846" y="168"/>
                  </a:lnTo>
                  <a:lnTo>
                    <a:pt x="852" y="180"/>
                  </a:lnTo>
                  <a:lnTo>
                    <a:pt x="852" y="193"/>
                  </a:lnTo>
                  <a:lnTo>
                    <a:pt x="858" y="193"/>
                  </a:lnTo>
                  <a:lnTo>
                    <a:pt x="871" y="193"/>
                  </a:lnTo>
                  <a:lnTo>
                    <a:pt x="877" y="199"/>
                  </a:lnTo>
                  <a:lnTo>
                    <a:pt x="884" y="199"/>
                  </a:lnTo>
                  <a:lnTo>
                    <a:pt x="890" y="193"/>
                  </a:lnTo>
                  <a:lnTo>
                    <a:pt x="897" y="186"/>
                  </a:lnTo>
                  <a:lnTo>
                    <a:pt x="903" y="186"/>
                  </a:lnTo>
                  <a:lnTo>
                    <a:pt x="909" y="180"/>
                  </a:lnTo>
                  <a:lnTo>
                    <a:pt x="916" y="180"/>
                  </a:lnTo>
                  <a:lnTo>
                    <a:pt x="922" y="168"/>
                  </a:lnTo>
                  <a:lnTo>
                    <a:pt x="928" y="161"/>
                  </a:lnTo>
                  <a:lnTo>
                    <a:pt x="935" y="155"/>
                  </a:lnTo>
                  <a:lnTo>
                    <a:pt x="941" y="155"/>
                  </a:lnTo>
                  <a:lnTo>
                    <a:pt x="947" y="155"/>
                  </a:lnTo>
                  <a:lnTo>
                    <a:pt x="954" y="149"/>
                  </a:lnTo>
                  <a:lnTo>
                    <a:pt x="954" y="143"/>
                  </a:lnTo>
                  <a:lnTo>
                    <a:pt x="960" y="130"/>
                  </a:lnTo>
                  <a:lnTo>
                    <a:pt x="960" y="124"/>
                  </a:lnTo>
                  <a:lnTo>
                    <a:pt x="960" y="118"/>
                  </a:lnTo>
                  <a:lnTo>
                    <a:pt x="960" y="112"/>
                  </a:lnTo>
                  <a:lnTo>
                    <a:pt x="960" y="105"/>
                  </a:lnTo>
                  <a:lnTo>
                    <a:pt x="960" y="99"/>
                  </a:lnTo>
                  <a:lnTo>
                    <a:pt x="960" y="93"/>
                  </a:lnTo>
                  <a:lnTo>
                    <a:pt x="960" y="87"/>
                  </a:lnTo>
                  <a:lnTo>
                    <a:pt x="954" y="80"/>
                  </a:lnTo>
                  <a:lnTo>
                    <a:pt x="954" y="74"/>
                  </a:lnTo>
                  <a:lnTo>
                    <a:pt x="960" y="68"/>
                  </a:lnTo>
                  <a:lnTo>
                    <a:pt x="960" y="62"/>
                  </a:lnTo>
                  <a:lnTo>
                    <a:pt x="960" y="56"/>
                  </a:lnTo>
                  <a:lnTo>
                    <a:pt x="960" y="49"/>
                  </a:lnTo>
                  <a:lnTo>
                    <a:pt x="960" y="43"/>
                  </a:lnTo>
                  <a:lnTo>
                    <a:pt x="960" y="31"/>
                  </a:lnTo>
                  <a:lnTo>
                    <a:pt x="966" y="31"/>
                  </a:lnTo>
                  <a:lnTo>
                    <a:pt x="973" y="24"/>
                  </a:lnTo>
                  <a:lnTo>
                    <a:pt x="973" y="12"/>
                  </a:lnTo>
                  <a:lnTo>
                    <a:pt x="979" y="12"/>
                  </a:lnTo>
                  <a:lnTo>
                    <a:pt x="986" y="6"/>
                  </a:lnTo>
                  <a:lnTo>
                    <a:pt x="992" y="0"/>
                  </a:lnTo>
                  <a:lnTo>
                    <a:pt x="998" y="0"/>
                  </a:lnTo>
                  <a:lnTo>
                    <a:pt x="1005" y="0"/>
                  </a:lnTo>
                  <a:lnTo>
                    <a:pt x="1011" y="0"/>
                  </a:lnTo>
                  <a:lnTo>
                    <a:pt x="1024" y="0"/>
                  </a:lnTo>
                  <a:lnTo>
                    <a:pt x="1030" y="0"/>
                  </a:lnTo>
                  <a:lnTo>
                    <a:pt x="1043" y="6"/>
                  </a:lnTo>
                  <a:lnTo>
                    <a:pt x="1049" y="12"/>
                  </a:lnTo>
                  <a:lnTo>
                    <a:pt x="1055" y="12"/>
                  </a:lnTo>
                  <a:lnTo>
                    <a:pt x="1062" y="18"/>
                  </a:lnTo>
                  <a:lnTo>
                    <a:pt x="1068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589720" y="1373040"/>
              <a:ext cx="1633320" cy="2163960"/>
            </a:xfrm>
            <a:custGeom>
              <a:avLst/>
              <a:gdLst/>
              <a:ahLst/>
              <a:rect l="l" t="t" r="r" b="b"/>
              <a:pathLst>
                <a:path w="1029" h="1363">
                  <a:moveTo>
                    <a:pt x="184" y="0"/>
                  </a:moveTo>
                  <a:lnTo>
                    <a:pt x="191" y="6"/>
                  </a:lnTo>
                  <a:lnTo>
                    <a:pt x="197" y="19"/>
                  </a:lnTo>
                  <a:lnTo>
                    <a:pt x="203" y="31"/>
                  </a:lnTo>
                  <a:lnTo>
                    <a:pt x="210" y="38"/>
                  </a:lnTo>
                  <a:lnTo>
                    <a:pt x="216" y="38"/>
                  </a:lnTo>
                  <a:lnTo>
                    <a:pt x="222" y="38"/>
                  </a:lnTo>
                  <a:lnTo>
                    <a:pt x="229" y="38"/>
                  </a:lnTo>
                  <a:lnTo>
                    <a:pt x="229" y="31"/>
                  </a:lnTo>
                  <a:lnTo>
                    <a:pt x="216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9" y="6"/>
                  </a:lnTo>
                  <a:lnTo>
                    <a:pt x="229" y="13"/>
                  </a:lnTo>
                  <a:lnTo>
                    <a:pt x="235" y="13"/>
                  </a:lnTo>
                  <a:lnTo>
                    <a:pt x="241" y="19"/>
                  </a:lnTo>
                  <a:lnTo>
                    <a:pt x="248" y="19"/>
                  </a:lnTo>
                  <a:lnTo>
                    <a:pt x="260" y="19"/>
                  </a:lnTo>
                  <a:lnTo>
                    <a:pt x="273" y="38"/>
                  </a:lnTo>
                  <a:lnTo>
                    <a:pt x="273" y="69"/>
                  </a:lnTo>
                  <a:lnTo>
                    <a:pt x="273" y="87"/>
                  </a:lnTo>
                  <a:lnTo>
                    <a:pt x="273" y="106"/>
                  </a:lnTo>
                  <a:lnTo>
                    <a:pt x="280" y="125"/>
                  </a:lnTo>
                  <a:lnTo>
                    <a:pt x="286" y="137"/>
                  </a:lnTo>
                  <a:lnTo>
                    <a:pt x="292" y="156"/>
                  </a:lnTo>
                  <a:lnTo>
                    <a:pt x="292" y="181"/>
                  </a:lnTo>
                  <a:lnTo>
                    <a:pt x="292" y="218"/>
                  </a:lnTo>
                  <a:lnTo>
                    <a:pt x="299" y="237"/>
                  </a:lnTo>
                  <a:lnTo>
                    <a:pt x="299" y="255"/>
                  </a:lnTo>
                  <a:lnTo>
                    <a:pt x="305" y="280"/>
                  </a:lnTo>
                  <a:lnTo>
                    <a:pt x="311" y="299"/>
                  </a:lnTo>
                  <a:lnTo>
                    <a:pt x="324" y="330"/>
                  </a:lnTo>
                  <a:lnTo>
                    <a:pt x="337" y="361"/>
                  </a:lnTo>
                  <a:lnTo>
                    <a:pt x="343" y="374"/>
                  </a:lnTo>
                  <a:lnTo>
                    <a:pt x="349" y="380"/>
                  </a:lnTo>
                  <a:lnTo>
                    <a:pt x="356" y="399"/>
                  </a:lnTo>
                  <a:lnTo>
                    <a:pt x="362" y="430"/>
                  </a:lnTo>
                  <a:lnTo>
                    <a:pt x="369" y="442"/>
                  </a:lnTo>
                  <a:lnTo>
                    <a:pt x="381" y="448"/>
                  </a:lnTo>
                  <a:lnTo>
                    <a:pt x="388" y="448"/>
                  </a:lnTo>
                  <a:lnTo>
                    <a:pt x="400" y="455"/>
                  </a:lnTo>
                  <a:lnTo>
                    <a:pt x="407" y="455"/>
                  </a:lnTo>
                  <a:lnTo>
                    <a:pt x="445" y="473"/>
                  </a:lnTo>
                  <a:lnTo>
                    <a:pt x="489" y="492"/>
                  </a:lnTo>
                  <a:lnTo>
                    <a:pt x="527" y="504"/>
                  </a:lnTo>
                  <a:lnTo>
                    <a:pt x="572" y="517"/>
                  </a:lnTo>
                  <a:lnTo>
                    <a:pt x="623" y="536"/>
                  </a:lnTo>
                  <a:lnTo>
                    <a:pt x="635" y="542"/>
                  </a:lnTo>
                  <a:lnTo>
                    <a:pt x="654" y="554"/>
                  </a:lnTo>
                  <a:lnTo>
                    <a:pt x="680" y="585"/>
                  </a:lnTo>
                  <a:lnTo>
                    <a:pt x="712" y="616"/>
                  </a:lnTo>
                  <a:lnTo>
                    <a:pt x="743" y="648"/>
                  </a:lnTo>
                  <a:lnTo>
                    <a:pt x="763" y="660"/>
                  </a:lnTo>
                  <a:lnTo>
                    <a:pt x="782" y="660"/>
                  </a:lnTo>
                  <a:lnTo>
                    <a:pt x="807" y="660"/>
                  </a:lnTo>
                  <a:lnTo>
                    <a:pt x="832" y="666"/>
                  </a:lnTo>
                  <a:lnTo>
                    <a:pt x="845" y="672"/>
                  </a:lnTo>
                  <a:lnTo>
                    <a:pt x="858" y="685"/>
                  </a:lnTo>
                  <a:lnTo>
                    <a:pt x="864" y="697"/>
                  </a:lnTo>
                  <a:lnTo>
                    <a:pt x="871" y="716"/>
                  </a:lnTo>
                  <a:lnTo>
                    <a:pt x="871" y="735"/>
                  </a:lnTo>
                  <a:lnTo>
                    <a:pt x="883" y="747"/>
                  </a:lnTo>
                  <a:lnTo>
                    <a:pt x="896" y="766"/>
                  </a:lnTo>
                  <a:lnTo>
                    <a:pt x="909" y="785"/>
                  </a:lnTo>
                  <a:lnTo>
                    <a:pt x="915" y="797"/>
                  </a:lnTo>
                  <a:lnTo>
                    <a:pt x="921" y="816"/>
                  </a:lnTo>
                  <a:lnTo>
                    <a:pt x="947" y="859"/>
                  </a:lnTo>
                  <a:lnTo>
                    <a:pt x="960" y="890"/>
                  </a:lnTo>
                  <a:lnTo>
                    <a:pt x="991" y="996"/>
                  </a:lnTo>
                  <a:lnTo>
                    <a:pt x="1029" y="990"/>
                  </a:lnTo>
                  <a:lnTo>
                    <a:pt x="1010" y="996"/>
                  </a:lnTo>
                  <a:lnTo>
                    <a:pt x="991" y="1009"/>
                  </a:lnTo>
                  <a:lnTo>
                    <a:pt x="979" y="1015"/>
                  </a:lnTo>
                  <a:lnTo>
                    <a:pt x="979" y="1040"/>
                  </a:lnTo>
                  <a:lnTo>
                    <a:pt x="966" y="1058"/>
                  </a:lnTo>
                  <a:lnTo>
                    <a:pt x="960" y="1077"/>
                  </a:lnTo>
                  <a:lnTo>
                    <a:pt x="947" y="1114"/>
                  </a:lnTo>
                  <a:lnTo>
                    <a:pt x="940" y="1139"/>
                  </a:lnTo>
                  <a:lnTo>
                    <a:pt x="940" y="1152"/>
                  </a:lnTo>
                  <a:lnTo>
                    <a:pt x="940" y="1158"/>
                  </a:lnTo>
                  <a:lnTo>
                    <a:pt x="940" y="1183"/>
                  </a:lnTo>
                  <a:lnTo>
                    <a:pt x="940" y="1214"/>
                  </a:lnTo>
                  <a:lnTo>
                    <a:pt x="947" y="1239"/>
                  </a:lnTo>
                  <a:lnTo>
                    <a:pt x="947" y="1251"/>
                  </a:lnTo>
                  <a:lnTo>
                    <a:pt x="947" y="1270"/>
                  </a:lnTo>
                  <a:lnTo>
                    <a:pt x="940" y="1289"/>
                  </a:lnTo>
                  <a:lnTo>
                    <a:pt x="934" y="1301"/>
                  </a:lnTo>
                  <a:lnTo>
                    <a:pt x="921" y="1307"/>
                  </a:lnTo>
                  <a:lnTo>
                    <a:pt x="902" y="1307"/>
                  </a:lnTo>
                  <a:lnTo>
                    <a:pt x="890" y="1307"/>
                  </a:lnTo>
                  <a:lnTo>
                    <a:pt x="871" y="1320"/>
                  </a:lnTo>
                  <a:lnTo>
                    <a:pt x="858" y="1326"/>
                  </a:lnTo>
                  <a:lnTo>
                    <a:pt x="852" y="1339"/>
                  </a:lnTo>
                  <a:lnTo>
                    <a:pt x="826" y="1351"/>
                  </a:lnTo>
                  <a:lnTo>
                    <a:pt x="794" y="1357"/>
                  </a:lnTo>
                  <a:lnTo>
                    <a:pt x="775" y="1363"/>
                  </a:lnTo>
                  <a:lnTo>
                    <a:pt x="756" y="1363"/>
                  </a:lnTo>
                  <a:lnTo>
                    <a:pt x="724" y="1363"/>
                  </a:lnTo>
                  <a:lnTo>
                    <a:pt x="712" y="1363"/>
                  </a:lnTo>
                  <a:lnTo>
                    <a:pt x="705" y="1351"/>
                  </a:lnTo>
                  <a:lnTo>
                    <a:pt x="699" y="1339"/>
                  </a:lnTo>
                  <a:lnTo>
                    <a:pt x="699" y="1326"/>
                  </a:lnTo>
                  <a:lnTo>
                    <a:pt x="693" y="1314"/>
                  </a:lnTo>
                  <a:lnTo>
                    <a:pt x="693" y="1301"/>
                  </a:lnTo>
                  <a:lnTo>
                    <a:pt x="680" y="1295"/>
                  </a:lnTo>
                  <a:lnTo>
                    <a:pt x="654" y="1283"/>
                  </a:lnTo>
                  <a:lnTo>
                    <a:pt x="629" y="1276"/>
                  </a:lnTo>
                  <a:lnTo>
                    <a:pt x="597" y="1270"/>
                  </a:lnTo>
                  <a:lnTo>
                    <a:pt x="572" y="1270"/>
                  </a:lnTo>
                  <a:lnTo>
                    <a:pt x="546" y="1258"/>
                  </a:lnTo>
                  <a:lnTo>
                    <a:pt x="515" y="1245"/>
                  </a:lnTo>
                  <a:lnTo>
                    <a:pt x="502" y="1233"/>
                  </a:lnTo>
                  <a:lnTo>
                    <a:pt x="483" y="1220"/>
                  </a:lnTo>
                  <a:lnTo>
                    <a:pt x="457" y="1214"/>
                  </a:lnTo>
                  <a:lnTo>
                    <a:pt x="432" y="1202"/>
                  </a:lnTo>
                  <a:lnTo>
                    <a:pt x="419" y="1189"/>
                  </a:lnTo>
                  <a:lnTo>
                    <a:pt x="407" y="1170"/>
                  </a:lnTo>
                  <a:lnTo>
                    <a:pt x="400" y="1164"/>
                  </a:lnTo>
                  <a:lnTo>
                    <a:pt x="394" y="1158"/>
                  </a:lnTo>
                  <a:lnTo>
                    <a:pt x="381" y="1152"/>
                  </a:lnTo>
                  <a:lnTo>
                    <a:pt x="362" y="1152"/>
                  </a:lnTo>
                  <a:lnTo>
                    <a:pt x="337" y="1152"/>
                  </a:lnTo>
                  <a:lnTo>
                    <a:pt x="299" y="1139"/>
                  </a:lnTo>
                  <a:lnTo>
                    <a:pt x="267" y="1127"/>
                  </a:lnTo>
                  <a:lnTo>
                    <a:pt x="241" y="1114"/>
                  </a:lnTo>
                  <a:lnTo>
                    <a:pt x="229" y="1102"/>
                  </a:lnTo>
                  <a:lnTo>
                    <a:pt x="216" y="1096"/>
                  </a:lnTo>
                  <a:lnTo>
                    <a:pt x="203" y="1090"/>
                  </a:lnTo>
                  <a:lnTo>
                    <a:pt x="184" y="1083"/>
                  </a:lnTo>
                  <a:lnTo>
                    <a:pt x="165" y="1083"/>
                  </a:lnTo>
                  <a:lnTo>
                    <a:pt x="152" y="1077"/>
                  </a:lnTo>
                  <a:lnTo>
                    <a:pt x="140" y="1065"/>
                  </a:lnTo>
                  <a:lnTo>
                    <a:pt x="127" y="1052"/>
                  </a:lnTo>
                  <a:lnTo>
                    <a:pt x="121" y="1034"/>
                  </a:lnTo>
                  <a:lnTo>
                    <a:pt x="108" y="1015"/>
                  </a:lnTo>
                  <a:lnTo>
                    <a:pt x="102" y="996"/>
                  </a:lnTo>
                  <a:lnTo>
                    <a:pt x="89" y="984"/>
                  </a:lnTo>
                  <a:lnTo>
                    <a:pt x="76" y="971"/>
                  </a:lnTo>
                  <a:lnTo>
                    <a:pt x="70" y="965"/>
                  </a:lnTo>
                  <a:lnTo>
                    <a:pt x="51" y="965"/>
                  </a:lnTo>
                  <a:lnTo>
                    <a:pt x="38" y="959"/>
                  </a:lnTo>
                  <a:lnTo>
                    <a:pt x="32" y="946"/>
                  </a:lnTo>
                  <a:lnTo>
                    <a:pt x="32" y="934"/>
                  </a:lnTo>
                  <a:lnTo>
                    <a:pt x="32" y="928"/>
                  </a:lnTo>
                  <a:lnTo>
                    <a:pt x="32" y="921"/>
                  </a:lnTo>
                  <a:lnTo>
                    <a:pt x="32" y="903"/>
                  </a:lnTo>
                  <a:lnTo>
                    <a:pt x="32" y="890"/>
                  </a:lnTo>
                  <a:lnTo>
                    <a:pt x="25" y="884"/>
                  </a:lnTo>
                  <a:lnTo>
                    <a:pt x="19" y="878"/>
                  </a:lnTo>
                  <a:lnTo>
                    <a:pt x="13" y="865"/>
                  </a:lnTo>
                  <a:lnTo>
                    <a:pt x="6" y="853"/>
                  </a:lnTo>
                  <a:lnTo>
                    <a:pt x="0" y="847"/>
                  </a:lnTo>
                  <a:lnTo>
                    <a:pt x="6" y="809"/>
                  </a:lnTo>
                  <a:lnTo>
                    <a:pt x="19" y="785"/>
                  </a:lnTo>
                  <a:lnTo>
                    <a:pt x="25" y="753"/>
                  </a:lnTo>
                  <a:lnTo>
                    <a:pt x="32" y="729"/>
                  </a:lnTo>
                  <a:lnTo>
                    <a:pt x="38" y="697"/>
                  </a:lnTo>
                  <a:lnTo>
                    <a:pt x="38" y="666"/>
                  </a:lnTo>
                  <a:lnTo>
                    <a:pt x="38" y="629"/>
                  </a:lnTo>
                  <a:lnTo>
                    <a:pt x="32" y="610"/>
                  </a:lnTo>
                  <a:lnTo>
                    <a:pt x="32" y="585"/>
                  </a:lnTo>
                  <a:lnTo>
                    <a:pt x="32" y="554"/>
                  </a:lnTo>
                  <a:lnTo>
                    <a:pt x="38" y="529"/>
                  </a:lnTo>
                  <a:lnTo>
                    <a:pt x="44" y="498"/>
                  </a:lnTo>
                  <a:lnTo>
                    <a:pt x="44" y="461"/>
                  </a:lnTo>
                  <a:lnTo>
                    <a:pt x="44" y="442"/>
                  </a:lnTo>
                  <a:lnTo>
                    <a:pt x="38" y="424"/>
                  </a:lnTo>
                  <a:lnTo>
                    <a:pt x="38" y="411"/>
                  </a:lnTo>
                  <a:lnTo>
                    <a:pt x="32" y="399"/>
                  </a:lnTo>
                  <a:lnTo>
                    <a:pt x="25" y="386"/>
                  </a:lnTo>
                  <a:lnTo>
                    <a:pt x="19" y="380"/>
                  </a:lnTo>
                  <a:lnTo>
                    <a:pt x="19" y="361"/>
                  </a:lnTo>
                  <a:lnTo>
                    <a:pt x="19" y="355"/>
                  </a:lnTo>
                  <a:lnTo>
                    <a:pt x="25" y="343"/>
                  </a:lnTo>
                  <a:lnTo>
                    <a:pt x="32" y="324"/>
                  </a:lnTo>
                  <a:lnTo>
                    <a:pt x="44" y="311"/>
                  </a:lnTo>
                  <a:lnTo>
                    <a:pt x="57" y="287"/>
                  </a:lnTo>
                  <a:lnTo>
                    <a:pt x="70" y="268"/>
                  </a:lnTo>
                  <a:lnTo>
                    <a:pt x="76" y="243"/>
                  </a:lnTo>
                  <a:lnTo>
                    <a:pt x="76" y="231"/>
                  </a:lnTo>
                  <a:lnTo>
                    <a:pt x="89" y="199"/>
                  </a:lnTo>
                  <a:lnTo>
                    <a:pt x="108" y="150"/>
                  </a:lnTo>
                  <a:lnTo>
                    <a:pt x="114" y="131"/>
                  </a:lnTo>
                  <a:lnTo>
                    <a:pt x="133" y="100"/>
                  </a:lnTo>
                  <a:lnTo>
                    <a:pt x="146" y="81"/>
                  </a:lnTo>
                  <a:lnTo>
                    <a:pt x="165" y="44"/>
                  </a:lnTo>
                  <a:lnTo>
                    <a:pt x="184" y="1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eeac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22800" y="1433520"/>
              <a:ext cx="1866960" cy="1520640"/>
            </a:xfrm>
            <a:custGeom>
              <a:avLst/>
              <a:gdLst/>
              <a:ahLst/>
              <a:rect l="l" t="t" r="r" b="b"/>
              <a:pathLst>
                <a:path w="1176" h="958">
                  <a:moveTo>
                    <a:pt x="0" y="0"/>
                  </a:moveTo>
                  <a:lnTo>
                    <a:pt x="7" y="0"/>
                  </a:lnTo>
                  <a:lnTo>
                    <a:pt x="19" y="6"/>
                  </a:lnTo>
                  <a:lnTo>
                    <a:pt x="32" y="12"/>
                  </a:lnTo>
                  <a:lnTo>
                    <a:pt x="45" y="18"/>
                  </a:lnTo>
                  <a:lnTo>
                    <a:pt x="51" y="18"/>
                  </a:lnTo>
                  <a:lnTo>
                    <a:pt x="57" y="24"/>
                  </a:lnTo>
                  <a:lnTo>
                    <a:pt x="57" y="31"/>
                  </a:lnTo>
                  <a:lnTo>
                    <a:pt x="64" y="43"/>
                  </a:lnTo>
                  <a:lnTo>
                    <a:pt x="64" y="49"/>
                  </a:lnTo>
                  <a:lnTo>
                    <a:pt x="70" y="49"/>
                  </a:lnTo>
                  <a:lnTo>
                    <a:pt x="76" y="49"/>
                  </a:lnTo>
                  <a:lnTo>
                    <a:pt x="83" y="56"/>
                  </a:lnTo>
                  <a:lnTo>
                    <a:pt x="89" y="62"/>
                  </a:lnTo>
                  <a:lnTo>
                    <a:pt x="96" y="62"/>
                  </a:lnTo>
                  <a:lnTo>
                    <a:pt x="108" y="80"/>
                  </a:lnTo>
                  <a:lnTo>
                    <a:pt x="115" y="80"/>
                  </a:lnTo>
                  <a:lnTo>
                    <a:pt x="121" y="80"/>
                  </a:lnTo>
                  <a:lnTo>
                    <a:pt x="134" y="80"/>
                  </a:lnTo>
                  <a:lnTo>
                    <a:pt x="140" y="80"/>
                  </a:lnTo>
                  <a:lnTo>
                    <a:pt x="146" y="80"/>
                  </a:lnTo>
                  <a:lnTo>
                    <a:pt x="153" y="80"/>
                  </a:lnTo>
                  <a:lnTo>
                    <a:pt x="159" y="80"/>
                  </a:lnTo>
                  <a:lnTo>
                    <a:pt x="172" y="80"/>
                  </a:lnTo>
                  <a:lnTo>
                    <a:pt x="178" y="74"/>
                  </a:lnTo>
                  <a:lnTo>
                    <a:pt x="191" y="68"/>
                  </a:lnTo>
                  <a:lnTo>
                    <a:pt x="204" y="68"/>
                  </a:lnTo>
                  <a:lnTo>
                    <a:pt x="216" y="62"/>
                  </a:lnTo>
                  <a:lnTo>
                    <a:pt x="223" y="62"/>
                  </a:lnTo>
                  <a:lnTo>
                    <a:pt x="229" y="62"/>
                  </a:lnTo>
                  <a:lnTo>
                    <a:pt x="235" y="62"/>
                  </a:lnTo>
                  <a:lnTo>
                    <a:pt x="248" y="56"/>
                  </a:lnTo>
                  <a:lnTo>
                    <a:pt x="254" y="62"/>
                  </a:lnTo>
                  <a:lnTo>
                    <a:pt x="267" y="68"/>
                  </a:lnTo>
                  <a:lnTo>
                    <a:pt x="273" y="74"/>
                  </a:lnTo>
                  <a:lnTo>
                    <a:pt x="280" y="74"/>
                  </a:lnTo>
                  <a:lnTo>
                    <a:pt x="280" y="80"/>
                  </a:lnTo>
                  <a:lnTo>
                    <a:pt x="286" y="87"/>
                  </a:lnTo>
                  <a:lnTo>
                    <a:pt x="286" y="99"/>
                  </a:lnTo>
                  <a:lnTo>
                    <a:pt x="286" y="105"/>
                  </a:lnTo>
                  <a:lnTo>
                    <a:pt x="293" y="118"/>
                  </a:lnTo>
                  <a:lnTo>
                    <a:pt x="293" y="130"/>
                  </a:lnTo>
                  <a:lnTo>
                    <a:pt x="293" y="143"/>
                  </a:lnTo>
                  <a:lnTo>
                    <a:pt x="299" y="143"/>
                  </a:lnTo>
                  <a:lnTo>
                    <a:pt x="312" y="137"/>
                  </a:lnTo>
                  <a:lnTo>
                    <a:pt x="324" y="130"/>
                  </a:lnTo>
                  <a:lnTo>
                    <a:pt x="337" y="124"/>
                  </a:lnTo>
                  <a:lnTo>
                    <a:pt x="343" y="124"/>
                  </a:lnTo>
                  <a:lnTo>
                    <a:pt x="350" y="124"/>
                  </a:lnTo>
                  <a:lnTo>
                    <a:pt x="356" y="118"/>
                  </a:lnTo>
                  <a:lnTo>
                    <a:pt x="362" y="118"/>
                  </a:lnTo>
                  <a:lnTo>
                    <a:pt x="375" y="112"/>
                  </a:lnTo>
                  <a:lnTo>
                    <a:pt x="388" y="112"/>
                  </a:lnTo>
                  <a:lnTo>
                    <a:pt x="401" y="112"/>
                  </a:lnTo>
                  <a:lnTo>
                    <a:pt x="420" y="112"/>
                  </a:lnTo>
                  <a:lnTo>
                    <a:pt x="432" y="118"/>
                  </a:lnTo>
                  <a:lnTo>
                    <a:pt x="439" y="124"/>
                  </a:lnTo>
                  <a:lnTo>
                    <a:pt x="445" y="130"/>
                  </a:lnTo>
                  <a:lnTo>
                    <a:pt x="451" y="137"/>
                  </a:lnTo>
                  <a:lnTo>
                    <a:pt x="451" y="143"/>
                  </a:lnTo>
                  <a:lnTo>
                    <a:pt x="458" y="155"/>
                  </a:lnTo>
                  <a:lnTo>
                    <a:pt x="464" y="155"/>
                  </a:lnTo>
                  <a:lnTo>
                    <a:pt x="470" y="149"/>
                  </a:lnTo>
                  <a:lnTo>
                    <a:pt x="470" y="155"/>
                  </a:lnTo>
                  <a:lnTo>
                    <a:pt x="470" y="161"/>
                  </a:lnTo>
                  <a:lnTo>
                    <a:pt x="477" y="168"/>
                  </a:lnTo>
                  <a:lnTo>
                    <a:pt x="483" y="168"/>
                  </a:lnTo>
                  <a:lnTo>
                    <a:pt x="483" y="161"/>
                  </a:lnTo>
                  <a:lnTo>
                    <a:pt x="490" y="155"/>
                  </a:lnTo>
                  <a:lnTo>
                    <a:pt x="502" y="161"/>
                  </a:lnTo>
                  <a:lnTo>
                    <a:pt x="509" y="161"/>
                  </a:lnTo>
                  <a:lnTo>
                    <a:pt x="515" y="161"/>
                  </a:lnTo>
                  <a:lnTo>
                    <a:pt x="521" y="161"/>
                  </a:lnTo>
                  <a:lnTo>
                    <a:pt x="528" y="155"/>
                  </a:lnTo>
                  <a:lnTo>
                    <a:pt x="528" y="149"/>
                  </a:lnTo>
                  <a:lnTo>
                    <a:pt x="534" y="149"/>
                  </a:lnTo>
                  <a:lnTo>
                    <a:pt x="540" y="149"/>
                  </a:lnTo>
                  <a:lnTo>
                    <a:pt x="547" y="155"/>
                  </a:lnTo>
                  <a:lnTo>
                    <a:pt x="553" y="161"/>
                  </a:lnTo>
                  <a:lnTo>
                    <a:pt x="559" y="155"/>
                  </a:lnTo>
                  <a:lnTo>
                    <a:pt x="566" y="149"/>
                  </a:lnTo>
                  <a:lnTo>
                    <a:pt x="579" y="149"/>
                  </a:lnTo>
                  <a:lnTo>
                    <a:pt x="585" y="149"/>
                  </a:lnTo>
                  <a:lnTo>
                    <a:pt x="591" y="149"/>
                  </a:lnTo>
                  <a:lnTo>
                    <a:pt x="591" y="143"/>
                  </a:lnTo>
                  <a:lnTo>
                    <a:pt x="598" y="137"/>
                  </a:lnTo>
                  <a:lnTo>
                    <a:pt x="604" y="137"/>
                  </a:lnTo>
                  <a:lnTo>
                    <a:pt x="610" y="143"/>
                  </a:lnTo>
                  <a:lnTo>
                    <a:pt x="617" y="143"/>
                  </a:lnTo>
                  <a:lnTo>
                    <a:pt x="623" y="124"/>
                  </a:lnTo>
                  <a:lnTo>
                    <a:pt x="629" y="118"/>
                  </a:lnTo>
                  <a:lnTo>
                    <a:pt x="636" y="112"/>
                  </a:lnTo>
                  <a:lnTo>
                    <a:pt x="642" y="105"/>
                  </a:lnTo>
                  <a:lnTo>
                    <a:pt x="655" y="105"/>
                  </a:lnTo>
                  <a:lnTo>
                    <a:pt x="661" y="105"/>
                  </a:lnTo>
                  <a:lnTo>
                    <a:pt x="667" y="105"/>
                  </a:lnTo>
                  <a:lnTo>
                    <a:pt x="674" y="118"/>
                  </a:lnTo>
                  <a:lnTo>
                    <a:pt x="687" y="124"/>
                  </a:lnTo>
                  <a:lnTo>
                    <a:pt x="693" y="124"/>
                  </a:lnTo>
                  <a:lnTo>
                    <a:pt x="699" y="124"/>
                  </a:lnTo>
                  <a:lnTo>
                    <a:pt x="712" y="124"/>
                  </a:lnTo>
                  <a:lnTo>
                    <a:pt x="718" y="118"/>
                  </a:lnTo>
                  <a:lnTo>
                    <a:pt x="725" y="112"/>
                  </a:lnTo>
                  <a:lnTo>
                    <a:pt x="731" y="112"/>
                  </a:lnTo>
                  <a:lnTo>
                    <a:pt x="744" y="118"/>
                  </a:lnTo>
                  <a:lnTo>
                    <a:pt x="750" y="118"/>
                  </a:lnTo>
                  <a:lnTo>
                    <a:pt x="756" y="118"/>
                  </a:lnTo>
                  <a:lnTo>
                    <a:pt x="763" y="118"/>
                  </a:lnTo>
                  <a:lnTo>
                    <a:pt x="776" y="118"/>
                  </a:lnTo>
                  <a:lnTo>
                    <a:pt x="769" y="124"/>
                  </a:lnTo>
                  <a:lnTo>
                    <a:pt x="763" y="124"/>
                  </a:lnTo>
                  <a:lnTo>
                    <a:pt x="756" y="124"/>
                  </a:lnTo>
                  <a:lnTo>
                    <a:pt x="763" y="124"/>
                  </a:lnTo>
                  <a:lnTo>
                    <a:pt x="763" y="130"/>
                  </a:lnTo>
                  <a:lnTo>
                    <a:pt x="769" y="130"/>
                  </a:lnTo>
                  <a:lnTo>
                    <a:pt x="769" y="137"/>
                  </a:lnTo>
                  <a:lnTo>
                    <a:pt x="763" y="137"/>
                  </a:lnTo>
                  <a:lnTo>
                    <a:pt x="763" y="149"/>
                  </a:lnTo>
                  <a:lnTo>
                    <a:pt x="756" y="155"/>
                  </a:lnTo>
                  <a:lnTo>
                    <a:pt x="750" y="161"/>
                  </a:lnTo>
                  <a:lnTo>
                    <a:pt x="750" y="168"/>
                  </a:lnTo>
                  <a:lnTo>
                    <a:pt x="744" y="168"/>
                  </a:lnTo>
                  <a:lnTo>
                    <a:pt x="744" y="174"/>
                  </a:lnTo>
                  <a:lnTo>
                    <a:pt x="737" y="174"/>
                  </a:lnTo>
                  <a:lnTo>
                    <a:pt x="737" y="180"/>
                  </a:lnTo>
                  <a:lnTo>
                    <a:pt x="737" y="186"/>
                  </a:lnTo>
                  <a:lnTo>
                    <a:pt x="731" y="186"/>
                  </a:lnTo>
                  <a:lnTo>
                    <a:pt x="737" y="193"/>
                  </a:lnTo>
                  <a:lnTo>
                    <a:pt x="744" y="193"/>
                  </a:lnTo>
                  <a:lnTo>
                    <a:pt x="750" y="186"/>
                  </a:lnTo>
                  <a:lnTo>
                    <a:pt x="750" y="180"/>
                  </a:lnTo>
                  <a:lnTo>
                    <a:pt x="756" y="193"/>
                  </a:lnTo>
                  <a:lnTo>
                    <a:pt x="763" y="193"/>
                  </a:lnTo>
                  <a:lnTo>
                    <a:pt x="763" y="199"/>
                  </a:lnTo>
                  <a:lnTo>
                    <a:pt x="756" y="205"/>
                  </a:lnTo>
                  <a:lnTo>
                    <a:pt x="750" y="205"/>
                  </a:lnTo>
                  <a:lnTo>
                    <a:pt x="750" y="211"/>
                  </a:lnTo>
                  <a:lnTo>
                    <a:pt x="756" y="211"/>
                  </a:lnTo>
                  <a:lnTo>
                    <a:pt x="763" y="211"/>
                  </a:lnTo>
                  <a:lnTo>
                    <a:pt x="769" y="211"/>
                  </a:lnTo>
                  <a:lnTo>
                    <a:pt x="769" y="217"/>
                  </a:lnTo>
                  <a:lnTo>
                    <a:pt x="763" y="217"/>
                  </a:lnTo>
                  <a:lnTo>
                    <a:pt x="763" y="224"/>
                  </a:lnTo>
                  <a:lnTo>
                    <a:pt x="756" y="224"/>
                  </a:lnTo>
                  <a:lnTo>
                    <a:pt x="750" y="230"/>
                  </a:lnTo>
                  <a:lnTo>
                    <a:pt x="756" y="230"/>
                  </a:lnTo>
                  <a:lnTo>
                    <a:pt x="763" y="230"/>
                  </a:lnTo>
                  <a:lnTo>
                    <a:pt x="756" y="236"/>
                  </a:lnTo>
                  <a:lnTo>
                    <a:pt x="763" y="236"/>
                  </a:lnTo>
                  <a:lnTo>
                    <a:pt x="763" y="242"/>
                  </a:lnTo>
                  <a:lnTo>
                    <a:pt x="769" y="242"/>
                  </a:lnTo>
                  <a:lnTo>
                    <a:pt x="776" y="242"/>
                  </a:lnTo>
                  <a:lnTo>
                    <a:pt x="776" y="249"/>
                  </a:lnTo>
                  <a:lnTo>
                    <a:pt x="776" y="255"/>
                  </a:lnTo>
                  <a:lnTo>
                    <a:pt x="782" y="249"/>
                  </a:lnTo>
                  <a:lnTo>
                    <a:pt x="788" y="249"/>
                  </a:lnTo>
                  <a:lnTo>
                    <a:pt x="788" y="255"/>
                  </a:lnTo>
                  <a:lnTo>
                    <a:pt x="782" y="255"/>
                  </a:lnTo>
                  <a:lnTo>
                    <a:pt x="782" y="261"/>
                  </a:lnTo>
                  <a:lnTo>
                    <a:pt x="782" y="267"/>
                  </a:lnTo>
                  <a:lnTo>
                    <a:pt x="788" y="267"/>
                  </a:lnTo>
                  <a:lnTo>
                    <a:pt x="795" y="273"/>
                  </a:lnTo>
                  <a:lnTo>
                    <a:pt x="801" y="280"/>
                  </a:lnTo>
                  <a:lnTo>
                    <a:pt x="795" y="280"/>
                  </a:lnTo>
                  <a:lnTo>
                    <a:pt x="801" y="280"/>
                  </a:lnTo>
                  <a:lnTo>
                    <a:pt x="801" y="286"/>
                  </a:lnTo>
                  <a:lnTo>
                    <a:pt x="795" y="286"/>
                  </a:lnTo>
                  <a:lnTo>
                    <a:pt x="795" y="292"/>
                  </a:lnTo>
                  <a:lnTo>
                    <a:pt x="795" y="298"/>
                  </a:lnTo>
                  <a:lnTo>
                    <a:pt x="801" y="305"/>
                  </a:lnTo>
                  <a:lnTo>
                    <a:pt x="801" y="311"/>
                  </a:lnTo>
                  <a:lnTo>
                    <a:pt x="795" y="317"/>
                  </a:lnTo>
                  <a:lnTo>
                    <a:pt x="795" y="323"/>
                  </a:lnTo>
                  <a:lnTo>
                    <a:pt x="788" y="323"/>
                  </a:lnTo>
                  <a:lnTo>
                    <a:pt x="776" y="323"/>
                  </a:lnTo>
                  <a:lnTo>
                    <a:pt x="782" y="323"/>
                  </a:lnTo>
                  <a:lnTo>
                    <a:pt x="782" y="329"/>
                  </a:lnTo>
                  <a:lnTo>
                    <a:pt x="776" y="329"/>
                  </a:lnTo>
                  <a:lnTo>
                    <a:pt x="769" y="329"/>
                  </a:lnTo>
                  <a:lnTo>
                    <a:pt x="763" y="336"/>
                  </a:lnTo>
                  <a:lnTo>
                    <a:pt x="763" y="348"/>
                  </a:lnTo>
                  <a:lnTo>
                    <a:pt x="769" y="348"/>
                  </a:lnTo>
                  <a:lnTo>
                    <a:pt x="776" y="348"/>
                  </a:lnTo>
                  <a:lnTo>
                    <a:pt x="776" y="354"/>
                  </a:lnTo>
                  <a:lnTo>
                    <a:pt x="776" y="361"/>
                  </a:lnTo>
                  <a:lnTo>
                    <a:pt x="776" y="367"/>
                  </a:lnTo>
                  <a:lnTo>
                    <a:pt x="776" y="373"/>
                  </a:lnTo>
                  <a:lnTo>
                    <a:pt x="782" y="367"/>
                  </a:lnTo>
                  <a:lnTo>
                    <a:pt x="782" y="361"/>
                  </a:lnTo>
                  <a:lnTo>
                    <a:pt x="782" y="354"/>
                  </a:lnTo>
                  <a:lnTo>
                    <a:pt x="788" y="354"/>
                  </a:lnTo>
                  <a:lnTo>
                    <a:pt x="782" y="354"/>
                  </a:lnTo>
                  <a:lnTo>
                    <a:pt x="776" y="342"/>
                  </a:lnTo>
                  <a:lnTo>
                    <a:pt x="776" y="336"/>
                  </a:lnTo>
                  <a:lnTo>
                    <a:pt x="782" y="336"/>
                  </a:lnTo>
                  <a:lnTo>
                    <a:pt x="788" y="336"/>
                  </a:lnTo>
                  <a:lnTo>
                    <a:pt x="795" y="336"/>
                  </a:lnTo>
                  <a:lnTo>
                    <a:pt x="795" y="329"/>
                  </a:lnTo>
                  <a:lnTo>
                    <a:pt x="801" y="329"/>
                  </a:lnTo>
                  <a:lnTo>
                    <a:pt x="807" y="342"/>
                  </a:lnTo>
                  <a:lnTo>
                    <a:pt x="807" y="336"/>
                  </a:lnTo>
                  <a:lnTo>
                    <a:pt x="807" y="329"/>
                  </a:lnTo>
                  <a:lnTo>
                    <a:pt x="807" y="323"/>
                  </a:lnTo>
                  <a:lnTo>
                    <a:pt x="807" y="317"/>
                  </a:lnTo>
                  <a:lnTo>
                    <a:pt x="807" y="311"/>
                  </a:lnTo>
                  <a:lnTo>
                    <a:pt x="814" y="305"/>
                  </a:lnTo>
                  <a:lnTo>
                    <a:pt x="807" y="298"/>
                  </a:lnTo>
                  <a:lnTo>
                    <a:pt x="801" y="292"/>
                  </a:lnTo>
                  <a:lnTo>
                    <a:pt x="807" y="292"/>
                  </a:lnTo>
                  <a:lnTo>
                    <a:pt x="814" y="298"/>
                  </a:lnTo>
                  <a:lnTo>
                    <a:pt x="820" y="305"/>
                  </a:lnTo>
                  <a:lnTo>
                    <a:pt x="826" y="305"/>
                  </a:lnTo>
                  <a:lnTo>
                    <a:pt x="820" y="298"/>
                  </a:lnTo>
                  <a:lnTo>
                    <a:pt x="820" y="292"/>
                  </a:lnTo>
                  <a:lnTo>
                    <a:pt x="807" y="286"/>
                  </a:lnTo>
                  <a:lnTo>
                    <a:pt x="807" y="280"/>
                  </a:lnTo>
                  <a:lnTo>
                    <a:pt x="807" y="273"/>
                  </a:lnTo>
                  <a:lnTo>
                    <a:pt x="814" y="273"/>
                  </a:lnTo>
                  <a:lnTo>
                    <a:pt x="820" y="280"/>
                  </a:lnTo>
                  <a:lnTo>
                    <a:pt x="826" y="280"/>
                  </a:lnTo>
                  <a:lnTo>
                    <a:pt x="833" y="280"/>
                  </a:lnTo>
                  <a:lnTo>
                    <a:pt x="826" y="273"/>
                  </a:lnTo>
                  <a:lnTo>
                    <a:pt x="820" y="267"/>
                  </a:lnTo>
                  <a:lnTo>
                    <a:pt x="820" y="273"/>
                  </a:lnTo>
                  <a:lnTo>
                    <a:pt x="814" y="267"/>
                  </a:lnTo>
                  <a:lnTo>
                    <a:pt x="807" y="267"/>
                  </a:lnTo>
                  <a:lnTo>
                    <a:pt x="801" y="261"/>
                  </a:lnTo>
                  <a:lnTo>
                    <a:pt x="801" y="255"/>
                  </a:lnTo>
                  <a:lnTo>
                    <a:pt x="807" y="255"/>
                  </a:lnTo>
                  <a:lnTo>
                    <a:pt x="814" y="255"/>
                  </a:lnTo>
                  <a:lnTo>
                    <a:pt x="814" y="249"/>
                  </a:lnTo>
                  <a:lnTo>
                    <a:pt x="807" y="249"/>
                  </a:lnTo>
                  <a:lnTo>
                    <a:pt x="807" y="242"/>
                  </a:lnTo>
                  <a:lnTo>
                    <a:pt x="801" y="236"/>
                  </a:lnTo>
                  <a:lnTo>
                    <a:pt x="795" y="236"/>
                  </a:lnTo>
                  <a:lnTo>
                    <a:pt x="788" y="236"/>
                  </a:lnTo>
                  <a:lnTo>
                    <a:pt x="788" y="230"/>
                  </a:lnTo>
                  <a:lnTo>
                    <a:pt x="782" y="224"/>
                  </a:lnTo>
                  <a:lnTo>
                    <a:pt x="782" y="217"/>
                  </a:lnTo>
                  <a:lnTo>
                    <a:pt x="782" y="211"/>
                  </a:lnTo>
                  <a:lnTo>
                    <a:pt x="788" y="211"/>
                  </a:lnTo>
                  <a:lnTo>
                    <a:pt x="788" y="205"/>
                  </a:lnTo>
                  <a:lnTo>
                    <a:pt x="788" y="199"/>
                  </a:lnTo>
                  <a:lnTo>
                    <a:pt x="782" y="199"/>
                  </a:lnTo>
                  <a:lnTo>
                    <a:pt x="776" y="199"/>
                  </a:lnTo>
                  <a:lnTo>
                    <a:pt x="776" y="193"/>
                  </a:lnTo>
                  <a:lnTo>
                    <a:pt x="776" y="186"/>
                  </a:lnTo>
                  <a:lnTo>
                    <a:pt x="782" y="186"/>
                  </a:lnTo>
                  <a:lnTo>
                    <a:pt x="788" y="186"/>
                  </a:lnTo>
                  <a:lnTo>
                    <a:pt x="795" y="193"/>
                  </a:lnTo>
                  <a:lnTo>
                    <a:pt x="801" y="193"/>
                  </a:lnTo>
                  <a:lnTo>
                    <a:pt x="795" y="186"/>
                  </a:lnTo>
                  <a:lnTo>
                    <a:pt x="788" y="174"/>
                  </a:lnTo>
                  <a:lnTo>
                    <a:pt x="782" y="174"/>
                  </a:lnTo>
                  <a:lnTo>
                    <a:pt x="776" y="174"/>
                  </a:lnTo>
                  <a:lnTo>
                    <a:pt x="776" y="168"/>
                  </a:lnTo>
                  <a:lnTo>
                    <a:pt x="776" y="161"/>
                  </a:lnTo>
                  <a:lnTo>
                    <a:pt x="776" y="155"/>
                  </a:lnTo>
                  <a:lnTo>
                    <a:pt x="776" y="149"/>
                  </a:lnTo>
                  <a:lnTo>
                    <a:pt x="776" y="143"/>
                  </a:lnTo>
                  <a:lnTo>
                    <a:pt x="782" y="137"/>
                  </a:lnTo>
                  <a:lnTo>
                    <a:pt x="776" y="130"/>
                  </a:lnTo>
                  <a:lnTo>
                    <a:pt x="782" y="124"/>
                  </a:lnTo>
                  <a:lnTo>
                    <a:pt x="788" y="124"/>
                  </a:lnTo>
                  <a:lnTo>
                    <a:pt x="801" y="124"/>
                  </a:lnTo>
                  <a:lnTo>
                    <a:pt x="801" y="130"/>
                  </a:lnTo>
                  <a:lnTo>
                    <a:pt x="795" y="137"/>
                  </a:lnTo>
                  <a:lnTo>
                    <a:pt x="807" y="130"/>
                  </a:lnTo>
                  <a:lnTo>
                    <a:pt x="814" y="130"/>
                  </a:lnTo>
                  <a:lnTo>
                    <a:pt x="814" y="143"/>
                  </a:lnTo>
                  <a:lnTo>
                    <a:pt x="820" y="149"/>
                  </a:lnTo>
                  <a:lnTo>
                    <a:pt x="820" y="143"/>
                  </a:lnTo>
                  <a:lnTo>
                    <a:pt x="826" y="143"/>
                  </a:lnTo>
                  <a:lnTo>
                    <a:pt x="833" y="149"/>
                  </a:lnTo>
                  <a:lnTo>
                    <a:pt x="839" y="155"/>
                  </a:lnTo>
                  <a:lnTo>
                    <a:pt x="845" y="155"/>
                  </a:lnTo>
                  <a:lnTo>
                    <a:pt x="839" y="143"/>
                  </a:lnTo>
                  <a:lnTo>
                    <a:pt x="833" y="143"/>
                  </a:lnTo>
                  <a:lnTo>
                    <a:pt x="826" y="137"/>
                  </a:lnTo>
                  <a:lnTo>
                    <a:pt x="826" y="130"/>
                  </a:lnTo>
                  <a:lnTo>
                    <a:pt x="833" y="130"/>
                  </a:lnTo>
                  <a:lnTo>
                    <a:pt x="839" y="137"/>
                  </a:lnTo>
                  <a:lnTo>
                    <a:pt x="839" y="130"/>
                  </a:lnTo>
                  <a:lnTo>
                    <a:pt x="845" y="130"/>
                  </a:lnTo>
                  <a:lnTo>
                    <a:pt x="852" y="130"/>
                  </a:lnTo>
                  <a:lnTo>
                    <a:pt x="858" y="130"/>
                  </a:lnTo>
                  <a:lnTo>
                    <a:pt x="865" y="130"/>
                  </a:lnTo>
                  <a:lnTo>
                    <a:pt x="871" y="137"/>
                  </a:lnTo>
                  <a:lnTo>
                    <a:pt x="871" y="143"/>
                  </a:lnTo>
                  <a:lnTo>
                    <a:pt x="865" y="149"/>
                  </a:lnTo>
                  <a:lnTo>
                    <a:pt x="871" y="149"/>
                  </a:lnTo>
                  <a:lnTo>
                    <a:pt x="877" y="155"/>
                  </a:lnTo>
                  <a:lnTo>
                    <a:pt x="877" y="161"/>
                  </a:lnTo>
                  <a:lnTo>
                    <a:pt x="884" y="168"/>
                  </a:lnTo>
                  <a:lnTo>
                    <a:pt x="884" y="174"/>
                  </a:lnTo>
                  <a:lnTo>
                    <a:pt x="890" y="180"/>
                  </a:lnTo>
                  <a:lnTo>
                    <a:pt x="890" y="186"/>
                  </a:lnTo>
                  <a:lnTo>
                    <a:pt x="896" y="193"/>
                  </a:lnTo>
                  <a:lnTo>
                    <a:pt x="890" y="193"/>
                  </a:lnTo>
                  <a:lnTo>
                    <a:pt x="896" y="205"/>
                  </a:lnTo>
                  <a:lnTo>
                    <a:pt x="903" y="199"/>
                  </a:lnTo>
                  <a:lnTo>
                    <a:pt x="909" y="199"/>
                  </a:lnTo>
                  <a:lnTo>
                    <a:pt x="915" y="205"/>
                  </a:lnTo>
                  <a:lnTo>
                    <a:pt x="915" y="211"/>
                  </a:lnTo>
                  <a:lnTo>
                    <a:pt x="915" y="217"/>
                  </a:lnTo>
                  <a:lnTo>
                    <a:pt x="915" y="224"/>
                  </a:lnTo>
                  <a:lnTo>
                    <a:pt x="915" y="230"/>
                  </a:lnTo>
                  <a:lnTo>
                    <a:pt x="909" y="236"/>
                  </a:lnTo>
                  <a:lnTo>
                    <a:pt x="903" y="236"/>
                  </a:lnTo>
                  <a:lnTo>
                    <a:pt x="909" y="242"/>
                  </a:lnTo>
                  <a:lnTo>
                    <a:pt x="915" y="242"/>
                  </a:lnTo>
                  <a:lnTo>
                    <a:pt x="915" y="236"/>
                  </a:lnTo>
                  <a:lnTo>
                    <a:pt x="922" y="236"/>
                  </a:lnTo>
                  <a:lnTo>
                    <a:pt x="922" y="224"/>
                  </a:lnTo>
                  <a:lnTo>
                    <a:pt x="922" y="217"/>
                  </a:lnTo>
                  <a:lnTo>
                    <a:pt x="922" y="211"/>
                  </a:lnTo>
                  <a:lnTo>
                    <a:pt x="928" y="205"/>
                  </a:lnTo>
                  <a:lnTo>
                    <a:pt x="941" y="211"/>
                  </a:lnTo>
                  <a:lnTo>
                    <a:pt x="941" y="205"/>
                  </a:lnTo>
                  <a:lnTo>
                    <a:pt x="953" y="205"/>
                  </a:lnTo>
                  <a:lnTo>
                    <a:pt x="960" y="211"/>
                  </a:lnTo>
                  <a:lnTo>
                    <a:pt x="960" y="205"/>
                  </a:lnTo>
                  <a:lnTo>
                    <a:pt x="966" y="217"/>
                  </a:lnTo>
                  <a:lnTo>
                    <a:pt x="960" y="224"/>
                  </a:lnTo>
                  <a:lnTo>
                    <a:pt x="953" y="230"/>
                  </a:lnTo>
                  <a:lnTo>
                    <a:pt x="953" y="242"/>
                  </a:lnTo>
                  <a:lnTo>
                    <a:pt x="947" y="242"/>
                  </a:lnTo>
                  <a:lnTo>
                    <a:pt x="947" y="249"/>
                  </a:lnTo>
                  <a:lnTo>
                    <a:pt x="947" y="255"/>
                  </a:lnTo>
                  <a:lnTo>
                    <a:pt x="941" y="267"/>
                  </a:lnTo>
                  <a:lnTo>
                    <a:pt x="934" y="267"/>
                  </a:lnTo>
                  <a:lnTo>
                    <a:pt x="934" y="280"/>
                  </a:lnTo>
                  <a:lnTo>
                    <a:pt x="934" y="292"/>
                  </a:lnTo>
                  <a:lnTo>
                    <a:pt x="934" y="298"/>
                  </a:lnTo>
                  <a:lnTo>
                    <a:pt x="934" y="305"/>
                  </a:lnTo>
                  <a:lnTo>
                    <a:pt x="934" y="311"/>
                  </a:lnTo>
                  <a:lnTo>
                    <a:pt x="941" y="317"/>
                  </a:lnTo>
                  <a:lnTo>
                    <a:pt x="941" y="323"/>
                  </a:lnTo>
                  <a:lnTo>
                    <a:pt x="941" y="329"/>
                  </a:lnTo>
                  <a:lnTo>
                    <a:pt x="947" y="317"/>
                  </a:lnTo>
                  <a:lnTo>
                    <a:pt x="941" y="311"/>
                  </a:lnTo>
                  <a:lnTo>
                    <a:pt x="941" y="305"/>
                  </a:lnTo>
                  <a:lnTo>
                    <a:pt x="941" y="298"/>
                  </a:lnTo>
                  <a:lnTo>
                    <a:pt x="941" y="292"/>
                  </a:lnTo>
                  <a:lnTo>
                    <a:pt x="941" y="286"/>
                  </a:lnTo>
                  <a:lnTo>
                    <a:pt x="947" y="273"/>
                  </a:lnTo>
                  <a:lnTo>
                    <a:pt x="947" y="267"/>
                  </a:lnTo>
                  <a:lnTo>
                    <a:pt x="960" y="267"/>
                  </a:lnTo>
                  <a:lnTo>
                    <a:pt x="960" y="280"/>
                  </a:lnTo>
                  <a:lnTo>
                    <a:pt x="960" y="286"/>
                  </a:lnTo>
                  <a:lnTo>
                    <a:pt x="960" y="292"/>
                  </a:lnTo>
                  <a:lnTo>
                    <a:pt x="966" y="305"/>
                  </a:lnTo>
                  <a:lnTo>
                    <a:pt x="966" y="311"/>
                  </a:lnTo>
                  <a:lnTo>
                    <a:pt x="973" y="317"/>
                  </a:lnTo>
                  <a:lnTo>
                    <a:pt x="973" y="323"/>
                  </a:lnTo>
                  <a:lnTo>
                    <a:pt x="973" y="336"/>
                  </a:lnTo>
                  <a:lnTo>
                    <a:pt x="973" y="342"/>
                  </a:lnTo>
                  <a:lnTo>
                    <a:pt x="979" y="342"/>
                  </a:lnTo>
                  <a:lnTo>
                    <a:pt x="979" y="329"/>
                  </a:lnTo>
                  <a:lnTo>
                    <a:pt x="985" y="323"/>
                  </a:lnTo>
                  <a:lnTo>
                    <a:pt x="985" y="317"/>
                  </a:lnTo>
                  <a:lnTo>
                    <a:pt x="985" y="305"/>
                  </a:lnTo>
                  <a:lnTo>
                    <a:pt x="979" y="298"/>
                  </a:lnTo>
                  <a:lnTo>
                    <a:pt x="973" y="286"/>
                  </a:lnTo>
                  <a:lnTo>
                    <a:pt x="973" y="273"/>
                  </a:lnTo>
                  <a:lnTo>
                    <a:pt x="973" y="261"/>
                  </a:lnTo>
                  <a:lnTo>
                    <a:pt x="966" y="255"/>
                  </a:lnTo>
                  <a:lnTo>
                    <a:pt x="979" y="242"/>
                  </a:lnTo>
                  <a:lnTo>
                    <a:pt x="979" y="249"/>
                  </a:lnTo>
                  <a:lnTo>
                    <a:pt x="985" y="255"/>
                  </a:lnTo>
                  <a:lnTo>
                    <a:pt x="992" y="267"/>
                  </a:lnTo>
                  <a:lnTo>
                    <a:pt x="998" y="267"/>
                  </a:lnTo>
                  <a:lnTo>
                    <a:pt x="1004" y="267"/>
                  </a:lnTo>
                  <a:lnTo>
                    <a:pt x="1004" y="261"/>
                  </a:lnTo>
                  <a:lnTo>
                    <a:pt x="998" y="255"/>
                  </a:lnTo>
                  <a:lnTo>
                    <a:pt x="992" y="249"/>
                  </a:lnTo>
                  <a:lnTo>
                    <a:pt x="1004" y="255"/>
                  </a:lnTo>
                  <a:lnTo>
                    <a:pt x="1017" y="255"/>
                  </a:lnTo>
                  <a:lnTo>
                    <a:pt x="1023" y="261"/>
                  </a:lnTo>
                  <a:lnTo>
                    <a:pt x="1023" y="267"/>
                  </a:lnTo>
                  <a:lnTo>
                    <a:pt x="1017" y="292"/>
                  </a:lnTo>
                  <a:lnTo>
                    <a:pt x="1017" y="305"/>
                  </a:lnTo>
                  <a:lnTo>
                    <a:pt x="1017" y="298"/>
                  </a:lnTo>
                  <a:lnTo>
                    <a:pt x="1023" y="292"/>
                  </a:lnTo>
                  <a:lnTo>
                    <a:pt x="1030" y="286"/>
                  </a:lnTo>
                  <a:lnTo>
                    <a:pt x="1036" y="292"/>
                  </a:lnTo>
                  <a:lnTo>
                    <a:pt x="1036" y="286"/>
                  </a:lnTo>
                  <a:lnTo>
                    <a:pt x="1030" y="273"/>
                  </a:lnTo>
                  <a:lnTo>
                    <a:pt x="1042" y="267"/>
                  </a:lnTo>
                  <a:lnTo>
                    <a:pt x="1049" y="280"/>
                  </a:lnTo>
                  <a:lnTo>
                    <a:pt x="1055" y="280"/>
                  </a:lnTo>
                  <a:lnTo>
                    <a:pt x="1055" y="292"/>
                  </a:lnTo>
                  <a:lnTo>
                    <a:pt x="1055" y="298"/>
                  </a:lnTo>
                  <a:lnTo>
                    <a:pt x="1055" y="305"/>
                  </a:lnTo>
                  <a:lnTo>
                    <a:pt x="1062" y="311"/>
                  </a:lnTo>
                  <a:lnTo>
                    <a:pt x="1062" y="317"/>
                  </a:lnTo>
                  <a:lnTo>
                    <a:pt x="1062" y="329"/>
                  </a:lnTo>
                  <a:lnTo>
                    <a:pt x="1074" y="329"/>
                  </a:lnTo>
                  <a:lnTo>
                    <a:pt x="1074" y="323"/>
                  </a:lnTo>
                  <a:lnTo>
                    <a:pt x="1074" y="317"/>
                  </a:lnTo>
                  <a:lnTo>
                    <a:pt x="1068" y="311"/>
                  </a:lnTo>
                  <a:lnTo>
                    <a:pt x="1062" y="298"/>
                  </a:lnTo>
                  <a:lnTo>
                    <a:pt x="1062" y="292"/>
                  </a:lnTo>
                  <a:lnTo>
                    <a:pt x="1074" y="286"/>
                  </a:lnTo>
                  <a:lnTo>
                    <a:pt x="1068" y="280"/>
                  </a:lnTo>
                  <a:lnTo>
                    <a:pt x="1068" y="273"/>
                  </a:lnTo>
                  <a:lnTo>
                    <a:pt x="1062" y="273"/>
                  </a:lnTo>
                  <a:lnTo>
                    <a:pt x="1055" y="273"/>
                  </a:lnTo>
                  <a:lnTo>
                    <a:pt x="1062" y="267"/>
                  </a:lnTo>
                  <a:lnTo>
                    <a:pt x="1068" y="261"/>
                  </a:lnTo>
                  <a:lnTo>
                    <a:pt x="1074" y="261"/>
                  </a:lnTo>
                  <a:lnTo>
                    <a:pt x="1081" y="261"/>
                  </a:lnTo>
                  <a:lnTo>
                    <a:pt x="1087" y="267"/>
                  </a:lnTo>
                  <a:lnTo>
                    <a:pt x="1093" y="267"/>
                  </a:lnTo>
                  <a:lnTo>
                    <a:pt x="1100" y="267"/>
                  </a:lnTo>
                  <a:lnTo>
                    <a:pt x="1100" y="273"/>
                  </a:lnTo>
                  <a:lnTo>
                    <a:pt x="1106" y="280"/>
                  </a:lnTo>
                  <a:lnTo>
                    <a:pt x="1106" y="273"/>
                  </a:lnTo>
                  <a:lnTo>
                    <a:pt x="1106" y="267"/>
                  </a:lnTo>
                  <a:lnTo>
                    <a:pt x="1112" y="273"/>
                  </a:lnTo>
                  <a:lnTo>
                    <a:pt x="1119" y="273"/>
                  </a:lnTo>
                  <a:lnTo>
                    <a:pt x="1125" y="273"/>
                  </a:lnTo>
                  <a:lnTo>
                    <a:pt x="1131" y="273"/>
                  </a:lnTo>
                  <a:lnTo>
                    <a:pt x="1131" y="280"/>
                  </a:lnTo>
                  <a:lnTo>
                    <a:pt x="1125" y="292"/>
                  </a:lnTo>
                  <a:lnTo>
                    <a:pt x="1131" y="292"/>
                  </a:lnTo>
                  <a:lnTo>
                    <a:pt x="1125" y="311"/>
                  </a:lnTo>
                  <a:lnTo>
                    <a:pt x="1131" y="311"/>
                  </a:lnTo>
                  <a:lnTo>
                    <a:pt x="1131" y="305"/>
                  </a:lnTo>
                  <a:lnTo>
                    <a:pt x="1138" y="298"/>
                  </a:lnTo>
                  <a:lnTo>
                    <a:pt x="1138" y="292"/>
                  </a:lnTo>
                  <a:lnTo>
                    <a:pt x="1144" y="292"/>
                  </a:lnTo>
                  <a:lnTo>
                    <a:pt x="1144" y="286"/>
                  </a:lnTo>
                  <a:lnTo>
                    <a:pt x="1151" y="286"/>
                  </a:lnTo>
                  <a:lnTo>
                    <a:pt x="1157" y="286"/>
                  </a:lnTo>
                  <a:lnTo>
                    <a:pt x="1163" y="292"/>
                  </a:lnTo>
                  <a:lnTo>
                    <a:pt x="1170" y="292"/>
                  </a:lnTo>
                  <a:lnTo>
                    <a:pt x="1170" y="305"/>
                  </a:lnTo>
                  <a:lnTo>
                    <a:pt x="1176" y="305"/>
                  </a:lnTo>
                  <a:lnTo>
                    <a:pt x="1176" y="311"/>
                  </a:lnTo>
                  <a:lnTo>
                    <a:pt x="1170" y="311"/>
                  </a:lnTo>
                  <a:lnTo>
                    <a:pt x="1163" y="311"/>
                  </a:lnTo>
                  <a:lnTo>
                    <a:pt x="1157" y="323"/>
                  </a:lnTo>
                  <a:lnTo>
                    <a:pt x="1151" y="329"/>
                  </a:lnTo>
                  <a:lnTo>
                    <a:pt x="1144" y="348"/>
                  </a:lnTo>
                  <a:lnTo>
                    <a:pt x="1144" y="373"/>
                  </a:lnTo>
                  <a:lnTo>
                    <a:pt x="1138" y="392"/>
                  </a:lnTo>
                  <a:lnTo>
                    <a:pt x="1138" y="410"/>
                  </a:lnTo>
                  <a:lnTo>
                    <a:pt x="1125" y="429"/>
                  </a:lnTo>
                  <a:lnTo>
                    <a:pt x="1119" y="442"/>
                  </a:lnTo>
                  <a:lnTo>
                    <a:pt x="1093" y="454"/>
                  </a:lnTo>
                  <a:lnTo>
                    <a:pt x="1081" y="460"/>
                  </a:lnTo>
                  <a:lnTo>
                    <a:pt x="1049" y="466"/>
                  </a:lnTo>
                  <a:lnTo>
                    <a:pt x="1036" y="473"/>
                  </a:lnTo>
                  <a:lnTo>
                    <a:pt x="1011" y="485"/>
                  </a:lnTo>
                  <a:lnTo>
                    <a:pt x="992" y="498"/>
                  </a:lnTo>
                  <a:lnTo>
                    <a:pt x="973" y="504"/>
                  </a:lnTo>
                  <a:lnTo>
                    <a:pt x="966" y="522"/>
                  </a:lnTo>
                  <a:lnTo>
                    <a:pt x="966" y="535"/>
                  </a:lnTo>
                  <a:lnTo>
                    <a:pt x="960" y="547"/>
                  </a:lnTo>
                  <a:lnTo>
                    <a:pt x="960" y="560"/>
                  </a:lnTo>
                  <a:lnTo>
                    <a:pt x="960" y="566"/>
                  </a:lnTo>
                  <a:lnTo>
                    <a:pt x="966" y="591"/>
                  </a:lnTo>
                  <a:lnTo>
                    <a:pt x="966" y="610"/>
                  </a:lnTo>
                  <a:lnTo>
                    <a:pt x="973" y="616"/>
                  </a:lnTo>
                  <a:lnTo>
                    <a:pt x="973" y="634"/>
                  </a:lnTo>
                  <a:lnTo>
                    <a:pt x="973" y="647"/>
                  </a:lnTo>
                  <a:lnTo>
                    <a:pt x="973" y="666"/>
                  </a:lnTo>
                  <a:lnTo>
                    <a:pt x="979" y="672"/>
                  </a:lnTo>
                  <a:lnTo>
                    <a:pt x="985" y="684"/>
                  </a:lnTo>
                  <a:lnTo>
                    <a:pt x="992" y="691"/>
                  </a:lnTo>
                  <a:lnTo>
                    <a:pt x="992" y="697"/>
                  </a:lnTo>
                  <a:lnTo>
                    <a:pt x="985" y="703"/>
                  </a:lnTo>
                  <a:lnTo>
                    <a:pt x="985" y="709"/>
                  </a:lnTo>
                  <a:lnTo>
                    <a:pt x="973" y="722"/>
                  </a:lnTo>
                  <a:lnTo>
                    <a:pt x="960" y="734"/>
                  </a:lnTo>
                  <a:lnTo>
                    <a:pt x="953" y="747"/>
                  </a:lnTo>
                  <a:lnTo>
                    <a:pt x="947" y="753"/>
                  </a:lnTo>
                  <a:lnTo>
                    <a:pt x="941" y="765"/>
                  </a:lnTo>
                  <a:lnTo>
                    <a:pt x="934" y="778"/>
                  </a:lnTo>
                  <a:lnTo>
                    <a:pt x="922" y="796"/>
                  </a:lnTo>
                  <a:lnTo>
                    <a:pt x="909" y="815"/>
                  </a:lnTo>
                  <a:lnTo>
                    <a:pt x="903" y="827"/>
                  </a:lnTo>
                  <a:lnTo>
                    <a:pt x="896" y="846"/>
                  </a:lnTo>
                  <a:lnTo>
                    <a:pt x="884" y="871"/>
                  </a:lnTo>
                  <a:lnTo>
                    <a:pt x="877" y="883"/>
                  </a:lnTo>
                  <a:lnTo>
                    <a:pt x="871" y="890"/>
                  </a:lnTo>
                  <a:lnTo>
                    <a:pt x="858" y="908"/>
                  </a:lnTo>
                  <a:lnTo>
                    <a:pt x="845" y="915"/>
                  </a:lnTo>
                  <a:lnTo>
                    <a:pt x="814" y="927"/>
                  </a:lnTo>
                  <a:lnTo>
                    <a:pt x="788" y="939"/>
                  </a:lnTo>
                  <a:lnTo>
                    <a:pt x="776" y="946"/>
                  </a:lnTo>
                  <a:lnTo>
                    <a:pt x="756" y="952"/>
                  </a:lnTo>
                  <a:lnTo>
                    <a:pt x="718" y="958"/>
                  </a:lnTo>
                  <a:lnTo>
                    <a:pt x="687" y="852"/>
                  </a:lnTo>
                  <a:lnTo>
                    <a:pt x="674" y="821"/>
                  </a:lnTo>
                  <a:lnTo>
                    <a:pt x="648" y="778"/>
                  </a:lnTo>
                  <a:lnTo>
                    <a:pt x="642" y="759"/>
                  </a:lnTo>
                  <a:lnTo>
                    <a:pt x="636" y="747"/>
                  </a:lnTo>
                  <a:lnTo>
                    <a:pt x="623" y="728"/>
                  </a:lnTo>
                  <a:lnTo>
                    <a:pt x="610" y="709"/>
                  </a:lnTo>
                  <a:lnTo>
                    <a:pt x="598" y="697"/>
                  </a:lnTo>
                  <a:lnTo>
                    <a:pt x="598" y="678"/>
                  </a:lnTo>
                  <a:lnTo>
                    <a:pt x="591" y="659"/>
                  </a:lnTo>
                  <a:lnTo>
                    <a:pt x="585" y="647"/>
                  </a:lnTo>
                  <a:lnTo>
                    <a:pt x="572" y="634"/>
                  </a:lnTo>
                  <a:lnTo>
                    <a:pt x="559" y="628"/>
                  </a:lnTo>
                  <a:lnTo>
                    <a:pt x="534" y="622"/>
                  </a:lnTo>
                  <a:lnTo>
                    <a:pt x="509" y="622"/>
                  </a:lnTo>
                  <a:lnTo>
                    <a:pt x="490" y="622"/>
                  </a:lnTo>
                  <a:lnTo>
                    <a:pt x="470" y="610"/>
                  </a:lnTo>
                  <a:lnTo>
                    <a:pt x="439" y="578"/>
                  </a:lnTo>
                  <a:lnTo>
                    <a:pt x="407" y="547"/>
                  </a:lnTo>
                  <a:lnTo>
                    <a:pt x="381" y="516"/>
                  </a:lnTo>
                  <a:lnTo>
                    <a:pt x="362" y="504"/>
                  </a:lnTo>
                  <a:lnTo>
                    <a:pt x="350" y="498"/>
                  </a:lnTo>
                  <a:lnTo>
                    <a:pt x="299" y="479"/>
                  </a:lnTo>
                  <a:lnTo>
                    <a:pt x="254" y="466"/>
                  </a:lnTo>
                  <a:lnTo>
                    <a:pt x="216" y="454"/>
                  </a:lnTo>
                  <a:lnTo>
                    <a:pt x="172" y="435"/>
                  </a:lnTo>
                  <a:lnTo>
                    <a:pt x="134" y="417"/>
                  </a:lnTo>
                  <a:lnTo>
                    <a:pt x="127" y="417"/>
                  </a:lnTo>
                  <a:lnTo>
                    <a:pt x="115" y="410"/>
                  </a:lnTo>
                  <a:lnTo>
                    <a:pt x="108" y="410"/>
                  </a:lnTo>
                  <a:lnTo>
                    <a:pt x="96" y="404"/>
                  </a:lnTo>
                  <a:lnTo>
                    <a:pt x="89" y="392"/>
                  </a:lnTo>
                  <a:lnTo>
                    <a:pt x="83" y="361"/>
                  </a:lnTo>
                  <a:lnTo>
                    <a:pt x="76" y="342"/>
                  </a:lnTo>
                  <a:lnTo>
                    <a:pt x="70" y="336"/>
                  </a:lnTo>
                  <a:lnTo>
                    <a:pt x="64" y="323"/>
                  </a:lnTo>
                  <a:lnTo>
                    <a:pt x="51" y="292"/>
                  </a:lnTo>
                  <a:lnTo>
                    <a:pt x="38" y="261"/>
                  </a:lnTo>
                  <a:lnTo>
                    <a:pt x="32" y="242"/>
                  </a:lnTo>
                  <a:lnTo>
                    <a:pt x="26" y="217"/>
                  </a:lnTo>
                  <a:lnTo>
                    <a:pt x="26" y="199"/>
                  </a:lnTo>
                  <a:lnTo>
                    <a:pt x="19" y="180"/>
                  </a:lnTo>
                  <a:lnTo>
                    <a:pt x="19" y="143"/>
                  </a:lnTo>
                  <a:lnTo>
                    <a:pt x="19" y="118"/>
                  </a:lnTo>
                  <a:lnTo>
                    <a:pt x="13" y="99"/>
                  </a:lnTo>
                  <a:lnTo>
                    <a:pt x="7" y="87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33760" y="1433520"/>
              <a:ext cx="1614240" cy="1541520"/>
            </a:xfrm>
            <a:custGeom>
              <a:avLst/>
              <a:gdLst/>
              <a:ahLst/>
              <a:rect l="l" t="t" r="r" b="b"/>
              <a:pathLst>
                <a:path w="1017" h="971">
                  <a:moveTo>
                    <a:pt x="883" y="18"/>
                  </a:moveTo>
                  <a:lnTo>
                    <a:pt x="890" y="12"/>
                  </a:lnTo>
                  <a:lnTo>
                    <a:pt x="896" y="6"/>
                  </a:lnTo>
                  <a:lnTo>
                    <a:pt x="909" y="0"/>
                  </a:lnTo>
                  <a:lnTo>
                    <a:pt x="928" y="0"/>
                  </a:lnTo>
                  <a:lnTo>
                    <a:pt x="947" y="0"/>
                  </a:lnTo>
                  <a:lnTo>
                    <a:pt x="953" y="0"/>
                  </a:lnTo>
                  <a:lnTo>
                    <a:pt x="966" y="0"/>
                  </a:lnTo>
                  <a:lnTo>
                    <a:pt x="978" y="12"/>
                  </a:lnTo>
                  <a:lnTo>
                    <a:pt x="985" y="18"/>
                  </a:lnTo>
                  <a:lnTo>
                    <a:pt x="998" y="18"/>
                  </a:lnTo>
                  <a:lnTo>
                    <a:pt x="1010" y="31"/>
                  </a:lnTo>
                  <a:lnTo>
                    <a:pt x="1010" y="37"/>
                  </a:lnTo>
                  <a:lnTo>
                    <a:pt x="1004" y="49"/>
                  </a:lnTo>
                  <a:lnTo>
                    <a:pt x="1004" y="80"/>
                  </a:lnTo>
                  <a:lnTo>
                    <a:pt x="1004" y="124"/>
                  </a:lnTo>
                  <a:lnTo>
                    <a:pt x="998" y="155"/>
                  </a:lnTo>
                  <a:lnTo>
                    <a:pt x="991" y="174"/>
                  </a:lnTo>
                  <a:lnTo>
                    <a:pt x="985" y="211"/>
                  </a:lnTo>
                  <a:lnTo>
                    <a:pt x="972" y="255"/>
                  </a:lnTo>
                  <a:lnTo>
                    <a:pt x="966" y="273"/>
                  </a:lnTo>
                  <a:lnTo>
                    <a:pt x="959" y="292"/>
                  </a:lnTo>
                  <a:lnTo>
                    <a:pt x="959" y="311"/>
                  </a:lnTo>
                  <a:lnTo>
                    <a:pt x="966" y="329"/>
                  </a:lnTo>
                  <a:lnTo>
                    <a:pt x="972" y="348"/>
                  </a:lnTo>
                  <a:lnTo>
                    <a:pt x="978" y="361"/>
                  </a:lnTo>
                  <a:lnTo>
                    <a:pt x="998" y="392"/>
                  </a:lnTo>
                  <a:lnTo>
                    <a:pt x="1017" y="423"/>
                  </a:lnTo>
                  <a:lnTo>
                    <a:pt x="1004" y="429"/>
                  </a:lnTo>
                  <a:lnTo>
                    <a:pt x="998" y="442"/>
                  </a:lnTo>
                  <a:lnTo>
                    <a:pt x="985" y="460"/>
                  </a:lnTo>
                  <a:lnTo>
                    <a:pt x="978" y="473"/>
                  </a:lnTo>
                  <a:lnTo>
                    <a:pt x="972" y="485"/>
                  </a:lnTo>
                  <a:lnTo>
                    <a:pt x="959" y="491"/>
                  </a:lnTo>
                  <a:lnTo>
                    <a:pt x="947" y="498"/>
                  </a:lnTo>
                  <a:lnTo>
                    <a:pt x="921" y="498"/>
                  </a:lnTo>
                  <a:lnTo>
                    <a:pt x="896" y="498"/>
                  </a:lnTo>
                  <a:lnTo>
                    <a:pt x="870" y="491"/>
                  </a:lnTo>
                  <a:lnTo>
                    <a:pt x="858" y="479"/>
                  </a:lnTo>
                  <a:lnTo>
                    <a:pt x="845" y="473"/>
                  </a:lnTo>
                  <a:lnTo>
                    <a:pt x="826" y="473"/>
                  </a:lnTo>
                  <a:lnTo>
                    <a:pt x="801" y="466"/>
                  </a:lnTo>
                  <a:lnTo>
                    <a:pt x="762" y="466"/>
                  </a:lnTo>
                  <a:lnTo>
                    <a:pt x="705" y="466"/>
                  </a:lnTo>
                  <a:lnTo>
                    <a:pt x="692" y="466"/>
                  </a:lnTo>
                  <a:lnTo>
                    <a:pt x="673" y="466"/>
                  </a:lnTo>
                  <a:lnTo>
                    <a:pt x="654" y="473"/>
                  </a:lnTo>
                  <a:lnTo>
                    <a:pt x="623" y="479"/>
                  </a:lnTo>
                  <a:lnTo>
                    <a:pt x="597" y="498"/>
                  </a:lnTo>
                  <a:lnTo>
                    <a:pt x="584" y="510"/>
                  </a:lnTo>
                  <a:lnTo>
                    <a:pt x="565" y="529"/>
                  </a:lnTo>
                  <a:lnTo>
                    <a:pt x="565" y="535"/>
                  </a:lnTo>
                  <a:lnTo>
                    <a:pt x="546" y="547"/>
                  </a:lnTo>
                  <a:lnTo>
                    <a:pt x="534" y="566"/>
                  </a:lnTo>
                  <a:lnTo>
                    <a:pt x="521" y="566"/>
                  </a:lnTo>
                  <a:lnTo>
                    <a:pt x="495" y="572"/>
                  </a:lnTo>
                  <a:lnTo>
                    <a:pt x="476" y="566"/>
                  </a:lnTo>
                  <a:lnTo>
                    <a:pt x="445" y="560"/>
                  </a:lnTo>
                  <a:lnTo>
                    <a:pt x="426" y="547"/>
                  </a:lnTo>
                  <a:lnTo>
                    <a:pt x="407" y="535"/>
                  </a:lnTo>
                  <a:lnTo>
                    <a:pt x="400" y="529"/>
                  </a:lnTo>
                  <a:lnTo>
                    <a:pt x="387" y="529"/>
                  </a:lnTo>
                  <a:lnTo>
                    <a:pt x="368" y="529"/>
                  </a:lnTo>
                  <a:lnTo>
                    <a:pt x="343" y="535"/>
                  </a:lnTo>
                  <a:lnTo>
                    <a:pt x="318" y="547"/>
                  </a:lnTo>
                  <a:lnTo>
                    <a:pt x="267" y="585"/>
                  </a:lnTo>
                  <a:lnTo>
                    <a:pt x="235" y="628"/>
                  </a:lnTo>
                  <a:lnTo>
                    <a:pt x="216" y="659"/>
                  </a:lnTo>
                  <a:lnTo>
                    <a:pt x="190" y="709"/>
                  </a:lnTo>
                  <a:lnTo>
                    <a:pt x="171" y="740"/>
                  </a:lnTo>
                  <a:lnTo>
                    <a:pt x="159" y="771"/>
                  </a:lnTo>
                  <a:lnTo>
                    <a:pt x="159" y="790"/>
                  </a:lnTo>
                  <a:lnTo>
                    <a:pt x="152" y="815"/>
                  </a:lnTo>
                  <a:lnTo>
                    <a:pt x="140" y="821"/>
                  </a:lnTo>
                  <a:lnTo>
                    <a:pt x="133" y="827"/>
                  </a:lnTo>
                  <a:lnTo>
                    <a:pt x="114" y="834"/>
                  </a:lnTo>
                  <a:lnTo>
                    <a:pt x="95" y="846"/>
                  </a:lnTo>
                  <a:lnTo>
                    <a:pt x="82" y="871"/>
                  </a:lnTo>
                  <a:lnTo>
                    <a:pt x="82" y="883"/>
                  </a:lnTo>
                  <a:lnTo>
                    <a:pt x="76" y="902"/>
                  </a:lnTo>
                  <a:lnTo>
                    <a:pt x="76" y="915"/>
                  </a:lnTo>
                  <a:lnTo>
                    <a:pt x="70" y="927"/>
                  </a:lnTo>
                  <a:lnTo>
                    <a:pt x="57" y="933"/>
                  </a:lnTo>
                  <a:lnTo>
                    <a:pt x="44" y="939"/>
                  </a:lnTo>
                  <a:lnTo>
                    <a:pt x="32" y="952"/>
                  </a:lnTo>
                  <a:lnTo>
                    <a:pt x="12" y="964"/>
                  </a:lnTo>
                  <a:lnTo>
                    <a:pt x="0" y="971"/>
                  </a:lnTo>
                  <a:lnTo>
                    <a:pt x="6" y="964"/>
                  </a:lnTo>
                  <a:lnTo>
                    <a:pt x="6" y="958"/>
                  </a:lnTo>
                  <a:lnTo>
                    <a:pt x="12" y="946"/>
                  </a:lnTo>
                  <a:lnTo>
                    <a:pt x="12" y="939"/>
                  </a:lnTo>
                  <a:lnTo>
                    <a:pt x="12" y="933"/>
                  </a:lnTo>
                  <a:lnTo>
                    <a:pt x="19" y="927"/>
                  </a:lnTo>
                  <a:lnTo>
                    <a:pt x="19" y="921"/>
                  </a:lnTo>
                  <a:lnTo>
                    <a:pt x="25" y="915"/>
                  </a:lnTo>
                  <a:lnTo>
                    <a:pt x="25" y="908"/>
                  </a:lnTo>
                  <a:lnTo>
                    <a:pt x="25" y="902"/>
                  </a:lnTo>
                  <a:lnTo>
                    <a:pt x="25" y="896"/>
                  </a:lnTo>
                  <a:lnTo>
                    <a:pt x="32" y="896"/>
                  </a:lnTo>
                  <a:lnTo>
                    <a:pt x="32" y="890"/>
                  </a:lnTo>
                  <a:lnTo>
                    <a:pt x="38" y="883"/>
                  </a:lnTo>
                  <a:lnTo>
                    <a:pt x="44" y="877"/>
                  </a:lnTo>
                  <a:lnTo>
                    <a:pt x="44" y="871"/>
                  </a:lnTo>
                  <a:lnTo>
                    <a:pt x="44" y="865"/>
                  </a:lnTo>
                  <a:lnTo>
                    <a:pt x="51" y="859"/>
                  </a:lnTo>
                  <a:lnTo>
                    <a:pt x="57" y="852"/>
                  </a:lnTo>
                  <a:lnTo>
                    <a:pt x="63" y="846"/>
                  </a:lnTo>
                  <a:lnTo>
                    <a:pt x="63" y="840"/>
                  </a:lnTo>
                  <a:lnTo>
                    <a:pt x="70" y="840"/>
                  </a:lnTo>
                  <a:lnTo>
                    <a:pt x="70" y="834"/>
                  </a:lnTo>
                  <a:lnTo>
                    <a:pt x="70" y="827"/>
                  </a:lnTo>
                  <a:lnTo>
                    <a:pt x="70" y="821"/>
                  </a:lnTo>
                  <a:lnTo>
                    <a:pt x="76" y="815"/>
                  </a:lnTo>
                  <a:lnTo>
                    <a:pt x="76" y="809"/>
                  </a:lnTo>
                  <a:lnTo>
                    <a:pt x="82" y="803"/>
                  </a:lnTo>
                  <a:lnTo>
                    <a:pt x="82" y="796"/>
                  </a:lnTo>
                  <a:lnTo>
                    <a:pt x="89" y="790"/>
                  </a:lnTo>
                  <a:lnTo>
                    <a:pt x="89" y="784"/>
                  </a:lnTo>
                  <a:lnTo>
                    <a:pt x="89" y="778"/>
                  </a:lnTo>
                  <a:lnTo>
                    <a:pt x="89" y="771"/>
                  </a:lnTo>
                  <a:lnTo>
                    <a:pt x="89" y="765"/>
                  </a:lnTo>
                  <a:lnTo>
                    <a:pt x="89" y="759"/>
                  </a:lnTo>
                  <a:lnTo>
                    <a:pt x="95" y="753"/>
                  </a:lnTo>
                  <a:lnTo>
                    <a:pt x="95" y="747"/>
                  </a:lnTo>
                  <a:lnTo>
                    <a:pt x="95" y="734"/>
                  </a:lnTo>
                  <a:lnTo>
                    <a:pt x="101" y="728"/>
                  </a:lnTo>
                  <a:lnTo>
                    <a:pt x="101" y="722"/>
                  </a:lnTo>
                  <a:lnTo>
                    <a:pt x="101" y="715"/>
                  </a:lnTo>
                  <a:lnTo>
                    <a:pt x="101" y="709"/>
                  </a:lnTo>
                  <a:lnTo>
                    <a:pt x="108" y="703"/>
                  </a:lnTo>
                  <a:lnTo>
                    <a:pt x="108" y="697"/>
                  </a:lnTo>
                  <a:lnTo>
                    <a:pt x="108" y="691"/>
                  </a:lnTo>
                  <a:lnTo>
                    <a:pt x="108" y="684"/>
                  </a:lnTo>
                  <a:lnTo>
                    <a:pt x="108" y="678"/>
                  </a:lnTo>
                  <a:lnTo>
                    <a:pt x="114" y="678"/>
                  </a:lnTo>
                  <a:lnTo>
                    <a:pt x="114" y="672"/>
                  </a:lnTo>
                  <a:lnTo>
                    <a:pt x="114" y="666"/>
                  </a:lnTo>
                  <a:lnTo>
                    <a:pt x="114" y="659"/>
                  </a:lnTo>
                  <a:lnTo>
                    <a:pt x="114" y="653"/>
                  </a:lnTo>
                  <a:lnTo>
                    <a:pt x="114" y="647"/>
                  </a:lnTo>
                  <a:lnTo>
                    <a:pt x="114" y="641"/>
                  </a:lnTo>
                  <a:lnTo>
                    <a:pt x="108" y="634"/>
                  </a:lnTo>
                  <a:lnTo>
                    <a:pt x="108" y="628"/>
                  </a:lnTo>
                  <a:lnTo>
                    <a:pt x="108" y="622"/>
                  </a:lnTo>
                  <a:lnTo>
                    <a:pt x="101" y="616"/>
                  </a:lnTo>
                  <a:lnTo>
                    <a:pt x="101" y="610"/>
                  </a:lnTo>
                  <a:lnTo>
                    <a:pt x="101" y="603"/>
                  </a:lnTo>
                  <a:lnTo>
                    <a:pt x="101" y="597"/>
                  </a:lnTo>
                  <a:lnTo>
                    <a:pt x="101" y="591"/>
                  </a:lnTo>
                  <a:lnTo>
                    <a:pt x="101" y="578"/>
                  </a:lnTo>
                  <a:lnTo>
                    <a:pt x="101" y="572"/>
                  </a:lnTo>
                  <a:lnTo>
                    <a:pt x="108" y="566"/>
                  </a:lnTo>
                  <a:lnTo>
                    <a:pt x="108" y="560"/>
                  </a:lnTo>
                  <a:lnTo>
                    <a:pt x="114" y="554"/>
                  </a:lnTo>
                  <a:lnTo>
                    <a:pt x="114" y="547"/>
                  </a:lnTo>
                  <a:lnTo>
                    <a:pt x="121" y="541"/>
                  </a:lnTo>
                  <a:lnTo>
                    <a:pt x="121" y="535"/>
                  </a:lnTo>
                  <a:lnTo>
                    <a:pt x="127" y="529"/>
                  </a:lnTo>
                  <a:lnTo>
                    <a:pt x="133" y="522"/>
                  </a:lnTo>
                  <a:lnTo>
                    <a:pt x="133" y="516"/>
                  </a:lnTo>
                  <a:lnTo>
                    <a:pt x="140" y="516"/>
                  </a:lnTo>
                  <a:lnTo>
                    <a:pt x="140" y="510"/>
                  </a:lnTo>
                  <a:lnTo>
                    <a:pt x="146" y="504"/>
                  </a:lnTo>
                  <a:lnTo>
                    <a:pt x="152" y="504"/>
                  </a:lnTo>
                  <a:lnTo>
                    <a:pt x="159" y="498"/>
                  </a:lnTo>
                  <a:lnTo>
                    <a:pt x="165" y="491"/>
                  </a:lnTo>
                  <a:lnTo>
                    <a:pt x="165" y="485"/>
                  </a:lnTo>
                  <a:lnTo>
                    <a:pt x="171" y="479"/>
                  </a:lnTo>
                  <a:lnTo>
                    <a:pt x="178" y="479"/>
                  </a:lnTo>
                  <a:lnTo>
                    <a:pt x="178" y="473"/>
                  </a:lnTo>
                  <a:lnTo>
                    <a:pt x="184" y="466"/>
                  </a:lnTo>
                  <a:lnTo>
                    <a:pt x="190" y="460"/>
                  </a:lnTo>
                  <a:lnTo>
                    <a:pt x="197" y="454"/>
                  </a:lnTo>
                  <a:lnTo>
                    <a:pt x="197" y="448"/>
                  </a:lnTo>
                  <a:lnTo>
                    <a:pt x="203" y="448"/>
                  </a:lnTo>
                  <a:lnTo>
                    <a:pt x="209" y="442"/>
                  </a:lnTo>
                  <a:lnTo>
                    <a:pt x="216" y="435"/>
                  </a:lnTo>
                  <a:lnTo>
                    <a:pt x="216" y="429"/>
                  </a:lnTo>
                  <a:lnTo>
                    <a:pt x="222" y="423"/>
                  </a:lnTo>
                  <a:lnTo>
                    <a:pt x="229" y="417"/>
                  </a:lnTo>
                  <a:lnTo>
                    <a:pt x="235" y="410"/>
                  </a:lnTo>
                  <a:lnTo>
                    <a:pt x="241" y="410"/>
                  </a:lnTo>
                  <a:lnTo>
                    <a:pt x="248" y="410"/>
                  </a:lnTo>
                  <a:lnTo>
                    <a:pt x="248" y="404"/>
                  </a:lnTo>
                  <a:lnTo>
                    <a:pt x="254" y="398"/>
                  </a:lnTo>
                  <a:lnTo>
                    <a:pt x="260" y="398"/>
                  </a:lnTo>
                  <a:lnTo>
                    <a:pt x="273" y="392"/>
                  </a:lnTo>
                  <a:lnTo>
                    <a:pt x="279" y="386"/>
                  </a:lnTo>
                  <a:lnTo>
                    <a:pt x="286" y="386"/>
                  </a:lnTo>
                  <a:lnTo>
                    <a:pt x="292" y="379"/>
                  </a:lnTo>
                  <a:lnTo>
                    <a:pt x="298" y="379"/>
                  </a:lnTo>
                  <a:lnTo>
                    <a:pt x="305" y="379"/>
                  </a:lnTo>
                  <a:lnTo>
                    <a:pt x="311" y="379"/>
                  </a:lnTo>
                  <a:lnTo>
                    <a:pt x="318" y="373"/>
                  </a:lnTo>
                  <a:lnTo>
                    <a:pt x="330" y="367"/>
                  </a:lnTo>
                  <a:lnTo>
                    <a:pt x="337" y="361"/>
                  </a:lnTo>
                  <a:lnTo>
                    <a:pt x="343" y="361"/>
                  </a:lnTo>
                  <a:lnTo>
                    <a:pt x="343" y="354"/>
                  </a:lnTo>
                  <a:lnTo>
                    <a:pt x="349" y="348"/>
                  </a:lnTo>
                  <a:lnTo>
                    <a:pt x="356" y="348"/>
                  </a:lnTo>
                  <a:lnTo>
                    <a:pt x="362" y="348"/>
                  </a:lnTo>
                  <a:lnTo>
                    <a:pt x="362" y="342"/>
                  </a:lnTo>
                  <a:lnTo>
                    <a:pt x="368" y="342"/>
                  </a:lnTo>
                  <a:lnTo>
                    <a:pt x="375" y="336"/>
                  </a:lnTo>
                  <a:lnTo>
                    <a:pt x="381" y="336"/>
                  </a:lnTo>
                  <a:lnTo>
                    <a:pt x="387" y="329"/>
                  </a:lnTo>
                  <a:lnTo>
                    <a:pt x="394" y="329"/>
                  </a:lnTo>
                  <a:lnTo>
                    <a:pt x="400" y="323"/>
                  </a:lnTo>
                  <a:lnTo>
                    <a:pt x="407" y="323"/>
                  </a:lnTo>
                  <a:lnTo>
                    <a:pt x="413" y="317"/>
                  </a:lnTo>
                  <a:lnTo>
                    <a:pt x="419" y="317"/>
                  </a:lnTo>
                  <a:lnTo>
                    <a:pt x="426" y="311"/>
                  </a:lnTo>
                  <a:lnTo>
                    <a:pt x="432" y="311"/>
                  </a:lnTo>
                  <a:lnTo>
                    <a:pt x="438" y="311"/>
                  </a:lnTo>
                  <a:lnTo>
                    <a:pt x="445" y="311"/>
                  </a:lnTo>
                  <a:lnTo>
                    <a:pt x="451" y="305"/>
                  </a:lnTo>
                  <a:lnTo>
                    <a:pt x="470" y="298"/>
                  </a:lnTo>
                  <a:lnTo>
                    <a:pt x="476" y="292"/>
                  </a:lnTo>
                  <a:lnTo>
                    <a:pt x="483" y="292"/>
                  </a:lnTo>
                  <a:lnTo>
                    <a:pt x="495" y="286"/>
                  </a:lnTo>
                  <a:lnTo>
                    <a:pt x="502" y="280"/>
                  </a:lnTo>
                  <a:lnTo>
                    <a:pt x="508" y="280"/>
                  </a:lnTo>
                  <a:lnTo>
                    <a:pt x="515" y="280"/>
                  </a:lnTo>
                  <a:lnTo>
                    <a:pt x="521" y="273"/>
                  </a:lnTo>
                  <a:lnTo>
                    <a:pt x="534" y="267"/>
                  </a:lnTo>
                  <a:lnTo>
                    <a:pt x="546" y="261"/>
                  </a:lnTo>
                  <a:lnTo>
                    <a:pt x="553" y="255"/>
                  </a:lnTo>
                  <a:lnTo>
                    <a:pt x="559" y="255"/>
                  </a:lnTo>
                  <a:lnTo>
                    <a:pt x="565" y="249"/>
                  </a:lnTo>
                  <a:lnTo>
                    <a:pt x="578" y="249"/>
                  </a:lnTo>
                  <a:lnTo>
                    <a:pt x="578" y="242"/>
                  </a:lnTo>
                  <a:lnTo>
                    <a:pt x="584" y="242"/>
                  </a:lnTo>
                  <a:lnTo>
                    <a:pt x="591" y="236"/>
                  </a:lnTo>
                  <a:lnTo>
                    <a:pt x="604" y="230"/>
                  </a:lnTo>
                  <a:lnTo>
                    <a:pt x="610" y="224"/>
                  </a:lnTo>
                  <a:lnTo>
                    <a:pt x="616" y="217"/>
                  </a:lnTo>
                  <a:lnTo>
                    <a:pt x="629" y="211"/>
                  </a:lnTo>
                  <a:lnTo>
                    <a:pt x="635" y="205"/>
                  </a:lnTo>
                  <a:lnTo>
                    <a:pt x="648" y="199"/>
                  </a:lnTo>
                  <a:lnTo>
                    <a:pt x="654" y="193"/>
                  </a:lnTo>
                  <a:lnTo>
                    <a:pt x="661" y="186"/>
                  </a:lnTo>
                  <a:lnTo>
                    <a:pt x="667" y="186"/>
                  </a:lnTo>
                  <a:lnTo>
                    <a:pt x="673" y="186"/>
                  </a:lnTo>
                  <a:lnTo>
                    <a:pt x="680" y="180"/>
                  </a:lnTo>
                  <a:lnTo>
                    <a:pt x="686" y="180"/>
                  </a:lnTo>
                  <a:lnTo>
                    <a:pt x="692" y="174"/>
                  </a:lnTo>
                  <a:lnTo>
                    <a:pt x="705" y="174"/>
                  </a:lnTo>
                  <a:lnTo>
                    <a:pt x="712" y="174"/>
                  </a:lnTo>
                  <a:lnTo>
                    <a:pt x="718" y="174"/>
                  </a:lnTo>
                  <a:lnTo>
                    <a:pt x="724" y="168"/>
                  </a:lnTo>
                  <a:lnTo>
                    <a:pt x="724" y="161"/>
                  </a:lnTo>
                  <a:lnTo>
                    <a:pt x="718" y="155"/>
                  </a:lnTo>
                  <a:lnTo>
                    <a:pt x="724" y="155"/>
                  </a:lnTo>
                  <a:lnTo>
                    <a:pt x="731" y="149"/>
                  </a:lnTo>
                  <a:lnTo>
                    <a:pt x="737" y="143"/>
                  </a:lnTo>
                  <a:lnTo>
                    <a:pt x="737" y="137"/>
                  </a:lnTo>
                  <a:lnTo>
                    <a:pt x="743" y="137"/>
                  </a:lnTo>
                  <a:lnTo>
                    <a:pt x="750" y="130"/>
                  </a:lnTo>
                  <a:lnTo>
                    <a:pt x="756" y="124"/>
                  </a:lnTo>
                  <a:lnTo>
                    <a:pt x="756" y="118"/>
                  </a:lnTo>
                  <a:lnTo>
                    <a:pt x="762" y="112"/>
                  </a:lnTo>
                  <a:lnTo>
                    <a:pt x="769" y="112"/>
                  </a:lnTo>
                  <a:lnTo>
                    <a:pt x="769" y="105"/>
                  </a:lnTo>
                  <a:lnTo>
                    <a:pt x="775" y="99"/>
                  </a:lnTo>
                  <a:lnTo>
                    <a:pt x="788" y="93"/>
                  </a:lnTo>
                  <a:lnTo>
                    <a:pt x="794" y="87"/>
                  </a:lnTo>
                  <a:lnTo>
                    <a:pt x="801" y="87"/>
                  </a:lnTo>
                  <a:lnTo>
                    <a:pt x="807" y="80"/>
                  </a:lnTo>
                  <a:lnTo>
                    <a:pt x="813" y="74"/>
                  </a:lnTo>
                  <a:lnTo>
                    <a:pt x="820" y="68"/>
                  </a:lnTo>
                  <a:lnTo>
                    <a:pt x="826" y="62"/>
                  </a:lnTo>
                  <a:lnTo>
                    <a:pt x="839" y="56"/>
                  </a:lnTo>
                  <a:lnTo>
                    <a:pt x="839" y="49"/>
                  </a:lnTo>
                  <a:lnTo>
                    <a:pt x="845" y="43"/>
                  </a:lnTo>
                  <a:lnTo>
                    <a:pt x="858" y="37"/>
                  </a:lnTo>
                  <a:lnTo>
                    <a:pt x="864" y="37"/>
                  </a:lnTo>
                  <a:lnTo>
                    <a:pt x="864" y="31"/>
                  </a:lnTo>
                  <a:lnTo>
                    <a:pt x="870" y="24"/>
                  </a:lnTo>
                  <a:lnTo>
                    <a:pt x="883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72200" y="1878120"/>
              <a:ext cx="3500640" cy="5927760"/>
            </a:xfrm>
            <a:custGeom>
              <a:avLst/>
              <a:gdLst/>
              <a:ahLst/>
              <a:rect l="l" t="t" r="r" b="b"/>
              <a:pathLst>
                <a:path w="2205" h="3734">
                  <a:moveTo>
                    <a:pt x="572" y="0"/>
                  </a:moveTo>
                  <a:lnTo>
                    <a:pt x="578" y="6"/>
                  </a:lnTo>
                  <a:lnTo>
                    <a:pt x="578" y="12"/>
                  </a:lnTo>
                  <a:lnTo>
                    <a:pt x="578" y="18"/>
                  </a:lnTo>
                  <a:lnTo>
                    <a:pt x="585" y="18"/>
                  </a:lnTo>
                  <a:lnTo>
                    <a:pt x="585" y="25"/>
                  </a:lnTo>
                  <a:lnTo>
                    <a:pt x="585" y="31"/>
                  </a:lnTo>
                  <a:lnTo>
                    <a:pt x="591" y="31"/>
                  </a:lnTo>
                  <a:lnTo>
                    <a:pt x="591" y="37"/>
                  </a:lnTo>
                  <a:lnTo>
                    <a:pt x="598" y="37"/>
                  </a:lnTo>
                  <a:lnTo>
                    <a:pt x="604" y="49"/>
                  </a:lnTo>
                  <a:lnTo>
                    <a:pt x="623" y="74"/>
                  </a:lnTo>
                  <a:lnTo>
                    <a:pt x="642" y="106"/>
                  </a:lnTo>
                  <a:lnTo>
                    <a:pt x="655" y="137"/>
                  </a:lnTo>
                  <a:lnTo>
                    <a:pt x="667" y="168"/>
                  </a:lnTo>
                  <a:lnTo>
                    <a:pt x="680" y="199"/>
                  </a:lnTo>
                  <a:lnTo>
                    <a:pt x="687" y="224"/>
                  </a:lnTo>
                  <a:lnTo>
                    <a:pt x="699" y="242"/>
                  </a:lnTo>
                  <a:lnTo>
                    <a:pt x="706" y="261"/>
                  </a:lnTo>
                  <a:lnTo>
                    <a:pt x="706" y="280"/>
                  </a:lnTo>
                  <a:lnTo>
                    <a:pt x="712" y="298"/>
                  </a:lnTo>
                  <a:lnTo>
                    <a:pt x="718" y="311"/>
                  </a:lnTo>
                  <a:lnTo>
                    <a:pt x="731" y="317"/>
                  </a:lnTo>
                  <a:lnTo>
                    <a:pt x="750" y="330"/>
                  </a:lnTo>
                  <a:lnTo>
                    <a:pt x="769" y="330"/>
                  </a:lnTo>
                  <a:lnTo>
                    <a:pt x="788" y="336"/>
                  </a:lnTo>
                  <a:lnTo>
                    <a:pt x="801" y="342"/>
                  </a:lnTo>
                  <a:lnTo>
                    <a:pt x="820" y="354"/>
                  </a:lnTo>
                  <a:lnTo>
                    <a:pt x="852" y="379"/>
                  </a:lnTo>
                  <a:lnTo>
                    <a:pt x="877" y="404"/>
                  </a:lnTo>
                  <a:lnTo>
                    <a:pt x="890" y="417"/>
                  </a:lnTo>
                  <a:lnTo>
                    <a:pt x="922" y="448"/>
                  </a:lnTo>
                  <a:lnTo>
                    <a:pt x="953" y="467"/>
                  </a:lnTo>
                  <a:lnTo>
                    <a:pt x="966" y="473"/>
                  </a:lnTo>
                  <a:lnTo>
                    <a:pt x="973" y="491"/>
                  </a:lnTo>
                  <a:lnTo>
                    <a:pt x="979" y="510"/>
                  </a:lnTo>
                  <a:lnTo>
                    <a:pt x="979" y="535"/>
                  </a:lnTo>
                  <a:lnTo>
                    <a:pt x="979" y="560"/>
                  </a:lnTo>
                  <a:lnTo>
                    <a:pt x="979" y="572"/>
                  </a:lnTo>
                  <a:lnTo>
                    <a:pt x="985" y="585"/>
                  </a:lnTo>
                  <a:lnTo>
                    <a:pt x="998" y="597"/>
                  </a:lnTo>
                  <a:lnTo>
                    <a:pt x="1004" y="616"/>
                  </a:lnTo>
                  <a:lnTo>
                    <a:pt x="1011" y="628"/>
                  </a:lnTo>
                  <a:lnTo>
                    <a:pt x="1017" y="635"/>
                  </a:lnTo>
                  <a:lnTo>
                    <a:pt x="1017" y="647"/>
                  </a:lnTo>
                  <a:lnTo>
                    <a:pt x="1017" y="659"/>
                  </a:lnTo>
                  <a:lnTo>
                    <a:pt x="1023" y="678"/>
                  </a:lnTo>
                  <a:lnTo>
                    <a:pt x="1030" y="684"/>
                  </a:lnTo>
                  <a:lnTo>
                    <a:pt x="1042" y="691"/>
                  </a:lnTo>
                  <a:lnTo>
                    <a:pt x="1049" y="703"/>
                  </a:lnTo>
                  <a:lnTo>
                    <a:pt x="1055" y="709"/>
                  </a:lnTo>
                  <a:lnTo>
                    <a:pt x="1055" y="722"/>
                  </a:lnTo>
                  <a:lnTo>
                    <a:pt x="1055" y="740"/>
                  </a:lnTo>
                  <a:lnTo>
                    <a:pt x="1049" y="753"/>
                  </a:lnTo>
                  <a:lnTo>
                    <a:pt x="1049" y="765"/>
                  </a:lnTo>
                  <a:lnTo>
                    <a:pt x="1055" y="790"/>
                  </a:lnTo>
                  <a:lnTo>
                    <a:pt x="1055" y="815"/>
                  </a:lnTo>
                  <a:lnTo>
                    <a:pt x="1061" y="821"/>
                  </a:lnTo>
                  <a:lnTo>
                    <a:pt x="1061" y="840"/>
                  </a:lnTo>
                  <a:lnTo>
                    <a:pt x="1061" y="865"/>
                  </a:lnTo>
                  <a:lnTo>
                    <a:pt x="1061" y="902"/>
                  </a:lnTo>
                  <a:lnTo>
                    <a:pt x="1068" y="921"/>
                  </a:lnTo>
                  <a:lnTo>
                    <a:pt x="1068" y="933"/>
                  </a:lnTo>
                  <a:lnTo>
                    <a:pt x="1081" y="952"/>
                  </a:lnTo>
                  <a:lnTo>
                    <a:pt x="1093" y="971"/>
                  </a:lnTo>
                  <a:lnTo>
                    <a:pt x="1106" y="996"/>
                  </a:lnTo>
                  <a:lnTo>
                    <a:pt x="1112" y="1008"/>
                  </a:lnTo>
                  <a:lnTo>
                    <a:pt x="1119" y="1021"/>
                  </a:lnTo>
                  <a:lnTo>
                    <a:pt x="1119" y="1039"/>
                  </a:lnTo>
                  <a:lnTo>
                    <a:pt x="1119" y="1064"/>
                  </a:lnTo>
                  <a:lnTo>
                    <a:pt x="1125" y="1089"/>
                  </a:lnTo>
                  <a:lnTo>
                    <a:pt x="1125" y="1108"/>
                  </a:lnTo>
                  <a:lnTo>
                    <a:pt x="1131" y="1120"/>
                  </a:lnTo>
                  <a:lnTo>
                    <a:pt x="1131" y="1133"/>
                  </a:lnTo>
                  <a:lnTo>
                    <a:pt x="1138" y="1145"/>
                  </a:lnTo>
                  <a:lnTo>
                    <a:pt x="1131" y="1164"/>
                  </a:lnTo>
                  <a:lnTo>
                    <a:pt x="1131" y="1182"/>
                  </a:lnTo>
                  <a:lnTo>
                    <a:pt x="1125" y="1195"/>
                  </a:lnTo>
                  <a:lnTo>
                    <a:pt x="1119" y="1213"/>
                  </a:lnTo>
                  <a:lnTo>
                    <a:pt x="1112" y="1226"/>
                  </a:lnTo>
                  <a:lnTo>
                    <a:pt x="1106" y="1232"/>
                  </a:lnTo>
                  <a:lnTo>
                    <a:pt x="1093" y="1238"/>
                  </a:lnTo>
                  <a:lnTo>
                    <a:pt x="1081" y="1238"/>
                  </a:lnTo>
                  <a:lnTo>
                    <a:pt x="1074" y="1238"/>
                  </a:lnTo>
                  <a:lnTo>
                    <a:pt x="1068" y="1245"/>
                  </a:lnTo>
                  <a:lnTo>
                    <a:pt x="1068" y="1251"/>
                  </a:lnTo>
                  <a:lnTo>
                    <a:pt x="1061" y="1257"/>
                  </a:lnTo>
                  <a:lnTo>
                    <a:pt x="1061" y="1263"/>
                  </a:lnTo>
                  <a:lnTo>
                    <a:pt x="1068" y="1288"/>
                  </a:lnTo>
                  <a:lnTo>
                    <a:pt x="1074" y="1319"/>
                  </a:lnTo>
                  <a:lnTo>
                    <a:pt x="1087" y="1363"/>
                  </a:lnTo>
                  <a:lnTo>
                    <a:pt x="1093" y="1388"/>
                  </a:lnTo>
                  <a:lnTo>
                    <a:pt x="1106" y="1425"/>
                  </a:lnTo>
                  <a:lnTo>
                    <a:pt x="1119" y="1444"/>
                  </a:lnTo>
                  <a:lnTo>
                    <a:pt x="1131" y="1462"/>
                  </a:lnTo>
                  <a:lnTo>
                    <a:pt x="1150" y="1487"/>
                  </a:lnTo>
                  <a:lnTo>
                    <a:pt x="1157" y="1500"/>
                  </a:lnTo>
                  <a:lnTo>
                    <a:pt x="1163" y="1512"/>
                  </a:lnTo>
                  <a:lnTo>
                    <a:pt x="1170" y="1525"/>
                  </a:lnTo>
                  <a:lnTo>
                    <a:pt x="1170" y="1537"/>
                  </a:lnTo>
                  <a:lnTo>
                    <a:pt x="1170" y="1543"/>
                  </a:lnTo>
                  <a:lnTo>
                    <a:pt x="1176" y="1556"/>
                  </a:lnTo>
                  <a:lnTo>
                    <a:pt x="1189" y="1562"/>
                  </a:lnTo>
                  <a:lnTo>
                    <a:pt x="1195" y="1562"/>
                  </a:lnTo>
                  <a:lnTo>
                    <a:pt x="1208" y="1568"/>
                  </a:lnTo>
                  <a:lnTo>
                    <a:pt x="1220" y="1575"/>
                  </a:lnTo>
                  <a:lnTo>
                    <a:pt x="1233" y="1587"/>
                  </a:lnTo>
                  <a:lnTo>
                    <a:pt x="1246" y="1612"/>
                  </a:lnTo>
                  <a:lnTo>
                    <a:pt x="1259" y="1631"/>
                  </a:lnTo>
                  <a:lnTo>
                    <a:pt x="1284" y="1655"/>
                  </a:lnTo>
                  <a:lnTo>
                    <a:pt x="1309" y="1693"/>
                  </a:lnTo>
                  <a:lnTo>
                    <a:pt x="1328" y="1718"/>
                  </a:lnTo>
                  <a:lnTo>
                    <a:pt x="1335" y="1724"/>
                  </a:lnTo>
                  <a:lnTo>
                    <a:pt x="1354" y="1743"/>
                  </a:lnTo>
                  <a:lnTo>
                    <a:pt x="1367" y="1761"/>
                  </a:lnTo>
                  <a:lnTo>
                    <a:pt x="1379" y="1774"/>
                  </a:lnTo>
                  <a:lnTo>
                    <a:pt x="1392" y="1792"/>
                  </a:lnTo>
                  <a:lnTo>
                    <a:pt x="1392" y="1799"/>
                  </a:lnTo>
                  <a:lnTo>
                    <a:pt x="1398" y="1811"/>
                  </a:lnTo>
                  <a:lnTo>
                    <a:pt x="1405" y="1817"/>
                  </a:lnTo>
                  <a:lnTo>
                    <a:pt x="1411" y="1824"/>
                  </a:lnTo>
                  <a:lnTo>
                    <a:pt x="1417" y="1824"/>
                  </a:lnTo>
                  <a:lnTo>
                    <a:pt x="1430" y="1824"/>
                  </a:lnTo>
                  <a:lnTo>
                    <a:pt x="1436" y="1830"/>
                  </a:lnTo>
                  <a:lnTo>
                    <a:pt x="1436" y="1842"/>
                  </a:lnTo>
                  <a:lnTo>
                    <a:pt x="1436" y="1848"/>
                  </a:lnTo>
                  <a:lnTo>
                    <a:pt x="1443" y="1861"/>
                  </a:lnTo>
                  <a:lnTo>
                    <a:pt x="1449" y="1867"/>
                  </a:lnTo>
                  <a:lnTo>
                    <a:pt x="1456" y="1880"/>
                  </a:lnTo>
                  <a:lnTo>
                    <a:pt x="1456" y="1886"/>
                  </a:lnTo>
                  <a:lnTo>
                    <a:pt x="1462" y="1892"/>
                  </a:lnTo>
                  <a:lnTo>
                    <a:pt x="1462" y="1898"/>
                  </a:lnTo>
                  <a:lnTo>
                    <a:pt x="1462" y="1911"/>
                  </a:lnTo>
                  <a:lnTo>
                    <a:pt x="1468" y="1911"/>
                  </a:lnTo>
                  <a:lnTo>
                    <a:pt x="1468" y="1917"/>
                  </a:lnTo>
                  <a:lnTo>
                    <a:pt x="1481" y="1923"/>
                  </a:lnTo>
                  <a:lnTo>
                    <a:pt x="1487" y="1929"/>
                  </a:lnTo>
                  <a:lnTo>
                    <a:pt x="1494" y="1936"/>
                  </a:lnTo>
                  <a:lnTo>
                    <a:pt x="1500" y="1936"/>
                  </a:lnTo>
                  <a:lnTo>
                    <a:pt x="1506" y="1942"/>
                  </a:lnTo>
                  <a:lnTo>
                    <a:pt x="1513" y="1948"/>
                  </a:lnTo>
                  <a:lnTo>
                    <a:pt x="1519" y="1948"/>
                  </a:lnTo>
                  <a:lnTo>
                    <a:pt x="1532" y="1948"/>
                  </a:lnTo>
                  <a:lnTo>
                    <a:pt x="1544" y="1942"/>
                  </a:lnTo>
                  <a:lnTo>
                    <a:pt x="1557" y="1942"/>
                  </a:lnTo>
                  <a:lnTo>
                    <a:pt x="1564" y="1942"/>
                  </a:lnTo>
                  <a:lnTo>
                    <a:pt x="1583" y="1948"/>
                  </a:lnTo>
                  <a:lnTo>
                    <a:pt x="1595" y="1948"/>
                  </a:lnTo>
                  <a:lnTo>
                    <a:pt x="1608" y="1954"/>
                  </a:lnTo>
                  <a:lnTo>
                    <a:pt x="1614" y="1960"/>
                  </a:lnTo>
                  <a:lnTo>
                    <a:pt x="1627" y="1967"/>
                  </a:lnTo>
                  <a:lnTo>
                    <a:pt x="1640" y="1979"/>
                  </a:lnTo>
                  <a:lnTo>
                    <a:pt x="1659" y="1998"/>
                  </a:lnTo>
                  <a:lnTo>
                    <a:pt x="1665" y="2004"/>
                  </a:lnTo>
                  <a:lnTo>
                    <a:pt x="1678" y="2023"/>
                  </a:lnTo>
                  <a:lnTo>
                    <a:pt x="1691" y="2029"/>
                  </a:lnTo>
                  <a:lnTo>
                    <a:pt x="1703" y="2035"/>
                  </a:lnTo>
                  <a:lnTo>
                    <a:pt x="1710" y="2041"/>
                  </a:lnTo>
                  <a:lnTo>
                    <a:pt x="1716" y="2041"/>
                  </a:lnTo>
                  <a:lnTo>
                    <a:pt x="1722" y="2048"/>
                  </a:lnTo>
                  <a:lnTo>
                    <a:pt x="1722" y="2054"/>
                  </a:lnTo>
                  <a:lnTo>
                    <a:pt x="1716" y="2060"/>
                  </a:lnTo>
                  <a:lnTo>
                    <a:pt x="1716" y="2072"/>
                  </a:lnTo>
                  <a:lnTo>
                    <a:pt x="1722" y="2079"/>
                  </a:lnTo>
                  <a:lnTo>
                    <a:pt x="1742" y="2110"/>
                  </a:lnTo>
                  <a:lnTo>
                    <a:pt x="1767" y="2122"/>
                  </a:lnTo>
                  <a:lnTo>
                    <a:pt x="1786" y="2135"/>
                  </a:lnTo>
                  <a:lnTo>
                    <a:pt x="1805" y="2160"/>
                  </a:lnTo>
                  <a:lnTo>
                    <a:pt x="1805" y="2166"/>
                  </a:lnTo>
                  <a:lnTo>
                    <a:pt x="1818" y="2172"/>
                  </a:lnTo>
                  <a:lnTo>
                    <a:pt x="1824" y="2185"/>
                  </a:lnTo>
                  <a:lnTo>
                    <a:pt x="1830" y="2191"/>
                  </a:lnTo>
                  <a:lnTo>
                    <a:pt x="1837" y="2191"/>
                  </a:lnTo>
                  <a:lnTo>
                    <a:pt x="1843" y="2185"/>
                  </a:lnTo>
                  <a:lnTo>
                    <a:pt x="1850" y="2178"/>
                  </a:lnTo>
                  <a:lnTo>
                    <a:pt x="1850" y="2172"/>
                  </a:lnTo>
                  <a:lnTo>
                    <a:pt x="1843" y="2166"/>
                  </a:lnTo>
                  <a:lnTo>
                    <a:pt x="1843" y="2153"/>
                  </a:lnTo>
                  <a:lnTo>
                    <a:pt x="1837" y="2153"/>
                  </a:lnTo>
                  <a:lnTo>
                    <a:pt x="1824" y="2147"/>
                  </a:lnTo>
                  <a:lnTo>
                    <a:pt x="1824" y="2141"/>
                  </a:lnTo>
                  <a:lnTo>
                    <a:pt x="1824" y="2135"/>
                  </a:lnTo>
                  <a:lnTo>
                    <a:pt x="1830" y="2129"/>
                  </a:lnTo>
                  <a:lnTo>
                    <a:pt x="1843" y="2129"/>
                  </a:lnTo>
                  <a:lnTo>
                    <a:pt x="1856" y="2122"/>
                  </a:lnTo>
                  <a:lnTo>
                    <a:pt x="1862" y="2116"/>
                  </a:lnTo>
                  <a:lnTo>
                    <a:pt x="1869" y="2116"/>
                  </a:lnTo>
                  <a:lnTo>
                    <a:pt x="1875" y="2110"/>
                  </a:lnTo>
                  <a:lnTo>
                    <a:pt x="1881" y="2110"/>
                  </a:lnTo>
                  <a:lnTo>
                    <a:pt x="1888" y="2110"/>
                  </a:lnTo>
                  <a:lnTo>
                    <a:pt x="1900" y="2110"/>
                  </a:lnTo>
                  <a:lnTo>
                    <a:pt x="1907" y="2104"/>
                  </a:lnTo>
                  <a:lnTo>
                    <a:pt x="1913" y="2104"/>
                  </a:lnTo>
                  <a:lnTo>
                    <a:pt x="1926" y="2104"/>
                  </a:lnTo>
                  <a:lnTo>
                    <a:pt x="1932" y="2104"/>
                  </a:lnTo>
                  <a:lnTo>
                    <a:pt x="1945" y="2097"/>
                  </a:lnTo>
                  <a:lnTo>
                    <a:pt x="1951" y="2122"/>
                  </a:lnTo>
                  <a:lnTo>
                    <a:pt x="1958" y="2147"/>
                  </a:lnTo>
                  <a:lnTo>
                    <a:pt x="1970" y="2172"/>
                  </a:lnTo>
                  <a:lnTo>
                    <a:pt x="1983" y="2185"/>
                  </a:lnTo>
                  <a:lnTo>
                    <a:pt x="1996" y="2203"/>
                  </a:lnTo>
                  <a:lnTo>
                    <a:pt x="2008" y="2222"/>
                  </a:lnTo>
                  <a:lnTo>
                    <a:pt x="2015" y="2228"/>
                  </a:lnTo>
                  <a:lnTo>
                    <a:pt x="2021" y="2234"/>
                  </a:lnTo>
                  <a:lnTo>
                    <a:pt x="2034" y="2247"/>
                  </a:lnTo>
                  <a:lnTo>
                    <a:pt x="2059" y="2259"/>
                  </a:lnTo>
                  <a:lnTo>
                    <a:pt x="2085" y="2265"/>
                  </a:lnTo>
                  <a:lnTo>
                    <a:pt x="2110" y="2265"/>
                  </a:lnTo>
                  <a:lnTo>
                    <a:pt x="2116" y="2265"/>
                  </a:lnTo>
                  <a:lnTo>
                    <a:pt x="2123" y="2272"/>
                  </a:lnTo>
                  <a:lnTo>
                    <a:pt x="2129" y="2278"/>
                  </a:lnTo>
                  <a:lnTo>
                    <a:pt x="2136" y="2284"/>
                  </a:lnTo>
                  <a:lnTo>
                    <a:pt x="2136" y="2290"/>
                  </a:lnTo>
                  <a:lnTo>
                    <a:pt x="2129" y="2303"/>
                  </a:lnTo>
                  <a:lnTo>
                    <a:pt x="2142" y="2328"/>
                  </a:lnTo>
                  <a:lnTo>
                    <a:pt x="2142" y="2334"/>
                  </a:lnTo>
                  <a:lnTo>
                    <a:pt x="2155" y="2346"/>
                  </a:lnTo>
                  <a:lnTo>
                    <a:pt x="2167" y="2359"/>
                  </a:lnTo>
                  <a:lnTo>
                    <a:pt x="2180" y="2378"/>
                  </a:lnTo>
                  <a:lnTo>
                    <a:pt x="2193" y="2390"/>
                  </a:lnTo>
                  <a:lnTo>
                    <a:pt x="2205" y="2402"/>
                  </a:lnTo>
                  <a:lnTo>
                    <a:pt x="2199" y="2409"/>
                  </a:lnTo>
                  <a:lnTo>
                    <a:pt x="2193" y="2409"/>
                  </a:lnTo>
                  <a:lnTo>
                    <a:pt x="2186" y="2415"/>
                  </a:lnTo>
                  <a:lnTo>
                    <a:pt x="2180" y="2409"/>
                  </a:lnTo>
                  <a:lnTo>
                    <a:pt x="2174" y="2409"/>
                  </a:lnTo>
                  <a:lnTo>
                    <a:pt x="2167" y="2415"/>
                  </a:lnTo>
                  <a:lnTo>
                    <a:pt x="2161" y="2415"/>
                  </a:lnTo>
                  <a:lnTo>
                    <a:pt x="2161" y="2421"/>
                  </a:lnTo>
                  <a:lnTo>
                    <a:pt x="2161" y="2427"/>
                  </a:lnTo>
                  <a:lnTo>
                    <a:pt x="2161" y="2434"/>
                  </a:lnTo>
                  <a:lnTo>
                    <a:pt x="2167" y="2440"/>
                  </a:lnTo>
                  <a:lnTo>
                    <a:pt x="2167" y="2446"/>
                  </a:lnTo>
                  <a:lnTo>
                    <a:pt x="2167" y="2458"/>
                  </a:lnTo>
                  <a:lnTo>
                    <a:pt x="2161" y="2477"/>
                  </a:lnTo>
                  <a:lnTo>
                    <a:pt x="2155" y="2496"/>
                  </a:lnTo>
                  <a:lnTo>
                    <a:pt x="2148" y="2514"/>
                  </a:lnTo>
                  <a:lnTo>
                    <a:pt x="2142" y="2527"/>
                  </a:lnTo>
                  <a:lnTo>
                    <a:pt x="2142" y="2539"/>
                  </a:lnTo>
                  <a:lnTo>
                    <a:pt x="2142" y="2546"/>
                  </a:lnTo>
                  <a:lnTo>
                    <a:pt x="2148" y="2558"/>
                  </a:lnTo>
                  <a:lnTo>
                    <a:pt x="2148" y="2564"/>
                  </a:lnTo>
                  <a:lnTo>
                    <a:pt x="2148" y="2577"/>
                  </a:lnTo>
                  <a:lnTo>
                    <a:pt x="2142" y="2583"/>
                  </a:lnTo>
                  <a:lnTo>
                    <a:pt x="2136" y="2583"/>
                  </a:lnTo>
                  <a:lnTo>
                    <a:pt x="2123" y="2583"/>
                  </a:lnTo>
                  <a:lnTo>
                    <a:pt x="2104" y="2583"/>
                  </a:lnTo>
                  <a:lnTo>
                    <a:pt x="2097" y="2583"/>
                  </a:lnTo>
                  <a:lnTo>
                    <a:pt x="2091" y="2595"/>
                  </a:lnTo>
                  <a:lnTo>
                    <a:pt x="2085" y="2602"/>
                  </a:lnTo>
                  <a:lnTo>
                    <a:pt x="2078" y="2614"/>
                  </a:lnTo>
                  <a:lnTo>
                    <a:pt x="2072" y="2620"/>
                  </a:lnTo>
                  <a:lnTo>
                    <a:pt x="2066" y="2633"/>
                  </a:lnTo>
                  <a:lnTo>
                    <a:pt x="2059" y="2639"/>
                  </a:lnTo>
                  <a:lnTo>
                    <a:pt x="2059" y="2651"/>
                  </a:lnTo>
                  <a:lnTo>
                    <a:pt x="2053" y="2658"/>
                  </a:lnTo>
                  <a:lnTo>
                    <a:pt x="2053" y="2670"/>
                  </a:lnTo>
                  <a:lnTo>
                    <a:pt x="2040" y="2676"/>
                  </a:lnTo>
                  <a:lnTo>
                    <a:pt x="2034" y="2676"/>
                  </a:lnTo>
                  <a:lnTo>
                    <a:pt x="2021" y="2676"/>
                  </a:lnTo>
                  <a:lnTo>
                    <a:pt x="2015" y="2664"/>
                  </a:lnTo>
                  <a:lnTo>
                    <a:pt x="2002" y="2658"/>
                  </a:lnTo>
                  <a:lnTo>
                    <a:pt x="1996" y="2658"/>
                  </a:lnTo>
                  <a:lnTo>
                    <a:pt x="1977" y="2664"/>
                  </a:lnTo>
                  <a:lnTo>
                    <a:pt x="1977" y="2676"/>
                  </a:lnTo>
                  <a:lnTo>
                    <a:pt x="1977" y="2689"/>
                  </a:lnTo>
                  <a:lnTo>
                    <a:pt x="1983" y="2701"/>
                  </a:lnTo>
                  <a:lnTo>
                    <a:pt x="2002" y="2707"/>
                  </a:lnTo>
                  <a:lnTo>
                    <a:pt x="2015" y="2720"/>
                  </a:lnTo>
                  <a:lnTo>
                    <a:pt x="2021" y="2732"/>
                  </a:lnTo>
                  <a:lnTo>
                    <a:pt x="2028" y="2745"/>
                  </a:lnTo>
                  <a:lnTo>
                    <a:pt x="2028" y="2751"/>
                  </a:lnTo>
                  <a:lnTo>
                    <a:pt x="2021" y="2757"/>
                  </a:lnTo>
                  <a:lnTo>
                    <a:pt x="2015" y="2757"/>
                  </a:lnTo>
                  <a:lnTo>
                    <a:pt x="2002" y="2763"/>
                  </a:lnTo>
                  <a:lnTo>
                    <a:pt x="1996" y="2770"/>
                  </a:lnTo>
                  <a:lnTo>
                    <a:pt x="1983" y="2782"/>
                  </a:lnTo>
                  <a:lnTo>
                    <a:pt x="1977" y="2795"/>
                  </a:lnTo>
                  <a:lnTo>
                    <a:pt x="1977" y="2801"/>
                  </a:lnTo>
                  <a:lnTo>
                    <a:pt x="1970" y="2813"/>
                  </a:lnTo>
                  <a:lnTo>
                    <a:pt x="1958" y="2819"/>
                  </a:lnTo>
                  <a:lnTo>
                    <a:pt x="1945" y="2819"/>
                  </a:lnTo>
                  <a:lnTo>
                    <a:pt x="1932" y="2819"/>
                  </a:lnTo>
                  <a:lnTo>
                    <a:pt x="1919" y="2819"/>
                  </a:lnTo>
                  <a:lnTo>
                    <a:pt x="1888" y="2819"/>
                  </a:lnTo>
                  <a:lnTo>
                    <a:pt x="1875" y="2819"/>
                  </a:lnTo>
                  <a:lnTo>
                    <a:pt x="1869" y="2826"/>
                  </a:lnTo>
                  <a:lnTo>
                    <a:pt x="1869" y="2838"/>
                  </a:lnTo>
                  <a:lnTo>
                    <a:pt x="1869" y="2844"/>
                  </a:lnTo>
                  <a:lnTo>
                    <a:pt x="1875" y="2851"/>
                  </a:lnTo>
                  <a:lnTo>
                    <a:pt x="1881" y="2857"/>
                  </a:lnTo>
                  <a:lnTo>
                    <a:pt x="1888" y="2863"/>
                  </a:lnTo>
                  <a:lnTo>
                    <a:pt x="1894" y="2875"/>
                  </a:lnTo>
                  <a:lnTo>
                    <a:pt x="1888" y="2888"/>
                  </a:lnTo>
                  <a:lnTo>
                    <a:pt x="1881" y="2900"/>
                  </a:lnTo>
                  <a:lnTo>
                    <a:pt x="1862" y="2907"/>
                  </a:lnTo>
                  <a:lnTo>
                    <a:pt x="1837" y="2919"/>
                  </a:lnTo>
                  <a:lnTo>
                    <a:pt x="1811" y="2938"/>
                  </a:lnTo>
                  <a:lnTo>
                    <a:pt x="1786" y="2956"/>
                  </a:lnTo>
                  <a:lnTo>
                    <a:pt x="1780" y="2963"/>
                  </a:lnTo>
                  <a:lnTo>
                    <a:pt x="1773" y="2969"/>
                  </a:lnTo>
                  <a:lnTo>
                    <a:pt x="1767" y="2981"/>
                  </a:lnTo>
                  <a:lnTo>
                    <a:pt x="1767" y="2988"/>
                  </a:lnTo>
                  <a:lnTo>
                    <a:pt x="1773" y="3006"/>
                  </a:lnTo>
                  <a:lnTo>
                    <a:pt x="1780" y="3019"/>
                  </a:lnTo>
                  <a:lnTo>
                    <a:pt x="1780" y="3031"/>
                  </a:lnTo>
                  <a:lnTo>
                    <a:pt x="1780" y="3044"/>
                  </a:lnTo>
                  <a:lnTo>
                    <a:pt x="1780" y="3056"/>
                  </a:lnTo>
                  <a:lnTo>
                    <a:pt x="1780" y="3062"/>
                  </a:lnTo>
                  <a:lnTo>
                    <a:pt x="1792" y="3075"/>
                  </a:lnTo>
                  <a:lnTo>
                    <a:pt x="1799" y="3068"/>
                  </a:lnTo>
                  <a:lnTo>
                    <a:pt x="1805" y="3068"/>
                  </a:lnTo>
                  <a:lnTo>
                    <a:pt x="1824" y="3068"/>
                  </a:lnTo>
                  <a:lnTo>
                    <a:pt x="1837" y="3068"/>
                  </a:lnTo>
                  <a:lnTo>
                    <a:pt x="1850" y="3075"/>
                  </a:lnTo>
                  <a:lnTo>
                    <a:pt x="1856" y="3087"/>
                  </a:lnTo>
                  <a:lnTo>
                    <a:pt x="1856" y="3093"/>
                  </a:lnTo>
                  <a:lnTo>
                    <a:pt x="1862" y="3112"/>
                  </a:lnTo>
                  <a:lnTo>
                    <a:pt x="1862" y="3124"/>
                  </a:lnTo>
                  <a:lnTo>
                    <a:pt x="1862" y="3137"/>
                  </a:lnTo>
                  <a:lnTo>
                    <a:pt x="1862" y="3149"/>
                  </a:lnTo>
                  <a:lnTo>
                    <a:pt x="1875" y="3156"/>
                  </a:lnTo>
                  <a:lnTo>
                    <a:pt x="1888" y="3162"/>
                  </a:lnTo>
                  <a:lnTo>
                    <a:pt x="1907" y="3162"/>
                  </a:lnTo>
                  <a:lnTo>
                    <a:pt x="1926" y="3162"/>
                  </a:lnTo>
                  <a:lnTo>
                    <a:pt x="1945" y="3162"/>
                  </a:lnTo>
                  <a:lnTo>
                    <a:pt x="1951" y="3162"/>
                  </a:lnTo>
                  <a:lnTo>
                    <a:pt x="1958" y="3174"/>
                  </a:lnTo>
                  <a:lnTo>
                    <a:pt x="1964" y="3180"/>
                  </a:lnTo>
                  <a:lnTo>
                    <a:pt x="1964" y="3193"/>
                  </a:lnTo>
                  <a:lnTo>
                    <a:pt x="1970" y="3205"/>
                  </a:lnTo>
                  <a:lnTo>
                    <a:pt x="1970" y="3224"/>
                  </a:lnTo>
                  <a:lnTo>
                    <a:pt x="1964" y="3237"/>
                  </a:lnTo>
                  <a:lnTo>
                    <a:pt x="1958" y="3255"/>
                  </a:lnTo>
                  <a:lnTo>
                    <a:pt x="1951" y="3255"/>
                  </a:lnTo>
                  <a:lnTo>
                    <a:pt x="1951" y="3268"/>
                  </a:lnTo>
                  <a:lnTo>
                    <a:pt x="1951" y="3280"/>
                  </a:lnTo>
                  <a:lnTo>
                    <a:pt x="1951" y="3286"/>
                  </a:lnTo>
                  <a:lnTo>
                    <a:pt x="1958" y="3305"/>
                  </a:lnTo>
                  <a:lnTo>
                    <a:pt x="1970" y="3324"/>
                  </a:lnTo>
                  <a:lnTo>
                    <a:pt x="1977" y="3330"/>
                  </a:lnTo>
                  <a:lnTo>
                    <a:pt x="1989" y="3336"/>
                  </a:lnTo>
                  <a:lnTo>
                    <a:pt x="2002" y="3336"/>
                  </a:lnTo>
                  <a:lnTo>
                    <a:pt x="2008" y="3336"/>
                  </a:lnTo>
                  <a:lnTo>
                    <a:pt x="2021" y="3330"/>
                  </a:lnTo>
                  <a:lnTo>
                    <a:pt x="2034" y="3330"/>
                  </a:lnTo>
                  <a:lnTo>
                    <a:pt x="2040" y="3330"/>
                  </a:lnTo>
                  <a:lnTo>
                    <a:pt x="2040" y="3336"/>
                  </a:lnTo>
                  <a:lnTo>
                    <a:pt x="2040" y="3349"/>
                  </a:lnTo>
                  <a:lnTo>
                    <a:pt x="2034" y="3355"/>
                  </a:lnTo>
                  <a:lnTo>
                    <a:pt x="2034" y="3367"/>
                  </a:lnTo>
                  <a:lnTo>
                    <a:pt x="2028" y="3373"/>
                  </a:lnTo>
                  <a:lnTo>
                    <a:pt x="2021" y="3398"/>
                  </a:lnTo>
                  <a:lnTo>
                    <a:pt x="2021" y="3411"/>
                  </a:lnTo>
                  <a:lnTo>
                    <a:pt x="2021" y="3423"/>
                  </a:lnTo>
                  <a:lnTo>
                    <a:pt x="2015" y="3442"/>
                  </a:lnTo>
                  <a:lnTo>
                    <a:pt x="2008" y="3467"/>
                  </a:lnTo>
                  <a:lnTo>
                    <a:pt x="1996" y="3498"/>
                  </a:lnTo>
                  <a:lnTo>
                    <a:pt x="1989" y="3510"/>
                  </a:lnTo>
                  <a:lnTo>
                    <a:pt x="1977" y="3523"/>
                  </a:lnTo>
                  <a:lnTo>
                    <a:pt x="1964" y="3542"/>
                  </a:lnTo>
                  <a:lnTo>
                    <a:pt x="1951" y="3548"/>
                  </a:lnTo>
                  <a:lnTo>
                    <a:pt x="1945" y="3554"/>
                  </a:lnTo>
                  <a:lnTo>
                    <a:pt x="1932" y="3560"/>
                  </a:lnTo>
                  <a:lnTo>
                    <a:pt x="1913" y="3560"/>
                  </a:lnTo>
                  <a:lnTo>
                    <a:pt x="1900" y="3560"/>
                  </a:lnTo>
                  <a:lnTo>
                    <a:pt x="1894" y="3554"/>
                  </a:lnTo>
                  <a:lnTo>
                    <a:pt x="1875" y="3542"/>
                  </a:lnTo>
                  <a:lnTo>
                    <a:pt x="1856" y="3535"/>
                  </a:lnTo>
                  <a:lnTo>
                    <a:pt x="1837" y="3535"/>
                  </a:lnTo>
                  <a:lnTo>
                    <a:pt x="1824" y="3535"/>
                  </a:lnTo>
                  <a:lnTo>
                    <a:pt x="1805" y="3535"/>
                  </a:lnTo>
                  <a:lnTo>
                    <a:pt x="1786" y="3535"/>
                  </a:lnTo>
                  <a:lnTo>
                    <a:pt x="1780" y="3535"/>
                  </a:lnTo>
                  <a:lnTo>
                    <a:pt x="1767" y="3535"/>
                  </a:lnTo>
                  <a:lnTo>
                    <a:pt x="1754" y="3535"/>
                  </a:lnTo>
                  <a:lnTo>
                    <a:pt x="1742" y="3542"/>
                  </a:lnTo>
                  <a:lnTo>
                    <a:pt x="1735" y="3548"/>
                  </a:lnTo>
                  <a:lnTo>
                    <a:pt x="1729" y="3548"/>
                  </a:lnTo>
                  <a:lnTo>
                    <a:pt x="1729" y="3554"/>
                  </a:lnTo>
                  <a:lnTo>
                    <a:pt x="1716" y="3554"/>
                  </a:lnTo>
                  <a:lnTo>
                    <a:pt x="1710" y="3560"/>
                  </a:lnTo>
                  <a:lnTo>
                    <a:pt x="1703" y="3560"/>
                  </a:lnTo>
                  <a:lnTo>
                    <a:pt x="1697" y="3560"/>
                  </a:lnTo>
                  <a:lnTo>
                    <a:pt x="1684" y="3560"/>
                  </a:lnTo>
                  <a:lnTo>
                    <a:pt x="1672" y="3560"/>
                  </a:lnTo>
                  <a:lnTo>
                    <a:pt x="1665" y="3560"/>
                  </a:lnTo>
                  <a:lnTo>
                    <a:pt x="1659" y="3566"/>
                  </a:lnTo>
                  <a:lnTo>
                    <a:pt x="1653" y="3573"/>
                  </a:lnTo>
                  <a:lnTo>
                    <a:pt x="1646" y="3585"/>
                  </a:lnTo>
                  <a:lnTo>
                    <a:pt x="1633" y="3591"/>
                  </a:lnTo>
                  <a:lnTo>
                    <a:pt x="1627" y="3598"/>
                  </a:lnTo>
                  <a:lnTo>
                    <a:pt x="1614" y="3610"/>
                  </a:lnTo>
                  <a:lnTo>
                    <a:pt x="1602" y="3616"/>
                  </a:lnTo>
                  <a:lnTo>
                    <a:pt x="1589" y="3622"/>
                  </a:lnTo>
                  <a:lnTo>
                    <a:pt x="1576" y="3622"/>
                  </a:lnTo>
                  <a:lnTo>
                    <a:pt x="1564" y="3622"/>
                  </a:lnTo>
                  <a:lnTo>
                    <a:pt x="1551" y="3629"/>
                  </a:lnTo>
                  <a:lnTo>
                    <a:pt x="1538" y="3635"/>
                  </a:lnTo>
                  <a:lnTo>
                    <a:pt x="1519" y="3641"/>
                  </a:lnTo>
                  <a:lnTo>
                    <a:pt x="1513" y="3647"/>
                  </a:lnTo>
                  <a:lnTo>
                    <a:pt x="1487" y="3641"/>
                  </a:lnTo>
                  <a:lnTo>
                    <a:pt x="1462" y="3641"/>
                  </a:lnTo>
                  <a:lnTo>
                    <a:pt x="1430" y="3635"/>
                  </a:lnTo>
                  <a:lnTo>
                    <a:pt x="1405" y="3629"/>
                  </a:lnTo>
                  <a:lnTo>
                    <a:pt x="1386" y="3616"/>
                  </a:lnTo>
                  <a:lnTo>
                    <a:pt x="1373" y="3604"/>
                  </a:lnTo>
                  <a:lnTo>
                    <a:pt x="1360" y="3598"/>
                  </a:lnTo>
                  <a:lnTo>
                    <a:pt x="1354" y="3591"/>
                  </a:lnTo>
                  <a:lnTo>
                    <a:pt x="1335" y="3585"/>
                  </a:lnTo>
                  <a:lnTo>
                    <a:pt x="1316" y="3591"/>
                  </a:lnTo>
                  <a:lnTo>
                    <a:pt x="1309" y="3591"/>
                  </a:lnTo>
                  <a:lnTo>
                    <a:pt x="1297" y="3598"/>
                  </a:lnTo>
                  <a:lnTo>
                    <a:pt x="1278" y="3604"/>
                  </a:lnTo>
                  <a:lnTo>
                    <a:pt x="1271" y="3616"/>
                  </a:lnTo>
                  <a:lnTo>
                    <a:pt x="1252" y="3629"/>
                  </a:lnTo>
                  <a:lnTo>
                    <a:pt x="1233" y="3641"/>
                  </a:lnTo>
                  <a:lnTo>
                    <a:pt x="1227" y="3647"/>
                  </a:lnTo>
                  <a:lnTo>
                    <a:pt x="1220" y="3660"/>
                  </a:lnTo>
                  <a:lnTo>
                    <a:pt x="1220" y="3678"/>
                  </a:lnTo>
                  <a:lnTo>
                    <a:pt x="1220" y="3691"/>
                  </a:lnTo>
                  <a:lnTo>
                    <a:pt x="1208" y="3710"/>
                  </a:lnTo>
                  <a:lnTo>
                    <a:pt x="1195" y="3722"/>
                  </a:lnTo>
                  <a:lnTo>
                    <a:pt x="1182" y="3734"/>
                  </a:lnTo>
                  <a:lnTo>
                    <a:pt x="1170" y="3734"/>
                  </a:lnTo>
                  <a:lnTo>
                    <a:pt x="1157" y="3734"/>
                  </a:lnTo>
                  <a:lnTo>
                    <a:pt x="1150" y="3734"/>
                  </a:lnTo>
                  <a:lnTo>
                    <a:pt x="1144" y="3728"/>
                  </a:lnTo>
                  <a:lnTo>
                    <a:pt x="1138" y="3716"/>
                  </a:lnTo>
                  <a:lnTo>
                    <a:pt x="1131" y="3703"/>
                  </a:lnTo>
                  <a:lnTo>
                    <a:pt x="1125" y="3685"/>
                  </a:lnTo>
                  <a:lnTo>
                    <a:pt x="1119" y="3672"/>
                  </a:lnTo>
                  <a:lnTo>
                    <a:pt x="1112" y="3654"/>
                  </a:lnTo>
                  <a:lnTo>
                    <a:pt x="1100" y="3647"/>
                  </a:lnTo>
                  <a:lnTo>
                    <a:pt x="1087" y="3641"/>
                  </a:lnTo>
                  <a:lnTo>
                    <a:pt x="1068" y="3635"/>
                  </a:lnTo>
                  <a:lnTo>
                    <a:pt x="1049" y="3629"/>
                  </a:lnTo>
                  <a:lnTo>
                    <a:pt x="1036" y="3629"/>
                  </a:lnTo>
                  <a:lnTo>
                    <a:pt x="1023" y="3629"/>
                  </a:lnTo>
                  <a:lnTo>
                    <a:pt x="1017" y="3635"/>
                  </a:lnTo>
                  <a:lnTo>
                    <a:pt x="1004" y="3647"/>
                  </a:lnTo>
                  <a:lnTo>
                    <a:pt x="998" y="3647"/>
                  </a:lnTo>
                  <a:lnTo>
                    <a:pt x="985" y="3647"/>
                  </a:lnTo>
                  <a:lnTo>
                    <a:pt x="979" y="3641"/>
                  </a:lnTo>
                  <a:lnTo>
                    <a:pt x="973" y="3635"/>
                  </a:lnTo>
                  <a:lnTo>
                    <a:pt x="973" y="3629"/>
                  </a:lnTo>
                  <a:lnTo>
                    <a:pt x="973" y="3622"/>
                  </a:lnTo>
                  <a:lnTo>
                    <a:pt x="973" y="3616"/>
                  </a:lnTo>
                  <a:lnTo>
                    <a:pt x="973" y="3604"/>
                  </a:lnTo>
                  <a:lnTo>
                    <a:pt x="973" y="3598"/>
                  </a:lnTo>
                  <a:lnTo>
                    <a:pt x="973" y="3585"/>
                  </a:lnTo>
                  <a:lnTo>
                    <a:pt x="973" y="3566"/>
                  </a:lnTo>
                  <a:lnTo>
                    <a:pt x="966" y="3542"/>
                  </a:lnTo>
                  <a:lnTo>
                    <a:pt x="953" y="3523"/>
                  </a:lnTo>
                  <a:lnTo>
                    <a:pt x="941" y="3510"/>
                  </a:lnTo>
                  <a:lnTo>
                    <a:pt x="922" y="3498"/>
                  </a:lnTo>
                  <a:lnTo>
                    <a:pt x="903" y="3479"/>
                  </a:lnTo>
                  <a:lnTo>
                    <a:pt x="884" y="3473"/>
                  </a:lnTo>
                  <a:lnTo>
                    <a:pt x="864" y="3461"/>
                  </a:lnTo>
                  <a:lnTo>
                    <a:pt x="845" y="3448"/>
                  </a:lnTo>
                  <a:lnTo>
                    <a:pt x="833" y="3442"/>
                  </a:lnTo>
                  <a:lnTo>
                    <a:pt x="820" y="3429"/>
                  </a:lnTo>
                  <a:lnTo>
                    <a:pt x="814" y="3423"/>
                  </a:lnTo>
                  <a:lnTo>
                    <a:pt x="807" y="3417"/>
                  </a:lnTo>
                  <a:lnTo>
                    <a:pt x="801" y="3411"/>
                  </a:lnTo>
                  <a:lnTo>
                    <a:pt x="795" y="3398"/>
                  </a:lnTo>
                  <a:lnTo>
                    <a:pt x="788" y="3392"/>
                  </a:lnTo>
                  <a:lnTo>
                    <a:pt x="788" y="3386"/>
                  </a:lnTo>
                  <a:lnTo>
                    <a:pt x="788" y="3367"/>
                  </a:lnTo>
                  <a:lnTo>
                    <a:pt x="782" y="3330"/>
                  </a:lnTo>
                  <a:lnTo>
                    <a:pt x="775" y="3280"/>
                  </a:lnTo>
                  <a:lnTo>
                    <a:pt x="775" y="3261"/>
                  </a:lnTo>
                  <a:lnTo>
                    <a:pt x="769" y="3249"/>
                  </a:lnTo>
                  <a:lnTo>
                    <a:pt x="763" y="3230"/>
                  </a:lnTo>
                  <a:lnTo>
                    <a:pt x="756" y="3212"/>
                  </a:lnTo>
                  <a:lnTo>
                    <a:pt x="756" y="3199"/>
                  </a:lnTo>
                  <a:lnTo>
                    <a:pt x="763" y="3187"/>
                  </a:lnTo>
                  <a:lnTo>
                    <a:pt x="775" y="3168"/>
                  </a:lnTo>
                  <a:lnTo>
                    <a:pt x="795" y="3156"/>
                  </a:lnTo>
                  <a:lnTo>
                    <a:pt x="814" y="3143"/>
                  </a:lnTo>
                  <a:lnTo>
                    <a:pt x="826" y="3137"/>
                  </a:lnTo>
                  <a:lnTo>
                    <a:pt x="833" y="3131"/>
                  </a:lnTo>
                  <a:lnTo>
                    <a:pt x="833" y="3124"/>
                  </a:lnTo>
                  <a:lnTo>
                    <a:pt x="833" y="3112"/>
                  </a:lnTo>
                  <a:lnTo>
                    <a:pt x="820" y="3100"/>
                  </a:lnTo>
                  <a:lnTo>
                    <a:pt x="801" y="3075"/>
                  </a:lnTo>
                  <a:lnTo>
                    <a:pt x="782" y="3056"/>
                  </a:lnTo>
                  <a:lnTo>
                    <a:pt x="756" y="3025"/>
                  </a:lnTo>
                  <a:lnTo>
                    <a:pt x="737" y="2994"/>
                  </a:lnTo>
                  <a:lnTo>
                    <a:pt x="725" y="2975"/>
                  </a:lnTo>
                  <a:lnTo>
                    <a:pt x="725" y="2963"/>
                  </a:lnTo>
                  <a:lnTo>
                    <a:pt x="725" y="2944"/>
                  </a:lnTo>
                  <a:lnTo>
                    <a:pt x="731" y="2931"/>
                  </a:lnTo>
                  <a:lnTo>
                    <a:pt x="737" y="2919"/>
                  </a:lnTo>
                  <a:lnTo>
                    <a:pt x="744" y="2907"/>
                  </a:lnTo>
                  <a:lnTo>
                    <a:pt x="750" y="2894"/>
                  </a:lnTo>
                  <a:lnTo>
                    <a:pt x="756" y="2863"/>
                  </a:lnTo>
                  <a:lnTo>
                    <a:pt x="756" y="2844"/>
                  </a:lnTo>
                  <a:lnTo>
                    <a:pt x="756" y="2826"/>
                  </a:lnTo>
                  <a:lnTo>
                    <a:pt x="763" y="2801"/>
                  </a:lnTo>
                  <a:lnTo>
                    <a:pt x="763" y="2776"/>
                  </a:lnTo>
                  <a:lnTo>
                    <a:pt x="756" y="2763"/>
                  </a:lnTo>
                  <a:lnTo>
                    <a:pt x="750" y="2751"/>
                  </a:lnTo>
                  <a:lnTo>
                    <a:pt x="731" y="2732"/>
                  </a:lnTo>
                  <a:lnTo>
                    <a:pt x="725" y="2726"/>
                  </a:lnTo>
                  <a:lnTo>
                    <a:pt x="725" y="2701"/>
                  </a:lnTo>
                  <a:lnTo>
                    <a:pt x="718" y="2689"/>
                  </a:lnTo>
                  <a:lnTo>
                    <a:pt x="712" y="2676"/>
                  </a:lnTo>
                  <a:lnTo>
                    <a:pt x="712" y="2670"/>
                  </a:lnTo>
                  <a:lnTo>
                    <a:pt x="706" y="2664"/>
                  </a:lnTo>
                  <a:lnTo>
                    <a:pt x="699" y="2658"/>
                  </a:lnTo>
                  <a:lnTo>
                    <a:pt x="699" y="2639"/>
                  </a:lnTo>
                  <a:lnTo>
                    <a:pt x="699" y="2626"/>
                  </a:lnTo>
                  <a:lnTo>
                    <a:pt x="706" y="2614"/>
                  </a:lnTo>
                  <a:lnTo>
                    <a:pt x="706" y="2602"/>
                  </a:lnTo>
                  <a:lnTo>
                    <a:pt x="706" y="2589"/>
                  </a:lnTo>
                  <a:lnTo>
                    <a:pt x="699" y="2583"/>
                  </a:lnTo>
                  <a:lnTo>
                    <a:pt x="693" y="2577"/>
                  </a:lnTo>
                  <a:lnTo>
                    <a:pt x="687" y="2577"/>
                  </a:lnTo>
                  <a:lnTo>
                    <a:pt x="674" y="2570"/>
                  </a:lnTo>
                  <a:lnTo>
                    <a:pt x="661" y="2558"/>
                  </a:lnTo>
                  <a:lnTo>
                    <a:pt x="655" y="2546"/>
                  </a:lnTo>
                  <a:lnTo>
                    <a:pt x="648" y="2521"/>
                  </a:lnTo>
                  <a:lnTo>
                    <a:pt x="642" y="2502"/>
                  </a:lnTo>
                  <a:lnTo>
                    <a:pt x="642" y="2471"/>
                  </a:lnTo>
                  <a:lnTo>
                    <a:pt x="642" y="2446"/>
                  </a:lnTo>
                  <a:lnTo>
                    <a:pt x="642" y="2409"/>
                  </a:lnTo>
                  <a:lnTo>
                    <a:pt x="648" y="2359"/>
                  </a:lnTo>
                  <a:lnTo>
                    <a:pt x="661" y="2328"/>
                  </a:lnTo>
                  <a:lnTo>
                    <a:pt x="674" y="2309"/>
                  </a:lnTo>
                  <a:lnTo>
                    <a:pt x="687" y="2290"/>
                  </a:lnTo>
                  <a:lnTo>
                    <a:pt x="687" y="2272"/>
                  </a:lnTo>
                  <a:lnTo>
                    <a:pt x="687" y="2259"/>
                  </a:lnTo>
                  <a:lnTo>
                    <a:pt x="687" y="2234"/>
                  </a:lnTo>
                  <a:lnTo>
                    <a:pt x="687" y="2203"/>
                  </a:lnTo>
                  <a:lnTo>
                    <a:pt x="687" y="2185"/>
                  </a:lnTo>
                  <a:lnTo>
                    <a:pt x="680" y="2160"/>
                  </a:lnTo>
                  <a:lnTo>
                    <a:pt x="674" y="2141"/>
                  </a:lnTo>
                  <a:lnTo>
                    <a:pt x="655" y="2129"/>
                  </a:lnTo>
                  <a:lnTo>
                    <a:pt x="648" y="2116"/>
                  </a:lnTo>
                  <a:lnTo>
                    <a:pt x="642" y="2104"/>
                  </a:lnTo>
                  <a:lnTo>
                    <a:pt x="642" y="2085"/>
                  </a:lnTo>
                  <a:lnTo>
                    <a:pt x="642" y="2079"/>
                  </a:lnTo>
                  <a:lnTo>
                    <a:pt x="642" y="2066"/>
                  </a:lnTo>
                  <a:lnTo>
                    <a:pt x="648" y="2054"/>
                  </a:lnTo>
                  <a:lnTo>
                    <a:pt x="661" y="2041"/>
                  </a:lnTo>
                  <a:lnTo>
                    <a:pt x="674" y="2029"/>
                  </a:lnTo>
                  <a:lnTo>
                    <a:pt x="680" y="2016"/>
                  </a:lnTo>
                  <a:lnTo>
                    <a:pt x="680" y="2004"/>
                  </a:lnTo>
                  <a:lnTo>
                    <a:pt x="687" y="1998"/>
                  </a:lnTo>
                  <a:lnTo>
                    <a:pt x="687" y="1979"/>
                  </a:lnTo>
                  <a:lnTo>
                    <a:pt x="680" y="1967"/>
                  </a:lnTo>
                  <a:lnTo>
                    <a:pt x="674" y="1960"/>
                  </a:lnTo>
                  <a:lnTo>
                    <a:pt x="667" y="1954"/>
                  </a:lnTo>
                  <a:lnTo>
                    <a:pt x="655" y="1942"/>
                  </a:lnTo>
                  <a:lnTo>
                    <a:pt x="623" y="1929"/>
                  </a:lnTo>
                  <a:lnTo>
                    <a:pt x="578" y="1892"/>
                  </a:lnTo>
                  <a:lnTo>
                    <a:pt x="534" y="1861"/>
                  </a:lnTo>
                  <a:lnTo>
                    <a:pt x="515" y="1848"/>
                  </a:lnTo>
                  <a:lnTo>
                    <a:pt x="502" y="1830"/>
                  </a:lnTo>
                  <a:lnTo>
                    <a:pt x="490" y="1811"/>
                  </a:lnTo>
                  <a:lnTo>
                    <a:pt x="483" y="1799"/>
                  </a:lnTo>
                  <a:lnTo>
                    <a:pt x="483" y="1786"/>
                  </a:lnTo>
                  <a:lnTo>
                    <a:pt x="483" y="1767"/>
                  </a:lnTo>
                  <a:lnTo>
                    <a:pt x="483" y="1749"/>
                  </a:lnTo>
                  <a:lnTo>
                    <a:pt x="483" y="1736"/>
                  </a:lnTo>
                  <a:lnTo>
                    <a:pt x="483" y="1724"/>
                  </a:lnTo>
                  <a:lnTo>
                    <a:pt x="483" y="1711"/>
                  </a:lnTo>
                  <a:lnTo>
                    <a:pt x="483" y="1693"/>
                  </a:lnTo>
                  <a:lnTo>
                    <a:pt x="477" y="1680"/>
                  </a:lnTo>
                  <a:lnTo>
                    <a:pt x="470" y="1662"/>
                  </a:lnTo>
                  <a:lnTo>
                    <a:pt x="458" y="1637"/>
                  </a:lnTo>
                  <a:lnTo>
                    <a:pt x="445" y="1618"/>
                  </a:lnTo>
                  <a:lnTo>
                    <a:pt x="432" y="1612"/>
                  </a:lnTo>
                  <a:lnTo>
                    <a:pt x="407" y="1587"/>
                  </a:lnTo>
                  <a:lnTo>
                    <a:pt x="381" y="1568"/>
                  </a:lnTo>
                  <a:lnTo>
                    <a:pt x="362" y="1556"/>
                  </a:lnTo>
                  <a:lnTo>
                    <a:pt x="350" y="1543"/>
                  </a:lnTo>
                  <a:lnTo>
                    <a:pt x="337" y="1531"/>
                  </a:lnTo>
                  <a:lnTo>
                    <a:pt x="324" y="1512"/>
                  </a:lnTo>
                  <a:lnTo>
                    <a:pt x="324" y="1506"/>
                  </a:lnTo>
                  <a:lnTo>
                    <a:pt x="318" y="1494"/>
                  </a:lnTo>
                  <a:lnTo>
                    <a:pt x="312" y="1481"/>
                  </a:lnTo>
                  <a:lnTo>
                    <a:pt x="292" y="1469"/>
                  </a:lnTo>
                  <a:lnTo>
                    <a:pt x="273" y="1450"/>
                  </a:lnTo>
                  <a:lnTo>
                    <a:pt x="261" y="1431"/>
                  </a:lnTo>
                  <a:lnTo>
                    <a:pt x="235" y="1406"/>
                  </a:lnTo>
                  <a:lnTo>
                    <a:pt x="216" y="1382"/>
                  </a:lnTo>
                  <a:lnTo>
                    <a:pt x="204" y="1357"/>
                  </a:lnTo>
                  <a:lnTo>
                    <a:pt x="184" y="1301"/>
                  </a:lnTo>
                  <a:lnTo>
                    <a:pt x="172" y="1257"/>
                  </a:lnTo>
                  <a:lnTo>
                    <a:pt x="153" y="1207"/>
                  </a:lnTo>
                  <a:lnTo>
                    <a:pt x="140" y="1189"/>
                  </a:lnTo>
                  <a:lnTo>
                    <a:pt x="121" y="1164"/>
                  </a:lnTo>
                  <a:lnTo>
                    <a:pt x="102" y="1145"/>
                  </a:lnTo>
                  <a:lnTo>
                    <a:pt x="89" y="1120"/>
                  </a:lnTo>
                  <a:lnTo>
                    <a:pt x="70" y="1095"/>
                  </a:lnTo>
                  <a:lnTo>
                    <a:pt x="64" y="1089"/>
                  </a:lnTo>
                  <a:lnTo>
                    <a:pt x="38" y="1064"/>
                  </a:lnTo>
                  <a:lnTo>
                    <a:pt x="26" y="1045"/>
                  </a:lnTo>
                  <a:lnTo>
                    <a:pt x="13" y="1033"/>
                  </a:lnTo>
                  <a:lnTo>
                    <a:pt x="6" y="1021"/>
                  </a:lnTo>
                  <a:lnTo>
                    <a:pt x="0" y="1008"/>
                  </a:lnTo>
                  <a:lnTo>
                    <a:pt x="0" y="996"/>
                  </a:lnTo>
                  <a:lnTo>
                    <a:pt x="0" y="983"/>
                  </a:lnTo>
                  <a:lnTo>
                    <a:pt x="6" y="971"/>
                  </a:lnTo>
                  <a:lnTo>
                    <a:pt x="13" y="952"/>
                  </a:lnTo>
                  <a:lnTo>
                    <a:pt x="13" y="933"/>
                  </a:lnTo>
                  <a:lnTo>
                    <a:pt x="13" y="921"/>
                  </a:lnTo>
                  <a:lnTo>
                    <a:pt x="6" y="896"/>
                  </a:lnTo>
                  <a:lnTo>
                    <a:pt x="6" y="865"/>
                  </a:lnTo>
                  <a:lnTo>
                    <a:pt x="6" y="840"/>
                  </a:lnTo>
                  <a:lnTo>
                    <a:pt x="6" y="834"/>
                  </a:lnTo>
                  <a:lnTo>
                    <a:pt x="6" y="821"/>
                  </a:lnTo>
                  <a:lnTo>
                    <a:pt x="13" y="796"/>
                  </a:lnTo>
                  <a:lnTo>
                    <a:pt x="26" y="759"/>
                  </a:lnTo>
                  <a:lnTo>
                    <a:pt x="32" y="740"/>
                  </a:lnTo>
                  <a:lnTo>
                    <a:pt x="45" y="722"/>
                  </a:lnTo>
                  <a:lnTo>
                    <a:pt x="45" y="697"/>
                  </a:lnTo>
                  <a:lnTo>
                    <a:pt x="57" y="691"/>
                  </a:lnTo>
                  <a:lnTo>
                    <a:pt x="76" y="678"/>
                  </a:lnTo>
                  <a:lnTo>
                    <a:pt x="95" y="672"/>
                  </a:lnTo>
                  <a:lnTo>
                    <a:pt x="115" y="666"/>
                  </a:lnTo>
                  <a:lnTo>
                    <a:pt x="127" y="659"/>
                  </a:lnTo>
                  <a:lnTo>
                    <a:pt x="153" y="647"/>
                  </a:lnTo>
                  <a:lnTo>
                    <a:pt x="184" y="635"/>
                  </a:lnTo>
                  <a:lnTo>
                    <a:pt x="197" y="628"/>
                  </a:lnTo>
                  <a:lnTo>
                    <a:pt x="210" y="610"/>
                  </a:lnTo>
                  <a:lnTo>
                    <a:pt x="216" y="603"/>
                  </a:lnTo>
                  <a:lnTo>
                    <a:pt x="223" y="591"/>
                  </a:lnTo>
                  <a:lnTo>
                    <a:pt x="235" y="566"/>
                  </a:lnTo>
                  <a:lnTo>
                    <a:pt x="242" y="547"/>
                  </a:lnTo>
                  <a:lnTo>
                    <a:pt x="248" y="535"/>
                  </a:lnTo>
                  <a:lnTo>
                    <a:pt x="261" y="516"/>
                  </a:lnTo>
                  <a:lnTo>
                    <a:pt x="273" y="498"/>
                  </a:lnTo>
                  <a:lnTo>
                    <a:pt x="280" y="485"/>
                  </a:lnTo>
                  <a:lnTo>
                    <a:pt x="286" y="473"/>
                  </a:lnTo>
                  <a:lnTo>
                    <a:pt x="292" y="467"/>
                  </a:lnTo>
                  <a:lnTo>
                    <a:pt x="299" y="454"/>
                  </a:lnTo>
                  <a:lnTo>
                    <a:pt x="312" y="442"/>
                  </a:lnTo>
                  <a:lnTo>
                    <a:pt x="324" y="429"/>
                  </a:lnTo>
                  <a:lnTo>
                    <a:pt x="324" y="423"/>
                  </a:lnTo>
                  <a:lnTo>
                    <a:pt x="331" y="417"/>
                  </a:lnTo>
                  <a:lnTo>
                    <a:pt x="331" y="411"/>
                  </a:lnTo>
                  <a:lnTo>
                    <a:pt x="324" y="404"/>
                  </a:lnTo>
                  <a:lnTo>
                    <a:pt x="318" y="392"/>
                  </a:lnTo>
                  <a:lnTo>
                    <a:pt x="312" y="386"/>
                  </a:lnTo>
                  <a:lnTo>
                    <a:pt x="312" y="367"/>
                  </a:lnTo>
                  <a:lnTo>
                    <a:pt x="312" y="354"/>
                  </a:lnTo>
                  <a:lnTo>
                    <a:pt x="312" y="336"/>
                  </a:lnTo>
                  <a:lnTo>
                    <a:pt x="305" y="330"/>
                  </a:lnTo>
                  <a:lnTo>
                    <a:pt x="305" y="311"/>
                  </a:lnTo>
                  <a:lnTo>
                    <a:pt x="299" y="286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5" y="255"/>
                  </a:lnTo>
                  <a:lnTo>
                    <a:pt x="305" y="242"/>
                  </a:lnTo>
                  <a:lnTo>
                    <a:pt x="312" y="224"/>
                  </a:lnTo>
                  <a:lnTo>
                    <a:pt x="331" y="218"/>
                  </a:lnTo>
                  <a:lnTo>
                    <a:pt x="350" y="205"/>
                  </a:lnTo>
                  <a:lnTo>
                    <a:pt x="375" y="193"/>
                  </a:lnTo>
                  <a:lnTo>
                    <a:pt x="388" y="186"/>
                  </a:lnTo>
                  <a:lnTo>
                    <a:pt x="420" y="180"/>
                  </a:lnTo>
                  <a:lnTo>
                    <a:pt x="432" y="174"/>
                  </a:lnTo>
                  <a:lnTo>
                    <a:pt x="458" y="162"/>
                  </a:lnTo>
                  <a:lnTo>
                    <a:pt x="464" y="149"/>
                  </a:lnTo>
                  <a:lnTo>
                    <a:pt x="477" y="130"/>
                  </a:lnTo>
                  <a:lnTo>
                    <a:pt x="477" y="112"/>
                  </a:lnTo>
                  <a:lnTo>
                    <a:pt x="483" y="93"/>
                  </a:lnTo>
                  <a:lnTo>
                    <a:pt x="483" y="68"/>
                  </a:lnTo>
                  <a:lnTo>
                    <a:pt x="490" y="49"/>
                  </a:lnTo>
                  <a:lnTo>
                    <a:pt x="496" y="43"/>
                  </a:lnTo>
                  <a:lnTo>
                    <a:pt x="502" y="49"/>
                  </a:lnTo>
                  <a:lnTo>
                    <a:pt x="509" y="56"/>
                  </a:lnTo>
                  <a:lnTo>
                    <a:pt x="502" y="56"/>
                  </a:lnTo>
                  <a:lnTo>
                    <a:pt x="502" y="62"/>
                  </a:lnTo>
                  <a:lnTo>
                    <a:pt x="502" y="68"/>
                  </a:lnTo>
                  <a:lnTo>
                    <a:pt x="509" y="62"/>
                  </a:lnTo>
                  <a:lnTo>
                    <a:pt x="509" y="56"/>
                  </a:lnTo>
                  <a:lnTo>
                    <a:pt x="509" y="43"/>
                  </a:lnTo>
                  <a:lnTo>
                    <a:pt x="515" y="43"/>
                  </a:lnTo>
                  <a:lnTo>
                    <a:pt x="515" y="49"/>
                  </a:lnTo>
                  <a:lnTo>
                    <a:pt x="521" y="49"/>
                  </a:lnTo>
                  <a:lnTo>
                    <a:pt x="521" y="56"/>
                  </a:lnTo>
                  <a:lnTo>
                    <a:pt x="528" y="56"/>
                  </a:lnTo>
                  <a:lnTo>
                    <a:pt x="528" y="49"/>
                  </a:lnTo>
                  <a:lnTo>
                    <a:pt x="534" y="49"/>
                  </a:lnTo>
                  <a:lnTo>
                    <a:pt x="540" y="43"/>
                  </a:lnTo>
                  <a:lnTo>
                    <a:pt x="540" y="49"/>
                  </a:lnTo>
                  <a:lnTo>
                    <a:pt x="540" y="56"/>
                  </a:lnTo>
                  <a:lnTo>
                    <a:pt x="534" y="62"/>
                  </a:lnTo>
                  <a:lnTo>
                    <a:pt x="534" y="68"/>
                  </a:lnTo>
                  <a:lnTo>
                    <a:pt x="528" y="68"/>
                  </a:lnTo>
                  <a:lnTo>
                    <a:pt x="521" y="74"/>
                  </a:lnTo>
                  <a:lnTo>
                    <a:pt x="521" y="81"/>
                  </a:lnTo>
                  <a:lnTo>
                    <a:pt x="515" y="87"/>
                  </a:lnTo>
                  <a:lnTo>
                    <a:pt x="509" y="87"/>
                  </a:lnTo>
                  <a:lnTo>
                    <a:pt x="502" y="93"/>
                  </a:lnTo>
                  <a:lnTo>
                    <a:pt x="490" y="93"/>
                  </a:lnTo>
                  <a:lnTo>
                    <a:pt x="496" y="99"/>
                  </a:lnTo>
                  <a:lnTo>
                    <a:pt x="502" y="99"/>
                  </a:lnTo>
                  <a:lnTo>
                    <a:pt x="509" y="99"/>
                  </a:lnTo>
                  <a:lnTo>
                    <a:pt x="515" y="93"/>
                  </a:lnTo>
                  <a:lnTo>
                    <a:pt x="521" y="87"/>
                  </a:lnTo>
                  <a:lnTo>
                    <a:pt x="528" y="93"/>
                  </a:lnTo>
                  <a:lnTo>
                    <a:pt x="534" y="99"/>
                  </a:lnTo>
                  <a:lnTo>
                    <a:pt x="528" y="99"/>
                  </a:lnTo>
                  <a:lnTo>
                    <a:pt x="521" y="106"/>
                  </a:lnTo>
                  <a:lnTo>
                    <a:pt x="521" y="112"/>
                  </a:lnTo>
                  <a:lnTo>
                    <a:pt x="515" y="112"/>
                  </a:lnTo>
                  <a:lnTo>
                    <a:pt x="528" y="112"/>
                  </a:lnTo>
                  <a:lnTo>
                    <a:pt x="534" y="106"/>
                  </a:lnTo>
                  <a:lnTo>
                    <a:pt x="540" y="106"/>
                  </a:lnTo>
                  <a:lnTo>
                    <a:pt x="547" y="106"/>
                  </a:lnTo>
                  <a:lnTo>
                    <a:pt x="547" y="112"/>
                  </a:lnTo>
                  <a:lnTo>
                    <a:pt x="547" y="118"/>
                  </a:lnTo>
                  <a:lnTo>
                    <a:pt x="540" y="118"/>
                  </a:lnTo>
                  <a:lnTo>
                    <a:pt x="553" y="124"/>
                  </a:lnTo>
                  <a:lnTo>
                    <a:pt x="553" y="112"/>
                  </a:lnTo>
                  <a:lnTo>
                    <a:pt x="553" y="106"/>
                  </a:lnTo>
                  <a:lnTo>
                    <a:pt x="547" y="93"/>
                  </a:lnTo>
                  <a:lnTo>
                    <a:pt x="553" y="93"/>
                  </a:lnTo>
                  <a:lnTo>
                    <a:pt x="559" y="87"/>
                  </a:lnTo>
                  <a:lnTo>
                    <a:pt x="572" y="87"/>
                  </a:lnTo>
                  <a:lnTo>
                    <a:pt x="572" y="99"/>
                  </a:lnTo>
                  <a:lnTo>
                    <a:pt x="572" y="106"/>
                  </a:lnTo>
                  <a:lnTo>
                    <a:pt x="566" y="112"/>
                  </a:lnTo>
                  <a:lnTo>
                    <a:pt x="578" y="106"/>
                  </a:lnTo>
                  <a:lnTo>
                    <a:pt x="585" y="106"/>
                  </a:lnTo>
                  <a:lnTo>
                    <a:pt x="591" y="112"/>
                  </a:lnTo>
                  <a:lnTo>
                    <a:pt x="598" y="112"/>
                  </a:lnTo>
                  <a:lnTo>
                    <a:pt x="598" y="118"/>
                  </a:lnTo>
                  <a:lnTo>
                    <a:pt x="598" y="124"/>
                  </a:lnTo>
                  <a:lnTo>
                    <a:pt x="598" y="130"/>
                  </a:lnTo>
                  <a:lnTo>
                    <a:pt x="598" y="137"/>
                  </a:lnTo>
                  <a:lnTo>
                    <a:pt x="591" y="137"/>
                  </a:lnTo>
                  <a:lnTo>
                    <a:pt x="598" y="143"/>
                  </a:lnTo>
                  <a:lnTo>
                    <a:pt x="598" y="149"/>
                  </a:lnTo>
                  <a:lnTo>
                    <a:pt x="598" y="155"/>
                  </a:lnTo>
                  <a:lnTo>
                    <a:pt x="591" y="155"/>
                  </a:lnTo>
                  <a:lnTo>
                    <a:pt x="585" y="155"/>
                  </a:lnTo>
                  <a:lnTo>
                    <a:pt x="591" y="162"/>
                  </a:lnTo>
                  <a:lnTo>
                    <a:pt x="598" y="162"/>
                  </a:lnTo>
                  <a:lnTo>
                    <a:pt x="591" y="162"/>
                  </a:lnTo>
                  <a:lnTo>
                    <a:pt x="591" y="168"/>
                  </a:lnTo>
                  <a:lnTo>
                    <a:pt x="585" y="174"/>
                  </a:lnTo>
                  <a:lnTo>
                    <a:pt x="578" y="168"/>
                  </a:lnTo>
                  <a:lnTo>
                    <a:pt x="578" y="174"/>
                  </a:lnTo>
                  <a:lnTo>
                    <a:pt x="572" y="180"/>
                  </a:lnTo>
                  <a:lnTo>
                    <a:pt x="566" y="180"/>
                  </a:lnTo>
                  <a:lnTo>
                    <a:pt x="559" y="174"/>
                  </a:lnTo>
                  <a:lnTo>
                    <a:pt x="553" y="180"/>
                  </a:lnTo>
                  <a:lnTo>
                    <a:pt x="553" y="174"/>
                  </a:lnTo>
                  <a:lnTo>
                    <a:pt x="547" y="174"/>
                  </a:lnTo>
                  <a:lnTo>
                    <a:pt x="540" y="180"/>
                  </a:lnTo>
                  <a:lnTo>
                    <a:pt x="534" y="186"/>
                  </a:lnTo>
                  <a:lnTo>
                    <a:pt x="528" y="186"/>
                  </a:lnTo>
                  <a:lnTo>
                    <a:pt x="521" y="193"/>
                  </a:lnTo>
                  <a:lnTo>
                    <a:pt x="515" y="193"/>
                  </a:lnTo>
                  <a:lnTo>
                    <a:pt x="515" y="199"/>
                  </a:lnTo>
                  <a:lnTo>
                    <a:pt x="509" y="199"/>
                  </a:lnTo>
                  <a:lnTo>
                    <a:pt x="521" y="199"/>
                  </a:lnTo>
                  <a:lnTo>
                    <a:pt x="528" y="193"/>
                  </a:lnTo>
                  <a:lnTo>
                    <a:pt x="547" y="186"/>
                  </a:lnTo>
                  <a:lnTo>
                    <a:pt x="547" y="199"/>
                  </a:lnTo>
                  <a:lnTo>
                    <a:pt x="540" y="205"/>
                  </a:lnTo>
                  <a:lnTo>
                    <a:pt x="540" y="211"/>
                  </a:lnTo>
                  <a:lnTo>
                    <a:pt x="540" y="218"/>
                  </a:lnTo>
                  <a:lnTo>
                    <a:pt x="540" y="224"/>
                  </a:lnTo>
                  <a:lnTo>
                    <a:pt x="534" y="230"/>
                  </a:lnTo>
                  <a:lnTo>
                    <a:pt x="534" y="236"/>
                  </a:lnTo>
                  <a:lnTo>
                    <a:pt x="540" y="236"/>
                  </a:lnTo>
                  <a:lnTo>
                    <a:pt x="553" y="230"/>
                  </a:lnTo>
                  <a:lnTo>
                    <a:pt x="553" y="236"/>
                  </a:lnTo>
                  <a:lnTo>
                    <a:pt x="559" y="242"/>
                  </a:lnTo>
                  <a:lnTo>
                    <a:pt x="559" y="230"/>
                  </a:lnTo>
                  <a:lnTo>
                    <a:pt x="566" y="230"/>
                  </a:lnTo>
                  <a:lnTo>
                    <a:pt x="572" y="236"/>
                  </a:lnTo>
                  <a:lnTo>
                    <a:pt x="578" y="230"/>
                  </a:lnTo>
                  <a:lnTo>
                    <a:pt x="585" y="236"/>
                  </a:lnTo>
                  <a:lnTo>
                    <a:pt x="591" y="242"/>
                  </a:lnTo>
                  <a:lnTo>
                    <a:pt x="585" y="255"/>
                  </a:lnTo>
                  <a:lnTo>
                    <a:pt x="591" y="255"/>
                  </a:lnTo>
                  <a:lnTo>
                    <a:pt x="598" y="255"/>
                  </a:lnTo>
                  <a:lnTo>
                    <a:pt x="604" y="249"/>
                  </a:lnTo>
                  <a:lnTo>
                    <a:pt x="610" y="249"/>
                  </a:lnTo>
                  <a:lnTo>
                    <a:pt x="610" y="255"/>
                  </a:lnTo>
                  <a:lnTo>
                    <a:pt x="604" y="261"/>
                  </a:lnTo>
                  <a:lnTo>
                    <a:pt x="604" y="267"/>
                  </a:lnTo>
                  <a:lnTo>
                    <a:pt x="604" y="274"/>
                  </a:lnTo>
                  <a:lnTo>
                    <a:pt x="617" y="274"/>
                  </a:lnTo>
                  <a:lnTo>
                    <a:pt x="623" y="274"/>
                  </a:lnTo>
                  <a:lnTo>
                    <a:pt x="623" y="280"/>
                  </a:lnTo>
                  <a:lnTo>
                    <a:pt x="629" y="280"/>
                  </a:lnTo>
                  <a:lnTo>
                    <a:pt x="636" y="280"/>
                  </a:lnTo>
                  <a:lnTo>
                    <a:pt x="642" y="280"/>
                  </a:lnTo>
                  <a:lnTo>
                    <a:pt x="642" y="267"/>
                  </a:lnTo>
                  <a:lnTo>
                    <a:pt x="636" y="274"/>
                  </a:lnTo>
                  <a:lnTo>
                    <a:pt x="629" y="274"/>
                  </a:lnTo>
                  <a:lnTo>
                    <a:pt x="623" y="274"/>
                  </a:lnTo>
                  <a:lnTo>
                    <a:pt x="623" y="267"/>
                  </a:lnTo>
                  <a:lnTo>
                    <a:pt x="610" y="267"/>
                  </a:lnTo>
                  <a:lnTo>
                    <a:pt x="610" y="261"/>
                  </a:lnTo>
                  <a:lnTo>
                    <a:pt x="617" y="261"/>
                  </a:lnTo>
                  <a:lnTo>
                    <a:pt x="617" y="255"/>
                  </a:lnTo>
                  <a:lnTo>
                    <a:pt x="617" y="249"/>
                  </a:lnTo>
                  <a:lnTo>
                    <a:pt x="610" y="242"/>
                  </a:lnTo>
                  <a:lnTo>
                    <a:pt x="610" y="249"/>
                  </a:lnTo>
                  <a:lnTo>
                    <a:pt x="604" y="249"/>
                  </a:lnTo>
                  <a:lnTo>
                    <a:pt x="598" y="249"/>
                  </a:lnTo>
                  <a:lnTo>
                    <a:pt x="598" y="242"/>
                  </a:lnTo>
                  <a:lnTo>
                    <a:pt x="598" y="236"/>
                  </a:lnTo>
                  <a:lnTo>
                    <a:pt x="598" y="230"/>
                  </a:lnTo>
                  <a:lnTo>
                    <a:pt x="591" y="224"/>
                  </a:lnTo>
                  <a:lnTo>
                    <a:pt x="585" y="224"/>
                  </a:lnTo>
                  <a:lnTo>
                    <a:pt x="578" y="218"/>
                  </a:lnTo>
                  <a:lnTo>
                    <a:pt x="572" y="218"/>
                  </a:lnTo>
                  <a:lnTo>
                    <a:pt x="566" y="224"/>
                  </a:lnTo>
                  <a:lnTo>
                    <a:pt x="559" y="218"/>
                  </a:lnTo>
                  <a:lnTo>
                    <a:pt x="553" y="224"/>
                  </a:lnTo>
                  <a:lnTo>
                    <a:pt x="553" y="218"/>
                  </a:lnTo>
                  <a:lnTo>
                    <a:pt x="553" y="211"/>
                  </a:lnTo>
                  <a:lnTo>
                    <a:pt x="553" y="205"/>
                  </a:lnTo>
                  <a:lnTo>
                    <a:pt x="559" y="193"/>
                  </a:lnTo>
                  <a:lnTo>
                    <a:pt x="566" y="193"/>
                  </a:lnTo>
                  <a:lnTo>
                    <a:pt x="572" y="193"/>
                  </a:lnTo>
                  <a:lnTo>
                    <a:pt x="566" y="199"/>
                  </a:lnTo>
                  <a:lnTo>
                    <a:pt x="572" y="199"/>
                  </a:lnTo>
                  <a:lnTo>
                    <a:pt x="578" y="199"/>
                  </a:lnTo>
                  <a:lnTo>
                    <a:pt x="578" y="186"/>
                  </a:lnTo>
                  <a:lnTo>
                    <a:pt x="591" y="180"/>
                  </a:lnTo>
                  <a:lnTo>
                    <a:pt x="598" y="193"/>
                  </a:lnTo>
                  <a:lnTo>
                    <a:pt x="598" y="186"/>
                  </a:lnTo>
                  <a:lnTo>
                    <a:pt x="598" y="174"/>
                  </a:lnTo>
                  <a:lnTo>
                    <a:pt x="604" y="174"/>
                  </a:lnTo>
                  <a:lnTo>
                    <a:pt x="610" y="174"/>
                  </a:lnTo>
                  <a:lnTo>
                    <a:pt x="617" y="174"/>
                  </a:lnTo>
                  <a:lnTo>
                    <a:pt x="610" y="168"/>
                  </a:lnTo>
                  <a:lnTo>
                    <a:pt x="610" y="162"/>
                  </a:lnTo>
                  <a:lnTo>
                    <a:pt x="610" y="155"/>
                  </a:lnTo>
                  <a:lnTo>
                    <a:pt x="610" y="143"/>
                  </a:lnTo>
                  <a:lnTo>
                    <a:pt x="623" y="149"/>
                  </a:lnTo>
                  <a:lnTo>
                    <a:pt x="623" y="143"/>
                  </a:lnTo>
                  <a:lnTo>
                    <a:pt x="617" y="137"/>
                  </a:lnTo>
                  <a:lnTo>
                    <a:pt x="610" y="124"/>
                  </a:lnTo>
                  <a:lnTo>
                    <a:pt x="623" y="130"/>
                  </a:lnTo>
                  <a:lnTo>
                    <a:pt x="623" y="124"/>
                  </a:lnTo>
                  <a:lnTo>
                    <a:pt x="629" y="124"/>
                  </a:lnTo>
                  <a:lnTo>
                    <a:pt x="629" y="118"/>
                  </a:lnTo>
                  <a:lnTo>
                    <a:pt x="623" y="118"/>
                  </a:lnTo>
                  <a:lnTo>
                    <a:pt x="610" y="112"/>
                  </a:lnTo>
                  <a:lnTo>
                    <a:pt x="604" y="106"/>
                  </a:lnTo>
                  <a:lnTo>
                    <a:pt x="604" y="93"/>
                  </a:lnTo>
                  <a:lnTo>
                    <a:pt x="598" y="87"/>
                  </a:lnTo>
                  <a:lnTo>
                    <a:pt x="591" y="93"/>
                  </a:lnTo>
                  <a:lnTo>
                    <a:pt x="585" y="87"/>
                  </a:lnTo>
                  <a:lnTo>
                    <a:pt x="585" y="81"/>
                  </a:lnTo>
                  <a:lnTo>
                    <a:pt x="591" y="74"/>
                  </a:lnTo>
                  <a:lnTo>
                    <a:pt x="598" y="68"/>
                  </a:lnTo>
                  <a:lnTo>
                    <a:pt x="591" y="68"/>
                  </a:lnTo>
                  <a:lnTo>
                    <a:pt x="585" y="68"/>
                  </a:lnTo>
                  <a:lnTo>
                    <a:pt x="578" y="62"/>
                  </a:lnTo>
                  <a:lnTo>
                    <a:pt x="572" y="62"/>
                  </a:lnTo>
                  <a:lnTo>
                    <a:pt x="566" y="62"/>
                  </a:lnTo>
                  <a:lnTo>
                    <a:pt x="559" y="68"/>
                  </a:lnTo>
                  <a:lnTo>
                    <a:pt x="553" y="74"/>
                  </a:lnTo>
                  <a:lnTo>
                    <a:pt x="547" y="74"/>
                  </a:lnTo>
                  <a:lnTo>
                    <a:pt x="547" y="68"/>
                  </a:lnTo>
                  <a:lnTo>
                    <a:pt x="553" y="62"/>
                  </a:lnTo>
                  <a:lnTo>
                    <a:pt x="559" y="56"/>
                  </a:lnTo>
                  <a:lnTo>
                    <a:pt x="559" y="49"/>
                  </a:lnTo>
                  <a:lnTo>
                    <a:pt x="559" y="43"/>
                  </a:lnTo>
                  <a:lnTo>
                    <a:pt x="559" y="37"/>
                  </a:lnTo>
                  <a:lnTo>
                    <a:pt x="559" y="31"/>
                  </a:lnTo>
                  <a:lnTo>
                    <a:pt x="559" y="18"/>
                  </a:lnTo>
                  <a:lnTo>
                    <a:pt x="553" y="25"/>
                  </a:lnTo>
                  <a:lnTo>
                    <a:pt x="547" y="25"/>
                  </a:lnTo>
                  <a:lnTo>
                    <a:pt x="540" y="25"/>
                  </a:lnTo>
                  <a:lnTo>
                    <a:pt x="534" y="25"/>
                  </a:lnTo>
                  <a:lnTo>
                    <a:pt x="534" y="31"/>
                  </a:lnTo>
                  <a:lnTo>
                    <a:pt x="521" y="31"/>
                  </a:lnTo>
                  <a:lnTo>
                    <a:pt x="521" y="25"/>
                  </a:lnTo>
                  <a:lnTo>
                    <a:pt x="521" y="18"/>
                  </a:lnTo>
                  <a:lnTo>
                    <a:pt x="528" y="12"/>
                  </a:lnTo>
                  <a:lnTo>
                    <a:pt x="534" y="6"/>
                  </a:lnTo>
                  <a:lnTo>
                    <a:pt x="540" y="12"/>
                  </a:lnTo>
                  <a:lnTo>
                    <a:pt x="547" y="12"/>
                  </a:lnTo>
                  <a:lnTo>
                    <a:pt x="540" y="6"/>
                  </a:lnTo>
                  <a:lnTo>
                    <a:pt x="553" y="6"/>
                  </a:lnTo>
                  <a:lnTo>
                    <a:pt x="559" y="0"/>
                  </a:lnTo>
                  <a:lnTo>
                    <a:pt x="566" y="6"/>
                  </a:lnTo>
                  <a:lnTo>
                    <a:pt x="572" y="0"/>
                  </a:lnTo>
                  <a:close/>
                </a:path>
              </a:pathLst>
            </a:custGeom>
            <a:solidFill>
              <a:srgbClr val="fffbc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21520" y="1897200"/>
              <a:ext cx="806400" cy="741240"/>
            </a:xfrm>
            <a:custGeom>
              <a:avLst/>
              <a:gdLst/>
              <a:ahLst/>
              <a:rect l="l" t="t" r="r" b="b"/>
              <a:pathLst>
                <a:path w="508" h="467">
                  <a:moveTo>
                    <a:pt x="0" y="25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2" y="19"/>
                  </a:lnTo>
                  <a:lnTo>
                    <a:pt x="19" y="13"/>
                  </a:lnTo>
                  <a:lnTo>
                    <a:pt x="25" y="13"/>
                  </a:lnTo>
                  <a:lnTo>
                    <a:pt x="31" y="19"/>
                  </a:lnTo>
                  <a:lnTo>
                    <a:pt x="31" y="25"/>
                  </a:lnTo>
                  <a:lnTo>
                    <a:pt x="38" y="31"/>
                  </a:lnTo>
                  <a:lnTo>
                    <a:pt x="44" y="37"/>
                  </a:lnTo>
                  <a:lnTo>
                    <a:pt x="44" y="44"/>
                  </a:lnTo>
                  <a:lnTo>
                    <a:pt x="50" y="50"/>
                  </a:lnTo>
                  <a:lnTo>
                    <a:pt x="44" y="56"/>
                  </a:lnTo>
                  <a:lnTo>
                    <a:pt x="57" y="56"/>
                  </a:lnTo>
                  <a:lnTo>
                    <a:pt x="57" y="44"/>
                  </a:lnTo>
                  <a:lnTo>
                    <a:pt x="50" y="37"/>
                  </a:lnTo>
                  <a:lnTo>
                    <a:pt x="44" y="37"/>
                  </a:lnTo>
                  <a:lnTo>
                    <a:pt x="38" y="31"/>
                  </a:lnTo>
                  <a:lnTo>
                    <a:pt x="38" y="19"/>
                  </a:lnTo>
                  <a:lnTo>
                    <a:pt x="38" y="13"/>
                  </a:lnTo>
                  <a:lnTo>
                    <a:pt x="31" y="13"/>
                  </a:lnTo>
                  <a:lnTo>
                    <a:pt x="19" y="6"/>
                  </a:lnTo>
                  <a:lnTo>
                    <a:pt x="31" y="0"/>
                  </a:lnTo>
                  <a:lnTo>
                    <a:pt x="44" y="6"/>
                  </a:lnTo>
                  <a:lnTo>
                    <a:pt x="50" y="6"/>
                  </a:lnTo>
                  <a:lnTo>
                    <a:pt x="57" y="6"/>
                  </a:lnTo>
                  <a:lnTo>
                    <a:pt x="63" y="6"/>
                  </a:lnTo>
                  <a:lnTo>
                    <a:pt x="63" y="13"/>
                  </a:lnTo>
                  <a:lnTo>
                    <a:pt x="69" y="19"/>
                  </a:lnTo>
                  <a:lnTo>
                    <a:pt x="76" y="19"/>
                  </a:lnTo>
                  <a:lnTo>
                    <a:pt x="82" y="19"/>
                  </a:lnTo>
                  <a:lnTo>
                    <a:pt x="89" y="19"/>
                  </a:lnTo>
                  <a:lnTo>
                    <a:pt x="89" y="25"/>
                  </a:lnTo>
                  <a:lnTo>
                    <a:pt x="95" y="31"/>
                  </a:lnTo>
                  <a:lnTo>
                    <a:pt x="95" y="37"/>
                  </a:lnTo>
                  <a:lnTo>
                    <a:pt x="95" y="44"/>
                  </a:lnTo>
                  <a:lnTo>
                    <a:pt x="101" y="37"/>
                  </a:lnTo>
                  <a:lnTo>
                    <a:pt x="108" y="44"/>
                  </a:lnTo>
                  <a:lnTo>
                    <a:pt x="108" y="50"/>
                  </a:lnTo>
                  <a:lnTo>
                    <a:pt x="114" y="56"/>
                  </a:lnTo>
                  <a:lnTo>
                    <a:pt x="114" y="62"/>
                  </a:lnTo>
                  <a:lnTo>
                    <a:pt x="120" y="69"/>
                  </a:lnTo>
                  <a:lnTo>
                    <a:pt x="120" y="75"/>
                  </a:lnTo>
                  <a:lnTo>
                    <a:pt x="127" y="81"/>
                  </a:lnTo>
                  <a:lnTo>
                    <a:pt x="127" y="87"/>
                  </a:lnTo>
                  <a:lnTo>
                    <a:pt x="120" y="87"/>
                  </a:lnTo>
                  <a:lnTo>
                    <a:pt x="120" y="94"/>
                  </a:lnTo>
                  <a:lnTo>
                    <a:pt x="127" y="94"/>
                  </a:lnTo>
                  <a:lnTo>
                    <a:pt x="133" y="94"/>
                  </a:lnTo>
                  <a:lnTo>
                    <a:pt x="133" y="100"/>
                  </a:lnTo>
                  <a:lnTo>
                    <a:pt x="139" y="100"/>
                  </a:lnTo>
                  <a:lnTo>
                    <a:pt x="139" y="106"/>
                  </a:lnTo>
                  <a:lnTo>
                    <a:pt x="146" y="106"/>
                  </a:lnTo>
                  <a:lnTo>
                    <a:pt x="146" y="112"/>
                  </a:lnTo>
                  <a:lnTo>
                    <a:pt x="152" y="112"/>
                  </a:lnTo>
                  <a:lnTo>
                    <a:pt x="158" y="112"/>
                  </a:lnTo>
                  <a:lnTo>
                    <a:pt x="158" y="118"/>
                  </a:lnTo>
                  <a:lnTo>
                    <a:pt x="165" y="112"/>
                  </a:lnTo>
                  <a:lnTo>
                    <a:pt x="171" y="112"/>
                  </a:lnTo>
                  <a:lnTo>
                    <a:pt x="177" y="118"/>
                  </a:lnTo>
                  <a:lnTo>
                    <a:pt x="177" y="131"/>
                  </a:lnTo>
                  <a:lnTo>
                    <a:pt x="177" y="137"/>
                  </a:lnTo>
                  <a:lnTo>
                    <a:pt x="177" y="143"/>
                  </a:lnTo>
                  <a:lnTo>
                    <a:pt x="171" y="150"/>
                  </a:lnTo>
                  <a:lnTo>
                    <a:pt x="177" y="150"/>
                  </a:lnTo>
                  <a:lnTo>
                    <a:pt x="171" y="156"/>
                  </a:lnTo>
                  <a:lnTo>
                    <a:pt x="171" y="162"/>
                  </a:lnTo>
                  <a:lnTo>
                    <a:pt x="165" y="162"/>
                  </a:lnTo>
                  <a:lnTo>
                    <a:pt x="165" y="168"/>
                  </a:lnTo>
                  <a:lnTo>
                    <a:pt x="171" y="168"/>
                  </a:lnTo>
                  <a:lnTo>
                    <a:pt x="165" y="174"/>
                  </a:lnTo>
                  <a:lnTo>
                    <a:pt x="165" y="181"/>
                  </a:lnTo>
                  <a:lnTo>
                    <a:pt x="165" y="187"/>
                  </a:lnTo>
                  <a:lnTo>
                    <a:pt x="165" y="193"/>
                  </a:lnTo>
                  <a:lnTo>
                    <a:pt x="171" y="199"/>
                  </a:lnTo>
                  <a:lnTo>
                    <a:pt x="177" y="199"/>
                  </a:lnTo>
                  <a:lnTo>
                    <a:pt x="177" y="206"/>
                  </a:lnTo>
                  <a:lnTo>
                    <a:pt x="177" y="212"/>
                  </a:lnTo>
                  <a:lnTo>
                    <a:pt x="184" y="218"/>
                  </a:lnTo>
                  <a:lnTo>
                    <a:pt x="177" y="224"/>
                  </a:lnTo>
                  <a:lnTo>
                    <a:pt x="184" y="224"/>
                  </a:lnTo>
                  <a:lnTo>
                    <a:pt x="190" y="224"/>
                  </a:lnTo>
                  <a:lnTo>
                    <a:pt x="197" y="224"/>
                  </a:lnTo>
                  <a:lnTo>
                    <a:pt x="190" y="212"/>
                  </a:lnTo>
                  <a:lnTo>
                    <a:pt x="184" y="206"/>
                  </a:lnTo>
                  <a:lnTo>
                    <a:pt x="190" y="199"/>
                  </a:lnTo>
                  <a:lnTo>
                    <a:pt x="197" y="199"/>
                  </a:lnTo>
                  <a:lnTo>
                    <a:pt x="203" y="199"/>
                  </a:lnTo>
                  <a:lnTo>
                    <a:pt x="209" y="199"/>
                  </a:lnTo>
                  <a:lnTo>
                    <a:pt x="216" y="199"/>
                  </a:lnTo>
                  <a:lnTo>
                    <a:pt x="222" y="199"/>
                  </a:lnTo>
                  <a:lnTo>
                    <a:pt x="222" y="206"/>
                  </a:lnTo>
                  <a:lnTo>
                    <a:pt x="228" y="206"/>
                  </a:lnTo>
                  <a:lnTo>
                    <a:pt x="235" y="206"/>
                  </a:lnTo>
                  <a:lnTo>
                    <a:pt x="235" y="218"/>
                  </a:lnTo>
                  <a:lnTo>
                    <a:pt x="228" y="224"/>
                  </a:lnTo>
                  <a:lnTo>
                    <a:pt x="235" y="230"/>
                  </a:lnTo>
                  <a:lnTo>
                    <a:pt x="241" y="230"/>
                  </a:lnTo>
                  <a:lnTo>
                    <a:pt x="241" y="237"/>
                  </a:lnTo>
                  <a:lnTo>
                    <a:pt x="247" y="230"/>
                  </a:lnTo>
                  <a:lnTo>
                    <a:pt x="241" y="224"/>
                  </a:lnTo>
                  <a:lnTo>
                    <a:pt x="235" y="218"/>
                  </a:lnTo>
                  <a:lnTo>
                    <a:pt x="235" y="212"/>
                  </a:lnTo>
                  <a:lnTo>
                    <a:pt x="241" y="212"/>
                  </a:lnTo>
                  <a:lnTo>
                    <a:pt x="260" y="218"/>
                  </a:lnTo>
                  <a:lnTo>
                    <a:pt x="266" y="218"/>
                  </a:lnTo>
                  <a:lnTo>
                    <a:pt x="273" y="218"/>
                  </a:lnTo>
                  <a:lnTo>
                    <a:pt x="273" y="212"/>
                  </a:lnTo>
                  <a:lnTo>
                    <a:pt x="279" y="212"/>
                  </a:lnTo>
                  <a:lnTo>
                    <a:pt x="286" y="212"/>
                  </a:lnTo>
                  <a:lnTo>
                    <a:pt x="292" y="206"/>
                  </a:lnTo>
                  <a:lnTo>
                    <a:pt x="298" y="193"/>
                  </a:lnTo>
                  <a:lnTo>
                    <a:pt x="305" y="181"/>
                  </a:lnTo>
                  <a:lnTo>
                    <a:pt x="305" y="174"/>
                  </a:lnTo>
                  <a:lnTo>
                    <a:pt x="305" y="168"/>
                  </a:lnTo>
                  <a:lnTo>
                    <a:pt x="305" y="162"/>
                  </a:lnTo>
                  <a:lnTo>
                    <a:pt x="311" y="162"/>
                  </a:lnTo>
                  <a:lnTo>
                    <a:pt x="311" y="156"/>
                  </a:lnTo>
                  <a:lnTo>
                    <a:pt x="317" y="156"/>
                  </a:lnTo>
                  <a:lnTo>
                    <a:pt x="317" y="143"/>
                  </a:lnTo>
                  <a:lnTo>
                    <a:pt x="324" y="137"/>
                  </a:lnTo>
                  <a:lnTo>
                    <a:pt x="324" y="131"/>
                  </a:lnTo>
                  <a:lnTo>
                    <a:pt x="330" y="131"/>
                  </a:lnTo>
                  <a:lnTo>
                    <a:pt x="343" y="131"/>
                  </a:lnTo>
                  <a:lnTo>
                    <a:pt x="349" y="131"/>
                  </a:lnTo>
                  <a:lnTo>
                    <a:pt x="355" y="131"/>
                  </a:lnTo>
                  <a:lnTo>
                    <a:pt x="355" y="137"/>
                  </a:lnTo>
                  <a:lnTo>
                    <a:pt x="362" y="137"/>
                  </a:lnTo>
                  <a:lnTo>
                    <a:pt x="375" y="143"/>
                  </a:lnTo>
                  <a:lnTo>
                    <a:pt x="381" y="143"/>
                  </a:lnTo>
                  <a:lnTo>
                    <a:pt x="394" y="150"/>
                  </a:lnTo>
                  <a:lnTo>
                    <a:pt x="394" y="156"/>
                  </a:lnTo>
                  <a:lnTo>
                    <a:pt x="400" y="162"/>
                  </a:lnTo>
                  <a:lnTo>
                    <a:pt x="406" y="162"/>
                  </a:lnTo>
                  <a:lnTo>
                    <a:pt x="413" y="162"/>
                  </a:lnTo>
                  <a:lnTo>
                    <a:pt x="419" y="162"/>
                  </a:lnTo>
                  <a:lnTo>
                    <a:pt x="425" y="150"/>
                  </a:lnTo>
                  <a:lnTo>
                    <a:pt x="432" y="143"/>
                  </a:lnTo>
                  <a:lnTo>
                    <a:pt x="444" y="137"/>
                  </a:lnTo>
                  <a:lnTo>
                    <a:pt x="463" y="143"/>
                  </a:lnTo>
                  <a:lnTo>
                    <a:pt x="470" y="143"/>
                  </a:lnTo>
                  <a:lnTo>
                    <a:pt x="476" y="143"/>
                  </a:lnTo>
                  <a:lnTo>
                    <a:pt x="483" y="150"/>
                  </a:lnTo>
                  <a:lnTo>
                    <a:pt x="495" y="143"/>
                  </a:lnTo>
                  <a:lnTo>
                    <a:pt x="502" y="150"/>
                  </a:lnTo>
                  <a:lnTo>
                    <a:pt x="502" y="162"/>
                  </a:lnTo>
                  <a:lnTo>
                    <a:pt x="508" y="168"/>
                  </a:lnTo>
                  <a:lnTo>
                    <a:pt x="508" y="174"/>
                  </a:lnTo>
                  <a:lnTo>
                    <a:pt x="495" y="181"/>
                  </a:lnTo>
                  <a:lnTo>
                    <a:pt x="489" y="193"/>
                  </a:lnTo>
                  <a:lnTo>
                    <a:pt x="483" y="206"/>
                  </a:lnTo>
                  <a:lnTo>
                    <a:pt x="483" y="230"/>
                  </a:lnTo>
                  <a:lnTo>
                    <a:pt x="483" y="249"/>
                  </a:lnTo>
                  <a:lnTo>
                    <a:pt x="489" y="280"/>
                  </a:lnTo>
                  <a:lnTo>
                    <a:pt x="489" y="318"/>
                  </a:lnTo>
                  <a:lnTo>
                    <a:pt x="489" y="330"/>
                  </a:lnTo>
                  <a:lnTo>
                    <a:pt x="483" y="355"/>
                  </a:lnTo>
                  <a:lnTo>
                    <a:pt x="470" y="367"/>
                  </a:lnTo>
                  <a:lnTo>
                    <a:pt x="451" y="386"/>
                  </a:lnTo>
                  <a:lnTo>
                    <a:pt x="438" y="405"/>
                  </a:lnTo>
                  <a:lnTo>
                    <a:pt x="432" y="423"/>
                  </a:lnTo>
                  <a:lnTo>
                    <a:pt x="425" y="436"/>
                  </a:lnTo>
                  <a:lnTo>
                    <a:pt x="419" y="448"/>
                  </a:lnTo>
                  <a:lnTo>
                    <a:pt x="413" y="455"/>
                  </a:lnTo>
                  <a:lnTo>
                    <a:pt x="406" y="461"/>
                  </a:lnTo>
                  <a:lnTo>
                    <a:pt x="394" y="467"/>
                  </a:lnTo>
                  <a:lnTo>
                    <a:pt x="368" y="461"/>
                  </a:lnTo>
                  <a:lnTo>
                    <a:pt x="355" y="455"/>
                  </a:lnTo>
                  <a:lnTo>
                    <a:pt x="324" y="436"/>
                  </a:lnTo>
                  <a:lnTo>
                    <a:pt x="292" y="405"/>
                  </a:lnTo>
                  <a:lnTo>
                    <a:pt x="279" y="392"/>
                  </a:lnTo>
                  <a:lnTo>
                    <a:pt x="254" y="367"/>
                  </a:lnTo>
                  <a:lnTo>
                    <a:pt x="222" y="342"/>
                  </a:lnTo>
                  <a:lnTo>
                    <a:pt x="203" y="330"/>
                  </a:lnTo>
                  <a:lnTo>
                    <a:pt x="190" y="324"/>
                  </a:lnTo>
                  <a:lnTo>
                    <a:pt x="171" y="318"/>
                  </a:lnTo>
                  <a:lnTo>
                    <a:pt x="152" y="318"/>
                  </a:lnTo>
                  <a:lnTo>
                    <a:pt x="133" y="305"/>
                  </a:lnTo>
                  <a:lnTo>
                    <a:pt x="120" y="299"/>
                  </a:lnTo>
                  <a:lnTo>
                    <a:pt x="114" y="286"/>
                  </a:lnTo>
                  <a:lnTo>
                    <a:pt x="108" y="268"/>
                  </a:lnTo>
                  <a:lnTo>
                    <a:pt x="108" y="249"/>
                  </a:lnTo>
                  <a:lnTo>
                    <a:pt x="101" y="230"/>
                  </a:lnTo>
                  <a:lnTo>
                    <a:pt x="89" y="212"/>
                  </a:lnTo>
                  <a:lnTo>
                    <a:pt x="82" y="187"/>
                  </a:lnTo>
                  <a:lnTo>
                    <a:pt x="69" y="156"/>
                  </a:lnTo>
                  <a:lnTo>
                    <a:pt x="57" y="125"/>
                  </a:lnTo>
                  <a:lnTo>
                    <a:pt x="44" y="94"/>
                  </a:lnTo>
                  <a:lnTo>
                    <a:pt x="25" y="62"/>
                  </a:lnTo>
                  <a:lnTo>
                    <a:pt x="6" y="3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67880" y="2095560"/>
              <a:ext cx="1554120" cy="799920"/>
            </a:xfrm>
            <a:custGeom>
              <a:avLst/>
              <a:gdLst/>
              <a:ahLst/>
              <a:rect l="l" t="t" r="r" b="b"/>
              <a:pathLst>
                <a:path w="979" h="504">
                  <a:moveTo>
                    <a:pt x="0" y="62"/>
                  </a:moveTo>
                  <a:lnTo>
                    <a:pt x="13" y="62"/>
                  </a:lnTo>
                  <a:lnTo>
                    <a:pt x="19" y="62"/>
                  </a:lnTo>
                  <a:lnTo>
                    <a:pt x="19" y="56"/>
                  </a:lnTo>
                  <a:lnTo>
                    <a:pt x="26" y="56"/>
                  </a:lnTo>
                  <a:lnTo>
                    <a:pt x="32" y="56"/>
                  </a:lnTo>
                  <a:lnTo>
                    <a:pt x="39" y="56"/>
                  </a:lnTo>
                  <a:lnTo>
                    <a:pt x="45" y="62"/>
                  </a:lnTo>
                  <a:lnTo>
                    <a:pt x="58" y="62"/>
                  </a:lnTo>
                  <a:lnTo>
                    <a:pt x="64" y="62"/>
                  </a:lnTo>
                  <a:lnTo>
                    <a:pt x="70" y="62"/>
                  </a:lnTo>
                  <a:lnTo>
                    <a:pt x="77" y="56"/>
                  </a:lnTo>
                  <a:lnTo>
                    <a:pt x="83" y="62"/>
                  </a:lnTo>
                  <a:lnTo>
                    <a:pt x="89" y="62"/>
                  </a:lnTo>
                  <a:lnTo>
                    <a:pt x="96" y="62"/>
                  </a:lnTo>
                  <a:lnTo>
                    <a:pt x="102" y="62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15" y="37"/>
                  </a:lnTo>
                  <a:lnTo>
                    <a:pt x="115" y="31"/>
                  </a:lnTo>
                  <a:lnTo>
                    <a:pt x="115" y="25"/>
                  </a:lnTo>
                  <a:lnTo>
                    <a:pt x="115" y="18"/>
                  </a:lnTo>
                  <a:lnTo>
                    <a:pt x="121" y="18"/>
                  </a:lnTo>
                  <a:lnTo>
                    <a:pt x="128" y="12"/>
                  </a:lnTo>
                  <a:lnTo>
                    <a:pt x="134" y="12"/>
                  </a:lnTo>
                  <a:lnTo>
                    <a:pt x="140" y="12"/>
                  </a:lnTo>
                  <a:lnTo>
                    <a:pt x="147" y="12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6" y="12"/>
                  </a:lnTo>
                  <a:lnTo>
                    <a:pt x="172" y="18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8" y="37"/>
                  </a:lnTo>
                  <a:lnTo>
                    <a:pt x="197" y="49"/>
                  </a:lnTo>
                  <a:lnTo>
                    <a:pt x="197" y="56"/>
                  </a:lnTo>
                  <a:lnTo>
                    <a:pt x="197" y="62"/>
                  </a:lnTo>
                  <a:lnTo>
                    <a:pt x="204" y="68"/>
                  </a:lnTo>
                  <a:lnTo>
                    <a:pt x="210" y="68"/>
                  </a:lnTo>
                  <a:lnTo>
                    <a:pt x="216" y="68"/>
                  </a:lnTo>
                  <a:lnTo>
                    <a:pt x="223" y="68"/>
                  </a:lnTo>
                  <a:lnTo>
                    <a:pt x="229" y="68"/>
                  </a:lnTo>
                  <a:lnTo>
                    <a:pt x="236" y="68"/>
                  </a:lnTo>
                  <a:lnTo>
                    <a:pt x="248" y="68"/>
                  </a:lnTo>
                  <a:lnTo>
                    <a:pt x="255" y="62"/>
                  </a:lnTo>
                  <a:lnTo>
                    <a:pt x="255" y="56"/>
                  </a:lnTo>
                  <a:lnTo>
                    <a:pt x="261" y="49"/>
                  </a:lnTo>
                  <a:lnTo>
                    <a:pt x="267" y="49"/>
                  </a:lnTo>
                  <a:lnTo>
                    <a:pt x="274" y="49"/>
                  </a:lnTo>
                  <a:lnTo>
                    <a:pt x="280" y="49"/>
                  </a:lnTo>
                  <a:lnTo>
                    <a:pt x="286" y="49"/>
                  </a:lnTo>
                  <a:lnTo>
                    <a:pt x="293" y="43"/>
                  </a:lnTo>
                  <a:lnTo>
                    <a:pt x="299" y="49"/>
                  </a:lnTo>
                  <a:lnTo>
                    <a:pt x="305" y="49"/>
                  </a:lnTo>
                  <a:lnTo>
                    <a:pt x="312" y="49"/>
                  </a:lnTo>
                  <a:lnTo>
                    <a:pt x="318" y="49"/>
                  </a:lnTo>
                  <a:lnTo>
                    <a:pt x="318" y="56"/>
                  </a:lnTo>
                  <a:lnTo>
                    <a:pt x="318" y="62"/>
                  </a:lnTo>
                  <a:lnTo>
                    <a:pt x="318" y="68"/>
                  </a:lnTo>
                  <a:lnTo>
                    <a:pt x="325" y="68"/>
                  </a:lnTo>
                  <a:lnTo>
                    <a:pt x="331" y="74"/>
                  </a:lnTo>
                  <a:lnTo>
                    <a:pt x="337" y="74"/>
                  </a:lnTo>
                  <a:lnTo>
                    <a:pt x="350" y="68"/>
                  </a:lnTo>
                  <a:lnTo>
                    <a:pt x="356" y="68"/>
                  </a:lnTo>
                  <a:lnTo>
                    <a:pt x="363" y="68"/>
                  </a:lnTo>
                  <a:lnTo>
                    <a:pt x="369" y="68"/>
                  </a:lnTo>
                  <a:lnTo>
                    <a:pt x="375" y="68"/>
                  </a:lnTo>
                  <a:lnTo>
                    <a:pt x="382" y="68"/>
                  </a:lnTo>
                  <a:lnTo>
                    <a:pt x="388" y="74"/>
                  </a:lnTo>
                  <a:lnTo>
                    <a:pt x="413" y="62"/>
                  </a:lnTo>
                  <a:lnTo>
                    <a:pt x="420" y="62"/>
                  </a:lnTo>
                  <a:lnTo>
                    <a:pt x="420" y="56"/>
                  </a:lnTo>
                  <a:lnTo>
                    <a:pt x="426" y="49"/>
                  </a:lnTo>
                  <a:lnTo>
                    <a:pt x="433" y="49"/>
                  </a:lnTo>
                  <a:lnTo>
                    <a:pt x="439" y="49"/>
                  </a:lnTo>
                  <a:lnTo>
                    <a:pt x="452" y="56"/>
                  </a:lnTo>
                  <a:lnTo>
                    <a:pt x="458" y="56"/>
                  </a:lnTo>
                  <a:lnTo>
                    <a:pt x="464" y="56"/>
                  </a:lnTo>
                  <a:lnTo>
                    <a:pt x="471" y="56"/>
                  </a:lnTo>
                  <a:lnTo>
                    <a:pt x="477" y="56"/>
                  </a:lnTo>
                  <a:lnTo>
                    <a:pt x="477" y="49"/>
                  </a:lnTo>
                  <a:lnTo>
                    <a:pt x="483" y="49"/>
                  </a:lnTo>
                  <a:lnTo>
                    <a:pt x="490" y="43"/>
                  </a:lnTo>
                  <a:lnTo>
                    <a:pt x="490" y="37"/>
                  </a:lnTo>
                  <a:lnTo>
                    <a:pt x="496" y="37"/>
                  </a:lnTo>
                  <a:lnTo>
                    <a:pt x="502" y="37"/>
                  </a:lnTo>
                  <a:lnTo>
                    <a:pt x="502" y="31"/>
                  </a:lnTo>
                  <a:lnTo>
                    <a:pt x="509" y="37"/>
                  </a:lnTo>
                  <a:lnTo>
                    <a:pt x="515" y="37"/>
                  </a:lnTo>
                  <a:lnTo>
                    <a:pt x="522" y="37"/>
                  </a:lnTo>
                  <a:lnTo>
                    <a:pt x="522" y="43"/>
                  </a:lnTo>
                  <a:lnTo>
                    <a:pt x="528" y="43"/>
                  </a:lnTo>
                  <a:lnTo>
                    <a:pt x="534" y="37"/>
                  </a:lnTo>
                  <a:lnTo>
                    <a:pt x="541" y="37"/>
                  </a:lnTo>
                  <a:lnTo>
                    <a:pt x="547" y="37"/>
                  </a:lnTo>
                  <a:lnTo>
                    <a:pt x="547" y="31"/>
                  </a:lnTo>
                  <a:lnTo>
                    <a:pt x="547" y="25"/>
                  </a:lnTo>
                  <a:lnTo>
                    <a:pt x="553" y="18"/>
                  </a:lnTo>
                  <a:lnTo>
                    <a:pt x="560" y="12"/>
                  </a:lnTo>
                  <a:lnTo>
                    <a:pt x="560" y="6"/>
                  </a:lnTo>
                  <a:lnTo>
                    <a:pt x="566" y="12"/>
                  </a:lnTo>
                  <a:lnTo>
                    <a:pt x="572" y="12"/>
                  </a:lnTo>
                  <a:lnTo>
                    <a:pt x="579" y="12"/>
                  </a:lnTo>
                  <a:lnTo>
                    <a:pt x="585" y="12"/>
                  </a:lnTo>
                  <a:lnTo>
                    <a:pt x="591" y="12"/>
                  </a:lnTo>
                  <a:lnTo>
                    <a:pt x="591" y="18"/>
                  </a:lnTo>
                  <a:lnTo>
                    <a:pt x="604" y="31"/>
                  </a:lnTo>
                  <a:lnTo>
                    <a:pt x="604" y="37"/>
                  </a:lnTo>
                  <a:lnTo>
                    <a:pt x="611" y="37"/>
                  </a:lnTo>
                  <a:lnTo>
                    <a:pt x="617" y="37"/>
                  </a:lnTo>
                  <a:lnTo>
                    <a:pt x="617" y="43"/>
                  </a:lnTo>
                  <a:lnTo>
                    <a:pt x="623" y="43"/>
                  </a:lnTo>
                  <a:lnTo>
                    <a:pt x="630" y="43"/>
                  </a:lnTo>
                  <a:lnTo>
                    <a:pt x="636" y="43"/>
                  </a:lnTo>
                  <a:lnTo>
                    <a:pt x="636" y="37"/>
                  </a:lnTo>
                  <a:lnTo>
                    <a:pt x="636" y="31"/>
                  </a:lnTo>
                  <a:lnTo>
                    <a:pt x="636" y="18"/>
                  </a:lnTo>
                  <a:lnTo>
                    <a:pt x="630" y="6"/>
                  </a:lnTo>
                  <a:lnTo>
                    <a:pt x="630" y="0"/>
                  </a:lnTo>
                  <a:lnTo>
                    <a:pt x="642" y="6"/>
                  </a:lnTo>
                  <a:lnTo>
                    <a:pt x="649" y="6"/>
                  </a:lnTo>
                  <a:lnTo>
                    <a:pt x="655" y="18"/>
                  </a:lnTo>
                  <a:lnTo>
                    <a:pt x="661" y="18"/>
                  </a:lnTo>
                  <a:lnTo>
                    <a:pt x="661" y="25"/>
                  </a:lnTo>
                  <a:lnTo>
                    <a:pt x="661" y="31"/>
                  </a:lnTo>
                  <a:lnTo>
                    <a:pt x="668" y="31"/>
                  </a:lnTo>
                  <a:lnTo>
                    <a:pt x="668" y="37"/>
                  </a:lnTo>
                  <a:lnTo>
                    <a:pt x="668" y="43"/>
                  </a:lnTo>
                  <a:lnTo>
                    <a:pt x="668" y="49"/>
                  </a:lnTo>
                  <a:lnTo>
                    <a:pt x="661" y="56"/>
                  </a:lnTo>
                  <a:lnTo>
                    <a:pt x="661" y="62"/>
                  </a:lnTo>
                  <a:lnTo>
                    <a:pt x="655" y="68"/>
                  </a:lnTo>
                  <a:lnTo>
                    <a:pt x="655" y="74"/>
                  </a:lnTo>
                  <a:lnTo>
                    <a:pt x="655" y="81"/>
                  </a:lnTo>
                  <a:lnTo>
                    <a:pt x="655" y="87"/>
                  </a:lnTo>
                  <a:lnTo>
                    <a:pt x="661" y="87"/>
                  </a:lnTo>
                  <a:lnTo>
                    <a:pt x="661" y="93"/>
                  </a:lnTo>
                  <a:lnTo>
                    <a:pt x="668" y="93"/>
                  </a:lnTo>
                  <a:lnTo>
                    <a:pt x="668" y="99"/>
                  </a:lnTo>
                  <a:lnTo>
                    <a:pt x="674" y="99"/>
                  </a:lnTo>
                  <a:lnTo>
                    <a:pt x="674" y="105"/>
                  </a:lnTo>
                  <a:lnTo>
                    <a:pt x="687" y="105"/>
                  </a:lnTo>
                  <a:lnTo>
                    <a:pt x="693" y="112"/>
                  </a:lnTo>
                  <a:lnTo>
                    <a:pt x="699" y="112"/>
                  </a:lnTo>
                  <a:lnTo>
                    <a:pt x="706" y="112"/>
                  </a:lnTo>
                  <a:lnTo>
                    <a:pt x="712" y="112"/>
                  </a:lnTo>
                  <a:lnTo>
                    <a:pt x="719" y="118"/>
                  </a:lnTo>
                  <a:lnTo>
                    <a:pt x="725" y="118"/>
                  </a:lnTo>
                  <a:lnTo>
                    <a:pt x="731" y="124"/>
                  </a:lnTo>
                  <a:lnTo>
                    <a:pt x="731" y="130"/>
                  </a:lnTo>
                  <a:lnTo>
                    <a:pt x="738" y="130"/>
                  </a:lnTo>
                  <a:lnTo>
                    <a:pt x="744" y="130"/>
                  </a:lnTo>
                  <a:lnTo>
                    <a:pt x="744" y="137"/>
                  </a:lnTo>
                  <a:lnTo>
                    <a:pt x="738" y="143"/>
                  </a:lnTo>
                  <a:lnTo>
                    <a:pt x="738" y="149"/>
                  </a:lnTo>
                  <a:lnTo>
                    <a:pt x="731" y="149"/>
                  </a:lnTo>
                  <a:lnTo>
                    <a:pt x="731" y="155"/>
                  </a:lnTo>
                  <a:lnTo>
                    <a:pt x="731" y="168"/>
                  </a:lnTo>
                  <a:lnTo>
                    <a:pt x="731" y="174"/>
                  </a:lnTo>
                  <a:lnTo>
                    <a:pt x="731" y="180"/>
                  </a:lnTo>
                  <a:lnTo>
                    <a:pt x="731" y="186"/>
                  </a:lnTo>
                  <a:lnTo>
                    <a:pt x="731" y="193"/>
                  </a:lnTo>
                  <a:lnTo>
                    <a:pt x="731" y="199"/>
                  </a:lnTo>
                  <a:lnTo>
                    <a:pt x="738" y="199"/>
                  </a:lnTo>
                  <a:lnTo>
                    <a:pt x="744" y="199"/>
                  </a:lnTo>
                  <a:lnTo>
                    <a:pt x="750" y="205"/>
                  </a:lnTo>
                  <a:lnTo>
                    <a:pt x="757" y="211"/>
                  </a:lnTo>
                  <a:lnTo>
                    <a:pt x="763" y="211"/>
                  </a:lnTo>
                  <a:lnTo>
                    <a:pt x="763" y="217"/>
                  </a:lnTo>
                  <a:lnTo>
                    <a:pt x="769" y="217"/>
                  </a:lnTo>
                  <a:lnTo>
                    <a:pt x="776" y="211"/>
                  </a:lnTo>
                  <a:lnTo>
                    <a:pt x="776" y="217"/>
                  </a:lnTo>
                  <a:lnTo>
                    <a:pt x="782" y="217"/>
                  </a:lnTo>
                  <a:lnTo>
                    <a:pt x="788" y="224"/>
                  </a:lnTo>
                  <a:lnTo>
                    <a:pt x="801" y="224"/>
                  </a:lnTo>
                  <a:lnTo>
                    <a:pt x="808" y="224"/>
                  </a:lnTo>
                  <a:lnTo>
                    <a:pt x="814" y="224"/>
                  </a:lnTo>
                  <a:lnTo>
                    <a:pt x="820" y="224"/>
                  </a:lnTo>
                  <a:lnTo>
                    <a:pt x="833" y="224"/>
                  </a:lnTo>
                  <a:lnTo>
                    <a:pt x="839" y="224"/>
                  </a:lnTo>
                  <a:lnTo>
                    <a:pt x="846" y="230"/>
                  </a:lnTo>
                  <a:lnTo>
                    <a:pt x="852" y="236"/>
                  </a:lnTo>
                  <a:lnTo>
                    <a:pt x="852" y="242"/>
                  </a:lnTo>
                  <a:lnTo>
                    <a:pt x="858" y="255"/>
                  </a:lnTo>
                  <a:lnTo>
                    <a:pt x="865" y="255"/>
                  </a:lnTo>
                  <a:lnTo>
                    <a:pt x="871" y="261"/>
                  </a:lnTo>
                  <a:lnTo>
                    <a:pt x="877" y="267"/>
                  </a:lnTo>
                  <a:lnTo>
                    <a:pt x="897" y="267"/>
                  </a:lnTo>
                  <a:lnTo>
                    <a:pt x="909" y="261"/>
                  </a:lnTo>
                  <a:lnTo>
                    <a:pt x="922" y="261"/>
                  </a:lnTo>
                  <a:lnTo>
                    <a:pt x="935" y="261"/>
                  </a:lnTo>
                  <a:lnTo>
                    <a:pt x="941" y="261"/>
                  </a:lnTo>
                  <a:lnTo>
                    <a:pt x="954" y="267"/>
                  </a:lnTo>
                  <a:lnTo>
                    <a:pt x="960" y="274"/>
                  </a:lnTo>
                  <a:lnTo>
                    <a:pt x="960" y="280"/>
                  </a:lnTo>
                  <a:lnTo>
                    <a:pt x="960" y="286"/>
                  </a:lnTo>
                  <a:lnTo>
                    <a:pt x="954" y="292"/>
                  </a:lnTo>
                  <a:lnTo>
                    <a:pt x="947" y="298"/>
                  </a:lnTo>
                  <a:lnTo>
                    <a:pt x="941" y="305"/>
                  </a:lnTo>
                  <a:lnTo>
                    <a:pt x="941" y="311"/>
                  </a:lnTo>
                  <a:lnTo>
                    <a:pt x="928" y="317"/>
                  </a:lnTo>
                  <a:lnTo>
                    <a:pt x="935" y="323"/>
                  </a:lnTo>
                  <a:lnTo>
                    <a:pt x="941" y="323"/>
                  </a:lnTo>
                  <a:lnTo>
                    <a:pt x="941" y="330"/>
                  </a:lnTo>
                  <a:lnTo>
                    <a:pt x="954" y="323"/>
                  </a:lnTo>
                  <a:lnTo>
                    <a:pt x="960" y="330"/>
                  </a:lnTo>
                  <a:lnTo>
                    <a:pt x="966" y="330"/>
                  </a:lnTo>
                  <a:lnTo>
                    <a:pt x="973" y="336"/>
                  </a:lnTo>
                  <a:lnTo>
                    <a:pt x="979" y="348"/>
                  </a:lnTo>
                  <a:lnTo>
                    <a:pt x="979" y="354"/>
                  </a:lnTo>
                  <a:lnTo>
                    <a:pt x="979" y="361"/>
                  </a:lnTo>
                  <a:lnTo>
                    <a:pt x="979" y="367"/>
                  </a:lnTo>
                  <a:lnTo>
                    <a:pt x="979" y="373"/>
                  </a:lnTo>
                  <a:lnTo>
                    <a:pt x="979" y="386"/>
                  </a:lnTo>
                  <a:lnTo>
                    <a:pt x="966" y="410"/>
                  </a:lnTo>
                  <a:lnTo>
                    <a:pt x="954" y="435"/>
                  </a:lnTo>
                  <a:lnTo>
                    <a:pt x="935" y="460"/>
                  </a:lnTo>
                  <a:lnTo>
                    <a:pt x="916" y="473"/>
                  </a:lnTo>
                  <a:lnTo>
                    <a:pt x="897" y="479"/>
                  </a:lnTo>
                  <a:lnTo>
                    <a:pt x="884" y="479"/>
                  </a:lnTo>
                  <a:lnTo>
                    <a:pt x="871" y="479"/>
                  </a:lnTo>
                  <a:lnTo>
                    <a:pt x="865" y="491"/>
                  </a:lnTo>
                  <a:lnTo>
                    <a:pt x="858" y="498"/>
                  </a:lnTo>
                  <a:lnTo>
                    <a:pt x="846" y="504"/>
                  </a:lnTo>
                  <a:lnTo>
                    <a:pt x="833" y="504"/>
                  </a:lnTo>
                  <a:lnTo>
                    <a:pt x="814" y="504"/>
                  </a:lnTo>
                  <a:lnTo>
                    <a:pt x="795" y="498"/>
                  </a:lnTo>
                  <a:lnTo>
                    <a:pt x="782" y="498"/>
                  </a:lnTo>
                  <a:lnTo>
                    <a:pt x="763" y="485"/>
                  </a:lnTo>
                  <a:lnTo>
                    <a:pt x="757" y="479"/>
                  </a:lnTo>
                  <a:lnTo>
                    <a:pt x="744" y="466"/>
                  </a:lnTo>
                  <a:lnTo>
                    <a:pt x="738" y="454"/>
                  </a:lnTo>
                  <a:lnTo>
                    <a:pt x="725" y="442"/>
                  </a:lnTo>
                  <a:lnTo>
                    <a:pt x="699" y="435"/>
                  </a:lnTo>
                  <a:lnTo>
                    <a:pt x="668" y="417"/>
                  </a:lnTo>
                  <a:lnTo>
                    <a:pt x="649" y="392"/>
                  </a:lnTo>
                  <a:lnTo>
                    <a:pt x="636" y="354"/>
                  </a:lnTo>
                  <a:lnTo>
                    <a:pt x="617" y="317"/>
                  </a:lnTo>
                  <a:lnTo>
                    <a:pt x="598" y="280"/>
                  </a:lnTo>
                  <a:lnTo>
                    <a:pt x="572" y="261"/>
                  </a:lnTo>
                  <a:lnTo>
                    <a:pt x="553" y="242"/>
                  </a:lnTo>
                  <a:lnTo>
                    <a:pt x="522" y="230"/>
                  </a:lnTo>
                  <a:lnTo>
                    <a:pt x="515" y="230"/>
                  </a:lnTo>
                  <a:lnTo>
                    <a:pt x="496" y="224"/>
                  </a:lnTo>
                  <a:lnTo>
                    <a:pt x="483" y="224"/>
                  </a:lnTo>
                  <a:lnTo>
                    <a:pt x="471" y="230"/>
                  </a:lnTo>
                  <a:lnTo>
                    <a:pt x="452" y="230"/>
                  </a:lnTo>
                  <a:lnTo>
                    <a:pt x="426" y="230"/>
                  </a:lnTo>
                  <a:lnTo>
                    <a:pt x="401" y="230"/>
                  </a:lnTo>
                  <a:lnTo>
                    <a:pt x="382" y="230"/>
                  </a:lnTo>
                  <a:lnTo>
                    <a:pt x="363" y="224"/>
                  </a:lnTo>
                  <a:lnTo>
                    <a:pt x="331" y="211"/>
                  </a:lnTo>
                  <a:lnTo>
                    <a:pt x="286" y="199"/>
                  </a:lnTo>
                  <a:lnTo>
                    <a:pt x="242" y="180"/>
                  </a:lnTo>
                  <a:lnTo>
                    <a:pt x="197" y="155"/>
                  </a:lnTo>
                  <a:lnTo>
                    <a:pt x="185" y="143"/>
                  </a:lnTo>
                  <a:lnTo>
                    <a:pt x="172" y="137"/>
                  </a:lnTo>
                  <a:lnTo>
                    <a:pt x="159" y="137"/>
                  </a:lnTo>
                  <a:lnTo>
                    <a:pt x="153" y="137"/>
                  </a:lnTo>
                  <a:lnTo>
                    <a:pt x="115" y="124"/>
                  </a:lnTo>
                  <a:lnTo>
                    <a:pt x="96" y="118"/>
                  </a:lnTo>
                  <a:lnTo>
                    <a:pt x="58" y="99"/>
                  </a:lnTo>
                  <a:lnTo>
                    <a:pt x="19" y="8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92360" y="2104920"/>
              <a:ext cx="5802480" cy="5534280"/>
            </a:xfrm>
            <a:custGeom>
              <a:avLst/>
              <a:gdLst/>
              <a:ahLst/>
              <a:rect l="l" t="t" r="r" b="b"/>
              <a:pathLst>
                <a:path w="3655" h="3486">
                  <a:moveTo>
                    <a:pt x="1043" y="0"/>
                  </a:moveTo>
                  <a:lnTo>
                    <a:pt x="1049" y="6"/>
                  </a:lnTo>
                  <a:lnTo>
                    <a:pt x="1055" y="19"/>
                  </a:lnTo>
                  <a:lnTo>
                    <a:pt x="1068" y="25"/>
                  </a:lnTo>
                  <a:lnTo>
                    <a:pt x="1100" y="37"/>
                  </a:lnTo>
                  <a:lnTo>
                    <a:pt x="1119" y="43"/>
                  </a:lnTo>
                  <a:lnTo>
                    <a:pt x="1151" y="43"/>
                  </a:lnTo>
                  <a:lnTo>
                    <a:pt x="1163" y="37"/>
                  </a:lnTo>
                  <a:lnTo>
                    <a:pt x="1214" y="50"/>
                  </a:lnTo>
                  <a:lnTo>
                    <a:pt x="1265" y="75"/>
                  </a:lnTo>
                  <a:lnTo>
                    <a:pt x="1303" y="93"/>
                  </a:lnTo>
                  <a:lnTo>
                    <a:pt x="1329" y="112"/>
                  </a:lnTo>
                  <a:lnTo>
                    <a:pt x="1341" y="118"/>
                  </a:lnTo>
                  <a:lnTo>
                    <a:pt x="1354" y="124"/>
                  </a:lnTo>
                  <a:lnTo>
                    <a:pt x="1367" y="124"/>
                  </a:lnTo>
                  <a:lnTo>
                    <a:pt x="1386" y="118"/>
                  </a:lnTo>
                  <a:lnTo>
                    <a:pt x="1405" y="112"/>
                  </a:lnTo>
                  <a:lnTo>
                    <a:pt x="1411" y="99"/>
                  </a:lnTo>
                  <a:lnTo>
                    <a:pt x="1424" y="93"/>
                  </a:lnTo>
                  <a:lnTo>
                    <a:pt x="1437" y="75"/>
                  </a:lnTo>
                  <a:lnTo>
                    <a:pt x="1449" y="62"/>
                  </a:lnTo>
                  <a:lnTo>
                    <a:pt x="1462" y="62"/>
                  </a:lnTo>
                  <a:lnTo>
                    <a:pt x="1475" y="68"/>
                  </a:lnTo>
                  <a:lnTo>
                    <a:pt x="1475" y="81"/>
                  </a:lnTo>
                  <a:lnTo>
                    <a:pt x="1481" y="93"/>
                  </a:lnTo>
                  <a:lnTo>
                    <a:pt x="1481" y="112"/>
                  </a:lnTo>
                  <a:lnTo>
                    <a:pt x="1475" y="124"/>
                  </a:lnTo>
                  <a:lnTo>
                    <a:pt x="1481" y="143"/>
                  </a:lnTo>
                  <a:lnTo>
                    <a:pt x="1481" y="149"/>
                  </a:lnTo>
                  <a:lnTo>
                    <a:pt x="1494" y="149"/>
                  </a:lnTo>
                  <a:lnTo>
                    <a:pt x="1500" y="149"/>
                  </a:lnTo>
                  <a:lnTo>
                    <a:pt x="1513" y="143"/>
                  </a:lnTo>
                  <a:lnTo>
                    <a:pt x="1519" y="137"/>
                  </a:lnTo>
                  <a:lnTo>
                    <a:pt x="1526" y="137"/>
                  </a:lnTo>
                  <a:lnTo>
                    <a:pt x="1532" y="137"/>
                  </a:lnTo>
                  <a:lnTo>
                    <a:pt x="1532" y="149"/>
                  </a:lnTo>
                  <a:lnTo>
                    <a:pt x="1538" y="155"/>
                  </a:lnTo>
                  <a:lnTo>
                    <a:pt x="1538" y="174"/>
                  </a:lnTo>
                  <a:lnTo>
                    <a:pt x="1538" y="193"/>
                  </a:lnTo>
                  <a:lnTo>
                    <a:pt x="1551" y="199"/>
                  </a:lnTo>
                  <a:lnTo>
                    <a:pt x="1570" y="211"/>
                  </a:lnTo>
                  <a:lnTo>
                    <a:pt x="1589" y="218"/>
                  </a:lnTo>
                  <a:lnTo>
                    <a:pt x="1615" y="224"/>
                  </a:lnTo>
                  <a:lnTo>
                    <a:pt x="1627" y="230"/>
                  </a:lnTo>
                  <a:lnTo>
                    <a:pt x="1634" y="243"/>
                  </a:lnTo>
                  <a:lnTo>
                    <a:pt x="1659" y="255"/>
                  </a:lnTo>
                  <a:lnTo>
                    <a:pt x="1678" y="268"/>
                  </a:lnTo>
                  <a:lnTo>
                    <a:pt x="1697" y="286"/>
                  </a:lnTo>
                  <a:lnTo>
                    <a:pt x="1710" y="305"/>
                  </a:lnTo>
                  <a:lnTo>
                    <a:pt x="1729" y="317"/>
                  </a:lnTo>
                  <a:lnTo>
                    <a:pt x="1748" y="330"/>
                  </a:lnTo>
                  <a:lnTo>
                    <a:pt x="1786" y="336"/>
                  </a:lnTo>
                  <a:lnTo>
                    <a:pt x="1824" y="355"/>
                  </a:lnTo>
                  <a:lnTo>
                    <a:pt x="1856" y="367"/>
                  </a:lnTo>
                  <a:lnTo>
                    <a:pt x="1888" y="386"/>
                  </a:lnTo>
                  <a:lnTo>
                    <a:pt x="1894" y="392"/>
                  </a:lnTo>
                  <a:lnTo>
                    <a:pt x="1901" y="404"/>
                  </a:lnTo>
                  <a:lnTo>
                    <a:pt x="1907" y="417"/>
                  </a:lnTo>
                  <a:lnTo>
                    <a:pt x="1913" y="423"/>
                  </a:lnTo>
                  <a:lnTo>
                    <a:pt x="1920" y="429"/>
                  </a:lnTo>
                  <a:lnTo>
                    <a:pt x="1920" y="442"/>
                  </a:lnTo>
                  <a:lnTo>
                    <a:pt x="1920" y="460"/>
                  </a:lnTo>
                  <a:lnTo>
                    <a:pt x="1920" y="467"/>
                  </a:lnTo>
                  <a:lnTo>
                    <a:pt x="1920" y="473"/>
                  </a:lnTo>
                  <a:lnTo>
                    <a:pt x="1920" y="485"/>
                  </a:lnTo>
                  <a:lnTo>
                    <a:pt x="1926" y="498"/>
                  </a:lnTo>
                  <a:lnTo>
                    <a:pt x="1939" y="504"/>
                  </a:lnTo>
                  <a:lnTo>
                    <a:pt x="1958" y="504"/>
                  </a:lnTo>
                  <a:lnTo>
                    <a:pt x="1964" y="510"/>
                  </a:lnTo>
                  <a:lnTo>
                    <a:pt x="1977" y="523"/>
                  </a:lnTo>
                  <a:lnTo>
                    <a:pt x="1990" y="535"/>
                  </a:lnTo>
                  <a:lnTo>
                    <a:pt x="1996" y="554"/>
                  </a:lnTo>
                  <a:lnTo>
                    <a:pt x="2009" y="573"/>
                  </a:lnTo>
                  <a:lnTo>
                    <a:pt x="2015" y="591"/>
                  </a:lnTo>
                  <a:lnTo>
                    <a:pt x="2028" y="604"/>
                  </a:lnTo>
                  <a:lnTo>
                    <a:pt x="2040" y="616"/>
                  </a:lnTo>
                  <a:lnTo>
                    <a:pt x="2053" y="622"/>
                  </a:lnTo>
                  <a:lnTo>
                    <a:pt x="2072" y="622"/>
                  </a:lnTo>
                  <a:lnTo>
                    <a:pt x="2091" y="629"/>
                  </a:lnTo>
                  <a:lnTo>
                    <a:pt x="2104" y="635"/>
                  </a:lnTo>
                  <a:lnTo>
                    <a:pt x="2117" y="641"/>
                  </a:lnTo>
                  <a:lnTo>
                    <a:pt x="2129" y="653"/>
                  </a:lnTo>
                  <a:lnTo>
                    <a:pt x="2155" y="666"/>
                  </a:lnTo>
                  <a:lnTo>
                    <a:pt x="2187" y="678"/>
                  </a:lnTo>
                  <a:lnTo>
                    <a:pt x="2225" y="691"/>
                  </a:lnTo>
                  <a:lnTo>
                    <a:pt x="2250" y="691"/>
                  </a:lnTo>
                  <a:lnTo>
                    <a:pt x="2269" y="691"/>
                  </a:lnTo>
                  <a:lnTo>
                    <a:pt x="2282" y="697"/>
                  </a:lnTo>
                  <a:lnTo>
                    <a:pt x="2288" y="703"/>
                  </a:lnTo>
                  <a:lnTo>
                    <a:pt x="2295" y="709"/>
                  </a:lnTo>
                  <a:lnTo>
                    <a:pt x="2307" y="728"/>
                  </a:lnTo>
                  <a:lnTo>
                    <a:pt x="2320" y="741"/>
                  </a:lnTo>
                  <a:lnTo>
                    <a:pt x="2345" y="753"/>
                  </a:lnTo>
                  <a:lnTo>
                    <a:pt x="2371" y="759"/>
                  </a:lnTo>
                  <a:lnTo>
                    <a:pt x="2390" y="772"/>
                  </a:lnTo>
                  <a:lnTo>
                    <a:pt x="2403" y="784"/>
                  </a:lnTo>
                  <a:lnTo>
                    <a:pt x="2434" y="797"/>
                  </a:lnTo>
                  <a:lnTo>
                    <a:pt x="2460" y="809"/>
                  </a:lnTo>
                  <a:lnTo>
                    <a:pt x="2485" y="809"/>
                  </a:lnTo>
                  <a:lnTo>
                    <a:pt x="2517" y="815"/>
                  </a:lnTo>
                  <a:lnTo>
                    <a:pt x="2542" y="822"/>
                  </a:lnTo>
                  <a:lnTo>
                    <a:pt x="2568" y="834"/>
                  </a:lnTo>
                  <a:lnTo>
                    <a:pt x="2581" y="840"/>
                  </a:lnTo>
                  <a:lnTo>
                    <a:pt x="2581" y="853"/>
                  </a:lnTo>
                  <a:lnTo>
                    <a:pt x="2587" y="865"/>
                  </a:lnTo>
                  <a:lnTo>
                    <a:pt x="2587" y="878"/>
                  </a:lnTo>
                  <a:lnTo>
                    <a:pt x="2593" y="890"/>
                  </a:lnTo>
                  <a:lnTo>
                    <a:pt x="2600" y="902"/>
                  </a:lnTo>
                  <a:lnTo>
                    <a:pt x="2612" y="902"/>
                  </a:lnTo>
                  <a:lnTo>
                    <a:pt x="2644" y="902"/>
                  </a:lnTo>
                  <a:lnTo>
                    <a:pt x="2663" y="902"/>
                  </a:lnTo>
                  <a:lnTo>
                    <a:pt x="2682" y="896"/>
                  </a:lnTo>
                  <a:lnTo>
                    <a:pt x="2714" y="890"/>
                  </a:lnTo>
                  <a:lnTo>
                    <a:pt x="2740" y="878"/>
                  </a:lnTo>
                  <a:lnTo>
                    <a:pt x="2746" y="865"/>
                  </a:lnTo>
                  <a:lnTo>
                    <a:pt x="2759" y="859"/>
                  </a:lnTo>
                  <a:lnTo>
                    <a:pt x="2778" y="846"/>
                  </a:lnTo>
                  <a:lnTo>
                    <a:pt x="2790" y="846"/>
                  </a:lnTo>
                  <a:lnTo>
                    <a:pt x="2809" y="846"/>
                  </a:lnTo>
                  <a:lnTo>
                    <a:pt x="2822" y="840"/>
                  </a:lnTo>
                  <a:lnTo>
                    <a:pt x="2822" y="853"/>
                  </a:lnTo>
                  <a:lnTo>
                    <a:pt x="2822" y="865"/>
                  </a:lnTo>
                  <a:lnTo>
                    <a:pt x="2828" y="878"/>
                  </a:lnTo>
                  <a:lnTo>
                    <a:pt x="2835" y="890"/>
                  </a:lnTo>
                  <a:lnTo>
                    <a:pt x="2848" y="902"/>
                  </a:lnTo>
                  <a:lnTo>
                    <a:pt x="2860" y="921"/>
                  </a:lnTo>
                  <a:lnTo>
                    <a:pt x="2886" y="946"/>
                  </a:lnTo>
                  <a:lnTo>
                    <a:pt x="2892" y="952"/>
                  </a:lnTo>
                  <a:lnTo>
                    <a:pt x="2911" y="977"/>
                  </a:lnTo>
                  <a:lnTo>
                    <a:pt x="2924" y="1002"/>
                  </a:lnTo>
                  <a:lnTo>
                    <a:pt x="2943" y="1021"/>
                  </a:lnTo>
                  <a:lnTo>
                    <a:pt x="2962" y="1046"/>
                  </a:lnTo>
                  <a:lnTo>
                    <a:pt x="2975" y="1064"/>
                  </a:lnTo>
                  <a:lnTo>
                    <a:pt x="2994" y="1114"/>
                  </a:lnTo>
                  <a:lnTo>
                    <a:pt x="3006" y="1158"/>
                  </a:lnTo>
                  <a:lnTo>
                    <a:pt x="3026" y="1214"/>
                  </a:lnTo>
                  <a:lnTo>
                    <a:pt x="3038" y="1239"/>
                  </a:lnTo>
                  <a:lnTo>
                    <a:pt x="3057" y="1263"/>
                  </a:lnTo>
                  <a:lnTo>
                    <a:pt x="3083" y="1288"/>
                  </a:lnTo>
                  <a:lnTo>
                    <a:pt x="3095" y="1307"/>
                  </a:lnTo>
                  <a:lnTo>
                    <a:pt x="3114" y="1326"/>
                  </a:lnTo>
                  <a:lnTo>
                    <a:pt x="3134" y="1338"/>
                  </a:lnTo>
                  <a:lnTo>
                    <a:pt x="3140" y="1351"/>
                  </a:lnTo>
                  <a:lnTo>
                    <a:pt x="3146" y="1363"/>
                  </a:lnTo>
                  <a:lnTo>
                    <a:pt x="3146" y="1369"/>
                  </a:lnTo>
                  <a:lnTo>
                    <a:pt x="3159" y="1388"/>
                  </a:lnTo>
                  <a:lnTo>
                    <a:pt x="3172" y="1400"/>
                  </a:lnTo>
                  <a:lnTo>
                    <a:pt x="3184" y="1413"/>
                  </a:lnTo>
                  <a:lnTo>
                    <a:pt x="3203" y="1425"/>
                  </a:lnTo>
                  <a:lnTo>
                    <a:pt x="3229" y="1444"/>
                  </a:lnTo>
                  <a:lnTo>
                    <a:pt x="3254" y="1469"/>
                  </a:lnTo>
                  <a:lnTo>
                    <a:pt x="3267" y="1475"/>
                  </a:lnTo>
                  <a:lnTo>
                    <a:pt x="3280" y="1494"/>
                  </a:lnTo>
                  <a:lnTo>
                    <a:pt x="3292" y="1519"/>
                  </a:lnTo>
                  <a:lnTo>
                    <a:pt x="3299" y="1537"/>
                  </a:lnTo>
                  <a:lnTo>
                    <a:pt x="3305" y="1550"/>
                  </a:lnTo>
                  <a:lnTo>
                    <a:pt x="3305" y="1568"/>
                  </a:lnTo>
                  <a:lnTo>
                    <a:pt x="3305" y="1581"/>
                  </a:lnTo>
                  <a:lnTo>
                    <a:pt x="3305" y="1593"/>
                  </a:lnTo>
                  <a:lnTo>
                    <a:pt x="3305" y="1606"/>
                  </a:lnTo>
                  <a:lnTo>
                    <a:pt x="3305" y="1624"/>
                  </a:lnTo>
                  <a:lnTo>
                    <a:pt x="3305" y="1643"/>
                  </a:lnTo>
                  <a:lnTo>
                    <a:pt x="3305" y="1656"/>
                  </a:lnTo>
                  <a:lnTo>
                    <a:pt x="3312" y="1668"/>
                  </a:lnTo>
                  <a:lnTo>
                    <a:pt x="3324" y="1687"/>
                  </a:lnTo>
                  <a:lnTo>
                    <a:pt x="3337" y="1705"/>
                  </a:lnTo>
                  <a:lnTo>
                    <a:pt x="3356" y="1718"/>
                  </a:lnTo>
                  <a:lnTo>
                    <a:pt x="3400" y="1749"/>
                  </a:lnTo>
                  <a:lnTo>
                    <a:pt x="3445" y="1786"/>
                  </a:lnTo>
                  <a:lnTo>
                    <a:pt x="3477" y="1799"/>
                  </a:lnTo>
                  <a:lnTo>
                    <a:pt x="3489" y="1811"/>
                  </a:lnTo>
                  <a:lnTo>
                    <a:pt x="3496" y="1817"/>
                  </a:lnTo>
                  <a:lnTo>
                    <a:pt x="3502" y="1824"/>
                  </a:lnTo>
                  <a:lnTo>
                    <a:pt x="3509" y="1836"/>
                  </a:lnTo>
                  <a:lnTo>
                    <a:pt x="3509" y="1855"/>
                  </a:lnTo>
                  <a:lnTo>
                    <a:pt x="3502" y="1861"/>
                  </a:lnTo>
                  <a:lnTo>
                    <a:pt x="3502" y="1873"/>
                  </a:lnTo>
                  <a:lnTo>
                    <a:pt x="3496" y="1886"/>
                  </a:lnTo>
                  <a:lnTo>
                    <a:pt x="3483" y="1898"/>
                  </a:lnTo>
                  <a:lnTo>
                    <a:pt x="3470" y="1911"/>
                  </a:lnTo>
                  <a:lnTo>
                    <a:pt x="3464" y="1923"/>
                  </a:lnTo>
                  <a:lnTo>
                    <a:pt x="3464" y="1936"/>
                  </a:lnTo>
                  <a:lnTo>
                    <a:pt x="3464" y="1942"/>
                  </a:lnTo>
                  <a:lnTo>
                    <a:pt x="3464" y="1961"/>
                  </a:lnTo>
                  <a:lnTo>
                    <a:pt x="3470" y="1973"/>
                  </a:lnTo>
                  <a:lnTo>
                    <a:pt x="3477" y="1986"/>
                  </a:lnTo>
                  <a:lnTo>
                    <a:pt x="3496" y="1998"/>
                  </a:lnTo>
                  <a:lnTo>
                    <a:pt x="3502" y="2017"/>
                  </a:lnTo>
                  <a:lnTo>
                    <a:pt x="3509" y="2042"/>
                  </a:lnTo>
                  <a:lnTo>
                    <a:pt x="3509" y="2060"/>
                  </a:lnTo>
                  <a:lnTo>
                    <a:pt x="3509" y="2091"/>
                  </a:lnTo>
                  <a:lnTo>
                    <a:pt x="3509" y="2116"/>
                  </a:lnTo>
                  <a:lnTo>
                    <a:pt x="3509" y="2129"/>
                  </a:lnTo>
                  <a:lnTo>
                    <a:pt x="3509" y="2147"/>
                  </a:lnTo>
                  <a:lnTo>
                    <a:pt x="3496" y="2166"/>
                  </a:lnTo>
                  <a:lnTo>
                    <a:pt x="3483" y="2185"/>
                  </a:lnTo>
                  <a:lnTo>
                    <a:pt x="3470" y="2216"/>
                  </a:lnTo>
                  <a:lnTo>
                    <a:pt x="3464" y="2266"/>
                  </a:lnTo>
                  <a:lnTo>
                    <a:pt x="3464" y="2303"/>
                  </a:lnTo>
                  <a:lnTo>
                    <a:pt x="3464" y="2328"/>
                  </a:lnTo>
                  <a:lnTo>
                    <a:pt x="3464" y="2359"/>
                  </a:lnTo>
                  <a:lnTo>
                    <a:pt x="3470" y="2378"/>
                  </a:lnTo>
                  <a:lnTo>
                    <a:pt x="3477" y="2403"/>
                  </a:lnTo>
                  <a:lnTo>
                    <a:pt x="3483" y="2415"/>
                  </a:lnTo>
                  <a:lnTo>
                    <a:pt x="3496" y="2427"/>
                  </a:lnTo>
                  <a:lnTo>
                    <a:pt x="3509" y="2434"/>
                  </a:lnTo>
                  <a:lnTo>
                    <a:pt x="3515" y="2434"/>
                  </a:lnTo>
                  <a:lnTo>
                    <a:pt x="3521" y="2440"/>
                  </a:lnTo>
                  <a:lnTo>
                    <a:pt x="3528" y="2446"/>
                  </a:lnTo>
                  <a:lnTo>
                    <a:pt x="3528" y="2459"/>
                  </a:lnTo>
                  <a:lnTo>
                    <a:pt x="3528" y="2471"/>
                  </a:lnTo>
                  <a:lnTo>
                    <a:pt x="3521" y="2483"/>
                  </a:lnTo>
                  <a:lnTo>
                    <a:pt x="3521" y="2496"/>
                  </a:lnTo>
                  <a:lnTo>
                    <a:pt x="3521" y="2515"/>
                  </a:lnTo>
                  <a:lnTo>
                    <a:pt x="3528" y="2521"/>
                  </a:lnTo>
                  <a:lnTo>
                    <a:pt x="3534" y="2527"/>
                  </a:lnTo>
                  <a:lnTo>
                    <a:pt x="3534" y="2533"/>
                  </a:lnTo>
                  <a:lnTo>
                    <a:pt x="3540" y="2546"/>
                  </a:lnTo>
                  <a:lnTo>
                    <a:pt x="3547" y="2558"/>
                  </a:lnTo>
                  <a:lnTo>
                    <a:pt x="3547" y="2583"/>
                  </a:lnTo>
                  <a:lnTo>
                    <a:pt x="3553" y="2589"/>
                  </a:lnTo>
                  <a:lnTo>
                    <a:pt x="3572" y="2608"/>
                  </a:lnTo>
                  <a:lnTo>
                    <a:pt x="3578" y="2620"/>
                  </a:lnTo>
                  <a:lnTo>
                    <a:pt x="3585" y="2633"/>
                  </a:lnTo>
                  <a:lnTo>
                    <a:pt x="3585" y="2658"/>
                  </a:lnTo>
                  <a:lnTo>
                    <a:pt x="3578" y="2683"/>
                  </a:lnTo>
                  <a:lnTo>
                    <a:pt x="3578" y="2701"/>
                  </a:lnTo>
                  <a:lnTo>
                    <a:pt x="3578" y="2720"/>
                  </a:lnTo>
                  <a:lnTo>
                    <a:pt x="3572" y="2751"/>
                  </a:lnTo>
                  <a:lnTo>
                    <a:pt x="3566" y="2764"/>
                  </a:lnTo>
                  <a:lnTo>
                    <a:pt x="3559" y="2776"/>
                  </a:lnTo>
                  <a:lnTo>
                    <a:pt x="3553" y="2788"/>
                  </a:lnTo>
                  <a:lnTo>
                    <a:pt x="3547" y="2801"/>
                  </a:lnTo>
                  <a:lnTo>
                    <a:pt x="3547" y="2820"/>
                  </a:lnTo>
                  <a:lnTo>
                    <a:pt x="3547" y="2832"/>
                  </a:lnTo>
                  <a:lnTo>
                    <a:pt x="3559" y="2851"/>
                  </a:lnTo>
                  <a:lnTo>
                    <a:pt x="3578" y="2882"/>
                  </a:lnTo>
                  <a:lnTo>
                    <a:pt x="3604" y="2913"/>
                  </a:lnTo>
                  <a:lnTo>
                    <a:pt x="3623" y="2932"/>
                  </a:lnTo>
                  <a:lnTo>
                    <a:pt x="3642" y="2957"/>
                  </a:lnTo>
                  <a:lnTo>
                    <a:pt x="3655" y="2969"/>
                  </a:lnTo>
                  <a:lnTo>
                    <a:pt x="3655" y="2981"/>
                  </a:lnTo>
                  <a:lnTo>
                    <a:pt x="3655" y="2988"/>
                  </a:lnTo>
                  <a:lnTo>
                    <a:pt x="3648" y="2994"/>
                  </a:lnTo>
                  <a:lnTo>
                    <a:pt x="3636" y="3000"/>
                  </a:lnTo>
                  <a:lnTo>
                    <a:pt x="3617" y="3013"/>
                  </a:lnTo>
                  <a:lnTo>
                    <a:pt x="3597" y="3025"/>
                  </a:lnTo>
                  <a:lnTo>
                    <a:pt x="3585" y="3044"/>
                  </a:lnTo>
                  <a:lnTo>
                    <a:pt x="3578" y="3056"/>
                  </a:lnTo>
                  <a:lnTo>
                    <a:pt x="3578" y="3069"/>
                  </a:lnTo>
                  <a:lnTo>
                    <a:pt x="3585" y="3087"/>
                  </a:lnTo>
                  <a:lnTo>
                    <a:pt x="3591" y="3106"/>
                  </a:lnTo>
                  <a:lnTo>
                    <a:pt x="3597" y="3118"/>
                  </a:lnTo>
                  <a:lnTo>
                    <a:pt x="3597" y="3137"/>
                  </a:lnTo>
                  <a:lnTo>
                    <a:pt x="3604" y="3187"/>
                  </a:lnTo>
                  <a:lnTo>
                    <a:pt x="3610" y="3224"/>
                  </a:lnTo>
                  <a:lnTo>
                    <a:pt x="3610" y="3243"/>
                  </a:lnTo>
                  <a:lnTo>
                    <a:pt x="3610" y="3249"/>
                  </a:lnTo>
                  <a:lnTo>
                    <a:pt x="3617" y="3255"/>
                  </a:lnTo>
                  <a:lnTo>
                    <a:pt x="3623" y="3268"/>
                  </a:lnTo>
                  <a:lnTo>
                    <a:pt x="3629" y="3274"/>
                  </a:lnTo>
                  <a:lnTo>
                    <a:pt x="3636" y="3280"/>
                  </a:lnTo>
                  <a:lnTo>
                    <a:pt x="3629" y="3280"/>
                  </a:lnTo>
                  <a:lnTo>
                    <a:pt x="3617" y="3286"/>
                  </a:lnTo>
                  <a:lnTo>
                    <a:pt x="3610" y="3293"/>
                  </a:lnTo>
                  <a:lnTo>
                    <a:pt x="3604" y="3299"/>
                  </a:lnTo>
                  <a:lnTo>
                    <a:pt x="3591" y="3311"/>
                  </a:lnTo>
                  <a:lnTo>
                    <a:pt x="3572" y="3330"/>
                  </a:lnTo>
                  <a:lnTo>
                    <a:pt x="3559" y="3342"/>
                  </a:lnTo>
                  <a:lnTo>
                    <a:pt x="3553" y="3349"/>
                  </a:lnTo>
                  <a:lnTo>
                    <a:pt x="3534" y="3361"/>
                  </a:lnTo>
                  <a:lnTo>
                    <a:pt x="3521" y="3374"/>
                  </a:lnTo>
                  <a:lnTo>
                    <a:pt x="3515" y="3386"/>
                  </a:lnTo>
                  <a:lnTo>
                    <a:pt x="3502" y="3386"/>
                  </a:lnTo>
                  <a:lnTo>
                    <a:pt x="3496" y="3392"/>
                  </a:lnTo>
                  <a:lnTo>
                    <a:pt x="3477" y="3399"/>
                  </a:lnTo>
                  <a:lnTo>
                    <a:pt x="3458" y="3405"/>
                  </a:lnTo>
                  <a:lnTo>
                    <a:pt x="3432" y="3417"/>
                  </a:lnTo>
                  <a:lnTo>
                    <a:pt x="3420" y="3430"/>
                  </a:lnTo>
                  <a:lnTo>
                    <a:pt x="3413" y="3442"/>
                  </a:lnTo>
                  <a:lnTo>
                    <a:pt x="3407" y="3448"/>
                  </a:lnTo>
                  <a:lnTo>
                    <a:pt x="3394" y="3461"/>
                  </a:lnTo>
                  <a:lnTo>
                    <a:pt x="3381" y="3473"/>
                  </a:lnTo>
                  <a:lnTo>
                    <a:pt x="3375" y="3479"/>
                  </a:lnTo>
                  <a:lnTo>
                    <a:pt x="3362" y="3479"/>
                  </a:lnTo>
                  <a:lnTo>
                    <a:pt x="3350" y="3479"/>
                  </a:lnTo>
                  <a:lnTo>
                    <a:pt x="3343" y="3479"/>
                  </a:lnTo>
                  <a:lnTo>
                    <a:pt x="3331" y="3479"/>
                  </a:lnTo>
                  <a:lnTo>
                    <a:pt x="3324" y="3479"/>
                  </a:lnTo>
                  <a:lnTo>
                    <a:pt x="3312" y="3479"/>
                  </a:lnTo>
                  <a:lnTo>
                    <a:pt x="3305" y="3486"/>
                  </a:lnTo>
                  <a:lnTo>
                    <a:pt x="3292" y="3486"/>
                  </a:lnTo>
                  <a:lnTo>
                    <a:pt x="3280" y="3486"/>
                  </a:lnTo>
                  <a:lnTo>
                    <a:pt x="3280" y="3479"/>
                  </a:lnTo>
                  <a:lnTo>
                    <a:pt x="3267" y="3473"/>
                  </a:lnTo>
                  <a:lnTo>
                    <a:pt x="3254" y="3467"/>
                  </a:lnTo>
                  <a:lnTo>
                    <a:pt x="3242" y="3461"/>
                  </a:lnTo>
                  <a:lnTo>
                    <a:pt x="3229" y="3455"/>
                  </a:lnTo>
                  <a:lnTo>
                    <a:pt x="3216" y="3455"/>
                  </a:lnTo>
                  <a:lnTo>
                    <a:pt x="3203" y="3448"/>
                  </a:lnTo>
                  <a:lnTo>
                    <a:pt x="3197" y="3442"/>
                  </a:lnTo>
                  <a:lnTo>
                    <a:pt x="3197" y="3436"/>
                  </a:lnTo>
                  <a:lnTo>
                    <a:pt x="3191" y="3423"/>
                  </a:lnTo>
                  <a:lnTo>
                    <a:pt x="3191" y="3411"/>
                  </a:lnTo>
                  <a:lnTo>
                    <a:pt x="3191" y="3405"/>
                  </a:lnTo>
                  <a:lnTo>
                    <a:pt x="3191" y="3392"/>
                  </a:lnTo>
                  <a:lnTo>
                    <a:pt x="3191" y="3380"/>
                  </a:lnTo>
                  <a:lnTo>
                    <a:pt x="3191" y="3374"/>
                  </a:lnTo>
                  <a:lnTo>
                    <a:pt x="3191" y="3361"/>
                  </a:lnTo>
                  <a:lnTo>
                    <a:pt x="3184" y="3355"/>
                  </a:lnTo>
                  <a:lnTo>
                    <a:pt x="3172" y="3349"/>
                  </a:lnTo>
                  <a:lnTo>
                    <a:pt x="3159" y="3336"/>
                  </a:lnTo>
                  <a:lnTo>
                    <a:pt x="3146" y="3330"/>
                  </a:lnTo>
                  <a:lnTo>
                    <a:pt x="3134" y="3318"/>
                  </a:lnTo>
                  <a:lnTo>
                    <a:pt x="3134" y="3305"/>
                  </a:lnTo>
                  <a:lnTo>
                    <a:pt x="3134" y="3299"/>
                  </a:lnTo>
                  <a:lnTo>
                    <a:pt x="3134" y="3286"/>
                  </a:lnTo>
                  <a:lnTo>
                    <a:pt x="3134" y="3274"/>
                  </a:lnTo>
                  <a:lnTo>
                    <a:pt x="3127" y="3268"/>
                  </a:lnTo>
                  <a:lnTo>
                    <a:pt x="3121" y="3262"/>
                  </a:lnTo>
                  <a:lnTo>
                    <a:pt x="3114" y="3255"/>
                  </a:lnTo>
                  <a:lnTo>
                    <a:pt x="3102" y="3243"/>
                  </a:lnTo>
                  <a:lnTo>
                    <a:pt x="3095" y="3224"/>
                  </a:lnTo>
                  <a:lnTo>
                    <a:pt x="3083" y="3206"/>
                  </a:lnTo>
                  <a:lnTo>
                    <a:pt x="3076" y="3181"/>
                  </a:lnTo>
                  <a:lnTo>
                    <a:pt x="3070" y="3156"/>
                  </a:lnTo>
                  <a:lnTo>
                    <a:pt x="3064" y="3143"/>
                  </a:lnTo>
                  <a:lnTo>
                    <a:pt x="3051" y="3125"/>
                  </a:lnTo>
                  <a:lnTo>
                    <a:pt x="3045" y="3112"/>
                  </a:lnTo>
                  <a:lnTo>
                    <a:pt x="3038" y="3094"/>
                  </a:lnTo>
                  <a:lnTo>
                    <a:pt x="3038" y="3075"/>
                  </a:lnTo>
                  <a:lnTo>
                    <a:pt x="3038" y="3056"/>
                  </a:lnTo>
                  <a:lnTo>
                    <a:pt x="3038" y="3050"/>
                  </a:lnTo>
                  <a:lnTo>
                    <a:pt x="3045" y="3050"/>
                  </a:lnTo>
                  <a:lnTo>
                    <a:pt x="3051" y="3044"/>
                  </a:lnTo>
                  <a:lnTo>
                    <a:pt x="3057" y="3050"/>
                  </a:lnTo>
                  <a:lnTo>
                    <a:pt x="3064" y="3050"/>
                  </a:lnTo>
                  <a:lnTo>
                    <a:pt x="3076" y="3050"/>
                  </a:lnTo>
                  <a:lnTo>
                    <a:pt x="3083" y="3056"/>
                  </a:lnTo>
                  <a:lnTo>
                    <a:pt x="3089" y="3050"/>
                  </a:lnTo>
                  <a:lnTo>
                    <a:pt x="3089" y="3044"/>
                  </a:lnTo>
                  <a:lnTo>
                    <a:pt x="3089" y="3037"/>
                  </a:lnTo>
                  <a:lnTo>
                    <a:pt x="3089" y="3031"/>
                  </a:lnTo>
                  <a:lnTo>
                    <a:pt x="3083" y="3025"/>
                  </a:lnTo>
                  <a:lnTo>
                    <a:pt x="3076" y="3025"/>
                  </a:lnTo>
                  <a:lnTo>
                    <a:pt x="3057" y="3019"/>
                  </a:lnTo>
                  <a:lnTo>
                    <a:pt x="3032" y="3019"/>
                  </a:lnTo>
                  <a:lnTo>
                    <a:pt x="3013" y="3031"/>
                  </a:lnTo>
                  <a:lnTo>
                    <a:pt x="3000" y="3044"/>
                  </a:lnTo>
                  <a:lnTo>
                    <a:pt x="2981" y="3050"/>
                  </a:lnTo>
                  <a:lnTo>
                    <a:pt x="2968" y="3069"/>
                  </a:lnTo>
                  <a:lnTo>
                    <a:pt x="2956" y="3069"/>
                  </a:lnTo>
                  <a:lnTo>
                    <a:pt x="2937" y="3069"/>
                  </a:lnTo>
                  <a:lnTo>
                    <a:pt x="2930" y="3062"/>
                  </a:lnTo>
                  <a:lnTo>
                    <a:pt x="2930" y="3056"/>
                  </a:lnTo>
                  <a:lnTo>
                    <a:pt x="2924" y="3050"/>
                  </a:lnTo>
                  <a:lnTo>
                    <a:pt x="2917" y="3050"/>
                  </a:lnTo>
                  <a:lnTo>
                    <a:pt x="2911" y="3056"/>
                  </a:lnTo>
                  <a:lnTo>
                    <a:pt x="2905" y="3056"/>
                  </a:lnTo>
                  <a:lnTo>
                    <a:pt x="2898" y="3062"/>
                  </a:lnTo>
                  <a:lnTo>
                    <a:pt x="2886" y="3062"/>
                  </a:lnTo>
                  <a:lnTo>
                    <a:pt x="2879" y="3062"/>
                  </a:lnTo>
                  <a:lnTo>
                    <a:pt x="2867" y="3056"/>
                  </a:lnTo>
                  <a:lnTo>
                    <a:pt x="2860" y="3050"/>
                  </a:lnTo>
                  <a:lnTo>
                    <a:pt x="2835" y="3044"/>
                  </a:lnTo>
                  <a:lnTo>
                    <a:pt x="2803" y="3044"/>
                  </a:lnTo>
                  <a:lnTo>
                    <a:pt x="2784" y="3031"/>
                  </a:lnTo>
                  <a:lnTo>
                    <a:pt x="2765" y="3025"/>
                  </a:lnTo>
                  <a:lnTo>
                    <a:pt x="2746" y="3019"/>
                  </a:lnTo>
                  <a:lnTo>
                    <a:pt x="2727" y="3006"/>
                  </a:lnTo>
                  <a:lnTo>
                    <a:pt x="2708" y="3000"/>
                  </a:lnTo>
                  <a:lnTo>
                    <a:pt x="2695" y="2994"/>
                  </a:lnTo>
                  <a:lnTo>
                    <a:pt x="2682" y="2981"/>
                  </a:lnTo>
                  <a:lnTo>
                    <a:pt x="2670" y="2969"/>
                  </a:lnTo>
                  <a:lnTo>
                    <a:pt x="2657" y="2957"/>
                  </a:lnTo>
                  <a:lnTo>
                    <a:pt x="2631" y="2957"/>
                  </a:lnTo>
                  <a:lnTo>
                    <a:pt x="2612" y="2957"/>
                  </a:lnTo>
                  <a:lnTo>
                    <a:pt x="2606" y="2957"/>
                  </a:lnTo>
                  <a:lnTo>
                    <a:pt x="2619" y="2944"/>
                  </a:lnTo>
                  <a:lnTo>
                    <a:pt x="2625" y="2925"/>
                  </a:lnTo>
                  <a:lnTo>
                    <a:pt x="2631" y="2919"/>
                  </a:lnTo>
                  <a:lnTo>
                    <a:pt x="2631" y="2907"/>
                  </a:lnTo>
                  <a:lnTo>
                    <a:pt x="2631" y="2894"/>
                  </a:lnTo>
                  <a:lnTo>
                    <a:pt x="2631" y="2888"/>
                  </a:lnTo>
                  <a:lnTo>
                    <a:pt x="2625" y="2882"/>
                  </a:lnTo>
                  <a:lnTo>
                    <a:pt x="2619" y="2876"/>
                  </a:lnTo>
                  <a:lnTo>
                    <a:pt x="2612" y="2869"/>
                  </a:lnTo>
                  <a:lnTo>
                    <a:pt x="2600" y="2863"/>
                  </a:lnTo>
                  <a:lnTo>
                    <a:pt x="2587" y="2851"/>
                  </a:lnTo>
                  <a:lnTo>
                    <a:pt x="2568" y="2845"/>
                  </a:lnTo>
                  <a:lnTo>
                    <a:pt x="2549" y="2832"/>
                  </a:lnTo>
                  <a:lnTo>
                    <a:pt x="2536" y="2820"/>
                  </a:lnTo>
                  <a:lnTo>
                    <a:pt x="2530" y="2807"/>
                  </a:lnTo>
                  <a:lnTo>
                    <a:pt x="2530" y="2795"/>
                  </a:lnTo>
                  <a:lnTo>
                    <a:pt x="2523" y="2782"/>
                  </a:lnTo>
                  <a:lnTo>
                    <a:pt x="2517" y="2776"/>
                  </a:lnTo>
                  <a:lnTo>
                    <a:pt x="2511" y="2764"/>
                  </a:lnTo>
                  <a:lnTo>
                    <a:pt x="2492" y="2757"/>
                  </a:lnTo>
                  <a:lnTo>
                    <a:pt x="2473" y="2732"/>
                  </a:lnTo>
                  <a:lnTo>
                    <a:pt x="2447" y="2708"/>
                  </a:lnTo>
                  <a:lnTo>
                    <a:pt x="2428" y="2670"/>
                  </a:lnTo>
                  <a:lnTo>
                    <a:pt x="2422" y="2652"/>
                  </a:lnTo>
                  <a:lnTo>
                    <a:pt x="2390" y="2608"/>
                  </a:lnTo>
                  <a:lnTo>
                    <a:pt x="2371" y="2596"/>
                  </a:lnTo>
                  <a:lnTo>
                    <a:pt x="2358" y="2583"/>
                  </a:lnTo>
                  <a:lnTo>
                    <a:pt x="2345" y="2577"/>
                  </a:lnTo>
                  <a:lnTo>
                    <a:pt x="2333" y="2564"/>
                  </a:lnTo>
                  <a:lnTo>
                    <a:pt x="2326" y="2552"/>
                  </a:lnTo>
                  <a:lnTo>
                    <a:pt x="2326" y="2546"/>
                  </a:lnTo>
                  <a:lnTo>
                    <a:pt x="2320" y="2533"/>
                  </a:lnTo>
                  <a:lnTo>
                    <a:pt x="2320" y="2527"/>
                  </a:lnTo>
                  <a:lnTo>
                    <a:pt x="2320" y="2502"/>
                  </a:lnTo>
                  <a:lnTo>
                    <a:pt x="2320" y="2490"/>
                  </a:lnTo>
                  <a:lnTo>
                    <a:pt x="2314" y="2477"/>
                  </a:lnTo>
                  <a:lnTo>
                    <a:pt x="2307" y="2459"/>
                  </a:lnTo>
                  <a:lnTo>
                    <a:pt x="2295" y="2446"/>
                  </a:lnTo>
                  <a:lnTo>
                    <a:pt x="2276" y="2434"/>
                  </a:lnTo>
                  <a:lnTo>
                    <a:pt x="2257" y="2421"/>
                  </a:lnTo>
                  <a:lnTo>
                    <a:pt x="2237" y="2409"/>
                  </a:lnTo>
                  <a:lnTo>
                    <a:pt x="2212" y="2396"/>
                  </a:lnTo>
                  <a:lnTo>
                    <a:pt x="2187" y="2390"/>
                  </a:lnTo>
                  <a:lnTo>
                    <a:pt x="2174" y="2384"/>
                  </a:lnTo>
                  <a:lnTo>
                    <a:pt x="2161" y="2371"/>
                  </a:lnTo>
                  <a:lnTo>
                    <a:pt x="2142" y="2359"/>
                  </a:lnTo>
                  <a:lnTo>
                    <a:pt x="2129" y="2359"/>
                  </a:lnTo>
                  <a:lnTo>
                    <a:pt x="2110" y="2353"/>
                  </a:lnTo>
                  <a:lnTo>
                    <a:pt x="2098" y="2353"/>
                  </a:lnTo>
                  <a:lnTo>
                    <a:pt x="2085" y="2353"/>
                  </a:lnTo>
                  <a:lnTo>
                    <a:pt x="2066" y="2353"/>
                  </a:lnTo>
                  <a:lnTo>
                    <a:pt x="2047" y="2353"/>
                  </a:lnTo>
                  <a:lnTo>
                    <a:pt x="2034" y="2353"/>
                  </a:lnTo>
                  <a:lnTo>
                    <a:pt x="2021" y="2340"/>
                  </a:lnTo>
                  <a:lnTo>
                    <a:pt x="2009" y="2334"/>
                  </a:lnTo>
                  <a:lnTo>
                    <a:pt x="1996" y="2334"/>
                  </a:lnTo>
                  <a:lnTo>
                    <a:pt x="1971" y="2328"/>
                  </a:lnTo>
                  <a:lnTo>
                    <a:pt x="1958" y="2322"/>
                  </a:lnTo>
                  <a:lnTo>
                    <a:pt x="1945" y="2315"/>
                  </a:lnTo>
                  <a:lnTo>
                    <a:pt x="1932" y="2297"/>
                  </a:lnTo>
                  <a:lnTo>
                    <a:pt x="1920" y="2278"/>
                  </a:lnTo>
                  <a:lnTo>
                    <a:pt x="1913" y="2259"/>
                  </a:lnTo>
                  <a:lnTo>
                    <a:pt x="1907" y="2247"/>
                  </a:lnTo>
                  <a:lnTo>
                    <a:pt x="1901" y="2241"/>
                  </a:lnTo>
                  <a:lnTo>
                    <a:pt x="1882" y="2216"/>
                  </a:lnTo>
                  <a:lnTo>
                    <a:pt x="1875" y="2210"/>
                  </a:lnTo>
                  <a:lnTo>
                    <a:pt x="1850" y="2191"/>
                  </a:lnTo>
                  <a:lnTo>
                    <a:pt x="1818" y="2160"/>
                  </a:lnTo>
                  <a:lnTo>
                    <a:pt x="1799" y="2147"/>
                  </a:lnTo>
                  <a:lnTo>
                    <a:pt x="1780" y="2122"/>
                  </a:lnTo>
                  <a:lnTo>
                    <a:pt x="1754" y="2098"/>
                  </a:lnTo>
                  <a:lnTo>
                    <a:pt x="1735" y="2079"/>
                  </a:lnTo>
                  <a:lnTo>
                    <a:pt x="1716" y="2073"/>
                  </a:lnTo>
                  <a:lnTo>
                    <a:pt x="1697" y="2048"/>
                  </a:lnTo>
                  <a:lnTo>
                    <a:pt x="1678" y="2029"/>
                  </a:lnTo>
                  <a:lnTo>
                    <a:pt x="1665" y="2017"/>
                  </a:lnTo>
                  <a:lnTo>
                    <a:pt x="1646" y="1998"/>
                  </a:lnTo>
                  <a:lnTo>
                    <a:pt x="1640" y="1979"/>
                  </a:lnTo>
                  <a:lnTo>
                    <a:pt x="1627" y="1961"/>
                  </a:lnTo>
                  <a:lnTo>
                    <a:pt x="1621" y="1954"/>
                  </a:lnTo>
                  <a:lnTo>
                    <a:pt x="1608" y="1942"/>
                  </a:lnTo>
                  <a:lnTo>
                    <a:pt x="1589" y="1936"/>
                  </a:lnTo>
                  <a:lnTo>
                    <a:pt x="1564" y="1929"/>
                  </a:lnTo>
                  <a:lnTo>
                    <a:pt x="1551" y="1917"/>
                  </a:lnTo>
                  <a:lnTo>
                    <a:pt x="1532" y="1886"/>
                  </a:lnTo>
                  <a:lnTo>
                    <a:pt x="1519" y="1861"/>
                  </a:lnTo>
                  <a:lnTo>
                    <a:pt x="1513" y="1849"/>
                  </a:lnTo>
                  <a:lnTo>
                    <a:pt x="1507" y="1830"/>
                  </a:lnTo>
                  <a:lnTo>
                    <a:pt x="1494" y="1805"/>
                  </a:lnTo>
                  <a:lnTo>
                    <a:pt x="1494" y="1786"/>
                  </a:lnTo>
                  <a:lnTo>
                    <a:pt x="1494" y="1761"/>
                  </a:lnTo>
                  <a:lnTo>
                    <a:pt x="1494" y="1749"/>
                  </a:lnTo>
                  <a:lnTo>
                    <a:pt x="1494" y="1737"/>
                  </a:lnTo>
                  <a:lnTo>
                    <a:pt x="1507" y="1718"/>
                  </a:lnTo>
                  <a:lnTo>
                    <a:pt x="1513" y="1693"/>
                  </a:lnTo>
                  <a:lnTo>
                    <a:pt x="1519" y="1681"/>
                  </a:lnTo>
                  <a:lnTo>
                    <a:pt x="1519" y="1662"/>
                  </a:lnTo>
                  <a:lnTo>
                    <a:pt x="1519" y="1643"/>
                  </a:lnTo>
                  <a:lnTo>
                    <a:pt x="1519" y="1637"/>
                  </a:lnTo>
                  <a:lnTo>
                    <a:pt x="1519" y="1618"/>
                  </a:lnTo>
                  <a:lnTo>
                    <a:pt x="1513" y="1587"/>
                  </a:lnTo>
                  <a:lnTo>
                    <a:pt x="1519" y="1556"/>
                  </a:lnTo>
                  <a:lnTo>
                    <a:pt x="1513" y="1537"/>
                  </a:lnTo>
                  <a:lnTo>
                    <a:pt x="1507" y="1531"/>
                  </a:lnTo>
                  <a:lnTo>
                    <a:pt x="1507" y="1519"/>
                  </a:lnTo>
                  <a:lnTo>
                    <a:pt x="1494" y="1512"/>
                  </a:lnTo>
                  <a:lnTo>
                    <a:pt x="1481" y="1500"/>
                  </a:lnTo>
                  <a:lnTo>
                    <a:pt x="1475" y="1494"/>
                  </a:lnTo>
                  <a:lnTo>
                    <a:pt x="1456" y="1481"/>
                  </a:lnTo>
                  <a:lnTo>
                    <a:pt x="1443" y="1469"/>
                  </a:lnTo>
                  <a:lnTo>
                    <a:pt x="1424" y="1456"/>
                  </a:lnTo>
                  <a:lnTo>
                    <a:pt x="1405" y="1450"/>
                  </a:lnTo>
                  <a:lnTo>
                    <a:pt x="1367" y="1438"/>
                  </a:lnTo>
                  <a:lnTo>
                    <a:pt x="1341" y="1432"/>
                  </a:lnTo>
                  <a:lnTo>
                    <a:pt x="1329" y="1425"/>
                  </a:lnTo>
                  <a:lnTo>
                    <a:pt x="1316" y="1407"/>
                  </a:lnTo>
                  <a:lnTo>
                    <a:pt x="1316" y="1394"/>
                  </a:lnTo>
                  <a:lnTo>
                    <a:pt x="1316" y="1388"/>
                  </a:lnTo>
                  <a:lnTo>
                    <a:pt x="1316" y="1382"/>
                  </a:lnTo>
                  <a:lnTo>
                    <a:pt x="1316" y="1369"/>
                  </a:lnTo>
                  <a:lnTo>
                    <a:pt x="1316" y="1357"/>
                  </a:lnTo>
                  <a:lnTo>
                    <a:pt x="1310" y="1344"/>
                  </a:lnTo>
                  <a:lnTo>
                    <a:pt x="1303" y="1326"/>
                  </a:lnTo>
                  <a:lnTo>
                    <a:pt x="1290" y="1319"/>
                  </a:lnTo>
                  <a:lnTo>
                    <a:pt x="1278" y="1319"/>
                  </a:lnTo>
                  <a:lnTo>
                    <a:pt x="1252" y="1313"/>
                  </a:lnTo>
                  <a:lnTo>
                    <a:pt x="1240" y="1307"/>
                  </a:lnTo>
                  <a:lnTo>
                    <a:pt x="1227" y="1295"/>
                  </a:lnTo>
                  <a:lnTo>
                    <a:pt x="1214" y="1282"/>
                  </a:lnTo>
                  <a:lnTo>
                    <a:pt x="1214" y="1276"/>
                  </a:lnTo>
                  <a:lnTo>
                    <a:pt x="1214" y="1251"/>
                  </a:lnTo>
                  <a:lnTo>
                    <a:pt x="1208" y="1232"/>
                  </a:lnTo>
                  <a:lnTo>
                    <a:pt x="1202" y="1220"/>
                  </a:lnTo>
                  <a:lnTo>
                    <a:pt x="1195" y="1214"/>
                  </a:lnTo>
                  <a:lnTo>
                    <a:pt x="1182" y="1201"/>
                  </a:lnTo>
                  <a:lnTo>
                    <a:pt x="1170" y="1195"/>
                  </a:lnTo>
                  <a:lnTo>
                    <a:pt x="1151" y="1189"/>
                  </a:lnTo>
                  <a:lnTo>
                    <a:pt x="1132" y="1189"/>
                  </a:lnTo>
                  <a:lnTo>
                    <a:pt x="1119" y="1195"/>
                  </a:lnTo>
                  <a:lnTo>
                    <a:pt x="1106" y="1207"/>
                  </a:lnTo>
                  <a:lnTo>
                    <a:pt x="1093" y="1220"/>
                  </a:lnTo>
                  <a:lnTo>
                    <a:pt x="1074" y="1226"/>
                  </a:lnTo>
                  <a:lnTo>
                    <a:pt x="1049" y="1232"/>
                  </a:lnTo>
                  <a:lnTo>
                    <a:pt x="1036" y="1232"/>
                  </a:lnTo>
                  <a:lnTo>
                    <a:pt x="1030" y="1226"/>
                  </a:lnTo>
                  <a:lnTo>
                    <a:pt x="1024" y="1214"/>
                  </a:lnTo>
                  <a:lnTo>
                    <a:pt x="1024" y="1207"/>
                  </a:lnTo>
                  <a:lnTo>
                    <a:pt x="1024" y="1201"/>
                  </a:lnTo>
                  <a:lnTo>
                    <a:pt x="1030" y="1183"/>
                  </a:lnTo>
                  <a:lnTo>
                    <a:pt x="1043" y="1164"/>
                  </a:lnTo>
                  <a:lnTo>
                    <a:pt x="1049" y="1151"/>
                  </a:lnTo>
                  <a:lnTo>
                    <a:pt x="1074" y="1139"/>
                  </a:lnTo>
                  <a:lnTo>
                    <a:pt x="1087" y="1127"/>
                  </a:lnTo>
                  <a:lnTo>
                    <a:pt x="1100" y="1120"/>
                  </a:lnTo>
                  <a:lnTo>
                    <a:pt x="1093" y="1108"/>
                  </a:lnTo>
                  <a:lnTo>
                    <a:pt x="1093" y="1102"/>
                  </a:lnTo>
                  <a:lnTo>
                    <a:pt x="1081" y="1102"/>
                  </a:lnTo>
                  <a:lnTo>
                    <a:pt x="1074" y="1102"/>
                  </a:lnTo>
                  <a:lnTo>
                    <a:pt x="1062" y="1108"/>
                  </a:lnTo>
                  <a:lnTo>
                    <a:pt x="1043" y="1114"/>
                  </a:lnTo>
                  <a:lnTo>
                    <a:pt x="1011" y="1120"/>
                  </a:lnTo>
                  <a:lnTo>
                    <a:pt x="985" y="1127"/>
                  </a:lnTo>
                  <a:lnTo>
                    <a:pt x="966" y="1139"/>
                  </a:lnTo>
                  <a:lnTo>
                    <a:pt x="941" y="1151"/>
                  </a:lnTo>
                  <a:lnTo>
                    <a:pt x="922" y="1164"/>
                  </a:lnTo>
                  <a:lnTo>
                    <a:pt x="909" y="1170"/>
                  </a:lnTo>
                  <a:lnTo>
                    <a:pt x="896" y="1176"/>
                  </a:lnTo>
                  <a:lnTo>
                    <a:pt x="877" y="1183"/>
                  </a:lnTo>
                  <a:lnTo>
                    <a:pt x="852" y="1183"/>
                  </a:lnTo>
                  <a:lnTo>
                    <a:pt x="846" y="1176"/>
                  </a:lnTo>
                  <a:lnTo>
                    <a:pt x="833" y="1176"/>
                  </a:lnTo>
                  <a:lnTo>
                    <a:pt x="801" y="1170"/>
                  </a:lnTo>
                  <a:lnTo>
                    <a:pt x="757" y="1158"/>
                  </a:lnTo>
                  <a:lnTo>
                    <a:pt x="731" y="1151"/>
                  </a:lnTo>
                  <a:lnTo>
                    <a:pt x="706" y="1145"/>
                  </a:lnTo>
                  <a:lnTo>
                    <a:pt x="687" y="1139"/>
                  </a:lnTo>
                  <a:lnTo>
                    <a:pt x="674" y="1139"/>
                  </a:lnTo>
                  <a:lnTo>
                    <a:pt x="649" y="1145"/>
                  </a:lnTo>
                  <a:lnTo>
                    <a:pt x="617" y="1145"/>
                  </a:lnTo>
                  <a:lnTo>
                    <a:pt x="579" y="1145"/>
                  </a:lnTo>
                  <a:lnTo>
                    <a:pt x="553" y="1139"/>
                  </a:lnTo>
                  <a:lnTo>
                    <a:pt x="528" y="1139"/>
                  </a:lnTo>
                  <a:lnTo>
                    <a:pt x="502" y="1133"/>
                  </a:lnTo>
                  <a:lnTo>
                    <a:pt x="496" y="1120"/>
                  </a:lnTo>
                  <a:lnTo>
                    <a:pt x="483" y="1095"/>
                  </a:lnTo>
                  <a:lnTo>
                    <a:pt x="477" y="1077"/>
                  </a:lnTo>
                  <a:lnTo>
                    <a:pt x="477" y="1046"/>
                  </a:lnTo>
                  <a:lnTo>
                    <a:pt x="464" y="1027"/>
                  </a:lnTo>
                  <a:lnTo>
                    <a:pt x="458" y="1014"/>
                  </a:lnTo>
                  <a:lnTo>
                    <a:pt x="445" y="983"/>
                  </a:lnTo>
                  <a:lnTo>
                    <a:pt x="433" y="952"/>
                  </a:lnTo>
                  <a:lnTo>
                    <a:pt x="413" y="915"/>
                  </a:lnTo>
                  <a:lnTo>
                    <a:pt x="388" y="884"/>
                  </a:lnTo>
                  <a:lnTo>
                    <a:pt x="369" y="865"/>
                  </a:lnTo>
                  <a:lnTo>
                    <a:pt x="363" y="859"/>
                  </a:lnTo>
                  <a:lnTo>
                    <a:pt x="350" y="846"/>
                  </a:lnTo>
                  <a:lnTo>
                    <a:pt x="344" y="840"/>
                  </a:lnTo>
                  <a:lnTo>
                    <a:pt x="337" y="834"/>
                  </a:lnTo>
                  <a:lnTo>
                    <a:pt x="324" y="834"/>
                  </a:lnTo>
                  <a:lnTo>
                    <a:pt x="318" y="834"/>
                  </a:lnTo>
                  <a:lnTo>
                    <a:pt x="305" y="828"/>
                  </a:lnTo>
                  <a:lnTo>
                    <a:pt x="293" y="822"/>
                  </a:lnTo>
                  <a:lnTo>
                    <a:pt x="286" y="784"/>
                  </a:lnTo>
                  <a:lnTo>
                    <a:pt x="286" y="778"/>
                  </a:lnTo>
                  <a:lnTo>
                    <a:pt x="286" y="759"/>
                  </a:lnTo>
                  <a:lnTo>
                    <a:pt x="293" y="747"/>
                  </a:lnTo>
                  <a:lnTo>
                    <a:pt x="293" y="741"/>
                  </a:lnTo>
                  <a:lnTo>
                    <a:pt x="280" y="734"/>
                  </a:lnTo>
                  <a:lnTo>
                    <a:pt x="267" y="728"/>
                  </a:lnTo>
                  <a:lnTo>
                    <a:pt x="248" y="728"/>
                  </a:lnTo>
                  <a:lnTo>
                    <a:pt x="216" y="734"/>
                  </a:lnTo>
                  <a:lnTo>
                    <a:pt x="197" y="734"/>
                  </a:lnTo>
                  <a:lnTo>
                    <a:pt x="172" y="728"/>
                  </a:lnTo>
                  <a:lnTo>
                    <a:pt x="159" y="728"/>
                  </a:lnTo>
                  <a:lnTo>
                    <a:pt x="134" y="709"/>
                  </a:lnTo>
                  <a:lnTo>
                    <a:pt x="115" y="691"/>
                  </a:lnTo>
                  <a:lnTo>
                    <a:pt x="102" y="666"/>
                  </a:lnTo>
                  <a:lnTo>
                    <a:pt x="83" y="641"/>
                  </a:lnTo>
                  <a:lnTo>
                    <a:pt x="70" y="629"/>
                  </a:lnTo>
                  <a:lnTo>
                    <a:pt x="58" y="629"/>
                  </a:lnTo>
                  <a:lnTo>
                    <a:pt x="38" y="622"/>
                  </a:lnTo>
                  <a:lnTo>
                    <a:pt x="19" y="629"/>
                  </a:lnTo>
                  <a:lnTo>
                    <a:pt x="13" y="622"/>
                  </a:lnTo>
                  <a:lnTo>
                    <a:pt x="0" y="610"/>
                  </a:lnTo>
                  <a:lnTo>
                    <a:pt x="0" y="604"/>
                  </a:lnTo>
                  <a:lnTo>
                    <a:pt x="0" y="597"/>
                  </a:lnTo>
                  <a:lnTo>
                    <a:pt x="7" y="591"/>
                  </a:lnTo>
                  <a:lnTo>
                    <a:pt x="7" y="585"/>
                  </a:lnTo>
                  <a:lnTo>
                    <a:pt x="13" y="579"/>
                  </a:lnTo>
                  <a:lnTo>
                    <a:pt x="13" y="573"/>
                  </a:lnTo>
                  <a:lnTo>
                    <a:pt x="19" y="566"/>
                  </a:lnTo>
                  <a:lnTo>
                    <a:pt x="19" y="560"/>
                  </a:lnTo>
                  <a:lnTo>
                    <a:pt x="26" y="560"/>
                  </a:lnTo>
                  <a:lnTo>
                    <a:pt x="26" y="554"/>
                  </a:lnTo>
                  <a:lnTo>
                    <a:pt x="26" y="548"/>
                  </a:lnTo>
                  <a:lnTo>
                    <a:pt x="38" y="541"/>
                  </a:lnTo>
                  <a:lnTo>
                    <a:pt x="58" y="529"/>
                  </a:lnTo>
                  <a:lnTo>
                    <a:pt x="70" y="516"/>
                  </a:lnTo>
                  <a:lnTo>
                    <a:pt x="83" y="510"/>
                  </a:lnTo>
                  <a:lnTo>
                    <a:pt x="96" y="504"/>
                  </a:lnTo>
                  <a:lnTo>
                    <a:pt x="102" y="492"/>
                  </a:lnTo>
                  <a:lnTo>
                    <a:pt x="102" y="479"/>
                  </a:lnTo>
                  <a:lnTo>
                    <a:pt x="108" y="460"/>
                  </a:lnTo>
                  <a:lnTo>
                    <a:pt x="108" y="448"/>
                  </a:lnTo>
                  <a:lnTo>
                    <a:pt x="121" y="423"/>
                  </a:lnTo>
                  <a:lnTo>
                    <a:pt x="140" y="411"/>
                  </a:lnTo>
                  <a:lnTo>
                    <a:pt x="159" y="404"/>
                  </a:lnTo>
                  <a:lnTo>
                    <a:pt x="166" y="398"/>
                  </a:lnTo>
                  <a:lnTo>
                    <a:pt x="178" y="392"/>
                  </a:lnTo>
                  <a:lnTo>
                    <a:pt x="185" y="367"/>
                  </a:lnTo>
                  <a:lnTo>
                    <a:pt x="185" y="348"/>
                  </a:lnTo>
                  <a:lnTo>
                    <a:pt x="197" y="317"/>
                  </a:lnTo>
                  <a:lnTo>
                    <a:pt x="216" y="286"/>
                  </a:lnTo>
                  <a:lnTo>
                    <a:pt x="242" y="236"/>
                  </a:lnTo>
                  <a:lnTo>
                    <a:pt x="261" y="205"/>
                  </a:lnTo>
                  <a:lnTo>
                    <a:pt x="293" y="162"/>
                  </a:lnTo>
                  <a:lnTo>
                    <a:pt x="344" y="124"/>
                  </a:lnTo>
                  <a:lnTo>
                    <a:pt x="369" y="112"/>
                  </a:lnTo>
                  <a:lnTo>
                    <a:pt x="394" y="106"/>
                  </a:lnTo>
                  <a:lnTo>
                    <a:pt x="413" y="106"/>
                  </a:lnTo>
                  <a:lnTo>
                    <a:pt x="426" y="106"/>
                  </a:lnTo>
                  <a:lnTo>
                    <a:pt x="433" y="112"/>
                  </a:lnTo>
                  <a:lnTo>
                    <a:pt x="452" y="124"/>
                  </a:lnTo>
                  <a:lnTo>
                    <a:pt x="471" y="137"/>
                  </a:lnTo>
                  <a:lnTo>
                    <a:pt x="502" y="143"/>
                  </a:lnTo>
                  <a:lnTo>
                    <a:pt x="521" y="149"/>
                  </a:lnTo>
                  <a:lnTo>
                    <a:pt x="547" y="143"/>
                  </a:lnTo>
                  <a:lnTo>
                    <a:pt x="560" y="143"/>
                  </a:lnTo>
                  <a:lnTo>
                    <a:pt x="572" y="124"/>
                  </a:lnTo>
                  <a:lnTo>
                    <a:pt x="591" y="112"/>
                  </a:lnTo>
                  <a:lnTo>
                    <a:pt x="591" y="106"/>
                  </a:lnTo>
                  <a:lnTo>
                    <a:pt x="610" y="87"/>
                  </a:lnTo>
                  <a:lnTo>
                    <a:pt x="623" y="75"/>
                  </a:lnTo>
                  <a:lnTo>
                    <a:pt x="649" y="56"/>
                  </a:lnTo>
                  <a:lnTo>
                    <a:pt x="680" y="50"/>
                  </a:lnTo>
                  <a:lnTo>
                    <a:pt x="699" y="43"/>
                  </a:lnTo>
                  <a:lnTo>
                    <a:pt x="718" y="43"/>
                  </a:lnTo>
                  <a:lnTo>
                    <a:pt x="731" y="43"/>
                  </a:lnTo>
                  <a:lnTo>
                    <a:pt x="788" y="43"/>
                  </a:lnTo>
                  <a:lnTo>
                    <a:pt x="827" y="43"/>
                  </a:lnTo>
                  <a:lnTo>
                    <a:pt x="852" y="50"/>
                  </a:lnTo>
                  <a:lnTo>
                    <a:pt x="871" y="50"/>
                  </a:lnTo>
                  <a:lnTo>
                    <a:pt x="884" y="56"/>
                  </a:lnTo>
                  <a:lnTo>
                    <a:pt x="896" y="68"/>
                  </a:lnTo>
                  <a:lnTo>
                    <a:pt x="922" y="75"/>
                  </a:lnTo>
                  <a:lnTo>
                    <a:pt x="947" y="75"/>
                  </a:lnTo>
                  <a:lnTo>
                    <a:pt x="973" y="75"/>
                  </a:lnTo>
                  <a:lnTo>
                    <a:pt x="985" y="68"/>
                  </a:lnTo>
                  <a:lnTo>
                    <a:pt x="998" y="62"/>
                  </a:lnTo>
                  <a:lnTo>
                    <a:pt x="1004" y="50"/>
                  </a:lnTo>
                  <a:lnTo>
                    <a:pt x="1011" y="37"/>
                  </a:lnTo>
                  <a:lnTo>
                    <a:pt x="1024" y="19"/>
                  </a:lnTo>
                  <a:lnTo>
                    <a:pt x="1030" y="6"/>
                  </a:lnTo>
                  <a:lnTo>
                    <a:pt x="104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05800" y="2163600"/>
              <a:ext cx="1674720" cy="3192480"/>
            </a:xfrm>
            <a:custGeom>
              <a:avLst/>
              <a:gdLst/>
              <a:ahLst/>
              <a:rect l="l" t="t" r="r" b="b"/>
              <a:pathLst>
                <a:path w="1055" h="2011">
                  <a:moveTo>
                    <a:pt x="140" y="6"/>
                  </a:moveTo>
                  <a:lnTo>
                    <a:pt x="146" y="0"/>
                  </a:lnTo>
                  <a:lnTo>
                    <a:pt x="165" y="19"/>
                  </a:lnTo>
                  <a:lnTo>
                    <a:pt x="184" y="38"/>
                  </a:lnTo>
                  <a:lnTo>
                    <a:pt x="223" y="56"/>
                  </a:lnTo>
                  <a:lnTo>
                    <a:pt x="261" y="75"/>
                  </a:lnTo>
                  <a:lnTo>
                    <a:pt x="280" y="81"/>
                  </a:lnTo>
                  <a:lnTo>
                    <a:pt x="318" y="94"/>
                  </a:lnTo>
                  <a:lnTo>
                    <a:pt x="324" y="94"/>
                  </a:lnTo>
                  <a:lnTo>
                    <a:pt x="337" y="94"/>
                  </a:lnTo>
                  <a:lnTo>
                    <a:pt x="350" y="100"/>
                  </a:lnTo>
                  <a:lnTo>
                    <a:pt x="362" y="112"/>
                  </a:lnTo>
                  <a:lnTo>
                    <a:pt x="407" y="137"/>
                  </a:lnTo>
                  <a:lnTo>
                    <a:pt x="451" y="156"/>
                  </a:lnTo>
                  <a:lnTo>
                    <a:pt x="496" y="168"/>
                  </a:lnTo>
                  <a:lnTo>
                    <a:pt x="528" y="181"/>
                  </a:lnTo>
                  <a:lnTo>
                    <a:pt x="547" y="187"/>
                  </a:lnTo>
                  <a:lnTo>
                    <a:pt x="566" y="187"/>
                  </a:lnTo>
                  <a:lnTo>
                    <a:pt x="591" y="187"/>
                  </a:lnTo>
                  <a:lnTo>
                    <a:pt x="617" y="187"/>
                  </a:lnTo>
                  <a:lnTo>
                    <a:pt x="636" y="187"/>
                  </a:lnTo>
                  <a:lnTo>
                    <a:pt x="648" y="181"/>
                  </a:lnTo>
                  <a:lnTo>
                    <a:pt x="661" y="181"/>
                  </a:lnTo>
                  <a:lnTo>
                    <a:pt x="680" y="187"/>
                  </a:lnTo>
                  <a:lnTo>
                    <a:pt x="687" y="187"/>
                  </a:lnTo>
                  <a:lnTo>
                    <a:pt x="718" y="199"/>
                  </a:lnTo>
                  <a:lnTo>
                    <a:pt x="737" y="218"/>
                  </a:lnTo>
                  <a:lnTo>
                    <a:pt x="763" y="237"/>
                  </a:lnTo>
                  <a:lnTo>
                    <a:pt x="782" y="274"/>
                  </a:lnTo>
                  <a:lnTo>
                    <a:pt x="801" y="311"/>
                  </a:lnTo>
                  <a:lnTo>
                    <a:pt x="814" y="349"/>
                  </a:lnTo>
                  <a:lnTo>
                    <a:pt x="833" y="374"/>
                  </a:lnTo>
                  <a:lnTo>
                    <a:pt x="864" y="392"/>
                  </a:lnTo>
                  <a:lnTo>
                    <a:pt x="890" y="399"/>
                  </a:lnTo>
                  <a:lnTo>
                    <a:pt x="903" y="411"/>
                  </a:lnTo>
                  <a:lnTo>
                    <a:pt x="909" y="423"/>
                  </a:lnTo>
                  <a:lnTo>
                    <a:pt x="922" y="436"/>
                  </a:lnTo>
                  <a:lnTo>
                    <a:pt x="928" y="442"/>
                  </a:lnTo>
                  <a:lnTo>
                    <a:pt x="947" y="455"/>
                  </a:lnTo>
                  <a:lnTo>
                    <a:pt x="960" y="455"/>
                  </a:lnTo>
                  <a:lnTo>
                    <a:pt x="979" y="461"/>
                  </a:lnTo>
                  <a:lnTo>
                    <a:pt x="998" y="461"/>
                  </a:lnTo>
                  <a:lnTo>
                    <a:pt x="1011" y="461"/>
                  </a:lnTo>
                  <a:lnTo>
                    <a:pt x="1011" y="473"/>
                  </a:lnTo>
                  <a:lnTo>
                    <a:pt x="1004" y="492"/>
                  </a:lnTo>
                  <a:lnTo>
                    <a:pt x="998" y="504"/>
                  </a:lnTo>
                  <a:lnTo>
                    <a:pt x="992" y="523"/>
                  </a:lnTo>
                  <a:lnTo>
                    <a:pt x="992" y="536"/>
                  </a:lnTo>
                  <a:lnTo>
                    <a:pt x="985" y="554"/>
                  </a:lnTo>
                  <a:lnTo>
                    <a:pt x="985" y="567"/>
                  </a:lnTo>
                  <a:lnTo>
                    <a:pt x="985" y="585"/>
                  </a:lnTo>
                  <a:lnTo>
                    <a:pt x="992" y="610"/>
                  </a:lnTo>
                  <a:lnTo>
                    <a:pt x="992" y="629"/>
                  </a:lnTo>
                  <a:lnTo>
                    <a:pt x="998" y="641"/>
                  </a:lnTo>
                  <a:lnTo>
                    <a:pt x="1004" y="641"/>
                  </a:lnTo>
                  <a:lnTo>
                    <a:pt x="1011" y="648"/>
                  </a:lnTo>
                  <a:lnTo>
                    <a:pt x="1017" y="654"/>
                  </a:lnTo>
                  <a:lnTo>
                    <a:pt x="1023" y="654"/>
                  </a:lnTo>
                  <a:lnTo>
                    <a:pt x="1036" y="660"/>
                  </a:lnTo>
                  <a:lnTo>
                    <a:pt x="1042" y="666"/>
                  </a:lnTo>
                  <a:lnTo>
                    <a:pt x="1049" y="672"/>
                  </a:lnTo>
                  <a:lnTo>
                    <a:pt x="1055" y="679"/>
                  </a:lnTo>
                  <a:lnTo>
                    <a:pt x="1055" y="691"/>
                  </a:lnTo>
                  <a:lnTo>
                    <a:pt x="1055" y="697"/>
                  </a:lnTo>
                  <a:lnTo>
                    <a:pt x="1049" y="716"/>
                  </a:lnTo>
                  <a:lnTo>
                    <a:pt x="1042" y="722"/>
                  </a:lnTo>
                  <a:lnTo>
                    <a:pt x="1030" y="735"/>
                  </a:lnTo>
                  <a:lnTo>
                    <a:pt x="1017" y="741"/>
                  </a:lnTo>
                  <a:lnTo>
                    <a:pt x="1004" y="747"/>
                  </a:lnTo>
                  <a:lnTo>
                    <a:pt x="998" y="760"/>
                  </a:lnTo>
                  <a:lnTo>
                    <a:pt x="998" y="778"/>
                  </a:lnTo>
                  <a:lnTo>
                    <a:pt x="998" y="803"/>
                  </a:lnTo>
                  <a:lnTo>
                    <a:pt x="1004" y="822"/>
                  </a:lnTo>
                  <a:lnTo>
                    <a:pt x="998" y="847"/>
                  </a:lnTo>
                  <a:lnTo>
                    <a:pt x="992" y="865"/>
                  </a:lnTo>
                  <a:lnTo>
                    <a:pt x="992" y="878"/>
                  </a:lnTo>
                  <a:lnTo>
                    <a:pt x="985" y="884"/>
                  </a:lnTo>
                  <a:lnTo>
                    <a:pt x="985" y="890"/>
                  </a:lnTo>
                  <a:lnTo>
                    <a:pt x="979" y="897"/>
                  </a:lnTo>
                  <a:lnTo>
                    <a:pt x="973" y="909"/>
                  </a:lnTo>
                  <a:lnTo>
                    <a:pt x="960" y="915"/>
                  </a:lnTo>
                  <a:lnTo>
                    <a:pt x="953" y="915"/>
                  </a:lnTo>
                  <a:lnTo>
                    <a:pt x="947" y="915"/>
                  </a:lnTo>
                  <a:lnTo>
                    <a:pt x="947" y="921"/>
                  </a:lnTo>
                  <a:lnTo>
                    <a:pt x="941" y="928"/>
                  </a:lnTo>
                  <a:lnTo>
                    <a:pt x="941" y="934"/>
                  </a:lnTo>
                  <a:lnTo>
                    <a:pt x="941" y="946"/>
                  </a:lnTo>
                  <a:lnTo>
                    <a:pt x="947" y="953"/>
                  </a:lnTo>
                  <a:lnTo>
                    <a:pt x="960" y="984"/>
                  </a:lnTo>
                  <a:lnTo>
                    <a:pt x="966" y="996"/>
                  </a:lnTo>
                  <a:lnTo>
                    <a:pt x="979" y="1002"/>
                  </a:lnTo>
                  <a:lnTo>
                    <a:pt x="979" y="1015"/>
                  </a:lnTo>
                  <a:lnTo>
                    <a:pt x="985" y="1033"/>
                  </a:lnTo>
                  <a:lnTo>
                    <a:pt x="992" y="1052"/>
                  </a:lnTo>
                  <a:lnTo>
                    <a:pt x="1004" y="1071"/>
                  </a:lnTo>
                  <a:lnTo>
                    <a:pt x="1023" y="1096"/>
                  </a:lnTo>
                  <a:lnTo>
                    <a:pt x="1036" y="1114"/>
                  </a:lnTo>
                  <a:lnTo>
                    <a:pt x="1042" y="1139"/>
                  </a:lnTo>
                  <a:lnTo>
                    <a:pt x="1042" y="1152"/>
                  </a:lnTo>
                  <a:lnTo>
                    <a:pt x="1042" y="1164"/>
                  </a:lnTo>
                  <a:lnTo>
                    <a:pt x="1036" y="1183"/>
                  </a:lnTo>
                  <a:lnTo>
                    <a:pt x="1030" y="1202"/>
                  </a:lnTo>
                  <a:lnTo>
                    <a:pt x="1030" y="1214"/>
                  </a:lnTo>
                  <a:lnTo>
                    <a:pt x="1023" y="1251"/>
                  </a:lnTo>
                  <a:lnTo>
                    <a:pt x="1017" y="1282"/>
                  </a:lnTo>
                  <a:lnTo>
                    <a:pt x="1017" y="1307"/>
                  </a:lnTo>
                  <a:lnTo>
                    <a:pt x="1011" y="1332"/>
                  </a:lnTo>
                  <a:lnTo>
                    <a:pt x="1011" y="1370"/>
                  </a:lnTo>
                  <a:lnTo>
                    <a:pt x="1004" y="1388"/>
                  </a:lnTo>
                  <a:lnTo>
                    <a:pt x="1004" y="1407"/>
                  </a:lnTo>
                  <a:lnTo>
                    <a:pt x="998" y="1419"/>
                  </a:lnTo>
                  <a:lnTo>
                    <a:pt x="998" y="1426"/>
                  </a:lnTo>
                  <a:lnTo>
                    <a:pt x="992" y="1432"/>
                  </a:lnTo>
                  <a:lnTo>
                    <a:pt x="979" y="1432"/>
                  </a:lnTo>
                  <a:lnTo>
                    <a:pt x="973" y="1438"/>
                  </a:lnTo>
                  <a:lnTo>
                    <a:pt x="973" y="1444"/>
                  </a:lnTo>
                  <a:lnTo>
                    <a:pt x="966" y="1457"/>
                  </a:lnTo>
                  <a:lnTo>
                    <a:pt x="966" y="1469"/>
                  </a:lnTo>
                  <a:lnTo>
                    <a:pt x="966" y="1488"/>
                  </a:lnTo>
                  <a:lnTo>
                    <a:pt x="966" y="1507"/>
                  </a:lnTo>
                  <a:lnTo>
                    <a:pt x="966" y="1525"/>
                  </a:lnTo>
                  <a:lnTo>
                    <a:pt x="973" y="1538"/>
                  </a:lnTo>
                  <a:lnTo>
                    <a:pt x="973" y="1550"/>
                  </a:lnTo>
                  <a:lnTo>
                    <a:pt x="973" y="1563"/>
                  </a:lnTo>
                  <a:lnTo>
                    <a:pt x="985" y="1575"/>
                  </a:lnTo>
                  <a:lnTo>
                    <a:pt x="1004" y="1600"/>
                  </a:lnTo>
                  <a:lnTo>
                    <a:pt x="1011" y="1606"/>
                  </a:lnTo>
                  <a:lnTo>
                    <a:pt x="1017" y="1619"/>
                  </a:lnTo>
                  <a:lnTo>
                    <a:pt x="1030" y="1637"/>
                  </a:lnTo>
                  <a:lnTo>
                    <a:pt x="1042" y="1650"/>
                  </a:lnTo>
                  <a:lnTo>
                    <a:pt x="1042" y="1675"/>
                  </a:lnTo>
                  <a:lnTo>
                    <a:pt x="1042" y="1687"/>
                  </a:lnTo>
                  <a:lnTo>
                    <a:pt x="1042" y="1706"/>
                  </a:lnTo>
                  <a:lnTo>
                    <a:pt x="1036" y="1718"/>
                  </a:lnTo>
                  <a:lnTo>
                    <a:pt x="1036" y="1737"/>
                  </a:lnTo>
                  <a:lnTo>
                    <a:pt x="1030" y="1749"/>
                  </a:lnTo>
                  <a:lnTo>
                    <a:pt x="1023" y="1762"/>
                  </a:lnTo>
                  <a:lnTo>
                    <a:pt x="1011" y="1780"/>
                  </a:lnTo>
                  <a:lnTo>
                    <a:pt x="998" y="1799"/>
                  </a:lnTo>
                  <a:lnTo>
                    <a:pt x="985" y="1836"/>
                  </a:lnTo>
                  <a:lnTo>
                    <a:pt x="979" y="1855"/>
                  </a:lnTo>
                  <a:lnTo>
                    <a:pt x="973" y="1874"/>
                  </a:lnTo>
                  <a:lnTo>
                    <a:pt x="973" y="1886"/>
                  </a:lnTo>
                  <a:lnTo>
                    <a:pt x="973" y="1905"/>
                  </a:lnTo>
                  <a:lnTo>
                    <a:pt x="979" y="1917"/>
                  </a:lnTo>
                  <a:lnTo>
                    <a:pt x="966" y="1924"/>
                  </a:lnTo>
                  <a:lnTo>
                    <a:pt x="960" y="1924"/>
                  </a:lnTo>
                  <a:lnTo>
                    <a:pt x="947" y="1924"/>
                  </a:lnTo>
                  <a:lnTo>
                    <a:pt x="941" y="1924"/>
                  </a:lnTo>
                  <a:lnTo>
                    <a:pt x="934" y="1930"/>
                  </a:lnTo>
                  <a:lnTo>
                    <a:pt x="922" y="1930"/>
                  </a:lnTo>
                  <a:lnTo>
                    <a:pt x="915" y="1930"/>
                  </a:lnTo>
                  <a:lnTo>
                    <a:pt x="909" y="1930"/>
                  </a:lnTo>
                  <a:lnTo>
                    <a:pt x="903" y="1936"/>
                  </a:lnTo>
                  <a:lnTo>
                    <a:pt x="896" y="1936"/>
                  </a:lnTo>
                  <a:lnTo>
                    <a:pt x="890" y="1942"/>
                  </a:lnTo>
                  <a:lnTo>
                    <a:pt x="877" y="1949"/>
                  </a:lnTo>
                  <a:lnTo>
                    <a:pt x="864" y="1949"/>
                  </a:lnTo>
                  <a:lnTo>
                    <a:pt x="858" y="1955"/>
                  </a:lnTo>
                  <a:lnTo>
                    <a:pt x="858" y="1961"/>
                  </a:lnTo>
                  <a:lnTo>
                    <a:pt x="858" y="1967"/>
                  </a:lnTo>
                  <a:lnTo>
                    <a:pt x="871" y="1973"/>
                  </a:lnTo>
                  <a:lnTo>
                    <a:pt x="877" y="1973"/>
                  </a:lnTo>
                  <a:lnTo>
                    <a:pt x="877" y="1986"/>
                  </a:lnTo>
                  <a:lnTo>
                    <a:pt x="884" y="1992"/>
                  </a:lnTo>
                  <a:lnTo>
                    <a:pt x="884" y="1998"/>
                  </a:lnTo>
                  <a:lnTo>
                    <a:pt x="877" y="2005"/>
                  </a:lnTo>
                  <a:lnTo>
                    <a:pt x="871" y="2011"/>
                  </a:lnTo>
                  <a:lnTo>
                    <a:pt x="864" y="2011"/>
                  </a:lnTo>
                  <a:lnTo>
                    <a:pt x="858" y="2005"/>
                  </a:lnTo>
                  <a:lnTo>
                    <a:pt x="852" y="1992"/>
                  </a:lnTo>
                  <a:lnTo>
                    <a:pt x="839" y="1986"/>
                  </a:lnTo>
                  <a:lnTo>
                    <a:pt x="839" y="1980"/>
                  </a:lnTo>
                  <a:lnTo>
                    <a:pt x="820" y="1955"/>
                  </a:lnTo>
                  <a:lnTo>
                    <a:pt x="801" y="1942"/>
                  </a:lnTo>
                  <a:lnTo>
                    <a:pt x="776" y="1930"/>
                  </a:lnTo>
                  <a:lnTo>
                    <a:pt x="756" y="1899"/>
                  </a:lnTo>
                  <a:lnTo>
                    <a:pt x="750" y="1892"/>
                  </a:lnTo>
                  <a:lnTo>
                    <a:pt x="750" y="1880"/>
                  </a:lnTo>
                  <a:lnTo>
                    <a:pt x="756" y="1874"/>
                  </a:lnTo>
                  <a:lnTo>
                    <a:pt x="756" y="1868"/>
                  </a:lnTo>
                  <a:lnTo>
                    <a:pt x="750" y="1861"/>
                  </a:lnTo>
                  <a:lnTo>
                    <a:pt x="744" y="1861"/>
                  </a:lnTo>
                  <a:lnTo>
                    <a:pt x="737" y="1855"/>
                  </a:lnTo>
                  <a:lnTo>
                    <a:pt x="725" y="1849"/>
                  </a:lnTo>
                  <a:lnTo>
                    <a:pt x="712" y="1843"/>
                  </a:lnTo>
                  <a:lnTo>
                    <a:pt x="699" y="1824"/>
                  </a:lnTo>
                  <a:lnTo>
                    <a:pt x="693" y="1818"/>
                  </a:lnTo>
                  <a:lnTo>
                    <a:pt x="674" y="1799"/>
                  </a:lnTo>
                  <a:lnTo>
                    <a:pt x="661" y="1787"/>
                  </a:lnTo>
                  <a:lnTo>
                    <a:pt x="648" y="1780"/>
                  </a:lnTo>
                  <a:lnTo>
                    <a:pt x="642" y="1774"/>
                  </a:lnTo>
                  <a:lnTo>
                    <a:pt x="629" y="1768"/>
                  </a:lnTo>
                  <a:lnTo>
                    <a:pt x="617" y="1768"/>
                  </a:lnTo>
                  <a:lnTo>
                    <a:pt x="598" y="1762"/>
                  </a:lnTo>
                  <a:lnTo>
                    <a:pt x="591" y="1762"/>
                  </a:lnTo>
                  <a:lnTo>
                    <a:pt x="578" y="1762"/>
                  </a:lnTo>
                  <a:lnTo>
                    <a:pt x="566" y="1768"/>
                  </a:lnTo>
                  <a:lnTo>
                    <a:pt x="553" y="1768"/>
                  </a:lnTo>
                  <a:lnTo>
                    <a:pt x="547" y="1768"/>
                  </a:lnTo>
                  <a:lnTo>
                    <a:pt x="540" y="1762"/>
                  </a:lnTo>
                  <a:lnTo>
                    <a:pt x="534" y="1756"/>
                  </a:lnTo>
                  <a:lnTo>
                    <a:pt x="528" y="1756"/>
                  </a:lnTo>
                  <a:lnTo>
                    <a:pt x="521" y="1749"/>
                  </a:lnTo>
                  <a:lnTo>
                    <a:pt x="515" y="1743"/>
                  </a:lnTo>
                  <a:lnTo>
                    <a:pt x="502" y="1737"/>
                  </a:lnTo>
                  <a:lnTo>
                    <a:pt x="502" y="1731"/>
                  </a:lnTo>
                  <a:lnTo>
                    <a:pt x="496" y="1731"/>
                  </a:lnTo>
                  <a:lnTo>
                    <a:pt x="496" y="1718"/>
                  </a:lnTo>
                  <a:lnTo>
                    <a:pt x="496" y="1712"/>
                  </a:lnTo>
                  <a:lnTo>
                    <a:pt x="490" y="1706"/>
                  </a:lnTo>
                  <a:lnTo>
                    <a:pt x="490" y="1700"/>
                  </a:lnTo>
                  <a:lnTo>
                    <a:pt x="483" y="1687"/>
                  </a:lnTo>
                  <a:lnTo>
                    <a:pt x="477" y="1681"/>
                  </a:lnTo>
                  <a:lnTo>
                    <a:pt x="470" y="1668"/>
                  </a:lnTo>
                  <a:lnTo>
                    <a:pt x="470" y="1662"/>
                  </a:lnTo>
                  <a:lnTo>
                    <a:pt x="470" y="1650"/>
                  </a:lnTo>
                  <a:lnTo>
                    <a:pt x="464" y="1644"/>
                  </a:lnTo>
                  <a:lnTo>
                    <a:pt x="451" y="1644"/>
                  </a:lnTo>
                  <a:lnTo>
                    <a:pt x="445" y="1644"/>
                  </a:lnTo>
                  <a:lnTo>
                    <a:pt x="439" y="1637"/>
                  </a:lnTo>
                  <a:lnTo>
                    <a:pt x="432" y="1631"/>
                  </a:lnTo>
                  <a:lnTo>
                    <a:pt x="426" y="1619"/>
                  </a:lnTo>
                  <a:lnTo>
                    <a:pt x="426" y="1612"/>
                  </a:lnTo>
                  <a:lnTo>
                    <a:pt x="413" y="1594"/>
                  </a:lnTo>
                  <a:lnTo>
                    <a:pt x="401" y="1581"/>
                  </a:lnTo>
                  <a:lnTo>
                    <a:pt x="388" y="1563"/>
                  </a:lnTo>
                  <a:lnTo>
                    <a:pt x="369" y="1544"/>
                  </a:lnTo>
                  <a:lnTo>
                    <a:pt x="362" y="1538"/>
                  </a:lnTo>
                  <a:lnTo>
                    <a:pt x="343" y="1513"/>
                  </a:lnTo>
                  <a:lnTo>
                    <a:pt x="318" y="1475"/>
                  </a:lnTo>
                  <a:lnTo>
                    <a:pt x="293" y="1451"/>
                  </a:lnTo>
                  <a:lnTo>
                    <a:pt x="280" y="1432"/>
                  </a:lnTo>
                  <a:lnTo>
                    <a:pt x="267" y="1407"/>
                  </a:lnTo>
                  <a:lnTo>
                    <a:pt x="254" y="1395"/>
                  </a:lnTo>
                  <a:lnTo>
                    <a:pt x="242" y="1388"/>
                  </a:lnTo>
                  <a:lnTo>
                    <a:pt x="229" y="1382"/>
                  </a:lnTo>
                  <a:lnTo>
                    <a:pt x="223" y="1382"/>
                  </a:lnTo>
                  <a:lnTo>
                    <a:pt x="210" y="1376"/>
                  </a:lnTo>
                  <a:lnTo>
                    <a:pt x="204" y="1363"/>
                  </a:lnTo>
                  <a:lnTo>
                    <a:pt x="204" y="1357"/>
                  </a:lnTo>
                  <a:lnTo>
                    <a:pt x="204" y="1345"/>
                  </a:lnTo>
                  <a:lnTo>
                    <a:pt x="197" y="1332"/>
                  </a:lnTo>
                  <a:lnTo>
                    <a:pt x="191" y="1320"/>
                  </a:lnTo>
                  <a:lnTo>
                    <a:pt x="184" y="1307"/>
                  </a:lnTo>
                  <a:lnTo>
                    <a:pt x="165" y="1282"/>
                  </a:lnTo>
                  <a:lnTo>
                    <a:pt x="153" y="1264"/>
                  </a:lnTo>
                  <a:lnTo>
                    <a:pt x="140" y="1245"/>
                  </a:lnTo>
                  <a:lnTo>
                    <a:pt x="127" y="1208"/>
                  </a:lnTo>
                  <a:lnTo>
                    <a:pt x="121" y="1183"/>
                  </a:lnTo>
                  <a:lnTo>
                    <a:pt x="108" y="1139"/>
                  </a:lnTo>
                  <a:lnTo>
                    <a:pt x="102" y="1108"/>
                  </a:lnTo>
                  <a:lnTo>
                    <a:pt x="95" y="1083"/>
                  </a:lnTo>
                  <a:lnTo>
                    <a:pt x="95" y="1077"/>
                  </a:lnTo>
                  <a:lnTo>
                    <a:pt x="102" y="1071"/>
                  </a:lnTo>
                  <a:lnTo>
                    <a:pt x="102" y="1065"/>
                  </a:lnTo>
                  <a:lnTo>
                    <a:pt x="108" y="1058"/>
                  </a:lnTo>
                  <a:lnTo>
                    <a:pt x="115" y="1058"/>
                  </a:lnTo>
                  <a:lnTo>
                    <a:pt x="127" y="1058"/>
                  </a:lnTo>
                  <a:lnTo>
                    <a:pt x="140" y="1052"/>
                  </a:lnTo>
                  <a:lnTo>
                    <a:pt x="146" y="1046"/>
                  </a:lnTo>
                  <a:lnTo>
                    <a:pt x="153" y="1033"/>
                  </a:lnTo>
                  <a:lnTo>
                    <a:pt x="159" y="1015"/>
                  </a:lnTo>
                  <a:lnTo>
                    <a:pt x="165" y="1002"/>
                  </a:lnTo>
                  <a:lnTo>
                    <a:pt x="165" y="984"/>
                  </a:lnTo>
                  <a:lnTo>
                    <a:pt x="172" y="965"/>
                  </a:lnTo>
                  <a:lnTo>
                    <a:pt x="165" y="953"/>
                  </a:lnTo>
                  <a:lnTo>
                    <a:pt x="165" y="940"/>
                  </a:lnTo>
                  <a:lnTo>
                    <a:pt x="159" y="928"/>
                  </a:lnTo>
                  <a:lnTo>
                    <a:pt x="159" y="909"/>
                  </a:lnTo>
                  <a:lnTo>
                    <a:pt x="153" y="884"/>
                  </a:lnTo>
                  <a:lnTo>
                    <a:pt x="153" y="859"/>
                  </a:lnTo>
                  <a:lnTo>
                    <a:pt x="153" y="841"/>
                  </a:lnTo>
                  <a:lnTo>
                    <a:pt x="146" y="828"/>
                  </a:lnTo>
                  <a:lnTo>
                    <a:pt x="140" y="816"/>
                  </a:lnTo>
                  <a:lnTo>
                    <a:pt x="127" y="791"/>
                  </a:lnTo>
                  <a:lnTo>
                    <a:pt x="115" y="772"/>
                  </a:lnTo>
                  <a:lnTo>
                    <a:pt x="102" y="753"/>
                  </a:lnTo>
                  <a:lnTo>
                    <a:pt x="102" y="741"/>
                  </a:lnTo>
                  <a:lnTo>
                    <a:pt x="95" y="722"/>
                  </a:lnTo>
                  <a:lnTo>
                    <a:pt x="95" y="685"/>
                  </a:lnTo>
                  <a:lnTo>
                    <a:pt x="95" y="660"/>
                  </a:lnTo>
                  <a:lnTo>
                    <a:pt x="95" y="641"/>
                  </a:lnTo>
                  <a:lnTo>
                    <a:pt x="89" y="635"/>
                  </a:lnTo>
                  <a:lnTo>
                    <a:pt x="89" y="610"/>
                  </a:lnTo>
                  <a:lnTo>
                    <a:pt x="83" y="585"/>
                  </a:lnTo>
                  <a:lnTo>
                    <a:pt x="83" y="573"/>
                  </a:lnTo>
                  <a:lnTo>
                    <a:pt x="89" y="560"/>
                  </a:lnTo>
                  <a:lnTo>
                    <a:pt x="89" y="542"/>
                  </a:lnTo>
                  <a:lnTo>
                    <a:pt x="89" y="529"/>
                  </a:lnTo>
                  <a:lnTo>
                    <a:pt x="83" y="523"/>
                  </a:lnTo>
                  <a:lnTo>
                    <a:pt x="76" y="511"/>
                  </a:lnTo>
                  <a:lnTo>
                    <a:pt x="64" y="504"/>
                  </a:lnTo>
                  <a:lnTo>
                    <a:pt x="57" y="498"/>
                  </a:lnTo>
                  <a:lnTo>
                    <a:pt x="51" y="479"/>
                  </a:lnTo>
                  <a:lnTo>
                    <a:pt x="51" y="467"/>
                  </a:lnTo>
                  <a:lnTo>
                    <a:pt x="51" y="455"/>
                  </a:lnTo>
                  <a:lnTo>
                    <a:pt x="45" y="448"/>
                  </a:lnTo>
                  <a:lnTo>
                    <a:pt x="38" y="436"/>
                  </a:lnTo>
                  <a:lnTo>
                    <a:pt x="32" y="417"/>
                  </a:lnTo>
                  <a:lnTo>
                    <a:pt x="19" y="405"/>
                  </a:lnTo>
                  <a:lnTo>
                    <a:pt x="13" y="392"/>
                  </a:lnTo>
                  <a:lnTo>
                    <a:pt x="13" y="380"/>
                  </a:lnTo>
                  <a:lnTo>
                    <a:pt x="13" y="355"/>
                  </a:lnTo>
                  <a:lnTo>
                    <a:pt x="13" y="330"/>
                  </a:lnTo>
                  <a:lnTo>
                    <a:pt x="7" y="311"/>
                  </a:lnTo>
                  <a:lnTo>
                    <a:pt x="0" y="293"/>
                  </a:lnTo>
                  <a:lnTo>
                    <a:pt x="26" y="299"/>
                  </a:lnTo>
                  <a:lnTo>
                    <a:pt x="38" y="293"/>
                  </a:lnTo>
                  <a:lnTo>
                    <a:pt x="45" y="287"/>
                  </a:lnTo>
                  <a:lnTo>
                    <a:pt x="51" y="280"/>
                  </a:lnTo>
                  <a:lnTo>
                    <a:pt x="57" y="268"/>
                  </a:lnTo>
                  <a:lnTo>
                    <a:pt x="64" y="255"/>
                  </a:lnTo>
                  <a:lnTo>
                    <a:pt x="70" y="237"/>
                  </a:lnTo>
                  <a:lnTo>
                    <a:pt x="83" y="218"/>
                  </a:lnTo>
                  <a:lnTo>
                    <a:pt x="102" y="199"/>
                  </a:lnTo>
                  <a:lnTo>
                    <a:pt x="115" y="187"/>
                  </a:lnTo>
                  <a:lnTo>
                    <a:pt x="121" y="162"/>
                  </a:lnTo>
                  <a:lnTo>
                    <a:pt x="121" y="150"/>
                  </a:lnTo>
                  <a:lnTo>
                    <a:pt x="121" y="112"/>
                  </a:lnTo>
                  <a:lnTo>
                    <a:pt x="115" y="81"/>
                  </a:lnTo>
                  <a:lnTo>
                    <a:pt x="115" y="62"/>
                  </a:lnTo>
                  <a:lnTo>
                    <a:pt x="115" y="38"/>
                  </a:lnTo>
                  <a:lnTo>
                    <a:pt x="121" y="25"/>
                  </a:lnTo>
                  <a:lnTo>
                    <a:pt x="127" y="13"/>
                  </a:lnTo>
                  <a:lnTo>
                    <a:pt x="14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099800" y="2668680"/>
              <a:ext cx="1220760" cy="3022560"/>
            </a:xfrm>
            <a:custGeom>
              <a:avLst/>
              <a:gdLst/>
              <a:ahLst/>
              <a:rect l="l" t="t" r="r" b="b"/>
              <a:pathLst>
                <a:path w="769" h="1904">
                  <a:moveTo>
                    <a:pt x="70" y="143"/>
                  </a:moveTo>
                  <a:lnTo>
                    <a:pt x="82" y="137"/>
                  </a:lnTo>
                  <a:lnTo>
                    <a:pt x="89" y="130"/>
                  </a:lnTo>
                  <a:lnTo>
                    <a:pt x="95" y="118"/>
                  </a:lnTo>
                  <a:lnTo>
                    <a:pt x="108" y="118"/>
                  </a:lnTo>
                  <a:lnTo>
                    <a:pt x="121" y="118"/>
                  </a:lnTo>
                  <a:lnTo>
                    <a:pt x="140" y="112"/>
                  </a:lnTo>
                  <a:lnTo>
                    <a:pt x="159" y="99"/>
                  </a:lnTo>
                  <a:lnTo>
                    <a:pt x="178" y="74"/>
                  </a:lnTo>
                  <a:lnTo>
                    <a:pt x="190" y="49"/>
                  </a:lnTo>
                  <a:lnTo>
                    <a:pt x="203" y="25"/>
                  </a:lnTo>
                  <a:lnTo>
                    <a:pt x="203" y="12"/>
                  </a:lnTo>
                  <a:lnTo>
                    <a:pt x="209" y="12"/>
                  </a:lnTo>
                  <a:lnTo>
                    <a:pt x="209" y="6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2" y="6"/>
                  </a:lnTo>
                  <a:lnTo>
                    <a:pt x="229" y="6"/>
                  </a:lnTo>
                  <a:lnTo>
                    <a:pt x="229" y="12"/>
                  </a:lnTo>
                  <a:lnTo>
                    <a:pt x="229" y="18"/>
                  </a:lnTo>
                  <a:lnTo>
                    <a:pt x="235" y="18"/>
                  </a:lnTo>
                  <a:lnTo>
                    <a:pt x="235" y="25"/>
                  </a:lnTo>
                  <a:lnTo>
                    <a:pt x="248" y="31"/>
                  </a:lnTo>
                  <a:lnTo>
                    <a:pt x="241" y="25"/>
                  </a:lnTo>
                  <a:lnTo>
                    <a:pt x="248" y="25"/>
                  </a:lnTo>
                  <a:lnTo>
                    <a:pt x="248" y="18"/>
                  </a:lnTo>
                  <a:lnTo>
                    <a:pt x="254" y="18"/>
                  </a:lnTo>
                  <a:lnTo>
                    <a:pt x="254" y="31"/>
                  </a:lnTo>
                  <a:lnTo>
                    <a:pt x="260" y="43"/>
                  </a:lnTo>
                  <a:lnTo>
                    <a:pt x="267" y="49"/>
                  </a:lnTo>
                  <a:lnTo>
                    <a:pt x="267" y="56"/>
                  </a:lnTo>
                  <a:lnTo>
                    <a:pt x="267" y="62"/>
                  </a:lnTo>
                  <a:lnTo>
                    <a:pt x="267" y="68"/>
                  </a:lnTo>
                  <a:lnTo>
                    <a:pt x="260" y="68"/>
                  </a:lnTo>
                  <a:lnTo>
                    <a:pt x="254" y="68"/>
                  </a:lnTo>
                  <a:lnTo>
                    <a:pt x="248" y="74"/>
                  </a:lnTo>
                  <a:lnTo>
                    <a:pt x="241" y="81"/>
                  </a:lnTo>
                  <a:lnTo>
                    <a:pt x="235" y="93"/>
                  </a:lnTo>
                  <a:lnTo>
                    <a:pt x="229" y="99"/>
                  </a:lnTo>
                  <a:lnTo>
                    <a:pt x="222" y="99"/>
                  </a:lnTo>
                  <a:lnTo>
                    <a:pt x="216" y="99"/>
                  </a:lnTo>
                  <a:lnTo>
                    <a:pt x="209" y="105"/>
                  </a:lnTo>
                  <a:lnTo>
                    <a:pt x="203" y="105"/>
                  </a:lnTo>
                  <a:lnTo>
                    <a:pt x="203" y="112"/>
                  </a:lnTo>
                  <a:lnTo>
                    <a:pt x="209" y="118"/>
                  </a:lnTo>
                  <a:lnTo>
                    <a:pt x="216" y="118"/>
                  </a:lnTo>
                  <a:lnTo>
                    <a:pt x="222" y="112"/>
                  </a:lnTo>
                  <a:lnTo>
                    <a:pt x="229" y="112"/>
                  </a:lnTo>
                  <a:lnTo>
                    <a:pt x="235" y="112"/>
                  </a:lnTo>
                  <a:lnTo>
                    <a:pt x="241" y="112"/>
                  </a:lnTo>
                  <a:lnTo>
                    <a:pt x="248" y="112"/>
                  </a:lnTo>
                  <a:lnTo>
                    <a:pt x="241" y="118"/>
                  </a:lnTo>
                  <a:lnTo>
                    <a:pt x="248" y="124"/>
                  </a:lnTo>
                  <a:lnTo>
                    <a:pt x="241" y="130"/>
                  </a:lnTo>
                  <a:lnTo>
                    <a:pt x="248" y="130"/>
                  </a:lnTo>
                  <a:lnTo>
                    <a:pt x="254" y="143"/>
                  </a:lnTo>
                  <a:lnTo>
                    <a:pt x="254" y="149"/>
                  </a:lnTo>
                  <a:lnTo>
                    <a:pt x="248" y="149"/>
                  </a:lnTo>
                  <a:lnTo>
                    <a:pt x="241" y="149"/>
                  </a:lnTo>
                  <a:lnTo>
                    <a:pt x="241" y="143"/>
                  </a:lnTo>
                  <a:lnTo>
                    <a:pt x="235" y="143"/>
                  </a:lnTo>
                  <a:lnTo>
                    <a:pt x="235" y="137"/>
                  </a:lnTo>
                  <a:lnTo>
                    <a:pt x="235" y="130"/>
                  </a:lnTo>
                  <a:lnTo>
                    <a:pt x="235" y="124"/>
                  </a:lnTo>
                  <a:lnTo>
                    <a:pt x="229" y="130"/>
                  </a:lnTo>
                  <a:lnTo>
                    <a:pt x="229" y="118"/>
                  </a:lnTo>
                  <a:lnTo>
                    <a:pt x="222" y="124"/>
                  </a:lnTo>
                  <a:lnTo>
                    <a:pt x="216" y="124"/>
                  </a:lnTo>
                  <a:lnTo>
                    <a:pt x="216" y="130"/>
                  </a:lnTo>
                  <a:lnTo>
                    <a:pt x="216" y="137"/>
                  </a:lnTo>
                  <a:lnTo>
                    <a:pt x="209" y="137"/>
                  </a:lnTo>
                  <a:lnTo>
                    <a:pt x="203" y="137"/>
                  </a:lnTo>
                  <a:lnTo>
                    <a:pt x="203" y="130"/>
                  </a:lnTo>
                  <a:lnTo>
                    <a:pt x="197" y="130"/>
                  </a:lnTo>
                  <a:lnTo>
                    <a:pt x="197" y="137"/>
                  </a:lnTo>
                  <a:lnTo>
                    <a:pt x="203" y="143"/>
                  </a:lnTo>
                  <a:lnTo>
                    <a:pt x="209" y="143"/>
                  </a:lnTo>
                  <a:lnTo>
                    <a:pt x="216" y="143"/>
                  </a:lnTo>
                  <a:lnTo>
                    <a:pt x="222" y="149"/>
                  </a:lnTo>
                  <a:lnTo>
                    <a:pt x="216" y="149"/>
                  </a:lnTo>
                  <a:lnTo>
                    <a:pt x="209" y="149"/>
                  </a:lnTo>
                  <a:lnTo>
                    <a:pt x="203" y="149"/>
                  </a:lnTo>
                  <a:lnTo>
                    <a:pt x="197" y="149"/>
                  </a:lnTo>
                  <a:lnTo>
                    <a:pt x="203" y="155"/>
                  </a:lnTo>
                  <a:lnTo>
                    <a:pt x="209" y="155"/>
                  </a:lnTo>
                  <a:lnTo>
                    <a:pt x="222" y="155"/>
                  </a:lnTo>
                  <a:lnTo>
                    <a:pt x="229" y="161"/>
                  </a:lnTo>
                  <a:lnTo>
                    <a:pt x="229" y="155"/>
                  </a:lnTo>
                  <a:lnTo>
                    <a:pt x="229" y="161"/>
                  </a:lnTo>
                  <a:lnTo>
                    <a:pt x="229" y="168"/>
                  </a:lnTo>
                  <a:lnTo>
                    <a:pt x="222" y="168"/>
                  </a:lnTo>
                  <a:lnTo>
                    <a:pt x="216" y="168"/>
                  </a:lnTo>
                  <a:lnTo>
                    <a:pt x="216" y="174"/>
                  </a:lnTo>
                  <a:lnTo>
                    <a:pt x="222" y="174"/>
                  </a:lnTo>
                  <a:lnTo>
                    <a:pt x="222" y="180"/>
                  </a:lnTo>
                  <a:lnTo>
                    <a:pt x="229" y="186"/>
                  </a:lnTo>
                  <a:lnTo>
                    <a:pt x="222" y="186"/>
                  </a:lnTo>
                  <a:lnTo>
                    <a:pt x="216" y="180"/>
                  </a:lnTo>
                  <a:lnTo>
                    <a:pt x="209" y="180"/>
                  </a:lnTo>
                  <a:lnTo>
                    <a:pt x="203" y="180"/>
                  </a:lnTo>
                  <a:lnTo>
                    <a:pt x="203" y="174"/>
                  </a:lnTo>
                  <a:lnTo>
                    <a:pt x="197" y="174"/>
                  </a:lnTo>
                  <a:lnTo>
                    <a:pt x="197" y="168"/>
                  </a:lnTo>
                  <a:lnTo>
                    <a:pt x="197" y="180"/>
                  </a:lnTo>
                  <a:lnTo>
                    <a:pt x="197" y="186"/>
                  </a:lnTo>
                  <a:lnTo>
                    <a:pt x="197" y="180"/>
                  </a:lnTo>
                  <a:lnTo>
                    <a:pt x="184" y="174"/>
                  </a:lnTo>
                  <a:lnTo>
                    <a:pt x="178" y="174"/>
                  </a:lnTo>
                  <a:lnTo>
                    <a:pt x="178" y="168"/>
                  </a:lnTo>
                  <a:lnTo>
                    <a:pt x="184" y="168"/>
                  </a:lnTo>
                  <a:lnTo>
                    <a:pt x="190" y="168"/>
                  </a:lnTo>
                  <a:lnTo>
                    <a:pt x="190" y="161"/>
                  </a:lnTo>
                  <a:lnTo>
                    <a:pt x="178" y="149"/>
                  </a:lnTo>
                  <a:lnTo>
                    <a:pt x="178" y="155"/>
                  </a:lnTo>
                  <a:lnTo>
                    <a:pt x="178" y="161"/>
                  </a:lnTo>
                  <a:lnTo>
                    <a:pt x="171" y="161"/>
                  </a:lnTo>
                  <a:lnTo>
                    <a:pt x="171" y="168"/>
                  </a:lnTo>
                  <a:lnTo>
                    <a:pt x="171" y="174"/>
                  </a:lnTo>
                  <a:lnTo>
                    <a:pt x="165" y="174"/>
                  </a:lnTo>
                  <a:lnTo>
                    <a:pt x="165" y="168"/>
                  </a:lnTo>
                  <a:lnTo>
                    <a:pt x="165" y="161"/>
                  </a:lnTo>
                  <a:lnTo>
                    <a:pt x="171" y="161"/>
                  </a:lnTo>
                  <a:lnTo>
                    <a:pt x="171" y="155"/>
                  </a:lnTo>
                  <a:lnTo>
                    <a:pt x="165" y="155"/>
                  </a:lnTo>
                  <a:lnTo>
                    <a:pt x="159" y="155"/>
                  </a:lnTo>
                  <a:lnTo>
                    <a:pt x="159" y="161"/>
                  </a:lnTo>
                  <a:lnTo>
                    <a:pt x="152" y="168"/>
                  </a:lnTo>
                  <a:lnTo>
                    <a:pt x="159" y="168"/>
                  </a:lnTo>
                  <a:lnTo>
                    <a:pt x="159" y="174"/>
                  </a:lnTo>
                  <a:lnTo>
                    <a:pt x="152" y="174"/>
                  </a:lnTo>
                  <a:lnTo>
                    <a:pt x="152" y="180"/>
                  </a:lnTo>
                  <a:lnTo>
                    <a:pt x="146" y="180"/>
                  </a:lnTo>
                  <a:lnTo>
                    <a:pt x="140" y="180"/>
                  </a:lnTo>
                  <a:lnTo>
                    <a:pt x="140" y="186"/>
                  </a:lnTo>
                  <a:lnTo>
                    <a:pt x="146" y="186"/>
                  </a:lnTo>
                  <a:lnTo>
                    <a:pt x="152" y="186"/>
                  </a:lnTo>
                  <a:lnTo>
                    <a:pt x="159" y="186"/>
                  </a:lnTo>
                  <a:lnTo>
                    <a:pt x="171" y="186"/>
                  </a:lnTo>
                  <a:lnTo>
                    <a:pt x="171" y="193"/>
                  </a:lnTo>
                  <a:lnTo>
                    <a:pt x="178" y="186"/>
                  </a:lnTo>
                  <a:lnTo>
                    <a:pt x="184" y="186"/>
                  </a:lnTo>
                  <a:lnTo>
                    <a:pt x="190" y="193"/>
                  </a:lnTo>
                  <a:lnTo>
                    <a:pt x="184" y="199"/>
                  </a:lnTo>
                  <a:lnTo>
                    <a:pt x="178" y="199"/>
                  </a:lnTo>
                  <a:lnTo>
                    <a:pt x="171" y="199"/>
                  </a:lnTo>
                  <a:lnTo>
                    <a:pt x="165" y="193"/>
                  </a:lnTo>
                  <a:lnTo>
                    <a:pt x="159" y="193"/>
                  </a:lnTo>
                  <a:lnTo>
                    <a:pt x="159" y="199"/>
                  </a:lnTo>
                  <a:lnTo>
                    <a:pt x="152" y="199"/>
                  </a:lnTo>
                  <a:lnTo>
                    <a:pt x="152" y="193"/>
                  </a:lnTo>
                  <a:lnTo>
                    <a:pt x="146" y="193"/>
                  </a:lnTo>
                  <a:lnTo>
                    <a:pt x="140" y="193"/>
                  </a:lnTo>
                  <a:lnTo>
                    <a:pt x="146" y="199"/>
                  </a:lnTo>
                  <a:lnTo>
                    <a:pt x="146" y="205"/>
                  </a:lnTo>
                  <a:lnTo>
                    <a:pt x="152" y="211"/>
                  </a:lnTo>
                  <a:lnTo>
                    <a:pt x="159" y="205"/>
                  </a:lnTo>
                  <a:lnTo>
                    <a:pt x="165" y="205"/>
                  </a:lnTo>
                  <a:lnTo>
                    <a:pt x="171" y="205"/>
                  </a:lnTo>
                  <a:lnTo>
                    <a:pt x="178" y="205"/>
                  </a:lnTo>
                  <a:lnTo>
                    <a:pt x="178" y="211"/>
                  </a:lnTo>
                  <a:lnTo>
                    <a:pt x="171" y="211"/>
                  </a:lnTo>
                  <a:lnTo>
                    <a:pt x="165" y="218"/>
                  </a:lnTo>
                  <a:lnTo>
                    <a:pt x="171" y="224"/>
                  </a:lnTo>
                  <a:lnTo>
                    <a:pt x="184" y="218"/>
                  </a:lnTo>
                  <a:lnTo>
                    <a:pt x="184" y="211"/>
                  </a:lnTo>
                  <a:lnTo>
                    <a:pt x="184" y="205"/>
                  </a:lnTo>
                  <a:lnTo>
                    <a:pt x="190" y="199"/>
                  </a:lnTo>
                  <a:lnTo>
                    <a:pt x="197" y="199"/>
                  </a:lnTo>
                  <a:lnTo>
                    <a:pt x="203" y="193"/>
                  </a:lnTo>
                  <a:lnTo>
                    <a:pt x="203" y="199"/>
                  </a:lnTo>
                  <a:lnTo>
                    <a:pt x="197" y="205"/>
                  </a:lnTo>
                  <a:lnTo>
                    <a:pt x="203" y="205"/>
                  </a:lnTo>
                  <a:lnTo>
                    <a:pt x="209" y="205"/>
                  </a:lnTo>
                  <a:lnTo>
                    <a:pt x="209" y="199"/>
                  </a:lnTo>
                  <a:lnTo>
                    <a:pt x="216" y="199"/>
                  </a:lnTo>
                  <a:lnTo>
                    <a:pt x="216" y="205"/>
                  </a:lnTo>
                  <a:lnTo>
                    <a:pt x="209" y="211"/>
                  </a:lnTo>
                  <a:lnTo>
                    <a:pt x="203" y="218"/>
                  </a:lnTo>
                  <a:lnTo>
                    <a:pt x="209" y="218"/>
                  </a:lnTo>
                  <a:lnTo>
                    <a:pt x="216" y="218"/>
                  </a:lnTo>
                  <a:lnTo>
                    <a:pt x="216" y="224"/>
                  </a:lnTo>
                  <a:lnTo>
                    <a:pt x="209" y="224"/>
                  </a:lnTo>
                  <a:lnTo>
                    <a:pt x="203" y="224"/>
                  </a:lnTo>
                  <a:lnTo>
                    <a:pt x="197" y="230"/>
                  </a:lnTo>
                  <a:lnTo>
                    <a:pt x="190" y="230"/>
                  </a:lnTo>
                  <a:lnTo>
                    <a:pt x="184" y="230"/>
                  </a:lnTo>
                  <a:lnTo>
                    <a:pt x="178" y="236"/>
                  </a:lnTo>
                  <a:lnTo>
                    <a:pt x="171" y="236"/>
                  </a:lnTo>
                  <a:lnTo>
                    <a:pt x="165" y="236"/>
                  </a:lnTo>
                  <a:lnTo>
                    <a:pt x="159" y="236"/>
                  </a:lnTo>
                  <a:lnTo>
                    <a:pt x="152" y="236"/>
                  </a:lnTo>
                  <a:lnTo>
                    <a:pt x="146" y="236"/>
                  </a:lnTo>
                  <a:lnTo>
                    <a:pt x="140" y="236"/>
                  </a:lnTo>
                  <a:lnTo>
                    <a:pt x="133" y="236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7" y="224"/>
                  </a:lnTo>
                  <a:lnTo>
                    <a:pt x="114" y="230"/>
                  </a:lnTo>
                  <a:lnTo>
                    <a:pt x="121" y="236"/>
                  </a:lnTo>
                  <a:lnTo>
                    <a:pt x="127" y="236"/>
                  </a:lnTo>
                  <a:lnTo>
                    <a:pt x="127" y="242"/>
                  </a:lnTo>
                  <a:lnTo>
                    <a:pt x="127" y="249"/>
                  </a:lnTo>
                  <a:lnTo>
                    <a:pt x="133" y="249"/>
                  </a:lnTo>
                  <a:lnTo>
                    <a:pt x="140" y="249"/>
                  </a:lnTo>
                  <a:lnTo>
                    <a:pt x="140" y="255"/>
                  </a:lnTo>
                  <a:lnTo>
                    <a:pt x="146" y="255"/>
                  </a:lnTo>
                  <a:lnTo>
                    <a:pt x="146" y="249"/>
                  </a:lnTo>
                  <a:lnTo>
                    <a:pt x="152" y="249"/>
                  </a:lnTo>
                  <a:lnTo>
                    <a:pt x="159" y="249"/>
                  </a:lnTo>
                  <a:lnTo>
                    <a:pt x="159" y="255"/>
                  </a:lnTo>
                  <a:lnTo>
                    <a:pt x="152" y="255"/>
                  </a:lnTo>
                  <a:lnTo>
                    <a:pt x="146" y="255"/>
                  </a:lnTo>
                  <a:lnTo>
                    <a:pt x="146" y="261"/>
                  </a:lnTo>
                  <a:lnTo>
                    <a:pt x="152" y="267"/>
                  </a:lnTo>
                  <a:lnTo>
                    <a:pt x="146" y="267"/>
                  </a:lnTo>
                  <a:lnTo>
                    <a:pt x="140" y="267"/>
                  </a:lnTo>
                  <a:lnTo>
                    <a:pt x="140" y="274"/>
                  </a:lnTo>
                  <a:lnTo>
                    <a:pt x="146" y="274"/>
                  </a:lnTo>
                  <a:lnTo>
                    <a:pt x="152" y="274"/>
                  </a:lnTo>
                  <a:lnTo>
                    <a:pt x="152" y="280"/>
                  </a:lnTo>
                  <a:lnTo>
                    <a:pt x="146" y="280"/>
                  </a:lnTo>
                  <a:lnTo>
                    <a:pt x="140" y="280"/>
                  </a:lnTo>
                  <a:lnTo>
                    <a:pt x="133" y="280"/>
                  </a:lnTo>
                  <a:lnTo>
                    <a:pt x="133" y="286"/>
                  </a:lnTo>
                  <a:lnTo>
                    <a:pt x="127" y="280"/>
                  </a:lnTo>
                  <a:lnTo>
                    <a:pt x="121" y="280"/>
                  </a:lnTo>
                  <a:lnTo>
                    <a:pt x="114" y="280"/>
                  </a:lnTo>
                  <a:lnTo>
                    <a:pt x="127" y="292"/>
                  </a:lnTo>
                  <a:lnTo>
                    <a:pt x="127" y="298"/>
                  </a:lnTo>
                  <a:lnTo>
                    <a:pt x="133" y="292"/>
                  </a:lnTo>
                  <a:lnTo>
                    <a:pt x="140" y="292"/>
                  </a:lnTo>
                  <a:lnTo>
                    <a:pt x="140" y="298"/>
                  </a:lnTo>
                  <a:lnTo>
                    <a:pt x="140" y="305"/>
                  </a:lnTo>
                  <a:lnTo>
                    <a:pt x="146" y="305"/>
                  </a:lnTo>
                  <a:lnTo>
                    <a:pt x="140" y="292"/>
                  </a:lnTo>
                  <a:lnTo>
                    <a:pt x="146" y="286"/>
                  </a:lnTo>
                  <a:lnTo>
                    <a:pt x="152" y="292"/>
                  </a:lnTo>
                  <a:lnTo>
                    <a:pt x="152" y="298"/>
                  </a:lnTo>
                  <a:lnTo>
                    <a:pt x="159" y="292"/>
                  </a:lnTo>
                  <a:lnTo>
                    <a:pt x="159" y="286"/>
                  </a:lnTo>
                  <a:lnTo>
                    <a:pt x="165" y="292"/>
                  </a:lnTo>
                  <a:lnTo>
                    <a:pt x="171" y="292"/>
                  </a:lnTo>
                  <a:lnTo>
                    <a:pt x="171" y="280"/>
                  </a:lnTo>
                  <a:lnTo>
                    <a:pt x="171" y="274"/>
                  </a:lnTo>
                  <a:lnTo>
                    <a:pt x="178" y="267"/>
                  </a:lnTo>
                  <a:lnTo>
                    <a:pt x="184" y="267"/>
                  </a:lnTo>
                  <a:lnTo>
                    <a:pt x="190" y="267"/>
                  </a:lnTo>
                  <a:lnTo>
                    <a:pt x="197" y="267"/>
                  </a:lnTo>
                  <a:lnTo>
                    <a:pt x="203" y="267"/>
                  </a:lnTo>
                  <a:lnTo>
                    <a:pt x="209" y="261"/>
                  </a:lnTo>
                  <a:lnTo>
                    <a:pt x="216" y="255"/>
                  </a:lnTo>
                  <a:lnTo>
                    <a:pt x="222" y="255"/>
                  </a:lnTo>
                  <a:lnTo>
                    <a:pt x="229" y="255"/>
                  </a:lnTo>
                  <a:lnTo>
                    <a:pt x="229" y="261"/>
                  </a:lnTo>
                  <a:lnTo>
                    <a:pt x="229" y="274"/>
                  </a:lnTo>
                  <a:lnTo>
                    <a:pt x="222" y="274"/>
                  </a:lnTo>
                  <a:lnTo>
                    <a:pt x="216" y="267"/>
                  </a:lnTo>
                  <a:lnTo>
                    <a:pt x="209" y="274"/>
                  </a:lnTo>
                  <a:lnTo>
                    <a:pt x="209" y="280"/>
                  </a:lnTo>
                  <a:lnTo>
                    <a:pt x="203" y="280"/>
                  </a:lnTo>
                  <a:lnTo>
                    <a:pt x="197" y="286"/>
                  </a:lnTo>
                  <a:lnTo>
                    <a:pt x="197" y="292"/>
                  </a:lnTo>
                  <a:lnTo>
                    <a:pt x="197" y="298"/>
                  </a:lnTo>
                  <a:lnTo>
                    <a:pt x="190" y="298"/>
                  </a:lnTo>
                  <a:lnTo>
                    <a:pt x="190" y="305"/>
                  </a:lnTo>
                  <a:lnTo>
                    <a:pt x="197" y="298"/>
                  </a:lnTo>
                  <a:lnTo>
                    <a:pt x="203" y="305"/>
                  </a:lnTo>
                  <a:lnTo>
                    <a:pt x="197" y="311"/>
                  </a:lnTo>
                  <a:lnTo>
                    <a:pt x="197" y="317"/>
                  </a:lnTo>
                  <a:lnTo>
                    <a:pt x="190" y="317"/>
                  </a:lnTo>
                  <a:lnTo>
                    <a:pt x="184" y="317"/>
                  </a:lnTo>
                  <a:lnTo>
                    <a:pt x="178" y="317"/>
                  </a:lnTo>
                  <a:lnTo>
                    <a:pt x="178" y="323"/>
                  </a:lnTo>
                  <a:lnTo>
                    <a:pt x="184" y="330"/>
                  </a:lnTo>
                  <a:lnTo>
                    <a:pt x="190" y="330"/>
                  </a:lnTo>
                  <a:lnTo>
                    <a:pt x="197" y="323"/>
                  </a:lnTo>
                  <a:lnTo>
                    <a:pt x="203" y="323"/>
                  </a:lnTo>
                  <a:lnTo>
                    <a:pt x="209" y="317"/>
                  </a:lnTo>
                  <a:lnTo>
                    <a:pt x="209" y="311"/>
                  </a:lnTo>
                  <a:lnTo>
                    <a:pt x="209" y="298"/>
                  </a:lnTo>
                  <a:lnTo>
                    <a:pt x="203" y="292"/>
                  </a:lnTo>
                  <a:lnTo>
                    <a:pt x="216" y="286"/>
                  </a:lnTo>
                  <a:lnTo>
                    <a:pt x="229" y="280"/>
                  </a:lnTo>
                  <a:lnTo>
                    <a:pt x="229" y="286"/>
                  </a:lnTo>
                  <a:lnTo>
                    <a:pt x="222" y="292"/>
                  </a:lnTo>
                  <a:lnTo>
                    <a:pt x="222" y="298"/>
                  </a:lnTo>
                  <a:lnTo>
                    <a:pt x="229" y="298"/>
                  </a:lnTo>
                  <a:lnTo>
                    <a:pt x="235" y="292"/>
                  </a:lnTo>
                  <a:lnTo>
                    <a:pt x="235" y="280"/>
                  </a:lnTo>
                  <a:lnTo>
                    <a:pt x="241" y="274"/>
                  </a:lnTo>
                  <a:lnTo>
                    <a:pt x="248" y="274"/>
                  </a:lnTo>
                  <a:lnTo>
                    <a:pt x="248" y="292"/>
                  </a:lnTo>
                  <a:lnTo>
                    <a:pt x="254" y="280"/>
                  </a:lnTo>
                  <a:lnTo>
                    <a:pt x="260" y="286"/>
                  </a:lnTo>
                  <a:lnTo>
                    <a:pt x="260" y="292"/>
                  </a:lnTo>
                  <a:lnTo>
                    <a:pt x="267" y="286"/>
                  </a:lnTo>
                  <a:lnTo>
                    <a:pt x="273" y="286"/>
                  </a:lnTo>
                  <a:lnTo>
                    <a:pt x="273" y="292"/>
                  </a:lnTo>
                  <a:lnTo>
                    <a:pt x="279" y="292"/>
                  </a:lnTo>
                  <a:lnTo>
                    <a:pt x="279" y="286"/>
                  </a:lnTo>
                  <a:lnTo>
                    <a:pt x="279" y="280"/>
                  </a:lnTo>
                  <a:lnTo>
                    <a:pt x="286" y="280"/>
                  </a:lnTo>
                  <a:lnTo>
                    <a:pt x="292" y="280"/>
                  </a:lnTo>
                  <a:lnTo>
                    <a:pt x="292" y="274"/>
                  </a:lnTo>
                  <a:lnTo>
                    <a:pt x="298" y="274"/>
                  </a:lnTo>
                  <a:lnTo>
                    <a:pt x="298" y="280"/>
                  </a:lnTo>
                  <a:lnTo>
                    <a:pt x="292" y="286"/>
                  </a:lnTo>
                  <a:lnTo>
                    <a:pt x="286" y="286"/>
                  </a:lnTo>
                  <a:lnTo>
                    <a:pt x="279" y="292"/>
                  </a:lnTo>
                  <a:lnTo>
                    <a:pt x="286" y="292"/>
                  </a:lnTo>
                  <a:lnTo>
                    <a:pt x="292" y="292"/>
                  </a:lnTo>
                  <a:lnTo>
                    <a:pt x="298" y="292"/>
                  </a:lnTo>
                  <a:lnTo>
                    <a:pt x="305" y="305"/>
                  </a:lnTo>
                  <a:lnTo>
                    <a:pt x="305" y="298"/>
                  </a:lnTo>
                  <a:lnTo>
                    <a:pt x="305" y="292"/>
                  </a:lnTo>
                  <a:lnTo>
                    <a:pt x="305" y="286"/>
                  </a:lnTo>
                  <a:lnTo>
                    <a:pt x="311" y="292"/>
                  </a:lnTo>
                  <a:lnTo>
                    <a:pt x="311" y="298"/>
                  </a:lnTo>
                  <a:lnTo>
                    <a:pt x="318" y="298"/>
                  </a:lnTo>
                  <a:lnTo>
                    <a:pt x="318" y="305"/>
                  </a:lnTo>
                  <a:lnTo>
                    <a:pt x="324" y="311"/>
                  </a:lnTo>
                  <a:lnTo>
                    <a:pt x="324" y="317"/>
                  </a:lnTo>
                  <a:lnTo>
                    <a:pt x="330" y="323"/>
                  </a:lnTo>
                  <a:lnTo>
                    <a:pt x="324" y="330"/>
                  </a:lnTo>
                  <a:lnTo>
                    <a:pt x="318" y="330"/>
                  </a:lnTo>
                  <a:lnTo>
                    <a:pt x="318" y="323"/>
                  </a:lnTo>
                  <a:lnTo>
                    <a:pt x="311" y="317"/>
                  </a:lnTo>
                  <a:lnTo>
                    <a:pt x="305" y="323"/>
                  </a:lnTo>
                  <a:lnTo>
                    <a:pt x="311" y="330"/>
                  </a:lnTo>
                  <a:lnTo>
                    <a:pt x="311" y="342"/>
                  </a:lnTo>
                  <a:lnTo>
                    <a:pt x="311" y="348"/>
                  </a:lnTo>
                  <a:lnTo>
                    <a:pt x="318" y="342"/>
                  </a:lnTo>
                  <a:lnTo>
                    <a:pt x="318" y="336"/>
                  </a:lnTo>
                  <a:lnTo>
                    <a:pt x="324" y="342"/>
                  </a:lnTo>
                  <a:lnTo>
                    <a:pt x="324" y="336"/>
                  </a:lnTo>
                  <a:lnTo>
                    <a:pt x="330" y="342"/>
                  </a:lnTo>
                  <a:lnTo>
                    <a:pt x="337" y="342"/>
                  </a:lnTo>
                  <a:lnTo>
                    <a:pt x="343" y="348"/>
                  </a:lnTo>
                  <a:lnTo>
                    <a:pt x="337" y="348"/>
                  </a:lnTo>
                  <a:lnTo>
                    <a:pt x="330" y="354"/>
                  </a:lnTo>
                  <a:lnTo>
                    <a:pt x="324" y="354"/>
                  </a:lnTo>
                  <a:lnTo>
                    <a:pt x="318" y="354"/>
                  </a:lnTo>
                  <a:lnTo>
                    <a:pt x="318" y="361"/>
                  </a:lnTo>
                  <a:lnTo>
                    <a:pt x="324" y="361"/>
                  </a:lnTo>
                  <a:lnTo>
                    <a:pt x="330" y="361"/>
                  </a:lnTo>
                  <a:lnTo>
                    <a:pt x="337" y="367"/>
                  </a:lnTo>
                  <a:lnTo>
                    <a:pt x="330" y="367"/>
                  </a:lnTo>
                  <a:lnTo>
                    <a:pt x="330" y="373"/>
                  </a:lnTo>
                  <a:lnTo>
                    <a:pt x="330" y="379"/>
                  </a:lnTo>
                  <a:lnTo>
                    <a:pt x="330" y="386"/>
                  </a:lnTo>
                  <a:lnTo>
                    <a:pt x="324" y="379"/>
                  </a:lnTo>
                  <a:lnTo>
                    <a:pt x="324" y="386"/>
                  </a:lnTo>
                  <a:lnTo>
                    <a:pt x="318" y="379"/>
                  </a:lnTo>
                  <a:lnTo>
                    <a:pt x="311" y="373"/>
                  </a:lnTo>
                  <a:lnTo>
                    <a:pt x="305" y="367"/>
                  </a:lnTo>
                  <a:lnTo>
                    <a:pt x="298" y="373"/>
                  </a:lnTo>
                  <a:lnTo>
                    <a:pt x="305" y="379"/>
                  </a:lnTo>
                  <a:lnTo>
                    <a:pt x="298" y="379"/>
                  </a:lnTo>
                  <a:lnTo>
                    <a:pt x="298" y="386"/>
                  </a:lnTo>
                  <a:lnTo>
                    <a:pt x="292" y="386"/>
                  </a:lnTo>
                  <a:lnTo>
                    <a:pt x="292" y="392"/>
                  </a:lnTo>
                  <a:lnTo>
                    <a:pt x="286" y="386"/>
                  </a:lnTo>
                  <a:lnTo>
                    <a:pt x="279" y="386"/>
                  </a:lnTo>
                  <a:lnTo>
                    <a:pt x="279" y="392"/>
                  </a:lnTo>
                  <a:lnTo>
                    <a:pt x="292" y="398"/>
                  </a:lnTo>
                  <a:lnTo>
                    <a:pt x="286" y="398"/>
                  </a:lnTo>
                  <a:lnTo>
                    <a:pt x="273" y="392"/>
                  </a:lnTo>
                  <a:lnTo>
                    <a:pt x="267" y="386"/>
                  </a:lnTo>
                  <a:lnTo>
                    <a:pt x="260" y="392"/>
                  </a:lnTo>
                  <a:lnTo>
                    <a:pt x="267" y="398"/>
                  </a:lnTo>
                  <a:lnTo>
                    <a:pt x="267" y="392"/>
                  </a:lnTo>
                  <a:lnTo>
                    <a:pt x="273" y="398"/>
                  </a:lnTo>
                  <a:lnTo>
                    <a:pt x="279" y="404"/>
                  </a:lnTo>
                  <a:lnTo>
                    <a:pt x="286" y="404"/>
                  </a:lnTo>
                  <a:lnTo>
                    <a:pt x="292" y="410"/>
                  </a:lnTo>
                  <a:lnTo>
                    <a:pt x="298" y="410"/>
                  </a:lnTo>
                  <a:lnTo>
                    <a:pt x="298" y="417"/>
                  </a:lnTo>
                  <a:lnTo>
                    <a:pt x="292" y="417"/>
                  </a:lnTo>
                  <a:lnTo>
                    <a:pt x="286" y="417"/>
                  </a:lnTo>
                  <a:lnTo>
                    <a:pt x="279" y="417"/>
                  </a:lnTo>
                  <a:lnTo>
                    <a:pt x="279" y="423"/>
                  </a:lnTo>
                  <a:lnTo>
                    <a:pt x="273" y="423"/>
                  </a:lnTo>
                  <a:lnTo>
                    <a:pt x="267" y="423"/>
                  </a:lnTo>
                  <a:lnTo>
                    <a:pt x="260" y="429"/>
                  </a:lnTo>
                  <a:lnTo>
                    <a:pt x="260" y="423"/>
                  </a:lnTo>
                  <a:lnTo>
                    <a:pt x="254" y="423"/>
                  </a:lnTo>
                  <a:lnTo>
                    <a:pt x="248" y="423"/>
                  </a:lnTo>
                  <a:lnTo>
                    <a:pt x="248" y="429"/>
                  </a:lnTo>
                  <a:lnTo>
                    <a:pt x="241" y="423"/>
                  </a:lnTo>
                  <a:lnTo>
                    <a:pt x="235" y="423"/>
                  </a:lnTo>
                  <a:lnTo>
                    <a:pt x="235" y="429"/>
                  </a:lnTo>
                  <a:lnTo>
                    <a:pt x="241" y="429"/>
                  </a:lnTo>
                  <a:lnTo>
                    <a:pt x="254" y="435"/>
                  </a:lnTo>
                  <a:lnTo>
                    <a:pt x="260" y="435"/>
                  </a:lnTo>
                  <a:lnTo>
                    <a:pt x="267" y="435"/>
                  </a:lnTo>
                  <a:lnTo>
                    <a:pt x="273" y="435"/>
                  </a:lnTo>
                  <a:lnTo>
                    <a:pt x="273" y="429"/>
                  </a:lnTo>
                  <a:lnTo>
                    <a:pt x="279" y="429"/>
                  </a:lnTo>
                  <a:lnTo>
                    <a:pt x="286" y="429"/>
                  </a:lnTo>
                  <a:lnTo>
                    <a:pt x="292" y="423"/>
                  </a:lnTo>
                  <a:lnTo>
                    <a:pt x="292" y="429"/>
                  </a:lnTo>
                  <a:lnTo>
                    <a:pt x="298" y="429"/>
                  </a:lnTo>
                  <a:lnTo>
                    <a:pt x="305" y="423"/>
                  </a:lnTo>
                  <a:lnTo>
                    <a:pt x="305" y="429"/>
                  </a:lnTo>
                  <a:lnTo>
                    <a:pt x="305" y="435"/>
                  </a:lnTo>
                  <a:lnTo>
                    <a:pt x="305" y="442"/>
                  </a:lnTo>
                  <a:lnTo>
                    <a:pt x="298" y="442"/>
                  </a:lnTo>
                  <a:lnTo>
                    <a:pt x="292" y="442"/>
                  </a:lnTo>
                  <a:lnTo>
                    <a:pt x="292" y="448"/>
                  </a:lnTo>
                  <a:lnTo>
                    <a:pt x="286" y="448"/>
                  </a:lnTo>
                  <a:lnTo>
                    <a:pt x="292" y="454"/>
                  </a:lnTo>
                  <a:lnTo>
                    <a:pt x="298" y="448"/>
                  </a:lnTo>
                  <a:lnTo>
                    <a:pt x="305" y="454"/>
                  </a:lnTo>
                  <a:lnTo>
                    <a:pt x="298" y="460"/>
                  </a:lnTo>
                  <a:lnTo>
                    <a:pt x="292" y="460"/>
                  </a:lnTo>
                  <a:lnTo>
                    <a:pt x="298" y="467"/>
                  </a:lnTo>
                  <a:lnTo>
                    <a:pt x="286" y="467"/>
                  </a:lnTo>
                  <a:lnTo>
                    <a:pt x="292" y="473"/>
                  </a:lnTo>
                  <a:lnTo>
                    <a:pt x="286" y="479"/>
                  </a:lnTo>
                  <a:lnTo>
                    <a:pt x="286" y="473"/>
                  </a:lnTo>
                  <a:lnTo>
                    <a:pt x="286" y="467"/>
                  </a:lnTo>
                  <a:lnTo>
                    <a:pt x="279" y="467"/>
                  </a:lnTo>
                  <a:lnTo>
                    <a:pt x="273" y="473"/>
                  </a:lnTo>
                  <a:lnTo>
                    <a:pt x="273" y="467"/>
                  </a:lnTo>
                  <a:lnTo>
                    <a:pt x="267" y="467"/>
                  </a:lnTo>
                  <a:lnTo>
                    <a:pt x="267" y="460"/>
                  </a:lnTo>
                  <a:lnTo>
                    <a:pt x="260" y="460"/>
                  </a:lnTo>
                  <a:lnTo>
                    <a:pt x="254" y="454"/>
                  </a:lnTo>
                  <a:lnTo>
                    <a:pt x="254" y="460"/>
                  </a:lnTo>
                  <a:lnTo>
                    <a:pt x="248" y="460"/>
                  </a:lnTo>
                  <a:lnTo>
                    <a:pt x="241" y="467"/>
                  </a:lnTo>
                  <a:lnTo>
                    <a:pt x="235" y="467"/>
                  </a:lnTo>
                  <a:lnTo>
                    <a:pt x="229" y="467"/>
                  </a:lnTo>
                  <a:lnTo>
                    <a:pt x="222" y="460"/>
                  </a:lnTo>
                  <a:lnTo>
                    <a:pt x="216" y="460"/>
                  </a:lnTo>
                  <a:lnTo>
                    <a:pt x="222" y="467"/>
                  </a:lnTo>
                  <a:lnTo>
                    <a:pt x="229" y="473"/>
                  </a:lnTo>
                  <a:lnTo>
                    <a:pt x="235" y="473"/>
                  </a:lnTo>
                  <a:lnTo>
                    <a:pt x="241" y="479"/>
                  </a:lnTo>
                  <a:lnTo>
                    <a:pt x="248" y="473"/>
                  </a:lnTo>
                  <a:lnTo>
                    <a:pt x="254" y="473"/>
                  </a:lnTo>
                  <a:lnTo>
                    <a:pt x="260" y="473"/>
                  </a:lnTo>
                  <a:lnTo>
                    <a:pt x="267" y="479"/>
                  </a:lnTo>
                  <a:lnTo>
                    <a:pt x="273" y="485"/>
                  </a:lnTo>
                  <a:lnTo>
                    <a:pt x="267" y="485"/>
                  </a:lnTo>
                  <a:lnTo>
                    <a:pt x="260" y="485"/>
                  </a:lnTo>
                  <a:lnTo>
                    <a:pt x="254" y="491"/>
                  </a:lnTo>
                  <a:lnTo>
                    <a:pt x="248" y="485"/>
                  </a:lnTo>
                  <a:lnTo>
                    <a:pt x="248" y="491"/>
                  </a:lnTo>
                  <a:lnTo>
                    <a:pt x="241" y="491"/>
                  </a:lnTo>
                  <a:lnTo>
                    <a:pt x="235" y="498"/>
                  </a:lnTo>
                  <a:lnTo>
                    <a:pt x="229" y="498"/>
                  </a:lnTo>
                  <a:lnTo>
                    <a:pt x="216" y="491"/>
                  </a:lnTo>
                  <a:lnTo>
                    <a:pt x="209" y="491"/>
                  </a:lnTo>
                  <a:lnTo>
                    <a:pt x="209" y="498"/>
                  </a:lnTo>
                  <a:lnTo>
                    <a:pt x="203" y="504"/>
                  </a:lnTo>
                  <a:lnTo>
                    <a:pt x="209" y="504"/>
                  </a:lnTo>
                  <a:lnTo>
                    <a:pt x="216" y="498"/>
                  </a:lnTo>
                  <a:lnTo>
                    <a:pt x="222" y="504"/>
                  </a:lnTo>
                  <a:lnTo>
                    <a:pt x="222" y="510"/>
                  </a:lnTo>
                  <a:lnTo>
                    <a:pt x="222" y="504"/>
                  </a:lnTo>
                  <a:lnTo>
                    <a:pt x="229" y="504"/>
                  </a:lnTo>
                  <a:lnTo>
                    <a:pt x="235" y="504"/>
                  </a:lnTo>
                  <a:lnTo>
                    <a:pt x="248" y="504"/>
                  </a:lnTo>
                  <a:lnTo>
                    <a:pt x="241" y="510"/>
                  </a:lnTo>
                  <a:lnTo>
                    <a:pt x="248" y="510"/>
                  </a:lnTo>
                  <a:lnTo>
                    <a:pt x="254" y="510"/>
                  </a:lnTo>
                  <a:lnTo>
                    <a:pt x="254" y="504"/>
                  </a:lnTo>
                  <a:lnTo>
                    <a:pt x="260" y="504"/>
                  </a:lnTo>
                  <a:lnTo>
                    <a:pt x="260" y="498"/>
                  </a:lnTo>
                  <a:lnTo>
                    <a:pt x="267" y="498"/>
                  </a:lnTo>
                  <a:lnTo>
                    <a:pt x="273" y="498"/>
                  </a:lnTo>
                  <a:lnTo>
                    <a:pt x="273" y="504"/>
                  </a:lnTo>
                  <a:lnTo>
                    <a:pt x="273" y="516"/>
                  </a:lnTo>
                  <a:lnTo>
                    <a:pt x="279" y="516"/>
                  </a:lnTo>
                  <a:lnTo>
                    <a:pt x="279" y="510"/>
                  </a:lnTo>
                  <a:lnTo>
                    <a:pt x="286" y="510"/>
                  </a:lnTo>
                  <a:lnTo>
                    <a:pt x="279" y="504"/>
                  </a:lnTo>
                  <a:lnTo>
                    <a:pt x="279" y="498"/>
                  </a:lnTo>
                  <a:lnTo>
                    <a:pt x="286" y="498"/>
                  </a:lnTo>
                  <a:lnTo>
                    <a:pt x="292" y="498"/>
                  </a:lnTo>
                  <a:lnTo>
                    <a:pt x="292" y="491"/>
                  </a:lnTo>
                  <a:lnTo>
                    <a:pt x="286" y="491"/>
                  </a:lnTo>
                  <a:lnTo>
                    <a:pt x="292" y="485"/>
                  </a:lnTo>
                  <a:lnTo>
                    <a:pt x="298" y="491"/>
                  </a:lnTo>
                  <a:lnTo>
                    <a:pt x="298" y="485"/>
                  </a:lnTo>
                  <a:lnTo>
                    <a:pt x="305" y="485"/>
                  </a:lnTo>
                  <a:lnTo>
                    <a:pt x="305" y="479"/>
                  </a:lnTo>
                  <a:lnTo>
                    <a:pt x="305" y="473"/>
                  </a:lnTo>
                  <a:lnTo>
                    <a:pt x="311" y="479"/>
                  </a:lnTo>
                  <a:lnTo>
                    <a:pt x="311" y="491"/>
                  </a:lnTo>
                  <a:lnTo>
                    <a:pt x="318" y="485"/>
                  </a:lnTo>
                  <a:lnTo>
                    <a:pt x="318" y="479"/>
                  </a:lnTo>
                  <a:lnTo>
                    <a:pt x="318" y="473"/>
                  </a:lnTo>
                  <a:lnTo>
                    <a:pt x="318" y="467"/>
                  </a:lnTo>
                  <a:lnTo>
                    <a:pt x="324" y="473"/>
                  </a:lnTo>
                  <a:lnTo>
                    <a:pt x="330" y="473"/>
                  </a:lnTo>
                  <a:lnTo>
                    <a:pt x="330" y="479"/>
                  </a:lnTo>
                  <a:lnTo>
                    <a:pt x="324" y="479"/>
                  </a:lnTo>
                  <a:lnTo>
                    <a:pt x="324" y="485"/>
                  </a:lnTo>
                  <a:lnTo>
                    <a:pt x="324" y="491"/>
                  </a:lnTo>
                  <a:lnTo>
                    <a:pt x="324" y="498"/>
                  </a:lnTo>
                  <a:lnTo>
                    <a:pt x="330" y="504"/>
                  </a:lnTo>
                  <a:lnTo>
                    <a:pt x="337" y="498"/>
                  </a:lnTo>
                  <a:lnTo>
                    <a:pt x="343" y="498"/>
                  </a:lnTo>
                  <a:lnTo>
                    <a:pt x="337" y="504"/>
                  </a:lnTo>
                  <a:lnTo>
                    <a:pt x="330" y="510"/>
                  </a:lnTo>
                  <a:lnTo>
                    <a:pt x="324" y="510"/>
                  </a:lnTo>
                  <a:lnTo>
                    <a:pt x="324" y="516"/>
                  </a:lnTo>
                  <a:lnTo>
                    <a:pt x="330" y="516"/>
                  </a:lnTo>
                  <a:lnTo>
                    <a:pt x="330" y="523"/>
                  </a:lnTo>
                  <a:lnTo>
                    <a:pt x="337" y="523"/>
                  </a:lnTo>
                  <a:lnTo>
                    <a:pt x="337" y="529"/>
                  </a:lnTo>
                  <a:lnTo>
                    <a:pt x="337" y="535"/>
                  </a:lnTo>
                  <a:lnTo>
                    <a:pt x="330" y="541"/>
                  </a:lnTo>
                  <a:lnTo>
                    <a:pt x="324" y="547"/>
                  </a:lnTo>
                  <a:lnTo>
                    <a:pt x="318" y="547"/>
                  </a:lnTo>
                  <a:lnTo>
                    <a:pt x="318" y="554"/>
                  </a:lnTo>
                  <a:lnTo>
                    <a:pt x="318" y="560"/>
                  </a:lnTo>
                  <a:lnTo>
                    <a:pt x="318" y="566"/>
                  </a:lnTo>
                  <a:lnTo>
                    <a:pt x="318" y="579"/>
                  </a:lnTo>
                  <a:lnTo>
                    <a:pt x="324" y="572"/>
                  </a:lnTo>
                  <a:lnTo>
                    <a:pt x="324" y="579"/>
                  </a:lnTo>
                  <a:lnTo>
                    <a:pt x="324" y="585"/>
                  </a:lnTo>
                  <a:lnTo>
                    <a:pt x="324" y="591"/>
                  </a:lnTo>
                  <a:lnTo>
                    <a:pt x="330" y="585"/>
                  </a:lnTo>
                  <a:lnTo>
                    <a:pt x="337" y="591"/>
                  </a:lnTo>
                  <a:lnTo>
                    <a:pt x="337" y="597"/>
                  </a:lnTo>
                  <a:lnTo>
                    <a:pt x="330" y="597"/>
                  </a:lnTo>
                  <a:lnTo>
                    <a:pt x="330" y="603"/>
                  </a:lnTo>
                  <a:lnTo>
                    <a:pt x="324" y="610"/>
                  </a:lnTo>
                  <a:lnTo>
                    <a:pt x="318" y="610"/>
                  </a:lnTo>
                  <a:lnTo>
                    <a:pt x="324" y="610"/>
                  </a:lnTo>
                  <a:lnTo>
                    <a:pt x="330" y="610"/>
                  </a:lnTo>
                  <a:lnTo>
                    <a:pt x="330" y="616"/>
                  </a:lnTo>
                  <a:lnTo>
                    <a:pt x="337" y="616"/>
                  </a:lnTo>
                  <a:lnTo>
                    <a:pt x="337" y="622"/>
                  </a:lnTo>
                  <a:lnTo>
                    <a:pt x="337" y="628"/>
                  </a:lnTo>
                  <a:lnTo>
                    <a:pt x="343" y="628"/>
                  </a:lnTo>
                  <a:lnTo>
                    <a:pt x="349" y="628"/>
                  </a:lnTo>
                  <a:lnTo>
                    <a:pt x="349" y="635"/>
                  </a:lnTo>
                  <a:lnTo>
                    <a:pt x="356" y="628"/>
                  </a:lnTo>
                  <a:lnTo>
                    <a:pt x="356" y="635"/>
                  </a:lnTo>
                  <a:lnTo>
                    <a:pt x="362" y="635"/>
                  </a:lnTo>
                  <a:lnTo>
                    <a:pt x="362" y="641"/>
                  </a:lnTo>
                  <a:lnTo>
                    <a:pt x="368" y="647"/>
                  </a:lnTo>
                  <a:lnTo>
                    <a:pt x="362" y="647"/>
                  </a:lnTo>
                  <a:lnTo>
                    <a:pt x="362" y="653"/>
                  </a:lnTo>
                  <a:lnTo>
                    <a:pt x="362" y="659"/>
                  </a:lnTo>
                  <a:lnTo>
                    <a:pt x="368" y="659"/>
                  </a:lnTo>
                  <a:lnTo>
                    <a:pt x="375" y="659"/>
                  </a:lnTo>
                  <a:lnTo>
                    <a:pt x="375" y="666"/>
                  </a:lnTo>
                  <a:lnTo>
                    <a:pt x="375" y="672"/>
                  </a:lnTo>
                  <a:lnTo>
                    <a:pt x="387" y="678"/>
                  </a:lnTo>
                  <a:lnTo>
                    <a:pt x="394" y="678"/>
                  </a:lnTo>
                  <a:lnTo>
                    <a:pt x="394" y="684"/>
                  </a:lnTo>
                  <a:lnTo>
                    <a:pt x="394" y="691"/>
                  </a:lnTo>
                  <a:lnTo>
                    <a:pt x="387" y="691"/>
                  </a:lnTo>
                  <a:lnTo>
                    <a:pt x="394" y="697"/>
                  </a:lnTo>
                  <a:lnTo>
                    <a:pt x="400" y="691"/>
                  </a:lnTo>
                  <a:lnTo>
                    <a:pt x="407" y="691"/>
                  </a:lnTo>
                  <a:lnTo>
                    <a:pt x="400" y="697"/>
                  </a:lnTo>
                  <a:lnTo>
                    <a:pt x="400" y="703"/>
                  </a:lnTo>
                  <a:lnTo>
                    <a:pt x="400" y="715"/>
                  </a:lnTo>
                  <a:lnTo>
                    <a:pt x="400" y="722"/>
                  </a:lnTo>
                  <a:lnTo>
                    <a:pt x="400" y="728"/>
                  </a:lnTo>
                  <a:lnTo>
                    <a:pt x="400" y="734"/>
                  </a:lnTo>
                  <a:lnTo>
                    <a:pt x="394" y="734"/>
                  </a:lnTo>
                  <a:lnTo>
                    <a:pt x="387" y="728"/>
                  </a:lnTo>
                  <a:lnTo>
                    <a:pt x="381" y="728"/>
                  </a:lnTo>
                  <a:lnTo>
                    <a:pt x="381" y="734"/>
                  </a:lnTo>
                  <a:lnTo>
                    <a:pt x="381" y="740"/>
                  </a:lnTo>
                  <a:lnTo>
                    <a:pt x="381" y="747"/>
                  </a:lnTo>
                  <a:lnTo>
                    <a:pt x="381" y="753"/>
                  </a:lnTo>
                  <a:lnTo>
                    <a:pt x="381" y="759"/>
                  </a:lnTo>
                  <a:lnTo>
                    <a:pt x="375" y="759"/>
                  </a:lnTo>
                  <a:lnTo>
                    <a:pt x="375" y="765"/>
                  </a:lnTo>
                  <a:lnTo>
                    <a:pt x="381" y="765"/>
                  </a:lnTo>
                  <a:lnTo>
                    <a:pt x="387" y="765"/>
                  </a:lnTo>
                  <a:lnTo>
                    <a:pt x="387" y="772"/>
                  </a:lnTo>
                  <a:lnTo>
                    <a:pt x="387" y="778"/>
                  </a:lnTo>
                  <a:lnTo>
                    <a:pt x="381" y="784"/>
                  </a:lnTo>
                  <a:lnTo>
                    <a:pt x="381" y="790"/>
                  </a:lnTo>
                  <a:lnTo>
                    <a:pt x="375" y="790"/>
                  </a:lnTo>
                  <a:lnTo>
                    <a:pt x="375" y="796"/>
                  </a:lnTo>
                  <a:lnTo>
                    <a:pt x="381" y="796"/>
                  </a:lnTo>
                  <a:lnTo>
                    <a:pt x="381" y="803"/>
                  </a:lnTo>
                  <a:lnTo>
                    <a:pt x="387" y="803"/>
                  </a:lnTo>
                  <a:lnTo>
                    <a:pt x="387" y="809"/>
                  </a:lnTo>
                  <a:lnTo>
                    <a:pt x="387" y="815"/>
                  </a:lnTo>
                  <a:lnTo>
                    <a:pt x="387" y="821"/>
                  </a:lnTo>
                  <a:lnTo>
                    <a:pt x="387" y="828"/>
                  </a:lnTo>
                  <a:lnTo>
                    <a:pt x="387" y="834"/>
                  </a:lnTo>
                  <a:lnTo>
                    <a:pt x="387" y="840"/>
                  </a:lnTo>
                  <a:lnTo>
                    <a:pt x="381" y="846"/>
                  </a:lnTo>
                  <a:lnTo>
                    <a:pt x="375" y="846"/>
                  </a:lnTo>
                  <a:lnTo>
                    <a:pt x="375" y="852"/>
                  </a:lnTo>
                  <a:lnTo>
                    <a:pt x="368" y="852"/>
                  </a:lnTo>
                  <a:lnTo>
                    <a:pt x="362" y="852"/>
                  </a:lnTo>
                  <a:lnTo>
                    <a:pt x="356" y="852"/>
                  </a:lnTo>
                  <a:lnTo>
                    <a:pt x="349" y="859"/>
                  </a:lnTo>
                  <a:lnTo>
                    <a:pt x="356" y="865"/>
                  </a:lnTo>
                  <a:lnTo>
                    <a:pt x="356" y="871"/>
                  </a:lnTo>
                  <a:lnTo>
                    <a:pt x="349" y="871"/>
                  </a:lnTo>
                  <a:lnTo>
                    <a:pt x="343" y="865"/>
                  </a:lnTo>
                  <a:lnTo>
                    <a:pt x="337" y="865"/>
                  </a:lnTo>
                  <a:lnTo>
                    <a:pt x="330" y="865"/>
                  </a:lnTo>
                  <a:lnTo>
                    <a:pt x="330" y="871"/>
                  </a:lnTo>
                  <a:lnTo>
                    <a:pt x="337" y="871"/>
                  </a:lnTo>
                  <a:lnTo>
                    <a:pt x="343" y="877"/>
                  </a:lnTo>
                  <a:lnTo>
                    <a:pt x="343" y="884"/>
                  </a:lnTo>
                  <a:lnTo>
                    <a:pt x="337" y="884"/>
                  </a:lnTo>
                  <a:lnTo>
                    <a:pt x="330" y="884"/>
                  </a:lnTo>
                  <a:lnTo>
                    <a:pt x="324" y="884"/>
                  </a:lnTo>
                  <a:lnTo>
                    <a:pt x="330" y="890"/>
                  </a:lnTo>
                  <a:lnTo>
                    <a:pt x="337" y="890"/>
                  </a:lnTo>
                  <a:lnTo>
                    <a:pt x="343" y="896"/>
                  </a:lnTo>
                  <a:lnTo>
                    <a:pt x="337" y="896"/>
                  </a:lnTo>
                  <a:lnTo>
                    <a:pt x="337" y="902"/>
                  </a:lnTo>
                  <a:lnTo>
                    <a:pt x="337" y="908"/>
                  </a:lnTo>
                  <a:lnTo>
                    <a:pt x="343" y="908"/>
                  </a:lnTo>
                  <a:lnTo>
                    <a:pt x="343" y="915"/>
                  </a:lnTo>
                  <a:lnTo>
                    <a:pt x="349" y="915"/>
                  </a:lnTo>
                  <a:lnTo>
                    <a:pt x="349" y="927"/>
                  </a:lnTo>
                  <a:lnTo>
                    <a:pt x="356" y="927"/>
                  </a:lnTo>
                  <a:lnTo>
                    <a:pt x="356" y="933"/>
                  </a:lnTo>
                  <a:lnTo>
                    <a:pt x="362" y="927"/>
                  </a:lnTo>
                  <a:lnTo>
                    <a:pt x="368" y="921"/>
                  </a:lnTo>
                  <a:lnTo>
                    <a:pt x="368" y="927"/>
                  </a:lnTo>
                  <a:lnTo>
                    <a:pt x="368" y="933"/>
                  </a:lnTo>
                  <a:lnTo>
                    <a:pt x="368" y="940"/>
                  </a:lnTo>
                  <a:lnTo>
                    <a:pt x="368" y="946"/>
                  </a:lnTo>
                  <a:lnTo>
                    <a:pt x="375" y="946"/>
                  </a:lnTo>
                  <a:lnTo>
                    <a:pt x="381" y="952"/>
                  </a:lnTo>
                  <a:lnTo>
                    <a:pt x="381" y="958"/>
                  </a:lnTo>
                  <a:lnTo>
                    <a:pt x="387" y="964"/>
                  </a:lnTo>
                  <a:lnTo>
                    <a:pt x="394" y="964"/>
                  </a:lnTo>
                  <a:lnTo>
                    <a:pt x="394" y="971"/>
                  </a:lnTo>
                  <a:lnTo>
                    <a:pt x="394" y="977"/>
                  </a:lnTo>
                  <a:lnTo>
                    <a:pt x="400" y="977"/>
                  </a:lnTo>
                  <a:lnTo>
                    <a:pt x="407" y="977"/>
                  </a:lnTo>
                  <a:lnTo>
                    <a:pt x="413" y="983"/>
                  </a:lnTo>
                  <a:lnTo>
                    <a:pt x="419" y="989"/>
                  </a:lnTo>
                  <a:lnTo>
                    <a:pt x="426" y="983"/>
                  </a:lnTo>
                  <a:lnTo>
                    <a:pt x="426" y="977"/>
                  </a:lnTo>
                  <a:lnTo>
                    <a:pt x="432" y="977"/>
                  </a:lnTo>
                  <a:lnTo>
                    <a:pt x="426" y="971"/>
                  </a:lnTo>
                  <a:lnTo>
                    <a:pt x="432" y="971"/>
                  </a:lnTo>
                  <a:lnTo>
                    <a:pt x="432" y="977"/>
                  </a:lnTo>
                  <a:lnTo>
                    <a:pt x="438" y="977"/>
                  </a:lnTo>
                  <a:lnTo>
                    <a:pt x="445" y="983"/>
                  </a:lnTo>
                  <a:lnTo>
                    <a:pt x="438" y="989"/>
                  </a:lnTo>
                  <a:lnTo>
                    <a:pt x="445" y="989"/>
                  </a:lnTo>
                  <a:lnTo>
                    <a:pt x="451" y="996"/>
                  </a:lnTo>
                  <a:lnTo>
                    <a:pt x="445" y="996"/>
                  </a:lnTo>
                  <a:lnTo>
                    <a:pt x="438" y="996"/>
                  </a:lnTo>
                  <a:lnTo>
                    <a:pt x="432" y="996"/>
                  </a:lnTo>
                  <a:lnTo>
                    <a:pt x="432" y="1002"/>
                  </a:lnTo>
                  <a:lnTo>
                    <a:pt x="438" y="1008"/>
                  </a:lnTo>
                  <a:lnTo>
                    <a:pt x="445" y="1008"/>
                  </a:lnTo>
                  <a:lnTo>
                    <a:pt x="451" y="1008"/>
                  </a:lnTo>
                  <a:lnTo>
                    <a:pt x="457" y="1008"/>
                  </a:lnTo>
                  <a:lnTo>
                    <a:pt x="457" y="1014"/>
                  </a:lnTo>
                  <a:lnTo>
                    <a:pt x="451" y="1014"/>
                  </a:lnTo>
                  <a:lnTo>
                    <a:pt x="457" y="1021"/>
                  </a:lnTo>
                  <a:lnTo>
                    <a:pt x="457" y="1027"/>
                  </a:lnTo>
                  <a:lnTo>
                    <a:pt x="451" y="1027"/>
                  </a:lnTo>
                  <a:lnTo>
                    <a:pt x="451" y="1033"/>
                  </a:lnTo>
                  <a:lnTo>
                    <a:pt x="445" y="1033"/>
                  </a:lnTo>
                  <a:lnTo>
                    <a:pt x="445" y="1039"/>
                  </a:lnTo>
                  <a:lnTo>
                    <a:pt x="438" y="1039"/>
                  </a:lnTo>
                  <a:lnTo>
                    <a:pt x="445" y="1039"/>
                  </a:lnTo>
                  <a:lnTo>
                    <a:pt x="451" y="1039"/>
                  </a:lnTo>
                  <a:lnTo>
                    <a:pt x="457" y="1039"/>
                  </a:lnTo>
                  <a:lnTo>
                    <a:pt x="464" y="1045"/>
                  </a:lnTo>
                  <a:lnTo>
                    <a:pt x="464" y="1052"/>
                  </a:lnTo>
                  <a:lnTo>
                    <a:pt x="464" y="1058"/>
                  </a:lnTo>
                  <a:lnTo>
                    <a:pt x="457" y="1064"/>
                  </a:lnTo>
                  <a:lnTo>
                    <a:pt x="464" y="1070"/>
                  </a:lnTo>
                  <a:lnTo>
                    <a:pt x="470" y="1077"/>
                  </a:lnTo>
                  <a:lnTo>
                    <a:pt x="476" y="1077"/>
                  </a:lnTo>
                  <a:lnTo>
                    <a:pt x="470" y="1083"/>
                  </a:lnTo>
                  <a:lnTo>
                    <a:pt x="470" y="1089"/>
                  </a:lnTo>
                  <a:lnTo>
                    <a:pt x="476" y="1089"/>
                  </a:lnTo>
                  <a:lnTo>
                    <a:pt x="476" y="1095"/>
                  </a:lnTo>
                  <a:lnTo>
                    <a:pt x="464" y="1095"/>
                  </a:lnTo>
                  <a:lnTo>
                    <a:pt x="464" y="1101"/>
                  </a:lnTo>
                  <a:lnTo>
                    <a:pt x="470" y="1101"/>
                  </a:lnTo>
                  <a:lnTo>
                    <a:pt x="464" y="1108"/>
                  </a:lnTo>
                  <a:lnTo>
                    <a:pt x="470" y="1108"/>
                  </a:lnTo>
                  <a:lnTo>
                    <a:pt x="470" y="1114"/>
                  </a:lnTo>
                  <a:lnTo>
                    <a:pt x="476" y="1114"/>
                  </a:lnTo>
                  <a:lnTo>
                    <a:pt x="476" y="1108"/>
                  </a:lnTo>
                  <a:lnTo>
                    <a:pt x="483" y="1101"/>
                  </a:lnTo>
                  <a:lnTo>
                    <a:pt x="489" y="1108"/>
                  </a:lnTo>
                  <a:lnTo>
                    <a:pt x="489" y="1114"/>
                  </a:lnTo>
                  <a:lnTo>
                    <a:pt x="495" y="1108"/>
                  </a:lnTo>
                  <a:lnTo>
                    <a:pt x="502" y="1114"/>
                  </a:lnTo>
                  <a:lnTo>
                    <a:pt x="502" y="1120"/>
                  </a:lnTo>
                  <a:lnTo>
                    <a:pt x="502" y="1126"/>
                  </a:lnTo>
                  <a:lnTo>
                    <a:pt x="502" y="1133"/>
                  </a:lnTo>
                  <a:lnTo>
                    <a:pt x="502" y="1139"/>
                  </a:lnTo>
                  <a:lnTo>
                    <a:pt x="508" y="1139"/>
                  </a:lnTo>
                  <a:lnTo>
                    <a:pt x="508" y="1145"/>
                  </a:lnTo>
                  <a:lnTo>
                    <a:pt x="515" y="1157"/>
                  </a:lnTo>
                  <a:lnTo>
                    <a:pt x="521" y="1157"/>
                  </a:lnTo>
                  <a:lnTo>
                    <a:pt x="527" y="1157"/>
                  </a:lnTo>
                  <a:lnTo>
                    <a:pt x="527" y="1170"/>
                  </a:lnTo>
                  <a:lnTo>
                    <a:pt x="534" y="1170"/>
                  </a:lnTo>
                  <a:lnTo>
                    <a:pt x="540" y="1170"/>
                  </a:lnTo>
                  <a:lnTo>
                    <a:pt x="540" y="1176"/>
                  </a:lnTo>
                  <a:lnTo>
                    <a:pt x="534" y="1176"/>
                  </a:lnTo>
                  <a:lnTo>
                    <a:pt x="540" y="1182"/>
                  </a:lnTo>
                  <a:lnTo>
                    <a:pt x="534" y="1189"/>
                  </a:lnTo>
                  <a:lnTo>
                    <a:pt x="534" y="1195"/>
                  </a:lnTo>
                  <a:lnTo>
                    <a:pt x="540" y="1195"/>
                  </a:lnTo>
                  <a:lnTo>
                    <a:pt x="546" y="1195"/>
                  </a:lnTo>
                  <a:lnTo>
                    <a:pt x="546" y="1201"/>
                  </a:lnTo>
                  <a:lnTo>
                    <a:pt x="553" y="1207"/>
                  </a:lnTo>
                  <a:lnTo>
                    <a:pt x="553" y="1201"/>
                  </a:lnTo>
                  <a:lnTo>
                    <a:pt x="559" y="1207"/>
                  </a:lnTo>
                  <a:lnTo>
                    <a:pt x="565" y="1207"/>
                  </a:lnTo>
                  <a:lnTo>
                    <a:pt x="565" y="1201"/>
                  </a:lnTo>
                  <a:lnTo>
                    <a:pt x="565" y="1207"/>
                  </a:lnTo>
                  <a:lnTo>
                    <a:pt x="572" y="1207"/>
                  </a:lnTo>
                  <a:lnTo>
                    <a:pt x="572" y="1213"/>
                  </a:lnTo>
                  <a:lnTo>
                    <a:pt x="572" y="1220"/>
                  </a:lnTo>
                  <a:lnTo>
                    <a:pt x="565" y="1220"/>
                  </a:lnTo>
                  <a:lnTo>
                    <a:pt x="572" y="1226"/>
                  </a:lnTo>
                  <a:lnTo>
                    <a:pt x="578" y="1232"/>
                  </a:lnTo>
                  <a:lnTo>
                    <a:pt x="584" y="1232"/>
                  </a:lnTo>
                  <a:lnTo>
                    <a:pt x="591" y="1238"/>
                  </a:lnTo>
                  <a:lnTo>
                    <a:pt x="604" y="1238"/>
                  </a:lnTo>
                  <a:lnTo>
                    <a:pt x="610" y="1238"/>
                  </a:lnTo>
                  <a:lnTo>
                    <a:pt x="616" y="1232"/>
                  </a:lnTo>
                  <a:lnTo>
                    <a:pt x="616" y="1238"/>
                  </a:lnTo>
                  <a:lnTo>
                    <a:pt x="623" y="1245"/>
                  </a:lnTo>
                  <a:lnTo>
                    <a:pt x="629" y="1251"/>
                  </a:lnTo>
                  <a:lnTo>
                    <a:pt x="635" y="1257"/>
                  </a:lnTo>
                  <a:lnTo>
                    <a:pt x="642" y="1257"/>
                  </a:lnTo>
                  <a:lnTo>
                    <a:pt x="648" y="1263"/>
                  </a:lnTo>
                  <a:lnTo>
                    <a:pt x="654" y="1263"/>
                  </a:lnTo>
                  <a:lnTo>
                    <a:pt x="654" y="1269"/>
                  </a:lnTo>
                  <a:lnTo>
                    <a:pt x="661" y="1276"/>
                  </a:lnTo>
                  <a:lnTo>
                    <a:pt x="661" y="1282"/>
                  </a:lnTo>
                  <a:lnTo>
                    <a:pt x="654" y="1288"/>
                  </a:lnTo>
                  <a:lnTo>
                    <a:pt x="648" y="1294"/>
                  </a:lnTo>
                  <a:lnTo>
                    <a:pt x="654" y="1301"/>
                  </a:lnTo>
                  <a:lnTo>
                    <a:pt x="654" y="1313"/>
                  </a:lnTo>
                  <a:lnTo>
                    <a:pt x="648" y="1326"/>
                  </a:lnTo>
                  <a:lnTo>
                    <a:pt x="642" y="1332"/>
                  </a:lnTo>
                  <a:lnTo>
                    <a:pt x="642" y="1338"/>
                  </a:lnTo>
                  <a:lnTo>
                    <a:pt x="648" y="1344"/>
                  </a:lnTo>
                  <a:lnTo>
                    <a:pt x="648" y="1350"/>
                  </a:lnTo>
                  <a:lnTo>
                    <a:pt x="642" y="1350"/>
                  </a:lnTo>
                  <a:lnTo>
                    <a:pt x="629" y="1357"/>
                  </a:lnTo>
                  <a:lnTo>
                    <a:pt x="635" y="1369"/>
                  </a:lnTo>
                  <a:lnTo>
                    <a:pt x="642" y="1375"/>
                  </a:lnTo>
                  <a:lnTo>
                    <a:pt x="654" y="1375"/>
                  </a:lnTo>
                  <a:lnTo>
                    <a:pt x="654" y="1382"/>
                  </a:lnTo>
                  <a:lnTo>
                    <a:pt x="661" y="1388"/>
                  </a:lnTo>
                  <a:lnTo>
                    <a:pt x="667" y="1388"/>
                  </a:lnTo>
                  <a:lnTo>
                    <a:pt x="673" y="1388"/>
                  </a:lnTo>
                  <a:lnTo>
                    <a:pt x="673" y="1394"/>
                  </a:lnTo>
                  <a:lnTo>
                    <a:pt x="680" y="1400"/>
                  </a:lnTo>
                  <a:lnTo>
                    <a:pt x="686" y="1400"/>
                  </a:lnTo>
                  <a:lnTo>
                    <a:pt x="686" y="1406"/>
                  </a:lnTo>
                  <a:lnTo>
                    <a:pt x="692" y="1406"/>
                  </a:lnTo>
                  <a:lnTo>
                    <a:pt x="692" y="1413"/>
                  </a:lnTo>
                  <a:lnTo>
                    <a:pt x="692" y="1419"/>
                  </a:lnTo>
                  <a:lnTo>
                    <a:pt x="699" y="1425"/>
                  </a:lnTo>
                  <a:lnTo>
                    <a:pt x="699" y="1431"/>
                  </a:lnTo>
                  <a:lnTo>
                    <a:pt x="699" y="1438"/>
                  </a:lnTo>
                  <a:lnTo>
                    <a:pt x="699" y="1444"/>
                  </a:lnTo>
                  <a:lnTo>
                    <a:pt x="705" y="1450"/>
                  </a:lnTo>
                  <a:lnTo>
                    <a:pt x="705" y="1456"/>
                  </a:lnTo>
                  <a:lnTo>
                    <a:pt x="699" y="1456"/>
                  </a:lnTo>
                  <a:lnTo>
                    <a:pt x="705" y="1462"/>
                  </a:lnTo>
                  <a:lnTo>
                    <a:pt x="712" y="1462"/>
                  </a:lnTo>
                  <a:lnTo>
                    <a:pt x="712" y="1469"/>
                  </a:lnTo>
                  <a:lnTo>
                    <a:pt x="712" y="1475"/>
                  </a:lnTo>
                  <a:lnTo>
                    <a:pt x="718" y="1475"/>
                  </a:lnTo>
                  <a:lnTo>
                    <a:pt x="718" y="1481"/>
                  </a:lnTo>
                  <a:lnTo>
                    <a:pt x="724" y="1481"/>
                  </a:lnTo>
                  <a:lnTo>
                    <a:pt x="724" y="1487"/>
                  </a:lnTo>
                  <a:lnTo>
                    <a:pt x="724" y="1481"/>
                  </a:lnTo>
                  <a:lnTo>
                    <a:pt x="731" y="1481"/>
                  </a:lnTo>
                  <a:lnTo>
                    <a:pt x="731" y="1487"/>
                  </a:lnTo>
                  <a:lnTo>
                    <a:pt x="737" y="1487"/>
                  </a:lnTo>
                  <a:lnTo>
                    <a:pt x="743" y="1487"/>
                  </a:lnTo>
                  <a:lnTo>
                    <a:pt x="750" y="1494"/>
                  </a:lnTo>
                  <a:lnTo>
                    <a:pt x="756" y="1494"/>
                  </a:lnTo>
                  <a:lnTo>
                    <a:pt x="756" y="1500"/>
                  </a:lnTo>
                  <a:lnTo>
                    <a:pt x="762" y="1500"/>
                  </a:lnTo>
                  <a:lnTo>
                    <a:pt x="762" y="1506"/>
                  </a:lnTo>
                  <a:lnTo>
                    <a:pt x="762" y="1512"/>
                  </a:lnTo>
                  <a:lnTo>
                    <a:pt x="769" y="1518"/>
                  </a:lnTo>
                  <a:lnTo>
                    <a:pt x="762" y="1525"/>
                  </a:lnTo>
                  <a:lnTo>
                    <a:pt x="762" y="1531"/>
                  </a:lnTo>
                  <a:lnTo>
                    <a:pt x="756" y="1537"/>
                  </a:lnTo>
                  <a:lnTo>
                    <a:pt x="756" y="1550"/>
                  </a:lnTo>
                  <a:lnTo>
                    <a:pt x="756" y="1556"/>
                  </a:lnTo>
                  <a:lnTo>
                    <a:pt x="750" y="1562"/>
                  </a:lnTo>
                  <a:lnTo>
                    <a:pt x="750" y="1568"/>
                  </a:lnTo>
                  <a:lnTo>
                    <a:pt x="750" y="1574"/>
                  </a:lnTo>
                  <a:lnTo>
                    <a:pt x="743" y="1581"/>
                  </a:lnTo>
                  <a:lnTo>
                    <a:pt x="743" y="1587"/>
                  </a:lnTo>
                  <a:lnTo>
                    <a:pt x="743" y="1593"/>
                  </a:lnTo>
                  <a:lnTo>
                    <a:pt x="750" y="1606"/>
                  </a:lnTo>
                  <a:lnTo>
                    <a:pt x="756" y="1606"/>
                  </a:lnTo>
                  <a:lnTo>
                    <a:pt x="762" y="1606"/>
                  </a:lnTo>
                  <a:lnTo>
                    <a:pt x="762" y="1618"/>
                  </a:lnTo>
                  <a:lnTo>
                    <a:pt x="762" y="1624"/>
                  </a:lnTo>
                  <a:lnTo>
                    <a:pt x="756" y="1624"/>
                  </a:lnTo>
                  <a:lnTo>
                    <a:pt x="737" y="1631"/>
                  </a:lnTo>
                  <a:lnTo>
                    <a:pt x="724" y="1631"/>
                  </a:lnTo>
                  <a:lnTo>
                    <a:pt x="705" y="1637"/>
                  </a:lnTo>
                  <a:lnTo>
                    <a:pt x="686" y="1643"/>
                  </a:lnTo>
                  <a:lnTo>
                    <a:pt x="673" y="1649"/>
                  </a:lnTo>
                  <a:lnTo>
                    <a:pt x="661" y="1662"/>
                  </a:lnTo>
                  <a:lnTo>
                    <a:pt x="648" y="1687"/>
                  </a:lnTo>
                  <a:lnTo>
                    <a:pt x="635" y="1699"/>
                  </a:lnTo>
                  <a:lnTo>
                    <a:pt x="623" y="1711"/>
                  </a:lnTo>
                  <a:lnTo>
                    <a:pt x="604" y="1724"/>
                  </a:lnTo>
                  <a:lnTo>
                    <a:pt x="578" y="1736"/>
                  </a:lnTo>
                  <a:lnTo>
                    <a:pt x="559" y="1743"/>
                  </a:lnTo>
                  <a:lnTo>
                    <a:pt x="534" y="1755"/>
                  </a:lnTo>
                  <a:lnTo>
                    <a:pt x="508" y="1761"/>
                  </a:lnTo>
                  <a:lnTo>
                    <a:pt x="489" y="1767"/>
                  </a:lnTo>
                  <a:lnTo>
                    <a:pt x="470" y="1780"/>
                  </a:lnTo>
                  <a:lnTo>
                    <a:pt x="464" y="1792"/>
                  </a:lnTo>
                  <a:lnTo>
                    <a:pt x="457" y="1799"/>
                  </a:lnTo>
                  <a:lnTo>
                    <a:pt x="457" y="1811"/>
                  </a:lnTo>
                  <a:lnTo>
                    <a:pt x="457" y="1823"/>
                  </a:lnTo>
                  <a:lnTo>
                    <a:pt x="451" y="1836"/>
                  </a:lnTo>
                  <a:lnTo>
                    <a:pt x="457" y="1855"/>
                  </a:lnTo>
                  <a:lnTo>
                    <a:pt x="451" y="1861"/>
                  </a:lnTo>
                  <a:lnTo>
                    <a:pt x="445" y="1873"/>
                  </a:lnTo>
                  <a:lnTo>
                    <a:pt x="438" y="1880"/>
                  </a:lnTo>
                  <a:lnTo>
                    <a:pt x="432" y="1880"/>
                  </a:lnTo>
                  <a:lnTo>
                    <a:pt x="426" y="1880"/>
                  </a:lnTo>
                  <a:lnTo>
                    <a:pt x="419" y="1873"/>
                  </a:lnTo>
                  <a:lnTo>
                    <a:pt x="419" y="1861"/>
                  </a:lnTo>
                  <a:lnTo>
                    <a:pt x="419" y="1848"/>
                  </a:lnTo>
                  <a:lnTo>
                    <a:pt x="419" y="1836"/>
                  </a:lnTo>
                  <a:lnTo>
                    <a:pt x="413" y="1830"/>
                  </a:lnTo>
                  <a:lnTo>
                    <a:pt x="407" y="1830"/>
                  </a:lnTo>
                  <a:lnTo>
                    <a:pt x="400" y="1830"/>
                  </a:lnTo>
                  <a:lnTo>
                    <a:pt x="394" y="1836"/>
                  </a:lnTo>
                  <a:lnTo>
                    <a:pt x="394" y="1842"/>
                  </a:lnTo>
                  <a:lnTo>
                    <a:pt x="394" y="1848"/>
                  </a:lnTo>
                  <a:lnTo>
                    <a:pt x="387" y="1861"/>
                  </a:lnTo>
                  <a:lnTo>
                    <a:pt x="381" y="1867"/>
                  </a:lnTo>
                  <a:lnTo>
                    <a:pt x="368" y="1873"/>
                  </a:lnTo>
                  <a:lnTo>
                    <a:pt x="356" y="1880"/>
                  </a:lnTo>
                  <a:lnTo>
                    <a:pt x="349" y="1880"/>
                  </a:lnTo>
                  <a:lnTo>
                    <a:pt x="337" y="1886"/>
                  </a:lnTo>
                  <a:lnTo>
                    <a:pt x="330" y="1886"/>
                  </a:lnTo>
                  <a:lnTo>
                    <a:pt x="318" y="1892"/>
                  </a:lnTo>
                  <a:lnTo>
                    <a:pt x="311" y="1898"/>
                  </a:lnTo>
                  <a:lnTo>
                    <a:pt x="298" y="1904"/>
                  </a:lnTo>
                  <a:lnTo>
                    <a:pt x="286" y="1892"/>
                  </a:lnTo>
                  <a:lnTo>
                    <a:pt x="273" y="1880"/>
                  </a:lnTo>
                  <a:lnTo>
                    <a:pt x="260" y="1861"/>
                  </a:lnTo>
                  <a:lnTo>
                    <a:pt x="248" y="1848"/>
                  </a:lnTo>
                  <a:lnTo>
                    <a:pt x="235" y="1836"/>
                  </a:lnTo>
                  <a:lnTo>
                    <a:pt x="235" y="1830"/>
                  </a:lnTo>
                  <a:lnTo>
                    <a:pt x="222" y="1805"/>
                  </a:lnTo>
                  <a:lnTo>
                    <a:pt x="229" y="1792"/>
                  </a:lnTo>
                  <a:lnTo>
                    <a:pt x="229" y="1786"/>
                  </a:lnTo>
                  <a:lnTo>
                    <a:pt x="222" y="1780"/>
                  </a:lnTo>
                  <a:lnTo>
                    <a:pt x="216" y="1774"/>
                  </a:lnTo>
                  <a:lnTo>
                    <a:pt x="209" y="1767"/>
                  </a:lnTo>
                  <a:lnTo>
                    <a:pt x="203" y="1767"/>
                  </a:lnTo>
                  <a:lnTo>
                    <a:pt x="178" y="1767"/>
                  </a:lnTo>
                  <a:lnTo>
                    <a:pt x="152" y="1761"/>
                  </a:lnTo>
                  <a:lnTo>
                    <a:pt x="127" y="1749"/>
                  </a:lnTo>
                  <a:lnTo>
                    <a:pt x="114" y="1736"/>
                  </a:lnTo>
                  <a:lnTo>
                    <a:pt x="108" y="1730"/>
                  </a:lnTo>
                  <a:lnTo>
                    <a:pt x="101" y="1724"/>
                  </a:lnTo>
                  <a:lnTo>
                    <a:pt x="89" y="1705"/>
                  </a:lnTo>
                  <a:lnTo>
                    <a:pt x="76" y="1687"/>
                  </a:lnTo>
                  <a:lnTo>
                    <a:pt x="63" y="1674"/>
                  </a:lnTo>
                  <a:lnTo>
                    <a:pt x="51" y="1649"/>
                  </a:lnTo>
                  <a:lnTo>
                    <a:pt x="44" y="1624"/>
                  </a:lnTo>
                  <a:lnTo>
                    <a:pt x="38" y="1599"/>
                  </a:lnTo>
                  <a:lnTo>
                    <a:pt x="32" y="1587"/>
                  </a:lnTo>
                  <a:lnTo>
                    <a:pt x="32" y="1568"/>
                  </a:lnTo>
                  <a:lnTo>
                    <a:pt x="32" y="1556"/>
                  </a:lnTo>
                  <a:lnTo>
                    <a:pt x="38" y="1537"/>
                  </a:lnTo>
                  <a:lnTo>
                    <a:pt x="44" y="1518"/>
                  </a:lnTo>
                  <a:lnTo>
                    <a:pt x="57" y="1481"/>
                  </a:lnTo>
                  <a:lnTo>
                    <a:pt x="70" y="1462"/>
                  </a:lnTo>
                  <a:lnTo>
                    <a:pt x="82" y="1444"/>
                  </a:lnTo>
                  <a:lnTo>
                    <a:pt x="89" y="1431"/>
                  </a:lnTo>
                  <a:lnTo>
                    <a:pt x="95" y="1419"/>
                  </a:lnTo>
                  <a:lnTo>
                    <a:pt x="95" y="1400"/>
                  </a:lnTo>
                  <a:lnTo>
                    <a:pt x="101" y="1388"/>
                  </a:lnTo>
                  <a:lnTo>
                    <a:pt x="101" y="1369"/>
                  </a:lnTo>
                  <a:lnTo>
                    <a:pt x="101" y="1357"/>
                  </a:lnTo>
                  <a:lnTo>
                    <a:pt x="101" y="1332"/>
                  </a:lnTo>
                  <a:lnTo>
                    <a:pt x="89" y="1319"/>
                  </a:lnTo>
                  <a:lnTo>
                    <a:pt x="76" y="1301"/>
                  </a:lnTo>
                  <a:lnTo>
                    <a:pt x="70" y="1288"/>
                  </a:lnTo>
                  <a:lnTo>
                    <a:pt x="63" y="1282"/>
                  </a:lnTo>
                  <a:lnTo>
                    <a:pt x="44" y="1257"/>
                  </a:lnTo>
                  <a:lnTo>
                    <a:pt x="32" y="1245"/>
                  </a:lnTo>
                  <a:lnTo>
                    <a:pt x="32" y="1232"/>
                  </a:lnTo>
                  <a:lnTo>
                    <a:pt x="32" y="1220"/>
                  </a:lnTo>
                  <a:lnTo>
                    <a:pt x="25" y="1207"/>
                  </a:lnTo>
                  <a:lnTo>
                    <a:pt x="25" y="1189"/>
                  </a:lnTo>
                  <a:lnTo>
                    <a:pt x="25" y="1170"/>
                  </a:lnTo>
                  <a:lnTo>
                    <a:pt x="25" y="1151"/>
                  </a:lnTo>
                  <a:lnTo>
                    <a:pt x="25" y="1139"/>
                  </a:lnTo>
                  <a:lnTo>
                    <a:pt x="32" y="1126"/>
                  </a:lnTo>
                  <a:lnTo>
                    <a:pt x="32" y="1120"/>
                  </a:lnTo>
                  <a:lnTo>
                    <a:pt x="38" y="1114"/>
                  </a:lnTo>
                  <a:lnTo>
                    <a:pt x="51" y="1114"/>
                  </a:lnTo>
                  <a:lnTo>
                    <a:pt x="57" y="1108"/>
                  </a:lnTo>
                  <a:lnTo>
                    <a:pt x="57" y="1101"/>
                  </a:lnTo>
                  <a:lnTo>
                    <a:pt x="63" y="1089"/>
                  </a:lnTo>
                  <a:lnTo>
                    <a:pt x="63" y="1070"/>
                  </a:lnTo>
                  <a:lnTo>
                    <a:pt x="70" y="1052"/>
                  </a:lnTo>
                  <a:lnTo>
                    <a:pt x="70" y="1014"/>
                  </a:lnTo>
                  <a:lnTo>
                    <a:pt x="76" y="989"/>
                  </a:lnTo>
                  <a:lnTo>
                    <a:pt x="76" y="964"/>
                  </a:lnTo>
                  <a:lnTo>
                    <a:pt x="82" y="933"/>
                  </a:lnTo>
                  <a:lnTo>
                    <a:pt x="89" y="896"/>
                  </a:lnTo>
                  <a:lnTo>
                    <a:pt x="89" y="884"/>
                  </a:lnTo>
                  <a:lnTo>
                    <a:pt x="95" y="865"/>
                  </a:lnTo>
                  <a:lnTo>
                    <a:pt x="101" y="846"/>
                  </a:lnTo>
                  <a:lnTo>
                    <a:pt x="101" y="834"/>
                  </a:lnTo>
                  <a:lnTo>
                    <a:pt x="101" y="821"/>
                  </a:lnTo>
                  <a:lnTo>
                    <a:pt x="95" y="796"/>
                  </a:lnTo>
                  <a:lnTo>
                    <a:pt x="82" y="778"/>
                  </a:lnTo>
                  <a:lnTo>
                    <a:pt x="63" y="753"/>
                  </a:lnTo>
                  <a:lnTo>
                    <a:pt x="51" y="734"/>
                  </a:lnTo>
                  <a:lnTo>
                    <a:pt x="44" y="715"/>
                  </a:lnTo>
                  <a:lnTo>
                    <a:pt x="38" y="697"/>
                  </a:lnTo>
                  <a:lnTo>
                    <a:pt x="38" y="684"/>
                  </a:lnTo>
                  <a:lnTo>
                    <a:pt x="25" y="678"/>
                  </a:lnTo>
                  <a:lnTo>
                    <a:pt x="19" y="666"/>
                  </a:lnTo>
                  <a:lnTo>
                    <a:pt x="6" y="635"/>
                  </a:lnTo>
                  <a:lnTo>
                    <a:pt x="0" y="628"/>
                  </a:lnTo>
                  <a:lnTo>
                    <a:pt x="0" y="616"/>
                  </a:lnTo>
                  <a:lnTo>
                    <a:pt x="0" y="610"/>
                  </a:lnTo>
                  <a:lnTo>
                    <a:pt x="6" y="603"/>
                  </a:lnTo>
                  <a:lnTo>
                    <a:pt x="6" y="597"/>
                  </a:lnTo>
                  <a:lnTo>
                    <a:pt x="12" y="597"/>
                  </a:lnTo>
                  <a:lnTo>
                    <a:pt x="19" y="597"/>
                  </a:lnTo>
                  <a:lnTo>
                    <a:pt x="32" y="591"/>
                  </a:lnTo>
                  <a:lnTo>
                    <a:pt x="38" y="579"/>
                  </a:lnTo>
                  <a:lnTo>
                    <a:pt x="44" y="572"/>
                  </a:lnTo>
                  <a:lnTo>
                    <a:pt x="44" y="566"/>
                  </a:lnTo>
                  <a:lnTo>
                    <a:pt x="51" y="560"/>
                  </a:lnTo>
                  <a:lnTo>
                    <a:pt x="51" y="547"/>
                  </a:lnTo>
                  <a:lnTo>
                    <a:pt x="57" y="529"/>
                  </a:lnTo>
                  <a:lnTo>
                    <a:pt x="63" y="504"/>
                  </a:lnTo>
                  <a:lnTo>
                    <a:pt x="57" y="485"/>
                  </a:lnTo>
                  <a:lnTo>
                    <a:pt x="57" y="460"/>
                  </a:lnTo>
                  <a:lnTo>
                    <a:pt x="57" y="442"/>
                  </a:lnTo>
                  <a:lnTo>
                    <a:pt x="63" y="429"/>
                  </a:lnTo>
                  <a:lnTo>
                    <a:pt x="76" y="423"/>
                  </a:lnTo>
                  <a:lnTo>
                    <a:pt x="89" y="417"/>
                  </a:lnTo>
                  <a:lnTo>
                    <a:pt x="101" y="404"/>
                  </a:lnTo>
                  <a:lnTo>
                    <a:pt x="108" y="398"/>
                  </a:lnTo>
                  <a:lnTo>
                    <a:pt x="114" y="379"/>
                  </a:lnTo>
                  <a:lnTo>
                    <a:pt x="114" y="373"/>
                  </a:lnTo>
                  <a:lnTo>
                    <a:pt x="114" y="361"/>
                  </a:lnTo>
                  <a:lnTo>
                    <a:pt x="108" y="354"/>
                  </a:lnTo>
                  <a:lnTo>
                    <a:pt x="101" y="348"/>
                  </a:lnTo>
                  <a:lnTo>
                    <a:pt x="95" y="342"/>
                  </a:lnTo>
                  <a:lnTo>
                    <a:pt x="82" y="336"/>
                  </a:lnTo>
                  <a:lnTo>
                    <a:pt x="76" y="336"/>
                  </a:lnTo>
                  <a:lnTo>
                    <a:pt x="70" y="330"/>
                  </a:lnTo>
                  <a:lnTo>
                    <a:pt x="63" y="323"/>
                  </a:lnTo>
                  <a:lnTo>
                    <a:pt x="57" y="323"/>
                  </a:lnTo>
                  <a:lnTo>
                    <a:pt x="51" y="311"/>
                  </a:lnTo>
                  <a:lnTo>
                    <a:pt x="51" y="292"/>
                  </a:lnTo>
                  <a:lnTo>
                    <a:pt x="44" y="267"/>
                  </a:lnTo>
                  <a:lnTo>
                    <a:pt x="44" y="249"/>
                  </a:lnTo>
                  <a:lnTo>
                    <a:pt x="44" y="236"/>
                  </a:lnTo>
                  <a:lnTo>
                    <a:pt x="51" y="218"/>
                  </a:lnTo>
                  <a:lnTo>
                    <a:pt x="51" y="205"/>
                  </a:lnTo>
                  <a:lnTo>
                    <a:pt x="57" y="186"/>
                  </a:lnTo>
                  <a:lnTo>
                    <a:pt x="63" y="174"/>
                  </a:lnTo>
                  <a:lnTo>
                    <a:pt x="70" y="155"/>
                  </a:lnTo>
                  <a:lnTo>
                    <a:pt x="70" y="14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36800" y="3073320"/>
              <a:ext cx="1413000" cy="1393920"/>
            </a:xfrm>
            <a:custGeom>
              <a:avLst/>
              <a:gdLst/>
              <a:ahLst/>
              <a:rect l="l" t="t" r="r" b="b"/>
              <a:pathLst>
                <a:path w="890" h="878">
                  <a:moveTo>
                    <a:pt x="223" y="180"/>
                  </a:moveTo>
                  <a:lnTo>
                    <a:pt x="223" y="174"/>
                  </a:lnTo>
                  <a:lnTo>
                    <a:pt x="229" y="168"/>
                  </a:lnTo>
                  <a:lnTo>
                    <a:pt x="229" y="155"/>
                  </a:lnTo>
                  <a:lnTo>
                    <a:pt x="229" y="149"/>
                  </a:lnTo>
                  <a:lnTo>
                    <a:pt x="235" y="149"/>
                  </a:lnTo>
                  <a:lnTo>
                    <a:pt x="235" y="143"/>
                  </a:lnTo>
                  <a:lnTo>
                    <a:pt x="242" y="143"/>
                  </a:lnTo>
                  <a:lnTo>
                    <a:pt x="242" y="137"/>
                  </a:lnTo>
                  <a:lnTo>
                    <a:pt x="248" y="137"/>
                  </a:lnTo>
                  <a:lnTo>
                    <a:pt x="254" y="131"/>
                  </a:lnTo>
                  <a:lnTo>
                    <a:pt x="261" y="124"/>
                  </a:lnTo>
                  <a:lnTo>
                    <a:pt x="267" y="118"/>
                  </a:lnTo>
                  <a:lnTo>
                    <a:pt x="274" y="112"/>
                  </a:lnTo>
                  <a:lnTo>
                    <a:pt x="274" y="106"/>
                  </a:lnTo>
                  <a:lnTo>
                    <a:pt x="274" y="99"/>
                  </a:lnTo>
                  <a:lnTo>
                    <a:pt x="280" y="93"/>
                  </a:lnTo>
                  <a:lnTo>
                    <a:pt x="286" y="93"/>
                  </a:lnTo>
                  <a:lnTo>
                    <a:pt x="299" y="87"/>
                  </a:lnTo>
                  <a:lnTo>
                    <a:pt x="305" y="81"/>
                  </a:lnTo>
                  <a:lnTo>
                    <a:pt x="312" y="75"/>
                  </a:lnTo>
                  <a:lnTo>
                    <a:pt x="318" y="75"/>
                  </a:lnTo>
                  <a:lnTo>
                    <a:pt x="324" y="68"/>
                  </a:lnTo>
                  <a:lnTo>
                    <a:pt x="331" y="68"/>
                  </a:lnTo>
                  <a:lnTo>
                    <a:pt x="331" y="62"/>
                  </a:lnTo>
                  <a:lnTo>
                    <a:pt x="337" y="56"/>
                  </a:lnTo>
                  <a:lnTo>
                    <a:pt x="337" y="50"/>
                  </a:lnTo>
                  <a:lnTo>
                    <a:pt x="337" y="43"/>
                  </a:lnTo>
                  <a:lnTo>
                    <a:pt x="350" y="43"/>
                  </a:lnTo>
                  <a:lnTo>
                    <a:pt x="356" y="43"/>
                  </a:lnTo>
                  <a:lnTo>
                    <a:pt x="362" y="37"/>
                  </a:lnTo>
                  <a:lnTo>
                    <a:pt x="369" y="37"/>
                  </a:lnTo>
                  <a:lnTo>
                    <a:pt x="375" y="31"/>
                  </a:lnTo>
                  <a:lnTo>
                    <a:pt x="382" y="31"/>
                  </a:lnTo>
                  <a:lnTo>
                    <a:pt x="388" y="25"/>
                  </a:lnTo>
                  <a:lnTo>
                    <a:pt x="388" y="19"/>
                  </a:lnTo>
                  <a:lnTo>
                    <a:pt x="401" y="12"/>
                  </a:lnTo>
                  <a:lnTo>
                    <a:pt x="407" y="6"/>
                  </a:lnTo>
                  <a:lnTo>
                    <a:pt x="413" y="0"/>
                  </a:lnTo>
                  <a:lnTo>
                    <a:pt x="426" y="12"/>
                  </a:lnTo>
                  <a:lnTo>
                    <a:pt x="432" y="19"/>
                  </a:lnTo>
                  <a:lnTo>
                    <a:pt x="451" y="12"/>
                  </a:lnTo>
                  <a:lnTo>
                    <a:pt x="471" y="19"/>
                  </a:lnTo>
                  <a:lnTo>
                    <a:pt x="483" y="19"/>
                  </a:lnTo>
                  <a:lnTo>
                    <a:pt x="496" y="31"/>
                  </a:lnTo>
                  <a:lnTo>
                    <a:pt x="515" y="56"/>
                  </a:lnTo>
                  <a:lnTo>
                    <a:pt x="528" y="81"/>
                  </a:lnTo>
                  <a:lnTo>
                    <a:pt x="547" y="99"/>
                  </a:lnTo>
                  <a:lnTo>
                    <a:pt x="572" y="118"/>
                  </a:lnTo>
                  <a:lnTo>
                    <a:pt x="585" y="118"/>
                  </a:lnTo>
                  <a:lnTo>
                    <a:pt x="610" y="124"/>
                  </a:lnTo>
                  <a:lnTo>
                    <a:pt x="629" y="124"/>
                  </a:lnTo>
                  <a:lnTo>
                    <a:pt x="661" y="118"/>
                  </a:lnTo>
                  <a:lnTo>
                    <a:pt x="680" y="118"/>
                  </a:lnTo>
                  <a:lnTo>
                    <a:pt x="693" y="124"/>
                  </a:lnTo>
                  <a:lnTo>
                    <a:pt x="706" y="131"/>
                  </a:lnTo>
                  <a:lnTo>
                    <a:pt x="706" y="137"/>
                  </a:lnTo>
                  <a:lnTo>
                    <a:pt x="699" y="149"/>
                  </a:lnTo>
                  <a:lnTo>
                    <a:pt x="699" y="168"/>
                  </a:lnTo>
                  <a:lnTo>
                    <a:pt x="699" y="174"/>
                  </a:lnTo>
                  <a:lnTo>
                    <a:pt x="706" y="212"/>
                  </a:lnTo>
                  <a:lnTo>
                    <a:pt x="718" y="218"/>
                  </a:lnTo>
                  <a:lnTo>
                    <a:pt x="731" y="224"/>
                  </a:lnTo>
                  <a:lnTo>
                    <a:pt x="737" y="224"/>
                  </a:lnTo>
                  <a:lnTo>
                    <a:pt x="750" y="224"/>
                  </a:lnTo>
                  <a:lnTo>
                    <a:pt x="757" y="230"/>
                  </a:lnTo>
                  <a:lnTo>
                    <a:pt x="763" y="236"/>
                  </a:lnTo>
                  <a:lnTo>
                    <a:pt x="776" y="249"/>
                  </a:lnTo>
                  <a:lnTo>
                    <a:pt x="782" y="255"/>
                  </a:lnTo>
                  <a:lnTo>
                    <a:pt x="801" y="274"/>
                  </a:lnTo>
                  <a:lnTo>
                    <a:pt x="826" y="305"/>
                  </a:lnTo>
                  <a:lnTo>
                    <a:pt x="846" y="342"/>
                  </a:lnTo>
                  <a:lnTo>
                    <a:pt x="858" y="373"/>
                  </a:lnTo>
                  <a:lnTo>
                    <a:pt x="871" y="404"/>
                  </a:lnTo>
                  <a:lnTo>
                    <a:pt x="877" y="417"/>
                  </a:lnTo>
                  <a:lnTo>
                    <a:pt x="890" y="436"/>
                  </a:lnTo>
                  <a:lnTo>
                    <a:pt x="877" y="429"/>
                  </a:lnTo>
                  <a:lnTo>
                    <a:pt x="865" y="417"/>
                  </a:lnTo>
                  <a:lnTo>
                    <a:pt x="846" y="411"/>
                  </a:lnTo>
                  <a:lnTo>
                    <a:pt x="826" y="404"/>
                  </a:lnTo>
                  <a:lnTo>
                    <a:pt x="807" y="411"/>
                  </a:lnTo>
                  <a:lnTo>
                    <a:pt x="776" y="411"/>
                  </a:lnTo>
                  <a:lnTo>
                    <a:pt x="731" y="411"/>
                  </a:lnTo>
                  <a:lnTo>
                    <a:pt x="712" y="417"/>
                  </a:lnTo>
                  <a:lnTo>
                    <a:pt x="699" y="423"/>
                  </a:lnTo>
                  <a:lnTo>
                    <a:pt x="687" y="436"/>
                  </a:lnTo>
                  <a:lnTo>
                    <a:pt x="668" y="454"/>
                  </a:lnTo>
                  <a:lnTo>
                    <a:pt x="642" y="473"/>
                  </a:lnTo>
                  <a:lnTo>
                    <a:pt x="610" y="498"/>
                  </a:lnTo>
                  <a:lnTo>
                    <a:pt x="579" y="517"/>
                  </a:lnTo>
                  <a:lnTo>
                    <a:pt x="560" y="529"/>
                  </a:lnTo>
                  <a:lnTo>
                    <a:pt x="540" y="554"/>
                  </a:lnTo>
                  <a:lnTo>
                    <a:pt x="528" y="566"/>
                  </a:lnTo>
                  <a:lnTo>
                    <a:pt x="515" y="579"/>
                  </a:lnTo>
                  <a:lnTo>
                    <a:pt x="496" y="591"/>
                  </a:lnTo>
                  <a:lnTo>
                    <a:pt x="464" y="597"/>
                  </a:lnTo>
                  <a:lnTo>
                    <a:pt x="439" y="591"/>
                  </a:lnTo>
                  <a:lnTo>
                    <a:pt x="426" y="585"/>
                  </a:lnTo>
                  <a:lnTo>
                    <a:pt x="413" y="579"/>
                  </a:lnTo>
                  <a:lnTo>
                    <a:pt x="401" y="573"/>
                  </a:lnTo>
                  <a:lnTo>
                    <a:pt x="388" y="585"/>
                  </a:lnTo>
                  <a:lnTo>
                    <a:pt x="388" y="597"/>
                  </a:lnTo>
                  <a:lnTo>
                    <a:pt x="382" y="610"/>
                  </a:lnTo>
                  <a:lnTo>
                    <a:pt x="375" y="616"/>
                  </a:lnTo>
                  <a:lnTo>
                    <a:pt x="356" y="616"/>
                  </a:lnTo>
                  <a:lnTo>
                    <a:pt x="337" y="622"/>
                  </a:lnTo>
                  <a:lnTo>
                    <a:pt x="318" y="635"/>
                  </a:lnTo>
                  <a:lnTo>
                    <a:pt x="305" y="641"/>
                  </a:lnTo>
                  <a:lnTo>
                    <a:pt x="293" y="660"/>
                  </a:lnTo>
                  <a:lnTo>
                    <a:pt x="286" y="666"/>
                  </a:lnTo>
                  <a:lnTo>
                    <a:pt x="286" y="697"/>
                  </a:lnTo>
                  <a:lnTo>
                    <a:pt x="261" y="734"/>
                  </a:lnTo>
                  <a:lnTo>
                    <a:pt x="223" y="766"/>
                  </a:lnTo>
                  <a:lnTo>
                    <a:pt x="159" y="803"/>
                  </a:lnTo>
                  <a:lnTo>
                    <a:pt x="108" y="822"/>
                  </a:lnTo>
                  <a:lnTo>
                    <a:pt x="102" y="834"/>
                  </a:lnTo>
                  <a:lnTo>
                    <a:pt x="102" y="840"/>
                  </a:lnTo>
                  <a:lnTo>
                    <a:pt x="83" y="853"/>
                  </a:lnTo>
                  <a:lnTo>
                    <a:pt x="64" y="865"/>
                  </a:lnTo>
                  <a:lnTo>
                    <a:pt x="45" y="871"/>
                  </a:lnTo>
                  <a:lnTo>
                    <a:pt x="26" y="878"/>
                  </a:lnTo>
                  <a:lnTo>
                    <a:pt x="0" y="878"/>
                  </a:lnTo>
                  <a:lnTo>
                    <a:pt x="0" y="865"/>
                  </a:lnTo>
                  <a:lnTo>
                    <a:pt x="7" y="859"/>
                  </a:lnTo>
                  <a:lnTo>
                    <a:pt x="7" y="846"/>
                  </a:lnTo>
                  <a:lnTo>
                    <a:pt x="13" y="840"/>
                  </a:lnTo>
                  <a:lnTo>
                    <a:pt x="19" y="840"/>
                  </a:lnTo>
                  <a:lnTo>
                    <a:pt x="26" y="834"/>
                  </a:lnTo>
                  <a:lnTo>
                    <a:pt x="32" y="828"/>
                  </a:lnTo>
                  <a:lnTo>
                    <a:pt x="38" y="822"/>
                  </a:lnTo>
                  <a:lnTo>
                    <a:pt x="45" y="815"/>
                  </a:lnTo>
                  <a:lnTo>
                    <a:pt x="51" y="809"/>
                  </a:lnTo>
                  <a:lnTo>
                    <a:pt x="57" y="803"/>
                  </a:lnTo>
                  <a:lnTo>
                    <a:pt x="64" y="790"/>
                  </a:lnTo>
                  <a:lnTo>
                    <a:pt x="70" y="784"/>
                  </a:lnTo>
                  <a:lnTo>
                    <a:pt x="70" y="772"/>
                  </a:lnTo>
                  <a:lnTo>
                    <a:pt x="77" y="759"/>
                  </a:lnTo>
                  <a:lnTo>
                    <a:pt x="70" y="753"/>
                  </a:lnTo>
                  <a:lnTo>
                    <a:pt x="70" y="747"/>
                  </a:lnTo>
                  <a:lnTo>
                    <a:pt x="70" y="741"/>
                  </a:lnTo>
                  <a:lnTo>
                    <a:pt x="64" y="734"/>
                  </a:lnTo>
                  <a:lnTo>
                    <a:pt x="64" y="728"/>
                  </a:lnTo>
                  <a:lnTo>
                    <a:pt x="64" y="716"/>
                  </a:lnTo>
                  <a:lnTo>
                    <a:pt x="57" y="709"/>
                  </a:lnTo>
                  <a:lnTo>
                    <a:pt x="57" y="697"/>
                  </a:lnTo>
                  <a:lnTo>
                    <a:pt x="64" y="691"/>
                  </a:lnTo>
                  <a:lnTo>
                    <a:pt x="70" y="678"/>
                  </a:lnTo>
                  <a:lnTo>
                    <a:pt x="77" y="666"/>
                  </a:lnTo>
                  <a:lnTo>
                    <a:pt x="83" y="660"/>
                  </a:lnTo>
                  <a:lnTo>
                    <a:pt x="83" y="647"/>
                  </a:lnTo>
                  <a:lnTo>
                    <a:pt x="89" y="641"/>
                  </a:lnTo>
                  <a:lnTo>
                    <a:pt x="89" y="629"/>
                  </a:lnTo>
                  <a:lnTo>
                    <a:pt x="89" y="622"/>
                  </a:lnTo>
                  <a:lnTo>
                    <a:pt x="96" y="610"/>
                  </a:lnTo>
                  <a:lnTo>
                    <a:pt x="96" y="597"/>
                  </a:lnTo>
                  <a:lnTo>
                    <a:pt x="102" y="585"/>
                  </a:lnTo>
                  <a:lnTo>
                    <a:pt x="108" y="579"/>
                  </a:lnTo>
                  <a:lnTo>
                    <a:pt x="108" y="573"/>
                  </a:lnTo>
                  <a:lnTo>
                    <a:pt x="108" y="566"/>
                  </a:lnTo>
                  <a:lnTo>
                    <a:pt x="115" y="554"/>
                  </a:lnTo>
                  <a:lnTo>
                    <a:pt x="115" y="548"/>
                  </a:lnTo>
                  <a:lnTo>
                    <a:pt x="115" y="541"/>
                  </a:lnTo>
                  <a:lnTo>
                    <a:pt x="121" y="535"/>
                  </a:lnTo>
                  <a:lnTo>
                    <a:pt x="121" y="523"/>
                  </a:lnTo>
                  <a:lnTo>
                    <a:pt x="121" y="517"/>
                  </a:lnTo>
                  <a:lnTo>
                    <a:pt x="127" y="517"/>
                  </a:lnTo>
                  <a:lnTo>
                    <a:pt x="134" y="504"/>
                  </a:lnTo>
                  <a:lnTo>
                    <a:pt x="134" y="498"/>
                  </a:lnTo>
                  <a:lnTo>
                    <a:pt x="140" y="485"/>
                  </a:lnTo>
                  <a:lnTo>
                    <a:pt x="146" y="479"/>
                  </a:lnTo>
                  <a:lnTo>
                    <a:pt x="146" y="460"/>
                  </a:lnTo>
                  <a:lnTo>
                    <a:pt x="153" y="454"/>
                  </a:lnTo>
                  <a:lnTo>
                    <a:pt x="153" y="448"/>
                  </a:lnTo>
                  <a:lnTo>
                    <a:pt x="153" y="436"/>
                  </a:lnTo>
                  <a:lnTo>
                    <a:pt x="153" y="423"/>
                  </a:lnTo>
                  <a:lnTo>
                    <a:pt x="153" y="417"/>
                  </a:lnTo>
                  <a:lnTo>
                    <a:pt x="159" y="411"/>
                  </a:lnTo>
                  <a:lnTo>
                    <a:pt x="165" y="398"/>
                  </a:lnTo>
                  <a:lnTo>
                    <a:pt x="165" y="392"/>
                  </a:lnTo>
                  <a:lnTo>
                    <a:pt x="165" y="386"/>
                  </a:lnTo>
                  <a:lnTo>
                    <a:pt x="172" y="380"/>
                  </a:lnTo>
                  <a:lnTo>
                    <a:pt x="178" y="373"/>
                  </a:lnTo>
                  <a:lnTo>
                    <a:pt x="185" y="367"/>
                  </a:lnTo>
                  <a:lnTo>
                    <a:pt x="185" y="361"/>
                  </a:lnTo>
                  <a:lnTo>
                    <a:pt x="191" y="355"/>
                  </a:lnTo>
                  <a:lnTo>
                    <a:pt x="191" y="348"/>
                  </a:lnTo>
                  <a:lnTo>
                    <a:pt x="197" y="342"/>
                  </a:lnTo>
                  <a:lnTo>
                    <a:pt x="197" y="336"/>
                  </a:lnTo>
                  <a:lnTo>
                    <a:pt x="197" y="330"/>
                  </a:lnTo>
                  <a:lnTo>
                    <a:pt x="204" y="324"/>
                  </a:lnTo>
                  <a:lnTo>
                    <a:pt x="204" y="317"/>
                  </a:lnTo>
                  <a:lnTo>
                    <a:pt x="210" y="311"/>
                  </a:lnTo>
                  <a:lnTo>
                    <a:pt x="210" y="299"/>
                  </a:lnTo>
                  <a:lnTo>
                    <a:pt x="210" y="292"/>
                  </a:lnTo>
                  <a:lnTo>
                    <a:pt x="210" y="280"/>
                  </a:lnTo>
                  <a:lnTo>
                    <a:pt x="210" y="274"/>
                  </a:lnTo>
                  <a:lnTo>
                    <a:pt x="210" y="268"/>
                  </a:lnTo>
                  <a:lnTo>
                    <a:pt x="210" y="261"/>
                  </a:lnTo>
                  <a:lnTo>
                    <a:pt x="210" y="249"/>
                  </a:lnTo>
                  <a:lnTo>
                    <a:pt x="210" y="243"/>
                  </a:lnTo>
                  <a:lnTo>
                    <a:pt x="216" y="230"/>
                  </a:lnTo>
                  <a:lnTo>
                    <a:pt x="216" y="224"/>
                  </a:lnTo>
                  <a:lnTo>
                    <a:pt x="216" y="218"/>
                  </a:lnTo>
                  <a:lnTo>
                    <a:pt x="216" y="212"/>
                  </a:lnTo>
                  <a:lnTo>
                    <a:pt x="216" y="205"/>
                  </a:lnTo>
                  <a:lnTo>
                    <a:pt x="216" y="199"/>
                  </a:lnTo>
                  <a:lnTo>
                    <a:pt x="223" y="193"/>
                  </a:lnTo>
                  <a:lnTo>
                    <a:pt x="223" y="187"/>
                  </a:lnTo>
                  <a:lnTo>
                    <a:pt x="223" y="1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97200" y="3714840"/>
              <a:ext cx="4871880" cy="3390840"/>
            </a:xfrm>
            <a:custGeom>
              <a:avLst/>
              <a:gdLst/>
              <a:ahLst/>
              <a:rect l="l" t="t" r="r" b="b"/>
              <a:pathLst>
                <a:path w="3069" h="2136">
                  <a:moveTo>
                    <a:pt x="915" y="32"/>
                  </a:moveTo>
                  <a:lnTo>
                    <a:pt x="915" y="63"/>
                  </a:lnTo>
                  <a:lnTo>
                    <a:pt x="921" y="81"/>
                  </a:lnTo>
                  <a:lnTo>
                    <a:pt x="934" y="106"/>
                  </a:lnTo>
                  <a:lnTo>
                    <a:pt x="940" y="119"/>
                  </a:lnTo>
                  <a:lnTo>
                    <a:pt x="966" y="125"/>
                  </a:lnTo>
                  <a:lnTo>
                    <a:pt x="991" y="125"/>
                  </a:lnTo>
                  <a:lnTo>
                    <a:pt x="1017" y="131"/>
                  </a:lnTo>
                  <a:lnTo>
                    <a:pt x="1055" y="131"/>
                  </a:lnTo>
                  <a:lnTo>
                    <a:pt x="1087" y="131"/>
                  </a:lnTo>
                  <a:lnTo>
                    <a:pt x="1112" y="125"/>
                  </a:lnTo>
                  <a:lnTo>
                    <a:pt x="1125" y="125"/>
                  </a:lnTo>
                  <a:lnTo>
                    <a:pt x="1144" y="131"/>
                  </a:lnTo>
                  <a:lnTo>
                    <a:pt x="1169" y="137"/>
                  </a:lnTo>
                  <a:lnTo>
                    <a:pt x="1195" y="144"/>
                  </a:lnTo>
                  <a:lnTo>
                    <a:pt x="1239" y="156"/>
                  </a:lnTo>
                  <a:lnTo>
                    <a:pt x="1271" y="162"/>
                  </a:lnTo>
                  <a:lnTo>
                    <a:pt x="1284" y="162"/>
                  </a:lnTo>
                  <a:lnTo>
                    <a:pt x="1290" y="169"/>
                  </a:lnTo>
                  <a:lnTo>
                    <a:pt x="1315" y="169"/>
                  </a:lnTo>
                  <a:lnTo>
                    <a:pt x="1334" y="162"/>
                  </a:lnTo>
                  <a:lnTo>
                    <a:pt x="1347" y="156"/>
                  </a:lnTo>
                  <a:lnTo>
                    <a:pt x="1360" y="150"/>
                  </a:lnTo>
                  <a:lnTo>
                    <a:pt x="1379" y="137"/>
                  </a:lnTo>
                  <a:lnTo>
                    <a:pt x="1404" y="125"/>
                  </a:lnTo>
                  <a:lnTo>
                    <a:pt x="1423" y="113"/>
                  </a:lnTo>
                  <a:lnTo>
                    <a:pt x="1449" y="106"/>
                  </a:lnTo>
                  <a:lnTo>
                    <a:pt x="1481" y="100"/>
                  </a:lnTo>
                  <a:lnTo>
                    <a:pt x="1500" y="94"/>
                  </a:lnTo>
                  <a:lnTo>
                    <a:pt x="1512" y="88"/>
                  </a:lnTo>
                  <a:lnTo>
                    <a:pt x="1519" y="88"/>
                  </a:lnTo>
                  <a:lnTo>
                    <a:pt x="1531" y="88"/>
                  </a:lnTo>
                  <a:lnTo>
                    <a:pt x="1531" y="94"/>
                  </a:lnTo>
                  <a:lnTo>
                    <a:pt x="1538" y="106"/>
                  </a:lnTo>
                  <a:lnTo>
                    <a:pt x="1525" y="113"/>
                  </a:lnTo>
                  <a:lnTo>
                    <a:pt x="1512" y="125"/>
                  </a:lnTo>
                  <a:lnTo>
                    <a:pt x="1487" y="137"/>
                  </a:lnTo>
                  <a:lnTo>
                    <a:pt x="1481" y="150"/>
                  </a:lnTo>
                  <a:lnTo>
                    <a:pt x="1468" y="169"/>
                  </a:lnTo>
                  <a:lnTo>
                    <a:pt x="1462" y="187"/>
                  </a:lnTo>
                  <a:lnTo>
                    <a:pt x="1462" y="193"/>
                  </a:lnTo>
                  <a:lnTo>
                    <a:pt x="1462" y="200"/>
                  </a:lnTo>
                  <a:lnTo>
                    <a:pt x="1468" y="212"/>
                  </a:lnTo>
                  <a:lnTo>
                    <a:pt x="1474" y="218"/>
                  </a:lnTo>
                  <a:lnTo>
                    <a:pt x="1487" y="218"/>
                  </a:lnTo>
                  <a:lnTo>
                    <a:pt x="1512" y="212"/>
                  </a:lnTo>
                  <a:lnTo>
                    <a:pt x="1531" y="206"/>
                  </a:lnTo>
                  <a:lnTo>
                    <a:pt x="1544" y="193"/>
                  </a:lnTo>
                  <a:lnTo>
                    <a:pt x="1557" y="181"/>
                  </a:lnTo>
                  <a:lnTo>
                    <a:pt x="1570" y="175"/>
                  </a:lnTo>
                  <a:lnTo>
                    <a:pt x="1589" y="175"/>
                  </a:lnTo>
                  <a:lnTo>
                    <a:pt x="1608" y="181"/>
                  </a:lnTo>
                  <a:lnTo>
                    <a:pt x="1620" y="187"/>
                  </a:lnTo>
                  <a:lnTo>
                    <a:pt x="1633" y="200"/>
                  </a:lnTo>
                  <a:lnTo>
                    <a:pt x="1640" y="206"/>
                  </a:lnTo>
                  <a:lnTo>
                    <a:pt x="1646" y="218"/>
                  </a:lnTo>
                  <a:lnTo>
                    <a:pt x="1652" y="237"/>
                  </a:lnTo>
                  <a:lnTo>
                    <a:pt x="1652" y="262"/>
                  </a:lnTo>
                  <a:lnTo>
                    <a:pt x="1652" y="268"/>
                  </a:lnTo>
                  <a:lnTo>
                    <a:pt x="1665" y="281"/>
                  </a:lnTo>
                  <a:lnTo>
                    <a:pt x="1678" y="293"/>
                  </a:lnTo>
                  <a:lnTo>
                    <a:pt x="1690" y="299"/>
                  </a:lnTo>
                  <a:lnTo>
                    <a:pt x="1716" y="305"/>
                  </a:lnTo>
                  <a:lnTo>
                    <a:pt x="1728" y="305"/>
                  </a:lnTo>
                  <a:lnTo>
                    <a:pt x="1741" y="312"/>
                  </a:lnTo>
                  <a:lnTo>
                    <a:pt x="1748" y="330"/>
                  </a:lnTo>
                  <a:lnTo>
                    <a:pt x="1754" y="343"/>
                  </a:lnTo>
                  <a:lnTo>
                    <a:pt x="1754" y="355"/>
                  </a:lnTo>
                  <a:lnTo>
                    <a:pt x="1754" y="368"/>
                  </a:lnTo>
                  <a:lnTo>
                    <a:pt x="1754" y="374"/>
                  </a:lnTo>
                  <a:lnTo>
                    <a:pt x="1754" y="380"/>
                  </a:lnTo>
                  <a:lnTo>
                    <a:pt x="1754" y="393"/>
                  </a:lnTo>
                  <a:lnTo>
                    <a:pt x="1767" y="411"/>
                  </a:lnTo>
                  <a:lnTo>
                    <a:pt x="1779" y="418"/>
                  </a:lnTo>
                  <a:lnTo>
                    <a:pt x="1805" y="424"/>
                  </a:lnTo>
                  <a:lnTo>
                    <a:pt x="1843" y="436"/>
                  </a:lnTo>
                  <a:lnTo>
                    <a:pt x="1862" y="442"/>
                  </a:lnTo>
                  <a:lnTo>
                    <a:pt x="1881" y="455"/>
                  </a:lnTo>
                  <a:lnTo>
                    <a:pt x="1894" y="467"/>
                  </a:lnTo>
                  <a:lnTo>
                    <a:pt x="1913" y="480"/>
                  </a:lnTo>
                  <a:lnTo>
                    <a:pt x="1919" y="486"/>
                  </a:lnTo>
                  <a:lnTo>
                    <a:pt x="1932" y="498"/>
                  </a:lnTo>
                  <a:lnTo>
                    <a:pt x="1945" y="505"/>
                  </a:lnTo>
                  <a:lnTo>
                    <a:pt x="1945" y="517"/>
                  </a:lnTo>
                  <a:lnTo>
                    <a:pt x="1951" y="523"/>
                  </a:lnTo>
                  <a:lnTo>
                    <a:pt x="1957" y="542"/>
                  </a:lnTo>
                  <a:lnTo>
                    <a:pt x="1951" y="573"/>
                  </a:lnTo>
                  <a:lnTo>
                    <a:pt x="1957" y="604"/>
                  </a:lnTo>
                  <a:lnTo>
                    <a:pt x="1957" y="623"/>
                  </a:lnTo>
                  <a:lnTo>
                    <a:pt x="1957" y="629"/>
                  </a:lnTo>
                  <a:lnTo>
                    <a:pt x="1957" y="648"/>
                  </a:lnTo>
                  <a:lnTo>
                    <a:pt x="1957" y="667"/>
                  </a:lnTo>
                  <a:lnTo>
                    <a:pt x="1951" y="679"/>
                  </a:lnTo>
                  <a:lnTo>
                    <a:pt x="1945" y="704"/>
                  </a:lnTo>
                  <a:lnTo>
                    <a:pt x="1932" y="723"/>
                  </a:lnTo>
                  <a:lnTo>
                    <a:pt x="1932" y="735"/>
                  </a:lnTo>
                  <a:lnTo>
                    <a:pt x="1932" y="747"/>
                  </a:lnTo>
                  <a:lnTo>
                    <a:pt x="1932" y="772"/>
                  </a:lnTo>
                  <a:lnTo>
                    <a:pt x="1932" y="791"/>
                  </a:lnTo>
                  <a:lnTo>
                    <a:pt x="1945" y="816"/>
                  </a:lnTo>
                  <a:lnTo>
                    <a:pt x="1951" y="835"/>
                  </a:lnTo>
                  <a:lnTo>
                    <a:pt x="1957" y="847"/>
                  </a:lnTo>
                  <a:lnTo>
                    <a:pt x="1970" y="872"/>
                  </a:lnTo>
                  <a:lnTo>
                    <a:pt x="1989" y="903"/>
                  </a:lnTo>
                  <a:lnTo>
                    <a:pt x="2002" y="915"/>
                  </a:lnTo>
                  <a:lnTo>
                    <a:pt x="2027" y="922"/>
                  </a:lnTo>
                  <a:lnTo>
                    <a:pt x="2046" y="928"/>
                  </a:lnTo>
                  <a:lnTo>
                    <a:pt x="2059" y="940"/>
                  </a:lnTo>
                  <a:lnTo>
                    <a:pt x="2065" y="947"/>
                  </a:lnTo>
                  <a:lnTo>
                    <a:pt x="2078" y="965"/>
                  </a:lnTo>
                  <a:lnTo>
                    <a:pt x="2084" y="984"/>
                  </a:lnTo>
                  <a:lnTo>
                    <a:pt x="2103" y="1003"/>
                  </a:lnTo>
                  <a:lnTo>
                    <a:pt x="2116" y="1015"/>
                  </a:lnTo>
                  <a:lnTo>
                    <a:pt x="2135" y="1034"/>
                  </a:lnTo>
                  <a:lnTo>
                    <a:pt x="2154" y="1059"/>
                  </a:lnTo>
                  <a:lnTo>
                    <a:pt x="2173" y="1065"/>
                  </a:lnTo>
                  <a:lnTo>
                    <a:pt x="2192" y="1084"/>
                  </a:lnTo>
                  <a:lnTo>
                    <a:pt x="2218" y="1108"/>
                  </a:lnTo>
                  <a:lnTo>
                    <a:pt x="2237" y="1133"/>
                  </a:lnTo>
                  <a:lnTo>
                    <a:pt x="2256" y="1146"/>
                  </a:lnTo>
                  <a:lnTo>
                    <a:pt x="2288" y="1177"/>
                  </a:lnTo>
                  <a:lnTo>
                    <a:pt x="2313" y="1196"/>
                  </a:lnTo>
                  <a:lnTo>
                    <a:pt x="2320" y="1202"/>
                  </a:lnTo>
                  <a:lnTo>
                    <a:pt x="2339" y="1227"/>
                  </a:lnTo>
                  <a:lnTo>
                    <a:pt x="2345" y="1233"/>
                  </a:lnTo>
                  <a:lnTo>
                    <a:pt x="2351" y="1245"/>
                  </a:lnTo>
                  <a:lnTo>
                    <a:pt x="2358" y="1264"/>
                  </a:lnTo>
                  <a:lnTo>
                    <a:pt x="2370" y="1283"/>
                  </a:lnTo>
                  <a:lnTo>
                    <a:pt x="2383" y="1301"/>
                  </a:lnTo>
                  <a:lnTo>
                    <a:pt x="2396" y="1308"/>
                  </a:lnTo>
                  <a:lnTo>
                    <a:pt x="2409" y="1314"/>
                  </a:lnTo>
                  <a:lnTo>
                    <a:pt x="2434" y="1320"/>
                  </a:lnTo>
                  <a:lnTo>
                    <a:pt x="2447" y="1320"/>
                  </a:lnTo>
                  <a:lnTo>
                    <a:pt x="2459" y="1326"/>
                  </a:lnTo>
                  <a:lnTo>
                    <a:pt x="2472" y="1339"/>
                  </a:lnTo>
                  <a:lnTo>
                    <a:pt x="2485" y="1339"/>
                  </a:lnTo>
                  <a:lnTo>
                    <a:pt x="2504" y="1339"/>
                  </a:lnTo>
                  <a:lnTo>
                    <a:pt x="2523" y="1339"/>
                  </a:lnTo>
                  <a:lnTo>
                    <a:pt x="2536" y="1339"/>
                  </a:lnTo>
                  <a:lnTo>
                    <a:pt x="2548" y="1339"/>
                  </a:lnTo>
                  <a:lnTo>
                    <a:pt x="2567" y="1345"/>
                  </a:lnTo>
                  <a:lnTo>
                    <a:pt x="2580" y="1345"/>
                  </a:lnTo>
                  <a:lnTo>
                    <a:pt x="2599" y="1357"/>
                  </a:lnTo>
                  <a:lnTo>
                    <a:pt x="2612" y="1370"/>
                  </a:lnTo>
                  <a:lnTo>
                    <a:pt x="2625" y="1376"/>
                  </a:lnTo>
                  <a:lnTo>
                    <a:pt x="2650" y="1382"/>
                  </a:lnTo>
                  <a:lnTo>
                    <a:pt x="2675" y="1395"/>
                  </a:lnTo>
                  <a:lnTo>
                    <a:pt x="2695" y="1407"/>
                  </a:lnTo>
                  <a:lnTo>
                    <a:pt x="2714" y="1420"/>
                  </a:lnTo>
                  <a:lnTo>
                    <a:pt x="2733" y="1432"/>
                  </a:lnTo>
                  <a:lnTo>
                    <a:pt x="2745" y="1445"/>
                  </a:lnTo>
                  <a:lnTo>
                    <a:pt x="2752" y="1463"/>
                  </a:lnTo>
                  <a:lnTo>
                    <a:pt x="2758" y="1476"/>
                  </a:lnTo>
                  <a:lnTo>
                    <a:pt x="2758" y="1488"/>
                  </a:lnTo>
                  <a:lnTo>
                    <a:pt x="2758" y="1513"/>
                  </a:lnTo>
                  <a:lnTo>
                    <a:pt x="2758" y="1519"/>
                  </a:lnTo>
                  <a:lnTo>
                    <a:pt x="2764" y="1532"/>
                  </a:lnTo>
                  <a:lnTo>
                    <a:pt x="2764" y="1538"/>
                  </a:lnTo>
                  <a:lnTo>
                    <a:pt x="2771" y="1550"/>
                  </a:lnTo>
                  <a:lnTo>
                    <a:pt x="2783" y="1563"/>
                  </a:lnTo>
                  <a:lnTo>
                    <a:pt x="2796" y="1569"/>
                  </a:lnTo>
                  <a:lnTo>
                    <a:pt x="2809" y="1582"/>
                  </a:lnTo>
                  <a:lnTo>
                    <a:pt x="2828" y="1594"/>
                  </a:lnTo>
                  <a:lnTo>
                    <a:pt x="2860" y="1638"/>
                  </a:lnTo>
                  <a:lnTo>
                    <a:pt x="2866" y="1656"/>
                  </a:lnTo>
                  <a:lnTo>
                    <a:pt x="2885" y="1694"/>
                  </a:lnTo>
                  <a:lnTo>
                    <a:pt x="2911" y="1718"/>
                  </a:lnTo>
                  <a:lnTo>
                    <a:pt x="2930" y="1743"/>
                  </a:lnTo>
                  <a:lnTo>
                    <a:pt x="2949" y="1750"/>
                  </a:lnTo>
                  <a:lnTo>
                    <a:pt x="2955" y="1762"/>
                  </a:lnTo>
                  <a:lnTo>
                    <a:pt x="2961" y="1768"/>
                  </a:lnTo>
                  <a:lnTo>
                    <a:pt x="2968" y="1781"/>
                  </a:lnTo>
                  <a:lnTo>
                    <a:pt x="2968" y="1793"/>
                  </a:lnTo>
                  <a:lnTo>
                    <a:pt x="2974" y="1806"/>
                  </a:lnTo>
                  <a:lnTo>
                    <a:pt x="2987" y="1818"/>
                  </a:lnTo>
                  <a:lnTo>
                    <a:pt x="3006" y="1831"/>
                  </a:lnTo>
                  <a:lnTo>
                    <a:pt x="3025" y="1837"/>
                  </a:lnTo>
                  <a:lnTo>
                    <a:pt x="3038" y="1849"/>
                  </a:lnTo>
                  <a:lnTo>
                    <a:pt x="3050" y="1855"/>
                  </a:lnTo>
                  <a:lnTo>
                    <a:pt x="3057" y="1862"/>
                  </a:lnTo>
                  <a:lnTo>
                    <a:pt x="3063" y="1868"/>
                  </a:lnTo>
                  <a:lnTo>
                    <a:pt x="3069" y="1874"/>
                  </a:lnTo>
                  <a:lnTo>
                    <a:pt x="3069" y="1880"/>
                  </a:lnTo>
                  <a:lnTo>
                    <a:pt x="3069" y="1893"/>
                  </a:lnTo>
                  <a:lnTo>
                    <a:pt x="3069" y="1905"/>
                  </a:lnTo>
                  <a:lnTo>
                    <a:pt x="3063" y="1911"/>
                  </a:lnTo>
                  <a:lnTo>
                    <a:pt x="3057" y="1930"/>
                  </a:lnTo>
                  <a:lnTo>
                    <a:pt x="3044" y="1943"/>
                  </a:lnTo>
                  <a:lnTo>
                    <a:pt x="3038" y="1943"/>
                  </a:lnTo>
                  <a:lnTo>
                    <a:pt x="3012" y="1949"/>
                  </a:lnTo>
                  <a:lnTo>
                    <a:pt x="2993" y="1949"/>
                  </a:lnTo>
                  <a:lnTo>
                    <a:pt x="2974" y="1949"/>
                  </a:lnTo>
                  <a:lnTo>
                    <a:pt x="2955" y="1955"/>
                  </a:lnTo>
                  <a:lnTo>
                    <a:pt x="2949" y="1949"/>
                  </a:lnTo>
                  <a:lnTo>
                    <a:pt x="2942" y="1943"/>
                  </a:lnTo>
                  <a:lnTo>
                    <a:pt x="2930" y="1936"/>
                  </a:lnTo>
                  <a:lnTo>
                    <a:pt x="2911" y="1936"/>
                  </a:lnTo>
                  <a:lnTo>
                    <a:pt x="2904" y="1936"/>
                  </a:lnTo>
                  <a:lnTo>
                    <a:pt x="2892" y="1943"/>
                  </a:lnTo>
                  <a:lnTo>
                    <a:pt x="2885" y="1949"/>
                  </a:lnTo>
                  <a:lnTo>
                    <a:pt x="2872" y="1955"/>
                  </a:lnTo>
                  <a:lnTo>
                    <a:pt x="2860" y="1961"/>
                  </a:lnTo>
                  <a:lnTo>
                    <a:pt x="2841" y="1961"/>
                  </a:lnTo>
                  <a:lnTo>
                    <a:pt x="2815" y="1961"/>
                  </a:lnTo>
                  <a:lnTo>
                    <a:pt x="2803" y="1961"/>
                  </a:lnTo>
                  <a:lnTo>
                    <a:pt x="2777" y="1955"/>
                  </a:lnTo>
                  <a:lnTo>
                    <a:pt x="2764" y="1955"/>
                  </a:lnTo>
                  <a:lnTo>
                    <a:pt x="2745" y="1949"/>
                  </a:lnTo>
                  <a:lnTo>
                    <a:pt x="2739" y="1949"/>
                  </a:lnTo>
                  <a:lnTo>
                    <a:pt x="2726" y="1943"/>
                  </a:lnTo>
                  <a:lnTo>
                    <a:pt x="2720" y="1936"/>
                  </a:lnTo>
                  <a:lnTo>
                    <a:pt x="2714" y="1936"/>
                  </a:lnTo>
                  <a:lnTo>
                    <a:pt x="2707" y="1930"/>
                  </a:lnTo>
                  <a:lnTo>
                    <a:pt x="2695" y="1918"/>
                  </a:lnTo>
                  <a:lnTo>
                    <a:pt x="2688" y="1918"/>
                  </a:lnTo>
                  <a:lnTo>
                    <a:pt x="2682" y="1918"/>
                  </a:lnTo>
                  <a:lnTo>
                    <a:pt x="2656" y="1918"/>
                  </a:lnTo>
                  <a:lnTo>
                    <a:pt x="2644" y="1918"/>
                  </a:lnTo>
                  <a:lnTo>
                    <a:pt x="2631" y="1924"/>
                  </a:lnTo>
                  <a:lnTo>
                    <a:pt x="2618" y="1930"/>
                  </a:lnTo>
                  <a:lnTo>
                    <a:pt x="2606" y="1936"/>
                  </a:lnTo>
                  <a:lnTo>
                    <a:pt x="2593" y="1949"/>
                  </a:lnTo>
                  <a:lnTo>
                    <a:pt x="2580" y="1949"/>
                  </a:lnTo>
                  <a:lnTo>
                    <a:pt x="2567" y="1949"/>
                  </a:lnTo>
                  <a:lnTo>
                    <a:pt x="2548" y="1949"/>
                  </a:lnTo>
                  <a:lnTo>
                    <a:pt x="2529" y="1949"/>
                  </a:lnTo>
                  <a:lnTo>
                    <a:pt x="2510" y="1955"/>
                  </a:lnTo>
                  <a:lnTo>
                    <a:pt x="2497" y="1961"/>
                  </a:lnTo>
                  <a:lnTo>
                    <a:pt x="2485" y="1974"/>
                  </a:lnTo>
                  <a:lnTo>
                    <a:pt x="2472" y="1986"/>
                  </a:lnTo>
                  <a:lnTo>
                    <a:pt x="2466" y="1992"/>
                  </a:lnTo>
                  <a:lnTo>
                    <a:pt x="2447" y="1999"/>
                  </a:lnTo>
                  <a:lnTo>
                    <a:pt x="2434" y="2005"/>
                  </a:lnTo>
                  <a:lnTo>
                    <a:pt x="2421" y="2017"/>
                  </a:lnTo>
                  <a:lnTo>
                    <a:pt x="2396" y="2036"/>
                  </a:lnTo>
                  <a:lnTo>
                    <a:pt x="2377" y="2042"/>
                  </a:lnTo>
                  <a:lnTo>
                    <a:pt x="2364" y="2048"/>
                  </a:lnTo>
                  <a:lnTo>
                    <a:pt x="2345" y="2061"/>
                  </a:lnTo>
                  <a:lnTo>
                    <a:pt x="2339" y="2067"/>
                  </a:lnTo>
                  <a:lnTo>
                    <a:pt x="2332" y="2073"/>
                  </a:lnTo>
                  <a:lnTo>
                    <a:pt x="2320" y="2073"/>
                  </a:lnTo>
                  <a:lnTo>
                    <a:pt x="2300" y="2073"/>
                  </a:lnTo>
                  <a:lnTo>
                    <a:pt x="2281" y="2080"/>
                  </a:lnTo>
                  <a:lnTo>
                    <a:pt x="2262" y="2086"/>
                  </a:lnTo>
                  <a:lnTo>
                    <a:pt x="2250" y="2092"/>
                  </a:lnTo>
                  <a:lnTo>
                    <a:pt x="2237" y="2092"/>
                  </a:lnTo>
                  <a:lnTo>
                    <a:pt x="2231" y="2092"/>
                  </a:lnTo>
                  <a:lnTo>
                    <a:pt x="2218" y="2086"/>
                  </a:lnTo>
                  <a:lnTo>
                    <a:pt x="2211" y="2080"/>
                  </a:lnTo>
                  <a:lnTo>
                    <a:pt x="2199" y="2080"/>
                  </a:lnTo>
                  <a:lnTo>
                    <a:pt x="2173" y="2086"/>
                  </a:lnTo>
                  <a:lnTo>
                    <a:pt x="2154" y="2098"/>
                  </a:lnTo>
                  <a:lnTo>
                    <a:pt x="2142" y="2104"/>
                  </a:lnTo>
                  <a:lnTo>
                    <a:pt x="2129" y="2117"/>
                  </a:lnTo>
                  <a:lnTo>
                    <a:pt x="2116" y="2123"/>
                  </a:lnTo>
                  <a:lnTo>
                    <a:pt x="2110" y="2129"/>
                  </a:lnTo>
                  <a:lnTo>
                    <a:pt x="2097" y="2129"/>
                  </a:lnTo>
                  <a:lnTo>
                    <a:pt x="2084" y="2136"/>
                  </a:lnTo>
                  <a:lnTo>
                    <a:pt x="2072" y="2129"/>
                  </a:lnTo>
                  <a:lnTo>
                    <a:pt x="2059" y="2129"/>
                  </a:lnTo>
                  <a:lnTo>
                    <a:pt x="2053" y="2129"/>
                  </a:lnTo>
                  <a:lnTo>
                    <a:pt x="2046" y="2123"/>
                  </a:lnTo>
                  <a:lnTo>
                    <a:pt x="2040" y="2117"/>
                  </a:lnTo>
                  <a:lnTo>
                    <a:pt x="2034" y="2111"/>
                  </a:lnTo>
                  <a:lnTo>
                    <a:pt x="2027" y="2098"/>
                  </a:lnTo>
                  <a:lnTo>
                    <a:pt x="2027" y="2086"/>
                  </a:lnTo>
                  <a:lnTo>
                    <a:pt x="2014" y="2080"/>
                  </a:lnTo>
                  <a:lnTo>
                    <a:pt x="2002" y="2073"/>
                  </a:lnTo>
                  <a:lnTo>
                    <a:pt x="1983" y="2067"/>
                  </a:lnTo>
                  <a:lnTo>
                    <a:pt x="1970" y="2067"/>
                  </a:lnTo>
                  <a:lnTo>
                    <a:pt x="1945" y="2067"/>
                  </a:lnTo>
                  <a:lnTo>
                    <a:pt x="1926" y="2067"/>
                  </a:lnTo>
                  <a:lnTo>
                    <a:pt x="1900" y="2073"/>
                  </a:lnTo>
                  <a:lnTo>
                    <a:pt x="1887" y="2080"/>
                  </a:lnTo>
                  <a:lnTo>
                    <a:pt x="1875" y="2080"/>
                  </a:lnTo>
                  <a:lnTo>
                    <a:pt x="1856" y="2086"/>
                  </a:lnTo>
                  <a:lnTo>
                    <a:pt x="1843" y="2080"/>
                  </a:lnTo>
                  <a:lnTo>
                    <a:pt x="1830" y="2080"/>
                  </a:lnTo>
                  <a:lnTo>
                    <a:pt x="1824" y="2073"/>
                  </a:lnTo>
                  <a:lnTo>
                    <a:pt x="1824" y="2067"/>
                  </a:lnTo>
                  <a:lnTo>
                    <a:pt x="1824" y="2055"/>
                  </a:lnTo>
                  <a:lnTo>
                    <a:pt x="1817" y="2042"/>
                  </a:lnTo>
                  <a:lnTo>
                    <a:pt x="1817" y="2036"/>
                  </a:lnTo>
                  <a:lnTo>
                    <a:pt x="1817" y="2017"/>
                  </a:lnTo>
                  <a:lnTo>
                    <a:pt x="1817" y="2005"/>
                  </a:lnTo>
                  <a:lnTo>
                    <a:pt x="1811" y="1992"/>
                  </a:lnTo>
                  <a:lnTo>
                    <a:pt x="1805" y="1986"/>
                  </a:lnTo>
                  <a:lnTo>
                    <a:pt x="1792" y="1980"/>
                  </a:lnTo>
                  <a:lnTo>
                    <a:pt x="1779" y="1974"/>
                  </a:lnTo>
                  <a:lnTo>
                    <a:pt x="1767" y="1967"/>
                  </a:lnTo>
                  <a:lnTo>
                    <a:pt x="1760" y="1961"/>
                  </a:lnTo>
                  <a:lnTo>
                    <a:pt x="1748" y="1955"/>
                  </a:lnTo>
                  <a:lnTo>
                    <a:pt x="1741" y="1949"/>
                  </a:lnTo>
                  <a:lnTo>
                    <a:pt x="1741" y="1936"/>
                  </a:lnTo>
                  <a:lnTo>
                    <a:pt x="1735" y="1924"/>
                  </a:lnTo>
                  <a:lnTo>
                    <a:pt x="1709" y="1911"/>
                  </a:lnTo>
                  <a:lnTo>
                    <a:pt x="1684" y="1905"/>
                  </a:lnTo>
                  <a:lnTo>
                    <a:pt x="1665" y="1899"/>
                  </a:lnTo>
                  <a:lnTo>
                    <a:pt x="1646" y="1893"/>
                  </a:lnTo>
                  <a:lnTo>
                    <a:pt x="1620" y="1887"/>
                  </a:lnTo>
                  <a:lnTo>
                    <a:pt x="1608" y="1887"/>
                  </a:lnTo>
                  <a:lnTo>
                    <a:pt x="1582" y="1880"/>
                  </a:lnTo>
                  <a:lnTo>
                    <a:pt x="1557" y="1874"/>
                  </a:lnTo>
                  <a:lnTo>
                    <a:pt x="1544" y="1874"/>
                  </a:lnTo>
                  <a:lnTo>
                    <a:pt x="1519" y="1862"/>
                  </a:lnTo>
                  <a:lnTo>
                    <a:pt x="1493" y="1862"/>
                  </a:lnTo>
                  <a:lnTo>
                    <a:pt x="1474" y="1862"/>
                  </a:lnTo>
                  <a:lnTo>
                    <a:pt x="1455" y="1862"/>
                  </a:lnTo>
                  <a:lnTo>
                    <a:pt x="1430" y="1862"/>
                  </a:lnTo>
                  <a:lnTo>
                    <a:pt x="1417" y="1862"/>
                  </a:lnTo>
                  <a:lnTo>
                    <a:pt x="1404" y="1868"/>
                  </a:lnTo>
                  <a:lnTo>
                    <a:pt x="1398" y="1874"/>
                  </a:lnTo>
                  <a:lnTo>
                    <a:pt x="1385" y="1880"/>
                  </a:lnTo>
                  <a:lnTo>
                    <a:pt x="1373" y="1887"/>
                  </a:lnTo>
                  <a:lnTo>
                    <a:pt x="1366" y="1887"/>
                  </a:lnTo>
                  <a:lnTo>
                    <a:pt x="1354" y="1887"/>
                  </a:lnTo>
                  <a:lnTo>
                    <a:pt x="1341" y="1887"/>
                  </a:lnTo>
                  <a:lnTo>
                    <a:pt x="1328" y="1880"/>
                  </a:lnTo>
                  <a:lnTo>
                    <a:pt x="1322" y="1874"/>
                  </a:lnTo>
                  <a:lnTo>
                    <a:pt x="1309" y="1868"/>
                  </a:lnTo>
                  <a:lnTo>
                    <a:pt x="1290" y="1868"/>
                  </a:lnTo>
                  <a:lnTo>
                    <a:pt x="1277" y="1868"/>
                  </a:lnTo>
                  <a:lnTo>
                    <a:pt x="1252" y="1862"/>
                  </a:lnTo>
                  <a:lnTo>
                    <a:pt x="1226" y="1862"/>
                  </a:lnTo>
                  <a:lnTo>
                    <a:pt x="1195" y="1855"/>
                  </a:lnTo>
                  <a:lnTo>
                    <a:pt x="1176" y="1849"/>
                  </a:lnTo>
                  <a:lnTo>
                    <a:pt x="1150" y="1843"/>
                  </a:lnTo>
                  <a:lnTo>
                    <a:pt x="1125" y="1831"/>
                  </a:lnTo>
                  <a:lnTo>
                    <a:pt x="1099" y="1812"/>
                  </a:lnTo>
                  <a:lnTo>
                    <a:pt x="1087" y="1799"/>
                  </a:lnTo>
                  <a:lnTo>
                    <a:pt x="1061" y="1787"/>
                  </a:lnTo>
                  <a:lnTo>
                    <a:pt x="1029" y="1762"/>
                  </a:lnTo>
                  <a:lnTo>
                    <a:pt x="1010" y="1750"/>
                  </a:lnTo>
                  <a:lnTo>
                    <a:pt x="998" y="1737"/>
                  </a:lnTo>
                  <a:lnTo>
                    <a:pt x="979" y="1731"/>
                  </a:lnTo>
                  <a:lnTo>
                    <a:pt x="959" y="1731"/>
                  </a:lnTo>
                  <a:lnTo>
                    <a:pt x="940" y="1725"/>
                  </a:lnTo>
                  <a:lnTo>
                    <a:pt x="921" y="1725"/>
                  </a:lnTo>
                  <a:lnTo>
                    <a:pt x="909" y="1718"/>
                  </a:lnTo>
                  <a:lnTo>
                    <a:pt x="896" y="1706"/>
                  </a:lnTo>
                  <a:lnTo>
                    <a:pt x="883" y="1694"/>
                  </a:lnTo>
                  <a:lnTo>
                    <a:pt x="877" y="1687"/>
                  </a:lnTo>
                  <a:lnTo>
                    <a:pt x="864" y="1681"/>
                  </a:lnTo>
                  <a:lnTo>
                    <a:pt x="858" y="1669"/>
                  </a:lnTo>
                  <a:lnTo>
                    <a:pt x="839" y="1656"/>
                  </a:lnTo>
                  <a:lnTo>
                    <a:pt x="813" y="1644"/>
                  </a:lnTo>
                  <a:lnTo>
                    <a:pt x="794" y="1625"/>
                  </a:lnTo>
                  <a:lnTo>
                    <a:pt x="782" y="1613"/>
                  </a:lnTo>
                  <a:lnTo>
                    <a:pt x="756" y="1594"/>
                  </a:lnTo>
                  <a:lnTo>
                    <a:pt x="743" y="1569"/>
                  </a:lnTo>
                  <a:lnTo>
                    <a:pt x="731" y="1544"/>
                  </a:lnTo>
                  <a:lnTo>
                    <a:pt x="724" y="1519"/>
                  </a:lnTo>
                  <a:lnTo>
                    <a:pt x="712" y="1513"/>
                  </a:lnTo>
                  <a:lnTo>
                    <a:pt x="699" y="1501"/>
                  </a:lnTo>
                  <a:lnTo>
                    <a:pt x="693" y="1482"/>
                  </a:lnTo>
                  <a:lnTo>
                    <a:pt x="686" y="1457"/>
                  </a:lnTo>
                  <a:lnTo>
                    <a:pt x="680" y="1438"/>
                  </a:lnTo>
                  <a:lnTo>
                    <a:pt x="680" y="1432"/>
                  </a:lnTo>
                  <a:lnTo>
                    <a:pt x="680" y="1401"/>
                  </a:lnTo>
                  <a:lnTo>
                    <a:pt x="680" y="1382"/>
                  </a:lnTo>
                  <a:lnTo>
                    <a:pt x="680" y="1370"/>
                  </a:lnTo>
                  <a:lnTo>
                    <a:pt x="667" y="1364"/>
                  </a:lnTo>
                  <a:lnTo>
                    <a:pt x="654" y="1345"/>
                  </a:lnTo>
                  <a:lnTo>
                    <a:pt x="629" y="1333"/>
                  </a:lnTo>
                  <a:lnTo>
                    <a:pt x="604" y="1320"/>
                  </a:lnTo>
                  <a:lnTo>
                    <a:pt x="572" y="1301"/>
                  </a:lnTo>
                  <a:lnTo>
                    <a:pt x="546" y="1270"/>
                  </a:lnTo>
                  <a:lnTo>
                    <a:pt x="527" y="1252"/>
                  </a:lnTo>
                  <a:lnTo>
                    <a:pt x="508" y="1233"/>
                  </a:lnTo>
                  <a:lnTo>
                    <a:pt x="502" y="1221"/>
                  </a:lnTo>
                  <a:lnTo>
                    <a:pt x="496" y="1202"/>
                  </a:lnTo>
                  <a:lnTo>
                    <a:pt x="496" y="1189"/>
                  </a:lnTo>
                  <a:lnTo>
                    <a:pt x="496" y="1183"/>
                  </a:lnTo>
                  <a:lnTo>
                    <a:pt x="483" y="1158"/>
                  </a:lnTo>
                  <a:lnTo>
                    <a:pt x="470" y="1146"/>
                  </a:lnTo>
                  <a:lnTo>
                    <a:pt x="457" y="1127"/>
                  </a:lnTo>
                  <a:lnTo>
                    <a:pt x="445" y="1115"/>
                  </a:lnTo>
                  <a:lnTo>
                    <a:pt x="432" y="1102"/>
                  </a:lnTo>
                  <a:lnTo>
                    <a:pt x="413" y="1084"/>
                  </a:lnTo>
                  <a:lnTo>
                    <a:pt x="400" y="1071"/>
                  </a:lnTo>
                  <a:lnTo>
                    <a:pt x="387" y="1059"/>
                  </a:lnTo>
                  <a:lnTo>
                    <a:pt x="375" y="1046"/>
                  </a:lnTo>
                  <a:lnTo>
                    <a:pt x="362" y="1034"/>
                  </a:lnTo>
                  <a:lnTo>
                    <a:pt x="349" y="1021"/>
                  </a:lnTo>
                  <a:lnTo>
                    <a:pt x="337" y="1009"/>
                  </a:lnTo>
                  <a:lnTo>
                    <a:pt x="324" y="1003"/>
                  </a:lnTo>
                  <a:lnTo>
                    <a:pt x="299" y="1003"/>
                  </a:lnTo>
                  <a:lnTo>
                    <a:pt x="279" y="996"/>
                  </a:lnTo>
                  <a:lnTo>
                    <a:pt x="260" y="990"/>
                  </a:lnTo>
                  <a:lnTo>
                    <a:pt x="254" y="984"/>
                  </a:lnTo>
                  <a:lnTo>
                    <a:pt x="241" y="972"/>
                  </a:lnTo>
                  <a:lnTo>
                    <a:pt x="235" y="965"/>
                  </a:lnTo>
                  <a:lnTo>
                    <a:pt x="222" y="959"/>
                  </a:lnTo>
                  <a:lnTo>
                    <a:pt x="203" y="953"/>
                  </a:lnTo>
                  <a:lnTo>
                    <a:pt x="171" y="940"/>
                  </a:lnTo>
                  <a:lnTo>
                    <a:pt x="127" y="922"/>
                  </a:lnTo>
                  <a:lnTo>
                    <a:pt x="89" y="897"/>
                  </a:lnTo>
                  <a:lnTo>
                    <a:pt x="76" y="884"/>
                  </a:lnTo>
                  <a:lnTo>
                    <a:pt x="70" y="872"/>
                  </a:lnTo>
                  <a:lnTo>
                    <a:pt x="63" y="872"/>
                  </a:lnTo>
                  <a:lnTo>
                    <a:pt x="51" y="866"/>
                  </a:lnTo>
                  <a:lnTo>
                    <a:pt x="44" y="866"/>
                  </a:lnTo>
                  <a:lnTo>
                    <a:pt x="38" y="859"/>
                  </a:lnTo>
                  <a:lnTo>
                    <a:pt x="32" y="853"/>
                  </a:lnTo>
                  <a:lnTo>
                    <a:pt x="32" y="835"/>
                  </a:lnTo>
                  <a:lnTo>
                    <a:pt x="32" y="828"/>
                  </a:lnTo>
                  <a:lnTo>
                    <a:pt x="32" y="816"/>
                  </a:lnTo>
                  <a:lnTo>
                    <a:pt x="38" y="803"/>
                  </a:lnTo>
                  <a:lnTo>
                    <a:pt x="44" y="791"/>
                  </a:lnTo>
                  <a:lnTo>
                    <a:pt x="51" y="779"/>
                  </a:lnTo>
                  <a:lnTo>
                    <a:pt x="57" y="766"/>
                  </a:lnTo>
                  <a:lnTo>
                    <a:pt x="63" y="754"/>
                  </a:lnTo>
                  <a:lnTo>
                    <a:pt x="63" y="729"/>
                  </a:lnTo>
                  <a:lnTo>
                    <a:pt x="63" y="716"/>
                  </a:lnTo>
                  <a:lnTo>
                    <a:pt x="63" y="710"/>
                  </a:lnTo>
                  <a:lnTo>
                    <a:pt x="57" y="704"/>
                  </a:lnTo>
                  <a:lnTo>
                    <a:pt x="44" y="691"/>
                  </a:lnTo>
                  <a:lnTo>
                    <a:pt x="32" y="679"/>
                  </a:lnTo>
                  <a:lnTo>
                    <a:pt x="25" y="673"/>
                  </a:lnTo>
                  <a:lnTo>
                    <a:pt x="19" y="667"/>
                  </a:lnTo>
                  <a:lnTo>
                    <a:pt x="13" y="654"/>
                  </a:lnTo>
                  <a:lnTo>
                    <a:pt x="6" y="629"/>
                  </a:lnTo>
                  <a:lnTo>
                    <a:pt x="6" y="617"/>
                  </a:lnTo>
                  <a:lnTo>
                    <a:pt x="6" y="592"/>
                  </a:lnTo>
                  <a:lnTo>
                    <a:pt x="0" y="586"/>
                  </a:lnTo>
                  <a:lnTo>
                    <a:pt x="6" y="579"/>
                  </a:lnTo>
                  <a:lnTo>
                    <a:pt x="6" y="567"/>
                  </a:lnTo>
                  <a:lnTo>
                    <a:pt x="13" y="561"/>
                  </a:lnTo>
                  <a:lnTo>
                    <a:pt x="19" y="548"/>
                  </a:lnTo>
                  <a:lnTo>
                    <a:pt x="19" y="536"/>
                  </a:lnTo>
                  <a:lnTo>
                    <a:pt x="25" y="523"/>
                  </a:lnTo>
                  <a:lnTo>
                    <a:pt x="25" y="511"/>
                  </a:lnTo>
                  <a:lnTo>
                    <a:pt x="25" y="498"/>
                  </a:lnTo>
                  <a:lnTo>
                    <a:pt x="25" y="480"/>
                  </a:lnTo>
                  <a:lnTo>
                    <a:pt x="25" y="474"/>
                  </a:lnTo>
                  <a:lnTo>
                    <a:pt x="51" y="474"/>
                  </a:lnTo>
                  <a:lnTo>
                    <a:pt x="70" y="467"/>
                  </a:lnTo>
                  <a:lnTo>
                    <a:pt x="89" y="461"/>
                  </a:lnTo>
                  <a:lnTo>
                    <a:pt x="108" y="449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33" y="418"/>
                  </a:lnTo>
                  <a:lnTo>
                    <a:pt x="184" y="399"/>
                  </a:lnTo>
                  <a:lnTo>
                    <a:pt x="248" y="362"/>
                  </a:lnTo>
                  <a:lnTo>
                    <a:pt x="286" y="330"/>
                  </a:lnTo>
                  <a:lnTo>
                    <a:pt x="311" y="293"/>
                  </a:lnTo>
                  <a:lnTo>
                    <a:pt x="311" y="262"/>
                  </a:lnTo>
                  <a:lnTo>
                    <a:pt x="318" y="256"/>
                  </a:lnTo>
                  <a:lnTo>
                    <a:pt x="330" y="237"/>
                  </a:lnTo>
                  <a:lnTo>
                    <a:pt x="343" y="231"/>
                  </a:lnTo>
                  <a:lnTo>
                    <a:pt x="362" y="218"/>
                  </a:lnTo>
                  <a:lnTo>
                    <a:pt x="381" y="212"/>
                  </a:lnTo>
                  <a:lnTo>
                    <a:pt x="400" y="212"/>
                  </a:lnTo>
                  <a:lnTo>
                    <a:pt x="407" y="206"/>
                  </a:lnTo>
                  <a:lnTo>
                    <a:pt x="413" y="193"/>
                  </a:lnTo>
                  <a:lnTo>
                    <a:pt x="413" y="181"/>
                  </a:lnTo>
                  <a:lnTo>
                    <a:pt x="426" y="169"/>
                  </a:lnTo>
                  <a:lnTo>
                    <a:pt x="438" y="175"/>
                  </a:lnTo>
                  <a:lnTo>
                    <a:pt x="451" y="181"/>
                  </a:lnTo>
                  <a:lnTo>
                    <a:pt x="464" y="187"/>
                  </a:lnTo>
                  <a:lnTo>
                    <a:pt x="489" y="193"/>
                  </a:lnTo>
                  <a:lnTo>
                    <a:pt x="521" y="187"/>
                  </a:lnTo>
                  <a:lnTo>
                    <a:pt x="540" y="175"/>
                  </a:lnTo>
                  <a:lnTo>
                    <a:pt x="553" y="162"/>
                  </a:lnTo>
                  <a:lnTo>
                    <a:pt x="565" y="150"/>
                  </a:lnTo>
                  <a:lnTo>
                    <a:pt x="585" y="125"/>
                  </a:lnTo>
                  <a:lnTo>
                    <a:pt x="604" y="113"/>
                  </a:lnTo>
                  <a:lnTo>
                    <a:pt x="635" y="94"/>
                  </a:lnTo>
                  <a:lnTo>
                    <a:pt x="667" y="69"/>
                  </a:lnTo>
                  <a:lnTo>
                    <a:pt x="693" y="50"/>
                  </a:lnTo>
                  <a:lnTo>
                    <a:pt x="712" y="32"/>
                  </a:lnTo>
                  <a:lnTo>
                    <a:pt x="724" y="19"/>
                  </a:lnTo>
                  <a:lnTo>
                    <a:pt x="737" y="13"/>
                  </a:lnTo>
                  <a:lnTo>
                    <a:pt x="756" y="7"/>
                  </a:lnTo>
                  <a:lnTo>
                    <a:pt x="801" y="7"/>
                  </a:lnTo>
                  <a:lnTo>
                    <a:pt x="832" y="7"/>
                  </a:lnTo>
                  <a:lnTo>
                    <a:pt x="851" y="0"/>
                  </a:lnTo>
                  <a:lnTo>
                    <a:pt x="871" y="7"/>
                  </a:lnTo>
                  <a:lnTo>
                    <a:pt x="890" y="13"/>
                  </a:lnTo>
                  <a:lnTo>
                    <a:pt x="902" y="25"/>
                  </a:lnTo>
                  <a:lnTo>
                    <a:pt x="915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77760" y="74404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3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88920" y="744048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8640" y="7431120"/>
              <a:ext cx="111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09800" y="738180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6"/>
                  </a:moveTo>
                  <a:lnTo>
                    <a:pt x="0" y="87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9160" y="7351560"/>
              <a:ext cx="9720" cy="28764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6"/>
                  </a:moveTo>
                  <a:lnTo>
                    <a:pt x="0" y="174"/>
                  </a:lnTo>
                  <a:lnTo>
                    <a:pt x="6" y="18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880" y="7351560"/>
              <a:ext cx="10800" cy="376560"/>
            </a:xfrm>
            <a:custGeom>
              <a:avLst/>
              <a:gdLst/>
              <a:ahLst/>
              <a:rect l="l" t="t" r="r" b="b"/>
              <a:pathLst>
                <a:path w="7" h="237">
                  <a:moveTo>
                    <a:pt x="0" y="0"/>
                  </a:moveTo>
                  <a:lnTo>
                    <a:pt x="0" y="237"/>
                  </a:lnTo>
                  <a:lnTo>
                    <a:pt x="7" y="22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39680" y="7351560"/>
              <a:ext cx="9720" cy="35568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0"/>
                  </a:moveTo>
                  <a:lnTo>
                    <a:pt x="0" y="224"/>
                  </a:lnTo>
                  <a:lnTo>
                    <a:pt x="6" y="2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49400" y="7351560"/>
              <a:ext cx="9360" cy="34632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58760" y="7351560"/>
              <a:ext cx="11160" cy="327240"/>
            </a:xfrm>
            <a:custGeom>
              <a:avLst/>
              <a:gdLst/>
              <a:ahLst/>
              <a:rect l="l" t="t" r="r" b="b"/>
              <a:pathLst>
                <a:path w="7" h="206">
                  <a:moveTo>
                    <a:pt x="0" y="0"/>
                  </a:moveTo>
                  <a:lnTo>
                    <a:pt x="0" y="206"/>
                  </a:lnTo>
                  <a:lnTo>
                    <a:pt x="7" y="19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9920" y="7361280"/>
              <a:ext cx="9720" cy="306360"/>
            </a:xfrm>
            <a:custGeom>
              <a:avLst/>
              <a:gdLst/>
              <a:ahLst/>
              <a:rect l="l" t="t" r="r" b="b"/>
              <a:pathLst>
                <a:path w="6" h="193">
                  <a:moveTo>
                    <a:pt x="0" y="0"/>
                  </a:moveTo>
                  <a:lnTo>
                    <a:pt x="0" y="193"/>
                  </a:lnTo>
                  <a:lnTo>
                    <a:pt x="6" y="18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9640" y="7391520"/>
              <a:ext cx="936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89000" y="7400880"/>
              <a:ext cx="11160" cy="238320"/>
            </a:xfrm>
            <a:custGeom>
              <a:avLst/>
              <a:gdLst/>
              <a:ahLst/>
              <a:rect l="l" t="t" r="r" b="b"/>
              <a:pathLst>
                <a:path w="7" h="150">
                  <a:moveTo>
                    <a:pt x="0" y="0"/>
                  </a:moveTo>
                  <a:lnTo>
                    <a:pt x="0" y="150"/>
                  </a:lnTo>
                  <a:lnTo>
                    <a:pt x="7" y="1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00160" y="7421400"/>
              <a:ext cx="19080" cy="206640"/>
            </a:xfrm>
            <a:custGeom>
              <a:avLst/>
              <a:gdLst/>
              <a:ahLst/>
              <a:rect l="l" t="t" r="r" b="b"/>
              <a:pathLst>
                <a:path w="12" h="130">
                  <a:moveTo>
                    <a:pt x="0" y="0"/>
                  </a:moveTo>
                  <a:lnTo>
                    <a:pt x="0" y="130"/>
                  </a:lnTo>
                  <a:lnTo>
                    <a:pt x="12" y="1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30400" y="739152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19240" y="7421400"/>
              <a:ext cx="11160" cy="177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39760" y="7332840"/>
              <a:ext cx="11160" cy="18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30400" y="7440480"/>
              <a:ext cx="9360" cy="149400"/>
            </a:xfrm>
            <a:custGeom>
              <a:avLst/>
              <a:gdLst/>
              <a:ahLst/>
              <a:rect l="l" t="t" r="r" b="b"/>
              <a:pathLst>
                <a:path w="6" h="94">
                  <a:moveTo>
                    <a:pt x="0" y="0"/>
                  </a:moveTo>
                  <a:lnTo>
                    <a:pt x="0" y="94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50920" y="7321680"/>
              <a:ext cx="9720" cy="29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39760" y="739152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50920" y="740088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39760" y="745020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0920" y="7461360"/>
              <a:ext cx="972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60640" y="730260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60640" y="7400880"/>
              <a:ext cx="936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1"/>
                  </a:lnTo>
                  <a:lnTo>
                    <a:pt x="6" y="3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70000" y="7311960"/>
              <a:ext cx="11160" cy="6048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25"/>
                  </a:lnTo>
                  <a:lnTo>
                    <a:pt x="7" y="38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60640" y="746136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81160" y="731196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6"/>
                  </a:moveTo>
                  <a:lnTo>
                    <a:pt x="0" y="38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70000" y="7410600"/>
              <a:ext cx="11160" cy="139680"/>
            </a:xfrm>
            <a:custGeom>
              <a:avLst/>
              <a:gdLst/>
              <a:ahLst/>
              <a:rect l="l" t="t" r="r" b="b"/>
              <a:pathLst>
                <a:path w="7" h="88">
                  <a:moveTo>
                    <a:pt x="0" y="0"/>
                  </a:moveTo>
                  <a:lnTo>
                    <a:pt x="0" y="88"/>
                  </a:lnTo>
                  <a:lnTo>
                    <a:pt x="7" y="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90520" y="7311960"/>
              <a:ext cx="972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1160" y="741060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90520" y="7431120"/>
              <a:ext cx="972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90520" y="73818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00240" y="7311960"/>
              <a:ext cx="11160" cy="9864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0" y="0"/>
                  </a:moveTo>
                  <a:lnTo>
                    <a:pt x="0" y="56"/>
                  </a:lnTo>
                  <a:lnTo>
                    <a:pt x="7" y="6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11400" y="72230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00240" y="72626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00240" y="745020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44"/>
                  </a:lnTo>
                  <a:lnTo>
                    <a:pt x="7" y="3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1400" y="727236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20760" y="722304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44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11400" y="736128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31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0760" y="7381800"/>
              <a:ext cx="9720" cy="68400"/>
            </a:xfrm>
            <a:custGeom>
              <a:avLst/>
              <a:gdLst/>
              <a:ahLst/>
              <a:rect l="l" t="t" r="r" b="b"/>
              <a:pathLst>
                <a:path w="6" h="43">
                  <a:moveTo>
                    <a:pt x="0" y="0"/>
                  </a:moveTo>
                  <a:lnTo>
                    <a:pt x="0" y="31"/>
                  </a:lnTo>
                  <a:lnTo>
                    <a:pt x="6" y="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11400" y="7450200"/>
              <a:ext cx="9360" cy="60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30480" y="7232760"/>
              <a:ext cx="1080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0"/>
                  </a:lnTo>
                  <a:lnTo>
                    <a:pt x="7" y="5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20760" y="733284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30480" y="7332840"/>
              <a:ext cx="10800" cy="18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20760" y="7450200"/>
              <a:ext cx="972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30480" y="7391520"/>
              <a:ext cx="1080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41280" y="715500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41280" y="7232760"/>
              <a:ext cx="972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41280" y="72327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51000" y="714384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1000" y="724392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74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41280" y="7391520"/>
              <a:ext cx="972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60360" y="71341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60360" y="7194600"/>
              <a:ext cx="11160" cy="187200"/>
            </a:xfrm>
            <a:custGeom>
              <a:avLst/>
              <a:gdLst/>
              <a:ahLst/>
              <a:rect l="l" t="t" r="r" b="b"/>
              <a:pathLst>
                <a:path w="7" h="118">
                  <a:moveTo>
                    <a:pt x="0" y="0"/>
                  </a:moveTo>
                  <a:lnTo>
                    <a:pt x="0" y="112"/>
                  </a:lnTo>
                  <a:lnTo>
                    <a:pt x="7" y="1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1000" y="7381800"/>
              <a:ext cx="20520" cy="119160"/>
            </a:xfrm>
            <a:custGeom>
              <a:avLst/>
              <a:gdLst/>
              <a:ahLst/>
              <a:rect l="l" t="t" r="r" b="b"/>
              <a:pathLst>
                <a:path w="13" h="75">
                  <a:moveTo>
                    <a:pt x="0" y="0"/>
                  </a:moveTo>
                  <a:lnTo>
                    <a:pt x="0" y="75"/>
                  </a:lnTo>
                  <a:lnTo>
                    <a:pt x="13" y="68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71520" y="708516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71520" y="714384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1520" y="7223040"/>
              <a:ext cx="972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81240" y="7075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81240" y="714384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81240" y="721368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6"/>
                  </a:moveTo>
                  <a:lnTo>
                    <a:pt x="0" y="44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81240" y="7283520"/>
              <a:ext cx="9360" cy="11736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0" y="0"/>
                  </a:moveTo>
                  <a:lnTo>
                    <a:pt x="0" y="68"/>
                  </a:lnTo>
                  <a:lnTo>
                    <a:pt x="6" y="7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71520" y="740088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0600" y="6640560"/>
              <a:ext cx="111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81240" y="70056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90600" y="6996240"/>
              <a:ext cx="11160" cy="29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90600" y="70660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0600" y="71341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90600" y="72230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90600" y="7283520"/>
              <a:ext cx="11160" cy="127080"/>
            </a:xfrm>
            <a:custGeom>
              <a:avLst/>
              <a:gdLst/>
              <a:ahLst/>
              <a:rect l="l" t="t" r="r" b="b"/>
              <a:pathLst>
                <a:path w="7" h="80">
                  <a:moveTo>
                    <a:pt x="0" y="6"/>
                  </a:moveTo>
                  <a:lnTo>
                    <a:pt x="0" y="74"/>
                  </a:lnTo>
                  <a:lnTo>
                    <a:pt x="7" y="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81240" y="741060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01760" y="66103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01760" y="66405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01760" y="667080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01760" y="70056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01760" y="7045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01760" y="70754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01760" y="7134120"/>
              <a:ext cx="936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01760" y="72230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01760" y="72626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90600" y="742140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01760" y="7311960"/>
              <a:ext cx="93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11120" y="661032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4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11120" y="7005600"/>
              <a:ext cx="111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11120" y="70358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11120" y="70754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120" y="7134120"/>
              <a:ext cx="11160" cy="39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120" y="7194600"/>
              <a:ext cx="111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120" y="7332840"/>
              <a:ext cx="1116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22280" y="6531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22280" y="663084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22280" y="6996240"/>
              <a:ext cx="972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22280" y="703584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22280" y="707544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22280" y="7134120"/>
              <a:ext cx="9720" cy="39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22280" y="718344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22280" y="721368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11120" y="7332840"/>
              <a:ext cx="1116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0" y="99"/>
                  </a:lnTo>
                  <a:lnTo>
                    <a:pt x="7" y="9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22280" y="7292880"/>
              <a:ext cx="9720" cy="1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2000" y="65214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2000" y="664056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32000" y="66898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32000" y="694692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32000" y="7005600"/>
              <a:ext cx="936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32000" y="7134120"/>
              <a:ext cx="9360" cy="39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32000" y="7183440"/>
              <a:ext cx="93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41360" y="6521400"/>
              <a:ext cx="111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41360" y="65419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41360" y="6649920"/>
              <a:ext cx="1116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41360" y="67294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41360" y="687708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41360" y="694692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41360" y="7005600"/>
              <a:ext cx="1116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41360" y="71341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2000" y="7253280"/>
              <a:ext cx="9360" cy="236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52520" y="63644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52520" y="643248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41360" y="64929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2520" y="650232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52520" y="664992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2520" y="67197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2520" y="672948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2520" y="6867360"/>
              <a:ext cx="9720" cy="20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52520" y="696600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41360" y="71643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6"/>
                  </a:moveTo>
                  <a:lnTo>
                    <a:pt x="0" y="37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52520" y="7016760"/>
              <a:ext cx="9720" cy="20628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41360" y="7253280"/>
              <a:ext cx="11160" cy="236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62240" y="633420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62240" y="634356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52520" y="64040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2240" y="640404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62240" y="642312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2240" y="65023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62240" y="6610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62240" y="66499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62240" y="67104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62240" y="67597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62240" y="68184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62240" y="6867360"/>
              <a:ext cx="9360" cy="20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62240" y="693720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2240" y="69660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62240" y="7035840"/>
              <a:ext cx="93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62240" y="72230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52520" y="7262640"/>
              <a:ext cx="9720" cy="227160"/>
            </a:xfrm>
            <a:custGeom>
              <a:avLst/>
              <a:gdLst/>
              <a:ahLst/>
              <a:rect l="l" t="t" r="r" b="b"/>
              <a:pathLst>
                <a:path w="6" h="143">
                  <a:moveTo>
                    <a:pt x="0" y="0"/>
                  </a:moveTo>
                  <a:lnTo>
                    <a:pt x="0" y="143"/>
                  </a:lnTo>
                  <a:lnTo>
                    <a:pt x="6" y="1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62240" y="7272360"/>
              <a:ext cx="9360" cy="217440"/>
            </a:xfrm>
            <a:custGeom>
              <a:avLst/>
              <a:gdLst/>
              <a:ahLst/>
              <a:rect l="l" t="t" r="r" b="b"/>
              <a:pathLst>
                <a:path w="6" h="137">
                  <a:moveTo>
                    <a:pt x="0" y="0"/>
                  </a:moveTo>
                  <a:lnTo>
                    <a:pt x="0" y="137"/>
                  </a:lnTo>
                  <a:lnTo>
                    <a:pt x="6" y="13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71600" y="63039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71600" y="6324480"/>
              <a:ext cx="1116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1600" y="6392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71600" y="640404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1600" y="65912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1600" y="66405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67485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1600" y="6788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71600" y="68086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1600" y="68673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3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600" y="693720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71600" y="70261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71600" y="7066080"/>
              <a:ext cx="1116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8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1600" y="709452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75"/>
                  </a:lnTo>
                  <a:lnTo>
                    <a:pt x="7" y="81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71600" y="72230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71600" y="729288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2760" y="62755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82760" y="6303960"/>
              <a:ext cx="936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1600" y="649296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2760" y="6492960"/>
              <a:ext cx="93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82760" y="6570720"/>
              <a:ext cx="9360" cy="50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82760" y="6659640"/>
              <a:ext cx="93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671040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82760" y="67788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82760" y="680868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82760" y="6848640"/>
              <a:ext cx="936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82760" y="6916680"/>
              <a:ext cx="936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6"/>
                  </a:moveTo>
                  <a:lnTo>
                    <a:pt x="0" y="38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82760" y="700560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82760" y="70660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82760" y="7105680"/>
              <a:ext cx="9360" cy="138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82760" y="7253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71600" y="7342200"/>
              <a:ext cx="1116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93"/>
                  </a:lnTo>
                  <a:lnTo>
                    <a:pt x="7" y="9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82760" y="7332840"/>
              <a:ext cx="9360" cy="156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92120" y="626436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92120" y="631512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82760" y="6392880"/>
              <a:ext cx="936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92120" y="6392880"/>
              <a:ext cx="972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92120" y="64720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92120" y="6570720"/>
              <a:ext cx="972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2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92120" y="66596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2760" y="6699240"/>
              <a:ext cx="93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92120" y="66992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382760" y="4645080"/>
            <a:ext cx="150840" cy="2844720"/>
            <a:chOff x="1382760" y="4645080"/>
            <a:chExt cx="150840" cy="2844720"/>
          </a:xfrm>
        </p:grpSpPr>
        <p:sp>
          <p:nvSpPr>
            <p:cNvPr id="243" name=""/>
            <p:cNvSpPr/>
            <p:nvPr/>
          </p:nvSpPr>
          <p:spPr>
            <a:xfrm>
              <a:off x="1382760" y="674856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92120" y="67388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2120" y="6788160"/>
              <a:ext cx="972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92120" y="68486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92120" y="68882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2120" y="6916680"/>
              <a:ext cx="9720" cy="60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92120" y="701676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92120" y="7085160"/>
              <a:ext cx="972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2120" y="711504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92120" y="725328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01840" y="624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01840" y="6284880"/>
              <a:ext cx="111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01840" y="629460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3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01840" y="63244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1840" y="639288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44"/>
                  </a:lnTo>
                  <a:lnTo>
                    <a:pt x="7" y="44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01840" y="64627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92120" y="6492960"/>
              <a:ext cx="972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1840" y="64929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01840" y="6570720"/>
              <a:ext cx="1116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7"/>
                  </a:moveTo>
                  <a:lnTo>
                    <a:pt x="0" y="44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01840" y="667080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1840" y="672948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840" y="6778800"/>
              <a:ext cx="111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01840" y="68184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01840" y="6858000"/>
              <a:ext cx="11160" cy="119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1840" y="7105680"/>
              <a:ext cx="11160" cy="127080"/>
            </a:xfrm>
            <a:custGeom>
              <a:avLst/>
              <a:gdLst/>
              <a:ahLst/>
              <a:rect l="l" t="t" r="r" b="b"/>
              <a:pathLst>
                <a:path w="7" h="80">
                  <a:moveTo>
                    <a:pt x="0" y="6"/>
                  </a:moveTo>
                  <a:lnTo>
                    <a:pt x="0" y="80"/>
                  </a:lnTo>
                  <a:lnTo>
                    <a:pt x="7" y="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01840" y="7243920"/>
              <a:ext cx="111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1840" y="730260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92120" y="7332840"/>
              <a:ext cx="9720" cy="156960"/>
            </a:xfrm>
            <a:custGeom>
              <a:avLst/>
              <a:gdLst/>
              <a:ahLst/>
              <a:rect l="l" t="t" r="r" b="b"/>
              <a:pathLst>
                <a:path w="6" h="99">
                  <a:moveTo>
                    <a:pt x="0" y="0"/>
                  </a:moveTo>
                  <a:lnTo>
                    <a:pt x="0" y="99"/>
                  </a:lnTo>
                  <a:lnTo>
                    <a:pt x="6" y="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13000" y="6254640"/>
              <a:ext cx="9360" cy="138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13000" y="6492960"/>
              <a:ext cx="9360" cy="38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13000" y="65419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13000" y="657072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13000" y="6670800"/>
              <a:ext cx="93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13000" y="6778800"/>
              <a:ext cx="936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13000" y="6867360"/>
              <a:ext cx="93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13000" y="6986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13000" y="7005600"/>
              <a:ext cx="93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3000" y="7054920"/>
              <a:ext cx="936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7"/>
                  </a:moveTo>
                  <a:lnTo>
                    <a:pt x="0" y="106"/>
                  </a:lnTo>
                  <a:lnTo>
                    <a:pt x="6" y="1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13000" y="724392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13000" y="731196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735156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0"/>
                  </a:moveTo>
                  <a:lnTo>
                    <a:pt x="0" y="87"/>
                  </a:lnTo>
                  <a:lnTo>
                    <a:pt x="7" y="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13000" y="7372440"/>
              <a:ext cx="936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22360" y="620568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22360" y="62643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13000" y="640404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13000" y="645336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22360" y="6404040"/>
              <a:ext cx="9720" cy="77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22360" y="6581880"/>
              <a:ext cx="972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22360" y="6670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22360" y="668016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22360" y="677880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22360" y="684864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22360" y="6867360"/>
              <a:ext cx="9720" cy="98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22360" y="69865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22360" y="707544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22360" y="72439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22360" y="733284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32080" y="619596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22360" y="648180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7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22360" y="6541920"/>
              <a:ext cx="972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32080" y="6481800"/>
              <a:ext cx="1080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32080" y="6570720"/>
              <a:ext cx="1080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7"/>
                  </a:moveTo>
                  <a:lnTo>
                    <a:pt x="0" y="38"/>
                  </a:lnTo>
                  <a:lnTo>
                    <a:pt x="7" y="3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32080" y="66308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6"/>
                  </a:moveTo>
                  <a:lnTo>
                    <a:pt x="0" y="12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32080" y="6689880"/>
              <a:ext cx="1080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5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32080" y="678816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7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32080" y="6848640"/>
              <a:ext cx="1080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32080" y="699624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32080" y="7045200"/>
              <a:ext cx="1080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32080" y="7085160"/>
              <a:ext cx="10800" cy="118800"/>
            </a:xfrm>
            <a:custGeom>
              <a:avLst/>
              <a:gdLst/>
              <a:ahLst/>
              <a:rect l="l" t="t" r="r" b="b"/>
              <a:pathLst>
                <a:path w="7" h="75">
                  <a:moveTo>
                    <a:pt x="0" y="0"/>
                  </a:moveTo>
                  <a:lnTo>
                    <a:pt x="0" y="69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32080" y="724392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22360" y="72928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32080" y="729288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2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22360" y="7381800"/>
              <a:ext cx="9720" cy="98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42880" y="6195960"/>
              <a:ext cx="972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42880" y="62643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32080" y="6294600"/>
              <a:ext cx="10800" cy="187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42880" y="629460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42880" y="6315120"/>
              <a:ext cx="9720" cy="236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2880" y="6570720"/>
              <a:ext cx="9720" cy="50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0" y="32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2880" y="6630840"/>
              <a:ext cx="972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2880" y="669924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44"/>
                  </a:lnTo>
                  <a:lnTo>
                    <a:pt x="6" y="44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42880" y="683748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7"/>
                  </a:moveTo>
                  <a:lnTo>
                    <a:pt x="0" y="50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42880" y="693720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42880" y="700560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2880" y="70452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2080" y="720396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6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42880" y="7134120"/>
              <a:ext cx="972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6"/>
                  </a:moveTo>
                  <a:lnTo>
                    <a:pt x="0" y="62"/>
                  </a:lnTo>
                  <a:lnTo>
                    <a:pt x="6" y="6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42880" y="7243920"/>
              <a:ext cx="972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42880" y="729288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32080" y="7332840"/>
              <a:ext cx="1080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93"/>
                  </a:lnTo>
                  <a:lnTo>
                    <a:pt x="7" y="9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2880" y="7342200"/>
              <a:ext cx="972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52600" y="6195960"/>
              <a:ext cx="111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2600" y="626436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52600" y="62946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52600" y="6315120"/>
              <a:ext cx="11160" cy="236520"/>
            </a:xfrm>
            <a:custGeom>
              <a:avLst/>
              <a:gdLst/>
              <a:ahLst/>
              <a:rect l="l" t="t" r="r" b="b"/>
              <a:pathLst>
                <a:path w="7" h="149">
                  <a:moveTo>
                    <a:pt x="0" y="0"/>
                  </a:moveTo>
                  <a:lnTo>
                    <a:pt x="0" y="149"/>
                  </a:lnTo>
                  <a:lnTo>
                    <a:pt x="7" y="14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2600" y="657072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52600" y="662148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6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2600" y="669924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7"/>
                  </a:moveTo>
                  <a:lnTo>
                    <a:pt x="0" y="44"/>
                  </a:lnTo>
                  <a:lnTo>
                    <a:pt x="7" y="44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42880" y="6778800"/>
              <a:ext cx="972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52600" y="677880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52600" y="69962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52600" y="705492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52600" y="70754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52600" y="715500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0" y="49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52600" y="725328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2600" y="7292880"/>
              <a:ext cx="1116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63760" y="6186600"/>
              <a:ext cx="93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63760" y="6284880"/>
              <a:ext cx="936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63760" y="657072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63760" y="6621480"/>
              <a:ext cx="936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63760" y="66992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63760" y="671976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63760" y="69073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63760" y="694692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63760" y="69962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63760" y="70452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63760" y="70945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63760" y="7155000"/>
              <a:ext cx="9360" cy="680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63760" y="7232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63760" y="7253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52600" y="7351560"/>
              <a:ext cx="11160" cy="12888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73120" y="471312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38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73120" y="6175440"/>
              <a:ext cx="9720" cy="100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73120" y="628488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6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73120" y="6581880"/>
              <a:ext cx="9720" cy="108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73120" y="6748560"/>
              <a:ext cx="9720" cy="139680"/>
            </a:xfrm>
            <a:custGeom>
              <a:avLst/>
              <a:gdLst/>
              <a:ahLst/>
              <a:rect l="l" t="t" r="r" b="b"/>
              <a:pathLst>
                <a:path w="6" h="88">
                  <a:moveTo>
                    <a:pt x="0" y="0"/>
                  </a:moveTo>
                  <a:lnTo>
                    <a:pt x="0" y="81"/>
                  </a:lnTo>
                  <a:lnTo>
                    <a:pt x="6" y="8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73120" y="688824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63760" y="6937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73120" y="69469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73120" y="700560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73120" y="704520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73120" y="7105680"/>
              <a:ext cx="9720" cy="117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73120" y="72230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73120" y="725328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63760" y="7302600"/>
              <a:ext cx="9360" cy="168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73120" y="7302600"/>
              <a:ext cx="972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10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82840" y="46735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82840" y="471312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44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82840" y="60181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73120" y="6058080"/>
              <a:ext cx="2088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82840" y="60768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82840" y="6175440"/>
              <a:ext cx="11160" cy="100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82840" y="6315120"/>
              <a:ext cx="11160" cy="245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82840" y="6581880"/>
              <a:ext cx="11160" cy="108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2840" y="669924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82840" y="671976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82840" y="6759720"/>
              <a:ext cx="11160" cy="156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82840" y="693720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6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82840" y="698652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62"/>
                  </a:lnTo>
                  <a:lnTo>
                    <a:pt x="7" y="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82840" y="7105680"/>
              <a:ext cx="11160" cy="187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82840" y="7311960"/>
              <a:ext cx="11160" cy="149400"/>
            </a:xfrm>
            <a:custGeom>
              <a:avLst/>
              <a:gdLst/>
              <a:ahLst/>
              <a:rect l="l" t="t" r="r" b="b"/>
              <a:pathLst>
                <a:path w="7" h="94">
                  <a:moveTo>
                    <a:pt x="0" y="0"/>
                  </a:moveTo>
                  <a:lnTo>
                    <a:pt x="0" y="94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94000" y="4664160"/>
              <a:ext cx="9360" cy="137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94000" y="596916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4000" y="6146640"/>
              <a:ext cx="93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94000" y="6165720"/>
              <a:ext cx="93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94000" y="617544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69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4000" y="6294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94000" y="6315120"/>
              <a:ext cx="9360" cy="245880"/>
            </a:xfrm>
            <a:custGeom>
              <a:avLst/>
              <a:gdLst/>
              <a:ahLst/>
              <a:rect l="l" t="t" r="r" b="b"/>
              <a:pathLst>
                <a:path w="6" h="155">
                  <a:moveTo>
                    <a:pt x="0" y="0"/>
                  </a:moveTo>
                  <a:lnTo>
                    <a:pt x="0" y="155"/>
                  </a:lnTo>
                  <a:lnTo>
                    <a:pt x="6" y="1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94000" y="658188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94000" y="668988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6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94000" y="6719760"/>
              <a:ext cx="9360" cy="1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94000" y="693720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94000" y="698652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68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94000" y="7115040"/>
              <a:ext cx="93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03360" y="4664160"/>
              <a:ext cx="936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03360" y="4811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03360" y="4832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03360" y="486252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1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94000" y="601812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03360" y="6018120"/>
              <a:ext cx="936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94000" y="6067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03360" y="6324480"/>
              <a:ext cx="9360" cy="236520"/>
            </a:xfrm>
            <a:custGeom>
              <a:avLst/>
              <a:gdLst/>
              <a:ahLst/>
              <a:rect l="l" t="t" r="r" b="b"/>
              <a:pathLst>
                <a:path w="6" h="149">
                  <a:moveTo>
                    <a:pt x="0" y="0"/>
                  </a:moveTo>
                  <a:lnTo>
                    <a:pt x="0" y="149"/>
                  </a:lnTo>
                  <a:lnTo>
                    <a:pt x="6" y="1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03360" y="65818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03360" y="660096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44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03360" y="668988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03360" y="6738840"/>
              <a:ext cx="9360" cy="198360"/>
            </a:xfrm>
            <a:custGeom>
              <a:avLst/>
              <a:gdLst/>
              <a:ahLst/>
              <a:rect l="l" t="t" r="r" b="b"/>
              <a:pathLst>
                <a:path w="6" h="125">
                  <a:moveTo>
                    <a:pt x="0" y="0"/>
                  </a:moveTo>
                  <a:lnTo>
                    <a:pt x="0" y="118"/>
                  </a:lnTo>
                  <a:lnTo>
                    <a:pt x="6" y="1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03360" y="6956280"/>
              <a:ext cx="93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03360" y="69771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03360" y="700560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0"/>
                  </a:moveTo>
                  <a:lnTo>
                    <a:pt x="0" y="63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3360" y="712476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06"/>
                  </a:lnTo>
                  <a:lnTo>
                    <a:pt x="6" y="1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94000" y="7311960"/>
              <a:ext cx="936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03360" y="731196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12720" y="54640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12720" y="55339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12720" y="5889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12720" y="59086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7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12720" y="59292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03360" y="596916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12720" y="5969160"/>
              <a:ext cx="111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03360" y="6067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503360" y="6146640"/>
              <a:ext cx="936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12720" y="6215040"/>
              <a:ext cx="11160" cy="345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12720" y="660096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5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12720" y="66898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12720" y="6759720"/>
              <a:ext cx="11160" cy="177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12720" y="6956280"/>
              <a:ext cx="111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12720" y="6977160"/>
              <a:ext cx="11160" cy="117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12720" y="7115040"/>
              <a:ext cx="11160" cy="196920"/>
            </a:xfrm>
            <a:custGeom>
              <a:avLst/>
              <a:gdLst/>
              <a:ahLst/>
              <a:rect l="l" t="t" r="r" b="b"/>
              <a:pathLst>
                <a:path w="7" h="124">
                  <a:moveTo>
                    <a:pt x="0" y="6"/>
                  </a:moveTo>
                  <a:lnTo>
                    <a:pt x="0" y="118"/>
                  </a:lnTo>
                  <a:lnTo>
                    <a:pt x="7" y="12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23880" y="464508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12720" y="4664160"/>
              <a:ext cx="1116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512720" y="4556160"/>
            <a:ext cx="162000" cy="2884320"/>
            <a:chOff x="1512720" y="4556160"/>
            <a:chExt cx="162000" cy="2884320"/>
          </a:xfrm>
        </p:grpSpPr>
        <p:sp>
          <p:nvSpPr>
            <p:cNvPr id="444" name=""/>
            <p:cNvSpPr/>
            <p:nvPr/>
          </p:nvSpPr>
          <p:spPr>
            <a:xfrm>
              <a:off x="1523880" y="4654440"/>
              <a:ext cx="972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6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12720" y="4802040"/>
              <a:ext cx="11160" cy="149400"/>
            </a:xfrm>
            <a:custGeom>
              <a:avLst/>
              <a:gdLst/>
              <a:ahLst/>
              <a:rect l="l" t="t" r="r" b="b"/>
              <a:pathLst>
                <a:path w="7" h="94">
                  <a:moveTo>
                    <a:pt x="0" y="0"/>
                  </a:moveTo>
                  <a:lnTo>
                    <a:pt x="0" y="75"/>
                  </a:lnTo>
                  <a:lnTo>
                    <a:pt x="7" y="9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23880" y="4802040"/>
              <a:ext cx="9720" cy="149400"/>
            </a:xfrm>
            <a:custGeom>
              <a:avLst/>
              <a:gdLst/>
              <a:ahLst/>
              <a:rect l="l" t="t" r="r" b="b"/>
              <a:pathLst>
                <a:path w="6" h="94">
                  <a:moveTo>
                    <a:pt x="0" y="0"/>
                  </a:moveTo>
                  <a:lnTo>
                    <a:pt x="0" y="94"/>
                  </a:lnTo>
                  <a:lnTo>
                    <a:pt x="6" y="8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23880" y="54151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23880" y="547380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12720" y="5504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6"/>
                  </a:moveTo>
                  <a:lnTo>
                    <a:pt x="0" y="6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23880" y="5504040"/>
              <a:ext cx="972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23880" y="5840280"/>
              <a:ext cx="972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23880" y="58500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23880" y="5880240"/>
              <a:ext cx="9720" cy="680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3880" y="5958000"/>
              <a:ext cx="972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7"/>
                  </a:moveTo>
                  <a:lnTo>
                    <a:pt x="0" y="32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12720" y="6018120"/>
              <a:ext cx="1116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23880" y="6018120"/>
              <a:ext cx="972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12720" y="60674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23880" y="6076800"/>
              <a:ext cx="9720" cy="20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12720" y="614664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618660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6215040"/>
              <a:ext cx="972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7"/>
                  </a:moveTo>
                  <a:lnTo>
                    <a:pt x="0" y="218"/>
                  </a:lnTo>
                  <a:lnTo>
                    <a:pt x="6" y="218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658188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23880" y="6610320"/>
              <a:ext cx="9720" cy="316080"/>
            </a:xfrm>
            <a:custGeom>
              <a:avLst/>
              <a:gdLst/>
              <a:ahLst/>
              <a:rect l="l" t="t" r="r" b="b"/>
              <a:pathLst>
                <a:path w="6" h="199">
                  <a:moveTo>
                    <a:pt x="0" y="0"/>
                  </a:moveTo>
                  <a:lnTo>
                    <a:pt x="0" y="199"/>
                  </a:lnTo>
                  <a:lnTo>
                    <a:pt x="6" y="19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6956280"/>
              <a:ext cx="972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23880" y="6977160"/>
              <a:ext cx="9720" cy="11736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0" y="0"/>
                  </a:moveTo>
                  <a:lnTo>
                    <a:pt x="0" y="74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12720" y="7321680"/>
              <a:ext cx="11160" cy="118800"/>
            </a:xfrm>
            <a:custGeom>
              <a:avLst/>
              <a:gdLst/>
              <a:ahLst/>
              <a:rect l="l" t="t" r="r" b="b"/>
              <a:pathLst>
                <a:path w="7" h="75">
                  <a:moveTo>
                    <a:pt x="0" y="0"/>
                  </a:moveTo>
                  <a:lnTo>
                    <a:pt x="0" y="75"/>
                  </a:lnTo>
                  <a:lnTo>
                    <a:pt x="7" y="6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23880" y="7105680"/>
              <a:ext cx="9720" cy="325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33600" y="4645080"/>
              <a:ext cx="9360" cy="315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33600" y="53560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33600" y="53751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33600" y="5464080"/>
              <a:ext cx="936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6"/>
                  </a:moveTo>
                  <a:lnTo>
                    <a:pt x="0" y="62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33600" y="5840280"/>
              <a:ext cx="936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33600" y="5889600"/>
              <a:ext cx="9360" cy="157320"/>
            </a:xfrm>
            <a:custGeom>
              <a:avLst/>
              <a:gdLst/>
              <a:ahLst/>
              <a:rect l="l" t="t" r="r" b="b"/>
              <a:pathLst>
                <a:path w="6" h="99">
                  <a:moveTo>
                    <a:pt x="0" y="0"/>
                  </a:moveTo>
                  <a:lnTo>
                    <a:pt x="0" y="99"/>
                  </a:lnTo>
                  <a:lnTo>
                    <a:pt x="6" y="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33600" y="61261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33600" y="6205680"/>
              <a:ext cx="9360" cy="35532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6"/>
                  </a:moveTo>
                  <a:lnTo>
                    <a:pt x="0" y="224"/>
                  </a:lnTo>
                  <a:lnTo>
                    <a:pt x="6" y="2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33600" y="658188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33600" y="6640560"/>
              <a:ext cx="9360" cy="296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33600" y="694692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33600" y="6986520"/>
              <a:ext cx="936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33600" y="7115040"/>
              <a:ext cx="9360" cy="316080"/>
            </a:xfrm>
            <a:custGeom>
              <a:avLst/>
              <a:gdLst/>
              <a:ahLst/>
              <a:rect l="l" t="t" r="r" b="b"/>
              <a:pathLst>
                <a:path w="6" h="199">
                  <a:moveTo>
                    <a:pt x="0" y="0"/>
                  </a:moveTo>
                  <a:lnTo>
                    <a:pt x="0" y="199"/>
                  </a:lnTo>
                  <a:lnTo>
                    <a:pt x="6" y="19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42960" y="4633920"/>
              <a:ext cx="11160" cy="33660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0"/>
                  </a:moveTo>
                  <a:lnTo>
                    <a:pt x="0" y="206"/>
                  </a:lnTo>
                  <a:lnTo>
                    <a:pt x="7" y="2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42960" y="5346720"/>
              <a:ext cx="11160" cy="381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6"/>
                  </a:moveTo>
                  <a:lnTo>
                    <a:pt x="0" y="24"/>
                  </a:lnTo>
                  <a:lnTo>
                    <a:pt x="7" y="2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33600" y="5396040"/>
              <a:ext cx="93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42960" y="5396040"/>
              <a:ext cx="111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42960" y="575136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42960" y="581976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31"/>
                  </a:lnTo>
                  <a:lnTo>
                    <a:pt x="7" y="4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42960" y="5899320"/>
              <a:ext cx="11160" cy="147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33600" y="60674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42960" y="6067440"/>
              <a:ext cx="111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42960" y="61167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42960" y="6205680"/>
              <a:ext cx="11160" cy="345960"/>
            </a:xfrm>
            <a:custGeom>
              <a:avLst/>
              <a:gdLst/>
              <a:ahLst/>
              <a:rect l="l" t="t" r="r" b="b"/>
              <a:pathLst>
                <a:path w="7" h="218">
                  <a:moveTo>
                    <a:pt x="0" y="0"/>
                  </a:moveTo>
                  <a:lnTo>
                    <a:pt x="0" y="205"/>
                  </a:lnTo>
                  <a:lnTo>
                    <a:pt x="7" y="2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42960" y="6581880"/>
              <a:ext cx="11160" cy="355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42960" y="694692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42960" y="7005600"/>
              <a:ext cx="11160" cy="10008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0" y="0"/>
                  </a:moveTo>
                  <a:lnTo>
                    <a:pt x="0" y="63"/>
                  </a:lnTo>
                  <a:lnTo>
                    <a:pt x="7" y="6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54120" y="53355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7"/>
                  </a:moveTo>
                  <a:lnTo>
                    <a:pt x="0" y="75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42960" y="5464080"/>
              <a:ext cx="20880" cy="79560"/>
            </a:xfrm>
            <a:custGeom>
              <a:avLst/>
              <a:gdLst/>
              <a:ahLst/>
              <a:rect l="l" t="t" r="r" b="b"/>
              <a:pathLst>
                <a:path w="13" h="50">
                  <a:moveTo>
                    <a:pt x="0" y="0"/>
                  </a:moveTo>
                  <a:lnTo>
                    <a:pt x="0" y="50"/>
                  </a:lnTo>
                  <a:lnTo>
                    <a:pt x="13" y="4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42960" y="55530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6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54120" y="55436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54120" y="555300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54120" y="559260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54120" y="56624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54120" y="5899320"/>
              <a:ext cx="972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0"/>
                  </a:moveTo>
                  <a:lnTo>
                    <a:pt x="0" y="93"/>
                  </a:lnTo>
                  <a:lnTo>
                    <a:pt x="6" y="10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54120" y="605808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54120" y="6116760"/>
              <a:ext cx="972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54120" y="61563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54120" y="6175440"/>
              <a:ext cx="9720" cy="385560"/>
            </a:xfrm>
            <a:custGeom>
              <a:avLst/>
              <a:gdLst/>
              <a:ahLst/>
              <a:rect l="l" t="t" r="r" b="b"/>
              <a:pathLst>
                <a:path w="6" h="243">
                  <a:moveTo>
                    <a:pt x="0" y="13"/>
                  </a:moveTo>
                  <a:lnTo>
                    <a:pt x="0" y="243"/>
                  </a:lnTo>
                  <a:lnTo>
                    <a:pt x="6" y="24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54120" y="6570720"/>
              <a:ext cx="972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54120" y="694692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54120" y="7016760"/>
              <a:ext cx="972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2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42960" y="7143840"/>
              <a:ext cx="11160" cy="277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63840" y="459432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54120" y="4624560"/>
              <a:ext cx="9720" cy="35532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6"/>
                  </a:moveTo>
                  <a:lnTo>
                    <a:pt x="0" y="218"/>
                  </a:lnTo>
                  <a:lnTo>
                    <a:pt x="6" y="2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63840" y="4624560"/>
              <a:ext cx="9360" cy="36504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224"/>
                  </a:lnTo>
                  <a:lnTo>
                    <a:pt x="6" y="23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63840" y="5335560"/>
              <a:ext cx="936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56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63840" y="559260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63840" y="5662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54120" y="573084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7"/>
                  </a:moveTo>
                  <a:lnTo>
                    <a:pt x="0" y="38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63840" y="57024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54120" y="570240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63840" y="573084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563840" y="58104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54120" y="5830920"/>
              <a:ext cx="972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63840" y="583092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63840" y="5908680"/>
              <a:ext cx="9360" cy="189000"/>
            </a:xfrm>
            <a:custGeom>
              <a:avLst/>
              <a:gdLst/>
              <a:ahLst/>
              <a:rect l="l" t="t" r="r" b="b"/>
              <a:pathLst>
                <a:path w="6" h="119">
                  <a:moveTo>
                    <a:pt x="0" y="0"/>
                  </a:moveTo>
                  <a:lnTo>
                    <a:pt x="0" y="119"/>
                  </a:lnTo>
                  <a:lnTo>
                    <a:pt x="6" y="1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63840" y="6116760"/>
              <a:ext cx="936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63840" y="61754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63840" y="6186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63840" y="6215040"/>
              <a:ext cx="936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63840" y="6570720"/>
              <a:ext cx="9360" cy="2872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63840" y="68770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63840" y="6937200"/>
              <a:ext cx="9360" cy="18756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6"/>
                  </a:moveTo>
                  <a:lnTo>
                    <a:pt x="0" y="118"/>
                  </a:lnTo>
                  <a:lnTo>
                    <a:pt x="6" y="1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554120" y="7134120"/>
              <a:ext cx="9720" cy="28728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0"/>
                  </a:moveTo>
                  <a:lnTo>
                    <a:pt x="0" y="181"/>
                  </a:lnTo>
                  <a:lnTo>
                    <a:pt x="6" y="1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563840" y="7143840"/>
              <a:ext cx="9360" cy="26676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73200" y="458460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6"/>
                  </a:moveTo>
                  <a:lnTo>
                    <a:pt x="0" y="249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73200" y="5335560"/>
              <a:ext cx="11160" cy="317520"/>
            </a:xfrm>
            <a:custGeom>
              <a:avLst/>
              <a:gdLst/>
              <a:ahLst/>
              <a:rect l="l" t="t" r="r" b="b"/>
              <a:pathLst>
                <a:path w="7" h="200">
                  <a:moveTo>
                    <a:pt x="0" y="0"/>
                  </a:moveTo>
                  <a:lnTo>
                    <a:pt x="0" y="200"/>
                  </a:lnTo>
                  <a:lnTo>
                    <a:pt x="7" y="1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73200" y="566244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2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573200" y="5702400"/>
              <a:ext cx="1116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73200" y="570240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73200" y="58197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7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73200" y="5919840"/>
              <a:ext cx="111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73200" y="611676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73200" y="6235560"/>
              <a:ext cx="11160" cy="316080"/>
            </a:xfrm>
            <a:custGeom>
              <a:avLst/>
              <a:gdLst/>
              <a:ahLst/>
              <a:rect l="l" t="t" r="r" b="b"/>
              <a:pathLst>
                <a:path w="7" h="199">
                  <a:moveTo>
                    <a:pt x="0" y="6"/>
                  </a:moveTo>
                  <a:lnTo>
                    <a:pt x="0" y="199"/>
                  </a:lnTo>
                  <a:lnTo>
                    <a:pt x="7" y="19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73200" y="657072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181"/>
                  </a:lnTo>
                  <a:lnTo>
                    <a:pt x="7" y="1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73200" y="6937200"/>
              <a:ext cx="11160" cy="206640"/>
            </a:xfrm>
            <a:custGeom>
              <a:avLst/>
              <a:gdLst/>
              <a:ahLst/>
              <a:rect l="l" t="t" r="r" b="b"/>
              <a:pathLst>
                <a:path w="7" h="130">
                  <a:moveTo>
                    <a:pt x="0" y="0"/>
                  </a:moveTo>
                  <a:lnTo>
                    <a:pt x="0" y="130"/>
                  </a:lnTo>
                  <a:lnTo>
                    <a:pt x="7" y="13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84360" y="457524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6"/>
                  </a:moveTo>
                  <a:lnTo>
                    <a:pt x="0" y="249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84360" y="49896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84360" y="5307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84360" y="5335560"/>
              <a:ext cx="9360" cy="28728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0"/>
                  </a:moveTo>
                  <a:lnTo>
                    <a:pt x="0" y="181"/>
                  </a:lnTo>
                  <a:lnTo>
                    <a:pt x="6" y="1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84360" y="565308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0" y="6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84360" y="569124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7"/>
                  </a:moveTo>
                  <a:lnTo>
                    <a:pt x="0" y="63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84360" y="581040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73200" y="5859360"/>
              <a:ext cx="111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84360" y="5859360"/>
              <a:ext cx="93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84360" y="5899320"/>
              <a:ext cx="9360" cy="20772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0"/>
                  </a:moveTo>
                  <a:lnTo>
                    <a:pt x="0" y="131"/>
                  </a:lnTo>
                  <a:lnTo>
                    <a:pt x="6" y="1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84360" y="6107040"/>
              <a:ext cx="936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84360" y="6186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84360" y="6205680"/>
              <a:ext cx="9360" cy="345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84360" y="6570720"/>
              <a:ext cx="9360" cy="296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573200" y="7155000"/>
              <a:ext cx="11160" cy="255600"/>
            </a:xfrm>
            <a:custGeom>
              <a:avLst/>
              <a:gdLst/>
              <a:ahLst/>
              <a:rect l="l" t="t" r="r" b="b"/>
              <a:pathLst>
                <a:path w="7" h="161">
                  <a:moveTo>
                    <a:pt x="0" y="0"/>
                  </a:moveTo>
                  <a:lnTo>
                    <a:pt x="0" y="161"/>
                  </a:lnTo>
                  <a:lnTo>
                    <a:pt x="7" y="1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93720" y="497988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93720" y="52959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93720" y="5346720"/>
              <a:ext cx="11160" cy="276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93720" y="56325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93720" y="5691240"/>
              <a:ext cx="111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93720" y="581040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5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93720" y="5919840"/>
              <a:ext cx="11160" cy="276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93720" y="6205680"/>
              <a:ext cx="11160" cy="355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93720" y="6581880"/>
              <a:ext cx="11160" cy="295200"/>
            </a:xfrm>
            <a:custGeom>
              <a:avLst/>
              <a:gdLst/>
              <a:ahLst/>
              <a:rect l="l" t="t" r="r" b="b"/>
              <a:pathLst>
                <a:path w="7" h="186">
                  <a:moveTo>
                    <a:pt x="0" y="0"/>
                  </a:moveTo>
                  <a:lnTo>
                    <a:pt x="0" y="180"/>
                  </a:lnTo>
                  <a:lnTo>
                    <a:pt x="7" y="18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84360" y="688824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93720" y="6877080"/>
              <a:ext cx="111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84360" y="6946920"/>
              <a:ext cx="936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0"/>
                  </a:moveTo>
                  <a:lnTo>
                    <a:pt x="0" y="286"/>
                  </a:lnTo>
                  <a:lnTo>
                    <a:pt x="6" y="2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93720" y="6996240"/>
              <a:ext cx="11160" cy="40464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55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93720" y="4575240"/>
              <a:ext cx="11160" cy="385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04880" y="4575240"/>
              <a:ext cx="9720" cy="385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04880" y="497988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31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04880" y="52671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04880" y="53071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04880" y="5356080"/>
              <a:ext cx="9720" cy="26676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04880" y="56325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75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04880" y="576108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04880" y="57913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4880" y="581976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0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04880" y="5919840"/>
              <a:ext cx="9720" cy="285840"/>
            </a:xfrm>
            <a:custGeom>
              <a:avLst/>
              <a:gdLst/>
              <a:ahLst/>
              <a:rect l="l" t="t" r="r" b="b"/>
              <a:pathLst>
                <a:path w="6" h="180">
                  <a:moveTo>
                    <a:pt x="0" y="0"/>
                  </a:moveTo>
                  <a:lnTo>
                    <a:pt x="0" y="174"/>
                  </a:lnTo>
                  <a:lnTo>
                    <a:pt x="6" y="1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04880" y="6205680"/>
              <a:ext cx="9720" cy="69192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0"/>
                  </a:moveTo>
                  <a:lnTo>
                    <a:pt x="0" y="436"/>
                  </a:lnTo>
                  <a:lnTo>
                    <a:pt x="6" y="43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14600" y="4979880"/>
              <a:ext cx="936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14600" y="52466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7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14600" y="52959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14600" y="5307120"/>
              <a:ext cx="93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14600" y="57913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14600" y="581976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0"/>
                  </a:moveTo>
                  <a:lnTo>
                    <a:pt x="0" y="56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14600" y="5919840"/>
              <a:ext cx="9360" cy="285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14600" y="6215040"/>
              <a:ext cx="9360" cy="711360"/>
            </a:xfrm>
            <a:custGeom>
              <a:avLst/>
              <a:gdLst/>
              <a:ahLst/>
              <a:rect l="l" t="t" r="r" b="b"/>
              <a:pathLst>
                <a:path w="6" h="448">
                  <a:moveTo>
                    <a:pt x="0" y="0"/>
                  </a:moveTo>
                  <a:lnTo>
                    <a:pt x="0" y="442"/>
                  </a:lnTo>
                  <a:lnTo>
                    <a:pt x="6" y="44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04880" y="6966000"/>
              <a:ext cx="972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268"/>
                  </a:lnTo>
                  <a:lnTo>
                    <a:pt x="6" y="2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14600" y="4565520"/>
              <a:ext cx="9360" cy="40500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6"/>
                  </a:moveTo>
                  <a:lnTo>
                    <a:pt x="0" y="249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23960" y="4565520"/>
              <a:ext cx="11160" cy="493920"/>
            </a:xfrm>
            <a:custGeom>
              <a:avLst/>
              <a:gdLst/>
              <a:ahLst/>
              <a:rect l="l" t="t" r="r" b="b"/>
              <a:pathLst>
                <a:path w="7" h="311">
                  <a:moveTo>
                    <a:pt x="0" y="0"/>
                  </a:moveTo>
                  <a:lnTo>
                    <a:pt x="0" y="305"/>
                  </a:lnTo>
                  <a:lnTo>
                    <a:pt x="7" y="3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14600" y="50594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23960" y="50594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23960" y="5218200"/>
              <a:ext cx="111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23960" y="52466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23960" y="529596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32"/>
                  </a:lnTo>
                  <a:lnTo>
                    <a:pt x="7" y="3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614600" y="5365800"/>
              <a:ext cx="9360" cy="247680"/>
            </a:xfrm>
            <a:custGeom>
              <a:avLst/>
              <a:gdLst/>
              <a:ahLst/>
              <a:rect l="l" t="t" r="r" b="b"/>
              <a:pathLst>
                <a:path w="6" h="156">
                  <a:moveTo>
                    <a:pt x="0" y="6"/>
                  </a:moveTo>
                  <a:lnTo>
                    <a:pt x="0" y="156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23960" y="5356080"/>
              <a:ext cx="1116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6"/>
                  </a:moveTo>
                  <a:lnTo>
                    <a:pt x="0" y="168"/>
                  </a:lnTo>
                  <a:lnTo>
                    <a:pt x="7" y="1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14600" y="5632560"/>
              <a:ext cx="936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23960" y="5632560"/>
              <a:ext cx="11160" cy="137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23960" y="57801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23960" y="58197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23960" y="584028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5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23960" y="5919840"/>
              <a:ext cx="11160" cy="285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23960" y="6226200"/>
              <a:ext cx="11160" cy="700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14600" y="6966000"/>
              <a:ext cx="9360" cy="415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35120" y="4565520"/>
              <a:ext cx="9360" cy="493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35120" y="51786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35120" y="52182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35120" y="5257800"/>
              <a:ext cx="9360" cy="374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35120" y="564192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7"/>
                  </a:moveTo>
                  <a:lnTo>
                    <a:pt x="0" y="75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635120" y="57704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6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635120" y="58104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35120" y="583092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6"/>
                  </a:moveTo>
                  <a:lnTo>
                    <a:pt x="0" y="242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35120" y="6235560"/>
              <a:ext cx="9360" cy="711360"/>
            </a:xfrm>
            <a:custGeom>
              <a:avLst/>
              <a:gdLst/>
              <a:ahLst/>
              <a:rect l="l" t="t" r="r" b="b"/>
              <a:pathLst>
                <a:path w="6" h="448">
                  <a:moveTo>
                    <a:pt x="0" y="0"/>
                  </a:moveTo>
                  <a:lnTo>
                    <a:pt x="0" y="442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23960" y="6966000"/>
              <a:ext cx="11160" cy="415800"/>
            </a:xfrm>
            <a:custGeom>
              <a:avLst/>
              <a:gdLst/>
              <a:ahLst/>
              <a:rect l="l" t="t" r="r" b="b"/>
              <a:pathLst>
                <a:path w="7" h="262">
                  <a:moveTo>
                    <a:pt x="0" y="0"/>
                  </a:moveTo>
                  <a:lnTo>
                    <a:pt x="0" y="262"/>
                  </a:lnTo>
                  <a:lnTo>
                    <a:pt x="7" y="25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35120" y="6946920"/>
              <a:ext cx="936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268"/>
                  </a:lnTo>
                  <a:lnTo>
                    <a:pt x="6" y="2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44480" y="4556160"/>
              <a:ext cx="9720" cy="503280"/>
            </a:xfrm>
            <a:custGeom>
              <a:avLst/>
              <a:gdLst/>
              <a:ahLst/>
              <a:rect l="l" t="t" r="r" b="b"/>
              <a:pathLst>
                <a:path w="6" h="317">
                  <a:moveTo>
                    <a:pt x="0" y="6"/>
                  </a:moveTo>
                  <a:lnTo>
                    <a:pt x="0" y="317"/>
                  </a:lnTo>
                  <a:lnTo>
                    <a:pt x="6" y="31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35120" y="505944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44480" y="5059440"/>
              <a:ext cx="972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6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44480" y="514836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44480" y="5218200"/>
              <a:ext cx="9720" cy="404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44480" y="5641920"/>
              <a:ext cx="9720" cy="1094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0"/>
                  </a:moveTo>
                  <a:lnTo>
                    <a:pt x="0" y="63"/>
                  </a:lnTo>
                  <a:lnTo>
                    <a:pt x="6" y="6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44480" y="5751360"/>
              <a:ext cx="9720" cy="5904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44480" y="5819760"/>
              <a:ext cx="9720" cy="406440"/>
            </a:xfrm>
            <a:custGeom>
              <a:avLst/>
              <a:gdLst/>
              <a:ahLst/>
              <a:rect l="l" t="t" r="r" b="b"/>
              <a:pathLst>
                <a:path w="6" h="256">
                  <a:moveTo>
                    <a:pt x="0" y="0"/>
                  </a:moveTo>
                  <a:lnTo>
                    <a:pt x="0" y="256"/>
                  </a:lnTo>
                  <a:lnTo>
                    <a:pt x="6" y="25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44480" y="6235560"/>
              <a:ext cx="9720" cy="711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54200" y="4556160"/>
              <a:ext cx="11160" cy="582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54200" y="521820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0"/>
                  </a:moveTo>
                  <a:lnTo>
                    <a:pt x="0" y="249"/>
                  </a:lnTo>
                  <a:lnTo>
                    <a:pt x="7" y="24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54200" y="5641920"/>
              <a:ext cx="1116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54200" y="5840280"/>
              <a:ext cx="11160" cy="385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54200" y="6235560"/>
              <a:ext cx="11160" cy="720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44480" y="6966000"/>
              <a:ext cx="9720" cy="406440"/>
            </a:xfrm>
            <a:custGeom>
              <a:avLst/>
              <a:gdLst/>
              <a:ahLst/>
              <a:rect l="l" t="t" r="r" b="b"/>
              <a:pathLst>
                <a:path w="6" h="256">
                  <a:moveTo>
                    <a:pt x="0" y="0"/>
                  </a:moveTo>
                  <a:lnTo>
                    <a:pt x="0" y="256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54200" y="696600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0"/>
                  </a:moveTo>
                  <a:lnTo>
                    <a:pt x="0" y="249"/>
                  </a:lnTo>
                  <a:lnTo>
                    <a:pt x="7" y="24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54200" y="513864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6"/>
                  </a:moveTo>
                  <a:lnTo>
                    <a:pt x="0" y="37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65360" y="4556160"/>
              <a:ext cx="9360" cy="582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65360" y="5138640"/>
              <a:ext cx="936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65360" y="5218200"/>
              <a:ext cx="9360" cy="414360"/>
            </a:xfrm>
            <a:custGeom>
              <a:avLst/>
              <a:gdLst/>
              <a:ahLst/>
              <a:rect l="l" t="t" r="r" b="b"/>
              <a:pathLst>
                <a:path w="6" h="261">
                  <a:moveTo>
                    <a:pt x="0" y="0"/>
                  </a:moveTo>
                  <a:lnTo>
                    <a:pt x="0" y="255"/>
                  </a:lnTo>
                  <a:lnTo>
                    <a:pt x="6" y="26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65360" y="5641920"/>
              <a:ext cx="936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65360" y="58104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3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977760" y="4476600"/>
            <a:ext cx="12309480" cy="3279960"/>
            <a:chOff x="977760" y="4476600"/>
            <a:chExt cx="12309480" cy="3279960"/>
          </a:xfrm>
        </p:grpSpPr>
        <p:sp>
          <p:nvSpPr>
            <p:cNvPr id="645" name=""/>
            <p:cNvSpPr/>
            <p:nvPr/>
          </p:nvSpPr>
          <p:spPr>
            <a:xfrm>
              <a:off x="1665360" y="5840280"/>
              <a:ext cx="9360" cy="385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65360" y="6235560"/>
              <a:ext cx="9360" cy="720720"/>
            </a:xfrm>
            <a:custGeom>
              <a:avLst/>
              <a:gdLst/>
              <a:ahLst/>
              <a:rect l="l" t="t" r="r" b="b"/>
              <a:pathLst>
                <a:path w="6" h="454">
                  <a:moveTo>
                    <a:pt x="0" y="0"/>
                  </a:moveTo>
                  <a:lnTo>
                    <a:pt x="0" y="454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65360" y="6966000"/>
              <a:ext cx="9360" cy="385560"/>
            </a:xfrm>
            <a:custGeom>
              <a:avLst/>
              <a:gdLst/>
              <a:ahLst/>
              <a:rect l="l" t="t" r="r" b="b"/>
              <a:pathLst>
                <a:path w="6" h="243">
                  <a:moveTo>
                    <a:pt x="0" y="0"/>
                  </a:moveTo>
                  <a:lnTo>
                    <a:pt x="0" y="243"/>
                  </a:lnTo>
                  <a:lnTo>
                    <a:pt x="6" y="2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74720" y="5138640"/>
              <a:ext cx="972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74720" y="5227560"/>
              <a:ext cx="9720" cy="405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74720" y="5641920"/>
              <a:ext cx="9720" cy="189000"/>
            </a:xfrm>
            <a:custGeom>
              <a:avLst/>
              <a:gdLst/>
              <a:ahLst/>
              <a:rect l="l" t="t" r="r" b="b"/>
              <a:pathLst>
                <a:path w="6" h="119">
                  <a:moveTo>
                    <a:pt x="0" y="0"/>
                  </a:moveTo>
                  <a:lnTo>
                    <a:pt x="0" y="119"/>
                  </a:lnTo>
                  <a:lnTo>
                    <a:pt x="6" y="1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74720" y="4545000"/>
              <a:ext cx="9720" cy="593640"/>
            </a:xfrm>
            <a:custGeom>
              <a:avLst/>
              <a:gdLst/>
              <a:ahLst/>
              <a:rect l="l" t="t" r="r" b="b"/>
              <a:pathLst>
                <a:path w="6" h="374">
                  <a:moveTo>
                    <a:pt x="0" y="7"/>
                  </a:moveTo>
                  <a:lnTo>
                    <a:pt x="0" y="374"/>
                  </a:lnTo>
                  <a:lnTo>
                    <a:pt x="6" y="37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84440" y="4545000"/>
              <a:ext cx="11160" cy="66204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0"/>
                  </a:moveTo>
                  <a:lnTo>
                    <a:pt x="0" y="417"/>
                  </a:lnTo>
                  <a:lnTo>
                    <a:pt x="7" y="4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84440" y="5237280"/>
              <a:ext cx="11160" cy="40464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49"/>
                  </a:lnTo>
                  <a:lnTo>
                    <a:pt x="7" y="2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684440" y="5641920"/>
              <a:ext cx="11160" cy="189000"/>
            </a:xfrm>
            <a:custGeom>
              <a:avLst/>
              <a:gdLst/>
              <a:ahLst/>
              <a:rect l="l" t="t" r="r" b="b"/>
              <a:pathLst>
                <a:path w="7" h="119">
                  <a:moveTo>
                    <a:pt x="0" y="7"/>
                  </a:moveTo>
                  <a:lnTo>
                    <a:pt x="0" y="119"/>
                  </a:lnTo>
                  <a:lnTo>
                    <a:pt x="7" y="11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74720" y="5850000"/>
              <a:ext cx="972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84440" y="5850000"/>
              <a:ext cx="1116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84440" y="69562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74720" y="6986520"/>
              <a:ext cx="9720" cy="35568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0"/>
                  </a:moveTo>
                  <a:lnTo>
                    <a:pt x="0" y="224"/>
                  </a:lnTo>
                  <a:lnTo>
                    <a:pt x="6" y="2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84440" y="7005600"/>
              <a:ext cx="11160" cy="327240"/>
            </a:xfrm>
            <a:custGeom>
              <a:avLst/>
              <a:gdLst/>
              <a:ahLst/>
              <a:rect l="l" t="t" r="r" b="b"/>
              <a:pathLst>
                <a:path w="7" h="206">
                  <a:moveTo>
                    <a:pt x="0" y="0"/>
                  </a:moveTo>
                  <a:lnTo>
                    <a:pt x="0" y="206"/>
                  </a:lnTo>
                  <a:lnTo>
                    <a:pt x="7" y="19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695600" y="4545000"/>
              <a:ext cx="9360" cy="652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95600" y="5218200"/>
              <a:ext cx="9360" cy="592200"/>
            </a:xfrm>
            <a:custGeom>
              <a:avLst/>
              <a:gdLst/>
              <a:ahLst/>
              <a:rect l="l" t="t" r="r" b="b"/>
              <a:pathLst>
                <a:path w="6" h="373">
                  <a:moveTo>
                    <a:pt x="0" y="6"/>
                  </a:moveTo>
                  <a:lnTo>
                    <a:pt x="0" y="373"/>
                  </a:lnTo>
                  <a:lnTo>
                    <a:pt x="6" y="3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695600" y="5850000"/>
              <a:ext cx="9360" cy="1116000"/>
            </a:xfrm>
            <a:custGeom>
              <a:avLst/>
              <a:gdLst/>
              <a:ahLst/>
              <a:rect l="l" t="t" r="r" b="b"/>
              <a:pathLst>
                <a:path w="6" h="703">
                  <a:moveTo>
                    <a:pt x="0" y="0"/>
                  </a:moveTo>
                  <a:lnTo>
                    <a:pt x="0" y="697"/>
                  </a:lnTo>
                  <a:lnTo>
                    <a:pt x="6" y="70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95600" y="6977160"/>
              <a:ext cx="9360" cy="34452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217"/>
                  </a:lnTo>
                  <a:lnTo>
                    <a:pt x="6" y="2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04960" y="4545000"/>
              <a:ext cx="9720" cy="65232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0"/>
                  </a:moveTo>
                  <a:lnTo>
                    <a:pt x="0" y="411"/>
                  </a:lnTo>
                  <a:lnTo>
                    <a:pt x="6" y="41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04960" y="5218200"/>
              <a:ext cx="9720" cy="561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04960" y="57913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04960" y="5850000"/>
              <a:ext cx="9720" cy="1116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04960" y="6977160"/>
              <a:ext cx="9720" cy="33480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0"/>
                  </a:moveTo>
                  <a:lnTo>
                    <a:pt x="0" y="211"/>
                  </a:lnTo>
                  <a:lnTo>
                    <a:pt x="6" y="1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714680" y="5218200"/>
              <a:ext cx="10800" cy="533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14680" y="580068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704960" y="581976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14680" y="5819760"/>
              <a:ext cx="1080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14680" y="6986520"/>
              <a:ext cx="1080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93"/>
                  </a:lnTo>
                  <a:lnTo>
                    <a:pt x="7" y="18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14680" y="4556160"/>
              <a:ext cx="10800" cy="641160"/>
            </a:xfrm>
            <a:custGeom>
              <a:avLst/>
              <a:gdLst/>
              <a:ahLst/>
              <a:rect l="l" t="t" r="r" b="b"/>
              <a:pathLst>
                <a:path w="7" h="404">
                  <a:moveTo>
                    <a:pt x="0" y="0"/>
                  </a:moveTo>
                  <a:lnTo>
                    <a:pt x="0" y="404"/>
                  </a:lnTo>
                  <a:lnTo>
                    <a:pt x="7" y="40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25480" y="5218200"/>
              <a:ext cx="972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25480" y="5761080"/>
              <a:ext cx="972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6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14680" y="5850000"/>
              <a:ext cx="1080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25480" y="5850000"/>
              <a:ext cx="972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725480" y="6966000"/>
              <a:ext cx="972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25480" y="6996240"/>
              <a:ext cx="972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74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25480" y="4556160"/>
              <a:ext cx="9720" cy="64116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6"/>
                  </a:moveTo>
                  <a:lnTo>
                    <a:pt x="0" y="404"/>
                  </a:lnTo>
                  <a:lnTo>
                    <a:pt x="6" y="40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35200" y="4556160"/>
              <a:ext cx="9360" cy="64116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0"/>
                  </a:moveTo>
                  <a:lnTo>
                    <a:pt x="0" y="404"/>
                  </a:lnTo>
                  <a:lnTo>
                    <a:pt x="6" y="39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35200" y="5218200"/>
              <a:ext cx="9360" cy="612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35200" y="5850000"/>
              <a:ext cx="9360" cy="11062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44560" y="4556160"/>
              <a:ext cx="11160" cy="631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44560" y="5218200"/>
              <a:ext cx="11160" cy="601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44560" y="5840280"/>
              <a:ext cx="11160" cy="1116000"/>
            </a:xfrm>
            <a:custGeom>
              <a:avLst/>
              <a:gdLst/>
              <a:ahLst/>
              <a:rect l="l" t="t" r="r" b="b"/>
              <a:pathLst>
                <a:path w="7" h="703">
                  <a:moveTo>
                    <a:pt x="0" y="6"/>
                  </a:moveTo>
                  <a:lnTo>
                    <a:pt x="0" y="703"/>
                  </a:lnTo>
                  <a:lnTo>
                    <a:pt x="7" y="70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35200" y="6966000"/>
              <a:ext cx="9360" cy="28728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0"/>
                  </a:moveTo>
                  <a:lnTo>
                    <a:pt x="0" y="181"/>
                  </a:lnTo>
                  <a:lnTo>
                    <a:pt x="6" y="16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44560" y="6977160"/>
              <a:ext cx="11160" cy="255600"/>
            </a:xfrm>
            <a:custGeom>
              <a:avLst/>
              <a:gdLst/>
              <a:ahLst/>
              <a:rect l="l" t="t" r="r" b="b"/>
              <a:pathLst>
                <a:path w="7" h="161">
                  <a:moveTo>
                    <a:pt x="0" y="0"/>
                  </a:moveTo>
                  <a:lnTo>
                    <a:pt x="0" y="161"/>
                  </a:lnTo>
                  <a:lnTo>
                    <a:pt x="7" y="1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55720" y="4556160"/>
              <a:ext cx="9720" cy="631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55720" y="5840280"/>
              <a:ext cx="9720" cy="1125720"/>
            </a:xfrm>
            <a:custGeom>
              <a:avLst/>
              <a:gdLst/>
              <a:ahLst/>
              <a:rect l="l" t="t" r="r" b="b"/>
              <a:pathLst>
                <a:path w="6" h="709">
                  <a:moveTo>
                    <a:pt x="0" y="0"/>
                  </a:moveTo>
                  <a:lnTo>
                    <a:pt x="0" y="697"/>
                  </a:lnTo>
                  <a:lnTo>
                    <a:pt x="6" y="70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55720" y="696600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65440" y="4556160"/>
              <a:ext cx="10800" cy="631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55720" y="5207040"/>
              <a:ext cx="9720" cy="61272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0"/>
                  </a:moveTo>
                  <a:lnTo>
                    <a:pt x="0" y="386"/>
                  </a:lnTo>
                  <a:lnTo>
                    <a:pt x="6" y="38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765440" y="5218200"/>
              <a:ext cx="10800" cy="601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765440" y="583092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65440" y="5859360"/>
              <a:ext cx="10800" cy="1354320"/>
            </a:xfrm>
            <a:custGeom>
              <a:avLst/>
              <a:gdLst/>
              <a:ahLst/>
              <a:rect l="l" t="t" r="r" b="b"/>
              <a:pathLst>
                <a:path w="7" h="853">
                  <a:moveTo>
                    <a:pt x="0" y="0"/>
                  </a:moveTo>
                  <a:lnTo>
                    <a:pt x="0" y="853"/>
                  </a:lnTo>
                  <a:lnTo>
                    <a:pt x="7" y="84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76240" y="4545000"/>
              <a:ext cx="9720" cy="65232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7"/>
                  </a:moveTo>
                  <a:lnTo>
                    <a:pt x="0" y="405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76240" y="5207040"/>
              <a:ext cx="9720" cy="642960"/>
            </a:xfrm>
            <a:custGeom>
              <a:avLst/>
              <a:gdLst/>
              <a:ahLst/>
              <a:rect l="l" t="t" r="r" b="b"/>
              <a:pathLst>
                <a:path w="6" h="405">
                  <a:moveTo>
                    <a:pt x="0" y="0"/>
                  </a:moveTo>
                  <a:lnTo>
                    <a:pt x="0" y="405"/>
                  </a:lnTo>
                  <a:lnTo>
                    <a:pt x="6" y="3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85960" y="4545000"/>
              <a:ext cx="9360" cy="652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85960" y="5840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85960" y="5859360"/>
              <a:ext cx="936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6"/>
                  </a:moveTo>
                  <a:lnTo>
                    <a:pt x="0" y="3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76240" y="5869080"/>
              <a:ext cx="9720" cy="1334880"/>
            </a:xfrm>
            <a:custGeom>
              <a:avLst/>
              <a:gdLst/>
              <a:ahLst/>
              <a:rect l="l" t="t" r="r" b="b"/>
              <a:pathLst>
                <a:path w="6" h="841">
                  <a:moveTo>
                    <a:pt x="0" y="0"/>
                  </a:moveTo>
                  <a:lnTo>
                    <a:pt x="0" y="841"/>
                  </a:lnTo>
                  <a:lnTo>
                    <a:pt x="6" y="83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85960" y="5919840"/>
              <a:ext cx="9360" cy="1274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85960" y="5207040"/>
              <a:ext cx="9360" cy="623880"/>
            </a:xfrm>
            <a:custGeom>
              <a:avLst/>
              <a:gdLst/>
              <a:ahLst/>
              <a:rect l="l" t="t" r="r" b="b"/>
              <a:pathLst>
                <a:path w="6" h="393">
                  <a:moveTo>
                    <a:pt x="0" y="0"/>
                  </a:moveTo>
                  <a:lnTo>
                    <a:pt x="0" y="393"/>
                  </a:lnTo>
                  <a:lnTo>
                    <a:pt x="6" y="38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95320" y="5218200"/>
              <a:ext cx="11160" cy="601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95320" y="5840280"/>
              <a:ext cx="11160" cy="5904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95320" y="5908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95320" y="4535640"/>
              <a:ext cx="11160" cy="66168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6"/>
                  </a:moveTo>
                  <a:lnTo>
                    <a:pt x="0" y="417"/>
                  </a:lnTo>
                  <a:lnTo>
                    <a:pt x="7" y="41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06480" y="4535640"/>
              <a:ext cx="972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17"/>
                  </a:lnTo>
                  <a:lnTo>
                    <a:pt x="6" y="42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806480" y="583092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06480" y="58402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95320" y="5919840"/>
              <a:ext cx="11160" cy="1274760"/>
            </a:xfrm>
            <a:custGeom>
              <a:avLst/>
              <a:gdLst/>
              <a:ahLst/>
              <a:rect l="l" t="t" r="r" b="b"/>
              <a:pathLst>
                <a:path w="7" h="803">
                  <a:moveTo>
                    <a:pt x="0" y="0"/>
                  </a:moveTo>
                  <a:lnTo>
                    <a:pt x="0" y="803"/>
                  </a:lnTo>
                  <a:lnTo>
                    <a:pt x="7" y="79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06480" y="5899320"/>
              <a:ext cx="9720" cy="1284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06480" y="5218200"/>
              <a:ext cx="9720" cy="601560"/>
            </a:xfrm>
            <a:custGeom>
              <a:avLst/>
              <a:gdLst/>
              <a:ahLst/>
              <a:rect l="l" t="t" r="r" b="b"/>
              <a:pathLst>
                <a:path w="6" h="379">
                  <a:moveTo>
                    <a:pt x="0" y="0"/>
                  </a:moveTo>
                  <a:lnTo>
                    <a:pt x="0" y="379"/>
                  </a:lnTo>
                  <a:lnTo>
                    <a:pt x="6" y="37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16200" y="5227560"/>
              <a:ext cx="9360" cy="612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816200" y="5850000"/>
              <a:ext cx="9360" cy="1333440"/>
            </a:xfrm>
            <a:custGeom>
              <a:avLst/>
              <a:gdLst/>
              <a:ahLst/>
              <a:rect l="l" t="t" r="r" b="b"/>
              <a:pathLst>
                <a:path w="6" h="840">
                  <a:moveTo>
                    <a:pt x="0" y="6"/>
                  </a:moveTo>
                  <a:lnTo>
                    <a:pt x="0" y="840"/>
                  </a:lnTo>
                  <a:lnTo>
                    <a:pt x="6" y="83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816200" y="4535640"/>
              <a:ext cx="9360" cy="661680"/>
            </a:xfrm>
            <a:custGeom>
              <a:avLst/>
              <a:gdLst/>
              <a:ahLst/>
              <a:rect l="l" t="t" r="r" b="b"/>
              <a:pathLst>
                <a:path w="6" h="417">
                  <a:moveTo>
                    <a:pt x="0" y="0"/>
                  </a:moveTo>
                  <a:lnTo>
                    <a:pt x="0" y="417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25560" y="4535640"/>
              <a:ext cx="11160" cy="652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825560" y="51879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12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25560" y="5227560"/>
              <a:ext cx="11160" cy="1946520"/>
            </a:xfrm>
            <a:custGeom>
              <a:avLst/>
              <a:gdLst/>
              <a:ahLst/>
              <a:rect l="l" t="t" r="r" b="b"/>
              <a:pathLst>
                <a:path w="7" h="1226">
                  <a:moveTo>
                    <a:pt x="0" y="0"/>
                  </a:moveTo>
                  <a:lnTo>
                    <a:pt x="0" y="1226"/>
                  </a:lnTo>
                  <a:lnTo>
                    <a:pt x="7" y="122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836720" y="4525920"/>
              <a:ext cx="9720" cy="2638440"/>
            </a:xfrm>
            <a:custGeom>
              <a:avLst/>
              <a:gdLst/>
              <a:ahLst/>
              <a:rect l="l" t="t" r="r" b="b"/>
              <a:pathLst>
                <a:path w="6" h="1662">
                  <a:moveTo>
                    <a:pt x="0" y="6"/>
                  </a:moveTo>
                  <a:lnTo>
                    <a:pt x="0" y="1662"/>
                  </a:lnTo>
                  <a:lnTo>
                    <a:pt x="6" y="166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846440" y="4525920"/>
              <a:ext cx="9360" cy="2638440"/>
            </a:xfrm>
            <a:custGeom>
              <a:avLst/>
              <a:gdLst/>
              <a:ahLst/>
              <a:rect l="l" t="t" r="r" b="b"/>
              <a:pathLst>
                <a:path w="6" h="1662">
                  <a:moveTo>
                    <a:pt x="0" y="0"/>
                  </a:moveTo>
                  <a:lnTo>
                    <a:pt x="0" y="1662"/>
                  </a:lnTo>
                  <a:lnTo>
                    <a:pt x="6" y="16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55800" y="4516560"/>
              <a:ext cx="20520" cy="2638440"/>
            </a:xfrm>
            <a:custGeom>
              <a:avLst/>
              <a:gdLst/>
              <a:ahLst/>
              <a:rect l="l" t="t" r="r" b="b"/>
              <a:pathLst>
                <a:path w="13" h="1662">
                  <a:moveTo>
                    <a:pt x="0" y="6"/>
                  </a:moveTo>
                  <a:lnTo>
                    <a:pt x="0" y="1662"/>
                  </a:lnTo>
                  <a:lnTo>
                    <a:pt x="13" y="1649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76320" y="4505400"/>
              <a:ext cx="20880" cy="2628720"/>
            </a:xfrm>
            <a:custGeom>
              <a:avLst/>
              <a:gdLst/>
              <a:ahLst/>
              <a:rect l="l" t="t" r="r" b="b"/>
              <a:pathLst>
                <a:path w="13" h="1656">
                  <a:moveTo>
                    <a:pt x="0" y="7"/>
                  </a:moveTo>
                  <a:lnTo>
                    <a:pt x="0" y="1656"/>
                  </a:lnTo>
                  <a:lnTo>
                    <a:pt x="13" y="1650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897200" y="4486320"/>
              <a:ext cx="936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2"/>
                  </a:moveTo>
                  <a:lnTo>
                    <a:pt x="0" y="100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97200" y="4645080"/>
              <a:ext cx="9360" cy="2479680"/>
            </a:xfrm>
            <a:custGeom>
              <a:avLst/>
              <a:gdLst/>
              <a:ahLst/>
              <a:rect l="l" t="t" r="r" b="b"/>
              <a:pathLst>
                <a:path w="6" h="1562">
                  <a:moveTo>
                    <a:pt x="0" y="0"/>
                  </a:moveTo>
                  <a:lnTo>
                    <a:pt x="0" y="1562"/>
                  </a:lnTo>
                  <a:lnTo>
                    <a:pt x="6" y="15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06560" y="4713120"/>
              <a:ext cx="11160" cy="2401920"/>
            </a:xfrm>
            <a:custGeom>
              <a:avLst/>
              <a:gdLst/>
              <a:ahLst/>
              <a:rect l="l" t="t" r="r" b="b"/>
              <a:pathLst>
                <a:path w="7" h="1513">
                  <a:moveTo>
                    <a:pt x="0" y="0"/>
                  </a:moveTo>
                  <a:lnTo>
                    <a:pt x="0" y="1513"/>
                  </a:lnTo>
                  <a:lnTo>
                    <a:pt x="7" y="1513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06560" y="448632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7720" y="4753080"/>
              <a:ext cx="9360" cy="2361960"/>
            </a:xfrm>
            <a:custGeom>
              <a:avLst/>
              <a:gdLst/>
              <a:ahLst/>
              <a:rect l="l" t="t" r="r" b="b"/>
              <a:pathLst>
                <a:path w="6" h="1488">
                  <a:moveTo>
                    <a:pt x="0" y="0"/>
                  </a:moveTo>
                  <a:lnTo>
                    <a:pt x="0" y="1488"/>
                  </a:lnTo>
                  <a:lnTo>
                    <a:pt x="6" y="148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7720" y="4476600"/>
              <a:ext cx="936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6"/>
                  </a:moveTo>
                  <a:lnTo>
                    <a:pt x="0" y="81"/>
                  </a:lnTo>
                  <a:lnTo>
                    <a:pt x="6" y="6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27080" y="447660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27080" y="4773600"/>
              <a:ext cx="9720" cy="2341440"/>
            </a:xfrm>
            <a:custGeom>
              <a:avLst/>
              <a:gdLst/>
              <a:ahLst/>
              <a:rect l="l" t="t" r="r" b="b"/>
              <a:pathLst>
                <a:path w="6" h="1475">
                  <a:moveTo>
                    <a:pt x="0" y="0"/>
                  </a:moveTo>
                  <a:lnTo>
                    <a:pt x="0" y="1475"/>
                  </a:lnTo>
                  <a:lnTo>
                    <a:pt x="6" y="14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36800" y="4782960"/>
              <a:ext cx="11160" cy="2332080"/>
            </a:xfrm>
            <a:custGeom>
              <a:avLst/>
              <a:gdLst/>
              <a:ahLst/>
              <a:rect l="l" t="t" r="r" b="b"/>
              <a:pathLst>
                <a:path w="7" h="1469">
                  <a:moveTo>
                    <a:pt x="0" y="0"/>
                  </a:moveTo>
                  <a:lnTo>
                    <a:pt x="0" y="1469"/>
                  </a:lnTo>
                  <a:lnTo>
                    <a:pt x="7" y="146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47960" y="5068800"/>
              <a:ext cx="9360" cy="2055960"/>
            </a:xfrm>
            <a:custGeom>
              <a:avLst/>
              <a:gdLst/>
              <a:ahLst/>
              <a:rect l="l" t="t" r="r" b="b"/>
              <a:pathLst>
                <a:path w="6" h="1295">
                  <a:moveTo>
                    <a:pt x="0" y="0"/>
                  </a:moveTo>
                  <a:lnTo>
                    <a:pt x="0" y="1289"/>
                  </a:lnTo>
                  <a:lnTo>
                    <a:pt x="6" y="129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47960" y="4792680"/>
              <a:ext cx="9360" cy="217440"/>
            </a:xfrm>
            <a:custGeom>
              <a:avLst/>
              <a:gdLst/>
              <a:ahLst/>
              <a:rect l="l" t="t" r="r" b="b"/>
              <a:pathLst>
                <a:path w="6" h="137">
                  <a:moveTo>
                    <a:pt x="0" y="0"/>
                  </a:moveTo>
                  <a:lnTo>
                    <a:pt x="0" y="137"/>
                  </a:lnTo>
                  <a:lnTo>
                    <a:pt x="6" y="1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7320" y="4802040"/>
              <a:ext cx="9720" cy="18756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0"/>
                  </a:moveTo>
                  <a:lnTo>
                    <a:pt x="0" y="118"/>
                  </a:lnTo>
                  <a:lnTo>
                    <a:pt x="6" y="10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57320" y="5078520"/>
              <a:ext cx="9720" cy="2055600"/>
            </a:xfrm>
            <a:custGeom>
              <a:avLst/>
              <a:gdLst/>
              <a:ahLst/>
              <a:rect l="l" t="t" r="r" b="b"/>
              <a:pathLst>
                <a:path w="6" h="1295">
                  <a:moveTo>
                    <a:pt x="0" y="0"/>
                  </a:moveTo>
                  <a:lnTo>
                    <a:pt x="0" y="1289"/>
                  </a:lnTo>
                  <a:lnTo>
                    <a:pt x="6" y="129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967040" y="5089680"/>
              <a:ext cx="11160" cy="2044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67040" y="4811760"/>
              <a:ext cx="11160" cy="158760"/>
            </a:xfrm>
            <a:custGeom>
              <a:avLst/>
              <a:gdLst/>
              <a:ahLst/>
              <a:rect l="l" t="t" r="r" b="b"/>
              <a:pathLst>
                <a:path w="7" h="100">
                  <a:moveTo>
                    <a:pt x="0" y="0"/>
                  </a:moveTo>
                  <a:lnTo>
                    <a:pt x="0" y="100"/>
                  </a:lnTo>
                  <a:lnTo>
                    <a:pt x="7" y="8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78200" y="482292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87560" y="4832280"/>
              <a:ext cx="936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78200" y="5089680"/>
              <a:ext cx="18720" cy="2054160"/>
            </a:xfrm>
            <a:custGeom>
              <a:avLst/>
              <a:gdLst/>
              <a:ahLst/>
              <a:rect l="l" t="t" r="r" b="b"/>
              <a:pathLst>
                <a:path w="12" h="1294">
                  <a:moveTo>
                    <a:pt x="0" y="0"/>
                  </a:moveTo>
                  <a:lnTo>
                    <a:pt x="0" y="1288"/>
                  </a:lnTo>
                  <a:lnTo>
                    <a:pt x="12" y="1294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96920" y="5099040"/>
              <a:ext cx="11160" cy="2055960"/>
            </a:xfrm>
            <a:custGeom>
              <a:avLst/>
              <a:gdLst/>
              <a:ahLst/>
              <a:rect l="l" t="t" r="r" b="b"/>
              <a:pathLst>
                <a:path w="7" h="1295">
                  <a:moveTo>
                    <a:pt x="0" y="0"/>
                  </a:moveTo>
                  <a:lnTo>
                    <a:pt x="0" y="1288"/>
                  </a:lnTo>
                  <a:lnTo>
                    <a:pt x="7" y="129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08080" y="5099040"/>
              <a:ext cx="9720" cy="2055960"/>
            </a:xfrm>
            <a:custGeom>
              <a:avLst/>
              <a:gdLst/>
              <a:ahLst/>
              <a:rect l="l" t="t" r="r" b="b"/>
              <a:pathLst>
                <a:path w="6" h="1295">
                  <a:moveTo>
                    <a:pt x="0" y="0"/>
                  </a:moveTo>
                  <a:lnTo>
                    <a:pt x="0" y="1295"/>
                  </a:lnTo>
                  <a:lnTo>
                    <a:pt x="6" y="129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017800" y="5118120"/>
              <a:ext cx="20520" cy="2036880"/>
            </a:xfrm>
            <a:custGeom>
              <a:avLst/>
              <a:gdLst/>
              <a:ahLst/>
              <a:rect l="l" t="t" r="r" b="b"/>
              <a:pathLst>
                <a:path w="13" h="1283">
                  <a:moveTo>
                    <a:pt x="0" y="0"/>
                  </a:moveTo>
                  <a:lnTo>
                    <a:pt x="0" y="1283"/>
                  </a:lnTo>
                  <a:lnTo>
                    <a:pt x="13" y="1283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038320" y="5138640"/>
              <a:ext cx="20520" cy="2016360"/>
            </a:xfrm>
            <a:custGeom>
              <a:avLst/>
              <a:gdLst/>
              <a:ahLst/>
              <a:rect l="l" t="t" r="r" b="b"/>
              <a:pathLst>
                <a:path w="13" h="1270">
                  <a:moveTo>
                    <a:pt x="0" y="0"/>
                  </a:moveTo>
                  <a:lnTo>
                    <a:pt x="0" y="1270"/>
                  </a:lnTo>
                  <a:lnTo>
                    <a:pt x="13" y="1270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58840" y="710568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58840" y="5148360"/>
              <a:ext cx="9720" cy="1936800"/>
            </a:xfrm>
            <a:custGeom>
              <a:avLst/>
              <a:gdLst/>
              <a:ahLst/>
              <a:rect l="l" t="t" r="r" b="b"/>
              <a:pathLst>
                <a:path w="6" h="1220">
                  <a:moveTo>
                    <a:pt x="0" y="0"/>
                  </a:moveTo>
                  <a:lnTo>
                    <a:pt x="0" y="1220"/>
                  </a:lnTo>
                  <a:lnTo>
                    <a:pt x="6" y="12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068560" y="7115040"/>
              <a:ext cx="936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068560" y="5157720"/>
              <a:ext cx="9360" cy="1917720"/>
            </a:xfrm>
            <a:custGeom>
              <a:avLst/>
              <a:gdLst/>
              <a:ahLst/>
              <a:rect l="l" t="t" r="r" b="b"/>
              <a:pathLst>
                <a:path w="6" h="1208">
                  <a:moveTo>
                    <a:pt x="0" y="0"/>
                  </a:moveTo>
                  <a:lnTo>
                    <a:pt x="0" y="1208"/>
                  </a:lnTo>
                  <a:lnTo>
                    <a:pt x="6" y="120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077920" y="5167440"/>
              <a:ext cx="20880" cy="1917720"/>
            </a:xfrm>
            <a:custGeom>
              <a:avLst/>
              <a:gdLst/>
              <a:ahLst/>
              <a:rect l="l" t="t" r="r" b="b"/>
              <a:pathLst>
                <a:path w="13" h="1208">
                  <a:moveTo>
                    <a:pt x="0" y="0"/>
                  </a:moveTo>
                  <a:lnTo>
                    <a:pt x="0" y="1202"/>
                  </a:lnTo>
                  <a:lnTo>
                    <a:pt x="13" y="1208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98800" y="5178600"/>
              <a:ext cx="20520" cy="1915920"/>
            </a:xfrm>
            <a:custGeom>
              <a:avLst/>
              <a:gdLst/>
              <a:ahLst/>
              <a:rect l="l" t="t" r="r" b="b"/>
              <a:pathLst>
                <a:path w="13" h="1207">
                  <a:moveTo>
                    <a:pt x="0" y="0"/>
                  </a:moveTo>
                  <a:lnTo>
                    <a:pt x="0" y="1201"/>
                  </a:lnTo>
                  <a:lnTo>
                    <a:pt x="13" y="120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19320" y="5187960"/>
              <a:ext cx="19080" cy="1906560"/>
            </a:xfrm>
            <a:custGeom>
              <a:avLst/>
              <a:gdLst/>
              <a:ahLst/>
              <a:rect l="l" t="t" r="r" b="b"/>
              <a:pathLst>
                <a:path w="12" h="1201">
                  <a:moveTo>
                    <a:pt x="0" y="0"/>
                  </a:moveTo>
                  <a:lnTo>
                    <a:pt x="0" y="1201"/>
                  </a:lnTo>
                  <a:lnTo>
                    <a:pt x="12" y="120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38400" y="5197320"/>
              <a:ext cx="11160" cy="1897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49560" y="5197320"/>
              <a:ext cx="9360" cy="1897200"/>
            </a:xfrm>
            <a:custGeom>
              <a:avLst/>
              <a:gdLst/>
              <a:ahLst/>
              <a:rect l="l" t="t" r="r" b="b"/>
              <a:pathLst>
                <a:path w="6" h="1195">
                  <a:moveTo>
                    <a:pt x="0" y="0"/>
                  </a:moveTo>
                  <a:lnTo>
                    <a:pt x="0" y="1195"/>
                  </a:lnTo>
                  <a:lnTo>
                    <a:pt x="6" y="118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158920" y="5207040"/>
              <a:ext cx="9720" cy="1878120"/>
            </a:xfrm>
            <a:custGeom>
              <a:avLst/>
              <a:gdLst/>
              <a:ahLst/>
              <a:rect l="l" t="t" r="r" b="b"/>
              <a:pathLst>
                <a:path w="6" h="1183">
                  <a:moveTo>
                    <a:pt x="0" y="0"/>
                  </a:moveTo>
                  <a:lnTo>
                    <a:pt x="0" y="1183"/>
                  </a:lnTo>
                  <a:lnTo>
                    <a:pt x="6" y="117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68640" y="5207040"/>
              <a:ext cx="11160" cy="1828800"/>
            </a:xfrm>
            <a:custGeom>
              <a:avLst/>
              <a:gdLst/>
              <a:ahLst/>
              <a:rect l="l" t="t" r="r" b="b"/>
              <a:pathLst>
                <a:path w="7" h="1152">
                  <a:moveTo>
                    <a:pt x="0" y="0"/>
                  </a:moveTo>
                  <a:lnTo>
                    <a:pt x="0" y="1152"/>
                  </a:lnTo>
                  <a:lnTo>
                    <a:pt x="7" y="114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179800" y="5207040"/>
              <a:ext cx="9360" cy="1809720"/>
            </a:xfrm>
            <a:custGeom>
              <a:avLst/>
              <a:gdLst/>
              <a:ahLst/>
              <a:rect l="l" t="t" r="r" b="b"/>
              <a:pathLst>
                <a:path w="6" h="1140">
                  <a:moveTo>
                    <a:pt x="0" y="0"/>
                  </a:moveTo>
                  <a:lnTo>
                    <a:pt x="0" y="1140"/>
                  </a:lnTo>
                  <a:lnTo>
                    <a:pt x="6" y="112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89160" y="5218200"/>
              <a:ext cx="9360" cy="1778040"/>
            </a:xfrm>
            <a:custGeom>
              <a:avLst/>
              <a:gdLst/>
              <a:ahLst/>
              <a:rect l="l" t="t" r="r" b="b"/>
              <a:pathLst>
                <a:path w="6" h="1120">
                  <a:moveTo>
                    <a:pt x="0" y="0"/>
                  </a:moveTo>
                  <a:lnTo>
                    <a:pt x="0" y="1120"/>
                  </a:lnTo>
                  <a:lnTo>
                    <a:pt x="6" y="111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98520" y="5218200"/>
              <a:ext cx="20880" cy="1768320"/>
            </a:xfrm>
            <a:custGeom>
              <a:avLst/>
              <a:gdLst/>
              <a:ahLst/>
              <a:rect l="l" t="t" r="r" b="b"/>
              <a:pathLst>
                <a:path w="13" h="1114">
                  <a:moveTo>
                    <a:pt x="0" y="0"/>
                  </a:moveTo>
                  <a:lnTo>
                    <a:pt x="0" y="1114"/>
                  </a:lnTo>
                  <a:lnTo>
                    <a:pt x="13" y="1108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19400" y="5227560"/>
              <a:ext cx="20520" cy="1749600"/>
            </a:xfrm>
            <a:custGeom>
              <a:avLst/>
              <a:gdLst/>
              <a:ahLst/>
              <a:rect l="l" t="t" r="r" b="b"/>
              <a:pathLst>
                <a:path w="13" h="1102">
                  <a:moveTo>
                    <a:pt x="0" y="0"/>
                  </a:moveTo>
                  <a:lnTo>
                    <a:pt x="0" y="1102"/>
                  </a:lnTo>
                  <a:lnTo>
                    <a:pt x="13" y="1102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39920" y="523728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0"/>
                  </a:moveTo>
                  <a:lnTo>
                    <a:pt x="0" y="1096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49640" y="5237280"/>
              <a:ext cx="10800" cy="1728720"/>
            </a:xfrm>
            <a:custGeom>
              <a:avLst/>
              <a:gdLst/>
              <a:ahLst/>
              <a:rect l="l" t="t" r="r" b="b"/>
              <a:pathLst>
                <a:path w="7" h="1089">
                  <a:moveTo>
                    <a:pt x="0" y="0"/>
                  </a:moveTo>
                  <a:lnTo>
                    <a:pt x="0" y="1089"/>
                  </a:lnTo>
                  <a:lnTo>
                    <a:pt x="7" y="108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60440" y="5246640"/>
              <a:ext cx="972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0"/>
                  </a:moveTo>
                  <a:lnTo>
                    <a:pt x="0" y="1077"/>
                  </a:lnTo>
                  <a:lnTo>
                    <a:pt x="6" y="106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70160" y="5246640"/>
              <a:ext cx="9360" cy="1690560"/>
            </a:xfrm>
            <a:custGeom>
              <a:avLst/>
              <a:gdLst/>
              <a:ahLst/>
              <a:rect l="l" t="t" r="r" b="b"/>
              <a:pathLst>
                <a:path w="6" h="1065">
                  <a:moveTo>
                    <a:pt x="0" y="0"/>
                  </a:moveTo>
                  <a:lnTo>
                    <a:pt x="0" y="1065"/>
                  </a:lnTo>
                  <a:lnTo>
                    <a:pt x="6" y="104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79520" y="5257800"/>
              <a:ext cx="11160" cy="1609560"/>
            </a:xfrm>
            <a:custGeom>
              <a:avLst/>
              <a:gdLst/>
              <a:ahLst/>
              <a:rect l="l" t="t" r="r" b="b"/>
              <a:pathLst>
                <a:path w="7" h="1014">
                  <a:moveTo>
                    <a:pt x="0" y="0"/>
                  </a:moveTo>
                  <a:lnTo>
                    <a:pt x="0" y="1014"/>
                  </a:lnTo>
                  <a:lnTo>
                    <a:pt x="7" y="100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90680" y="5267160"/>
              <a:ext cx="9720" cy="1590840"/>
            </a:xfrm>
            <a:custGeom>
              <a:avLst/>
              <a:gdLst/>
              <a:ahLst/>
              <a:rect l="l" t="t" r="r" b="b"/>
              <a:pathLst>
                <a:path w="6" h="1002">
                  <a:moveTo>
                    <a:pt x="0" y="0"/>
                  </a:moveTo>
                  <a:lnTo>
                    <a:pt x="0" y="1002"/>
                  </a:lnTo>
                  <a:lnTo>
                    <a:pt x="6" y="100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00400" y="5276880"/>
              <a:ext cx="9360" cy="158112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0"/>
                  </a:moveTo>
                  <a:lnTo>
                    <a:pt x="0" y="996"/>
                  </a:lnTo>
                  <a:lnTo>
                    <a:pt x="6" y="99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09760" y="5286240"/>
              <a:ext cx="11160" cy="1562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20920" y="5286240"/>
              <a:ext cx="19080" cy="1562400"/>
            </a:xfrm>
            <a:custGeom>
              <a:avLst/>
              <a:gdLst/>
              <a:ahLst/>
              <a:rect l="l" t="t" r="r" b="b"/>
              <a:pathLst>
                <a:path w="12" h="984">
                  <a:moveTo>
                    <a:pt x="0" y="0"/>
                  </a:moveTo>
                  <a:lnTo>
                    <a:pt x="0" y="984"/>
                  </a:lnTo>
                  <a:lnTo>
                    <a:pt x="12" y="984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40000" y="5295960"/>
              <a:ext cx="20520" cy="1552680"/>
            </a:xfrm>
            <a:custGeom>
              <a:avLst/>
              <a:gdLst/>
              <a:ahLst/>
              <a:rect l="l" t="t" r="r" b="b"/>
              <a:pathLst>
                <a:path w="13" h="978">
                  <a:moveTo>
                    <a:pt x="0" y="0"/>
                  </a:moveTo>
                  <a:lnTo>
                    <a:pt x="0" y="978"/>
                  </a:lnTo>
                  <a:lnTo>
                    <a:pt x="13" y="978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60520" y="5307120"/>
              <a:ext cx="11160" cy="1541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71680" y="5307120"/>
              <a:ext cx="30240" cy="1541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01920" y="5307120"/>
              <a:ext cx="9360" cy="1541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411280" y="5307120"/>
              <a:ext cx="9720" cy="154152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0"/>
                  </a:moveTo>
                  <a:lnTo>
                    <a:pt x="0" y="971"/>
                  </a:lnTo>
                  <a:lnTo>
                    <a:pt x="6" y="95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421000" y="5316480"/>
              <a:ext cx="11160" cy="1511280"/>
            </a:xfrm>
            <a:custGeom>
              <a:avLst/>
              <a:gdLst/>
              <a:ahLst/>
              <a:rect l="l" t="t" r="r" b="b"/>
              <a:pathLst>
                <a:path w="7" h="952">
                  <a:moveTo>
                    <a:pt x="0" y="0"/>
                  </a:moveTo>
                  <a:lnTo>
                    <a:pt x="0" y="952"/>
                  </a:lnTo>
                  <a:lnTo>
                    <a:pt x="7" y="94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32160" y="5316480"/>
              <a:ext cx="9360" cy="1492200"/>
            </a:xfrm>
            <a:custGeom>
              <a:avLst/>
              <a:gdLst/>
              <a:ahLst/>
              <a:rect l="l" t="t" r="r" b="b"/>
              <a:pathLst>
                <a:path w="6" h="940">
                  <a:moveTo>
                    <a:pt x="0" y="0"/>
                  </a:moveTo>
                  <a:lnTo>
                    <a:pt x="0" y="940"/>
                  </a:lnTo>
                  <a:lnTo>
                    <a:pt x="6" y="93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41520" y="5326200"/>
              <a:ext cx="9720" cy="1473120"/>
            </a:xfrm>
            <a:custGeom>
              <a:avLst/>
              <a:gdLst/>
              <a:ahLst/>
              <a:rect l="l" t="t" r="r" b="b"/>
              <a:pathLst>
                <a:path w="6" h="928">
                  <a:moveTo>
                    <a:pt x="0" y="0"/>
                  </a:moveTo>
                  <a:lnTo>
                    <a:pt x="0" y="928"/>
                  </a:lnTo>
                  <a:lnTo>
                    <a:pt x="6" y="92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451240" y="5335560"/>
              <a:ext cx="10800" cy="1452600"/>
            </a:xfrm>
            <a:custGeom>
              <a:avLst/>
              <a:gdLst/>
              <a:ahLst/>
              <a:rect l="l" t="t" r="r" b="b"/>
              <a:pathLst>
                <a:path w="7" h="915">
                  <a:moveTo>
                    <a:pt x="0" y="0"/>
                  </a:moveTo>
                  <a:lnTo>
                    <a:pt x="0" y="915"/>
                  </a:lnTo>
                  <a:lnTo>
                    <a:pt x="7" y="90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62040" y="5346720"/>
              <a:ext cx="9720" cy="1432080"/>
            </a:xfrm>
            <a:custGeom>
              <a:avLst/>
              <a:gdLst/>
              <a:ahLst/>
              <a:rect l="l" t="t" r="r" b="b"/>
              <a:pathLst>
                <a:path w="6" h="902">
                  <a:moveTo>
                    <a:pt x="0" y="0"/>
                  </a:moveTo>
                  <a:lnTo>
                    <a:pt x="0" y="902"/>
                  </a:lnTo>
                  <a:lnTo>
                    <a:pt x="6" y="89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471760" y="5356080"/>
              <a:ext cx="20520" cy="1403640"/>
            </a:xfrm>
            <a:custGeom>
              <a:avLst/>
              <a:gdLst/>
              <a:ahLst/>
              <a:rect l="l" t="t" r="r" b="b"/>
              <a:pathLst>
                <a:path w="13" h="884">
                  <a:moveTo>
                    <a:pt x="0" y="0"/>
                  </a:moveTo>
                  <a:lnTo>
                    <a:pt x="0" y="884"/>
                  </a:lnTo>
                  <a:lnTo>
                    <a:pt x="13" y="877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492280" y="5375160"/>
              <a:ext cx="9720" cy="1373400"/>
            </a:xfrm>
            <a:custGeom>
              <a:avLst/>
              <a:gdLst/>
              <a:ahLst/>
              <a:rect l="l" t="t" r="r" b="b"/>
              <a:pathLst>
                <a:path w="6" h="865">
                  <a:moveTo>
                    <a:pt x="0" y="0"/>
                  </a:moveTo>
                  <a:lnTo>
                    <a:pt x="0" y="865"/>
                  </a:lnTo>
                  <a:lnTo>
                    <a:pt x="6" y="85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02000" y="5384880"/>
              <a:ext cx="9360" cy="1353960"/>
            </a:xfrm>
            <a:custGeom>
              <a:avLst/>
              <a:gdLst/>
              <a:ahLst/>
              <a:rect l="l" t="t" r="r" b="b"/>
              <a:pathLst>
                <a:path w="6" h="853">
                  <a:moveTo>
                    <a:pt x="0" y="0"/>
                  </a:moveTo>
                  <a:lnTo>
                    <a:pt x="0" y="853"/>
                  </a:lnTo>
                  <a:lnTo>
                    <a:pt x="6" y="84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11360" y="5396040"/>
              <a:ext cx="20880" cy="1333440"/>
            </a:xfrm>
            <a:custGeom>
              <a:avLst/>
              <a:gdLst/>
              <a:ahLst/>
              <a:rect l="l" t="t" r="r" b="b"/>
              <a:pathLst>
                <a:path w="13" h="840">
                  <a:moveTo>
                    <a:pt x="0" y="0"/>
                  </a:moveTo>
                  <a:lnTo>
                    <a:pt x="0" y="840"/>
                  </a:lnTo>
                  <a:lnTo>
                    <a:pt x="13" y="834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32240" y="5415120"/>
              <a:ext cx="20520" cy="1304640"/>
            </a:xfrm>
            <a:custGeom>
              <a:avLst/>
              <a:gdLst/>
              <a:ahLst/>
              <a:rect l="l" t="t" r="r" b="b"/>
              <a:pathLst>
                <a:path w="13" h="822">
                  <a:moveTo>
                    <a:pt x="0" y="0"/>
                  </a:moveTo>
                  <a:lnTo>
                    <a:pt x="0" y="822"/>
                  </a:lnTo>
                  <a:lnTo>
                    <a:pt x="13" y="816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52760" y="5435640"/>
              <a:ext cx="9360" cy="1274760"/>
            </a:xfrm>
            <a:custGeom>
              <a:avLst/>
              <a:gdLst/>
              <a:ahLst/>
              <a:rect l="l" t="t" r="r" b="b"/>
              <a:pathLst>
                <a:path w="6" h="803">
                  <a:moveTo>
                    <a:pt x="0" y="0"/>
                  </a:moveTo>
                  <a:lnTo>
                    <a:pt x="0" y="803"/>
                  </a:lnTo>
                  <a:lnTo>
                    <a:pt x="6" y="80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562120" y="5445000"/>
              <a:ext cx="20880" cy="1265400"/>
            </a:xfrm>
            <a:custGeom>
              <a:avLst/>
              <a:gdLst/>
              <a:ahLst/>
              <a:rect l="l" t="t" r="r" b="b"/>
              <a:pathLst>
                <a:path w="13" h="797">
                  <a:moveTo>
                    <a:pt x="0" y="0"/>
                  </a:moveTo>
                  <a:lnTo>
                    <a:pt x="0" y="797"/>
                  </a:lnTo>
                  <a:lnTo>
                    <a:pt x="13" y="790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83000" y="5464080"/>
              <a:ext cx="9360" cy="1235160"/>
            </a:xfrm>
            <a:custGeom>
              <a:avLst/>
              <a:gdLst/>
              <a:ahLst/>
              <a:rect l="l" t="t" r="r" b="b"/>
              <a:pathLst>
                <a:path w="6" h="778">
                  <a:moveTo>
                    <a:pt x="0" y="0"/>
                  </a:moveTo>
                  <a:lnTo>
                    <a:pt x="0" y="778"/>
                  </a:lnTo>
                  <a:lnTo>
                    <a:pt x="6" y="77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92360" y="5473800"/>
              <a:ext cx="11160" cy="1225440"/>
            </a:xfrm>
            <a:custGeom>
              <a:avLst/>
              <a:gdLst/>
              <a:ahLst/>
              <a:rect l="l" t="t" r="r" b="b"/>
              <a:pathLst>
                <a:path w="7" h="772">
                  <a:moveTo>
                    <a:pt x="0" y="0"/>
                  </a:moveTo>
                  <a:lnTo>
                    <a:pt x="0" y="772"/>
                  </a:lnTo>
                  <a:lnTo>
                    <a:pt x="7" y="772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03520" y="5484960"/>
              <a:ext cx="9360" cy="1214280"/>
            </a:xfrm>
            <a:custGeom>
              <a:avLst/>
              <a:gdLst/>
              <a:ahLst/>
              <a:rect l="l" t="t" r="r" b="b"/>
              <a:pathLst>
                <a:path w="6" h="765">
                  <a:moveTo>
                    <a:pt x="0" y="0"/>
                  </a:moveTo>
                  <a:lnTo>
                    <a:pt x="0" y="765"/>
                  </a:lnTo>
                  <a:lnTo>
                    <a:pt x="6" y="7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12880" y="5494320"/>
              <a:ext cx="9720" cy="1204920"/>
            </a:xfrm>
            <a:custGeom>
              <a:avLst/>
              <a:gdLst/>
              <a:ahLst/>
              <a:rect l="l" t="t" r="r" b="b"/>
              <a:pathLst>
                <a:path w="6" h="759">
                  <a:moveTo>
                    <a:pt x="0" y="0"/>
                  </a:moveTo>
                  <a:lnTo>
                    <a:pt x="0" y="759"/>
                  </a:lnTo>
                  <a:lnTo>
                    <a:pt x="6" y="75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22600" y="5504040"/>
              <a:ext cx="20520" cy="1195200"/>
            </a:xfrm>
            <a:custGeom>
              <a:avLst/>
              <a:gdLst/>
              <a:ahLst/>
              <a:rect l="l" t="t" r="r" b="b"/>
              <a:pathLst>
                <a:path w="13" h="753">
                  <a:moveTo>
                    <a:pt x="0" y="0"/>
                  </a:moveTo>
                  <a:lnTo>
                    <a:pt x="0" y="753"/>
                  </a:lnTo>
                  <a:lnTo>
                    <a:pt x="13" y="753"/>
                  </a:lnTo>
                  <a:lnTo>
                    <a:pt x="1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43120" y="5533920"/>
              <a:ext cx="9720" cy="1165320"/>
            </a:xfrm>
            <a:custGeom>
              <a:avLst/>
              <a:gdLst/>
              <a:ahLst/>
              <a:rect l="l" t="t" r="r" b="b"/>
              <a:pathLst>
                <a:path w="6" h="734">
                  <a:moveTo>
                    <a:pt x="0" y="0"/>
                  </a:moveTo>
                  <a:lnTo>
                    <a:pt x="0" y="734"/>
                  </a:lnTo>
                  <a:lnTo>
                    <a:pt x="6" y="72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652840" y="5543640"/>
              <a:ext cx="11160" cy="1146240"/>
            </a:xfrm>
            <a:custGeom>
              <a:avLst/>
              <a:gdLst/>
              <a:ahLst/>
              <a:rect l="l" t="t" r="r" b="b"/>
              <a:pathLst>
                <a:path w="7" h="722">
                  <a:moveTo>
                    <a:pt x="0" y="0"/>
                  </a:moveTo>
                  <a:lnTo>
                    <a:pt x="0" y="722"/>
                  </a:lnTo>
                  <a:lnTo>
                    <a:pt x="7" y="71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64000" y="5553000"/>
              <a:ext cx="9360" cy="1127160"/>
            </a:xfrm>
            <a:custGeom>
              <a:avLst/>
              <a:gdLst/>
              <a:ahLst/>
              <a:rect l="l" t="t" r="r" b="b"/>
              <a:pathLst>
                <a:path w="6" h="710">
                  <a:moveTo>
                    <a:pt x="0" y="0"/>
                  </a:moveTo>
                  <a:lnTo>
                    <a:pt x="0" y="710"/>
                  </a:lnTo>
                  <a:lnTo>
                    <a:pt x="6" y="71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73360" y="5573880"/>
              <a:ext cx="11160" cy="1106280"/>
            </a:xfrm>
            <a:custGeom>
              <a:avLst/>
              <a:gdLst/>
              <a:ahLst/>
              <a:rect l="l" t="t" r="r" b="b"/>
              <a:pathLst>
                <a:path w="7" h="697">
                  <a:moveTo>
                    <a:pt x="0" y="0"/>
                  </a:moveTo>
                  <a:lnTo>
                    <a:pt x="0" y="697"/>
                  </a:lnTo>
                  <a:lnTo>
                    <a:pt x="7" y="691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84520" y="5622840"/>
              <a:ext cx="9360" cy="1047960"/>
            </a:xfrm>
            <a:custGeom>
              <a:avLst/>
              <a:gdLst/>
              <a:ahLst/>
              <a:rect l="l" t="t" r="r" b="b"/>
              <a:pathLst>
                <a:path w="6" h="660">
                  <a:moveTo>
                    <a:pt x="0" y="0"/>
                  </a:moveTo>
                  <a:lnTo>
                    <a:pt x="0" y="660"/>
                  </a:lnTo>
                  <a:lnTo>
                    <a:pt x="6" y="660"/>
                  </a:lnTo>
                  <a:lnTo>
                    <a:pt x="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93880" y="5653080"/>
              <a:ext cx="9720" cy="1017720"/>
            </a:xfrm>
            <a:custGeom>
              <a:avLst/>
              <a:gdLst/>
              <a:ahLst/>
              <a:rect l="l" t="t" r="r" b="b"/>
              <a:pathLst>
                <a:path w="6" h="641">
                  <a:moveTo>
                    <a:pt x="0" y="0"/>
                  </a:moveTo>
                  <a:lnTo>
                    <a:pt x="0" y="641"/>
                  </a:lnTo>
                  <a:lnTo>
                    <a:pt x="6" y="63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703600" y="5672160"/>
              <a:ext cx="11160" cy="987480"/>
            </a:xfrm>
            <a:custGeom>
              <a:avLst/>
              <a:gdLst/>
              <a:ahLst/>
              <a:rect l="l" t="t" r="r" b="b"/>
              <a:pathLst>
                <a:path w="7" h="622">
                  <a:moveTo>
                    <a:pt x="0" y="0"/>
                  </a:moveTo>
                  <a:lnTo>
                    <a:pt x="0" y="622"/>
                  </a:lnTo>
                  <a:lnTo>
                    <a:pt x="7" y="62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681520"/>
              <a:ext cx="19080" cy="978120"/>
            </a:xfrm>
            <a:custGeom>
              <a:avLst/>
              <a:gdLst/>
              <a:ahLst/>
              <a:rect l="l" t="t" r="r" b="b"/>
              <a:pathLst>
                <a:path w="12" h="616">
                  <a:moveTo>
                    <a:pt x="0" y="0"/>
                  </a:moveTo>
                  <a:lnTo>
                    <a:pt x="0" y="616"/>
                  </a:lnTo>
                  <a:lnTo>
                    <a:pt x="12" y="610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33840" y="5702400"/>
              <a:ext cx="10800" cy="947520"/>
            </a:xfrm>
            <a:custGeom>
              <a:avLst/>
              <a:gdLst/>
              <a:ahLst/>
              <a:rect l="l" t="t" r="r" b="b"/>
              <a:pathLst>
                <a:path w="7" h="597">
                  <a:moveTo>
                    <a:pt x="0" y="0"/>
                  </a:moveTo>
                  <a:lnTo>
                    <a:pt x="0" y="597"/>
                  </a:lnTo>
                  <a:lnTo>
                    <a:pt x="7" y="59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44640" y="5711760"/>
              <a:ext cx="19080" cy="938160"/>
            </a:xfrm>
            <a:custGeom>
              <a:avLst/>
              <a:gdLst/>
              <a:ahLst/>
              <a:rect l="l" t="t" r="r" b="b"/>
              <a:pathLst>
                <a:path w="12" h="591">
                  <a:moveTo>
                    <a:pt x="0" y="0"/>
                  </a:moveTo>
                  <a:lnTo>
                    <a:pt x="0" y="591"/>
                  </a:lnTo>
                  <a:lnTo>
                    <a:pt x="12" y="585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63720" y="5730840"/>
              <a:ext cx="11160" cy="909720"/>
            </a:xfrm>
            <a:custGeom>
              <a:avLst/>
              <a:gdLst/>
              <a:ahLst/>
              <a:rect l="l" t="t" r="r" b="b"/>
              <a:pathLst>
                <a:path w="7" h="573">
                  <a:moveTo>
                    <a:pt x="0" y="0"/>
                  </a:moveTo>
                  <a:lnTo>
                    <a:pt x="0" y="573"/>
                  </a:lnTo>
                  <a:lnTo>
                    <a:pt x="7" y="57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74880" y="5742000"/>
              <a:ext cx="19080" cy="898560"/>
            </a:xfrm>
            <a:custGeom>
              <a:avLst/>
              <a:gdLst/>
              <a:ahLst/>
              <a:rect l="l" t="t" r="r" b="b"/>
              <a:pathLst>
                <a:path w="12" h="566">
                  <a:moveTo>
                    <a:pt x="0" y="0"/>
                  </a:moveTo>
                  <a:lnTo>
                    <a:pt x="0" y="566"/>
                  </a:lnTo>
                  <a:lnTo>
                    <a:pt x="12" y="566"/>
                  </a:lnTo>
                  <a:lnTo>
                    <a:pt x="1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93960" y="5770440"/>
              <a:ext cx="11160" cy="870120"/>
            </a:xfrm>
            <a:custGeom>
              <a:avLst/>
              <a:gdLst/>
              <a:ahLst/>
              <a:rect l="l" t="t" r="r" b="b"/>
              <a:pathLst>
                <a:path w="7" h="548">
                  <a:moveTo>
                    <a:pt x="0" y="0"/>
                  </a:moveTo>
                  <a:lnTo>
                    <a:pt x="0" y="548"/>
                  </a:lnTo>
                  <a:lnTo>
                    <a:pt x="7" y="54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05120" y="5780160"/>
              <a:ext cx="20520" cy="850680"/>
            </a:xfrm>
            <a:custGeom>
              <a:avLst/>
              <a:gdLst/>
              <a:ahLst/>
              <a:rect l="l" t="t" r="r" b="b"/>
              <a:pathLst>
                <a:path w="13" h="536">
                  <a:moveTo>
                    <a:pt x="0" y="0"/>
                  </a:moveTo>
                  <a:lnTo>
                    <a:pt x="0" y="536"/>
                  </a:lnTo>
                  <a:lnTo>
                    <a:pt x="13" y="530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25640" y="5791320"/>
              <a:ext cx="9720" cy="830160"/>
            </a:xfrm>
            <a:custGeom>
              <a:avLst/>
              <a:gdLst/>
              <a:ahLst/>
              <a:rect l="l" t="t" r="r" b="b"/>
              <a:pathLst>
                <a:path w="6" h="523">
                  <a:moveTo>
                    <a:pt x="0" y="0"/>
                  </a:moveTo>
                  <a:lnTo>
                    <a:pt x="0" y="523"/>
                  </a:lnTo>
                  <a:lnTo>
                    <a:pt x="6" y="51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35360" y="5800680"/>
              <a:ext cx="20520" cy="809640"/>
            </a:xfrm>
            <a:custGeom>
              <a:avLst/>
              <a:gdLst/>
              <a:ahLst/>
              <a:rect l="l" t="t" r="r" b="b"/>
              <a:pathLst>
                <a:path w="13" h="510">
                  <a:moveTo>
                    <a:pt x="0" y="0"/>
                  </a:moveTo>
                  <a:lnTo>
                    <a:pt x="0" y="510"/>
                  </a:lnTo>
                  <a:lnTo>
                    <a:pt x="13" y="498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55880" y="5810400"/>
              <a:ext cx="19080" cy="780840"/>
            </a:xfrm>
            <a:custGeom>
              <a:avLst/>
              <a:gdLst/>
              <a:ahLst/>
              <a:rect l="l" t="t" r="r" b="b"/>
              <a:pathLst>
                <a:path w="12" h="492">
                  <a:moveTo>
                    <a:pt x="0" y="0"/>
                  </a:moveTo>
                  <a:lnTo>
                    <a:pt x="0" y="492"/>
                  </a:lnTo>
                  <a:lnTo>
                    <a:pt x="12" y="48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4960" y="5819760"/>
              <a:ext cx="20520" cy="762120"/>
            </a:xfrm>
            <a:custGeom>
              <a:avLst/>
              <a:gdLst/>
              <a:ahLst/>
              <a:rect l="l" t="t" r="r" b="b"/>
              <a:pathLst>
                <a:path w="13" h="480">
                  <a:moveTo>
                    <a:pt x="0" y="0"/>
                  </a:moveTo>
                  <a:lnTo>
                    <a:pt x="0" y="480"/>
                  </a:lnTo>
                  <a:lnTo>
                    <a:pt x="13" y="473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95480" y="5830920"/>
              <a:ext cx="39960" cy="739800"/>
            </a:xfrm>
            <a:custGeom>
              <a:avLst/>
              <a:gdLst/>
              <a:ahLst/>
              <a:rect l="l" t="t" r="r" b="b"/>
              <a:pathLst>
                <a:path w="25" h="466">
                  <a:moveTo>
                    <a:pt x="0" y="0"/>
                  </a:moveTo>
                  <a:lnTo>
                    <a:pt x="0" y="466"/>
                  </a:lnTo>
                  <a:lnTo>
                    <a:pt x="25" y="448"/>
                  </a:lnTo>
                  <a:lnTo>
                    <a:pt x="2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935440" y="5850000"/>
              <a:ext cx="20520" cy="691920"/>
            </a:xfrm>
            <a:custGeom>
              <a:avLst/>
              <a:gdLst/>
              <a:ahLst/>
              <a:rect l="l" t="t" r="r" b="b"/>
              <a:pathLst>
                <a:path w="13" h="436">
                  <a:moveTo>
                    <a:pt x="0" y="0"/>
                  </a:moveTo>
                  <a:lnTo>
                    <a:pt x="0" y="436"/>
                  </a:lnTo>
                  <a:lnTo>
                    <a:pt x="13" y="429"/>
                  </a:lnTo>
                  <a:lnTo>
                    <a:pt x="1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55960" y="5880240"/>
              <a:ext cx="20520" cy="650880"/>
            </a:xfrm>
            <a:custGeom>
              <a:avLst/>
              <a:gdLst/>
              <a:ahLst/>
              <a:rect l="l" t="t" r="r" b="b"/>
              <a:pathLst>
                <a:path w="13" h="410">
                  <a:moveTo>
                    <a:pt x="0" y="0"/>
                  </a:moveTo>
                  <a:lnTo>
                    <a:pt x="0" y="410"/>
                  </a:lnTo>
                  <a:lnTo>
                    <a:pt x="13" y="410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76480" y="5997600"/>
              <a:ext cx="9720" cy="533520"/>
            </a:xfrm>
            <a:custGeom>
              <a:avLst/>
              <a:gdLst/>
              <a:ahLst/>
              <a:rect l="l" t="t" r="r" b="b"/>
              <a:pathLst>
                <a:path w="6" h="336">
                  <a:moveTo>
                    <a:pt x="0" y="0"/>
                  </a:moveTo>
                  <a:lnTo>
                    <a:pt x="0" y="336"/>
                  </a:lnTo>
                  <a:lnTo>
                    <a:pt x="6" y="330"/>
                  </a:lnTo>
                  <a:lnTo>
                    <a:pt x="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86200" y="6027840"/>
              <a:ext cx="11160" cy="493560"/>
            </a:xfrm>
            <a:custGeom>
              <a:avLst/>
              <a:gdLst/>
              <a:ahLst/>
              <a:rect l="l" t="t" r="r" b="b"/>
              <a:pathLst>
                <a:path w="7" h="311">
                  <a:moveTo>
                    <a:pt x="0" y="0"/>
                  </a:moveTo>
                  <a:lnTo>
                    <a:pt x="0" y="311"/>
                  </a:lnTo>
                  <a:lnTo>
                    <a:pt x="7" y="305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97360" y="6067440"/>
              <a:ext cx="9360" cy="444600"/>
            </a:xfrm>
            <a:custGeom>
              <a:avLst/>
              <a:gdLst/>
              <a:ahLst/>
              <a:rect l="l" t="t" r="r" b="b"/>
              <a:pathLst>
                <a:path w="6" h="280">
                  <a:moveTo>
                    <a:pt x="0" y="0"/>
                  </a:moveTo>
                  <a:lnTo>
                    <a:pt x="0" y="280"/>
                  </a:lnTo>
                  <a:lnTo>
                    <a:pt x="6" y="274"/>
                  </a:lnTo>
                  <a:lnTo>
                    <a:pt x="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06720" y="6097680"/>
              <a:ext cx="20520" cy="404640"/>
            </a:xfrm>
            <a:custGeom>
              <a:avLst/>
              <a:gdLst/>
              <a:ahLst/>
              <a:rect l="l" t="t" r="r" b="b"/>
              <a:pathLst>
                <a:path w="13" h="255">
                  <a:moveTo>
                    <a:pt x="0" y="0"/>
                  </a:moveTo>
                  <a:lnTo>
                    <a:pt x="0" y="255"/>
                  </a:lnTo>
                  <a:lnTo>
                    <a:pt x="13" y="249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27240" y="6116760"/>
              <a:ext cx="19080" cy="376200"/>
            </a:xfrm>
            <a:custGeom>
              <a:avLst/>
              <a:gdLst/>
              <a:ahLst/>
              <a:rect l="l" t="t" r="r" b="b"/>
              <a:pathLst>
                <a:path w="12" h="237">
                  <a:moveTo>
                    <a:pt x="0" y="0"/>
                  </a:moveTo>
                  <a:lnTo>
                    <a:pt x="0" y="237"/>
                  </a:lnTo>
                  <a:lnTo>
                    <a:pt x="12" y="230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46320" y="6126120"/>
              <a:ext cx="11160" cy="355680"/>
            </a:xfrm>
            <a:custGeom>
              <a:avLst/>
              <a:gdLst/>
              <a:ahLst/>
              <a:rect l="l" t="t" r="r" b="b"/>
              <a:pathLst>
                <a:path w="7" h="224">
                  <a:moveTo>
                    <a:pt x="0" y="0"/>
                  </a:moveTo>
                  <a:lnTo>
                    <a:pt x="0" y="224"/>
                  </a:lnTo>
                  <a:lnTo>
                    <a:pt x="7" y="218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57480" y="6165720"/>
              <a:ext cx="19080" cy="306360"/>
            </a:xfrm>
            <a:custGeom>
              <a:avLst/>
              <a:gdLst/>
              <a:ahLst/>
              <a:rect l="l" t="t" r="r" b="b"/>
              <a:pathLst>
                <a:path w="12" h="193">
                  <a:moveTo>
                    <a:pt x="0" y="0"/>
                  </a:moveTo>
                  <a:lnTo>
                    <a:pt x="0" y="193"/>
                  </a:lnTo>
                  <a:lnTo>
                    <a:pt x="12" y="187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76560" y="6205680"/>
              <a:ext cx="20520" cy="257040"/>
            </a:xfrm>
            <a:custGeom>
              <a:avLst/>
              <a:gdLst/>
              <a:ahLst/>
              <a:rect l="l" t="t" r="r" b="b"/>
              <a:pathLst>
                <a:path w="13" h="162">
                  <a:moveTo>
                    <a:pt x="0" y="0"/>
                  </a:moveTo>
                  <a:lnTo>
                    <a:pt x="0" y="162"/>
                  </a:lnTo>
                  <a:lnTo>
                    <a:pt x="13" y="156"/>
                  </a:lnTo>
                  <a:lnTo>
                    <a:pt x="1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97080" y="6245280"/>
              <a:ext cx="9720" cy="20808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0"/>
                  </a:moveTo>
                  <a:lnTo>
                    <a:pt x="0" y="131"/>
                  </a:lnTo>
                  <a:lnTo>
                    <a:pt x="6" y="1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06800" y="6254640"/>
              <a:ext cx="20520" cy="187560"/>
            </a:xfrm>
            <a:custGeom>
              <a:avLst/>
              <a:gdLst/>
              <a:ahLst/>
              <a:rect l="l" t="t" r="r" b="b"/>
              <a:pathLst>
                <a:path w="13" h="118">
                  <a:moveTo>
                    <a:pt x="0" y="0"/>
                  </a:moveTo>
                  <a:lnTo>
                    <a:pt x="0" y="118"/>
                  </a:lnTo>
                  <a:lnTo>
                    <a:pt x="13" y="112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27320" y="6264360"/>
              <a:ext cx="11160" cy="168120"/>
            </a:xfrm>
            <a:custGeom>
              <a:avLst/>
              <a:gdLst/>
              <a:ahLst/>
              <a:rect l="l" t="t" r="r" b="b"/>
              <a:pathLst>
                <a:path w="7" h="106">
                  <a:moveTo>
                    <a:pt x="0" y="0"/>
                  </a:moveTo>
                  <a:lnTo>
                    <a:pt x="0" y="106"/>
                  </a:lnTo>
                  <a:lnTo>
                    <a:pt x="7" y="100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38480" y="627552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47840" y="628488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157560" y="6294600"/>
              <a:ext cx="20520" cy="109440"/>
            </a:xfrm>
            <a:custGeom>
              <a:avLst/>
              <a:gdLst/>
              <a:ahLst/>
              <a:rect l="l" t="t" r="r" b="b"/>
              <a:pathLst>
                <a:path w="13" h="69">
                  <a:moveTo>
                    <a:pt x="0" y="0"/>
                  </a:moveTo>
                  <a:lnTo>
                    <a:pt x="0" y="69"/>
                  </a:lnTo>
                  <a:lnTo>
                    <a:pt x="13" y="62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78080" y="6315120"/>
              <a:ext cx="9720" cy="7776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49"/>
                  </a:lnTo>
                  <a:lnTo>
                    <a:pt x="6" y="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187800" y="632448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198960" y="633420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0"/>
                  </a:moveTo>
                  <a:lnTo>
                    <a:pt x="0" y="37"/>
                  </a:lnTo>
                  <a:lnTo>
                    <a:pt x="19" y="31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28840" y="634356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0" y="25"/>
                  </a:lnTo>
                  <a:lnTo>
                    <a:pt x="19" y="25"/>
                  </a:lnTo>
                  <a:lnTo>
                    <a:pt x="1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59080" y="636444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77760" y="4476600"/>
              <a:ext cx="2291040" cy="3251520"/>
            </a:xfrm>
            <a:custGeom>
              <a:avLst/>
              <a:gdLst/>
              <a:ahLst/>
              <a:rect l="l" t="t" r="r" b="b"/>
              <a:pathLst>
                <a:path w="1443" h="2048">
                  <a:moveTo>
                    <a:pt x="350" y="292"/>
                  </a:moveTo>
                  <a:lnTo>
                    <a:pt x="344" y="299"/>
                  </a:lnTo>
                  <a:lnTo>
                    <a:pt x="337" y="280"/>
                  </a:lnTo>
                  <a:lnTo>
                    <a:pt x="331" y="274"/>
                  </a:lnTo>
                  <a:lnTo>
                    <a:pt x="331" y="261"/>
                  </a:lnTo>
                  <a:lnTo>
                    <a:pt x="331" y="255"/>
                  </a:lnTo>
                  <a:lnTo>
                    <a:pt x="331" y="249"/>
                  </a:lnTo>
                  <a:lnTo>
                    <a:pt x="337" y="243"/>
                  </a:lnTo>
                  <a:lnTo>
                    <a:pt x="337" y="236"/>
                  </a:lnTo>
                  <a:lnTo>
                    <a:pt x="331" y="236"/>
                  </a:lnTo>
                  <a:lnTo>
                    <a:pt x="331" y="230"/>
                  </a:lnTo>
                  <a:lnTo>
                    <a:pt x="337" y="224"/>
                  </a:lnTo>
                  <a:lnTo>
                    <a:pt x="337" y="218"/>
                  </a:lnTo>
                  <a:lnTo>
                    <a:pt x="331" y="211"/>
                  </a:lnTo>
                  <a:lnTo>
                    <a:pt x="337" y="211"/>
                  </a:lnTo>
                  <a:lnTo>
                    <a:pt x="337" y="205"/>
                  </a:lnTo>
                  <a:lnTo>
                    <a:pt x="350" y="205"/>
                  </a:lnTo>
                  <a:lnTo>
                    <a:pt x="350" y="199"/>
                  </a:lnTo>
                  <a:lnTo>
                    <a:pt x="337" y="199"/>
                  </a:lnTo>
                  <a:lnTo>
                    <a:pt x="331" y="199"/>
                  </a:lnTo>
                  <a:lnTo>
                    <a:pt x="331" y="205"/>
                  </a:lnTo>
                  <a:lnTo>
                    <a:pt x="325" y="205"/>
                  </a:lnTo>
                  <a:lnTo>
                    <a:pt x="325" y="199"/>
                  </a:lnTo>
                  <a:lnTo>
                    <a:pt x="318" y="193"/>
                  </a:lnTo>
                  <a:lnTo>
                    <a:pt x="312" y="187"/>
                  </a:lnTo>
                  <a:lnTo>
                    <a:pt x="312" y="180"/>
                  </a:lnTo>
                  <a:lnTo>
                    <a:pt x="312" y="174"/>
                  </a:lnTo>
                  <a:lnTo>
                    <a:pt x="312" y="168"/>
                  </a:lnTo>
                  <a:lnTo>
                    <a:pt x="312" y="162"/>
                  </a:lnTo>
                  <a:lnTo>
                    <a:pt x="312" y="155"/>
                  </a:lnTo>
                  <a:lnTo>
                    <a:pt x="312" y="149"/>
                  </a:lnTo>
                  <a:lnTo>
                    <a:pt x="318" y="149"/>
                  </a:lnTo>
                  <a:lnTo>
                    <a:pt x="325" y="149"/>
                  </a:lnTo>
                  <a:lnTo>
                    <a:pt x="325" y="143"/>
                  </a:lnTo>
                  <a:lnTo>
                    <a:pt x="318" y="143"/>
                  </a:lnTo>
                  <a:lnTo>
                    <a:pt x="318" y="137"/>
                  </a:lnTo>
                  <a:lnTo>
                    <a:pt x="318" y="130"/>
                  </a:lnTo>
                  <a:lnTo>
                    <a:pt x="325" y="124"/>
                  </a:lnTo>
                  <a:lnTo>
                    <a:pt x="325" y="118"/>
                  </a:lnTo>
                  <a:lnTo>
                    <a:pt x="331" y="118"/>
                  </a:lnTo>
                  <a:lnTo>
                    <a:pt x="337" y="118"/>
                  </a:lnTo>
                  <a:lnTo>
                    <a:pt x="344" y="118"/>
                  </a:lnTo>
                  <a:lnTo>
                    <a:pt x="350" y="112"/>
                  </a:lnTo>
                  <a:lnTo>
                    <a:pt x="344" y="112"/>
                  </a:lnTo>
                  <a:lnTo>
                    <a:pt x="344" y="106"/>
                  </a:lnTo>
                  <a:lnTo>
                    <a:pt x="350" y="106"/>
                  </a:lnTo>
                  <a:lnTo>
                    <a:pt x="356" y="106"/>
                  </a:lnTo>
                  <a:lnTo>
                    <a:pt x="356" y="99"/>
                  </a:lnTo>
                  <a:lnTo>
                    <a:pt x="363" y="99"/>
                  </a:lnTo>
                  <a:lnTo>
                    <a:pt x="369" y="93"/>
                  </a:lnTo>
                  <a:lnTo>
                    <a:pt x="375" y="93"/>
                  </a:lnTo>
                  <a:lnTo>
                    <a:pt x="369" y="87"/>
                  </a:lnTo>
                  <a:lnTo>
                    <a:pt x="369" y="81"/>
                  </a:lnTo>
                  <a:lnTo>
                    <a:pt x="369" y="74"/>
                  </a:lnTo>
                  <a:lnTo>
                    <a:pt x="375" y="74"/>
                  </a:lnTo>
                  <a:lnTo>
                    <a:pt x="382" y="68"/>
                  </a:lnTo>
                  <a:lnTo>
                    <a:pt x="388" y="62"/>
                  </a:lnTo>
                  <a:lnTo>
                    <a:pt x="395" y="62"/>
                  </a:lnTo>
                  <a:lnTo>
                    <a:pt x="401" y="62"/>
                  </a:lnTo>
                  <a:lnTo>
                    <a:pt x="414" y="56"/>
                  </a:lnTo>
                  <a:lnTo>
                    <a:pt x="420" y="56"/>
                  </a:lnTo>
                  <a:lnTo>
                    <a:pt x="426" y="50"/>
                  </a:lnTo>
                  <a:lnTo>
                    <a:pt x="433" y="50"/>
                  </a:lnTo>
                  <a:lnTo>
                    <a:pt x="439" y="50"/>
                  </a:lnTo>
                  <a:lnTo>
                    <a:pt x="452" y="43"/>
                  </a:lnTo>
                  <a:lnTo>
                    <a:pt x="458" y="43"/>
                  </a:lnTo>
                  <a:lnTo>
                    <a:pt x="464" y="50"/>
                  </a:lnTo>
                  <a:lnTo>
                    <a:pt x="471" y="56"/>
                  </a:lnTo>
                  <a:lnTo>
                    <a:pt x="483" y="50"/>
                  </a:lnTo>
                  <a:lnTo>
                    <a:pt x="490" y="50"/>
                  </a:lnTo>
                  <a:lnTo>
                    <a:pt x="496" y="50"/>
                  </a:lnTo>
                  <a:lnTo>
                    <a:pt x="503" y="50"/>
                  </a:lnTo>
                  <a:lnTo>
                    <a:pt x="509" y="43"/>
                  </a:lnTo>
                  <a:lnTo>
                    <a:pt x="515" y="43"/>
                  </a:lnTo>
                  <a:lnTo>
                    <a:pt x="528" y="37"/>
                  </a:lnTo>
                  <a:lnTo>
                    <a:pt x="541" y="37"/>
                  </a:lnTo>
                  <a:lnTo>
                    <a:pt x="566" y="25"/>
                  </a:lnTo>
                  <a:lnTo>
                    <a:pt x="579" y="18"/>
                  </a:lnTo>
                  <a:lnTo>
                    <a:pt x="585" y="6"/>
                  </a:lnTo>
                  <a:lnTo>
                    <a:pt x="604" y="0"/>
                  </a:lnTo>
                  <a:lnTo>
                    <a:pt x="604" y="18"/>
                  </a:lnTo>
                  <a:lnTo>
                    <a:pt x="604" y="31"/>
                  </a:lnTo>
                  <a:lnTo>
                    <a:pt x="604" y="43"/>
                  </a:lnTo>
                  <a:lnTo>
                    <a:pt x="598" y="56"/>
                  </a:lnTo>
                  <a:lnTo>
                    <a:pt x="598" y="68"/>
                  </a:lnTo>
                  <a:lnTo>
                    <a:pt x="592" y="81"/>
                  </a:lnTo>
                  <a:lnTo>
                    <a:pt x="585" y="87"/>
                  </a:lnTo>
                  <a:lnTo>
                    <a:pt x="585" y="99"/>
                  </a:lnTo>
                  <a:lnTo>
                    <a:pt x="579" y="106"/>
                  </a:lnTo>
                  <a:lnTo>
                    <a:pt x="585" y="112"/>
                  </a:lnTo>
                  <a:lnTo>
                    <a:pt x="585" y="137"/>
                  </a:lnTo>
                  <a:lnTo>
                    <a:pt x="585" y="149"/>
                  </a:lnTo>
                  <a:lnTo>
                    <a:pt x="592" y="174"/>
                  </a:lnTo>
                  <a:lnTo>
                    <a:pt x="598" y="187"/>
                  </a:lnTo>
                  <a:lnTo>
                    <a:pt x="604" y="193"/>
                  </a:lnTo>
                  <a:lnTo>
                    <a:pt x="611" y="199"/>
                  </a:lnTo>
                  <a:lnTo>
                    <a:pt x="623" y="211"/>
                  </a:lnTo>
                  <a:lnTo>
                    <a:pt x="636" y="224"/>
                  </a:lnTo>
                  <a:lnTo>
                    <a:pt x="642" y="230"/>
                  </a:lnTo>
                  <a:lnTo>
                    <a:pt x="642" y="236"/>
                  </a:lnTo>
                  <a:lnTo>
                    <a:pt x="642" y="249"/>
                  </a:lnTo>
                  <a:lnTo>
                    <a:pt x="642" y="274"/>
                  </a:lnTo>
                  <a:lnTo>
                    <a:pt x="636" y="286"/>
                  </a:lnTo>
                  <a:lnTo>
                    <a:pt x="630" y="299"/>
                  </a:lnTo>
                  <a:lnTo>
                    <a:pt x="623" y="311"/>
                  </a:lnTo>
                  <a:lnTo>
                    <a:pt x="617" y="323"/>
                  </a:lnTo>
                  <a:lnTo>
                    <a:pt x="611" y="336"/>
                  </a:lnTo>
                  <a:lnTo>
                    <a:pt x="611" y="348"/>
                  </a:lnTo>
                  <a:lnTo>
                    <a:pt x="611" y="355"/>
                  </a:lnTo>
                  <a:lnTo>
                    <a:pt x="611" y="373"/>
                  </a:lnTo>
                  <a:lnTo>
                    <a:pt x="617" y="379"/>
                  </a:lnTo>
                  <a:lnTo>
                    <a:pt x="623" y="386"/>
                  </a:lnTo>
                  <a:lnTo>
                    <a:pt x="630" y="386"/>
                  </a:lnTo>
                  <a:lnTo>
                    <a:pt x="642" y="392"/>
                  </a:lnTo>
                  <a:lnTo>
                    <a:pt x="649" y="392"/>
                  </a:lnTo>
                  <a:lnTo>
                    <a:pt x="655" y="404"/>
                  </a:lnTo>
                  <a:lnTo>
                    <a:pt x="668" y="417"/>
                  </a:lnTo>
                  <a:lnTo>
                    <a:pt x="706" y="442"/>
                  </a:lnTo>
                  <a:lnTo>
                    <a:pt x="750" y="460"/>
                  </a:lnTo>
                  <a:lnTo>
                    <a:pt x="782" y="473"/>
                  </a:lnTo>
                  <a:lnTo>
                    <a:pt x="801" y="479"/>
                  </a:lnTo>
                  <a:lnTo>
                    <a:pt x="814" y="485"/>
                  </a:lnTo>
                  <a:lnTo>
                    <a:pt x="820" y="492"/>
                  </a:lnTo>
                  <a:lnTo>
                    <a:pt x="833" y="504"/>
                  </a:lnTo>
                  <a:lnTo>
                    <a:pt x="839" y="510"/>
                  </a:lnTo>
                  <a:lnTo>
                    <a:pt x="858" y="516"/>
                  </a:lnTo>
                  <a:lnTo>
                    <a:pt x="878" y="523"/>
                  </a:lnTo>
                  <a:lnTo>
                    <a:pt x="903" y="523"/>
                  </a:lnTo>
                  <a:lnTo>
                    <a:pt x="916" y="529"/>
                  </a:lnTo>
                  <a:lnTo>
                    <a:pt x="928" y="541"/>
                  </a:lnTo>
                  <a:lnTo>
                    <a:pt x="941" y="554"/>
                  </a:lnTo>
                  <a:lnTo>
                    <a:pt x="954" y="566"/>
                  </a:lnTo>
                  <a:lnTo>
                    <a:pt x="966" y="579"/>
                  </a:lnTo>
                  <a:lnTo>
                    <a:pt x="979" y="591"/>
                  </a:lnTo>
                  <a:lnTo>
                    <a:pt x="992" y="604"/>
                  </a:lnTo>
                  <a:lnTo>
                    <a:pt x="1011" y="622"/>
                  </a:lnTo>
                  <a:lnTo>
                    <a:pt x="1024" y="635"/>
                  </a:lnTo>
                  <a:lnTo>
                    <a:pt x="1036" y="647"/>
                  </a:lnTo>
                  <a:lnTo>
                    <a:pt x="1049" y="666"/>
                  </a:lnTo>
                  <a:lnTo>
                    <a:pt x="1062" y="678"/>
                  </a:lnTo>
                  <a:lnTo>
                    <a:pt x="1075" y="703"/>
                  </a:lnTo>
                  <a:lnTo>
                    <a:pt x="1075" y="709"/>
                  </a:lnTo>
                  <a:lnTo>
                    <a:pt x="1075" y="722"/>
                  </a:lnTo>
                  <a:lnTo>
                    <a:pt x="1081" y="741"/>
                  </a:lnTo>
                  <a:lnTo>
                    <a:pt x="1087" y="753"/>
                  </a:lnTo>
                  <a:lnTo>
                    <a:pt x="1106" y="772"/>
                  </a:lnTo>
                  <a:lnTo>
                    <a:pt x="1125" y="790"/>
                  </a:lnTo>
                  <a:lnTo>
                    <a:pt x="1151" y="821"/>
                  </a:lnTo>
                  <a:lnTo>
                    <a:pt x="1183" y="840"/>
                  </a:lnTo>
                  <a:lnTo>
                    <a:pt x="1208" y="853"/>
                  </a:lnTo>
                  <a:lnTo>
                    <a:pt x="1233" y="865"/>
                  </a:lnTo>
                  <a:lnTo>
                    <a:pt x="1246" y="884"/>
                  </a:lnTo>
                  <a:lnTo>
                    <a:pt x="1259" y="890"/>
                  </a:lnTo>
                  <a:lnTo>
                    <a:pt x="1259" y="902"/>
                  </a:lnTo>
                  <a:lnTo>
                    <a:pt x="1259" y="921"/>
                  </a:lnTo>
                  <a:lnTo>
                    <a:pt x="1259" y="952"/>
                  </a:lnTo>
                  <a:lnTo>
                    <a:pt x="1259" y="958"/>
                  </a:lnTo>
                  <a:lnTo>
                    <a:pt x="1265" y="977"/>
                  </a:lnTo>
                  <a:lnTo>
                    <a:pt x="1272" y="1002"/>
                  </a:lnTo>
                  <a:lnTo>
                    <a:pt x="1278" y="1021"/>
                  </a:lnTo>
                  <a:lnTo>
                    <a:pt x="1291" y="1033"/>
                  </a:lnTo>
                  <a:lnTo>
                    <a:pt x="1303" y="1039"/>
                  </a:lnTo>
                  <a:lnTo>
                    <a:pt x="1310" y="1064"/>
                  </a:lnTo>
                  <a:lnTo>
                    <a:pt x="1322" y="1089"/>
                  </a:lnTo>
                  <a:lnTo>
                    <a:pt x="1335" y="1114"/>
                  </a:lnTo>
                  <a:lnTo>
                    <a:pt x="1361" y="1133"/>
                  </a:lnTo>
                  <a:lnTo>
                    <a:pt x="1373" y="1145"/>
                  </a:lnTo>
                  <a:lnTo>
                    <a:pt x="1392" y="1164"/>
                  </a:lnTo>
                  <a:lnTo>
                    <a:pt x="1418" y="1176"/>
                  </a:lnTo>
                  <a:lnTo>
                    <a:pt x="1437" y="1189"/>
                  </a:lnTo>
                  <a:lnTo>
                    <a:pt x="1443" y="1201"/>
                  </a:lnTo>
                  <a:lnTo>
                    <a:pt x="1437" y="1201"/>
                  </a:lnTo>
                  <a:lnTo>
                    <a:pt x="1418" y="1201"/>
                  </a:lnTo>
                  <a:lnTo>
                    <a:pt x="1399" y="1207"/>
                  </a:lnTo>
                  <a:lnTo>
                    <a:pt x="1386" y="1207"/>
                  </a:lnTo>
                  <a:lnTo>
                    <a:pt x="1373" y="1214"/>
                  </a:lnTo>
                  <a:lnTo>
                    <a:pt x="1367" y="1220"/>
                  </a:lnTo>
                  <a:lnTo>
                    <a:pt x="1354" y="1232"/>
                  </a:lnTo>
                  <a:lnTo>
                    <a:pt x="1341" y="1238"/>
                  </a:lnTo>
                  <a:lnTo>
                    <a:pt x="1322" y="1251"/>
                  </a:lnTo>
                  <a:lnTo>
                    <a:pt x="1310" y="1257"/>
                  </a:lnTo>
                  <a:lnTo>
                    <a:pt x="1291" y="1270"/>
                  </a:lnTo>
                  <a:lnTo>
                    <a:pt x="1272" y="1282"/>
                  </a:lnTo>
                  <a:lnTo>
                    <a:pt x="1259" y="1294"/>
                  </a:lnTo>
                  <a:lnTo>
                    <a:pt x="1233" y="1301"/>
                  </a:lnTo>
                  <a:lnTo>
                    <a:pt x="1208" y="1319"/>
                  </a:lnTo>
                  <a:lnTo>
                    <a:pt x="1195" y="1326"/>
                  </a:lnTo>
                  <a:lnTo>
                    <a:pt x="1183" y="1332"/>
                  </a:lnTo>
                  <a:lnTo>
                    <a:pt x="1170" y="1344"/>
                  </a:lnTo>
                  <a:lnTo>
                    <a:pt x="1164" y="1351"/>
                  </a:lnTo>
                  <a:lnTo>
                    <a:pt x="1144" y="1363"/>
                  </a:lnTo>
                  <a:lnTo>
                    <a:pt x="1132" y="1363"/>
                  </a:lnTo>
                  <a:lnTo>
                    <a:pt x="1113" y="1369"/>
                  </a:lnTo>
                  <a:lnTo>
                    <a:pt x="1094" y="1375"/>
                  </a:lnTo>
                  <a:lnTo>
                    <a:pt x="1081" y="1382"/>
                  </a:lnTo>
                  <a:lnTo>
                    <a:pt x="1068" y="1388"/>
                  </a:lnTo>
                  <a:lnTo>
                    <a:pt x="1055" y="1394"/>
                  </a:lnTo>
                  <a:lnTo>
                    <a:pt x="1049" y="1400"/>
                  </a:lnTo>
                  <a:lnTo>
                    <a:pt x="1030" y="1400"/>
                  </a:lnTo>
                  <a:lnTo>
                    <a:pt x="1017" y="1400"/>
                  </a:lnTo>
                  <a:lnTo>
                    <a:pt x="998" y="1407"/>
                  </a:lnTo>
                  <a:lnTo>
                    <a:pt x="979" y="1413"/>
                  </a:lnTo>
                  <a:lnTo>
                    <a:pt x="966" y="1419"/>
                  </a:lnTo>
                  <a:lnTo>
                    <a:pt x="960" y="1425"/>
                  </a:lnTo>
                  <a:lnTo>
                    <a:pt x="941" y="1438"/>
                  </a:lnTo>
                  <a:lnTo>
                    <a:pt x="935" y="1450"/>
                  </a:lnTo>
                  <a:lnTo>
                    <a:pt x="922" y="1463"/>
                  </a:lnTo>
                  <a:lnTo>
                    <a:pt x="916" y="1469"/>
                  </a:lnTo>
                  <a:lnTo>
                    <a:pt x="909" y="1481"/>
                  </a:lnTo>
                  <a:lnTo>
                    <a:pt x="903" y="1494"/>
                  </a:lnTo>
                  <a:lnTo>
                    <a:pt x="897" y="1494"/>
                  </a:lnTo>
                  <a:lnTo>
                    <a:pt x="871" y="1494"/>
                  </a:lnTo>
                  <a:lnTo>
                    <a:pt x="846" y="1494"/>
                  </a:lnTo>
                  <a:lnTo>
                    <a:pt x="827" y="1500"/>
                  </a:lnTo>
                  <a:lnTo>
                    <a:pt x="820" y="1506"/>
                  </a:lnTo>
                  <a:lnTo>
                    <a:pt x="820" y="1519"/>
                  </a:lnTo>
                  <a:lnTo>
                    <a:pt x="820" y="1531"/>
                  </a:lnTo>
                  <a:lnTo>
                    <a:pt x="814" y="1550"/>
                  </a:lnTo>
                  <a:lnTo>
                    <a:pt x="808" y="1562"/>
                  </a:lnTo>
                  <a:lnTo>
                    <a:pt x="801" y="1568"/>
                  </a:lnTo>
                  <a:lnTo>
                    <a:pt x="795" y="1575"/>
                  </a:lnTo>
                  <a:lnTo>
                    <a:pt x="782" y="1575"/>
                  </a:lnTo>
                  <a:lnTo>
                    <a:pt x="769" y="1581"/>
                  </a:lnTo>
                  <a:lnTo>
                    <a:pt x="763" y="1587"/>
                  </a:lnTo>
                  <a:lnTo>
                    <a:pt x="757" y="1600"/>
                  </a:lnTo>
                  <a:lnTo>
                    <a:pt x="750" y="1612"/>
                  </a:lnTo>
                  <a:lnTo>
                    <a:pt x="750" y="1618"/>
                  </a:lnTo>
                  <a:lnTo>
                    <a:pt x="750" y="1631"/>
                  </a:lnTo>
                  <a:lnTo>
                    <a:pt x="750" y="1637"/>
                  </a:lnTo>
                  <a:lnTo>
                    <a:pt x="744" y="1643"/>
                  </a:lnTo>
                  <a:lnTo>
                    <a:pt x="738" y="1649"/>
                  </a:lnTo>
                  <a:lnTo>
                    <a:pt x="731" y="1649"/>
                  </a:lnTo>
                  <a:lnTo>
                    <a:pt x="719" y="1649"/>
                  </a:lnTo>
                  <a:lnTo>
                    <a:pt x="706" y="1643"/>
                  </a:lnTo>
                  <a:lnTo>
                    <a:pt x="693" y="1637"/>
                  </a:lnTo>
                  <a:lnTo>
                    <a:pt x="687" y="1637"/>
                  </a:lnTo>
                  <a:lnTo>
                    <a:pt x="681" y="1643"/>
                  </a:lnTo>
                  <a:lnTo>
                    <a:pt x="681" y="1656"/>
                  </a:lnTo>
                  <a:lnTo>
                    <a:pt x="687" y="1662"/>
                  </a:lnTo>
                  <a:lnTo>
                    <a:pt x="693" y="1668"/>
                  </a:lnTo>
                  <a:lnTo>
                    <a:pt x="693" y="1674"/>
                  </a:lnTo>
                  <a:lnTo>
                    <a:pt x="693" y="1680"/>
                  </a:lnTo>
                  <a:lnTo>
                    <a:pt x="687" y="1687"/>
                  </a:lnTo>
                  <a:lnTo>
                    <a:pt x="681" y="1687"/>
                  </a:lnTo>
                  <a:lnTo>
                    <a:pt x="668" y="1687"/>
                  </a:lnTo>
                  <a:lnTo>
                    <a:pt x="655" y="1687"/>
                  </a:lnTo>
                  <a:lnTo>
                    <a:pt x="642" y="1680"/>
                  </a:lnTo>
                  <a:lnTo>
                    <a:pt x="630" y="1674"/>
                  </a:lnTo>
                  <a:lnTo>
                    <a:pt x="617" y="1668"/>
                  </a:lnTo>
                  <a:lnTo>
                    <a:pt x="611" y="1662"/>
                  </a:lnTo>
                  <a:lnTo>
                    <a:pt x="598" y="1662"/>
                  </a:lnTo>
                  <a:lnTo>
                    <a:pt x="592" y="1662"/>
                  </a:lnTo>
                  <a:lnTo>
                    <a:pt x="585" y="1662"/>
                  </a:lnTo>
                  <a:lnTo>
                    <a:pt x="579" y="1668"/>
                  </a:lnTo>
                  <a:lnTo>
                    <a:pt x="566" y="1674"/>
                  </a:lnTo>
                  <a:lnTo>
                    <a:pt x="553" y="1687"/>
                  </a:lnTo>
                  <a:lnTo>
                    <a:pt x="547" y="1693"/>
                  </a:lnTo>
                  <a:lnTo>
                    <a:pt x="534" y="1699"/>
                  </a:lnTo>
                  <a:lnTo>
                    <a:pt x="528" y="1705"/>
                  </a:lnTo>
                  <a:lnTo>
                    <a:pt x="515" y="1712"/>
                  </a:lnTo>
                  <a:lnTo>
                    <a:pt x="503" y="1718"/>
                  </a:lnTo>
                  <a:lnTo>
                    <a:pt x="496" y="1724"/>
                  </a:lnTo>
                  <a:lnTo>
                    <a:pt x="490" y="1730"/>
                  </a:lnTo>
                  <a:lnTo>
                    <a:pt x="477" y="1749"/>
                  </a:lnTo>
                  <a:lnTo>
                    <a:pt x="471" y="1761"/>
                  </a:lnTo>
                  <a:lnTo>
                    <a:pt x="464" y="1774"/>
                  </a:lnTo>
                  <a:lnTo>
                    <a:pt x="458" y="1786"/>
                  </a:lnTo>
                  <a:lnTo>
                    <a:pt x="452" y="1792"/>
                  </a:lnTo>
                  <a:lnTo>
                    <a:pt x="439" y="1805"/>
                  </a:lnTo>
                  <a:lnTo>
                    <a:pt x="433" y="1811"/>
                  </a:lnTo>
                  <a:lnTo>
                    <a:pt x="420" y="1824"/>
                  </a:lnTo>
                  <a:lnTo>
                    <a:pt x="395" y="1836"/>
                  </a:lnTo>
                  <a:lnTo>
                    <a:pt x="375" y="1848"/>
                  </a:lnTo>
                  <a:lnTo>
                    <a:pt x="356" y="1855"/>
                  </a:lnTo>
                  <a:lnTo>
                    <a:pt x="350" y="1861"/>
                  </a:lnTo>
                  <a:lnTo>
                    <a:pt x="337" y="1867"/>
                  </a:lnTo>
                  <a:lnTo>
                    <a:pt x="325" y="1873"/>
                  </a:lnTo>
                  <a:lnTo>
                    <a:pt x="318" y="1880"/>
                  </a:lnTo>
                  <a:lnTo>
                    <a:pt x="299" y="1892"/>
                  </a:lnTo>
                  <a:lnTo>
                    <a:pt x="280" y="1892"/>
                  </a:lnTo>
                  <a:lnTo>
                    <a:pt x="261" y="1898"/>
                  </a:lnTo>
                  <a:lnTo>
                    <a:pt x="248" y="1898"/>
                  </a:lnTo>
                  <a:lnTo>
                    <a:pt x="223" y="1898"/>
                  </a:lnTo>
                  <a:lnTo>
                    <a:pt x="210" y="1898"/>
                  </a:lnTo>
                  <a:lnTo>
                    <a:pt x="185" y="1898"/>
                  </a:lnTo>
                  <a:lnTo>
                    <a:pt x="166" y="1905"/>
                  </a:lnTo>
                  <a:lnTo>
                    <a:pt x="140" y="1917"/>
                  </a:lnTo>
                  <a:lnTo>
                    <a:pt x="115" y="1942"/>
                  </a:lnTo>
                  <a:lnTo>
                    <a:pt x="89" y="1967"/>
                  </a:lnTo>
                  <a:lnTo>
                    <a:pt x="70" y="1992"/>
                  </a:lnTo>
                  <a:lnTo>
                    <a:pt x="51" y="2017"/>
                  </a:lnTo>
                  <a:lnTo>
                    <a:pt x="32" y="2048"/>
                  </a:lnTo>
                  <a:lnTo>
                    <a:pt x="32" y="2035"/>
                  </a:lnTo>
                  <a:lnTo>
                    <a:pt x="32" y="2029"/>
                  </a:lnTo>
                  <a:lnTo>
                    <a:pt x="32" y="2023"/>
                  </a:lnTo>
                  <a:lnTo>
                    <a:pt x="32" y="2017"/>
                  </a:lnTo>
                  <a:lnTo>
                    <a:pt x="32" y="2010"/>
                  </a:lnTo>
                  <a:lnTo>
                    <a:pt x="32" y="2004"/>
                  </a:lnTo>
                  <a:lnTo>
                    <a:pt x="32" y="1998"/>
                  </a:lnTo>
                  <a:lnTo>
                    <a:pt x="32" y="1992"/>
                  </a:lnTo>
                  <a:lnTo>
                    <a:pt x="26" y="1985"/>
                  </a:lnTo>
                  <a:lnTo>
                    <a:pt x="26" y="1979"/>
                  </a:lnTo>
                  <a:lnTo>
                    <a:pt x="26" y="1973"/>
                  </a:lnTo>
                  <a:lnTo>
                    <a:pt x="26" y="1961"/>
                  </a:lnTo>
                  <a:lnTo>
                    <a:pt x="26" y="1948"/>
                  </a:lnTo>
                  <a:lnTo>
                    <a:pt x="26" y="1942"/>
                  </a:lnTo>
                  <a:lnTo>
                    <a:pt x="26" y="1936"/>
                  </a:lnTo>
                  <a:lnTo>
                    <a:pt x="26" y="1929"/>
                  </a:lnTo>
                  <a:lnTo>
                    <a:pt x="26" y="1923"/>
                  </a:lnTo>
                  <a:lnTo>
                    <a:pt x="20" y="1917"/>
                  </a:lnTo>
                  <a:lnTo>
                    <a:pt x="20" y="1911"/>
                  </a:lnTo>
                  <a:lnTo>
                    <a:pt x="20" y="1905"/>
                  </a:lnTo>
                  <a:lnTo>
                    <a:pt x="20" y="1898"/>
                  </a:lnTo>
                  <a:lnTo>
                    <a:pt x="13" y="1898"/>
                  </a:lnTo>
                  <a:lnTo>
                    <a:pt x="7" y="1892"/>
                  </a:lnTo>
                  <a:lnTo>
                    <a:pt x="7" y="1886"/>
                  </a:lnTo>
                  <a:lnTo>
                    <a:pt x="0" y="1880"/>
                  </a:lnTo>
                  <a:lnTo>
                    <a:pt x="0" y="1873"/>
                  </a:lnTo>
                  <a:lnTo>
                    <a:pt x="7" y="1867"/>
                  </a:lnTo>
                  <a:lnTo>
                    <a:pt x="13" y="1867"/>
                  </a:lnTo>
                  <a:lnTo>
                    <a:pt x="13" y="1861"/>
                  </a:lnTo>
                  <a:lnTo>
                    <a:pt x="20" y="1861"/>
                  </a:lnTo>
                  <a:lnTo>
                    <a:pt x="20" y="1855"/>
                  </a:lnTo>
                  <a:lnTo>
                    <a:pt x="20" y="1848"/>
                  </a:lnTo>
                  <a:lnTo>
                    <a:pt x="20" y="1842"/>
                  </a:lnTo>
                  <a:lnTo>
                    <a:pt x="20" y="1836"/>
                  </a:lnTo>
                  <a:lnTo>
                    <a:pt x="26" y="1830"/>
                  </a:lnTo>
                  <a:lnTo>
                    <a:pt x="26" y="1824"/>
                  </a:lnTo>
                  <a:lnTo>
                    <a:pt x="26" y="1817"/>
                  </a:lnTo>
                  <a:lnTo>
                    <a:pt x="32" y="1811"/>
                  </a:lnTo>
                  <a:lnTo>
                    <a:pt x="39" y="1811"/>
                  </a:lnTo>
                  <a:lnTo>
                    <a:pt x="45" y="1811"/>
                  </a:lnTo>
                  <a:lnTo>
                    <a:pt x="51" y="1811"/>
                  </a:lnTo>
                  <a:lnTo>
                    <a:pt x="58" y="1817"/>
                  </a:lnTo>
                  <a:lnTo>
                    <a:pt x="64" y="1824"/>
                  </a:lnTo>
                  <a:lnTo>
                    <a:pt x="64" y="1836"/>
                  </a:lnTo>
                  <a:lnTo>
                    <a:pt x="70" y="1842"/>
                  </a:lnTo>
                  <a:lnTo>
                    <a:pt x="77" y="1848"/>
                  </a:lnTo>
                  <a:lnTo>
                    <a:pt x="77" y="1855"/>
                  </a:lnTo>
                  <a:lnTo>
                    <a:pt x="89" y="1861"/>
                  </a:lnTo>
                  <a:lnTo>
                    <a:pt x="89" y="1855"/>
                  </a:lnTo>
                  <a:lnTo>
                    <a:pt x="96" y="1861"/>
                  </a:lnTo>
                  <a:lnTo>
                    <a:pt x="96" y="1867"/>
                  </a:lnTo>
                  <a:lnTo>
                    <a:pt x="102" y="1873"/>
                  </a:lnTo>
                  <a:lnTo>
                    <a:pt x="109" y="1880"/>
                  </a:lnTo>
                  <a:lnTo>
                    <a:pt x="115" y="1880"/>
                  </a:lnTo>
                  <a:lnTo>
                    <a:pt x="121" y="1880"/>
                  </a:lnTo>
                  <a:lnTo>
                    <a:pt x="115" y="1873"/>
                  </a:lnTo>
                  <a:lnTo>
                    <a:pt x="109" y="1867"/>
                  </a:lnTo>
                  <a:lnTo>
                    <a:pt x="109" y="1861"/>
                  </a:lnTo>
                  <a:lnTo>
                    <a:pt x="109" y="1855"/>
                  </a:lnTo>
                  <a:lnTo>
                    <a:pt x="102" y="1855"/>
                  </a:lnTo>
                  <a:lnTo>
                    <a:pt x="96" y="1842"/>
                  </a:lnTo>
                  <a:lnTo>
                    <a:pt x="102" y="1836"/>
                  </a:lnTo>
                  <a:lnTo>
                    <a:pt x="115" y="1842"/>
                  </a:lnTo>
                  <a:lnTo>
                    <a:pt x="121" y="1848"/>
                  </a:lnTo>
                  <a:lnTo>
                    <a:pt x="128" y="1848"/>
                  </a:lnTo>
                  <a:lnTo>
                    <a:pt x="134" y="1855"/>
                  </a:lnTo>
                  <a:lnTo>
                    <a:pt x="134" y="1861"/>
                  </a:lnTo>
                  <a:lnTo>
                    <a:pt x="140" y="1867"/>
                  </a:lnTo>
                  <a:lnTo>
                    <a:pt x="140" y="1873"/>
                  </a:lnTo>
                  <a:lnTo>
                    <a:pt x="147" y="1880"/>
                  </a:lnTo>
                  <a:lnTo>
                    <a:pt x="147" y="1873"/>
                  </a:lnTo>
                  <a:lnTo>
                    <a:pt x="153" y="1873"/>
                  </a:lnTo>
                  <a:lnTo>
                    <a:pt x="159" y="1880"/>
                  </a:lnTo>
                  <a:lnTo>
                    <a:pt x="159" y="1873"/>
                  </a:lnTo>
                  <a:lnTo>
                    <a:pt x="147" y="1848"/>
                  </a:lnTo>
                  <a:lnTo>
                    <a:pt x="134" y="1836"/>
                  </a:lnTo>
                  <a:lnTo>
                    <a:pt x="140" y="1830"/>
                  </a:lnTo>
                  <a:lnTo>
                    <a:pt x="134" y="1830"/>
                  </a:lnTo>
                  <a:lnTo>
                    <a:pt x="128" y="1824"/>
                  </a:lnTo>
                  <a:lnTo>
                    <a:pt x="121" y="1811"/>
                  </a:lnTo>
                  <a:lnTo>
                    <a:pt x="121" y="1805"/>
                  </a:lnTo>
                  <a:lnTo>
                    <a:pt x="115" y="1805"/>
                  </a:lnTo>
                  <a:lnTo>
                    <a:pt x="115" y="1811"/>
                  </a:lnTo>
                  <a:lnTo>
                    <a:pt x="109" y="1811"/>
                  </a:lnTo>
                  <a:lnTo>
                    <a:pt x="102" y="1811"/>
                  </a:lnTo>
                  <a:lnTo>
                    <a:pt x="102" y="1805"/>
                  </a:lnTo>
                  <a:lnTo>
                    <a:pt x="102" y="1799"/>
                  </a:lnTo>
                  <a:lnTo>
                    <a:pt x="109" y="1799"/>
                  </a:lnTo>
                  <a:lnTo>
                    <a:pt x="109" y="1792"/>
                  </a:lnTo>
                  <a:lnTo>
                    <a:pt x="115" y="1792"/>
                  </a:lnTo>
                  <a:lnTo>
                    <a:pt x="115" y="1780"/>
                  </a:lnTo>
                  <a:lnTo>
                    <a:pt x="121" y="1786"/>
                  </a:lnTo>
                  <a:lnTo>
                    <a:pt x="128" y="1799"/>
                  </a:lnTo>
                  <a:lnTo>
                    <a:pt x="128" y="1792"/>
                  </a:lnTo>
                  <a:lnTo>
                    <a:pt x="134" y="1786"/>
                  </a:lnTo>
                  <a:lnTo>
                    <a:pt x="140" y="1786"/>
                  </a:lnTo>
                  <a:lnTo>
                    <a:pt x="147" y="1792"/>
                  </a:lnTo>
                  <a:lnTo>
                    <a:pt x="147" y="1811"/>
                  </a:lnTo>
                  <a:lnTo>
                    <a:pt x="147" y="1817"/>
                  </a:lnTo>
                  <a:lnTo>
                    <a:pt x="153" y="1817"/>
                  </a:lnTo>
                  <a:lnTo>
                    <a:pt x="153" y="1824"/>
                  </a:lnTo>
                  <a:lnTo>
                    <a:pt x="153" y="1830"/>
                  </a:lnTo>
                  <a:lnTo>
                    <a:pt x="159" y="1836"/>
                  </a:lnTo>
                  <a:lnTo>
                    <a:pt x="166" y="1836"/>
                  </a:lnTo>
                  <a:lnTo>
                    <a:pt x="172" y="1836"/>
                  </a:lnTo>
                  <a:lnTo>
                    <a:pt x="172" y="1830"/>
                  </a:lnTo>
                  <a:lnTo>
                    <a:pt x="191" y="1848"/>
                  </a:lnTo>
                  <a:lnTo>
                    <a:pt x="197" y="1855"/>
                  </a:lnTo>
                  <a:lnTo>
                    <a:pt x="204" y="1861"/>
                  </a:lnTo>
                  <a:lnTo>
                    <a:pt x="204" y="1855"/>
                  </a:lnTo>
                  <a:lnTo>
                    <a:pt x="204" y="1848"/>
                  </a:lnTo>
                  <a:lnTo>
                    <a:pt x="197" y="1842"/>
                  </a:lnTo>
                  <a:lnTo>
                    <a:pt x="191" y="1836"/>
                  </a:lnTo>
                  <a:lnTo>
                    <a:pt x="185" y="1836"/>
                  </a:lnTo>
                  <a:lnTo>
                    <a:pt x="185" y="1830"/>
                  </a:lnTo>
                  <a:lnTo>
                    <a:pt x="178" y="1824"/>
                  </a:lnTo>
                  <a:lnTo>
                    <a:pt x="172" y="1817"/>
                  </a:lnTo>
                  <a:lnTo>
                    <a:pt x="166" y="1817"/>
                  </a:lnTo>
                  <a:lnTo>
                    <a:pt x="166" y="1811"/>
                  </a:lnTo>
                  <a:lnTo>
                    <a:pt x="153" y="1805"/>
                  </a:lnTo>
                  <a:lnTo>
                    <a:pt x="153" y="1799"/>
                  </a:lnTo>
                  <a:lnTo>
                    <a:pt x="159" y="1799"/>
                  </a:lnTo>
                  <a:lnTo>
                    <a:pt x="166" y="1799"/>
                  </a:lnTo>
                  <a:lnTo>
                    <a:pt x="166" y="1792"/>
                  </a:lnTo>
                  <a:lnTo>
                    <a:pt x="159" y="1786"/>
                  </a:lnTo>
                  <a:lnTo>
                    <a:pt x="159" y="1780"/>
                  </a:lnTo>
                  <a:lnTo>
                    <a:pt x="147" y="1768"/>
                  </a:lnTo>
                  <a:lnTo>
                    <a:pt x="147" y="1761"/>
                  </a:lnTo>
                  <a:lnTo>
                    <a:pt x="140" y="1761"/>
                  </a:lnTo>
                  <a:lnTo>
                    <a:pt x="140" y="1755"/>
                  </a:lnTo>
                  <a:lnTo>
                    <a:pt x="153" y="1761"/>
                  </a:lnTo>
                  <a:lnTo>
                    <a:pt x="153" y="1755"/>
                  </a:lnTo>
                  <a:lnTo>
                    <a:pt x="153" y="1749"/>
                  </a:lnTo>
                  <a:lnTo>
                    <a:pt x="147" y="1743"/>
                  </a:lnTo>
                  <a:lnTo>
                    <a:pt x="147" y="1736"/>
                  </a:lnTo>
                  <a:lnTo>
                    <a:pt x="147" y="1730"/>
                  </a:lnTo>
                  <a:lnTo>
                    <a:pt x="153" y="1730"/>
                  </a:lnTo>
                  <a:lnTo>
                    <a:pt x="159" y="1730"/>
                  </a:lnTo>
                  <a:lnTo>
                    <a:pt x="159" y="1736"/>
                  </a:lnTo>
                  <a:lnTo>
                    <a:pt x="166" y="1736"/>
                  </a:lnTo>
                  <a:lnTo>
                    <a:pt x="172" y="1736"/>
                  </a:lnTo>
                  <a:lnTo>
                    <a:pt x="166" y="1736"/>
                  </a:lnTo>
                  <a:lnTo>
                    <a:pt x="172" y="1743"/>
                  </a:lnTo>
                  <a:lnTo>
                    <a:pt x="178" y="1743"/>
                  </a:lnTo>
                  <a:lnTo>
                    <a:pt x="178" y="1736"/>
                  </a:lnTo>
                  <a:lnTo>
                    <a:pt x="178" y="1730"/>
                  </a:lnTo>
                  <a:lnTo>
                    <a:pt x="178" y="1724"/>
                  </a:lnTo>
                  <a:lnTo>
                    <a:pt x="178" y="1718"/>
                  </a:lnTo>
                  <a:lnTo>
                    <a:pt x="178" y="1712"/>
                  </a:lnTo>
                  <a:lnTo>
                    <a:pt x="185" y="1712"/>
                  </a:lnTo>
                  <a:lnTo>
                    <a:pt x="185" y="1718"/>
                  </a:lnTo>
                  <a:lnTo>
                    <a:pt x="185" y="1724"/>
                  </a:lnTo>
                  <a:lnTo>
                    <a:pt x="185" y="1730"/>
                  </a:lnTo>
                  <a:lnTo>
                    <a:pt x="191" y="1730"/>
                  </a:lnTo>
                  <a:lnTo>
                    <a:pt x="197" y="1724"/>
                  </a:lnTo>
                  <a:lnTo>
                    <a:pt x="197" y="1730"/>
                  </a:lnTo>
                  <a:lnTo>
                    <a:pt x="204" y="1730"/>
                  </a:lnTo>
                  <a:lnTo>
                    <a:pt x="210" y="1736"/>
                  </a:lnTo>
                  <a:lnTo>
                    <a:pt x="210" y="1743"/>
                  </a:lnTo>
                  <a:lnTo>
                    <a:pt x="204" y="1743"/>
                  </a:lnTo>
                  <a:lnTo>
                    <a:pt x="204" y="1749"/>
                  </a:lnTo>
                  <a:lnTo>
                    <a:pt x="197" y="1755"/>
                  </a:lnTo>
                  <a:lnTo>
                    <a:pt x="197" y="1761"/>
                  </a:lnTo>
                  <a:lnTo>
                    <a:pt x="191" y="1768"/>
                  </a:lnTo>
                  <a:lnTo>
                    <a:pt x="197" y="1774"/>
                  </a:lnTo>
                  <a:lnTo>
                    <a:pt x="204" y="1768"/>
                  </a:lnTo>
                  <a:lnTo>
                    <a:pt x="204" y="1761"/>
                  </a:lnTo>
                  <a:lnTo>
                    <a:pt x="210" y="1755"/>
                  </a:lnTo>
                  <a:lnTo>
                    <a:pt x="210" y="1761"/>
                  </a:lnTo>
                  <a:lnTo>
                    <a:pt x="210" y="1768"/>
                  </a:lnTo>
                  <a:lnTo>
                    <a:pt x="204" y="1774"/>
                  </a:lnTo>
                  <a:lnTo>
                    <a:pt x="204" y="1780"/>
                  </a:lnTo>
                  <a:lnTo>
                    <a:pt x="204" y="1786"/>
                  </a:lnTo>
                  <a:lnTo>
                    <a:pt x="210" y="1786"/>
                  </a:lnTo>
                  <a:lnTo>
                    <a:pt x="210" y="1792"/>
                  </a:lnTo>
                  <a:lnTo>
                    <a:pt x="210" y="1799"/>
                  </a:lnTo>
                  <a:lnTo>
                    <a:pt x="217" y="1799"/>
                  </a:lnTo>
                  <a:lnTo>
                    <a:pt x="210" y="1799"/>
                  </a:lnTo>
                  <a:lnTo>
                    <a:pt x="217" y="1805"/>
                  </a:lnTo>
                  <a:lnTo>
                    <a:pt x="217" y="1799"/>
                  </a:lnTo>
                  <a:lnTo>
                    <a:pt x="217" y="1792"/>
                  </a:lnTo>
                  <a:lnTo>
                    <a:pt x="217" y="1786"/>
                  </a:lnTo>
                  <a:lnTo>
                    <a:pt x="217" y="1780"/>
                  </a:lnTo>
                  <a:lnTo>
                    <a:pt x="217" y="1774"/>
                  </a:lnTo>
                  <a:lnTo>
                    <a:pt x="223" y="1774"/>
                  </a:lnTo>
                  <a:lnTo>
                    <a:pt x="223" y="1768"/>
                  </a:lnTo>
                  <a:lnTo>
                    <a:pt x="223" y="1755"/>
                  </a:lnTo>
                  <a:lnTo>
                    <a:pt x="223" y="1749"/>
                  </a:lnTo>
                  <a:lnTo>
                    <a:pt x="229" y="1749"/>
                  </a:lnTo>
                  <a:lnTo>
                    <a:pt x="236" y="1749"/>
                  </a:lnTo>
                  <a:lnTo>
                    <a:pt x="236" y="1755"/>
                  </a:lnTo>
                  <a:lnTo>
                    <a:pt x="242" y="1761"/>
                  </a:lnTo>
                  <a:lnTo>
                    <a:pt x="248" y="1768"/>
                  </a:lnTo>
                  <a:lnTo>
                    <a:pt x="248" y="1774"/>
                  </a:lnTo>
                  <a:lnTo>
                    <a:pt x="255" y="1774"/>
                  </a:lnTo>
                  <a:lnTo>
                    <a:pt x="255" y="1780"/>
                  </a:lnTo>
                  <a:lnTo>
                    <a:pt x="255" y="1786"/>
                  </a:lnTo>
                  <a:lnTo>
                    <a:pt x="255" y="1792"/>
                  </a:lnTo>
                  <a:lnTo>
                    <a:pt x="248" y="1799"/>
                  </a:lnTo>
                  <a:lnTo>
                    <a:pt x="248" y="1805"/>
                  </a:lnTo>
                  <a:lnTo>
                    <a:pt x="255" y="1811"/>
                  </a:lnTo>
                  <a:lnTo>
                    <a:pt x="255" y="1805"/>
                  </a:lnTo>
                  <a:lnTo>
                    <a:pt x="255" y="1799"/>
                  </a:lnTo>
                  <a:lnTo>
                    <a:pt x="261" y="1799"/>
                  </a:lnTo>
                  <a:lnTo>
                    <a:pt x="267" y="1805"/>
                  </a:lnTo>
                  <a:lnTo>
                    <a:pt x="267" y="1811"/>
                  </a:lnTo>
                  <a:lnTo>
                    <a:pt x="274" y="1811"/>
                  </a:lnTo>
                  <a:lnTo>
                    <a:pt x="274" y="1817"/>
                  </a:lnTo>
                  <a:lnTo>
                    <a:pt x="274" y="1824"/>
                  </a:lnTo>
                  <a:lnTo>
                    <a:pt x="280" y="1830"/>
                  </a:lnTo>
                  <a:lnTo>
                    <a:pt x="286" y="1830"/>
                  </a:lnTo>
                  <a:lnTo>
                    <a:pt x="280" y="1824"/>
                  </a:lnTo>
                  <a:lnTo>
                    <a:pt x="280" y="1817"/>
                  </a:lnTo>
                  <a:lnTo>
                    <a:pt x="274" y="1811"/>
                  </a:lnTo>
                  <a:lnTo>
                    <a:pt x="274" y="1805"/>
                  </a:lnTo>
                  <a:lnTo>
                    <a:pt x="267" y="1799"/>
                  </a:lnTo>
                  <a:lnTo>
                    <a:pt x="267" y="1792"/>
                  </a:lnTo>
                  <a:lnTo>
                    <a:pt x="267" y="1780"/>
                  </a:lnTo>
                  <a:lnTo>
                    <a:pt x="267" y="1774"/>
                  </a:lnTo>
                  <a:lnTo>
                    <a:pt x="267" y="1780"/>
                  </a:lnTo>
                  <a:lnTo>
                    <a:pt x="274" y="1780"/>
                  </a:lnTo>
                  <a:lnTo>
                    <a:pt x="274" y="1786"/>
                  </a:lnTo>
                  <a:lnTo>
                    <a:pt x="280" y="1792"/>
                  </a:lnTo>
                  <a:lnTo>
                    <a:pt x="280" y="1799"/>
                  </a:lnTo>
                  <a:lnTo>
                    <a:pt x="286" y="1799"/>
                  </a:lnTo>
                  <a:lnTo>
                    <a:pt x="293" y="1805"/>
                  </a:lnTo>
                  <a:lnTo>
                    <a:pt x="299" y="1811"/>
                  </a:lnTo>
                  <a:lnTo>
                    <a:pt x="306" y="1811"/>
                  </a:lnTo>
                  <a:lnTo>
                    <a:pt x="306" y="1805"/>
                  </a:lnTo>
                  <a:lnTo>
                    <a:pt x="299" y="1805"/>
                  </a:lnTo>
                  <a:lnTo>
                    <a:pt x="299" y="1799"/>
                  </a:lnTo>
                  <a:lnTo>
                    <a:pt x="293" y="1792"/>
                  </a:lnTo>
                  <a:lnTo>
                    <a:pt x="286" y="1786"/>
                  </a:lnTo>
                  <a:lnTo>
                    <a:pt x="280" y="1780"/>
                  </a:lnTo>
                  <a:lnTo>
                    <a:pt x="280" y="1774"/>
                  </a:lnTo>
                  <a:lnTo>
                    <a:pt x="293" y="1774"/>
                  </a:lnTo>
                  <a:lnTo>
                    <a:pt x="299" y="1774"/>
                  </a:lnTo>
                  <a:lnTo>
                    <a:pt x="306" y="1774"/>
                  </a:lnTo>
                  <a:lnTo>
                    <a:pt x="306" y="1780"/>
                  </a:lnTo>
                  <a:lnTo>
                    <a:pt x="312" y="1780"/>
                  </a:lnTo>
                  <a:lnTo>
                    <a:pt x="318" y="1786"/>
                  </a:lnTo>
                  <a:lnTo>
                    <a:pt x="325" y="1786"/>
                  </a:lnTo>
                  <a:lnTo>
                    <a:pt x="331" y="1786"/>
                  </a:lnTo>
                  <a:lnTo>
                    <a:pt x="337" y="1792"/>
                  </a:lnTo>
                  <a:lnTo>
                    <a:pt x="344" y="1792"/>
                  </a:lnTo>
                  <a:lnTo>
                    <a:pt x="344" y="1786"/>
                  </a:lnTo>
                  <a:lnTo>
                    <a:pt x="337" y="1780"/>
                  </a:lnTo>
                  <a:lnTo>
                    <a:pt x="331" y="1774"/>
                  </a:lnTo>
                  <a:lnTo>
                    <a:pt x="325" y="1774"/>
                  </a:lnTo>
                  <a:lnTo>
                    <a:pt x="318" y="1774"/>
                  </a:lnTo>
                  <a:lnTo>
                    <a:pt x="312" y="1768"/>
                  </a:lnTo>
                  <a:lnTo>
                    <a:pt x="312" y="1761"/>
                  </a:lnTo>
                  <a:lnTo>
                    <a:pt x="306" y="1761"/>
                  </a:lnTo>
                  <a:lnTo>
                    <a:pt x="299" y="1761"/>
                  </a:lnTo>
                  <a:lnTo>
                    <a:pt x="293" y="1761"/>
                  </a:lnTo>
                  <a:lnTo>
                    <a:pt x="286" y="1768"/>
                  </a:lnTo>
                  <a:lnTo>
                    <a:pt x="280" y="1761"/>
                  </a:lnTo>
                  <a:lnTo>
                    <a:pt x="274" y="1761"/>
                  </a:lnTo>
                  <a:lnTo>
                    <a:pt x="267" y="1761"/>
                  </a:lnTo>
                  <a:lnTo>
                    <a:pt x="261" y="1761"/>
                  </a:lnTo>
                  <a:lnTo>
                    <a:pt x="255" y="1761"/>
                  </a:lnTo>
                  <a:lnTo>
                    <a:pt x="255" y="1755"/>
                  </a:lnTo>
                  <a:lnTo>
                    <a:pt x="261" y="1749"/>
                  </a:lnTo>
                  <a:lnTo>
                    <a:pt x="267" y="1749"/>
                  </a:lnTo>
                  <a:lnTo>
                    <a:pt x="267" y="1743"/>
                  </a:lnTo>
                  <a:lnTo>
                    <a:pt x="274" y="1743"/>
                  </a:lnTo>
                  <a:lnTo>
                    <a:pt x="280" y="1743"/>
                  </a:lnTo>
                  <a:lnTo>
                    <a:pt x="286" y="1743"/>
                  </a:lnTo>
                  <a:lnTo>
                    <a:pt x="293" y="1743"/>
                  </a:lnTo>
                  <a:lnTo>
                    <a:pt x="299" y="1743"/>
                  </a:lnTo>
                  <a:lnTo>
                    <a:pt x="299" y="1749"/>
                  </a:lnTo>
                  <a:lnTo>
                    <a:pt x="306" y="1749"/>
                  </a:lnTo>
                  <a:lnTo>
                    <a:pt x="312" y="1755"/>
                  </a:lnTo>
                  <a:lnTo>
                    <a:pt x="318" y="1749"/>
                  </a:lnTo>
                  <a:lnTo>
                    <a:pt x="312" y="1749"/>
                  </a:lnTo>
                  <a:lnTo>
                    <a:pt x="312" y="1743"/>
                  </a:lnTo>
                  <a:lnTo>
                    <a:pt x="306" y="1736"/>
                  </a:lnTo>
                  <a:lnTo>
                    <a:pt x="312" y="1736"/>
                  </a:lnTo>
                  <a:lnTo>
                    <a:pt x="318" y="1730"/>
                  </a:lnTo>
                  <a:lnTo>
                    <a:pt x="312" y="1730"/>
                  </a:lnTo>
                  <a:lnTo>
                    <a:pt x="306" y="1730"/>
                  </a:lnTo>
                  <a:lnTo>
                    <a:pt x="299" y="1736"/>
                  </a:lnTo>
                  <a:lnTo>
                    <a:pt x="286" y="1736"/>
                  </a:lnTo>
                  <a:lnTo>
                    <a:pt x="286" y="1730"/>
                  </a:lnTo>
                  <a:lnTo>
                    <a:pt x="286" y="1724"/>
                  </a:lnTo>
                  <a:lnTo>
                    <a:pt x="293" y="1718"/>
                  </a:lnTo>
                  <a:lnTo>
                    <a:pt x="286" y="1712"/>
                  </a:lnTo>
                  <a:lnTo>
                    <a:pt x="280" y="1718"/>
                  </a:lnTo>
                  <a:lnTo>
                    <a:pt x="280" y="1724"/>
                  </a:lnTo>
                  <a:lnTo>
                    <a:pt x="274" y="1730"/>
                  </a:lnTo>
                  <a:lnTo>
                    <a:pt x="274" y="1736"/>
                  </a:lnTo>
                  <a:lnTo>
                    <a:pt x="267" y="1736"/>
                  </a:lnTo>
                  <a:lnTo>
                    <a:pt x="261" y="1743"/>
                  </a:lnTo>
                  <a:lnTo>
                    <a:pt x="255" y="1743"/>
                  </a:lnTo>
                  <a:lnTo>
                    <a:pt x="248" y="1749"/>
                  </a:lnTo>
                  <a:lnTo>
                    <a:pt x="242" y="1749"/>
                  </a:lnTo>
                  <a:lnTo>
                    <a:pt x="242" y="1743"/>
                  </a:lnTo>
                  <a:lnTo>
                    <a:pt x="242" y="1736"/>
                  </a:lnTo>
                  <a:lnTo>
                    <a:pt x="248" y="1730"/>
                  </a:lnTo>
                  <a:lnTo>
                    <a:pt x="255" y="1730"/>
                  </a:lnTo>
                  <a:lnTo>
                    <a:pt x="248" y="1724"/>
                  </a:lnTo>
                  <a:lnTo>
                    <a:pt x="242" y="1724"/>
                  </a:lnTo>
                  <a:lnTo>
                    <a:pt x="242" y="1730"/>
                  </a:lnTo>
                  <a:lnTo>
                    <a:pt x="229" y="1730"/>
                  </a:lnTo>
                  <a:lnTo>
                    <a:pt x="223" y="1730"/>
                  </a:lnTo>
                  <a:lnTo>
                    <a:pt x="217" y="1730"/>
                  </a:lnTo>
                  <a:lnTo>
                    <a:pt x="217" y="1724"/>
                  </a:lnTo>
                  <a:lnTo>
                    <a:pt x="223" y="1724"/>
                  </a:lnTo>
                  <a:lnTo>
                    <a:pt x="223" y="1718"/>
                  </a:lnTo>
                  <a:lnTo>
                    <a:pt x="217" y="1718"/>
                  </a:lnTo>
                  <a:lnTo>
                    <a:pt x="210" y="1718"/>
                  </a:lnTo>
                  <a:lnTo>
                    <a:pt x="210" y="1712"/>
                  </a:lnTo>
                  <a:lnTo>
                    <a:pt x="217" y="1712"/>
                  </a:lnTo>
                  <a:lnTo>
                    <a:pt x="223" y="1705"/>
                  </a:lnTo>
                  <a:lnTo>
                    <a:pt x="229" y="1705"/>
                  </a:lnTo>
                  <a:lnTo>
                    <a:pt x="229" y="1699"/>
                  </a:lnTo>
                  <a:lnTo>
                    <a:pt x="236" y="1693"/>
                  </a:lnTo>
                  <a:lnTo>
                    <a:pt x="229" y="1699"/>
                  </a:lnTo>
                  <a:lnTo>
                    <a:pt x="223" y="1699"/>
                  </a:lnTo>
                  <a:lnTo>
                    <a:pt x="217" y="1699"/>
                  </a:lnTo>
                  <a:lnTo>
                    <a:pt x="210" y="1699"/>
                  </a:lnTo>
                  <a:lnTo>
                    <a:pt x="204" y="1699"/>
                  </a:lnTo>
                  <a:lnTo>
                    <a:pt x="197" y="1699"/>
                  </a:lnTo>
                  <a:lnTo>
                    <a:pt x="197" y="1693"/>
                  </a:lnTo>
                  <a:lnTo>
                    <a:pt x="191" y="1693"/>
                  </a:lnTo>
                  <a:lnTo>
                    <a:pt x="185" y="1693"/>
                  </a:lnTo>
                  <a:lnTo>
                    <a:pt x="185" y="1687"/>
                  </a:lnTo>
                  <a:lnTo>
                    <a:pt x="178" y="1693"/>
                  </a:lnTo>
                  <a:lnTo>
                    <a:pt x="172" y="1693"/>
                  </a:lnTo>
                  <a:lnTo>
                    <a:pt x="166" y="1693"/>
                  </a:lnTo>
                  <a:lnTo>
                    <a:pt x="166" y="1687"/>
                  </a:lnTo>
                  <a:lnTo>
                    <a:pt x="172" y="1687"/>
                  </a:lnTo>
                  <a:lnTo>
                    <a:pt x="172" y="1680"/>
                  </a:lnTo>
                  <a:lnTo>
                    <a:pt x="178" y="1680"/>
                  </a:lnTo>
                  <a:lnTo>
                    <a:pt x="178" y="1674"/>
                  </a:lnTo>
                  <a:lnTo>
                    <a:pt x="185" y="1680"/>
                  </a:lnTo>
                  <a:lnTo>
                    <a:pt x="191" y="1680"/>
                  </a:lnTo>
                  <a:lnTo>
                    <a:pt x="197" y="1680"/>
                  </a:lnTo>
                  <a:lnTo>
                    <a:pt x="197" y="1674"/>
                  </a:lnTo>
                  <a:lnTo>
                    <a:pt x="204" y="1680"/>
                  </a:lnTo>
                  <a:lnTo>
                    <a:pt x="210" y="1674"/>
                  </a:lnTo>
                  <a:lnTo>
                    <a:pt x="217" y="1674"/>
                  </a:lnTo>
                  <a:lnTo>
                    <a:pt x="223" y="1674"/>
                  </a:lnTo>
                  <a:lnTo>
                    <a:pt x="229" y="1674"/>
                  </a:lnTo>
                  <a:lnTo>
                    <a:pt x="236" y="1674"/>
                  </a:lnTo>
                  <a:lnTo>
                    <a:pt x="236" y="1668"/>
                  </a:lnTo>
                  <a:lnTo>
                    <a:pt x="236" y="1662"/>
                  </a:lnTo>
                  <a:lnTo>
                    <a:pt x="229" y="1662"/>
                  </a:lnTo>
                  <a:lnTo>
                    <a:pt x="223" y="1662"/>
                  </a:lnTo>
                  <a:lnTo>
                    <a:pt x="217" y="1668"/>
                  </a:lnTo>
                  <a:lnTo>
                    <a:pt x="217" y="1662"/>
                  </a:lnTo>
                  <a:lnTo>
                    <a:pt x="210" y="1656"/>
                  </a:lnTo>
                  <a:lnTo>
                    <a:pt x="204" y="1662"/>
                  </a:lnTo>
                  <a:lnTo>
                    <a:pt x="197" y="1662"/>
                  </a:lnTo>
                  <a:lnTo>
                    <a:pt x="197" y="1656"/>
                  </a:lnTo>
                  <a:lnTo>
                    <a:pt x="197" y="1649"/>
                  </a:lnTo>
                  <a:lnTo>
                    <a:pt x="191" y="1649"/>
                  </a:lnTo>
                  <a:lnTo>
                    <a:pt x="191" y="1656"/>
                  </a:lnTo>
                  <a:lnTo>
                    <a:pt x="185" y="1656"/>
                  </a:lnTo>
                  <a:lnTo>
                    <a:pt x="185" y="1649"/>
                  </a:lnTo>
                  <a:lnTo>
                    <a:pt x="185" y="1643"/>
                  </a:lnTo>
                  <a:lnTo>
                    <a:pt x="191" y="1643"/>
                  </a:lnTo>
                  <a:lnTo>
                    <a:pt x="191" y="1637"/>
                  </a:lnTo>
                  <a:lnTo>
                    <a:pt x="197" y="1637"/>
                  </a:lnTo>
                  <a:lnTo>
                    <a:pt x="197" y="1631"/>
                  </a:lnTo>
                  <a:lnTo>
                    <a:pt x="204" y="1637"/>
                  </a:lnTo>
                  <a:lnTo>
                    <a:pt x="210" y="1637"/>
                  </a:lnTo>
                  <a:lnTo>
                    <a:pt x="217" y="1637"/>
                  </a:lnTo>
                  <a:lnTo>
                    <a:pt x="223" y="1637"/>
                  </a:lnTo>
                  <a:lnTo>
                    <a:pt x="223" y="1631"/>
                  </a:lnTo>
                  <a:lnTo>
                    <a:pt x="217" y="1631"/>
                  </a:lnTo>
                  <a:lnTo>
                    <a:pt x="210" y="1624"/>
                  </a:lnTo>
                  <a:lnTo>
                    <a:pt x="204" y="1618"/>
                  </a:lnTo>
                  <a:lnTo>
                    <a:pt x="210" y="1618"/>
                  </a:lnTo>
                  <a:lnTo>
                    <a:pt x="210" y="1612"/>
                  </a:lnTo>
                  <a:lnTo>
                    <a:pt x="217" y="1612"/>
                  </a:lnTo>
                  <a:lnTo>
                    <a:pt x="223" y="1612"/>
                  </a:lnTo>
                  <a:lnTo>
                    <a:pt x="223" y="1606"/>
                  </a:lnTo>
                  <a:lnTo>
                    <a:pt x="217" y="1606"/>
                  </a:lnTo>
                  <a:lnTo>
                    <a:pt x="210" y="1606"/>
                  </a:lnTo>
                  <a:lnTo>
                    <a:pt x="204" y="1606"/>
                  </a:lnTo>
                  <a:lnTo>
                    <a:pt x="191" y="1612"/>
                  </a:lnTo>
                  <a:lnTo>
                    <a:pt x="191" y="1606"/>
                  </a:lnTo>
                  <a:lnTo>
                    <a:pt x="191" y="1600"/>
                  </a:lnTo>
                  <a:lnTo>
                    <a:pt x="197" y="1593"/>
                  </a:lnTo>
                  <a:lnTo>
                    <a:pt x="197" y="1587"/>
                  </a:lnTo>
                  <a:lnTo>
                    <a:pt x="204" y="1587"/>
                  </a:lnTo>
                  <a:lnTo>
                    <a:pt x="204" y="1593"/>
                  </a:lnTo>
                  <a:lnTo>
                    <a:pt x="210" y="1593"/>
                  </a:lnTo>
                  <a:lnTo>
                    <a:pt x="217" y="1593"/>
                  </a:lnTo>
                  <a:lnTo>
                    <a:pt x="223" y="1587"/>
                  </a:lnTo>
                  <a:lnTo>
                    <a:pt x="223" y="1593"/>
                  </a:lnTo>
                  <a:lnTo>
                    <a:pt x="229" y="1593"/>
                  </a:lnTo>
                  <a:lnTo>
                    <a:pt x="236" y="1593"/>
                  </a:lnTo>
                  <a:lnTo>
                    <a:pt x="236" y="1600"/>
                  </a:lnTo>
                  <a:lnTo>
                    <a:pt x="242" y="1606"/>
                  </a:lnTo>
                  <a:lnTo>
                    <a:pt x="242" y="1612"/>
                  </a:lnTo>
                  <a:lnTo>
                    <a:pt x="248" y="1612"/>
                  </a:lnTo>
                  <a:lnTo>
                    <a:pt x="248" y="1606"/>
                  </a:lnTo>
                  <a:lnTo>
                    <a:pt x="255" y="1606"/>
                  </a:lnTo>
                  <a:lnTo>
                    <a:pt x="255" y="1600"/>
                  </a:lnTo>
                  <a:lnTo>
                    <a:pt x="255" y="1593"/>
                  </a:lnTo>
                  <a:lnTo>
                    <a:pt x="261" y="1600"/>
                  </a:lnTo>
                  <a:lnTo>
                    <a:pt x="267" y="1600"/>
                  </a:lnTo>
                  <a:lnTo>
                    <a:pt x="267" y="1606"/>
                  </a:lnTo>
                  <a:lnTo>
                    <a:pt x="261" y="1618"/>
                  </a:lnTo>
                  <a:lnTo>
                    <a:pt x="255" y="1624"/>
                  </a:lnTo>
                  <a:lnTo>
                    <a:pt x="248" y="1631"/>
                  </a:lnTo>
                  <a:lnTo>
                    <a:pt x="255" y="1631"/>
                  </a:lnTo>
                  <a:lnTo>
                    <a:pt x="261" y="1631"/>
                  </a:lnTo>
                  <a:lnTo>
                    <a:pt x="261" y="1637"/>
                  </a:lnTo>
                  <a:lnTo>
                    <a:pt x="255" y="1643"/>
                  </a:lnTo>
                  <a:lnTo>
                    <a:pt x="248" y="1649"/>
                  </a:lnTo>
                  <a:lnTo>
                    <a:pt x="255" y="1656"/>
                  </a:lnTo>
                  <a:lnTo>
                    <a:pt x="261" y="1656"/>
                  </a:lnTo>
                  <a:lnTo>
                    <a:pt x="261" y="1649"/>
                  </a:lnTo>
                  <a:lnTo>
                    <a:pt x="261" y="1643"/>
                  </a:lnTo>
                  <a:lnTo>
                    <a:pt x="267" y="1649"/>
                  </a:lnTo>
                  <a:lnTo>
                    <a:pt x="267" y="1656"/>
                  </a:lnTo>
                  <a:lnTo>
                    <a:pt x="261" y="1662"/>
                  </a:lnTo>
                  <a:lnTo>
                    <a:pt x="267" y="1662"/>
                  </a:lnTo>
                  <a:lnTo>
                    <a:pt x="274" y="1656"/>
                  </a:lnTo>
                  <a:lnTo>
                    <a:pt x="274" y="1649"/>
                  </a:lnTo>
                  <a:lnTo>
                    <a:pt x="274" y="1643"/>
                  </a:lnTo>
                  <a:lnTo>
                    <a:pt x="274" y="1637"/>
                  </a:lnTo>
                  <a:lnTo>
                    <a:pt x="274" y="1631"/>
                  </a:lnTo>
                  <a:lnTo>
                    <a:pt x="280" y="1624"/>
                  </a:lnTo>
                  <a:lnTo>
                    <a:pt x="280" y="1631"/>
                  </a:lnTo>
                  <a:lnTo>
                    <a:pt x="280" y="1637"/>
                  </a:lnTo>
                  <a:lnTo>
                    <a:pt x="286" y="1637"/>
                  </a:lnTo>
                  <a:lnTo>
                    <a:pt x="286" y="1643"/>
                  </a:lnTo>
                  <a:lnTo>
                    <a:pt x="293" y="1643"/>
                  </a:lnTo>
                  <a:lnTo>
                    <a:pt x="293" y="1649"/>
                  </a:lnTo>
                  <a:lnTo>
                    <a:pt x="293" y="1656"/>
                  </a:lnTo>
                  <a:lnTo>
                    <a:pt x="293" y="1662"/>
                  </a:lnTo>
                  <a:lnTo>
                    <a:pt x="293" y="1668"/>
                  </a:lnTo>
                  <a:lnTo>
                    <a:pt x="293" y="1674"/>
                  </a:lnTo>
                  <a:lnTo>
                    <a:pt x="293" y="1680"/>
                  </a:lnTo>
                  <a:lnTo>
                    <a:pt x="299" y="1674"/>
                  </a:lnTo>
                  <a:lnTo>
                    <a:pt x="299" y="1680"/>
                  </a:lnTo>
                  <a:lnTo>
                    <a:pt x="299" y="1687"/>
                  </a:lnTo>
                  <a:lnTo>
                    <a:pt x="306" y="1687"/>
                  </a:lnTo>
                  <a:lnTo>
                    <a:pt x="312" y="1687"/>
                  </a:lnTo>
                  <a:lnTo>
                    <a:pt x="312" y="1680"/>
                  </a:lnTo>
                  <a:lnTo>
                    <a:pt x="306" y="1674"/>
                  </a:lnTo>
                  <a:lnTo>
                    <a:pt x="306" y="1668"/>
                  </a:lnTo>
                  <a:lnTo>
                    <a:pt x="306" y="1662"/>
                  </a:lnTo>
                  <a:lnTo>
                    <a:pt x="299" y="1656"/>
                  </a:lnTo>
                  <a:lnTo>
                    <a:pt x="299" y="1649"/>
                  </a:lnTo>
                  <a:lnTo>
                    <a:pt x="299" y="1643"/>
                  </a:lnTo>
                  <a:lnTo>
                    <a:pt x="299" y="1637"/>
                  </a:lnTo>
                  <a:lnTo>
                    <a:pt x="306" y="1643"/>
                  </a:lnTo>
                  <a:lnTo>
                    <a:pt x="306" y="1649"/>
                  </a:lnTo>
                  <a:lnTo>
                    <a:pt x="312" y="1656"/>
                  </a:lnTo>
                  <a:lnTo>
                    <a:pt x="318" y="1656"/>
                  </a:lnTo>
                  <a:lnTo>
                    <a:pt x="325" y="1656"/>
                  </a:lnTo>
                  <a:lnTo>
                    <a:pt x="325" y="1662"/>
                  </a:lnTo>
                  <a:lnTo>
                    <a:pt x="331" y="1662"/>
                  </a:lnTo>
                  <a:lnTo>
                    <a:pt x="331" y="1668"/>
                  </a:lnTo>
                  <a:lnTo>
                    <a:pt x="337" y="1668"/>
                  </a:lnTo>
                  <a:lnTo>
                    <a:pt x="344" y="1662"/>
                  </a:lnTo>
                  <a:lnTo>
                    <a:pt x="344" y="1656"/>
                  </a:lnTo>
                  <a:lnTo>
                    <a:pt x="350" y="1656"/>
                  </a:lnTo>
                  <a:lnTo>
                    <a:pt x="350" y="1662"/>
                  </a:lnTo>
                  <a:lnTo>
                    <a:pt x="356" y="1668"/>
                  </a:lnTo>
                  <a:lnTo>
                    <a:pt x="356" y="1674"/>
                  </a:lnTo>
                  <a:lnTo>
                    <a:pt x="356" y="1680"/>
                  </a:lnTo>
                  <a:lnTo>
                    <a:pt x="356" y="1687"/>
                  </a:lnTo>
                  <a:lnTo>
                    <a:pt x="356" y="1680"/>
                  </a:lnTo>
                  <a:lnTo>
                    <a:pt x="363" y="1680"/>
                  </a:lnTo>
                  <a:lnTo>
                    <a:pt x="363" y="1674"/>
                  </a:lnTo>
                  <a:lnTo>
                    <a:pt x="369" y="1674"/>
                  </a:lnTo>
                  <a:lnTo>
                    <a:pt x="369" y="1680"/>
                  </a:lnTo>
                  <a:lnTo>
                    <a:pt x="375" y="1687"/>
                  </a:lnTo>
                  <a:lnTo>
                    <a:pt x="382" y="1687"/>
                  </a:lnTo>
                  <a:lnTo>
                    <a:pt x="382" y="1680"/>
                  </a:lnTo>
                  <a:lnTo>
                    <a:pt x="375" y="1680"/>
                  </a:lnTo>
                  <a:lnTo>
                    <a:pt x="375" y="1674"/>
                  </a:lnTo>
                  <a:lnTo>
                    <a:pt x="375" y="1668"/>
                  </a:lnTo>
                  <a:lnTo>
                    <a:pt x="369" y="1668"/>
                  </a:lnTo>
                  <a:lnTo>
                    <a:pt x="363" y="1662"/>
                  </a:lnTo>
                  <a:lnTo>
                    <a:pt x="363" y="1656"/>
                  </a:lnTo>
                  <a:lnTo>
                    <a:pt x="356" y="1656"/>
                  </a:lnTo>
                  <a:lnTo>
                    <a:pt x="356" y="1649"/>
                  </a:lnTo>
                  <a:lnTo>
                    <a:pt x="350" y="1649"/>
                  </a:lnTo>
                  <a:lnTo>
                    <a:pt x="350" y="1643"/>
                  </a:lnTo>
                  <a:lnTo>
                    <a:pt x="344" y="1649"/>
                  </a:lnTo>
                  <a:lnTo>
                    <a:pt x="337" y="1649"/>
                  </a:lnTo>
                  <a:lnTo>
                    <a:pt x="331" y="1656"/>
                  </a:lnTo>
                  <a:lnTo>
                    <a:pt x="325" y="1649"/>
                  </a:lnTo>
                  <a:lnTo>
                    <a:pt x="318" y="1643"/>
                  </a:lnTo>
                  <a:lnTo>
                    <a:pt x="318" y="1637"/>
                  </a:lnTo>
                  <a:lnTo>
                    <a:pt x="312" y="1637"/>
                  </a:lnTo>
                  <a:lnTo>
                    <a:pt x="306" y="1631"/>
                  </a:lnTo>
                  <a:lnTo>
                    <a:pt x="299" y="1631"/>
                  </a:lnTo>
                  <a:lnTo>
                    <a:pt x="293" y="1624"/>
                  </a:lnTo>
                  <a:lnTo>
                    <a:pt x="286" y="1624"/>
                  </a:lnTo>
                  <a:lnTo>
                    <a:pt x="286" y="1618"/>
                  </a:lnTo>
                  <a:lnTo>
                    <a:pt x="293" y="1618"/>
                  </a:lnTo>
                  <a:lnTo>
                    <a:pt x="299" y="1624"/>
                  </a:lnTo>
                  <a:lnTo>
                    <a:pt x="306" y="1624"/>
                  </a:lnTo>
                  <a:lnTo>
                    <a:pt x="312" y="1618"/>
                  </a:lnTo>
                  <a:lnTo>
                    <a:pt x="318" y="1618"/>
                  </a:lnTo>
                  <a:lnTo>
                    <a:pt x="318" y="1612"/>
                  </a:lnTo>
                  <a:lnTo>
                    <a:pt x="312" y="1612"/>
                  </a:lnTo>
                  <a:lnTo>
                    <a:pt x="306" y="1612"/>
                  </a:lnTo>
                  <a:lnTo>
                    <a:pt x="299" y="1612"/>
                  </a:lnTo>
                  <a:lnTo>
                    <a:pt x="293" y="1612"/>
                  </a:lnTo>
                  <a:lnTo>
                    <a:pt x="286" y="1606"/>
                  </a:lnTo>
                  <a:lnTo>
                    <a:pt x="280" y="1606"/>
                  </a:lnTo>
                  <a:lnTo>
                    <a:pt x="280" y="1600"/>
                  </a:lnTo>
                  <a:lnTo>
                    <a:pt x="274" y="1600"/>
                  </a:lnTo>
                  <a:lnTo>
                    <a:pt x="274" y="1593"/>
                  </a:lnTo>
                  <a:lnTo>
                    <a:pt x="280" y="1593"/>
                  </a:lnTo>
                  <a:lnTo>
                    <a:pt x="280" y="1587"/>
                  </a:lnTo>
                  <a:lnTo>
                    <a:pt x="274" y="1581"/>
                  </a:lnTo>
                  <a:lnTo>
                    <a:pt x="280" y="1581"/>
                  </a:lnTo>
                  <a:lnTo>
                    <a:pt x="286" y="1587"/>
                  </a:lnTo>
                  <a:lnTo>
                    <a:pt x="293" y="1587"/>
                  </a:lnTo>
                  <a:lnTo>
                    <a:pt x="293" y="1593"/>
                  </a:lnTo>
                  <a:lnTo>
                    <a:pt x="299" y="1593"/>
                  </a:lnTo>
                  <a:lnTo>
                    <a:pt x="306" y="1587"/>
                  </a:lnTo>
                  <a:lnTo>
                    <a:pt x="312" y="1593"/>
                  </a:lnTo>
                  <a:lnTo>
                    <a:pt x="318" y="1593"/>
                  </a:lnTo>
                  <a:lnTo>
                    <a:pt x="318" y="1587"/>
                  </a:lnTo>
                  <a:lnTo>
                    <a:pt x="318" y="1581"/>
                  </a:lnTo>
                  <a:lnTo>
                    <a:pt x="325" y="1581"/>
                  </a:lnTo>
                  <a:lnTo>
                    <a:pt x="331" y="1587"/>
                  </a:lnTo>
                  <a:lnTo>
                    <a:pt x="331" y="1593"/>
                  </a:lnTo>
                  <a:lnTo>
                    <a:pt x="337" y="1593"/>
                  </a:lnTo>
                  <a:lnTo>
                    <a:pt x="337" y="1587"/>
                  </a:lnTo>
                  <a:lnTo>
                    <a:pt x="331" y="1581"/>
                  </a:lnTo>
                  <a:lnTo>
                    <a:pt x="331" y="1575"/>
                  </a:lnTo>
                  <a:lnTo>
                    <a:pt x="337" y="1575"/>
                  </a:lnTo>
                  <a:lnTo>
                    <a:pt x="344" y="1575"/>
                  </a:lnTo>
                  <a:lnTo>
                    <a:pt x="350" y="1581"/>
                  </a:lnTo>
                  <a:lnTo>
                    <a:pt x="356" y="1587"/>
                  </a:lnTo>
                  <a:lnTo>
                    <a:pt x="356" y="1593"/>
                  </a:lnTo>
                  <a:lnTo>
                    <a:pt x="363" y="1600"/>
                  </a:lnTo>
                  <a:lnTo>
                    <a:pt x="369" y="1606"/>
                  </a:lnTo>
                  <a:lnTo>
                    <a:pt x="369" y="1600"/>
                  </a:lnTo>
                  <a:lnTo>
                    <a:pt x="369" y="1587"/>
                  </a:lnTo>
                  <a:lnTo>
                    <a:pt x="363" y="1581"/>
                  </a:lnTo>
                  <a:lnTo>
                    <a:pt x="356" y="1575"/>
                  </a:lnTo>
                  <a:lnTo>
                    <a:pt x="350" y="1568"/>
                  </a:lnTo>
                  <a:lnTo>
                    <a:pt x="344" y="1568"/>
                  </a:lnTo>
                  <a:lnTo>
                    <a:pt x="337" y="1568"/>
                  </a:lnTo>
                  <a:lnTo>
                    <a:pt x="331" y="1568"/>
                  </a:lnTo>
                  <a:lnTo>
                    <a:pt x="325" y="1568"/>
                  </a:lnTo>
                  <a:lnTo>
                    <a:pt x="318" y="1568"/>
                  </a:lnTo>
                  <a:lnTo>
                    <a:pt x="312" y="1562"/>
                  </a:lnTo>
                  <a:lnTo>
                    <a:pt x="306" y="1562"/>
                  </a:lnTo>
                  <a:lnTo>
                    <a:pt x="306" y="1556"/>
                  </a:lnTo>
                  <a:lnTo>
                    <a:pt x="312" y="1556"/>
                  </a:lnTo>
                  <a:lnTo>
                    <a:pt x="306" y="1550"/>
                  </a:lnTo>
                  <a:lnTo>
                    <a:pt x="318" y="1556"/>
                  </a:lnTo>
                  <a:lnTo>
                    <a:pt x="325" y="1550"/>
                  </a:lnTo>
                  <a:lnTo>
                    <a:pt x="331" y="1556"/>
                  </a:lnTo>
                  <a:lnTo>
                    <a:pt x="331" y="1562"/>
                  </a:lnTo>
                  <a:lnTo>
                    <a:pt x="337" y="1562"/>
                  </a:lnTo>
                  <a:lnTo>
                    <a:pt x="344" y="1562"/>
                  </a:lnTo>
                  <a:lnTo>
                    <a:pt x="350" y="1562"/>
                  </a:lnTo>
                  <a:lnTo>
                    <a:pt x="350" y="1556"/>
                  </a:lnTo>
                  <a:lnTo>
                    <a:pt x="356" y="1556"/>
                  </a:lnTo>
                  <a:lnTo>
                    <a:pt x="363" y="1556"/>
                  </a:lnTo>
                  <a:lnTo>
                    <a:pt x="369" y="1556"/>
                  </a:lnTo>
                  <a:lnTo>
                    <a:pt x="375" y="1550"/>
                  </a:lnTo>
                  <a:lnTo>
                    <a:pt x="382" y="1556"/>
                  </a:lnTo>
                  <a:lnTo>
                    <a:pt x="388" y="1562"/>
                  </a:lnTo>
                  <a:lnTo>
                    <a:pt x="388" y="1568"/>
                  </a:lnTo>
                  <a:lnTo>
                    <a:pt x="388" y="1575"/>
                  </a:lnTo>
                  <a:lnTo>
                    <a:pt x="388" y="1587"/>
                  </a:lnTo>
                  <a:lnTo>
                    <a:pt x="395" y="1587"/>
                  </a:lnTo>
                  <a:lnTo>
                    <a:pt x="395" y="1581"/>
                  </a:lnTo>
                  <a:lnTo>
                    <a:pt x="395" y="1575"/>
                  </a:lnTo>
                  <a:lnTo>
                    <a:pt x="395" y="1568"/>
                  </a:lnTo>
                  <a:lnTo>
                    <a:pt x="401" y="1568"/>
                  </a:lnTo>
                  <a:lnTo>
                    <a:pt x="407" y="1568"/>
                  </a:lnTo>
                  <a:lnTo>
                    <a:pt x="414" y="1568"/>
                  </a:lnTo>
                  <a:lnTo>
                    <a:pt x="414" y="1562"/>
                  </a:lnTo>
                  <a:lnTo>
                    <a:pt x="414" y="1556"/>
                  </a:lnTo>
                  <a:lnTo>
                    <a:pt x="420" y="1562"/>
                  </a:lnTo>
                  <a:lnTo>
                    <a:pt x="420" y="1568"/>
                  </a:lnTo>
                  <a:lnTo>
                    <a:pt x="426" y="1568"/>
                  </a:lnTo>
                  <a:lnTo>
                    <a:pt x="433" y="1575"/>
                  </a:lnTo>
                  <a:lnTo>
                    <a:pt x="433" y="1568"/>
                  </a:lnTo>
                  <a:lnTo>
                    <a:pt x="439" y="1568"/>
                  </a:lnTo>
                  <a:lnTo>
                    <a:pt x="439" y="1575"/>
                  </a:lnTo>
                  <a:lnTo>
                    <a:pt x="439" y="1581"/>
                  </a:lnTo>
                  <a:lnTo>
                    <a:pt x="445" y="1587"/>
                  </a:lnTo>
                  <a:lnTo>
                    <a:pt x="445" y="1593"/>
                  </a:lnTo>
                  <a:lnTo>
                    <a:pt x="452" y="1593"/>
                  </a:lnTo>
                  <a:lnTo>
                    <a:pt x="452" y="1587"/>
                  </a:lnTo>
                  <a:lnTo>
                    <a:pt x="452" y="1581"/>
                  </a:lnTo>
                  <a:lnTo>
                    <a:pt x="452" y="1575"/>
                  </a:lnTo>
                  <a:lnTo>
                    <a:pt x="458" y="1575"/>
                  </a:lnTo>
                  <a:lnTo>
                    <a:pt x="464" y="1581"/>
                  </a:lnTo>
                  <a:lnTo>
                    <a:pt x="471" y="1587"/>
                  </a:lnTo>
                  <a:lnTo>
                    <a:pt x="477" y="1587"/>
                  </a:lnTo>
                  <a:lnTo>
                    <a:pt x="477" y="1581"/>
                  </a:lnTo>
                  <a:lnTo>
                    <a:pt x="477" y="1575"/>
                  </a:lnTo>
                  <a:lnTo>
                    <a:pt x="477" y="1568"/>
                  </a:lnTo>
                  <a:lnTo>
                    <a:pt x="471" y="1568"/>
                  </a:lnTo>
                  <a:lnTo>
                    <a:pt x="477" y="1568"/>
                  </a:lnTo>
                  <a:lnTo>
                    <a:pt x="483" y="1575"/>
                  </a:lnTo>
                  <a:lnTo>
                    <a:pt x="490" y="1575"/>
                  </a:lnTo>
                  <a:lnTo>
                    <a:pt x="490" y="1568"/>
                  </a:lnTo>
                  <a:lnTo>
                    <a:pt x="496" y="1568"/>
                  </a:lnTo>
                  <a:lnTo>
                    <a:pt x="490" y="1556"/>
                  </a:lnTo>
                  <a:lnTo>
                    <a:pt x="490" y="1562"/>
                  </a:lnTo>
                  <a:lnTo>
                    <a:pt x="483" y="1562"/>
                  </a:lnTo>
                  <a:lnTo>
                    <a:pt x="477" y="1562"/>
                  </a:lnTo>
                  <a:lnTo>
                    <a:pt x="477" y="1556"/>
                  </a:lnTo>
                  <a:lnTo>
                    <a:pt x="464" y="1556"/>
                  </a:lnTo>
                  <a:lnTo>
                    <a:pt x="464" y="1562"/>
                  </a:lnTo>
                  <a:lnTo>
                    <a:pt x="464" y="1568"/>
                  </a:lnTo>
                  <a:lnTo>
                    <a:pt x="458" y="1568"/>
                  </a:lnTo>
                  <a:lnTo>
                    <a:pt x="452" y="1562"/>
                  </a:lnTo>
                  <a:lnTo>
                    <a:pt x="445" y="1568"/>
                  </a:lnTo>
                  <a:lnTo>
                    <a:pt x="445" y="1562"/>
                  </a:lnTo>
                  <a:lnTo>
                    <a:pt x="452" y="1562"/>
                  </a:lnTo>
                  <a:lnTo>
                    <a:pt x="452" y="1556"/>
                  </a:lnTo>
                  <a:lnTo>
                    <a:pt x="445" y="1556"/>
                  </a:lnTo>
                  <a:lnTo>
                    <a:pt x="439" y="1556"/>
                  </a:lnTo>
                  <a:lnTo>
                    <a:pt x="433" y="1562"/>
                  </a:lnTo>
                  <a:lnTo>
                    <a:pt x="426" y="1562"/>
                  </a:lnTo>
                  <a:lnTo>
                    <a:pt x="426" y="1556"/>
                  </a:lnTo>
                  <a:lnTo>
                    <a:pt x="420" y="1556"/>
                  </a:lnTo>
                  <a:lnTo>
                    <a:pt x="414" y="1550"/>
                  </a:lnTo>
                  <a:lnTo>
                    <a:pt x="414" y="1543"/>
                  </a:lnTo>
                  <a:lnTo>
                    <a:pt x="407" y="1543"/>
                  </a:lnTo>
                  <a:lnTo>
                    <a:pt x="401" y="1537"/>
                  </a:lnTo>
                  <a:lnTo>
                    <a:pt x="401" y="1531"/>
                  </a:lnTo>
                  <a:lnTo>
                    <a:pt x="401" y="1519"/>
                  </a:lnTo>
                  <a:lnTo>
                    <a:pt x="401" y="1525"/>
                  </a:lnTo>
                  <a:lnTo>
                    <a:pt x="395" y="1525"/>
                  </a:lnTo>
                  <a:lnTo>
                    <a:pt x="382" y="1525"/>
                  </a:lnTo>
                  <a:lnTo>
                    <a:pt x="382" y="1519"/>
                  </a:lnTo>
                  <a:lnTo>
                    <a:pt x="388" y="1519"/>
                  </a:lnTo>
                  <a:lnTo>
                    <a:pt x="388" y="1512"/>
                  </a:lnTo>
                  <a:lnTo>
                    <a:pt x="395" y="1512"/>
                  </a:lnTo>
                  <a:lnTo>
                    <a:pt x="388" y="1506"/>
                  </a:lnTo>
                  <a:lnTo>
                    <a:pt x="382" y="1506"/>
                  </a:lnTo>
                  <a:lnTo>
                    <a:pt x="375" y="1500"/>
                  </a:lnTo>
                  <a:lnTo>
                    <a:pt x="369" y="1500"/>
                  </a:lnTo>
                  <a:lnTo>
                    <a:pt x="369" y="1506"/>
                  </a:lnTo>
                  <a:lnTo>
                    <a:pt x="369" y="1512"/>
                  </a:lnTo>
                  <a:lnTo>
                    <a:pt x="375" y="1519"/>
                  </a:lnTo>
                  <a:lnTo>
                    <a:pt x="369" y="1519"/>
                  </a:lnTo>
                  <a:lnTo>
                    <a:pt x="369" y="1531"/>
                  </a:lnTo>
                  <a:lnTo>
                    <a:pt x="363" y="1537"/>
                  </a:lnTo>
                  <a:lnTo>
                    <a:pt x="363" y="1543"/>
                  </a:lnTo>
                  <a:lnTo>
                    <a:pt x="363" y="1550"/>
                  </a:lnTo>
                  <a:lnTo>
                    <a:pt x="356" y="1550"/>
                  </a:lnTo>
                  <a:lnTo>
                    <a:pt x="350" y="1550"/>
                  </a:lnTo>
                  <a:lnTo>
                    <a:pt x="350" y="1543"/>
                  </a:lnTo>
                  <a:lnTo>
                    <a:pt x="344" y="1543"/>
                  </a:lnTo>
                  <a:lnTo>
                    <a:pt x="344" y="1550"/>
                  </a:lnTo>
                  <a:lnTo>
                    <a:pt x="337" y="1550"/>
                  </a:lnTo>
                  <a:lnTo>
                    <a:pt x="331" y="1543"/>
                  </a:lnTo>
                  <a:lnTo>
                    <a:pt x="331" y="1537"/>
                  </a:lnTo>
                  <a:lnTo>
                    <a:pt x="325" y="1537"/>
                  </a:lnTo>
                  <a:lnTo>
                    <a:pt x="318" y="1537"/>
                  </a:lnTo>
                  <a:lnTo>
                    <a:pt x="318" y="1543"/>
                  </a:lnTo>
                  <a:lnTo>
                    <a:pt x="318" y="1550"/>
                  </a:lnTo>
                  <a:lnTo>
                    <a:pt x="312" y="1550"/>
                  </a:lnTo>
                  <a:lnTo>
                    <a:pt x="312" y="1543"/>
                  </a:lnTo>
                  <a:lnTo>
                    <a:pt x="306" y="1543"/>
                  </a:lnTo>
                  <a:lnTo>
                    <a:pt x="306" y="1537"/>
                  </a:lnTo>
                  <a:lnTo>
                    <a:pt x="312" y="1531"/>
                  </a:lnTo>
                  <a:lnTo>
                    <a:pt x="312" y="1525"/>
                  </a:lnTo>
                  <a:lnTo>
                    <a:pt x="318" y="1519"/>
                  </a:lnTo>
                  <a:lnTo>
                    <a:pt x="312" y="1512"/>
                  </a:lnTo>
                  <a:lnTo>
                    <a:pt x="306" y="1519"/>
                  </a:lnTo>
                  <a:lnTo>
                    <a:pt x="306" y="1525"/>
                  </a:lnTo>
                  <a:lnTo>
                    <a:pt x="299" y="1531"/>
                  </a:lnTo>
                  <a:lnTo>
                    <a:pt x="299" y="1537"/>
                  </a:lnTo>
                  <a:lnTo>
                    <a:pt x="299" y="1543"/>
                  </a:lnTo>
                  <a:lnTo>
                    <a:pt x="293" y="1537"/>
                  </a:lnTo>
                  <a:lnTo>
                    <a:pt x="293" y="1543"/>
                  </a:lnTo>
                  <a:lnTo>
                    <a:pt x="293" y="1550"/>
                  </a:lnTo>
                  <a:lnTo>
                    <a:pt x="299" y="1556"/>
                  </a:lnTo>
                  <a:lnTo>
                    <a:pt x="299" y="1562"/>
                  </a:lnTo>
                  <a:lnTo>
                    <a:pt x="299" y="1568"/>
                  </a:lnTo>
                  <a:lnTo>
                    <a:pt x="299" y="1575"/>
                  </a:lnTo>
                  <a:lnTo>
                    <a:pt x="293" y="1575"/>
                  </a:lnTo>
                  <a:lnTo>
                    <a:pt x="286" y="1575"/>
                  </a:lnTo>
                  <a:lnTo>
                    <a:pt x="286" y="1568"/>
                  </a:lnTo>
                  <a:lnTo>
                    <a:pt x="280" y="1568"/>
                  </a:lnTo>
                  <a:lnTo>
                    <a:pt x="280" y="1562"/>
                  </a:lnTo>
                  <a:lnTo>
                    <a:pt x="274" y="1562"/>
                  </a:lnTo>
                  <a:lnTo>
                    <a:pt x="274" y="1568"/>
                  </a:lnTo>
                  <a:lnTo>
                    <a:pt x="274" y="1575"/>
                  </a:lnTo>
                  <a:lnTo>
                    <a:pt x="267" y="1575"/>
                  </a:lnTo>
                  <a:lnTo>
                    <a:pt x="261" y="1575"/>
                  </a:lnTo>
                  <a:lnTo>
                    <a:pt x="255" y="1575"/>
                  </a:lnTo>
                  <a:lnTo>
                    <a:pt x="248" y="1581"/>
                  </a:lnTo>
                  <a:lnTo>
                    <a:pt x="242" y="1581"/>
                  </a:lnTo>
                  <a:lnTo>
                    <a:pt x="236" y="1581"/>
                  </a:lnTo>
                  <a:lnTo>
                    <a:pt x="236" y="1575"/>
                  </a:lnTo>
                  <a:lnTo>
                    <a:pt x="236" y="1568"/>
                  </a:lnTo>
                  <a:lnTo>
                    <a:pt x="229" y="1568"/>
                  </a:lnTo>
                  <a:lnTo>
                    <a:pt x="229" y="1562"/>
                  </a:lnTo>
                  <a:lnTo>
                    <a:pt x="223" y="1562"/>
                  </a:lnTo>
                  <a:lnTo>
                    <a:pt x="223" y="1556"/>
                  </a:lnTo>
                  <a:lnTo>
                    <a:pt x="229" y="1556"/>
                  </a:lnTo>
                  <a:lnTo>
                    <a:pt x="236" y="1556"/>
                  </a:lnTo>
                  <a:lnTo>
                    <a:pt x="236" y="1562"/>
                  </a:lnTo>
                  <a:lnTo>
                    <a:pt x="236" y="1568"/>
                  </a:lnTo>
                  <a:lnTo>
                    <a:pt x="242" y="1568"/>
                  </a:lnTo>
                  <a:lnTo>
                    <a:pt x="248" y="1568"/>
                  </a:lnTo>
                  <a:lnTo>
                    <a:pt x="242" y="1562"/>
                  </a:lnTo>
                  <a:lnTo>
                    <a:pt x="242" y="1556"/>
                  </a:lnTo>
                  <a:lnTo>
                    <a:pt x="242" y="1550"/>
                  </a:lnTo>
                  <a:lnTo>
                    <a:pt x="248" y="1550"/>
                  </a:lnTo>
                  <a:lnTo>
                    <a:pt x="248" y="1556"/>
                  </a:lnTo>
                  <a:lnTo>
                    <a:pt x="248" y="1550"/>
                  </a:lnTo>
                  <a:lnTo>
                    <a:pt x="255" y="1550"/>
                  </a:lnTo>
                  <a:lnTo>
                    <a:pt x="255" y="1543"/>
                  </a:lnTo>
                  <a:lnTo>
                    <a:pt x="261" y="1537"/>
                  </a:lnTo>
                  <a:lnTo>
                    <a:pt x="267" y="1537"/>
                  </a:lnTo>
                  <a:lnTo>
                    <a:pt x="267" y="1531"/>
                  </a:lnTo>
                  <a:lnTo>
                    <a:pt x="267" y="1525"/>
                  </a:lnTo>
                  <a:lnTo>
                    <a:pt x="261" y="1525"/>
                  </a:lnTo>
                  <a:lnTo>
                    <a:pt x="267" y="1519"/>
                  </a:lnTo>
                  <a:lnTo>
                    <a:pt x="267" y="1512"/>
                  </a:lnTo>
                  <a:lnTo>
                    <a:pt x="261" y="1519"/>
                  </a:lnTo>
                  <a:lnTo>
                    <a:pt x="255" y="1525"/>
                  </a:lnTo>
                  <a:lnTo>
                    <a:pt x="248" y="1519"/>
                  </a:lnTo>
                  <a:lnTo>
                    <a:pt x="242" y="1519"/>
                  </a:lnTo>
                  <a:lnTo>
                    <a:pt x="236" y="1519"/>
                  </a:lnTo>
                  <a:lnTo>
                    <a:pt x="229" y="15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90600" y="4940280"/>
              <a:ext cx="546120" cy="1947960"/>
            </a:xfrm>
            <a:custGeom>
              <a:avLst/>
              <a:gdLst/>
              <a:ahLst/>
              <a:rect l="l" t="t" r="r" b="b"/>
              <a:pathLst>
                <a:path w="344" h="1227">
                  <a:moveTo>
                    <a:pt x="32" y="1227"/>
                  </a:moveTo>
                  <a:lnTo>
                    <a:pt x="32" y="1220"/>
                  </a:lnTo>
                  <a:lnTo>
                    <a:pt x="39" y="1220"/>
                  </a:lnTo>
                  <a:lnTo>
                    <a:pt x="39" y="1214"/>
                  </a:lnTo>
                  <a:lnTo>
                    <a:pt x="45" y="1214"/>
                  </a:lnTo>
                  <a:lnTo>
                    <a:pt x="51" y="1214"/>
                  </a:lnTo>
                  <a:lnTo>
                    <a:pt x="58" y="1214"/>
                  </a:lnTo>
                  <a:lnTo>
                    <a:pt x="58" y="1208"/>
                  </a:lnTo>
                  <a:lnTo>
                    <a:pt x="58" y="1202"/>
                  </a:lnTo>
                  <a:lnTo>
                    <a:pt x="64" y="1202"/>
                  </a:lnTo>
                  <a:lnTo>
                    <a:pt x="70" y="1202"/>
                  </a:lnTo>
                  <a:lnTo>
                    <a:pt x="70" y="1208"/>
                  </a:lnTo>
                  <a:lnTo>
                    <a:pt x="77" y="1208"/>
                  </a:lnTo>
                  <a:lnTo>
                    <a:pt x="77" y="1214"/>
                  </a:lnTo>
                  <a:lnTo>
                    <a:pt x="83" y="1214"/>
                  </a:lnTo>
                  <a:lnTo>
                    <a:pt x="89" y="1214"/>
                  </a:lnTo>
                  <a:lnTo>
                    <a:pt x="89" y="1208"/>
                  </a:lnTo>
                  <a:lnTo>
                    <a:pt x="83" y="1208"/>
                  </a:lnTo>
                  <a:lnTo>
                    <a:pt x="83" y="1202"/>
                  </a:lnTo>
                  <a:lnTo>
                    <a:pt x="89" y="1202"/>
                  </a:lnTo>
                  <a:lnTo>
                    <a:pt x="96" y="1202"/>
                  </a:lnTo>
                  <a:lnTo>
                    <a:pt x="102" y="1195"/>
                  </a:lnTo>
                  <a:lnTo>
                    <a:pt x="102" y="1189"/>
                  </a:lnTo>
                  <a:lnTo>
                    <a:pt x="96" y="1189"/>
                  </a:lnTo>
                  <a:lnTo>
                    <a:pt x="89" y="1189"/>
                  </a:lnTo>
                  <a:lnTo>
                    <a:pt x="83" y="1189"/>
                  </a:lnTo>
                  <a:lnTo>
                    <a:pt x="77" y="1189"/>
                  </a:lnTo>
                  <a:lnTo>
                    <a:pt x="70" y="1189"/>
                  </a:lnTo>
                  <a:lnTo>
                    <a:pt x="77" y="1183"/>
                  </a:lnTo>
                  <a:lnTo>
                    <a:pt x="70" y="1183"/>
                  </a:lnTo>
                  <a:lnTo>
                    <a:pt x="70" y="1189"/>
                  </a:lnTo>
                  <a:lnTo>
                    <a:pt x="64" y="1189"/>
                  </a:lnTo>
                  <a:lnTo>
                    <a:pt x="58" y="1189"/>
                  </a:lnTo>
                  <a:lnTo>
                    <a:pt x="51" y="1189"/>
                  </a:lnTo>
                  <a:lnTo>
                    <a:pt x="45" y="1189"/>
                  </a:lnTo>
                  <a:lnTo>
                    <a:pt x="51" y="1183"/>
                  </a:lnTo>
                  <a:lnTo>
                    <a:pt x="58" y="1177"/>
                  </a:lnTo>
                  <a:lnTo>
                    <a:pt x="64" y="1177"/>
                  </a:lnTo>
                  <a:lnTo>
                    <a:pt x="64" y="1171"/>
                  </a:lnTo>
                  <a:lnTo>
                    <a:pt x="58" y="1171"/>
                  </a:lnTo>
                  <a:lnTo>
                    <a:pt x="51" y="1171"/>
                  </a:lnTo>
                  <a:lnTo>
                    <a:pt x="58" y="1164"/>
                  </a:lnTo>
                  <a:lnTo>
                    <a:pt x="58" y="1158"/>
                  </a:lnTo>
                  <a:lnTo>
                    <a:pt x="64" y="1164"/>
                  </a:lnTo>
                  <a:lnTo>
                    <a:pt x="70" y="1164"/>
                  </a:lnTo>
                  <a:lnTo>
                    <a:pt x="70" y="1158"/>
                  </a:lnTo>
                  <a:lnTo>
                    <a:pt x="77" y="1158"/>
                  </a:lnTo>
                  <a:lnTo>
                    <a:pt x="83" y="1158"/>
                  </a:lnTo>
                  <a:lnTo>
                    <a:pt x="89" y="1164"/>
                  </a:lnTo>
                  <a:lnTo>
                    <a:pt x="89" y="1171"/>
                  </a:lnTo>
                  <a:lnTo>
                    <a:pt x="96" y="1164"/>
                  </a:lnTo>
                  <a:lnTo>
                    <a:pt x="96" y="1158"/>
                  </a:lnTo>
                  <a:lnTo>
                    <a:pt x="109" y="1158"/>
                  </a:lnTo>
                  <a:lnTo>
                    <a:pt x="109" y="1152"/>
                  </a:lnTo>
                  <a:lnTo>
                    <a:pt x="102" y="1152"/>
                  </a:lnTo>
                  <a:lnTo>
                    <a:pt x="96" y="1152"/>
                  </a:lnTo>
                  <a:lnTo>
                    <a:pt x="89" y="1152"/>
                  </a:lnTo>
                  <a:lnTo>
                    <a:pt x="89" y="1146"/>
                  </a:lnTo>
                  <a:lnTo>
                    <a:pt x="89" y="1139"/>
                  </a:lnTo>
                  <a:lnTo>
                    <a:pt x="89" y="1133"/>
                  </a:lnTo>
                  <a:lnTo>
                    <a:pt x="83" y="1133"/>
                  </a:lnTo>
                  <a:lnTo>
                    <a:pt x="83" y="1139"/>
                  </a:lnTo>
                  <a:lnTo>
                    <a:pt x="83" y="1146"/>
                  </a:lnTo>
                  <a:lnTo>
                    <a:pt x="77" y="1146"/>
                  </a:lnTo>
                  <a:lnTo>
                    <a:pt x="70" y="1152"/>
                  </a:lnTo>
                  <a:lnTo>
                    <a:pt x="58" y="1152"/>
                  </a:lnTo>
                  <a:lnTo>
                    <a:pt x="51" y="1152"/>
                  </a:lnTo>
                  <a:lnTo>
                    <a:pt x="45" y="1158"/>
                  </a:lnTo>
                  <a:lnTo>
                    <a:pt x="45" y="1152"/>
                  </a:lnTo>
                  <a:lnTo>
                    <a:pt x="45" y="1146"/>
                  </a:lnTo>
                  <a:lnTo>
                    <a:pt x="51" y="1146"/>
                  </a:lnTo>
                  <a:lnTo>
                    <a:pt x="58" y="1139"/>
                  </a:lnTo>
                  <a:lnTo>
                    <a:pt x="64" y="1139"/>
                  </a:lnTo>
                  <a:lnTo>
                    <a:pt x="70" y="1133"/>
                  </a:lnTo>
                  <a:lnTo>
                    <a:pt x="77" y="1127"/>
                  </a:lnTo>
                  <a:lnTo>
                    <a:pt x="77" y="1121"/>
                  </a:lnTo>
                  <a:lnTo>
                    <a:pt x="77" y="1115"/>
                  </a:lnTo>
                  <a:lnTo>
                    <a:pt x="70" y="1121"/>
                  </a:lnTo>
                  <a:lnTo>
                    <a:pt x="64" y="1127"/>
                  </a:lnTo>
                  <a:lnTo>
                    <a:pt x="51" y="1127"/>
                  </a:lnTo>
                  <a:lnTo>
                    <a:pt x="51" y="1133"/>
                  </a:lnTo>
                  <a:lnTo>
                    <a:pt x="45" y="1133"/>
                  </a:lnTo>
                  <a:lnTo>
                    <a:pt x="39" y="1133"/>
                  </a:lnTo>
                  <a:lnTo>
                    <a:pt x="32" y="1127"/>
                  </a:lnTo>
                  <a:lnTo>
                    <a:pt x="39" y="1127"/>
                  </a:lnTo>
                  <a:lnTo>
                    <a:pt x="45" y="1127"/>
                  </a:lnTo>
                  <a:lnTo>
                    <a:pt x="39" y="1121"/>
                  </a:lnTo>
                  <a:lnTo>
                    <a:pt x="45" y="1121"/>
                  </a:lnTo>
                  <a:lnTo>
                    <a:pt x="45" y="1115"/>
                  </a:lnTo>
                  <a:lnTo>
                    <a:pt x="51" y="1115"/>
                  </a:lnTo>
                  <a:lnTo>
                    <a:pt x="58" y="1115"/>
                  </a:lnTo>
                  <a:lnTo>
                    <a:pt x="58" y="1108"/>
                  </a:lnTo>
                  <a:lnTo>
                    <a:pt x="70" y="1108"/>
                  </a:lnTo>
                  <a:lnTo>
                    <a:pt x="64" y="1102"/>
                  </a:lnTo>
                  <a:lnTo>
                    <a:pt x="58" y="1102"/>
                  </a:lnTo>
                  <a:lnTo>
                    <a:pt x="58" y="1096"/>
                  </a:lnTo>
                  <a:lnTo>
                    <a:pt x="51" y="1102"/>
                  </a:lnTo>
                  <a:lnTo>
                    <a:pt x="51" y="1108"/>
                  </a:lnTo>
                  <a:lnTo>
                    <a:pt x="45" y="1108"/>
                  </a:lnTo>
                  <a:lnTo>
                    <a:pt x="39" y="1102"/>
                  </a:lnTo>
                  <a:lnTo>
                    <a:pt x="39" y="1108"/>
                  </a:lnTo>
                  <a:lnTo>
                    <a:pt x="32" y="1108"/>
                  </a:lnTo>
                  <a:lnTo>
                    <a:pt x="26" y="1108"/>
                  </a:lnTo>
                  <a:lnTo>
                    <a:pt x="32" y="1102"/>
                  </a:lnTo>
                  <a:lnTo>
                    <a:pt x="32" y="1096"/>
                  </a:lnTo>
                  <a:lnTo>
                    <a:pt x="26" y="1096"/>
                  </a:lnTo>
                  <a:lnTo>
                    <a:pt x="26" y="1090"/>
                  </a:lnTo>
                  <a:lnTo>
                    <a:pt x="20" y="1090"/>
                  </a:lnTo>
                  <a:lnTo>
                    <a:pt x="20" y="1096"/>
                  </a:lnTo>
                  <a:lnTo>
                    <a:pt x="13" y="1102"/>
                  </a:lnTo>
                  <a:lnTo>
                    <a:pt x="7" y="1102"/>
                  </a:lnTo>
                  <a:lnTo>
                    <a:pt x="7" y="1096"/>
                  </a:lnTo>
                  <a:lnTo>
                    <a:pt x="7" y="1090"/>
                  </a:lnTo>
                  <a:lnTo>
                    <a:pt x="13" y="1090"/>
                  </a:lnTo>
                  <a:lnTo>
                    <a:pt x="13" y="1083"/>
                  </a:lnTo>
                  <a:lnTo>
                    <a:pt x="7" y="1077"/>
                  </a:lnTo>
                  <a:lnTo>
                    <a:pt x="0" y="1077"/>
                  </a:lnTo>
                  <a:lnTo>
                    <a:pt x="0" y="1071"/>
                  </a:lnTo>
                  <a:lnTo>
                    <a:pt x="7" y="1071"/>
                  </a:lnTo>
                  <a:lnTo>
                    <a:pt x="13" y="1071"/>
                  </a:lnTo>
                  <a:lnTo>
                    <a:pt x="13" y="1065"/>
                  </a:lnTo>
                  <a:lnTo>
                    <a:pt x="7" y="1059"/>
                  </a:lnTo>
                  <a:lnTo>
                    <a:pt x="7" y="1052"/>
                  </a:lnTo>
                  <a:lnTo>
                    <a:pt x="13" y="1052"/>
                  </a:lnTo>
                  <a:lnTo>
                    <a:pt x="20" y="1059"/>
                  </a:lnTo>
                  <a:lnTo>
                    <a:pt x="20" y="1065"/>
                  </a:lnTo>
                  <a:lnTo>
                    <a:pt x="26" y="1071"/>
                  </a:lnTo>
                  <a:lnTo>
                    <a:pt x="32" y="1077"/>
                  </a:lnTo>
                  <a:lnTo>
                    <a:pt x="39" y="1077"/>
                  </a:lnTo>
                  <a:lnTo>
                    <a:pt x="45" y="1083"/>
                  </a:lnTo>
                  <a:lnTo>
                    <a:pt x="51" y="1077"/>
                  </a:lnTo>
                  <a:lnTo>
                    <a:pt x="51" y="1071"/>
                  </a:lnTo>
                  <a:lnTo>
                    <a:pt x="58" y="1077"/>
                  </a:lnTo>
                  <a:lnTo>
                    <a:pt x="58" y="1083"/>
                  </a:lnTo>
                  <a:lnTo>
                    <a:pt x="64" y="1083"/>
                  </a:lnTo>
                  <a:lnTo>
                    <a:pt x="64" y="1077"/>
                  </a:lnTo>
                  <a:lnTo>
                    <a:pt x="64" y="1083"/>
                  </a:lnTo>
                  <a:lnTo>
                    <a:pt x="70" y="1090"/>
                  </a:lnTo>
                  <a:lnTo>
                    <a:pt x="77" y="1090"/>
                  </a:lnTo>
                  <a:lnTo>
                    <a:pt x="83" y="1090"/>
                  </a:lnTo>
                  <a:lnTo>
                    <a:pt x="89" y="1090"/>
                  </a:lnTo>
                  <a:lnTo>
                    <a:pt x="83" y="1096"/>
                  </a:lnTo>
                  <a:lnTo>
                    <a:pt x="89" y="1102"/>
                  </a:lnTo>
                  <a:lnTo>
                    <a:pt x="96" y="1108"/>
                  </a:lnTo>
                  <a:lnTo>
                    <a:pt x="102" y="1115"/>
                  </a:lnTo>
                  <a:lnTo>
                    <a:pt x="109" y="1108"/>
                  </a:lnTo>
                  <a:lnTo>
                    <a:pt x="115" y="1115"/>
                  </a:lnTo>
                  <a:lnTo>
                    <a:pt x="115" y="1121"/>
                  </a:lnTo>
                  <a:lnTo>
                    <a:pt x="109" y="1121"/>
                  </a:lnTo>
                  <a:lnTo>
                    <a:pt x="115" y="1127"/>
                  </a:lnTo>
                  <a:lnTo>
                    <a:pt x="115" y="1139"/>
                  </a:lnTo>
                  <a:lnTo>
                    <a:pt x="121" y="1139"/>
                  </a:lnTo>
                  <a:lnTo>
                    <a:pt x="121" y="1146"/>
                  </a:lnTo>
                  <a:lnTo>
                    <a:pt x="128" y="1146"/>
                  </a:lnTo>
                  <a:lnTo>
                    <a:pt x="128" y="1139"/>
                  </a:lnTo>
                  <a:lnTo>
                    <a:pt x="128" y="1133"/>
                  </a:lnTo>
                  <a:lnTo>
                    <a:pt x="121" y="1133"/>
                  </a:lnTo>
                  <a:lnTo>
                    <a:pt x="121" y="1127"/>
                  </a:lnTo>
                  <a:lnTo>
                    <a:pt x="121" y="1121"/>
                  </a:lnTo>
                  <a:lnTo>
                    <a:pt x="128" y="1121"/>
                  </a:lnTo>
                  <a:lnTo>
                    <a:pt x="134" y="1121"/>
                  </a:lnTo>
                  <a:lnTo>
                    <a:pt x="134" y="1127"/>
                  </a:lnTo>
                  <a:lnTo>
                    <a:pt x="134" y="1133"/>
                  </a:lnTo>
                  <a:lnTo>
                    <a:pt x="140" y="1139"/>
                  </a:lnTo>
                  <a:lnTo>
                    <a:pt x="140" y="1146"/>
                  </a:lnTo>
                  <a:lnTo>
                    <a:pt x="147" y="1146"/>
                  </a:lnTo>
                  <a:lnTo>
                    <a:pt x="147" y="1139"/>
                  </a:lnTo>
                  <a:lnTo>
                    <a:pt x="140" y="1133"/>
                  </a:lnTo>
                  <a:lnTo>
                    <a:pt x="140" y="1127"/>
                  </a:lnTo>
                  <a:lnTo>
                    <a:pt x="134" y="1121"/>
                  </a:lnTo>
                  <a:lnTo>
                    <a:pt x="134" y="1115"/>
                  </a:lnTo>
                  <a:lnTo>
                    <a:pt x="128" y="1115"/>
                  </a:lnTo>
                  <a:lnTo>
                    <a:pt x="121" y="1115"/>
                  </a:lnTo>
                  <a:lnTo>
                    <a:pt x="121" y="1108"/>
                  </a:lnTo>
                  <a:lnTo>
                    <a:pt x="128" y="1108"/>
                  </a:lnTo>
                  <a:lnTo>
                    <a:pt x="134" y="1102"/>
                  </a:lnTo>
                  <a:lnTo>
                    <a:pt x="140" y="1102"/>
                  </a:lnTo>
                  <a:lnTo>
                    <a:pt x="147" y="1102"/>
                  </a:lnTo>
                  <a:lnTo>
                    <a:pt x="140" y="1102"/>
                  </a:lnTo>
                  <a:lnTo>
                    <a:pt x="140" y="1096"/>
                  </a:lnTo>
                  <a:lnTo>
                    <a:pt x="134" y="1090"/>
                  </a:lnTo>
                  <a:lnTo>
                    <a:pt x="128" y="1096"/>
                  </a:lnTo>
                  <a:lnTo>
                    <a:pt x="128" y="1102"/>
                  </a:lnTo>
                  <a:lnTo>
                    <a:pt x="121" y="1102"/>
                  </a:lnTo>
                  <a:lnTo>
                    <a:pt x="115" y="1102"/>
                  </a:lnTo>
                  <a:lnTo>
                    <a:pt x="109" y="1102"/>
                  </a:lnTo>
                  <a:lnTo>
                    <a:pt x="102" y="1102"/>
                  </a:lnTo>
                  <a:lnTo>
                    <a:pt x="102" y="1096"/>
                  </a:lnTo>
                  <a:lnTo>
                    <a:pt x="96" y="1096"/>
                  </a:lnTo>
                  <a:lnTo>
                    <a:pt x="96" y="1090"/>
                  </a:lnTo>
                  <a:lnTo>
                    <a:pt x="96" y="1083"/>
                  </a:lnTo>
                  <a:lnTo>
                    <a:pt x="89" y="1077"/>
                  </a:lnTo>
                  <a:lnTo>
                    <a:pt x="89" y="1071"/>
                  </a:lnTo>
                  <a:lnTo>
                    <a:pt x="96" y="1065"/>
                  </a:lnTo>
                  <a:lnTo>
                    <a:pt x="102" y="1065"/>
                  </a:lnTo>
                  <a:lnTo>
                    <a:pt x="109" y="1059"/>
                  </a:lnTo>
                  <a:lnTo>
                    <a:pt x="115" y="1059"/>
                  </a:lnTo>
                  <a:lnTo>
                    <a:pt x="115" y="1052"/>
                  </a:lnTo>
                  <a:lnTo>
                    <a:pt x="109" y="1046"/>
                  </a:lnTo>
                  <a:lnTo>
                    <a:pt x="102" y="1052"/>
                  </a:lnTo>
                  <a:lnTo>
                    <a:pt x="96" y="1059"/>
                  </a:lnTo>
                  <a:lnTo>
                    <a:pt x="89" y="1065"/>
                  </a:lnTo>
                  <a:lnTo>
                    <a:pt x="83" y="1065"/>
                  </a:lnTo>
                  <a:lnTo>
                    <a:pt x="83" y="1077"/>
                  </a:lnTo>
                  <a:lnTo>
                    <a:pt x="77" y="1077"/>
                  </a:lnTo>
                  <a:lnTo>
                    <a:pt x="70" y="1071"/>
                  </a:lnTo>
                  <a:lnTo>
                    <a:pt x="70" y="1065"/>
                  </a:lnTo>
                  <a:lnTo>
                    <a:pt x="64" y="1059"/>
                  </a:lnTo>
                  <a:lnTo>
                    <a:pt x="58" y="1059"/>
                  </a:lnTo>
                  <a:lnTo>
                    <a:pt x="58" y="1065"/>
                  </a:lnTo>
                  <a:lnTo>
                    <a:pt x="51" y="1059"/>
                  </a:lnTo>
                  <a:lnTo>
                    <a:pt x="45" y="1059"/>
                  </a:lnTo>
                  <a:lnTo>
                    <a:pt x="51" y="1052"/>
                  </a:lnTo>
                  <a:lnTo>
                    <a:pt x="51" y="1046"/>
                  </a:lnTo>
                  <a:lnTo>
                    <a:pt x="58" y="1040"/>
                  </a:lnTo>
                  <a:lnTo>
                    <a:pt x="58" y="1034"/>
                  </a:lnTo>
                  <a:lnTo>
                    <a:pt x="58" y="1027"/>
                  </a:lnTo>
                  <a:lnTo>
                    <a:pt x="64" y="1027"/>
                  </a:lnTo>
                  <a:lnTo>
                    <a:pt x="70" y="1027"/>
                  </a:lnTo>
                  <a:lnTo>
                    <a:pt x="70" y="1034"/>
                  </a:lnTo>
                  <a:lnTo>
                    <a:pt x="77" y="1027"/>
                  </a:lnTo>
                  <a:lnTo>
                    <a:pt x="83" y="1034"/>
                  </a:lnTo>
                  <a:lnTo>
                    <a:pt x="89" y="1034"/>
                  </a:lnTo>
                  <a:lnTo>
                    <a:pt x="96" y="1027"/>
                  </a:lnTo>
                  <a:lnTo>
                    <a:pt x="102" y="1027"/>
                  </a:lnTo>
                  <a:lnTo>
                    <a:pt x="109" y="1027"/>
                  </a:lnTo>
                  <a:lnTo>
                    <a:pt x="115" y="1034"/>
                  </a:lnTo>
                  <a:lnTo>
                    <a:pt x="121" y="1034"/>
                  </a:lnTo>
                  <a:lnTo>
                    <a:pt x="128" y="1034"/>
                  </a:lnTo>
                  <a:lnTo>
                    <a:pt x="134" y="1034"/>
                  </a:lnTo>
                  <a:lnTo>
                    <a:pt x="140" y="1040"/>
                  </a:lnTo>
                  <a:lnTo>
                    <a:pt x="134" y="1040"/>
                  </a:lnTo>
                  <a:lnTo>
                    <a:pt x="134" y="1046"/>
                  </a:lnTo>
                  <a:lnTo>
                    <a:pt x="140" y="1046"/>
                  </a:lnTo>
                  <a:lnTo>
                    <a:pt x="147" y="1052"/>
                  </a:lnTo>
                  <a:lnTo>
                    <a:pt x="153" y="1059"/>
                  </a:lnTo>
                  <a:lnTo>
                    <a:pt x="153" y="1071"/>
                  </a:lnTo>
                  <a:lnTo>
                    <a:pt x="159" y="1071"/>
                  </a:lnTo>
                  <a:lnTo>
                    <a:pt x="159" y="1065"/>
                  </a:lnTo>
                  <a:lnTo>
                    <a:pt x="159" y="1059"/>
                  </a:lnTo>
                  <a:lnTo>
                    <a:pt x="153" y="1052"/>
                  </a:lnTo>
                  <a:lnTo>
                    <a:pt x="153" y="1046"/>
                  </a:lnTo>
                  <a:lnTo>
                    <a:pt x="147" y="1046"/>
                  </a:lnTo>
                  <a:lnTo>
                    <a:pt x="147" y="1040"/>
                  </a:lnTo>
                  <a:lnTo>
                    <a:pt x="147" y="1034"/>
                  </a:lnTo>
                  <a:lnTo>
                    <a:pt x="153" y="1034"/>
                  </a:lnTo>
                  <a:lnTo>
                    <a:pt x="159" y="1034"/>
                  </a:lnTo>
                  <a:lnTo>
                    <a:pt x="166" y="1034"/>
                  </a:lnTo>
                  <a:lnTo>
                    <a:pt x="166" y="1027"/>
                  </a:lnTo>
                  <a:lnTo>
                    <a:pt x="172" y="1027"/>
                  </a:lnTo>
                  <a:lnTo>
                    <a:pt x="178" y="1027"/>
                  </a:lnTo>
                  <a:lnTo>
                    <a:pt x="185" y="1027"/>
                  </a:lnTo>
                  <a:lnTo>
                    <a:pt x="191" y="1027"/>
                  </a:lnTo>
                  <a:lnTo>
                    <a:pt x="191" y="1034"/>
                  </a:lnTo>
                  <a:lnTo>
                    <a:pt x="198" y="1034"/>
                  </a:lnTo>
                  <a:lnTo>
                    <a:pt x="198" y="1027"/>
                  </a:lnTo>
                  <a:lnTo>
                    <a:pt x="198" y="1021"/>
                  </a:lnTo>
                  <a:lnTo>
                    <a:pt x="191" y="1021"/>
                  </a:lnTo>
                  <a:lnTo>
                    <a:pt x="191" y="1015"/>
                  </a:lnTo>
                  <a:lnTo>
                    <a:pt x="185" y="1015"/>
                  </a:lnTo>
                  <a:lnTo>
                    <a:pt x="185" y="1009"/>
                  </a:lnTo>
                  <a:lnTo>
                    <a:pt x="178" y="1015"/>
                  </a:lnTo>
                  <a:lnTo>
                    <a:pt x="172" y="1021"/>
                  </a:lnTo>
                  <a:lnTo>
                    <a:pt x="166" y="1021"/>
                  </a:lnTo>
                  <a:lnTo>
                    <a:pt x="166" y="1015"/>
                  </a:lnTo>
                  <a:lnTo>
                    <a:pt x="159" y="1002"/>
                  </a:lnTo>
                  <a:lnTo>
                    <a:pt x="159" y="1009"/>
                  </a:lnTo>
                  <a:lnTo>
                    <a:pt x="159" y="1021"/>
                  </a:lnTo>
                  <a:lnTo>
                    <a:pt x="153" y="1021"/>
                  </a:lnTo>
                  <a:lnTo>
                    <a:pt x="147" y="1021"/>
                  </a:lnTo>
                  <a:lnTo>
                    <a:pt x="140" y="1021"/>
                  </a:lnTo>
                  <a:lnTo>
                    <a:pt x="134" y="1021"/>
                  </a:lnTo>
                  <a:lnTo>
                    <a:pt x="134" y="1015"/>
                  </a:lnTo>
                  <a:lnTo>
                    <a:pt x="128" y="1021"/>
                  </a:lnTo>
                  <a:lnTo>
                    <a:pt x="121" y="1021"/>
                  </a:lnTo>
                  <a:lnTo>
                    <a:pt x="121" y="1015"/>
                  </a:lnTo>
                  <a:lnTo>
                    <a:pt x="121" y="1009"/>
                  </a:lnTo>
                  <a:lnTo>
                    <a:pt x="115" y="1009"/>
                  </a:lnTo>
                  <a:lnTo>
                    <a:pt x="115" y="1002"/>
                  </a:lnTo>
                  <a:lnTo>
                    <a:pt x="109" y="1009"/>
                  </a:lnTo>
                  <a:lnTo>
                    <a:pt x="102" y="1015"/>
                  </a:lnTo>
                  <a:lnTo>
                    <a:pt x="96" y="1015"/>
                  </a:lnTo>
                  <a:lnTo>
                    <a:pt x="83" y="1015"/>
                  </a:lnTo>
                  <a:lnTo>
                    <a:pt x="77" y="1015"/>
                  </a:lnTo>
                  <a:lnTo>
                    <a:pt x="83" y="1009"/>
                  </a:lnTo>
                  <a:lnTo>
                    <a:pt x="89" y="1009"/>
                  </a:lnTo>
                  <a:lnTo>
                    <a:pt x="89" y="1002"/>
                  </a:lnTo>
                  <a:lnTo>
                    <a:pt x="83" y="1002"/>
                  </a:lnTo>
                  <a:lnTo>
                    <a:pt x="77" y="1002"/>
                  </a:lnTo>
                  <a:lnTo>
                    <a:pt x="77" y="1009"/>
                  </a:lnTo>
                  <a:lnTo>
                    <a:pt x="70" y="1015"/>
                  </a:lnTo>
                  <a:lnTo>
                    <a:pt x="64" y="1015"/>
                  </a:lnTo>
                  <a:lnTo>
                    <a:pt x="58" y="1015"/>
                  </a:lnTo>
                  <a:lnTo>
                    <a:pt x="58" y="1009"/>
                  </a:lnTo>
                  <a:lnTo>
                    <a:pt x="51" y="1009"/>
                  </a:lnTo>
                  <a:lnTo>
                    <a:pt x="45" y="1015"/>
                  </a:lnTo>
                  <a:lnTo>
                    <a:pt x="39" y="1021"/>
                  </a:lnTo>
                  <a:lnTo>
                    <a:pt x="32" y="1015"/>
                  </a:lnTo>
                  <a:lnTo>
                    <a:pt x="32" y="1009"/>
                  </a:lnTo>
                  <a:lnTo>
                    <a:pt x="39" y="1009"/>
                  </a:lnTo>
                  <a:lnTo>
                    <a:pt x="39" y="1002"/>
                  </a:lnTo>
                  <a:lnTo>
                    <a:pt x="32" y="1002"/>
                  </a:lnTo>
                  <a:lnTo>
                    <a:pt x="32" y="1009"/>
                  </a:lnTo>
                  <a:lnTo>
                    <a:pt x="26" y="1009"/>
                  </a:lnTo>
                  <a:lnTo>
                    <a:pt x="20" y="1002"/>
                  </a:lnTo>
                  <a:lnTo>
                    <a:pt x="26" y="1002"/>
                  </a:lnTo>
                  <a:lnTo>
                    <a:pt x="26" y="996"/>
                  </a:lnTo>
                  <a:lnTo>
                    <a:pt x="32" y="996"/>
                  </a:lnTo>
                  <a:lnTo>
                    <a:pt x="39" y="996"/>
                  </a:lnTo>
                  <a:lnTo>
                    <a:pt x="39" y="990"/>
                  </a:lnTo>
                  <a:lnTo>
                    <a:pt x="39" y="984"/>
                  </a:lnTo>
                  <a:lnTo>
                    <a:pt x="39" y="990"/>
                  </a:lnTo>
                  <a:lnTo>
                    <a:pt x="32" y="990"/>
                  </a:lnTo>
                  <a:lnTo>
                    <a:pt x="32" y="984"/>
                  </a:lnTo>
                  <a:lnTo>
                    <a:pt x="32" y="978"/>
                  </a:lnTo>
                  <a:lnTo>
                    <a:pt x="45" y="984"/>
                  </a:lnTo>
                  <a:lnTo>
                    <a:pt x="51" y="984"/>
                  </a:lnTo>
                  <a:lnTo>
                    <a:pt x="64" y="978"/>
                  </a:lnTo>
                  <a:lnTo>
                    <a:pt x="77" y="978"/>
                  </a:lnTo>
                  <a:lnTo>
                    <a:pt x="83" y="978"/>
                  </a:lnTo>
                  <a:lnTo>
                    <a:pt x="96" y="971"/>
                  </a:lnTo>
                  <a:lnTo>
                    <a:pt x="89" y="971"/>
                  </a:lnTo>
                  <a:lnTo>
                    <a:pt x="77" y="971"/>
                  </a:lnTo>
                  <a:lnTo>
                    <a:pt x="70" y="971"/>
                  </a:lnTo>
                  <a:lnTo>
                    <a:pt x="64" y="971"/>
                  </a:lnTo>
                  <a:lnTo>
                    <a:pt x="70" y="965"/>
                  </a:lnTo>
                  <a:lnTo>
                    <a:pt x="77" y="959"/>
                  </a:lnTo>
                  <a:lnTo>
                    <a:pt x="83" y="953"/>
                  </a:lnTo>
                  <a:lnTo>
                    <a:pt x="83" y="946"/>
                  </a:lnTo>
                  <a:lnTo>
                    <a:pt x="77" y="953"/>
                  </a:lnTo>
                  <a:lnTo>
                    <a:pt x="77" y="959"/>
                  </a:lnTo>
                  <a:lnTo>
                    <a:pt x="70" y="959"/>
                  </a:lnTo>
                  <a:lnTo>
                    <a:pt x="58" y="959"/>
                  </a:lnTo>
                  <a:lnTo>
                    <a:pt x="51" y="959"/>
                  </a:lnTo>
                  <a:lnTo>
                    <a:pt x="45" y="953"/>
                  </a:lnTo>
                  <a:lnTo>
                    <a:pt x="39" y="959"/>
                  </a:lnTo>
                  <a:lnTo>
                    <a:pt x="39" y="953"/>
                  </a:lnTo>
                  <a:lnTo>
                    <a:pt x="39" y="946"/>
                  </a:lnTo>
                  <a:lnTo>
                    <a:pt x="45" y="940"/>
                  </a:lnTo>
                  <a:lnTo>
                    <a:pt x="51" y="934"/>
                  </a:lnTo>
                  <a:lnTo>
                    <a:pt x="51" y="928"/>
                  </a:lnTo>
                  <a:lnTo>
                    <a:pt x="45" y="928"/>
                  </a:lnTo>
                  <a:lnTo>
                    <a:pt x="39" y="922"/>
                  </a:lnTo>
                  <a:lnTo>
                    <a:pt x="51" y="922"/>
                  </a:lnTo>
                  <a:lnTo>
                    <a:pt x="58" y="928"/>
                  </a:lnTo>
                  <a:lnTo>
                    <a:pt x="58" y="922"/>
                  </a:lnTo>
                  <a:lnTo>
                    <a:pt x="51" y="915"/>
                  </a:lnTo>
                  <a:lnTo>
                    <a:pt x="58" y="915"/>
                  </a:lnTo>
                  <a:lnTo>
                    <a:pt x="64" y="915"/>
                  </a:lnTo>
                  <a:lnTo>
                    <a:pt x="70" y="915"/>
                  </a:lnTo>
                  <a:lnTo>
                    <a:pt x="77" y="928"/>
                  </a:lnTo>
                  <a:lnTo>
                    <a:pt x="89" y="922"/>
                  </a:lnTo>
                  <a:lnTo>
                    <a:pt x="89" y="915"/>
                  </a:lnTo>
                  <a:lnTo>
                    <a:pt x="83" y="915"/>
                  </a:lnTo>
                  <a:lnTo>
                    <a:pt x="77" y="915"/>
                  </a:lnTo>
                  <a:lnTo>
                    <a:pt x="77" y="909"/>
                  </a:lnTo>
                  <a:lnTo>
                    <a:pt x="70" y="903"/>
                  </a:lnTo>
                  <a:lnTo>
                    <a:pt x="64" y="903"/>
                  </a:lnTo>
                  <a:lnTo>
                    <a:pt x="58" y="903"/>
                  </a:lnTo>
                  <a:lnTo>
                    <a:pt x="51" y="903"/>
                  </a:lnTo>
                  <a:lnTo>
                    <a:pt x="45" y="903"/>
                  </a:lnTo>
                  <a:lnTo>
                    <a:pt x="39" y="903"/>
                  </a:lnTo>
                  <a:lnTo>
                    <a:pt x="45" y="897"/>
                  </a:lnTo>
                  <a:lnTo>
                    <a:pt x="45" y="890"/>
                  </a:lnTo>
                  <a:lnTo>
                    <a:pt x="51" y="884"/>
                  </a:lnTo>
                  <a:lnTo>
                    <a:pt x="45" y="884"/>
                  </a:lnTo>
                  <a:lnTo>
                    <a:pt x="45" y="878"/>
                  </a:lnTo>
                  <a:lnTo>
                    <a:pt x="51" y="878"/>
                  </a:lnTo>
                  <a:lnTo>
                    <a:pt x="51" y="872"/>
                  </a:lnTo>
                  <a:lnTo>
                    <a:pt x="58" y="872"/>
                  </a:lnTo>
                  <a:lnTo>
                    <a:pt x="51" y="872"/>
                  </a:lnTo>
                  <a:lnTo>
                    <a:pt x="51" y="866"/>
                  </a:lnTo>
                  <a:lnTo>
                    <a:pt x="58" y="859"/>
                  </a:lnTo>
                  <a:lnTo>
                    <a:pt x="64" y="859"/>
                  </a:lnTo>
                  <a:lnTo>
                    <a:pt x="64" y="866"/>
                  </a:lnTo>
                  <a:lnTo>
                    <a:pt x="70" y="872"/>
                  </a:lnTo>
                  <a:lnTo>
                    <a:pt x="77" y="872"/>
                  </a:lnTo>
                  <a:lnTo>
                    <a:pt x="70" y="866"/>
                  </a:lnTo>
                  <a:lnTo>
                    <a:pt x="70" y="859"/>
                  </a:lnTo>
                  <a:lnTo>
                    <a:pt x="77" y="853"/>
                  </a:lnTo>
                  <a:lnTo>
                    <a:pt x="70" y="853"/>
                  </a:lnTo>
                  <a:lnTo>
                    <a:pt x="64" y="847"/>
                  </a:lnTo>
                  <a:lnTo>
                    <a:pt x="58" y="847"/>
                  </a:lnTo>
                  <a:lnTo>
                    <a:pt x="64" y="841"/>
                  </a:lnTo>
                  <a:lnTo>
                    <a:pt x="64" y="834"/>
                  </a:lnTo>
                  <a:lnTo>
                    <a:pt x="70" y="834"/>
                  </a:lnTo>
                  <a:lnTo>
                    <a:pt x="70" y="841"/>
                  </a:lnTo>
                  <a:lnTo>
                    <a:pt x="70" y="847"/>
                  </a:lnTo>
                  <a:lnTo>
                    <a:pt x="77" y="847"/>
                  </a:lnTo>
                  <a:lnTo>
                    <a:pt x="77" y="841"/>
                  </a:lnTo>
                  <a:lnTo>
                    <a:pt x="77" y="834"/>
                  </a:lnTo>
                  <a:lnTo>
                    <a:pt x="70" y="834"/>
                  </a:lnTo>
                  <a:lnTo>
                    <a:pt x="70" y="822"/>
                  </a:lnTo>
                  <a:lnTo>
                    <a:pt x="77" y="828"/>
                  </a:lnTo>
                  <a:lnTo>
                    <a:pt x="83" y="828"/>
                  </a:lnTo>
                  <a:lnTo>
                    <a:pt x="83" y="834"/>
                  </a:lnTo>
                  <a:lnTo>
                    <a:pt x="89" y="841"/>
                  </a:lnTo>
                  <a:lnTo>
                    <a:pt x="89" y="853"/>
                  </a:lnTo>
                  <a:lnTo>
                    <a:pt x="102" y="853"/>
                  </a:lnTo>
                  <a:lnTo>
                    <a:pt x="102" y="859"/>
                  </a:lnTo>
                  <a:lnTo>
                    <a:pt x="96" y="866"/>
                  </a:lnTo>
                  <a:lnTo>
                    <a:pt x="102" y="866"/>
                  </a:lnTo>
                  <a:lnTo>
                    <a:pt x="109" y="866"/>
                  </a:lnTo>
                  <a:lnTo>
                    <a:pt x="102" y="866"/>
                  </a:lnTo>
                  <a:lnTo>
                    <a:pt x="109" y="853"/>
                  </a:lnTo>
                  <a:lnTo>
                    <a:pt x="109" y="847"/>
                  </a:lnTo>
                  <a:lnTo>
                    <a:pt x="115" y="853"/>
                  </a:lnTo>
                  <a:lnTo>
                    <a:pt x="115" y="847"/>
                  </a:lnTo>
                  <a:lnTo>
                    <a:pt x="121" y="853"/>
                  </a:lnTo>
                  <a:lnTo>
                    <a:pt x="121" y="859"/>
                  </a:lnTo>
                  <a:lnTo>
                    <a:pt x="121" y="866"/>
                  </a:lnTo>
                  <a:lnTo>
                    <a:pt x="128" y="866"/>
                  </a:lnTo>
                  <a:lnTo>
                    <a:pt x="134" y="872"/>
                  </a:lnTo>
                  <a:lnTo>
                    <a:pt x="140" y="878"/>
                  </a:lnTo>
                  <a:lnTo>
                    <a:pt x="140" y="872"/>
                  </a:lnTo>
                  <a:lnTo>
                    <a:pt x="140" y="866"/>
                  </a:lnTo>
                  <a:lnTo>
                    <a:pt x="134" y="866"/>
                  </a:lnTo>
                  <a:lnTo>
                    <a:pt x="134" y="859"/>
                  </a:lnTo>
                  <a:lnTo>
                    <a:pt x="128" y="853"/>
                  </a:lnTo>
                  <a:lnTo>
                    <a:pt x="134" y="853"/>
                  </a:lnTo>
                  <a:lnTo>
                    <a:pt x="128" y="847"/>
                  </a:lnTo>
                  <a:lnTo>
                    <a:pt x="128" y="841"/>
                  </a:lnTo>
                  <a:lnTo>
                    <a:pt x="121" y="841"/>
                  </a:lnTo>
                  <a:lnTo>
                    <a:pt x="115" y="841"/>
                  </a:lnTo>
                  <a:lnTo>
                    <a:pt x="109" y="841"/>
                  </a:lnTo>
                  <a:lnTo>
                    <a:pt x="102" y="841"/>
                  </a:lnTo>
                  <a:lnTo>
                    <a:pt x="96" y="834"/>
                  </a:lnTo>
                  <a:lnTo>
                    <a:pt x="102" y="834"/>
                  </a:lnTo>
                  <a:lnTo>
                    <a:pt x="109" y="834"/>
                  </a:lnTo>
                  <a:lnTo>
                    <a:pt x="109" y="828"/>
                  </a:lnTo>
                  <a:lnTo>
                    <a:pt x="109" y="822"/>
                  </a:lnTo>
                  <a:lnTo>
                    <a:pt x="109" y="816"/>
                  </a:lnTo>
                  <a:lnTo>
                    <a:pt x="102" y="816"/>
                  </a:lnTo>
                  <a:lnTo>
                    <a:pt x="96" y="816"/>
                  </a:lnTo>
                  <a:lnTo>
                    <a:pt x="89" y="810"/>
                  </a:lnTo>
                  <a:lnTo>
                    <a:pt x="83" y="810"/>
                  </a:lnTo>
                  <a:lnTo>
                    <a:pt x="83" y="803"/>
                  </a:lnTo>
                  <a:lnTo>
                    <a:pt x="83" y="797"/>
                  </a:lnTo>
                  <a:lnTo>
                    <a:pt x="89" y="797"/>
                  </a:lnTo>
                  <a:lnTo>
                    <a:pt x="96" y="791"/>
                  </a:lnTo>
                  <a:lnTo>
                    <a:pt x="102" y="791"/>
                  </a:lnTo>
                  <a:lnTo>
                    <a:pt x="109" y="791"/>
                  </a:lnTo>
                  <a:lnTo>
                    <a:pt x="109" y="785"/>
                  </a:lnTo>
                  <a:lnTo>
                    <a:pt x="115" y="785"/>
                  </a:lnTo>
                  <a:lnTo>
                    <a:pt x="115" y="778"/>
                  </a:lnTo>
                  <a:lnTo>
                    <a:pt x="121" y="778"/>
                  </a:lnTo>
                  <a:lnTo>
                    <a:pt x="128" y="778"/>
                  </a:lnTo>
                  <a:lnTo>
                    <a:pt x="134" y="778"/>
                  </a:lnTo>
                  <a:lnTo>
                    <a:pt x="128" y="778"/>
                  </a:lnTo>
                  <a:lnTo>
                    <a:pt x="128" y="772"/>
                  </a:lnTo>
                  <a:lnTo>
                    <a:pt x="134" y="772"/>
                  </a:lnTo>
                  <a:lnTo>
                    <a:pt x="134" y="766"/>
                  </a:lnTo>
                  <a:lnTo>
                    <a:pt x="128" y="766"/>
                  </a:lnTo>
                  <a:lnTo>
                    <a:pt x="128" y="760"/>
                  </a:lnTo>
                  <a:lnTo>
                    <a:pt x="134" y="760"/>
                  </a:lnTo>
                  <a:lnTo>
                    <a:pt x="147" y="760"/>
                  </a:lnTo>
                  <a:lnTo>
                    <a:pt x="147" y="778"/>
                  </a:lnTo>
                  <a:lnTo>
                    <a:pt x="147" y="785"/>
                  </a:lnTo>
                  <a:lnTo>
                    <a:pt x="153" y="785"/>
                  </a:lnTo>
                  <a:lnTo>
                    <a:pt x="153" y="791"/>
                  </a:lnTo>
                  <a:lnTo>
                    <a:pt x="153" y="797"/>
                  </a:lnTo>
                  <a:lnTo>
                    <a:pt x="140" y="803"/>
                  </a:lnTo>
                  <a:lnTo>
                    <a:pt x="147" y="803"/>
                  </a:lnTo>
                  <a:lnTo>
                    <a:pt x="147" y="810"/>
                  </a:lnTo>
                  <a:lnTo>
                    <a:pt x="153" y="803"/>
                  </a:lnTo>
                  <a:lnTo>
                    <a:pt x="159" y="797"/>
                  </a:lnTo>
                  <a:lnTo>
                    <a:pt x="166" y="797"/>
                  </a:lnTo>
                  <a:lnTo>
                    <a:pt x="166" y="791"/>
                  </a:lnTo>
                  <a:lnTo>
                    <a:pt x="172" y="778"/>
                  </a:lnTo>
                  <a:lnTo>
                    <a:pt x="178" y="778"/>
                  </a:lnTo>
                  <a:lnTo>
                    <a:pt x="172" y="785"/>
                  </a:lnTo>
                  <a:lnTo>
                    <a:pt x="178" y="791"/>
                  </a:lnTo>
                  <a:lnTo>
                    <a:pt x="172" y="791"/>
                  </a:lnTo>
                  <a:lnTo>
                    <a:pt x="172" y="797"/>
                  </a:lnTo>
                  <a:lnTo>
                    <a:pt x="172" y="803"/>
                  </a:lnTo>
                  <a:lnTo>
                    <a:pt x="178" y="803"/>
                  </a:lnTo>
                  <a:lnTo>
                    <a:pt x="178" y="822"/>
                  </a:lnTo>
                  <a:lnTo>
                    <a:pt x="185" y="816"/>
                  </a:lnTo>
                  <a:lnTo>
                    <a:pt x="185" y="810"/>
                  </a:lnTo>
                  <a:lnTo>
                    <a:pt x="185" y="797"/>
                  </a:lnTo>
                  <a:lnTo>
                    <a:pt x="191" y="797"/>
                  </a:lnTo>
                  <a:lnTo>
                    <a:pt x="198" y="797"/>
                  </a:lnTo>
                  <a:lnTo>
                    <a:pt x="204" y="803"/>
                  </a:lnTo>
                  <a:lnTo>
                    <a:pt x="210" y="810"/>
                  </a:lnTo>
                  <a:lnTo>
                    <a:pt x="217" y="810"/>
                  </a:lnTo>
                  <a:lnTo>
                    <a:pt x="217" y="816"/>
                  </a:lnTo>
                  <a:lnTo>
                    <a:pt x="223" y="816"/>
                  </a:lnTo>
                  <a:lnTo>
                    <a:pt x="229" y="816"/>
                  </a:lnTo>
                  <a:lnTo>
                    <a:pt x="236" y="816"/>
                  </a:lnTo>
                  <a:lnTo>
                    <a:pt x="242" y="816"/>
                  </a:lnTo>
                  <a:lnTo>
                    <a:pt x="242" y="810"/>
                  </a:lnTo>
                  <a:lnTo>
                    <a:pt x="236" y="810"/>
                  </a:lnTo>
                  <a:lnTo>
                    <a:pt x="229" y="810"/>
                  </a:lnTo>
                  <a:lnTo>
                    <a:pt x="223" y="810"/>
                  </a:lnTo>
                  <a:lnTo>
                    <a:pt x="217" y="803"/>
                  </a:lnTo>
                  <a:lnTo>
                    <a:pt x="217" y="797"/>
                  </a:lnTo>
                  <a:lnTo>
                    <a:pt x="210" y="797"/>
                  </a:lnTo>
                  <a:lnTo>
                    <a:pt x="204" y="797"/>
                  </a:lnTo>
                  <a:lnTo>
                    <a:pt x="198" y="791"/>
                  </a:lnTo>
                  <a:lnTo>
                    <a:pt x="191" y="791"/>
                  </a:lnTo>
                  <a:lnTo>
                    <a:pt x="185" y="791"/>
                  </a:lnTo>
                  <a:lnTo>
                    <a:pt x="191" y="785"/>
                  </a:lnTo>
                  <a:lnTo>
                    <a:pt x="191" y="778"/>
                  </a:lnTo>
                  <a:lnTo>
                    <a:pt x="185" y="778"/>
                  </a:lnTo>
                  <a:lnTo>
                    <a:pt x="185" y="785"/>
                  </a:lnTo>
                  <a:lnTo>
                    <a:pt x="185" y="772"/>
                  </a:lnTo>
                  <a:lnTo>
                    <a:pt x="178" y="766"/>
                  </a:lnTo>
                  <a:lnTo>
                    <a:pt x="178" y="772"/>
                  </a:lnTo>
                  <a:lnTo>
                    <a:pt x="172" y="772"/>
                  </a:lnTo>
                  <a:lnTo>
                    <a:pt x="166" y="772"/>
                  </a:lnTo>
                  <a:lnTo>
                    <a:pt x="172" y="766"/>
                  </a:lnTo>
                  <a:lnTo>
                    <a:pt x="166" y="766"/>
                  </a:lnTo>
                  <a:lnTo>
                    <a:pt x="159" y="760"/>
                  </a:lnTo>
                  <a:lnTo>
                    <a:pt x="153" y="760"/>
                  </a:lnTo>
                  <a:lnTo>
                    <a:pt x="153" y="754"/>
                  </a:lnTo>
                  <a:lnTo>
                    <a:pt x="159" y="747"/>
                  </a:lnTo>
                  <a:lnTo>
                    <a:pt x="159" y="741"/>
                  </a:lnTo>
                  <a:lnTo>
                    <a:pt x="166" y="741"/>
                  </a:lnTo>
                  <a:lnTo>
                    <a:pt x="172" y="741"/>
                  </a:lnTo>
                  <a:lnTo>
                    <a:pt x="178" y="741"/>
                  </a:lnTo>
                  <a:lnTo>
                    <a:pt x="185" y="741"/>
                  </a:lnTo>
                  <a:lnTo>
                    <a:pt x="185" y="735"/>
                  </a:lnTo>
                  <a:lnTo>
                    <a:pt x="191" y="735"/>
                  </a:lnTo>
                  <a:lnTo>
                    <a:pt x="185" y="735"/>
                  </a:lnTo>
                  <a:lnTo>
                    <a:pt x="185" y="729"/>
                  </a:lnTo>
                  <a:lnTo>
                    <a:pt x="178" y="729"/>
                  </a:lnTo>
                  <a:lnTo>
                    <a:pt x="172" y="729"/>
                  </a:lnTo>
                  <a:lnTo>
                    <a:pt x="172" y="735"/>
                  </a:lnTo>
                  <a:lnTo>
                    <a:pt x="166" y="735"/>
                  </a:lnTo>
                  <a:lnTo>
                    <a:pt x="166" y="729"/>
                  </a:lnTo>
                  <a:lnTo>
                    <a:pt x="159" y="729"/>
                  </a:lnTo>
                  <a:lnTo>
                    <a:pt x="153" y="729"/>
                  </a:lnTo>
                  <a:lnTo>
                    <a:pt x="147" y="729"/>
                  </a:lnTo>
                  <a:lnTo>
                    <a:pt x="140" y="722"/>
                  </a:lnTo>
                  <a:lnTo>
                    <a:pt x="128" y="722"/>
                  </a:lnTo>
                  <a:lnTo>
                    <a:pt x="121" y="716"/>
                  </a:lnTo>
                  <a:lnTo>
                    <a:pt x="128" y="716"/>
                  </a:lnTo>
                  <a:lnTo>
                    <a:pt x="128" y="710"/>
                  </a:lnTo>
                  <a:lnTo>
                    <a:pt x="115" y="710"/>
                  </a:lnTo>
                  <a:lnTo>
                    <a:pt x="115" y="704"/>
                  </a:lnTo>
                  <a:lnTo>
                    <a:pt x="134" y="710"/>
                  </a:lnTo>
                  <a:lnTo>
                    <a:pt x="153" y="716"/>
                  </a:lnTo>
                  <a:lnTo>
                    <a:pt x="166" y="710"/>
                  </a:lnTo>
                  <a:lnTo>
                    <a:pt x="172" y="704"/>
                  </a:lnTo>
                  <a:lnTo>
                    <a:pt x="166" y="697"/>
                  </a:lnTo>
                  <a:lnTo>
                    <a:pt x="159" y="697"/>
                  </a:lnTo>
                  <a:lnTo>
                    <a:pt x="153" y="697"/>
                  </a:lnTo>
                  <a:lnTo>
                    <a:pt x="140" y="697"/>
                  </a:lnTo>
                  <a:lnTo>
                    <a:pt x="128" y="691"/>
                  </a:lnTo>
                  <a:lnTo>
                    <a:pt x="121" y="685"/>
                  </a:lnTo>
                  <a:lnTo>
                    <a:pt x="121" y="679"/>
                  </a:lnTo>
                  <a:lnTo>
                    <a:pt x="128" y="679"/>
                  </a:lnTo>
                  <a:lnTo>
                    <a:pt x="134" y="679"/>
                  </a:lnTo>
                  <a:lnTo>
                    <a:pt x="140" y="679"/>
                  </a:lnTo>
                  <a:lnTo>
                    <a:pt x="147" y="679"/>
                  </a:lnTo>
                  <a:lnTo>
                    <a:pt x="153" y="679"/>
                  </a:lnTo>
                  <a:lnTo>
                    <a:pt x="147" y="673"/>
                  </a:lnTo>
                  <a:lnTo>
                    <a:pt x="140" y="673"/>
                  </a:lnTo>
                  <a:lnTo>
                    <a:pt x="140" y="666"/>
                  </a:lnTo>
                  <a:lnTo>
                    <a:pt x="134" y="666"/>
                  </a:lnTo>
                  <a:lnTo>
                    <a:pt x="128" y="660"/>
                  </a:lnTo>
                  <a:lnTo>
                    <a:pt x="128" y="654"/>
                  </a:lnTo>
                  <a:lnTo>
                    <a:pt x="134" y="648"/>
                  </a:lnTo>
                  <a:lnTo>
                    <a:pt x="147" y="648"/>
                  </a:lnTo>
                  <a:lnTo>
                    <a:pt x="153" y="641"/>
                  </a:lnTo>
                  <a:lnTo>
                    <a:pt x="153" y="635"/>
                  </a:lnTo>
                  <a:lnTo>
                    <a:pt x="147" y="635"/>
                  </a:lnTo>
                  <a:lnTo>
                    <a:pt x="140" y="635"/>
                  </a:lnTo>
                  <a:lnTo>
                    <a:pt x="147" y="623"/>
                  </a:lnTo>
                  <a:lnTo>
                    <a:pt x="140" y="617"/>
                  </a:lnTo>
                  <a:lnTo>
                    <a:pt x="147" y="610"/>
                  </a:lnTo>
                  <a:lnTo>
                    <a:pt x="147" y="604"/>
                  </a:lnTo>
                  <a:lnTo>
                    <a:pt x="140" y="598"/>
                  </a:lnTo>
                  <a:lnTo>
                    <a:pt x="147" y="598"/>
                  </a:lnTo>
                  <a:lnTo>
                    <a:pt x="147" y="592"/>
                  </a:lnTo>
                  <a:lnTo>
                    <a:pt x="153" y="592"/>
                  </a:lnTo>
                  <a:lnTo>
                    <a:pt x="153" y="598"/>
                  </a:lnTo>
                  <a:lnTo>
                    <a:pt x="159" y="604"/>
                  </a:lnTo>
                  <a:lnTo>
                    <a:pt x="159" y="610"/>
                  </a:lnTo>
                  <a:lnTo>
                    <a:pt x="159" y="604"/>
                  </a:lnTo>
                  <a:lnTo>
                    <a:pt x="166" y="604"/>
                  </a:lnTo>
                  <a:lnTo>
                    <a:pt x="172" y="610"/>
                  </a:lnTo>
                  <a:lnTo>
                    <a:pt x="178" y="617"/>
                  </a:lnTo>
                  <a:lnTo>
                    <a:pt x="185" y="617"/>
                  </a:lnTo>
                  <a:lnTo>
                    <a:pt x="185" y="610"/>
                  </a:lnTo>
                  <a:lnTo>
                    <a:pt x="185" y="604"/>
                  </a:lnTo>
                  <a:lnTo>
                    <a:pt x="191" y="610"/>
                  </a:lnTo>
                  <a:lnTo>
                    <a:pt x="191" y="617"/>
                  </a:lnTo>
                  <a:lnTo>
                    <a:pt x="198" y="617"/>
                  </a:lnTo>
                  <a:lnTo>
                    <a:pt x="204" y="617"/>
                  </a:lnTo>
                  <a:lnTo>
                    <a:pt x="210" y="617"/>
                  </a:lnTo>
                  <a:lnTo>
                    <a:pt x="217" y="617"/>
                  </a:lnTo>
                  <a:lnTo>
                    <a:pt x="210" y="617"/>
                  </a:lnTo>
                  <a:lnTo>
                    <a:pt x="204" y="610"/>
                  </a:lnTo>
                  <a:lnTo>
                    <a:pt x="198" y="604"/>
                  </a:lnTo>
                  <a:lnTo>
                    <a:pt x="191" y="604"/>
                  </a:lnTo>
                  <a:lnTo>
                    <a:pt x="191" y="598"/>
                  </a:lnTo>
                  <a:lnTo>
                    <a:pt x="178" y="598"/>
                  </a:lnTo>
                  <a:lnTo>
                    <a:pt x="166" y="598"/>
                  </a:lnTo>
                  <a:lnTo>
                    <a:pt x="159" y="585"/>
                  </a:lnTo>
                  <a:lnTo>
                    <a:pt x="153" y="585"/>
                  </a:lnTo>
                  <a:lnTo>
                    <a:pt x="147" y="579"/>
                  </a:lnTo>
                  <a:lnTo>
                    <a:pt x="153" y="573"/>
                  </a:lnTo>
                  <a:lnTo>
                    <a:pt x="147" y="573"/>
                  </a:lnTo>
                  <a:lnTo>
                    <a:pt x="147" y="567"/>
                  </a:lnTo>
                  <a:lnTo>
                    <a:pt x="153" y="567"/>
                  </a:lnTo>
                  <a:lnTo>
                    <a:pt x="159" y="567"/>
                  </a:lnTo>
                  <a:lnTo>
                    <a:pt x="159" y="561"/>
                  </a:lnTo>
                  <a:lnTo>
                    <a:pt x="159" y="554"/>
                  </a:lnTo>
                  <a:lnTo>
                    <a:pt x="166" y="561"/>
                  </a:lnTo>
                  <a:lnTo>
                    <a:pt x="172" y="561"/>
                  </a:lnTo>
                  <a:lnTo>
                    <a:pt x="178" y="567"/>
                  </a:lnTo>
                  <a:lnTo>
                    <a:pt x="178" y="573"/>
                  </a:lnTo>
                  <a:lnTo>
                    <a:pt x="178" y="579"/>
                  </a:lnTo>
                  <a:lnTo>
                    <a:pt x="185" y="579"/>
                  </a:lnTo>
                  <a:lnTo>
                    <a:pt x="191" y="579"/>
                  </a:lnTo>
                  <a:lnTo>
                    <a:pt x="191" y="573"/>
                  </a:lnTo>
                  <a:lnTo>
                    <a:pt x="185" y="573"/>
                  </a:lnTo>
                  <a:lnTo>
                    <a:pt x="185" y="567"/>
                  </a:lnTo>
                  <a:lnTo>
                    <a:pt x="178" y="561"/>
                  </a:lnTo>
                  <a:lnTo>
                    <a:pt x="172" y="554"/>
                  </a:lnTo>
                  <a:lnTo>
                    <a:pt x="172" y="548"/>
                  </a:lnTo>
                  <a:lnTo>
                    <a:pt x="178" y="548"/>
                  </a:lnTo>
                  <a:lnTo>
                    <a:pt x="178" y="554"/>
                  </a:lnTo>
                  <a:lnTo>
                    <a:pt x="185" y="554"/>
                  </a:lnTo>
                  <a:lnTo>
                    <a:pt x="185" y="548"/>
                  </a:lnTo>
                  <a:lnTo>
                    <a:pt x="191" y="554"/>
                  </a:lnTo>
                  <a:lnTo>
                    <a:pt x="191" y="548"/>
                  </a:lnTo>
                  <a:lnTo>
                    <a:pt x="198" y="554"/>
                  </a:lnTo>
                  <a:lnTo>
                    <a:pt x="204" y="554"/>
                  </a:lnTo>
                  <a:lnTo>
                    <a:pt x="210" y="554"/>
                  </a:lnTo>
                  <a:lnTo>
                    <a:pt x="217" y="561"/>
                  </a:lnTo>
                  <a:lnTo>
                    <a:pt x="210" y="567"/>
                  </a:lnTo>
                  <a:lnTo>
                    <a:pt x="217" y="573"/>
                  </a:lnTo>
                  <a:lnTo>
                    <a:pt x="217" y="567"/>
                  </a:lnTo>
                  <a:lnTo>
                    <a:pt x="223" y="561"/>
                  </a:lnTo>
                  <a:lnTo>
                    <a:pt x="217" y="554"/>
                  </a:lnTo>
                  <a:lnTo>
                    <a:pt x="217" y="548"/>
                  </a:lnTo>
                  <a:lnTo>
                    <a:pt x="223" y="554"/>
                  </a:lnTo>
                  <a:lnTo>
                    <a:pt x="229" y="567"/>
                  </a:lnTo>
                  <a:lnTo>
                    <a:pt x="236" y="567"/>
                  </a:lnTo>
                  <a:lnTo>
                    <a:pt x="236" y="573"/>
                  </a:lnTo>
                  <a:lnTo>
                    <a:pt x="236" y="567"/>
                  </a:lnTo>
                  <a:lnTo>
                    <a:pt x="242" y="567"/>
                  </a:lnTo>
                  <a:lnTo>
                    <a:pt x="242" y="573"/>
                  </a:lnTo>
                  <a:lnTo>
                    <a:pt x="255" y="573"/>
                  </a:lnTo>
                  <a:lnTo>
                    <a:pt x="261" y="573"/>
                  </a:lnTo>
                  <a:lnTo>
                    <a:pt x="267" y="573"/>
                  </a:lnTo>
                  <a:lnTo>
                    <a:pt x="274" y="573"/>
                  </a:lnTo>
                  <a:lnTo>
                    <a:pt x="280" y="573"/>
                  </a:lnTo>
                  <a:lnTo>
                    <a:pt x="286" y="573"/>
                  </a:lnTo>
                  <a:lnTo>
                    <a:pt x="293" y="567"/>
                  </a:lnTo>
                  <a:lnTo>
                    <a:pt x="299" y="573"/>
                  </a:lnTo>
                  <a:lnTo>
                    <a:pt x="299" y="579"/>
                  </a:lnTo>
                  <a:lnTo>
                    <a:pt x="306" y="585"/>
                  </a:lnTo>
                  <a:lnTo>
                    <a:pt x="312" y="585"/>
                  </a:lnTo>
                  <a:lnTo>
                    <a:pt x="318" y="579"/>
                  </a:lnTo>
                  <a:lnTo>
                    <a:pt x="312" y="573"/>
                  </a:lnTo>
                  <a:lnTo>
                    <a:pt x="312" y="567"/>
                  </a:lnTo>
                  <a:lnTo>
                    <a:pt x="318" y="567"/>
                  </a:lnTo>
                  <a:lnTo>
                    <a:pt x="325" y="567"/>
                  </a:lnTo>
                  <a:lnTo>
                    <a:pt x="331" y="573"/>
                  </a:lnTo>
                  <a:lnTo>
                    <a:pt x="331" y="579"/>
                  </a:lnTo>
                  <a:lnTo>
                    <a:pt x="325" y="579"/>
                  </a:lnTo>
                  <a:lnTo>
                    <a:pt x="325" y="585"/>
                  </a:lnTo>
                  <a:lnTo>
                    <a:pt x="325" y="592"/>
                  </a:lnTo>
                  <a:lnTo>
                    <a:pt x="325" y="598"/>
                  </a:lnTo>
                  <a:lnTo>
                    <a:pt x="318" y="604"/>
                  </a:lnTo>
                  <a:lnTo>
                    <a:pt x="312" y="617"/>
                  </a:lnTo>
                  <a:lnTo>
                    <a:pt x="318" y="617"/>
                  </a:lnTo>
                  <a:lnTo>
                    <a:pt x="325" y="617"/>
                  </a:lnTo>
                  <a:lnTo>
                    <a:pt x="318" y="617"/>
                  </a:lnTo>
                  <a:lnTo>
                    <a:pt x="325" y="610"/>
                  </a:lnTo>
                  <a:lnTo>
                    <a:pt x="325" y="604"/>
                  </a:lnTo>
                  <a:lnTo>
                    <a:pt x="331" y="604"/>
                  </a:lnTo>
                  <a:lnTo>
                    <a:pt x="331" y="598"/>
                  </a:lnTo>
                  <a:lnTo>
                    <a:pt x="331" y="592"/>
                  </a:lnTo>
                  <a:lnTo>
                    <a:pt x="331" y="585"/>
                  </a:lnTo>
                  <a:lnTo>
                    <a:pt x="331" y="579"/>
                  </a:lnTo>
                  <a:lnTo>
                    <a:pt x="337" y="573"/>
                  </a:lnTo>
                  <a:lnTo>
                    <a:pt x="337" y="567"/>
                  </a:lnTo>
                  <a:lnTo>
                    <a:pt x="331" y="567"/>
                  </a:lnTo>
                  <a:lnTo>
                    <a:pt x="325" y="567"/>
                  </a:lnTo>
                  <a:lnTo>
                    <a:pt x="325" y="561"/>
                  </a:lnTo>
                  <a:lnTo>
                    <a:pt x="331" y="561"/>
                  </a:lnTo>
                  <a:lnTo>
                    <a:pt x="331" y="554"/>
                  </a:lnTo>
                  <a:lnTo>
                    <a:pt x="325" y="554"/>
                  </a:lnTo>
                  <a:lnTo>
                    <a:pt x="318" y="554"/>
                  </a:lnTo>
                  <a:lnTo>
                    <a:pt x="312" y="561"/>
                  </a:lnTo>
                  <a:lnTo>
                    <a:pt x="312" y="567"/>
                  </a:lnTo>
                  <a:lnTo>
                    <a:pt x="306" y="573"/>
                  </a:lnTo>
                  <a:lnTo>
                    <a:pt x="306" y="579"/>
                  </a:lnTo>
                  <a:lnTo>
                    <a:pt x="306" y="573"/>
                  </a:lnTo>
                  <a:lnTo>
                    <a:pt x="299" y="567"/>
                  </a:lnTo>
                  <a:lnTo>
                    <a:pt x="306" y="561"/>
                  </a:lnTo>
                  <a:lnTo>
                    <a:pt x="306" y="554"/>
                  </a:lnTo>
                  <a:lnTo>
                    <a:pt x="299" y="554"/>
                  </a:lnTo>
                  <a:lnTo>
                    <a:pt x="293" y="554"/>
                  </a:lnTo>
                  <a:lnTo>
                    <a:pt x="286" y="554"/>
                  </a:lnTo>
                  <a:lnTo>
                    <a:pt x="286" y="561"/>
                  </a:lnTo>
                  <a:lnTo>
                    <a:pt x="280" y="561"/>
                  </a:lnTo>
                  <a:lnTo>
                    <a:pt x="280" y="567"/>
                  </a:lnTo>
                  <a:lnTo>
                    <a:pt x="274" y="567"/>
                  </a:lnTo>
                  <a:lnTo>
                    <a:pt x="261" y="561"/>
                  </a:lnTo>
                  <a:lnTo>
                    <a:pt x="267" y="554"/>
                  </a:lnTo>
                  <a:lnTo>
                    <a:pt x="274" y="554"/>
                  </a:lnTo>
                  <a:lnTo>
                    <a:pt x="274" y="548"/>
                  </a:lnTo>
                  <a:lnTo>
                    <a:pt x="267" y="548"/>
                  </a:lnTo>
                  <a:lnTo>
                    <a:pt x="274" y="542"/>
                  </a:lnTo>
                  <a:lnTo>
                    <a:pt x="274" y="536"/>
                  </a:lnTo>
                  <a:lnTo>
                    <a:pt x="274" y="523"/>
                  </a:lnTo>
                  <a:lnTo>
                    <a:pt x="280" y="517"/>
                  </a:lnTo>
                  <a:lnTo>
                    <a:pt x="274" y="511"/>
                  </a:lnTo>
                  <a:lnTo>
                    <a:pt x="267" y="511"/>
                  </a:lnTo>
                  <a:lnTo>
                    <a:pt x="267" y="517"/>
                  </a:lnTo>
                  <a:lnTo>
                    <a:pt x="267" y="529"/>
                  </a:lnTo>
                  <a:lnTo>
                    <a:pt x="261" y="529"/>
                  </a:lnTo>
                  <a:lnTo>
                    <a:pt x="261" y="536"/>
                  </a:lnTo>
                  <a:lnTo>
                    <a:pt x="267" y="542"/>
                  </a:lnTo>
                  <a:lnTo>
                    <a:pt x="261" y="548"/>
                  </a:lnTo>
                  <a:lnTo>
                    <a:pt x="255" y="548"/>
                  </a:lnTo>
                  <a:lnTo>
                    <a:pt x="255" y="554"/>
                  </a:lnTo>
                  <a:lnTo>
                    <a:pt x="248" y="561"/>
                  </a:lnTo>
                  <a:lnTo>
                    <a:pt x="242" y="561"/>
                  </a:lnTo>
                  <a:lnTo>
                    <a:pt x="236" y="561"/>
                  </a:lnTo>
                  <a:lnTo>
                    <a:pt x="242" y="548"/>
                  </a:lnTo>
                  <a:lnTo>
                    <a:pt x="236" y="548"/>
                  </a:lnTo>
                  <a:lnTo>
                    <a:pt x="229" y="548"/>
                  </a:lnTo>
                  <a:lnTo>
                    <a:pt x="223" y="548"/>
                  </a:lnTo>
                  <a:lnTo>
                    <a:pt x="223" y="542"/>
                  </a:lnTo>
                  <a:lnTo>
                    <a:pt x="223" y="536"/>
                  </a:lnTo>
                  <a:lnTo>
                    <a:pt x="217" y="536"/>
                  </a:lnTo>
                  <a:lnTo>
                    <a:pt x="210" y="542"/>
                  </a:lnTo>
                  <a:lnTo>
                    <a:pt x="204" y="548"/>
                  </a:lnTo>
                  <a:lnTo>
                    <a:pt x="198" y="542"/>
                  </a:lnTo>
                  <a:lnTo>
                    <a:pt x="204" y="536"/>
                  </a:lnTo>
                  <a:lnTo>
                    <a:pt x="210" y="536"/>
                  </a:lnTo>
                  <a:lnTo>
                    <a:pt x="217" y="529"/>
                  </a:lnTo>
                  <a:lnTo>
                    <a:pt x="223" y="523"/>
                  </a:lnTo>
                  <a:lnTo>
                    <a:pt x="223" y="517"/>
                  </a:lnTo>
                  <a:lnTo>
                    <a:pt x="229" y="511"/>
                  </a:lnTo>
                  <a:lnTo>
                    <a:pt x="223" y="505"/>
                  </a:lnTo>
                  <a:lnTo>
                    <a:pt x="217" y="517"/>
                  </a:lnTo>
                  <a:lnTo>
                    <a:pt x="217" y="523"/>
                  </a:lnTo>
                  <a:lnTo>
                    <a:pt x="210" y="523"/>
                  </a:lnTo>
                  <a:lnTo>
                    <a:pt x="210" y="517"/>
                  </a:lnTo>
                  <a:lnTo>
                    <a:pt x="204" y="517"/>
                  </a:lnTo>
                  <a:lnTo>
                    <a:pt x="198" y="511"/>
                  </a:lnTo>
                  <a:lnTo>
                    <a:pt x="198" y="517"/>
                  </a:lnTo>
                  <a:lnTo>
                    <a:pt x="204" y="517"/>
                  </a:lnTo>
                  <a:lnTo>
                    <a:pt x="204" y="523"/>
                  </a:lnTo>
                  <a:lnTo>
                    <a:pt x="204" y="529"/>
                  </a:lnTo>
                  <a:lnTo>
                    <a:pt x="198" y="529"/>
                  </a:lnTo>
                  <a:lnTo>
                    <a:pt x="191" y="529"/>
                  </a:lnTo>
                  <a:lnTo>
                    <a:pt x="191" y="536"/>
                  </a:lnTo>
                  <a:lnTo>
                    <a:pt x="185" y="536"/>
                  </a:lnTo>
                  <a:lnTo>
                    <a:pt x="185" y="529"/>
                  </a:lnTo>
                  <a:lnTo>
                    <a:pt x="178" y="536"/>
                  </a:lnTo>
                  <a:lnTo>
                    <a:pt x="178" y="529"/>
                  </a:lnTo>
                  <a:lnTo>
                    <a:pt x="172" y="523"/>
                  </a:lnTo>
                  <a:lnTo>
                    <a:pt x="172" y="529"/>
                  </a:lnTo>
                  <a:lnTo>
                    <a:pt x="166" y="536"/>
                  </a:lnTo>
                  <a:lnTo>
                    <a:pt x="159" y="536"/>
                  </a:lnTo>
                  <a:lnTo>
                    <a:pt x="159" y="523"/>
                  </a:lnTo>
                  <a:lnTo>
                    <a:pt x="159" y="517"/>
                  </a:lnTo>
                  <a:lnTo>
                    <a:pt x="166" y="511"/>
                  </a:lnTo>
                  <a:lnTo>
                    <a:pt x="166" y="505"/>
                  </a:lnTo>
                  <a:lnTo>
                    <a:pt x="178" y="498"/>
                  </a:lnTo>
                  <a:lnTo>
                    <a:pt x="166" y="492"/>
                  </a:lnTo>
                  <a:lnTo>
                    <a:pt x="166" y="486"/>
                  </a:lnTo>
                  <a:lnTo>
                    <a:pt x="172" y="480"/>
                  </a:lnTo>
                  <a:lnTo>
                    <a:pt x="178" y="480"/>
                  </a:lnTo>
                  <a:lnTo>
                    <a:pt x="185" y="480"/>
                  </a:lnTo>
                  <a:lnTo>
                    <a:pt x="178" y="480"/>
                  </a:lnTo>
                  <a:lnTo>
                    <a:pt x="185" y="480"/>
                  </a:lnTo>
                  <a:lnTo>
                    <a:pt x="191" y="473"/>
                  </a:lnTo>
                  <a:lnTo>
                    <a:pt x="198" y="473"/>
                  </a:lnTo>
                  <a:lnTo>
                    <a:pt x="191" y="467"/>
                  </a:lnTo>
                  <a:lnTo>
                    <a:pt x="185" y="473"/>
                  </a:lnTo>
                  <a:lnTo>
                    <a:pt x="178" y="467"/>
                  </a:lnTo>
                  <a:lnTo>
                    <a:pt x="172" y="467"/>
                  </a:lnTo>
                  <a:lnTo>
                    <a:pt x="172" y="461"/>
                  </a:lnTo>
                  <a:lnTo>
                    <a:pt x="166" y="461"/>
                  </a:lnTo>
                  <a:lnTo>
                    <a:pt x="172" y="455"/>
                  </a:lnTo>
                  <a:lnTo>
                    <a:pt x="178" y="455"/>
                  </a:lnTo>
                  <a:lnTo>
                    <a:pt x="185" y="455"/>
                  </a:lnTo>
                  <a:lnTo>
                    <a:pt x="191" y="449"/>
                  </a:lnTo>
                  <a:lnTo>
                    <a:pt x="191" y="442"/>
                  </a:lnTo>
                  <a:lnTo>
                    <a:pt x="191" y="436"/>
                  </a:lnTo>
                  <a:lnTo>
                    <a:pt x="198" y="436"/>
                  </a:lnTo>
                  <a:lnTo>
                    <a:pt x="204" y="436"/>
                  </a:lnTo>
                  <a:lnTo>
                    <a:pt x="217" y="436"/>
                  </a:lnTo>
                  <a:lnTo>
                    <a:pt x="217" y="442"/>
                  </a:lnTo>
                  <a:lnTo>
                    <a:pt x="217" y="449"/>
                  </a:lnTo>
                  <a:lnTo>
                    <a:pt x="223" y="442"/>
                  </a:lnTo>
                  <a:lnTo>
                    <a:pt x="229" y="442"/>
                  </a:lnTo>
                  <a:lnTo>
                    <a:pt x="236" y="442"/>
                  </a:lnTo>
                  <a:lnTo>
                    <a:pt x="242" y="442"/>
                  </a:lnTo>
                  <a:lnTo>
                    <a:pt x="248" y="449"/>
                  </a:lnTo>
                  <a:lnTo>
                    <a:pt x="255" y="442"/>
                  </a:lnTo>
                  <a:lnTo>
                    <a:pt x="248" y="436"/>
                  </a:lnTo>
                  <a:lnTo>
                    <a:pt x="242" y="436"/>
                  </a:lnTo>
                  <a:lnTo>
                    <a:pt x="236" y="430"/>
                  </a:lnTo>
                  <a:lnTo>
                    <a:pt x="236" y="424"/>
                  </a:lnTo>
                  <a:lnTo>
                    <a:pt x="236" y="417"/>
                  </a:lnTo>
                  <a:lnTo>
                    <a:pt x="229" y="424"/>
                  </a:lnTo>
                  <a:lnTo>
                    <a:pt x="229" y="430"/>
                  </a:lnTo>
                  <a:lnTo>
                    <a:pt x="223" y="430"/>
                  </a:lnTo>
                  <a:lnTo>
                    <a:pt x="223" y="436"/>
                  </a:lnTo>
                  <a:lnTo>
                    <a:pt x="217" y="436"/>
                  </a:lnTo>
                  <a:lnTo>
                    <a:pt x="217" y="430"/>
                  </a:lnTo>
                  <a:lnTo>
                    <a:pt x="210" y="430"/>
                  </a:lnTo>
                  <a:lnTo>
                    <a:pt x="210" y="424"/>
                  </a:lnTo>
                  <a:lnTo>
                    <a:pt x="204" y="424"/>
                  </a:lnTo>
                  <a:lnTo>
                    <a:pt x="198" y="430"/>
                  </a:lnTo>
                  <a:lnTo>
                    <a:pt x="191" y="430"/>
                  </a:lnTo>
                  <a:lnTo>
                    <a:pt x="191" y="424"/>
                  </a:lnTo>
                  <a:lnTo>
                    <a:pt x="185" y="430"/>
                  </a:lnTo>
                  <a:lnTo>
                    <a:pt x="185" y="436"/>
                  </a:lnTo>
                  <a:lnTo>
                    <a:pt x="185" y="442"/>
                  </a:lnTo>
                  <a:lnTo>
                    <a:pt x="178" y="449"/>
                  </a:lnTo>
                  <a:lnTo>
                    <a:pt x="178" y="442"/>
                  </a:lnTo>
                  <a:lnTo>
                    <a:pt x="172" y="436"/>
                  </a:lnTo>
                  <a:lnTo>
                    <a:pt x="166" y="430"/>
                  </a:lnTo>
                  <a:lnTo>
                    <a:pt x="166" y="424"/>
                  </a:lnTo>
                  <a:lnTo>
                    <a:pt x="166" y="417"/>
                  </a:lnTo>
                  <a:lnTo>
                    <a:pt x="166" y="411"/>
                  </a:lnTo>
                  <a:lnTo>
                    <a:pt x="172" y="411"/>
                  </a:lnTo>
                  <a:lnTo>
                    <a:pt x="178" y="411"/>
                  </a:lnTo>
                  <a:lnTo>
                    <a:pt x="172" y="405"/>
                  </a:lnTo>
                  <a:lnTo>
                    <a:pt x="166" y="399"/>
                  </a:lnTo>
                  <a:lnTo>
                    <a:pt x="159" y="399"/>
                  </a:lnTo>
                  <a:lnTo>
                    <a:pt x="159" y="392"/>
                  </a:lnTo>
                  <a:lnTo>
                    <a:pt x="172" y="386"/>
                  </a:lnTo>
                  <a:lnTo>
                    <a:pt x="166" y="386"/>
                  </a:lnTo>
                  <a:lnTo>
                    <a:pt x="172" y="380"/>
                  </a:lnTo>
                  <a:lnTo>
                    <a:pt x="172" y="374"/>
                  </a:lnTo>
                  <a:lnTo>
                    <a:pt x="159" y="380"/>
                  </a:lnTo>
                  <a:lnTo>
                    <a:pt x="153" y="392"/>
                  </a:lnTo>
                  <a:lnTo>
                    <a:pt x="153" y="399"/>
                  </a:lnTo>
                  <a:lnTo>
                    <a:pt x="147" y="399"/>
                  </a:lnTo>
                  <a:lnTo>
                    <a:pt x="147" y="386"/>
                  </a:lnTo>
                  <a:lnTo>
                    <a:pt x="140" y="380"/>
                  </a:lnTo>
                  <a:lnTo>
                    <a:pt x="140" y="374"/>
                  </a:lnTo>
                  <a:lnTo>
                    <a:pt x="147" y="374"/>
                  </a:lnTo>
                  <a:lnTo>
                    <a:pt x="147" y="368"/>
                  </a:lnTo>
                  <a:lnTo>
                    <a:pt x="140" y="361"/>
                  </a:lnTo>
                  <a:lnTo>
                    <a:pt x="153" y="355"/>
                  </a:lnTo>
                  <a:lnTo>
                    <a:pt x="153" y="349"/>
                  </a:lnTo>
                  <a:lnTo>
                    <a:pt x="147" y="349"/>
                  </a:lnTo>
                  <a:lnTo>
                    <a:pt x="140" y="349"/>
                  </a:lnTo>
                  <a:lnTo>
                    <a:pt x="140" y="343"/>
                  </a:lnTo>
                  <a:lnTo>
                    <a:pt x="140" y="336"/>
                  </a:lnTo>
                  <a:lnTo>
                    <a:pt x="147" y="330"/>
                  </a:lnTo>
                  <a:lnTo>
                    <a:pt x="147" y="336"/>
                  </a:lnTo>
                  <a:lnTo>
                    <a:pt x="153" y="336"/>
                  </a:lnTo>
                  <a:lnTo>
                    <a:pt x="159" y="330"/>
                  </a:lnTo>
                  <a:lnTo>
                    <a:pt x="172" y="330"/>
                  </a:lnTo>
                  <a:lnTo>
                    <a:pt x="166" y="324"/>
                  </a:lnTo>
                  <a:lnTo>
                    <a:pt x="153" y="324"/>
                  </a:lnTo>
                  <a:lnTo>
                    <a:pt x="147" y="318"/>
                  </a:lnTo>
                  <a:lnTo>
                    <a:pt x="147" y="312"/>
                  </a:lnTo>
                  <a:lnTo>
                    <a:pt x="147" y="305"/>
                  </a:lnTo>
                  <a:lnTo>
                    <a:pt x="153" y="299"/>
                  </a:lnTo>
                  <a:lnTo>
                    <a:pt x="153" y="293"/>
                  </a:lnTo>
                  <a:lnTo>
                    <a:pt x="153" y="287"/>
                  </a:lnTo>
                  <a:lnTo>
                    <a:pt x="159" y="287"/>
                  </a:lnTo>
                  <a:lnTo>
                    <a:pt x="166" y="287"/>
                  </a:lnTo>
                  <a:lnTo>
                    <a:pt x="166" y="280"/>
                  </a:lnTo>
                  <a:lnTo>
                    <a:pt x="159" y="280"/>
                  </a:lnTo>
                  <a:lnTo>
                    <a:pt x="153" y="280"/>
                  </a:lnTo>
                  <a:lnTo>
                    <a:pt x="159" y="274"/>
                  </a:lnTo>
                  <a:lnTo>
                    <a:pt x="159" y="268"/>
                  </a:lnTo>
                  <a:lnTo>
                    <a:pt x="153" y="268"/>
                  </a:lnTo>
                  <a:lnTo>
                    <a:pt x="159" y="262"/>
                  </a:lnTo>
                  <a:lnTo>
                    <a:pt x="166" y="256"/>
                  </a:lnTo>
                  <a:lnTo>
                    <a:pt x="172" y="249"/>
                  </a:lnTo>
                  <a:lnTo>
                    <a:pt x="178" y="249"/>
                  </a:lnTo>
                  <a:lnTo>
                    <a:pt x="185" y="249"/>
                  </a:lnTo>
                  <a:lnTo>
                    <a:pt x="191" y="249"/>
                  </a:lnTo>
                  <a:lnTo>
                    <a:pt x="191" y="256"/>
                  </a:lnTo>
                  <a:lnTo>
                    <a:pt x="198" y="256"/>
                  </a:lnTo>
                  <a:lnTo>
                    <a:pt x="198" y="262"/>
                  </a:lnTo>
                  <a:lnTo>
                    <a:pt x="204" y="268"/>
                  </a:lnTo>
                  <a:lnTo>
                    <a:pt x="204" y="274"/>
                  </a:lnTo>
                  <a:lnTo>
                    <a:pt x="217" y="262"/>
                  </a:lnTo>
                  <a:lnTo>
                    <a:pt x="210" y="256"/>
                  </a:lnTo>
                  <a:lnTo>
                    <a:pt x="204" y="256"/>
                  </a:lnTo>
                  <a:lnTo>
                    <a:pt x="198" y="249"/>
                  </a:lnTo>
                  <a:lnTo>
                    <a:pt x="191" y="243"/>
                  </a:lnTo>
                  <a:lnTo>
                    <a:pt x="185" y="237"/>
                  </a:lnTo>
                  <a:lnTo>
                    <a:pt x="191" y="231"/>
                  </a:lnTo>
                  <a:lnTo>
                    <a:pt x="191" y="224"/>
                  </a:lnTo>
                  <a:lnTo>
                    <a:pt x="198" y="224"/>
                  </a:lnTo>
                  <a:lnTo>
                    <a:pt x="198" y="231"/>
                  </a:lnTo>
                  <a:lnTo>
                    <a:pt x="204" y="231"/>
                  </a:lnTo>
                  <a:lnTo>
                    <a:pt x="210" y="231"/>
                  </a:lnTo>
                  <a:lnTo>
                    <a:pt x="204" y="224"/>
                  </a:lnTo>
                  <a:lnTo>
                    <a:pt x="210" y="224"/>
                  </a:lnTo>
                  <a:lnTo>
                    <a:pt x="217" y="224"/>
                  </a:lnTo>
                  <a:lnTo>
                    <a:pt x="217" y="218"/>
                  </a:lnTo>
                  <a:lnTo>
                    <a:pt x="210" y="218"/>
                  </a:lnTo>
                  <a:lnTo>
                    <a:pt x="204" y="218"/>
                  </a:lnTo>
                  <a:lnTo>
                    <a:pt x="198" y="212"/>
                  </a:lnTo>
                  <a:lnTo>
                    <a:pt x="204" y="206"/>
                  </a:lnTo>
                  <a:lnTo>
                    <a:pt x="204" y="200"/>
                  </a:lnTo>
                  <a:lnTo>
                    <a:pt x="210" y="193"/>
                  </a:lnTo>
                  <a:lnTo>
                    <a:pt x="217" y="200"/>
                  </a:lnTo>
                  <a:lnTo>
                    <a:pt x="223" y="200"/>
                  </a:lnTo>
                  <a:lnTo>
                    <a:pt x="223" y="193"/>
                  </a:lnTo>
                  <a:lnTo>
                    <a:pt x="217" y="193"/>
                  </a:lnTo>
                  <a:lnTo>
                    <a:pt x="210" y="193"/>
                  </a:lnTo>
                  <a:lnTo>
                    <a:pt x="210" y="187"/>
                  </a:lnTo>
                  <a:lnTo>
                    <a:pt x="210" y="181"/>
                  </a:lnTo>
                  <a:lnTo>
                    <a:pt x="210" y="175"/>
                  </a:lnTo>
                  <a:lnTo>
                    <a:pt x="217" y="175"/>
                  </a:lnTo>
                  <a:lnTo>
                    <a:pt x="223" y="175"/>
                  </a:lnTo>
                  <a:lnTo>
                    <a:pt x="229" y="175"/>
                  </a:lnTo>
                  <a:lnTo>
                    <a:pt x="236" y="175"/>
                  </a:lnTo>
                  <a:lnTo>
                    <a:pt x="242" y="181"/>
                  </a:lnTo>
                  <a:lnTo>
                    <a:pt x="248" y="181"/>
                  </a:lnTo>
                  <a:lnTo>
                    <a:pt x="248" y="187"/>
                  </a:lnTo>
                  <a:lnTo>
                    <a:pt x="255" y="187"/>
                  </a:lnTo>
                  <a:lnTo>
                    <a:pt x="255" y="181"/>
                  </a:lnTo>
                  <a:lnTo>
                    <a:pt x="261" y="175"/>
                  </a:lnTo>
                  <a:lnTo>
                    <a:pt x="267" y="175"/>
                  </a:lnTo>
                  <a:lnTo>
                    <a:pt x="274" y="175"/>
                  </a:lnTo>
                  <a:lnTo>
                    <a:pt x="280" y="175"/>
                  </a:lnTo>
                  <a:lnTo>
                    <a:pt x="286" y="175"/>
                  </a:lnTo>
                  <a:lnTo>
                    <a:pt x="293" y="175"/>
                  </a:lnTo>
                  <a:lnTo>
                    <a:pt x="293" y="168"/>
                  </a:lnTo>
                  <a:lnTo>
                    <a:pt x="306" y="175"/>
                  </a:lnTo>
                  <a:lnTo>
                    <a:pt x="306" y="168"/>
                  </a:lnTo>
                  <a:lnTo>
                    <a:pt x="312" y="168"/>
                  </a:lnTo>
                  <a:lnTo>
                    <a:pt x="325" y="175"/>
                  </a:lnTo>
                  <a:lnTo>
                    <a:pt x="337" y="181"/>
                  </a:lnTo>
                  <a:lnTo>
                    <a:pt x="344" y="181"/>
                  </a:lnTo>
                  <a:lnTo>
                    <a:pt x="337" y="175"/>
                  </a:lnTo>
                  <a:lnTo>
                    <a:pt x="337" y="168"/>
                  </a:lnTo>
                  <a:lnTo>
                    <a:pt x="344" y="156"/>
                  </a:lnTo>
                  <a:lnTo>
                    <a:pt x="337" y="156"/>
                  </a:lnTo>
                  <a:lnTo>
                    <a:pt x="331" y="162"/>
                  </a:lnTo>
                  <a:lnTo>
                    <a:pt x="331" y="168"/>
                  </a:lnTo>
                  <a:lnTo>
                    <a:pt x="325" y="162"/>
                  </a:lnTo>
                  <a:lnTo>
                    <a:pt x="318" y="162"/>
                  </a:lnTo>
                  <a:lnTo>
                    <a:pt x="312" y="162"/>
                  </a:lnTo>
                  <a:lnTo>
                    <a:pt x="306" y="156"/>
                  </a:lnTo>
                  <a:lnTo>
                    <a:pt x="299" y="156"/>
                  </a:lnTo>
                  <a:lnTo>
                    <a:pt x="293" y="156"/>
                  </a:lnTo>
                  <a:lnTo>
                    <a:pt x="286" y="156"/>
                  </a:lnTo>
                  <a:lnTo>
                    <a:pt x="280" y="162"/>
                  </a:lnTo>
                  <a:lnTo>
                    <a:pt x="267" y="162"/>
                  </a:lnTo>
                  <a:lnTo>
                    <a:pt x="261" y="162"/>
                  </a:lnTo>
                  <a:lnTo>
                    <a:pt x="255" y="162"/>
                  </a:lnTo>
                  <a:lnTo>
                    <a:pt x="248" y="168"/>
                  </a:lnTo>
                  <a:lnTo>
                    <a:pt x="242" y="168"/>
                  </a:lnTo>
                  <a:lnTo>
                    <a:pt x="236" y="168"/>
                  </a:lnTo>
                  <a:lnTo>
                    <a:pt x="229" y="162"/>
                  </a:lnTo>
                  <a:lnTo>
                    <a:pt x="223" y="168"/>
                  </a:lnTo>
                  <a:lnTo>
                    <a:pt x="217" y="168"/>
                  </a:lnTo>
                  <a:lnTo>
                    <a:pt x="217" y="162"/>
                  </a:lnTo>
                  <a:lnTo>
                    <a:pt x="217" y="156"/>
                  </a:lnTo>
                  <a:lnTo>
                    <a:pt x="217" y="150"/>
                  </a:lnTo>
                  <a:lnTo>
                    <a:pt x="223" y="150"/>
                  </a:lnTo>
                  <a:lnTo>
                    <a:pt x="223" y="143"/>
                  </a:lnTo>
                  <a:lnTo>
                    <a:pt x="223" y="137"/>
                  </a:lnTo>
                  <a:lnTo>
                    <a:pt x="229" y="131"/>
                  </a:lnTo>
                  <a:lnTo>
                    <a:pt x="242" y="125"/>
                  </a:lnTo>
                  <a:lnTo>
                    <a:pt x="248" y="125"/>
                  </a:lnTo>
                  <a:lnTo>
                    <a:pt x="242" y="125"/>
                  </a:lnTo>
                  <a:lnTo>
                    <a:pt x="236" y="125"/>
                  </a:lnTo>
                  <a:lnTo>
                    <a:pt x="229" y="125"/>
                  </a:lnTo>
                  <a:lnTo>
                    <a:pt x="217" y="125"/>
                  </a:lnTo>
                  <a:lnTo>
                    <a:pt x="217" y="119"/>
                  </a:lnTo>
                  <a:lnTo>
                    <a:pt x="217" y="112"/>
                  </a:lnTo>
                  <a:lnTo>
                    <a:pt x="217" y="100"/>
                  </a:lnTo>
                  <a:lnTo>
                    <a:pt x="210" y="94"/>
                  </a:lnTo>
                  <a:lnTo>
                    <a:pt x="204" y="81"/>
                  </a:lnTo>
                  <a:lnTo>
                    <a:pt x="204" y="75"/>
                  </a:lnTo>
                  <a:lnTo>
                    <a:pt x="217" y="75"/>
                  </a:lnTo>
                  <a:lnTo>
                    <a:pt x="223" y="81"/>
                  </a:lnTo>
                  <a:lnTo>
                    <a:pt x="229" y="75"/>
                  </a:lnTo>
                  <a:lnTo>
                    <a:pt x="223" y="75"/>
                  </a:lnTo>
                  <a:lnTo>
                    <a:pt x="217" y="75"/>
                  </a:lnTo>
                  <a:lnTo>
                    <a:pt x="210" y="69"/>
                  </a:lnTo>
                  <a:lnTo>
                    <a:pt x="204" y="69"/>
                  </a:lnTo>
                  <a:lnTo>
                    <a:pt x="198" y="56"/>
                  </a:lnTo>
                  <a:lnTo>
                    <a:pt x="191" y="50"/>
                  </a:lnTo>
                  <a:lnTo>
                    <a:pt x="191" y="44"/>
                  </a:lnTo>
                  <a:lnTo>
                    <a:pt x="185" y="44"/>
                  </a:lnTo>
                  <a:lnTo>
                    <a:pt x="185" y="38"/>
                  </a:lnTo>
                  <a:lnTo>
                    <a:pt x="185" y="31"/>
                  </a:lnTo>
                  <a:lnTo>
                    <a:pt x="191" y="31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5"/>
                  </a:lnTo>
                  <a:lnTo>
                    <a:pt x="210" y="19"/>
                  </a:lnTo>
                  <a:lnTo>
                    <a:pt x="204" y="13"/>
                  </a:lnTo>
                  <a:lnTo>
                    <a:pt x="191" y="13"/>
                  </a:lnTo>
                  <a:lnTo>
                    <a:pt x="191" y="19"/>
                  </a:lnTo>
                  <a:lnTo>
                    <a:pt x="185" y="19"/>
                  </a:lnTo>
                  <a:lnTo>
                    <a:pt x="185" y="25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66" y="19"/>
                  </a:lnTo>
                  <a:lnTo>
                    <a:pt x="159" y="13"/>
                  </a:lnTo>
                  <a:lnTo>
                    <a:pt x="153" y="13"/>
                  </a:lnTo>
                  <a:lnTo>
                    <a:pt x="1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877320" y="5246640"/>
              <a:ext cx="3409920" cy="2184480"/>
            </a:xfrm>
            <a:custGeom>
              <a:avLst/>
              <a:gdLst/>
              <a:ahLst/>
              <a:rect l="l" t="t" r="r" b="b"/>
              <a:pathLst>
                <a:path w="2148" h="1376">
                  <a:moveTo>
                    <a:pt x="438" y="280"/>
                  </a:moveTo>
                  <a:lnTo>
                    <a:pt x="451" y="274"/>
                  </a:lnTo>
                  <a:lnTo>
                    <a:pt x="458" y="268"/>
                  </a:lnTo>
                  <a:lnTo>
                    <a:pt x="470" y="262"/>
                  </a:lnTo>
                  <a:lnTo>
                    <a:pt x="477" y="262"/>
                  </a:lnTo>
                  <a:lnTo>
                    <a:pt x="489" y="256"/>
                  </a:lnTo>
                  <a:lnTo>
                    <a:pt x="496" y="256"/>
                  </a:lnTo>
                  <a:lnTo>
                    <a:pt x="508" y="249"/>
                  </a:lnTo>
                  <a:lnTo>
                    <a:pt x="521" y="243"/>
                  </a:lnTo>
                  <a:lnTo>
                    <a:pt x="527" y="237"/>
                  </a:lnTo>
                  <a:lnTo>
                    <a:pt x="534" y="224"/>
                  </a:lnTo>
                  <a:lnTo>
                    <a:pt x="534" y="218"/>
                  </a:lnTo>
                  <a:lnTo>
                    <a:pt x="534" y="212"/>
                  </a:lnTo>
                  <a:lnTo>
                    <a:pt x="540" y="206"/>
                  </a:lnTo>
                  <a:lnTo>
                    <a:pt x="547" y="206"/>
                  </a:lnTo>
                  <a:lnTo>
                    <a:pt x="553" y="206"/>
                  </a:lnTo>
                  <a:lnTo>
                    <a:pt x="559" y="212"/>
                  </a:lnTo>
                  <a:lnTo>
                    <a:pt x="559" y="224"/>
                  </a:lnTo>
                  <a:lnTo>
                    <a:pt x="559" y="237"/>
                  </a:lnTo>
                  <a:lnTo>
                    <a:pt x="559" y="249"/>
                  </a:lnTo>
                  <a:lnTo>
                    <a:pt x="566" y="256"/>
                  </a:lnTo>
                  <a:lnTo>
                    <a:pt x="572" y="256"/>
                  </a:lnTo>
                  <a:lnTo>
                    <a:pt x="578" y="256"/>
                  </a:lnTo>
                  <a:lnTo>
                    <a:pt x="585" y="249"/>
                  </a:lnTo>
                  <a:lnTo>
                    <a:pt x="591" y="237"/>
                  </a:lnTo>
                  <a:lnTo>
                    <a:pt x="597" y="231"/>
                  </a:lnTo>
                  <a:lnTo>
                    <a:pt x="591" y="212"/>
                  </a:lnTo>
                  <a:lnTo>
                    <a:pt x="597" y="199"/>
                  </a:lnTo>
                  <a:lnTo>
                    <a:pt x="597" y="187"/>
                  </a:lnTo>
                  <a:lnTo>
                    <a:pt x="597" y="175"/>
                  </a:lnTo>
                  <a:lnTo>
                    <a:pt x="604" y="168"/>
                  </a:lnTo>
                  <a:lnTo>
                    <a:pt x="610" y="156"/>
                  </a:lnTo>
                  <a:lnTo>
                    <a:pt x="629" y="143"/>
                  </a:lnTo>
                  <a:lnTo>
                    <a:pt x="648" y="137"/>
                  </a:lnTo>
                  <a:lnTo>
                    <a:pt x="674" y="131"/>
                  </a:lnTo>
                  <a:lnTo>
                    <a:pt x="699" y="119"/>
                  </a:lnTo>
                  <a:lnTo>
                    <a:pt x="718" y="112"/>
                  </a:lnTo>
                  <a:lnTo>
                    <a:pt x="744" y="100"/>
                  </a:lnTo>
                  <a:lnTo>
                    <a:pt x="763" y="87"/>
                  </a:lnTo>
                  <a:lnTo>
                    <a:pt x="775" y="75"/>
                  </a:lnTo>
                  <a:lnTo>
                    <a:pt x="788" y="63"/>
                  </a:lnTo>
                  <a:lnTo>
                    <a:pt x="801" y="38"/>
                  </a:lnTo>
                  <a:lnTo>
                    <a:pt x="813" y="25"/>
                  </a:lnTo>
                  <a:lnTo>
                    <a:pt x="826" y="19"/>
                  </a:lnTo>
                  <a:lnTo>
                    <a:pt x="845" y="13"/>
                  </a:lnTo>
                  <a:lnTo>
                    <a:pt x="864" y="7"/>
                  </a:lnTo>
                  <a:lnTo>
                    <a:pt x="877" y="7"/>
                  </a:lnTo>
                  <a:lnTo>
                    <a:pt x="896" y="0"/>
                  </a:lnTo>
                  <a:lnTo>
                    <a:pt x="890" y="13"/>
                  </a:lnTo>
                  <a:lnTo>
                    <a:pt x="890" y="19"/>
                  </a:lnTo>
                  <a:lnTo>
                    <a:pt x="890" y="25"/>
                  </a:lnTo>
                  <a:lnTo>
                    <a:pt x="890" y="38"/>
                  </a:lnTo>
                  <a:lnTo>
                    <a:pt x="890" y="44"/>
                  </a:lnTo>
                  <a:lnTo>
                    <a:pt x="890" y="50"/>
                  </a:lnTo>
                  <a:lnTo>
                    <a:pt x="890" y="63"/>
                  </a:lnTo>
                  <a:lnTo>
                    <a:pt x="890" y="69"/>
                  </a:lnTo>
                  <a:lnTo>
                    <a:pt x="883" y="75"/>
                  </a:lnTo>
                  <a:lnTo>
                    <a:pt x="877" y="81"/>
                  </a:lnTo>
                  <a:lnTo>
                    <a:pt x="871" y="75"/>
                  </a:lnTo>
                  <a:lnTo>
                    <a:pt x="864" y="75"/>
                  </a:lnTo>
                  <a:lnTo>
                    <a:pt x="864" y="87"/>
                  </a:lnTo>
                  <a:lnTo>
                    <a:pt x="864" y="100"/>
                  </a:lnTo>
                  <a:lnTo>
                    <a:pt x="864" y="106"/>
                  </a:lnTo>
                  <a:lnTo>
                    <a:pt x="852" y="106"/>
                  </a:lnTo>
                  <a:lnTo>
                    <a:pt x="845" y="106"/>
                  </a:lnTo>
                  <a:lnTo>
                    <a:pt x="839" y="112"/>
                  </a:lnTo>
                  <a:lnTo>
                    <a:pt x="845" y="119"/>
                  </a:lnTo>
                  <a:lnTo>
                    <a:pt x="852" y="131"/>
                  </a:lnTo>
                  <a:lnTo>
                    <a:pt x="852" y="143"/>
                  </a:lnTo>
                  <a:lnTo>
                    <a:pt x="858" y="156"/>
                  </a:lnTo>
                  <a:lnTo>
                    <a:pt x="858" y="162"/>
                  </a:lnTo>
                  <a:lnTo>
                    <a:pt x="852" y="168"/>
                  </a:lnTo>
                  <a:lnTo>
                    <a:pt x="839" y="168"/>
                  </a:lnTo>
                  <a:lnTo>
                    <a:pt x="839" y="175"/>
                  </a:lnTo>
                  <a:lnTo>
                    <a:pt x="826" y="175"/>
                  </a:lnTo>
                  <a:lnTo>
                    <a:pt x="820" y="175"/>
                  </a:lnTo>
                  <a:lnTo>
                    <a:pt x="813" y="181"/>
                  </a:lnTo>
                  <a:lnTo>
                    <a:pt x="813" y="193"/>
                  </a:lnTo>
                  <a:lnTo>
                    <a:pt x="813" y="199"/>
                  </a:lnTo>
                  <a:lnTo>
                    <a:pt x="820" y="206"/>
                  </a:lnTo>
                  <a:lnTo>
                    <a:pt x="820" y="212"/>
                  </a:lnTo>
                  <a:lnTo>
                    <a:pt x="820" y="218"/>
                  </a:lnTo>
                  <a:lnTo>
                    <a:pt x="820" y="224"/>
                  </a:lnTo>
                  <a:lnTo>
                    <a:pt x="826" y="231"/>
                  </a:lnTo>
                  <a:lnTo>
                    <a:pt x="826" y="237"/>
                  </a:lnTo>
                  <a:lnTo>
                    <a:pt x="826" y="243"/>
                  </a:lnTo>
                  <a:lnTo>
                    <a:pt x="820" y="249"/>
                  </a:lnTo>
                  <a:lnTo>
                    <a:pt x="820" y="243"/>
                  </a:lnTo>
                  <a:lnTo>
                    <a:pt x="820" y="249"/>
                  </a:lnTo>
                  <a:lnTo>
                    <a:pt x="820" y="256"/>
                  </a:lnTo>
                  <a:lnTo>
                    <a:pt x="820" y="262"/>
                  </a:lnTo>
                  <a:lnTo>
                    <a:pt x="820" y="268"/>
                  </a:lnTo>
                  <a:lnTo>
                    <a:pt x="813" y="280"/>
                  </a:lnTo>
                  <a:lnTo>
                    <a:pt x="820" y="287"/>
                  </a:lnTo>
                  <a:lnTo>
                    <a:pt x="813" y="287"/>
                  </a:lnTo>
                  <a:lnTo>
                    <a:pt x="813" y="293"/>
                  </a:lnTo>
                  <a:lnTo>
                    <a:pt x="820" y="293"/>
                  </a:lnTo>
                  <a:lnTo>
                    <a:pt x="826" y="293"/>
                  </a:lnTo>
                  <a:lnTo>
                    <a:pt x="820" y="299"/>
                  </a:lnTo>
                  <a:lnTo>
                    <a:pt x="826" y="305"/>
                  </a:lnTo>
                  <a:lnTo>
                    <a:pt x="832" y="305"/>
                  </a:lnTo>
                  <a:lnTo>
                    <a:pt x="832" y="312"/>
                  </a:lnTo>
                  <a:lnTo>
                    <a:pt x="826" y="318"/>
                  </a:lnTo>
                  <a:lnTo>
                    <a:pt x="826" y="312"/>
                  </a:lnTo>
                  <a:lnTo>
                    <a:pt x="820" y="318"/>
                  </a:lnTo>
                  <a:lnTo>
                    <a:pt x="826" y="324"/>
                  </a:lnTo>
                  <a:lnTo>
                    <a:pt x="826" y="336"/>
                  </a:lnTo>
                  <a:lnTo>
                    <a:pt x="832" y="336"/>
                  </a:lnTo>
                  <a:lnTo>
                    <a:pt x="839" y="336"/>
                  </a:lnTo>
                  <a:lnTo>
                    <a:pt x="845" y="343"/>
                  </a:lnTo>
                  <a:lnTo>
                    <a:pt x="845" y="349"/>
                  </a:lnTo>
                  <a:lnTo>
                    <a:pt x="852" y="349"/>
                  </a:lnTo>
                  <a:lnTo>
                    <a:pt x="852" y="355"/>
                  </a:lnTo>
                  <a:lnTo>
                    <a:pt x="871" y="361"/>
                  </a:lnTo>
                  <a:lnTo>
                    <a:pt x="883" y="361"/>
                  </a:lnTo>
                  <a:lnTo>
                    <a:pt x="883" y="368"/>
                  </a:lnTo>
                  <a:lnTo>
                    <a:pt x="902" y="368"/>
                  </a:lnTo>
                  <a:lnTo>
                    <a:pt x="921" y="374"/>
                  </a:lnTo>
                  <a:lnTo>
                    <a:pt x="934" y="380"/>
                  </a:lnTo>
                  <a:lnTo>
                    <a:pt x="941" y="374"/>
                  </a:lnTo>
                  <a:lnTo>
                    <a:pt x="947" y="368"/>
                  </a:lnTo>
                  <a:lnTo>
                    <a:pt x="947" y="355"/>
                  </a:lnTo>
                  <a:lnTo>
                    <a:pt x="953" y="349"/>
                  </a:lnTo>
                  <a:lnTo>
                    <a:pt x="960" y="343"/>
                  </a:lnTo>
                  <a:lnTo>
                    <a:pt x="972" y="336"/>
                  </a:lnTo>
                  <a:lnTo>
                    <a:pt x="979" y="336"/>
                  </a:lnTo>
                  <a:lnTo>
                    <a:pt x="991" y="336"/>
                  </a:lnTo>
                  <a:lnTo>
                    <a:pt x="998" y="336"/>
                  </a:lnTo>
                  <a:lnTo>
                    <a:pt x="1004" y="336"/>
                  </a:lnTo>
                  <a:lnTo>
                    <a:pt x="1023" y="336"/>
                  </a:lnTo>
                  <a:lnTo>
                    <a:pt x="1036" y="349"/>
                  </a:lnTo>
                  <a:lnTo>
                    <a:pt x="1049" y="355"/>
                  </a:lnTo>
                  <a:lnTo>
                    <a:pt x="1055" y="355"/>
                  </a:lnTo>
                  <a:lnTo>
                    <a:pt x="1061" y="355"/>
                  </a:lnTo>
                  <a:lnTo>
                    <a:pt x="1061" y="349"/>
                  </a:lnTo>
                  <a:lnTo>
                    <a:pt x="1068" y="343"/>
                  </a:lnTo>
                  <a:lnTo>
                    <a:pt x="1074" y="343"/>
                  </a:lnTo>
                  <a:lnTo>
                    <a:pt x="1080" y="349"/>
                  </a:lnTo>
                  <a:lnTo>
                    <a:pt x="1087" y="349"/>
                  </a:lnTo>
                  <a:lnTo>
                    <a:pt x="1093" y="343"/>
                  </a:lnTo>
                  <a:lnTo>
                    <a:pt x="1106" y="343"/>
                  </a:lnTo>
                  <a:lnTo>
                    <a:pt x="1112" y="355"/>
                  </a:lnTo>
                  <a:lnTo>
                    <a:pt x="1125" y="355"/>
                  </a:lnTo>
                  <a:lnTo>
                    <a:pt x="1131" y="355"/>
                  </a:lnTo>
                  <a:lnTo>
                    <a:pt x="1138" y="349"/>
                  </a:lnTo>
                  <a:lnTo>
                    <a:pt x="1138" y="343"/>
                  </a:lnTo>
                  <a:lnTo>
                    <a:pt x="1144" y="324"/>
                  </a:lnTo>
                  <a:lnTo>
                    <a:pt x="1150" y="318"/>
                  </a:lnTo>
                  <a:lnTo>
                    <a:pt x="1150" y="312"/>
                  </a:lnTo>
                  <a:lnTo>
                    <a:pt x="1150" y="305"/>
                  </a:lnTo>
                  <a:lnTo>
                    <a:pt x="1150" y="299"/>
                  </a:lnTo>
                  <a:lnTo>
                    <a:pt x="1150" y="293"/>
                  </a:lnTo>
                  <a:lnTo>
                    <a:pt x="1157" y="287"/>
                  </a:lnTo>
                  <a:lnTo>
                    <a:pt x="1163" y="293"/>
                  </a:lnTo>
                  <a:lnTo>
                    <a:pt x="1176" y="299"/>
                  </a:lnTo>
                  <a:lnTo>
                    <a:pt x="1182" y="293"/>
                  </a:lnTo>
                  <a:lnTo>
                    <a:pt x="1195" y="287"/>
                  </a:lnTo>
                  <a:lnTo>
                    <a:pt x="1195" y="293"/>
                  </a:lnTo>
                  <a:lnTo>
                    <a:pt x="1188" y="305"/>
                  </a:lnTo>
                  <a:lnTo>
                    <a:pt x="1182" y="312"/>
                  </a:lnTo>
                  <a:lnTo>
                    <a:pt x="1176" y="318"/>
                  </a:lnTo>
                  <a:lnTo>
                    <a:pt x="1176" y="324"/>
                  </a:lnTo>
                  <a:lnTo>
                    <a:pt x="1182" y="330"/>
                  </a:lnTo>
                  <a:lnTo>
                    <a:pt x="1188" y="330"/>
                  </a:lnTo>
                  <a:lnTo>
                    <a:pt x="1188" y="318"/>
                  </a:lnTo>
                  <a:lnTo>
                    <a:pt x="1195" y="324"/>
                  </a:lnTo>
                  <a:lnTo>
                    <a:pt x="1201" y="324"/>
                  </a:lnTo>
                  <a:lnTo>
                    <a:pt x="1207" y="324"/>
                  </a:lnTo>
                  <a:lnTo>
                    <a:pt x="1207" y="330"/>
                  </a:lnTo>
                  <a:lnTo>
                    <a:pt x="1220" y="330"/>
                  </a:lnTo>
                  <a:lnTo>
                    <a:pt x="1227" y="343"/>
                  </a:lnTo>
                  <a:lnTo>
                    <a:pt x="1233" y="343"/>
                  </a:lnTo>
                  <a:lnTo>
                    <a:pt x="1239" y="343"/>
                  </a:lnTo>
                  <a:lnTo>
                    <a:pt x="1246" y="355"/>
                  </a:lnTo>
                  <a:lnTo>
                    <a:pt x="1252" y="355"/>
                  </a:lnTo>
                  <a:lnTo>
                    <a:pt x="1258" y="343"/>
                  </a:lnTo>
                  <a:lnTo>
                    <a:pt x="1271" y="349"/>
                  </a:lnTo>
                  <a:lnTo>
                    <a:pt x="1284" y="349"/>
                  </a:lnTo>
                  <a:lnTo>
                    <a:pt x="1296" y="355"/>
                  </a:lnTo>
                  <a:lnTo>
                    <a:pt x="1303" y="355"/>
                  </a:lnTo>
                  <a:lnTo>
                    <a:pt x="1309" y="349"/>
                  </a:lnTo>
                  <a:lnTo>
                    <a:pt x="1303" y="343"/>
                  </a:lnTo>
                  <a:lnTo>
                    <a:pt x="1309" y="343"/>
                  </a:lnTo>
                  <a:lnTo>
                    <a:pt x="1322" y="343"/>
                  </a:lnTo>
                  <a:lnTo>
                    <a:pt x="1328" y="343"/>
                  </a:lnTo>
                  <a:lnTo>
                    <a:pt x="1341" y="343"/>
                  </a:lnTo>
                  <a:lnTo>
                    <a:pt x="1354" y="336"/>
                  </a:lnTo>
                  <a:lnTo>
                    <a:pt x="1366" y="343"/>
                  </a:lnTo>
                  <a:lnTo>
                    <a:pt x="1373" y="343"/>
                  </a:lnTo>
                  <a:lnTo>
                    <a:pt x="1379" y="349"/>
                  </a:lnTo>
                  <a:lnTo>
                    <a:pt x="1379" y="343"/>
                  </a:lnTo>
                  <a:lnTo>
                    <a:pt x="1366" y="336"/>
                  </a:lnTo>
                  <a:lnTo>
                    <a:pt x="1366" y="330"/>
                  </a:lnTo>
                  <a:lnTo>
                    <a:pt x="1366" y="324"/>
                  </a:lnTo>
                  <a:lnTo>
                    <a:pt x="1373" y="324"/>
                  </a:lnTo>
                  <a:lnTo>
                    <a:pt x="1385" y="336"/>
                  </a:lnTo>
                  <a:lnTo>
                    <a:pt x="1392" y="336"/>
                  </a:lnTo>
                  <a:lnTo>
                    <a:pt x="1398" y="324"/>
                  </a:lnTo>
                  <a:lnTo>
                    <a:pt x="1404" y="324"/>
                  </a:lnTo>
                  <a:lnTo>
                    <a:pt x="1411" y="324"/>
                  </a:lnTo>
                  <a:lnTo>
                    <a:pt x="1417" y="336"/>
                  </a:lnTo>
                  <a:lnTo>
                    <a:pt x="1424" y="349"/>
                  </a:lnTo>
                  <a:lnTo>
                    <a:pt x="1436" y="349"/>
                  </a:lnTo>
                  <a:lnTo>
                    <a:pt x="1449" y="355"/>
                  </a:lnTo>
                  <a:lnTo>
                    <a:pt x="1455" y="355"/>
                  </a:lnTo>
                  <a:lnTo>
                    <a:pt x="1455" y="361"/>
                  </a:lnTo>
                  <a:lnTo>
                    <a:pt x="1462" y="368"/>
                  </a:lnTo>
                  <a:lnTo>
                    <a:pt x="1462" y="374"/>
                  </a:lnTo>
                  <a:lnTo>
                    <a:pt x="1468" y="374"/>
                  </a:lnTo>
                  <a:lnTo>
                    <a:pt x="1474" y="374"/>
                  </a:lnTo>
                  <a:lnTo>
                    <a:pt x="1481" y="374"/>
                  </a:lnTo>
                  <a:lnTo>
                    <a:pt x="1487" y="361"/>
                  </a:lnTo>
                  <a:lnTo>
                    <a:pt x="1493" y="355"/>
                  </a:lnTo>
                  <a:lnTo>
                    <a:pt x="1500" y="368"/>
                  </a:lnTo>
                  <a:lnTo>
                    <a:pt x="1493" y="368"/>
                  </a:lnTo>
                  <a:lnTo>
                    <a:pt x="1493" y="374"/>
                  </a:lnTo>
                  <a:lnTo>
                    <a:pt x="1500" y="374"/>
                  </a:lnTo>
                  <a:lnTo>
                    <a:pt x="1506" y="374"/>
                  </a:lnTo>
                  <a:lnTo>
                    <a:pt x="1506" y="368"/>
                  </a:lnTo>
                  <a:lnTo>
                    <a:pt x="1544" y="361"/>
                  </a:lnTo>
                  <a:lnTo>
                    <a:pt x="1557" y="361"/>
                  </a:lnTo>
                  <a:lnTo>
                    <a:pt x="1563" y="374"/>
                  </a:lnTo>
                  <a:lnTo>
                    <a:pt x="1570" y="386"/>
                  </a:lnTo>
                  <a:lnTo>
                    <a:pt x="1589" y="386"/>
                  </a:lnTo>
                  <a:lnTo>
                    <a:pt x="1595" y="392"/>
                  </a:lnTo>
                  <a:lnTo>
                    <a:pt x="1601" y="392"/>
                  </a:lnTo>
                  <a:lnTo>
                    <a:pt x="1608" y="399"/>
                  </a:lnTo>
                  <a:lnTo>
                    <a:pt x="1608" y="386"/>
                  </a:lnTo>
                  <a:lnTo>
                    <a:pt x="1614" y="380"/>
                  </a:lnTo>
                  <a:lnTo>
                    <a:pt x="1614" y="374"/>
                  </a:lnTo>
                  <a:lnTo>
                    <a:pt x="1621" y="374"/>
                  </a:lnTo>
                  <a:lnTo>
                    <a:pt x="1633" y="374"/>
                  </a:lnTo>
                  <a:lnTo>
                    <a:pt x="1633" y="361"/>
                  </a:lnTo>
                  <a:lnTo>
                    <a:pt x="1640" y="355"/>
                  </a:lnTo>
                  <a:lnTo>
                    <a:pt x="1640" y="361"/>
                  </a:lnTo>
                  <a:lnTo>
                    <a:pt x="1652" y="361"/>
                  </a:lnTo>
                  <a:lnTo>
                    <a:pt x="1659" y="355"/>
                  </a:lnTo>
                  <a:lnTo>
                    <a:pt x="1665" y="349"/>
                  </a:lnTo>
                  <a:lnTo>
                    <a:pt x="1678" y="349"/>
                  </a:lnTo>
                  <a:lnTo>
                    <a:pt x="1690" y="349"/>
                  </a:lnTo>
                  <a:lnTo>
                    <a:pt x="1697" y="361"/>
                  </a:lnTo>
                  <a:lnTo>
                    <a:pt x="1703" y="361"/>
                  </a:lnTo>
                  <a:lnTo>
                    <a:pt x="1703" y="355"/>
                  </a:lnTo>
                  <a:lnTo>
                    <a:pt x="1703" y="349"/>
                  </a:lnTo>
                  <a:lnTo>
                    <a:pt x="1710" y="349"/>
                  </a:lnTo>
                  <a:lnTo>
                    <a:pt x="1716" y="349"/>
                  </a:lnTo>
                  <a:lnTo>
                    <a:pt x="1722" y="349"/>
                  </a:lnTo>
                  <a:lnTo>
                    <a:pt x="1716" y="355"/>
                  </a:lnTo>
                  <a:lnTo>
                    <a:pt x="1710" y="361"/>
                  </a:lnTo>
                  <a:lnTo>
                    <a:pt x="1710" y="368"/>
                  </a:lnTo>
                  <a:lnTo>
                    <a:pt x="1716" y="374"/>
                  </a:lnTo>
                  <a:lnTo>
                    <a:pt x="1722" y="380"/>
                  </a:lnTo>
                  <a:lnTo>
                    <a:pt x="1722" y="392"/>
                  </a:lnTo>
                  <a:lnTo>
                    <a:pt x="1729" y="399"/>
                  </a:lnTo>
                  <a:lnTo>
                    <a:pt x="1735" y="399"/>
                  </a:lnTo>
                  <a:lnTo>
                    <a:pt x="1741" y="405"/>
                  </a:lnTo>
                  <a:lnTo>
                    <a:pt x="1748" y="411"/>
                  </a:lnTo>
                  <a:lnTo>
                    <a:pt x="1748" y="417"/>
                  </a:lnTo>
                  <a:lnTo>
                    <a:pt x="1754" y="424"/>
                  </a:lnTo>
                  <a:lnTo>
                    <a:pt x="1760" y="424"/>
                  </a:lnTo>
                  <a:lnTo>
                    <a:pt x="1767" y="430"/>
                  </a:lnTo>
                  <a:lnTo>
                    <a:pt x="1773" y="430"/>
                  </a:lnTo>
                  <a:lnTo>
                    <a:pt x="1773" y="436"/>
                  </a:lnTo>
                  <a:lnTo>
                    <a:pt x="1786" y="442"/>
                  </a:lnTo>
                  <a:lnTo>
                    <a:pt x="1792" y="442"/>
                  </a:lnTo>
                  <a:lnTo>
                    <a:pt x="1799" y="436"/>
                  </a:lnTo>
                  <a:lnTo>
                    <a:pt x="1799" y="442"/>
                  </a:lnTo>
                  <a:lnTo>
                    <a:pt x="1805" y="442"/>
                  </a:lnTo>
                  <a:lnTo>
                    <a:pt x="1799" y="448"/>
                  </a:lnTo>
                  <a:lnTo>
                    <a:pt x="1799" y="461"/>
                  </a:lnTo>
                  <a:lnTo>
                    <a:pt x="1792" y="467"/>
                  </a:lnTo>
                  <a:lnTo>
                    <a:pt x="1792" y="473"/>
                  </a:lnTo>
                  <a:lnTo>
                    <a:pt x="1792" y="480"/>
                  </a:lnTo>
                  <a:lnTo>
                    <a:pt x="1786" y="480"/>
                  </a:lnTo>
                  <a:lnTo>
                    <a:pt x="1786" y="486"/>
                  </a:lnTo>
                  <a:lnTo>
                    <a:pt x="1779" y="486"/>
                  </a:lnTo>
                  <a:lnTo>
                    <a:pt x="1779" y="492"/>
                  </a:lnTo>
                  <a:lnTo>
                    <a:pt x="1779" y="498"/>
                  </a:lnTo>
                  <a:lnTo>
                    <a:pt x="1773" y="498"/>
                  </a:lnTo>
                  <a:lnTo>
                    <a:pt x="1767" y="498"/>
                  </a:lnTo>
                  <a:lnTo>
                    <a:pt x="1760" y="498"/>
                  </a:lnTo>
                  <a:lnTo>
                    <a:pt x="1754" y="504"/>
                  </a:lnTo>
                  <a:lnTo>
                    <a:pt x="1741" y="517"/>
                  </a:lnTo>
                  <a:lnTo>
                    <a:pt x="1735" y="523"/>
                  </a:lnTo>
                  <a:lnTo>
                    <a:pt x="1735" y="529"/>
                  </a:lnTo>
                  <a:lnTo>
                    <a:pt x="1729" y="542"/>
                  </a:lnTo>
                  <a:lnTo>
                    <a:pt x="1729" y="548"/>
                  </a:lnTo>
                  <a:lnTo>
                    <a:pt x="1735" y="554"/>
                  </a:lnTo>
                  <a:lnTo>
                    <a:pt x="1729" y="561"/>
                  </a:lnTo>
                  <a:lnTo>
                    <a:pt x="1729" y="567"/>
                  </a:lnTo>
                  <a:lnTo>
                    <a:pt x="1722" y="573"/>
                  </a:lnTo>
                  <a:lnTo>
                    <a:pt x="1722" y="579"/>
                  </a:lnTo>
                  <a:lnTo>
                    <a:pt x="1716" y="585"/>
                  </a:lnTo>
                  <a:lnTo>
                    <a:pt x="1716" y="598"/>
                  </a:lnTo>
                  <a:lnTo>
                    <a:pt x="1716" y="604"/>
                  </a:lnTo>
                  <a:lnTo>
                    <a:pt x="1722" y="604"/>
                  </a:lnTo>
                  <a:lnTo>
                    <a:pt x="1729" y="604"/>
                  </a:lnTo>
                  <a:lnTo>
                    <a:pt x="1741" y="610"/>
                  </a:lnTo>
                  <a:lnTo>
                    <a:pt x="1741" y="617"/>
                  </a:lnTo>
                  <a:lnTo>
                    <a:pt x="1735" y="623"/>
                  </a:lnTo>
                  <a:lnTo>
                    <a:pt x="1741" y="623"/>
                  </a:lnTo>
                  <a:lnTo>
                    <a:pt x="1741" y="629"/>
                  </a:lnTo>
                  <a:lnTo>
                    <a:pt x="1735" y="629"/>
                  </a:lnTo>
                  <a:lnTo>
                    <a:pt x="1729" y="629"/>
                  </a:lnTo>
                  <a:lnTo>
                    <a:pt x="1729" y="635"/>
                  </a:lnTo>
                  <a:lnTo>
                    <a:pt x="1729" y="641"/>
                  </a:lnTo>
                  <a:lnTo>
                    <a:pt x="1729" y="654"/>
                  </a:lnTo>
                  <a:lnTo>
                    <a:pt x="1722" y="648"/>
                  </a:lnTo>
                  <a:lnTo>
                    <a:pt x="1722" y="641"/>
                  </a:lnTo>
                  <a:lnTo>
                    <a:pt x="1716" y="648"/>
                  </a:lnTo>
                  <a:lnTo>
                    <a:pt x="1710" y="648"/>
                  </a:lnTo>
                  <a:lnTo>
                    <a:pt x="1710" y="654"/>
                  </a:lnTo>
                  <a:lnTo>
                    <a:pt x="1716" y="660"/>
                  </a:lnTo>
                  <a:lnTo>
                    <a:pt x="1716" y="666"/>
                  </a:lnTo>
                  <a:lnTo>
                    <a:pt x="1716" y="673"/>
                  </a:lnTo>
                  <a:lnTo>
                    <a:pt x="1716" y="679"/>
                  </a:lnTo>
                  <a:lnTo>
                    <a:pt x="1710" y="685"/>
                  </a:lnTo>
                  <a:lnTo>
                    <a:pt x="1716" y="685"/>
                  </a:lnTo>
                  <a:lnTo>
                    <a:pt x="1710" y="691"/>
                  </a:lnTo>
                  <a:lnTo>
                    <a:pt x="1716" y="691"/>
                  </a:lnTo>
                  <a:lnTo>
                    <a:pt x="1722" y="697"/>
                  </a:lnTo>
                  <a:lnTo>
                    <a:pt x="1716" y="704"/>
                  </a:lnTo>
                  <a:lnTo>
                    <a:pt x="1716" y="710"/>
                  </a:lnTo>
                  <a:lnTo>
                    <a:pt x="1722" y="716"/>
                  </a:lnTo>
                  <a:lnTo>
                    <a:pt x="1716" y="716"/>
                  </a:lnTo>
                  <a:lnTo>
                    <a:pt x="1710" y="722"/>
                  </a:lnTo>
                  <a:lnTo>
                    <a:pt x="1716" y="729"/>
                  </a:lnTo>
                  <a:lnTo>
                    <a:pt x="1716" y="741"/>
                  </a:lnTo>
                  <a:lnTo>
                    <a:pt x="1716" y="747"/>
                  </a:lnTo>
                  <a:lnTo>
                    <a:pt x="1716" y="753"/>
                  </a:lnTo>
                  <a:lnTo>
                    <a:pt x="1710" y="760"/>
                  </a:lnTo>
                  <a:lnTo>
                    <a:pt x="1697" y="766"/>
                  </a:lnTo>
                  <a:lnTo>
                    <a:pt x="1690" y="766"/>
                  </a:lnTo>
                  <a:lnTo>
                    <a:pt x="1690" y="760"/>
                  </a:lnTo>
                  <a:lnTo>
                    <a:pt x="1690" y="766"/>
                  </a:lnTo>
                  <a:lnTo>
                    <a:pt x="1684" y="772"/>
                  </a:lnTo>
                  <a:lnTo>
                    <a:pt x="1684" y="778"/>
                  </a:lnTo>
                  <a:lnTo>
                    <a:pt x="1678" y="785"/>
                  </a:lnTo>
                  <a:lnTo>
                    <a:pt x="1678" y="778"/>
                  </a:lnTo>
                  <a:lnTo>
                    <a:pt x="1671" y="778"/>
                  </a:lnTo>
                  <a:lnTo>
                    <a:pt x="1665" y="778"/>
                  </a:lnTo>
                  <a:lnTo>
                    <a:pt x="1665" y="785"/>
                  </a:lnTo>
                  <a:lnTo>
                    <a:pt x="1659" y="785"/>
                  </a:lnTo>
                  <a:lnTo>
                    <a:pt x="1665" y="791"/>
                  </a:lnTo>
                  <a:lnTo>
                    <a:pt x="1665" y="797"/>
                  </a:lnTo>
                  <a:lnTo>
                    <a:pt x="1665" y="803"/>
                  </a:lnTo>
                  <a:lnTo>
                    <a:pt x="1671" y="803"/>
                  </a:lnTo>
                  <a:lnTo>
                    <a:pt x="1678" y="803"/>
                  </a:lnTo>
                  <a:lnTo>
                    <a:pt x="1684" y="803"/>
                  </a:lnTo>
                  <a:lnTo>
                    <a:pt x="1690" y="803"/>
                  </a:lnTo>
                  <a:lnTo>
                    <a:pt x="1697" y="803"/>
                  </a:lnTo>
                  <a:lnTo>
                    <a:pt x="1697" y="797"/>
                  </a:lnTo>
                  <a:lnTo>
                    <a:pt x="1703" y="803"/>
                  </a:lnTo>
                  <a:lnTo>
                    <a:pt x="1710" y="809"/>
                  </a:lnTo>
                  <a:lnTo>
                    <a:pt x="1710" y="822"/>
                  </a:lnTo>
                  <a:lnTo>
                    <a:pt x="1716" y="822"/>
                  </a:lnTo>
                  <a:lnTo>
                    <a:pt x="1729" y="822"/>
                  </a:lnTo>
                  <a:lnTo>
                    <a:pt x="1735" y="828"/>
                  </a:lnTo>
                  <a:lnTo>
                    <a:pt x="1741" y="828"/>
                  </a:lnTo>
                  <a:lnTo>
                    <a:pt x="1748" y="828"/>
                  </a:lnTo>
                  <a:lnTo>
                    <a:pt x="1748" y="834"/>
                  </a:lnTo>
                  <a:lnTo>
                    <a:pt x="1754" y="841"/>
                  </a:lnTo>
                  <a:lnTo>
                    <a:pt x="1760" y="834"/>
                  </a:lnTo>
                  <a:lnTo>
                    <a:pt x="1767" y="834"/>
                  </a:lnTo>
                  <a:lnTo>
                    <a:pt x="1779" y="834"/>
                  </a:lnTo>
                  <a:lnTo>
                    <a:pt x="1792" y="834"/>
                  </a:lnTo>
                  <a:lnTo>
                    <a:pt x="1792" y="828"/>
                  </a:lnTo>
                  <a:lnTo>
                    <a:pt x="1792" y="809"/>
                  </a:lnTo>
                  <a:lnTo>
                    <a:pt x="1792" y="797"/>
                  </a:lnTo>
                  <a:lnTo>
                    <a:pt x="1799" y="785"/>
                  </a:lnTo>
                  <a:lnTo>
                    <a:pt x="1805" y="772"/>
                  </a:lnTo>
                  <a:lnTo>
                    <a:pt x="1811" y="760"/>
                  </a:lnTo>
                  <a:lnTo>
                    <a:pt x="1830" y="741"/>
                  </a:lnTo>
                  <a:lnTo>
                    <a:pt x="1843" y="735"/>
                  </a:lnTo>
                  <a:lnTo>
                    <a:pt x="1862" y="722"/>
                  </a:lnTo>
                  <a:lnTo>
                    <a:pt x="1875" y="716"/>
                  </a:lnTo>
                  <a:lnTo>
                    <a:pt x="1887" y="704"/>
                  </a:lnTo>
                  <a:lnTo>
                    <a:pt x="1907" y="697"/>
                  </a:lnTo>
                  <a:lnTo>
                    <a:pt x="1913" y="685"/>
                  </a:lnTo>
                  <a:lnTo>
                    <a:pt x="1919" y="679"/>
                  </a:lnTo>
                  <a:lnTo>
                    <a:pt x="1926" y="666"/>
                  </a:lnTo>
                  <a:lnTo>
                    <a:pt x="1926" y="648"/>
                  </a:lnTo>
                  <a:lnTo>
                    <a:pt x="1926" y="635"/>
                  </a:lnTo>
                  <a:lnTo>
                    <a:pt x="1932" y="629"/>
                  </a:lnTo>
                  <a:lnTo>
                    <a:pt x="1945" y="617"/>
                  </a:lnTo>
                  <a:lnTo>
                    <a:pt x="1957" y="617"/>
                  </a:lnTo>
                  <a:lnTo>
                    <a:pt x="1976" y="617"/>
                  </a:lnTo>
                  <a:lnTo>
                    <a:pt x="1989" y="617"/>
                  </a:lnTo>
                  <a:lnTo>
                    <a:pt x="2002" y="617"/>
                  </a:lnTo>
                  <a:lnTo>
                    <a:pt x="2002" y="610"/>
                  </a:lnTo>
                  <a:lnTo>
                    <a:pt x="2015" y="604"/>
                  </a:lnTo>
                  <a:lnTo>
                    <a:pt x="2027" y="598"/>
                  </a:lnTo>
                  <a:lnTo>
                    <a:pt x="2034" y="598"/>
                  </a:lnTo>
                  <a:lnTo>
                    <a:pt x="2040" y="598"/>
                  </a:lnTo>
                  <a:lnTo>
                    <a:pt x="2053" y="598"/>
                  </a:lnTo>
                  <a:lnTo>
                    <a:pt x="2059" y="610"/>
                  </a:lnTo>
                  <a:lnTo>
                    <a:pt x="2065" y="617"/>
                  </a:lnTo>
                  <a:lnTo>
                    <a:pt x="2085" y="617"/>
                  </a:lnTo>
                  <a:lnTo>
                    <a:pt x="2097" y="617"/>
                  </a:lnTo>
                  <a:lnTo>
                    <a:pt x="2104" y="623"/>
                  </a:lnTo>
                  <a:lnTo>
                    <a:pt x="2104" y="641"/>
                  </a:lnTo>
                  <a:lnTo>
                    <a:pt x="2110" y="654"/>
                  </a:lnTo>
                  <a:lnTo>
                    <a:pt x="2129" y="660"/>
                  </a:lnTo>
                  <a:lnTo>
                    <a:pt x="2135" y="666"/>
                  </a:lnTo>
                  <a:lnTo>
                    <a:pt x="2142" y="679"/>
                  </a:lnTo>
                  <a:lnTo>
                    <a:pt x="2148" y="685"/>
                  </a:lnTo>
                  <a:lnTo>
                    <a:pt x="2142" y="710"/>
                  </a:lnTo>
                  <a:lnTo>
                    <a:pt x="2135" y="722"/>
                  </a:lnTo>
                  <a:lnTo>
                    <a:pt x="2135" y="735"/>
                  </a:lnTo>
                  <a:lnTo>
                    <a:pt x="2129" y="747"/>
                  </a:lnTo>
                  <a:lnTo>
                    <a:pt x="2129" y="766"/>
                  </a:lnTo>
                  <a:lnTo>
                    <a:pt x="2123" y="778"/>
                  </a:lnTo>
                  <a:lnTo>
                    <a:pt x="2129" y="797"/>
                  </a:lnTo>
                  <a:lnTo>
                    <a:pt x="2097" y="803"/>
                  </a:lnTo>
                  <a:lnTo>
                    <a:pt x="2085" y="797"/>
                  </a:lnTo>
                  <a:lnTo>
                    <a:pt x="2078" y="791"/>
                  </a:lnTo>
                  <a:lnTo>
                    <a:pt x="2065" y="785"/>
                  </a:lnTo>
                  <a:lnTo>
                    <a:pt x="2053" y="791"/>
                  </a:lnTo>
                  <a:lnTo>
                    <a:pt x="2040" y="797"/>
                  </a:lnTo>
                  <a:lnTo>
                    <a:pt x="2027" y="803"/>
                  </a:lnTo>
                  <a:lnTo>
                    <a:pt x="2021" y="816"/>
                  </a:lnTo>
                  <a:lnTo>
                    <a:pt x="2015" y="822"/>
                  </a:lnTo>
                  <a:lnTo>
                    <a:pt x="2015" y="834"/>
                  </a:lnTo>
                  <a:lnTo>
                    <a:pt x="2015" y="853"/>
                  </a:lnTo>
                  <a:lnTo>
                    <a:pt x="2008" y="866"/>
                  </a:lnTo>
                  <a:lnTo>
                    <a:pt x="2002" y="872"/>
                  </a:lnTo>
                  <a:lnTo>
                    <a:pt x="1996" y="878"/>
                  </a:lnTo>
                  <a:lnTo>
                    <a:pt x="1989" y="878"/>
                  </a:lnTo>
                  <a:lnTo>
                    <a:pt x="1983" y="872"/>
                  </a:lnTo>
                  <a:lnTo>
                    <a:pt x="1957" y="847"/>
                  </a:lnTo>
                  <a:lnTo>
                    <a:pt x="1926" y="803"/>
                  </a:lnTo>
                  <a:lnTo>
                    <a:pt x="1913" y="791"/>
                  </a:lnTo>
                  <a:lnTo>
                    <a:pt x="1900" y="785"/>
                  </a:lnTo>
                  <a:lnTo>
                    <a:pt x="1887" y="785"/>
                  </a:lnTo>
                  <a:lnTo>
                    <a:pt x="1875" y="785"/>
                  </a:lnTo>
                  <a:lnTo>
                    <a:pt x="1849" y="791"/>
                  </a:lnTo>
                  <a:lnTo>
                    <a:pt x="1837" y="803"/>
                  </a:lnTo>
                  <a:lnTo>
                    <a:pt x="1824" y="809"/>
                  </a:lnTo>
                  <a:lnTo>
                    <a:pt x="1811" y="828"/>
                  </a:lnTo>
                  <a:lnTo>
                    <a:pt x="1799" y="847"/>
                  </a:lnTo>
                  <a:lnTo>
                    <a:pt x="1786" y="859"/>
                  </a:lnTo>
                  <a:lnTo>
                    <a:pt x="1773" y="878"/>
                  </a:lnTo>
                  <a:lnTo>
                    <a:pt x="1767" y="903"/>
                  </a:lnTo>
                  <a:lnTo>
                    <a:pt x="1767" y="915"/>
                  </a:lnTo>
                  <a:lnTo>
                    <a:pt x="1760" y="922"/>
                  </a:lnTo>
                  <a:lnTo>
                    <a:pt x="1754" y="922"/>
                  </a:lnTo>
                  <a:lnTo>
                    <a:pt x="1748" y="922"/>
                  </a:lnTo>
                  <a:lnTo>
                    <a:pt x="1741" y="922"/>
                  </a:lnTo>
                  <a:lnTo>
                    <a:pt x="1729" y="922"/>
                  </a:lnTo>
                  <a:lnTo>
                    <a:pt x="1716" y="915"/>
                  </a:lnTo>
                  <a:lnTo>
                    <a:pt x="1703" y="909"/>
                  </a:lnTo>
                  <a:lnTo>
                    <a:pt x="1690" y="903"/>
                  </a:lnTo>
                  <a:lnTo>
                    <a:pt x="1671" y="903"/>
                  </a:lnTo>
                  <a:lnTo>
                    <a:pt x="1665" y="909"/>
                  </a:lnTo>
                  <a:lnTo>
                    <a:pt x="1646" y="915"/>
                  </a:lnTo>
                  <a:lnTo>
                    <a:pt x="1640" y="928"/>
                  </a:lnTo>
                  <a:lnTo>
                    <a:pt x="1627" y="934"/>
                  </a:lnTo>
                  <a:lnTo>
                    <a:pt x="1621" y="940"/>
                  </a:lnTo>
                  <a:lnTo>
                    <a:pt x="1595" y="934"/>
                  </a:lnTo>
                  <a:lnTo>
                    <a:pt x="1582" y="934"/>
                  </a:lnTo>
                  <a:lnTo>
                    <a:pt x="1563" y="928"/>
                  </a:lnTo>
                  <a:lnTo>
                    <a:pt x="1551" y="922"/>
                  </a:lnTo>
                  <a:lnTo>
                    <a:pt x="1538" y="915"/>
                  </a:lnTo>
                  <a:lnTo>
                    <a:pt x="1525" y="909"/>
                  </a:lnTo>
                  <a:lnTo>
                    <a:pt x="1513" y="903"/>
                  </a:lnTo>
                  <a:lnTo>
                    <a:pt x="1506" y="903"/>
                  </a:lnTo>
                  <a:lnTo>
                    <a:pt x="1487" y="903"/>
                  </a:lnTo>
                  <a:lnTo>
                    <a:pt x="1468" y="909"/>
                  </a:lnTo>
                  <a:lnTo>
                    <a:pt x="1455" y="915"/>
                  </a:lnTo>
                  <a:lnTo>
                    <a:pt x="1449" y="928"/>
                  </a:lnTo>
                  <a:lnTo>
                    <a:pt x="1436" y="934"/>
                  </a:lnTo>
                  <a:lnTo>
                    <a:pt x="1430" y="934"/>
                  </a:lnTo>
                  <a:lnTo>
                    <a:pt x="1424" y="940"/>
                  </a:lnTo>
                  <a:lnTo>
                    <a:pt x="1404" y="934"/>
                  </a:lnTo>
                  <a:lnTo>
                    <a:pt x="1398" y="940"/>
                  </a:lnTo>
                  <a:lnTo>
                    <a:pt x="1392" y="946"/>
                  </a:lnTo>
                  <a:lnTo>
                    <a:pt x="1379" y="959"/>
                  </a:lnTo>
                  <a:lnTo>
                    <a:pt x="1379" y="971"/>
                  </a:lnTo>
                  <a:lnTo>
                    <a:pt x="1373" y="984"/>
                  </a:lnTo>
                  <a:lnTo>
                    <a:pt x="1373" y="1009"/>
                  </a:lnTo>
                  <a:lnTo>
                    <a:pt x="1379" y="1027"/>
                  </a:lnTo>
                  <a:lnTo>
                    <a:pt x="1385" y="1046"/>
                  </a:lnTo>
                  <a:lnTo>
                    <a:pt x="1385" y="1065"/>
                  </a:lnTo>
                  <a:lnTo>
                    <a:pt x="1385" y="1077"/>
                  </a:lnTo>
                  <a:lnTo>
                    <a:pt x="1385" y="1096"/>
                  </a:lnTo>
                  <a:lnTo>
                    <a:pt x="1379" y="1121"/>
                  </a:lnTo>
                  <a:lnTo>
                    <a:pt x="1373" y="1121"/>
                  </a:lnTo>
                  <a:lnTo>
                    <a:pt x="1373" y="1133"/>
                  </a:lnTo>
                  <a:lnTo>
                    <a:pt x="1366" y="1146"/>
                  </a:lnTo>
                  <a:lnTo>
                    <a:pt x="1354" y="1158"/>
                  </a:lnTo>
                  <a:lnTo>
                    <a:pt x="1341" y="1164"/>
                  </a:lnTo>
                  <a:lnTo>
                    <a:pt x="1335" y="1164"/>
                  </a:lnTo>
                  <a:lnTo>
                    <a:pt x="1316" y="1164"/>
                  </a:lnTo>
                  <a:lnTo>
                    <a:pt x="1303" y="1171"/>
                  </a:lnTo>
                  <a:lnTo>
                    <a:pt x="1296" y="1177"/>
                  </a:lnTo>
                  <a:lnTo>
                    <a:pt x="1296" y="1189"/>
                  </a:lnTo>
                  <a:lnTo>
                    <a:pt x="1296" y="1195"/>
                  </a:lnTo>
                  <a:lnTo>
                    <a:pt x="1296" y="1202"/>
                  </a:lnTo>
                  <a:lnTo>
                    <a:pt x="1296" y="1214"/>
                  </a:lnTo>
                  <a:lnTo>
                    <a:pt x="1296" y="1233"/>
                  </a:lnTo>
                  <a:lnTo>
                    <a:pt x="1290" y="1245"/>
                  </a:lnTo>
                  <a:lnTo>
                    <a:pt x="1284" y="1258"/>
                  </a:lnTo>
                  <a:lnTo>
                    <a:pt x="1265" y="1270"/>
                  </a:lnTo>
                  <a:lnTo>
                    <a:pt x="1252" y="1276"/>
                  </a:lnTo>
                  <a:lnTo>
                    <a:pt x="1239" y="1276"/>
                  </a:lnTo>
                  <a:lnTo>
                    <a:pt x="1227" y="1270"/>
                  </a:lnTo>
                  <a:lnTo>
                    <a:pt x="1207" y="1270"/>
                  </a:lnTo>
                  <a:lnTo>
                    <a:pt x="1195" y="1264"/>
                  </a:lnTo>
                  <a:lnTo>
                    <a:pt x="1188" y="1264"/>
                  </a:lnTo>
                  <a:lnTo>
                    <a:pt x="1169" y="1270"/>
                  </a:lnTo>
                  <a:lnTo>
                    <a:pt x="1157" y="1270"/>
                  </a:lnTo>
                  <a:lnTo>
                    <a:pt x="1138" y="1270"/>
                  </a:lnTo>
                  <a:lnTo>
                    <a:pt x="1125" y="1270"/>
                  </a:lnTo>
                  <a:lnTo>
                    <a:pt x="1118" y="1270"/>
                  </a:lnTo>
                  <a:lnTo>
                    <a:pt x="1106" y="1264"/>
                  </a:lnTo>
                  <a:lnTo>
                    <a:pt x="1093" y="1264"/>
                  </a:lnTo>
                  <a:lnTo>
                    <a:pt x="1080" y="1245"/>
                  </a:lnTo>
                  <a:lnTo>
                    <a:pt x="1061" y="1233"/>
                  </a:lnTo>
                  <a:lnTo>
                    <a:pt x="1049" y="1220"/>
                  </a:lnTo>
                  <a:lnTo>
                    <a:pt x="1036" y="1208"/>
                  </a:lnTo>
                  <a:lnTo>
                    <a:pt x="1017" y="1189"/>
                  </a:lnTo>
                  <a:lnTo>
                    <a:pt x="1010" y="1177"/>
                  </a:lnTo>
                  <a:lnTo>
                    <a:pt x="1010" y="1164"/>
                  </a:lnTo>
                  <a:lnTo>
                    <a:pt x="1004" y="1152"/>
                  </a:lnTo>
                  <a:lnTo>
                    <a:pt x="1004" y="1139"/>
                  </a:lnTo>
                  <a:lnTo>
                    <a:pt x="991" y="1133"/>
                  </a:lnTo>
                  <a:lnTo>
                    <a:pt x="979" y="1121"/>
                  </a:lnTo>
                  <a:lnTo>
                    <a:pt x="966" y="1121"/>
                  </a:lnTo>
                  <a:lnTo>
                    <a:pt x="941" y="1115"/>
                  </a:lnTo>
                  <a:lnTo>
                    <a:pt x="921" y="1108"/>
                  </a:lnTo>
                  <a:lnTo>
                    <a:pt x="909" y="1108"/>
                  </a:lnTo>
                  <a:lnTo>
                    <a:pt x="890" y="1102"/>
                  </a:lnTo>
                  <a:lnTo>
                    <a:pt x="877" y="1096"/>
                  </a:lnTo>
                  <a:lnTo>
                    <a:pt x="864" y="1090"/>
                  </a:lnTo>
                  <a:lnTo>
                    <a:pt x="852" y="1077"/>
                  </a:lnTo>
                  <a:lnTo>
                    <a:pt x="839" y="1077"/>
                  </a:lnTo>
                  <a:lnTo>
                    <a:pt x="826" y="1077"/>
                  </a:lnTo>
                  <a:lnTo>
                    <a:pt x="820" y="1077"/>
                  </a:lnTo>
                  <a:lnTo>
                    <a:pt x="820" y="1083"/>
                  </a:lnTo>
                  <a:lnTo>
                    <a:pt x="813" y="1096"/>
                  </a:lnTo>
                  <a:lnTo>
                    <a:pt x="813" y="1108"/>
                  </a:lnTo>
                  <a:lnTo>
                    <a:pt x="813" y="1115"/>
                  </a:lnTo>
                  <a:lnTo>
                    <a:pt x="813" y="1127"/>
                  </a:lnTo>
                  <a:lnTo>
                    <a:pt x="807" y="1139"/>
                  </a:lnTo>
                  <a:lnTo>
                    <a:pt x="801" y="1146"/>
                  </a:lnTo>
                  <a:lnTo>
                    <a:pt x="794" y="1152"/>
                  </a:lnTo>
                  <a:lnTo>
                    <a:pt x="782" y="1158"/>
                  </a:lnTo>
                  <a:lnTo>
                    <a:pt x="769" y="1152"/>
                  </a:lnTo>
                  <a:lnTo>
                    <a:pt x="763" y="1152"/>
                  </a:lnTo>
                  <a:lnTo>
                    <a:pt x="750" y="1152"/>
                  </a:lnTo>
                  <a:lnTo>
                    <a:pt x="731" y="1158"/>
                  </a:lnTo>
                  <a:lnTo>
                    <a:pt x="693" y="1177"/>
                  </a:lnTo>
                  <a:lnTo>
                    <a:pt x="629" y="1208"/>
                  </a:lnTo>
                  <a:lnTo>
                    <a:pt x="585" y="1233"/>
                  </a:lnTo>
                  <a:lnTo>
                    <a:pt x="547" y="1258"/>
                  </a:lnTo>
                  <a:lnTo>
                    <a:pt x="540" y="1270"/>
                  </a:lnTo>
                  <a:lnTo>
                    <a:pt x="527" y="1283"/>
                  </a:lnTo>
                  <a:lnTo>
                    <a:pt x="508" y="1307"/>
                  </a:lnTo>
                  <a:lnTo>
                    <a:pt x="502" y="1314"/>
                  </a:lnTo>
                  <a:lnTo>
                    <a:pt x="489" y="1326"/>
                  </a:lnTo>
                  <a:lnTo>
                    <a:pt x="477" y="1332"/>
                  </a:lnTo>
                  <a:lnTo>
                    <a:pt x="464" y="1332"/>
                  </a:lnTo>
                  <a:lnTo>
                    <a:pt x="451" y="1332"/>
                  </a:lnTo>
                  <a:lnTo>
                    <a:pt x="432" y="1326"/>
                  </a:lnTo>
                  <a:lnTo>
                    <a:pt x="426" y="1320"/>
                  </a:lnTo>
                  <a:lnTo>
                    <a:pt x="413" y="1320"/>
                  </a:lnTo>
                  <a:lnTo>
                    <a:pt x="413" y="1326"/>
                  </a:lnTo>
                  <a:lnTo>
                    <a:pt x="407" y="1332"/>
                  </a:lnTo>
                  <a:lnTo>
                    <a:pt x="400" y="1345"/>
                  </a:lnTo>
                  <a:lnTo>
                    <a:pt x="394" y="1351"/>
                  </a:lnTo>
                  <a:lnTo>
                    <a:pt x="388" y="1363"/>
                  </a:lnTo>
                  <a:lnTo>
                    <a:pt x="375" y="1370"/>
                  </a:lnTo>
                  <a:lnTo>
                    <a:pt x="369" y="1376"/>
                  </a:lnTo>
                  <a:lnTo>
                    <a:pt x="356" y="1376"/>
                  </a:lnTo>
                  <a:lnTo>
                    <a:pt x="343" y="1376"/>
                  </a:lnTo>
                  <a:lnTo>
                    <a:pt x="337" y="1376"/>
                  </a:lnTo>
                  <a:lnTo>
                    <a:pt x="337" y="1370"/>
                  </a:lnTo>
                  <a:lnTo>
                    <a:pt x="324" y="1357"/>
                  </a:lnTo>
                  <a:lnTo>
                    <a:pt x="318" y="1345"/>
                  </a:lnTo>
                  <a:lnTo>
                    <a:pt x="311" y="1326"/>
                  </a:lnTo>
                  <a:lnTo>
                    <a:pt x="311" y="1314"/>
                  </a:lnTo>
                  <a:lnTo>
                    <a:pt x="305" y="1301"/>
                  </a:lnTo>
                  <a:lnTo>
                    <a:pt x="305" y="1289"/>
                  </a:lnTo>
                  <a:lnTo>
                    <a:pt x="305" y="1270"/>
                  </a:lnTo>
                  <a:lnTo>
                    <a:pt x="305" y="1245"/>
                  </a:lnTo>
                  <a:lnTo>
                    <a:pt x="305" y="1233"/>
                  </a:lnTo>
                  <a:lnTo>
                    <a:pt x="299" y="1220"/>
                  </a:lnTo>
                  <a:lnTo>
                    <a:pt x="286" y="1214"/>
                  </a:lnTo>
                  <a:lnTo>
                    <a:pt x="273" y="1208"/>
                  </a:lnTo>
                  <a:lnTo>
                    <a:pt x="267" y="1208"/>
                  </a:lnTo>
                  <a:lnTo>
                    <a:pt x="254" y="1208"/>
                  </a:lnTo>
                  <a:lnTo>
                    <a:pt x="241" y="1214"/>
                  </a:lnTo>
                  <a:lnTo>
                    <a:pt x="235" y="1214"/>
                  </a:lnTo>
                  <a:lnTo>
                    <a:pt x="222" y="1214"/>
                  </a:lnTo>
                  <a:lnTo>
                    <a:pt x="210" y="1208"/>
                  </a:lnTo>
                  <a:lnTo>
                    <a:pt x="203" y="1202"/>
                  </a:lnTo>
                  <a:lnTo>
                    <a:pt x="191" y="1183"/>
                  </a:lnTo>
                  <a:lnTo>
                    <a:pt x="184" y="1164"/>
                  </a:lnTo>
                  <a:lnTo>
                    <a:pt x="184" y="1158"/>
                  </a:lnTo>
                  <a:lnTo>
                    <a:pt x="184" y="1146"/>
                  </a:lnTo>
                  <a:lnTo>
                    <a:pt x="184" y="1133"/>
                  </a:lnTo>
                  <a:lnTo>
                    <a:pt x="191" y="1133"/>
                  </a:lnTo>
                  <a:lnTo>
                    <a:pt x="197" y="1115"/>
                  </a:lnTo>
                  <a:lnTo>
                    <a:pt x="203" y="1102"/>
                  </a:lnTo>
                  <a:lnTo>
                    <a:pt x="203" y="1083"/>
                  </a:lnTo>
                  <a:lnTo>
                    <a:pt x="197" y="1071"/>
                  </a:lnTo>
                  <a:lnTo>
                    <a:pt x="197" y="1058"/>
                  </a:lnTo>
                  <a:lnTo>
                    <a:pt x="191" y="1052"/>
                  </a:lnTo>
                  <a:lnTo>
                    <a:pt x="184" y="1040"/>
                  </a:lnTo>
                  <a:lnTo>
                    <a:pt x="178" y="1040"/>
                  </a:lnTo>
                  <a:lnTo>
                    <a:pt x="159" y="1040"/>
                  </a:lnTo>
                  <a:lnTo>
                    <a:pt x="140" y="1040"/>
                  </a:lnTo>
                  <a:lnTo>
                    <a:pt x="121" y="1040"/>
                  </a:lnTo>
                  <a:lnTo>
                    <a:pt x="108" y="1034"/>
                  </a:lnTo>
                  <a:lnTo>
                    <a:pt x="95" y="1027"/>
                  </a:lnTo>
                  <a:lnTo>
                    <a:pt x="95" y="1015"/>
                  </a:lnTo>
                  <a:lnTo>
                    <a:pt x="95" y="1002"/>
                  </a:lnTo>
                  <a:lnTo>
                    <a:pt x="95" y="990"/>
                  </a:lnTo>
                  <a:lnTo>
                    <a:pt x="89" y="971"/>
                  </a:lnTo>
                  <a:lnTo>
                    <a:pt x="89" y="965"/>
                  </a:lnTo>
                  <a:lnTo>
                    <a:pt x="83" y="953"/>
                  </a:lnTo>
                  <a:lnTo>
                    <a:pt x="70" y="946"/>
                  </a:lnTo>
                  <a:lnTo>
                    <a:pt x="57" y="946"/>
                  </a:lnTo>
                  <a:lnTo>
                    <a:pt x="38" y="946"/>
                  </a:lnTo>
                  <a:lnTo>
                    <a:pt x="32" y="946"/>
                  </a:lnTo>
                  <a:lnTo>
                    <a:pt x="25" y="953"/>
                  </a:lnTo>
                  <a:lnTo>
                    <a:pt x="13" y="940"/>
                  </a:lnTo>
                  <a:lnTo>
                    <a:pt x="13" y="934"/>
                  </a:lnTo>
                  <a:lnTo>
                    <a:pt x="13" y="922"/>
                  </a:lnTo>
                  <a:lnTo>
                    <a:pt x="13" y="909"/>
                  </a:lnTo>
                  <a:lnTo>
                    <a:pt x="13" y="897"/>
                  </a:lnTo>
                  <a:lnTo>
                    <a:pt x="6" y="884"/>
                  </a:lnTo>
                  <a:lnTo>
                    <a:pt x="0" y="866"/>
                  </a:lnTo>
                  <a:lnTo>
                    <a:pt x="0" y="859"/>
                  </a:lnTo>
                  <a:lnTo>
                    <a:pt x="6" y="847"/>
                  </a:lnTo>
                  <a:lnTo>
                    <a:pt x="13" y="841"/>
                  </a:lnTo>
                  <a:lnTo>
                    <a:pt x="19" y="834"/>
                  </a:lnTo>
                  <a:lnTo>
                    <a:pt x="44" y="816"/>
                  </a:lnTo>
                  <a:lnTo>
                    <a:pt x="70" y="797"/>
                  </a:lnTo>
                  <a:lnTo>
                    <a:pt x="95" y="785"/>
                  </a:lnTo>
                  <a:lnTo>
                    <a:pt x="114" y="778"/>
                  </a:lnTo>
                  <a:lnTo>
                    <a:pt x="121" y="766"/>
                  </a:lnTo>
                  <a:lnTo>
                    <a:pt x="127" y="753"/>
                  </a:lnTo>
                  <a:lnTo>
                    <a:pt x="121" y="741"/>
                  </a:lnTo>
                  <a:lnTo>
                    <a:pt x="114" y="735"/>
                  </a:lnTo>
                  <a:lnTo>
                    <a:pt x="108" y="729"/>
                  </a:lnTo>
                  <a:lnTo>
                    <a:pt x="102" y="722"/>
                  </a:lnTo>
                  <a:lnTo>
                    <a:pt x="102" y="716"/>
                  </a:lnTo>
                  <a:lnTo>
                    <a:pt x="102" y="704"/>
                  </a:lnTo>
                  <a:lnTo>
                    <a:pt x="108" y="697"/>
                  </a:lnTo>
                  <a:lnTo>
                    <a:pt x="121" y="697"/>
                  </a:lnTo>
                  <a:lnTo>
                    <a:pt x="152" y="697"/>
                  </a:lnTo>
                  <a:lnTo>
                    <a:pt x="165" y="697"/>
                  </a:lnTo>
                  <a:lnTo>
                    <a:pt x="178" y="697"/>
                  </a:lnTo>
                  <a:lnTo>
                    <a:pt x="191" y="697"/>
                  </a:lnTo>
                  <a:lnTo>
                    <a:pt x="203" y="691"/>
                  </a:lnTo>
                  <a:lnTo>
                    <a:pt x="210" y="679"/>
                  </a:lnTo>
                  <a:lnTo>
                    <a:pt x="210" y="673"/>
                  </a:lnTo>
                  <a:lnTo>
                    <a:pt x="216" y="660"/>
                  </a:lnTo>
                  <a:lnTo>
                    <a:pt x="229" y="648"/>
                  </a:lnTo>
                  <a:lnTo>
                    <a:pt x="235" y="641"/>
                  </a:lnTo>
                  <a:lnTo>
                    <a:pt x="248" y="635"/>
                  </a:lnTo>
                  <a:lnTo>
                    <a:pt x="254" y="635"/>
                  </a:lnTo>
                  <a:lnTo>
                    <a:pt x="261" y="629"/>
                  </a:lnTo>
                  <a:lnTo>
                    <a:pt x="261" y="623"/>
                  </a:lnTo>
                  <a:lnTo>
                    <a:pt x="254" y="610"/>
                  </a:lnTo>
                  <a:lnTo>
                    <a:pt x="248" y="598"/>
                  </a:lnTo>
                  <a:lnTo>
                    <a:pt x="235" y="585"/>
                  </a:lnTo>
                  <a:lnTo>
                    <a:pt x="216" y="579"/>
                  </a:lnTo>
                  <a:lnTo>
                    <a:pt x="210" y="567"/>
                  </a:lnTo>
                  <a:lnTo>
                    <a:pt x="210" y="554"/>
                  </a:lnTo>
                  <a:lnTo>
                    <a:pt x="210" y="542"/>
                  </a:lnTo>
                  <a:lnTo>
                    <a:pt x="229" y="536"/>
                  </a:lnTo>
                  <a:lnTo>
                    <a:pt x="235" y="536"/>
                  </a:lnTo>
                  <a:lnTo>
                    <a:pt x="248" y="542"/>
                  </a:lnTo>
                  <a:lnTo>
                    <a:pt x="254" y="554"/>
                  </a:lnTo>
                  <a:lnTo>
                    <a:pt x="267" y="554"/>
                  </a:lnTo>
                  <a:lnTo>
                    <a:pt x="273" y="554"/>
                  </a:lnTo>
                  <a:lnTo>
                    <a:pt x="286" y="548"/>
                  </a:lnTo>
                  <a:lnTo>
                    <a:pt x="286" y="536"/>
                  </a:lnTo>
                  <a:lnTo>
                    <a:pt x="292" y="529"/>
                  </a:lnTo>
                  <a:lnTo>
                    <a:pt x="292" y="517"/>
                  </a:lnTo>
                  <a:lnTo>
                    <a:pt x="299" y="511"/>
                  </a:lnTo>
                  <a:lnTo>
                    <a:pt x="305" y="498"/>
                  </a:lnTo>
                  <a:lnTo>
                    <a:pt x="311" y="492"/>
                  </a:lnTo>
                  <a:lnTo>
                    <a:pt x="318" y="480"/>
                  </a:lnTo>
                  <a:lnTo>
                    <a:pt x="324" y="473"/>
                  </a:lnTo>
                  <a:lnTo>
                    <a:pt x="330" y="461"/>
                  </a:lnTo>
                  <a:lnTo>
                    <a:pt x="337" y="461"/>
                  </a:lnTo>
                  <a:lnTo>
                    <a:pt x="356" y="461"/>
                  </a:lnTo>
                  <a:lnTo>
                    <a:pt x="369" y="461"/>
                  </a:lnTo>
                  <a:lnTo>
                    <a:pt x="375" y="461"/>
                  </a:lnTo>
                  <a:lnTo>
                    <a:pt x="381" y="455"/>
                  </a:lnTo>
                  <a:lnTo>
                    <a:pt x="381" y="442"/>
                  </a:lnTo>
                  <a:lnTo>
                    <a:pt x="381" y="436"/>
                  </a:lnTo>
                  <a:lnTo>
                    <a:pt x="375" y="424"/>
                  </a:lnTo>
                  <a:lnTo>
                    <a:pt x="375" y="417"/>
                  </a:lnTo>
                  <a:lnTo>
                    <a:pt x="375" y="405"/>
                  </a:lnTo>
                  <a:lnTo>
                    <a:pt x="381" y="392"/>
                  </a:lnTo>
                  <a:lnTo>
                    <a:pt x="388" y="374"/>
                  </a:lnTo>
                  <a:lnTo>
                    <a:pt x="394" y="355"/>
                  </a:lnTo>
                  <a:lnTo>
                    <a:pt x="400" y="336"/>
                  </a:lnTo>
                  <a:lnTo>
                    <a:pt x="400" y="324"/>
                  </a:lnTo>
                  <a:lnTo>
                    <a:pt x="400" y="318"/>
                  </a:lnTo>
                  <a:lnTo>
                    <a:pt x="394" y="312"/>
                  </a:lnTo>
                  <a:lnTo>
                    <a:pt x="394" y="305"/>
                  </a:lnTo>
                  <a:lnTo>
                    <a:pt x="394" y="299"/>
                  </a:lnTo>
                  <a:lnTo>
                    <a:pt x="394" y="293"/>
                  </a:lnTo>
                  <a:lnTo>
                    <a:pt x="400" y="293"/>
                  </a:lnTo>
                  <a:lnTo>
                    <a:pt x="407" y="287"/>
                  </a:lnTo>
                  <a:lnTo>
                    <a:pt x="413" y="287"/>
                  </a:lnTo>
                  <a:lnTo>
                    <a:pt x="419" y="293"/>
                  </a:lnTo>
                  <a:lnTo>
                    <a:pt x="426" y="287"/>
                  </a:lnTo>
                  <a:lnTo>
                    <a:pt x="432" y="287"/>
                  </a:lnTo>
                  <a:lnTo>
                    <a:pt x="438" y="2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28880" y="7678800"/>
              <a:ext cx="29880" cy="493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31"/>
                  </a:moveTo>
                  <a:lnTo>
                    <a:pt x="0" y="31"/>
                  </a:lnTo>
                  <a:lnTo>
                    <a:pt x="19" y="24"/>
                  </a:lnTo>
                  <a:lnTo>
                    <a:pt x="19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8760" y="766764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7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69920" y="7639200"/>
              <a:ext cx="19080" cy="77760"/>
            </a:xfrm>
            <a:custGeom>
              <a:avLst/>
              <a:gdLst/>
              <a:ahLst/>
              <a:rect l="l" t="t" r="r" b="b"/>
              <a:pathLst>
                <a:path w="12" h="49">
                  <a:moveTo>
                    <a:pt x="0" y="18"/>
                  </a:moveTo>
                  <a:lnTo>
                    <a:pt x="0" y="49"/>
                  </a:lnTo>
                  <a:lnTo>
                    <a:pt x="12" y="49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89000" y="7608960"/>
              <a:ext cx="20520" cy="108000"/>
            </a:xfrm>
            <a:custGeom>
              <a:avLst/>
              <a:gdLst/>
              <a:ahLst/>
              <a:rect l="l" t="t" r="r" b="b"/>
              <a:pathLst>
                <a:path w="13" h="68">
                  <a:moveTo>
                    <a:pt x="0" y="19"/>
                  </a:moveTo>
                  <a:lnTo>
                    <a:pt x="0" y="68"/>
                  </a:lnTo>
                  <a:lnTo>
                    <a:pt x="13" y="68"/>
                  </a:lnTo>
                  <a:lnTo>
                    <a:pt x="1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09520" y="759924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6"/>
                  </a:moveTo>
                  <a:lnTo>
                    <a:pt x="0" y="74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119240" y="758988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6"/>
                  </a:moveTo>
                  <a:lnTo>
                    <a:pt x="0" y="87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30400" y="7578720"/>
              <a:ext cx="936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7"/>
                  </a:moveTo>
                  <a:lnTo>
                    <a:pt x="0" y="94"/>
                  </a:lnTo>
                  <a:lnTo>
                    <a:pt x="6" y="1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139760" y="7569360"/>
              <a:ext cx="11160" cy="187200"/>
            </a:xfrm>
            <a:custGeom>
              <a:avLst/>
              <a:gdLst/>
              <a:ahLst/>
              <a:rect l="l" t="t" r="r" b="b"/>
              <a:pathLst>
                <a:path w="7" h="118">
                  <a:moveTo>
                    <a:pt x="0" y="6"/>
                  </a:moveTo>
                  <a:lnTo>
                    <a:pt x="0" y="106"/>
                  </a:lnTo>
                  <a:lnTo>
                    <a:pt x="7" y="1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1150920" y="6649920"/>
            <a:ext cx="1582920" cy="2252880"/>
            <a:chOff x="1150920" y="6649920"/>
            <a:chExt cx="1582920" cy="2252880"/>
          </a:xfrm>
        </p:grpSpPr>
        <p:sp>
          <p:nvSpPr>
            <p:cNvPr id="846" name=""/>
            <p:cNvSpPr/>
            <p:nvPr/>
          </p:nvSpPr>
          <p:spPr>
            <a:xfrm>
              <a:off x="1150920" y="7559640"/>
              <a:ext cx="9720" cy="20808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6"/>
                  </a:moveTo>
                  <a:lnTo>
                    <a:pt x="0" y="124"/>
                  </a:lnTo>
                  <a:lnTo>
                    <a:pt x="6" y="1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60640" y="7539120"/>
              <a:ext cx="20520" cy="257040"/>
            </a:xfrm>
            <a:custGeom>
              <a:avLst/>
              <a:gdLst/>
              <a:ahLst/>
              <a:rect l="l" t="t" r="r" b="b"/>
              <a:pathLst>
                <a:path w="13" h="162">
                  <a:moveTo>
                    <a:pt x="0" y="13"/>
                  </a:moveTo>
                  <a:lnTo>
                    <a:pt x="0" y="162"/>
                  </a:lnTo>
                  <a:lnTo>
                    <a:pt x="13" y="162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181160" y="7520040"/>
              <a:ext cx="19080" cy="276120"/>
            </a:xfrm>
            <a:custGeom>
              <a:avLst/>
              <a:gdLst/>
              <a:ahLst/>
              <a:rect l="l" t="t" r="r" b="b"/>
              <a:pathLst>
                <a:path w="12" h="174">
                  <a:moveTo>
                    <a:pt x="0" y="12"/>
                  </a:moveTo>
                  <a:lnTo>
                    <a:pt x="0" y="174"/>
                  </a:lnTo>
                  <a:lnTo>
                    <a:pt x="12" y="162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00240" y="7510320"/>
              <a:ext cx="1116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6"/>
                  </a:moveTo>
                  <a:lnTo>
                    <a:pt x="0" y="168"/>
                  </a:lnTo>
                  <a:lnTo>
                    <a:pt x="7" y="1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11400" y="7500960"/>
              <a:ext cx="19080" cy="276120"/>
            </a:xfrm>
            <a:custGeom>
              <a:avLst/>
              <a:gdLst/>
              <a:ahLst/>
              <a:rect l="l" t="t" r="r" b="b"/>
              <a:pathLst>
                <a:path w="12" h="174">
                  <a:moveTo>
                    <a:pt x="0" y="6"/>
                  </a:moveTo>
                  <a:lnTo>
                    <a:pt x="0" y="174"/>
                  </a:lnTo>
                  <a:lnTo>
                    <a:pt x="12" y="174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30480" y="7500960"/>
              <a:ext cx="10800" cy="285840"/>
            </a:xfrm>
            <a:custGeom>
              <a:avLst/>
              <a:gdLst/>
              <a:ahLst/>
              <a:rect l="l" t="t" r="r" b="b"/>
              <a:pathLst>
                <a:path w="7" h="180">
                  <a:moveTo>
                    <a:pt x="0" y="0"/>
                  </a:moveTo>
                  <a:lnTo>
                    <a:pt x="0" y="174"/>
                  </a:lnTo>
                  <a:lnTo>
                    <a:pt x="7" y="18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41280" y="7500960"/>
              <a:ext cx="972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51000" y="7489800"/>
              <a:ext cx="2052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7"/>
                  </a:moveTo>
                  <a:lnTo>
                    <a:pt x="0" y="193"/>
                  </a:lnTo>
                  <a:lnTo>
                    <a:pt x="13" y="199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71520" y="7489800"/>
              <a:ext cx="9720" cy="32688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0" y="0"/>
                  </a:moveTo>
                  <a:lnTo>
                    <a:pt x="0" y="199"/>
                  </a:lnTo>
                  <a:lnTo>
                    <a:pt x="6" y="2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281240" y="7489800"/>
              <a:ext cx="936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06"/>
                  </a:lnTo>
                  <a:lnTo>
                    <a:pt x="6" y="2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90600" y="7489800"/>
              <a:ext cx="20520" cy="355680"/>
            </a:xfrm>
            <a:custGeom>
              <a:avLst/>
              <a:gdLst/>
              <a:ahLst/>
              <a:rect l="l" t="t" r="r" b="b"/>
              <a:pathLst>
                <a:path w="13" h="224">
                  <a:moveTo>
                    <a:pt x="0" y="0"/>
                  </a:moveTo>
                  <a:lnTo>
                    <a:pt x="0" y="218"/>
                  </a:lnTo>
                  <a:lnTo>
                    <a:pt x="13" y="22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11120" y="7489800"/>
              <a:ext cx="11160" cy="376200"/>
            </a:xfrm>
            <a:custGeom>
              <a:avLst/>
              <a:gdLst/>
              <a:ahLst/>
              <a:rect l="l" t="t" r="r" b="b"/>
              <a:pathLst>
                <a:path w="7" h="237">
                  <a:moveTo>
                    <a:pt x="0" y="0"/>
                  </a:moveTo>
                  <a:lnTo>
                    <a:pt x="0" y="224"/>
                  </a:lnTo>
                  <a:lnTo>
                    <a:pt x="7" y="2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322280" y="7489800"/>
              <a:ext cx="972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37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32000" y="7489800"/>
              <a:ext cx="936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249"/>
                  </a:lnTo>
                  <a:lnTo>
                    <a:pt x="6" y="26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341360" y="7489800"/>
              <a:ext cx="11160" cy="434880"/>
            </a:xfrm>
            <a:custGeom>
              <a:avLst/>
              <a:gdLst/>
              <a:ahLst/>
              <a:rect l="l" t="t" r="r" b="b"/>
              <a:pathLst>
                <a:path w="7" h="274">
                  <a:moveTo>
                    <a:pt x="0" y="0"/>
                  </a:moveTo>
                  <a:lnTo>
                    <a:pt x="0" y="268"/>
                  </a:lnTo>
                  <a:lnTo>
                    <a:pt x="7" y="27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52520" y="7489800"/>
              <a:ext cx="19080" cy="355680"/>
            </a:xfrm>
            <a:custGeom>
              <a:avLst/>
              <a:gdLst/>
              <a:ahLst/>
              <a:rect l="l" t="t" r="r" b="b"/>
              <a:pathLst>
                <a:path w="12" h="224">
                  <a:moveTo>
                    <a:pt x="0" y="0"/>
                  </a:moveTo>
                  <a:lnTo>
                    <a:pt x="0" y="224"/>
                  </a:lnTo>
                  <a:lnTo>
                    <a:pt x="12" y="21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71600" y="7489800"/>
              <a:ext cx="20520" cy="345960"/>
            </a:xfrm>
            <a:custGeom>
              <a:avLst/>
              <a:gdLst/>
              <a:ahLst/>
              <a:rect l="l" t="t" r="r" b="b"/>
              <a:pathLst>
                <a:path w="13" h="218">
                  <a:moveTo>
                    <a:pt x="0" y="0"/>
                  </a:moveTo>
                  <a:lnTo>
                    <a:pt x="0" y="218"/>
                  </a:lnTo>
                  <a:lnTo>
                    <a:pt x="13" y="212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392120" y="7489800"/>
              <a:ext cx="9720" cy="336600"/>
            </a:xfrm>
            <a:custGeom>
              <a:avLst/>
              <a:gdLst/>
              <a:ahLst/>
              <a:rect l="l" t="t" r="r" b="b"/>
              <a:pathLst>
                <a:path w="6" h="212">
                  <a:moveTo>
                    <a:pt x="0" y="0"/>
                  </a:moveTo>
                  <a:lnTo>
                    <a:pt x="0" y="212"/>
                  </a:lnTo>
                  <a:lnTo>
                    <a:pt x="6" y="2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01840" y="7480440"/>
              <a:ext cx="11160" cy="33624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6"/>
                  </a:moveTo>
                  <a:lnTo>
                    <a:pt x="0" y="212"/>
                  </a:lnTo>
                  <a:lnTo>
                    <a:pt x="7" y="19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13000" y="7480440"/>
              <a:ext cx="9360" cy="26640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422360" y="748044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432080" y="7480440"/>
              <a:ext cx="1080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442880" y="7480440"/>
              <a:ext cx="972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452600" y="7470720"/>
              <a:ext cx="11160" cy="257400"/>
            </a:xfrm>
            <a:custGeom>
              <a:avLst/>
              <a:gdLst/>
              <a:ahLst/>
              <a:rect l="l" t="t" r="r" b="b"/>
              <a:pathLst>
                <a:path w="7" h="162">
                  <a:moveTo>
                    <a:pt x="0" y="6"/>
                  </a:moveTo>
                  <a:lnTo>
                    <a:pt x="0" y="162"/>
                  </a:lnTo>
                  <a:lnTo>
                    <a:pt x="7" y="16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463760" y="7461360"/>
              <a:ext cx="19080" cy="266760"/>
            </a:xfrm>
            <a:custGeom>
              <a:avLst/>
              <a:gdLst/>
              <a:ahLst/>
              <a:rect l="l" t="t" r="r" b="b"/>
              <a:pathLst>
                <a:path w="12" h="168">
                  <a:moveTo>
                    <a:pt x="0" y="6"/>
                  </a:moveTo>
                  <a:lnTo>
                    <a:pt x="0" y="168"/>
                  </a:lnTo>
                  <a:lnTo>
                    <a:pt x="12" y="168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482840" y="745020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7"/>
                  </a:moveTo>
                  <a:lnTo>
                    <a:pt x="0" y="175"/>
                  </a:lnTo>
                  <a:lnTo>
                    <a:pt x="7" y="18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494000" y="7440480"/>
              <a:ext cx="936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0" y="6"/>
                  </a:moveTo>
                  <a:lnTo>
                    <a:pt x="0" y="187"/>
                  </a:lnTo>
                  <a:lnTo>
                    <a:pt x="6" y="18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503360" y="7440480"/>
              <a:ext cx="936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0" y="0"/>
                  </a:moveTo>
                  <a:lnTo>
                    <a:pt x="0" y="187"/>
                  </a:lnTo>
                  <a:lnTo>
                    <a:pt x="6" y="1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12720" y="743112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6"/>
                  </a:moveTo>
                  <a:lnTo>
                    <a:pt x="0" y="187"/>
                  </a:lnTo>
                  <a:lnTo>
                    <a:pt x="7" y="17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523880" y="743112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533600" y="7421400"/>
              <a:ext cx="9360" cy="25740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6"/>
                  </a:moveTo>
                  <a:lnTo>
                    <a:pt x="0" y="162"/>
                  </a:lnTo>
                  <a:lnTo>
                    <a:pt x="6" y="1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542960" y="7421400"/>
              <a:ext cx="11160" cy="246240"/>
            </a:xfrm>
            <a:custGeom>
              <a:avLst/>
              <a:gdLst/>
              <a:ahLst/>
              <a:rect l="l" t="t" r="r" b="b"/>
              <a:pathLst>
                <a:path w="7" h="155">
                  <a:moveTo>
                    <a:pt x="0" y="0"/>
                  </a:moveTo>
                  <a:lnTo>
                    <a:pt x="0" y="155"/>
                  </a:lnTo>
                  <a:lnTo>
                    <a:pt x="7" y="1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554120" y="7410600"/>
              <a:ext cx="19080" cy="24768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0" y="7"/>
                  </a:moveTo>
                  <a:lnTo>
                    <a:pt x="0" y="156"/>
                  </a:lnTo>
                  <a:lnTo>
                    <a:pt x="12" y="150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573200" y="7400880"/>
              <a:ext cx="20520" cy="247680"/>
            </a:xfrm>
            <a:custGeom>
              <a:avLst/>
              <a:gdLst/>
              <a:ahLst/>
              <a:rect l="l" t="t" r="r" b="b"/>
              <a:pathLst>
                <a:path w="13" h="156">
                  <a:moveTo>
                    <a:pt x="0" y="6"/>
                  </a:moveTo>
                  <a:lnTo>
                    <a:pt x="0" y="156"/>
                  </a:lnTo>
                  <a:lnTo>
                    <a:pt x="13" y="15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93720" y="7391520"/>
              <a:ext cx="11160" cy="247680"/>
            </a:xfrm>
            <a:custGeom>
              <a:avLst/>
              <a:gdLst/>
              <a:ahLst/>
              <a:rect l="l" t="t" r="r" b="b"/>
              <a:pathLst>
                <a:path w="7" h="156">
                  <a:moveTo>
                    <a:pt x="0" y="6"/>
                  </a:moveTo>
                  <a:lnTo>
                    <a:pt x="0" y="156"/>
                  </a:lnTo>
                  <a:lnTo>
                    <a:pt x="7" y="15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04880" y="7381800"/>
              <a:ext cx="19080" cy="257400"/>
            </a:xfrm>
            <a:custGeom>
              <a:avLst/>
              <a:gdLst/>
              <a:ahLst/>
              <a:rect l="l" t="t" r="r" b="b"/>
              <a:pathLst>
                <a:path w="12" h="162">
                  <a:moveTo>
                    <a:pt x="0" y="6"/>
                  </a:moveTo>
                  <a:lnTo>
                    <a:pt x="0" y="162"/>
                  </a:lnTo>
                  <a:lnTo>
                    <a:pt x="12" y="16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23960" y="7372440"/>
              <a:ext cx="20520" cy="276120"/>
            </a:xfrm>
            <a:custGeom>
              <a:avLst/>
              <a:gdLst/>
              <a:ahLst/>
              <a:rect l="l" t="t" r="r" b="b"/>
              <a:pathLst>
                <a:path w="13" h="174">
                  <a:moveTo>
                    <a:pt x="0" y="6"/>
                  </a:moveTo>
                  <a:lnTo>
                    <a:pt x="0" y="168"/>
                  </a:lnTo>
                  <a:lnTo>
                    <a:pt x="13" y="174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44480" y="7361280"/>
              <a:ext cx="9720" cy="317520"/>
            </a:xfrm>
            <a:custGeom>
              <a:avLst/>
              <a:gdLst/>
              <a:ahLst/>
              <a:rect l="l" t="t" r="r" b="b"/>
              <a:pathLst>
                <a:path w="6" h="200">
                  <a:moveTo>
                    <a:pt x="0" y="7"/>
                  </a:moveTo>
                  <a:lnTo>
                    <a:pt x="0" y="187"/>
                  </a:lnTo>
                  <a:lnTo>
                    <a:pt x="6" y="2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654200" y="7351560"/>
              <a:ext cx="11160" cy="33660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6"/>
                  </a:moveTo>
                  <a:lnTo>
                    <a:pt x="0" y="206"/>
                  </a:lnTo>
                  <a:lnTo>
                    <a:pt x="7" y="2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665360" y="7342200"/>
              <a:ext cx="9360" cy="35568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6"/>
                  </a:moveTo>
                  <a:lnTo>
                    <a:pt x="0" y="218"/>
                  </a:lnTo>
                  <a:lnTo>
                    <a:pt x="6" y="2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674720" y="7332840"/>
              <a:ext cx="9720" cy="384120"/>
            </a:xfrm>
            <a:custGeom>
              <a:avLst/>
              <a:gdLst/>
              <a:ahLst/>
              <a:rect l="l" t="t" r="r" b="b"/>
              <a:pathLst>
                <a:path w="6" h="242">
                  <a:moveTo>
                    <a:pt x="0" y="6"/>
                  </a:moveTo>
                  <a:lnTo>
                    <a:pt x="0" y="230"/>
                  </a:lnTo>
                  <a:lnTo>
                    <a:pt x="6" y="2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684440" y="732168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7"/>
                  </a:moveTo>
                  <a:lnTo>
                    <a:pt x="0" y="249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95600" y="7311960"/>
              <a:ext cx="9360" cy="40500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6"/>
                  </a:moveTo>
                  <a:lnTo>
                    <a:pt x="0" y="255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704960" y="7292880"/>
              <a:ext cx="9720" cy="424080"/>
            </a:xfrm>
            <a:custGeom>
              <a:avLst/>
              <a:gdLst/>
              <a:ahLst/>
              <a:rect l="l" t="t" r="r" b="b"/>
              <a:pathLst>
                <a:path w="6" h="267">
                  <a:moveTo>
                    <a:pt x="0" y="12"/>
                  </a:moveTo>
                  <a:lnTo>
                    <a:pt x="0" y="267"/>
                  </a:lnTo>
                  <a:lnTo>
                    <a:pt x="6" y="267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714680" y="7272360"/>
              <a:ext cx="1080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13"/>
                  </a:moveTo>
                  <a:lnTo>
                    <a:pt x="0" y="249"/>
                  </a:lnTo>
                  <a:lnTo>
                    <a:pt x="7" y="237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25480" y="7253280"/>
              <a:ext cx="9720" cy="40500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12"/>
                  </a:moveTo>
                  <a:lnTo>
                    <a:pt x="0" y="249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35200" y="7232760"/>
              <a:ext cx="936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13"/>
                  </a:moveTo>
                  <a:lnTo>
                    <a:pt x="0" y="268"/>
                  </a:lnTo>
                  <a:lnTo>
                    <a:pt x="6" y="268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55720" y="7213680"/>
              <a:ext cx="9720" cy="414360"/>
            </a:xfrm>
            <a:custGeom>
              <a:avLst/>
              <a:gdLst/>
              <a:ahLst/>
              <a:rect l="l" t="t" r="r" b="b"/>
              <a:pathLst>
                <a:path w="6" h="261">
                  <a:moveTo>
                    <a:pt x="0" y="6"/>
                  </a:moveTo>
                  <a:lnTo>
                    <a:pt x="0" y="261"/>
                  </a:lnTo>
                  <a:lnTo>
                    <a:pt x="6" y="24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44560" y="7223040"/>
              <a:ext cx="11160" cy="444600"/>
            </a:xfrm>
            <a:custGeom>
              <a:avLst/>
              <a:gdLst/>
              <a:ahLst/>
              <a:rect l="l" t="t" r="r" b="b"/>
              <a:pathLst>
                <a:path w="7" h="280">
                  <a:moveTo>
                    <a:pt x="0" y="6"/>
                  </a:moveTo>
                  <a:lnTo>
                    <a:pt x="0" y="274"/>
                  </a:lnTo>
                  <a:lnTo>
                    <a:pt x="7" y="2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55720" y="76280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65440" y="7203960"/>
              <a:ext cx="1080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6"/>
                  </a:moveTo>
                  <a:lnTo>
                    <a:pt x="0" y="249"/>
                  </a:lnTo>
                  <a:lnTo>
                    <a:pt x="7" y="2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65440" y="764856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776240" y="7194600"/>
              <a:ext cx="972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6"/>
                  </a:moveTo>
                  <a:lnTo>
                    <a:pt x="0" y="249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76240" y="765828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85960" y="7194600"/>
              <a:ext cx="936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85960" y="765828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0" y="13"/>
                  </a:lnTo>
                  <a:lnTo>
                    <a:pt x="13" y="1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95320" y="7183440"/>
              <a:ext cx="11160" cy="406440"/>
            </a:xfrm>
            <a:custGeom>
              <a:avLst/>
              <a:gdLst/>
              <a:ahLst/>
              <a:rect l="l" t="t" r="r" b="b"/>
              <a:pathLst>
                <a:path w="7" h="256">
                  <a:moveTo>
                    <a:pt x="0" y="7"/>
                  </a:moveTo>
                  <a:lnTo>
                    <a:pt x="0" y="256"/>
                  </a:lnTo>
                  <a:lnTo>
                    <a:pt x="7" y="256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806480" y="7183440"/>
              <a:ext cx="9720" cy="415800"/>
            </a:xfrm>
            <a:custGeom>
              <a:avLst/>
              <a:gdLst/>
              <a:ahLst/>
              <a:rect l="l" t="t" r="r" b="b"/>
              <a:pathLst>
                <a:path w="6" h="262">
                  <a:moveTo>
                    <a:pt x="0" y="0"/>
                  </a:moveTo>
                  <a:lnTo>
                    <a:pt x="0" y="256"/>
                  </a:lnTo>
                  <a:lnTo>
                    <a:pt x="6" y="2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16200" y="7174080"/>
              <a:ext cx="9360" cy="4251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6"/>
                  </a:moveTo>
                  <a:lnTo>
                    <a:pt x="0" y="268"/>
                  </a:lnTo>
                  <a:lnTo>
                    <a:pt x="6" y="26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806480" y="76676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16200" y="7667640"/>
              <a:ext cx="93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25560" y="7164360"/>
              <a:ext cx="20880" cy="444600"/>
            </a:xfrm>
            <a:custGeom>
              <a:avLst/>
              <a:gdLst/>
              <a:ahLst/>
              <a:rect l="l" t="t" r="r" b="b"/>
              <a:pathLst>
                <a:path w="13" h="280">
                  <a:moveTo>
                    <a:pt x="0" y="6"/>
                  </a:moveTo>
                  <a:lnTo>
                    <a:pt x="0" y="274"/>
                  </a:lnTo>
                  <a:lnTo>
                    <a:pt x="13" y="28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846440" y="7155000"/>
              <a:ext cx="936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6"/>
                  </a:moveTo>
                  <a:lnTo>
                    <a:pt x="0" y="286"/>
                  </a:lnTo>
                  <a:lnTo>
                    <a:pt x="6" y="28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855800" y="7143840"/>
              <a:ext cx="11160" cy="455400"/>
            </a:xfrm>
            <a:custGeom>
              <a:avLst/>
              <a:gdLst/>
              <a:ahLst/>
              <a:rect l="l" t="t" r="r" b="b"/>
              <a:pathLst>
                <a:path w="7" h="287">
                  <a:moveTo>
                    <a:pt x="0" y="7"/>
                  </a:moveTo>
                  <a:lnTo>
                    <a:pt x="0" y="287"/>
                  </a:lnTo>
                  <a:lnTo>
                    <a:pt x="7" y="28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66960" y="7134120"/>
              <a:ext cx="9360" cy="455760"/>
            </a:xfrm>
            <a:custGeom>
              <a:avLst/>
              <a:gdLst/>
              <a:ahLst/>
              <a:rect l="l" t="t" r="r" b="b"/>
              <a:pathLst>
                <a:path w="6" h="287">
                  <a:moveTo>
                    <a:pt x="0" y="6"/>
                  </a:moveTo>
                  <a:lnTo>
                    <a:pt x="0" y="287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76320" y="7124760"/>
              <a:ext cx="9720" cy="444600"/>
            </a:xfrm>
            <a:custGeom>
              <a:avLst/>
              <a:gdLst/>
              <a:ahLst/>
              <a:rect l="l" t="t" r="r" b="b"/>
              <a:pathLst>
                <a:path w="6" h="280">
                  <a:moveTo>
                    <a:pt x="0" y="6"/>
                  </a:moveTo>
                  <a:lnTo>
                    <a:pt x="0" y="280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886040" y="7124760"/>
              <a:ext cx="11160" cy="434880"/>
            </a:xfrm>
            <a:custGeom>
              <a:avLst/>
              <a:gdLst/>
              <a:ahLst/>
              <a:rect l="l" t="t" r="r" b="b"/>
              <a:pathLst>
                <a:path w="7" h="274">
                  <a:moveTo>
                    <a:pt x="0" y="0"/>
                  </a:moveTo>
                  <a:lnTo>
                    <a:pt x="0" y="274"/>
                  </a:lnTo>
                  <a:lnTo>
                    <a:pt x="7" y="2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97200" y="7115040"/>
              <a:ext cx="9360" cy="435240"/>
            </a:xfrm>
            <a:custGeom>
              <a:avLst/>
              <a:gdLst/>
              <a:ahLst/>
              <a:rect l="l" t="t" r="r" b="b"/>
              <a:pathLst>
                <a:path w="6" h="274">
                  <a:moveTo>
                    <a:pt x="0" y="6"/>
                  </a:moveTo>
                  <a:lnTo>
                    <a:pt x="0" y="274"/>
                  </a:lnTo>
                  <a:lnTo>
                    <a:pt x="6" y="26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06560" y="7115040"/>
              <a:ext cx="11160" cy="424080"/>
            </a:xfrm>
            <a:custGeom>
              <a:avLst/>
              <a:gdLst/>
              <a:ahLst/>
              <a:rect l="l" t="t" r="r" b="b"/>
              <a:pathLst>
                <a:path w="7" h="267">
                  <a:moveTo>
                    <a:pt x="0" y="0"/>
                  </a:moveTo>
                  <a:lnTo>
                    <a:pt x="0" y="267"/>
                  </a:lnTo>
                  <a:lnTo>
                    <a:pt x="7" y="26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917720" y="7115040"/>
              <a:ext cx="9360" cy="414360"/>
            </a:xfrm>
            <a:custGeom>
              <a:avLst/>
              <a:gdLst/>
              <a:ahLst/>
              <a:rect l="l" t="t" r="r" b="b"/>
              <a:pathLst>
                <a:path w="6" h="261">
                  <a:moveTo>
                    <a:pt x="0" y="0"/>
                  </a:moveTo>
                  <a:lnTo>
                    <a:pt x="0" y="261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927080" y="7115040"/>
              <a:ext cx="9720" cy="40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936800" y="7115040"/>
              <a:ext cx="11160" cy="40500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55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47960" y="711504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49"/>
                  </a:lnTo>
                  <a:lnTo>
                    <a:pt x="6" y="2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947960" y="7618320"/>
              <a:ext cx="936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13"/>
                  </a:moveTo>
                  <a:lnTo>
                    <a:pt x="0" y="38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57320" y="7124760"/>
              <a:ext cx="20880" cy="376200"/>
            </a:xfrm>
            <a:custGeom>
              <a:avLst/>
              <a:gdLst/>
              <a:ahLst/>
              <a:rect l="l" t="t" r="r" b="b"/>
              <a:pathLst>
                <a:path w="13" h="237">
                  <a:moveTo>
                    <a:pt x="0" y="0"/>
                  </a:moveTo>
                  <a:lnTo>
                    <a:pt x="0" y="237"/>
                  </a:lnTo>
                  <a:lnTo>
                    <a:pt x="13" y="23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57320" y="759924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12"/>
                  </a:moveTo>
                  <a:lnTo>
                    <a:pt x="0" y="74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967040" y="7578720"/>
              <a:ext cx="11160" cy="158760"/>
            </a:xfrm>
            <a:custGeom>
              <a:avLst/>
              <a:gdLst/>
              <a:ahLst/>
              <a:rect l="l" t="t" r="r" b="b"/>
              <a:pathLst>
                <a:path w="7" h="100">
                  <a:moveTo>
                    <a:pt x="0" y="13"/>
                  </a:moveTo>
                  <a:lnTo>
                    <a:pt x="0" y="94"/>
                  </a:lnTo>
                  <a:lnTo>
                    <a:pt x="7" y="100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78200" y="755964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12"/>
                  </a:moveTo>
                  <a:lnTo>
                    <a:pt x="0" y="112"/>
                  </a:lnTo>
                  <a:lnTo>
                    <a:pt x="6" y="112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78200" y="7134120"/>
              <a:ext cx="9360" cy="385920"/>
            </a:xfrm>
            <a:custGeom>
              <a:avLst/>
              <a:gdLst/>
              <a:ahLst/>
              <a:rect l="l" t="t" r="r" b="b"/>
              <a:pathLst>
                <a:path w="6" h="243">
                  <a:moveTo>
                    <a:pt x="0" y="0"/>
                  </a:moveTo>
                  <a:lnTo>
                    <a:pt x="0" y="231"/>
                  </a:lnTo>
                  <a:lnTo>
                    <a:pt x="6" y="2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987560" y="7143840"/>
              <a:ext cx="9360" cy="523800"/>
            </a:xfrm>
            <a:custGeom>
              <a:avLst/>
              <a:gdLst/>
              <a:ahLst/>
              <a:rect l="l" t="t" r="r" b="b"/>
              <a:pathLst>
                <a:path w="6" h="330">
                  <a:moveTo>
                    <a:pt x="0" y="0"/>
                  </a:moveTo>
                  <a:lnTo>
                    <a:pt x="0" y="330"/>
                  </a:lnTo>
                  <a:lnTo>
                    <a:pt x="6" y="3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96920" y="7143840"/>
              <a:ext cx="11160" cy="504720"/>
            </a:xfrm>
            <a:custGeom>
              <a:avLst/>
              <a:gdLst/>
              <a:ahLst/>
              <a:rect l="l" t="t" r="r" b="b"/>
              <a:pathLst>
                <a:path w="7" h="318">
                  <a:moveTo>
                    <a:pt x="0" y="0"/>
                  </a:moveTo>
                  <a:lnTo>
                    <a:pt x="0" y="318"/>
                  </a:lnTo>
                  <a:lnTo>
                    <a:pt x="7" y="30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008080" y="7155000"/>
              <a:ext cx="972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017800" y="7155000"/>
              <a:ext cx="936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27160" y="7155000"/>
              <a:ext cx="11160" cy="484200"/>
            </a:xfrm>
            <a:custGeom>
              <a:avLst/>
              <a:gdLst/>
              <a:ahLst/>
              <a:rect l="l" t="t" r="r" b="b"/>
              <a:pathLst>
                <a:path w="7" h="305">
                  <a:moveTo>
                    <a:pt x="0" y="0"/>
                  </a:moveTo>
                  <a:lnTo>
                    <a:pt x="0" y="298"/>
                  </a:lnTo>
                  <a:lnTo>
                    <a:pt x="7" y="30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38320" y="7155000"/>
              <a:ext cx="9720" cy="48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58840" y="70754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048040" y="7155000"/>
              <a:ext cx="10800" cy="512640"/>
            </a:xfrm>
            <a:custGeom>
              <a:avLst/>
              <a:gdLst/>
              <a:ahLst/>
              <a:rect l="l" t="t" r="r" b="b"/>
              <a:pathLst>
                <a:path w="7" h="323">
                  <a:moveTo>
                    <a:pt x="0" y="0"/>
                  </a:moveTo>
                  <a:lnTo>
                    <a:pt x="0" y="317"/>
                  </a:lnTo>
                  <a:lnTo>
                    <a:pt x="7" y="32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8840" y="7155000"/>
              <a:ext cx="9720" cy="523800"/>
            </a:xfrm>
            <a:custGeom>
              <a:avLst/>
              <a:gdLst/>
              <a:ahLst/>
              <a:rect l="l" t="t" r="r" b="b"/>
              <a:pathLst>
                <a:path w="6" h="330">
                  <a:moveTo>
                    <a:pt x="0" y="0"/>
                  </a:moveTo>
                  <a:lnTo>
                    <a:pt x="0" y="323"/>
                  </a:lnTo>
                  <a:lnTo>
                    <a:pt x="6" y="33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068560" y="707544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68560" y="7143840"/>
              <a:ext cx="9360" cy="534960"/>
            </a:xfrm>
            <a:custGeom>
              <a:avLst/>
              <a:gdLst/>
              <a:ahLst/>
              <a:rect l="l" t="t" r="r" b="b"/>
              <a:pathLst>
                <a:path w="6" h="337">
                  <a:moveTo>
                    <a:pt x="0" y="7"/>
                  </a:moveTo>
                  <a:lnTo>
                    <a:pt x="0" y="337"/>
                  </a:lnTo>
                  <a:lnTo>
                    <a:pt x="6" y="33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77920" y="7075440"/>
              <a:ext cx="20880" cy="603360"/>
            </a:xfrm>
            <a:custGeom>
              <a:avLst/>
              <a:gdLst/>
              <a:ahLst/>
              <a:rect l="l" t="t" r="r" b="b"/>
              <a:pathLst>
                <a:path w="13" h="380">
                  <a:moveTo>
                    <a:pt x="0" y="0"/>
                  </a:moveTo>
                  <a:lnTo>
                    <a:pt x="0" y="380"/>
                  </a:lnTo>
                  <a:lnTo>
                    <a:pt x="13" y="36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98800" y="7085160"/>
              <a:ext cx="20520" cy="573120"/>
            </a:xfrm>
            <a:custGeom>
              <a:avLst/>
              <a:gdLst/>
              <a:ahLst/>
              <a:rect l="l" t="t" r="r" b="b"/>
              <a:pathLst>
                <a:path w="13" h="361">
                  <a:moveTo>
                    <a:pt x="0" y="0"/>
                  </a:moveTo>
                  <a:lnTo>
                    <a:pt x="0" y="361"/>
                  </a:lnTo>
                  <a:lnTo>
                    <a:pt x="13" y="34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19320" y="7094520"/>
              <a:ext cx="1908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38400" y="7094520"/>
              <a:ext cx="11160" cy="554040"/>
            </a:xfrm>
            <a:custGeom>
              <a:avLst/>
              <a:gdLst/>
              <a:ahLst/>
              <a:rect l="l" t="t" r="r" b="b"/>
              <a:pathLst>
                <a:path w="7" h="349">
                  <a:moveTo>
                    <a:pt x="0" y="0"/>
                  </a:moveTo>
                  <a:lnTo>
                    <a:pt x="0" y="343"/>
                  </a:lnTo>
                  <a:lnTo>
                    <a:pt x="7" y="3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149560" y="7085160"/>
              <a:ext cx="936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6"/>
                  </a:moveTo>
                  <a:lnTo>
                    <a:pt x="0" y="355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58920" y="7075440"/>
              <a:ext cx="9720" cy="592200"/>
            </a:xfrm>
            <a:custGeom>
              <a:avLst/>
              <a:gdLst/>
              <a:ahLst/>
              <a:rect l="l" t="t" r="r" b="b"/>
              <a:pathLst>
                <a:path w="6" h="373">
                  <a:moveTo>
                    <a:pt x="0" y="6"/>
                  </a:moveTo>
                  <a:lnTo>
                    <a:pt x="0" y="367"/>
                  </a:lnTo>
                  <a:lnTo>
                    <a:pt x="6" y="3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68640" y="7016760"/>
              <a:ext cx="11160" cy="671400"/>
            </a:xfrm>
            <a:custGeom>
              <a:avLst/>
              <a:gdLst/>
              <a:ahLst/>
              <a:rect l="l" t="t" r="r" b="b"/>
              <a:pathLst>
                <a:path w="7" h="423">
                  <a:moveTo>
                    <a:pt x="0" y="12"/>
                  </a:moveTo>
                  <a:lnTo>
                    <a:pt x="0" y="410"/>
                  </a:lnTo>
                  <a:lnTo>
                    <a:pt x="7" y="423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179800" y="6996240"/>
              <a:ext cx="9360" cy="69192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13"/>
                  </a:moveTo>
                  <a:lnTo>
                    <a:pt x="0" y="436"/>
                  </a:lnTo>
                  <a:lnTo>
                    <a:pt x="6" y="43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189160" y="6986520"/>
              <a:ext cx="936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6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98520" y="77468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98520" y="6977160"/>
              <a:ext cx="11160" cy="739800"/>
            </a:xfrm>
            <a:custGeom>
              <a:avLst/>
              <a:gdLst/>
              <a:ahLst/>
              <a:rect l="l" t="t" r="r" b="b"/>
              <a:pathLst>
                <a:path w="7" h="466">
                  <a:moveTo>
                    <a:pt x="0" y="6"/>
                  </a:moveTo>
                  <a:lnTo>
                    <a:pt x="0" y="460"/>
                  </a:lnTo>
                  <a:lnTo>
                    <a:pt x="7" y="46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209680" y="6977160"/>
              <a:ext cx="9720" cy="760320"/>
            </a:xfrm>
            <a:custGeom>
              <a:avLst/>
              <a:gdLst/>
              <a:ahLst/>
              <a:rect l="l" t="t" r="r" b="b"/>
              <a:pathLst>
                <a:path w="6" h="479">
                  <a:moveTo>
                    <a:pt x="0" y="0"/>
                  </a:moveTo>
                  <a:lnTo>
                    <a:pt x="0" y="473"/>
                  </a:lnTo>
                  <a:lnTo>
                    <a:pt x="6" y="47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09680" y="7746840"/>
              <a:ext cx="9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19400" y="6977160"/>
              <a:ext cx="11160" cy="790560"/>
            </a:xfrm>
            <a:custGeom>
              <a:avLst/>
              <a:gdLst/>
              <a:ahLst/>
              <a:rect l="l" t="t" r="r" b="b"/>
              <a:pathLst>
                <a:path w="7" h="498">
                  <a:moveTo>
                    <a:pt x="0" y="0"/>
                  </a:moveTo>
                  <a:lnTo>
                    <a:pt x="0" y="498"/>
                  </a:lnTo>
                  <a:lnTo>
                    <a:pt x="7" y="49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230560" y="6977160"/>
              <a:ext cx="936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230560" y="778680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239920" y="6966000"/>
              <a:ext cx="9720" cy="860400"/>
            </a:xfrm>
            <a:custGeom>
              <a:avLst/>
              <a:gdLst/>
              <a:ahLst/>
              <a:rect l="l" t="t" r="r" b="b"/>
              <a:pathLst>
                <a:path w="6" h="542">
                  <a:moveTo>
                    <a:pt x="0" y="7"/>
                  </a:moveTo>
                  <a:lnTo>
                    <a:pt x="0" y="542"/>
                  </a:lnTo>
                  <a:lnTo>
                    <a:pt x="6" y="542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49640" y="6956280"/>
              <a:ext cx="10800" cy="870120"/>
            </a:xfrm>
            <a:custGeom>
              <a:avLst/>
              <a:gdLst/>
              <a:ahLst/>
              <a:rect l="l" t="t" r="r" b="b"/>
              <a:pathLst>
                <a:path w="7" h="548">
                  <a:moveTo>
                    <a:pt x="0" y="6"/>
                  </a:moveTo>
                  <a:lnTo>
                    <a:pt x="0" y="548"/>
                  </a:lnTo>
                  <a:lnTo>
                    <a:pt x="7" y="54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60440" y="6937200"/>
              <a:ext cx="9720" cy="819360"/>
            </a:xfrm>
            <a:custGeom>
              <a:avLst/>
              <a:gdLst/>
              <a:ahLst/>
              <a:rect l="l" t="t" r="r" b="b"/>
              <a:pathLst>
                <a:path w="6" h="516">
                  <a:moveTo>
                    <a:pt x="0" y="12"/>
                  </a:moveTo>
                  <a:lnTo>
                    <a:pt x="0" y="516"/>
                  </a:lnTo>
                  <a:lnTo>
                    <a:pt x="6" y="51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70160" y="6907320"/>
              <a:ext cx="9360" cy="869760"/>
            </a:xfrm>
            <a:custGeom>
              <a:avLst/>
              <a:gdLst/>
              <a:ahLst/>
              <a:rect l="l" t="t" r="r" b="b"/>
              <a:pathLst>
                <a:path w="6" h="548">
                  <a:moveTo>
                    <a:pt x="0" y="19"/>
                  </a:moveTo>
                  <a:lnTo>
                    <a:pt x="0" y="548"/>
                  </a:lnTo>
                  <a:lnTo>
                    <a:pt x="6" y="548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279520" y="6858000"/>
              <a:ext cx="11160" cy="919080"/>
            </a:xfrm>
            <a:custGeom>
              <a:avLst/>
              <a:gdLst/>
              <a:ahLst/>
              <a:rect l="l" t="t" r="r" b="b"/>
              <a:pathLst>
                <a:path w="7" h="579">
                  <a:moveTo>
                    <a:pt x="0" y="6"/>
                  </a:moveTo>
                  <a:lnTo>
                    <a:pt x="0" y="579"/>
                  </a:lnTo>
                  <a:lnTo>
                    <a:pt x="7" y="57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90680" y="6858000"/>
              <a:ext cx="9720" cy="9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00400" y="6848640"/>
              <a:ext cx="9360" cy="928440"/>
            </a:xfrm>
            <a:custGeom>
              <a:avLst/>
              <a:gdLst/>
              <a:ahLst/>
              <a:rect l="l" t="t" r="r" b="b"/>
              <a:pathLst>
                <a:path w="6" h="585">
                  <a:moveTo>
                    <a:pt x="0" y="6"/>
                  </a:moveTo>
                  <a:lnTo>
                    <a:pt x="0" y="585"/>
                  </a:lnTo>
                  <a:lnTo>
                    <a:pt x="6" y="57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09760" y="6848640"/>
              <a:ext cx="11160" cy="9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09760" y="77868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20920" y="6848640"/>
              <a:ext cx="9360" cy="957240"/>
            </a:xfrm>
            <a:custGeom>
              <a:avLst/>
              <a:gdLst/>
              <a:ahLst/>
              <a:rect l="l" t="t" r="r" b="b"/>
              <a:pathLst>
                <a:path w="6" h="603">
                  <a:moveTo>
                    <a:pt x="0" y="0"/>
                  </a:moveTo>
                  <a:lnTo>
                    <a:pt x="0" y="597"/>
                  </a:lnTo>
                  <a:lnTo>
                    <a:pt x="6" y="60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30280" y="6848640"/>
              <a:ext cx="9720" cy="9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40000" y="6848640"/>
              <a:ext cx="11160" cy="947520"/>
            </a:xfrm>
            <a:custGeom>
              <a:avLst/>
              <a:gdLst/>
              <a:ahLst/>
              <a:rect l="l" t="t" r="r" b="b"/>
              <a:pathLst>
                <a:path w="7" h="597">
                  <a:moveTo>
                    <a:pt x="0" y="0"/>
                  </a:moveTo>
                  <a:lnTo>
                    <a:pt x="0" y="597"/>
                  </a:lnTo>
                  <a:lnTo>
                    <a:pt x="7" y="59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51160" y="6848640"/>
              <a:ext cx="9360" cy="9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60520" y="77961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60520" y="6848640"/>
              <a:ext cx="11160" cy="92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71680" y="7845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71680" y="6848640"/>
              <a:ext cx="972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81400" y="78264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12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81400" y="6848640"/>
              <a:ext cx="9360" cy="977760"/>
            </a:xfrm>
            <a:custGeom>
              <a:avLst/>
              <a:gdLst/>
              <a:ahLst/>
              <a:rect l="l" t="t" r="r" b="b"/>
              <a:pathLst>
                <a:path w="6" h="616">
                  <a:moveTo>
                    <a:pt x="0" y="0"/>
                  </a:moveTo>
                  <a:lnTo>
                    <a:pt x="0" y="616"/>
                  </a:lnTo>
                  <a:lnTo>
                    <a:pt x="6" y="61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390760" y="6848640"/>
              <a:ext cx="11160" cy="9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90760" y="782640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01920" y="6848640"/>
              <a:ext cx="9360" cy="9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401920" y="79549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11280" y="6827760"/>
              <a:ext cx="9720" cy="102888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13"/>
                  </a:moveTo>
                  <a:lnTo>
                    <a:pt x="0" y="648"/>
                  </a:lnTo>
                  <a:lnTo>
                    <a:pt x="6" y="648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11280" y="79344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11280" y="7954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421000" y="6808680"/>
              <a:ext cx="11160" cy="1057320"/>
            </a:xfrm>
            <a:custGeom>
              <a:avLst/>
              <a:gdLst/>
              <a:ahLst/>
              <a:rect l="l" t="t" r="r" b="b"/>
              <a:pathLst>
                <a:path w="7" h="666">
                  <a:moveTo>
                    <a:pt x="0" y="12"/>
                  </a:moveTo>
                  <a:lnTo>
                    <a:pt x="0" y="660"/>
                  </a:lnTo>
                  <a:lnTo>
                    <a:pt x="7" y="666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21000" y="7934400"/>
              <a:ext cx="11160" cy="507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0" y="32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21000" y="80136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6"/>
                  </a:moveTo>
                  <a:lnTo>
                    <a:pt x="0" y="6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432160" y="6799320"/>
              <a:ext cx="9360" cy="1076400"/>
            </a:xfrm>
            <a:custGeom>
              <a:avLst/>
              <a:gdLst/>
              <a:ahLst/>
              <a:rect l="l" t="t" r="r" b="b"/>
              <a:pathLst>
                <a:path w="6" h="678">
                  <a:moveTo>
                    <a:pt x="0" y="6"/>
                  </a:moveTo>
                  <a:lnTo>
                    <a:pt x="0" y="678"/>
                  </a:lnTo>
                  <a:lnTo>
                    <a:pt x="6" y="6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2160" y="788508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32160" y="793440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0"/>
                  </a:moveTo>
                  <a:lnTo>
                    <a:pt x="0" y="63"/>
                  </a:lnTo>
                  <a:lnTo>
                    <a:pt x="6" y="6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41520" y="795492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41520" y="807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41520" y="6788160"/>
              <a:ext cx="9720" cy="1117440"/>
            </a:xfrm>
            <a:custGeom>
              <a:avLst/>
              <a:gdLst/>
              <a:ahLst/>
              <a:rect l="l" t="t" r="r" b="b"/>
              <a:pathLst>
                <a:path w="6" h="704">
                  <a:moveTo>
                    <a:pt x="0" y="7"/>
                  </a:moveTo>
                  <a:lnTo>
                    <a:pt x="0" y="704"/>
                  </a:lnTo>
                  <a:lnTo>
                    <a:pt x="6" y="70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51240" y="7924680"/>
              <a:ext cx="10800" cy="9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51240" y="8074080"/>
              <a:ext cx="1080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51240" y="6778800"/>
              <a:ext cx="10800" cy="1136520"/>
            </a:xfrm>
            <a:custGeom>
              <a:avLst/>
              <a:gdLst/>
              <a:ahLst/>
              <a:rect l="l" t="t" r="r" b="b"/>
              <a:pathLst>
                <a:path w="7" h="716">
                  <a:moveTo>
                    <a:pt x="0" y="6"/>
                  </a:moveTo>
                  <a:lnTo>
                    <a:pt x="0" y="716"/>
                  </a:lnTo>
                  <a:lnTo>
                    <a:pt x="7" y="71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62040" y="6759720"/>
              <a:ext cx="9720" cy="1155600"/>
            </a:xfrm>
            <a:custGeom>
              <a:avLst/>
              <a:gdLst/>
              <a:ahLst/>
              <a:rect l="l" t="t" r="r" b="b"/>
              <a:pathLst>
                <a:path w="6" h="728">
                  <a:moveTo>
                    <a:pt x="0" y="12"/>
                  </a:moveTo>
                  <a:lnTo>
                    <a:pt x="0" y="728"/>
                  </a:lnTo>
                  <a:lnTo>
                    <a:pt x="6" y="728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62040" y="7915320"/>
              <a:ext cx="972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6"/>
                  </a:moveTo>
                  <a:lnTo>
                    <a:pt x="0" y="75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62040" y="806292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62040" y="821196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62040" y="83199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71760" y="8053560"/>
              <a:ext cx="93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71760" y="81234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71760" y="821196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71760" y="82612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71760" y="8319960"/>
              <a:ext cx="936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71760" y="8429760"/>
              <a:ext cx="936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71760" y="6748560"/>
              <a:ext cx="9360" cy="1295280"/>
            </a:xfrm>
            <a:custGeom>
              <a:avLst/>
              <a:gdLst/>
              <a:ahLst/>
              <a:rect l="l" t="t" r="r" b="b"/>
              <a:pathLst>
                <a:path w="6" h="816">
                  <a:moveTo>
                    <a:pt x="0" y="7"/>
                  </a:moveTo>
                  <a:lnTo>
                    <a:pt x="0" y="816"/>
                  </a:lnTo>
                  <a:lnTo>
                    <a:pt x="6" y="81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81120" y="812340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81120" y="81820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81120" y="8201160"/>
              <a:ext cx="111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81120" y="831060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81120" y="8429760"/>
              <a:ext cx="111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81120" y="6748560"/>
              <a:ext cx="11160" cy="1363680"/>
            </a:xfrm>
            <a:custGeom>
              <a:avLst/>
              <a:gdLst/>
              <a:ahLst/>
              <a:rect l="l" t="t" r="r" b="b"/>
              <a:pathLst>
                <a:path w="7" h="859">
                  <a:moveTo>
                    <a:pt x="0" y="0"/>
                  </a:moveTo>
                  <a:lnTo>
                    <a:pt x="0" y="853"/>
                  </a:lnTo>
                  <a:lnTo>
                    <a:pt x="7" y="85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92280" y="6738840"/>
              <a:ext cx="9720" cy="1393920"/>
            </a:xfrm>
            <a:custGeom>
              <a:avLst/>
              <a:gdLst/>
              <a:ahLst/>
              <a:rect l="l" t="t" r="r" b="b"/>
              <a:pathLst>
                <a:path w="6" h="878">
                  <a:moveTo>
                    <a:pt x="0" y="6"/>
                  </a:moveTo>
                  <a:lnTo>
                    <a:pt x="0" y="878"/>
                  </a:lnTo>
                  <a:lnTo>
                    <a:pt x="6" y="8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92280" y="8182080"/>
              <a:ext cx="97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92280" y="8310600"/>
              <a:ext cx="9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92280" y="836928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92280" y="83995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92280" y="842976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1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92280" y="84978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02000" y="6729480"/>
              <a:ext cx="9360" cy="1403280"/>
            </a:xfrm>
            <a:custGeom>
              <a:avLst/>
              <a:gdLst/>
              <a:ahLst/>
              <a:rect l="l" t="t" r="r" b="b"/>
              <a:pathLst>
                <a:path w="6" h="884">
                  <a:moveTo>
                    <a:pt x="0" y="6"/>
                  </a:moveTo>
                  <a:lnTo>
                    <a:pt x="0" y="884"/>
                  </a:lnTo>
                  <a:lnTo>
                    <a:pt x="6" y="88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502000" y="81518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502000" y="8182080"/>
              <a:ext cx="9360" cy="11880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68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02000" y="830088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02000" y="83692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502000" y="8408880"/>
              <a:ext cx="936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11360" y="838980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11360" y="8408880"/>
              <a:ext cx="1116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11360" y="6719760"/>
              <a:ext cx="11160" cy="1670040"/>
            </a:xfrm>
            <a:custGeom>
              <a:avLst/>
              <a:gdLst/>
              <a:ahLst/>
              <a:rect l="l" t="t" r="r" b="b"/>
              <a:pathLst>
                <a:path w="7" h="1052">
                  <a:moveTo>
                    <a:pt x="0" y="6"/>
                  </a:moveTo>
                  <a:lnTo>
                    <a:pt x="0" y="1046"/>
                  </a:lnTo>
                  <a:lnTo>
                    <a:pt x="7" y="105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22520" y="6719760"/>
              <a:ext cx="9720" cy="18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532240" y="6719760"/>
              <a:ext cx="10800" cy="18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43040" y="6710400"/>
              <a:ext cx="9720" cy="1836720"/>
            </a:xfrm>
            <a:custGeom>
              <a:avLst/>
              <a:gdLst/>
              <a:ahLst/>
              <a:rect l="l" t="t" r="r" b="b"/>
              <a:pathLst>
                <a:path w="6" h="1157">
                  <a:moveTo>
                    <a:pt x="0" y="6"/>
                  </a:moveTo>
                  <a:lnTo>
                    <a:pt x="0" y="1157"/>
                  </a:lnTo>
                  <a:lnTo>
                    <a:pt x="6" y="115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52760" y="6710400"/>
              <a:ext cx="9360" cy="18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62120" y="6710400"/>
              <a:ext cx="11160" cy="18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573280" y="6699240"/>
              <a:ext cx="9720" cy="1887480"/>
            </a:xfrm>
            <a:custGeom>
              <a:avLst/>
              <a:gdLst/>
              <a:ahLst/>
              <a:rect l="l" t="t" r="r" b="b"/>
              <a:pathLst>
                <a:path w="6" h="1189">
                  <a:moveTo>
                    <a:pt x="0" y="7"/>
                  </a:moveTo>
                  <a:lnTo>
                    <a:pt x="0" y="1189"/>
                  </a:lnTo>
                  <a:lnTo>
                    <a:pt x="6" y="118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83000" y="6699240"/>
              <a:ext cx="9360" cy="18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92360" y="6699240"/>
              <a:ext cx="11160" cy="19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03520" y="6699240"/>
              <a:ext cx="9360" cy="1927080"/>
            </a:xfrm>
            <a:custGeom>
              <a:avLst/>
              <a:gdLst/>
              <a:ahLst/>
              <a:rect l="l" t="t" r="r" b="b"/>
              <a:pathLst>
                <a:path w="6" h="1214">
                  <a:moveTo>
                    <a:pt x="0" y="0"/>
                  </a:moveTo>
                  <a:lnTo>
                    <a:pt x="0" y="1208"/>
                  </a:lnTo>
                  <a:lnTo>
                    <a:pt x="6" y="121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12880" y="6699240"/>
              <a:ext cx="9720" cy="19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22600" y="6699240"/>
              <a:ext cx="11160" cy="19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33760" y="6699240"/>
              <a:ext cx="9360" cy="1957320"/>
            </a:xfrm>
            <a:custGeom>
              <a:avLst/>
              <a:gdLst/>
              <a:ahLst/>
              <a:rect l="l" t="t" r="r" b="b"/>
              <a:pathLst>
                <a:path w="6" h="1233">
                  <a:moveTo>
                    <a:pt x="0" y="0"/>
                  </a:moveTo>
                  <a:lnTo>
                    <a:pt x="0" y="1227"/>
                  </a:lnTo>
                  <a:lnTo>
                    <a:pt x="6" y="123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43120" y="6689880"/>
              <a:ext cx="9720" cy="1966680"/>
            </a:xfrm>
            <a:custGeom>
              <a:avLst/>
              <a:gdLst/>
              <a:ahLst/>
              <a:rect l="l" t="t" r="r" b="b"/>
              <a:pathLst>
                <a:path w="6" h="1239">
                  <a:moveTo>
                    <a:pt x="0" y="6"/>
                  </a:moveTo>
                  <a:lnTo>
                    <a:pt x="0" y="1233"/>
                  </a:lnTo>
                  <a:lnTo>
                    <a:pt x="6" y="123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52840" y="6680160"/>
              <a:ext cx="11160" cy="1976400"/>
            </a:xfrm>
            <a:custGeom>
              <a:avLst/>
              <a:gdLst/>
              <a:ahLst/>
              <a:rect l="l" t="t" r="r" b="b"/>
              <a:pathLst>
                <a:path w="7" h="1245">
                  <a:moveTo>
                    <a:pt x="0" y="6"/>
                  </a:moveTo>
                  <a:lnTo>
                    <a:pt x="0" y="1245"/>
                  </a:lnTo>
                  <a:lnTo>
                    <a:pt x="7" y="124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64000" y="6680160"/>
              <a:ext cx="9360" cy="19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73360" y="871524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6"/>
                  </a:moveTo>
                  <a:lnTo>
                    <a:pt x="0" y="62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673360" y="6670800"/>
              <a:ext cx="11160" cy="1995480"/>
            </a:xfrm>
            <a:custGeom>
              <a:avLst/>
              <a:gdLst/>
              <a:ahLst/>
              <a:rect l="l" t="t" r="r" b="b"/>
              <a:pathLst>
                <a:path w="7" h="1257">
                  <a:moveTo>
                    <a:pt x="0" y="6"/>
                  </a:moveTo>
                  <a:lnTo>
                    <a:pt x="0" y="1251"/>
                  </a:lnTo>
                  <a:lnTo>
                    <a:pt x="7" y="125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684520" y="6670800"/>
              <a:ext cx="9360" cy="2025360"/>
            </a:xfrm>
            <a:custGeom>
              <a:avLst/>
              <a:gdLst/>
              <a:ahLst/>
              <a:rect l="l" t="t" r="r" b="b"/>
              <a:pathLst>
                <a:path w="6" h="1276">
                  <a:moveTo>
                    <a:pt x="0" y="0"/>
                  </a:moveTo>
                  <a:lnTo>
                    <a:pt x="0" y="1269"/>
                  </a:lnTo>
                  <a:lnTo>
                    <a:pt x="6" y="127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84520" y="869616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6"/>
                  </a:moveTo>
                  <a:lnTo>
                    <a:pt x="0" y="99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93880" y="6659640"/>
              <a:ext cx="9720" cy="2205000"/>
            </a:xfrm>
            <a:custGeom>
              <a:avLst/>
              <a:gdLst/>
              <a:ahLst/>
              <a:rect l="l" t="t" r="r" b="b"/>
              <a:pathLst>
                <a:path w="6" h="1389">
                  <a:moveTo>
                    <a:pt x="0" y="7"/>
                  </a:moveTo>
                  <a:lnTo>
                    <a:pt x="0" y="1389"/>
                  </a:lnTo>
                  <a:lnTo>
                    <a:pt x="6" y="138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03600" y="6659640"/>
              <a:ext cx="11160" cy="2214360"/>
            </a:xfrm>
            <a:custGeom>
              <a:avLst/>
              <a:gdLst/>
              <a:ahLst/>
              <a:rect l="l" t="t" r="r" b="b"/>
              <a:pathLst>
                <a:path w="7" h="1395">
                  <a:moveTo>
                    <a:pt x="0" y="0"/>
                  </a:moveTo>
                  <a:lnTo>
                    <a:pt x="0" y="1389"/>
                  </a:lnTo>
                  <a:lnTo>
                    <a:pt x="7" y="139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14760" y="6649920"/>
              <a:ext cx="19080" cy="2252880"/>
            </a:xfrm>
            <a:custGeom>
              <a:avLst/>
              <a:gdLst/>
              <a:ahLst/>
              <a:rect l="l" t="t" r="r" b="b"/>
              <a:pathLst>
                <a:path w="12" h="1419">
                  <a:moveTo>
                    <a:pt x="0" y="6"/>
                  </a:moveTo>
                  <a:lnTo>
                    <a:pt x="0" y="1401"/>
                  </a:lnTo>
                  <a:lnTo>
                    <a:pt x="12" y="1419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2733840" y="6383160"/>
            <a:ext cx="3047760" cy="3181680"/>
            <a:chOff x="2733840" y="6383160"/>
            <a:chExt cx="3047760" cy="3181680"/>
          </a:xfrm>
        </p:grpSpPr>
        <p:sp>
          <p:nvSpPr>
            <p:cNvPr id="1047" name=""/>
            <p:cNvSpPr/>
            <p:nvPr/>
          </p:nvSpPr>
          <p:spPr>
            <a:xfrm>
              <a:off x="2733840" y="6649920"/>
              <a:ext cx="10800" cy="2264040"/>
            </a:xfrm>
            <a:custGeom>
              <a:avLst/>
              <a:gdLst/>
              <a:ahLst/>
              <a:rect l="l" t="t" r="r" b="b"/>
              <a:pathLst>
                <a:path w="7" h="1426">
                  <a:moveTo>
                    <a:pt x="0" y="0"/>
                  </a:moveTo>
                  <a:lnTo>
                    <a:pt x="0" y="1419"/>
                  </a:lnTo>
                  <a:lnTo>
                    <a:pt x="7" y="142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744640" y="6640560"/>
              <a:ext cx="19080" cy="2292480"/>
            </a:xfrm>
            <a:custGeom>
              <a:avLst/>
              <a:gdLst/>
              <a:ahLst/>
              <a:rect l="l" t="t" r="r" b="b"/>
              <a:pathLst>
                <a:path w="12" h="1444">
                  <a:moveTo>
                    <a:pt x="0" y="6"/>
                  </a:moveTo>
                  <a:lnTo>
                    <a:pt x="0" y="1432"/>
                  </a:lnTo>
                  <a:lnTo>
                    <a:pt x="12" y="1444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763720" y="6640560"/>
              <a:ext cx="11160" cy="2301840"/>
            </a:xfrm>
            <a:custGeom>
              <a:avLst/>
              <a:gdLst/>
              <a:ahLst/>
              <a:rect l="l" t="t" r="r" b="b"/>
              <a:pathLst>
                <a:path w="7" h="1450">
                  <a:moveTo>
                    <a:pt x="0" y="0"/>
                  </a:moveTo>
                  <a:lnTo>
                    <a:pt x="0" y="1444"/>
                  </a:lnTo>
                  <a:lnTo>
                    <a:pt x="7" y="145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74880" y="6640560"/>
              <a:ext cx="19080" cy="2322360"/>
            </a:xfrm>
            <a:custGeom>
              <a:avLst/>
              <a:gdLst/>
              <a:ahLst/>
              <a:rect l="l" t="t" r="r" b="b"/>
              <a:pathLst>
                <a:path w="12" h="1463">
                  <a:moveTo>
                    <a:pt x="0" y="0"/>
                  </a:moveTo>
                  <a:lnTo>
                    <a:pt x="0" y="1450"/>
                  </a:lnTo>
                  <a:lnTo>
                    <a:pt x="12" y="146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93960" y="6630840"/>
              <a:ext cx="20520" cy="2360880"/>
            </a:xfrm>
            <a:custGeom>
              <a:avLst/>
              <a:gdLst/>
              <a:ahLst/>
              <a:rect l="l" t="t" r="r" b="b"/>
              <a:pathLst>
                <a:path w="13" h="1487">
                  <a:moveTo>
                    <a:pt x="0" y="6"/>
                  </a:moveTo>
                  <a:lnTo>
                    <a:pt x="0" y="1469"/>
                  </a:lnTo>
                  <a:lnTo>
                    <a:pt x="13" y="148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14480" y="6621480"/>
              <a:ext cx="11160" cy="2381400"/>
            </a:xfrm>
            <a:custGeom>
              <a:avLst/>
              <a:gdLst/>
              <a:ahLst/>
              <a:rect l="l" t="t" r="r" b="b"/>
              <a:pathLst>
                <a:path w="7" h="1500">
                  <a:moveTo>
                    <a:pt x="0" y="6"/>
                  </a:moveTo>
                  <a:lnTo>
                    <a:pt x="0" y="1493"/>
                  </a:lnTo>
                  <a:lnTo>
                    <a:pt x="7" y="150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25640" y="6610320"/>
              <a:ext cx="9720" cy="2421000"/>
            </a:xfrm>
            <a:custGeom>
              <a:avLst/>
              <a:gdLst/>
              <a:ahLst/>
              <a:rect l="l" t="t" r="r" b="b"/>
              <a:pathLst>
                <a:path w="6" h="1525">
                  <a:moveTo>
                    <a:pt x="0" y="7"/>
                  </a:moveTo>
                  <a:lnTo>
                    <a:pt x="0" y="1507"/>
                  </a:lnTo>
                  <a:lnTo>
                    <a:pt x="6" y="152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35360" y="6600960"/>
              <a:ext cx="9360" cy="2441520"/>
            </a:xfrm>
            <a:custGeom>
              <a:avLst/>
              <a:gdLst/>
              <a:ahLst/>
              <a:rect l="l" t="t" r="r" b="b"/>
              <a:pathLst>
                <a:path w="6" h="1538">
                  <a:moveTo>
                    <a:pt x="0" y="6"/>
                  </a:moveTo>
                  <a:lnTo>
                    <a:pt x="0" y="1531"/>
                  </a:lnTo>
                  <a:lnTo>
                    <a:pt x="6" y="153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44720" y="6591240"/>
              <a:ext cx="11160" cy="2489400"/>
            </a:xfrm>
            <a:custGeom>
              <a:avLst/>
              <a:gdLst/>
              <a:ahLst/>
              <a:rect l="l" t="t" r="r" b="b"/>
              <a:pathLst>
                <a:path w="7" h="1568">
                  <a:moveTo>
                    <a:pt x="0" y="6"/>
                  </a:moveTo>
                  <a:lnTo>
                    <a:pt x="0" y="1562"/>
                  </a:lnTo>
                  <a:lnTo>
                    <a:pt x="7" y="15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855880" y="6581880"/>
              <a:ext cx="9720" cy="2519280"/>
            </a:xfrm>
            <a:custGeom>
              <a:avLst/>
              <a:gdLst/>
              <a:ahLst/>
              <a:rect l="l" t="t" r="r" b="b"/>
              <a:pathLst>
                <a:path w="6" h="1587">
                  <a:moveTo>
                    <a:pt x="0" y="6"/>
                  </a:moveTo>
                  <a:lnTo>
                    <a:pt x="0" y="1574"/>
                  </a:lnTo>
                  <a:lnTo>
                    <a:pt x="6" y="158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65600" y="6581880"/>
              <a:ext cx="9360" cy="2538360"/>
            </a:xfrm>
            <a:custGeom>
              <a:avLst/>
              <a:gdLst/>
              <a:ahLst/>
              <a:rect l="l" t="t" r="r" b="b"/>
              <a:pathLst>
                <a:path w="6" h="1599">
                  <a:moveTo>
                    <a:pt x="0" y="0"/>
                  </a:moveTo>
                  <a:lnTo>
                    <a:pt x="0" y="1593"/>
                  </a:lnTo>
                  <a:lnTo>
                    <a:pt x="6" y="15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74960" y="6570720"/>
              <a:ext cx="20520" cy="2549520"/>
            </a:xfrm>
            <a:custGeom>
              <a:avLst/>
              <a:gdLst/>
              <a:ahLst/>
              <a:rect l="l" t="t" r="r" b="b"/>
              <a:pathLst>
                <a:path w="13" h="1606">
                  <a:moveTo>
                    <a:pt x="0" y="7"/>
                  </a:moveTo>
                  <a:lnTo>
                    <a:pt x="0" y="1606"/>
                  </a:lnTo>
                  <a:lnTo>
                    <a:pt x="13" y="1606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95480" y="6541920"/>
              <a:ext cx="39960" cy="2578320"/>
            </a:xfrm>
            <a:custGeom>
              <a:avLst/>
              <a:gdLst/>
              <a:ahLst/>
              <a:rect l="l" t="t" r="r" b="b"/>
              <a:pathLst>
                <a:path w="25" h="1624">
                  <a:moveTo>
                    <a:pt x="0" y="18"/>
                  </a:moveTo>
                  <a:lnTo>
                    <a:pt x="0" y="1624"/>
                  </a:lnTo>
                  <a:lnTo>
                    <a:pt x="25" y="1624"/>
                  </a:lnTo>
                  <a:lnTo>
                    <a:pt x="2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35440" y="6531120"/>
              <a:ext cx="20520" cy="2589120"/>
            </a:xfrm>
            <a:custGeom>
              <a:avLst/>
              <a:gdLst/>
              <a:ahLst/>
              <a:rect l="l" t="t" r="r" b="b"/>
              <a:pathLst>
                <a:path w="13" h="1631">
                  <a:moveTo>
                    <a:pt x="0" y="7"/>
                  </a:moveTo>
                  <a:lnTo>
                    <a:pt x="0" y="1631"/>
                  </a:lnTo>
                  <a:lnTo>
                    <a:pt x="13" y="1631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955960" y="6531120"/>
              <a:ext cx="20520" cy="2600280"/>
            </a:xfrm>
            <a:custGeom>
              <a:avLst/>
              <a:gdLst/>
              <a:ahLst/>
              <a:rect l="l" t="t" r="r" b="b"/>
              <a:pathLst>
                <a:path w="13" h="1638">
                  <a:moveTo>
                    <a:pt x="0" y="0"/>
                  </a:moveTo>
                  <a:lnTo>
                    <a:pt x="0" y="1631"/>
                  </a:lnTo>
                  <a:lnTo>
                    <a:pt x="13" y="163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76480" y="6512040"/>
              <a:ext cx="20880" cy="2628720"/>
            </a:xfrm>
            <a:custGeom>
              <a:avLst/>
              <a:gdLst/>
              <a:ahLst/>
              <a:rect l="l" t="t" r="r" b="b"/>
              <a:pathLst>
                <a:path w="13" h="1656">
                  <a:moveTo>
                    <a:pt x="0" y="12"/>
                  </a:moveTo>
                  <a:lnTo>
                    <a:pt x="0" y="1650"/>
                  </a:lnTo>
                  <a:lnTo>
                    <a:pt x="13" y="1656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997360" y="6492960"/>
              <a:ext cx="29880" cy="2676600"/>
            </a:xfrm>
            <a:custGeom>
              <a:avLst/>
              <a:gdLst/>
              <a:ahLst/>
              <a:rect l="l" t="t" r="r" b="b"/>
              <a:pathLst>
                <a:path w="19" h="1686">
                  <a:moveTo>
                    <a:pt x="0" y="12"/>
                  </a:moveTo>
                  <a:lnTo>
                    <a:pt x="0" y="1668"/>
                  </a:lnTo>
                  <a:lnTo>
                    <a:pt x="19" y="1686"/>
                  </a:lnTo>
                  <a:lnTo>
                    <a:pt x="1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027240" y="6472080"/>
              <a:ext cx="30240" cy="2708280"/>
            </a:xfrm>
            <a:custGeom>
              <a:avLst/>
              <a:gdLst/>
              <a:ahLst/>
              <a:rect l="l" t="t" r="r" b="b"/>
              <a:pathLst>
                <a:path w="19" h="1706">
                  <a:moveTo>
                    <a:pt x="0" y="13"/>
                  </a:moveTo>
                  <a:lnTo>
                    <a:pt x="0" y="1699"/>
                  </a:lnTo>
                  <a:lnTo>
                    <a:pt x="19" y="1706"/>
                  </a:lnTo>
                  <a:lnTo>
                    <a:pt x="1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057480" y="6462720"/>
              <a:ext cx="19080" cy="2717640"/>
            </a:xfrm>
            <a:custGeom>
              <a:avLst/>
              <a:gdLst/>
              <a:ahLst/>
              <a:rect l="l" t="t" r="r" b="b"/>
              <a:pathLst>
                <a:path w="12" h="1712">
                  <a:moveTo>
                    <a:pt x="0" y="6"/>
                  </a:moveTo>
                  <a:lnTo>
                    <a:pt x="0" y="1712"/>
                  </a:lnTo>
                  <a:lnTo>
                    <a:pt x="12" y="17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076560" y="6453360"/>
              <a:ext cx="11160" cy="2727000"/>
            </a:xfrm>
            <a:custGeom>
              <a:avLst/>
              <a:gdLst/>
              <a:ahLst/>
              <a:rect l="l" t="t" r="r" b="b"/>
              <a:pathLst>
                <a:path w="7" h="1718">
                  <a:moveTo>
                    <a:pt x="0" y="6"/>
                  </a:moveTo>
                  <a:lnTo>
                    <a:pt x="0" y="1718"/>
                  </a:lnTo>
                  <a:lnTo>
                    <a:pt x="7" y="17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087720" y="6442200"/>
              <a:ext cx="19080" cy="2738160"/>
            </a:xfrm>
            <a:custGeom>
              <a:avLst/>
              <a:gdLst/>
              <a:ahLst/>
              <a:rect l="l" t="t" r="r" b="b"/>
              <a:pathLst>
                <a:path w="12" h="1725">
                  <a:moveTo>
                    <a:pt x="0" y="7"/>
                  </a:moveTo>
                  <a:lnTo>
                    <a:pt x="0" y="1725"/>
                  </a:lnTo>
                  <a:lnTo>
                    <a:pt x="12" y="1725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106800" y="6432480"/>
              <a:ext cx="20520" cy="2747880"/>
            </a:xfrm>
            <a:custGeom>
              <a:avLst/>
              <a:gdLst/>
              <a:ahLst/>
              <a:rect l="l" t="t" r="r" b="b"/>
              <a:pathLst>
                <a:path w="13" h="1731">
                  <a:moveTo>
                    <a:pt x="0" y="6"/>
                  </a:moveTo>
                  <a:lnTo>
                    <a:pt x="0" y="1731"/>
                  </a:lnTo>
                  <a:lnTo>
                    <a:pt x="13" y="173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127320" y="6413400"/>
              <a:ext cx="20520" cy="2766960"/>
            </a:xfrm>
            <a:custGeom>
              <a:avLst/>
              <a:gdLst/>
              <a:ahLst/>
              <a:rect l="l" t="t" r="r" b="b"/>
              <a:pathLst>
                <a:path w="13" h="1743">
                  <a:moveTo>
                    <a:pt x="0" y="12"/>
                  </a:moveTo>
                  <a:lnTo>
                    <a:pt x="0" y="1743"/>
                  </a:lnTo>
                  <a:lnTo>
                    <a:pt x="13" y="1743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47840" y="6404040"/>
              <a:ext cx="9720" cy="2776320"/>
            </a:xfrm>
            <a:custGeom>
              <a:avLst/>
              <a:gdLst/>
              <a:ahLst/>
              <a:rect l="l" t="t" r="r" b="b"/>
              <a:pathLst>
                <a:path w="6" h="1749">
                  <a:moveTo>
                    <a:pt x="0" y="6"/>
                  </a:moveTo>
                  <a:lnTo>
                    <a:pt x="0" y="1749"/>
                  </a:lnTo>
                  <a:lnTo>
                    <a:pt x="6" y="17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157560" y="6392880"/>
              <a:ext cx="20520" cy="2787480"/>
            </a:xfrm>
            <a:custGeom>
              <a:avLst/>
              <a:gdLst/>
              <a:ahLst/>
              <a:rect l="l" t="t" r="r" b="b"/>
              <a:pathLst>
                <a:path w="13" h="1756">
                  <a:moveTo>
                    <a:pt x="0" y="7"/>
                  </a:moveTo>
                  <a:lnTo>
                    <a:pt x="0" y="1756"/>
                  </a:lnTo>
                  <a:lnTo>
                    <a:pt x="13" y="1749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78080" y="6392880"/>
              <a:ext cx="20880" cy="277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198960" y="6383160"/>
              <a:ext cx="29880" cy="2786400"/>
            </a:xfrm>
            <a:custGeom>
              <a:avLst/>
              <a:gdLst/>
              <a:ahLst/>
              <a:rect l="l" t="t" r="r" b="b"/>
              <a:pathLst>
                <a:path w="19" h="1755">
                  <a:moveTo>
                    <a:pt x="0" y="6"/>
                  </a:moveTo>
                  <a:lnTo>
                    <a:pt x="0" y="1755"/>
                  </a:lnTo>
                  <a:lnTo>
                    <a:pt x="19" y="1755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28840" y="6383160"/>
              <a:ext cx="9720" cy="27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238560" y="6383160"/>
              <a:ext cx="20520" cy="2786400"/>
            </a:xfrm>
            <a:custGeom>
              <a:avLst/>
              <a:gdLst/>
              <a:ahLst/>
              <a:rect l="l" t="t" r="r" b="b"/>
              <a:pathLst>
                <a:path w="13" h="1755">
                  <a:moveTo>
                    <a:pt x="0" y="0"/>
                  </a:moveTo>
                  <a:lnTo>
                    <a:pt x="0" y="1755"/>
                  </a:lnTo>
                  <a:lnTo>
                    <a:pt x="13" y="1749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59080" y="6383160"/>
              <a:ext cx="9720" cy="277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68800" y="6383160"/>
              <a:ext cx="10800" cy="2776680"/>
            </a:xfrm>
            <a:custGeom>
              <a:avLst/>
              <a:gdLst/>
              <a:ahLst/>
              <a:rect l="l" t="t" r="r" b="b"/>
              <a:pathLst>
                <a:path w="7" h="1749">
                  <a:moveTo>
                    <a:pt x="0" y="0"/>
                  </a:moveTo>
                  <a:lnTo>
                    <a:pt x="0" y="1749"/>
                  </a:lnTo>
                  <a:lnTo>
                    <a:pt x="7" y="17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79600" y="6392880"/>
              <a:ext cx="9720" cy="2757600"/>
            </a:xfrm>
            <a:custGeom>
              <a:avLst/>
              <a:gdLst/>
              <a:ahLst/>
              <a:rect l="l" t="t" r="r" b="b"/>
              <a:pathLst>
                <a:path w="6" h="1737">
                  <a:moveTo>
                    <a:pt x="0" y="0"/>
                  </a:moveTo>
                  <a:lnTo>
                    <a:pt x="0" y="1737"/>
                  </a:lnTo>
                  <a:lnTo>
                    <a:pt x="6" y="17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89320" y="6392880"/>
              <a:ext cx="9360" cy="2747880"/>
            </a:xfrm>
            <a:custGeom>
              <a:avLst/>
              <a:gdLst/>
              <a:ahLst/>
              <a:rect l="l" t="t" r="r" b="b"/>
              <a:pathLst>
                <a:path w="6" h="1731">
                  <a:moveTo>
                    <a:pt x="0" y="0"/>
                  </a:moveTo>
                  <a:lnTo>
                    <a:pt x="0" y="1731"/>
                  </a:lnTo>
                  <a:lnTo>
                    <a:pt x="6" y="17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98680" y="6404040"/>
              <a:ext cx="20880" cy="2736720"/>
            </a:xfrm>
            <a:custGeom>
              <a:avLst/>
              <a:gdLst/>
              <a:ahLst/>
              <a:rect l="l" t="t" r="r" b="b"/>
              <a:pathLst>
                <a:path w="13" h="1724">
                  <a:moveTo>
                    <a:pt x="0" y="0"/>
                  </a:moveTo>
                  <a:lnTo>
                    <a:pt x="0" y="1724"/>
                  </a:lnTo>
                  <a:lnTo>
                    <a:pt x="13" y="1711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19560" y="6423120"/>
              <a:ext cx="20520" cy="2697120"/>
            </a:xfrm>
            <a:custGeom>
              <a:avLst/>
              <a:gdLst/>
              <a:ahLst/>
              <a:rect l="l" t="t" r="r" b="b"/>
              <a:pathLst>
                <a:path w="13" h="1699">
                  <a:moveTo>
                    <a:pt x="0" y="0"/>
                  </a:moveTo>
                  <a:lnTo>
                    <a:pt x="0" y="1699"/>
                  </a:lnTo>
                  <a:lnTo>
                    <a:pt x="13" y="1681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40080" y="6442200"/>
              <a:ext cx="19080" cy="2649240"/>
            </a:xfrm>
            <a:custGeom>
              <a:avLst/>
              <a:gdLst/>
              <a:ahLst/>
              <a:rect l="l" t="t" r="r" b="b"/>
              <a:pathLst>
                <a:path w="12" h="1669">
                  <a:moveTo>
                    <a:pt x="0" y="0"/>
                  </a:moveTo>
                  <a:lnTo>
                    <a:pt x="0" y="1669"/>
                  </a:lnTo>
                  <a:lnTo>
                    <a:pt x="12" y="1669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59160" y="6453360"/>
              <a:ext cx="30240" cy="26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89400" y="6453360"/>
              <a:ext cx="30240" cy="2638080"/>
            </a:xfrm>
            <a:custGeom>
              <a:avLst/>
              <a:gdLst/>
              <a:ahLst/>
              <a:rect l="l" t="t" r="r" b="b"/>
              <a:pathLst>
                <a:path w="19" h="1662">
                  <a:moveTo>
                    <a:pt x="0" y="0"/>
                  </a:moveTo>
                  <a:lnTo>
                    <a:pt x="0" y="1662"/>
                  </a:lnTo>
                  <a:lnTo>
                    <a:pt x="19" y="1662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419640" y="6462720"/>
              <a:ext cx="31680" cy="2638440"/>
            </a:xfrm>
            <a:custGeom>
              <a:avLst/>
              <a:gdLst/>
              <a:ahLst/>
              <a:rect l="l" t="t" r="r" b="b"/>
              <a:pathLst>
                <a:path w="20" h="1662">
                  <a:moveTo>
                    <a:pt x="0" y="0"/>
                  </a:moveTo>
                  <a:lnTo>
                    <a:pt x="0" y="1656"/>
                  </a:lnTo>
                  <a:lnTo>
                    <a:pt x="20" y="1662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51320" y="6462720"/>
              <a:ext cx="9360" cy="26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60680" y="6462720"/>
              <a:ext cx="20880" cy="2638440"/>
            </a:xfrm>
            <a:custGeom>
              <a:avLst/>
              <a:gdLst/>
              <a:ahLst/>
              <a:rect l="l" t="t" r="r" b="b"/>
              <a:pathLst>
                <a:path w="13" h="1662">
                  <a:moveTo>
                    <a:pt x="0" y="0"/>
                  </a:moveTo>
                  <a:lnTo>
                    <a:pt x="0" y="1662"/>
                  </a:lnTo>
                  <a:lnTo>
                    <a:pt x="13" y="165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81560" y="6472080"/>
              <a:ext cx="18720" cy="2619360"/>
            </a:xfrm>
            <a:custGeom>
              <a:avLst/>
              <a:gdLst/>
              <a:ahLst/>
              <a:rect l="l" t="t" r="r" b="b"/>
              <a:pathLst>
                <a:path w="12" h="1650">
                  <a:moveTo>
                    <a:pt x="0" y="0"/>
                  </a:moveTo>
                  <a:lnTo>
                    <a:pt x="0" y="1650"/>
                  </a:lnTo>
                  <a:lnTo>
                    <a:pt x="12" y="1650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00280" y="6492960"/>
              <a:ext cx="20880" cy="2598480"/>
            </a:xfrm>
            <a:custGeom>
              <a:avLst/>
              <a:gdLst/>
              <a:ahLst/>
              <a:rect l="l" t="t" r="r" b="b"/>
              <a:pathLst>
                <a:path w="13" h="1637">
                  <a:moveTo>
                    <a:pt x="0" y="0"/>
                  </a:moveTo>
                  <a:lnTo>
                    <a:pt x="0" y="1637"/>
                  </a:lnTo>
                  <a:lnTo>
                    <a:pt x="13" y="163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21160" y="6502320"/>
              <a:ext cx="9360" cy="2589120"/>
            </a:xfrm>
            <a:custGeom>
              <a:avLst/>
              <a:gdLst/>
              <a:ahLst/>
              <a:rect l="l" t="t" r="r" b="b"/>
              <a:pathLst>
                <a:path w="6" h="1631">
                  <a:moveTo>
                    <a:pt x="0" y="0"/>
                  </a:moveTo>
                  <a:lnTo>
                    <a:pt x="0" y="1631"/>
                  </a:lnTo>
                  <a:lnTo>
                    <a:pt x="6" y="16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30520" y="6512040"/>
              <a:ext cx="20880" cy="2579400"/>
            </a:xfrm>
            <a:custGeom>
              <a:avLst/>
              <a:gdLst/>
              <a:ahLst/>
              <a:rect l="l" t="t" r="r" b="b"/>
              <a:pathLst>
                <a:path w="13" h="1625">
                  <a:moveTo>
                    <a:pt x="0" y="0"/>
                  </a:moveTo>
                  <a:lnTo>
                    <a:pt x="0" y="1625"/>
                  </a:lnTo>
                  <a:lnTo>
                    <a:pt x="13" y="1625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51400" y="6531120"/>
              <a:ext cx="20520" cy="2570040"/>
            </a:xfrm>
            <a:custGeom>
              <a:avLst/>
              <a:gdLst/>
              <a:ahLst/>
              <a:rect l="l" t="t" r="r" b="b"/>
              <a:pathLst>
                <a:path w="13" h="1619">
                  <a:moveTo>
                    <a:pt x="0" y="0"/>
                  </a:moveTo>
                  <a:lnTo>
                    <a:pt x="0" y="1613"/>
                  </a:lnTo>
                  <a:lnTo>
                    <a:pt x="13" y="1619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71920" y="6541920"/>
              <a:ext cx="9360" cy="2578320"/>
            </a:xfrm>
            <a:custGeom>
              <a:avLst/>
              <a:gdLst/>
              <a:ahLst/>
              <a:rect l="l" t="t" r="r" b="b"/>
              <a:pathLst>
                <a:path w="6" h="1624">
                  <a:moveTo>
                    <a:pt x="0" y="0"/>
                  </a:moveTo>
                  <a:lnTo>
                    <a:pt x="0" y="1612"/>
                  </a:lnTo>
                  <a:lnTo>
                    <a:pt x="6" y="16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81280" y="6551640"/>
              <a:ext cx="11160" cy="2579760"/>
            </a:xfrm>
            <a:custGeom>
              <a:avLst/>
              <a:gdLst/>
              <a:ahLst/>
              <a:rect l="l" t="t" r="r" b="b"/>
              <a:pathLst>
                <a:path w="7" h="1625">
                  <a:moveTo>
                    <a:pt x="0" y="0"/>
                  </a:moveTo>
                  <a:lnTo>
                    <a:pt x="0" y="1618"/>
                  </a:lnTo>
                  <a:lnTo>
                    <a:pt x="7" y="16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92440" y="6561000"/>
              <a:ext cx="19080" cy="2589480"/>
            </a:xfrm>
            <a:custGeom>
              <a:avLst/>
              <a:gdLst/>
              <a:ahLst/>
              <a:rect l="l" t="t" r="r" b="b"/>
              <a:pathLst>
                <a:path w="12" h="1631">
                  <a:moveTo>
                    <a:pt x="0" y="0"/>
                  </a:moveTo>
                  <a:lnTo>
                    <a:pt x="0" y="1619"/>
                  </a:lnTo>
                  <a:lnTo>
                    <a:pt x="12" y="163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611520" y="6570720"/>
              <a:ext cx="11160" cy="2598840"/>
            </a:xfrm>
            <a:custGeom>
              <a:avLst/>
              <a:gdLst/>
              <a:ahLst/>
              <a:rect l="l" t="t" r="r" b="b"/>
              <a:pathLst>
                <a:path w="7" h="1637">
                  <a:moveTo>
                    <a:pt x="0" y="0"/>
                  </a:moveTo>
                  <a:lnTo>
                    <a:pt x="0" y="1625"/>
                  </a:lnTo>
                  <a:lnTo>
                    <a:pt x="7" y="16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622680" y="6570720"/>
              <a:ext cx="19080" cy="2609640"/>
            </a:xfrm>
            <a:custGeom>
              <a:avLst/>
              <a:gdLst/>
              <a:ahLst/>
              <a:rect l="l" t="t" r="r" b="b"/>
              <a:pathLst>
                <a:path w="12" h="1644">
                  <a:moveTo>
                    <a:pt x="0" y="0"/>
                  </a:moveTo>
                  <a:lnTo>
                    <a:pt x="0" y="1637"/>
                  </a:lnTo>
                  <a:lnTo>
                    <a:pt x="12" y="1644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41760" y="6591240"/>
              <a:ext cx="11160" cy="2598840"/>
            </a:xfrm>
            <a:custGeom>
              <a:avLst/>
              <a:gdLst/>
              <a:ahLst/>
              <a:rect l="l" t="t" r="r" b="b"/>
              <a:pathLst>
                <a:path w="7" h="1637">
                  <a:moveTo>
                    <a:pt x="0" y="0"/>
                  </a:moveTo>
                  <a:lnTo>
                    <a:pt x="0" y="1631"/>
                  </a:lnTo>
                  <a:lnTo>
                    <a:pt x="7" y="16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52920" y="6600960"/>
              <a:ext cx="30240" cy="2608200"/>
            </a:xfrm>
            <a:custGeom>
              <a:avLst/>
              <a:gdLst/>
              <a:ahLst/>
              <a:rect l="l" t="t" r="r" b="b"/>
              <a:pathLst>
                <a:path w="19" h="1643">
                  <a:moveTo>
                    <a:pt x="0" y="0"/>
                  </a:moveTo>
                  <a:lnTo>
                    <a:pt x="0" y="1631"/>
                  </a:lnTo>
                  <a:lnTo>
                    <a:pt x="19" y="1643"/>
                  </a:lnTo>
                  <a:lnTo>
                    <a:pt x="1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683160" y="6621480"/>
              <a:ext cx="29880" cy="2608200"/>
            </a:xfrm>
            <a:custGeom>
              <a:avLst/>
              <a:gdLst/>
              <a:ahLst/>
              <a:rect l="l" t="t" r="r" b="b"/>
              <a:pathLst>
                <a:path w="19" h="1643">
                  <a:moveTo>
                    <a:pt x="0" y="0"/>
                  </a:moveTo>
                  <a:lnTo>
                    <a:pt x="0" y="1630"/>
                  </a:lnTo>
                  <a:lnTo>
                    <a:pt x="19" y="1643"/>
                  </a:lnTo>
                  <a:lnTo>
                    <a:pt x="19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713040" y="6640560"/>
              <a:ext cx="9720" cy="2598840"/>
            </a:xfrm>
            <a:custGeom>
              <a:avLst/>
              <a:gdLst/>
              <a:ahLst/>
              <a:rect l="l" t="t" r="r" b="b"/>
              <a:pathLst>
                <a:path w="6" h="1637">
                  <a:moveTo>
                    <a:pt x="0" y="0"/>
                  </a:moveTo>
                  <a:lnTo>
                    <a:pt x="0" y="1631"/>
                  </a:lnTo>
                  <a:lnTo>
                    <a:pt x="6" y="16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722760" y="6640560"/>
              <a:ext cx="9360" cy="2608200"/>
            </a:xfrm>
            <a:custGeom>
              <a:avLst/>
              <a:gdLst/>
              <a:ahLst/>
              <a:rect l="l" t="t" r="r" b="b"/>
              <a:pathLst>
                <a:path w="6" h="1643">
                  <a:moveTo>
                    <a:pt x="0" y="0"/>
                  </a:moveTo>
                  <a:lnTo>
                    <a:pt x="0" y="1637"/>
                  </a:lnTo>
                  <a:lnTo>
                    <a:pt x="6" y="16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732120" y="6640560"/>
              <a:ext cx="20880" cy="2628720"/>
            </a:xfrm>
            <a:custGeom>
              <a:avLst/>
              <a:gdLst/>
              <a:ahLst/>
              <a:rect l="l" t="t" r="r" b="b"/>
              <a:pathLst>
                <a:path w="13" h="1656">
                  <a:moveTo>
                    <a:pt x="0" y="0"/>
                  </a:moveTo>
                  <a:lnTo>
                    <a:pt x="0" y="1643"/>
                  </a:lnTo>
                  <a:lnTo>
                    <a:pt x="13" y="165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53000" y="6649920"/>
              <a:ext cx="10800" cy="261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763800" y="6649920"/>
              <a:ext cx="19080" cy="2619360"/>
            </a:xfrm>
            <a:custGeom>
              <a:avLst/>
              <a:gdLst/>
              <a:ahLst/>
              <a:rect l="l" t="t" r="r" b="b"/>
              <a:pathLst>
                <a:path w="12" h="1650">
                  <a:moveTo>
                    <a:pt x="0" y="0"/>
                  </a:moveTo>
                  <a:lnTo>
                    <a:pt x="0" y="1650"/>
                  </a:lnTo>
                  <a:lnTo>
                    <a:pt x="12" y="1650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782880" y="6659640"/>
              <a:ext cx="11160" cy="26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794040" y="6659640"/>
              <a:ext cx="9720" cy="26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03760" y="6659640"/>
              <a:ext cx="9360" cy="26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813120" y="6659640"/>
              <a:ext cx="20520" cy="2619360"/>
            </a:xfrm>
            <a:custGeom>
              <a:avLst/>
              <a:gdLst/>
              <a:ahLst/>
              <a:rect l="l" t="t" r="r" b="b"/>
              <a:pathLst>
                <a:path w="13" h="1650">
                  <a:moveTo>
                    <a:pt x="0" y="0"/>
                  </a:moveTo>
                  <a:lnTo>
                    <a:pt x="0" y="1644"/>
                  </a:lnTo>
                  <a:lnTo>
                    <a:pt x="13" y="1650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33640" y="6670800"/>
              <a:ext cx="9720" cy="2627280"/>
            </a:xfrm>
            <a:custGeom>
              <a:avLst/>
              <a:gdLst/>
              <a:ahLst/>
              <a:rect l="l" t="t" r="r" b="b"/>
              <a:pathLst>
                <a:path w="6" h="1655">
                  <a:moveTo>
                    <a:pt x="0" y="0"/>
                  </a:moveTo>
                  <a:lnTo>
                    <a:pt x="0" y="1643"/>
                  </a:lnTo>
                  <a:lnTo>
                    <a:pt x="6" y="165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843360" y="6670800"/>
              <a:ext cx="11160" cy="2647800"/>
            </a:xfrm>
            <a:custGeom>
              <a:avLst/>
              <a:gdLst/>
              <a:ahLst/>
              <a:rect l="l" t="t" r="r" b="b"/>
              <a:pathLst>
                <a:path w="7" h="1668">
                  <a:moveTo>
                    <a:pt x="0" y="0"/>
                  </a:moveTo>
                  <a:lnTo>
                    <a:pt x="0" y="1655"/>
                  </a:lnTo>
                  <a:lnTo>
                    <a:pt x="7" y="16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854520" y="6670800"/>
              <a:ext cx="19080" cy="2666880"/>
            </a:xfrm>
            <a:custGeom>
              <a:avLst/>
              <a:gdLst/>
              <a:ahLst/>
              <a:rect l="l" t="t" r="r" b="b"/>
              <a:pathLst>
                <a:path w="12" h="1680">
                  <a:moveTo>
                    <a:pt x="0" y="0"/>
                  </a:moveTo>
                  <a:lnTo>
                    <a:pt x="0" y="1668"/>
                  </a:lnTo>
                  <a:lnTo>
                    <a:pt x="12" y="168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73600" y="6670800"/>
              <a:ext cx="11160" cy="2678040"/>
            </a:xfrm>
            <a:custGeom>
              <a:avLst/>
              <a:gdLst/>
              <a:ahLst/>
              <a:rect l="l" t="t" r="r" b="b"/>
              <a:pathLst>
                <a:path w="7" h="1687">
                  <a:moveTo>
                    <a:pt x="0" y="0"/>
                  </a:moveTo>
                  <a:lnTo>
                    <a:pt x="0" y="1680"/>
                  </a:lnTo>
                  <a:lnTo>
                    <a:pt x="7" y="16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84760" y="6670800"/>
              <a:ext cx="9360" cy="2687400"/>
            </a:xfrm>
            <a:custGeom>
              <a:avLst/>
              <a:gdLst/>
              <a:ahLst/>
              <a:rect l="l" t="t" r="r" b="b"/>
              <a:pathLst>
                <a:path w="6" h="1693">
                  <a:moveTo>
                    <a:pt x="0" y="0"/>
                  </a:moveTo>
                  <a:lnTo>
                    <a:pt x="0" y="1687"/>
                  </a:lnTo>
                  <a:lnTo>
                    <a:pt x="6" y="16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894120" y="6670800"/>
              <a:ext cx="20520" cy="2697120"/>
            </a:xfrm>
            <a:custGeom>
              <a:avLst/>
              <a:gdLst/>
              <a:ahLst/>
              <a:rect l="l" t="t" r="r" b="b"/>
              <a:pathLst>
                <a:path w="13" h="1699">
                  <a:moveTo>
                    <a:pt x="0" y="0"/>
                  </a:moveTo>
                  <a:lnTo>
                    <a:pt x="0" y="1693"/>
                  </a:lnTo>
                  <a:lnTo>
                    <a:pt x="13" y="169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914640" y="6680160"/>
              <a:ext cx="9720" cy="268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924360" y="6680160"/>
              <a:ext cx="11160" cy="268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935520" y="6680160"/>
              <a:ext cx="9360" cy="268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944880" y="6680160"/>
              <a:ext cx="30240" cy="2687760"/>
            </a:xfrm>
            <a:custGeom>
              <a:avLst/>
              <a:gdLst/>
              <a:ahLst/>
              <a:rect l="l" t="t" r="r" b="b"/>
              <a:pathLst>
                <a:path w="19" h="1693">
                  <a:moveTo>
                    <a:pt x="0" y="0"/>
                  </a:moveTo>
                  <a:lnTo>
                    <a:pt x="0" y="1693"/>
                  </a:lnTo>
                  <a:lnTo>
                    <a:pt x="19" y="1687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975120" y="6680160"/>
              <a:ext cx="20520" cy="2678040"/>
            </a:xfrm>
            <a:custGeom>
              <a:avLst/>
              <a:gdLst/>
              <a:ahLst/>
              <a:rect l="l" t="t" r="r" b="b"/>
              <a:pathLst>
                <a:path w="13" h="1687">
                  <a:moveTo>
                    <a:pt x="0" y="0"/>
                  </a:moveTo>
                  <a:lnTo>
                    <a:pt x="0" y="1687"/>
                  </a:lnTo>
                  <a:lnTo>
                    <a:pt x="13" y="1681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995640" y="6689880"/>
              <a:ext cx="9720" cy="2658960"/>
            </a:xfrm>
            <a:custGeom>
              <a:avLst/>
              <a:gdLst/>
              <a:ahLst/>
              <a:rect l="l" t="t" r="r" b="b"/>
              <a:pathLst>
                <a:path w="6" h="1675">
                  <a:moveTo>
                    <a:pt x="0" y="0"/>
                  </a:moveTo>
                  <a:lnTo>
                    <a:pt x="0" y="1675"/>
                  </a:lnTo>
                  <a:lnTo>
                    <a:pt x="6" y="16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05360" y="6699240"/>
              <a:ext cx="20520" cy="2649600"/>
            </a:xfrm>
            <a:custGeom>
              <a:avLst/>
              <a:gdLst/>
              <a:ahLst/>
              <a:rect l="l" t="t" r="r" b="b"/>
              <a:pathLst>
                <a:path w="13" h="1669">
                  <a:moveTo>
                    <a:pt x="0" y="0"/>
                  </a:moveTo>
                  <a:lnTo>
                    <a:pt x="0" y="1669"/>
                  </a:lnTo>
                  <a:lnTo>
                    <a:pt x="13" y="1662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25880" y="6710400"/>
              <a:ext cx="9720" cy="26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35600" y="6710400"/>
              <a:ext cx="10800" cy="2627280"/>
            </a:xfrm>
            <a:custGeom>
              <a:avLst/>
              <a:gdLst/>
              <a:ahLst/>
              <a:rect l="l" t="t" r="r" b="b"/>
              <a:pathLst>
                <a:path w="7" h="1655">
                  <a:moveTo>
                    <a:pt x="0" y="0"/>
                  </a:moveTo>
                  <a:lnTo>
                    <a:pt x="0" y="1655"/>
                  </a:lnTo>
                  <a:lnTo>
                    <a:pt x="7" y="16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46400" y="6710400"/>
              <a:ext cx="9720" cy="261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56120" y="6710400"/>
              <a:ext cx="9360" cy="2617920"/>
            </a:xfrm>
            <a:custGeom>
              <a:avLst/>
              <a:gdLst/>
              <a:ahLst/>
              <a:rect l="l" t="t" r="r" b="b"/>
              <a:pathLst>
                <a:path w="6" h="1649">
                  <a:moveTo>
                    <a:pt x="0" y="0"/>
                  </a:moveTo>
                  <a:lnTo>
                    <a:pt x="0" y="1649"/>
                  </a:lnTo>
                  <a:lnTo>
                    <a:pt x="6" y="16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65480" y="6710400"/>
              <a:ext cx="11160" cy="260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6640" y="6699240"/>
              <a:ext cx="19080" cy="2619360"/>
            </a:xfrm>
            <a:custGeom>
              <a:avLst/>
              <a:gdLst/>
              <a:ahLst/>
              <a:rect l="l" t="t" r="r" b="b"/>
              <a:pathLst>
                <a:path w="12" h="1650">
                  <a:moveTo>
                    <a:pt x="0" y="7"/>
                  </a:moveTo>
                  <a:lnTo>
                    <a:pt x="0" y="1650"/>
                  </a:lnTo>
                  <a:lnTo>
                    <a:pt x="12" y="1637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95720" y="6689880"/>
              <a:ext cx="20520" cy="2608200"/>
            </a:xfrm>
            <a:custGeom>
              <a:avLst/>
              <a:gdLst/>
              <a:ahLst/>
              <a:rect l="l" t="t" r="r" b="b"/>
              <a:pathLst>
                <a:path w="13" h="1643">
                  <a:moveTo>
                    <a:pt x="0" y="6"/>
                  </a:moveTo>
                  <a:lnTo>
                    <a:pt x="0" y="1643"/>
                  </a:lnTo>
                  <a:lnTo>
                    <a:pt x="13" y="163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116240" y="6680160"/>
              <a:ext cx="9720" cy="2598840"/>
            </a:xfrm>
            <a:custGeom>
              <a:avLst/>
              <a:gdLst/>
              <a:ahLst/>
              <a:rect l="l" t="t" r="r" b="b"/>
              <a:pathLst>
                <a:path w="6" h="1637">
                  <a:moveTo>
                    <a:pt x="0" y="6"/>
                  </a:moveTo>
                  <a:lnTo>
                    <a:pt x="0" y="1637"/>
                  </a:lnTo>
                  <a:lnTo>
                    <a:pt x="6" y="16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125960" y="6670800"/>
              <a:ext cx="20520" cy="2617560"/>
            </a:xfrm>
            <a:custGeom>
              <a:avLst/>
              <a:gdLst/>
              <a:ahLst/>
              <a:rect l="l" t="t" r="r" b="b"/>
              <a:pathLst>
                <a:path w="13" h="1649">
                  <a:moveTo>
                    <a:pt x="0" y="6"/>
                  </a:moveTo>
                  <a:lnTo>
                    <a:pt x="0" y="1643"/>
                  </a:lnTo>
                  <a:lnTo>
                    <a:pt x="13" y="1649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146480" y="6670800"/>
              <a:ext cx="20880" cy="261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167360" y="6670800"/>
              <a:ext cx="29880" cy="2627280"/>
            </a:xfrm>
            <a:custGeom>
              <a:avLst/>
              <a:gdLst/>
              <a:ahLst/>
              <a:rect l="l" t="t" r="r" b="b"/>
              <a:pathLst>
                <a:path w="19" h="1655">
                  <a:moveTo>
                    <a:pt x="0" y="0"/>
                  </a:moveTo>
                  <a:lnTo>
                    <a:pt x="0" y="1649"/>
                  </a:lnTo>
                  <a:lnTo>
                    <a:pt x="19" y="165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97240" y="6670800"/>
              <a:ext cx="9720" cy="26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06960" y="6670800"/>
              <a:ext cx="20520" cy="2638440"/>
            </a:xfrm>
            <a:custGeom>
              <a:avLst/>
              <a:gdLst/>
              <a:ahLst/>
              <a:rect l="l" t="t" r="r" b="b"/>
              <a:pathLst>
                <a:path w="13" h="1662">
                  <a:moveTo>
                    <a:pt x="0" y="0"/>
                  </a:moveTo>
                  <a:lnTo>
                    <a:pt x="0" y="1655"/>
                  </a:lnTo>
                  <a:lnTo>
                    <a:pt x="13" y="1662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227480" y="6670800"/>
              <a:ext cx="9720" cy="26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37200" y="6670800"/>
              <a:ext cx="10800" cy="26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248000" y="6670800"/>
              <a:ext cx="19080" cy="2647800"/>
            </a:xfrm>
            <a:custGeom>
              <a:avLst/>
              <a:gdLst/>
              <a:ahLst/>
              <a:rect l="l" t="t" r="r" b="b"/>
              <a:pathLst>
                <a:path w="12" h="1668">
                  <a:moveTo>
                    <a:pt x="0" y="0"/>
                  </a:moveTo>
                  <a:lnTo>
                    <a:pt x="0" y="1662"/>
                  </a:lnTo>
                  <a:lnTo>
                    <a:pt x="12" y="166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267080" y="6670800"/>
              <a:ext cx="20880" cy="26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87960" y="6670800"/>
              <a:ext cx="20520" cy="26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308480" y="6670800"/>
              <a:ext cx="30240" cy="2647800"/>
            </a:xfrm>
            <a:custGeom>
              <a:avLst/>
              <a:gdLst/>
              <a:ahLst/>
              <a:rect l="l" t="t" r="r" b="b"/>
              <a:pathLst>
                <a:path w="19" h="1668">
                  <a:moveTo>
                    <a:pt x="0" y="0"/>
                  </a:moveTo>
                  <a:lnTo>
                    <a:pt x="0" y="1668"/>
                  </a:lnTo>
                  <a:lnTo>
                    <a:pt x="19" y="1662"/>
                  </a:lnTo>
                  <a:lnTo>
                    <a:pt x="19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38720" y="6689880"/>
              <a:ext cx="9360" cy="2619360"/>
            </a:xfrm>
            <a:custGeom>
              <a:avLst/>
              <a:gdLst/>
              <a:ahLst/>
              <a:rect l="l" t="t" r="r" b="b"/>
              <a:pathLst>
                <a:path w="6" h="1650">
                  <a:moveTo>
                    <a:pt x="0" y="0"/>
                  </a:moveTo>
                  <a:lnTo>
                    <a:pt x="0" y="1650"/>
                  </a:lnTo>
                  <a:lnTo>
                    <a:pt x="6" y="16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48080" y="6689880"/>
              <a:ext cx="20880" cy="2608200"/>
            </a:xfrm>
            <a:custGeom>
              <a:avLst/>
              <a:gdLst/>
              <a:ahLst/>
              <a:rect l="l" t="t" r="r" b="b"/>
              <a:pathLst>
                <a:path w="13" h="1643">
                  <a:moveTo>
                    <a:pt x="0" y="0"/>
                  </a:moveTo>
                  <a:lnTo>
                    <a:pt x="0" y="1643"/>
                  </a:lnTo>
                  <a:lnTo>
                    <a:pt x="13" y="163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68960" y="6689880"/>
              <a:ext cx="9360" cy="2598480"/>
            </a:xfrm>
            <a:custGeom>
              <a:avLst/>
              <a:gdLst/>
              <a:ahLst/>
              <a:rect l="l" t="t" r="r" b="b"/>
              <a:pathLst>
                <a:path w="6" h="1637">
                  <a:moveTo>
                    <a:pt x="0" y="0"/>
                  </a:moveTo>
                  <a:lnTo>
                    <a:pt x="0" y="1637"/>
                  </a:lnTo>
                  <a:lnTo>
                    <a:pt x="6" y="16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78320" y="6689880"/>
              <a:ext cx="20520" cy="2589120"/>
            </a:xfrm>
            <a:custGeom>
              <a:avLst/>
              <a:gdLst/>
              <a:ahLst/>
              <a:rect l="l" t="t" r="r" b="b"/>
              <a:pathLst>
                <a:path w="13" h="1631">
                  <a:moveTo>
                    <a:pt x="0" y="0"/>
                  </a:moveTo>
                  <a:lnTo>
                    <a:pt x="0" y="1631"/>
                  </a:lnTo>
                  <a:lnTo>
                    <a:pt x="13" y="1625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98840" y="6699240"/>
              <a:ext cx="9720" cy="25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408560" y="6699240"/>
              <a:ext cx="11160" cy="25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19720" y="6699240"/>
              <a:ext cx="19080" cy="2570040"/>
            </a:xfrm>
            <a:custGeom>
              <a:avLst/>
              <a:gdLst/>
              <a:ahLst/>
              <a:rect l="l" t="t" r="r" b="b"/>
              <a:pathLst>
                <a:path w="12" h="1619">
                  <a:moveTo>
                    <a:pt x="0" y="0"/>
                  </a:moveTo>
                  <a:lnTo>
                    <a:pt x="0" y="1619"/>
                  </a:lnTo>
                  <a:lnTo>
                    <a:pt x="12" y="1619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438800" y="6710400"/>
              <a:ext cx="10800" cy="25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49600" y="6710400"/>
              <a:ext cx="19080" cy="25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468680" y="6710400"/>
              <a:ext cx="11160" cy="2558880"/>
            </a:xfrm>
            <a:custGeom>
              <a:avLst/>
              <a:gdLst/>
              <a:ahLst/>
              <a:rect l="l" t="t" r="r" b="b"/>
              <a:pathLst>
                <a:path w="7" h="1612">
                  <a:moveTo>
                    <a:pt x="0" y="0"/>
                  </a:moveTo>
                  <a:lnTo>
                    <a:pt x="0" y="1612"/>
                  </a:lnTo>
                  <a:lnTo>
                    <a:pt x="7" y="160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479840" y="6710400"/>
              <a:ext cx="30240" cy="2549520"/>
            </a:xfrm>
            <a:custGeom>
              <a:avLst/>
              <a:gdLst/>
              <a:ahLst/>
              <a:rect l="l" t="t" r="r" b="b"/>
              <a:pathLst>
                <a:path w="19" h="1606">
                  <a:moveTo>
                    <a:pt x="0" y="0"/>
                  </a:moveTo>
                  <a:lnTo>
                    <a:pt x="0" y="1606"/>
                  </a:lnTo>
                  <a:lnTo>
                    <a:pt x="19" y="1606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510080" y="6719760"/>
              <a:ext cx="9360" cy="254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519440" y="6719760"/>
              <a:ext cx="20880" cy="2549520"/>
            </a:xfrm>
            <a:custGeom>
              <a:avLst/>
              <a:gdLst/>
              <a:ahLst/>
              <a:rect l="l" t="t" r="r" b="b"/>
              <a:pathLst>
                <a:path w="13" h="1606">
                  <a:moveTo>
                    <a:pt x="0" y="0"/>
                  </a:moveTo>
                  <a:lnTo>
                    <a:pt x="0" y="1600"/>
                  </a:lnTo>
                  <a:lnTo>
                    <a:pt x="13" y="160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540320" y="6729480"/>
              <a:ext cx="20520" cy="2549520"/>
            </a:xfrm>
            <a:custGeom>
              <a:avLst/>
              <a:gdLst/>
              <a:ahLst/>
              <a:rect l="l" t="t" r="r" b="b"/>
              <a:pathLst>
                <a:path w="13" h="1606">
                  <a:moveTo>
                    <a:pt x="0" y="0"/>
                  </a:moveTo>
                  <a:lnTo>
                    <a:pt x="0" y="1600"/>
                  </a:lnTo>
                  <a:lnTo>
                    <a:pt x="13" y="160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560840" y="6738840"/>
              <a:ext cx="9720" cy="2540160"/>
            </a:xfrm>
            <a:custGeom>
              <a:avLst/>
              <a:gdLst/>
              <a:ahLst/>
              <a:rect l="l" t="t" r="r" b="b"/>
              <a:pathLst>
                <a:path w="6" h="1600">
                  <a:moveTo>
                    <a:pt x="0" y="0"/>
                  </a:moveTo>
                  <a:lnTo>
                    <a:pt x="0" y="1600"/>
                  </a:lnTo>
                  <a:lnTo>
                    <a:pt x="6" y="159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570560" y="6738840"/>
              <a:ext cx="9360" cy="25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79920" y="6738840"/>
              <a:ext cx="20520" cy="2530440"/>
            </a:xfrm>
            <a:custGeom>
              <a:avLst/>
              <a:gdLst/>
              <a:ahLst/>
              <a:rect l="l" t="t" r="r" b="b"/>
              <a:pathLst>
                <a:path w="13" h="1594">
                  <a:moveTo>
                    <a:pt x="0" y="0"/>
                  </a:moveTo>
                  <a:lnTo>
                    <a:pt x="0" y="1594"/>
                  </a:lnTo>
                  <a:lnTo>
                    <a:pt x="13" y="1594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00440" y="6748560"/>
              <a:ext cx="9720" cy="25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10160" y="6748560"/>
              <a:ext cx="11160" cy="2520720"/>
            </a:xfrm>
            <a:custGeom>
              <a:avLst/>
              <a:gdLst/>
              <a:ahLst/>
              <a:rect l="l" t="t" r="r" b="b"/>
              <a:pathLst>
                <a:path w="7" h="1588">
                  <a:moveTo>
                    <a:pt x="0" y="0"/>
                  </a:moveTo>
                  <a:lnTo>
                    <a:pt x="0" y="1588"/>
                  </a:lnTo>
                  <a:lnTo>
                    <a:pt x="7" y="158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21320" y="6759720"/>
              <a:ext cx="19080" cy="2528640"/>
            </a:xfrm>
            <a:custGeom>
              <a:avLst/>
              <a:gdLst/>
              <a:ahLst/>
              <a:rect l="l" t="t" r="r" b="b"/>
              <a:pathLst>
                <a:path w="12" h="1593">
                  <a:moveTo>
                    <a:pt x="0" y="0"/>
                  </a:moveTo>
                  <a:lnTo>
                    <a:pt x="0" y="1581"/>
                  </a:lnTo>
                  <a:lnTo>
                    <a:pt x="12" y="159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40400" y="6769080"/>
              <a:ext cx="10800" cy="2519280"/>
            </a:xfrm>
            <a:custGeom>
              <a:avLst/>
              <a:gdLst/>
              <a:ahLst/>
              <a:rect l="l" t="t" r="r" b="b"/>
              <a:pathLst>
                <a:path w="7" h="1587">
                  <a:moveTo>
                    <a:pt x="0" y="0"/>
                  </a:moveTo>
                  <a:lnTo>
                    <a:pt x="0" y="1587"/>
                  </a:lnTo>
                  <a:lnTo>
                    <a:pt x="7" y="15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51200" y="6769080"/>
              <a:ext cx="9720" cy="2509920"/>
            </a:xfrm>
            <a:custGeom>
              <a:avLst/>
              <a:gdLst/>
              <a:ahLst/>
              <a:rect l="l" t="t" r="r" b="b"/>
              <a:pathLst>
                <a:path w="6" h="1581">
                  <a:moveTo>
                    <a:pt x="0" y="0"/>
                  </a:moveTo>
                  <a:lnTo>
                    <a:pt x="0" y="1581"/>
                  </a:lnTo>
                  <a:lnTo>
                    <a:pt x="6" y="1581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60920" y="6808680"/>
              <a:ext cx="11160" cy="2479680"/>
            </a:xfrm>
            <a:custGeom>
              <a:avLst/>
              <a:gdLst/>
              <a:ahLst/>
              <a:rect l="l" t="t" r="r" b="b"/>
              <a:pathLst>
                <a:path w="7" h="1562">
                  <a:moveTo>
                    <a:pt x="0" y="0"/>
                  </a:moveTo>
                  <a:lnTo>
                    <a:pt x="0" y="1556"/>
                  </a:lnTo>
                  <a:lnTo>
                    <a:pt x="7" y="156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672080" y="6818400"/>
              <a:ext cx="9360" cy="2469960"/>
            </a:xfrm>
            <a:custGeom>
              <a:avLst/>
              <a:gdLst/>
              <a:ahLst/>
              <a:rect l="l" t="t" r="r" b="b"/>
              <a:pathLst>
                <a:path w="6" h="1556">
                  <a:moveTo>
                    <a:pt x="0" y="0"/>
                  </a:moveTo>
                  <a:lnTo>
                    <a:pt x="0" y="1556"/>
                  </a:lnTo>
                  <a:lnTo>
                    <a:pt x="6" y="15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81440" y="6827760"/>
              <a:ext cx="9720" cy="245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91160" y="6827760"/>
              <a:ext cx="11160" cy="2451240"/>
            </a:xfrm>
            <a:custGeom>
              <a:avLst/>
              <a:gdLst/>
              <a:ahLst/>
              <a:rect l="l" t="t" r="r" b="b"/>
              <a:pathLst>
                <a:path w="7" h="1544">
                  <a:moveTo>
                    <a:pt x="0" y="0"/>
                  </a:moveTo>
                  <a:lnTo>
                    <a:pt x="0" y="1544"/>
                  </a:lnTo>
                  <a:lnTo>
                    <a:pt x="7" y="154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02320" y="6837480"/>
              <a:ext cx="9360" cy="2441520"/>
            </a:xfrm>
            <a:custGeom>
              <a:avLst/>
              <a:gdLst/>
              <a:ahLst/>
              <a:rect l="l" t="t" r="r" b="b"/>
              <a:pathLst>
                <a:path w="6" h="1538">
                  <a:moveTo>
                    <a:pt x="0" y="0"/>
                  </a:moveTo>
                  <a:lnTo>
                    <a:pt x="0" y="1538"/>
                  </a:lnTo>
                  <a:lnTo>
                    <a:pt x="6" y="153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711680" y="6848640"/>
              <a:ext cx="9720" cy="2439720"/>
            </a:xfrm>
            <a:custGeom>
              <a:avLst/>
              <a:gdLst/>
              <a:ahLst/>
              <a:rect l="l" t="t" r="r" b="b"/>
              <a:pathLst>
                <a:path w="6" h="1537">
                  <a:moveTo>
                    <a:pt x="0" y="0"/>
                  </a:moveTo>
                  <a:lnTo>
                    <a:pt x="0" y="1531"/>
                  </a:lnTo>
                  <a:lnTo>
                    <a:pt x="6" y="15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1400" y="6848640"/>
              <a:ext cx="10800" cy="2439720"/>
            </a:xfrm>
            <a:custGeom>
              <a:avLst/>
              <a:gdLst/>
              <a:ahLst/>
              <a:rect l="l" t="t" r="r" b="b"/>
              <a:pathLst>
                <a:path w="7" h="1537">
                  <a:moveTo>
                    <a:pt x="0" y="0"/>
                  </a:moveTo>
                  <a:lnTo>
                    <a:pt x="0" y="1537"/>
                  </a:lnTo>
                  <a:lnTo>
                    <a:pt x="7" y="15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732200" y="6858000"/>
              <a:ext cx="9720" cy="243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41920" y="6858000"/>
              <a:ext cx="9360" cy="2451240"/>
            </a:xfrm>
            <a:custGeom>
              <a:avLst/>
              <a:gdLst/>
              <a:ahLst/>
              <a:rect l="l" t="t" r="r" b="b"/>
              <a:pathLst>
                <a:path w="6" h="1544">
                  <a:moveTo>
                    <a:pt x="0" y="0"/>
                  </a:moveTo>
                  <a:lnTo>
                    <a:pt x="0" y="1544"/>
                  </a:lnTo>
                  <a:lnTo>
                    <a:pt x="6" y="154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751280" y="6867360"/>
              <a:ext cx="11160" cy="244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62440" y="6867360"/>
              <a:ext cx="9720" cy="2460960"/>
            </a:xfrm>
            <a:custGeom>
              <a:avLst/>
              <a:gdLst/>
              <a:ahLst/>
              <a:rect l="l" t="t" r="r" b="b"/>
              <a:pathLst>
                <a:path w="6" h="1550">
                  <a:moveTo>
                    <a:pt x="0" y="0"/>
                  </a:moveTo>
                  <a:lnTo>
                    <a:pt x="0" y="1538"/>
                  </a:lnTo>
                  <a:lnTo>
                    <a:pt x="6" y="15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72160" y="6877080"/>
              <a:ext cx="9360" cy="2460600"/>
            </a:xfrm>
            <a:custGeom>
              <a:avLst/>
              <a:gdLst/>
              <a:ahLst/>
              <a:rect l="l" t="t" r="r" b="b"/>
              <a:pathLst>
                <a:path w="6" h="1550">
                  <a:moveTo>
                    <a:pt x="0" y="0"/>
                  </a:moveTo>
                  <a:lnTo>
                    <a:pt x="0" y="1544"/>
                  </a:lnTo>
                  <a:lnTo>
                    <a:pt x="6" y="155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81520" y="6956280"/>
              <a:ext cx="11160" cy="2392560"/>
            </a:xfrm>
            <a:custGeom>
              <a:avLst/>
              <a:gdLst/>
              <a:ahLst/>
              <a:rect l="l" t="t" r="r" b="b"/>
              <a:pathLst>
                <a:path w="7" h="1507">
                  <a:moveTo>
                    <a:pt x="0" y="0"/>
                  </a:moveTo>
                  <a:lnTo>
                    <a:pt x="0" y="1500"/>
                  </a:lnTo>
                  <a:lnTo>
                    <a:pt x="7" y="1507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92680" y="7005600"/>
              <a:ext cx="9360" cy="2343240"/>
            </a:xfrm>
            <a:custGeom>
              <a:avLst/>
              <a:gdLst/>
              <a:ahLst/>
              <a:rect l="l" t="t" r="r" b="b"/>
              <a:pathLst>
                <a:path w="6" h="1476">
                  <a:moveTo>
                    <a:pt x="0" y="0"/>
                  </a:moveTo>
                  <a:lnTo>
                    <a:pt x="0" y="1476"/>
                  </a:lnTo>
                  <a:lnTo>
                    <a:pt x="6" y="147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02040" y="7016760"/>
              <a:ext cx="11160" cy="233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13200" y="7016760"/>
              <a:ext cx="9720" cy="2341440"/>
            </a:xfrm>
            <a:custGeom>
              <a:avLst/>
              <a:gdLst/>
              <a:ahLst/>
              <a:rect l="l" t="t" r="r" b="b"/>
              <a:pathLst>
                <a:path w="6" h="1475">
                  <a:moveTo>
                    <a:pt x="0" y="0"/>
                  </a:moveTo>
                  <a:lnTo>
                    <a:pt x="0" y="1469"/>
                  </a:lnTo>
                  <a:lnTo>
                    <a:pt x="6" y="14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22920" y="7016760"/>
              <a:ext cx="9360" cy="2351160"/>
            </a:xfrm>
            <a:custGeom>
              <a:avLst/>
              <a:gdLst/>
              <a:ahLst/>
              <a:rect l="l" t="t" r="r" b="b"/>
              <a:pathLst>
                <a:path w="6" h="1481">
                  <a:moveTo>
                    <a:pt x="0" y="0"/>
                  </a:moveTo>
                  <a:lnTo>
                    <a:pt x="0" y="1475"/>
                  </a:lnTo>
                  <a:lnTo>
                    <a:pt x="6" y="14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832280" y="7026120"/>
              <a:ext cx="11160" cy="2351160"/>
            </a:xfrm>
            <a:custGeom>
              <a:avLst/>
              <a:gdLst/>
              <a:ahLst/>
              <a:rect l="l" t="t" r="r" b="b"/>
              <a:pathLst>
                <a:path w="7" h="1481">
                  <a:moveTo>
                    <a:pt x="0" y="0"/>
                  </a:moveTo>
                  <a:lnTo>
                    <a:pt x="0" y="1475"/>
                  </a:lnTo>
                  <a:lnTo>
                    <a:pt x="7" y="14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843440" y="7026120"/>
              <a:ext cx="9720" cy="235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3160" y="7016760"/>
              <a:ext cx="9360" cy="2370240"/>
            </a:xfrm>
            <a:custGeom>
              <a:avLst/>
              <a:gdLst/>
              <a:ahLst/>
              <a:rect l="l" t="t" r="r" b="b"/>
              <a:pathLst>
                <a:path w="6" h="1493">
                  <a:moveTo>
                    <a:pt x="0" y="6"/>
                  </a:moveTo>
                  <a:lnTo>
                    <a:pt x="0" y="1487"/>
                  </a:lnTo>
                  <a:lnTo>
                    <a:pt x="6" y="149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62520" y="7016760"/>
              <a:ext cx="11160" cy="237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873680" y="7016760"/>
              <a:ext cx="19080" cy="237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892760" y="7005600"/>
              <a:ext cx="11160" cy="2381400"/>
            </a:xfrm>
            <a:custGeom>
              <a:avLst/>
              <a:gdLst/>
              <a:ahLst/>
              <a:rect l="l" t="t" r="r" b="b"/>
              <a:pathLst>
                <a:path w="7" h="1500">
                  <a:moveTo>
                    <a:pt x="0" y="7"/>
                  </a:moveTo>
                  <a:lnTo>
                    <a:pt x="0" y="1500"/>
                  </a:lnTo>
                  <a:lnTo>
                    <a:pt x="7" y="150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03920" y="7005600"/>
              <a:ext cx="9360" cy="23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3280" y="6996240"/>
              <a:ext cx="20520" cy="2390760"/>
            </a:xfrm>
            <a:custGeom>
              <a:avLst/>
              <a:gdLst/>
              <a:ahLst/>
              <a:rect l="l" t="t" r="r" b="b"/>
              <a:pathLst>
                <a:path w="13" h="1506">
                  <a:moveTo>
                    <a:pt x="0" y="6"/>
                  </a:moveTo>
                  <a:lnTo>
                    <a:pt x="0" y="1506"/>
                  </a:lnTo>
                  <a:lnTo>
                    <a:pt x="13" y="150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33800" y="6996240"/>
              <a:ext cx="20880" cy="23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954680" y="6996240"/>
              <a:ext cx="9360" cy="23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64040" y="6996240"/>
              <a:ext cx="20880" cy="2390760"/>
            </a:xfrm>
            <a:custGeom>
              <a:avLst/>
              <a:gdLst/>
              <a:ahLst/>
              <a:rect l="l" t="t" r="r" b="b"/>
              <a:pathLst>
                <a:path w="13" h="1506">
                  <a:moveTo>
                    <a:pt x="0" y="0"/>
                  </a:moveTo>
                  <a:lnTo>
                    <a:pt x="0" y="1506"/>
                  </a:lnTo>
                  <a:lnTo>
                    <a:pt x="13" y="150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84920" y="6996240"/>
              <a:ext cx="18720" cy="2381040"/>
            </a:xfrm>
            <a:custGeom>
              <a:avLst/>
              <a:gdLst/>
              <a:ahLst/>
              <a:rect l="l" t="t" r="r" b="b"/>
              <a:pathLst>
                <a:path w="12" h="1500">
                  <a:moveTo>
                    <a:pt x="0" y="0"/>
                  </a:moveTo>
                  <a:lnTo>
                    <a:pt x="0" y="1500"/>
                  </a:lnTo>
                  <a:lnTo>
                    <a:pt x="12" y="1494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003640" y="6996240"/>
              <a:ext cx="20880" cy="23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024520" y="6996240"/>
              <a:ext cx="20520" cy="2390760"/>
            </a:xfrm>
            <a:custGeom>
              <a:avLst/>
              <a:gdLst/>
              <a:ahLst/>
              <a:rect l="l" t="t" r="r" b="b"/>
              <a:pathLst>
                <a:path w="13" h="1506">
                  <a:moveTo>
                    <a:pt x="0" y="0"/>
                  </a:moveTo>
                  <a:lnTo>
                    <a:pt x="0" y="1494"/>
                  </a:lnTo>
                  <a:lnTo>
                    <a:pt x="13" y="150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045040" y="6996240"/>
              <a:ext cx="19080" cy="2401920"/>
            </a:xfrm>
            <a:custGeom>
              <a:avLst/>
              <a:gdLst/>
              <a:ahLst/>
              <a:rect l="l" t="t" r="r" b="b"/>
              <a:pathLst>
                <a:path w="12" h="1513">
                  <a:moveTo>
                    <a:pt x="0" y="0"/>
                  </a:moveTo>
                  <a:lnTo>
                    <a:pt x="0" y="1506"/>
                  </a:lnTo>
                  <a:lnTo>
                    <a:pt x="12" y="151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064120" y="7005600"/>
              <a:ext cx="11160" cy="239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075280" y="7005600"/>
              <a:ext cx="19080" cy="2401920"/>
            </a:xfrm>
            <a:custGeom>
              <a:avLst/>
              <a:gdLst/>
              <a:ahLst/>
              <a:rect l="l" t="t" r="r" b="b"/>
              <a:pathLst>
                <a:path w="12" h="1513">
                  <a:moveTo>
                    <a:pt x="0" y="0"/>
                  </a:moveTo>
                  <a:lnTo>
                    <a:pt x="0" y="1507"/>
                  </a:lnTo>
                  <a:lnTo>
                    <a:pt x="12" y="1513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94360" y="7016760"/>
              <a:ext cx="20520" cy="2409840"/>
            </a:xfrm>
            <a:custGeom>
              <a:avLst/>
              <a:gdLst/>
              <a:ahLst/>
              <a:rect l="l" t="t" r="r" b="b"/>
              <a:pathLst>
                <a:path w="13" h="1518">
                  <a:moveTo>
                    <a:pt x="0" y="0"/>
                  </a:moveTo>
                  <a:lnTo>
                    <a:pt x="0" y="1506"/>
                  </a:lnTo>
                  <a:lnTo>
                    <a:pt x="13" y="1518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114880" y="7045200"/>
              <a:ext cx="11160" cy="2392560"/>
            </a:xfrm>
            <a:custGeom>
              <a:avLst/>
              <a:gdLst/>
              <a:ahLst/>
              <a:rect l="l" t="t" r="r" b="b"/>
              <a:pathLst>
                <a:path w="7" h="1507">
                  <a:moveTo>
                    <a:pt x="0" y="0"/>
                  </a:moveTo>
                  <a:lnTo>
                    <a:pt x="0" y="1500"/>
                  </a:lnTo>
                  <a:lnTo>
                    <a:pt x="7" y="1507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126040" y="7066080"/>
              <a:ext cx="9360" cy="237168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0" y="0"/>
                  </a:moveTo>
                  <a:lnTo>
                    <a:pt x="0" y="1494"/>
                  </a:lnTo>
                  <a:lnTo>
                    <a:pt x="6" y="149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135400" y="7075440"/>
              <a:ext cx="9720" cy="237168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0" y="0"/>
                  </a:moveTo>
                  <a:lnTo>
                    <a:pt x="0" y="1488"/>
                  </a:lnTo>
                  <a:lnTo>
                    <a:pt x="6" y="149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145120" y="7085160"/>
              <a:ext cx="11160" cy="2371680"/>
            </a:xfrm>
            <a:custGeom>
              <a:avLst/>
              <a:gdLst/>
              <a:ahLst/>
              <a:rect l="l" t="t" r="r" b="b"/>
              <a:pathLst>
                <a:path w="7" h="1494">
                  <a:moveTo>
                    <a:pt x="0" y="0"/>
                  </a:moveTo>
                  <a:lnTo>
                    <a:pt x="0" y="1488"/>
                  </a:lnTo>
                  <a:lnTo>
                    <a:pt x="7" y="149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56280" y="7094520"/>
              <a:ext cx="93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165640" y="7094520"/>
              <a:ext cx="972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75360" y="7094520"/>
              <a:ext cx="111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86520" y="7094520"/>
              <a:ext cx="9360" cy="2362320"/>
            </a:xfrm>
            <a:custGeom>
              <a:avLst/>
              <a:gdLst/>
              <a:ahLst/>
              <a:rect l="l" t="t" r="r" b="b"/>
              <a:pathLst>
                <a:path w="6" h="1488">
                  <a:moveTo>
                    <a:pt x="0" y="0"/>
                  </a:moveTo>
                  <a:lnTo>
                    <a:pt x="0" y="1488"/>
                  </a:lnTo>
                  <a:lnTo>
                    <a:pt x="6" y="148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95880" y="7105680"/>
              <a:ext cx="9360" cy="235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05240" y="7094520"/>
              <a:ext cx="20880" cy="2362320"/>
            </a:xfrm>
            <a:custGeom>
              <a:avLst/>
              <a:gdLst/>
              <a:ahLst/>
              <a:rect l="l" t="t" r="r" b="b"/>
              <a:pathLst>
                <a:path w="13" h="1488">
                  <a:moveTo>
                    <a:pt x="0" y="7"/>
                  </a:moveTo>
                  <a:lnTo>
                    <a:pt x="0" y="1488"/>
                  </a:lnTo>
                  <a:lnTo>
                    <a:pt x="13" y="1488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7094520"/>
              <a:ext cx="93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35480" y="7094520"/>
              <a:ext cx="111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46640" y="7085160"/>
              <a:ext cx="9720" cy="237168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0" y="6"/>
                  </a:moveTo>
                  <a:lnTo>
                    <a:pt x="0" y="1494"/>
                  </a:lnTo>
                  <a:lnTo>
                    <a:pt x="6" y="149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56360" y="7075440"/>
              <a:ext cx="20520" cy="2381400"/>
            </a:xfrm>
            <a:custGeom>
              <a:avLst/>
              <a:gdLst/>
              <a:ahLst/>
              <a:rect l="l" t="t" r="r" b="b"/>
              <a:pathLst>
                <a:path w="13" h="1500">
                  <a:moveTo>
                    <a:pt x="0" y="6"/>
                  </a:moveTo>
                  <a:lnTo>
                    <a:pt x="0" y="1500"/>
                  </a:lnTo>
                  <a:lnTo>
                    <a:pt x="13" y="150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76880" y="7066080"/>
              <a:ext cx="9360" cy="2390760"/>
            </a:xfrm>
            <a:custGeom>
              <a:avLst/>
              <a:gdLst/>
              <a:ahLst/>
              <a:rect l="l" t="t" r="r" b="b"/>
              <a:pathLst>
                <a:path w="6" h="1506">
                  <a:moveTo>
                    <a:pt x="0" y="6"/>
                  </a:moveTo>
                  <a:lnTo>
                    <a:pt x="0" y="1506"/>
                  </a:lnTo>
                  <a:lnTo>
                    <a:pt x="6" y="150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86240" y="7054920"/>
              <a:ext cx="11160" cy="2401920"/>
            </a:xfrm>
            <a:custGeom>
              <a:avLst/>
              <a:gdLst/>
              <a:ahLst/>
              <a:rect l="l" t="t" r="r" b="b"/>
              <a:pathLst>
                <a:path w="7" h="1513">
                  <a:moveTo>
                    <a:pt x="0" y="7"/>
                  </a:moveTo>
                  <a:lnTo>
                    <a:pt x="0" y="1513"/>
                  </a:lnTo>
                  <a:lnTo>
                    <a:pt x="7" y="15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97400" y="7045200"/>
              <a:ext cx="19080" cy="2411640"/>
            </a:xfrm>
            <a:custGeom>
              <a:avLst/>
              <a:gdLst/>
              <a:ahLst/>
              <a:rect l="l" t="t" r="r" b="b"/>
              <a:pathLst>
                <a:path w="12" h="1519">
                  <a:moveTo>
                    <a:pt x="0" y="6"/>
                  </a:moveTo>
                  <a:lnTo>
                    <a:pt x="0" y="1519"/>
                  </a:lnTo>
                  <a:lnTo>
                    <a:pt x="12" y="1513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316480" y="7035840"/>
              <a:ext cx="11160" cy="2411280"/>
            </a:xfrm>
            <a:custGeom>
              <a:avLst/>
              <a:gdLst/>
              <a:ahLst/>
              <a:rect l="l" t="t" r="r" b="b"/>
              <a:pathLst>
                <a:path w="7" h="1519">
                  <a:moveTo>
                    <a:pt x="0" y="6"/>
                  </a:moveTo>
                  <a:lnTo>
                    <a:pt x="0" y="1519"/>
                  </a:lnTo>
                  <a:lnTo>
                    <a:pt x="7" y="15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27640" y="7026120"/>
              <a:ext cx="19080" cy="2421000"/>
            </a:xfrm>
            <a:custGeom>
              <a:avLst/>
              <a:gdLst/>
              <a:ahLst/>
              <a:rect l="l" t="t" r="r" b="b"/>
              <a:pathLst>
                <a:path w="12" h="1525">
                  <a:moveTo>
                    <a:pt x="0" y="6"/>
                  </a:moveTo>
                  <a:lnTo>
                    <a:pt x="0" y="1525"/>
                  </a:lnTo>
                  <a:lnTo>
                    <a:pt x="12" y="1519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346720" y="7016760"/>
              <a:ext cx="20520" cy="2421000"/>
            </a:xfrm>
            <a:custGeom>
              <a:avLst/>
              <a:gdLst/>
              <a:ahLst/>
              <a:rect l="l" t="t" r="r" b="b"/>
              <a:pathLst>
                <a:path w="13" h="1525">
                  <a:moveTo>
                    <a:pt x="0" y="6"/>
                  </a:moveTo>
                  <a:lnTo>
                    <a:pt x="0" y="1525"/>
                  </a:lnTo>
                  <a:lnTo>
                    <a:pt x="13" y="1525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67240" y="7016760"/>
              <a:ext cx="20880" cy="2430360"/>
            </a:xfrm>
            <a:custGeom>
              <a:avLst/>
              <a:gdLst/>
              <a:ahLst/>
              <a:rect l="l" t="t" r="r" b="b"/>
              <a:pathLst>
                <a:path w="13" h="1531">
                  <a:moveTo>
                    <a:pt x="0" y="0"/>
                  </a:moveTo>
                  <a:lnTo>
                    <a:pt x="0" y="1525"/>
                  </a:lnTo>
                  <a:lnTo>
                    <a:pt x="13" y="1531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388120" y="7016760"/>
              <a:ext cx="19080" cy="2440080"/>
            </a:xfrm>
            <a:custGeom>
              <a:avLst/>
              <a:gdLst/>
              <a:ahLst/>
              <a:rect l="l" t="t" r="r" b="b"/>
              <a:pathLst>
                <a:path w="12" h="1537">
                  <a:moveTo>
                    <a:pt x="0" y="0"/>
                  </a:moveTo>
                  <a:lnTo>
                    <a:pt x="0" y="1531"/>
                  </a:lnTo>
                  <a:lnTo>
                    <a:pt x="12" y="1537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407200" y="7016760"/>
              <a:ext cx="10800" cy="2440080"/>
            </a:xfrm>
            <a:custGeom>
              <a:avLst/>
              <a:gdLst/>
              <a:ahLst/>
              <a:rect l="l" t="t" r="r" b="b"/>
              <a:pathLst>
                <a:path w="7" h="1537">
                  <a:moveTo>
                    <a:pt x="0" y="0"/>
                  </a:moveTo>
                  <a:lnTo>
                    <a:pt x="0" y="1537"/>
                  </a:lnTo>
                  <a:lnTo>
                    <a:pt x="7" y="15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418000" y="7026120"/>
              <a:ext cx="20880" cy="2440080"/>
            </a:xfrm>
            <a:custGeom>
              <a:avLst/>
              <a:gdLst/>
              <a:ahLst/>
              <a:rect l="l" t="t" r="r" b="b"/>
              <a:pathLst>
                <a:path w="13" h="1537">
                  <a:moveTo>
                    <a:pt x="0" y="0"/>
                  </a:moveTo>
                  <a:lnTo>
                    <a:pt x="0" y="1531"/>
                  </a:lnTo>
                  <a:lnTo>
                    <a:pt x="13" y="153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438880" y="7035840"/>
              <a:ext cx="9360" cy="2440080"/>
            </a:xfrm>
            <a:custGeom>
              <a:avLst/>
              <a:gdLst/>
              <a:ahLst/>
              <a:rect l="l" t="t" r="r" b="b"/>
              <a:pathLst>
                <a:path w="6" h="1537">
                  <a:moveTo>
                    <a:pt x="0" y="0"/>
                  </a:moveTo>
                  <a:lnTo>
                    <a:pt x="0" y="1531"/>
                  </a:lnTo>
                  <a:lnTo>
                    <a:pt x="6" y="15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48240" y="7035840"/>
              <a:ext cx="20520" cy="2451240"/>
            </a:xfrm>
            <a:custGeom>
              <a:avLst/>
              <a:gdLst/>
              <a:ahLst/>
              <a:rect l="l" t="t" r="r" b="b"/>
              <a:pathLst>
                <a:path w="13" h="1544">
                  <a:moveTo>
                    <a:pt x="0" y="0"/>
                  </a:moveTo>
                  <a:lnTo>
                    <a:pt x="0" y="1537"/>
                  </a:lnTo>
                  <a:lnTo>
                    <a:pt x="13" y="154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68760" y="7026120"/>
              <a:ext cx="19080" cy="2470320"/>
            </a:xfrm>
            <a:custGeom>
              <a:avLst/>
              <a:gdLst/>
              <a:ahLst/>
              <a:rect l="l" t="t" r="r" b="b"/>
              <a:pathLst>
                <a:path w="12" h="1556">
                  <a:moveTo>
                    <a:pt x="0" y="6"/>
                  </a:moveTo>
                  <a:lnTo>
                    <a:pt x="0" y="1550"/>
                  </a:lnTo>
                  <a:lnTo>
                    <a:pt x="12" y="155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487840" y="7016760"/>
              <a:ext cx="20880" cy="2479680"/>
            </a:xfrm>
            <a:custGeom>
              <a:avLst/>
              <a:gdLst/>
              <a:ahLst/>
              <a:rect l="l" t="t" r="r" b="b"/>
              <a:pathLst>
                <a:path w="13" h="1562">
                  <a:moveTo>
                    <a:pt x="0" y="6"/>
                  </a:moveTo>
                  <a:lnTo>
                    <a:pt x="0" y="1562"/>
                  </a:lnTo>
                  <a:lnTo>
                    <a:pt x="13" y="156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508720" y="7016760"/>
              <a:ext cx="9360" cy="247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18080" y="7005600"/>
              <a:ext cx="20880" cy="2490840"/>
            </a:xfrm>
            <a:custGeom>
              <a:avLst/>
              <a:gdLst/>
              <a:ahLst/>
              <a:rect l="l" t="t" r="r" b="b"/>
              <a:pathLst>
                <a:path w="13" h="1569">
                  <a:moveTo>
                    <a:pt x="0" y="7"/>
                  </a:moveTo>
                  <a:lnTo>
                    <a:pt x="0" y="1569"/>
                  </a:lnTo>
                  <a:lnTo>
                    <a:pt x="13" y="1569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538960" y="7005600"/>
              <a:ext cx="9360" cy="24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48320" y="7005600"/>
              <a:ext cx="20520" cy="2500200"/>
            </a:xfrm>
            <a:custGeom>
              <a:avLst/>
              <a:gdLst/>
              <a:ahLst/>
              <a:rect l="l" t="t" r="r" b="b"/>
              <a:pathLst>
                <a:path w="13" h="1575">
                  <a:moveTo>
                    <a:pt x="0" y="0"/>
                  </a:moveTo>
                  <a:lnTo>
                    <a:pt x="0" y="1569"/>
                  </a:lnTo>
                  <a:lnTo>
                    <a:pt x="13" y="157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568840" y="7005600"/>
              <a:ext cx="11160" cy="25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580000" y="7005600"/>
              <a:ext cx="9720" cy="25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89720" y="7005600"/>
              <a:ext cx="9360" cy="25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599080" y="6996240"/>
              <a:ext cx="11160" cy="2509560"/>
            </a:xfrm>
            <a:custGeom>
              <a:avLst/>
              <a:gdLst/>
              <a:ahLst/>
              <a:rect l="l" t="t" r="r" b="b"/>
              <a:pathLst>
                <a:path w="7" h="1581">
                  <a:moveTo>
                    <a:pt x="0" y="6"/>
                  </a:moveTo>
                  <a:lnTo>
                    <a:pt x="0" y="1581"/>
                  </a:lnTo>
                  <a:lnTo>
                    <a:pt x="7" y="158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10240" y="6986520"/>
              <a:ext cx="9360" cy="2509920"/>
            </a:xfrm>
            <a:custGeom>
              <a:avLst/>
              <a:gdLst/>
              <a:ahLst/>
              <a:rect l="l" t="t" r="r" b="b"/>
              <a:pathLst>
                <a:path w="6" h="1581">
                  <a:moveTo>
                    <a:pt x="0" y="6"/>
                  </a:moveTo>
                  <a:lnTo>
                    <a:pt x="0" y="1581"/>
                  </a:lnTo>
                  <a:lnTo>
                    <a:pt x="6" y="158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19600" y="6977160"/>
              <a:ext cx="20880" cy="2519280"/>
            </a:xfrm>
            <a:custGeom>
              <a:avLst/>
              <a:gdLst/>
              <a:ahLst/>
              <a:rect l="l" t="t" r="r" b="b"/>
              <a:pathLst>
                <a:path w="13" h="1587">
                  <a:moveTo>
                    <a:pt x="0" y="6"/>
                  </a:moveTo>
                  <a:lnTo>
                    <a:pt x="0" y="1587"/>
                  </a:lnTo>
                  <a:lnTo>
                    <a:pt x="13" y="158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40480" y="6966000"/>
              <a:ext cx="9360" cy="2530440"/>
            </a:xfrm>
            <a:custGeom>
              <a:avLst/>
              <a:gdLst/>
              <a:ahLst/>
              <a:rect l="l" t="t" r="r" b="b"/>
              <a:pathLst>
                <a:path w="6" h="1594">
                  <a:moveTo>
                    <a:pt x="0" y="7"/>
                  </a:moveTo>
                  <a:lnTo>
                    <a:pt x="0" y="1594"/>
                  </a:lnTo>
                  <a:lnTo>
                    <a:pt x="6" y="159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49840" y="6956280"/>
              <a:ext cx="20880" cy="2540160"/>
            </a:xfrm>
            <a:custGeom>
              <a:avLst/>
              <a:gdLst/>
              <a:ahLst/>
              <a:rect l="l" t="t" r="r" b="b"/>
              <a:pathLst>
                <a:path w="13" h="1600">
                  <a:moveTo>
                    <a:pt x="0" y="6"/>
                  </a:moveTo>
                  <a:lnTo>
                    <a:pt x="0" y="1600"/>
                  </a:lnTo>
                  <a:lnTo>
                    <a:pt x="13" y="160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70720" y="6946920"/>
              <a:ext cx="18720" cy="2558880"/>
            </a:xfrm>
            <a:custGeom>
              <a:avLst/>
              <a:gdLst/>
              <a:ahLst/>
              <a:rect l="l" t="t" r="r" b="b"/>
              <a:pathLst>
                <a:path w="12" h="1612">
                  <a:moveTo>
                    <a:pt x="0" y="6"/>
                  </a:moveTo>
                  <a:lnTo>
                    <a:pt x="0" y="1606"/>
                  </a:lnTo>
                  <a:lnTo>
                    <a:pt x="12" y="16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89440" y="6946920"/>
              <a:ext cx="11160" cy="2568600"/>
            </a:xfrm>
            <a:custGeom>
              <a:avLst/>
              <a:gdLst/>
              <a:ahLst/>
              <a:rect l="l" t="t" r="r" b="b"/>
              <a:pathLst>
                <a:path w="7" h="1618">
                  <a:moveTo>
                    <a:pt x="0" y="0"/>
                  </a:moveTo>
                  <a:lnTo>
                    <a:pt x="0" y="1612"/>
                  </a:lnTo>
                  <a:lnTo>
                    <a:pt x="7" y="16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00600" y="6937200"/>
              <a:ext cx="9720" cy="2589480"/>
            </a:xfrm>
            <a:custGeom>
              <a:avLst/>
              <a:gdLst/>
              <a:ahLst/>
              <a:rect l="l" t="t" r="r" b="b"/>
              <a:pathLst>
                <a:path w="6" h="1631">
                  <a:moveTo>
                    <a:pt x="0" y="6"/>
                  </a:moveTo>
                  <a:lnTo>
                    <a:pt x="0" y="1624"/>
                  </a:lnTo>
                  <a:lnTo>
                    <a:pt x="6" y="16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10320" y="6926400"/>
              <a:ext cx="20520" cy="2619360"/>
            </a:xfrm>
            <a:custGeom>
              <a:avLst/>
              <a:gdLst/>
              <a:ahLst/>
              <a:rect l="l" t="t" r="r" b="b"/>
              <a:pathLst>
                <a:path w="13" h="1650">
                  <a:moveTo>
                    <a:pt x="0" y="7"/>
                  </a:moveTo>
                  <a:lnTo>
                    <a:pt x="0" y="1638"/>
                  </a:lnTo>
                  <a:lnTo>
                    <a:pt x="13" y="1650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30840" y="6916680"/>
              <a:ext cx="9720" cy="2638440"/>
            </a:xfrm>
            <a:custGeom>
              <a:avLst/>
              <a:gdLst/>
              <a:ahLst/>
              <a:rect l="l" t="t" r="r" b="b"/>
              <a:pathLst>
                <a:path w="6" h="1662">
                  <a:moveTo>
                    <a:pt x="0" y="6"/>
                  </a:moveTo>
                  <a:lnTo>
                    <a:pt x="0" y="1656"/>
                  </a:lnTo>
                  <a:lnTo>
                    <a:pt x="6" y="166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40560" y="6907320"/>
              <a:ext cx="10800" cy="2647800"/>
            </a:xfrm>
            <a:custGeom>
              <a:avLst/>
              <a:gdLst/>
              <a:ahLst/>
              <a:rect l="l" t="t" r="r" b="b"/>
              <a:pathLst>
                <a:path w="7" h="1668">
                  <a:moveTo>
                    <a:pt x="0" y="6"/>
                  </a:moveTo>
                  <a:lnTo>
                    <a:pt x="0" y="1668"/>
                  </a:lnTo>
                  <a:lnTo>
                    <a:pt x="7" y="16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51360" y="6897600"/>
              <a:ext cx="9720" cy="2657520"/>
            </a:xfrm>
            <a:custGeom>
              <a:avLst/>
              <a:gdLst/>
              <a:ahLst/>
              <a:rect l="l" t="t" r="r" b="b"/>
              <a:pathLst>
                <a:path w="6" h="1674">
                  <a:moveTo>
                    <a:pt x="0" y="6"/>
                  </a:moveTo>
                  <a:lnTo>
                    <a:pt x="0" y="1674"/>
                  </a:lnTo>
                  <a:lnTo>
                    <a:pt x="6" y="16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61080" y="6888240"/>
              <a:ext cx="20520" cy="2676600"/>
            </a:xfrm>
            <a:custGeom>
              <a:avLst/>
              <a:gdLst/>
              <a:ahLst/>
              <a:rect l="l" t="t" r="r" b="b"/>
              <a:pathLst>
                <a:path w="13" h="1686">
                  <a:moveTo>
                    <a:pt x="0" y="6"/>
                  </a:moveTo>
                  <a:lnTo>
                    <a:pt x="0" y="1680"/>
                  </a:lnTo>
                  <a:lnTo>
                    <a:pt x="13" y="168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5781600" y="6759720"/>
            <a:ext cx="2198880" cy="3240000"/>
            <a:chOff x="5781600" y="6759720"/>
            <a:chExt cx="2198880" cy="3240000"/>
          </a:xfrm>
        </p:grpSpPr>
        <p:sp>
          <p:nvSpPr>
            <p:cNvPr id="1248" name=""/>
            <p:cNvSpPr/>
            <p:nvPr/>
          </p:nvSpPr>
          <p:spPr>
            <a:xfrm>
              <a:off x="5781600" y="6877080"/>
              <a:ext cx="19080" cy="2698560"/>
            </a:xfrm>
            <a:custGeom>
              <a:avLst/>
              <a:gdLst/>
              <a:ahLst/>
              <a:rect l="l" t="t" r="r" b="b"/>
              <a:pathLst>
                <a:path w="12" h="1700">
                  <a:moveTo>
                    <a:pt x="0" y="7"/>
                  </a:moveTo>
                  <a:lnTo>
                    <a:pt x="0" y="1693"/>
                  </a:lnTo>
                  <a:lnTo>
                    <a:pt x="12" y="1700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800680" y="6877080"/>
              <a:ext cx="11160" cy="2708280"/>
            </a:xfrm>
            <a:custGeom>
              <a:avLst/>
              <a:gdLst/>
              <a:ahLst/>
              <a:rect l="l" t="t" r="r" b="b"/>
              <a:pathLst>
                <a:path w="7" h="1706">
                  <a:moveTo>
                    <a:pt x="0" y="0"/>
                  </a:moveTo>
                  <a:lnTo>
                    <a:pt x="0" y="1700"/>
                  </a:lnTo>
                  <a:lnTo>
                    <a:pt x="7" y="170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11840" y="6867360"/>
              <a:ext cx="9360" cy="2718000"/>
            </a:xfrm>
            <a:custGeom>
              <a:avLst/>
              <a:gdLst/>
              <a:ahLst/>
              <a:rect l="l" t="t" r="r" b="b"/>
              <a:pathLst>
                <a:path w="6" h="1712">
                  <a:moveTo>
                    <a:pt x="0" y="6"/>
                  </a:moveTo>
                  <a:lnTo>
                    <a:pt x="0" y="1712"/>
                  </a:lnTo>
                  <a:lnTo>
                    <a:pt x="6" y="17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21200" y="6848640"/>
              <a:ext cx="20880" cy="2755800"/>
            </a:xfrm>
            <a:custGeom>
              <a:avLst/>
              <a:gdLst/>
              <a:ahLst/>
              <a:rect l="l" t="t" r="r" b="b"/>
              <a:pathLst>
                <a:path w="13" h="1736">
                  <a:moveTo>
                    <a:pt x="0" y="12"/>
                  </a:moveTo>
                  <a:lnTo>
                    <a:pt x="0" y="1724"/>
                  </a:lnTo>
                  <a:lnTo>
                    <a:pt x="13" y="1736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842080" y="6827760"/>
              <a:ext cx="19080" cy="2797200"/>
            </a:xfrm>
            <a:custGeom>
              <a:avLst/>
              <a:gdLst/>
              <a:ahLst/>
              <a:rect l="l" t="t" r="r" b="b"/>
              <a:pathLst>
                <a:path w="12" h="1762">
                  <a:moveTo>
                    <a:pt x="0" y="13"/>
                  </a:moveTo>
                  <a:lnTo>
                    <a:pt x="0" y="1749"/>
                  </a:lnTo>
                  <a:lnTo>
                    <a:pt x="12" y="1762"/>
                  </a:lnTo>
                  <a:lnTo>
                    <a:pt x="1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861160" y="6818400"/>
              <a:ext cx="20520" cy="2816280"/>
            </a:xfrm>
            <a:custGeom>
              <a:avLst/>
              <a:gdLst/>
              <a:ahLst/>
              <a:rect l="l" t="t" r="r" b="b"/>
              <a:pathLst>
                <a:path w="13" h="1774">
                  <a:moveTo>
                    <a:pt x="0" y="6"/>
                  </a:moveTo>
                  <a:lnTo>
                    <a:pt x="0" y="1768"/>
                  </a:lnTo>
                  <a:lnTo>
                    <a:pt x="13" y="1774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81680" y="6808680"/>
              <a:ext cx="30240" cy="2835360"/>
            </a:xfrm>
            <a:custGeom>
              <a:avLst/>
              <a:gdLst/>
              <a:ahLst/>
              <a:rect l="l" t="t" r="r" b="b"/>
              <a:pathLst>
                <a:path w="19" h="1786">
                  <a:moveTo>
                    <a:pt x="0" y="6"/>
                  </a:moveTo>
                  <a:lnTo>
                    <a:pt x="0" y="1780"/>
                  </a:lnTo>
                  <a:lnTo>
                    <a:pt x="19" y="1786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11920" y="6808680"/>
              <a:ext cx="30240" cy="2855880"/>
            </a:xfrm>
            <a:custGeom>
              <a:avLst/>
              <a:gdLst/>
              <a:ahLst/>
              <a:rect l="l" t="t" r="r" b="b"/>
              <a:pathLst>
                <a:path w="19" h="1799">
                  <a:moveTo>
                    <a:pt x="0" y="0"/>
                  </a:moveTo>
                  <a:lnTo>
                    <a:pt x="0" y="1786"/>
                  </a:lnTo>
                  <a:lnTo>
                    <a:pt x="19" y="1799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2160" y="6808680"/>
              <a:ext cx="29880" cy="2884680"/>
            </a:xfrm>
            <a:custGeom>
              <a:avLst/>
              <a:gdLst/>
              <a:ahLst/>
              <a:rect l="l" t="t" r="r" b="b"/>
              <a:pathLst>
                <a:path w="19" h="1817">
                  <a:moveTo>
                    <a:pt x="0" y="0"/>
                  </a:moveTo>
                  <a:lnTo>
                    <a:pt x="0" y="1799"/>
                  </a:lnTo>
                  <a:lnTo>
                    <a:pt x="19" y="1817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72040" y="6808680"/>
              <a:ext cx="20880" cy="289584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17"/>
                  </a:lnTo>
                  <a:lnTo>
                    <a:pt x="13" y="182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92920" y="6808680"/>
              <a:ext cx="20520" cy="2905200"/>
            </a:xfrm>
            <a:custGeom>
              <a:avLst/>
              <a:gdLst/>
              <a:ahLst/>
              <a:rect l="l" t="t" r="r" b="b"/>
              <a:pathLst>
                <a:path w="13" h="1830">
                  <a:moveTo>
                    <a:pt x="0" y="0"/>
                  </a:moveTo>
                  <a:lnTo>
                    <a:pt x="0" y="1824"/>
                  </a:lnTo>
                  <a:lnTo>
                    <a:pt x="13" y="183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13440" y="6788160"/>
              <a:ext cx="20520" cy="2935440"/>
            </a:xfrm>
            <a:custGeom>
              <a:avLst/>
              <a:gdLst/>
              <a:ahLst/>
              <a:rect l="l" t="t" r="r" b="b"/>
              <a:pathLst>
                <a:path w="13" h="1849">
                  <a:moveTo>
                    <a:pt x="0" y="13"/>
                  </a:moveTo>
                  <a:lnTo>
                    <a:pt x="0" y="1843"/>
                  </a:lnTo>
                  <a:lnTo>
                    <a:pt x="13" y="1849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33960" y="6778800"/>
              <a:ext cx="9720" cy="2944800"/>
            </a:xfrm>
            <a:custGeom>
              <a:avLst/>
              <a:gdLst/>
              <a:ahLst/>
              <a:rect l="l" t="t" r="r" b="b"/>
              <a:pathLst>
                <a:path w="6" h="1855">
                  <a:moveTo>
                    <a:pt x="0" y="6"/>
                  </a:moveTo>
                  <a:lnTo>
                    <a:pt x="0" y="1855"/>
                  </a:lnTo>
                  <a:lnTo>
                    <a:pt x="6" y="18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43680" y="6778800"/>
              <a:ext cx="936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53040" y="6769080"/>
              <a:ext cx="20880" cy="2963880"/>
            </a:xfrm>
            <a:custGeom>
              <a:avLst/>
              <a:gdLst/>
              <a:ahLst/>
              <a:rect l="l" t="t" r="r" b="b"/>
              <a:pathLst>
                <a:path w="13" h="1867">
                  <a:moveTo>
                    <a:pt x="0" y="6"/>
                  </a:moveTo>
                  <a:lnTo>
                    <a:pt x="0" y="1861"/>
                  </a:lnTo>
                  <a:lnTo>
                    <a:pt x="13" y="186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073920" y="6759720"/>
              <a:ext cx="9360" cy="2973240"/>
            </a:xfrm>
            <a:custGeom>
              <a:avLst/>
              <a:gdLst/>
              <a:ahLst/>
              <a:rect l="l" t="t" r="r" b="b"/>
              <a:pathLst>
                <a:path w="6" h="1873">
                  <a:moveTo>
                    <a:pt x="0" y="6"/>
                  </a:moveTo>
                  <a:lnTo>
                    <a:pt x="0" y="1873"/>
                  </a:lnTo>
                  <a:lnTo>
                    <a:pt x="6" y="18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083280" y="6759720"/>
              <a:ext cx="111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094440" y="6759720"/>
              <a:ext cx="93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103800" y="6759720"/>
              <a:ext cx="972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13520" y="6759720"/>
              <a:ext cx="111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124680" y="6759720"/>
              <a:ext cx="2988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54560" y="6759720"/>
              <a:ext cx="972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64280" y="6759720"/>
              <a:ext cx="111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175440" y="6759720"/>
              <a:ext cx="9360" cy="2973240"/>
            </a:xfrm>
            <a:custGeom>
              <a:avLst/>
              <a:gdLst/>
              <a:ahLst/>
              <a:rect l="l" t="t" r="r" b="b"/>
              <a:pathLst>
                <a:path w="6" h="1873">
                  <a:moveTo>
                    <a:pt x="0" y="0"/>
                  </a:moveTo>
                  <a:lnTo>
                    <a:pt x="0" y="1873"/>
                  </a:lnTo>
                  <a:lnTo>
                    <a:pt x="6" y="187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84800" y="6769080"/>
              <a:ext cx="9720" cy="2963880"/>
            </a:xfrm>
            <a:custGeom>
              <a:avLst/>
              <a:gdLst/>
              <a:ahLst/>
              <a:rect l="l" t="t" r="r" b="b"/>
              <a:pathLst>
                <a:path w="6" h="1867">
                  <a:moveTo>
                    <a:pt x="0" y="0"/>
                  </a:moveTo>
                  <a:lnTo>
                    <a:pt x="0" y="1867"/>
                  </a:lnTo>
                  <a:lnTo>
                    <a:pt x="6" y="186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94520" y="6778800"/>
              <a:ext cx="11160" cy="2954160"/>
            </a:xfrm>
            <a:custGeom>
              <a:avLst/>
              <a:gdLst/>
              <a:ahLst/>
              <a:rect l="l" t="t" r="r" b="b"/>
              <a:pathLst>
                <a:path w="7" h="1861">
                  <a:moveTo>
                    <a:pt x="0" y="0"/>
                  </a:moveTo>
                  <a:lnTo>
                    <a:pt x="0" y="1861"/>
                  </a:lnTo>
                  <a:lnTo>
                    <a:pt x="7" y="18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05680" y="6788160"/>
              <a:ext cx="9360" cy="2955960"/>
            </a:xfrm>
            <a:custGeom>
              <a:avLst/>
              <a:gdLst/>
              <a:ahLst/>
              <a:rect l="l" t="t" r="r" b="b"/>
              <a:pathLst>
                <a:path w="6" h="1862">
                  <a:moveTo>
                    <a:pt x="0" y="0"/>
                  </a:moveTo>
                  <a:lnTo>
                    <a:pt x="0" y="1855"/>
                  </a:lnTo>
                  <a:lnTo>
                    <a:pt x="6" y="18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15040" y="6788160"/>
              <a:ext cx="9720" cy="2955960"/>
            </a:xfrm>
            <a:custGeom>
              <a:avLst/>
              <a:gdLst/>
              <a:ahLst/>
              <a:rect l="l" t="t" r="r" b="b"/>
              <a:pathLst>
                <a:path w="6" h="1862">
                  <a:moveTo>
                    <a:pt x="0" y="0"/>
                  </a:moveTo>
                  <a:lnTo>
                    <a:pt x="0" y="1862"/>
                  </a:lnTo>
                  <a:lnTo>
                    <a:pt x="6" y="186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24760" y="6799320"/>
              <a:ext cx="10800" cy="2954160"/>
            </a:xfrm>
            <a:custGeom>
              <a:avLst/>
              <a:gdLst/>
              <a:ahLst/>
              <a:rect l="l" t="t" r="r" b="b"/>
              <a:pathLst>
                <a:path w="7" h="1861">
                  <a:moveTo>
                    <a:pt x="0" y="0"/>
                  </a:moveTo>
                  <a:lnTo>
                    <a:pt x="0" y="1855"/>
                  </a:lnTo>
                  <a:lnTo>
                    <a:pt x="7" y="18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35560" y="6808680"/>
              <a:ext cx="9720" cy="2954520"/>
            </a:xfrm>
            <a:custGeom>
              <a:avLst/>
              <a:gdLst/>
              <a:ahLst/>
              <a:rect l="l" t="t" r="r" b="b"/>
              <a:pathLst>
                <a:path w="6" h="1861">
                  <a:moveTo>
                    <a:pt x="0" y="0"/>
                  </a:moveTo>
                  <a:lnTo>
                    <a:pt x="0" y="1855"/>
                  </a:lnTo>
                  <a:lnTo>
                    <a:pt x="6" y="186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5280" y="6808680"/>
              <a:ext cx="9360" cy="2963880"/>
            </a:xfrm>
            <a:custGeom>
              <a:avLst/>
              <a:gdLst/>
              <a:ahLst/>
              <a:rect l="l" t="t" r="r" b="b"/>
              <a:pathLst>
                <a:path w="6" h="1867">
                  <a:moveTo>
                    <a:pt x="0" y="0"/>
                  </a:moveTo>
                  <a:lnTo>
                    <a:pt x="0" y="1861"/>
                  </a:lnTo>
                  <a:lnTo>
                    <a:pt x="6" y="18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54640" y="6808680"/>
              <a:ext cx="30240" cy="2963880"/>
            </a:xfrm>
            <a:custGeom>
              <a:avLst/>
              <a:gdLst/>
              <a:ahLst/>
              <a:rect l="l" t="t" r="r" b="b"/>
              <a:pathLst>
                <a:path w="19" h="1867">
                  <a:moveTo>
                    <a:pt x="0" y="0"/>
                  </a:moveTo>
                  <a:lnTo>
                    <a:pt x="0" y="1867"/>
                  </a:lnTo>
                  <a:lnTo>
                    <a:pt x="19" y="1867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84880" y="6818400"/>
              <a:ext cx="20520" cy="2954160"/>
            </a:xfrm>
            <a:custGeom>
              <a:avLst/>
              <a:gdLst/>
              <a:ahLst/>
              <a:rect l="l" t="t" r="r" b="b"/>
              <a:pathLst>
                <a:path w="13" h="1861">
                  <a:moveTo>
                    <a:pt x="0" y="0"/>
                  </a:moveTo>
                  <a:lnTo>
                    <a:pt x="0" y="1861"/>
                  </a:lnTo>
                  <a:lnTo>
                    <a:pt x="13" y="185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05400" y="6818400"/>
              <a:ext cx="20880" cy="2944800"/>
            </a:xfrm>
            <a:custGeom>
              <a:avLst/>
              <a:gdLst/>
              <a:ahLst/>
              <a:rect l="l" t="t" r="r" b="b"/>
              <a:pathLst>
                <a:path w="13" h="1855">
                  <a:moveTo>
                    <a:pt x="0" y="0"/>
                  </a:moveTo>
                  <a:lnTo>
                    <a:pt x="0" y="1855"/>
                  </a:lnTo>
                  <a:lnTo>
                    <a:pt x="13" y="184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326280" y="6827760"/>
              <a:ext cx="20520" cy="2925720"/>
            </a:xfrm>
            <a:custGeom>
              <a:avLst/>
              <a:gdLst/>
              <a:ahLst/>
              <a:rect l="l" t="t" r="r" b="b"/>
              <a:pathLst>
                <a:path w="13" h="1843">
                  <a:moveTo>
                    <a:pt x="0" y="0"/>
                  </a:moveTo>
                  <a:lnTo>
                    <a:pt x="0" y="1843"/>
                  </a:lnTo>
                  <a:lnTo>
                    <a:pt x="13" y="183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346800" y="6827760"/>
              <a:ext cx="1908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65880" y="6827760"/>
              <a:ext cx="3024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396120" y="6827760"/>
              <a:ext cx="1116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07280" y="6827760"/>
              <a:ext cx="1908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426360" y="6827760"/>
              <a:ext cx="10800" cy="2905200"/>
            </a:xfrm>
            <a:custGeom>
              <a:avLst/>
              <a:gdLst/>
              <a:ahLst/>
              <a:rect l="l" t="t" r="r" b="b"/>
              <a:pathLst>
                <a:path w="7" h="1830">
                  <a:moveTo>
                    <a:pt x="0" y="0"/>
                  </a:moveTo>
                  <a:lnTo>
                    <a:pt x="0" y="1830"/>
                  </a:lnTo>
                  <a:lnTo>
                    <a:pt x="7" y="182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437160" y="6818400"/>
              <a:ext cx="9720" cy="2905200"/>
            </a:xfrm>
            <a:custGeom>
              <a:avLst/>
              <a:gdLst/>
              <a:ahLst/>
              <a:rect l="l" t="t" r="r" b="b"/>
              <a:pathLst>
                <a:path w="6" h="1830">
                  <a:moveTo>
                    <a:pt x="0" y="6"/>
                  </a:moveTo>
                  <a:lnTo>
                    <a:pt x="0" y="1830"/>
                  </a:lnTo>
                  <a:lnTo>
                    <a:pt x="6" y="183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446880" y="6818400"/>
              <a:ext cx="936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456240" y="6808680"/>
              <a:ext cx="20880" cy="2914920"/>
            </a:xfrm>
            <a:custGeom>
              <a:avLst/>
              <a:gdLst/>
              <a:ahLst/>
              <a:rect l="l" t="t" r="r" b="b"/>
              <a:pathLst>
                <a:path w="13" h="1836">
                  <a:moveTo>
                    <a:pt x="0" y="6"/>
                  </a:moveTo>
                  <a:lnTo>
                    <a:pt x="0" y="1836"/>
                  </a:lnTo>
                  <a:lnTo>
                    <a:pt x="13" y="183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477120" y="6799320"/>
              <a:ext cx="11160" cy="2914560"/>
            </a:xfrm>
            <a:custGeom>
              <a:avLst/>
              <a:gdLst/>
              <a:ahLst/>
              <a:rect l="l" t="t" r="r" b="b"/>
              <a:pathLst>
                <a:path w="7" h="1836">
                  <a:moveTo>
                    <a:pt x="0" y="6"/>
                  </a:moveTo>
                  <a:lnTo>
                    <a:pt x="0" y="1836"/>
                  </a:lnTo>
                  <a:lnTo>
                    <a:pt x="7" y="183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488280" y="6788160"/>
              <a:ext cx="18720" cy="2925720"/>
            </a:xfrm>
            <a:custGeom>
              <a:avLst/>
              <a:gdLst/>
              <a:ahLst/>
              <a:rect l="l" t="t" r="r" b="b"/>
              <a:pathLst>
                <a:path w="12" h="1843">
                  <a:moveTo>
                    <a:pt x="0" y="7"/>
                  </a:moveTo>
                  <a:lnTo>
                    <a:pt x="0" y="1843"/>
                  </a:lnTo>
                  <a:lnTo>
                    <a:pt x="12" y="1837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507000" y="6788160"/>
              <a:ext cx="11160" cy="29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18160" y="6788160"/>
              <a:ext cx="19080" cy="29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537240" y="6788160"/>
              <a:ext cx="11160" cy="29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548400" y="6788160"/>
              <a:ext cx="19080" cy="2925720"/>
            </a:xfrm>
            <a:custGeom>
              <a:avLst/>
              <a:gdLst/>
              <a:ahLst/>
              <a:rect l="l" t="t" r="r" b="b"/>
              <a:pathLst>
                <a:path w="12" h="1843">
                  <a:moveTo>
                    <a:pt x="0" y="0"/>
                  </a:moveTo>
                  <a:lnTo>
                    <a:pt x="0" y="1837"/>
                  </a:lnTo>
                  <a:lnTo>
                    <a:pt x="12" y="1843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567480" y="6799320"/>
              <a:ext cx="11160" cy="2914560"/>
            </a:xfrm>
            <a:custGeom>
              <a:avLst/>
              <a:gdLst/>
              <a:ahLst/>
              <a:rect l="l" t="t" r="r" b="b"/>
              <a:pathLst>
                <a:path w="7" h="1836">
                  <a:moveTo>
                    <a:pt x="0" y="0"/>
                  </a:moveTo>
                  <a:lnTo>
                    <a:pt x="0" y="1836"/>
                  </a:lnTo>
                  <a:lnTo>
                    <a:pt x="7" y="183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578640" y="6808680"/>
              <a:ext cx="9360" cy="2914920"/>
            </a:xfrm>
            <a:custGeom>
              <a:avLst/>
              <a:gdLst/>
              <a:ahLst/>
              <a:rect l="l" t="t" r="r" b="b"/>
              <a:pathLst>
                <a:path w="6" h="1836">
                  <a:moveTo>
                    <a:pt x="0" y="0"/>
                  </a:moveTo>
                  <a:lnTo>
                    <a:pt x="0" y="1830"/>
                  </a:lnTo>
                  <a:lnTo>
                    <a:pt x="6" y="183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88000" y="6808680"/>
              <a:ext cx="20880" cy="2914920"/>
            </a:xfrm>
            <a:custGeom>
              <a:avLst/>
              <a:gdLst/>
              <a:ahLst/>
              <a:rect l="l" t="t" r="r" b="b"/>
              <a:pathLst>
                <a:path w="13" h="1836">
                  <a:moveTo>
                    <a:pt x="0" y="6"/>
                  </a:moveTo>
                  <a:lnTo>
                    <a:pt x="0" y="1836"/>
                  </a:lnTo>
                  <a:lnTo>
                    <a:pt x="13" y="183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608880" y="6808680"/>
              <a:ext cx="9360" cy="2914920"/>
            </a:xfrm>
            <a:custGeom>
              <a:avLst/>
              <a:gdLst/>
              <a:ahLst/>
              <a:rect l="l" t="t" r="r" b="b"/>
              <a:pathLst>
                <a:path w="6" h="1836">
                  <a:moveTo>
                    <a:pt x="0" y="0"/>
                  </a:moveTo>
                  <a:lnTo>
                    <a:pt x="0" y="1836"/>
                  </a:lnTo>
                  <a:lnTo>
                    <a:pt x="6" y="183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618240" y="6808680"/>
              <a:ext cx="9720" cy="2905200"/>
            </a:xfrm>
            <a:custGeom>
              <a:avLst/>
              <a:gdLst/>
              <a:ahLst/>
              <a:rect l="l" t="t" r="r" b="b"/>
              <a:pathLst>
                <a:path w="6" h="1830">
                  <a:moveTo>
                    <a:pt x="0" y="0"/>
                  </a:moveTo>
                  <a:lnTo>
                    <a:pt x="0" y="1830"/>
                  </a:lnTo>
                  <a:lnTo>
                    <a:pt x="6" y="182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27960" y="6808680"/>
              <a:ext cx="20520" cy="289584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24"/>
                  </a:lnTo>
                  <a:lnTo>
                    <a:pt x="13" y="181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648480" y="6808680"/>
              <a:ext cx="11160" cy="2884680"/>
            </a:xfrm>
            <a:custGeom>
              <a:avLst/>
              <a:gdLst/>
              <a:ahLst/>
              <a:rect l="l" t="t" r="r" b="b"/>
              <a:pathLst>
                <a:path w="7" h="1817">
                  <a:moveTo>
                    <a:pt x="0" y="0"/>
                  </a:moveTo>
                  <a:lnTo>
                    <a:pt x="0" y="1817"/>
                  </a:lnTo>
                  <a:lnTo>
                    <a:pt x="7" y="18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59640" y="6808680"/>
              <a:ext cx="9360" cy="287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69000" y="6808680"/>
              <a:ext cx="9720" cy="2884680"/>
            </a:xfrm>
            <a:custGeom>
              <a:avLst/>
              <a:gdLst/>
              <a:ahLst/>
              <a:rect l="l" t="t" r="r" b="b"/>
              <a:pathLst>
                <a:path w="6" h="1817">
                  <a:moveTo>
                    <a:pt x="0" y="0"/>
                  </a:moveTo>
                  <a:lnTo>
                    <a:pt x="0" y="1811"/>
                  </a:lnTo>
                  <a:lnTo>
                    <a:pt x="6" y="18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78720" y="6808680"/>
              <a:ext cx="11160" cy="28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689880" y="6799320"/>
              <a:ext cx="18720" cy="2914560"/>
            </a:xfrm>
            <a:custGeom>
              <a:avLst/>
              <a:gdLst/>
              <a:ahLst/>
              <a:rect l="l" t="t" r="r" b="b"/>
              <a:pathLst>
                <a:path w="12" h="1836">
                  <a:moveTo>
                    <a:pt x="0" y="6"/>
                  </a:moveTo>
                  <a:lnTo>
                    <a:pt x="0" y="1823"/>
                  </a:lnTo>
                  <a:lnTo>
                    <a:pt x="12" y="183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08600" y="6799320"/>
              <a:ext cx="11160" cy="2924280"/>
            </a:xfrm>
            <a:custGeom>
              <a:avLst/>
              <a:gdLst/>
              <a:ahLst/>
              <a:rect l="l" t="t" r="r" b="b"/>
              <a:pathLst>
                <a:path w="7" h="1842">
                  <a:moveTo>
                    <a:pt x="0" y="0"/>
                  </a:moveTo>
                  <a:lnTo>
                    <a:pt x="0" y="1836"/>
                  </a:lnTo>
                  <a:lnTo>
                    <a:pt x="7" y="184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19760" y="6799320"/>
              <a:ext cx="9720" cy="2933640"/>
            </a:xfrm>
            <a:custGeom>
              <a:avLst/>
              <a:gdLst/>
              <a:ahLst/>
              <a:rect l="l" t="t" r="r" b="b"/>
              <a:pathLst>
                <a:path w="6" h="1848">
                  <a:moveTo>
                    <a:pt x="0" y="0"/>
                  </a:moveTo>
                  <a:lnTo>
                    <a:pt x="0" y="1842"/>
                  </a:lnTo>
                  <a:lnTo>
                    <a:pt x="6" y="18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729480" y="6799320"/>
              <a:ext cx="9360" cy="29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738840" y="6799320"/>
              <a:ext cx="11160" cy="29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750000" y="6799320"/>
              <a:ext cx="19080" cy="29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769080" y="6799320"/>
              <a:ext cx="31680" cy="2944800"/>
            </a:xfrm>
            <a:custGeom>
              <a:avLst/>
              <a:gdLst/>
              <a:ahLst/>
              <a:rect l="l" t="t" r="r" b="b"/>
              <a:pathLst>
                <a:path w="20" h="1855">
                  <a:moveTo>
                    <a:pt x="0" y="0"/>
                  </a:moveTo>
                  <a:lnTo>
                    <a:pt x="0" y="1848"/>
                  </a:lnTo>
                  <a:lnTo>
                    <a:pt x="20" y="185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00760" y="6799320"/>
              <a:ext cx="972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10480" y="6799320"/>
              <a:ext cx="20520" cy="2944800"/>
            </a:xfrm>
            <a:custGeom>
              <a:avLst/>
              <a:gdLst/>
              <a:ahLst/>
              <a:rect l="l" t="t" r="r" b="b"/>
              <a:pathLst>
                <a:path w="13" h="1855">
                  <a:moveTo>
                    <a:pt x="0" y="0"/>
                  </a:moveTo>
                  <a:lnTo>
                    <a:pt x="0" y="1855"/>
                  </a:lnTo>
                  <a:lnTo>
                    <a:pt x="13" y="1848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31000" y="6818400"/>
              <a:ext cx="9360" cy="2914560"/>
            </a:xfrm>
            <a:custGeom>
              <a:avLst/>
              <a:gdLst/>
              <a:ahLst/>
              <a:rect l="l" t="t" r="r" b="b"/>
              <a:pathLst>
                <a:path w="6" h="1836">
                  <a:moveTo>
                    <a:pt x="0" y="0"/>
                  </a:moveTo>
                  <a:lnTo>
                    <a:pt x="0" y="1836"/>
                  </a:lnTo>
                  <a:lnTo>
                    <a:pt x="6" y="183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40360" y="6827760"/>
              <a:ext cx="9720" cy="2905200"/>
            </a:xfrm>
            <a:custGeom>
              <a:avLst/>
              <a:gdLst/>
              <a:ahLst/>
              <a:rect l="l" t="t" r="r" b="b"/>
              <a:pathLst>
                <a:path w="6" h="1830">
                  <a:moveTo>
                    <a:pt x="0" y="0"/>
                  </a:moveTo>
                  <a:lnTo>
                    <a:pt x="0" y="1830"/>
                  </a:lnTo>
                  <a:lnTo>
                    <a:pt x="6" y="18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850080" y="6837480"/>
              <a:ext cx="20520" cy="289548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24"/>
                  </a:lnTo>
                  <a:lnTo>
                    <a:pt x="13" y="1824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870600" y="6858000"/>
              <a:ext cx="20880" cy="2874960"/>
            </a:xfrm>
            <a:custGeom>
              <a:avLst/>
              <a:gdLst/>
              <a:ahLst/>
              <a:rect l="l" t="t" r="r" b="b"/>
              <a:pathLst>
                <a:path w="13" h="1811">
                  <a:moveTo>
                    <a:pt x="0" y="0"/>
                  </a:moveTo>
                  <a:lnTo>
                    <a:pt x="0" y="1811"/>
                  </a:lnTo>
                  <a:lnTo>
                    <a:pt x="13" y="1805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891480" y="6867360"/>
              <a:ext cx="19080" cy="2856240"/>
            </a:xfrm>
            <a:custGeom>
              <a:avLst/>
              <a:gdLst/>
              <a:ahLst/>
              <a:rect l="l" t="t" r="r" b="b"/>
              <a:pathLst>
                <a:path w="12" h="1799">
                  <a:moveTo>
                    <a:pt x="0" y="0"/>
                  </a:moveTo>
                  <a:lnTo>
                    <a:pt x="0" y="1799"/>
                  </a:lnTo>
                  <a:lnTo>
                    <a:pt x="12" y="179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910560" y="6877080"/>
              <a:ext cx="10800" cy="28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921360" y="6877080"/>
              <a:ext cx="20880" cy="2836800"/>
            </a:xfrm>
            <a:custGeom>
              <a:avLst/>
              <a:gdLst/>
              <a:ahLst/>
              <a:rect l="l" t="t" r="r" b="b"/>
              <a:pathLst>
                <a:path w="13" h="1787">
                  <a:moveTo>
                    <a:pt x="0" y="0"/>
                  </a:moveTo>
                  <a:lnTo>
                    <a:pt x="0" y="1787"/>
                  </a:lnTo>
                  <a:lnTo>
                    <a:pt x="13" y="1781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942240" y="6888240"/>
              <a:ext cx="9360" cy="2816280"/>
            </a:xfrm>
            <a:custGeom>
              <a:avLst/>
              <a:gdLst/>
              <a:ahLst/>
              <a:rect l="l" t="t" r="r" b="b"/>
              <a:pathLst>
                <a:path w="6" h="1774">
                  <a:moveTo>
                    <a:pt x="0" y="0"/>
                  </a:moveTo>
                  <a:lnTo>
                    <a:pt x="0" y="1774"/>
                  </a:lnTo>
                  <a:lnTo>
                    <a:pt x="6" y="177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951600" y="6897600"/>
              <a:ext cx="9720" cy="28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961320" y="6897600"/>
              <a:ext cx="11160" cy="2826000"/>
            </a:xfrm>
            <a:custGeom>
              <a:avLst/>
              <a:gdLst/>
              <a:ahLst/>
              <a:rect l="l" t="t" r="r" b="b"/>
              <a:pathLst>
                <a:path w="7" h="1780">
                  <a:moveTo>
                    <a:pt x="0" y="0"/>
                  </a:moveTo>
                  <a:lnTo>
                    <a:pt x="0" y="1768"/>
                  </a:lnTo>
                  <a:lnTo>
                    <a:pt x="7" y="178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972480" y="6907320"/>
              <a:ext cx="9360" cy="2825640"/>
            </a:xfrm>
            <a:custGeom>
              <a:avLst/>
              <a:gdLst/>
              <a:ahLst/>
              <a:rect l="l" t="t" r="r" b="b"/>
              <a:pathLst>
                <a:path w="6" h="1780">
                  <a:moveTo>
                    <a:pt x="0" y="0"/>
                  </a:moveTo>
                  <a:lnTo>
                    <a:pt x="0" y="1774"/>
                  </a:lnTo>
                  <a:lnTo>
                    <a:pt x="6" y="17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81840" y="6907320"/>
              <a:ext cx="20520" cy="2836800"/>
            </a:xfrm>
            <a:custGeom>
              <a:avLst/>
              <a:gdLst/>
              <a:ahLst/>
              <a:rect l="l" t="t" r="r" b="b"/>
              <a:pathLst>
                <a:path w="13" h="1787">
                  <a:moveTo>
                    <a:pt x="0" y="0"/>
                  </a:moveTo>
                  <a:lnTo>
                    <a:pt x="0" y="1780"/>
                  </a:lnTo>
                  <a:lnTo>
                    <a:pt x="13" y="178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002360" y="6916680"/>
              <a:ext cx="9720" cy="2855880"/>
            </a:xfrm>
            <a:custGeom>
              <a:avLst/>
              <a:gdLst/>
              <a:ahLst/>
              <a:rect l="l" t="t" r="r" b="b"/>
              <a:pathLst>
                <a:path w="6" h="1799">
                  <a:moveTo>
                    <a:pt x="0" y="0"/>
                  </a:moveTo>
                  <a:lnTo>
                    <a:pt x="0" y="1781"/>
                  </a:lnTo>
                  <a:lnTo>
                    <a:pt x="6" y="17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012080" y="6916680"/>
              <a:ext cx="9360" cy="2876760"/>
            </a:xfrm>
            <a:custGeom>
              <a:avLst/>
              <a:gdLst/>
              <a:ahLst/>
              <a:rect l="l" t="t" r="r" b="b"/>
              <a:pathLst>
                <a:path w="6" h="1812">
                  <a:moveTo>
                    <a:pt x="0" y="0"/>
                  </a:moveTo>
                  <a:lnTo>
                    <a:pt x="0" y="1799"/>
                  </a:lnTo>
                  <a:lnTo>
                    <a:pt x="6" y="18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021440" y="6926400"/>
              <a:ext cx="20880" cy="289548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06"/>
                  </a:lnTo>
                  <a:lnTo>
                    <a:pt x="13" y="1824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042320" y="6937200"/>
              <a:ext cx="20520" cy="289584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17"/>
                  </a:lnTo>
                  <a:lnTo>
                    <a:pt x="13" y="182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062840" y="6937200"/>
              <a:ext cx="19080" cy="2934000"/>
            </a:xfrm>
            <a:custGeom>
              <a:avLst/>
              <a:gdLst/>
              <a:ahLst/>
              <a:rect l="l" t="t" r="r" b="b"/>
              <a:pathLst>
                <a:path w="12" h="1848">
                  <a:moveTo>
                    <a:pt x="0" y="0"/>
                  </a:moveTo>
                  <a:lnTo>
                    <a:pt x="0" y="1842"/>
                  </a:lnTo>
                  <a:lnTo>
                    <a:pt x="12" y="184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81920" y="6937200"/>
              <a:ext cx="11160" cy="2954520"/>
            </a:xfrm>
            <a:custGeom>
              <a:avLst/>
              <a:gdLst/>
              <a:ahLst/>
              <a:rect l="l" t="t" r="r" b="b"/>
              <a:pathLst>
                <a:path w="7" h="1861">
                  <a:moveTo>
                    <a:pt x="0" y="0"/>
                  </a:moveTo>
                  <a:lnTo>
                    <a:pt x="0" y="1848"/>
                  </a:lnTo>
                  <a:lnTo>
                    <a:pt x="7" y="186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093080" y="6937200"/>
              <a:ext cx="20520" cy="2984760"/>
            </a:xfrm>
            <a:custGeom>
              <a:avLst/>
              <a:gdLst/>
              <a:ahLst/>
              <a:rect l="l" t="t" r="r" b="b"/>
              <a:pathLst>
                <a:path w="13" h="1880">
                  <a:moveTo>
                    <a:pt x="0" y="0"/>
                  </a:moveTo>
                  <a:lnTo>
                    <a:pt x="0" y="1861"/>
                  </a:lnTo>
                  <a:lnTo>
                    <a:pt x="13" y="1880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113600" y="6946920"/>
              <a:ext cx="19080" cy="2994120"/>
            </a:xfrm>
            <a:custGeom>
              <a:avLst/>
              <a:gdLst/>
              <a:ahLst/>
              <a:rect l="l" t="t" r="r" b="b"/>
              <a:pathLst>
                <a:path w="12" h="1886">
                  <a:moveTo>
                    <a:pt x="0" y="0"/>
                  </a:moveTo>
                  <a:lnTo>
                    <a:pt x="0" y="1874"/>
                  </a:lnTo>
                  <a:lnTo>
                    <a:pt x="12" y="188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132680" y="6946920"/>
              <a:ext cx="11160" cy="3013200"/>
            </a:xfrm>
            <a:custGeom>
              <a:avLst/>
              <a:gdLst/>
              <a:ahLst/>
              <a:rect l="l" t="t" r="r" b="b"/>
              <a:pathLst>
                <a:path w="7" h="1898">
                  <a:moveTo>
                    <a:pt x="0" y="0"/>
                  </a:moveTo>
                  <a:lnTo>
                    <a:pt x="0" y="1886"/>
                  </a:lnTo>
                  <a:lnTo>
                    <a:pt x="7" y="189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143840" y="6956280"/>
              <a:ext cx="19080" cy="3033720"/>
            </a:xfrm>
            <a:custGeom>
              <a:avLst/>
              <a:gdLst/>
              <a:ahLst/>
              <a:rect l="l" t="t" r="r" b="b"/>
              <a:pathLst>
                <a:path w="12" h="1911">
                  <a:moveTo>
                    <a:pt x="0" y="0"/>
                  </a:moveTo>
                  <a:lnTo>
                    <a:pt x="0" y="1892"/>
                  </a:lnTo>
                  <a:lnTo>
                    <a:pt x="12" y="191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162920" y="6966000"/>
              <a:ext cx="11160" cy="3033720"/>
            </a:xfrm>
            <a:custGeom>
              <a:avLst/>
              <a:gdLst/>
              <a:ahLst/>
              <a:rect l="l" t="t" r="r" b="b"/>
              <a:pathLst>
                <a:path w="7" h="1911">
                  <a:moveTo>
                    <a:pt x="0" y="0"/>
                  </a:moveTo>
                  <a:lnTo>
                    <a:pt x="0" y="1905"/>
                  </a:lnTo>
                  <a:lnTo>
                    <a:pt x="7" y="19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174080" y="993132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174080" y="6966000"/>
              <a:ext cx="936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183440" y="6966000"/>
              <a:ext cx="9360" cy="2944800"/>
            </a:xfrm>
            <a:custGeom>
              <a:avLst/>
              <a:gdLst/>
              <a:ahLst/>
              <a:rect l="l" t="t" r="r" b="b"/>
              <a:pathLst>
                <a:path w="6" h="1855">
                  <a:moveTo>
                    <a:pt x="0" y="0"/>
                  </a:moveTo>
                  <a:lnTo>
                    <a:pt x="0" y="1855"/>
                  </a:lnTo>
                  <a:lnTo>
                    <a:pt x="6" y="18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192800" y="6956280"/>
              <a:ext cx="11160" cy="2944800"/>
            </a:xfrm>
            <a:custGeom>
              <a:avLst/>
              <a:gdLst/>
              <a:ahLst/>
              <a:rect l="l" t="t" r="r" b="b"/>
              <a:pathLst>
                <a:path w="7" h="1855">
                  <a:moveTo>
                    <a:pt x="0" y="6"/>
                  </a:moveTo>
                  <a:lnTo>
                    <a:pt x="0" y="1855"/>
                  </a:lnTo>
                  <a:lnTo>
                    <a:pt x="7" y="185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203960" y="6956280"/>
              <a:ext cx="972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213680" y="6946920"/>
              <a:ext cx="9360" cy="2954160"/>
            </a:xfrm>
            <a:custGeom>
              <a:avLst/>
              <a:gdLst/>
              <a:ahLst/>
              <a:rect l="l" t="t" r="r" b="b"/>
              <a:pathLst>
                <a:path w="6" h="1861">
                  <a:moveTo>
                    <a:pt x="0" y="6"/>
                  </a:moveTo>
                  <a:lnTo>
                    <a:pt x="0" y="1861"/>
                  </a:lnTo>
                  <a:lnTo>
                    <a:pt x="6" y="18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223040" y="6946920"/>
              <a:ext cx="1116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234200" y="6946920"/>
              <a:ext cx="9720" cy="2944800"/>
            </a:xfrm>
            <a:custGeom>
              <a:avLst/>
              <a:gdLst/>
              <a:ahLst/>
              <a:rect l="l" t="t" r="r" b="b"/>
              <a:pathLst>
                <a:path w="6" h="1855">
                  <a:moveTo>
                    <a:pt x="0" y="0"/>
                  </a:moveTo>
                  <a:lnTo>
                    <a:pt x="0" y="1855"/>
                  </a:lnTo>
                  <a:lnTo>
                    <a:pt x="6" y="185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43920" y="6966000"/>
              <a:ext cx="10800" cy="2925720"/>
            </a:xfrm>
            <a:custGeom>
              <a:avLst/>
              <a:gdLst/>
              <a:ahLst/>
              <a:rect l="l" t="t" r="r" b="b"/>
              <a:pathLst>
                <a:path w="7" h="1843">
                  <a:moveTo>
                    <a:pt x="0" y="0"/>
                  </a:moveTo>
                  <a:lnTo>
                    <a:pt x="0" y="1843"/>
                  </a:lnTo>
                  <a:lnTo>
                    <a:pt x="7" y="183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254720" y="6977160"/>
              <a:ext cx="1908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273800" y="6977160"/>
              <a:ext cx="11160" cy="2905200"/>
            </a:xfrm>
            <a:custGeom>
              <a:avLst/>
              <a:gdLst/>
              <a:ahLst/>
              <a:rect l="l" t="t" r="r" b="b"/>
              <a:pathLst>
                <a:path w="7" h="1830">
                  <a:moveTo>
                    <a:pt x="0" y="0"/>
                  </a:moveTo>
                  <a:lnTo>
                    <a:pt x="0" y="1830"/>
                  </a:lnTo>
                  <a:lnTo>
                    <a:pt x="7" y="182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84960" y="6977160"/>
              <a:ext cx="972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294680" y="6977160"/>
              <a:ext cx="936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304040" y="6956280"/>
              <a:ext cx="11160" cy="2926080"/>
            </a:xfrm>
            <a:custGeom>
              <a:avLst/>
              <a:gdLst/>
              <a:ahLst/>
              <a:rect l="l" t="t" r="r" b="b"/>
              <a:pathLst>
                <a:path w="7" h="1843">
                  <a:moveTo>
                    <a:pt x="0" y="13"/>
                  </a:moveTo>
                  <a:lnTo>
                    <a:pt x="0" y="1843"/>
                  </a:lnTo>
                  <a:lnTo>
                    <a:pt x="7" y="184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315200" y="6946920"/>
              <a:ext cx="9360" cy="2935440"/>
            </a:xfrm>
            <a:custGeom>
              <a:avLst/>
              <a:gdLst/>
              <a:ahLst/>
              <a:rect l="l" t="t" r="r" b="b"/>
              <a:pathLst>
                <a:path w="6" h="1849">
                  <a:moveTo>
                    <a:pt x="0" y="6"/>
                  </a:moveTo>
                  <a:lnTo>
                    <a:pt x="0" y="1849"/>
                  </a:lnTo>
                  <a:lnTo>
                    <a:pt x="6" y="18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324560" y="6946920"/>
              <a:ext cx="9720" cy="293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334280" y="6937200"/>
              <a:ext cx="11160" cy="2945160"/>
            </a:xfrm>
            <a:custGeom>
              <a:avLst/>
              <a:gdLst/>
              <a:ahLst/>
              <a:rect l="l" t="t" r="r" b="b"/>
              <a:pathLst>
                <a:path w="7" h="1855">
                  <a:moveTo>
                    <a:pt x="0" y="6"/>
                  </a:moveTo>
                  <a:lnTo>
                    <a:pt x="0" y="1855"/>
                  </a:lnTo>
                  <a:lnTo>
                    <a:pt x="7" y="185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345440" y="9387000"/>
              <a:ext cx="9360" cy="495360"/>
            </a:xfrm>
            <a:custGeom>
              <a:avLst/>
              <a:gdLst/>
              <a:ahLst/>
              <a:rect l="l" t="t" r="r" b="b"/>
              <a:pathLst>
                <a:path w="6" h="312">
                  <a:moveTo>
                    <a:pt x="0" y="0"/>
                  </a:moveTo>
                  <a:lnTo>
                    <a:pt x="0" y="312"/>
                  </a:lnTo>
                  <a:lnTo>
                    <a:pt x="6" y="31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345440" y="6937200"/>
              <a:ext cx="9360" cy="244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354800" y="9407520"/>
              <a:ext cx="9720" cy="474840"/>
            </a:xfrm>
            <a:custGeom>
              <a:avLst/>
              <a:gdLst/>
              <a:ahLst/>
              <a:rect l="l" t="t" r="r" b="b"/>
              <a:pathLst>
                <a:path w="6" h="299">
                  <a:moveTo>
                    <a:pt x="0" y="0"/>
                  </a:moveTo>
                  <a:lnTo>
                    <a:pt x="0" y="299"/>
                  </a:lnTo>
                  <a:lnTo>
                    <a:pt x="6" y="2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54800" y="6926400"/>
              <a:ext cx="9720" cy="2460600"/>
            </a:xfrm>
            <a:custGeom>
              <a:avLst/>
              <a:gdLst/>
              <a:ahLst/>
              <a:rect l="l" t="t" r="r" b="b"/>
              <a:pathLst>
                <a:path w="6" h="1550">
                  <a:moveTo>
                    <a:pt x="0" y="7"/>
                  </a:moveTo>
                  <a:lnTo>
                    <a:pt x="0" y="1550"/>
                  </a:lnTo>
                  <a:lnTo>
                    <a:pt x="6" y="155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64520" y="6916680"/>
              <a:ext cx="11160" cy="2432160"/>
            </a:xfrm>
            <a:custGeom>
              <a:avLst/>
              <a:gdLst/>
              <a:ahLst/>
              <a:rect l="l" t="t" r="r" b="b"/>
              <a:pathLst>
                <a:path w="7" h="1532">
                  <a:moveTo>
                    <a:pt x="0" y="6"/>
                  </a:moveTo>
                  <a:lnTo>
                    <a:pt x="0" y="1532"/>
                  </a:lnTo>
                  <a:lnTo>
                    <a:pt x="7" y="153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364520" y="93582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364520" y="9426600"/>
              <a:ext cx="1116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375680" y="9437760"/>
              <a:ext cx="93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375680" y="6907320"/>
              <a:ext cx="9360" cy="2441520"/>
            </a:xfrm>
            <a:custGeom>
              <a:avLst/>
              <a:gdLst/>
              <a:ahLst/>
              <a:rect l="l" t="t" r="r" b="b"/>
              <a:pathLst>
                <a:path w="6" h="1538">
                  <a:moveTo>
                    <a:pt x="0" y="6"/>
                  </a:moveTo>
                  <a:lnTo>
                    <a:pt x="0" y="1538"/>
                  </a:lnTo>
                  <a:lnTo>
                    <a:pt x="6" y="153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85040" y="9337680"/>
              <a:ext cx="1116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385040" y="9437760"/>
              <a:ext cx="11160" cy="414360"/>
            </a:xfrm>
            <a:custGeom>
              <a:avLst/>
              <a:gdLst/>
              <a:ahLst/>
              <a:rect l="l" t="t" r="r" b="b"/>
              <a:pathLst>
                <a:path w="7" h="261">
                  <a:moveTo>
                    <a:pt x="0" y="0"/>
                  </a:moveTo>
                  <a:lnTo>
                    <a:pt x="0" y="261"/>
                  </a:lnTo>
                  <a:lnTo>
                    <a:pt x="7" y="2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385040" y="6907320"/>
              <a:ext cx="11160" cy="2421000"/>
            </a:xfrm>
            <a:custGeom>
              <a:avLst/>
              <a:gdLst/>
              <a:ahLst/>
              <a:rect l="l" t="t" r="r" b="b"/>
              <a:pathLst>
                <a:path w="7" h="1525">
                  <a:moveTo>
                    <a:pt x="0" y="0"/>
                  </a:moveTo>
                  <a:lnTo>
                    <a:pt x="0" y="1525"/>
                  </a:lnTo>
                  <a:lnTo>
                    <a:pt x="7" y="15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96200" y="9466200"/>
              <a:ext cx="9360" cy="376200"/>
            </a:xfrm>
            <a:custGeom>
              <a:avLst/>
              <a:gdLst/>
              <a:ahLst/>
              <a:rect l="l" t="t" r="r" b="b"/>
              <a:pathLst>
                <a:path w="6" h="237">
                  <a:moveTo>
                    <a:pt x="0" y="6"/>
                  </a:moveTo>
                  <a:lnTo>
                    <a:pt x="0" y="237"/>
                  </a:lnTo>
                  <a:lnTo>
                    <a:pt x="6" y="2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96200" y="6897600"/>
              <a:ext cx="9360" cy="2430720"/>
            </a:xfrm>
            <a:custGeom>
              <a:avLst/>
              <a:gdLst/>
              <a:ahLst/>
              <a:rect l="l" t="t" r="r" b="b"/>
              <a:pathLst>
                <a:path w="6" h="1531">
                  <a:moveTo>
                    <a:pt x="0" y="6"/>
                  </a:moveTo>
                  <a:lnTo>
                    <a:pt x="0" y="1525"/>
                  </a:lnTo>
                  <a:lnTo>
                    <a:pt x="6" y="15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05560" y="946620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405560" y="9555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405560" y="9575640"/>
              <a:ext cx="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405560" y="6897600"/>
              <a:ext cx="9720" cy="243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415280" y="7016760"/>
              <a:ext cx="11160" cy="2301840"/>
            </a:xfrm>
            <a:custGeom>
              <a:avLst/>
              <a:gdLst/>
              <a:ahLst/>
              <a:rect l="l" t="t" r="r" b="b"/>
              <a:pathLst>
                <a:path w="7" h="1450">
                  <a:moveTo>
                    <a:pt x="0" y="0"/>
                  </a:moveTo>
                  <a:lnTo>
                    <a:pt x="0" y="1450"/>
                  </a:lnTo>
                  <a:lnTo>
                    <a:pt x="7" y="1450"/>
                  </a:lnTo>
                  <a:lnTo>
                    <a:pt x="7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415280" y="9475920"/>
              <a:ext cx="111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415280" y="95266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15280" y="9585360"/>
              <a:ext cx="1116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0"/>
                  </a:moveTo>
                  <a:lnTo>
                    <a:pt x="0" y="168"/>
                  </a:lnTo>
                  <a:lnTo>
                    <a:pt x="7" y="16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15280" y="6897600"/>
              <a:ext cx="1116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26440" y="7045200"/>
              <a:ext cx="9360" cy="2273400"/>
            </a:xfrm>
            <a:custGeom>
              <a:avLst/>
              <a:gdLst/>
              <a:ahLst/>
              <a:rect l="l" t="t" r="r" b="b"/>
              <a:pathLst>
                <a:path w="6" h="1432">
                  <a:moveTo>
                    <a:pt x="0" y="0"/>
                  </a:moveTo>
                  <a:lnTo>
                    <a:pt x="0" y="1432"/>
                  </a:lnTo>
                  <a:lnTo>
                    <a:pt x="6" y="142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426440" y="94759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426440" y="949644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426440" y="689760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435800" y="689760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426440" y="9594720"/>
              <a:ext cx="1908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435800" y="7066080"/>
              <a:ext cx="20520" cy="2232000"/>
            </a:xfrm>
            <a:custGeom>
              <a:avLst/>
              <a:gdLst/>
              <a:ahLst/>
              <a:rect l="l" t="t" r="r" b="b"/>
              <a:pathLst>
                <a:path w="13" h="1406">
                  <a:moveTo>
                    <a:pt x="0" y="0"/>
                  </a:moveTo>
                  <a:lnTo>
                    <a:pt x="0" y="1406"/>
                  </a:lnTo>
                  <a:lnTo>
                    <a:pt x="13" y="1400"/>
                  </a:lnTo>
                  <a:lnTo>
                    <a:pt x="13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445520" y="6897600"/>
              <a:ext cx="1080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56320" y="7094520"/>
              <a:ext cx="9720" cy="2193840"/>
            </a:xfrm>
            <a:custGeom>
              <a:avLst/>
              <a:gdLst/>
              <a:ahLst/>
              <a:rect l="l" t="t" r="r" b="b"/>
              <a:pathLst>
                <a:path w="6" h="1382">
                  <a:moveTo>
                    <a:pt x="0" y="0"/>
                  </a:moveTo>
                  <a:lnTo>
                    <a:pt x="0" y="1382"/>
                  </a:lnTo>
                  <a:lnTo>
                    <a:pt x="6" y="137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456320" y="96346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445520" y="9634680"/>
              <a:ext cx="10800" cy="187200"/>
            </a:xfrm>
            <a:custGeom>
              <a:avLst/>
              <a:gdLst/>
              <a:ahLst/>
              <a:rect l="l" t="t" r="r" b="b"/>
              <a:pathLst>
                <a:path w="7" h="118">
                  <a:moveTo>
                    <a:pt x="0" y="0"/>
                  </a:moveTo>
                  <a:lnTo>
                    <a:pt x="0" y="118"/>
                  </a:lnTo>
                  <a:lnTo>
                    <a:pt x="7" y="11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456320" y="6897600"/>
              <a:ext cx="19080" cy="493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0" y="31"/>
                  </a:lnTo>
                  <a:lnTo>
                    <a:pt x="12" y="3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466040" y="7115040"/>
              <a:ext cx="9360" cy="2163960"/>
            </a:xfrm>
            <a:custGeom>
              <a:avLst/>
              <a:gdLst/>
              <a:ahLst/>
              <a:rect l="l" t="t" r="r" b="b"/>
              <a:pathLst>
                <a:path w="6" h="1363">
                  <a:moveTo>
                    <a:pt x="0" y="0"/>
                  </a:moveTo>
                  <a:lnTo>
                    <a:pt x="0" y="1363"/>
                  </a:lnTo>
                  <a:lnTo>
                    <a:pt x="6" y="1357"/>
                  </a:lnTo>
                  <a:lnTo>
                    <a:pt x="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456320" y="9653760"/>
              <a:ext cx="972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466040" y="9653760"/>
              <a:ext cx="93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475400" y="690732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475400" y="7155000"/>
              <a:ext cx="11160" cy="2114280"/>
            </a:xfrm>
            <a:custGeom>
              <a:avLst/>
              <a:gdLst/>
              <a:ahLst/>
              <a:rect l="l" t="t" r="r" b="b"/>
              <a:pathLst>
                <a:path w="7" h="1332">
                  <a:moveTo>
                    <a:pt x="0" y="0"/>
                  </a:moveTo>
                  <a:lnTo>
                    <a:pt x="0" y="1332"/>
                  </a:lnTo>
                  <a:lnTo>
                    <a:pt x="7" y="1332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475400" y="9653760"/>
              <a:ext cx="1116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475400" y="968364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4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466040" y="9782280"/>
              <a:ext cx="936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475400" y="979344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486560" y="690732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486560" y="965376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86560" y="969336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486560" y="97138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486560" y="7194600"/>
              <a:ext cx="9720" cy="2074680"/>
            </a:xfrm>
            <a:custGeom>
              <a:avLst/>
              <a:gdLst/>
              <a:ahLst/>
              <a:rect l="l" t="t" r="r" b="b"/>
              <a:pathLst>
                <a:path w="6" h="1307">
                  <a:moveTo>
                    <a:pt x="0" y="0"/>
                  </a:moveTo>
                  <a:lnTo>
                    <a:pt x="0" y="1307"/>
                  </a:lnTo>
                  <a:lnTo>
                    <a:pt x="6" y="129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96280" y="969336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96280" y="7213680"/>
              <a:ext cx="9360" cy="2025720"/>
            </a:xfrm>
            <a:custGeom>
              <a:avLst/>
              <a:gdLst/>
              <a:ahLst/>
              <a:rect l="l" t="t" r="r" b="b"/>
              <a:pathLst>
                <a:path w="6" h="1276">
                  <a:moveTo>
                    <a:pt x="0" y="0"/>
                  </a:moveTo>
                  <a:lnTo>
                    <a:pt x="0" y="1276"/>
                  </a:lnTo>
                  <a:lnTo>
                    <a:pt x="6" y="127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505640" y="7223040"/>
              <a:ext cx="11160" cy="2006640"/>
            </a:xfrm>
            <a:custGeom>
              <a:avLst/>
              <a:gdLst/>
              <a:ahLst/>
              <a:rect l="l" t="t" r="r" b="b"/>
              <a:pathLst>
                <a:path w="7" h="1264">
                  <a:moveTo>
                    <a:pt x="0" y="0"/>
                  </a:moveTo>
                  <a:lnTo>
                    <a:pt x="0" y="1264"/>
                  </a:lnTo>
                  <a:lnTo>
                    <a:pt x="7" y="1264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516800" y="7253280"/>
              <a:ext cx="9360" cy="1976400"/>
            </a:xfrm>
            <a:custGeom>
              <a:avLst/>
              <a:gdLst/>
              <a:ahLst/>
              <a:rect l="l" t="t" r="r" b="b"/>
              <a:pathLst>
                <a:path w="6" h="1245">
                  <a:moveTo>
                    <a:pt x="0" y="0"/>
                  </a:moveTo>
                  <a:lnTo>
                    <a:pt x="0" y="1245"/>
                  </a:lnTo>
                  <a:lnTo>
                    <a:pt x="6" y="123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526160" y="7262640"/>
              <a:ext cx="9720" cy="1957680"/>
            </a:xfrm>
            <a:custGeom>
              <a:avLst/>
              <a:gdLst/>
              <a:ahLst/>
              <a:rect l="l" t="t" r="r" b="b"/>
              <a:pathLst>
                <a:path w="6" h="1233">
                  <a:moveTo>
                    <a:pt x="0" y="0"/>
                  </a:moveTo>
                  <a:lnTo>
                    <a:pt x="0" y="1233"/>
                  </a:lnTo>
                  <a:lnTo>
                    <a:pt x="6" y="122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535880" y="7272360"/>
              <a:ext cx="11160" cy="1936800"/>
            </a:xfrm>
            <a:custGeom>
              <a:avLst/>
              <a:gdLst/>
              <a:ahLst/>
              <a:rect l="l" t="t" r="r" b="b"/>
              <a:pathLst>
                <a:path w="7" h="1220">
                  <a:moveTo>
                    <a:pt x="0" y="0"/>
                  </a:moveTo>
                  <a:lnTo>
                    <a:pt x="0" y="1220"/>
                  </a:lnTo>
                  <a:lnTo>
                    <a:pt x="7" y="121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547040" y="7283520"/>
              <a:ext cx="9360" cy="1915920"/>
            </a:xfrm>
            <a:custGeom>
              <a:avLst/>
              <a:gdLst/>
              <a:ahLst/>
              <a:rect l="l" t="t" r="r" b="b"/>
              <a:pathLst>
                <a:path w="6" h="1207">
                  <a:moveTo>
                    <a:pt x="0" y="0"/>
                  </a:moveTo>
                  <a:lnTo>
                    <a:pt x="0" y="1207"/>
                  </a:lnTo>
                  <a:lnTo>
                    <a:pt x="6" y="119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556400" y="7292880"/>
              <a:ext cx="11160" cy="1887480"/>
            </a:xfrm>
            <a:custGeom>
              <a:avLst/>
              <a:gdLst/>
              <a:ahLst/>
              <a:rect l="l" t="t" r="r" b="b"/>
              <a:pathLst>
                <a:path w="7" h="1189">
                  <a:moveTo>
                    <a:pt x="0" y="0"/>
                  </a:moveTo>
                  <a:lnTo>
                    <a:pt x="0" y="1189"/>
                  </a:lnTo>
                  <a:lnTo>
                    <a:pt x="7" y="118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567560" y="7372440"/>
              <a:ext cx="9720" cy="1797120"/>
            </a:xfrm>
            <a:custGeom>
              <a:avLst/>
              <a:gdLst/>
              <a:ahLst/>
              <a:rect l="l" t="t" r="r" b="b"/>
              <a:pathLst>
                <a:path w="6" h="1132">
                  <a:moveTo>
                    <a:pt x="0" y="0"/>
                  </a:moveTo>
                  <a:lnTo>
                    <a:pt x="0" y="1132"/>
                  </a:lnTo>
                  <a:lnTo>
                    <a:pt x="6" y="113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77280" y="7381800"/>
              <a:ext cx="9360" cy="1787760"/>
            </a:xfrm>
            <a:custGeom>
              <a:avLst/>
              <a:gdLst/>
              <a:ahLst/>
              <a:rect l="l" t="t" r="r" b="b"/>
              <a:pathLst>
                <a:path w="6" h="1126">
                  <a:moveTo>
                    <a:pt x="0" y="0"/>
                  </a:moveTo>
                  <a:lnTo>
                    <a:pt x="0" y="1126"/>
                  </a:lnTo>
                  <a:lnTo>
                    <a:pt x="6" y="112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86640" y="7391520"/>
              <a:ext cx="11160" cy="1768320"/>
            </a:xfrm>
            <a:custGeom>
              <a:avLst/>
              <a:gdLst/>
              <a:ahLst/>
              <a:rect l="l" t="t" r="r" b="b"/>
              <a:pathLst>
                <a:path w="7" h="1114">
                  <a:moveTo>
                    <a:pt x="0" y="0"/>
                  </a:moveTo>
                  <a:lnTo>
                    <a:pt x="0" y="1114"/>
                  </a:lnTo>
                  <a:lnTo>
                    <a:pt x="7" y="110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97800" y="7400880"/>
              <a:ext cx="936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607160" y="740088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0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616880" y="7410600"/>
              <a:ext cx="11160" cy="1730160"/>
            </a:xfrm>
            <a:custGeom>
              <a:avLst/>
              <a:gdLst/>
              <a:ahLst/>
              <a:rect l="l" t="t" r="r" b="b"/>
              <a:pathLst>
                <a:path w="7" h="1090">
                  <a:moveTo>
                    <a:pt x="0" y="0"/>
                  </a:moveTo>
                  <a:lnTo>
                    <a:pt x="0" y="1090"/>
                  </a:lnTo>
                  <a:lnTo>
                    <a:pt x="7" y="108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628040" y="7421400"/>
              <a:ext cx="9360" cy="171000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0"/>
                  </a:moveTo>
                  <a:lnTo>
                    <a:pt x="0" y="1077"/>
                  </a:lnTo>
                  <a:lnTo>
                    <a:pt x="6" y="107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637400" y="7431120"/>
              <a:ext cx="9720" cy="16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647120" y="7431120"/>
              <a:ext cx="11160" cy="1689120"/>
            </a:xfrm>
            <a:custGeom>
              <a:avLst/>
              <a:gdLst/>
              <a:ahLst/>
              <a:rect l="l" t="t" r="r" b="b"/>
              <a:pathLst>
                <a:path w="7" h="1064">
                  <a:moveTo>
                    <a:pt x="0" y="0"/>
                  </a:moveTo>
                  <a:lnTo>
                    <a:pt x="0" y="1064"/>
                  </a:lnTo>
                  <a:lnTo>
                    <a:pt x="7" y="105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658280" y="7539120"/>
              <a:ext cx="9360" cy="1571400"/>
            </a:xfrm>
            <a:custGeom>
              <a:avLst/>
              <a:gdLst/>
              <a:ahLst/>
              <a:rect l="l" t="t" r="r" b="b"/>
              <a:pathLst>
                <a:path w="6" h="990">
                  <a:moveTo>
                    <a:pt x="0" y="0"/>
                  </a:moveTo>
                  <a:lnTo>
                    <a:pt x="0" y="990"/>
                  </a:lnTo>
                  <a:lnTo>
                    <a:pt x="6" y="99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667640" y="7569360"/>
              <a:ext cx="9360" cy="154116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0"/>
                  </a:moveTo>
                  <a:lnTo>
                    <a:pt x="0" y="971"/>
                  </a:lnTo>
                  <a:lnTo>
                    <a:pt x="6" y="9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677000" y="7578720"/>
              <a:ext cx="11160" cy="1522440"/>
            </a:xfrm>
            <a:custGeom>
              <a:avLst/>
              <a:gdLst/>
              <a:ahLst/>
              <a:rect l="l" t="t" r="r" b="b"/>
              <a:pathLst>
                <a:path w="7" h="959">
                  <a:moveTo>
                    <a:pt x="0" y="0"/>
                  </a:moveTo>
                  <a:lnTo>
                    <a:pt x="0" y="959"/>
                  </a:lnTo>
                  <a:lnTo>
                    <a:pt x="7" y="95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688160" y="7589880"/>
              <a:ext cx="972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697880" y="7589880"/>
              <a:ext cx="2052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718400" y="7589880"/>
              <a:ext cx="20520" cy="1511280"/>
            </a:xfrm>
            <a:custGeom>
              <a:avLst/>
              <a:gdLst/>
              <a:ahLst/>
              <a:rect l="l" t="t" r="r" b="b"/>
              <a:pathLst>
                <a:path w="13" h="952">
                  <a:moveTo>
                    <a:pt x="0" y="0"/>
                  </a:moveTo>
                  <a:lnTo>
                    <a:pt x="0" y="952"/>
                  </a:lnTo>
                  <a:lnTo>
                    <a:pt x="13" y="94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738920" y="7599240"/>
              <a:ext cx="19080" cy="1492200"/>
            </a:xfrm>
            <a:custGeom>
              <a:avLst/>
              <a:gdLst/>
              <a:ahLst/>
              <a:rect l="l" t="t" r="r" b="b"/>
              <a:pathLst>
                <a:path w="12" h="940">
                  <a:moveTo>
                    <a:pt x="0" y="0"/>
                  </a:moveTo>
                  <a:lnTo>
                    <a:pt x="0" y="940"/>
                  </a:lnTo>
                  <a:lnTo>
                    <a:pt x="12" y="93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758000" y="7608960"/>
              <a:ext cx="20880" cy="1471680"/>
            </a:xfrm>
            <a:custGeom>
              <a:avLst/>
              <a:gdLst/>
              <a:ahLst/>
              <a:rect l="l" t="t" r="r" b="b"/>
              <a:pathLst>
                <a:path w="13" h="927">
                  <a:moveTo>
                    <a:pt x="0" y="0"/>
                  </a:moveTo>
                  <a:lnTo>
                    <a:pt x="0" y="927"/>
                  </a:lnTo>
                  <a:lnTo>
                    <a:pt x="13" y="921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778880" y="7618320"/>
              <a:ext cx="9360" cy="1452600"/>
            </a:xfrm>
            <a:custGeom>
              <a:avLst/>
              <a:gdLst/>
              <a:ahLst/>
              <a:rect l="l" t="t" r="r" b="b"/>
              <a:pathLst>
                <a:path w="6" h="915">
                  <a:moveTo>
                    <a:pt x="0" y="0"/>
                  </a:moveTo>
                  <a:lnTo>
                    <a:pt x="0" y="915"/>
                  </a:lnTo>
                  <a:lnTo>
                    <a:pt x="6" y="90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788240" y="7628040"/>
              <a:ext cx="11160" cy="1433520"/>
            </a:xfrm>
            <a:custGeom>
              <a:avLst/>
              <a:gdLst/>
              <a:ahLst/>
              <a:rect l="l" t="t" r="r" b="b"/>
              <a:pathLst>
                <a:path w="7" h="903">
                  <a:moveTo>
                    <a:pt x="0" y="0"/>
                  </a:moveTo>
                  <a:lnTo>
                    <a:pt x="0" y="903"/>
                  </a:lnTo>
                  <a:lnTo>
                    <a:pt x="7" y="89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799400" y="7639200"/>
              <a:ext cx="9360" cy="1403280"/>
            </a:xfrm>
            <a:custGeom>
              <a:avLst/>
              <a:gdLst/>
              <a:ahLst/>
              <a:rect l="l" t="t" r="r" b="b"/>
              <a:pathLst>
                <a:path w="6" h="884">
                  <a:moveTo>
                    <a:pt x="0" y="0"/>
                  </a:moveTo>
                  <a:lnTo>
                    <a:pt x="0" y="884"/>
                  </a:lnTo>
                  <a:lnTo>
                    <a:pt x="6" y="87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808760" y="7639200"/>
              <a:ext cx="9720" cy="13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818480" y="7639200"/>
              <a:ext cx="20520" cy="13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839000" y="7628040"/>
              <a:ext cx="11160" cy="1393560"/>
            </a:xfrm>
            <a:custGeom>
              <a:avLst/>
              <a:gdLst/>
              <a:ahLst/>
              <a:rect l="l" t="t" r="r" b="b"/>
              <a:pathLst>
                <a:path w="7" h="878">
                  <a:moveTo>
                    <a:pt x="0" y="7"/>
                  </a:moveTo>
                  <a:lnTo>
                    <a:pt x="0" y="878"/>
                  </a:lnTo>
                  <a:lnTo>
                    <a:pt x="7" y="87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850160" y="7628040"/>
              <a:ext cx="9720" cy="138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59880" y="7628040"/>
              <a:ext cx="9360" cy="1384200"/>
            </a:xfrm>
            <a:custGeom>
              <a:avLst/>
              <a:gdLst/>
              <a:ahLst/>
              <a:rect l="l" t="t" r="r" b="b"/>
              <a:pathLst>
                <a:path w="6" h="872">
                  <a:moveTo>
                    <a:pt x="0" y="0"/>
                  </a:moveTo>
                  <a:lnTo>
                    <a:pt x="0" y="872"/>
                  </a:lnTo>
                  <a:lnTo>
                    <a:pt x="6" y="86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869240" y="7628040"/>
              <a:ext cx="11160" cy="137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880400" y="7628040"/>
              <a:ext cx="19080" cy="1374840"/>
            </a:xfrm>
            <a:custGeom>
              <a:avLst/>
              <a:gdLst/>
              <a:ahLst/>
              <a:rect l="l" t="t" r="r" b="b"/>
              <a:pathLst>
                <a:path w="12" h="866">
                  <a:moveTo>
                    <a:pt x="0" y="0"/>
                  </a:moveTo>
                  <a:lnTo>
                    <a:pt x="0" y="866"/>
                  </a:lnTo>
                  <a:lnTo>
                    <a:pt x="12" y="859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899480" y="7628040"/>
              <a:ext cx="1116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910640" y="7628040"/>
              <a:ext cx="936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920000" y="7628040"/>
              <a:ext cx="972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929720" y="7628040"/>
              <a:ext cx="1080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940520" y="7628040"/>
              <a:ext cx="9720" cy="1374840"/>
            </a:xfrm>
            <a:custGeom>
              <a:avLst/>
              <a:gdLst/>
              <a:ahLst/>
              <a:rect l="l" t="t" r="r" b="b"/>
              <a:pathLst>
                <a:path w="6" h="866">
                  <a:moveTo>
                    <a:pt x="0" y="0"/>
                  </a:moveTo>
                  <a:lnTo>
                    <a:pt x="0" y="859"/>
                  </a:lnTo>
                  <a:lnTo>
                    <a:pt x="6" y="86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50240" y="7618320"/>
              <a:ext cx="9360" cy="1393920"/>
            </a:xfrm>
            <a:custGeom>
              <a:avLst/>
              <a:gdLst/>
              <a:ahLst/>
              <a:rect l="l" t="t" r="r" b="b"/>
              <a:pathLst>
                <a:path w="6" h="878">
                  <a:moveTo>
                    <a:pt x="0" y="6"/>
                  </a:moveTo>
                  <a:lnTo>
                    <a:pt x="0" y="872"/>
                  </a:lnTo>
                  <a:lnTo>
                    <a:pt x="6" y="8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59600" y="7608960"/>
              <a:ext cx="11160" cy="1403280"/>
            </a:xfrm>
            <a:custGeom>
              <a:avLst/>
              <a:gdLst/>
              <a:ahLst/>
              <a:rect l="l" t="t" r="r" b="b"/>
              <a:pathLst>
                <a:path w="7" h="884">
                  <a:moveTo>
                    <a:pt x="0" y="6"/>
                  </a:moveTo>
                  <a:lnTo>
                    <a:pt x="0" y="884"/>
                  </a:lnTo>
                  <a:lnTo>
                    <a:pt x="7" y="88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970760" y="7599240"/>
              <a:ext cx="9720" cy="1413000"/>
            </a:xfrm>
            <a:custGeom>
              <a:avLst/>
              <a:gdLst/>
              <a:ahLst/>
              <a:rect l="l" t="t" r="r" b="b"/>
              <a:pathLst>
                <a:path w="6" h="890">
                  <a:moveTo>
                    <a:pt x="0" y="6"/>
                  </a:moveTo>
                  <a:lnTo>
                    <a:pt x="0" y="890"/>
                  </a:lnTo>
                  <a:lnTo>
                    <a:pt x="6" y="89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7980480" y="7311960"/>
            <a:ext cx="1846080" cy="1808280"/>
            <a:chOff x="7980480" y="7311960"/>
            <a:chExt cx="1846080" cy="1808280"/>
          </a:xfrm>
        </p:grpSpPr>
        <p:sp>
          <p:nvSpPr>
            <p:cNvPr id="1449" name=""/>
            <p:cNvSpPr/>
            <p:nvPr/>
          </p:nvSpPr>
          <p:spPr>
            <a:xfrm>
              <a:off x="7980480" y="7589880"/>
              <a:ext cx="9360" cy="1452600"/>
            </a:xfrm>
            <a:custGeom>
              <a:avLst/>
              <a:gdLst/>
              <a:ahLst/>
              <a:rect l="l" t="t" r="r" b="b"/>
              <a:pathLst>
                <a:path w="6" h="915">
                  <a:moveTo>
                    <a:pt x="0" y="6"/>
                  </a:moveTo>
                  <a:lnTo>
                    <a:pt x="0" y="908"/>
                  </a:lnTo>
                  <a:lnTo>
                    <a:pt x="6" y="91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989840" y="7578720"/>
              <a:ext cx="11160" cy="1482840"/>
            </a:xfrm>
            <a:custGeom>
              <a:avLst/>
              <a:gdLst/>
              <a:ahLst/>
              <a:rect l="l" t="t" r="r" b="b"/>
              <a:pathLst>
                <a:path w="7" h="934">
                  <a:moveTo>
                    <a:pt x="0" y="7"/>
                  </a:moveTo>
                  <a:lnTo>
                    <a:pt x="0" y="934"/>
                  </a:lnTo>
                  <a:lnTo>
                    <a:pt x="7" y="934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001000" y="7569360"/>
              <a:ext cx="9360" cy="1492200"/>
            </a:xfrm>
            <a:custGeom>
              <a:avLst/>
              <a:gdLst/>
              <a:ahLst/>
              <a:rect l="l" t="t" r="r" b="b"/>
              <a:pathLst>
                <a:path w="6" h="940">
                  <a:moveTo>
                    <a:pt x="0" y="6"/>
                  </a:moveTo>
                  <a:lnTo>
                    <a:pt x="0" y="940"/>
                  </a:lnTo>
                  <a:lnTo>
                    <a:pt x="6" y="94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010360" y="7550280"/>
              <a:ext cx="11160" cy="1520640"/>
            </a:xfrm>
            <a:custGeom>
              <a:avLst/>
              <a:gdLst/>
              <a:ahLst/>
              <a:rect l="l" t="t" r="r" b="b"/>
              <a:pathLst>
                <a:path w="7" h="958">
                  <a:moveTo>
                    <a:pt x="0" y="12"/>
                  </a:moveTo>
                  <a:lnTo>
                    <a:pt x="0" y="952"/>
                  </a:lnTo>
                  <a:lnTo>
                    <a:pt x="7" y="95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021520" y="7539120"/>
              <a:ext cx="9720" cy="154152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7"/>
                  </a:moveTo>
                  <a:lnTo>
                    <a:pt x="0" y="965"/>
                  </a:lnTo>
                  <a:lnTo>
                    <a:pt x="6" y="97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031240" y="7529400"/>
              <a:ext cx="9360" cy="1473480"/>
            </a:xfrm>
            <a:custGeom>
              <a:avLst/>
              <a:gdLst/>
              <a:ahLst/>
              <a:rect l="l" t="t" r="r" b="b"/>
              <a:pathLst>
                <a:path w="6" h="928">
                  <a:moveTo>
                    <a:pt x="0" y="6"/>
                  </a:moveTo>
                  <a:lnTo>
                    <a:pt x="0" y="928"/>
                  </a:lnTo>
                  <a:lnTo>
                    <a:pt x="6" y="92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031240" y="9002880"/>
              <a:ext cx="9360" cy="8856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49"/>
                  </a:lnTo>
                  <a:lnTo>
                    <a:pt x="6" y="5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040600" y="90424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4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040600" y="7520040"/>
              <a:ext cx="11160" cy="1482840"/>
            </a:xfrm>
            <a:custGeom>
              <a:avLst/>
              <a:gdLst/>
              <a:ahLst/>
              <a:rect l="l" t="t" r="r" b="b"/>
              <a:pathLst>
                <a:path w="7" h="934">
                  <a:moveTo>
                    <a:pt x="0" y="6"/>
                  </a:moveTo>
                  <a:lnTo>
                    <a:pt x="0" y="934"/>
                  </a:lnTo>
                  <a:lnTo>
                    <a:pt x="7" y="92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051760" y="7520040"/>
              <a:ext cx="9720" cy="1482840"/>
            </a:xfrm>
            <a:custGeom>
              <a:avLst/>
              <a:gdLst/>
              <a:ahLst/>
              <a:rect l="l" t="t" r="r" b="b"/>
              <a:pathLst>
                <a:path w="6" h="934">
                  <a:moveTo>
                    <a:pt x="0" y="0"/>
                  </a:moveTo>
                  <a:lnTo>
                    <a:pt x="0" y="927"/>
                  </a:lnTo>
                  <a:lnTo>
                    <a:pt x="6" y="93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061480" y="7510320"/>
              <a:ext cx="9360" cy="1501920"/>
            </a:xfrm>
            <a:custGeom>
              <a:avLst/>
              <a:gdLst/>
              <a:ahLst/>
              <a:rect l="l" t="t" r="r" b="b"/>
              <a:pathLst>
                <a:path w="6" h="946">
                  <a:moveTo>
                    <a:pt x="0" y="6"/>
                  </a:moveTo>
                  <a:lnTo>
                    <a:pt x="0" y="940"/>
                  </a:lnTo>
                  <a:lnTo>
                    <a:pt x="6" y="94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070840" y="7510320"/>
              <a:ext cx="11160" cy="15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082000" y="7500960"/>
              <a:ext cx="19080" cy="1530360"/>
            </a:xfrm>
            <a:custGeom>
              <a:avLst/>
              <a:gdLst/>
              <a:ahLst/>
              <a:rect l="l" t="t" r="r" b="b"/>
              <a:pathLst>
                <a:path w="12" h="964">
                  <a:moveTo>
                    <a:pt x="0" y="6"/>
                  </a:moveTo>
                  <a:lnTo>
                    <a:pt x="0" y="952"/>
                  </a:lnTo>
                  <a:lnTo>
                    <a:pt x="12" y="964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101080" y="7500960"/>
              <a:ext cx="11160" cy="1541520"/>
            </a:xfrm>
            <a:custGeom>
              <a:avLst/>
              <a:gdLst/>
              <a:ahLst/>
              <a:rect l="l" t="t" r="r" b="b"/>
              <a:pathLst>
                <a:path w="7" h="971">
                  <a:moveTo>
                    <a:pt x="0" y="0"/>
                  </a:moveTo>
                  <a:lnTo>
                    <a:pt x="0" y="964"/>
                  </a:lnTo>
                  <a:lnTo>
                    <a:pt x="7" y="97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112240" y="7500960"/>
              <a:ext cx="9360" cy="1619280"/>
            </a:xfrm>
            <a:custGeom>
              <a:avLst/>
              <a:gdLst/>
              <a:ahLst/>
              <a:rect l="l" t="t" r="r" b="b"/>
              <a:pathLst>
                <a:path w="6" h="1020">
                  <a:moveTo>
                    <a:pt x="0" y="0"/>
                  </a:moveTo>
                  <a:lnTo>
                    <a:pt x="0" y="1014"/>
                  </a:lnTo>
                  <a:lnTo>
                    <a:pt x="6" y="102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121600" y="7489800"/>
              <a:ext cx="20520" cy="1630440"/>
            </a:xfrm>
            <a:custGeom>
              <a:avLst/>
              <a:gdLst/>
              <a:ahLst/>
              <a:rect l="l" t="t" r="r" b="b"/>
              <a:pathLst>
                <a:path w="13" h="1027">
                  <a:moveTo>
                    <a:pt x="0" y="7"/>
                  </a:moveTo>
                  <a:lnTo>
                    <a:pt x="0" y="1027"/>
                  </a:lnTo>
                  <a:lnTo>
                    <a:pt x="13" y="1021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142120" y="7480440"/>
              <a:ext cx="9720" cy="163008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6"/>
                  </a:moveTo>
                  <a:lnTo>
                    <a:pt x="0" y="1027"/>
                  </a:lnTo>
                  <a:lnTo>
                    <a:pt x="6" y="101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151840" y="7480440"/>
              <a:ext cx="11160" cy="1611000"/>
            </a:xfrm>
            <a:custGeom>
              <a:avLst/>
              <a:gdLst/>
              <a:ahLst/>
              <a:rect l="l" t="t" r="r" b="b"/>
              <a:pathLst>
                <a:path w="7" h="1015">
                  <a:moveTo>
                    <a:pt x="0" y="0"/>
                  </a:moveTo>
                  <a:lnTo>
                    <a:pt x="0" y="1015"/>
                  </a:lnTo>
                  <a:lnTo>
                    <a:pt x="7" y="99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163000" y="7480440"/>
              <a:ext cx="9360" cy="1550880"/>
            </a:xfrm>
            <a:custGeom>
              <a:avLst/>
              <a:gdLst/>
              <a:ahLst/>
              <a:rect l="l" t="t" r="r" b="b"/>
              <a:pathLst>
                <a:path w="6" h="977">
                  <a:moveTo>
                    <a:pt x="0" y="0"/>
                  </a:moveTo>
                  <a:lnTo>
                    <a:pt x="0" y="977"/>
                  </a:lnTo>
                  <a:lnTo>
                    <a:pt x="6" y="97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172360" y="7461360"/>
              <a:ext cx="9720" cy="1550880"/>
            </a:xfrm>
            <a:custGeom>
              <a:avLst/>
              <a:gdLst/>
              <a:ahLst/>
              <a:rect l="l" t="t" r="r" b="b"/>
              <a:pathLst>
                <a:path w="6" h="977">
                  <a:moveTo>
                    <a:pt x="0" y="12"/>
                  </a:moveTo>
                  <a:lnTo>
                    <a:pt x="0" y="977"/>
                  </a:lnTo>
                  <a:lnTo>
                    <a:pt x="6" y="977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182080" y="7450200"/>
              <a:ext cx="11160" cy="1562040"/>
            </a:xfrm>
            <a:custGeom>
              <a:avLst/>
              <a:gdLst/>
              <a:ahLst/>
              <a:rect l="l" t="t" r="r" b="b"/>
              <a:pathLst>
                <a:path w="7" h="984">
                  <a:moveTo>
                    <a:pt x="0" y="7"/>
                  </a:moveTo>
                  <a:lnTo>
                    <a:pt x="0" y="984"/>
                  </a:lnTo>
                  <a:lnTo>
                    <a:pt x="7" y="984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193240" y="7440480"/>
              <a:ext cx="9360" cy="158112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6"/>
                  </a:moveTo>
                  <a:lnTo>
                    <a:pt x="0" y="990"/>
                  </a:lnTo>
                  <a:lnTo>
                    <a:pt x="6" y="9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202600" y="7431120"/>
              <a:ext cx="9360" cy="1600200"/>
            </a:xfrm>
            <a:custGeom>
              <a:avLst/>
              <a:gdLst/>
              <a:ahLst/>
              <a:rect l="l" t="t" r="r" b="b"/>
              <a:pathLst>
                <a:path w="6" h="1008">
                  <a:moveTo>
                    <a:pt x="0" y="6"/>
                  </a:moveTo>
                  <a:lnTo>
                    <a:pt x="0" y="1002"/>
                  </a:lnTo>
                  <a:lnTo>
                    <a:pt x="6" y="100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211960" y="7431120"/>
              <a:ext cx="11160" cy="1630440"/>
            </a:xfrm>
            <a:custGeom>
              <a:avLst/>
              <a:gdLst/>
              <a:ahLst/>
              <a:rect l="l" t="t" r="r" b="b"/>
              <a:pathLst>
                <a:path w="7" h="1027">
                  <a:moveTo>
                    <a:pt x="0" y="0"/>
                  </a:moveTo>
                  <a:lnTo>
                    <a:pt x="0" y="1008"/>
                  </a:lnTo>
                  <a:lnTo>
                    <a:pt x="7" y="102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223120" y="7421400"/>
              <a:ext cx="9720" cy="1649520"/>
            </a:xfrm>
            <a:custGeom>
              <a:avLst/>
              <a:gdLst/>
              <a:ahLst/>
              <a:rect l="l" t="t" r="r" b="b"/>
              <a:pathLst>
                <a:path w="6" h="1039">
                  <a:moveTo>
                    <a:pt x="0" y="6"/>
                  </a:moveTo>
                  <a:lnTo>
                    <a:pt x="0" y="1033"/>
                  </a:lnTo>
                  <a:lnTo>
                    <a:pt x="6" y="103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232840" y="7410600"/>
              <a:ext cx="9360" cy="1660320"/>
            </a:xfrm>
            <a:custGeom>
              <a:avLst/>
              <a:gdLst/>
              <a:ahLst/>
              <a:rect l="l" t="t" r="r" b="b"/>
              <a:pathLst>
                <a:path w="6" h="1046">
                  <a:moveTo>
                    <a:pt x="0" y="7"/>
                  </a:moveTo>
                  <a:lnTo>
                    <a:pt x="0" y="1046"/>
                  </a:lnTo>
                  <a:lnTo>
                    <a:pt x="6" y="104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242200" y="7400880"/>
              <a:ext cx="11160" cy="1670040"/>
            </a:xfrm>
            <a:custGeom>
              <a:avLst/>
              <a:gdLst/>
              <a:ahLst/>
              <a:rect l="l" t="t" r="r" b="b"/>
              <a:pathLst>
                <a:path w="7" h="1052">
                  <a:moveTo>
                    <a:pt x="0" y="6"/>
                  </a:moveTo>
                  <a:lnTo>
                    <a:pt x="0" y="1052"/>
                  </a:lnTo>
                  <a:lnTo>
                    <a:pt x="7" y="104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253360" y="7391520"/>
              <a:ext cx="972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6"/>
                  </a:moveTo>
                  <a:lnTo>
                    <a:pt x="0" y="1040"/>
                  </a:lnTo>
                  <a:lnTo>
                    <a:pt x="6" y="103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263080" y="7372440"/>
              <a:ext cx="20520" cy="1649160"/>
            </a:xfrm>
            <a:custGeom>
              <a:avLst/>
              <a:gdLst/>
              <a:ahLst/>
              <a:rect l="l" t="t" r="r" b="b"/>
              <a:pathLst>
                <a:path w="13" h="1039">
                  <a:moveTo>
                    <a:pt x="0" y="12"/>
                  </a:moveTo>
                  <a:lnTo>
                    <a:pt x="0" y="1039"/>
                  </a:lnTo>
                  <a:lnTo>
                    <a:pt x="13" y="1033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283600" y="7361280"/>
              <a:ext cx="936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7"/>
                  </a:moveTo>
                  <a:lnTo>
                    <a:pt x="0" y="1040"/>
                  </a:lnTo>
                  <a:lnTo>
                    <a:pt x="6" y="103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292960" y="7351560"/>
              <a:ext cx="9720" cy="165132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6"/>
                  </a:moveTo>
                  <a:lnTo>
                    <a:pt x="0" y="1040"/>
                  </a:lnTo>
                  <a:lnTo>
                    <a:pt x="6" y="104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8302680" y="7342200"/>
              <a:ext cx="11160" cy="1660680"/>
            </a:xfrm>
            <a:custGeom>
              <a:avLst/>
              <a:gdLst/>
              <a:ahLst/>
              <a:rect l="l" t="t" r="r" b="b"/>
              <a:pathLst>
                <a:path w="7" h="1046">
                  <a:moveTo>
                    <a:pt x="0" y="6"/>
                  </a:moveTo>
                  <a:lnTo>
                    <a:pt x="0" y="1046"/>
                  </a:lnTo>
                  <a:lnTo>
                    <a:pt x="7" y="103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313840" y="7332840"/>
              <a:ext cx="9360" cy="1658880"/>
            </a:xfrm>
            <a:custGeom>
              <a:avLst/>
              <a:gdLst/>
              <a:ahLst/>
              <a:rect l="l" t="t" r="r" b="b"/>
              <a:pathLst>
                <a:path w="6" h="1045">
                  <a:moveTo>
                    <a:pt x="0" y="6"/>
                  </a:moveTo>
                  <a:lnTo>
                    <a:pt x="0" y="1045"/>
                  </a:lnTo>
                  <a:lnTo>
                    <a:pt x="6" y="104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323200" y="7321680"/>
              <a:ext cx="11160" cy="1670040"/>
            </a:xfrm>
            <a:custGeom>
              <a:avLst/>
              <a:gdLst/>
              <a:ahLst/>
              <a:rect l="l" t="t" r="r" b="b"/>
              <a:pathLst>
                <a:path w="7" h="1052">
                  <a:moveTo>
                    <a:pt x="0" y="7"/>
                  </a:moveTo>
                  <a:lnTo>
                    <a:pt x="0" y="1052"/>
                  </a:lnTo>
                  <a:lnTo>
                    <a:pt x="7" y="105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334360" y="7311960"/>
              <a:ext cx="9720" cy="1679760"/>
            </a:xfrm>
            <a:custGeom>
              <a:avLst/>
              <a:gdLst/>
              <a:ahLst/>
              <a:rect l="l" t="t" r="r" b="b"/>
              <a:pathLst>
                <a:path w="6" h="1058">
                  <a:moveTo>
                    <a:pt x="0" y="6"/>
                  </a:moveTo>
                  <a:lnTo>
                    <a:pt x="0" y="1058"/>
                  </a:lnTo>
                  <a:lnTo>
                    <a:pt x="6" y="105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344080" y="7311960"/>
              <a:ext cx="9360" cy="16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353440" y="7311960"/>
              <a:ext cx="11160" cy="16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364600" y="7311960"/>
              <a:ext cx="936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52"/>
                  </a:lnTo>
                  <a:lnTo>
                    <a:pt x="6" y="105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8373960" y="7321680"/>
              <a:ext cx="9720" cy="1660320"/>
            </a:xfrm>
            <a:custGeom>
              <a:avLst/>
              <a:gdLst/>
              <a:ahLst/>
              <a:rect l="l" t="t" r="r" b="b"/>
              <a:pathLst>
                <a:path w="6" h="1046">
                  <a:moveTo>
                    <a:pt x="0" y="0"/>
                  </a:moveTo>
                  <a:lnTo>
                    <a:pt x="0" y="1046"/>
                  </a:lnTo>
                  <a:lnTo>
                    <a:pt x="6" y="1040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8383680" y="7332840"/>
              <a:ext cx="11160" cy="1639800"/>
            </a:xfrm>
            <a:custGeom>
              <a:avLst/>
              <a:gdLst/>
              <a:ahLst/>
              <a:rect l="l" t="t" r="r" b="b"/>
              <a:pathLst>
                <a:path w="7" h="1033">
                  <a:moveTo>
                    <a:pt x="0" y="0"/>
                  </a:moveTo>
                  <a:lnTo>
                    <a:pt x="0" y="1033"/>
                  </a:lnTo>
                  <a:lnTo>
                    <a:pt x="7" y="103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8394840" y="7342200"/>
              <a:ext cx="9360" cy="163044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0"/>
                  </a:moveTo>
                  <a:lnTo>
                    <a:pt x="0" y="1027"/>
                  </a:lnTo>
                  <a:lnTo>
                    <a:pt x="6" y="102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404200" y="7351560"/>
              <a:ext cx="9720" cy="163044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0"/>
                  </a:moveTo>
                  <a:lnTo>
                    <a:pt x="0" y="1021"/>
                  </a:lnTo>
                  <a:lnTo>
                    <a:pt x="6" y="102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413920" y="7351560"/>
              <a:ext cx="10800" cy="1640160"/>
            </a:xfrm>
            <a:custGeom>
              <a:avLst/>
              <a:gdLst/>
              <a:ahLst/>
              <a:rect l="l" t="t" r="r" b="b"/>
              <a:pathLst>
                <a:path w="7" h="1033">
                  <a:moveTo>
                    <a:pt x="0" y="0"/>
                  </a:moveTo>
                  <a:lnTo>
                    <a:pt x="0" y="1027"/>
                  </a:lnTo>
                  <a:lnTo>
                    <a:pt x="7" y="103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424720" y="7361280"/>
              <a:ext cx="972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46"/>
                  </a:lnTo>
                  <a:lnTo>
                    <a:pt x="6" y="105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434440" y="7361280"/>
              <a:ext cx="936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52"/>
                  </a:lnTo>
                  <a:lnTo>
                    <a:pt x="6" y="105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443800" y="896292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443800" y="7372440"/>
              <a:ext cx="20880" cy="1560600"/>
            </a:xfrm>
            <a:custGeom>
              <a:avLst/>
              <a:gdLst/>
              <a:ahLst/>
              <a:rect l="l" t="t" r="r" b="b"/>
              <a:pathLst>
                <a:path w="13" h="983">
                  <a:moveTo>
                    <a:pt x="0" y="0"/>
                  </a:moveTo>
                  <a:lnTo>
                    <a:pt x="0" y="983"/>
                  </a:lnTo>
                  <a:lnTo>
                    <a:pt x="13" y="97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454960" y="898200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464680" y="7381800"/>
              <a:ext cx="11160" cy="1541520"/>
            </a:xfrm>
            <a:custGeom>
              <a:avLst/>
              <a:gdLst/>
              <a:ahLst/>
              <a:rect l="l" t="t" r="r" b="b"/>
              <a:pathLst>
                <a:path w="7" h="971">
                  <a:moveTo>
                    <a:pt x="0" y="0"/>
                  </a:moveTo>
                  <a:lnTo>
                    <a:pt x="0" y="971"/>
                  </a:lnTo>
                  <a:lnTo>
                    <a:pt x="7" y="96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64680" y="899172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475840" y="7391520"/>
              <a:ext cx="18720" cy="1522440"/>
            </a:xfrm>
            <a:custGeom>
              <a:avLst/>
              <a:gdLst/>
              <a:ahLst/>
              <a:rect l="l" t="t" r="r" b="b"/>
              <a:pathLst>
                <a:path w="12" h="959">
                  <a:moveTo>
                    <a:pt x="0" y="0"/>
                  </a:moveTo>
                  <a:lnTo>
                    <a:pt x="0" y="959"/>
                  </a:lnTo>
                  <a:lnTo>
                    <a:pt x="12" y="95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494560" y="7400880"/>
              <a:ext cx="11160" cy="1501920"/>
            </a:xfrm>
            <a:custGeom>
              <a:avLst/>
              <a:gdLst/>
              <a:ahLst/>
              <a:rect l="l" t="t" r="r" b="b"/>
              <a:pathLst>
                <a:path w="7" h="946">
                  <a:moveTo>
                    <a:pt x="0" y="0"/>
                  </a:moveTo>
                  <a:lnTo>
                    <a:pt x="0" y="946"/>
                  </a:lnTo>
                  <a:lnTo>
                    <a:pt x="7" y="93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505720" y="7400880"/>
              <a:ext cx="9720" cy="1482840"/>
            </a:xfrm>
            <a:custGeom>
              <a:avLst/>
              <a:gdLst/>
              <a:ahLst/>
              <a:rect l="l" t="t" r="r" b="b"/>
              <a:pathLst>
                <a:path w="6" h="934">
                  <a:moveTo>
                    <a:pt x="0" y="0"/>
                  </a:moveTo>
                  <a:lnTo>
                    <a:pt x="0" y="934"/>
                  </a:lnTo>
                  <a:lnTo>
                    <a:pt x="6" y="92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515440" y="7410600"/>
              <a:ext cx="20520" cy="1463400"/>
            </a:xfrm>
            <a:custGeom>
              <a:avLst/>
              <a:gdLst/>
              <a:ahLst/>
              <a:rect l="l" t="t" r="r" b="b"/>
              <a:pathLst>
                <a:path w="13" h="922">
                  <a:moveTo>
                    <a:pt x="0" y="0"/>
                  </a:moveTo>
                  <a:lnTo>
                    <a:pt x="0" y="922"/>
                  </a:lnTo>
                  <a:lnTo>
                    <a:pt x="13" y="903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535960" y="7431120"/>
              <a:ext cx="9720" cy="1413000"/>
            </a:xfrm>
            <a:custGeom>
              <a:avLst/>
              <a:gdLst/>
              <a:ahLst/>
              <a:rect l="l" t="t" r="r" b="b"/>
              <a:pathLst>
                <a:path w="6" h="890">
                  <a:moveTo>
                    <a:pt x="0" y="0"/>
                  </a:moveTo>
                  <a:lnTo>
                    <a:pt x="0" y="890"/>
                  </a:lnTo>
                  <a:lnTo>
                    <a:pt x="6" y="87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545680" y="7440480"/>
              <a:ext cx="9360" cy="1384560"/>
            </a:xfrm>
            <a:custGeom>
              <a:avLst/>
              <a:gdLst/>
              <a:ahLst/>
              <a:rect l="l" t="t" r="r" b="b"/>
              <a:pathLst>
                <a:path w="6" h="872">
                  <a:moveTo>
                    <a:pt x="0" y="0"/>
                  </a:moveTo>
                  <a:lnTo>
                    <a:pt x="0" y="872"/>
                  </a:lnTo>
                  <a:lnTo>
                    <a:pt x="6" y="86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555040" y="7440480"/>
              <a:ext cx="11160" cy="1373400"/>
            </a:xfrm>
            <a:custGeom>
              <a:avLst/>
              <a:gdLst/>
              <a:ahLst/>
              <a:rect l="l" t="t" r="r" b="b"/>
              <a:pathLst>
                <a:path w="7" h="865">
                  <a:moveTo>
                    <a:pt x="0" y="0"/>
                  </a:moveTo>
                  <a:lnTo>
                    <a:pt x="0" y="865"/>
                  </a:lnTo>
                  <a:lnTo>
                    <a:pt x="7" y="86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566200" y="7450200"/>
              <a:ext cx="19080" cy="1363680"/>
            </a:xfrm>
            <a:custGeom>
              <a:avLst/>
              <a:gdLst/>
              <a:ahLst/>
              <a:rect l="l" t="t" r="r" b="b"/>
              <a:pathLst>
                <a:path w="12" h="859">
                  <a:moveTo>
                    <a:pt x="0" y="0"/>
                  </a:moveTo>
                  <a:lnTo>
                    <a:pt x="0" y="859"/>
                  </a:lnTo>
                  <a:lnTo>
                    <a:pt x="12" y="853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585280" y="87454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85280" y="7470720"/>
              <a:ext cx="11160" cy="1265400"/>
            </a:xfrm>
            <a:custGeom>
              <a:avLst/>
              <a:gdLst/>
              <a:ahLst/>
              <a:rect l="l" t="t" r="r" b="b"/>
              <a:pathLst>
                <a:path w="7" h="797">
                  <a:moveTo>
                    <a:pt x="0" y="0"/>
                  </a:moveTo>
                  <a:lnTo>
                    <a:pt x="0" y="797"/>
                  </a:lnTo>
                  <a:lnTo>
                    <a:pt x="7" y="790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596440" y="7489800"/>
              <a:ext cx="9360" cy="1225440"/>
            </a:xfrm>
            <a:custGeom>
              <a:avLst/>
              <a:gdLst/>
              <a:ahLst/>
              <a:rect l="l" t="t" r="r" b="b"/>
              <a:pathLst>
                <a:path w="6" h="772">
                  <a:moveTo>
                    <a:pt x="0" y="0"/>
                  </a:moveTo>
                  <a:lnTo>
                    <a:pt x="0" y="772"/>
                  </a:lnTo>
                  <a:lnTo>
                    <a:pt x="6" y="77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596440" y="876456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05800" y="7500960"/>
              <a:ext cx="11160" cy="1214280"/>
            </a:xfrm>
            <a:custGeom>
              <a:avLst/>
              <a:gdLst/>
              <a:ahLst/>
              <a:rect l="l" t="t" r="r" b="b"/>
              <a:pathLst>
                <a:path w="7" h="765">
                  <a:moveTo>
                    <a:pt x="0" y="0"/>
                  </a:moveTo>
                  <a:lnTo>
                    <a:pt x="0" y="765"/>
                  </a:lnTo>
                  <a:lnTo>
                    <a:pt x="7" y="75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616960" y="7648560"/>
              <a:ext cx="936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0"/>
                  </a:moveTo>
                  <a:lnTo>
                    <a:pt x="0" y="647"/>
                  </a:lnTo>
                  <a:lnTo>
                    <a:pt x="6" y="64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626320" y="7658280"/>
              <a:ext cx="9720" cy="1008000"/>
            </a:xfrm>
            <a:custGeom>
              <a:avLst/>
              <a:gdLst/>
              <a:ahLst/>
              <a:rect l="l" t="t" r="r" b="b"/>
              <a:pathLst>
                <a:path w="6" h="635">
                  <a:moveTo>
                    <a:pt x="0" y="0"/>
                  </a:moveTo>
                  <a:lnTo>
                    <a:pt x="0" y="635"/>
                  </a:lnTo>
                  <a:lnTo>
                    <a:pt x="6" y="62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636040" y="7667640"/>
              <a:ext cx="11160" cy="988920"/>
            </a:xfrm>
            <a:custGeom>
              <a:avLst/>
              <a:gdLst/>
              <a:ahLst/>
              <a:rect l="l" t="t" r="r" b="b"/>
              <a:pathLst>
                <a:path w="7" h="623">
                  <a:moveTo>
                    <a:pt x="0" y="0"/>
                  </a:moveTo>
                  <a:lnTo>
                    <a:pt x="0" y="623"/>
                  </a:lnTo>
                  <a:lnTo>
                    <a:pt x="7" y="61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647200" y="7667640"/>
              <a:ext cx="9360" cy="9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656560" y="7667640"/>
              <a:ext cx="9720" cy="9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666280" y="7658280"/>
              <a:ext cx="11160" cy="988920"/>
            </a:xfrm>
            <a:custGeom>
              <a:avLst/>
              <a:gdLst/>
              <a:ahLst/>
              <a:rect l="l" t="t" r="r" b="b"/>
              <a:pathLst>
                <a:path w="7" h="623">
                  <a:moveTo>
                    <a:pt x="0" y="6"/>
                  </a:moveTo>
                  <a:lnTo>
                    <a:pt x="0" y="623"/>
                  </a:lnTo>
                  <a:lnTo>
                    <a:pt x="7" y="62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677440" y="7648560"/>
              <a:ext cx="9360" cy="1008000"/>
            </a:xfrm>
            <a:custGeom>
              <a:avLst/>
              <a:gdLst/>
              <a:ahLst/>
              <a:rect l="l" t="t" r="r" b="b"/>
              <a:pathLst>
                <a:path w="6" h="635">
                  <a:moveTo>
                    <a:pt x="0" y="6"/>
                  </a:moveTo>
                  <a:lnTo>
                    <a:pt x="0" y="629"/>
                  </a:lnTo>
                  <a:lnTo>
                    <a:pt x="6" y="63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686800" y="7639200"/>
              <a:ext cx="9360" cy="1017360"/>
            </a:xfrm>
            <a:custGeom>
              <a:avLst/>
              <a:gdLst/>
              <a:ahLst/>
              <a:rect l="l" t="t" r="r" b="b"/>
              <a:pathLst>
                <a:path w="6" h="641">
                  <a:moveTo>
                    <a:pt x="0" y="6"/>
                  </a:moveTo>
                  <a:lnTo>
                    <a:pt x="0" y="641"/>
                  </a:lnTo>
                  <a:lnTo>
                    <a:pt x="6" y="64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696160" y="7639200"/>
              <a:ext cx="11160" cy="1027080"/>
            </a:xfrm>
            <a:custGeom>
              <a:avLst/>
              <a:gdLst/>
              <a:ahLst/>
              <a:rect l="l" t="t" r="r" b="b"/>
              <a:pathLst>
                <a:path w="7" h="647">
                  <a:moveTo>
                    <a:pt x="0" y="0"/>
                  </a:moveTo>
                  <a:lnTo>
                    <a:pt x="0" y="641"/>
                  </a:lnTo>
                  <a:lnTo>
                    <a:pt x="7" y="64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707320" y="7639200"/>
              <a:ext cx="9720" cy="92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707320" y="8616960"/>
              <a:ext cx="972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717040" y="7639200"/>
              <a:ext cx="9360" cy="919080"/>
            </a:xfrm>
            <a:custGeom>
              <a:avLst/>
              <a:gdLst/>
              <a:ahLst/>
              <a:rect l="l" t="t" r="r" b="b"/>
              <a:pathLst>
                <a:path w="6" h="579">
                  <a:moveTo>
                    <a:pt x="0" y="0"/>
                  </a:moveTo>
                  <a:lnTo>
                    <a:pt x="0" y="579"/>
                  </a:lnTo>
                  <a:lnTo>
                    <a:pt x="6" y="57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726400" y="7639200"/>
              <a:ext cx="11160" cy="907920"/>
            </a:xfrm>
            <a:custGeom>
              <a:avLst/>
              <a:gdLst/>
              <a:ahLst/>
              <a:rect l="l" t="t" r="r" b="b"/>
              <a:pathLst>
                <a:path w="7" h="572">
                  <a:moveTo>
                    <a:pt x="0" y="0"/>
                  </a:moveTo>
                  <a:lnTo>
                    <a:pt x="0" y="572"/>
                  </a:lnTo>
                  <a:lnTo>
                    <a:pt x="7" y="56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717040" y="861696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0" y="31"/>
                  </a:lnTo>
                  <a:lnTo>
                    <a:pt x="13" y="25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737560" y="7639200"/>
              <a:ext cx="9720" cy="89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737560" y="861696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747280" y="8616960"/>
              <a:ext cx="93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747280" y="7639200"/>
              <a:ext cx="9360" cy="888840"/>
            </a:xfrm>
            <a:custGeom>
              <a:avLst/>
              <a:gdLst/>
              <a:ahLst/>
              <a:rect l="l" t="t" r="r" b="b"/>
              <a:pathLst>
                <a:path w="6" h="560">
                  <a:moveTo>
                    <a:pt x="0" y="0"/>
                  </a:moveTo>
                  <a:lnTo>
                    <a:pt x="0" y="560"/>
                  </a:lnTo>
                  <a:lnTo>
                    <a:pt x="6" y="56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756640" y="7648560"/>
              <a:ext cx="11160" cy="87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756640" y="86169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767800" y="7648560"/>
              <a:ext cx="9360" cy="87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767800" y="860760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777160" y="8607600"/>
              <a:ext cx="1116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777160" y="7648560"/>
              <a:ext cx="11160" cy="909720"/>
            </a:xfrm>
            <a:custGeom>
              <a:avLst/>
              <a:gdLst/>
              <a:ahLst/>
              <a:rect l="l" t="t" r="r" b="b"/>
              <a:pathLst>
                <a:path w="7" h="573">
                  <a:moveTo>
                    <a:pt x="0" y="0"/>
                  </a:moveTo>
                  <a:lnTo>
                    <a:pt x="0" y="566"/>
                  </a:lnTo>
                  <a:lnTo>
                    <a:pt x="7" y="57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788320" y="7658280"/>
              <a:ext cx="9720" cy="928440"/>
            </a:xfrm>
            <a:custGeom>
              <a:avLst/>
              <a:gdLst/>
              <a:ahLst/>
              <a:rect l="l" t="t" r="r" b="b"/>
              <a:pathLst>
                <a:path w="6" h="585">
                  <a:moveTo>
                    <a:pt x="0" y="0"/>
                  </a:moveTo>
                  <a:lnTo>
                    <a:pt x="0" y="579"/>
                  </a:lnTo>
                  <a:lnTo>
                    <a:pt x="6" y="58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798040" y="7658280"/>
              <a:ext cx="9360" cy="938160"/>
            </a:xfrm>
            <a:custGeom>
              <a:avLst/>
              <a:gdLst/>
              <a:ahLst/>
              <a:rect l="l" t="t" r="r" b="b"/>
              <a:pathLst>
                <a:path w="6" h="591">
                  <a:moveTo>
                    <a:pt x="0" y="0"/>
                  </a:moveTo>
                  <a:lnTo>
                    <a:pt x="0" y="591"/>
                  </a:lnTo>
                  <a:lnTo>
                    <a:pt x="6" y="59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807400" y="7667640"/>
              <a:ext cx="11160" cy="9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818560" y="7667640"/>
              <a:ext cx="9360" cy="928800"/>
            </a:xfrm>
            <a:custGeom>
              <a:avLst/>
              <a:gdLst/>
              <a:ahLst/>
              <a:rect l="l" t="t" r="r" b="b"/>
              <a:pathLst>
                <a:path w="6" h="585">
                  <a:moveTo>
                    <a:pt x="0" y="0"/>
                  </a:moveTo>
                  <a:lnTo>
                    <a:pt x="0" y="585"/>
                  </a:lnTo>
                  <a:lnTo>
                    <a:pt x="6" y="57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827920" y="7678800"/>
              <a:ext cx="9720" cy="90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837640" y="7678800"/>
              <a:ext cx="11160" cy="907920"/>
            </a:xfrm>
            <a:custGeom>
              <a:avLst/>
              <a:gdLst/>
              <a:ahLst/>
              <a:rect l="l" t="t" r="r" b="b"/>
              <a:pathLst>
                <a:path w="7" h="572">
                  <a:moveTo>
                    <a:pt x="0" y="0"/>
                  </a:moveTo>
                  <a:lnTo>
                    <a:pt x="0" y="572"/>
                  </a:lnTo>
                  <a:lnTo>
                    <a:pt x="7" y="572"/>
                  </a:lnTo>
                  <a:lnTo>
                    <a:pt x="7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848800" y="7707240"/>
              <a:ext cx="9360" cy="879480"/>
            </a:xfrm>
            <a:custGeom>
              <a:avLst/>
              <a:gdLst/>
              <a:ahLst/>
              <a:rect l="l" t="t" r="r" b="b"/>
              <a:pathLst>
                <a:path w="6" h="554">
                  <a:moveTo>
                    <a:pt x="0" y="0"/>
                  </a:moveTo>
                  <a:lnTo>
                    <a:pt x="0" y="554"/>
                  </a:lnTo>
                  <a:lnTo>
                    <a:pt x="6" y="54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858160" y="7728120"/>
              <a:ext cx="9720" cy="849240"/>
            </a:xfrm>
            <a:custGeom>
              <a:avLst/>
              <a:gdLst/>
              <a:ahLst/>
              <a:rect l="l" t="t" r="r" b="b"/>
              <a:pathLst>
                <a:path w="6" h="535">
                  <a:moveTo>
                    <a:pt x="0" y="0"/>
                  </a:moveTo>
                  <a:lnTo>
                    <a:pt x="0" y="535"/>
                  </a:lnTo>
                  <a:lnTo>
                    <a:pt x="6" y="535"/>
                  </a:lnTo>
                  <a:lnTo>
                    <a:pt x="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867880" y="7756560"/>
              <a:ext cx="11160" cy="820800"/>
            </a:xfrm>
            <a:custGeom>
              <a:avLst/>
              <a:gdLst/>
              <a:ahLst/>
              <a:rect l="l" t="t" r="r" b="b"/>
              <a:pathLst>
                <a:path w="7" h="517">
                  <a:moveTo>
                    <a:pt x="0" y="0"/>
                  </a:moveTo>
                  <a:lnTo>
                    <a:pt x="0" y="517"/>
                  </a:lnTo>
                  <a:lnTo>
                    <a:pt x="7" y="517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879040" y="7777080"/>
              <a:ext cx="9360" cy="800280"/>
            </a:xfrm>
            <a:custGeom>
              <a:avLst/>
              <a:gdLst/>
              <a:ahLst/>
              <a:rect l="l" t="t" r="r" b="b"/>
              <a:pathLst>
                <a:path w="6" h="504">
                  <a:moveTo>
                    <a:pt x="0" y="0"/>
                  </a:moveTo>
                  <a:lnTo>
                    <a:pt x="0" y="504"/>
                  </a:lnTo>
                  <a:lnTo>
                    <a:pt x="6" y="498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888400" y="7796160"/>
              <a:ext cx="9360" cy="771480"/>
            </a:xfrm>
            <a:custGeom>
              <a:avLst/>
              <a:gdLst/>
              <a:ahLst/>
              <a:rect l="l" t="t" r="r" b="b"/>
              <a:pathLst>
                <a:path w="6" h="486">
                  <a:moveTo>
                    <a:pt x="0" y="0"/>
                  </a:moveTo>
                  <a:lnTo>
                    <a:pt x="0" y="486"/>
                  </a:lnTo>
                  <a:lnTo>
                    <a:pt x="6" y="4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897760" y="7805880"/>
              <a:ext cx="11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908920" y="7805880"/>
              <a:ext cx="9720" cy="761760"/>
            </a:xfrm>
            <a:custGeom>
              <a:avLst/>
              <a:gdLst/>
              <a:ahLst/>
              <a:rect l="l" t="t" r="r" b="b"/>
              <a:pathLst>
                <a:path w="6" h="480">
                  <a:moveTo>
                    <a:pt x="0" y="0"/>
                  </a:moveTo>
                  <a:lnTo>
                    <a:pt x="0" y="480"/>
                  </a:lnTo>
                  <a:lnTo>
                    <a:pt x="6" y="4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918640" y="7805880"/>
              <a:ext cx="11160" cy="761760"/>
            </a:xfrm>
            <a:custGeom>
              <a:avLst/>
              <a:gdLst/>
              <a:ahLst/>
              <a:rect l="l" t="t" r="r" b="b"/>
              <a:pathLst>
                <a:path w="7" h="480">
                  <a:moveTo>
                    <a:pt x="0" y="0"/>
                  </a:moveTo>
                  <a:lnTo>
                    <a:pt x="0" y="474"/>
                  </a:lnTo>
                  <a:lnTo>
                    <a:pt x="7" y="48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929800" y="7805880"/>
              <a:ext cx="9360" cy="771480"/>
            </a:xfrm>
            <a:custGeom>
              <a:avLst/>
              <a:gdLst/>
              <a:ahLst/>
              <a:rect l="l" t="t" r="r" b="b"/>
              <a:pathLst>
                <a:path w="6" h="486">
                  <a:moveTo>
                    <a:pt x="0" y="0"/>
                  </a:moveTo>
                  <a:lnTo>
                    <a:pt x="0" y="486"/>
                  </a:lnTo>
                  <a:lnTo>
                    <a:pt x="6" y="4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939160" y="7805880"/>
              <a:ext cx="9720" cy="780840"/>
            </a:xfrm>
            <a:custGeom>
              <a:avLst/>
              <a:gdLst/>
              <a:ahLst/>
              <a:rect l="l" t="t" r="r" b="b"/>
              <a:pathLst>
                <a:path w="6" h="492">
                  <a:moveTo>
                    <a:pt x="0" y="0"/>
                  </a:moveTo>
                  <a:lnTo>
                    <a:pt x="0" y="486"/>
                  </a:lnTo>
                  <a:lnTo>
                    <a:pt x="6" y="49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948880" y="7796160"/>
              <a:ext cx="10800" cy="790560"/>
            </a:xfrm>
            <a:custGeom>
              <a:avLst/>
              <a:gdLst/>
              <a:ahLst/>
              <a:rect l="l" t="t" r="r" b="b"/>
              <a:pathLst>
                <a:path w="7" h="498">
                  <a:moveTo>
                    <a:pt x="0" y="6"/>
                  </a:moveTo>
                  <a:lnTo>
                    <a:pt x="0" y="498"/>
                  </a:lnTo>
                  <a:lnTo>
                    <a:pt x="7" y="49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959680" y="7786800"/>
              <a:ext cx="9720" cy="820800"/>
            </a:xfrm>
            <a:custGeom>
              <a:avLst/>
              <a:gdLst/>
              <a:ahLst/>
              <a:rect l="l" t="t" r="r" b="b"/>
              <a:pathLst>
                <a:path w="6" h="517">
                  <a:moveTo>
                    <a:pt x="0" y="6"/>
                  </a:moveTo>
                  <a:lnTo>
                    <a:pt x="0" y="510"/>
                  </a:lnTo>
                  <a:lnTo>
                    <a:pt x="6" y="51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969400" y="7777080"/>
              <a:ext cx="9360" cy="819360"/>
            </a:xfrm>
            <a:custGeom>
              <a:avLst/>
              <a:gdLst/>
              <a:ahLst/>
              <a:rect l="l" t="t" r="r" b="b"/>
              <a:pathLst>
                <a:path w="6" h="516">
                  <a:moveTo>
                    <a:pt x="0" y="6"/>
                  </a:moveTo>
                  <a:lnTo>
                    <a:pt x="0" y="516"/>
                  </a:lnTo>
                  <a:lnTo>
                    <a:pt x="6" y="51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978760" y="7767720"/>
              <a:ext cx="11160" cy="828720"/>
            </a:xfrm>
            <a:custGeom>
              <a:avLst/>
              <a:gdLst/>
              <a:ahLst/>
              <a:rect l="l" t="t" r="r" b="b"/>
              <a:pathLst>
                <a:path w="7" h="522">
                  <a:moveTo>
                    <a:pt x="0" y="6"/>
                  </a:moveTo>
                  <a:lnTo>
                    <a:pt x="0" y="522"/>
                  </a:lnTo>
                  <a:lnTo>
                    <a:pt x="7" y="52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978760" y="8607600"/>
              <a:ext cx="1116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989920" y="7746840"/>
              <a:ext cx="9720" cy="889200"/>
            </a:xfrm>
            <a:custGeom>
              <a:avLst/>
              <a:gdLst/>
              <a:ahLst/>
              <a:rect l="l" t="t" r="r" b="b"/>
              <a:pathLst>
                <a:path w="6" h="560">
                  <a:moveTo>
                    <a:pt x="0" y="13"/>
                  </a:moveTo>
                  <a:lnTo>
                    <a:pt x="0" y="560"/>
                  </a:lnTo>
                  <a:lnTo>
                    <a:pt x="6" y="560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999640" y="7737480"/>
              <a:ext cx="9360" cy="909720"/>
            </a:xfrm>
            <a:custGeom>
              <a:avLst/>
              <a:gdLst/>
              <a:ahLst/>
              <a:rect l="l" t="t" r="r" b="b"/>
              <a:pathLst>
                <a:path w="6" h="573">
                  <a:moveTo>
                    <a:pt x="0" y="6"/>
                  </a:moveTo>
                  <a:lnTo>
                    <a:pt x="0" y="573"/>
                  </a:lnTo>
                  <a:lnTo>
                    <a:pt x="6" y="5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9009000" y="7667640"/>
              <a:ext cx="11160" cy="988920"/>
            </a:xfrm>
            <a:custGeom>
              <a:avLst/>
              <a:gdLst/>
              <a:ahLst/>
              <a:rect l="l" t="t" r="r" b="b"/>
              <a:pathLst>
                <a:path w="7" h="623">
                  <a:moveTo>
                    <a:pt x="0" y="13"/>
                  </a:moveTo>
                  <a:lnTo>
                    <a:pt x="0" y="617"/>
                  </a:lnTo>
                  <a:lnTo>
                    <a:pt x="7" y="62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9020160" y="7658280"/>
              <a:ext cx="9720" cy="99828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6"/>
                  </a:moveTo>
                  <a:lnTo>
                    <a:pt x="0" y="629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9029880" y="7648560"/>
              <a:ext cx="9360" cy="1008000"/>
            </a:xfrm>
            <a:custGeom>
              <a:avLst/>
              <a:gdLst/>
              <a:ahLst/>
              <a:rect l="l" t="t" r="r" b="b"/>
              <a:pathLst>
                <a:path w="6" h="635">
                  <a:moveTo>
                    <a:pt x="0" y="6"/>
                  </a:moveTo>
                  <a:lnTo>
                    <a:pt x="0" y="635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9039240" y="7648560"/>
              <a:ext cx="11160" cy="1017720"/>
            </a:xfrm>
            <a:custGeom>
              <a:avLst/>
              <a:gdLst/>
              <a:ahLst/>
              <a:rect l="l" t="t" r="r" b="b"/>
              <a:pathLst>
                <a:path w="7" h="641">
                  <a:moveTo>
                    <a:pt x="0" y="0"/>
                  </a:moveTo>
                  <a:lnTo>
                    <a:pt x="0" y="635"/>
                  </a:lnTo>
                  <a:lnTo>
                    <a:pt x="7" y="64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9050400" y="7639200"/>
              <a:ext cx="936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6"/>
                  </a:moveTo>
                  <a:lnTo>
                    <a:pt x="0" y="647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9059760" y="7628040"/>
              <a:ext cx="11160" cy="1019160"/>
            </a:xfrm>
            <a:custGeom>
              <a:avLst/>
              <a:gdLst/>
              <a:ahLst/>
              <a:rect l="l" t="t" r="r" b="b"/>
              <a:pathLst>
                <a:path w="7" h="642">
                  <a:moveTo>
                    <a:pt x="0" y="7"/>
                  </a:moveTo>
                  <a:lnTo>
                    <a:pt x="0" y="642"/>
                  </a:lnTo>
                  <a:lnTo>
                    <a:pt x="7" y="64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9070920" y="7628040"/>
              <a:ext cx="9720" cy="102852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0"/>
                  </a:moveTo>
                  <a:lnTo>
                    <a:pt x="0" y="642"/>
                  </a:lnTo>
                  <a:lnTo>
                    <a:pt x="6" y="6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9080640" y="7618320"/>
              <a:ext cx="9360" cy="1047960"/>
            </a:xfrm>
            <a:custGeom>
              <a:avLst/>
              <a:gdLst/>
              <a:ahLst/>
              <a:rect l="l" t="t" r="r" b="b"/>
              <a:pathLst>
                <a:path w="6" h="660">
                  <a:moveTo>
                    <a:pt x="0" y="6"/>
                  </a:moveTo>
                  <a:lnTo>
                    <a:pt x="0" y="654"/>
                  </a:lnTo>
                  <a:lnTo>
                    <a:pt x="6" y="66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9090000" y="7599240"/>
              <a:ext cx="11160" cy="1076400"/>
            </a:xfrm>
            <a:custGeom>
              <a:avLst/>
              <a:gdLst/>
              <a:ahLst/>
              <a:rect l="l" t="t" r="r" b="b"/>
              <a:pathLst>
                <a:path w="7" h="678">
                  <a:moveTo>
                    <a:pt x="0" y="12"/>
                  </a:moveTo>
                  <a:lnTo>
                    <a:pt x="0" y="672"/>
                  </a:lnTo>
                  <a:lnTo>
                    <a:pt x="7" y="67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9101160" y="7599240"/>
              <a:ext cx="9360" cy="1086120"/>
            </a:xfrm>
            <a:custGeom>
              <a:avLst/>
              <a:gdLst/>
              <a:ahLst/>
              <a:rect l="l" t="t" r="r" b="b"/>
              <a:pathLst>
                <a:path w="6" h="684">
                  <a:moveTo>
                    <a:pt x="0" y="0"/>
                  </a:moveTo>
                  <a:lnTo>
                    <a:pt x="0" y="678"/>
                  </a:lnTo>
                  <a:lnTo>
                    <a:pt x="6" y="68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9110520" y="7589880"/>
              <a:ext cx="20880" cy="1106280"/>
            </a:xfrm>
            <a:custGeom>
              <a:avLst/>
              <a:gdLst/>
              <a:ahLst/>
              <a:rect l="l" t="t" r="r" b="b"/>
              <a:pathLst>
                <a:path w="13" h="697">
                  <a:moveTo>
                    <a:pt x="0" y="6"/>
                  </a:moveTo>
                  <a:lnTo>
                    <a:pt x="0" y="690"/>
                  </a:lnTo>
                  <a:lnTo>
                    <a:pt x="13" y="69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9131400" y="8736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9131400" y="7578720"/>
              <a:ext cx="9360" cy="1136520"/>
            </a:xfrm>
            <a:custGeom>
              <a:avLst/>
              <a:gdLst/>
              <a:ahLst/>
              <a:rect l="l" t="t" r="r" b="b"/>
              <a:pathLst>
                <a:path w="6" h="716">
                  <a:moveTo>
                    <a:pt x="0" y="7"/>
                  </a:moveTo>
                  <a:lnTo>
                    <a:pt x="0" y="710"/>
                  </a:lnTo>
                  <a:lnTo>
                    <a:pt x="6" y="71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140760" y="7578720"/>
              <a:ext cx="9720" cy="1185840"/>
            </a:xfrm>
            <a:custGeom>
              <a:avLst/>
              <a:gdLst/>
              <a:ahLst/>
              <a:rect l="l" t="t" r="r" b="b"/>
              <a:pathLst>
                <a:path w="6" h="747">
                  <a:moveTo>
                    <a:pt x="0" y="0"/>
                  </a:moveTo>
                  <a:lnTo>
                    <a:pt x="0" y="741"/>
                  </a:lnTo>
                  <a:lnTo>
                    <a:pt x="6" y="74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9150480" y="7578720"/>
              <a:ext cx="11160" cy="1195560"/>
            </a:xfrm>
            <a:custGeom>
              <a:avLst/>
              <a:gdLst/>
              <a:ahLst/>
              <a:rect l="l" t="t" r="r" b="b"/>
              <a:pathLst>
                <a:path w="7" h="753">
                  <a:moveTo>
                    <a:pt x="0" y="0"/>
                  </a:moveTo>
                  <a:lnTo>
                    <a:pt x="0" y="747"/>
                  </a:lnTo>
                  <a:lnTo>
                    <a:pt x="7" y="75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9161640" y="7578720"/>
              <a:ext cx="9360" cy="1206360"/>
            </a:xfrm>
            <a:custGeom>
              <a:avLst/>
              <a:gdLst/>
              <a:ahLst/>
              <a:rect l="l" t="t" r="r" b="b"/>
              <a:pathLst>
                <a:path w="6" h="760">
                  <a:moveTo>
                    <a:pt x="0" y="0"/>
                  </a:moveTo>
                  <a:lnTo>
                    <a:pt x="0" y="753"/>
                  </a:lnTo>
                  <a:lnTo>
                    <a:pt x="6" y="76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9171000" y="7569360"/>
              <a:ext cx="9360" cy="1215720"/>
            </a:xfrm>
            <a:custGeom>
              <a:avLst/>
              <a:gdLst/>
              <a:ahLst/>
              <a:rect l="l" t="t" r="r" b="b"/>
              <a:pathLst>
                <a:path w="6" h="766">
                  <a:moveTo>
                    <a:pt x="0" y="6"/>
                  </a:moveTo>
                  <a:lnTo>
                    <a:pt x="0" y="766"/>
                  </a:lnTo>
                  <a:lnTo>
                    <a:pt x="6" y="76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9180360" y="7569360"/>
              <a:ext cx="11160" cy="12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191520" y="7569360"/>
              <a:ext cx="9720" cy="12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201240" y="874548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201240" y="878508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9201240" y="7569360"/>
              <a:ext cx="9360" cy="1166760"/>
            </a:xfrm>
            <a:custGeom>
              <a:avLst/>
              <a:gdLst/>
              <a:ahLst/>
              <a:rect l="l" t="t" r="r" b="b"/>
              <a:pathLst>
                <a:path w="6" h="735">
                  <a:moveTo>
                    <a:pt x="0" y="0"/>
                  </a:moveTo>
                  <a:lnTo>
                    <a:pt x="0" y="735"/>
                  </a:lnTo>
                  <a:lnTo>
                    <a:pt x="6" y="73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9210600" y="7578720"/>
              <a:ext cx="11160" cy="11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9210600" y="87850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9221760" y="7578720"/>
              <a:ext cx="9720" cy="1106640"/>
            </a:xfrm>
            <a:custGeom>
              <a:avLst/>
              <a:gdLst/>
              <a:ahLst/>
              <a:rect l="l" t="t" r="r" b="b"/>
              <a:pathLst>
                <a:path w="6" h="697">
                  <a:moveTo>
                    <a:pt x="0" y="0"/>
                  </a:moveTo>
                  <a:lnTo>
                    <a:pt x="0" y="697"/>
                  </a:lnTo>
                  <a:lnTo>
                    <a:pt x="6" y="69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231480" y="7589880"/>
              <a:ext cx="10800" cy="1085760"/>
            </a:xfrm>
            <a:custGeom>
              <a:avLst/>
              <a:gdLst/>
              <a:ahLst/>
              <a:rect l="l" t="t" r="r" b="b"/>
              <a:pathLst>
                <a:path w="7" h="684">
                  <a:moveTo>
                    <a:pt x="0" y="0"/>
                  </a:moveTo>
                  <a:lnTo>
                    <a:pt x="0" y="684"/>
                  </a:lnTo>
                  <a:lnTo>
                    <a:pt x="7" y="67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9242280" y="7599240"/>
              <a:ext cx="9720" cy="1057320"/>
            </a:xfrm>
            <a:custGeom>
              <a:avLst/>
              <a:gdLst/>
              <a:ahLst/>
              <a:rect l="l" t="t" r="r" b="b"/>
              <a:pathLst>
                <a:path w="6" h="666">
                  <a:moveTo>
                    <a:pt x="0" y="0"/>
                  </a:moveTo>
                  <a:lnTo>
                    <a:pt x="0" y="666"/>
                  </a:lnTo>
                  <a:lnTo>
                    <a:pt x="6" y="66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9252000" y="7599240"/>
              <a:ext cx="20520" cy="1047960"/>
            </a:xfrm>
            <a:custGeom>
              <a:avLst/>
              <a:gdLst/>
              <a:ahLst/>
              <a:rect l="l" t="t" r="r" b="b"/>
              <a:pathLst>
                <a:path w="13" h="660">
                  <a:moveTo>
                    <a:pt x="0" y="0"/>
                  </a:moveTo>
                  <a:lnTo>
                    <a:pt x="0" y="660"/>
                  </a:lnTo>
                  <a:lnTo>
                    <a:pt x="13" y="653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9272520" y="7618320"/>
              <a:ext cx="9720" cy="102888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0"/>
                  </a:moveTo>
                  <a:lnTo>
                    <a:pt x="0" y="641"/>
                  </a:lnTo>
                  <a:lnTo>
                    <a:pt x="6" y="64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9282240" y="7628040"/>
              <a:ext cx="9360" cy="1019160"/>
            </a:xfrm>
            <a:custGeom>
              <a:avLst/>
              <a:gdLst/>
              <a:ahLst/>
              <a:rect l="l" t="t" r="r" b="b"/>
              <a:pathLst>
                <a:path w="6" h="642">
                  <a:moveTo>
                    <a:pt x="0" y="0"/>
                  </a:moveTo>
                  <a:lnTo>
                    <a:pt x="0" y="642"/>
                  </a:lnTo>
                  <a:lnTo>
                    <a:pt x="6" y="63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9291600" y="7628040"/>
              <a:ext cx="11160" cy="1008000"/>
            </a:xfrm>
            <a:custGeom>
              <a:avLst/>
              <a:gdLst/>
              <a:ahLst/>
              <a:rect l="l" t="t" r="r" b="b"/>
              <a:pathLst>
                <a:path w="7" h="635">
                  <a:moveTo>
                    <a:pt x="0" y="0"/>
                  </a:moveTo>
                  <a:lnTo>
                    <a:pt x="0" y="635"/>
                  </a:lnTo>
                  <a:lnTo>
                    <a:pt x="7" y="63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9302760" y="7639200"/>
              <a:ext cx="9360" cy="996840"/>
            </a:xfrm>
            <a:custGeom>
              <a:avLst/>
              <a:gdLst/>
              <a:ahLst/>
              <a:rect l="l" t="t" r="r" b="b"/>
              <a:pathLst>
                <a:path w="6" h="628">
                  <a:moveTo>
                    <a:pt x="0" y="0"/>
                  </a:moveTo>
                  <a:lnTo>
                    <a:pt x="0" y="628"/>
                  </a:lnTo>
                  <a:lnTo>
                    <a:pt x="6" y="62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9312120" y="7639200"/>
              <a:ext cx="9720" cy="987120"/>
            </a:xfrm>
            <a:custGeom>
              <a:avLst/>
              <a:gdLst/>
              <a:ahLst/>
              <a:rect l="l" t="t" r="r" b="b"/>
              <a:pathLst>
                <a:path w="6" h="622">
                  <a:moveTo>
                    <a:pt x="0" y="0"/>
                  </a:moveTo>
                  <a:lnTo>
                    <a:pt x="0" y="622"/>
                  </a:lnTo>
                  <a:lnTo>
                    <a:pt x="6" y="61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9321840" y="7648560"/>
              <a:ext cx="11160" cy="9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9333000" y="7648560"/>
              <a:ext cx="9360" cy="987480"/>
            </a:xfrm>
            <a:custGeom>
              <a:avLst/>
              <a:gdLst/>
              <a:ahLst/>
              <a:rect l="l" t="t" r="r" b="b"/>
              <a:pathLst>
                <a:path w="6" h="622">
                  <a:moveTo>
                    <a:pt x="0" y="0"/>
                  </a:moveTo>
                  <a:lnTo>
                    <a:pt x="0" y="616"/>
                  </a:lnTo>
                  <a:lnTo>
                    <a:pt x="6" y="62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9342360" y="7648560"/>
              <a:ext cx="9720" cy="9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9352080" y="7648560"/>
              <a:ext cx="11160" cy="9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9363240" y="7648560"/>
              <a:ext cx="9360" cy="947880"/>
            </a:xfrm>
            <a:custGeom>
              <a:avLst/>
              <a:gdLst/>
              <a:ahLst/>
              <a:rect l="l" t="t" r="r" b="b"/>
              <a:pathLst>
                <a:path w="6" h="597">
                  <a:moveTo>
                    <a:pt x="0" y="0"/>
                  </a:moveTo>
                  <a:lnTo>
                    <a:pt x="0" y="597"/>
                  </a:lnTo>
                  <a:lnTo>
                    <a:pt x="6" y="59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9372600" y="7658280"/>
              <a:ext cx="11160" cy="949320"/>
            </a:xfrm>
            <a:custGeom>
              <a:avLst/>
              <a:gdLst/>
              <a:ahLst/>
              <a:rect l="l" t="t" r="r" b="b"/>
              <a:pathLst>
                <a:path w="7" h="598">
                  <a:moveTo>
                    <a:pt x="0" y="0"/>
                  </a:moveTo>
                  <a:lnTo>
                    <a:pt x="0" y="591"/>
                  </a:lnTo>
                  <a:lnTo>
                    <a:pt x="7" y="59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9383760" y="7658280"/>
              <a:ext cx="9360" cy="977760"/>
            </a:xfrm>
            <a:custGeom>
              <a:avLst/>
              <a:gdLst/>
              <a:ahLst/>
              <a:rect l="l" t="t" r="r" b="b"/>
              <a:pathLst>
                <a:path w="6" h="616">
                  <a:moveTo>
                    <a:pt x="0" y="0"/>
                  </a:moveTo>
                  <a:lnTo>
                    <a:pt x="0" y="610"/>
                  </a:lnTo>
                  <a:lnTo>
                    <a:pt x="6" y="61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9393120" y="7658280"/>
              <a:ext cx="9720" cy="988920"/>
            </a:xfrm>
            <a:custGeom>
              <a:avLst/>
              <a:gdLst/>
              <a:ahLst/>
              <a:rect l="l" t="t" r="r" b="b"/>
              <a:pathLst>
                <a:path w="6" h="623">
                  <a:moveTo>
                    <a:pt x="0" y="0"/>
                  </a:moveTo>
                  <a:lnTo>
                    <a:pt x="0" y="616"/>
                  </a:lnTo>
                  <a:lnTo>
                    <a:pt x="6" y="62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9402840" y="7658280"/>
              <a:ext cx="11160" cy="9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9414000" y="7658280"/>
              <a:ext cx="9360" cy="9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9423360" y="7658280"/>
              <a:ext cx="9720" cy="99828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0"/>
                  </a:moveTo>
                  <a:lnTo>
                    <a:pt x="0" y="623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9433080" y="7658280"/>
              <a:ext cx="1080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9443880" y="7658280"/>
              <a:ext cx="9720" cy="99828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0"/>
                  </a:moveTo>
                  <a:lnTo>
                    <a:pt x="0" y="629"/>
                  </a:lnTo>
                  <a:lnTo>
                    <a:pt x="6" y="62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9453600" y="7667640"/>
              <a:ext cx="9360" cy="99864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0"/>
                  </a:moveTo>
                  <a:lnTo>
                    <a:pt x="0" y="623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9462960" y="7667640"/>
              <a:ext cx="11160" cy="1008000"/>
            </a:xfrm>
            <a:custGeom>
              <a:avLst/>
              <a:gdLst/>
              <a:ahLst/>
              <a:rect l="l" t="t" r="r" b="b"/>
              <a:pathLst>
                <a:path w="7" h="635">
                  <a:moveTo>
                    <a:pt x="0" y="0"/>
                  </a:moveTo>
                  <a:lnTo>
                    <a:pt x="0" y="629"/>
                  </a:lnTo>
                  <a:lnTo>
                    <a:pt x="7" y="63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9474120" y="7658280"/>
              <a:ext cx="9720" cy="1017360"/>
            </a:xfrm>
            <a:custGeom>
              <a:avLst/>
              <a:gdLst/>
              <a:ahLst/>
              <a:rect l="l" t="t" r="r" b="b"/>
              <a:pathLst>
                <a:path w="6" h="641">
                  <a:moveTo>
                    <a:pt x="0" y="6"/>
                  </a:moveTo>
                  <a:lnTo>
                    <a:pt x="0" y="641"/>
                  </a:lnTo>
                  <a:lnTo>
                    <a:pt x="6" y="64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9483840" y="7658280"/>
              <a:ext cx="93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9493200" y="8596440"/>
              <a:ext cx="111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9493200" y="7648560"/>
              <a:ext cx="20520" cy="938160"/>
            </a:xfrm>
            <a:custGeom>
              <a:avLst/>
              <a:gdLst/>
              <a:ahLst/>
              <a:rect l="l" t="t" r="r" b="b"/>
              <a:pathLst>
                <a:path w="13" h="591">
                  <a:moveTo>
                    <a:pt x="0" y="6"/>
                  </a:moveTo>
                  <a:lnTo>
                    <a:pt x="0" y="591"/>
                  </a:lnTo>
                  <a:lnTo>
                    <a:pt x="13" y="585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9504360" y="861696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9513720" y="8616960"/>
              <a:ext cx="97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9513720" y="7639200"/>
              <a:ext cx="9720" cy="938160"/>
            </a:xfrm>
            <a:custGeom>
              <a:avLst/>
              <a:gdLst/>
              <a:ahLst/>
              <a:rect l="l" t="t" r="r" b="b"/>
              <a:pathLst>
                <a:path w="6" h="591">
                  <a:moveTo>
                    <a:pt x="0" y="6"/>
                  </a:moveTo>
                  <a:lnTo>
                    <a:pt x="0" y="591"/>
                  </a:lnTo>
                  <a:lnTo>
                    <a:pt x="6" y="59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9523440" y="7639200"/>
              <a:ext cx="11160" cy="9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9523440" y="860760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9534600" y="860760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8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9534600" y="7628040"/>
              <a:ext cx="9360" cy="949320"/>
            </a:xfrm>
            <a:custGeom>
              <a:avLst/>
              <a:gdLst/>
              <a:ahLst/>
              <a:rect l="l" t="t" r="r" b="b"/>
              <a:pathLst>
                <a:path w="6" h="598">
                  <a:moveTo>
                    <a:pt x="0" y="7"/>
                  </a:moveTo>
                  <a:lnTo>
                    <a:pt x="0" y="598"/>
                  </a:lnTo>
                  <a:lnTo>
                    <a:pt x="6" y="598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9543960" y="7628040"/>
              <a:ext cx="11160" cy="958680"/>
            </a:xfrm>
            <a:custGeom>
              <a:avLst/>
              <a:gdLst/>
              <a:ahLst/>
              <a:rect l="l" t="t" r="r" b="b"/>
              <a:pathLst>
                <a:path w="7" h="604">
                  <a:moveTo>
                    <a:pt x="0" y="0"/>
                  </a:moveTo>
                  <a:lnTo>
                    <a:pt x="0" y="598"/>
                  </a:lnTo>
                  <a:lnTo>
                    <a:pt x="7" y="60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9543960" y="86169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12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9555120" y="858672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19"/>
                  </a:moveTo>
                  <a:lnTo>
                    <a:pt x="0" y="38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9555120" y="7628040"/>
              <a:ext cx="9720" cy="9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9564840" y="7628040"/>
              <a:ext cx="9360" cy="1019160"/>
            </a:xfrm>
            <a:custGeom>
              <a:avLst/>
              <a:gdLst/>
              <a:ahLst/>
              <a:rect l="l" t="t" r="r" b="b"/>
              <a:pathLst>
                <a:path w="6" h="642">
                  <a:moveTo>
                    <a:pt x="0" y="0"/>
                  </a:moveTo>
                  <a:lnTo>
                    <a:pt x="0" y="642"/>
                  </a:lnTo>
                  <a:lnTo>
                    <a:pt x="6" y="63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9574200" y="7628040"/>
              <a:ext cx="11160" cy="1008000"/>
            </a:xfrm>
            <a:custGeom>
              <a:avLst/>
              <a:gdLst/>
              <a:ahLst/>
              <a:rect l="l" t="t" r="r" b="b"/>
              <a:pathLst>
                <a:path w="7" h="635">
                  <a:moveTo>
                    <a:pt x="0" y="0"/>
                  </a:moveTo>
                  <a:lnTo>
                    <a:pt x="0" y="635"/>
                  </a:lnTo>
                  <a:lnTo>
                    <a:pt x="7" y="62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9585360" y="7628040"/>
              <a:ext cx="936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9594720" y="7618320"/>
              <a:ext cx="9720" cy="102888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6"/>
                  </a:moveTo>
                  <a:lnTo>
                    <a:pt x="0" y="641"/>
                  </a:lnTo>
                  <a:lnTo>
                    <a:pt x="6" y="64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9604440" y="7618320"/>
              <a:ext cx="1116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9615600" y="7608960"/>
              <a:ext cx="936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6"/>
                  </a:moveTo>
                  <a:lnTo>
                    <a:pt x="0" y="647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9624960" y="7608960"/>
              <a:ext cx="972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9634680" y="7599240"/>
              <a:ext cx="10800" cy="1047960"/>
            </a:xfrm>
            <a:custGeom>
              <a:avLst/>
              <a:gdLst/>
              <a:ahLst/>
              <a:rect l="l" t="t" r="r" b="b"/>
              <a:pathLst>
                <a:path w="7" h="660">
                  <a:moveTo>
                    <a:pt x="0" y="6"/>
                  </a:moveTo>
                  <a:lnTo>
                    <a:pt x="0" y="660"/>
                  </a:lnTo>
                  <a:lnTo>
                    <a:pt x="7" y="65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9645480" y="7589880"/>
              <a:ext cx="9720" cy="1036440"/>
            </a:xfrm>
            <a:custGeom>
              <a:avLst/>
              <a:gdLst/>
              <a:ahLst/>
              <a:rect l="l" t="t" r="r" b="b"/>
              <a:pathLst>
                <a:path w="6" h="653">
                  <a:moveTo>
                    <a:pt x="0" y="6"/>
                  </a:moveTo>
                  <a:lnTo>
                    <a:pt x="0" y="653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9655200" y="7578720"/>
              <a:ext cx="9360" cy="1038240"/>
            </a:xfrm>
            <a:custGeom>
              <a:avLst/>
              <a:gdLst/>
              <a:ahLst/>
              <a:rect l="l" t="t" r="r" b="b"/>
              <a:pathLst>
                <a:path w="6" h="654">
                  <a:moveTo>
                    <a:pt x="0" y="7"/>
                  </a:moveTo>
                  <a:lnTo>
                    <a:pt x="0" y="654"/>
                  </a:lnTo>
                  <a:lnTo>
                    <a:pt x="6" y="65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9664560" y="7569360"/>
              <a:ext cx="11160" cy="1027080"/>
            </a:xfrm>
            <a:custGeom>
              <a:avLst/>
              <a:gdLst/>
              <a:ahLst/>
              <a:rect l="l" t="t" r="r" b="b"/>
              <a:pathLst>
                <a:path w="7" h="647">
                  <a:moveTo>
                    <a:pt x="0" y="6"/>
                  </a:moveTo>
                  <a:lnTo>
                    <a:pt x="0" y="647"/>
                  </a:lnTo>
                  <a:lnTo>
                    <a:pt x="7" y="64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9675720" y="7569360"/>
              <a:ext cx="972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0"/>
                  </a:moveTo>
                  <a:lnTo>
                    <a:pt x="0" y="641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9675720" y="8596440"/>
              <a:ext cx="972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9685440" y="7550280"/>
              <a:ext cx="11160" cy="1076040"/>
            </a:xfrm>
            <a:custGeom>
              <a:avLst/>
              <a:gdLst/>
              <a:ahLst/>
              <a:rect l="l" t="t" r="r" b="b"/>
              <a:pathLst>
                <a:path w="7" h="678">
                  <a:moveTo>
                    <a:pt x="0" y="12"/>
                  </a:moveTo>
                  <a:lnTo>
                    <a:pt x="0" y="678"/>
                  </a:lnTo>
                  <a:lnTo>
                    <a:pt x="7" y="672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9696600" y="7539120"/>
              <a:ext cx="9360" cy="1077840"/>
            </a:xfrm>
            <a:custGeom>
              <a:avLst/>
              <a:gdLst/>
              <a:ahLst/>
              <a:rect l="l" t="t" r="r" b="b"/>
              <a:pathLst>
                <a:path w="6" h="679">
                  <a:moveTo>
                    <a:pt x="0" y="7"/>
                  </a:moveTo>
                  <a:lnTo>
                    <a:pt x="0" y="679"/>
                  </a:lnTo>
                  <a:lnTo>
                    <a:pt x="6" y="67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9705960" y="7529400"/>
              <a:ext cx="9720" cy="1067040"/>
            </a:xfrm>
            <a:custGeom>
              <a:avLst/>
              <a:gdLst/>
              <a:ahLst/>
              <a:rect l="l" t="t" r="r" b="b"/>
              <a:pathLst>
                <a:path w="6" h="672">
                  <a:moveTo>
                    <a:pt x="0" y="6"/>
                  </a:moveTo>
                  <a:lnTo>
                    <a:pt x="0" y="672"/>
                  </a:lnTo>
                  <a:lnTo>
                    <a:pt x="6" y="67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9715680" y="7529400"/>
              <a:ext cx="10800" cy="1078200"/>
            </a:xfrm>
            <a:custGeom>
              <a:avLst/>
              <a:gdLst/>
              <a:ahLst/>
              <a:rect l="l" t="t" r="r" b="b"/>
              <a:pathLst>
                <a:path w="7" h="679">
                  <a:moveTo>
                    <a:pt x="0" y="0"/>
                  </a:moveTo>
                  <a:lnTo>
                    <a:pt x="0" y="672"/>
                  </a:lnTo>
                  <a:lnTo>
                    <a:pt x="7" y="67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9726480" y="7529400"/>
              <a:ext cx="9720" cy="1078200"/>
            </a:xfrm>
            <a:custGeom>
              <a:avLst/>
              <a:gdLst/>
              <a:ahLst/>
              <a:rect l="l" t="t" r="r" b="b"/>
              <a:pathLst>
                <a:path w="6" h="679">
                  <a:moveTo>
                    <a:pt x="0" y="0"/>
                  </a:moveTo>
                  <a:lnTo>
                    <a:pt x="0" y="679"/>
                  </a:lnTo>
                  <a:lnTo>
                    <a:pt x="6" y="67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9736200" y="7529400"/>
              <a:ext cx="9360" cy="1078200"/>
            </a:xfrm>
            <a:custGeom>
              <a:avLst/>
              <a:gdLst/>
              <a:ahLst/>
              <a:rect l="l" t="t" r="r" b="b"/>
              <a:pathLst>
                <a:path w="6" h="679">
                  <a:moveTo>
                    <a:pt x="0" y="0"/>
                  </a:moveTo>
                  <a:lnTo>
                    <a:pt x="0" y="672"/>
                  </a:lnTo>
                  <a:lnTo>
                    <a:pt x="6" y="67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9745560" y="7529400"/>
              <a:ext cx="11160" cy="1078200"/>
            </a:xfrm>
            <a:custGeom>
              <a:avLst/>
              <a:gdLst/>
              <a:ahLst/>
              <a:rect l="l" t="t" r="r" b="b"/>
              <a:pathLst>
                <a:path w="7" h="679">
                  <a:moveTo>
                    <a:pt x="0" y="0"/>
                  </a:moveTo>
                  <a:lnTo>
                    <a:pt x="0" y="679"/>
                  </a:lnTo>
                  <a:lnTo>
                    <a:pt x="7" y="66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9756720" y="7529400"/>
              <a:ext cx="9720" cy="1067040"/>
            </a:xfrm>
            <a:custGeom>
              <a:avLst/>
              <a:gdLst/>
              <a:ahLst/>
              <a:rect l="l" t="t" r="r" b="b"/>
              <a:pathLst>
                <a:path w="6" h="672">
                  <a:moveTo>
                    <a:pt x="0" y="0"/>
                  </a:moveTo>
                  <a:lnTo>
                    <a:pt x="0" y="666"/>
                  </a:lnTo>
                  <a:lnTo>
                    <a:pt x="6" y="67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9766440" y="7529400"/>
              <a:ext cx="936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9775800" y="7529400"/>
              <a:ext cx="1116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9786960" y="7520040"/>
              <a:ext cx="9360" cy="1076400"/>
            </a:xfrm>
            <a:custGeom>
              <a:avLst/>
              <a:gdLst/>
              <a:ahLst/>
              <a:rect l="l" t="t" r="r" b="b"/>
              <a:pathLst>
                <a:path w="6" h="678">
                  <a:moveTo>
                    <a:pt x="0" y="6"/>
                  </a:moveTo>
                  <a:lnTo>
                    <a:pt x="0" y="678"/>
                  </a:lnTo>
                  <a:lnTo>
                    <a:pt x="6" y="6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796320" y="7520040"/>
              <a:ext cx="9720" cy="1096920"/>
            </a:xfrm>
            <a:custGeom>
              <a:avLst/>
              <a:gdLst/>
              <a:ahLst/>
              <a:rect l="l" t="t" r="r" b="b"/>
              <a:pathLst>
                <a:path w="6" h="691">
                  <a:moveTo>
                    <a:pt x="0" y="0"/>
                  </a:moveTo>
                  <a:lnTo>
                    <a:pt x="0" y="685"/>
                  </a:lnTo>
                  <a:lnTo>
                    <a:pt x="6" y="69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9806040" y="7520040"/>
              <a:ext cx="11160" cy="10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9817200" y="7510320"/>
              <a:ext cx="9360" cy="104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9817200" y="6956280"/>
            <a:ext cx="1795320" cy="2075040"/>
            <a:chOff x="9817200" y="6956280"/>
            <a:chExt cx="1795320" cy="2075040"/>
          </a:xfrm>
        </p:grpSpPr>
        <p:sp>
          <p:nvSpPr>
            <p:cNvPr id="1650" name=""/>
            <p:cNvSpPr/>
            <p:nvPr/>
          </p:nvSpPr>
          <p:spPr>
            <a:xfrm>
              <a:off x="9817200" y="858672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9826560" y="7500960"/>
              <a:ext cx="11160" cy="1057320"/>
            </a:xfrm>
            <a:custGeom>
              <a:avLst/>
              <a:gdLst/>
              <a:ahLst/>
              <a:rect l="l" t="t" r="r" b="b"/>
              <a:pathLst>
                <a:path w="7" h="666">
                  <a:moveTo>
                    <a:pt x="0" y="6"/>
                  </a:moveTo>
                  <a:lnTo>
                    <a:pt x="0" y="666"/>
                  </a:lnTo>
                  <a:lnTo>
                    <a:pt x="7" y="66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9837720" y="7489800"/>
              <a:ext cx="9720" cy="1068480"/>
            </a:xfrm>
            <a:custGeom>
              <a:avLst/>
              <a:gdLst/>
              <a:ahLst/>
              <a:rect l="l" t="t" r="r" b="b"/>
              <a:pathLst>
                <a:path w="6" h="673">
                  <a:moveTo>
                    <a:pt x="0" y="7"/>
                  </a:moveTo>
                  <a:lnTo>
                    <a:pt x="0" y="673"/>
                  </a:lnTo>
                  <a:lnTo>
                    <a:pt x="6" y="67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9847440" y="7489800"/>
              <a:ext cx="9360" cy="10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9856800" y="7489800"/>
              <a:ext cx="11160" cy="10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867960" y="7489800"/>
              <a:ext cx="9360" cy="10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9877320" y="862632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6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9877320" y="7489800"/>
              <a:ext cx="9720" cy="10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9887040" y="7489800"/>
              <a:ext cx="11160" cy="1087560"/>
            </a:xfrm>
            <a:custGeom>
              <a:avLst/>
              <a:gdLst/>
              <a:ahLst/>
              <a:rect l="l" t="t" r="r" b="b"/>
              <a:pathLst>
                <a:path w="7" h="685">
                  <a:moveTo>
                    <a:pt x="0" y="0"/>
                  </a:moveTo>
                  <a:lnTo>
                    <a:pt x="0" y="679"/>
                  </a:lnTo>
                  <a:lnTo>
                    <a:pt x="7" y="68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9887040" y="860760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12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9898200" y="7489800"/>
              <a:ext cx="9360" cy="1096920"/>
            </a:xfrm>
            <a:custGeom>
              <a:avLst/>
              <a:gdLst/>
              <a:ahLst/>
              <a:rect l="l" t="t" r="r" b="b"/>
              <a:pathLst>
                <a:path w="6" h="691">
                  <a:moveTo>
                    <a:pt x="0" y="0"/>
                  </a:moveTo>
                  <a:lnTo>
                    <a:pt x="0" y="685"/>
                  </a:lnTo>
                  <a:lnTo>
                    <a:pt x="6" y="69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9898200" y="8596440"/>
              <a:ext cx="9360" cy="50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7"/>
                  </a:moveTo>
                  <a:lnTo>
                    <a:pt x="0" y="3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9907560" y="7489800"/>
              <a:ext cx="9720" cy="1136520"/>
            </a:xfrm>
            <a:custGeom>
              <a:avLst/>
              <a:gdLst/>
              <a:ahLst/>
              <a:rect l="l" t="t" r="r" b="b"/>
              <a:pathLst>
                <a:path w="6" h="716">
                  <a:moveTo>
                    <a:pt x="0" y="0"/>
                  </a:moveTo>
                  <a:lnTo>
                    <a:pt x="0" y="716"/>
                  </a:lnTo>
                  <a:lnTo>
                    <a:pt x="6" y="70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9917280" y="8586720"/>
              <a:ext cx="108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9917280" y="7489800"/>
              <a:ext cx="20520" cy="1087560"/>
            </a:xfrm>
            <a:custGeom>
              <a:avLst/>
              <a:gdLst/>
              <a:ahLst/>
              <a:rect l="l" t="t" r="r" b="b"/>
              <a:pathLst>
                <a:path w="13" h="685">
                  <a:moveTo>
                    <a:pt x="0" y="0"/>
                  </a:moveTo>
                  <a:lnTo>
                    <a:pt x="0" y="685"/>
                  </a:lnTo>
                  <a:lnTo>
                    <a:pt x="13" y="679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9937800" y="7489800"/>
              <a:ext cx="9360" cy="10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9947160" y="7489800"/>
              <a:ext cx="11160" cy="1106640"/>
            </a:xfrm>
            <a:custGeom>
              <a:avLst/>
              <a:gdLst/>
              <a:ahLst/>
              <a:rect l="l" t="t" r="r" b="b"/>
              <a:pathLst>
                <a:path w="7" h="697">
                  <a:moveTo>
                    <a:pt x="0" y="0"/>
                  </a:moveTo>
                  <a:lnTo>
                    <a:pt x="0" y="691"/>
                  </a:lnTo>
                  <a:lnTo>
                    <a:pt x="7" y="69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9958320" y="7489800"/>
              <a:ext cx="972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9968040" y="7489800"/>
              <a:ext cx="936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9977400" y="7489800"/>
              <a:ext cx="1116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9988560" y="7489800"/>
              <a:ext cx="9360" cy="10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9997920" y="7489800"/>
              <a:ext cx="11160" cy="1106640"/>
            </a:xfrm>
            <a:custGeom>
              <a:avLst/>
              <a:gdLst/>
              <a:ahLst/>
              <a:rect l="l" t="t" r="r" b="b"/>
              <a:pathLst>
                <a:path w="7" h="697">
                  <a:moveTo>
                    <a:pt x="0" y="0"/>
                  </a:moveTo>
                  <a:lnTo>
                    <a:pt x="0" y="691"/>
                  </a:lnTo>
                  <a:lnTo>
                    <a:pt x="7" y="69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0009080" y="7489800"/>
              <a:ext cx="972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0018800" y="7489800"/>
              <a:ext cx="9360" cy="1117800"/>
            </a:xfrm>
            <a:custGeom>
              <a:avLst/>
              <a:gdLst/>
              <a:ahLst/>
              <a:rect l="l" t="t" r="r" b="b"/>
              <a:pathLst>
                <a:path w="6" h="704">
                  <a:moveTo>
                    <a:pt x="0" y="0"/>
                  </a:moveTo>
                  <a:lnTo>
                    <a:pt x="0" y="697"/>
                  </a:lnTo>
                  <a:lnTo>
                    <a:pt x="6" y="70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0028160" y="7489800"/>
              <a:ext cx="11160" cy="1117800"/>
            </a:xfrm>
            <a:custGeom>
              <a:avLst/>
              <a:gdLst/>
              <a:ahLst/>
              <a:rect l="l" t="t" r="r" b="b"/>
              <a:pathLst>
                <a:path w="7" h="704">
                  <a:moveTo>
                    <a:pt x="0" y="0"/>
                  </a:moveTo>
                  <a:lnTo>
                    <a:pt x="0" y="704"/>
                  </a:lnTo>
                  <a:lnTo>
                    <a:pt x="7" y="69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0039320" y="7500960"/>
              <a:ext cx="9720" cy="10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0049040" y="7500960"/>
              <a:ext cx="9360" cy="1106640"/>
            </a:xfrm>
            <a:custGeom>
              <a:avLst/>
              <a:gdLst/>
              <a:ahLst/>
              <a:rect l="l" t="t" r="r" b="b"/>
              <a:pathLst>
                <a:path w="6" h="697">
                  <a:moveTo>
                    <a:pt x="0" y="0"/>
                  </a:moveTo>
                  <a:lnTo>
                    <a:pt x="0" y="690"/>
                  </a:lnTo>
                  <a:lnTo>
                    <a:pt x="6" y="69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0058400" y="7510320"/>
              <a:ext cx="1116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0069560" y="7510320"/>
              <a:ext cx="9360" cy="1097280"/>
            </a:xfrm>
            <a:custGeom>
              <a:avLst/>
              <a:gdLst/>
              <a:ahLst/>
              <a:rect l="l" t="t" r="r" b="b"/>
              <a:pathLst>
                <a:path w="6" h="691">
                  <a:moveTo>
                    <a:pt x="0" y="0"/>
                  </a:moveTo>
                  <a:lnTo>
                    <a:pt x="0" y="691"/>
                  </a:lnTo>
                  <a:lnTo>
                    <a:pt x="6" y="69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0078920" y="7520040"/>
              <a:ext cx="9720" cy="1087560"/>
            </a:xfrm>
            <a:custGeom>
              <a:avLst/>
              <a:gdLst/>
              <a:ahLst/>
              <a:rect l="l" t="t" r="r" b="b"/>
              <a:pathLst>
                <a:path w="6" h="685">
                  <a:moveTo>
                    <a:pt x="0" y="0"/>
                  </a:moveTo>
                  <a:lnTo>
                    <a:pt x="0" y="685"/>
                  </a:lnTo>
                  <a:lnTo>
                    <a:pt x="6" y="68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0078920" y="86169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088640" y="7529400"/>
              <a:ext cx="11160" cy="1117800"/>
            </a:xfrm>
            <a:custGeom>
              <a:avLst/>
              <a:gdLst/>
              <a:ahLst/>
              <a:rect l="l" t="t" r="r" b="b"/>
              <a:pathLst>
                <a:path w="7" h="704">
                  <a:moveTo>
                    <a:pt x="0" y="0"/>
                  </a:moveTo>
                  <a:lnTo>
                    <a:pt x="0" y="691"/>
                  </a:lnTo>
                  <a:lnTo>
                    <a:pt x="7" y="70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0099800" y="7529400"/>
              <a:ext cx="9360" cy="11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0109160" y="7529400"/>
              <a:ext cx="9720" cy="11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0118880" y="7529400"/>
              <a:ext cx="10800" cy="1136880"/>
            </a:xfrm>
            <a:custGeom>
              <a:avLst/>
              <a:gdLst/>
              <a:ahLst/>
              <a:rect l="l" t="t" r="r" b="b"/>
              <a:pathLst>
                <a:path w="7" h="716">
                  <a:moveTo>
                    <a:pt x="0" y="0"/>
                  </a:moveTo>
                  <a:lnTo>
                    <a:pt x="0" y="710"/>
                  </a:lnTo>
                  <a:lnTo>
                    <a:pt x="7" y="71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0129680" y="7529400"/>
              <a:ext cx="9720" cy="113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0129680" y="86756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0139400" y="865656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12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0139400" y="7520040"/>
              <a:ext cx="11160" cy="1146240"/>
            </a:xfrm>
            <a:custGeom>
              <a:avLst/>
              <a:gdLst/>
              <a:ahLst/>
              <a:rect l="l" t="t" r="r" b="b"/>
              <a:pathLst>
                <a:path w="7" h="722">
                  <a:moveTo>
                    <a:pt x="0" y="6"/>
                  </a:moveTo>
                  <a:lnTo>
                    <a:pt x="0" y="722"/>
                  </a:lnTo>
                  <a:lnTo>
                    <a:pt x="7" y="71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0150560" y="7520040"/>
              <a:ext cx="9360" cy="11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0159920" y="7510320"/>
              <a:ext cx="9720" cy="1214640"/>
            </a:xfrm>
            <a:custGeom>
              <a:avLst/>
              <a:gdLst/>
              <a:ahLst/>
              <a:rect l="l" t="t" r="r" b="b"/>
              <a:pathLst>
                <a:path w="6" h="765">
                  <a:moveTo>
                    <a:pt x="0" y="6"/>
                  </a:moveTo>
                  <a:lnTo>
                    <a:pt x="0" y="765"/>
                  </a:lnTo>
                  <a:lnTo>
                    <a:pt x="6" y="76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0169640" y="7500960"/>
              <a:ext cx="11160" cy="1224000"/>
            </a:xfrm>
            <a:custGeom>
              <a:avLst/>
              <a:gdLst/>
              <a:ahLst/>
              <a:rect l="l" t="t" r="r" b="b"/>
              <a:pathLst>
                <a:path w="7" h="771">
                  <a:moveTo>
                    <a:pt x="0" y="6"/>
                  </a:moveTo>
                  <a:lnTo>
                    <a:pt x="0" y="771"/>
                  </a:lnTo>
                  <a:lnTo>
                    <a:pt x="7" y="77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0180800" y="7500960"/>
              <a:ext cx="9360" cy="1224000"/>
            </a:xfrm>
            <a:custGeom>
              <a:avLst/>
              <a:gdLst/>
              <a:ahLst/>
              <a:rect l="l" t="t" r="r" b="b"/>
              <a:pathLst>
                <a:path w="6" h="771">
                  <a:moveTo>
                    <a:pt x="0" y="0"/>
                  </a:moveTo>
                  <a:lnTo>
                    <a:pt x="0" y="771"/>
                  </a:lnTo>
                  <a:lnTo>
                    <a:pt x="6" y="76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0190160" y="7480440"/>
              <a:ext cx="9360" cy="1234800"/>
            </a:xfrm>
            <a:custGeom>
              <a:avLst/>
              <a:gdLst/>
              <a:ahLst/>
              <a:rect l="l" t="t" r="r" b="b"/>
              <a:pathLst>
                <a:path w="6" h="778">
                  <a:moveTo>
                    <a:pt x="0" y="13"/>
                  </a:moveTo>
                  <a:lnTo>
                    <a:pt x="0" y="778"/>
                  </a:lnTo>
                  <a:lnTo>
                    <a:pt x="6" y="778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0199520" y="7470720"/>
              <a:ext cx="11160" cy="1284480"/>
            </a:xfrm>
            <a:custGeom>
              <a:avLst/>
              <a:gdLst/>
              <a:ahLst/>
              <a:rect l="l" t="t" r="r" b="b"/>
              <a:pathLst>
                <a:path w="7" h="809">
                  <a:moveTo>
                    <a:pt x="0" y="6"/>
                  </a:moveTo>
                  <a:lnTo>
                    <a:pt x="0" y="809"/>
                  </a:lnTo>
                  <a:lnTo>
                    <a:pt x="7" y="80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0210680" y="7450200"/>
              <a:ext cx="19080" cy="1314360"/>
            </a:xfrm>
            <a:custGeom>
              <a:avLst/>
              <a:gdLst/>
              <a:ahLst/>
              <a:rect l="l" t="t" r="r" b="b"/>
              <a:pathLst>
                <a:path w="12" h="828">
                  <a:moveTo>
                    <a:pt x="0" y="13"/>
                  </a:moveTo>
                  <a:lnTo>
                    <a:pt x="0" y="828"/>
                  </a:lnTo>
                  <a:lnTo>
                    <a:pt x="12" y="828"/>
                  </a:lnTo>
                  <a:lnTo>
                    <a:pt x="1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0229760" y="7431120"/>
              <a:ext cx="11160" cy="1333440"/>
            </a:xfrm>
            <a:custGeom>
              <a:avLst/>
              <a:gdLst/>
              <a:ahLst/>
              <a:rect l="l" t="t" r="r" b="b"/>
              <a:pathLst>
                <a:path w="7" h="840">
                  <a:moveTo>
                    <a:pt x="0" y="12"/>
                  </a:moveTo>
                  <a:lnTo>
                    <a:pt x="0" y="840"/>
                  </a:lnTo>
                  <a:lnTo>
                    <a:pt x="7" y="840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0240920" y="7400880"/>
              <a:ext cx="9720" cy="1373400"/>
            </a:xfrm>
            <a:custGeom>
              <a:avLst/>
              <a:gdLst/>
              <a:ahLst/>
              <a:rect l="l" t="t" r="r" b="b"/>
              <a:pathLst>
                <a:path w="6" h="865">
                  <a:moveTo>
                    <a:pt x="0" y="19"/>
                  </a:moveTo>
                  <a:lnTo>
                    <a:pt x="0" y="859"/>
                  </a:lnTo>
                  <a:lnTo>
                    <a:pt x="6" y="865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0250640" y="7381800"/>
              <a:ext cx="9360" cy="1392480"/>
            </a:xfrm>
            <a:custGeom>
              <a:avLst/>
              <a:gdLst/>
              <a:ahLst/>
              <a:rect l="l" t="t" r="r" b="b"/>
              <a:pathLst>
                <a:path w="6" h="877">
                  <a:moveTo>
                    <a:pt x="0" y="12"/>
                  </a:moveTo>
                  <a:lnTo>
                    <a:pt x="0" y="877"/>
                  </a:lnTo>
                  <a:lnTo>
                    <a:pt x="6" y="877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0260000" y="7342200"/>
              <a:ext cx="11160" cy="1403280"/>
            </a:xfrm>
            <a:custGeom>
              <a:avLst/>
              <a:gdLst/>
              <a:ahLst/>
              <a:rect l="l" t="t" r="r" b="b"/>
              <a:pathLst>
                <a:path w="7" h="884">
                  <a:moveTo>
                    <a:pt x="0" y="25"/>
                  </a:moveTo>
                  <a:lnTo>
                    <a:pt x="0" y="884"/>
                  </a:lnTo>
                  <a:lnTo>
                    <a:pt x="7" y="884"/>
                  </a:lnTo>
                  <a:lnTo>
                    <a:pt x="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0260000" y="875520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271160" y="7311960"/>
              <a:ext cx="9360" cy="1443240"/>
            </a:xfrm>
            <a:custGeom>
              <a:avLst/>
              <a:gdLst/>
              <a:ahLst/>
              <a:rect l="l" t="t" r="r" b="b"/>
              <a:pathLst>
                <a:path w="6" h="909">
                  <a:moveTo>
                    <a:pt x="0" y="19"/>
                  </a:moveTo>
                  <a:lnTo>
                    <a:pt x="0" y="909"/>
                  </a:lnTo>
                  <a:lnTo>
                    <a:pt x="6" y="909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0280520" y="7232760"/>
              <a:ext cx="11160" cy="1541520"/>
            </a:xfrm>
            <a:custGeom>
              <a:avLst/>
              <a:gdLst/>
              <a:ahLst/>
              <a:rect l="l" t="t" r="r" b="b"/>
              <a:pathLst>
                <a:path w="7" h="971">
                  <a:moveTo>
                    <a:pt x="0" y="25"/>
                  </a:moveTo>
                  <a:lnTo>
                    <a:pt x="0" y="965"/>
                  </a:lnTo>
                  <a:lnTo>
                    <a:pt x="7" y="971"/>
                  </a:lnTo>
                  <a:lnTo>
                    <a:pt x="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0291680" y="7223040"/>
              <a:ext cx="9720" cy="1562040"/>
            </a:xfrm>
            <a:custGeom>
              <a:avLst/>
              <a:gdLst/>
              <a:ahLst/>
              <a:rect l="l" t="t" r="r" b="b"/>
              <a:pathLst>
                <a:path w="6" h="984">
                  <a:moveTo>
                    <a:pt x="0" y="6"/>
                  </a:moveTo>
                  <a:lnTo>
                    <a:pt x="0" y="977"/>
                  </a:lnTo>
                  <a:lnTo>
                    <a:pt x="6" y="98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0301400" y="7194600"/>
              <a:ext cx="9360" cy="1590480"/>
            </a:xfrm>
            <a:custGeom>
              <a:avLst/>
              <a:gdLst/>
              <a:ahLst/>
              <a:rect l="l" t="t" r="r" b="b"/>
              <a:pathLst>
                <a:path w="6" h="1002">
                  <a:moveTo>
                    <a:pt x="0" y="6"/>
                  </a:moveTo>
                  <a:lnTo>
                    <a:pt x="0" y="1002"/>
                  </a:lnTo>
                  <a:lnTo>
                    <a:pt x="6" y="100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0310760" y="7164360"/>
              <a:ext cx="11160" cy="1660680"/>
            </a:xfrm>
            <a:custGeom>
              <a:avLst/>
              <a:gdLst/>
              <a:ahLst/>
              <a:rect l="l" t="t" r="r" b="b"/>
              <a:pathLst>
                <a:path w="7" h="1046">
                  <a:moveTo>
                    <a:pt x="0" y="0"/>
                  </a:moveTo>
                  <a:lnTo>
                    <a:pt x="0" y="1046"/>
                  </a:lnTo>
                  <a:lnTo>
                    <a:pt x="7" y="104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0321920" y="7174080"/>
              <a:ext cx="9360" cy="16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0331280" y="8853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0331280" y="7174080"/>
              <a:ext cx="972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0"/>
                  </a:moveTo>
                  <a:lnTo>
                    <a:pt x="0" y="1040"/>
                  </a:lnTo>
                  <a:lnTo>
                    <a:pt x="6" y="104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0341000" y="7183440"/>
              <a:ext cx="11160" cy="164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0341000" y="884412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0352160" y="7183440"/>
              <a:ext cx="936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0"/>
                  </a:moveTo>
                  <a:lnTo>
                    <a:pt x="0" y="1034"/>
                  </a:lnTo>
                  <a:lnTo>
                    <a:pt x="6" y="104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0352160" y="883440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0361520" y="7311960"/>
              <a:ext cx="9720" cy="1562040"/>
            </a:xfrm>
            <a:custGeom>
              <a:avLst/>
              <a:gdLst/>
              <a:ahLst/>
              <a:rect l="l" t="t" r="r" b="b"/>
              <a:pathLst>
                <a:path w="6" h="984">
                  <a:moveTo>
                    <a:pt x="0" y="0"/>
                  </a:moveTo>
                  <a:lnTo>
                    <a:pt x="0" y="984"/>
                  </a:lnTo>
                  <a:lnTo>
                    <a:pt x="6" y="97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0371240" y="7351560"/>
              <a:ext cx="11160" cy="1513080"/>
            </a:xfrm>
            <a:custGeom>
              <a:avLst/>
              <a:gdLst/>
              <a:ahLst/>
              <a:rect l="l" t="t" r="r" b="b"/>
              <a:pathLst>
                <a:path w="7" h="953">
                  <a:moveTo>
                    <a:pt x="0" y="0"/>
                  </a:moveTo>
                  <a:lnTo>
                    <a:pt x="0" y="946"/>
                  </a:lnTo>
                  <a:lnTo>
                    <a:pt x="7" y="953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0382400" y="7381800"/>
              <a:ext cx="9360" cy="1482840"/>
            </a:xfrm>
            <a:custGeom>
              <a:avLst/>
              <a:gdLst/>
              <a:ahLst/>
              <a:rect l="l" t="t" r="r" b="b"/>
              <a:pathLst>
                <a:path w="6" h="934">
                  <a:moveTo>
                    <a:pt x="0" y="0"/>
                  </a:moveTo>
                  <a:lnTo>
                    <a:pt x="0" y="934"/>
                  </a:lnTo>
                  <a:lnTo>
                    <a:pt x="6" y="93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0391760" y="7400880"/>
              <a:ext cx="9720" cy="1463760"/>
            </a:xfrm>
            <a:custGeom>
              <a:avLst/>
              <a:gdLst/>
              <a:ahLst/>
              <a:rect l="l" t="t" r="r" b="b"/>
              <a:pathLst>
                <a:path w="6" h="922">
                  <a:moveTo>
                    <a:pt x="0" y="0"/>
                  </a:moveTo>
                  <a:lnTo>
                    <a:pt x="0" y="922"/>
                  </a:lnTo>
                  <a:lnTo>
                    <a:pt x="6" y="92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0401480" y="7410600"/>
              <a:ext cx="10800" cy="1463400"/>
            </a:xfrm>
            <a:custGeom>
              <a:avLst/>
              <a:gdLst/>
              <a:ahLst/>
              <a:rect l="l" t="t" r="r" b="b"/>
              <a:pathLst>
                <a:path w="7" h="922">
                  <a:moveTo>
                    <a:pt x="0" y="0"/>
                  </a:moveTo>
                  <a:lnTo>
                    <a:pt x="0" y="922"/>
                  </a:lnTo>
                  <a:lnTo>
                    <a:pt x="7" y="922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0412280" y="7431120"/>
              <a:ext cx="9720" cy="1461960"/>
            </a:xfrm>
            <a:custGeom>
              <a:avLst/>
              <a:gdLst/>
              <a:ahLst/>
              <a:rect l="l" t="t" r="r" b="b"/>
              <a:pathLst>
                <a:path w="6" h="921">
                  <a:moveTo>
                    <a:pt x="0" y="0"/>
                  </a:moveTo>
                  <a:lnTo>
                    <a:pt x="0" y="915"/>
                  </a:lnTo>
                  <a:lnTo>
                    <a:pt x="6" y="92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422000" y="7431120"/>
              <a:ext cx="9360" cy="1471680"/>
            </a:xfrm>
            <a:custGeom>
              <a:avLst/>
              <a:gdLst/>
              <a:ahLst/>
              <a:rect l="l" t="t" r="r" b="b"/>
              <a:pathLst>
                <a:path w="6" h="927">
                  <a:moveTo>
                    <a:pt x="0" y="0"/>
                  </a:moveTo>
                  <a:lnTo>
                    <a:pt x="0" y="921"/>
                  </a:lnTo>
                  <a:lnTo>
                    <a:pt x="6" y="92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422000" y="8913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431360" y="7431120"/>
              <a:ext cx="11160" cy="14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0431360" y="89139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442520" y="890280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0442520" y="7431120"/>
              <a:ext cx="9720" cy="14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0452240" y="7431120"/>
              <a:ext cx="10800" cy="14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0463040" y="7421400"/>
              <a:ext cx="9720" cy="1511640"/>
            </a:xfrm>
            <a:custGeom>
              <a:avLst/>
              <a:gdLst/>
              <a:ahLst/>
              <a:rect l="l" t="t" r="r" b="b"/>
              <a:pathLst>
                <a:path w="6" h="952">
                  <a:moveTo>
                    <a:pt x="0" y="6"/>
                  </a:moveTo>
                  <a:lnTo>
                    <a:pt x="0" y="946"/>
                  </a:lnTo>
                  <a:lnTo>
                    <a:pt x="6" y="95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0472760" y="7410600"/>
              <a:ext cx="9360" cy="1522440"/>
            </a:xfrm>
            <a:custGeom>
              <a:avLst/>
              <a:gdLst/>
              <a:ahLst/>
              <a:rect l="l" t="t" r="r" b="b"/>
              <a:pathLst>
                <a:path w="6" h="959">
                  <a:moveTo>
                    <a:pt x="0" y="7"/>
                  </a:moveTo>
                  <a:lnTo>
                    <a:pt x="0" y="959"/>
                  </a:lnTo>
                  <a:lnTo>
                    <a:pt x="6" y="95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0482120" y="7410600"/>
              <a:ext cx="1116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0493280" y="7391520"/>
              <a:ext cx="9720" cy="1571400"/>
            </a:xfrm>
            <a:custGeom>
              <a:avLst/>
              <a:gdLst/>
              <a:ahLst/>
              <a:rect l="l" t="t" r="r" b="b"/>
              <a:pathLst>
                <a:path w="6" h="990">
                  <a:moveTo>
                    <a:pt x="0" y="12"/>
                  </a:moveTo>
                  <a:lnTo>
                    <a:pt x="0" y="990"/>
                  </a:lnTo>
                  <a:lnTo>
                    <a:pt x="6" y="99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503000" y="7381800"/>
              <a:ext cx="9360" cy="158112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6"/>
                  </a:moveTo>
                  <a:lnTo>
                    <a:pt x="0" y="996"/>
                  </a:lnTo>
                  <a:lnTo>
                    <a:pt x="6" y="9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0512360" y="7361280"/>
              <a:ext cx="11160" cy="1601640"/>
            </a:xfrm>
            <a:custGeom>
              <a:avLst/>
              <a:gdLst/>
              <a:ahLst/>
              <a:rect l="l" t="t" r="r" b="b"/>
              <a:pathLst>
                <a:path w="7" h="1009">
                  <a:moveTo>
                    <a:pt x="0" y="13"/>
                  </a:moveTo>
                  <a:lnTo>
                    <a:pt x="0" y="1009"/>
                  </a:lnTo>
                  <a:lnTo>
                    <a:pt x="7" y="1009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0523520" y="7351560"/>
              <a:ext cx="9720" cy="158148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6"/>
                  </a:moveTo>
                  <a:lnTo>
                    <a:pt x="0" y="996"/>
                  </a:lnTo>
                  <a:lnTo>
                    <a:pt x="6" y="9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0533240" y="89629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0533240" y="7342200"/>
              <a:ext cx="9360" cy="161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0542600" y="7342200"/>
              <a:ext cx="11160" cy="16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0553760" y="7342200"/>
              <a:ext cx="9360" cy="1639800"/>
            </a:xfrm>
            <a:custGeom>
              <a:avLst/>
              <a:gdLst/>
              <a:ahLst/>
              <a:rect l="l" t="t" r="r" b="b"/>
              <a:pathLst>
                <a:path w="6" h="1033">
                  <a:moveTo>
                    <a:pt x="0" y="0"/>
                  </a:moveTo>
                  <a:lnTo>
                    <a:pt x="0" y="1033"/>
                  </a:lnTo>
                  <a:lnTo>
                    <a:pt x="6" y="102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0563120" y="7351560"/>
              <a:ext cx="9720" cy="163044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0"/>
                  </a:moveTo>
                  <a:lnTo>
                    <a:pt x="0" y="1021"/>
                  </a:lnTo>
                  <a:lnTo>
                    <a:pt x="6" y="102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0572840" y="7351560"/>
              <a:ext cx="11160" cy="1630440"/>
            </a:xfrm>
            <a:custGeom>
              <a:avLst/>
              <a:gdLst/>
              <a:ahLst/>
              <a:rect l="l" t="t" r="r" b="b"/>
              <a:pathLst>
                <a:path w="7" h="1027">
                  <a:moveTo>
                    <a:pt x="0" y="0"/>
                  </a:moveTo>
                  <a:lnTo>
                    <a:pt x="0" y="1027"/>
                  </a:lnTo>
                  <a:lnTo>
                    <a:pt x="7" y="102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0584000" y="7361280"/>
              <a:ext cx="936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0"/>
                  </a:moveTo>
                  <a:lnTo>
                    <a:pt x="0" y="1034"/>
                  </a:lnTo>
                  <a:lnTo>
                    <a:pt x="6" y="104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593360" y="7361280"/>
              <a:ext cx="11160" cy="164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0604520" y="7361280"/>
              <a:ext cx="9360" cy="16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604520" y="9012240"/>
              <a:ext cx="936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0613880" y="7361280"/>
              <a:ext cx="9720" cy="16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623600" y="7361280"/>
              <a:ext cx="11160" cy="16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0634760" y="7351560"/>
              <a:ext cx="9360" cy="1640160"/>
            </a:xfrm>
            <a:custGeom>
              <a:avLst/>
              <a:gdLst/>
              <a:ahLst/>
              <a:rect l="l" t="t" r="r" b="b"/>
              <a:pathLst>
                <a:path w="6" h="1033">
                  <a:moveTo>
                    <a:pt x="0" y="6"/>
                  </a:moveTo>
                  <a:lnTo>
                    <a:pt x="0" y="1027"/>
                  </a:lnTo>
                  <a:lnTo>
                    <a:pt x="6" y="103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0644120" y="7351560"/>
              <a:ext cx="972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46"/>
                  </a:lnTo>
                  <a:lnTo>
                    <a:pt x="6" y="105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0653840" y="7342200"/>
              <a:ext cx="11160" cy="1689120"/>
            </a:xfrm>
            <a:custGeom>
              <a:avLst/>
              <a:gdLst/>
              <a:ahLst/>
              <a:rect l="l" t="t" r="r" b="b"/>
              <a:pathLst>
                <a:path w="7" h="1064">
                  <a:moveTo>
                    <a:pt x="0" y="6"/>
                  </a:moveTo>
                  <a:lnTo>
                    <a:pt x="0" y="1064"/>
                  </a:lnTo>
                  <a:lnTo>
                    <a:pt x="7" y="106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665000" y="7332840"/>
              <a:ext cx="9360" cy="1698480"/>
            </a:xfrm>
            <a:custGeom>
              <a:avLst/>
              <a:gdLst/>
              <a:ahLst/>
              <a:rect l="l" t="t" r="r" b="b"/>
              <a:pathLst>
                <a:path w="6" h="1070">
                  <a:moveTo>
                    <a:pt x="0" y="6"/>
                  </a:moveTo>
                  <a:lnTo>
                    <a:pt x="0" y="1070"/>
                  </a:lnTo>
                  <a:lnTo>
                    <a:pt x="6" y="107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0674360" y="7321680"/>
              <a:ext cx="936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7"/>
                  </a:moveTo>
                  <a:lnTo>
                    <a:pt x="0" y="1077"/>
                  </a:lnTo>
                  <a:lnTo>
                    <a:pt x="6" y="107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0683720" y="9012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0683720" y="7311960"/>
              <a:ext cx="11160" cy="1700280"/>
            </a:xfrm>
            <a:custGeom>
              <a:avLst/>
              <a:gdLst/>
              <a:ahLst/>
              <a:rect l="l" t="t" r="r" b="b"/>
              <a:pathLst>
                <a:path w="7" h="1071">
                  <a:moveTo>
                    <a:pt x="0" y="6"/>
                  </a:moveTo>
                  <a:lnTo>
                    <a:pt x="0" y="1071"/>
                  </a:lnTo>
                  <a:lnTo>
                    <a:pt x="7" y="107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0694880" y="7292880"/>
              <a:ext cx="9720" cy="172872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12"/>
                  </a:moveTo>
                  <a:lnTo>
                    <a:pt x="0" y="1083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0704600" y="7283520"/>
              <a:ext cx="9360" cy="1708200"/>
            </a:xfrm>
            <a:custGeom>
              <a:avLst/>
              <a:gdLst/>
              <a:ahLst/>
              <a:rect l="l" t="t" r="r" b="b"/>
              <a:pathLst>
                <a:path w="6" h="1076">
                  <a:moveTo>
                    <a:pt x="0" y="6"/>
                  </a:moveTo>
                  <a:lnTo>
                    <a:pt x="0" y="1076"/>
                  </a:lnTo>
                  <a:lnTo>
                    <a:pt x="6" y="107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0704600" y="9002880"/>
              <a:ext cx="936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0713960" y="7272360"/>
              <a:ext cx="11160" cy="1730520"/>
            </a:xfrm>
            <a:custGeom>
              <a:avLst/>
              <a:gdLst/>
              <a:ahLst/>
              <a:rect l="l" t="t" r="r" b="b"/>
              <a:pathLst>
                <a:path w="7" h="1090">
                  <a:moveTo>
                    <a:pt x="0" y="7"/>
                  </a:moveTo>
                  <a:lnTo>
                    <a:pt x="0" y="1090"/>
                  </a:lnTo>
                  <a:lnTo>
                    <a:pt x="7" y="109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0725120" y="7262640"/>
              <a:ext cx="9720" cy="1749600"/>
            </a:xfrm>
            <a:custGeom>
              <a:avLst/>
              <a:gdLst/>
              <a:ahLst/>
              <a:rect l="l" t="t" r="r" b="b"/>
              <a:pathLst>
                <a:path w="6" h="1102">
                  <a:moveTo>
                    <a:pt x="0" y="6"/>
                  </a:moveTo>
                  <a:lnTo>
                    <a:pt x="0" y="1089"/>
                  </a:lnTo>
                  <a:lnTo>
                    <a:pt x="6" y="110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0734840" y="7243920"/>
              <a:ext cx="10800" cy="1768320"/>
            </a:xfrm>
            <a:custGeom>
              <a:avLst/>
              <a:gdLst/>
              <a:ahLst/>
              <a:rect l="l" t="t" r="r" b="b"/>
              <a:pathLst>
                <a:path w="7" h="1114">
                  <a:moveTo>
                    <a:pt x="0" y="12"/>
                  </a:moveTo>
                  <a:lnTo>
                    <a:pt x="0" y="1114"/>
                  </a:lnTo>
                  <a:lnTo>
                    <a:pt x="7" y="1114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0745640" y="7232760"/>
              <a:ext cx="9720" cy="177948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7"/>
                  </a:moveTo>
                  <a:lnTo>
                    <a:pt x="0" y="1121"/>
                  </a:lnTo>
                  <a:lnTo>
                    <a:pt x="6" y="111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755360" y="7232760"/>
              <a:ext cx="9360" cy="177948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0"/>
                  </a:moveTo>
                  <a:lnTo>
                    <a:pt x="0" y="1115"/>
                  </a:lnTo>
                  <a:lnTo>
                    <a:pt x="6" y="112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764720" y="7223040"/>
              <a:ext cx="11160" cy="1789200"/>
            </a:xfrm>
            <a:custGeom>
              <a:avLst/>
              <a:gdLst/>
              <a:ahLst/>
              <a:rect l="l" t="t" r="r" b="b"/>
              <a:pathLst>
                <a:path w="7" h="1127">
                  <a:moveTo>
                    <a:pt x="0" y="6"/>
                  </a:moveTo>
                  <a:lnTo>
                    <a:pt x="0" y="1127"/>
                  </a:lnTo>
                  <a:lnTo>
                    <a:pt x="7" y="112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0775880" y="89726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0775880" y="721368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6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0785600" y="7213680"/>
              <a:ext cx="936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0"/>
                  </a:moveTo>
                  <a:lnTo>
                    <a:pt x="0" y="1096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0794960" y="7203960"/>
              <a:ext cx="11160" cy="1719360"/>
            </a:xfrm>
            <a:custGeom>
              <a:avLst/>
              <a:gdLst/>
              <a:ahLst/>
              <a:rect l="l" t="t" r="r" b="b"/>
              <a:pathLst>
                <a:path w="7" h="1083">
                  <a:moveTo>
                    <a:pt x="0" y="6"/>
                  </a:moveTo>
                  <a:lnTo>
                    <a:pt x="0" y="1083"/>
                  </a:lnTo>
                  <a:lnTo>
                    <a:pt x="7" y="108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0806120" y="7194600"/>
              <a:ext cx="9360" cy="172872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6"/>
                  </a:moveTo>
                  <a:lnTo>
                    <a:pt x="0" y="1089"/>
                  </a:lnTo>
                  <a:lnTo>
                    <a:pt x="6" y="108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0815480" y="7194600"/>
              <a:ext cx="9720" cy="171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0825200" y="7183440"/>
              <a:ext cx="11160" cy="1719360"/>
            </a:xfrm>
            <a:custGeom>
              <a:avLst/>
              <a:gdLst/>
              <a:ahLst/>
              <a:rect l="l" t="t" r="r" b="b"/>
              <a:pathLst>
                <a:path w="7" h="1083">
                  <a:moveTo>
                    <a:pt x="0" y="7"/>
                  </a:moveTo>
                  <a:lnTo>
                    <a:pt x="0" y="1083"/>
                  </a:lnTo>
                  <a:lnTo>
                    <a:pt x="7" y="108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836360" y="7183440"/>
              <a:ext cx="9360" cy="17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0845720" y="7174080"/>
              <a:ext cx="9720" cy="1719000"/>
            </a:xfrm>
            <a:custGeom>
              <a:avLst/>
              <a:gdLst/>
              <a:ahLst/>
              <a:rect l="l" t="t" r="r" b="b"/>
              <a:pathLst>
                <a:path w="6" h="1083">
                  <a:moveTo>
                    <a:pt x="0" y="6"/>
                  </a:moveTo>
                  <a:lnTo>
                    <a:pt x="0" y="1083"/>
                  </a:lnTo>
                  <a:lnTo>
                    <a:pt x="6" y="107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0855440" y="7164360"/>
              <a:ext cx="20520" cy="1709640"/>
            </a:xfrm>
            <a:custGeom>
              <a:avLst/>
              <a:gdLst/>
              <a:ahLst/>
              <a:rect l="l" t="t" r="r" b="b"/>
              <a:pathLst>
                <a:path w="13" h="1077">
                  <a:moveTo>
                    <a:pt x="0" y="6"/>
                  </a:moveTo>
                  <a:lnTo>
                    <a:pt x="0" y="1077"/>
                  </a:lnTo>
                  <a:lnTo>
                    <a:pt x="13" y="107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0875960" y="7155000"/>
              <a:ext cx="20520" cy="1728720"/>
            </a:xfrm>
            <a:custGeom>
              <a:avLst/>
              <a:gdLst/>
              <a:ahLst/>
              <a:rect l="l" t="t" r="r" b="b"/>
              <a:pathLst>
                <a:path w="13" h="1089">
                  <a:moveTo>
                    <a:pt x="0" y="6"/>
                  </a:moveTo>
                  <a:lnTo>
                    <a:pt x="0" y="1083"/>
                  </a:lnTo>
                  <a:lnTo>
                    <a:pt x="13" y="1089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0896480" y="714384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7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0906200" y="7143840"/>
              <a:ext cx="1116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0917360" y="7134120"/>
              <a:ext cx="936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6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0926720" y="7134120"/>
              <a:ext cx="9720" cy="1749600"/>
            </a:xfrm>
            <a:custGeom>
              <a:avLst/>
              <a:gdLst/>
              <a:ahLst/>
              <a:rect l="l" t="t" r="r" b="b"/>
              <a:pathLst>
                <a:path w="6" h="1102">
                  <a:moveTo>
                    <a:pt x="0" y="0"/>
                  </a:moveTo>
                  <a:lnTo>
                    <a:pt x="0" y="1096"/>
                  </a:lnTo>
                  <a:lnTo>
                    <a:pt x="6" y="110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0936440" y="7124760"/>
              <a:ext cx="10800" cy="1728720"/>
            </a:xfrm>
            <a:custGeom>
              <a:avLst/>
              <a:gdLst/>
              <a:ahLst/>
              <a:rect l="l" t="t" r="r" b="b"/>
              <a:pathLst>
                <a:path w="7" h="1089">
                  <a:moveTo>
                    <a:pt x="0" y="6"/>
                  </a:moveTo>
                  <a:lnTo>
                    <a:pt x="0" y="1089"/>
                  </a:lnTo>
                  <a:lnTo>
                    <a:pt x="7" y="108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0947240" y="7124760"/>
              <a:ext cx="9720" cy="174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956960" y="7115040"/>
              <a:ext cx="9360" cy="1738440"/>
            </a:xfrm>
            <a:custGeom>
              <a:avLst/>
              <a:gdLst/>
              <a:ahLst/>
              <a:rect l="l" t="t" r="r" b="b"/>
              <a:pathLst>
                <a:path w="6" h="1095">
                  <a:moveTo>
                    <a:pt x="0" y="6"/>
                  </a:moveTo>
                  <a:lnTo>
                    <a:pt x="0" y="1095"/>
                  </a:lnTo>
                  <a:lnTo>
                    <a:pt x="6" y="109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0966320" y="7115040"/>
              <a:ext cx="11160" cy="17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977480" y="7105680"/>
              <a:ext cx="9720" cy="1758960"/>
            </a:xfrm>
            <a:custGeom>
              <a:avLst/>
              <a:gdLst/>
              <a:ahLst/>
              <a:rect l="l" t="t" r="r" b="b"/>
              <a:pathLst>
                <a:path w="6" h="1108">
                  <a:moveTo>
                    <a:pt x="0" y="6"/>
                  </a:moveTo>
                  <a:lnTo>
                    <a:pt x="0" y="1108"/>
                  </a:lnTo>
                  <a:lnTo>
                    <a:pt x="6" y="110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0987200" y="7105680"/>
              <a:ext cx="9360" cy="175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0996560" y="7094520"/>
              <a:ext cx="20520" cy="1770120"/>
            </a:xfrm>
            <a:custGeom>
              <a:avLst/>
              <a:gdLst/>
              <a:ahLst/>
              <a:rect l="l" t="t" r="r" b="b"/>
              <a:pathLst>
                <a:path w="13" h="1115">
                  <a:moveTo>
                    <a:pt x="0" y="7"/>
                  </a:moveTo>
                  <a:lnTo>
                    <a:pt x="0" y="1115"/>
                  </a:lnTo>
                  <a:lnTo>
                    <a:pt x="13" y="1115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017080" y="7085160"/>
              <a:ext cx="9720" cy="1768320"/>
            </a:xfrm>
            <a:custGeom>
              <a:avLst/>
              <a:gdLst/>
              <a:ahLst/>
              <a:rect l="l" t="t" r="r" b="b"/>
              <a:pathLst>
                <a:path w="6" h="1114">
                  <a:moveTo>
                    <a:pt x="0" y="6"/>
                  </a:moveTo>
                  <a:lnTo>
                    <a:pt x="0" y="1114"/>
                  </a:lnTo>
                  <a:lnTo>
                    <a:pt x="6" y="110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1026800" y="7085160"/>
              <a:ext cx="11160" cy="1758960"/>
            </a:xfrm>
            <a:custGeom>
              <a:avLst/>
              <a:gdLst/>
              <a:ahLst/>
              <a:rect l="l" t="t" r="r" b="b"/>
              <a:pathLst>
                <a:path w="7" h="1108">
                  <a:moveTo>
                    <a:pt x="0" y="0"/>
                  </a:moveTo>
                  <a:lnTo>
                    <a:pt x="0" y="1108"/>
                  </a:lnTo>
                  <a:lnTo>
                    <a:pt x="7" y="110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1037960" y="7085160"/>
              <a:ext cx="936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1047320" y="7075440"/>
              <a:ext cx="11160" cy="1749600"/>
            </a:xfrm>
            <a:custGeom>
              <a:avLst/>
              <a:gdLst/>
              <a:ahLst/>
              <a:rect l="l" t="t" r="r" b="b"/>
              <a:pathLst>
                <a:path w="7" h="1102">
                  <a:moveTo>
                    <a:pt x="0" y="6"/>
                  </a:moveTo>
                  <a:lnTo>
                    <a:pt x="0" y="1102"/>
                  </a:lnTo>
                  <a:lnTo>
                    <a:pt x="7" y="109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1058480" y="7075440"/>
              <a:ext cx="9720" cy="1738440"/>
            </a:xfrm>
            <a:custGeom>
              <a:avLst/>
              <a:gdLst/>
              <a:ahLst/>
              <a:rect l="l" t="t" r="r" b="b"/>
              <a:pathLst>
                <a:path w="6" h="1095">
                  <a:moveTo>
                    <a:pt x="0" y="0"/>
                  </a:moveTo>
                  <a:lnTo>
                    <a:pt x="0" y="1095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1068200" y="7075440"/>
              <a:ext cx="9360" cy="17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1077560" y="7075440"/>
              <a:ext cx="11160" cy="17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1088720" y="7075440"/>
              <a:ext cx="9360" cy="17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1098080" y="7075440"/>
              <a:ext cx="972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0"/>
                  </a:moveTo>
                  <a:lnTo>
                    <a:pt x="0" y="1077"/>
                  </a:lnTo>
                  <a:lnTo>
                    <a:pt x="6" y="107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1107800" y="7085160"/>
              <a:ext cx="11160" cy="16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1118960" y="7075440"/>
              <a:ext cx="9360" cy="1689120"/>
            </a:xfrm>
            <a:custGeom>
              <a:avLst/>
              <a:gdLst/>
              <a:ahLst/>
              <a:rect l="l" t="t" r="r" b="b"/>
              <a:pathLst>
                <a:path w="6" h="1064">
                  <a:moveTo>
                    <a:pt x="0" y="6"/>
                  </a:moveTo>
                  <a:lnTo>
                    <a:pt x="0" y="1064"/>
                  </a:lnTo>
                  <a:lnTo>
                    <a:pt x="6" y="106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1128320" y="7075440"/>
              <a:ext cx="9720" cy="16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1138040" y="7066080"/>
              <a:ext cx="10800" cy="1698480"/>
            </a:xfrm>
            <a:custGeom>
              <a:avLst/>
              <a:gdLst/>
              <a:ahLst/>
              <a:rect l="l" t="t" r="r" b="b"/>
              <a:pathLst>
                <a:path w="7" h="1070">
                  <a:moveTo>
                    <a:pt x="0" y="6"/>
                  </a:moveTo>
                  <a:lnTo>
                    <a:pt x="0" y="1070"/>
                  </a:lnTo>
                  <a:lnTo>
                    <a:pt x="7" y="107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1148840" y="7054920"/>
              <a:ext cx="972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7"/>
                  </a:moveTo>
                  <a:lnTo>
                    <a:pt x="0" y="1077"/>
                  </a:lnTo>
                  <a:lnTo>
                    <a:pt x="6" y="107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1158560" y="7035840"/>
              <a:ext cx="9360" cy="172872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12"/>
                  </a:moveTo>
                  <a:lnTo>
                    <a:pt x="0" y="1089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1167920" y="871524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1167920" y="6966000"/>
              <a:ext cx="11160" cy="1749240"/>
            </a:xfrm>
            <a:custGeom>
              <a:avLst/>
              <a:gdLst/>
              <a:ahLst/>
              <a:rect l="l" t="t" r="r" b="b"/>
              <a:pathLst>
                <a:path w="7" h="1102">
                  <a:moveTo>
                    <a:pt x="0" y="13"/>
                  </a:moveTo>
                  <a:lnTo>
                    <a:pt x="0" y="1102"/>
                  </a:lnTo>
                  <a:lnTo>
                    <a:pt x="7" y="1102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1179080" y="6956280"/>
              <a:ext cx="9720" cy="175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1188800" y="6956280"/>
              <a:ext cx="936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1198160" y="6956280"/>
              <a:ext cx="1116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1209320" y="6956280"/>
              <a:ext cx="972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1219040" y="6956280"/>
              <a:ext cx="1080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1229840" y="6956280"/>
              <a:ext cx="9720" cy="172908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0"/>
                  </a:moveTo>
                  <a:lnTo>
                    <a:pt x="0" y="1083"/>
                  </a:lnTo>
                  <a:lnTo>
                    <a:pt x="6" y="108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1239560" y="6966000"/>
              <a:ext cx="9360" cy="1719360"/>
            </a:xfrm>
            <a:custGeom>
              <a:avLst/>
              <a:gdLst/>
              <a:ahLst/>
              <a:rect l="l" t="t" r="r" b="b"/>
              <a:pathLst>
                <a:path w="6" h="1083">
                  <a:moveTo>
                    <a:pt x="0" y="0"/>
                  </a:moveTo>
                  <a:lnTo>
                    <a:pt x="0" y="1083"/>
                  </a:lnTo>
                  <a:lnTo>
                    <a:pt x="6" y="108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1248920" y="6977160"/>
              <a:ext cx="11160" cy="1679400"/>
            </a:xfrm>
            <a:custGeom>
              <a:avLst/>
              <a:gdLst/>
              <a:ahLst/>
              <a:rect l="l" t="t" r="r" b="b"/>
              <a:pathLst>
                <a:path w="7" h="1058">
                  <a:moveTo>
                    <a:pt x="0" y="0"/>
                  </a:moveTo>
                  <a:lnTo>
                    <a:pt x="0" y="1058"/>
                  </a:lnTo>
                  <a:lnTo>
                    <a:pt x="7" y="104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1260080" y="6986520"/>
              <a:ext cx="9720" cy="1649520"/>
            </a:xfrm>
            <a:custGeom>
              <a:avLst/>
              <a:gdLst/>
              <a:ahLst/>
              <a:rect l="l" t="t" r="r" b="b"/>
              <a:pathLst>
                <a:path w="6" h="1039">
                  <a:moveTo>
                    <a:pt x="0" y="0"/>
                  </a:moveTo>
                  <a:lnTo>
                    <a:pt x="0" y="1039"/>
                  </a:lnTo>
                  <a:lnTo>
                    <a:pt x="6" y="103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1269800" y="6986520"/>
              <a:ext cx="9360" cy="1639800"/>
            </a:xfrm>
            <a:custGeom>
              <a:avLst/>
              <a:gdLst/>
              <a:ahLst/>
              <a:rect l="l" t="t" r="r" b="b"/>
              <a:pathLst>
                <a:path w="6" h="1033">
                  <a:moveTo>
                    <a:pt x="0" y="0"/>
                  </a:moveTo>
                  <a:lnTo>
                    <a:pt x="0" y="1033"/>
                  </a:lnTo>
                  <a:lnTo>
                    <a:pt x="6" y="102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1279160" y="6996240"/>
              <a:ext cx="11160" cy="161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1290320" y="6996240"/>
              <a:ext cx="9360" cy="1611360"/>
            </a:xfrm>
            <a:custGeom>
              <a:avLst/>
              <a:gdLst/>
              <a:ahLst/>
              <a:rect l="l" t="t" r="r" b="b"/>
              <a:pathLst>
                <a:path w="6" h="1015">
                  <a:moveTo>
                    <a:pt x="0" y="0"/>
                  </a:moveTo>
                  <a:lnTo>
                    <a:pt x="0" y="1015"/>
                  </a:lnTo>
                  <a:lnTo>
                    <a:pt x="6" y="100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1299680" y="6996240"/>
              <a:ext cx="9720" cy="1600200"/>
            </a:xfrm>
            <a:custGeom>
              <a:avLst/>
              <a:gdLst/>
              <a:ahLst/>
              <a:rect l="l" t="t" r="r" b="b"/>
              <a:pathLst>
                <a:path w="6" h="1008">
                  <a:moveTo>
                    <a:pt x="0" y="0"/>
                  </a:moveTo>
                  <a:lnTo>
                    <a:pt x="0" y="1008"/>
                  </a:lnTo>
                  <a:lnTo>
                    <a:pt x="6" y="100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1309400" y="7005600"/>
              <a:ext cx="11160" cy="15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320560" y="7005600"/>
              <a:ext cx="19080" cy="1590840"/>
            </a:xfrm>
            <a:custGeom>
              <a:avLst/>
              <a:gdLst/>
              <a:ahLst/>
              <a:rect l="l" t="t" r="r" b="b"/>
              <a:pathLst>
                <a:path w="12" h="1002">
                  <a:moveTo>
                    <a:pt x="0" y="0"/>
                  </a:moveTo>
                  <a:lnTo>
                    <a:pt x="0" y="1002"/>
                  </a:lnTo>
                  <a:lnTo>
                    <a:pt x="12" y="99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1339640" y="7005600"/>
              <a:ext cx="11160" cy="1571760"/>
            </a:xfrm>
            <a:custGeom>
              <a:avLst/>
              <a:gdLst/>
              <a:ahLst/>
              <a:rect l="l" t="t" r="r" b="b"/>
              <a:pathLst>
                <a:path w="7" h="990">
                  <a:moveTo>
                    <a:pt x="0" y="0"/>
                  </a:moveTo>
                  <a:lnTo>
                    <a:pt x="0" y="990"/>
                  </a:lnTo>
                  <a:lnTo>
                    <a:pt x="7" y="98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1350800" y="7005600"/>
              <a:ext cx="9360" cy="1562040"/>
            </a:xfrm>
            <a:custGeom>
              <a:avLst/>
              <a:gdLst/>
              <a:ahLst/>
              <a:rect l="l" t="t" r="r" b="b"/>
              <a:pathLst>
                <a:path w="6" h="984">
                  <a:moveTo>
                    <a:pt x="0" y="0"/>
                  </a:moveTo>
                  <a:lnTo>
                    <a:pt x="0" y="984"/>
                  </a:lnTo>
                  <a:lnTo>
                    <a:pt x="6" y="984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1360160" y="7016760"/>
              <a:ext cx="11160" cy="1550880"/>
            </a:xfrm>
            <a:custGeom>
              <a:avLst/>
              <a:gdLst/>
              <a:ahLst/>
              <a:rect l="l" t="t" r="r" b="b"/>
              <a:pathLst>
                <a:path w="7" h="977">
                  <a:moveTo>
                    <a:pt x="0" y="0"/>
                  </a:moveTo>
                  <a:lnTo>
                    <a:pt x="0" y="977"/>
                  </a:lnTo>
                  <a:lnTo>
                    <a:pt x="7" y="97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1371320" y="7016760"/>
              <a:ext cx="9360" cy="15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380680" y="7016760"/>
              <a:ext cx="9720" cy="154152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0"/>
                  </a:moveTo>
                  <a:lnTo>
                    <a:pt x="0" y="971"/>
                  </a:lnTo>
                  <a:lnTo>
                    <a:pt x="6" y="97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390400" y="7026120"/>
              <a:ext cx="11160" cy="1532160"/>
            </a:xfrm>
            <a:custGeom>
              <a:avLst/>
              <a:gdLst/>
              <a:ahLst/>
              <a:rect l="l" t="t" r="r" b="b"/>
              <a:pathLst>
                <a:path w="7" h="965">
                  <a:moveTo>
                    <a:pt x="0" y="0"/>
                  </a:moveTo>
                  <a:lnTo>
                    <a:pt x="0" y="965"/>
                  </a:lnTo>
                  <a:lnTo>
                    <a:pt x="7" y="95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1401560" y="7026120"/>
              <a:ext cx="936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1410920" y="7026120"/>
              <a:ext cx="972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1420640" y="7026120"/>
              <a:ext cx="10800" cy="1521000"/>
            </a:xfrm>
            <a:custGeom>
              <a:avLst/>
              <a:gdLst/>
              <a:ahLst/>
              <a:rect l="l" t="t" r="r" b="b"/>
              <a:pathLst>
                <a:path w="7" h="958">
                  <a:moveTo>
                    <a:pt x="0" y="0"/>
                  </a:moveTo>
                  <a:lnTo>
                    <a:pt x="0" y="952"/>
                  </a:lnTo>
                  <a:lnTo>
                    <a:pt x="7" y="95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1431440" y="7026120"/>
              <a:ext cx="9720" cy="1532160"/>
            </a:xfrm>
            <a:custGeom>
              <a:avLst/>
              <a:gdLst/>
              <a:ahLst/>
              <a:rect l="l" t="t" r="r" b="b"/>
              <a:pathLst>
                <a:path w="6" h="965">
                  <a:moveTo>
                    <a:pt x="0" y="0"/>
                  </a:moveTo>
                  <a:lnTo>
                    <a:pt x="0" y="958"/>
                  </a:lnTo>
                  <a:lnTo>
                    <a:pt x="6" y="9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1441160" y="7035840"/>
              <a:ext cx="9360" cy="1531800"/>
            </a:xfrm>
            <a:custGeom>
              <a:avLst/>
              <a:gdLst/>
              <a:ahLst/>
              <a:rect l="l" t="t" r="r" b="b"/>
              <a:pathLst>
                <a:path w="6" h="965">
                  <a:moveTo>
                    <a:pt x="0" y="0"/>
                  </a:moveTo>
                  <a:lnTo>
                    <a:pt x="0" y="959"/>
                  </a:lnTo>
                  <a:lnTo>
                    <a:pt x="6" y="9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1450520" y="7045200"/>
              <a:ext cx="11160" cy="1522440"/>
            </a:xfrm>
            <a:custGeom>
              <a:avLst/>
              <a:gdLst/>
              <a:ahLst/>
              <a:rect l="l" t="t" r="r" b="b"/>
              <a:pathLst>
                <a:path w="7" h="959">
                  <a:moveTo>
                    <a:pt x="0" y="0"/>
                  </a:moveTo>
                  <a:lnTo>
                    <a:pt x="0" y="959"/>
                  </a:lnTo>
                  <a:lnTo>
                    <a:pt x="7" y="95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1461680" y="7054920"/>
              <a:ext cx="972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1471400" y="7075440"/>
              <a:ext cx="9360" cy="1492200"/>
            </a:xfrm>
            <a:custGeom>
              <a:avLst/>
              <a:gdLst/>
              <a:ahLst/>
              <a:rect l="l" t="t" r="r" b="b"/>
              <a:pathLst>
                <a:path w="6" h="940">
                  <a:moveTo>
                    <a:pt x="0" y="0"/>
                  </a:moveTo>
                  <a:lnTo>
                    <a:pt x="0" y="940"/>
                  </a:lnTo>
                  <a:lnTo>
                    <a:pt x="6" y="940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480760" y="7115040"/>
              <a:ext cx="11160" cy="1422360"/>
            </a:xfrm>
            <a:custGeom>
              <a:avLst/>
              <a:gdLst/>
              <a:ahLst/>
              <a:rect l="l" t="t" r="r" b="b"/>
              <a:pathLst>
                <a:path w="7" h="896">
                  <a:moveTo>
                    <a:pt x="0" y="0"/>
                  </a:moveTo>
                  <a:lnTo>
                    <a:pt x="0" y="896"/>
                  </a:lnTo>
                  <a:lnTo>
                    <a:pt x="7" y="896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491920" y="7134120"/>
              <a:ext cx="9360" cy="1403280"/>
            </a:xfrm>
            <a:custGeom>
              <a:avLst/>
              <a:gdLst/>
              <a:ahLst/>
              <a:rect l="l" t="t" r="r" b="b"/>
              <a:pathLst>
                <a:path w="6" h="884">
                  <a:moveTo>
                    <a:pt x="0" y="0"/>
                  </a:moveTo>
                  <a:lnTo>
                    <a:pt x="0" y="884"/>
                  </a:lnTo>
                  <a:lnTo>
                    <a:pt x="6" y="88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1501280" y="7143840"/>
              <a:ext cx="11160" cy="958680"/>
            </a:xfrm>
            <a:custGeom>
              <a:avLst/>
              <a:gdLst/>
              <a:ahLst/>
              <a:rect l="l" t="t" r="r" b="b"/>
              <a:pathLst>
                <a:path w="7" h="604">
                  <a:moveTo>
                    <a:pt x="0" y="0"/>
                  </a:moveTo>
                  <a:lnTo>
                    <a:pt x="0" y="604"/>
                  </a:lnTo>
                  <a:lnTo>
                    <a:pt x="7" y="59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1501280" y="8142120"/>
              <a:ext cx="11160" cy="40500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55"/>
                  </a:lnTo>
                  <a:lnTo>
                    <a:pt x="7" y="25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1512440" y="8151840"/>
              <a:ext cx="972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49"/>
                  </a:lnTo>
                  <a:lnTo>
                    <a:pt x="6" y="249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1512440" y="7155000"/>
              <a:ext cx="9720" cy="938160"/>
            </a:xfrm>
            <a:custGeom>
              <a:avLst/>
              <a:gdLst/>
              <a:ahLst/>
              <a:rect l="l" t="t" r="r" b="b"/>
              <a:pathLst>
                <a:path w="6" h="591">
                  <a:moveTo>
                    <a:pt x="0" y="0"/>
                  </a:moveTo>
                  <a:lnTo>
                    <a:pt x="0" y="591"/>
                  </a:lnTo>
                  <a:lnTo>
                    <a:pt x="6" y="58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1522160" y="8172360"/>
              <a:ext cx="9360" cy="374760"/>
            </a:xfrm>
            <a:custGeom>
              <a:avLst/>
              <a:gdLst/>
              <a:ahLst/>
              <a:rect l="l" t="t" r="r" b="b"/>
              <a:pathLst>
                <a:path w="6" h="236">
                  <a:moveTo>
                    <a:pt x="0" y="0"/>
                  </a:moveTo>
                  <a:lnTo>
                    <a:pt x="0" y="236"/>
                  </a:lnTo>
                  <a:lnTo>
                    <a:pt x="6" y="23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1522160" y="7164360"/>
              <a:ext cx="9360" cy="919080"/>
            </a:xfrm>
            <a:custGeom>
              <a:avLst/>
              <a:gdLst/>
              <a:ahLst/>
              <a:rect l="l" t="t" r="r" b="b"/>
              <a:pathLst>
                <a:path w="6" h="579">
                  <a:moveTo>
                    <a:pt x="0" y="0"/>
                  </a:moveTo>
                  <a:lnTo>
                    <a:pt x="0" y="579"/>
                  </a:lnTo>
                  <a:lnTo>
                    <a:pt x="6" y="57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531520" y="7174080"/>
              <a:ext cx="11160" cy="900000"/>
            </a:xfrm>
            <a:custGeom>
              <a:avLst/>
              <a:gdLst/>
              <a:ahLst/>
              <a:rect l="l" t="t" r="r" b="b"/>
              <a:pathLst>
                <a:path w="7" h="567">
                  <a:moveTo>
                    <a:pt x="0" y="0"/>
                  </a:moveTo>
                  <a:lnTo>
                    <a:pt x="0" y="567"/>
                  </a:lnTo>
                  <a:lnTo>
                    <a:pt x="7" y="56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531520" y="8191440"/>
              <a:ext cx="11160" cy="366840"/>
            </a:xfrm>
            <a:custGeom>
              <a:avLst/>
              <a:gdLst/>
              <a:ahLst/>
              <a:rect l="l" t="t" r="r" b="b"/>
              <a:pathLst>
                <a:path w="7" h="231">
                  <a:moveTo>
                    <a:pt x="0" y="0"/>
                  </a:moveTo>
                  <a:lnTo>
                    <a:pt x="0" y="224"/>
                  </a:lnTo>
                  <a:lnTo>
                    <a:pt x="7" y="231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1542680" y="7183440"/>
              <a:ext cx="19080" cy="890640"/>
            </a:xfrm>
            <a:custGeom>
              <a:avLst/>
              <a:gdLst/>
              <a:ahLst/>
              <a:rect l="l" t="t" r="r" b="b"/>
              <a:pathLst>
                <a:path w="12" h="561">
                  <a:moveTo>
                    <a:pt x="0" y="0"/>
                  </a:moveTo>
                  <a:lnTo>
                    <a:pt x="0" y="561"/>
                  </a:lnTo>
                  <a:lnTo>
                    <a:pt x="12" y="548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1542680" y="8221680"/>
              <a:ext cx="9720" cy="336600"/>
            </a:xfrm>
            <a:custGeom>
              <a:avLst/>
              <a:gdLst/>
              <a:ahLst/>
              <a:rect l="l" t="t" r="r" b="b"/>
              <a:pathLst>
                <a:path w="6" h="212">
                  <a:moveTo>
                    <a:pt x="0" y="0"/>
                  </a:moveTo>
                  <a:lnTo>
                    <a:pt x="0" y="212"/>
                  </a:lnTo>
                  <a:lnTo>
                    <a:pt x="6" y="212"/>
                  </a:lnTo>
                  <a:lnTo>
                    <a:pt x="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1552400" y="8261280"/>
              <a:ext cx="936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0" y="0"/>
                  </a:moveTo>
                  <a:lnTo>
                    <a:pt x="0" y="187"/>
                  </a:lnTo>
                  <a:lnTo>
                    <a:pt x="6" y="187"/>
                  </a:lnTo>
                  <a:lnTo>
                    <a:pt x="6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1561760" y="8329680"/>
              <a:ext cx="11160" cy="228600"/>
            </a:xfrm>
            <a:custGeom>
              <a:avLst/>
              <a:gdLst/>
              <a:ahLst/>
              <a:rect l="l" t="t" r="r" b="b"/>
              <a:pathLst>
                <a:path w="7" h="144">
                  <a:moveTo>
                    <a:pt x="0" y="0"/>
                  </a:moveTo>
                  <a:lnTo>
                    <a:pt x="0" y="137"/>
                  </a:lnTo>
                  <a:lnTo>
                    <a:pt x="7" y="144"/>
                  </a:lnTo>
                  <a:lnTo>
                    <a:pt x="7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1561760" y="7203960"/>
              <a:ext cx="11160" cy="849600"/>
            </a:xfrm>
            <a:custGeom>
              <a:avLst/>
              <a:gdLst/>
              <a:ahLst/>
              <a:rect l="l" t="t" r="r" b="b"/>
              <a:pathLst>
                <a:path w="7" h="535">
                  <a:moveTo>
                    <a:pt x="0" y="0"/>
                  </a:moveTo>
                  <a:lnTo>
                    <a:pt x="0" y="535"/>
                  </a:lnTo>
                  <a:lnTo>
                    <a:pt x="7" y="52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1572920" y="7213680"/>
              <a:ext cx="9360" cy="830160"/>
            </a:xfrm>
            <a:custGeom>
              <a:avLst/>
              <a:gdLst/>
              <a:ahLst/>
              <a:rect l="l" t="t" r="r" b="b"/>
              <a:pathLst>
                <a:path w="6" h="523">
                  <a:moveTo>
                    <a:pt x="0" y="0"/>
                  </a:moveTo>
                  <a:lnTo>
                    <a:pt x="0" y="523"/>
                  </a:lnTo>
                  <a:lnTo>
                    <a:pt x="6" y="51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1582280" y="7213680"/>
              <a:ext cx="9720" cy="790560"/>
            </a:xfrm>
            <a:custGeom>
              <a:avLst/>
              <a:gdLst/>
              <a:ahLst/>
              <a:rect l="l" t="t" r="r" b="b"/>
              <a:pathLst>
                <a:path w="6" h="498">
                  <a:moveTo>
                    <a:pt x="0" y="0"/>
                  </a:moveTo>
                  <a:lnTo>
                    <a:pt x="0" y="498"/>
                  </a:lnTo>
                  <a:lnTo>
                    <a:pt x="6" y="4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1572920" y="838044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12"/>
                  </a:lnTo>
                  <a:lnTo>
                    <a:pt x="6" y="10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1582280" y="839952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7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1592000" y="8418600"/>
              <a:ext cx="11160" cy="139680"/>
            </a:xfrm>
            <a:custGeom>
              <a:avLst/>
              <a:gdLst/>
              <a:ahLst/>
              <a:rect l="l" t="t" r="r" b="b"/>
              <a:pathLst>
                <a:path w="7" h="88">
                  <a:moveTo>
                    <a:pt x="0" y="0"/>
                  </a:moveTo>
                  <a:lnTo>
                    <a:pt x="0" y="75"/>
                  </a:lnTo>
                  <a:lnTo>
                    <a:pt x="7" y="8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1592000" y="7223040"/>
              <a:ext cx="20520" cy="762120"/>
            </a:xfrm>
            <a:custGeom>
              <a:avLst/>
              <a:gdLst/>
              <a:ahLst/>
              <a:rect l="l" t="t" r="r" b="b"/>
              <a:pathLst>
                <a:path w="13" h="480">
                  <a:moveTo>
                    <a:pt x="0" y="0"/>
                  </a:moveTo>
                  <a:lnTo>
                    <a:pt x="0" y="480"/>
                  </a:lnTo>
                  <a:lnTo>
                    <a:pt x="13" y="473"/>
                  </a:lnTo>
                  <a:lnTo>
                    <a:pt x="1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1028880" y="6383160"/>
            <a:ext cx="11410920" cy="3616560"/>
            <a:chOff x="1028880" y="6383160"/>
            <a:chExt cx="11410920" cy="3616560"/>
          </a:xfrm>
        </p:grpSpPr>
        <p:sp>
          <p:nvSpPr>
            <p:cNvPr id="1851" name=""/>
            <p:cNvSpPr/>
            <p:nvPr/>
          </p:nvSpPr>
          <p:spPr>
            <a:xfrm>
              <a:off x="11603160" y="8429760"/>
              <a:ext cx="9360" cy="13788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1612520" y="843912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81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1612520" y="7253280"/>
              <a:ext cx="9720" cy="720720"/>
            </a:xfrm>
            <a:custGeom>
              <a:avLst/>
              <a:gdLst/>
              <a:ahLst/>
              <a:rect l="l" t="t" r="r" b="b"/>
              <a:pathLst>
                <a:path w="6" h="454">
                  <a:moveTo>
                    <a:pt x="0" y="0"/>
                  </a:moveTo>
                  <a:lnTo>
                    <a:pt x="0" y="454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1622240" y="7253280"/>
              <a:ext cx="10800" cy="692280"/>
            </a:xfrm>
            <a:custGeom>
              <a:avLst/>
              <a:gdLst/>
              <a:ahLst/>
              <a:rect l="l" t="t" r="r" b="b"/>
              <a:pathLst>
                <a:path w="7" h="436">
                  <a:moveTo>
                    <a:pt x="0" y="0"/>
                  </a:moveTo>
                  <a:lnTo>
                    <a:pt x="0" y="436"/>
                  </a:lnTo>
                  <a:lnTo>
                    <a:pt x="7" y="42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1622240" y="8439120"/>
              <a:ext cx="1080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93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1633040" y="7253280"/>
              <a:ext cx="972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23"/>
                  </a:lnTo>
                  <a:lnTo>
                    <a:pt x="6" y="41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1633040" y="8439120"/>
              <a:ext cx="972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1642760" y="7262640"/>
              <a:ext cx="9360" cy="642960"/>
            </a:xfrm>
            <a:custGeom>
              <a:avLst/>
              <a:gdLst/>
              <a:ahLst/>
              <a:rect l="l" t="t" r="r" b="b"/>
              <a:pathLst>
                <a:path w="6" h="405">
                  <a:moveTo>
                    <a:pt x="0" y="0"/>
                  </a:moveTo>
                  <a:lnTo>
                    <a:pt x="0" y="405"/>
                  </a:lnTo>
                  <a:lnTo>
                    <a:pt x="6" y="3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1652120" y="7262640"/>
              <a:ext cx="11160" cy="633600"/>
            </a:xfrm>
            <a:custGeom>
              <a:avLst/>
              <a:gdLst/>
              <a:ahLst/>
              <a:rect l="l" t="t" r="r" b="b"/>
              <a:pathLst>
                <a:path w="7" h="399">
                  <a:moveTo>
                    <a:pt x="0" y="0"/>
                  </a:moveTo>
                  <a:lnTo>
                    <a:pt x="0" y="399"/>
                  </a:lnTo>
                  <a:lnTo>
                    <a:pt x="7" y="39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1642760" y="8448840"/>
              <a:ext cx="93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1652120" y="8448840"/>
              <a:ext cx="111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1663280" y="8448840"/>
              <a:ext cx="972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1663280" y="7262640"/>
              <a:ext cx="30240" cy="622440"/>
            </a:xfrm>
            <a:custGeom>
              <a:avLst/>
              <a:gdLst/>
              <a:ahLst/>
              <a:rect l="l" t="t" r="r" b="b"/>
              <a:pathLst>
                <a:path w="19" h="392">
                  <a:moveTo>
                    <a:pt x="0" y="0"/>
                  </a:moveTo>
                  <a:lnTo>
                    <a:pt x="0" y="392"/>
                  </a:lnTo>
                  <a:lnTo>
                    <a:pt x="19" y="380"/>
                  </a:lnTo>
                  <a:lnTo>
                    <a:pt x="1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1673000" y="8448840"/>
              <a:ext cx="11160" cy="109440"/>
            </a:xfrm>
            <a:custGeom>
              <a:avLst/>
              <a:gdLst/>
              <a:ahLst/>
              <a:rect l="l" t="t" r="r" b="b"/>
              <a:pathLst>
                <a:path w="7" h="69">
                  <a:moveTo>
                    <a:pt x="0" y="0"/>
                  </a:moveTo>
                  <a:lnTo>
                    <a:pt x="0" y="62"/>
                  </a:lnTo>
                  <a:lnTo>
                    <a:pt x="7" y="6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1684160" y="8439120"/>
              <a:ext cx="18720" cy="119160"/>
            </a:xfrm>
            <a:custGeom>
              <a:avLst/>
              <a:gdLst/>
              <a:ahLst/>
              <a:rect l="l" t="t" r="r" b="b"/>
              <a:pathLst>
                <a:path w="12" h="75">
                  <a:moveTo>
                    <a:pt x="0" y="6"/>
                  </a:moveTo>
                  <a:lnTo>
                    <a:pt x="0" y="75"/>
                  </a:lnTo>
                  <a:lnTo>
                    <a:pt x="12" y="68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1693520" y="7283520"/>
              <a:ext cx="9360" cy="582480"/>
            </a:xfrm>
            <a:custGeom>
              <a:avLst/>
              <a:gdLst/>
              <a:ahLst/>
              <a:rect l="l" t="t" r="r" b="b"/>
              <a:pathLst>
                <a:path w="6" h="367">
                  <a:moveTo>
                    <a:pt x="0" y="0"/>
                  </a:moveTo>
                  <a:lnTo>
                    <a:pt x="0" y="367"/>
                  </a:lnTo>
                  <a:lnTo>
                    <a:pt x="6" y="36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702880" y="729288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0"/>
                  </a:moveTo>
                  <a:lnTo>
                    <a:pt x="0" y="355"/>
                  </a:lnTo>
                  <a:lnTo>
                    <a:pt x="7" y="34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1702880" y="843912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68"/>
                  </a:lnTo>
                  <a:lnTo>
                    <a:pt x="7" y="6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1714040" y="8439120"/>
              <a:ext cx="97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1714040" y="7302600"/>
              <a:ext cx="30240" cy="542880"/>
            </a:xfrm>
            <a:custGeom>
              <a:avLst/>
              <a:gdLst/>
              <a:ahLst/>
              <a:rect l="l" t="t" r="r" b="b"/>
              <a:pathLst>
                <a:path w="19" h="342">
                  <a:moveTo>
                    <a:pt x="0" y="0"/>
                  </a:moveTo>
                  <a:lnTo>
                    <a:pt x="0" y="342"/>
                  </a:lnTo>
                  <a:lnTo>
                    <a:pt x="19" y="330"/>
                  </a:lnTo>
                  <a:lnTo>
                    <a:pt x="19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1723760" y="8439120"/>
              <a:ext cx="93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1733120" y="843912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1744280" y="7332840"/>
              <a:ext cx="9720" cy="493560"/>
            </a:xfrm>
            <a:custGeom>
              <a:avLst/>
              <a:gdLst/>
              <a:ahLst/>
              <a:rect l="l" t="t" r="r" b="b"/>
              <a:pathLst>
                <a:path w="6" h="311">
                  <a:moveTo>
                    <a:pt x="0" y="0"/>
                  </a:moveTo>
                  <a:lnTo>
                    <a:pt x="0" y="311"/>
                  </a:lnTo>
                  <a:lnTo>
                    <a:pt x="6" y="29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754000" y="7342200"/>
              <a:ext cx="9360" cy="463680"/>
            </a:xfrm>
            <a:custGeom>
              <a:avLst/>
              <a:gdLst/>
              <a:ahLst/>
              <a:rect l="l" t="t" r="r" b="b"/>
              <a:pathLst>
                <a:path w="6" h="292">
                  <a:moveTo>
                    <a:pt x="0" y="0"/>
                  </a:moveTo>
                  <a:lnTo>
                    <a:pt x="0" y="292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1744280" y="8429760"/>
              <a:ext cx="19080" cy="98280"/>
            </a:xfrm>
            <a:custGeom>
              <a:avLst/>
              <a:gdLst/>
              <a:ahLst/>
              <a:rect l="l" t="t" r="r" b="b"/>
              <a:pathLst>
                <a:path w="12" h="62">
                  <a:moveTo>
                    <a:pt x="0" y="6"/>
                  </a:moveTo>
                  <a:lnTo>
                    <a:pt x="0" y="56"/>
                  </a:lnTo>
                  <a:lnTo>
                    <a:pt x="12" y="6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1763360" y="7342200"/>
              <a:ext cx="11160" cy="345960"/>
            </a:xfrm>
            <a:custGeom>
              <a:avLst/>
              <a:gdLst/>
              <a:ahLst/>
              <a:rect l="l" t="t" r="r" b="b"/>
              <a:pathLst>
                <a:path w="7" h="218">
                  <a:moveTo>
                    <a:pt x="0" y="0"/>
                  </a:moveTo>
                  <a:lnTo>
                    <a:pt x="0" y="218"/>
                  </a:lnTo>
                  <a:lnTo>
                    <a:pt x="7" y="205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1763360" y="771696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38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763360" y="8429760"/>
              <a:ext cx="11160" cy="9828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0" y="0"/>
                  </a:moveTo>
                  <a:lnTo>
                    <a:pt x="0" y="62"/>
                  </a:lnTo>
                  <a:lnTo>
                    <a:pt x="7" y="5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1774520" y="7361280"/>
              <a:ext cx="936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1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774520" y="7461360"/>
              <a:ext cx="9360" cy="20628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18"/>
                  </a:lnTo>
                  <a:lnTo>
                    <a:pt x="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774520" y="8429760"/>
              <a:ext cx="936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783880" y="8439120"/>
              <a:ext cx="972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1783880" y="7489800"/>
              <a:ext cx="972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0"/>
                  </a:moveTo>
                  <a:lnTo>
                    <a:pt x="0" y="100"/>
                  </a:lnTo>
                  <a:lnTo>
                    <a:pt x="6" y="94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793600" y="7510320"/>
              <a:ext cx="20520" cy="128880"/>
            </a:xfrm>
            <a:custGeom>
              <a:avLst/>
              <a:gdLst/>
              <a:ahLst/>
              <a:rect l="l" t="t" r="r" b="b"/>
              <a:pathLst>
                <a:path w="13" h="81">
                  <a:moveTo>
                    <a:pt x="0" y="0"/>
                  </a:moveTo>
                  <a:lnTo>
                    <a:pt x="0" y="81"/>
                  </a:lnTo>
                  <a:lnTo>
                    <a:pt x="13" y="68"/>
                  </a:lnTo>
                  <a:lnTo>
                    <a:pt x="13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1793600" y="843912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5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804760" y="844884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44"/>
                  </a:lnTo>
                  <a:lnTo>
                    <a:pt x="6" y="4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814120" y="7539120"/>
              <a:ext cx="1116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38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814120" y="8458200"/>
              <a:ext cx="11160" cy="6048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1825280" y="8469360"/>
              <a:ext cx="19080" cy="493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0" y="31"/>
                  </a:lnTo>
                  <a:lnTo>
                    <a:pt x="12" y="31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844360" y="84884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1855520" y="849780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93880" y="6383160"/>
              <a:ext cx="9171000" cy="2648160"/>
            </a:xfrm>
            <a:custGeom>
              <a:avLst/>
              <a:gdLst/>
              <a:ahLst/>
              <a:rect l="l" t="t" r="r" b="b"/>
              <a:pathLst>
                <a:path w="5777" h="1668">
                  <a:moveTo>
                    <a:pt x="0" y="181"/>
                  </a:moveTo>
                  <a:lnTo>
                    <a:pt x="13" y="174"/>
                  </a:lnTo>
                  <a:lnTo>
                    <a:pt x="32" y="168"/>
                  </a:lnTo>
                  <a:lnTo>
                    <a:pt x="51" y="162"/>
                  </a:lnTo>
                  <a:lnTo>
                    <a:pt x="63" y="162"/>
                  </a:lnTo>
                  <a:lnTo>
                    <a:pt x="83" y="150"/>
                  </a:lnTo>
                  <a:lnTo>
                    <a:pt x="89" y="143"/>
                  </a:lnTo>
                  <a:lnTo>
                    <a:pt x="102" y="131"/>
                  </a:lnTo>
                  <a:lnTo>
                    <a:pt x="114" y="125"/>
                  </a:lnTo>
                  <a:lnTo>
                    <a:pt x="127" y="118"/>
                  </a:lnTo>
                  <a:lnTo>
                    <a:pt x="152" y="100"/>
                  </a:lnTo>
                  <a:lnTo>
                    <a:pt x="178" y="93"/>
                  </a:lnTo>
                  <a:lnTo>
                    <a:pt x="191" y="81"/>
                  </a:lnTo>
                  <a:lnTo>
                    <a:pt x="210" y="69"/>
                  </a:lnTo>
                  <a:lnTo>
                    <a:pt x="229" y="56"/>
                  </a:lnTo>
                  <a:lnTo>
                    <a:pt x="241" y="50"/>
                  </a:lnTo>
                  <a:lnTo>
                    <a:pt x="260" y="37"/>
                  </a:lnTo>
                  <a:lnTo>
                    <a:pt x="273" y="31"/>
                  </a:lnTo>
                  <a:lnTo>
                    <a:pt x="286" y="19"/>
                  </a:lnTo>
                  <a:lnTo>
                    <a:pt x="292" y="13"/>
                  </a:lnTo>
                  <a:lnTo>
                    <a:pt x="305" y="6"/>
                  </a:lnTo>
                  <a:lnTo>
                    <a:pt x="318" y="6"/>
                  </a:lnTo>
                  <a:lnTo>
                    <a:pt x="337" y="0"/>
                  </a:lnTo>
                  <a:lnTo>
                    <a:pt x="356" y="0"/>
                  </a:lnTo>
                  <a:lnTo>
                    <a:pt x="362" y="0"/>
                  </a:lnTo>
                  <a:lnTo>
                    <a:pt x="375" y="6"/>
                  </a:lnTo>
                  <a:lnTo>
                    <a:pt x="381" y="13"/>
                  </a:lnTo>
                  <a:lnTo>
                    <a:pt x="394" y="25"/>
                  </a:lnTo>
                  <a:lnTo>
                    <a:pt x="407" y="37"/>
                  </a:lnTo>
                  <a:lnTo>
                    <a:pt x="419" y="44"/>
                  </a:lnTo>
                  <a:lnTo>
                    <a:pt x="438" y="44"/>
                  </a:lnTo>
                  <a:lnTo>
                    <a:pt x="457" y="50"/>
                  </a:lnTo>
                  <a:lnTo>
                    <a:pt x="477" y="50"/>
                  </a:lnTo>
                  <a:lnTo>
                    <a:pt x="496" y="56"/>
                  </a:lnTo>
                  <a:lnTo>
                    <a:pt x="508" y="69"/>
                  </a:lnTo>
                  <a:lnTo>
                    <a:pt x="527" y="81"/>
                  </a:lnTo>
                  <a:lnTo>
                    <a:pt x="559" y="106"/>
                  </a:lnTo>
                  <a:lnTo>
                    <a:pt x="585" y="118"/>
                  </a:lnTo>
                  <a:lnTo>
                    <a:pt x="597" y="131"/>
                  </a:lnTo>
                  <a:lnTo>
                    <a:pt x="623" y="150"/>
                  </a:lnTo>
                  <a:lnTo>
                    <a:pt x="648" y="162"/>
                  </a:lnTo>
                  <a:lnTo>
                    <a:pt x="674" y="168"/>
                  </a:lnTo>
                  <a:lnTo>
                    <a:pt x="693" y="174"/>
                  </a:lnTo>
                  <a:lnTo>
                    <a:pt x="724" y="181"/>
                  </a:lnTo>
                  <a:lnTo>
                    <a:pt x="750" y="181"/>
                  </a:lnTo>
                  <a:lnTo>
                    <a:pt x="775" y="187"/>
                  </a:lnTo>
                  <a:lnTo>
                    <a:pt x="788" y="187"/>
                  </a:lnTo>
                  <a:lnTo>
                    <a:pt x="807" y="187"/>
                  </a:lnTo>
                  <a:lnTo>
                    <a:pt x="820" y="193"/>
                  </a:lnTo>
                  <a:lnTo>
                    <a:pt x="826" y="199"/>
                  </a:lnTo>
                  <a:lnTo>
                    <a:pt x="839" y="206"/>
                  </a:lnTo>
                  <a:lnTo>
                    <a:pt x="852" y="206"/>
                  </a:lnTo>
                  <a:lnTo>
                    <a:pt x="864" y="206"/>
                  </a:lnTo>
                  <a:lnTo>
                    <a:pt x="871" y="206"/>
                  </a:lnTo>
                  <a:lnTo>
                    <a:pt x="883" y="199"/>
                  </a:lnTo>
                  <a:lnTo>
                    <a:pt x="896" y="193"/>
                  </a:lnTo>
                  <a:lnTo>
                    <a:pt x="902" y="187"/>
                  </a:lnTo>
                  <a:lnTo>
                    <a:pt x="915" y="181"/>
                  </a:lnTo>
                  <a:lnTo>
                    <a:pt x="928" y="181"/>
                  </a:lnTo>
                  <a:lnTo>
                    <a:pt x="953" y="181"/>
                  </a:lnTo>
                  <a:lnTo>
                    <a:pt x="972" y="181"/>
                  </a:lnTo>
                  <a:lnTo>
                    <a:pt x="991" y="181"/>
                  </a:lnTo>
                  <a:lnTo>
                    <a:pt x="1017" y="181"/>
                  </a:lnTo>
                  <a:lnTo>
                    <a:pt x="1042" y="193"/>
                  </a:lnTo>
                  <a:lnTo>
                    <a:pt x="1055" y="193"/>
                  </a:lnTo>
                  <a:lnTo>
                    <a:pt x="1080" y="199"/>
                  </a:lnTo>
                  <a:lnTo>
                    <a:pt x="1106" y="206"/>
                  </a:lnTo>
                  <a:lnTo>
                    <a:pt x="1118" y="206"/>
                  </a:lnTo>
                  <a:lnTo>
                    <a:pt x="1144" y="212"/>
                  </a:lnTo>
                  <a:lnTo>
                    <a:pt x="1163" y="218"/>
                  </a:lnTo>
                  <a:lnTo>
                    <a:pt x="1182" y="224"/>
                  </a:lnTo>
                  <a:lnTo>
                    <a:pt x="1207" y="230"/>
                  </a:lnTo>
                  <a:lnTo>
                    <a:pt x="1233" y="243"/>
                  </a:lnTo>
                  <a:lnTo>
                    <a:pt x="1239" y="255"/>
                  </a:lnTo>
                  <a:lnTo>
                    <a:pt x="1239" y="268"/>
                  </a:lnTo>
                  <a:lnTo>
                    <a:pt x="1246" y="274"/>
                  </a:lnTo>
                  <a:lnTo>
                    <a:pt x="1258" y="280"/>
                  </a:lnTo>
                  <a:lnTo>
                    <a:pt x="1265" y="286"/>
                  </a:lnTo>
                  <a:lnTo>
                    <a:pt x="1277" y="293"/>
                  </a:lnTo>
                  <a:lnTo>
                    <a:pt x="1290" y="299"/>
                  </a:lnTo>
                  <a:lnTo>
                    <a:pt x="1303" y="305"/>
                  </a:lnTo>
                  <a:lnTo>
                    <a:pt x="1309" y="311"/>
                  </a:lnTo>
                  <a:lnTo>
                    <a:pt x="1315" y="324"/>
                  </a:lnTo>
                  <a:lnTo>
                    <a:pt x="1315" y="336"/>
                  </a:lnTo>
                  <a:lnTo>
                    <a:pt x="1315" y="355"/>
                  </a:lnTo>
                  <a:lnTo>
                    <a:pt x="1315" y="361"/>
                  </a:lnTo>
                  <a:lnTo>
                    <a:pt x="1322" y="374"/>
                  </a:lnTo>
                  <a:lnTo>
                    <a:pt x="1322" y="386"/>
                  </a:lnTo>
                  <a:lnTo>
                    <a:pt x="1322" y="392"/>
                  </a:lnTo>
                  <a:lnTo>
                    <a:pt x="1328" y="399"/>
                  </a:lnTo>
                  <a:lnTo>
                    <a:pt x="1341" y="399"/>
                  </a:lnTo>
                  <a:lnTo>
                    <a:pt x="1354" y="405"/>
                  </a:lnTo>
                  <a:lnTo>
                    <a:pt x="1373" y="399"/>
                  </a:lnTo>
                  <a:lnTo>
                    <a:pt x="1385" y="399"/>
                  </a:lnTo>
                  <a:lnTo>
                    <a:pt x="1398" y="392"/>
                  </a:lnTo>
                  <a:lnTo>
                    <a:pt x="1424" y="386"/>
                  </a:lnTo>
                  <a:lnTo>
                    <a:pt x="1443" y="386"/>
                  </a:lnTo>
                  <a:lnTo>
                    <a:pt x="1468" y="386"/>
                  </a:lnTo>
                  <a:lnTo>
                    <a:pt x="1481" y="386"/>
                  </a:lnTo>
                  <a:lnTo>
                    <a:pt x="1500" y="392"/>
                  </a:lnTo>
                  <a:lnTo>
                    <a:pt x="1512" y="399"/>
                  </a:lnTo>
                  <a:lnTo>
                    <a:pt x="1525" y="405"/>
                  </a:lnTo>
                  <a:lnTo>
                    <a:pt x="1525" y="417"/>
                  </a:lnTo>
                  <a:lnTo>
                    <a:pt x="1532" y="430"/>
                  </a:lnTo>
                  <a:lnTo>
                    <a:pt x="1538" y="436"/>
                  </a:lnTo>
                  <a:lnTo>
                    <a:pt x="1544" y="442"/>
                  </a:lnTo>
                  <a:lnTo>
                    <a:pt x="1551" y="448"/>
                  </a:lnTo>
                  <a:lnTo>
                    <a:pt x="1557" y="448"/>
                  </a:lnTo>
                  <a:lnTo>
                    <a:pt x="1570" y="448"/>
                  </a:lnTo>
                  <a:lnTo>
                    <a:pt x="1582" y="455"/>
                  </a:lnTo>
                  <a:lnTo>
                    <a:pt x="1595" y="448"/>
                  </a:lnTo>
                  <a:lnTo>
                    <a:pt x="1608" y="448"/>
                  </a:lnTo>
                  <a:lnTo>
                    <a:pt x="1614" y="442"/>
                  </a:lnTo>
                  <a:lnTo>
                    <a:pt x="1627" y="436"/>
                  </a:lnTo>
                  <a:lnTo>
                    <a:pt x="1640" y="423"/>
                  </a:lnTo>
                  <a:lnTo>
                    <a:pt x="1652" y="417"/>
                  </a:lnTo>
                  <a:lnTo>
                    <a:pt x="1671" y="405"/>
                  </a:lnTo>
                  <a:lnTo>
                    <a:pt x="1697" y="399"/>
                  </a:lnTo>
                  <a:lnTo>
                    <a:pt x="1709" y="399"/>
                  </a:lnTo>
                  <a:lnTo>
                    <a:pt x="1716" y="405"/>
                  </a:lnTo>
                  <a:lnTo>
                    <a:pt x="1729" y="411"/>
                  </a:lnTo>
                  <a:lnTo>
                    <a:pt x="1735" y="411"/>
                  </a:lnTo>
                  <a:lnTo>
                    <a:pt x="1748" y="411"/>
                  </a:lnTo>
                  <a:lnTo>
                    <a:pt x="1760" y="405"/>
                  </a:lnTo>
                  <a:lnTo>
                    <a:pt x="1779" y="399"/>
                  </a:lnTo>
                  <a:lnTo>
                    <a:pt x="1798" y="392"/>
                  </a:lnTo>
                  <a:lnTo>
                    <a:pt x="1818" y="392"/>
                  </a:lnTo>
                  <a:lnTo>
                    <a:pt x="1830" y="392"/>
                  </a:lnTo>
                  <a:lnTo>
                    <a:pt x="1837" y="386"/>
                  </a:lnTo>
                  <a:lnTo>
                    <a:pt x="1843" y="380"/>
                  </a:lnTo>
                  <a:lnTo>
                    <a:pt x="1862" y="367"/>
                  </a:lnTo>
                  <a:lnTo>
                    <a:pt x="1875" y="361"/>
                  </a:lnTo>
                  <a:lnTo>
                    <a:pt x="1894" y="355"/>
                  </a:lnTo>
                  <a:lnTo>
                    <a:pt x="1919" y="336"/>
                  </a:lnTo>
                  <a:lnTo>
                    <a:pt x="1932" y="324"/>
                  </a:lnTo>
                  <a:lnTo>
                    <a:pt x="1945" y="318"/>
                  </a:lnTo>
                  <a:lnTo>
                    <a:pt x="1964" y="311"/>
                  </a:lnTo>
                  <a:lnTo>
                    <a:pt x="1970" y="305"/>
                  </a:lnTo>
                  <a:lnTo>
                    <a:pt x="1983" y="293"/>
                  </a:lnTo>
                  <a:lnTo>
                    <a:pt x="1995" y="280"/>
                  </a:lnTo>
                  <a:lnTo>
                    <a:pt x="2008" y="274"/>
                  </a:lnTo>
                  <a:lnTo>
                    <a:pt x="2027" y="268"/>
                  </a:lnTo>
                  <a:lnTo>
                    <a:pt x="2046" y="268"/>
                  </a:lnTo>
                  <a:lnTo>
                    <a:pt x="2065" y="268"/>
                  </a:lnTo>
                  <a:lnTo>
                    <a:pt x="2078" y="268"/>
                  </a:lnTo>
                  <a:lnTo>
                    <a:pt x="2091" y="268"/>
                  </a:lnTo>
                  <a:lnTo>
                    <a:pt x="2104" y="255"/>
                  </a:lnTo>
                  <a:lnTo>
                    <a:pt x="2116" y="249"/>
                  </a:lnTo>
                  <a:lnTo>
                    <a:pt x="2129" y="243"/>
                  </a:lnTo>
                  <a:lnTo>
                    <a:pt x="2142" y="237"/>
                  </a:lnTo>
                  <a:lnTo>
                    <a:pt x="2154" y="237"/>
                  </a:lnTo>
                  <a:lnTo>
                    <a:pt x="2180" y="237"/>
                  </a:lnTo>
                  <a:lnTo>
                    <a:pt x="2186" y="237"/>
                  </a:lnTo>
                  <a:lnTo>
                    <a:pt x="2193" y="237"/>
                  </a:lnTo>
                  <a:lnTo>
                    <a:pt x="2205" y="249"/>
                  </a:lnTo>
                  <a:lnTo>
                    <a:pt x="2212" y="255"/>
                  </a:lnTo>
                  <a:lnTo>
                    <a:pt x="2218" y="255"/>
                  </a:lnTo>
                  <a:lnTo>
                    <a:pt x="2224" y="262"/>
                  </a:lnTo>
                  <a:lnTo>
                    <a:pt x="2237" y="268"/>
                  </a:lnTo>
                  <a:lnTo>
                    <a:pt x="2243" y="268"/>
                  </a:lnTo>
                  <a:lnTo>
                    <a:pt x="2262" y="274"/>
                  </a:lnTo>
                  <a:lnTo>
                    <a:pt x="2275" y="274"/>
                  </a:lnTo>
                  <a:lnTo>
                    <a:pt x="2301" y="280"/>
                  </a:lnTo>
                  <a:lnTo>
                    <a:pt x="2313" y="280"/>
                  </a:lnTo>
                  <a:lnTo>
                    <a:pt x="2339" y="280"/>
                  </a:lnTo>
                  <a:lnTo>
                    <a:pt x="2358" y="280"/>
                  </a:lnTo>
                  <a:lnTo>
                    <a:pt x="2370" y="274"/>
                  </a:lnTo>
                  <a:lnTo>
                    <a:pt x="2383" y="268"/>
                  </a:lnTo>
                  <a:lnTo>
                    <a:pt x="2390" y="262"/>
                  </a:lnTo>
                  <a:lnTo>
                    <a:pt x="2402" y="255"/>
                  </a:lnTo>
                  <a:lnTo>
                    <a:pt x="2409" y="255"/>
                  </a:lnTo>
                  <a:lnTo>
                    <a:pt x="2428" y="255"/>
                  </a:lnTo>
                  <a:lnTo>
                    <a:pt x="2440" y="262"/>
                  </a:lnTo>
                  <a:lnTo>
                    <a:pt x="2447" y="268"/>
                  </a:lnTo>
                  <a:lnTo>
                    <a:pt x="2453" y="274"/>
                  </a:lnTo>
                  <a:lnTo>
                    <a:pt x="2472" y="268"/>
                  </a:lnTo>
                  <a:lnTo>
                    <a:pt x="2491" y="268"/>
                  </a:lnTo>
                  <a:lnTo>
                    <a:pt x="2510" y="268"/>
                  </a:lnTo>
                  <a:lnTo>
                    <a:pt x="2536" y="262"/>
                  </a:lnTo>
                  <a:lnTo>
                    <a:pt x="2542" y="262"/>
                  </a:lnTo>
                  <a:lnTo>
                    <a:pt x="2548" y="262"/>
                  </a:lnTo>
                  <a:lnTo>
                    <a:pt x="2567" y="262"/>
                  </a:lnTo>
                  <a:lnTo>
                    <a:pt x="2593" y="262"/>
                  </a:lnTo>
                  <a:lnTo>
                    <a:pt x="2606" y="274"/>
                  </a:lnTo>
                  <a:lnTo>
                    <a:pt x="2618" y="286"/>
                  </a:lnTo>
                  <a:lnTo>
                    <a:pt x="2631" y="299"/>
                  </a:lnTo>
                  <a:lnTo>
                    <a:pt x="2644" y="305"/>
                  </a:lnTo>
                  <a:lnTo>
                    <a:pt x="2663" y="311"/>
                  </a:lnTo>
                  <a:lnTo>
                    <a:pt x="2682" y="324"/>
                  </a:lnTo>
                  <a:lnTo>
                    <a:pt x="2701" y="330"/>
                  </a:lnTo>
                  <a:lnTo>
                    <a:pt x="2720" y="336"/>
                  </a:lnTo>
                  <a:lnTo>
                    <a:pt x="2739" y="349"/>
                  </a:lnTo>
                  <a:lnTo>
                    <a:pt x="2771" y="349"/>
                  </a:lnTo>
                  <a:lnTo>
                    <a:pt x="2796" y="355"/>
                  </a:lnTo>
                  <a:lnTo>
                    <a:pt x="2803" y="361"/>
                  </a:lnTo>
                  <a:lnTo>
                    <a:pt x="2815" y="367"/>
                  </a:lnTo>
                  <a:lnTo>
                    <a:pt x="2822" y="367"/>
                  </a:lnTo>
                  <a:lnTo>
                    <a:pt x="2834" y="367"/>
                  </a:lnTo>
                  <a:lnTo>
                    <a:pt x="2841" y="361"/>
                  </a:lnTo>
                  <a:lnTo>
                    <a:pt x="2847" y="361"/>
                  </a:lnTo>
                  <a:lnTo>
                    <a:pt x="2853" y="355"/>
                  </a:lnTo>
                  <a:lnTo>
                    <a:pt x="2860" y="355"/>
                  </a:lnTo>
                  <a:lnTo>
                    <a:pt x="2866" y="361"/>
                  </a:lnTo>
                  <a:lnTo>
                    <a:pt x="2866" y="367"/>
                  </a:lnTo>
                  <a:lnTo>
                    <a:pt x="2873" y="374"/>
                  </a:lnTo>
                  <a:lnTo>
                    <a:pt x="2892" y="374"/>
                  </a:lnTo>
                  <a:lnTo>
                    <a:pt x="2904" y="374"/>
                  </a:lnTo>
                  <a:lnTo>
                    <a:pt x="2917" y="355"/>
                  </a:lnTo>
                  <a:lnTo>
                    <a:pt x="2936" y="349"/>
                  </a:lnTo>
                  <a:lnTo>
                    <a:pt x="2949" y="336"/>
                  </a:lnTo>
                  <a:lnTo>
                    <a:pt x="2968" y="324"/>
                  </a:lnTo>
                  <a:lnTo>
                    <a:pt x="2993" y="324"/>
                  </a:lnTo>
                  <a:lnTo>
                    <a:pt x="3012" y="330"/>
                  </a:lnTo>
                  <a:lnTo>
                    <a:pt x="3019" y="330"/>
                  </a:lnTo>
                  <a:lnTo>
                    <a:pt x="3025" y="336"/>
                  </a:lnTo>
                  <a:lnTo>
                    <a:pt x="3025" y="342"/>
                  </a:lnTo>
                  <a:lnTo>
                    <a:pt x="3025" y="349"/>
                  </a:lnTo>
                  <a:lnTo>
                    <a:pt x="3025" y="355"/>
                  </a:lnTo>
                  <a:lnTo>
                    <a:pt x="3019" y="361"/>
                  </a:lnTo>
                  <a:lnTo>
                    <a:pt x="3012" y="355"/>
                  </a:lnTo>
                  <a:lnTo>
                    <a:pt x="3000" y="355"/>
                  </a:lnTo>
                  <a:lnTo>
                    <a:pt x="2993" y="355"/>
                  </a:lnTo>
                  <a:lnTo>
                    <a:pt x="2987" y="349"/>
                  </a:lnTo>
                  <a:lnTo>
                    <a:pt x="2981" y="355"/>
                  </a:lnTo>
                  <a:lnTo>
                    <a:pt x="2974" y="355"/>
                  </a:lnTo>
                  <a:lnTo>
                    <a:pt x="2974" y="361"/>
                  </a:lnTo>
                  <a:lnTo>
                    <a:pt x="2974" y="380"/>
                  </a:lnTo>
                  <a:lnTo>
                    <a:pt x="2974" y="399"/>
                  </a:lnTo>
                  <a:lnTo>
                    <a:pt x="2981" y="417"/>
                  </a:lnTo>
                  <a:lnTo>
                    <a:pt x="2987" y="430"/>
                  </a:lnTo>
                  <a:lnTo>
                    <a:pt x="3000" y="448"/>
                  </a:lnTo>
                  <a:lnTo>
                    <a:pt x="3006" y="461"/>
                  </a:lnTo>
                  <a:lnTo>
                    <a:pt x="3012" y="486"/>
                  </a:lnTo>
                  <a:lnTo>
                    <a:pt x="3019" y="511"/>
                  </a:lnTo>
                  <a:lnTo>
                    <a:pt x="3031" y="529"/>
                  </a:lnTo>
                  <a:lnTo>
                    <a:pt x="3038" y="548"/>
                  </a:lnTo>
                  <a:lnTo>
                    <a:pt x="3050" y="560"/>
                  </a:lnTo>
                  <a:lnTo>
                    <a:pt x="3057" y="567"/>
                  </a:lnTo>
                  <a:lnTo>
                    <a:pt x="3063" y="573"/>
                  </a:lnTo>
                  <a:lnTo>
                    <a:pt x="3070" y="579"/>
                  </a:lnTo>
                  <a:lnTo>
                    <a:pt x="3070" y="591"/>
                  </a:lnTo>
                  <a:lnTo>
                    <a:pt x="3070" y="604"/>
                  </a:lnTo>
                  <a:lnTo>
                    <a:pt x="3070" y="610"/>
                  </a:lnTo>
                  <a:lnTo>
                    <a:pt x="3070" y="623"/>
                  </a:lnTo>
                  <a:lnTo>
                    <a:pt x="3082" y="635"/>
                  </a:lnTo>
                  <a:lnTo>
                    <a:pt x="3095" y="641"/>
                  </a:lnTo>
                  <a:lnTo>
                    <a:pt x="3108" y="654"/>
                  </a:lnTo>
                  <a:lnTo>
                    <a:pt x="3120" y="660"/>
                  </a:lnTo>
                  <a:lnTo>
                    <a:pt x="3127" y="666"/>
                  </a:lnTo>
                  <a:lnTo>
                    <a:pt x="3127" y="679"/>
                  </a:lnTo>
                  <a:lnTo>
                    <a:pt x="3127" y="685"/>
                  </a:lnTo>
                  <a:lnTo>
                    <a:pt x="3127" y="697"/>
                  </a:lnTo>
                  <a:lnTo>
                    <a:pt x="3127" y="710"/>
                  </a:lnTo>
                  <a:lnTo>
                    <a:pt x="3127" y="716"/>
                  </a:lnTo>
                  <a:lnTo>
                    <a:pt x="3127" y="728"/>
                  </a:lnTo>
                  <a:lnTo>
                    <a:pt x="3133" y="741"/>
                  </a:lnTo>
                  <a:lnTo>
                    <a:pt x="3133" y="747"/>
                  </a:lnTo>
                  <a:lnTo>
                    <a:pt x="3139" y="753"/>
                  </a:lnTo>
                  <a:lnTo>
                    <a:pt x="3152" y="760"/>
                  </a:lnTo>
                  <a:lnTo>
                    <a:pt x="3165" y="760"/>
                  </a:lnTo>
                  <a:lnTo>
                    <a:pt x="3178" y="766"/>
                  </a:lnTo>
                  <a:lnTo>
                    <a:pt x="3190" y="772"/>
                  </a:lnTo>
                  <a:lnTo>
                    <a:pt x="3203" y="778"/>
                  </a:lnTo>
                  <a:lnTo>
                    <a:pt x="3216" y="784"/>
                  </a:lnTo>
                  <a:lnTo>
                    <a:pt x="3216" y="791"/>
                  </a:lnTo>
                  <a:lnTo>
                    <a:pt x="3228" y="791"/>
                  </a:lnTo>
                  <a:lnTo>
                    <a:pt x="3241" y="791"/>
                  </a:lnTo>
                  <a:lnTo>
                    <a:pt x="3248" y="784"/>
                  </a:lnTo>
                  <a:lnTo>
                    <a:pt x="3260" y="784"/>
                  </a:lnTo>
                  <a:lnTo>
                    <a:pt x="3267" y="784"/>
                  </a:lnTo>
                  <a:lnTo>
                    <a:pt x="3279" y="784"/>
                  </a:lnTo>
                  <a:lnTo>
                    <a:pt x="3286" y="784"/>
                  </a:lnTo>
                  <a:lnTo>
                    <a:pt x="3298" y="784"/>
                  </a:lnTo>
                  <a:lnTo>
                    <a:pt x="3311" y="784"/>
                  </a:lnTo>
                  <a:lnTo>
                    <a:pt x="3317" y="778"/>
                  </a:lnTo>
                  <a:lnTo>
                    <a:pt x="3330" y="766"/>
                  </a:lnTo>
                  <a:lnTo>
                    <a:pt x="3343" y="753"/>
                  </a:lnTo>
                  <a:lnTo>
                    <a:pt x="3349" y="747"/>
                  </a:lnTo>
                  <a:lnTo>
                    <a:pt x="3356" y="735"/>
                  </a:lnTo>
                  <a:lnTo>
                    <a:pt x="3368" y="722"/>
                  </a:lnTo>
                  <a:lnTo>
                    <a:pt x="3394" y="710"/>
                  </a:lnTo>
                  <a:lnTo>
                    <a:pt x="3413" y="704"/>
                  </a:lnTo>
                  <a:lnTo>
                    <a:pt x="3432" y="697"/>
                  </a:lnTo>
                  <a:lnTo>
                    <a:pt x="3438" y="691"/>
                  </a:lnTo>
                  <a:lnTo>
                    <a:pt x="3451" y="691"/>
                  </a:lnTo>
                  <a:lnTo>
                    <a:pt x="3457" y="679"/>
                  </a:lnTo>
                  <a:lnTo>
                    <a:pt x="3470" y="666"/>
                  </a:lnTo>
                  <a:lnTo>
                    <a:pt x="3489" y="654"/>
                  </a:lnTo>
                  <a:lnTo>
                    <a:pt x="3495" y="647"/>
                  </a:lnTo>
                  <a:lnTo>
                    <a:pt x="3508" y="635"/>
                  </a:lnTo>
                  <a:lnTo>
                    <a:pt x="3527" y="616"/>
                  </a:lnTo>
                  <a:lnTo>
                    <a:pt x="3540" y="604"/>
                  </a:lnTo>
                  <a:lnTo>
                    <a:pt x="3546" y="598"/>
                  </a:lnTo>
                  <a:lnTo>
                    <a:pt x="3553" y="591"/>
                  </a:lnTo>
                  <a:lnTo>
                    <a:pt x="3565" y="585"/>
                  </a:lnTo>
                  <a:lnTo>
                    <a:pt x="3572" y="585"/>
                  </a:lnTo>
                  <a:lnTo>
                    <a:pt x="3578" y="591"/>
                  </a:lnTo>
                  <a:lnTo>
                    <a:pt x="3591" y="604"/>
                  </a:lnTo>
                  <a:lnTo>
                    <a:pt x="3603" y="610"/>
                  </a:lnTo>
                  <a:lnTo>
                    <a:pt x="3622" y="623"/>
                  </a:lnTo>
                  <a:lnTo>
                    <a:pt x="3642" y="635"/>
                  </a:lnTo>
                  <a:lnTo>
                    <a:pt x="3661" y="641"/>
                  </a:lnTo>
                  <a:lnTo>
                    <a:pt x="3680" y="660"/>
                  </a:lnTo>
                  <a:lnTo>
                    <a:pt x="3699" y="672"/>
                  </a:lnTo>
                  <a:lnTo>
                    <a:pt x="3711" y="685"/>
                  </a:lnTo>
                  <a:lnTo>
                    <a:pt x="3724" y="704"/>
                  </a:lnTo>
                  <a:lnTo>
                    <a:pt x="3731" y="728"/>
                  </a:lnTo>
                  <a:lnTo>
                    <a:pt x="3731" y="747"/>
                  </a:lnTo>
                  <a:lnTo>
                    <a:pt x="3731" y="760"/>
                  </a:lnTo>
                  <a:lnTo>
                    <a:pt x="3731" y="766"/>
                  </a:lnTo>
                  <a:lnTo>
                    <a:pt x="3731" y="778"/>
                  </a:lnTo>
                  <a:lnTo>
                    <a:pt x="3731" y="784"/>
                  </a:lnTo>
                  <a:lnTo>
                    <a:pt x="3731" y="791"/>
                  </a:lnTo>
                  <a:lnTo>
                    <a:pt x="3731" y="797"/>
                  </a:lnTo>
                  <a:lnTo>
                    <a:pt x="3737" y="803"/>
                  </a:lnTo>
                  <a:lnTo>
                    <a:pt x="3743" y="809"/>
                  </a:lnTo>
                  <a:lnTo>
                    <a:pt x="3756" y="809"/>
                  </a:lnTo>
                  <a:lnTo>
                    <a:pt x="3762" y="809"/>
                  </a:lnTo>
                  <a:lnTo>
                    <a:pt x="3775" y="797"/>
                  </a:lnTo>
                  <a:lnTo>
                    <a:pt x="3781" y="791"/>
                  </a:lnTo>
                  <a:lnTo>
                    <a:pt x="3794" y="791"/>
                  </a:lnTo>
                  <a:lnTo>
                    <a:pt x="3807" y="791"/>
                  </a:lnTo>
                  <a:lnTo>
                    <a:pt x="3826" y="797"/>
                  </a:lnTo>
                  <a:lnTo>
                    <a:pt x="3845" y="803"/>
                  </a:lnTo>
                  <a:lnTo>
                    <a:pt x="3858" y="809"/>
                  </a:lnTo>
                  <a:lnTo>
                    <a:pt x="3870" y="816"/>
                  </a:lnTo>
                  <a:lnTo>
                    <a:pt x="3877" y="834"/>
                  </a:lnTo>
                  <a:lnTo>
                    <a:pt x="3883" y="847"/>
                  </a:lnTo>
                  <a:lnTo>
                    <a:pt x="3889" y="865"/>
                  </a:lnTo>
                  <a:lnTo>
                    <a:pt x="3896" y="878"/>
                  </a:lnTo>
                  <a:lnTo>
                    <a:pt x="3902" y="890"/>
                  </a:lnTo>
                  <a:lnTo>
                    <a:pt x="3908" y="896"/>
                  </a:lnTo>
                  <a:lnTo>
                    <a:pt x="3915" y="896"/>
                  </a:lnTo>
                  <a:lnTo>
                    <a:pt x="3928" y="896"/>
                  </a:lnTo>
                  <a:lnTo>
                    <a:pt x="3940" y="896"/>
                  </a:lnTo>
                  <a:lnTo>
                    <a:pt x="3953" y="884"/>
                  </a:lnTo>
                  <a:lnTo>
                    <a:pt x="3966" y="872"/>
                  </a:lnTo>
                  <a:lnTo>
                    <a:pt x="3978" y="853"/>
                  </a:lnTo>
                  <a:lnTo>
                    <a:pt x="3978" y="840"/>
                  </a:lnTo>
                  <a:lnTo>
                    <a:pt x="3978" y="822"/>
                  </a:lnTo>
                  <a:lnTo>
                    <a:pt x="3985" y="809"/>
                  </a:lnTo>
                  <a:lnTo>
                    <a:pt x="3991" y="803"/>
                  </a:lnTo>
                  <a:lnTo>
                    <a:pt x="4010" y="791"/>
                  </a:lnTo>
                  <a:lnTo>
                    <a:pt x="4029" y="778"/>
                  </a:lnTo>
                  <a:lnTo>
                    <a:pt x="4036" y="766"/>
                  </a:lnTo>
                  <a:lnTo>
                    <a:pt x="4055" y="760"/>
                  </a:lnTo>
                  <a:lnTo>
                    <a:pt x="4067" y="753"/>
                  </a:lnTo>
                  <a:lnTo>
                    <a:pt x="4074" y="753"/>
                  </a:lnTo>
                  <a:lnTo>
                    <a:pt x="4093" y="747"/>
                  </a:lnTo>
                  <a:lnTo>
                    <a:pt x="4112" y="753"/>
                  </a:lnTo>
                  <a:lnTo>
                    <a:pt x="4118" y="760"/>
                  </a:lnTo>
                  <a:lnTo>
                    <a:pt x="4131" y="766"/>
                  </a:lnTo>
                  <a:lnTo>
                    <a:pt x="4144" y="778"/>
                  </a:lnTo>
                  <a:lnTo>
                    <a:pt x="4163" y="791"/>
                  </a:lnTo>
                  <a:lnTo>
                    <a:pt x="4188" y="797"/>
                  </a:lnTo>
                  <a:lnTo>
                    <a:pt x="4220" y="803"/>
                  </a:lnTo>
                  <a:lnTo>
                    <a:pt x="4245" y="803"/>
                  </a:lnTo>
                  <a:lnTo>
                    <a:pt x="4271" y="809"/>
                  </a:lnTo>
                  <a:lnTo>
                    <a:pt x="4277" y="803"/>
                  </a:lnTo>
                  <a:lnTo>
                    <a:pt x="4296" y="797"/>
                  </a:lnTo>
                  <a:lnTo>
                    <a:pt x="4309" y="791"/>
                  </a:lnTo>
                  <a:lnTo>
                    <a:pt x="4322" y="784"/>
                  </a:lnTo>
                  <a:lnTo>
                    <a:pt x="4334" y="784"/>
                  </a:lnTo>
                  <a:lnTo>
                    <a:pt x="4347" y="784"/>
                  </a:lnTo>
                  <a:lnTo>
                    <a:pt x="4360" y="778"/>
                  </a:lnTo>
                  <a:lnTo>
                    <a:pt x="4372" y="772"/>
                  </a:lnTo>
                  <a:lnTo>
                    <a:pt x="4385" y="760"/>
                  </a:lnTo>
                  <a:lnTo>
                    <a:pt x="4391" y="753"/>
                  </a:lnTo>
                  <a:lnTo>
                    <a:pt x="4404" y="747"/>
                  </a:lnTo>
                  <a:lnTo>
                    <a:pt x="4411" y="735"/>
                  </a:lnTo>
                  <a:lnTo>
                    <a:pt x="4417" y="728"/>
                  </a:lnTo>
                  <a:lnTo>
                    <a:pt x="4423" y="722"/>
                  </a:lnTo>
                  <a:lnTo>
                    <a:pt x="4430" y="722"/>
                  </a:lnTo>
                  <a:lnTo>
                    <a:pt x="4442" y="722"/>
                  </a:lnTo>
                  <a:lnTo>
                    <a:pt x="4455" y="722"/>
                  </a:lnTo>
                  <a:lnTo>
                    <a:pt x="4461" y="722"/>
                  </a:lnTo>
                  <a:lnTo>
                    <a:pt x="4468" y="722"/>
                  </a:lnTo>
                  <a:lnTo>
                    <a:pt x="4474" y="716"/>
                  </a:lnTo>
                  <a:lnTo>
                    <a:pt x="4487" y="716"/>
                  </a:lnTo>
                  <a:lnTo>
                    <a:pt x="4487" y="710"/>
                  </a:lnTo>
                  <a:lnTo>
                    <a:pt x="4493" y="710"/>
                  </a:lnTo>
                  <a:lnTo>
                    <a:pt x="4500" y="704"/>
                  </a:lnTo>
                  <a:lnTo>
                    <a:pt x="4512" y="697"/>
                  </a:lnTo>
                  <a:lnTo>
                    <a:pt x="4525" y="697"/>
                  </a:lnTo>
                  <a:lnTo>
                    <a:pt x="4538" y="697"/>
                  </a:lnTo>
                  <a:lnTo>
                    <a:pt x="4544" y="697"/>
                  </a:lnTo>
                  <a:lnTo>
                    <a:pt x="4563" y="697"/>
                  </a:lnTo>
                  <a:lnTo>
                    <a:pt x="4582" y="697"/>
                  </a:lnTo>
                  <a:lnTo>
                    <a:pt x="4595" y="697"/>
                  </a:lnTo>
                  <a:lnTo>
                    <a:pt x="4614" y="697"/>
                  </a:lnTo>
                  <a:lnTo>
                    <a:pt x="4633" y="704"/>
                  </a:lnTo>
                  <a:lnTo>
                    <a:pt x="4652" y="716"/>
                  </a:lnTo>
                  <a:lnTo>
                    <a:pt x="4658" y="722"/>
                  </a:lnTo>
                  <a:lnTo>
                    <a:pt x="4671" y="722"/>
                  </a:lnTo>
                  <a:lnTo>
                    <a:pt x="4690" y="722"/>
                  </a:lnTo>
                  <a:lnTo>
                    <a:pt x="4703" y="716"/>
                  </a:lnTo>
                  <a:lnTo>
                    <a:pt x="4709" y="710"/>
                  </a:lnTo>
                  <a:lnTo>
                    <a:pt x="4722" y="704"/>
                  </a:lnTo>
                  <a:lnTo>
                    <a:pt x="4735" y="685"/>
                  </a:lnTo>
                  <a:lnTo>
                    <a:pt x="4747" y="672"/>
                  </a:lnTo>
                  <a:lnTo>
                    <a:pt x="4754" y="660"/>
                  </a:lnTo>
                  <a:lnTo>
                    <a:pt x="4766" y="629"/>
                  </a:lnTo>
                  <a:lnTo>
                    <a:pt x="4773" y="604"/>
                  </a:lnTo>
                  <a:lnTo>
                    <a:pt x="4779" y="585"/>
                  </a:lnTo>
                  <a:lnTo>
                    <a:pt x="4779" y="573"/>
                  </a:lnTo>
                  <a:lnTo>
                    <a:pt x="4779" y="560"/>
                  </a:lnTo>
                  <a:lnTo>
                    <a:pt x="4786" y="535"/>
                  </a:lnTo>
                  <a:lnTo>
                    <a:pt x="4792" y="529"/>
                  </a:lnTo>
                  <a:lnTo>
                    <a:pt x="4792" y="517"/>
                  </a:lnTo>
                  <a:lnTo>
                    <a:pt x="4798" y="511"/>
                  </a:lnTo>
                  <a:lnTo>
                    <a:pt x="4798" y="498"/>
                  </a:lnTo>
                  <a:lnTo>
                    <a:pt x="4798" y="492"/>
                  </a:lnTo>
                  <a:lnTo>
                    <a:pt x="4811" y="498"/>
                  </a:lnTo>
                  <a:lnTo>
                    <a:pt x="4824" y="504"/>
                  </a:lnTo>
                  <a:lnTo>
                    <a:pt x="4830" y="517"/>
                  </a:lnTo>
                  <a:lnTo>
                    <a:pt x="4830" y="529"/>
                  </a:lnTo>
                  <a:lnTo>
                    <a:pt x="4830" y="554"/>
                  </a:lnTo>
                  <a:lnTo>
                    <a:pt x="4830" y="573"/>
                  </a:lnTo>
                  <a:lnTo>
                    <a:pt x="4830" y="585"/>
                  </a:lnTo>
                  <a:lnTo>
                    <a:pt x="4836" y="598"/>
                  </a:lnTo>
                  <a:lnTo>
                    <a:pt x="4836" y="610"/>
                  </a:lnTo>
                  <a:lnTo>
                    <a:pt x="4843" y="629"/>
                  </a:lnTo>
                  <a:lnTo>
                    <a:pt x="4849" y="641"/>
                  </a:lnTo>
                  <a:lnTo>
                    <a:pt x="4862" y="654"/>
                  </a:lnTo>
                  <a:lnTo>
                    <a:pt x="4862" y="660"/>
                  </a:lnTo>
                  <a:lnTo>
                    <a:pt x="4868" y="660"/>
                  </a:lnTo>
                  <a:lnTo>
                    <a:pt x="4881" y="660"/>
                  </a:lnTo>
                  <a:lnTo>
                    <a:pt x="4894" y="660"/>
                  </a:lnTo>
                  <a:lnTo>
                    <a:pt x="4900" y="654"/>
                  </a:lnTo>
                  <a:lnTo>
                    <a:pt x="4913" y="647"/>
                  </a:lnTo>
                  <a:lnTo>
                    <a:pt x="4919" y="635"/>
                  </a:lnTo>
                  <a:lnTo>
                    <a:pt x="4925" y="629"/>
                  </a:lnTo>
                  <a:lnTo>
                    <a:pt x="4932" y="616"/>
                  </a:lnTo>
                  <a:lnTo>
                    <a:pt x="4938" y="610"/>
                  </a:lnTo>
                  <a:lnTo>
                    <a:pt x="4938" y="604"/>
                  </a:lnTo>
                  <a:lnTo>
                    <a:pt x="4951" y="604"/>
                  </a:lnTo>
                  <a:lnTo>
                    <a:pt x="4957" y="610"/>
                  </a:lnTo>
                  <a:lnTo>
                    <a:pt x="4976" y="616"/>
                  </a:lnTo>
                  <a:lnTo>
                    <a:pt x="4989" y="616"/>
                  </a:lnTo>
                  <a:lnTo>
                    <a:pt x="5002" y="616"/>
                  </a:lnTo>
                  <a:lnTo>
                    <a:pt x="5014" y="610"/>
                  </a:lnTo>
                  <a:lnTo>
                    <a:pt x="5027" y="598"/>
                  </a:lnTo>
                  <a:lnTo>
                    <a:pt x="5033" y="591"/>
                  </a:lnTo>
                  <a:lnTo>
                    <a:pt x="5052" y="567"/>
                  </a:lnTo>
                  <a:lnTo>
                    <a:pt x="5065" y="554"/>
                  </a:lnTo>
                  <a:lnTo>
                    <a:pt x="5072" y="542"/>
                  </a:lnTo>
                  <a:lnTo>
                    <a:pt x="5110" y="517"/>
                  </a:lnTo>
                  <a:lnTo>
                    <a:pt x="5154" y="492"/>
                  </a:lnTo>
                  <a:lnTo>
                    <a:pt x="5218" y="461"/>
                  </a:lnTo>
                  <a:lnTo>
                    <a:pt x="5256" y="442"/>
                  </a:lnTo>
                  <a:lnTo>
                    <a:pt x="5275" y="436"/>
                  </a:lnTo>
                  <a:lnTo>
                    <a:pt x="5288" y="436"/>
                  </a:lnTo>
                  <a:lnTo>
                    <a:pt x="5294" y="436"/>
                  </a:lnTo>
                  <a:lnTo>
                    <a:pt x="5307" y="442"/>
                  </a:lnTo>
                  <a:lnTo>
                    <a:pt x="5319" y="436"/>
                  </a:lnTo>
                  <a:lnTo>
                    <a:pt x="5326" y="430"/>
                  </a:lnTo>
                  <a:lnTo>
                    <a:pt x="5332" y="423"/>
                  </a:lnTo>
                  <a:lnTo>
                    <a:pt x="5338" y="411"/>
                  </a:lnTo>
                  <a:lnTo>
                    <a:pt x="5338" y="399"/>
                  </a:lnTo>
                  <a:lnTo>
                    <a:pt x="5338" y="392"/>
                  </a:lnTo>
                  <a:lnTo>
                    <a:pt x="5338" y="380"/>
                  </a:lnTo>
                  <a:lnTo>
                    <a:pt x="5345" y="367"/>
                  </a:lnTo>
                  <a:lnTo>
                    <a:pt x="5345" y="361"/>
                  </a:lnTo>
                  <a:lnTo>
                    <a:pt x="5351" y="361"/>
                  </a:lnTo>
                  <a:lnTo>
                    <a:pt x="5364" y="361"/>
                  </a:lnTo>
                  <a:lnTo>
                    <a:pt x="5377" y="361"/>
                  </a:lnTo>
                  <a:lnTo>
                    <a:pt x="5389" y="374"/>
                  </a:lnTo>
                  <a:lnTo>
                    <a:pt x="5402" y="380"/>
                  </a:lnTo>
                  <a:lnTo>
                    <a:pt x="5415" y="386"/>
                  </a:lnTo>
                  <a:lnTo>
                    <a:pt x="5434" y="392"/>
                  </a:lnTo>
                  <a:lnTo>
                    <a:pt x="5446" y="392"/>
                  </a:lnTo>
                  <a:lnTo>
                    <a:pt x="5466" y="399"/>
                  </a:lnTo>
                  <a:lnTo>
                    <a:pt x="5491" y="405"/>
                  </a:lnTo>
                  <a:lnTo>
                    <a:pt x="5504" y="405"/>
                  </a:lnTo>
                  <a:lnTo>
                    <a:pt x="5516" y="417"/>
                  </a:lnTo>
                  <a:lnTo>
                    <a:pt x="5529" y="423"/>
                  </a:lnTo>
                  <a:lnTo>
                    <a:pt x="5529" y="436"/>
                  </a:lnTo>
                  <a:lnTo>
                    <a:pt x="5535" y="448"/>
                  </a:lnTo>
                  <a:lnTo>
                    <a:pt x="5535" y="461"/>
                  </a:lnTo>
                  <a:lnTo>
                    <a:pt x="5542" y="473"/>
                  </a:lnTo>
                  <a:lnTo>
                    <a:pt x="5561" y="492"/>
                  </a:lnTo>
                  <a:lnTo>
                    <a:pt x="5574" y="504"/>
                  </a:lnTo>
                  <a:lnTo>
                    <a:pt x="5586" y="517"/>
                  </a:lnTo>
                  <a:lnTo>
                    <a:pt x="5605" y="529"/>
                  </a:lnTo>
                  <a:lnTo>
                    <a:pt x="5618" y="548"/>
                  </a:lnTo>
                  <a:lnTo>
                    <a:pt x="5631" y="548"/>
                  </a:lnTo>
                  <a:lnTo>
                    <a:pt x="5643" y="554"/>
                  </a:lnTo>
                  <a:lnTo>
                    <a:pt x="5650" y="554"/>
                  </a:lnTo>
                  <a:lnTo>
                    <a:pt x="5669" y="567"/>
                  </a:lnTo>
                  <a:lnTo>
                    <a:pt x="5682" y="579"/>
                  </a:lnTo>
                  <a:lnTo>
                    <a:pt x="5701" y="598"/>
                  </a:lnTo>
                  <a:lnTo>
                    <a:pt x="5713" y="604"/>
                  </a:lnTo>
                  <a:lnTo>
                    <a:pt x="5720" y="616"/>
                  </a:lnTo>
                  <a:lnTo>
                    <a:pt x="5726" y="629"/>
                  </a:lnTo>
                  <a:lnTo>
                    <a:pt x="5726" y="647"/>
                  </a:lnTo>
                  <a:lnTo>
                    <a:pt x="5720" y="654"/>
                  </a:lnTo>
                  <a:lnTo>
                    <a:pt x="5720" y="666"/>
                  </a:lnTo>
                  <a:lnTo>
                    <a:pt x="5720" y="679"/>
                  </a:lnTo>
                  <a:lnTo>
                    <a:pt x="5726" y="697"/>
                  </a:lnTo>
                  <a:lnTo>
                    <a:pt x="5732" y="710"/>
                  </a:lnTo>
                  <a:lnTo>
                    <a:pt x="5745" y="728"/>
                  </a:lnTo>
                  <a:lnTo>
                    <a:pt x="5752" y="741"/>
                  </a:lnTo>
                  <a:lnTo>
                    <a:pt x="5752" y="753"/>
                  </a:lnTo>
                  <a:lnTo>
                    <a:pt x="5752" y="766"/>
                  </a:lnTo>
                  <a:lnTo>
                    <a:pt x="5745" y="778"/>
                  </a:lnTo>
                  <a:lnTo>
                    <a:pt x="5726" y="797"/>
                  </a:lnTo>
                  <a:lnTo>
                    <a:pt x="5720" y="809"/>
                  </a:lnTo>
                  <a:lnTo>
                    <a:pt x="5713" y="822"/>
                  </a:lnTo>
                  <a:lnTo>
                    <a:pt x="5713" y="834"/>
                  </a:lnTo>
                  <a:lnTo>
                    <a:pt x="5713" y="840"/>
                  </a:lnTo>
                  <a:lnTo>
                    <a:pt x="5720" y="859"/>
                  </a:lnTo>
                  <a:lnTo>
                    <a:pt x="5713" y="878"/>
                  </a:lnTo>
                  <a:lnTo>
                    <a:pt x="5707" y="896"/>
                  </a:lnTo>
                  <a:lnTo>
                    <a:pt x="5701" y="909"/>
                  </a:lnTo>
                  <a:lnTo>
                    <a:pt x="5675" y="928"/>
                  </a:lnTo>
                  <a:lnTo>
                    <a:pt x="5650" y="946"/>
                  </a:lnTo>
                  <a:lnTo>
                    <a:pt x="5637" y="959"/>
                  </a:lnTo>
                  <a:lnTo>
                    <a:pt x="5631" y="971"/>
                  </a:lnTo>
                  <a:lnTo>
                    <a:pt x="5624" y="984"/>
                  </a:lnTo>
                  <a:lnTo>
                    <a:pt x="5624" y="996"/>
                  </a:lnTo>
                  <a:lnTo>
                    <a:pt x="5618" y="1002"/>
                  </a:lnTo>
                  <a:lnTo>
                    <a:pt x="5605" y="1009"/>
                  </a:lnTo>
                  <a:lnTo>
                    <a:pt x="5599" y="1021"/>
                  </a:lnTo>
                  <a:lnTo>
                    <a:pt x="5599" y="1027"/>
                  </a:lnTo>
                  <a:lnTo>
                    <a:pt x="5599" y="1033"/>
                  </a:lnTo>
                  <a:lnTo>
                    <a:pt x="5593" y="1046"/>
                  </a:lnTo>
                  <a:lnTo>
                    <a:pt x="5586" y="1052"/>
                  </a:lnTo>
                  <a:lnTo>
                    <a:pt x="5574" y="1065"/>
                  </a:lnTo>
                  <a:lnTo>
                    <a:pt x="5567" y="1065"/>
                  </a:lnTo>
                  <a:lnTo>
                    <a:pt x="5555" y="1077"/>
                  </a:lnTo>
                  <a:lnTo>
                    <a:pt x="5548" y="1083"/>
                  </a:lnTo>
                  <a:lnTo>
                    <a:pt x="5548" y="1096"/>
                  </a:lnTo>
                  <a:lnTo>
                    <a:pt x="5548" y="1108"/>
                  </a:lnTo>
                  <a:lnTo>
                    <a:pt x="5555" y="1114"/>
                  </a:lnTo>
                  <a:lnTo>
                    <a:pt x="5561" y="1127"/>
                  </a:lnTo>
                  <a:lnTo>
                    <a:pt x="5567" y="1139"/>
                  </a:lnTo>
                  <a:lnTo>
                    <a:pt x="5574" y="1158"/>
                  </a:lnTo>
                  <a:lnTo>
                    <a:pt x="5580" y="1183"/>
                  </a:lnTo>
                  <a:lnTo>
                    <a:pt x="5586" y="1226"/>
                  </a:lnTo>
                  <a:lnTo>
                    <a:pt x="5593" y="1258"/>
                  </a:lnTo>
                  <a:lnTo>
                    <a:pt x="5605" y="1282"/>
                  </a:lnTo>
                  <a:lnTo>
                    <a:pt x="5612" y="1289"/>
                  </a:lnTo>
                  <a:lnTo>
                    <a:pt x="5624" y="1295"/>
                  </a:lnTo>
                  <a:lnTo>
                    <a:pt x="5643" y="1301"/>
                  </a:lnTo>
                  <a:lnTo>
                    <a:pt x="5688" y="1295"/>
                  </a:lnTo>
                  <a:lnTo>
                    <a:pt x="5720" y="1289"/>
                  </a:lnTo>
                  <a:lnTo>
                    <a:pt x="5726" y="1295"/>
                  </a:lnTo>
                  <a:lnTo>
                    <a:pt x="5732" y="1295"/>
                  </a:lnTo>
                  <a:lnTo>
                    <a:pt x="5745" y="1307"/>
                  </a:lnTo>
                  <a:lnTo>
                    <a:pt x="5752" y="1314"/>
                  </a:lnTo>
                  <a:lnTo>
                    <a:pt x="5771" y="1332"/>
                  </a:lnTo>
                  <a:lnTo>
                    <a:pt x="5777" y="1345"/>
                  </a:lnTo>
                  <a:lnTo>
                    <a:pt x="5771" y="1345"/>
                  </a:lnTo>
                  <a:lnTo>
                    <a:pt x="5764" y="1345"/>
                  </a:lnTo>
                  <a:lnTo>
                    <a:pt x="5752" y="1345"/>
                  </a:lnTo>
                  <a:lnTo>
                    <a:pt x="5745" y="1345"/>
                  </a:lnTo>
                  <a:lnTo>
                    <a:pt x="5739" y="1345"/>
                  </a:lnTo>
                  <a:lnTo>
                    <a:pt x="5732" y="1345"/>
                  </a:lnTo>
                  <a:lnTo>
                    <a:pt x="5726" y="1345"/>
                  </a:lnTo>
                  <a:lnTo>
                    <a:pt x="5720" y="1345"/>
                  </a:lnTo>
                  <a:lnTo>
                    <a:pt x="5713" y="1351"/>
                  </a:lnTo>
                  <a:lnTo>
                    <a:pt x="5701" y="1345"/>
                  </a:lnTo>
                  <a:lnTo>
                    <a:pt x="5694" y="1351"/>
                  </a:lnTo>
                  <a:lnTo>
                    <a:pt x="5682" y="1351"/>
                  </a:lnTo>
                  <a:lnTo>
                    <a:pt x="5682" y="1357"/>
                  </a:lnTo>
                  <a:lnTo>
                    <a:pt x="5675" y="1363"/>
                  </a:lnTo>
                  <a:lnTo>
                    <a:pt x="5663" y="1370"/>
                  </a:lnTo>
                  <a:lnTo>
                    <a:pt x="5656" y="1363"/>
                  </a:lnTo>
                  <a:lnTo>
                    <a:pt x="5650" y="1363"/>
                  </a:lnTo>
                  <a:lnTo>
                    <a:pt x="5637" y="1363"/>
                  </a:lnTo>
                  <a:lnTo>
                    <a:pt x="5637" y="1376"/>
                  </a:lnTo>
                  <a:lnTo>
                    <a:pt x="5637" y="1382"/>
                  </a:lnTo>
                  <a:lnTo>
                    <a:pt x="5631" y="1382"/>
                  </a:lnTo>
                  <a:lnTo>
                    <a:pt x="5624" y="1388"/>
                  </a:lnTo>
                  <a:lnTo>
                    <a:pt x="5618" y="1376"/>
                  </a:lnTo>
                  <a:lnTo>
                    <a:pt x="5612" y="1376"/>
                  </a:lnTo>
                  <a:lnTo>
                    <a:pt x="5612" y="1370"/>
                  </a:lnTo>
                  <a:lnTo>
                    <a:pt x="5605" y="1357"/>
                  </a:lnTo>
                  <a:lnTo>
                    <a:pt x="5599" y="1363"/>
                  </a:lnTo>
                  <a:lnTo>
                    <a:pt x="5593" y="1370"/>
                  </a:lnTo>
                  <a:lnTo>
                    <a:pt x="5586" y="1363"/>
                  </a:lnTo>
                  <a:lnTo>
                    <a:pt x="5586" y="1370"/>
                  </a:lnTo>
                  <a:lnTo>
                    <a:pt x="5574" y="1370"/>
                  </a:lnTo>
                  <a:lnTo>
                    <a:pt x="5567" y="1363"/>
                  </a:lnTo>
                  <a:lnTo>
                    <a:pt x="5561" y="1363"/>
                  </a:lnTo>
                  <a:lnTo>
                    <a:pt x="5548" y="1363"/>
                  </a:lnTo>
                  <a:lnTo>
                    <a:pt x="5548" y="1357"/>
                  </a:lnTo>
                  <a:lnTo>
                    <a:pt x="5542" y="1357"/>
                  </a:lnTo>
                  <a:lnTo>
                    <a:pt x="5535" y="1357"/>
                  </a:lnTo>
                  <a:lnTo>
                    <a:pt x="5535" y="1370"/>
                  </a:lnTo>
                  <a:lnTo>
                    <a:pt x="5535" y="1376"/>
                  </a:lnTo>
                  <a:lnTo>
                    <a:pt x="5529" y="1376"/>
                  </a:lnTo>
                  <a:lnTo>
                    <a:pt x="5523" y="1376"/>
                  </a:lnTo>
                  <a:lnTo>
                    <a:pt x="5516" y="1376"/>
                  </a:lnTo>
                  <a:lnTo>
                    <a:pt x="5510" y="1370"/>
                  </a:lnTo>
                  <a:lnTo>
                    <a:pt x="5504" y="1363"/>
                  </a:lnTo>
                  <a:lnTo>
                    <a:pt x="5497" y="1357"/>
                  </a:lnTo>
                  <a:lnTo>
                    <a:pt x="5485" y="1357"/>
                  </a:lnTo>
                  <a:lnTo>
                    <a:pt x="5478" y="1370"/>
                  </a:lnTo>
                  <a:lnTo>
                    <a:pt x="5472" y="1370"/>
                  </a:lnTo>
                  <a:lnTo>
                    <a:pt x="5466" y="1370"/>
                  </a:lnTo>
                  <a:lnTo>
                    <a:pt x="5459" y="1376"/>
                  </a:lnTo>
                  <a:lnTo>
                    <a:pt x="5453" y="1376"/>
                  </a:lnTo>
                  <a:lnTo>
                    <a:pt x="5446" y="1382"/>
                  </a:lnTo>
                  <a:lnTo>
                    <a:pt x="5446" y="1388"/>
                  </a:lnTo>
                  <a:lnTo>
                    <a:pt x="5434" y="1394"/>
                  </a:lnTo>
                  <a:lnTo>
                    <a:pt x="5427" y="1394"/>
                  </a:lnTo>
                  <a:lnTo>
                    <a:pt x="5421" y="1394"/>
                  </a:lnTo>
                  <a:lnTo>
                    <a:pt x="5415" y="1401"/>
                  </a:lnTo>
                  <a:lnTo>
                    <a:pt x="5408" y="1401"/>
                  </a:lnTo>
                  <a:lnTo>
                    <a:pt x="5408" y="1407"/>
                  </a:lnTo>
                  <a:lnTo>
                    <a:pt x="5402" y="1413"/>
                  </a:lnTo>
                  <a:lnTo>
                    <a:pt x="5396" y="1419"/>
                  </a:lnTo>
                  <a:lnTo>
                    <a:pt x="5389" y="1432"/>
                  </a:lnTo>
                  <a:lnTo>
                    <a:pt x="5389" y="1438"/>
                  </a:lnTo>
                  <a:lnTo>
                    <a:pt x="5389" y="1450"/>
                  </a:lnTo>
                  <a:lnTo>
                    <a:pt x="5383" y="1450"/>
                  </a:lnTo>
                  <a:lnTo>
                    <a:pt x="5377" y="1444"/>
                  </a:lnTo>
                  <a:lnTo>
                    <a:pt x="5377" y="1450"/>
                  </a:lnTo>
                  <a:lnTo>
                    <a:pt x="5377" y="1463"/>
                  </a:lnTo>
                  <a:lnTo>
                    <a:pt x="5370" y="1463"/>
                  </a:lnTo>
                  <a:lnTo>
                    <a:pt x="5357" y="1463"/>
                  </a:lnTo>
                  <a:lnTo>
                    <a:pt x="5351" y="1463"/>
                  </a:lnTo>
                  <a:lnTo>
                    <a:pt x="5351" y="1469"/>
                  </a:lnTo>
                  <a:lnTo>
                    <a:pt x="5338" y="1469"/>
                  </a:lnTo>
                  <a:lnTo>
                    <a:pt x="5345" y="1475"/>
                  </a:lnTo>
                  <a:lnTo>
                    <a:pt x="5345" y="1482"/>
                  </a:lnTo>
                  <a:lnTo>
                    <a:pt x="5345" y="1494"/>
                  </a:lnTo>
                  <a:lnTo>
                    <a:pt x="5338" y="1500"/>
                  </a:lnTo>
                  <a:lnTo>
                    <a:pt x="5332" y="1500"/>
                  </a:lnTo>
                  <a:lnTo>
                    <a:pt x="5326" y="1500"/>
                  </a:lnTo>
                  <a:lnTo>
                    <a:pt x="5319" y="1500"/>
                  </a:lnTo>
                  <a:lnTo>
                    <a:pt x="5313" y="1500"/>
                  </a:lnTo>
                  <a:lnTo>
                    <a:pt x="5307" y="1500"/>
                  </a:lnTo>
                  <a:lnTo>
                    <a:pt x="5307" y="1506"/>
                  </a:lnTo>
                  <a:lnTo>
                    <a:pt x="5300" y="1506"/>
                  </a:lnTo>
                  <a:lnTo>
                    <a:pt x="5294" y="1513"/>
                  </a:lnTo>
                  <a:lnTo>
                    <a:pt x="5288" y="1513"/>
                  </a:lnTo>
                  <a:lnTo>
                    <a:pt x="5288" y="1525"/>
                  </a:lnTo>
                  <a:lnTo>
                    <a:pt x="5281" y="1525"/>
                  </a:lnTo>
                  <a:lnTo>
                    <a:pt x="5275" y="1525"/>
                  </a:lnTo>
                  <a:lnTo>
                    <a:pt x="5269" y="1531"/>
                  </a:lnTo>
                  <a:lnTo>
                    <a:pt x="5262" y="1538"/>
                  </a:lnTo>
                  <a:lnTo>
                    <a:pt x="5256" y="1538"/>
                  </a:lnTo>
                  <a:lnTo>
                    <a:pt x="5256" y="1544"/>
                  </a:lnTo>
                  <a:lnTo>
                    <a:pt x="5249" y="1550"/>
                  </a:lnTo>
                  <a:lnTo>
                    <a:pt x="5243" y="1556"/>
                  </a:lnTo>
                  <a:lnTo>
                    <a:pt x="5243" y="1563"/>
                  </a:lnTo>
                  <a:lnTo>
                    <a:pt x="5230" y="1563"/>
                  </a:lnTo>
                  <a:lnTo>
                    <a:pt x="5224" y="1563"/>
                  </a:lnTo>
                  <a:lnTo>
                    <a:pt x="5218" y="1563"/>
                  </a:lnTo>
                  <a:lnTo>
                    <a:pt x="5218" y="1556"/>
                  </a:lnTo>
                  <a:lnTo>
                    <a:pt x="5211" y="1556"/>
                  </a:lnTo>
                  <a:lnTo>
                    <a:pt x="5205" y="1556"/>
                  </a:lnTo>
                  <a:lnTo>
                    <a:pt x="5205" y="1569"/>
                  </a:lnTo>
                  <a:lnTo>
                    <a:pt x="5199" y="1569"/>
                  </a:lnTo>
                  <a:lnTo>
                    <a:pt x="5199" y="1563"/>
                  </a:lnTo>
                  <a:lnTo>
                    <a:pt x="5199" y="1556"/>
                  </a:lnTo>
                  <a:lnTo>
                    <a:pt x="5192" y="1556"/>
                  </a:lnTo>
                  <a:lnTo>
                    <a:pt x="5192" y="1569"/>
                  </a:lnTo>
                  <a:lnTo>
                    <a:pt x="5192" y="1575"/>
                  </a:lnTo>
                  <a:lnTo>
                    <a:pt x="5186" y="1569"/>
                  </a:lnTo>
                  <a:lnTo>
                    <a:pt x="5180" y="1569"/>
                  </a:lnTo>
                  <a:lnTo>
                    <a:pt x="5180" y="1575"/>
                  </a:lnTo>
                  <a:lnTo>
                    <a:pt x="5173" y="1575"/>
                  </a:lnTo>
                  <a:lnTo>
                    <a:pt x="5167" y="1575"/>
                  </a:lnTo>
                  <a:lnTo>
                    <a:pt x="5154" y="1569"/>
                  </a:lnTo>
                  <a:lnTo>
                    <a:pt x="5141" y="1569"/>
                  </a:lnTo>
                  <a:lnTo>
                    <a:pt x="5135" y="1581"/>
                  </a:lnTo>
                  <a:lnTo>
                    <a:pt x="5129" y="1581"/>
                  </a:lnTo>
                  <a:lnTo>
                    <a:pt x="5129" y="1587"/>
                  </a:lnTo>
                  <a:lnTo>
                    <a:pt x="5122" y="1587"/>
                  </a:lnTo>
                  <a:lnTo>
                    <a:pt x="5122" y="1594"/>
                  </a:lnTo>
                  <a:lnTo>
                    <a:pt x="5116" y="1594"/>
                  </a:lnTo>
                  <a:lnTo>
                    <a:pt x="5110" y="1600"/>
                  </a:lnTo>
                  <a:lnTo>
                    <a:pt x="5103" y="1600"/>
                  </a:lnTo>
                  <a:lnTo>
                    <a:pt x="5103" y="1606"/>
                  </a:lnTo>
                  <a:lnTo>
                    <a:pt x="5103" y="1612"/>
                  </a:lnTo>
                  <a:lnTo>
                    <a:pt x="5097" y="1619"/>
                  </a:lnTo>
                  <a:lnTo>
                    <a:pt x="5091" y="1619"/>
                  </a:lnTo>
                  <a:lnTo>
                    <a:pt x="5091" y="1631"/>
                  </a:lnTo>
                  <a:lnTo>
                    <a:pt x="5097" y="1631"/>
                  </a:lnTo>
                  <a:lnTo>
                    <a:pt x="5097" y="1637"/>
                  </a:lnTo>
                  <a:lnTo>
                    <a:pt x="5091" y="1637"/>
                  </a:lnTo>
                  <a:lnTo>
                    <a:pt x="5091" y="1650"/>
                  </a:lnTo>
                  <a:lnTo>
                    <a:pt x="5084" y="1656"/>
                  </a:lnTo>
                  <a:lnTo>
                    <a:pt x="5078" y="1650"/>
                  </a:lnTo>
                  <a:lnTo>
                    <a:pt x="5072" y="1656"/>
                  </a:lnTo>
                  <a:lnTo>
                    <a:pt x="5065" y="1656"/>
                  </a:lnTo>
                  <a:lnTo>
                    <a:pt x="5059" y="1643"/>
                  </a:lnTo>
                  <a:lnTo>
                    <a:pt x="5059" y="1650"/>
                  </a:lnTo>
                  <a:lnTo>
                    <a:pt x="5052" y="1650"/>
                  </a:lnTo>
                  <a:lnTo>
                    <a:pt x="5052" y="1643"/>
                  </a:lnTo>
                  <a:lnTo>
                    <a:pt x="5046" y="1643"/>
                  </a:lnTo>
                  <a:lnTo>
                    <a:pt x="5046" y="1650"/>
                  </a:lnTo>
                  <a:lnTo>
                    <a:pt x="5052" y="1656"/>
                  </a:lnTo>
                  <a:lnTo>
                    <a:pt x="5046" y="1662"/>
                  </a:lnTo>
                  <a:lnTo>
                    <a:pt x="5040" y="1656"/>
                  </a:lnTo>
                  <a:lnTo>
                    <a:pt x="5033" y="1656"/>
                  </a:lnTo>
                  <a:lnTo>
                    <a:pt x="5040" y="1662"/>
                  </a:lnTo>
                  <a:lnTo>
                    <a:pt x="5033" y="1662"/>
                  </a:lnTo>
                  <a:lnTo>
                    <a:pt x="5033" y="1668"/>
                  </a:lnTo>
                  <a:lnTo>
                    <a:pt x="5021" y="1668"/>
                  </a:lnTo>
                  <a:lnTo>
                    <a:pt x="5014" y="1668"/>
                  </a:lnTo>
                  <a:lnTo>
                    <a:pt x="5014" y="1662"/>
                  </a:lnTo>
                  <a:lnTo>
                    <a:pt x="5008" y="1656"/>
                  </a:lnTo>
                  <a:lnTo>
                    <a:pt x="5008" y="1650"/>
                  </a:lnTo>
                  <a:lnTo>
                    <a:pt x="5008" y="1643"/>
                  </a:lnTo>
                  <a:lnTo>
                    <a:pt x="5002" y="1637"/>
                  </a:lnTo>
                  <a:lnTo>
                    <a:pt x="5002" y="1650"/>
                  </a:lnTo>
                  <a:lnTo>
                    <a:pt x="5002" y="1656"/>
                  </a:lnTo>
                  <a:lnTo>
                    <a:pt x="4995" y="1656"/>
                  </a:lnTo>
                  <a:lnTo>
                    <a:pt x="4983" y="1656"/>
                  </a:lnTo>
                  <a:lnTo>
                    <a:pt x="4989" y="1656"/>
                  </a:lnTo>
                  <a:lnTo>
                    <a:pt x="4989" y="1650"/>
                  </a:lnTo>
                  <a:lnTo>
                    <a:pt x="4989" y="1643"/>
                  </a:lnTo>
                  <a:lnTo>
                    <a:pt x="4983" y="1643"/>
                  </a:lnTo>
                  <a:lnTo>
                    <a:pt x="4983" y="1650"/>
                  </a:lnTo>
                  <a:lnTo>
                    <a:pt x="4976" y="1650"/>
                  </a:lnTo>
                  <a:lnTo>
                    <a:pt x="4976" y="1656"/>
                  </a:lnTo>
                  <a:lnTo>
                    <a:pt x="4970" y="1650"/>
                  </a:lnTo>
                  <a:lnTo>
                    <a:pt x="4970" y="1643"/>
                  </a:lnTo>
                  <a:lnTo>
                    <a:pt x="4970" y="1637"/>
                  </a:lnTo>
                  <a:lnTo>
                    <a:pt x="4963" y="1637"/>
                  </a:lnTo>
                  <a:lnTo>
                    <a:pt x="4957" y="1631"/>
                  </a:lnTo>
                  <a:lnTo>
                    <a:pt x="4951" y="1637"/>
                  </a:lnTo>
                  <a:lnTo>
                    <a:pt x="4944" y="1637"/>
                  </a:lnTo>
                  <a:lnTo>
                    <a:pt x="4944" y="1631"/>
                  </a:lnTo>
                  <a:lnTo>
                    <a:pt x="4938" y="1631"/>
                  </a:lnTo>
                  <a:lnTo>
                    <a:pt x="4944" y="1625"/>
                  </a:lnTo>
                  <a:lnTo>
                    <a:pt x="4944" y="1619"/>
                  </a:lnTo>
                  <a:lnTo>
                    <a:pt x="4938" y="1619"/>
                  </a:lnTo>
                  <a:lnTo>
                    <a:pt x="4938" y="1612"/>
                  </a:lnTo>
                  <a:lnTo>
                    <a:pt x="4938" y="1606"/>
                  </a:lnTo>
                  <a:lnTo>
                    <a:pt x="4932" y="1606"/>
                  </a:lnTo>
                  <a:lnTo>
                    <a:pt x="4932" y="1619"/>
                  </a:lnTo>
                  <a:lnTo>
                    <a:pt x="4932" y="1625"/>
                  </a:lnTo>
                  <a:lnTo>
                    <a:pt x="4925" y="1625"/>
                  </a:lnTo>
                  <a:lnTo>
                    <a:pt x="4919" y="1625"/>
                  </a:lnTo>
                  <a:lnTo>
                    <a:pt x="4913" y="1625"/>
                  </a:lnTo>
                  <a:lnTo>
                    <a:pt x="4913" y="1619"/>
                  </a:lnTo>
                  <a:lnTo>
                    <a:pt x="4913" y="1612"/>
                  </a:lnTo>
                  <a:lnTo>
                    <a:pt x="4913" y="1606"/>
                  </a:lnTo>
                  <a:lnTo>
                    <a:pt x="4913" y="1600"/>
                  </a:lnTo>
                  <a:lnTo>
                    <a:pt x="4906" y="1600"/>
                  </a:lnTo>
                  <a:lnTo>
                    <a:pt x="4906" y="1606"/>
                  </a:lnTo>
                  <a:lnTo>
                    <a:pt x="4900" y="1606"/>
                  </a:lnTo>
                  <a:lnTo>
                    <a:pt x="4894" y="1600"/>
                  </a:lnTo>
                  <a:lnTo>
                    <a:pt x="4887" y="1600"/>
                  </a:lnTo>
                  <a:lnTo>
                    <a:pt x="4887" y="1606"/>
                  </a:lnTo>
                  <a:lnTo>
                    <a:pt x="4874" y="1600"/>
                  </a:lnTo>
                  <a:lnTo>
                    <a:pt x="4868" y="1600"/>
                  </a:lnTo>
                  <a:lnTo>
                    <a:pt x="4881" y="1594"/>
                  </a:lnTo>
                  <a:lnTo>
                    <a:pt x="4887" y="1587"/>
                  </a:lnTo>
                  <a:lnTo>
                    <a:pt x="4874" y="1587"/>
                  </a:lnTo>
                  <a:lnTo>
                    <a:pt x="4868" y="1581"/>
                  </a:lnTo>
                  <a:lnTo>
                    <a:pt x="4862" y="1575"/>
                  </a:lnTo>
                  <a:lnTo>
                    <a:pt x="4862" y="1569"/>
                  </a:lnTo>
                  <a:lnTo>
                    <a:pt x="4855" y="1569"/>
                  </a:lnTo>
                  <a:lnTo>
                    <a:pt x="4855" y="1563"/>
                  </a:lnTo>
                  <a:lnTo>
                    <a:pt x="4849" y="1563"/>
                  </a:lnTo>
                  <a:lnTo>
                    <a:pt x="4843" y="1563"/>
                  </a:lnTo>
                  <a:lnTo>
                    <a:pt x="4836" y="1556"/>
                  </a:lnTo>
                  <a:lnTo>
                    <a:pt x="4836" y="1563"/>
                  </a:lnTo>
                  <a:lnTo>
                    <a:pt x="4830" y="1569"/>
                  </a:lnTo>
                  <a:lnTo>
                    <a:pt x="4830" y="1575"/>
                  </a:lnTo>
                  <a:lnTo>
                    <a:pt x="4824" y="1581"/>
                  </a:lnTo>
                  <a:lnTo>
                    <a:pt x="4817" y="1575"/>
                  </a:lnTo>
                  <a:lnTo>
                    <a:pt x="4817" y="1569"/>
                  </a:lnTo>
                  <a:lnTo>
                    <a:pt x="4811" y="1563"/>
                  </a:lnTo>
                  <a:lnTo>
                    <a:pt x="4811" y="1556"/>
                  </a:lnTo>
                  <a:lnTo>
                    <a:pt x="4817" y="1556"/>
                  </a:lnTo>
                  <a:lnTo>
                    <a:pt x="4824" y="1550"/>
                  </a:lnTo>
                  <a:lnTo>
                    <a:pt x="4830" y="1544"/>
                  </a:lnTo>
                  <a:lnTo>
                    <a:pt x="4824" y="1538"/>
                  </a:lnTo>
                  <a:lnTo>
                    <a:pt x="4817" y="1538"/>
                  </a:lnTo>
                  <a:lnTo>
                    <a:pt x="4811" y="1538"/>
                  </a:lnTo>
                  <a:lnTo>
                    <a:pt x="4805" y="1538"/>
                  </a:lnTo>
                  <a:lnTo>
                    <a:pt x="4798" y="1538"/>
                  </a:lnTo>
                  <a:lnTo>
                    <a:pt x="4798" y="1525"/>
                  </a:lnTo>
                  <a:lnTo>
                    <a:pt x="4798" y="1513"/>
                  </a:lnTo>
                  <a:lnTo>
                    <a:pt x="4792" y="1513"/>
                  </a:lnTo>
                  <a:lnTo>
                    <a:pt x="4786" y="1506"/>
                  </a:lnTo>
                  <a:lnTo>
                    <a:pt x="4779" y="1500"/>
                  </a:lnTo>
                  <a:lnTo>
                    <a:pt x="4779" y="1494"/>
                  </a:lnTo>
                  <a:lnTo>
                    <a:pt x="4773" y="1494"/>
                  </a:lnTo>
                  <a:lnTo>
                    <a:pt x="4773" y="1488"/>
                  </a:lnTo>
                  <a:lnTo>
                    <a:pt x="4766" y="1488"/>
                  </a:lnTo>
                  <a:lnTo>
                    <a:pt x="4766" y="1494"/>
                  </a:lnTo>
                  <a:lnTo>
                    <a:pt x="4773" y="1500"/>
                  </a:lnTo>
                  <a:lnTo>
                    <a:pt x="4773" y="1506"/>
                  </a:lnTo>
                  <a:lnTo>
                    <a:pt x="4773" y="1513"/>
                  </a:lnTo>
                  <a:lnTo>
                    <a:pt x="4766" y="1506"/>
                  </a:lnTo>
                  <a:lnTo>
                    <a:pt x="4760" y="1506"/>
                  </a:lnTo>
                  <a:lnTo>
                    <a:pt x="4754" y="1500"/>
                  </a:lnTo>
                  <a:lnTo>
                    <a:pt x="4747" y="1500"/>
                  </a:lnTo>
                  <a:lnTo>
                    <a:pt x="4735" y="1500"/>
                  </a:lnTo>
                  <a:lnTo>
                    <a:pt x="4735" y="1494"/>
                  </a:lnTo>
                  <a:lnTo>
                    <a:pt x="4728" y="1494"/>
                  </a:lnTo>
                  <a:lnTo>
                    <a:pt x="4728" y="1488"/>
                  </a:lnTo>
                  <a:lnTo>
                    <a:pt x="4728" y="1482"/>
                  </a:lnTo>
                  <a:lnTo>
                    <a:pt x="4728" y="1469"/>
                  </a:lnTo>
                  <a:lnTo>
                    <a:pt x="4722" y="1469"/>
                  </a:lnTo>
                  <a:lnTo>
                    <a:pt x="4716" y="1475"/>
                  </a:lnTo>
                  <a:lnTo>
                    <a:pt x="4709" y="1475"/>
                  </a:lnTo>
                  <a:lnTo>
                    <a:pt x="4703" y="1475"/>
                  </a:lnTo>
                  <a:lnTo>
                    <a:pt x="4703" y="1463"/>
                  </a:lnTo>
                  <a:lnTo>
                    <a:pt x="4703" y="1457"/>
                  </a:lnTo>
                  <a:lnTo>
                    <a:pt x="4703" y="1450"/>
                  </a:lnTo>
                  <a:lnTo>
                    <a:pt x="4697" y="1450"/>
                  </a:lnTo>
                  <a:lnTo>
                    <a:pt x="4690" y="1450"/>
                  </a:lnTo>
                  <a:lnTo>
                    <a:pt x="4684" y="1450"/>
                  </a:lnTo>
                  <a:lnTo>
                    <a:pt x="4690" y="1444"/>
                  </a:lnTo>
                  <a:lnTo>
                    <a:pt x="4697" y="1432"/>
                  </a:lnTo>
                  <a:lnTo>
                    <a:pt x="4697" y="1426"/>
                  </a:lnTo>
                  <a:lnTo>
                    <a:pt x="4690" y="1438"/>
                  </a:lnTo>
                  <a:lnTo>
                    <a:pt x="4684" y="1438"/>
                  </a:lnTo>
                  <a:lnTo>
                    <a:pt x="4677" y="1432"/>
                  </a:lnTo>
                  <a:lnTo>
                    <a:pt x="4671" y="1432"/>
                  </a:lnTo>
                  <a:lnTo>
                    <a:pt x="4665" y="1432"/>
                  </a:lnTo>
                  <a:lnTo>
                    <a:pt x="4665" y="1426"/>
                  </a:lnTo>
                  <a:lnTo>
                    <a:pt x="4658" y="1413"/>
                  </a:lnTo>
                  <a:lnTo>
                    <a:pt x="4652" y="1407"/>
                  </a:lnTo>
                  <a:lnTo>
                    <a:pt x="4658" y="1407"/>
                  </a:lnTo>
                  <a:lnTo>
                    <a:pt x="4658" y="1401"/>
                  </a:lnTo>
                  <a:lnTo>
                    <a:pt x="4652" y="1401"/>
                  </a:lnTo>
                  <a:lnTo>
                    <a:pt x="4646" y="1401"/>
                  </a:lnTo>
                  <a:lnTo>
                    <a:pt x="4639" y="1401"/>
                  </a:lnTo>
                  <a:lnTo>
                    <a:pt x="4633" y="1394"/>
                  </a:lnTo>
                  <a:lnTo>
                    <a:pt x="4627" y="1394"/>
                  </a:lnTo>
                  <a:lnTo>
                    <a:pt x="4620" y="1401"/>
                  </a:lnTo>
                  <a:lnTo>
                    <a:pt x="4614" y="1394"/>
                  </a:lnTo>
                  <a:lnTo>
                    <a:pt x="4608" y="1394"/>
                  </a:lnTo>
                  <a:lnTo>
                    <a:pt x="4601" y="1388"/>
                  </a:lnTo>
                  <a:lnTo>
                    <a:pt x="4595" y="1388"/>
                  </a:lnTo>
                  <a:lnTo>
                    <a:pt x="4595" y="1394"/>
                  </a:lnTo>
                  <a:lnTo>
                    <a:pt x="4588" y="1394"/>
                  </a:lnTo>
                  <a:lnTo>
                    <a:pt x="4582" y="1394"/>
                  </a:lnTo>
                  <a:lnTo>
                    <a:pt x="4576" y="1394"/>
                  </a:lnTo>
                  <a:lnTo>
                    <a:pt x="4569" y="1388"/>
                  </a:lnTo>
                  <a:lnTo>
                    <a:pt x="4569" y="1382"/>
                  </a:lnTo>
                  <a:lnTo>
                    <a:pt x="4569" y="1376"/>
                  </a:lnTo>
                  <a:lnTo>
                    <a:pt x="4563" y="1376"/>
                  </a:lnTo>
                  <a:lnTo>
                    <a:pt x="4550" y="1382"/>
                  </a:lnTo>
                  <a:lnTo>
                    <a:pt x="4550" y="1388"/>
                  </a:lnTo>
                  <a:lnTo>
                    <a:pt x="4557" y="1388"/>
                  </a:lnTo>
                  <a:lnTo>
                    <a:pt x="4557" y="1401"/>
                  </a:lnTo>
                  <a:lnTo>
                    <a:pt x="4550" y="1401"/>
                  </a:lnTo>
                  <a:lnTo>
                    <a:pt x="4544" y="1413"/>
                  </a:lnTo>
                  <a:lnTo>
                    <a:pt x="4538" y="1426"/>
                  </a:lnTo>
                  <a:lnTo>
                    <a:pt x="4531" y="1426"/>
                  </a:lnTo>
                  <a:lnTo>
                    <a:pt x="4525" y="1419"/>
                  </a:lnTo>
                  <a:lnTo>
                    <a:pt x="4531" y="1413"/>
                  </a:lnTo>
                  <a:lnTo>
                    <a:pt x="4538" y="1401"/>
                  </a:lnTo>
                  <a:lnTo>
                    <a:pt x="4544" y="1394"/>
                  </a:lnTo>
                  <a:lnTo>
                    <a:pt x="4544" y="1388"/>
                  </a:lnTo>
                  <a:lnTo>
                    <a:pt x="4538" y="1382"/>
                  </a:lnTo>
                  <a:lnTo>
                    <a:pt x="4531" y="1376"/>
                  </a:lnTo>
                  <a:lnTo>
                    <a:pt x="4525" y="1376"/>
                  </a:lnTo>
                  <a:lnTo>
                    <a:pt x="4525" y="1370"/>
                  </a:lnTo>
                  <a:lnTo>
                    <a:pt x="4519" y="1370"/>
                  </a:lnTo>
                  <a:lnTo>
                    <a:pt x="4512" y="1370"/>
                  </a:lnTo>
                  <a:lnTo>
                    <a:pt x="4506" y="1370"/>
                  </a:lnTo>
                  <a:lnTo>
                    <a:pt x="4493" y="1370"/>
                  </a:lnTo>
                  <a:lnTo>
                    <a:pt x="4487" y="1370"/>
                  </a:lnTo>
                  <a:lnTo>
                    <a:pt x="4487" y="1376"/>
                  </a:lnTo>
                  <a:lnTo>
                    <a:pt x="4487" y="1388"/>
                  </a:lnTo>
                  <a:lnTo>
                    <a:pt x="4493" y="1394"/>
                  </a:lnTo>
                  <a:lnTo>
                    <a:pt x="4493" y="1407"/>
                  </a:lnTo>
                  <a:lnTo>
                    <a:pt x="4487" y="1407"/>
                  </a:lnTo>
                  <a:lnTo>
                    <a:pt x="4480" y="1407"/>
                  </a:lnTo>
                  <a:lnTo>
                    <a:pt x="4474" y="1401"/>
                  </a:lnTo>
                  <a:lnTo>
                    <a:pt x="4474" y="1394"/>
                  </a:lnTo>
                  <a:lnTo>
                    <a:pt x="4461" y="1394"/>
                  </a:lnTo>
                  <a:lnTo>
                    <a:pt x="4455" y="1394"/>
                  </a:lnTo>
                  <a:lnTo>
                    <a:pt x="4449" y="1388"/>
                  </a:lnTo>
                  <a:lnTo>
                    <a:pt x="4442" y="1401"/>
                  </a:lnTo>
                  <a:lnTo>
                    <a:pt x="4436" y="1394"/>
                  </a:lnTo>
                  <a:lnTo>
                    <a:pt x="4430" y="1401"/>
                  </a:lnTo>
                  <a:lnTo>
                    <a:pt x="4423" y="1394"/>
                  </a:lnTo>
                  <a:lnTo>
                    <a:pt x="4417" y="1394"/>
                  </a:lnTo>
                  <a:lnTo>
                    <a:pt x="4417" y="1401"/>
                  </a:lnTo>
                  <a:lnTo>
                    <a:pt x="4411" y="1407"/>
                  </a:lnTo>
                  <a:lnTo>
                    <a:pt x="4404" y="1413"/>
                  </a:lnTo>
                  <a:lnTo>
                    <a:pt x="4398" y="1407"/>
                  </a:lnTo>
                  <a:lnTo>
                    <a:pt x="4398" y="1401"/>
                  </a:lnTo>
                  <a:lnTo>
                    <a:pt x="4404" y="1394"/>
                  </a:lnTo>
                  <a:lnTo>
                    <a:pt x="4398" y="1388"/>
                  </a:lnTo>
                  <a:lnTo>
                    <a:pt x="4391" y="1394"/>
                  </a:lnTo>
                  <a:lnTo>
                    <a:pt x="4391" y="1401"/>
                  </a:lnTo>
                  <a:lnTo>
                    <a:pt x="4391" y="1407"/>
                  </a:lnTo>
                  <a:lnTo>
                    <a:pt x="4385" y="1407"/>
                  </a:lnTo>
                  <a:lnTo>
                    <a:pt x="4379" y="1413"/>
                  </a:lnTo>
                  <a:lnTo>
                    <a:pt x="4379" y="1419"/>
                  </a:lnTo>
                  <a:lnTo>
                    <a:pt x="4372" y="1426"/>
                  </a:lnTo>
                  <a:lnTo>
                    <a:pt x="4366" y="1426"/>
                  </a:lnTo>
                  <a:lnTo>
                    <a:pt x="4366" y="1419"/>
                  </a:lnTo>
                  <a:lnTo>
                    <a:pt x="4360" y="1419"/>
                  </a:lnTo>
                  <a:lnTo>
                    <a:pt x="4360" y="1432"/>
                  </a:lnTo>
                  <a:lnTo>
                    <a:pt x="4353" y="1432"/>
                  </a:lnTo>
                  <a:lnTo>
                    <a:pt x="4353" y="1426"/>
                  </a:lnTo>
                  <a:lnTo>
                    <a:pt x="4347" y="1419"/>
                  </a:lnTo>
                  <a:lnTo>
                    <a:pt x="4347" y="1413"/>
                  </a:lnTo>
                  <a:lnTo>
                    <a:pt x="4341" y="1413"/>
                  </a:lnTo>
                  <a:lnTo>
                    <a:pt x="4334" y="1419"/>
                  </a:lnTo>
                  <a:lnTo>
                    <a:pt x="4328" y="1426"/>
                  </a:lnTo>
                  <a:lnTo>
                    <a:pt x="4322" y="1426"/>
                  </a:lnTo>
                  <a:lnTo>
                    <a:pt x="4315" y="1426"/>
                  </a:lnTo>
                  <a:lnTo>
                    <a:pt x="4315" y="1419"/>
                  </a:lnTo>
                  <a:lnTo>
                    <a:pt x="4322" y="1407"/>
                  </a:lnTo>
                  <a:lnTo>
                    <a:pt x="4328" y="1388"/>
                  </a:lnTo>
                  <a:lnTo>
                    <a:pt x="4322" y="1388"/>
                  </a:lnTo>
                  <a:lnTo>
                    <a:pt x="4315" y="1382"/>
                  </a:lnTo>
                  <a:lnTo>
                    <a:pt x="4302" y="1382"/>
                  </a:lnTo>
                  <a:lnTo>
                    <a:pt x="4296" y="1382"/>
                  </a:lnTo>
                  <a:lnTo>
                    <a:pt x="4283" y="1388"/>
                  </a:lnTo>
                  <a:lnTo>
                    <a:pt x="4283" y="1394"/>
                  </a:lnTo>
                  <a:lnTo>
                    <a:pt x="4290" y="1394"/>
                  </a:lnTo>
                  <a:lnTo>
                    <a:pt x="4290" y="1407"/>
                  </a:lnTo>
                  <a:lnTo>
                    <a:pt x="4296" y="1407"/>
                  </a:lnTo>
                  <a:lnTo>
                    <a:pt x="4302" y="1407"/>
                  </a:lnTo>
                  <a:lnTo>
                    <a:pt x="4302" y="1401"/>
                  </a:lnTo>
                  <a:lnTo>
                    <a:pt x="4315" y="1401"/>
                  </a:lnTo>
                  <a:lnTo>
                    <a:pt x="4315" y="1413"/>
                  </a:lnTo>
                  <a:lnTo>
                    <a:pt x="4309" y="1419"/>
                  </a:lnTo>
                  <a:lnTo>
                    <a:pt x="4302" y="1426"/>
                  </a:lnTo>
                  <a:lnTo>
                    <a:pt x="4296" y="1426"/>
                  </a:lnTo>
                  <a:lnTo>
                    <a:pt x="4290" y="1438"/>
                  </a:lnTo>
                  <a:lnTo>
                    <a:pt x="4290" y="1444"/>
                  </a:lnTo>
                  <a:lnTo>
                    <a:pt x="4290" y="1450"/>
                  </a:lnTo>
                  <a:lnTo>
                    <a:pt x="4283" y="1450"/>
                  </a:lnTo>
                  <a:lnTo>
                    <a:pt x="4277" y="1450"/>
                  </a:lnTo>
                  <a:lnTo>
                    <a:pt x="4277" y="1444"/>
                  </a:lnTo>
                  <a:lnTo>
                    <a:pt x="4271" y="1444"/>
                  </a:lnTo>
                  <a:lnTo>
                    <a:pt x="4264" y="1438"/>
                  </a:lnTo>
                  <a:lnTo>
                    <a:pt x="4258" y="1432"/>
                  </a:lnTo>
                  <a:lnTo>
                    <a:pt x="4252" y="1432"/>
                  </a:lnTo>
                  <a:lnTo>
                    <a:pt x="4245" y="1432"/>
                  </a:lnTo>
                  <a:lnTo>
                    <a:pt x="4239" y="1426"/>
                  </a:lnTo>
                  <a:lnTo>
                    <a:pt x="4233" y="1426"/>
                  </a:lnTo>
                  <a:lnTo>
                    <a:pt x="4226" y="1426"/>
                  </a:lnTo>
                  <a:lnTo>
                    <a:pt x="4214" y="1413"/>
                  </a:lnTo>
                  <a:lnTo>
                    <a:pt x="4214" y="1407"/>
                  </a:lnTo>
                  <a:lnTo>
                    <a:pt x="4214" y="1401"/>
                  </a:lnTo>
                  <a:lnTo>
                    <a:pt x="4207" y="1394"/>
                  </a:lnTo>
                  <a:lnTo>
                    <a:pt x="4201" y="1394"/>
                  </a:lnTo>
                  <a:lnTo>
                    <a:pt x="4194" y="1394"/>
                  </a:lnTo>
                  <a:lnTo>
                    <a:pt x="4194" y="1401"/>
                  </a:lnTo>
                  <a:lnTo>
                    <a:pt x="4194" y="1419"/>
                  </a:lnTo>
                  <a:lnTo>
                    <a:pt x="4188" y="1419"/>
                  </a:lnTo>
                  <a:lnTo>
                    <a:pt x="4182" y="1413"/>
                  </a:lnTo>
                  <a:lnTo>
                    <a:pt x="4182" y="1407"/>
                  </a:lnTo>
                  <a:lnTo>
                    <a:pt x="4175" y="1407"/>
                  </a:lnTo>
                  <a:lnTo>
                    <a:pt x="4169" y="1413"/>
                  </a:lnTo>
                  <a:lnTo>
                    <a:pt x="4163" y="1419"/>
                  </a:lnTo>
                  <a:lnTo>
                    <a:pt x="4156" y="1419"/>
                  </a:lnTo>
                  <a:lnTo>
                    <a:pt x="4150" y="1426"/>
                  </a:lnTo>
                  <a:lnTo>
                    <a:pt x="4144" y="1419"/>
                  </a:lnTo>
                  <a:lnTo>
                    <a:pt x="4131" y="1426"/>
                  </a:lnTo>
                  <a:lnTo>
                    <a:pt x="4125" y="1432"/>
                  </a:lnTo>
                  <a:lnTo>
                    <a:pt x="4118" y="1444"/>
                  </a:lnTo>
                  <a:lnTo>
                    <a:pt x="4112" y="1450"/>
                  </a:lnTo>
                  <a:lnTo>
                    <a:pt x="4112" y="1457"/>
                  </a:lnTo>
                  <a:lnTo>
                    <a:pt x="4105" y="1457"/>
                  </a:lnTo>
                  <a:lnTo>
                    <a:pt x="4105" y="1469"/>
                  </a:lnTo>
                  <a:lnTo>
                    <a:pt x="4105" y="1475"/>
                  </a:lnTo>
                  <a:lnTo>
                    <a:pt x="4105" y="1482"/>
                  </a:lnTo>
                  <a:lnTo>
                    <a:pt x="4099" y="1482"/>
                  </a:lnTo>
                  <a:lnTo>
                    <a:pt x="4099" y="1488"/>
                  </a:lnTo>
                  <a:lnTo>
                    <a:pt x="4105" y="1500"/>
                  </a:lnTo>
                  <a:lnTo>
                    <a:pt x="4105" y="1513"/>
                  </a:lnTo>
                  <a:lnTo>
                    <a:pt x="4099" y="1513"/>
                  </a:lnTo>
                  <a:lnTo>
                    <a:pt x="4105" y="1513"/>
                  </a:lnTo>
                  <a:lnTo>
                    <a:pt x="4112" y="1519"/>
                  </a:lnTo>
                  <a:lnTo>
                    <a:pt x="4112" y="1525"/>
                  </a:lnTo>
                  <a:lnTo>
                    <a:pt x="4105" y="1525"/>
                  </a:lnTo>
                  <a:lnTo>
                    <a:pt x="4105" y="1519"/>
                  </a:lnTo>
                  <a:lnTo>
                    <a:pt x="4105" y="1525"/>
                  </a:lnTo>
                  <a:lnTo>
                    <a:pt x="4093" y="1525"/>
                  </a:lnTo>
                  <a:lnTo>
                    <a:pt x="4086" y="1525"/>
                  </a:lnTo>
                  <a:lnTo>
                    <a:pt x="4086" y="1513"/>
                  </a:lnTo>
                  <a:lnTo>
                    <a:pt x="4080" y="1513"/>
                  </a:lnTo>
                  <a:lnTo>
                    <a:pt x="4074" y="1506"/>
                  </a:lnTo>
                  <a:lnTo>
                    <a:pt x="4067" y="1500"/>
                  </a:lnTo>
                  <a:lnTo>
                    <a:pt x="4061" y="1494"/>
                  </a:lnTo>
                  <a:lnTo>
                    <a:pt x="4055" y="1494"/>
                  </a:lnTo>
                  <a:lnTo>
                    <a:pt x="4055" y="1488"/>
                  </a:lnTo>
                  <a:lnTo>
                    <a:pt x="4061" y="1482"/>
                  </a:lnTo>
                  <a:lnTo>
                    <a:pt x="4061" y="1475"/>
                  </a:lnTo>
                  <a:lnTo>
                    <a:pt x="4061" y="1469"/>
                  </a:lnTo>
                  <a:lnTo>
                    <a:pt x="4055" y="1463"/>
                  </a:lnTo>
                  <a:lnTo>
                    <a:pt x="4055" y="1457"/>
                  </a:lnTo>
                  <a:lnTo>
                    <a:pt x="4042" y="1450"/>
                  </a:lnTo>
                  <a:lnTo>
                    <a:pt x="4036" y="1444"/>
                  </a:lnTo>
                  <a:lnTo>
                    <a:pt x="4023" y="1432"/>
                  </a:lnTo>
                  <a:lnTo>
                    <a:pt x="4017" y="1426"/>
                  </a:lnTo>
                  <a:lnTo>
                    <a:pt x="4010" y="1426"/>
                  </a:lnTo>
                  <a:lnTo>
                    <a:pt x="4010" y="1438"/>
                  </a:lnTo>
                  <a:lnTo>
                    <a:pt x="4004" y="1438"/>
                  </a:lnTo>
                  <a:lnTo>
                    <a:pt x="3997" y="1432"/>
                  </a:lnTo>
                  <a:lnTo>
                    <a:pt x="3997" y="1426"/>
                  </a:lnTo>
                  <a:lnTo>
                    <a:pt x="3991" y="1432"/>
                  </a:lnTo>
                  <a:lnTo>
                    <a:pt x="3978" y="1426"/>
                  </a:lnTo>
                  <a:lnTo>
                    <a:pt x="3972" y="1426"/>
                  </a:lnTo>
                  <a:lnTo>
                    <a:pt x="3972" y="1419"/>
                  </a:lnTo>
                  <a:lnTo>
                    <a:pt x="3966" y="1419"/>
                  </a:lnTo>
                  <a:lnTo>
                    <a:pt x="3966" y="1413"/>
                  </a:lnTo>
                  <a:lnTo>
                    <a:pt x="3959" y="1413"/>
                  </a:lnTo>
                  <a:lnTo>
                    <a:pt x="3959" y="1401"/>
                  </a:lnTo>
                  <a:lnTo>
                    <a:pt x="3966" y="1401"/>
                  </a:lnTo>
                  <a:lnTo>
                    <a:pt x="3966" y="1394"/>
                  </a:lnTo>
                  <a:lnTo>
                    <a:pt x="3959" y="1394"/>
                  </a:lnTo>
                  <a:lnTo>
                    <a:pt x="3953" y="1394"/>
                  </a:lnTo>
                  <a:lnTo>
                    <a:pt x="3953" y="1401"/>
                  </a:lnTo>
                  <a:lnTo>
                    <a:pt x="3947" y="1394"/>
                  </a:lnTo>
                  <a:lnTo>
                    <a:pt x="3947" y="1382"/>
                  </a:lnTo>
                  <a:lnTo>
                    <a:pt x="3940" y="1388"/>
                  </a:lnTo>
                  <a:lnTo>
                    <a:pt x="3934" y="1382"/>
                  </a:lnTo>
                  <a:lnTo>
                    <a:pt x="3934" y="1376"/>
                  </a:lnTo>
                  <a:lnTo>
                    <a:pt x="3928" y="1382"/>
                  </a:lnTo>
                  <a:lnTo>
                    <a:pt x="3928" y="1376"/>
                  </a:lnTo>
                  <a:lnTo>
                    <a:pt x="3921" y="1370"/>
                  </a:lnTo>
                  <a:lnTo>
                    <a:pt x="3915" y="1376"/>
                  </a:lnTo>
                  <a:lnTo>
                    <a:pt x="3908" y="13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28880" y="6670800"/>
              <a:ext cx="7868880" cy="3328920"/>
            </a:xfrm>
            <a:custGeom>
              <a:avLst/>
              <a:gdLst/>
              <a:ahLst/>
              <a:rect l="l" t="t" r="r" b="b"/>
              <a:pathLst>
                <a:path w="4957" h="2097">
                  <a:moveTo>
                    <a:pt x="4957" y="1195"/>
                  </a:moveTo>
                  <a:lnTo>
                    <a:pt x="4951" y="1195"/>
                  </a:lnTo>
                  <a:lnTo>
                    <a:pt x="4945" y="1201"/>
                  </a:lnTo>
                  <a:lnTo>
                    <a:pt x="4938" y="1201"/>
                  </a:lnTo>
                  <a:lnTo>
                    <a:pt x="4932" y="1201"/>
                  </a:lnTo>
                  <a:lnTo>
                    <a:pt x="4926" y="1207"/>
                  </a:lnTo>
                  <a:lnTo>
                    <a:pt x="4919" y="1207"/>
                  </a:lnTo>
                  <a:lnTo>
                    <a:pt x="4913" y="1207"/>
                  </a:lnTo>
                  <a:lnTo>
                    <a:pt x="4907" y="1213"/>
                  </a:lnTo>
                  <a:lnTo>
                    <a:pt x="4900" y="1213"/>
                  </a:lnTo>
                  <a:lnTo>
                    <a:pt x="4894" y="1213"/>
                  </a:lnTo>
                  <a:lnTo>
                    <a:pt x="4894" y="1207"/>
                  </a:lnTo>
                  <a:lnTo>
                    <a:pt x="4888" y="1201"/>
                  </a:lnTo>
                  <a:lnTo>
                    <a:pt x="4888" y="1195"/>
                  </a:lnTo>
                  <a:lnTo>
                    <a:pt x="4888" y="1189"/>
                  </a:lnTo>
                  <a:lnTo>
                    <a:pt x="4881" y="1182"/>
                  </a:lnTo>
                  <a:lnTo>
                    <a:pt x="4881" y="1170"/>
                  </a:lnTo>
                  <a:lnTo>
                    <a:pt x="4875" y="1170"/>
                  </a:lnTo>
                  <a:lnTo>
                    <a:pt x="4868" y="1170"/>
                  </a:lnTo>
                  <a:lnTo>
                    <a:pt x="4862" y="1170"/>
                  </a:lnTo>
                  <a:lnTo>
                    <a:pt x="4862" y="1176"/>
                  </a:lnTo>
                  <a:lnTo>
                    <a:pt x="4856" y="1176"/>
                  </a:lnTo>
                  <a:lnTo>
                    <a:pt x="4849" y="1182"/>
                  </a:lnTo>
                  <a:lnTo>
                    <a:pt x="4843" y="1189"/>
                  </a:lnTo>
                  <a:lnTo>
                    <a:pt x="4843" y="1195"/>
                  </a:lnTo>
                  <a:lnTo>
                    <a:pt x="4837" y="1195"/>
                  </a:lnTo>
                  <a:lnTo>
                    <a:pt x="4837" y="1207"/>
                  </a:lnTo>
                  <a:lnTo>
                    <a:pt x="4837" y="1220"/>
                  </a:lnTo>
                  <a:lnTo>
                    <a:pt x="4837" y="1226"/>
                  </a:lnTo>
                  <a:lnTo>
                    <a:pt x="4843" y="1226"/>
                  </a:lnTo>
                  <a:lnTo>
                    <a:pt x="4856" y="1232"/>
                  </a:lnTo>
                  <a:lnTo>
                    <a:pt x="4862" y="1226"/>
                  </a:lnTo>
                  <a:lnTo>
                    <a:pt x="4868" y="1226"/>
                  </a:lnTo>
                  <a:lnTo>
                    <a:pt x="4875" y="1226"/>
                  </a:lnTo>
                  <a:lnTo>
                    <a:pt x="4881" y="1220"/>
                  </a:lnTo>
                  <a:lnTo>
                    <a:pt x="4888" y="1226"/>
                  </a:lnTo>
                  <a:lnTo>
                    <a:pt x="4888" y="1232"/>
                  </a:lnTo>
                  <a:lnTo>
                    <a:pt x="4888" y="1238"/>
                  </a:lnTo>
                  <a:lnTo>
                    <a:pt x="4875" y="1245"/>
                  </a:lnTo>
                  <a:lnTo>
                    <a:pt x="4868" y="1251"/>
                  </a:lnTo>
                  <a:lnTo>
                    <a:pt x="4856" y="1251"/>
                  </a:lnTo>
                  <a:lnTo>
                    <a:pt x="4837" y="1257"/>
                  </a:lnTo>
                  <a:lnTo>
                    <a:pt x="4830" y="1251"/>
                  </a:lnTo>
                  <a:lnTo>
                    <a:pt x="4824" y="1251"/>
                  </a:lnTo>
                  <a:lnTo>
                    <a:pt x="4818" y="1245"/>
                  </a:lnTo>
                  <a:lnTo>
                    <a:pt x="4811" y="1245"/>
                  </a:lnTo>
                  <a:lnTo>
                    <a:pt x="4805" y="1245"/>
                  </a:lnTo>
                  <a:lnTo>
                    <a:pt x="4799" y="1245"/>
                  </a:lnTo>
                  <a:lnTo>
                    <a:pt x="4792" y="1251"/>
                  </a:lnTo>
                  <a:lnTo>
                    <a:pt x="4786" y="1257"/>
                  </a:lnTo>
                  <a:lnTo>
                    <a:pt x="4780" y="1263"/>
                  </a:lnTo>
                  <a:lnTo>
                    <a:pt x="4780" y="1276"/>
                  </a:lnTo>
                  <a:lnTo>
                    <a:pt x="4773" y="1288"/>
                  </a:lnTo>
                  <a:lnTo>
                    <a:pt x="4767" y="1288"/>
                  </a:lnTo>
                  <a:lnTo>
                    <a:pt x="4767" y="1294"/>
                  </a:lnTo>
                  <a:lnTo>
                    <a:pt x="4760" y="1301"/>
                  </a:lnTo>
                  <a:lnTo>
                    <a:pt x="4760" y="1307"/>
                  </a:lnTo>
                  <a:lnTo>
                    <a:pt x="4767" y="1307"/>
                  </a:lnTo>
                  <a:lnTo>
                    <a:pt x="4767" y="1319"/>
                  </a:lnTo>
                  <a:lnTo>
                    <a:pt x="4773" y="1325"/>
                  </a:lnTo>
                  <a:lnTo>
                    <a:pt x="4767" y="1332"/>
                  </a:lnTo>
                  <a:lnTo>
                    <a:pt x="4767" y="1338"/>
                  </a:lnTo>
                  <a:lnTo>
                    <a:pt x="4760" y="1344"/>
                  </a:lnTo>
                  <a:lnTo>
                    <a:pt x="4748" y="1350"/>
                  </a:lnTo>
                  <a:lnTo>
                    <a:pt x="4741" y="1350"/>
                  </a:lnTo>
                  <a:lnTo>
                    <a:pt x="4735" y="1357"/>
                  </a:lnTo>
                  <a:lnTo>
                    <a:pt x="4729" y="1369"/>
                  </a:lnTo>
                  <a:lnTo>
                    <a:pt x="4716" y="1388"/>
                  </a:lnTo>
                  <a:lnTo>
                    <a:pt x="4710" y="1394"/>
                  </a:lnTo>
                  <a:lnTo>
                    <a:pt x="4703" y="1406"/>
                  </a:lnTo>
                  <a:lnTo>
                    <a:pt x="4691" y="1413"/>
                  </a:lnTo>
                  <a:lnTo>
                    <a:pt x="4684" y="1419"/>
                  </a:lnTo>
                  <a:lnTo>
                    <a:pt x="4671" y="1425"/>
                  </a:lnTo>
                  <a:lnTo>
                    <a:pt x="4671" y="1431"/>
                  </a:lnTo>
                  <a:lnTo>
                    <a:pt x="4671" y="1444"/>
                  </a:lnTo>
                  <a:lnTo>
                    <a:pt x="4678" y="1450"/>
                  </a:lnTo>
                  <a:lnTo>
                    <a:pt x="4678" y="1456"/>
                  </a:lnTo>
                  <a:lnTo>
                    <a:pt x="4684" y="1462"/>
                  </a:lnTo>
                  <a:lnTo>
                    <a:pt x="4691" y="1475"/>
                  </a:lnTo>
                  <a:lnTo>
                    <a:pt x="4691" y="1481"/>
                  </a:lnTo>
                  <a:lnTo>
                    <a:pt x="4684" y="1481"/>
                  </a:lnTo>
                  <a:lnTo>
                    <a:pt x="4678" y="1487"/>
                  </a:lnTo>
                  <a:lnTo>
                    <a:pt x="4671" y="1487"/>
                  </a:lnTo>
                  <a:lnTo>
                    <a:pt x="4665" y="1487"/>
                  </a:lnTo>
                  <a:lnTo>
                    <a:pt x="4659" y="1481"/>
                  </a:lnTo>
                  <a:lnTo>
                    <a:pt x="4659" y="1475"/>
                  </a:lnTo>
                  <a:lnTo>
                    <a:pt x="4659" y="1469"/>
                  </a:lnTo>
                  <a:lnTo>
                    <a:pt x="4659" y="1462"/>
                  </a:lnTo>
                  <a:lnTo>
                    <a:pt x="4652" y="1456"/>
                  </a:lnTo>
                  <a:lnTo>
                    <a:pt x="4646" y="1450"/>
                  </a:lnTo>
                  <a:lnTo>
                    <a:pt x="4640" y="1450"/>
                  </a:lnTo>
                  <a:lnTo>
                    <a:pt x="4633" y="1450"/>
                  </a:lnTo>
                  <a:lnTo>
                    <a:pt x="4627" y="1456"/>
                  </a:lnTo>
                  <a:lnTo>
                    <a:pt x="4614" y="1456"/>
                  </a:lnTo>
                  <a:lnTo>
                    <a:pt x="4608" y="1456"/>
                  </a:lnTo>
                  <a:lnTo>
                    <a:pt x="4602" y="1462"/>
                  </a:lnTo>
                  <a:lnTo>
                    <a:pt x="4589" y="1462"/>
                  </a:lnTo>
                  <a:lnTo>
                    <a:pt x="4582" y="1469"/>
                  </a:lnTo>
                  <a:lnTo>
                    <a:pt x="4570" y="1475"/>
                  </a:lnTo>
                  <a:lnTo>
                    <a:pt x="4557" y="1481"/>
                  </a:lnTo>
                  <a:lnTo>
                    <a:pt x="4557" y="1487"/>
                  </a:lnTo>
                  <a:lnTo>
                    <a:pt x="4551" y="1494"/>
                  </a:lnTo>
                  <a:lnTo>
                    <a:pt x="4551" y="1506"/>
                  </a:lnTo>
                  <a:lnTo>
                    <a:pt x="4544" y="1512"/>
                  </a:lnTo>
                  <a:lnTo>
                    <a:pt x="4538" y="1512"/>
                  </a:lnTo>
                  <a:lnTo>
                    <a:pt x="4532" y="1506"/>
                  </a:lnTo>
                  <a:lnTo>
                    <a:pt x="4525" y="1487"/>
                  </a:lnTo>
                  <a:lnTo>
                    <a:pt x="4519" y="1481"/>
                  </a:lnTo>
                  <a:lnTo>
                    <a:pt x="4513" y="1475"/>
                  </a:lnTo>
                  <a:lnTo>
                    <a:pt x="4506" y="1475"/>
                  </a:lnTo>
                  <a:lnTo>
                    <a:pt x="4500" y="1475"/>
                  </a:lnTo>
                  <a:lnTo>
                    <a:pt x="4500" y="1481"/>
                  </a:lnTo>
                  <a:lnTo>
                    <a:pt x="4494" y="1487"/>
                  </a:lnTo>
                  <a:lnTo>
                    <a:pt x="4494" y="1506"/>
                  </a:lnTo>
                  <a:lnTo>
                    <a:pt x="4487" y="1525"/>
                  </a:lnTo>
                  <a:lnTo>
                    <a:pt x="4481" y="1537"/>
                  </a:lnTo>
                  <a:lnTo>
                    <a:pt x="4468" y="1543"/>
                  </a:lnTo>
                  <a:lnTo>
                    <a:pt x="4462" y="1537"/>
                  </a:lnTo>
                  <a:lnTo>
                    <a:pt x="4462" y="1531"/>
                  </a:lnTo>
                  <a:lnTo>
                    <a:pt x="4462" y="1525"/>
                  </a:lnTo>
                  <a:lnTo>
                    <a:pt x="4462" y="1518"/>
                  </a:lnTo>
                  <a:lnTo>
                    <a:pt x="4462" y="1506"/>
                  </a:lnTo>
                  <a:lnTo>
                    <a:pt x="4462" y="1500"/>
                  </a:lnTo>
                  <a:lnTo>
                    <a:pt x="4462" y="1494"/>
                  </a:lnTo>
                  <a:lnTo>
                    <a:pt x="4455" y="1487"/>
                  </a:lnTo>
                  <a:lnTo>
                    <a:pt x="4443" y="1475"/>
                  </a:lnTo>
                  <a:lnTo>
                    <a:pt x="4436" y="1475"/>
                  </a:lnTo>
                  <a:lnTo>
                    <a:pt x="4430" y="1469"/>
                  </a:lnTo>
                  <a:lnTo>
                    <a:pt x="4424" y="1462"/>
                  </a:lnTo>
                  <a:lnTo>
                    <a:pt x="4417" y="1469"/>
                  </a:lnTo>
                  <a:lnTo>
                    <a:pt x="4411" y="1469"/>
                  </a:lnTo>
                  <a:lnTo>
                    <a:pt x="4417" y="1481"/>
                  </a:lnTo>
                  <a:lnTo>
                    <a:pt x="4417" y="1494"/>
                  </a:lnTo>
                  <a:lnTo>
                    <a:pt x="4424" y="1506"/>
                  </a:lnTo>
                  <a:lnTo>
                    <a:pt x="4424" y="1512"/>
                  </a:lnTo>
                  <a:lnTo>
                    <a:pt x="4424" y="1518"/>
                  </a:lnTo>
                  <a:lnTo>
                    <a:pt x="4417" y="1525"/>
                  </a:lnTo>
                  <a:lnTo>
                    <a:pt x="4411" y="1518"/>
                  </a:lnTo>
                  <a:lnTo>
                    <a:pt x="4405" y="1512"/>
                  </a:lnTo>
                  <a:lnTo>
                    <a:pt x="4398" y="1506"/>
                  </a:lnTo>
                  <a:lnTo>
                    <a:pt x="4385" y="1506"/>
                  </a:lnTo>
                  <a:lnTo>
                    <a:pt x="4385" y="1500"/>
                  </a:lnTo>
                  <a:lnTo>
                    <a:pt x="4385" y="1494"/>
                  </a:lnTo>
                  <a:lnTo>
                    <a:pt x="4379" y="1487"/>
                  </a:lnTo>
                  <a:lnTo>
                    <a:pt x="4379" y="1481"/>
                  </a:lnTo>
                  <a:lnTo>
                    <a:pt x="4379" y="1475"/>
                  </a:lnTo>
                  <a:lnTo>
                    <a:pt x="4373" y="1475"/>
                  </a:lnTo>
                  <a:lnTo>
                    <a:pt x="4360" y="1469"/>
                  </a:lnTo>
                  <a:lnTo>
                    <a:pt x="4354" y="1462"/>
                  </a:lnTo>
                  <a:lnTo>
                    <a:pt x="4347" y="1462"/>
                  </a:lnTo>
                  <a:lnTo>
                    <a:pt x="4341" y="1462"/>
                  </a:lnTo>
                  <a:lnTo>
                    <a:pt x="4335" y="1462"/>
                  </a:lnTo>
                  <a:lnTo>
                    <a:pt x="4316" y="1469"/>
                  </a:lnTo>
                  <a:lnTo>
                    <a:pt x="4303" y="1475"/>
                  </a:lnTo>
                  <a:lnTo>
                    <a:pt x="4290" y="1481"/>
                  </a:lnTo>
                  <a:lnTo>
                    <a:pt x="4271" y="1481"/>
                  </a:lnTo>
                  <a:lnTo>
                    <a:pt x="4265" y="1494"/>
                  </a:lnTo>
                  <a:lnTo>
                    <a:pt x="4258" y="1506"/>
                  </a:lnTo>
                  <a:lnTo>
                    <a:pt x="4252" y="1512"/>
                  </a:lnTo>
                  <a:lnTo>
                    <a:pt x="4239" y="1518"/>
                  </a:lnTo>
                  <a:lnTo>
                    <a:pt x="4227" y="1525"/>
                  </a:lnTo>
                  <a:lnTo>
                    <a:pt x="4214" y="1531"/>
                  </a:lnTo>
                  <a:lnTo>
                    <a:pt x="4195" y="1531"/>
                  </a:lnTo>
                  <a:lnTo>
                    <a:pt x="4182" y="1537"/>
                  </a:lnTo>
                  <a:lnTo>
                    <a:pt x="4169" y="1543"/>
                  </a:lnTo>
                  <a:lnTo>
                    <a:pt x="4163" y="1543"/>
                  </a:lnTo>
                  <a:lnTo>
                    <a:pt x="4157" y="1550"/>
                  </a:lnTo>
                  <a:lnTo>
                    <a:pt x="4150" y="1556"/>
                  </a:lnTo>
                  <a:lnTo>
                    <a:pt x="4138" y="1556"/>
                  </a:lnTo>
                  <a:lnTo>
                    <a:pt x="4138" y="1562"/>
                  </a:lnTo>
                  <a:lnTo>
                    <a:pt x="4131" y="1568"/>
                  </a:lnTo>
                  <a:lnTo>
                    <a:pt x="4125" y="1574"/>
                  </a:lnTo>
                  <a:lnTo>
                    <a:pt x="4112" y="1581"/>
                  </a:lnTo>
                  <a:lnTo>
                    <a:pt x="4106" y="1593"/>
                  </a:lnTo>
                  <a:lnTo>
                    <a:pt x="4099" y="1599"/>
                  </a:lnTo>
                  <a:lnTo>
                    <a:pt x="4093" y="1606"/>
                  </a:lnTo>
                  <a:lnTo>
                    <a:pt x="4087" y="1612"/>
                  </a:lnTo>
                  <a:lnTo>
                    <a:pt x="4074" y="1618"/>
                  </a:lnTo>
                  <a:lnTo>
                    <a:pt x="4074" y="1624"/>
                  </a:lnTo>
                  <a:lnTo>
                    <a:pt x="4068" y="1637"/>
                  </a:lnTo>
                  <a:lnTo>
                    <a:pt x="4061" y="1637"/>
                  </a:lnTo>
                  <a:lnTo>
                    <a:pt x="4055" y="1643"/>
                  </a:lnTo>
                  <a:lnTo>
                    <a:pt x="4049" y="1649"/>
                  </a:lnTo>
                  <a:lnTo>
                    <a:pt x="4036" y="1655"/>
                  </a:lnTo>
                  <a:lnTo>
                    <a:pt x="4036" y="1662"/>
                  </a:lnTo>
                  <a:lnTo>
                    <a:pt x="4030" y="1668"/>
                  </a:lnTo>
                  <a:lnTo>
                    <a:pt x="4023" y="1668"/>
                  </a:lnTo>
                  <a:lnTo>
                    <a:pt x="4023" y="1674"/>
                  </a:lnTo>
                  <a:lnTo>
                    <a:pt x="4011" y="1668"/>
                  </a:lnTo>
                  <a:lnTo>
                    <a:pt x="4004" y="1674"/>
                  </a:lnTo>
                  <a:lnTo>
                    <a:pt x="4004" y="1680"/>
                  </a:lnTo>
                  <a:lnTo>
                    <a:pt x="4011" y="1680"/>
                  </a:lnTo>
                  <a:lnTo>
                    <a:pt x="4011" y="1687"/>
                  </a:lnTo>
                  <a:lnTo>
                    <a:pt x="4011" y="1693"/>
                  </a:lnTo>
                  <a:lnTo>
                    <a:pt x="4004" y="1693"/>
                  </a:lnTo>
                  <a:lnTo>
                    <a:pt x="4004" y="1687"/>
                  </a:lnTo>
                  <a:lnTo>
                    <a:pt x="3998" y="1687"/>
                  </a:lnTo>
                  <a:lnTo>
                    <a:pt x="3991" y="1687"/>
                  </a:lnTo>
                  <a:lnTo>
                    <a:pt x="3991" y="1693"/>
                  </a:lnTo>
                  <a:lnTo>
                    <a:pt x="3998" y="1699"/>
                  </a:lnTo>
                  <a:lnTo>
                    <a:pt x="3998" y="1705"/>
                  </a:lnTo>
                  <a:lnTo>
                    <a:pt x="3991" y="1705"/>
                  </a:lnTo>
                  <a:lnTo>
                    <a:pt x="3991" y="1711"/>
                  </a:lnTo>
                  <a:lnTo>
                    <a:pt x="3979" y="1711"/>
                  </a:lnTo>
                  <a:lnTo>
                    <a:pt x="3985" y="1718"/>
                  </a:lnTo>
                  <a:lnTo>
                    <a:pt x="3985" y="1724"/>
                  </a:lnTo>
                  <a:lnTo>
                    <a:pt x="3991" y="1730"/>
                  </a:lnTo>
                  <a:lnTo>
                    <a:pt x="3991" y="1736"/>
                  </a:lnTo>
                  <a:lnTo>
                    <a:pt x="3998" y="1736"/>
                  </a:lnTo>
                  <a:lnTo>
                    <a:pt x="3998" y="1743"/>
                  </a:lnTo>
                  <a:lnTo>
                    <a:pt x="4004" y="1743"/>
                  </a:lnTo>
                  <a:lnTo>
                    <a:pt x="4011" y="1743"/>
                  </a:lnTo>
                  <a:lnTo>
                    <a:pt x="4011" y="1749"/>
                  </a:lnTo>
                  <a:lnTo>
                    <a:pt x="4011" y="1755"/>
                  </a:lnTo>
                  <a:lnTo>
                    <a:pt x="4011" y="1761"/>
                  </a:lnTo>
                  <a:lnTo>
                    <a:pt x="4011" y="1767"/>
                  </a:lnTo>
                  <a:lnTo>
                    <a:pt x="4017" y="1761"/>
                  </a:lnTo>
                  <a:lnTo>
                    <a:pt x="4023" y="1767"/>
                  </a:lnTo>
                  <a:lnTo>
                    <a:pt x="4030" y="1767"/>
                  </a:lnTo>
                  <a:lnTo>
                    <a:pt x="4036" y="1767"/>
                  </a:lnTo>
                  <a:lnTo>
                    <a:pt x="4036" y="1774"/>
                  </a:lnTo>
                  <a:lnTo>
                    <a:pt x="4030" y="1780"/>
                  </a:lnTo>
                  <a:lnTo>
                    <a:pt x="4036" y="1780"/>
                  </a:lnTo>
                  <a:lnTo>
                    <a:pt x="4036" y="1786"/>
                  </a:lnTo>
                  <a:lnTo>
                    <a:pt x="4030" y="1792"/>
                  </a:lnTo>
                  <a:lnTo>
                    <a:pt x="4023" y="1792"/>
                  </a:lnTo>
                  <a:lnTo>
                    <a:pt x="4023" y="1799"/>
                  </a:lnTo>
                  <a:lnTo>
                    <a:pt x="4030" y="1805"/>
                  </a:lnTo>
                  <a:lnTo>
                    <a:pt x="4030" y="1811"/>
                  </a:lnTo>
                  <a:lnTo>
                    <a:pt x="4023" y="1811"/>
                  </a:lnTo>
                  <a:lnTo>
                    <a:pt x="4017" y="1811"/>
                  </a:lnTo>
                  <a:lnTo>
                    <a:pt x="4017" y="1817"/>
                  </a:lnTo>
                  <a:lnTo>
                    <a:pt x="4023" y="1823"/>
                  </a:lnTo>
                  <a:lnTo>
                    <a:pt x="4017" y="1823"/>
                  </a:lnTo>
                  <a:lnTo>
                    <a:pt x="4017" y="1830"/>
                  </a:lnTo>
                  <a:lnTo>
                    <a:pt x="4023" y="1830"/>
                  </a:lnTo>
                  <a:lnTo>
                    <a:pt x="4023" y="1836"/>
                  </a:lnTo>
                  <a:lnTo>
                    <a:pt x="4030" y="1836"/>
                  </a:lnTo>
                  <a:lnTo>
                    <a:pt x="4030" y="1842"/>
                  </a:lnTo>
                  <a:lnTo>
                    <a:pt x="4042" y="1842"/>
                  </a:lnTo>
                  <a:lnTo>
                    <a:pt x="4042" y="1848"/>
                  </a:lnTo>
                  <a:lnTo>
                    <a:pt x="4042" y="1855"/>
                  </a:lnTo>
                  <a:lnTo>
                    <a:pt x="4042" y="1861"/>
                  </a:lnTo>
                  <a:lnTo>
                    <a:pt x="4042" y="1867"/>
                  </a:lnTo>
                  <a:lnTo>
                    <a:pt x="4049" y="1873"/>
                  </a:lnTo>
                  <a:lnTo>
                    <a:pt x="4049" y="1867"/>
                  </a:lnTo>
                  <a:lnTo>
                    <a:pt x="4055" y="1873"/>
                  </a:lnTo>
                  <a:lnTo>
                    <a:pt x="4049" y="1873"/>
                  </a:lnTo>
                  <a:lnTo>
                    <a:pt x="4049" y="1879"/>
                  </a:lnTo>
                  <a:lnTo>
                    <a:pt x="4061" y="1879"/>
                  </a:lnTo>
                  <a:lnTo>
                    <a:pt x="4068" y="1879"/>
                  </a:lnTo>
                  <a:lnTo>
                    <a:pt x="4074" y="1886"/>
                  </a:lnTo>
                  <a:lnTo>
                    <a:pt x="4068" y="1886"/>
                  </a:lnTo>
                  <a:lnTo>
                    <a:pt x="4068" y="1892"/>
                  </a:lnTo>
                  <a:lnTo>
                    <a:pt x="4061" y="1892"/>
                  </a:lnTo>
                  <a:lnTo>
                    <a:pt x="4061" y="1898"/>
                  </a:lnTo>
                  <a:lnTo>
                    <a:pt x="4068" y="1904"/>
                  </a:lnTo>
                  <a:lnTo>
                    <a:pt x="4074" y="1904"/>
                  </a:lnTo>
                  <a:lnTo>
                    <a:pt x="4080" y="1911"/>
                  </a:lnTo>
                  <a:lnTo>
                    <a:pt x="4080" y="1917"/>
                  </a:lnTo>
                  <a:lnTo>
                    <a:pt x="4074" y="1911"/>
                  </a:lnTo>
                  <a:lnTo>
                    <a:pt x="4068" y="1917"/>
                  </a:lnTo>
                  <a:lnTo>
                    <a:pt x="4074" y="1923"/>
                  </a:lnTo>
                  <a:lnTo>
                    <a:pt x="4068" y="1929"/>
                  </a:lnTo>
                  <a:lnTo>
                    <a:pt x="4068" y="1936"/>
                  </a:lnTo>
                  <a:lnTo>
                    <a:pt x="4068" y="1942"/>
                  </a:lnTo>
                  <a:lnTo>
                    <a:pt x="4061" y="1948"/>
                  </a:lnTo>
                  <a:lnTo>
                    <a:pt x="4061" y="1954"/>
                  </a:lnTo>
                  <a:lnTo>
                    <a:pt x="4055" y="1954"/>
                  </a:lnTo>
                  <a:lnTo>
                    <a:pt x="4055" y="1960"/>
                  </a:lnTo>
                  <a:lnTo>
                    <a:pt x="4061" y="1960"/>
                  </a:lnTo>
                  <a:lnTo>
                    <a:pt x="4061" y="1967"/>
                  </a:lnTo>
                  <a:lnTo>
                    <a:pt x="4068" y="1967"/>
                  </a:lnTo>
                  <a:lnTo>
                    <a:pt x="4068" y="1973"/>
                  </a:lnTo>
                  <a:lnTo>
                    <a:pt x="4055" y="1973"/>
                  </a:lnTo>
                  <a:lnTo>
                    <a:pt x="4055" y="1979"/>
                  </a:lnTo>
                  <a:lnTo>
                    <a:pt x="4055" y="1985"/>
                  </a:lnTo>
                  <a:lnTo>
                    <a:pt x="4042" y="1985"/>
                  </a:lnTo>
                  <a:lnTo>
                    <a:pt x="4030" y="1985"/>
                  </a:lnTo>
                  <a:lnTo>
                    <a:pt x="4030" y="1992"/>
                  </a:lnTo>
                  <a:lnTo>
                    <a:pt x="4030" y="1998"/>
                  </a:lnTo>
                  <a:lnTo>
                    <a:pt x="4023" y="2004"/>
                  </a:lnTo>
                  <a:lnTo>
                    <a:pt x="4017" y="2004"/>
                  </a:lnTo>
                  <a:lnTo>
                    <a:pt x="4017" y="1998"/>
                  </a:lnTo>
                  <a:lnTo>
                    <a:pt x="4011" y="1998"/>
                  </a:lnTo>
                  <a:lnTo>
                    <a:pt x="4004" y="2004"/>
                  </a:lnTo>
                  <a:lnTo>
                    <a:pt x="4004" y="2016"/>
                  </a:lnTo>
                  <a:lnTo>
                    <a:pt x="4004" y="2023"/>
                  </a:lnTo>
                  <a:lnTo>
                    <a:pt x="3998" y="2023"/>
                  </a:lnTo>
                  <a:lnTo>
                    <a:pt x="3991" y="2023"/>
                  </a:lnTo>
                  <a:lnTo>
                    <a:pt x="3985" y="2023"/>
                  </a:lnTo>
                  <a:lnTo>
                    <a:pt x="3979" y="2023"/>
                  </a:lnTo>
                  <a:lnTo>
                    <a:pt x="3972" y="2023"/>
                  </a:lnTo>
                  <a:lnTo>
                    <a:pt x="3966" y="2023"/>
                  </a:lnTo>
                  <a:lnTo>
                    <a:pt x="3960" y="2023"/>
                  </a:lnTo>
                  <a:lnTo>
                    <a:pt x="3953" y="2023"/>
                  </a:lnTo>
                  <a:lnTo>
                    <a:pt x="3947" y="2023"/>
                  </a:lnTo>
                  <a:lnTo>
                    <a:pt x="3941" y="2023"/>
                  </a:lnTo>
                  <a:lnTo>
                    <a:pt x="3941" y="2016"/>
                  </a:lnTo>
                  <a:lnTo>
                    <a:pt x="3934" y="2023"/>
                  </a:lnTo>
                  <a:lnTo>
                    <a:pt x="3922" y="2023"/>
                  </a:lnTo>
                  <a:lnTo>
                    <a:pt x="3915" y="2029"/>
                  </a:lnTo>
                  <a:lnTo>
                    <a:pt x="3909" y="2029"/>
                  </a:lnTo>
                  <a:lnTo>
                    <a:pt x="3902" y="2029"/>
                  </a:lnTo>
                  <a:lnTo>
                    <a:pt x="3896" y="2035"/>
                  </a:lnTo>
                  <a:lnTo>
                    <a:pt x="3890" y="2035"/>
                  </a:lnTo>
                  <a:lnTo>
                    <a:pt x="3883" y="2035"/>
                  </a:lnTo>
                  <a:lnTo>
                    <a:pt x="3877" y="2041"/>
                  </a:lnTo>
                  <a:lnTo>
                    <a:pt x="3871" y="2041"/>
                  </a:lnTo>
                  <a:lnTo>
                    <a:pt x="3871" y="2048"/>
                  </a:lnTo>
                  <a:lnTo>
                    <a:pt x="3871" y="2054"/>
                  </a:lnTo>
                  <a:lnTo>
                    <a:pt x="3877" y="2060"/>
                  </a:lnTo>
                  <a:lnTo>
                    <a:pt x="3877" y="2072"/>
                  </a:lnTo>
                  <a:lnTo>
                    <a:pt x="3877" y="2079"/>
                  </a:lnTo>
                  <a:lnTo>
                    <a:pt x="3877" y="2085"/>
                  </a:lnTo>
                  <a:lnTo>
                    <a:pt x="3871" y="2091"/>
                  </a:lnTo>
                  <a:lnTo>
                    <a:pt x="3871" y="2097"/>
                  </a:lnTo>
                  <a:lnTo>
                    <a:pt x="3845" y="2060"/>
                  </a:lnTo>
                  <a:lnTo>
                    <a:pt x="3833" y="2048"/>
                  </a:lnTo>
                  <a:lnTo>
                    <a:pt x="3820" y="2029"/>
                  </a:lnTo>
                  <a:lnTo>
                    <a:pt x="3813" y="2016"/>
                  </a:lnTo>
                  <a:lnTo>
                    <a:pt x="3801" y="2010"/>
                  </a:lnTo>
                  <a:lnTo>
                    <a:pt x="3801" y="1992"/>
                  </a:lnTo>
                  <a:lnTo>
                    <a:pt x="3788" y="1985"/>
                  </a:lnTo>
                  <a:lnTo>
                    <a:pt x="3775" y="1967"/>
                  </a:lnTo>
                  <a:lnTo>
                    <a:pt x="3769" y="1954"/>
                  </a:lnTo>
                  <a:lnTo>
                    <a:pt x="3763" y="1936"/>
                  </a:lnTo>
                  <a:lnTo>
                    <a:pt x="3744" y="1923"/>
                  </a:lnTo>
                  <a:lnTo>
                    <a:pt x="3737" y="1911"/>
                  </a:lnTo>
                  <a:lnTo>
                    <a:pt x="3725" y="1911"/>
                  </a:lnTo>
                  <a:lnTo>
                    <a:pt x="3705" y="1917"/>
                  </a:lnTo>
                  <a:lnTo>
                    <a:pt x="3693" y="1923"/>
                  </a:lnTo>
                  <a:lnTo>
                    <a:pt x="3680" y="1929"/>
                  </a:lnTo>
                  <a:lnTo>
                    <a:pt x="3661" y="1929"/>
                  </a:lnTo>
                  <a:lnTo>
                    <a:pt x="3636" y="1936"/>
                  </a:lnTo>
                  <a:lnTo>
                    <a:pt x="3616" y="1929"/>
                  </a:lnTo>
                  <a:lnTo>
                    <a:pt x="3604" y="1929"/>
                  </a:lnTo>
                  <a:lnTo>
                    <a:pt x="3591" y="1929"/>
                  </a:lnTo>
                  <a:lnTo>
                    <a:pt x="3578" y="1917"/>
                  </a:lnTo>
                  <a:lnTo>
                    <a:pt x="3566" y="1904"/>
                  </a:lnTo>
                  <a:lnTo>
                    <a:pt x="3553" y="1898"/>
                  </a:lnTo>
                  <a:lnTo>
                    <a:pt x="3547" y="1898"/>
                  </a:lnTo>
                  <a:lnTo>
                    <a:pt x="3527" y="1911"/>
                  </a:lnTo>
                  <a:lnTo>
                    <a:pt x="3515" y="1923"/>
                  </a:lnTo>
                  <a:lnTo>
                    <a:pt x="3489" y="1917"/>
                  </a:lnTo>
                  <a:lnTo>
                    <a:pt x="3470" y="1911"/>
                  </a:lnTo>
                  <a:lnTo>
                    <a:pt x="3451" y="1911"/>
                  </a:lnTo>
                  <a:lnTo>
                    <a:pt x="3432" y="1917"/>
                  </a:lnTo>
                  <a:lnTo>
                    <a:pt x="3413" y="1923"/>
                  </a:lnTo>
                  <a:lnTo>
                    <a:pt x="3400" y="1929"/>
                  </a:lnTo>
                  <a:lnTo>
                    <a:pt x="3381" y="1929"/>
                  </a:lnTo>
                  <a:lnTo>
                    <a:pt x="3362" y="1929"/>
                  </a:lnTo>
                  <a:lnTo>
                    <a:pt x="3350" y="1929"/>
                  </a:lnTo>
                  <a:lnTo>
                    <a:pt x="3337" y="1942"/>
                  </a:lnTo>
                  <a:lnTo>
                    <a:pt x="3311" y="1954"/>
                  </a:lnTo>
                  <a:lnTo>
                    <a:pt x="3292" y="1954"/>
                  </a:lnTo>
                  <a:lnTo>
                    <a:pt x="3286" y="1948"/>
                  </a:lnTo>
                  <a:lnTo>
                    <a:pt x="3280" y="1942"/>
                  </a:lnTo>
                  <a:lnTo>
                    <a:pt x="3273" y="1936"/>
                  </a:lnTo>
                  <a:lnTo>
                    <a:pt x="3261" y="1929"/>
                  </a:lnTo>
                  <a:lnTo>
                    <a:pt x="3248" y="1929"/>
                  </a:lnTo>
                  <a:lnTo>
                    <a:pt x="3229" y="1929"/>
                  </a:lnTo>
                  <a:lnTo>
                    <a:pt x="3210" y="1929"/>
                  </a:lnTo>
                  <a:lnTo>
                    <a:pt x="3197" y="1929"/>
                  </a:lnTo>
                  <a:lnTo>
                    <a:pt x="3184" y="1929"/>
                  </a:lnTo>
                  <a:lnTo>
                    <a:pt x="3159" y="1923"/>
                  </a:lnTo>
                  <a:lnTo>
                    <a:pt x="3140" y="1917"/>
                  </a:lnTo>
                  <a:lnTo>
                    <a:pt x="3114" y="1904"/>
                  </a:lnTo>
                  <a:lnTo>
                    <a:pt x="3095" y="1886"/>
                  </a:lnTo>
                  <a:lnTo>
                    <a:pt x="3076" y="1873"/>
                  </a:lnTo>
                  <a:lnTo>
                    <a:pt x="3057" y="1867"/>
                  </a:lnTo>
                  <a:lnTo>
                    <a:pt x="3044" y="1861"/>
                  </a:lnTo>
                  <a:lnTo>
                    <a:pt x="3032" y="1848"/>
                  </a:lnTo>
                  <a:lnTo>
                    <a:pt x="3019" y="1836"/>
                  </a:lnTo>
                  <a:lnTo>
                    <a:pt x="3006" y="1830"/>
                  </a:lnTo>
                  <a:lnTo>
                    <a:pt x="2994" y="1823"/>
                  </a:lnTo>
                  <a:lnTo>
                    <a:pt x="2975" y="1817"/>
                  </a:lnTo>
                  <a:lnTo>
                    <a:pt x="2962" y="1811"/>
                  </a:lnTo>
                  <a:lnTo>
                    <a:pt x="2949" y="1799"/>
                  </a:lnTo>
                  <a:lnTo>
                    <a:pt x="2936" y="1786"/>
                  </a:lnTo>
                  <a:lnTo>
                    <a:pt x="2924" y="1780"/>
                  </a:lnTo>
                  <a:lnTo>
                    <a:pt x="2905" y="1780"/>
                  </a:lnTo>
                  <a:lnTo>
                    <a:pt x="2886" y="1780"/>
                  </a:lnTo>
                  <a:lnTo>
                    <a:pt x="2886" y="1786"/>
                  </a:lnTo>
                  <a:lnTo>
                    <a:pt x="2873" y="1786"/>
                  </a:lnTo>
                  <a:lnTo>
                    <a:pt x="2860" y="1786"/>
                  </a:lnTo>
                  <a:lnTo>
                    <a:pt x="2841" y="1780"/>
                  </a:lnTo>
                  <a:lnTo>
                    <a:pt x="2822" y="1780"/>
                  </a:lnTo>
                  <a:lnTo>
                    <a:pt x="2809" y="1780"/>
                  </a:lnTo>
                  <a:lnTo>
                    <a:pt x="2797" y="1774"/>
                  </a:lnTo>
                  <a:lnTo>
                    <a:pt x="2778" y="1761"/>
                  </a:lnTo>
                  <a:lnTo>
                    <a:pt x="2746" y="1749"/>
                  </a:lnTo>
                  <a:lnTo>
                    <a:pt x="2733" y="1743"/>
                  </a:lnTo>
                  <a:lnTo>
                    <a:pt x="2720" y="1743"/>
                  </a:lnTo>
                  <a:lnTo>
                    <a:pt x="2708" y="1749"/>
                  </a:lnTo>
                  <a:lnTo>
                    <a:pt x="2682" y="1755"/>
                  </a:lnTo>
                  <a:lnTo>
                    <a:pt x="2663" y="1755"/>
                  </a:lnTo>
                  <a:lnTo>
                    <a:pt x="2650" y="1755"/>
                  </a:lnTo>
                  <a:lnTo>
                    <a:pt x="2625" y="1755"/>
                  </a:lnTo>
                  <a:lnTo>
                    <a:pt x="2612" y="1755"/>
                  </a:lnTo>
                  <a:lnTo>
                    <a:pt x="2600" y="1755"/>
                  </a:lnTo>
                  <a:lnTo>
                    <a:pt x="2593" y="1749"/>
                  </a:lnTo>
                  <a:lnTo>
                    <a:pt x="2574" y="1736"/>
                  </a:lnTo>
                  <a:lnTo>
                    <a:pt x="2561" y="1724"/>
                  </a:lnTo>
                  <a:lnTo>
                    <a:pt x="2542" y="1718"/>
                  </a:lnTo>
                  <a:lnTo>
                    <a:pt x="2530" y="1711"/>
                  </a:lnTo>
                  <a:lnTo>
                    <a:pt x="2517" y="1699"/>
                  </a:lnTo>
                  <a:lnTo>
                    <a:pt x="2504" y="1699"/>
                  </a:lnTo>
                  <a:lnTo>
                    <a:pt x="2492" y="1705"/>
                  </a:lnTo>
                  <a:lnTo>
                    <a:pt x="2479" y="1711"/>
                  </a:lnTo>
                  <a:lnTo>
                    <a:pt x="2460" y="1711"/>
                  </a:lnTo>
                  <a:lnTo>
                    <a:pt x="2441" y="1711"/>
                  </a:lnTo>
                  <a:lnTo>
                    <a:pt x="2434" y="1711"/>
                  </a:lnTo>
                  <a:lnTo>
                    <a:pt x="2415" y="1711"/>
                  </a:lnTo>
                  <a:lnTo>
                    <a:pt x="2409" y="1705"/>
                  </a:lnTo>
                  <a:lnTo>
                    <a:pt x="2403" y="1705"/>
                  </a:lnTo>
                  <a:lnTo>
                    <a:pt x="2396" y="1699"/>
                  </a:lnTo>
                  <a:lnTo>
                    <a:pt x="2390" y="1693"/>
                  </a:lnTo>
                  <a:lnTo>
                    <a:pt x="2384" y="1687"/>
                  </a:lnTo>
                  <a:lnTo>
                    <a:pt x="2371" y="1687"/>
                  </a:lnTo>
                  <a:lnTo>
                    <a:pt x="2364" y="1680"/>
                  </a:lnTo>
                  <a:lnTo>
                    <a:pt x="2358" y="1674"/>
                  </a:lnTo>
                  <a:lnTo>
                    <a:pt x="2352" y="1662"/>
                  </a:lnTo>
                  <a:lnTo>
                    <a:pt x="2345" y="1662"/>
                  </a:lnTo>
                  <a:lnTo>
                    <a:pt x="2339" y="1662"/>
                  </a:lnTo>
                  <a:lnTo>
                    <a:pt x="2339" y="1649"/>
                  </a:lnTo>
                  <a:lnTo>
                    <a:pt x="2333" y="1649"/>
                  </a:lnTo>
                  <a:lnTo>
                    <a:pt x="2326" y="1649"/>
                  </a:lnTo>
                  <a:lnTo>
                    <a:pt x="2320" y="1643"/>
                  </a:lnTo>
                  <a:lnTo>
                    <a:pt x="2301" y="1643"/>
                  </a:lnTo>
                  <a:lnTo>
                    <a:pt x="2295" y="1649"/>
                  </a:lnTo>
                  <a:lnTo>
                    <a:pt x="2288" y="1643"/>
                  </a:lnTo>
                  <a:lnTo>
                    <a:pt x="2275" y="1649"/>
                  </a:lnTo>
                  <a:lnTo>
                    <a:pt x="2263" y="1637"/>
                  </a:lnTo>
                  <a:lnTo>
                    <a:pt x="2250" y="1637"/>
                  </a:lnTo>
                  <a:lnTo>
                    <a:pt x="2237" y="1637"/>
                  </a:lnTo>
                  <a:lnTo>
                    <a:pt x="2225" y="1643"/>
                  </a:lnTo>
                  <a:lnTo>
                    <a:pt x="2212" y="1637"/>
                  </a:lnTo>
                  <a:lnTo>
                    <a:pt x="2199" y="1631"/>
                  </a:lnTo>
                  <a:lnTo>
                    <a:pt x="2193" y="1631"/>
                  </a:lnTo>
                  <a:lnTo>
                    <a:pt x="2174" y="1631"/>
                  </a:lnTo>
                  <a:lnTo>
                    <a:pt x="2167" y="1637"/>
                  </a:lnTo>
                  <a:lnTo>
                    <a:pt x="2148" y="1637"/>
                  </a:lnTo>
                  <a:lnTo>
                    <a:pt x="2136" y="1637"/>
                  </a:lnTo>
                  <a:lnTo>
                    <a:pt x="2123" y="1637"/>
                  </a:lnTo>
                  <a:lnTo>
                    <a:pt x="2110" y="1643"/>
                  </a:lnTo>
                  <a:lnTo>
                    <a:pt x="2104" y="1649"/>
                  </a:lnTo>
                  <a:lnTo>
                    <a:pt x="2085" y="1662"/>
                  </a:lnTo>
                  <a:lnTo>
                    <a:pt x="2066" y="1668"/>
                  </a:lnTo>
                  <a:lnTo>
                    <a:pt x="2053" y="1668"/>
                  </a:lnTo>
                  <a:lnTo>
                    <a:pt x="2040" y="1668"/>
                  </a:lnTo>
                  <a:lnTo>
                    <a:pt x="2028" y="1662"/>
                  </a:lnTo>
                  <a:lnTo>
                    <a:pt x="2015" y="1662"/>
                  </a:lnTo>
                  <a:lnTo>
                    <a:pt x="1996" y="1655"/>
                  </a:lnTo>
                  <a:lnTo>
                    <a:pt x="1977" y="1649"/>
                  </a:lnTo>
                  <a:lnTo>
                    <a:pt x="1951" y="1643"/>
                  </a:lnTo>
                  <a:lnTo>
                    <a:pt x="1945" y="1643"/>
                  </a:lnTo>
                  <a:lnTo>
                    <a:pt x="1932" y="1655"/>
                  </a:lnTo>
                  <a:lnTo>
                    <a:pt x="1920" y="1668"/>
                  </a:lnTo>
                  <a:lnTo>
                    <a:pt x="1907" y="1674"/>
                  </a:lnTo>
                  <a:lnTo>
                    <a:pt x="1894" y="1680"/>
                  </a:lnTo>
                  <a:lnTo>
                    <a:pt x="1875" y="1687"/>
                  </a:lnTo>
                  <a:lnTo>
                    <a:pt x="1856" y="1693"/>
                  </a:lnTo>
                  <a:lnTo>
                    <a:pt x="1831" y="1699"/>
                  </a:lnTo>
                  <a:lnTo>
                    <a:pt x="1818" y="1699"/>
                  </a:lnTo>
                  <a:lnTo>
                    <a:pt x="1805" y="1693"/>
                  </a:lnTo>
                  <a:lnTo>
                    <a:pt x="1792" y="1680"/>
                  </a:lnTo>
                  <a:lnTo>
                    <a:pt x="1780" y="1668"/>
                  </a:lnTo>
                  <a:lnTo>
                    <a:pt x="1773" y="1655"/>
                  </a:lnTo>
                  <a:lnTo>
                    <a:pt x="1767" y="1643"/>
                  </a:lnTo>
                  <a:lnTo>
                    <a:pt x="1754" y="1637"/>
                  </a:lnTo>
                  <a:lnTo>
                    <a:pt x="1748" y="1637"/>
                  </a:lnTo>
                  <a:lnTo>
                    <a:pt x="1735" y="1637"/>
                  </a:lnTo>
                  <a:lnTo>
                    <a:pt x="1716" y="1637"/>
                  </a:lnTo>
                  <a:lnTo>
                    <a:pt x="1703" y="1624"/>
                  </a:lnTo>
                  <a:lnTo>
                    <a:pt x="1691" y="1612"/>
                  </a:lnTo>
                  <a:lnTo>
                    <a:pt x="1672" y="1599"/>
                  </a:lnTo>
                  <a:lnTo>
                    <a:pt x="1653" y="1587"/>
                  </a:lnTo>
                  <a:lnTo>
                    <a:pt x="1646" y="1581"/>
                  </a:lnTo>
                  <a:lnTo>
                    <a:pt x="1634" y="1574"/>
                  </a:lnTo>
                  <a:lnTo>
                    <a:pt x="1627" y="1562"/>
                  </a:lnTo>
                  <a:lnTo>
                    <a:pt x="1615" y="1550"/>
                  </a:lnTo>
                  <a:lnTo>
                    <a:pt x="1602" y="1531"/>
                  </a:lnTo>
                  <a:lnTo>
                    <a:pt x="1589" y="1525"/>
                  </a:lnTo>
                  <a:lnTo>
                    <a:pt x="1570" y="1525"/>
                  </a:lnTo>
                  <a:lnTo>
                    <a:pt x="1557" y="1525"/>
                  </a:lnTo>
                  <a:lnTo>
                    <a:pt x="1532" y="1531"/>
                  </a:lnTo>
                  <a:lnTo>
                    <a:pt x="1506" y="1525"/>
                  </a:lnTo>
                  <a:lnTo>
                    <a:pt x="1487" y="1525"/>
                  </a:lnTo>
                  <a:lnTo>
                    <a:pt x="1456" y="1525"/>
                  </a:lnTo>
                  <a:lnTo>
                    <a:pt x="1443" y="1543"/>
                  </a:lnTo>
                  <a:lnTo>
                    <a:pt x="1430" y="1556"/>
                  </a:lnTo>
                  <a:lnTo>
                    <a:pt x="1418" y="1562"/>
                  </a:lnTo>
                  <a:lnTo>
                    <a:pt x="1411" y="1568"/>
                  </a:lnTo>
                  <a:lnTo>
                    <a:pt x="1392" y="1574"/>
                  </a:lnTo>
                  <a:lnTo>
                    <a:pt x="1367" y="1574"/>
                  </a:lnTo>
                  <a:lnTo>
                    <a:pt x="1341" y="1581"/>
                  </a:lnTo>
                  <a:lnTo>
                    <a:pt x="1322" y="1581"/>
                  </a:lnTo>
                  <a:lnTo>
                    <a:pt x="1297" y="1581"/>
                  </a:lnTo>
                  <a:lnTo>
                    <a:pt x="1278" y="1581"/>
                  </a:lnTo>
                  <a:lnTo>
                    <a:pt x="1259" y="1574"/>
                  </a:lnTo>
                  <a:lnTo>
                    <a:pt x="1240" y="1556"/>
                  </a:lnTo>
                  <a:lnTo>
                    <a:pt x="1227" y="1550"/>
                  </a:lnTo>
                  <a:lnTo>
                    <a:pt x="1214" y="1543"/>
                  </a:lnTo>
                  <a:lnTo>
                    <a:pt x="1163" y="1543"/>
                  </a:lnTo>
                  <a:lnTo>
                    <a:pt x="1157" y="1537"/>
                  </a:lnTo>
                  <a:lnTo>
                    <a:pt x="1157" y="1531"/>
                  </a:lnTo>
                  <a:lnTo>
                    <a:pt x="1151" y="1518"/>
                  </a:lnTo>
                  <a:lnTo>
                    <a:pt x="1144" y="1512"/>
                  </a:lnTo>
                  <a:lnTo>
                    <a:pt x="1144" y="1494"/>
                  </a:lnTo>
                  <a:lnTo>
                    <a:pt x="1138" y="1487"/>
                  </a:lnTo>
                  <a:lnTo>
                    <a:pt x="1132" y="1469"/>
                  </a:lnTo>
                  <a:lnTo>
                    <a:pt x="1125" y="1462"/>
                  </a:lnTo>
                  <a:lnTo>
                    <a:pt x="1112" y="1444"/>
                  </a:lnTo>
                  <a:lnTo>
                    <a:pt x="1093" y="1425"/>
                  </a:lnTo>
                  <a:lnTo>
                    <a:pt x="1074" y="1406"/>
                  </a:lnTo>
                  <a:lnTo>
                    <a:pt x="1055" y="1382"/>
                  </a:lnTo>
                  <a:lnTo>
                    <a:pt x="1043" y="1375"/>
                  </a:lnTo>
                  <a:lnTo>
                    <a:pt x="1036" y="1350"/>
                  </a:lnTo>
                  <a:lnTo>
                    <a:pt x="1036" y="1344"/>
                  </a:lnTo>
                  <a:lnTo>
                    <a:pt x="1036" y="1338"/>
                  </a:lnTo>
                  <a:lnTo>
                    <a:pt x="1036" y="1332"/>
                  </a:lnTo>
                  <a:lnTo>
                    <a:pt x="1036" y="1325"/>
                  </a:lnTo>
                  <a:lnTo>
                    <a:pt x="1036" y="1319"/>
                  </a:lnTo>
                  <a:lnTo>
                    <a:pt x="1036" y="1313"/>
                  </a:lnTo>
                  <a:lnTo>
                    <a:pt x="1036" y="1307"/>
                  </a:lnTo>
                  <a:lnTo>
                    <a:pt x="1036" y="1301"/>
                  </a:lnTo>
                  <a:lnTo>
                    <a:pt x="1036" y="1294"/>
                  </a:lnTo>
                  <a:lnTo>
                    <a:pt x="1043" y="1288"/>
                  </a:lnTo>
                  <a:lnTo>
                    <a:pt x="1043" y="1282"/>
                  </a:lnTo>
                  <a:lnTo>
                    <a:pt x="1049" y="1276"/>
                  </a:lnTo>
                  <a:lnTo>
                    <a:pt x="1043" y="1269"/>
                  </a:lnTo>
                  <a:lnTo>
                    <a:pt x="1043" y="1257"/>
                  </a:lnTo>
                  <a:lnTo>
                    <a:pt x="1036" y="1251"/>
                  </a:lnTo>
                  <a:lnTo>
                    <a:pt x="1030" y="1251"/>
                  </a:lnTo>
                  <a:lnTo>
                    <a:pt x="1023" y="1251"/>
                  </a:lnTo>
                  <a:lnTo>
                    <a:pt x="1017" y="1245"/>
                  </a:lnTo>
                  <a:lnTo>
                    <a:pt x="1017" y="1251"/>
                  </a:lnTo>
                  <a:lnTo>
                    <a:pt x="1011" y="1245"/>
                  </a:lnTo>
                  <a:lnTo>
                    <a:pt x="1011" y="1238"/>
                  </a:lnTo>
                  <a:lnTo>
                    <a:pt x="1004" y="1238"/>
                  </a:lnTo>
                  <a:lnTo>
                    <a:pt x="998" y="1238"/>
                  </a:lnTo>
                  <a:lnTo>
                    <a:pt x="998" y="1232"/>
                  </a:lnTo>
                  <a:lnTo>
                    <a:pt x="992" y="1226"/>
                  </a:lnTo>
                  <a:lnTo>
                    <a:pt x="985" y="1226"/>
                  </a:lnTo>
                  <a:lnTo>
                    <a:pt x="985" y="1220"/>
                  </a:lnTo>
                  <a:lnTo>
                    <a:pt x="985" y="1213"/>
                  </a:lnTo>
                  <a:lnTo>
                    <a:pt x="985" y="1207"/>
                  </a:lnTo>
                  <a:lnTo>
                    <a:pt x="979" y="1207"/>
                  </a:lnTo>
                  <a:lnTo>
                    <a:pt x="973" y="1207"/>
                  </a:lnTo>
                  <a:lnTo>
                    <a:pt x="966" y="1207"/>
                  </a:lnTo>
                  <a:lnTo>
                    <a:pt x="966" y="1201"/>
                  </a:lnTo>
                  <a:lnTo>
                    <a:pt x="966" y="1195"/>
                  </a:lnTo>
                  <a:lnTo>
                    <a:pt x="960" y="1195"/>
                  </a:lnTo>
                  <a:lnTo>
                    <a:pt x="960" y="1189"/>
                  </a:lnTo>
                  <a:lnTo>
                    <a:pt x="960" y="1182"/>
                  </a:lnTo>
                  <a:lnTo>
                    <a:pt x="960" y="1176"/>
                  </a:lnTo>
                  <a:lnTo>
                    <a:pt x="954" y="1182"/>
                  </a:lnTo>
                  <a:lnTo>
                    <a:pt x="947" y="1182"/>
                  </a:lnTo>
                  <a:lnTo>
                    <a:pt x="941" y="1182"/>
                  </a:lnTo>
                  <a:lnTo>
                    <a:pt x="941" y="1176"/>
                  </a:lnTo>
                  <a:lnTo>
                    <a:pt x="941" y="1170"/>
                  </a:lnTo>
                  <a:lnTo>
                    <a:pt x="941" y="1164"/>
                  </a:lnTo>
                  <a:lnTo>
                    <a:pt x="934" y="1164"/>
                  </a:lnTo>
                  <a:lnTo>
                    <a:pt x="928" y="1164"/>
                  </a:lnTo>
                  <a:lnTo>
                    <a:pt x="922" y="1157"/>
                  </a:lnTo>
                  <a:lnTo>
                    <a:pt x="922" y="1151"/>
                  </a:lnTo>
                  <a:lnTo>
                    <a:pt x="928" y="1151"/>
                  </a:lnTo>
                  <a:lnTo>
                    <a:pt x="928" y="1145"/>
                  </a:lnTo>
                  <a:lnTo>
                    <a:pt x="922" y="1139"/>
                  </a:lnTo>
                  <a:lnTo>
                    <a:pt x="922" y="1133"/>
                  </a:lnTo>
                  <a:lnTo>
                    <a:pt x="915" y="1133"/>
                  </a:lnTo>
                  <a:lnTo>
                    <a:pt x="915" y="1126"/>
                  </a:lnTo>
                  <a:lnTo>
                    <a:pt x="915" y="1120"/>
                  </a:lnTo>
                  <a:lnTo>
                    <a:pt x="915" y="1114"/>
                  </a:lnTo>
                  <a:lnTo>
                    <a:pt x="915" y="1108"/>
                  </a:lnTo>
                  <a:lnTo>
                    <a:pt x="909" y="1108"/>
                  </a:lnTo>
                  <a:lnTo>
                    <a:pt x="915" y="1108"/>
                  </a:lnTo>
                  <a:lnTo>
                    <a:pt x="922" y="1108"/>
                  </a:lnTo>
                  <a:lnTo>
                    <a:pt x="928" y="1108"/>
                  </a:lnTo>
                  <a:lnTo>
                    <a:pt x="928" y="1101"/>
                  </a:lnTo>
                  <a:lnTo>
                    <a:pt x="922" y="1095"/>
                  </a:lnTo>
                  <a:lnTo>
                    <a:pt x="922" y="1089"/>
                  </a:lnTo>
                  <a:lnTo>
                    <a:pt x="928" y="1089"/>
                  </a:lnTo>
                  <a:lnTo>
                    <a:pt x="928" y="1095"/>
                  </a:lnTo>
                  <a:lnTo>
                    <a:pt x="934" y="1095"/>
                  </a:lnTo>
                  <a:lnTo>
                    <a:pt x="934" y="1101"/>
                  </a:lnTo>
                  <a:lnTo>
                    <a:pt x="934" y="1095"/>
                  </a:lnTo>
                  <a:lnTo>
                    <a:pt x="941" y="1095"/>
                  </a:lnTo>
                  <a:lnTo>
                    <a:pt x="941" y="1089"/>
                  </a:lnTo>
                  <a:lnTo>
                    <a:pt x="934" y="1089"/>
                  </a:lnTo>
                  <a:lnTo>
                    <a:pt x="934" y="1083"/>
                  </a:lnTo>
                  <a:lnTo>
                    <a:pt x="941" y="1083"/>
                  </a:lnTo>
                  <a:lnTo>
                    <a:pt x="934" y="1077"/>
                  </a:lnTo>
                  <a:lnTo>
                    <a:pt x="928" y="1077"/>
                  </a:lnTo>
                  <a:lnTo>
                    <a:pt x="928" y="1083"/>
                  </a:lnTo>
                  <a:lnTo>
                    <a:pt x="922" y="1083"/>
                  </a:lnTo>
                  <a:lnTo>
                    <a:pt x="922" y="1077"/>
                  </a:lnTo>
                  <a:lnTo>
                    <a:pt x="922" y="1070"/>
                  </a:lnTo>
                  <a:lnTo>
                    <a:pt x="928" y="1070"/>
                  </a:lnTo>
                  <a:lnTo>
                    <a:pt x="934" y="1070"/>
                  </a:lnTo>
                  <a:lnTo>
                    <a:pt x="934" y="1064"/>
                  </a:lnTo>
                  <a:lnTo>
                    <a:pt x="934" y="1058"/>
                  </a:lnTo>
                  <a:lnTo>
                    <a:pt x="928" y="1058"/>
                  </a:lnTo>
                  <a:lnTo>
                    <a:pt x="922" y="1058"/>
                  </a:lnTo>
                  <a:lnTo>
                    <a:pt x="922" y="1052"/>
                  </a:lnTo>
                  <a:lnTo>
                    <a:pt x="922" y="1045"/>
                  </a:lnTo>
                  <a:lnTo>
                    <a:pt x="915" y="1045"/>
                  </a:lnTo>
                  <a:lnTo>
                    <a:pt x="915" y="1052"/>
                  </a:lnTo>
                  <a:lnTo>
                    <a:pt x="909" y="1052"/>
                  </a:lnTo>
                  <a:lnTo>
                    <a:pt x="909" y="1045"/>
                  </a:lnTo>
                  <a:lnTo>
                    <a:pt x="903" y="1045"/>
                  </a:lnTo>
                  <a:lnTo>
                    <a:pt x="909" y="1039"/>
                  </a:lnTo>
                  <a:lnTo>
                    <a:pt x="915" y="1039"/>
                  </a:lnTo>
                  <a:lnTo>
                    <a:pt x="915" y="1033"/>
                  </a:lnTo>
                  <a:lnTo>
                    <a:pt x="922" y="1033"/>
                  </a:lnTo>
                  <a:lnTo>
                    <a:pt x="928" y="1033"/>
                  </a:lnTo>
                  <a:lnTo>
                    <a:pt x="934" y="1027"/>
                  </a:lnTo>
                  <a:lnTo>
                    <a:pt x="928" y="1020"/>
                  </a:lnTo>
                  <a:lnTo>
                    <a:pt x="922" y="1020"/>
                  </a:lnTo>
                  <a:lnTo>
                    <a:pt x="922" y="1014"/>
                  </a:lnTo>
                  <a:lnTo>
                    <a:pt x="922" y="1008"/>
                  </a:lnTo>
                  <a:lnTo>
                    <a:pt x="915" y="1008"/>
                  </a:lnTo>
                  <a:lnTo>
                    <a:pt x="909" y="1008"/>
                  </a:lnTo>
                  <a:lnTo>
                    <a:pt x="909" y="1002"/>
                  </a:lnTo>
                  <a:lnTo>
                    <a:pt x="915" y="1002"/>
                  </a:lnTo>
                  <a:lnTo>
                    <a:pt x="915" y="996"/>
                  </a:lnTo>
                  <a:lnTo>
                    <a:pt x="915" y="989"/>
                  </a:lnTo>
                  <a:lnTo>
                    <a:pt x="909" y="983"/>
                  </a:lnTo>
                  <a:lnTo>
                    <a:pt x="903" y="983"/>
                  </a:lnTo>
                  <a:lnTo>
                    <a:pt x="903" y="977"/>
                  </a:lnTo>
                  <a:lnTo>
                    <a:pt x="903" y="971"/>
                  </a:lnTo>
                  <a:lnTo>
                    <a:pt x="909" y="971"/>
                  </a:lnTo>
                  <a:lnTo>
                    <a:pt x="915" y="971"/>
                  </a:lnTo>
                  <a:lnTo>
                    <a:pt x="915" y="964"/>
                  </a:lnTo>
                  <a:lnTo>
                    <a:pt x="922" y="964"/>
                  </a:lnTo>
                  <a:lnTo>
                    <a:pt x="915" y="958"/>
                  </a:lnTo>
                  <a:lnTo>
                    <a:pt x="922" y="952"/>
                  </a:lnTo>
                  <a:lnTo>
                    <a:pt x="928" y="952"/>
                  </a:lnTo>
                  <a:lnTo>
                    <a:pt x="934" y="952"/>
                  </a:lnTo>
                  <a:lnTo>
                    <a:pt x="934" y="946"/>
                  </a:lnTo>
                  <a:lnTo>
                    <a:pt x="928" y="940"/>
                  </a:lnTo>
                  <a:lnTo>
                    <a:pt x="928" y="933"/>
                  </a:lnTo>
                  <a:lnTo>
                    <a:pt x="934" y="933"/>
                  </a:lnTo>
                  <a:lnTo>
                    <a:pt x="934" y="927"/>
                  </a:lnTo>
                  <a:lnTo>
                    <a:pt x="934" y="921"/>
                  </a:lnTo>
                  <a:lnTo>
                    <a:pt x="928" y="921"/>
                  </a:lnTo>
                  <a:lnTo>
                    <a:pt x="922" y="921"/>
                  </a:lnTo>
                  <a:lnTo>
                    <a:pt x="915" y="921"/>
                  </a:lnTo>
                  <a:lnTo>
                    <a:pt x="909" y="921"/>
                  </a:lnTo>
                  <a:lnTo>
                    <a:pt x="915" y="915"/>
                  </a:lnTo>
                  <a:lnTo>
                    <a:pt x="922" y="915"/>
                  </a:lnTo>
                  <a:lnTo>
                    <a:pt x="922" y="908"/>
                  </a:lnTo>
                  <a:lnTo>
                    <a:pt x="915" y="902"/>
                  </a:lnTo>
                  <a:lnTo>
                    <a:pt x="915" y="896"/>
                  </a:lnTo>
                  <a:lnTo>
                    <a:pt x="909" y="896"/>
                  </a:lnTo>
                  <a:lnTo>
                    <a:pt x="909" y="890"/>
                  </a:lnTo>
                  <a:lnTo>
                    <a:pt x="903" y="890"/>
                  </a:lnTo>
                  <a:lnTo>
                    <a:pt x="896" y="890"/>
                  </a:lnTo>
                  <a:lnTo>
                    <a:pt x="890" y="890"/>
                  </a:lnTo>
                  <a:lnTo>
                    <a:pt x="896" y="884"/>
                  </a:lnTo>
                  <a:lnTo>
                    <a:pt x="903" y="884"/>
                  </a:lnTo>
                  <a:lnTo>
                    <a:pt x="903" y="877"/>
                  </a:lnTo>
                  <a:lnTo>
                    <a:pt x="909" y="877"/>
                  </a:lnTo>
                  <a:lnTo>
                    <a:pt x="909" y="884"/>
                  </a:lnTo>
                  <a:lnTo>
                    <a:pt x="909" y="877"/>
                  </a:lnTo>
                  <a:lnTo>
                    <a:pt x="909" y="871"/>
                  </a:lnTo>
                  <a:lnTo>
                    <a:pt x="915" y="871"/>
                  </a:lnTo>
                  <a:lnTo>
                    <a:pt x="915" y="865"/>
                  </a:lnTo>
                  <a:lnTo>
                    <a:pt x="909" y="865"/>
                  </a:lnTo>
                  <a:lnTo>
                    <a:pt x="909" y="859"/>
                  </a:lnTo>
                  <a:lnTo>
                    <a:pt x="903" y="859"/>
                  </a:lnTo>
                  <a:lnTo>
                    <a:pt x="903" y="852"/>
                  </a:lnTo>
                  <a:lnTo>
                    <a:pt x="896" y="852"/>
                  </a:lnTo>
                  <a:lnTo>
                    <a:pt x="890" y="859"/>
                  </a:lnTo>
                  <a:lnTo>
                    <a:pt x="884" y="859"/>
                  </a:lnTo>
                  <a:lnTo>
                    <a:pt x="877" y="852"/>
                  </a:lnTo>
                  <a:lnTo>
                    <a:pt x="884" y="846"/>
                  </a:lnTo>
                  <a:lnTo>
                    <a:pt x="884" y="840"/>
                  </a:lnTo>
                  <a:lnTo>
                    <a:pt x="884" y="834"/>
                  </a:lnTo>
                  <a:lnTo>
                    <a:pt x="884" y="828"/>
                  </a:lnTo>
                  <a:lnTo>
                    <a:pt x="884" y="821"/>
                  </a:lnTo>
                  <a:lnTo>
                    <a:pt x="877" y="828"/>
                  </a:lnTo>
                  <a:lnTo>
                    <a:pt x="877" y="821"/>
                  </a:lnTo>
                  <a:lnTo>
                    <a:pt x="877" y="815"/>
                  </a:lnTo>
                  <a:lnTo>
                    <a:pt x="871" y="815"/>
                  </a:lnTo>
                  <a:lnTo>
                    <a:pt x="865" y="815"/>
                  </a:lnTo>
                  <a:lnTo>
                    <a:pt x="865" y="809"/>
                  </a:lnTo>
                  <a:lnTo>
                    <a:pt x="871" y="809"/>
                  </a:lnTo>
                  <a:lnTo>
                    <a:pt x="877" y="809"/>
                  </a:lnTo>
                  <a:lnTo>
                    <a:pt x="877" y="803"/>
                  </a:lnTo>
                  <a:lnTo>
                    <a:pt x="871" y="796"/>
                  </a:lnTo>
                  <a:lnTo>
                    <a:pt x="877" y="796"/>
                  </a:lnTo>
                  <a:lnTo>
                    <a:pt x="884" y="796"/>
                  </a:lnTo>
                  <a:lnTo>
                    <a:pt x="890" y="803"/>
                  </a:lnTo>
                  <a:lnTo>
                    <a:pt x="890" y="809"/>
                  </a:lnTo>
                  <a:lnTo>
                    <a:pt x="896" y="809"/>
                  </a:lnTo>
                  <a:lnTo>
                    <a:pt x="896" y="803"/>
                  </a:lnTo>
                  <a:lnTo>
                    <a:pt x="896" y="796"/>
                  </a:lnTo>
                  <a:lnTo>
                    <a:pt x="896" y="790"/>
                  </a:lnTo>
                  <a:lnTo>
                    <a:pt x="903" y="790"/>
                  </a:lnTo>
                  <a:lnTo>
                    <a:pt x="909" y="784"/>
                  </a:lnTo>
                  <a:lnTo>
                    <a:pt x="896" y="784"/>
                  </a:lnTo>
                  <a:lnTo>
                    <a:pt x="896" y="778"/>
                  </a:lnTo>
                  <a:lnTo>
                    <a:pt x="890" y="778"/>
                  </a:lnTo>
                  <a:lnTo>
                    <a:pt x="884" y="772"/>
                  </a:lnTo>
                  <a:lnTo>
                    <a:pt x="890" y="765"/>
                  </a:lnTo>
                  <a:lnTo>
                    <a:pt x="890" y="759"/>
                  </a:lnTo>
                  <a:lnTo>
                    <a:pt x="884" y="759"/>
                  </a:lnTo>
                  <a:lnTo>
                    <a:pt x="884" y="753"/>
                  </a:lnTo>
                  <a:lnTo>
                    <a:pt x="877" y="747"/>
                  </a:lnTo>
                  <a:lnTo>
                    <a:pt x="871" y="747"/>
                  </a:lnTo>
                  <a:lnTo>
                    <a:pt x="871" y="740"/>
                  </a:lnTo>
                  <a:lnTo>
                    <a:pt x="865" y="740"/>
                  </a:lnTo>
                  <a:lnTo>
                    <a:pt x="858" y="740"/>
                  </a:lnTo>
                  <a:lnTo>
                    <a:pt x="858" y="747"/>
                  </a:lnTo>
                  <a:lnTo>
                    <a:pt x="852" y="747"/>
                  </a:lnTo>
                  <a:lnTo>
                    <a:pt x="852" y="753"/>
                  </a:lnTo>
                  <a:lnTo>
                    <a:pt x="846" y="747"/>
                  </a:lnTo>
                  <a:lnTo>
                    <a:pt x="846" y="740"/>
                  </a:lnTo>
                  <a:lnTo>
                    <a:pt x="852" y="740"/>
                  </a:lnTo>
                  <a:lnTo>
                    <a:pt x="858" y="728"/>
                  </a:lnTo>
                  <a:lnTo>
                    <a:pt x="865" y="728"/>
                  </a:lnTo>
                  <a:lnTo>
                    <a:pt x="865" y="722"/>
                  </a:lnTo>
                  <a:lnTo>
                    <a:pt x="858" y="722"/>
                  </a:lnTo>
                  <a:lnTo>
                    <a:pt x="852" y="728"/>
                  </a:lnTo>
                  <a:lnTo>
                    <a:pt x="846" y="728"/>
                  </a:lnTo>
                  <a:lnTo>
                    <a:pt x="839" y="728"/>
                  </a:lnTo>
                  <a:lnTo>
                    <a:pt x="839" y="722"/>
                  </a:lnTo>
                  <a:lnTo>
                    <a:pt x="839" y="715"/>
                  </a:lnTo>
                  <a:lnTo>
                    <a:pt x="846" y="709"/>
                  </a:lnTo>
                  <a:lnTo>
                    <a:pt x="846" y="703"/>
                  </a:lnTo>
                  <a:lnTo>
                    <a:pt x="846" y="697"/>
                  </a:lnTo>
                  <a:lnTo>
                    <a:pt x="839" y="697"/>
                  </a:lnTo>
                  <a:lnTo>
                    <a:pt x="839" y="703"/>
                  </a:lnTo>
                  <a:lnTo>
                    <a:pt x="833" y="703"/>
                  </a:lnTo>
                  <a:lnTo>
                    <a:pt x="826" y="709"/>
                  </a:lnTo>
                  <a:lnTo>
                    <a:pt x="826" y="715"/>
                  </a:lnTo>
                  <a:lnTo>
                    <a:pt x="820" y="715"/>
                  </a:lnTo>
                  <a:lnTo>
                    <a:pt x="814" y="709"/>
                  </a:lnTo>
                  <a:lnTo>
                    <a:pt x="814" y="715"/>
                  </a:lnTo>
                  <a:lnTo>
                    <a:pt x="807" y="709"/>
                  </a:lnTo>
                  <a:lnTo>
                    <a:pt x="807" y="703"/>
                  </a:lnTo>
                  <a:lnTo>
                    <a:pt x="814" y="703"/>
                  </a:lnTo>
                  <a:lnTo>
                    <a:pt x="814" y="697"/>
                  </a:lnTo>
                  <a:lnTo>
                    <a:pt x="814" y="691"/>
                  </a:lnTo>
                  <a:lnTo>
                    <a:pt x="807" y="691"/>
                  </a:lnTo>
                  <a:lnTo>
                    <a:pt x="801" y="697"/>
                  </a:lnTo>
                  <a:lnTo>
                    <a:pt x="795" y="697"/>
                  </a:lnTo>
                  <a:lnTo>
                    <a:pt x="788" y="697"/>
                  </a:lnTo>
                  <a:lnTo>
                    <a:pt x="782" y="697"/>
                  </a:lnTo>
                  <a:lnTo>
                    <a:pt x="782" y="691"/>
                  </a:lnTo>
                  <a:lnTo>
                    <a:pt x="782" y="684"/>
                  </a:lnTo>
                  <a:lnTo>
                    <a:pt x="776" y="684"/>
                  </a:lnTo>
                  <a:lnTo>
                    <a:pt x="776" y="691"/>
                  </a:lnTo>
                  <a:lnTo>
                    <a:pt x="776" y="697"/>
                  </a:lnTo>
                  <a:lnTo>
                    <a:pt x="776" y="703"/>
                  </a:lnTo>
                  <a:lnTo>
                    <a:pt x="776" y="709"/>
                  </a:lnTo>
                  <a:lnTo>
                    <a:pt x="776" y="715"/>
                  </a:lnTo>
                  <a:lnTo>
                    <a:pt x="776" y="722"/>
                  </a:lnTo>
                  <a:lnTo>
                    <a:pt x="776" y="728"/>
                  </a:lnTo>
                  <a:lnTo>
                    <a:pt x="763" y="728"/>
                  </a:lnTo>
                  <a:lnTo>
                    <a:pt x="763" y="722"/>
                  </a:lnTo>
                  <a:lnTo>
                    <a:pt x="757" y="715"/>
                  </a:lnTo>
                  <a:lnTo>
                    <a:pt x="757" y="709"/>
                  </a:lnTo>
                  <a:lnTo>
                    <a:pt x="763" y="703"/>
                  </a:lnTo>
                  <a:lnTo>
                    <a:pt x="763" y="697"/>
                  </a:lnTo>
                  <a:lnTo>
                    <a:pt x="757" y="697"/>
                  </a:lnTo>
                  <a:lnTo>
                    <a:pt x="757" y="691"/>
                  </a:lnTo>
                  <a:lnTo>
                    <a:pt x="757" y="684"/>
                  </a:lnTo>
                  <a:lnTo>
                    <a:pt x="750" y="691"/>
                  </a:lnTo>
                  <a:lnTo>
                    <a:pt x="744" y="691"/>
                  </a:lnTo>
                  <a:lnTo>
                    <a:pt x="744" y="684"/>
                  </a:lnTo>
                  <a:lnTo>
                    <a:pt x="737" y="678"/>
                  </a:lnTo>
                  <a:lnTo>
                    <a:pt x="744" y="678"/>
                  </a:lnTo>
                  <a:lnTo>
                    <a:pt x="750" y="678"/>
                  </a:lnTo>
                  <a:lnTo>
                    <a:pt x="750" y="672"/>
                  </a:lnTo>
                  <a:lnTo>
                    <a:pt x="744" y="666"/>
                  </a:lnTo>
                  <a:lnTo>
                    <a:pt x="744" y="659"/>
                  </a:lnTo>
                  <a:lnTo>
                    <a:pt x="737" y="653"/>
                  </a:lnTo>
                  <a:lnTo>
                    <a:pt x="737" y="641"/>
                  </a:lnTo>
                  <a:lnTo>
                    <a:pt x="725" y="641"/>
                  </a:lnTo>
                  <a:lnTo>
                    <a:pt x="718" y="628"/>
                  </a:lnTo>
                  <a:lnTo>
                    <a:pt x="712" y="622"/>
                  </a:lnTo>
                  <a:lnTo>
                    <a:pt x="699" y="610"/>
                  </a:lnTo>
                  <a:lnTo>
                    <a:pt x="687" y="610"/>
                  </a:lnTo>
                  <a:lnTo>
                    <a:pt x="674" y="622"/>
                  </a:lnTo>
                  <a:lnTo>
                    <a:pt x="661" y="635"/>
                  </a:lnTo>
                  <a:lnTo>
                    <a:pt x="655" y="635"/>
                  </a:lnTo>
                  <a:lnTo>
                    <a:pt x="642" y="622"/>
                  </a:lnTo>
                  <a:lnTo>
                    <a:pt x="642" y="610"/>
                  </a:lnTo>
                  <a:lnTo>
                    <a:pt x="629" y="603"/>
                  </a:lnTo>
                  <a:lnTo>
                    <a:pt x="617" y="603"/>
                  </a:lnTo>
                  <a:lnTo>
                    <a:pt x="610" y="616"/>
                  </a:lnTo>
                  <a:lnTo>
                    <a:pt x="604" y="628"/>
                  </a:lnTo>
                  <a:lnTo>
                    <a:pt x="604" y="647"/>
                  </a:lnTo>
                  <a:lnTo>
                    <a:pt x="604" y="659"/>
                  </a:lnTo>
                  <a:lnTo>
                    <a:pt x="604" y="672"/>
                  </a:lnTo>
                  <a:lnTo>
                    <a:pt x="598" y="672"/>
                  </a:lnTo>
                  <a:lnTo>
                    <a:pt x="585" y="659"/>
                  </a:lnTo>
                  <a:lnTo>
                    <a:pt x="585" y="647"/>
                  </a:lnTo>
                  <a:lnTo>
                    <a:pt x="579" y="635"/>
                  </a:lnTo>
                  <a:lnTo>
                    <a:pt x="579" y="622"/>
                  </a:lnTo>
                  <a:lnTo>
                    <a:pt x="579" y="610"/>
                  </a:lnTo>
                  <a:lnTo>
                    <a:pt x="585" y="597"/>
                  </a:lnTo>
                  <a:lnTo>
                    <a:pt x="591" y="585"/>
                  </a:lnTo>
                  <a:lnTo>
                    <a:pt x="598" y="572"/>
                  </a:lnTo>
                  <a:lnTo>
                    <a:pt x="604" y="560"/>
                  </a:lnTo>
                  <a:lnTo>
                    <a:pt x="604" y="547"/>
                  </a:lnTo>
                  <a:lnTo>
                    <a:pt x="604" y="535"/>
                  </a:lnTo>
                  <a:lnTo>
                    <a:pt x="598" y="523"/>
                  </a:lnTo>
                  <a:lnTo>
                    <a:pt x="585" y="523"/>
                  </a:lnTo>
                  <a:lnTo>
                    <a:pt x="572" y="535"/>
                  </a:lnTo>
                  <a:lnTo>
                    <a:pt x="560" y="541"/>
                  </a:lnTo>
                  <a:lnTo>
                    <a:pt x="547" y="554"/>
                  </a:lnTo>
                  <a:lnTo>
                    <a:pt x="540" y="560"/>
                  </a:lnTo>
                  <a:lnTo>
                    <a:pt x="534" y="566"/>
                  </a:lnTo>
                  <a:lnTo>
                    <a:pt x="528" y="579"/>
                  </a:lnTo>
                  <a:lnTo>
                    <a:pt x="515" y="591"/>
                  </a:lnTo>
                  <a:lnTo>
                    <a:pt x="502" y="585"/>
                  </a:lnTo>
                  <a:lnTo>
                    <a:pt x="490" y="579"/>
                  </a:lnTo>
                  <a:lnTo>
                    <a:pt x="477" y="579"/>
                  </a:lnTo>
                  <a:lnTo>
                    <a:pt x="464" y="585"/>
                  </a:lnTo>
                  <a:lnTo>
                    <a:pt x="458" y="603"/>
                  </a:lnTo>
                  <a:lnTo>
                    <a:pt x="464" y="616"/>
                  </a:lnTo>
                  <a:lnTo>
                    <a:pt x="477" y="622"/>
                  </a:lnTo>
                  <a:lnTo>
                    <a:pt x="496" y="628"/>
                  </a:lnTo>
                  <a:lnTo>
                    <a:pt x="502" y="628"/>
                  </a:lnTo>
                  <a:lnTo>
                    <a:pt x="502" y="647"/>
                  </a:lnTo>
                  <a:lnTo>
                    <a:pt x="490" y="641"/>
                  </a:lnTo>
                  <a:lnTo>
                    <a:pt x="471" y="635"/>
                  </a:lnTo>
                  <a:lnTo>
                    <a:pt x="464" y="628"/>
                  </a:lnTo>
                  <a:lnTo>
                    <a:pt x="451" y="622"/>
                  </a:lnTo>
                  <a:lnTo>
                    <a:pt x="439" y="616"/>
                  </a:lnTo>
                  <a:lnTo>
                    <a:pt x="432" y="628"/>
                  </a:lnTo>
                  <a:lnTo>
                    <a:pt x="432" y="647"/>
                  </a:lnTo>
                  <a:lnTo>
                    <a:pt x="432" y="659"/>
                  </a:lnTo>
                  <a:lnTo>
                    <a:pt x="413" y="659"/>
                  </a:lnTo>
                  <a:lnTo>
                    <a:pt x="407" y="647"/>
                  </a:lnTo>
                  <a:lnTo>
                    <a:pt x="394" y="635"/>
                  </a:lnTo>
                  <a:lnTo>
                    <a:pt x="388" y="622"/>
                  </a:lnTo>
                  <a:lnTo>
                    <a:pt x="388" y="616"/>
                  </a:lnTo>
                  <a:lnTo>
                    <a:pt x="375" y="610"/>
                  </a:lnTo>
                  <a:lnTo>
                    <a:pt x="356" y="610"/>
                  </a:lnTo>
                  <a:lnTo>
                    <a:pt x="343" y="616"/>
                  </a:lnTo>
                  <a:lnTo>
                    <a:pt x="331" y="622"/>
                  </a:lnTo>
                  <a:lnTo>
                    <a:pt x="324" y="628"/>
                  </a:lnTo>
                  <a:lnTo>
                    <a:pt x="312" y="641"/>
                  </a:lnTo>
                  <a:lnTo>
                    <a:pt x="312" y="653"/>
                  </a:lnTo>
                  <a:lnTo>
                    <a:pt x="305" y="666"/>
                  </a:lnTo>
                  <a:lnTo>
                    <a:pt x="299" y="672"/>
                  </a:lnTo>
                  <a:lnTo>
                    <a:pt x="286" y="666"/>
                  </a:lnTo>
                  <a:lnTo>
                    <a:pt x="274" y="666"/>
                  </a:lnTo>
                  <a:lnTo>
                    <a:pt x="261" y="666"/>
                  </a:lnTo>
                  <a:lnTo>
                    <a:pt x="254" y="666"/>
                  </a:lnTo>
                  <a:lnTo>
                    <a:pt x="248" y="672"/>
                  </a:lnTo>
                  <a:lnTo>
                    <a:pt x="242" y="678"/>
                  </a:lnTo>
                  <a:lnTo>
                    <a:pt x="242" y="691"/>
                  </a:lnTo>
                  <a:lnTo>
                    <a:pt x="242" y="703"/>
                  </a:lnTo>
                  <a:lnTo>
                    <a:pt x="235" y="722"/>
                  </a:lnTo>
                  <a:lnTo>
                    <a:pt x="216" y="734"/>
                  </a:lnTo>
                  <a:lnTo>
                    <a:pt x="204" y="740"/>
                  </a:lnTo>
                  <a:lnTo>
                    <a:pt x="204" y="753"/>
                  </a:lnTo>
                  <a:lnTo>
                    <a:pt x="204" y="765"/>
                  </a:lnTo>
                  <a:lnTo>
                    <a:pt x="204" y="778"/>
                  </a:lnTo>
                  <a:lnTo>
                    <a:pt x="204" y="790"/>
                  </a:lnTo>
                  <a:lnTo>
                    <a:pt x="197" y="784"/>
                  </a:lnTo>
                  <a:lnTo>
                    <a:pt x="191" y="765"/>
                  </a:lnTo>
                  <a:lnTo>
                    <a:pt x="185" y="753"/>
                  </a:lnTo>
                  <a:lnTo>
                    <a:pt x="178" y="740"/>
                  </a:lnTo>
                  <a:lnTo>
                    <a:pt x="165" y="734"/>
                  </a:lnTo>
                  <a:lnTo>
                    <a:pt x="159" y="722"/>
                  </a:lnTo>
                  <a:lnTo>
                    <a:pt x="140" y="709"/>
                  </a:lnTo>
                  <a:lnTo>
                    <a:pt x="140" y="703"/>
                  </a:lnTo>
                  <a:lnTo>
                    <a:pt x="127" y="697"/>
                  </a:lnTo>
                  <a:lnTo>
                    <a:pt x="115" y="697"/>
                  </a:lnTo>
                  <a:lnTo>
                    <a:pt x="108" y="697"/>
                  </a:lnTo>
                  <a:lnTo>
                    <a:pt x="96" y="709"/>
                  </a:lnTo>
                  <a:lnTo>
                    <a:pt x="83" y="709"/>
                  </a:lnTo>
                  <a:lnTo>
                    <a:pt x="83" y="691"/>
                  </a:lnTo>
                  <a:lnTo>
                    <a:pt x="77" y="684"/>
                  </a:lnTo>
                  <a:lnTo>
                    <a:pt x="70" y="672"/>
                  </a:lnTo>
                  <a:lnTo>
                    <a:pt x="64" y="666"/>
                  </a:lnTo>
                  <a:lnTo>
                    <a:pt x="51" y="659"/>
                  </a:lnTo>
                  <a:lnTo>
                    <a:pt x="38" y="659"/>
                  </a:lnTo>
                  <a:lnTo>
                    <a:pt x="26" y="659"/>
                  </a:lnTo>
                  <a:lnTo>
                    <a:pt x="0" y="666"/>
                  </a:lnTo>
                  <a:lnTo>
                    <a:pt x="19" y="635"/>
                  </a:lnTo>
                  <a:lnTo>
                    <a:pt x="38" y="610"/>
                  </a:lnTo>
                  <a:lnTo>
                    <a:pt x="57" y="585"/>
                  </a:lnTo>
                  <a:lnTo>
                    <a:pt x="83" y="560"/>
                  </a:lnTo>
                  <a:lnTo>
                    <a:pt x="108" y="535"/>
                  </a:lnTo>
                  <a:lnTo>
                    <a:pt x="134" y="523"/>
                  </a:lnTo>
                  <a:lnTo>
                    <a:pt x="153" y="516"/>
                  </a:lnTo>
                  <a:lnTo>
                    <a:pt x="178" y="516"/>
                  </a:lnTo>
                  <a:lnTo>
                    <a:pt x="191" y="516"/>
                  </a:lnTo>
                  <a:lnTo>
                    <a:pt x="216" y="516"/>
                  </a:lnTo>
                  <a:lnTo>
                    <a:pt x="229" y="516"/>
                  </a:lnTo>
                  <a:lnTo>
                    <a:pt x="248" y="510"/>
                  </a:lnTo>
                  <a:lnTo>
                    <a:pt x="267" y="510"/>
                  </a:lnTo>
                  <a:lnTo>
                    <a:pt x="286" y="498"/>
                  </a:lnTo>
                  <a:lnTo>
                    <a:pt x="293" y="491"/>
                  </a:lnTo>
                  <a:lnTo>
                    <a:pt x="305" y="485"/>
                  </a:lnTo>
                  <a:lnTo>
                    <a:pt x="318" y="479"/>
                  </a:lnTo>
                  <a:lnTo>
                    <a:pt x="324" y="473"/>
                  </a:lnTo>
                  <a:lnTo>
                    <a:pt x="343" y="466"/>
                  </a:lnTo>
                  <a:lnTo>
                    <a:pt x="363" y="454"/>
                  </a:lnTo>
                  <a:lnTo>
                    <a:pt x="388" y="442"/>
                  </a:lnTo>
                  <a:lnTo>
                    <a:pt x="401" y="429"/>
                  </a:lnTo>
                  <a:lnTo>
                    <a:pt x="407" y="423"/>
                  </a:lnTo>
                  <a:lnTo>
                    <a:pt x="420" y="410"/>
                  </a:lnTo>
                  <a:lnTo>
                    <a:pt x="426" y="404"/>
                  </a:lnTo>
                  <a:lnTo>
                    <a:pt x="432" y="392"/>
                  </a:lnTo>
                  <a:lnTo>
                    <a:pt x="439" y="379"/>
                  </a:lnTo>
                  <a:lnTo>
                    <a:pt x="445" y="367"/>
                  </a:lnTo>
                  <a:lnTo>
                    <a:pt x="458" y="348"/>
                  </a:lnTo>
                  <a:lnTo>
                    <a:pt x="464" y="342"/>
                  </a:lnTo>
                  <a:lnTo>
                    <a:pt x="471" y="336"/>
                  </a:lnTo>
                  <a:lnTo>
                    <a:pt x="483" y="330"/>
                  </a:lnTo>
                  <a:lnTo>
                    <a:pt x="496" y="323"/>
                  </a:lnTo>
                  <a:lnTo>
                    <a:pt x="502" y="317"/>
                  </a:lnTo>
                  <a:lnTo>
                    <a:pt x="515" y="311"/>
                  </a:lnTo>
                  <a:lnTo>
                    <a:pt x="521" y="305"/>
                  </a:lnTo>
                  <a:lnTo>
                    <a:pt x="534" y="292"/>
                  </a:lnTo>
                  <a:lnTo>
                    <a:pt x="547" y="286"/>
                  </a:lnTo>
                  <a:lnTo>
                    <a:pt x="553" y="280"/>
                  </a:lnTo>
                  <a:lnTo>
                    <a:pt x="560" y="280"/>
                  </a:lnTo>
                  <a:lnTo>
                    <a:pt x="566" y="280"/>
                  </a:lnTo>
                  <a:lnTo>
                    <a:pt x="579" y="280"/>
                  </a:lnTo>
                  <a:lnTo>
                    <a:pt x="585" y="286"/>
                  </a:lnTo>
                  <a:lnTo>
                    <a:pt x="598" y="292"/>
                  </a:lnTo>
                  <a:lnTo>
                    <a:pt x="610" y="298"/>
                  </a:lnTo>
                  <a:lnTo>
                    <a:pt x="623" y="305"/>
                  </a:lnTo>
                  <a:lnTo>
                    <a:pt x="636" y="305"/>
                  </a:lnTo>
                  <a:lnTo>
                    <a:pt x="649" y="305"/>
                  </a:lnTo>
                  <a:lnTo>
                    <a:pt x="655" y="305"/>
                  </a:lnTo>
                  <a:lnTo>
                    <a:pt x="661" y="298"/>
                  </a:lnTo>
                  <a:lnTo>
                    <a:pt x="661" y="292"/>
                  </a:lnTo>
                  <a:lnTo>
                    <a:pt x="661" y="286"/>
                  </a:lnTo>
                  <a:lnTo>
                    <a:pt x="655" y="280"/>
                  </a:lnTo>
                  <a:lnTo>
                    <a:pt x="649" y="274"/>
                  </a:lnTo>
                  <a:lnTo>
                    <a:pt x="649" y="261"/>
                  </a:lnTo>
                  <a:lnTo>
                    <a:pt x="655" y="255"/>
                  </a:lnTo>
                  <a:lnTo>
                    <a:pt x="661" y="255"/>
                  </a:lnTo>
                  <a:lnTo>
                    <a:pt x="674" y="261"/>
                  </a:lnTo>
                  <a:lnTo>
                    <a:pt x="687" y="267"/>
                  </a:lnTo>
                  <a:lnTo>
                    <a:pt x="699" y="267"/>
                  </a:lnTo>
                  <a:lnTo>
                    <a:pt x="706" y="267"/>
                  </a:lnTo>
                  <a:lnTo>
                    <a:pt x="712" y="261"/>
                  </a:lnTo>
                  <a:lnTo>
                    <a:pt x="718" y="255"/>
                  </a:lnTo>
                  <a:lnTo>
                    <a:pt x="718" y="249"/>
                  </a:lnTo>
                  <a:lnTo>
                    <a:pt x="718" y="236"/>
                  </a:lnTo>
                  <a:lnTo>
                    <a:pt x="718" y="230"/>
                  </a:lnTo>
                  <a:lnTo>
                    <a:pt x="725" y="218"/>
                  </a:lnTo>
                  <a:lnTo>
                    <a:pt x="731" y="205"/>
                  </a:lnTo>
                  <a:lnTo>
                    <a:pt x="737" y="199"/>
                  </a:lnTo>
                  <a:lnTo>
                    <a:pt x="750" y="193"/>
                  </a:lnTo>
                  <a:lnTo>
                    <a:pt x="763" y="193"/>
                  </a:lnTo>
                  <a:lnTo>
                    <a:pt x="769" y="186"/>
                  </a:lnTo>
                  <a:lnTo>
                    <a:pt x="776" y="180"/>
                  </a:lnTo>
                  <a:lnTo>
                    <a:pt x="782" y="168"/>
                  </a:lnTo>
                  <a:lnTo>
                    <a:pt x="788" y="149"/>
                  </a:lnTo>
                  <a:lnTo>
                    <a:pt x="788" y="137"/>
                  </a:lnTo>
                  <a:lnTo>
                    <a:pt x="788" y="124"/>
                  </a:lnTo>
                  <a:lnTo>
                    <a:pt x="795" y="118"/>
                  </a:lnTo>
                  <a:lnTo>
                    <a:pt x="814" y="112"/>
                  </a:lnTo>
                  <a:lnTo>
                    <a:pt x="839" y="112"/>
                  </a:lnTo>
                  <a:lnTo>
                    <a:pt x="865" y="112"/>
                  </a:lnTo>
                  <a:lnTo>
                    <a:pt x="871" y="112"/>
                  </a:lnTo>
                  <a:lnTo>
                    <a:pt x="877" y="99"/>
                  </a:lnTo>
                  <a:lnTo>
                    <a:pt x="884" y="87"/>
                  </a:lnTo>
                  <a:lnTo>
                    <a:pt x="890" y="81"/>
                  </a:lnTo>
                  <a:lnTo>
                    <a:pt x="903" y="68"/>
                  </a:lnTo>
                  <a:lnTo>
                    <a:pt x="909" y="56"/>
                  </a:lnTo>
                  <a:lnTo>
                    <a:pt x="928" y="43"/>
                  </a:lnTo>
                  <a:lnTo>
                    <a:pt x="934" y="37"/>
                  </a:lnTo>
                  <a:lnTo>
                    <a:pt x="947" y="31"/>
                  </a:lnTo>
                  <a:lnTo>
                    <a:pt x="966" y="25"/>
                  </a:lnTo>
                  <a:lnTo>
                    <a:pt x="985" y="18"/>
                  </a:lnTo>
                  <a:lnTo>
                    <a:pt x="998" y="18"/>
                  </a:lnTo>
                  <a:lnTo>
                    <a:pt x="1017" y="18"/>
                  </a:lnTo>
                  <a:lnTo>
                    <a:pt x="1023" y="12"/>
                  </a:lnTo>
                  <a:lnTo>
                    <a:pt x="1036" y="6"/>
                  </a:lnTo>
                  <a:lnTo>
                    <a:pt x="104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501280" y="80931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6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1512440" y="808344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6"/>
                  </a:moveTo>
                  <a:lnTo>
                    <a:pt x="0" y="43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1522160" y="8074080"/>
              <a:ext cx="9360" cy="11736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0" y="6"/>
                  </a:moveTo>
                  <a:lnTo>
                    <a:pt x="0" y="62"/>
                  </a:lnTo>
                  <a:lnTo>
                    <a:pt x="6" y="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1531520" y="8074080"/>
              <a:ext cx="1116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74"/>
                  </a:lnTo>
                  <a:lnTo>
                    <a:pt x="7" y="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1542680" y="8062920"/>
              <a:ext cx="9720" cy="198360"/>
            </a:xfrm>
            <a:custGeom>
              <a:avLst/>
              <a:gdLst/>
              <a:ahLst/>
              <a:rect l="l" t="t" r="r" b="b"/>
              <a:pathLst>
                <a:path w="6" h="125">
                  <a:moveTo>
                    <a:pt x="0" y="7"/>
                  </a:moveTo>
                  <a:lnTo>
                    <a:pt x="0" y="100"/>
                  </a:lnTo>
                  <a:lnTo>
                    <a:pt x="6" y="12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1552400" y="8053560"/>
              <a:ext cx="936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6"/>
                  </a:moveTo>
                  <a:lnTo>
                    <a:pt x="0" y="131"/>
                  </a:lnTo>
                  <a:lnTo>
                    <a:pt x="6" y="1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1561760" y="8043840"/>
              <a:ext cx="11160" cy="33660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6"/>
                  </a:moveTo>
                  <a:lnTo>
                    <a:pt x="0" y="180"/>
                  </a:lnTo>
                  <a:lnTo>
                    <a:pt x="7" y="2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1572920" y="8023320"/>
              <a:ext cx="9360" cy="376200"/>
            </a:xfrm>
            <a:custGeom>
              <a:avLst/>
              <a:gdLst/>
              <a:ahLst/>
              <a:rect l="l" t="t" r="r" b="b"/>
              <a:pathLst>
                <a:path w="6" h="237">
                  <a:moveTo>
                    <a:pt x="0" y="13"/>
                  </a:moveTo>
                  <a:lnTo>
                    <a:pt x="0" y="225"/>
                  </a:lnTo>
                  <a:lnTo>
                    <a:pt x="6" y="237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1582280" y="7985160"/>
              <a:ext cx="9720" cy="433440"/>
            </a:xfrm>
            <a:custGeom>
              <a:avLst/>
              <a:gdLst/>
              <a:ahLst/>
              <a:rect l="l" t="t" r="r" b="b"/>
              <a:pathLst>
                <a:path w="6" h="273">
                  <a:moveTo>
                    <a:pt x="0" y="12"/>
                  </a:moveTo>
                  <a:lnTo>
                    <a:pt x="0" y="261"/>
                  </a:lnTo>
                  <a:lnTo>
                    <a:pt x="6" y="273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1592000" y="7974000"/>
              <a:ext cx="11160" cy="455760"/>
            </a:xfrm>
            <a:custGeom>
              <a:avLst/>
              <a:gdLst/>
              <a:ahLst/>
              <a:rect l="l" t="t" r="r" b="b"/>
              <a:pathLst>
                <a:path w="7" h="287">
                  <a:moveTo>
                    <a:pt x="0" y="7"/>
                  </a:moveTo>
                  <a:lnTo>
                    <a:pt x="0" y="280"/>
                  </a:lnTo>
                  <a:lnTo>
                    <a:pt x="7" y="28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1603160" y="7974000"/>
              <a:ext cx="9360" cy="4651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0"/>
                  </a:moveTo>
                  <a:lnTo>
                    <a:pt x="0" y="287"/>
                  </a:lnTo>
                  <a:lnTo>
                    <a:pt x="6" y="2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1612520" y="7964640"/>
              <a:ext cx="9720" cy="474480"/>
            </a:xfrm>
            <a:custGeom>
              <a:avLst/>
              <a:gdLst/>
              <a:ahLst/>
              <a:rect l="l" t="t" r="r" b="b"/>
              <a:pathLst>
                <a:path w="6" h="299">
                  <a:moveTo>
                    <a:pt x="0" y="6"/>
                  </a:moveTo>
                  <a:lnTo>
                    <a:pt x="0" y="299"/>
                  </a:lnTo>
                  <a:lnTo>
                    <a:pt x="6" y="29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1622240" y="7924680"/>
              <a:ext cx="10800" cy="514440"/>
            </a:xfrm>
            <a:custGeom>
              <a:avLst/>
              <a:gdLst/>
              <a:ahLst/>
              <a:rect l="l" t="t" r="r" b="b"/>
              <a:pathLst>
                <a:path w="7" h="324">
                  <a:moveTo>
                    <a:pt x="0" y="13"/>
                  </a:moveTo>
                  <a:lnTo>
                    <a:pt x="0" y="324"/>
                  </a:lnTo>
                  <a:lnTo>
                    <a:pt x="7" y="324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1633040" y="7905600"/>
              <a:ext cx="9720" cy="5432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12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1642760" y="789624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6"/>
                  </a:moveTo>
                  <a:lnTo>
                    <a:pt x="0" y="348"/>
                  </a:lnTo>
                  <a:lnTo>
                    <a:pt x="6" y="34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1652120" y="788508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7"/>
                  </a:moveTo>
                  <a:lnTo>
                    <a:pt x="0" y="355"/>
                  </a:lnTo>
                  <a:lnTo>
                    <a:pt x="7" y="35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1663280" y="7262640"/>
              <a:ext cx="2088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0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1684160" y="72626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1663280" y="7856640"/>
              <a:ext cx="39600" cy="592200"/>
            </a:xfrm>
            <a:custGeom>
              <a:avLst/>
              <a:gdLst/>
              <a:ahLst/>
              <a:rect l="l" t="t" r="r" b="b"/>
              <a:pathLst>
                <a:path w="25" h="373">
                  <a:moveTo>
                    <a:pt x="0" y="18"/>
                  </a:moveTo>
                  <a:lnTo>
                    <a:pt x="0" y="373"/>
                  </a:lnTo>
                  <a:lnTo>
                    <a:pt x="25" y="367"/>
                  </a:lnTo>
                  <a:lnTo>
                    <a:pt x="2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1693520" y="726264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13"/>
                  </a:lnTo>
                  <a:lnTo>
                    <a:pt x="13" y="2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1702880" y="7835760"/>
              <a:ext cx="20880" cy="603360"/>
            </a:xfrm>
            <a:custGeom>
              <a:avLst/>
              <a:gdLst/>
              <a:ahLst/>
              <a:rect l="l" t="t" r="r" b="b"/>
              <a:pathLst>
                <a:path w="13" h="380">
                  <a:moveTo>
                    <a:pt x="0" y="13"/>
                  </a:moveTo>
                  <a:lnTo>
                    <a:pt x="0" y="380"/>
                  </a:lnTo>
                  <a:lnTo>
                    <a:pt x="13" y="380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1714040" y="7262640"/>
              <a:ext cx="19080" cy="5904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25"/>
                  </a:lnTo>
                  <a:lnTo>
                    <a:pt x="12" y="37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1723760" y="7826400"/>
              <a:ext cx="20520" cy="612720"/>
            </a:xfrm>
            <a:custGeom>
              <a:avLst/>
              <a:gdLst/>
              <a:ahLst/>
              <a:rect l="l" t="t" r="r" b="b"/>
              <a:pathLst>
                <a:path w="13" h="386">
                  <a:moveTo>
                    <a:pt x="0" y="6"/>
                  </a:moveTo>
                  <a:lnTo>
                    <a:pt x="0" y="386"/>
                  </a:lnTo>
                  <a:lnTo>
                    <a:pt x="13" y="38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1733120" y="7262640"/>
              <a:ext cx="11160" cy="70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37"/>
                  </a:lnTo>
                  <a:lnTo>
                    <a:pt x="7" y="4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1744280" y="7253280"/>
              <a:ext cx="19080" cy="8892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0" y="6"/>
                  </a:moveTo>
                  <a:lnTo>
                    <a:pt x="0" y="50"/>
                  </a:lnTo>
                  <a:lnTo>
                    <a:pt x="12" y="5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1744280" y="7805880"/>
              <a:ext cx="9720" cy="633240"/>
            </a:xfrm>
            <a:custGeom>
              <a:avLst/>
              <a:gdLst/>
              <a:ahLst/>
              <a:rect l="l" t="t" r="r" b="b"/>
              <a:pathLst>
                <a:path w="6" h="399">
                  <a:moveTo>
                    <a:pt x="0" y="13"/>
                  </a:moveTo>
                  <a:lnTo>
                    <a:pt x="0" y="399"/>
                  </a:lnTo>
                  <a:lnTo>
                    <a:pt x="6" y="39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1763360" y="725328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56"/>
                  </a:lnTo>
                  <a:lnTo>
                    <a:pt x="7" y="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1763360" y="7667640"/>
              <a:ext cx="1116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13"/>
                  </a:moveTo>
                  <a:lnTo>
                    <a:pt x="0" y="31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1754000" y="7777080"/>
              <a:ext cx="9360" cy="65268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18"/>
                  </a:moveTo>
                  <a:lnTo>
                    <a:pt x="0" y="411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1763360" y="7746840"/>
              <a:ext cx="11160" cy="682920"/>
            </a:xfrm>
            <a:custGeom>
              <a:avLst/>
              <a:gdLst/>
              <a:ahLst/>
              <a:rect l="l" t="t" r="r" b="b"/>
              <a:pathLst>
                <a:path w="7" h="430">
                  <a:moveTo>
                    <a:pt x="0" y="19"/>
                  </a:moveTo>
                  <a:lnTo>
                    <a:pt x="0" y="430"/>
                  </a:lnTo>
                  <a:lnTo>
                    <a:pt x="7" y="430"/>
                  </a:lnTo>
                  <a:lnTo>
                    <a:pt x="7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774520" y="741060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7"/>
                  </a:moveTo>
                  <a:lnTo>
                    <a:pt x="0" y="32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1774520" y="7648560"/>
              <a:ext cx="9360" cy="790560"/>
            </a:xfrm>
            <a:custGeom>
              <a:avLst/>
              <a:gdLst/>
              <a:ahLst/>
              <a:rect l="l" t="t" r="r" b="b"/>
              <a:pathLst>
                <a:path w="6" h="498">
                  <a:moveTo>
                    <a:pt x="0" y="12"/>
                  </a:moveTo>
                  <a:lnTo>
                    <a:pt x="0" y="492"/>
                  </a:lnTo>
                  <a:lnTo>
                    <a:pt x="6" y="498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1774520" y="725328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68"/>
                  </a:lnTo>
                  <a:lnTo>
                    <a:pt x="6" y="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783880" y="7262640"/>
              <a:ext cx="9720" cy="247680"/>
            </a:xfrm>
            <a:custGeom>
              <a:avLst/>
              <a:gdLst/>
              <a:ahLst/>
              <a:rect l="l" t="t" r="r" b="b"/>
              <a:pathLst>
                <a:path w="6" h="156">
                  <a:moveTo>
                    <a:pt x="0" y="0"/>
                  </a:moveTo>
                  <a:lnTo>
                    <a:pt x="0" y="143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1783880" y="7639200"/>
              <a:ext cx="9720" cy="799920"/>
            </a:xfrm>
            <a:custGeom>
              <a:avLst/>
              <a:gdLst/>
              <a:ahLst/>
              <a:rect l="l" t="t" r="r" b="b"/>
              <a:pathLst>
                <a:path w="6" h="504">
                  <a:moveTo>
                    <a:pt x="0" y="6"/>
                  </a:moveTo>
                  <a:lnTo>
                    <a:pt x="0" y="504"/>
                  </a:lnTo>
                  <a:lnTo>
                    <a:pt x="6" y="50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1793600" y="7618320"/>
              <a:ext cx="20520" cy="839880"/>
            </a:xfrm>
            <a:custGeom>
              <a:avLst/>
              <a:gdLst/>
              <a:ahLst/>
              <a:rect l="l" t="t" r="r" b="b"/>
              <a:pathLst>
                <a:path w="13" h="529">
                  <a:moveTo>
                    <a:pt x="0" y="13"/>
                  </a:moveTo>
                  <a:lnTo>
                    <a:pt x="0" y="517"/>
                  </a:lnTo>
                  <a:lnTo>
                    <a:pt x="13" y="529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793600" y="7262640"/>
              <a:ext cx="20520" cy="276480"/>
            </a:xfrm>
            <a:custGeom>
              <a:avLst/>
              <a:gdLst/>
              <a:ahLst/>
              <a:rect l="l" t="t" r="r" b="b"/>
              <a:pathLst>
                <a:path w="13" h="174">
                  <a:moveTo>
                    <a:pt x="0" y="0"/>
                  </a:moveTo>
                  <a:lnTo>
                    <a:pt x="0" y="156"/>
                  </a:lnTo>
                  <a:lnTo>
                    <a:pt x="13" y="17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1814120" y="726264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174"/>
                  </a:lnTo>
                  <a:lnTo>
                    <a:pt x="7" y="1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1814120" y="7599240"/>
              <a:ext cx="11160" cy="870120"/>
            </a:xfrm>
            <a:custGeom>
              <a:avLst/>
              <a:gdLst/>
              <a:ahLst/>
              <a:rect l="l" t="t" r="r" b="b"/>
              <a:pathLst>
                <a:path w="7" h="548">
                  <a:moveTo>
                    <a:pt x="0" y="12"/>
                  </a:moveTo>
                  <a:lnTo>
                    <a:pt x="0" y="541"/>
                  </a:lnTo>
                  <a:lnTo>
                    <a:pt x="7" y="54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1825280" y="7262640"/>
              <a:ext cx="19080" cy="1225800"/>
            </a:xfrm>
            <a:custGeom>
              <a:avLst/>
              <a:gdLst/>
              <a:ahLst/>
              <a:rect l="l" t="t" r="r" b="b"/>
              <a:pathLst>
                <a:path w="12" h="772">
                  <a:moveTo>
                    <a:pt x="0" y="0"/>
                  </a:moveTo>
                  <a:lnTo>
                    <a:pt x="0" y="760"/>
                  </a:lnTo>
                  <a:lnTo>
                    <a:pt x="12" y="77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1844360" y="7272360"/>
              <a:ext cx="11160" cy="1225440"/>
            </a:xfrm>
            <a:custGeom>
              <a:avLst/>
              <a:gdLst/>
              <a:ahLst/>
              <a:rect l="l" t="t" r="r" b="b"/>
              <a:pathLst>
                <a:path w="7" h="772">
                  <a:moveTo>
                    <a:pt x="0" y="0"/>
                  </a:moveTo>
                  <a:lnTo>
                    <a:pt x="0" y="766"/>
                  </a:lnTo>
                  <a:lnTo>
                    <a:pt x="7" y="77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1855520" y="7272360"/>
              <a:ext cx="9360" cy="1246320"/>
            </a:xfrm>
            <a:custGeom>
              <a:avLst/>
              <a:gdLst/>
              <a:ahLst/>
              <a:rect l="l" t="t" r="r" b="b"/>
              <a:pathLst>
                <a:path w="6" h="785">
                  <a:moveTo>
                    <a:pt x="0" y="0"/>
                  </a:moveTo>
                  <a:lnTo>
                    <a:pt x="0" y="772"/>
                  </a:lnTo>
                  <a:lnTo>
                    <a:pt x="6" y="78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1864880" y="7262640"/>
              <a:ext cx="20880" cy="1256040"/>
            </a:xfrm>
            <a:custGeom>
              <a:avLst/>
              <a:gdLst/>
              <a:ahLst/>
              <a:rect l="l" t="t" r="r" b="b"/>
              <a:pathLst>
                <a:path w="13" h="791">
                  <a:moveTo>
                    <a:pt x="0" y="6"/>
                  </a:moveTo>
                  <a:lnTo>
                    <a:pt x="0" y="791"/>
                  </a:lnTo>
                  <a:lnTo>
                    <a:pt x="13" y="79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1885760" y="7243920"/>
              <a:ext cx="29880" cy="1284120"/>
            </a:xfrm>
            <a:custGeom>
              <a:avLst/>
              <a:gdLst/>
              <a:ahLst/>
              <a:rect l="l" t="t" r="r" b="b"/>
              <a:pathLst>
                <a:path w="19" h="809">
                  <a:moveTo>
                    <a:pt x="0" y="12"/>
                  </a:moveTo>
                  <a:lnTo>
                    <a:pt x="0" y="803"/>
                  </a:lnTo>
                  <a:lnTo>
                    <a:pt x="19" y="809"/>
                  </a:lnTo>
                  <a:lnTo>
                    <a:pt x="1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915640" y="7223040"/>
              <a:ext cx="9720" cy="1305000"/>
            </a:xfrm>
            <a:custGeom>
              <a:avLst/>
              <a:gdLst/>
              <a:ahLst/>
              <a:rect l="l" t="t" r="r" b="b"/>
              <a:pathLst>
                <a:path w="6" h="822">
                  <a:moveTo>
                    <a:pt x="0" y="13"/>
                  </a:moveTo>
                  <a:lnTo>
                    <a:pt x="0" y="822"/>
                  </a:lnTo>
                  <a:lnTo>
                    <a:pt x="6" y="822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925360" y="7203960"/>
              <a:ext cx="9360" cy="1324080"/>
            </a:xfrm>
            <a:custGeom>
              <a:avLst/>
              <a:gdLst/>
              <a:ahLst/>
              <a:rect l="l" t="t" r="r" b="b"/>
              <a:pathLst>
                <a:path w="6" h="834">
                  <a:moveTo>
                    <a:pt x="0" y="12"/>
                  </a:moveTo>
                  <a:lnTo>
                    <a:pt x="0" y="834"/>
                  </a:lnTo>
                  <a:lnTo>
                    <a:pt x="6" y="834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934720" y="7105680"/>
              <a:ext cx="11160" cy="1422360"/>
            </a:xfrm>
            <a:custGeom>
              <a:avLst/>
              <a:gdLst/>
              <a:ahLst/>
              <a:rect l="l" t="t" r="r" b="b"/>
              <a:pathLst>
                <a:path w="7" h="896">
                  <a:moveTo>
                    <a:pt x="0" y="6"/>
                  </a:moveTo>
                  <a:lnTo>
                    <a:pt x="0" y="896"/>
                  </a:lnTo>
                  <a:lnTo>
                    <a:pt x="7" y="89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945880" y="7094520"/>
              <a:ext cx="20520" cy="1433520"/>
            </a:xfrm>
            <a:custGeom>
              <a:avLst/>
              <a:gdLst/>
              <a:ahLst/>
              <a:rect l="l" t="t" r="r" b="b"/>
              <a:pathLst>
                <a:path w="13" h="903">
                  <a:moveTo>
                    <a:pt x="0" y="7"/>
                  </a:moveTo>
                  <a:lnTo>
                    <a:pt x="0" y="903"/>
                  </a:lnTo>
                  <a:lnTo>
                    <a:pt x="13" y="903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1966400" y="7094520"/>
              <a:ext cx="9720" cy="14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1976120" y="7094520"/>
              <a:ext cx="20520" cy="1433520"/>
            </a:xfrm>
            <a:custGeom>
              <a:avLst/>
              <a:gdLst/>
              <a:ahLst/>
              <a:rect l="l" t="t" r="r" b="b"/>
              <a:pathLst>
                <a:path w="13" h="903">
                  <a:moveTo>
                    <a:pt x="0" y="0"/>
                  </a:moveTo>
                  <a:lnTo>
                    <a:pt x="0" y="903"/>
                  </a:lnTo>
                  <a:lnTo>
                    <a:pt x="13" y="89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1996640" y="7094520"/>
              <a:ext cx="9720" cy="142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006360" y="7085160"/>
              <a:ext cx="9360" cy="1433520"/>
            </a:xfrm>
            <a:custGeom>
              <a:avLst/>
              <a:gdLst/>
              <a:ahLst/>
              <a:rect l="l" t="t" r="r" b="b"/>
              <a:pathLst>
                <a:path w="6" h="903">
                  <a:moveTo>
                    <a:pt x="0" y="6"/>
                  </a:moveTo>
                  <a:lnTo>
                    <a:pt x="0" y="903"/>
                  </a:lnTo>
                  <a:lnTo>
                    <a:pt x="6" y="90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2015720" y="7085160"/>
              <a:ext cx="11160" cy="14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2026880" y="7075440"/>
              <a:ext cx="9720" cy="1443240"/>
            </a:xfrm>
            <a:custGeom>
              <a:avLst/>
              <a:gdLst/>
              <a:ahLst/>
              <a:rect l="l" t="t" r="r" b="b"/>
              <a:pathLst>
                <a:path w="6" h="909">
                  <a:moveTo>
                    <a:pt x="0" y="6"/>
                  </a:moveTo>
                  <a:lnTo>
                    <a:pt x="0" y="909"/>
                  </a:lnTo>
                  <a:lnTo>
                    <a:pt x="6" y="90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2036600" y="7066080"/>
              <a:ext cx="9360" cy="1452600"/>
            </a:xfrm>
            <a:custGeom>
              <a:avLst/>
              <a:gdLst/>
              <a:ahLst/>
              <a:rect l="l" t="t" r="r" b="b"/>
              <a:pathLst>
                <a:path w="6" h="915">
                  <a:moveTo>
                    <a:pt x="0" y="6"/>
                  </a:moveTo>
                  <a:lnTo>
                    <a:pt x="0" y="915"/>
                  </a:lnTo>
                  <a:lnTo>
                    <a:pt x="6" y="91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045960" y="7045200"/>
              <a:ext cx="11160" cy="1473480"/>
            </a:xfrm>
            <a:custGeom>
              <a:avLst/>
              <a:gdLst/>
              <a:ahLst/>
              <a:rect l="l" t="t" r="r" b="b"/>
              <a:pathLst>
                <a:path w="7" h="928">
                  <a:moveTo>
                    <a:pt x="0" y="13"/>
                  </a:moveTo>
                  <a:lnTo>
                    <a:pt x="0" y="928"/>
                  </a:lnTo>
                  <a:lnTo>
                    <a:pt x="7" y="928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2057120" y="6788160"/>
              <a:ext cx="936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13"/>
                  </a:moveTo>
                  <a:lnTo>
                    <a:pt x="0" y="38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2057120" y="7026120"/>
              <a:ext cx="9360" cy="149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2066480" y="6986520"/>
              <a:ext cx="9720" cy="1532160"/>
            </a:xfrm>
            <a:custGeom>
              <a:avLst/>
              <a:gdLst/>
              <a:ahLst/>
              <a:rect l="l" t="t" r="r" b="b"/>
              <a:pathLst>
                <a:path w="6" h="965">
                  <a:moveTo>
                    <a:pt x="0" y="25"/>
                  </a:moveTo>
                  <a:lnTo>
                    <a:pt x="0" y="965"/>
                  </a:lnTo>
                  <a:lnTo>
                    <a:pt x="6" y="965"/>
                  </a:lnTo>
                  <a:lnTo>
                    <a:pt x="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2066480" y="675972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6"/>
                  </a:moveTo>
                  <a:lnTo>
                    <a:pt x="0" y="74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2076200" y="6748560"/>
              <a:ext cx="11160" cy="1770120"/>
            </a:xfrm>
            <a:custGeom>
              <a:avLst/>
              <a:gdLst/>
              <a:ahLst/>
              <a:rect l="l" t="t" r="r" b="b"/>
              <a:pathLst>
                <a:path w="7" h="1115">
                  <a:moveTo>
                    <a:pt x="0" y="7"/>
                  </a:moveTo>
                  <a:lnTo>
                    <a:pt x="0" y="1115"/>
                  </a:lnTo>
                  <a:lnTo>
                    <a:pt x="7" y="111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2087360" y="6738840"/>
              <a:ext cx="9360" cy="177984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6"/>
                  </a:moveTo>
                  <a:lnTo>
                    <a:pt x="0" y="1121"/>
                  </a:lnTo>
                  <a:lnTo>
                    <a:pt x="6" y="112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2096720" y="6729480"/>
              <a:ext cx="9720" cy="1789200"/>
            </a:xfrm>
            <a:custGeom>
              <a:avLst/>
              <a:gdLst/>
              <a:ahLst/>
              <a:rect l="l" t="t" r="r" b="b"/>
              <a:pathLst>
                <a:path w="6" h="1127">
                  <a:moveTo>
                    <a:pt x="0" y="6"/>
                  </a:moveTo>
                  <a:lnTo>
                    <a:pt x="0" y="1127"/>
                  </a:lnTo>
                  <a:lnTo>
                    <a:pt x="6" y="112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2106440" y="6729480"/>
              <a:ext cx="10800" cy="178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2117240" y="6729480"/>
              <a:ext cx="20880" cy="1789200"/>
            </a:xfrm>
            <a:custGeom>
              <a:avLst/>
              <a:gdLst/>
              <a:ahLst/>
              <a:rect l="l" t="t" r="r" b="b"/>
              <a:pathLst>
                <a:path w="13" h="1127">
                  <a:moveTo>
                    <a:pt x="0" y="0"/>
                  </a:moveTo>
                  <a:lnTo>
                    <a:pt x="0" y="1127"/>
                  </a:lnTo>
                  <a:lnTo>
                    <a:pt x="13" y="112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2138120" y="6729480"/>
              <a:ext cx="9360" cy="1789200"/>
            </a:xfrm>
            <a:custGeom>
              <a:avLst/>
              <a:gdLst/>
              <a:ahLst/>
              <a:rect l="l" t="t" r="r" b="b"/>
              <a:pathLst>
                <a:path w="6" h="1127">
                  <a:moveTo>
                    <a:pt x="0" y="6"/>
                  </a:moveTo>
                  <a:lnTo>
                    <a:pt x="0" y="1127"/>
                  </a:lnTo>
                  <a:lnTo>
                    <a:pt x="6" y="112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2147480" y="6729480"/>
              <a:ext cx="9720" cy="178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2157200" y="6719760"/>
              <a:ext cx="11160" cy="1798920"/>
            </a:xfrm>
            <a:custGeom>
              <a:avLst/>
              <a:gdLst/>
              <a:ahLst/>
              <a:rect l="l" t="t" r="r" b="b"/>
              <a:pathLst>
                <a:path w="7" h="1133">
                  <a:moveTo>
                    <a:pt x="0" y="6"/>
                  </a:moveTo>
                  <a:lnTo>
                    <a:pt x="0" y="1133"/>
                  </a:lnTo>
                  <a:lnTo>
                    <a:pt x="7" y="113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2168360" y="6719760"/>
              <a:ext cx="936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2177720" y="6699240"/>
              <a:ext cx="9360" cy="1819440"/>
            </a:xfrm>
            <a:custGeom>
              <a:avLst/>
              <a:gdLst/>
              <a:ahLst/>
              <a:rect l="l" t="t" r="r" b="b"/>
              <a:pathLst>
                <a:path w="6" h="1146">
                  <a:moveTo>
                    <a:pt x="0" y="13"/>
                  </a:moveTo>
                  <a:lnTo>
                    <a:pt x="0" y="1146"/>
                  </a:lnTo>
                  <a:lnTo>
                    <a:pt x="6" y="114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187080" y="6689880"/>
              <a:ext cx="11160" cy="1828800"/>
            </a:xfrm>
            <a:custGeom>
              <a:avLst/>
              <a:gdLst/>
              <a:ahLst/>
              <a:rect l="l" t="t" r="r" b="b"/>
              <a:pathLst>
                <a:path w="7" h="1152">
                  <a:moveTo>
                    <a:pt x="0" y="6"/>
                  </a:moveTo>
                  <a:lnTo>
                    <a:pt x="0" y="1152"/>
                  </a:lnTo>
                  <a:lnTo>
                    <a:pt x="7" y="115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2198240" y="6689880"/>
              <a:ext cx="972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2207960" y="6689880"/>
              <a:ext cx="93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2217320" y="6680160"/>
              <a:ext cx="11160" cy="790560"/>
            </a:xfrm>
            <a:custGeom>
              <a:avLst/>
              <a:gdLst/>
              <a:ahLst/>
              <a:rect l="l" t="t" r="r" b="b"/>
              <a:pathLst>
                <a:path w="7" h="498">
                  <a:moveTo>
                    <a:pt x="0" y="6"/>
                  </a:moveTo>
                  <a:lnTo>
                    <a:pt x="0" y="498"/>
                  </a:lnTo>
                  <a:lnTo>
                    <a:pt x="7" y="49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2228480" y="6680160"/>
              <a:ext cx="972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0"/>
                  </a:moveTo>
                  <a:lnTo>
                    <a:pt x="0" y="348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2228480" y="723276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44"/>
                  </a:lnTo>
                  <a:lnTo>
                    <a:pt x="6" y="3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2228480" y="7302600"/>
              <a:ext cx="972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2217320" y="7470720"/>
              <a:ext cx="11160" cy="1047960"/>
            </a:xfrm>
            <a:custGeom>
              <a:avLst/>
              <a:gdLst/>
              <a:ahLst/>
              <a:rect l="l" t="t" r="r" b="b"/>
              <a:pathLst>
                <a:path w="7" h="660">
                  <a:moveTo>
                    <a:pt x="0" y="0"/>
                  </a:moveTo>
                  <a:lnTo>
                    <a:pt x="0" y="660"/>
                  </a:lnTo>
                  <a:lnTo>
                    <a:pt x="7" y="66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2228480" y="7480440"/>
              <a:ext cx="972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2238200" y="7243920"/>
              <a:ext cx="936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2238200" y="7302600"/>
              <a:ext cx="936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2238200" y="668016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0"/>
                  </a:moveTo>
                  <a:lnTo>
                    <a:pt x="0" y="342"/>
                  </a:lnTo>
                  <a:lnTo>
                    <a:pt x="6" y="3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2247560" y="72532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2247560" y="7332840"/>
              <a:ext cx="1116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2238200" y="7480440"/>
              <a:ext cx="9360" cy="1047600"/>
            </a:xfrm>
            <a:custGeom>
              <a:avLst/>
              <a:gdLst/>
              <a:ahLst/>
              <a:rect l="l" t="t" r="r" b="b"/>
              <a:pathLst>
                <a:path w="6" h="660">
                  <a:moveTo>
                    <a:pt x="0" y="0"/>
                  </a:moveTo>
                  <a:lnTo>
                    <a:pt x="0" y="654"/>
                  </a:lnTo>
                  <a:lnTo>
                    <a:pt x="6" y="66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2247560" y="7489800"/>
              <a:ext cx="1116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2247560" y="6680160"/>
              <a:ext cx="11160" cy="56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2258720" y="6680160"/>
              <a:ext cx="9360" cy="56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2258720" y="7332840"/>
              <a:ext cx="9360" cy="13788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2258720" y="7489800"/>
              <a:ext cx="9360" cy="74124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0"/>
                  </a:moveTo>
                  <a:lnTo>
                    <a:pt x="0" y="461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2258720" y="8251920"/>
              <a:ext cx="936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74"/>
                  </a:lnTo>
                  <a:lnTo>
                    <a:pt x="6" y="17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2268080" y="668016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0"/>
                  </a:moveTo>
                  <a:lnTo>
                    <a:pt x="0" y="355"/>
                  </a:lnTo>
                  <a:lnTo>
                    <a:pt x="7" y="34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2268080" y="734220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0"/>
                  </a:moveTo>
                  <a:lnTo>
                    <a:pt x="0" y="81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2268080" y="7489800"/>
              <a:ext cx="11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68080" y="8290080"/>
              <a:ext cx="11160" cy="237960"/>
            </a:xfrm>
            <a:custGeom>
              <a:avLst/>
              <a:gdLst/>
              <a:ahLst/>
              <a:rect l="l" t="t" r="r" b="b"/>
              <a:pathLst>
                <a:path w="7" h="150">
                  <a:moveTo>
                    <a:pt x="0" y="0"/>
                  </a:moveTo>
                  <a:lnTo>
                    <a:pt x="0" y="150"/>
                  </a:lnTo>
                  <a:lnTo>
                    <a:pt x="7" y="14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2279240" y="7342200"/>
              <a:ext cx="972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2279240" y="7489800"/>
              <a:ext cx="9720" cy="771480"/>
            </a:xfrm>
            <a:custGeom>
              <a:avLst/>
              <a:gdLst/>
              <a:ahLst/>
              <a:rect l="l" t="t" r="r" b="b"/>
              <a:pathLst>
                <a:path w="6" h="486">
                  <a:moveTo>
                    <a:pt x="0" y="0"/>
                  </a:moveTo>
                  <a:lnTo>
                    <a:pt x="0" y="480"/>
                  </a:lnTo>
                  <a:lnTo>
                    <a:pt x="6" y="48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279240" y="8300880"/>
              <a:ext cx="9720" cy="21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279240" y="6680160"/>
              <a:ext cx="972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2288960" y="6689880"/>
              <a:ext cx="936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2288960" y="723276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7"/>
                  </a:moveTo>
                  <a:lnTo>
                    <a:pt x="0" y="44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2288960" y="734220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87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2288960" y="7489800"/>
              <a:ext cx="9360" cy="781200"/>
            </a:xfrm>
            <a:custGeom>
              <a:avLst/>
              <a:gdLst/>
              <a:ahLst/>
              <a:rect l="l" t="t" r="r" b="b"/>
              <a:pathLst>
                <a:path w="6" h="492">
                  <a:moveTo>
                    <a:pt x="0" y="0"/>
                  </a:moveTo>
                  <a:lnTo>
                    <a:pt x="0" y="492"/>
                  </a:lnTo>
                  <a:lnTo>
                    <a:pt x="6" y="49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2288960" y="8310600"/>
              <a:ext cx="9360" cy="20808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0"/>
                  </a:moveTo>
                  <a:lnTo>
                    <a:pt x="0" y="131"/>
                  </a:lnTo>
                  <a:lnTo>
                    <a:pt x="6" y="1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2298320" y="8251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2298320" y="83008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2298320" y="8310600"/>
              <a:ext cx="11160" cy="196920"/>
            </a:xfrm>
            <a:custGeom>
              <a:avLst/>
              <a:gdLst/>
              <a:ahLst/>
              <a:rect l="l" t="t" r="r" b="b"/>
              <a:pathLst>
                <a:path w="7" h="124">
                  <a:moveTo>
                    <a:pt x="0" y="6"/>
                  </a:moveTo>
                  <a:lnTo>
                    <a:pt x="0" y="124"/>
                  </a:lnTo>
                  <a:lnTo>
                    <a:pt x="7" y="12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2298320" y="6689880"/>
              <a:ext cx="11160" cy="631800"/>
            </a:xfrm>
            <a:custGeom>
              <a:avLst/>
              <a:gdLst/>
              <a:ahLst/>
              <a:rect l="l" t="t" r="r" b="b"/>
              <a:pathLst>
                <a:path w="7" h="398">
                  <a:moveTo>
                    <a:pt x="0" y="0"/>
                  </a:moveTo>
                  <a:lnTo>
                    <a:pt x="0" y="392"/>
                  </a:lnTo>
                  <a:lnTo>
                    <a:pt x="7" y="39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2309480" y="6699240"/>
              <a:ext cx="9360" cy="6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2298320" y="738180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68"/>
                  </a:lnTo>
                  <a:lnTo>
                    <a:pt x="7" y="6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2309480" y="739152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6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298320" y="7500960"/>
              <a:ext cx="11160" cy="739800"/>
            </a:xfrm>
            <a:custGeom>
              <a:avLst/>
              <a:gdLst/>
              <a:ahLst/>
              <a:rect l="l" t="t" r="r" b="b"/>
              <a:pathLst>
                <a:path w="7" h="466">
                  <a:moveTo>
                    <a:pt x="0" y="0"/>
                  </a:moveTo>
                  <a:lnTo>
                    <a:pt x="0" y="466"/>
                  </a:lnTo>
                  <a:lnTo>
                    <a:pt x="7" y="46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2309480" y="8300880"/>
              <a:ext cx="936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2309480" y="7510320"/>
              <a:ext cx="9360" cy="74160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0"/>
                  </a:moveTo>
                  <a:lnTo>
                    <a:pt x="0" y="460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2318840" y="7510320"/>
              <a:ext cx="9720" cy="74160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6"/>
                  </a:moveTo>
                  <a:lnTo>
                    <a:pt x="0" y="467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2318840" y="8310600"/>
              <a:ext cx="9720" cy="1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2318840" y="6699240"/>
              <a:ext cx="972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0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2328560" y="6710400"/>
              <a:ext cx="11160" cy="622440"/>
            </a:xfrm>
            <a:custGeom>
              <a:avLst/>
              <a:gdLst/>
              <a:ahLst/>
              <a:rect l="l" t="t" r="r" b="b"/>
              <a:pathLst>
                <a:path w="7" h="392">
                  <a:moveTo>
                    <a:pt x="0" y="0"/>
                  </a:moveTo>
                  <a:lnTo>
                    <a:pt x="0" y="385"/>
                  </a:lnTo>
                  <a:lnTo>
                    <a:pt x="7" y="39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2318840" y="7400880"/>
              <a:ext cx="9720" cy="1094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0"/>
                  </a:moveTo>
                  <a:lnTo>
                    <a:pt x="0" y="56"/>
                  </a:lnTo>
                  <a:lnTo>
                    <a:pt x="6" y="6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2328560" y="7410600"/>
              <a:ext cx="11160" cy="9972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0" y="0"/>
                  </a:moveTo>
                  <a:lnTo>
                    <a:pt x="0" y="63"/>
                  </a:lnTo>
                  <a:lnTo>
                    <a:pt x="7" y="5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2328560" y="7510320"/>
              <a:ext cx="11160" cy="690840"/>
            </a:xfrm>
            <a:custGeom>
              <a:avLst/>
              <a:gdLst/>
              <a:ahLst/>
              <a:rect l="l" t="t" r="r" b="b"/>
              <a:pathLst>
                <a:path w="7" h="435">
                  <a:moveTo>
                    <a:pt x="0" y="0"/>
                  </a:moveTo>
                  <a:lnTo>
                    <a:pt x="0" y="435"/>
                  </a:lnTo>
                  <a:lnTo>
                    <a:pt x="7" y="42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2328560" y="82216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2339720" y="7520040"/>
              <a:ext cx="9360" cy="6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2339720" y="82310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2328560" y="8300880"/>
              <a:ext cx="11160" cy="206640"/>
            </a:xfrm>
            <a:custGeom>
              <a:avLst/>
              <a:gdLst/>
              <a:ahLst/>
              <a:rect l="l" t="t" r="r" b="b"/>
              <a:pathLst>
                <a:path w="7" h="130">
                  <a:moveTo>
                    <a:pt x="0" y="6"/>
                  </a:moveTo>
                  <a:lnTo>
                    <a:pt x="0" y="130"/>
                  </a:lnTo>
                  <a:lnTo>
                    <a:pt x="7" y="13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2339720" y="8300880"/>
              <a:ext cx="936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2339720" y="6710400"/>
              <a:ext cx="9360" cy="631800"/>
            </a:xfrm>
            <a:custGeom>
              <a:avLst/>
              <a:gdLst/>
              <a:ahLst/>
              <a:rect l="l" t="t" r="r" b="b"/>
              <a:pathLst>
                <a:path w="6" h="398">
                  <a:moveTo>
                    <a:pt x="0" y="0"/>
                  </a:moveTo>
                  <a:lnTo>
                    <a:pt x="0" y="392"/>
                  </a:lnTo>
                  <a:lnTo>
                    <a:pt x="6" y="39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2349080" y="6719760"/>
              <a:ext cx="9720" cy="6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2349080" y="7520040"/>
              <a:ext cx="972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6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2349080" y="8300880"/>
              <a:ext cx="972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6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2358800" y="7520040"/>
              <a:ext cx="11160" cy="65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2358800" y="820116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2358800" y="6719760"/>
              <a:ext cx="11160" cy="61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2369960" y="7520040"/>
              <a:ext cx="9360" cy="662040"/>
            </a:xfrm>
            <a:custGeom>
              <a:avLst/>
              <a:gdLst/>
              <a:ahLst/>
              <a:rect l="l" t="t" r="r" b="b"/>
              <a:pathLst>
                <a:path w="6" h="417">
                  <a:moveTo>
                    <a:pt x="0" y="0"/>
                  </a:moveTo>
                  <a:lnTo>
                    <a:pt x="0" y="411"/>
                  </a:lnTo>
                  <a:lnTo>
                    <a:pt x="6" y="4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2358800" y="8300880"/>
              <a:ext cx="11160" cy="206640"/>
            </a:xfrm>
            <a:custGeom>
              <a:avLst/>
              <a:gdLst/>
              <a:ahLst/>
              <a:rect l="l" t="t" r="r" b="b"/>
              <a:pathLst>
                <a:path w="7" h="130">
                  <a:moveTo>
                    <a:pt x="0" y="0"/>
                  </a:moveTo>
                  <a:lnTo>
                    <a:pt x="0" y="130"/>
                  </a:lnTo>
                  <a:lnTo>
                    <a:pt x="7" y="12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2369960" y="8310600"/>
              <a:ext cx="936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2369960" y="6719760"/>
              <a:ext cx="9360" cy="61308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0"/>
                  </a:moveTo>
                  <a:lnTo>
                    <a:pt x="0" y="386"/>
                  </a:lnTo>
                  <a:lnTo>
                    <a:pt x="6" y="37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2379320" y="6729480"/>
              <a:ext cx="9360" cy="554040"/>
            </a:xfrm>
            <a:custGeom>
              <a:avLst/>
              <a:gdLst/>
              <a:ahLst/>
              <a:rect l="l" t="t" r="r" b="b"/>
              <a:pathLst>
                <a:path w="6" h="349">
                  <a:moveTo>
                    <a:pt x="0" y="0"/>
                  </a:moveTo>
                  <a:lnTo>
                    <a:pt x="0" y="349"/>
                  </a:lnTo>
                  <a:lnTo>
                    <a:pt x="6" y="33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2379320" y="7520040"/>
              <a:ext cx="9360" cy="6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2388680" y="725328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6"/>
                  </a:moveTo>
                  <a:lnTo>
                    <a:pt x="0" y="31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2388680" y="73515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19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2388680" y="7510320"/>
              <a:ext cx="11160" cy="71136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6"/>
                  </a:moveTo>
                  <a:lnTo>
                    <a:pt x="0" y="442"/>
                  </a:lnTo>
                  <a:lnTo>
                    <a:pt x="7" y="44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2379320" y="831060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12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2388680" y="8310600"/>
              <a:ext cx="1116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2388680" y="6729480"/>
              <a:ext cx="11160" cy="52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2399840" y="6729480"/>
              <a:ext cx="9720" cy="66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2399840" y="7510320"/>
              <a:ext cx="9720" cy="6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2399840" y="8310600"/>
              <a:ext cx="972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2409560" y="7520040"/>
              <a:ext cx="93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2409560" y="7550280"/>
              <a:ext cx="9360" cy="661680"/>
            </a:xfrm>
            <a:custGeom>
              <a:avLst/>
              <a:gdLst/>
              <a:ahLst/>
              <a:rect l="l" t="t" r="r" b="b"/>
              <a:pathLst>
                <a:path w="6" h="417">
                  <a:moveTo>
                    <a:pt x="0" y="0"/>
                  </a:moveTo>
                  <a:lnTo>
                    <a:pt x="0" y="417"/>
                  </a:lnTo>
                  <a:lnTo>
                    <a:pt x="6" y="41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409560" y="6729480"/>
              <a:ext cx="936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23"/>
                  </a:lnTo>
                  <a:lnTo>
                    <a:pt x="6" y="4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2409560" y="830088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99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2418920" y="8300880"/>
              <a:ext cx="11160" cy="168480"/>
            </a:xfrm>
            <a:custGeom>
              <a:avLst/>
              <a:gdLst/>
              <a:ahLst/>
              <a:rect l="l" t="t" r="r" b="b"/>
              <a:pathLst>
                <a:path w="7" h="106">
                  <a:moveTo>
                    <a:pt x="0" y="0"/>
                  </a:moveTo>
                  <a:lnTo>
                    <a:pt x="0" y="106"/>
                  </a:lnTo>
                  <a:lnTo>
                    <a:pt x="7" y="10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2418920" y="6729480"/>
              <a:ext cx="11160" cy="66204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0"/>
                  </a:moveTo>
                  <a:lnTo>
                    <a:pt x="0" y="417"/>
                  </a:lnTo>
                  <a:lnTo>
                    <a:pt x="7" y="41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430080" y="741060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2418920" y="75200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2430080" y="7529400"/>
              <a:ext cx="9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12418920" y="6492960"/>
            <a:ext cx="565200" cy="2035080"/>
            <a:chOff x="12418920" y="6492960"/>
            <a:chExt cx="565200" cy="2035080"/>
          </a:xfrm>
        </p:grpSpPr>
        <p:sp>
          <p:nvSpPr>
            <p:cNvPr id="2052" name=""/>
            <p:cNvSpPr/>
            <p:nvPr/>
          </p:nvSpPr>
          <p:spPr>
            <a:xfrm>
              <a:off x="12418920" y="7559640"/>
              <a:ext cx="11160" cy="652320"/>
            </a:xfrm>
            <a:custGeom>
              <a:avLst/>
              <a:gdLst/>
              <a:ahLst/>
              <a:rect l="l" t="t" r="r" b="b"/>
              <a:pathLst>
                <a:path w="7" h="411">
                  <a:moveTo>
                    <a:pt x="0" y="0"/>
                  </a:moveTo>
                  <a:lnTo>
                    <a:pt x="0" y="411"/>
                  </a:lnTo>
                  <a:lnTo>
                    <a:pt x="7" y="40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2430080" y="7559640"/>
              <a:ext cx="9720" cy="64152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0"/>
                  </a:moveTo>
                  <a:lnTo>
                    <a:pt x="0" y="398"/>
                  </a:lnTo>
                  <a:lnTo>
                    <a:pt x="6" y="40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2418920" y="84693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2430080" y="836928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75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2430080" y="6738840"/>
              <a:ext cx="9720" cy="65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2439800" y="6738840"/>
              <a:ext cx="10800" cy="701640"/>
            </a:xfrm>
            <a:custGeom>
              <a:avLst/>
              <a:gdLst/>
              <a:ahLst/>
              <a:rect l="l" t="t" r="r" b="b"/>
              <a:pathLst>
                <a:path w="7" h="442">
                  <a:moveTo>
                    <a:pt x="0" y="0"/>
                  </a:moveTo>
                  <a:lnTo>
                    <a:pt x="0" y="442"/>
                  </a:lnTo>
                  <a:lnTo>
                    <a:pt x="7" y="43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2439800" y="7529400"/>
              <a:ext cx="108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2439800" y="7559640"/>
              <a:ext cx="10800" cy="6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2439800" y="8399520"/>
              <a:ext cx="1080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450600" y="6729480"/>
              <a:ext cx="972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6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2450600" y="75294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2450600" y="7559640"/>
              <a:ext cx="9720" cy="61272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0"/>
                  </a:moveTo>
                  <a:lnTo>
                    <a:pt x="0" y="386"/>
                  </a:lnTo>
                  <a:lnTo>
                    <a:pt x="6" y="3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2450600" y="8310600"/>
              <a:ext cx="972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37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2460320" y="756936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2460320" y="7599240"/>
              <a:ext cx="936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0"/>
                  </a:moveTo>
                  <a:lnTo>
                    <a:pt x="0" y="361"/>
                  </a:lnTo>
                  <a:lnTo>
                    <a:pt x="6" y="36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2450600" y="8399520"/>
              <a:ext cx="972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2"/>
                  </a:lnTo>
                  <a:lnTo>
                    <a:pt x="6" y="6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2460320" y="8290080"/>
              <a:ext cx="9360" cy="228600"/>
            </a:xfrm>
            <a:custGeom>
              <a:avLst/>
              <a:gdLst/>
              <a:ahLst/>
              <a:rect l="l" t="t" r="r" b="b"/>
              <a:pathLst>
                <a:path w="6" h="144">
                  <a:moveTo>
                    <a:pt x="0" y="7"/>
                  </a:moveTo>
                  <a:lnTo>
                    <a:pt x="0" y="137"/>
                  </a:lnTo>
                  <a:lnTo>
                    <a:pt x="6" y="14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2460320" y="6719760"/>
              <a:ext cx="9360" cy="711360"/>
            </a:xfrm>
            <a:custGeom>
              <a:avLst/>
              <a:gdLst/>
              <a:ahLst/>
              <a:rect l="l" t="t" r="r" b="b"/>
              <a:pathLst>
                <a:path w="6" h="448">
                  <a:moveTo>
                    <a:pt x="0" y="6"/>
                  </a:moveTo>
                  <a:lnTo>
                    <a:pt x="0" y="448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2469680" y="6719760"/>
              <a:ext cx="11160" cy="71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2469680" y="7608960"/>
              <a:ext cx="11160" cy="573120"/>
            </a:xfrm>
            <a:custGeom>
              <a:avLst/>
              <a:gdLst/>
              <a:ahLst/>
              <a:rect l="l" t="t" r="r" b="b"/>
              <a:pathLst>
                <a:path w="7" h="361">
                  <a:moveTo>
                    <a:pt x="0" y="6"/>
                  </a:moveTo>
                  <a:lnTo>
                    <a:pt x="0" y="355"/>
                  </a:lnTo>
                  <a:lnTo>
                    <a:pt x="7" y="36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2480840" y="6699240"/>
              <a:ext cx="9720" cy="731880"/>
            </a:xfrm>
            <a:custGeom>
              <a:avLst/>
              <a:gdLst/>
              <a:ahLst/>
              <a:rect l="l" t="t" r="r" b="b"/>
              <a:pathLst>
                <a:path w="6" h="461">
                  <a:moveTo>
                    <a:pt x="0" y="13"/>
                  </a:moveTo>
                  <a:lnTo>
                    <a:pt x="0" y="461"/>
                  </a:lnTo>
                  <a:lnTo>
                    <a:pt x="6" y="46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2469680" y="8290080"/>
              <a:ext cx="11160" cy="237960"/>
            </a:xfrm>
            <a:custGeom>
              <a:avLst/>
              <a:gdLst/>
              <a:ahLst/>
              <a:rect l="l" t="t" r="r" b="b"/>
              <a:pathLst>
                <a:path w="7" h="150">
                  <a:moveTo>
                    <a:pt x="0" y="0"/>
                  </a:moveTo>
                  <a:lnTo>
                    <a:pt x="0" y="144"/>
                  </a:lnTo>
                  <a:lnTo>
                    <a:pt x="7" y="150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2480840" y="8300880"/>
              <a:ext cx="9720" cy="2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2480840" y="7578720"/>
              <a:ext cx="972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2490560" y="8300880"/>
              <a:ext cx="936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2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2490560" y="6699240"/>
              <a:ext cx="9360" cy="731880"/>
            </a:xfrm>
            <a:custGeom>
              <a:avLst/>
              <a:gdLst/>
              <a:ahLst/>
              <a:rect l="l" t="t" r="r" b="b"/>
              <a:pathLst>
                <a:path w="6" h="461">
                  <a:moveTo>
                    <a:pt x="0" y="0"/>
                  </a:moveTo>
                  <a:lnTo>
                    <a:pt x="0" y="461"/>
                  </a:lnTo>
                  <a:lnTo>
                    <a:pt x="6" y="45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2490560" y="7578720"/>
              <a:ext cx="9360" cy="56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2499920" y="7578720"/>
              <a:ext cx="11160" cy="5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2499920" y="8300880"/>
              <a:ext cx="11160" cy="196920"/>
            </a:xfrm>
            <a:custGeom>
              <a:avLst/>
              <a:gdLst/>
              <a:ahLst/>
              <a:rect l="l" t="t" r="r" b="b"/>
              <a:pathLst>
                <a:path w="7" h="124">
                  <a:moveTo>
                    <a:pt x="0" y="0"/>
                  </a:moveTo>
                  <a:lnTo>
                    <a:pt x="0" y="124"/>
                  </a:lnTo>
                  <a:lnTo>
                    <a:pt x="7" y="1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2499920" y="6689880"/>
              <a:ext cx="11160" cy="731520"/>
            </a:xfrm>
            <a:custGeom>
              <a:avLst/>
              <a:gdLst/>
              <a:ahLst/>
              <a:rect l="l" t="t" r="r" b="b"/>
              <a:pathLst>
                <a:path w="7" h="461">
                  <a:moveTo>
                    <a:pt x="0" y="6"/>
                  </a:moveTo>
                  <a:lnTo>
                    <a:pt x="0" y="461"/>
                  </a:lnTo>
                  <a:lnTo>
                    <a:pt x="7" y="46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2511080" y="7578720"/>
              <a:ext cx="9360" cy="5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2511080" y="8300880"/>
              <a:ext cx="9360" cy="157320"/>
            </a:xfrm>
            <a:custGeom>
              <a:avLst/>
              <a:gdLst/>
              <a:ahLst/>
              <a:rect l="l" t="t" r="r" b="b"/>
              <a:pathLst>
                <a:path w="6" h="99">
                  <a:moveTo>
                    <a:pt x="0" y="0"/>
                  </a:moveTo>
                  <a:lnTo>
                    <a:pt x="0" y="99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2511080" y="6689880"/>
              <a:ext cx="9360" cy="73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2520440" y="6680160"/>
              <a:ext cx="9720" cy="74124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6"/>
                  </a:moveTo>
                  <a:lnTo>
                    <a:pt x="0" y="467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2520440" y="7569360"/>
              <a:ext cx="9720" cy="61272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6"/>
                  </a:moveTo>
                  <a:lnTo>
                    <a:pt x="0" y="380"/>
                  </a:lnTo>
                  <a:lnTo>
                    <a:pt x="6" y="38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2520440" y="8300880"/>
              <a:ext cx="9720" cy="14796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2530160" y="7559640"/>
              <a:ext cx="11160" cy="631800"/>
            </a:xfrm>
            <a:custGeom>
              <a:avLst/>
              <a:gdLst/>
              <a:ahLst/>
              <a:rect l="l" t="t" r="r" b="b"/>
              <a:pathLst>
                <a:path w="7" h="398">
                  <a:moveTo>
                    <a:pt x="0" y="6"/>
                  </a:moveTo>
                  <a:lnTo>
                    <a:pt x="0" y="392"/>
                  </a:lnTo>
                  <a:lnTo>
                    <a:pt x="7" y="39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2530160" y="829008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2530160" y="6680160"/>
              <a:ext cx="11160" cy="74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2541320" y="828036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75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2541320" y="6680160"/>
              <a:ext cx="9360" cy="750960"/>
            </a:xfrm>
            <a:custGeom>
              <a:avLst/>
              <a:gdLst/>
              <a:ahLst/>
              <a:rect l="l" t="t" r="r" b="b"/>
              <a:pathLst>
                <a:path w="6" h="473">
                  <a:moveTo>
                    <a:pt x="0" y="0"/>
                  </a:moveTo>
                  <a:lnTo>
                    <a:pt x="0" y="467"/>
                  </a:lnTo>
                  <a:lnTo>
                    <a:pt x="6" y="47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2541320" y="7559640"/>
              <a:ext cx="9360" cy="65232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0"/>
                  </a:moveTo>
                  <a:lnTo>
                    <a:pt x="0" y="404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2550680" y="7559640"/>
              <a:ext cx="972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0"/>
                  </a:moveTo>
                  <a:lnTo>
                    <a:pt x="0" y="436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2550680" y="828036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2550680" y="6680160"/>
              <a:ext cx="9720" cy="7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560400" y="7550280"/>
              <a:ext cx="11160" cy="71100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6"/>
                  </a:moveTo>
                  <a:lnTo>
                    <a:pt x="0" y="448"/>
                  </a:lnTo>
                  <a:lnTo>
                    <a:pt x="7" y="44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2560400" y="82803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2560400" y="83199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2560400" y="6680160"/>
              <a:ext cx="11160" cy="750960"/>
            </a:xfrm>
            <a:custGeom>
              <a:avLst/>
              <a:gdLst/>
              <a:ahLst/>
              <a:rect l="l" t="t" r="r" b="b"/>
              <a:pathLst>
                <a:path w="7" h="473">
                  <a:moveTo>
                    <a:pt x="0" y="0"/>
                  </a:moveTo>
                  <a:lnTo>
                    <a:pt x="0" y="473"/>
                  </a:lnTo>
                  <a:lnTo>
                    <a:pt x="7" y="47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2571560" y="6689880"/>
              <a:ext cx="9360" cy="74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2571560" y="7550280"/>
              <a:ext cx="936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2580920" y="7550280"/>
              <a:ext cx="11160" cy="71100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0"/>
                  </a:moveTo>
                  <a:lnTo>
                    <a:pt x="0" y="448"/>
                  </a:lnTo>
                  <a:lnTo>
                    <a:pt x="7" y="44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2580920" y="6689880"/>
              <a:ext cx="11160" cy="731520"/>
            </a:xfrm>
            <a:custGeom>
              <a:avLst/>
              <a:gdLst/>
              <a:ahLst/>
              <a:rect l="l" t="t" r="r" b="b"/>
              <a:pathLst>
                <a:path w="7" h="461">
                  <a:moveTo>
                    <a:pt x="0" y="0"/>
                  </a:moveTo>
                  <a:lnTo>
                    <a:pt x="0" y="461"/>
                  </a:lnTo>
                  <a:lnTo>
                    <a:pt x="7" y="4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2592080" y="7550280"/>
              <a:ext cx="936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0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2592080" y="6699240"/>
              <a:ext cx="9360" cy="7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2601440" y="7559640"/>
              <a:ext cx="9720" cy="69228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0"/>
                  </a:moveTo>
                  <a:lnTo>
                    <a:pt x="0" y="436"/>
                  </a:lnTo>
                  <a:lnTo>
                    <a:pt x="6" y="42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2601440" y="6699240"/>
              <a:ext cx="9720" cy="722160"/>
            </a:xfrm>
            <a:custGeom>
              <a:avLst/>
              <a:gdLst/>
              <a:ahLst/>
              <a:rect l="l" t="t" r="r" b="b"/>
              <a:pathLst>
                <a:path w="6" h="455">
                  <a:moveTo>
                    <a:pt x="0" y="0"/>
                  </a:moveTo>
                  <a:lnTo>
                    <a:pt x="0" y="455"/>
                  </a:lnTo>
                  <a:lnTo>
                    <a:pt x="6" y="45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2611160" y="6710400"/>
              <a:ext cx="1116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2611160" y="7569360"/>
              <a:ext cx="11160" cy="671400"/>
            </a:xfrm>
            <a:custGeom>
              <a:avLst/>
              <a:gdLst/>
              <a:ahLst/>
              <a:rect l="l" t="t" r="r" b="b"/>
              <a:pathLst>
                <a:path w="7" h="423">
                  <a:moveTo>
                    <a:pt x="0" y="0"/>
                  </a:moveTo>
                  <a:lnTo>
                    <a:pt x="0" y="423"/>
                  </a:lnTo>
                  <a:lnTo>
                    <a:pt x="7" y="41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2611160" y="75391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2622320" y="7529400"/>
              <a:ext cx="9360" cy="69228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6"/>
                  </a:moveTo>
                  <a:lnTo>
                    <a:pt x="0" y="436"/>
                  </a:lnTo>
                  <a:lnTo>
                    <a:pt x="6" y="43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2622320" y="6710400"/>
              <a:ext cx="936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2631680" y="6710400"/>
              <a:ext cx="97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2631680" y="7529400"/>
              <a:ext cx="972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0"/>
                  </a:moveTo>
                  <a:lnTo>
                    <a:pt x="0" y="392"/>
                  </a:lnTo>
                  <a:lnTo>
                    <a:pt x="6" y="38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2641400" y="6710400"/>
              <a:ext cx="10800" cy="71100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0"/>
                  </a:moveTo>
                  <a:lnTo>
                    <a:pt x="0" y="448"/>
                  </a:lnTo>
                  <a:lnTo>
                    <a:pt x="7" y="44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2652200" y="6710400"/>
              <a:ext cx="9720" cy="700200"/>
            </a:xfrm>
            <a:custGeom>
              <a:avLst/>
              <a:gdLst/>
              <a:ahLst/>
              <a:rect l="l" t="t" r="r" b="b"/>
              <a:pathLst>
                <a:path w="6" h="441">
                  <a:moveTo>
                    <a:pt x="0" y="0"/>
                  </a:moveTo>
                  <a:lnTo>
                    <a:pt x="0" y="441"/>
                  </a:lnTo>
                  <a:lnTo>
                    <a:pt x="6" y="42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2641400" y="7520040"/>
              <a:ext cx="10800" cy="622080"/>
            </a:xfrm>
            <a:custGeom>
              <a:avLst/>
              <a:gdLst/>
              <a:ahLst/>
              <a:rect l="l" t="t" r="r" b="b"/>
              <a:pathLst>
                <a:path w="7" h="392">
                  <a:moveTo>
                    <a:pt x="0" y="6"/>
                  </a:moveTo>
                  <a:lnTo>
                    <a:pt x="0" y="392"/>
                  </a:lnTo>
                  <a:lnTo>
                    <a:pt x="7" y="3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2661920" y="6710400"/>
              <a:ext cx="936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23"/>
                  </a:lnTo>
                  <a:lnTo>
                    <a:pt x="6" y="4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2652200" y="7520040"/>
              <a:ext cx="9720" cy="592200"/>
            </a:xfrm>
            <a:custGeom>
              <a:avLst/>
              <a:gdLst/>
              <a:ahLst/>
              <a:rect l="l" t="t" r="r" b="b"/>
              <a:pathLst>
                <a:path w="6" h="373">
                  <a:moveTo>
                    <a:pt x="0" y="0"/>
                  </a:moveTo>
                  <a:lnTo>
                    <a:pt x="0" y="373"/>
                  </a:lnTo>
                  <a:lnTo>
                    <a:pt x="6" y="3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2671280" y="6699240"/>
              <a:ext cx="11160" cy="692280"/>
            </a:xfrm>
            <a:custGeom>
              <a:avLst/>
              <a:gdLst/>
              <a:ahLst/>
              <a:rect l="l" t="t" r="r" b="b"/>
              <a:pathLst>
                <a:path w="7" h="436">
                  <a:moveTo>
                    <a:pt x="0" y="7"/>
                  </a:moveTo>
                  <a:lnTo>
                    <a:pt x="0" y="436"/>
                  </a:lnTo>
                  <a:lnTo>
                    <a:pt x="7" y="43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2671280" y="74311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2661920" y="7520040"/>
              <a:ext cx="9360" cy="582480"/>
            </a:xfrm>
            <a:custGeom>
              <a:avLst/>
              <a:gdLst/>
              <a:ahLst/>
              <a:rect l="l" t="t" r="r" b="b"/>
              <a:pathLst>
                <a:path w="6" h="367">
                  <a:moveTo>
                    <a:pt x="0" y="0"/>
                  </a:moveTo>
                  <a:lnTo>
                    <a:pt x="0" y="367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2671280" y="7520040"/>
              <a:ext cx="11160" cy="554040"/>
            </a:xfrm>
            <a:custGeom>
              <a:avLst/>
              <a:gdLst/>
              <a:ahLst/>
              <a:rect l="l" t="t" r="r" b="b"/>
              <a:pathLst>
                <a:path w="7" h="349">
                  <a:moveTo>
                    <a:pt x="0" y="0"/>
                  </a:moveTo>
                  <a:lnTo>
                    <a:pt x="0" y="349"/>
                  </a:lnTo>
                  <a:lnTo>
                    <a:pt x="7" y="33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2682440" y="6640560"/>
              <a:ext cx="9720" cy="790560"/>
            </a:xfrm>
            <a:custGeom>
              <a:avLst/>
              <a:gdLst/>
              <a:ahLst/>
              <a:rect l="l" t="t" r="r" b="b"/>
              <a:pathLst>
                <a:path w="6" h="498">
                  <a:moveTo>
                    <a:pt x="0" y="25"/>
                  </a:moveTo>
                  <a:lnTo>
                    <a:pt x="0" y="498"/>
                  </a:lnTo>
                  <a:lnTo>
                    <a:pt x="6" y="498"/>
                  </a:lnTo>
                  <a:lnTo>
                    <a:pt x="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2682440" y="743112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2682440" y="752940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2682440" y="759924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2682440" y="7639200"/>
              <a:ext cx="9720" cy="40464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0"/>
                  </a:moveTo>
                  <a:lnTo>
                    <a:pt x="0" y="255"/>
                  </a:lnTo>
                  <a:lnTo>
                    <a:pt x="6" y="23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2692160" y="753912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692160" y="758988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2692160" y="76280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7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2692160" y="662148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12"/>
                  </a:moveTo>
                  <a:lnTo>
                    <a:pt x="0" y="348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2692160" y="7194600"/>
              <a:ext cx="936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68"/>
                  </a:lnTo>
                  <a:lnTo>
                    <a:pt x="6" y="17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12701520" y="7203960"/>
              <a:ext cx="111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2701520" y="7550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2701520" y="75787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2701520" y="76089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2701520" y="76676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7"/>
                  </a:moveTo>
                  <a:lnTo>
                    <a:pt x="0" y="19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2692160" y="7678800"/>
              <a:ext cx="9360" cy="33480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6"/>
                  </a:moveTo>
                  <a:lnTo>
                    <a:pt x="0" y="211"/>
                  </a:lnTo>
                  <a:lnTo>
                    <a:pt x="6" y="20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2701520" y="769788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93"/>
                  </a:lnTo>
                  <a:lnTo>
                    <a:pt x="7" y="18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2701520" y="661032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7"/>
                  </a:moveTo>
                  <a:lnTo>
                    <a:pt x="0" y="349"/>
                  </a:lnTo>
                  <a:lnTo>
                    <a:pt x="7" y="35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2712680" y="7203960"/>
              <a:ext cx="9720" cy="26676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2712680" y="759924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2712680" y="766764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2712680" y="6600960"/>
              <a:ext cx="972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6"/>
                  </a:moveTo>
                  <a:lnTo>
                    <a:pt x="0" y="361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2722400" y="6591240"/>
              <a:ext cx="10800" cy="592200"/>
            </a:xfrm>
            <a:custGeom>
              <a:avLst/>
              <a:gdLst/>
              <a:ahLst/>
              <a:rect l="l" t="t" r="r" b="b"/>
              <a:pathLst>
                <a:path w="7" h="373">
                  <a:moveTo>
                    <a:pt x="0" y="6"/>
                  </a:moveTo>
                  <a:lnTo>
                    <a:pt x="0" y="373"/>
                  </a:lnTo>
                  <a:lnTo>
                    <a:pt x="7" y="37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2722400" y="7213680"/>
              <a:ext cx="108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2722400" y="7589880"/>
              <a:ext cx="1080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6"/>
                  </a:moveTo>
                  <a:lnTo>
                    <a:pt x="0" y="37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2722400" y="76676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2722400" y="7697880"/>
              <a:ext cx="1080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2712680" y="7716960"/>
              <a:ext cx="9720" cy="277560"/>
            </a:xfrm>
            <a:custGeom>
              <a:avLst/>
              <a:gdLst/>
              <a:ahLst/>
              <a:rect l="l" t="t" r="r" b="b"/>
              <a:pathLst>
                <a:path w="6" h="175">
                  <a:moveTo>
                    <a:pt x="0" y="0"/>
                  </a:moveTo>
                  <a:lnTo>
                    <a:pt x="0" y="175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2722400" y="7707240"/>
              <a:ext cx="1080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6"/>
                  </a:moveTo>
                  <a:lnTo>
                    <a:pt x="0" y="168"/>
                  </a:lnTo>
                  <a:lnTo>
                    <a:pt x="7" y="15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2733200" y="7005600"/>
              <a:ext cx="972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2733200" y="7213680"/>
              <a:ext cx="972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2733200" y="7342200"/>
              <a:ext cx="972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2733200" y="7589880"/>
              <a:ext cx="972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0" y="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2733200" y="6570720"/>
              <a:ext cx="9720" cy="415800"/>
            </a:xfrm>
            <a:custGeom>
              <a:avLst/>
              <a:gdLst/>
              <a:ahLst/>
              <a:rect l="l" t="t" r="r" b="b"/>
              <a:pathLst>
                <a:path w="6" h="262">
                  <a:moveTo>
                    <a:pt x="0" y="13"/>
                  </a:moveTo>
                  <a:lnTo>
                    <a:pt x="0" y="262"/>
                  </a:lnTo>
                  <a:lnTo>
                    <a:pt x="6" y="25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2742920" y="6561000"/>
              <a:ext cx="9360" cy="435240"/>
            </a:xfrm>
            <a:custGeom>
              <a:avLst/>
              <a:gdLst/>
              <a:ahLst/>
              <a:rect l="l" t="t" r="r" b="b"/>
              <a:pathLst>
                <a:path w="6" h="274">
                  <a:moveTo>
                    <a:pt x="0" y="6"/>
                  </a:moveTo>
                  <a:lnTo>
                    <a:pt x="0" y="274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2742920" y="73026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2742920" y="7342200"/>
              <a:ext cx="93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2733200" y="7678800"/>
              <a:ext cx="972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74"/>
                  </a:lnTo>
                  <a:lnTo>
                    <a:pt x="6" y="16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2742920" y="700560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10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2752280" y="7016760"/>
              <a:ext cx="11160" cy="15732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0" y="99"/>
                  </a:lnTo>
                  <a:lnTo>
                    <a:pt x="7" y="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2742920" y="7203960"/>
              <a:ext cx="936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6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2752280" y="720396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2752280" y="7351560"/>
              <a:ext cx="1116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2752280" y="76485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2742920" y="7667640"/>
              <a:ext cx="9360" cy="277920"/>
            </a:xfrm>
            <a:custGeom>
              <a:avLst/>
              <a:gdLst/>
              <a:ahLst/>
              <a:rect l="l" t="t" r="r" b="b"/>
              <a:pathLst>
                <a:path w="6" h="175">
                  <a:moveTo>
                    <a:pt x="0" y="0"/>
                  </a:moveTo>
                  <a:lnTo>
                    <a:pt x="0" y="175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2752280" y="7688160"/>
              <a:ext cx="11160" cy="236520"/>
            </a:xfrm>
            <a:custGeom>
              <a:avLst/>
              <a:gdLst/>
              <a:ahLst/>
              <a:rect l="l" t="t" r="r" b="b"/>
              <a:pathLst>
                <a:path w="7" h="149">
                  <a:moveTo>
                    <a:pt x="0" y="0"/>
                  </a:moveTo>
                  <a:lnTo>
                    <a:pt x="0" y="149"/>
                  </a:lnTo>
                  <a:lnTo>
                    <a:pt x="7" y="1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752280" y="6541920"/>
              <a:ext cx="11160" cy="463680"/>
            </a:xfrm>
            <a:custGeom>
              <a:avLst/>
              <a:gdLst/>
              <a:ahLst/>
              <a:rect l="l" t="t" r="r" b="b"/>
              <a:pathLst>
                <a:path w="7" h="292">
                  <a:moveTo>
                    <a:pt x="0" y="12"/>
                  </a:moveTo>
                  <a:lnTo>
                    <a:pt x="0" y="286"/>
                  </a:lnTo>
                  <a:lnTo>
                    <a:pt x="7" y="292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2763440" y="6531120"/>
              <a:ext cx="9720" cy="474480"/>
            </a:xfrm>
            <a:custGeom>
              <a:avLst/>
              <a:gdLst/>
              <a:ahLst/>
              <a:rect l="l" t="t" r="r" b="b"/>
              <a:pathLst>
                <a:path w="6" h="299">
                  <a:moveTo>
                    <a:pt x="0" y="7"/>
                  </a:moveTo>
                  <a:lnTo>
                    <a:pt x="0" y="299"/>
                  </a:lnTo>
                  <a:lnTo>
                    <a:pt x="6" y="29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2763440" y="701676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9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2763440" y="7203960"/>
              <a:ext cx="9720" cy="68400"/>
            </a:xfrm>
            <a:custGeom>
              <a:avLst/>
              <a:gdLst/>
              <a:ahLst/>
              <a:rect l="l" t="t" r="r" b="b"/>
              <a:pathLst>
                <a:path w="6" h="43">
                  <a:moveTo>
                    <a:pt x="0" y="0"/>
                  </a:moveTo>
                  <a:lnTo>
                    <a:pt x="0" y="43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2763440" y="735156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2763440" y="760896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6"/>
                  </a:moveTo>
                  <a:lnTo>
                    <a:pt x="0" y="44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2763440" y="7688160"/>
              <a:ext cx="9720" cy="227160"/>
            </a:xfrm>
            <a:custGeom>
              <a:avLst/>
              <a:gdLst/>
              <a:ahLst/>
              <a:rect l="l" t="t" r="r" b="b"/>
              <a:pathLst>
                <a:path w="6" h="143">
                  <a:moveTo>
                    <a:pt x="0" y="6"/>
                  </a:moveTo>
                  <a:lnTo>
                    <a:pt x="0" y="143"/>
                  </a:lnTo>
                  <a:lnTo>
                    <a:pt x="6" y="1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2773160" y="7203960"/>
              <a:ext cx="936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2773160" y="729288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12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2773160" y="7618320"/>
              <a:ext cx="936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2773160" y="7678800"/>
              <a:ext cx="9360" cy="217440"/>
            </a:xfrm>
            <a:custGeom>
              <a:avLst/>
              <a:gdLst/>
              <a:ahLst/>
              <a:rect l="l" t="t" r="r" b="b"/>
              <a:pathLst>
                <a:path w="6" h="137">
                  <a:moveTo>
                    <a:pt x="0" y="0"/>
                  </a:moveTo>
                  <a:lnTo>
                    <a:pt x="0" y="137"/>
                  </a:lnTo>
                  <a:lnTo>
                    <a:pt x="6" y="1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2773160" y="6521400"/>
              <a:ext cx="9360" cy="484200"/>
            </a:xfrm>
            <a:custGeom>
              <a:avLst/>
              <a:gdLst/>
              <a:ahLst/>
              <a:rect l="l" t="t" r="r" b="b"/>
              <a:pathLst>
                <a:path w="6" h="305">
                  <a:moveTo>
                    <a:pt x="0" y="6"/>
                  </a:moveTo>
                  <a:lnTo>
                    <a:pt x="0" y="305"/>
                  </a:lnTo>
                  <a:lnTo>
                    <a:pt x="6" y="30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2782520" y="6521400"/>
              <a:ext cx="1116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2782520" y="69865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2773160" y="7026120"/>
              <a:ext cx="936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2782520" y="7203960"/>
              <a:ext cx="1116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2782520" y="7283520"/>
              <a:ext cx="11160" cy="117360"/>
            </a:xfrm>
            <a:custGeom>
              <a:avLst/>
              <a:gdLst/>
              <a:ahLst/>
              <a:rect l="l" t="t" r="r" b="b"/>
              <a:pathLst>
                <a:path w="7" h="74">
                  <a:moveTo>
                    <a:pt x="0" y="0"/>
                  </a:moveTo>
                  <a:lnTo>
                    <a:pt x="0" y="74"/>
                  </a:lnTo>
                  <a:lnTo>
                    <a:pt x="7" y="6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2782520" y="7618320"/>
              <a:ext cx="1116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2793680" y="69962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2782520" y="7035840"/>
              <a:ext cx="1116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2793680" y="703584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2793680" y="72039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2793680" y="72230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793680" y="7618320"/>
              <a:ext cx="936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2793680" y="7658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2782520" y="7678800"/>
              <a:ext cx="20520" cy="187200"/>
            </a:xfrm>
            <a:custGeom>
              <a:avLst/>
              <a:gdLst/>
              <a:ahLst/>
              <a:rect l="l" t="t" r="r" b="b"/>
              <a:pathLst>
                <a:path w="13" h="118">
                  <a:moveTo>
                    <a:pt x="0" y="0"/>
                  </a:moveTo>
                  <a:lnTo>
                    <a:pt x="0" y="118"/>
                  </a:lnTo>
                  <a:lnTo>
                    <a:pt x="13" y="99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793680" y="6512040"/>
              <a:ext cx="9360" cy="484200"/>
            </a:xfrm>
            <a:custGeom>
              <a:avLst/>
              <a:gdLst/>
              <a:ahLst/>
              <a:rect l="l" t="t" r="r" b="b"/>
              <a:pathLst>
                <a:path w="6" h="305">
                  <a:moveTo>
                    <a:pt x="0" y="6"/>
                  </a:moveTo>
                  <a:lnTo>
                    <a:pt x="0" y="299"/>
                  </a:lnTo>
                  <a:lnTo>
                    <a:pt x="6" y="30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803040" y="6502320"/>
              <a:ext cx="9720" cy="463680"/>
            </a:xfrm>
            <a:custGeom>
              <a:avLst/>
              <a:gdLst/>
              <a:ahLst/>
              <a:rect l="l" t="t" r="r" b="b"/>
              <a:pathLst>
                <a:path w="6" h="292">
                  <a:moveTo>
                    <a:pt x="0" y="6"/>
                  </a:moveTo>
                  <a:lnTo>
                    <a:pt x="0" y="292"/>
                  </a:lnTo>
                  <a:lnTo>
                    <a:pt x="6" y="29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2803040" y="697716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2803040" y="72039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2803040" y="723276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2803040" y="72835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2793680" y="728352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2803040" y="7321680"/>
              <a:ext cx="9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2803040" y="762804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2803040" y="7667640"/>
              <a:ext cx="972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7"/>
                  </a:moveTo>
                  <a:lnTo>
                    <a:pt x="0" y="106"/>
                  </a:lnTo>
                  <a:lnTo>
                    <a:pt x="6" y="1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2812760" y="6977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2812760" y="7054920"/>
              <a:ext cx="1116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2803040" y="7045200"/>
              <a:ext cx="972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75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2812760" y="715500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812760" y="72327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812760" y="730260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2812760" y="7321680"/>
              <a:ext cx="111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2812760" y="7628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2812760" y="6502320"/>
              <a:ext cx="11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2823920" y="70945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2823920" y="7302600"/>
              <a:ext cx="93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2823920" y="762804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2812760" y="7648560"/>
              <a:ext cx="11160" cy="177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6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2823920" y="6492960"/>
              <a:ext cx="936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6"/>
                  </a:moveTo>
                  <a:lnTo>
                    <a:pt x="0" y="280"/>
                  </a:lnTo>
                  <a:lnTo>
                    <a:pt x="6" y="28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2833280" y="731196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2823920" y="7648560"/>
              <a:ext cx="936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2833280" y="6492960"/>
              <a:ext cx="972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0"/>
                  </a:moveTo>
                  <a:lnTo>
                    <a:pt x="0" y="286"/>
                  </a:lnTo>
                  <a:lnTo>
                    <a:pt x="6" y="2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843000" y="6492960"/>
              <a:ext cx="1116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2843000" y="735156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2833280" y="7639200"/>
              <a:ext cx="9720" cy="166680"/>
            </a:xfrm>
            <a:custGeom>
              <a:avLst/>
              <a:gdLst/>
              <a:ahLst/>
              <a:rect l="l" t="t" r="r" b="b"/>
              <a:pathLst>
                <a:path w="6" h="105">
                  <a:moveTo>
                    <a:pt x="0" y="6"/>
                  </a:moveTo>
                  <a:lnTo>
                    <a:pt x="0" y="105"/>
                  </a:lnTo>
                  <a:lnTo>
                    <a:pt x="6" y="9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2843000" y="7639200"/>
              <a:ext cx="1116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0" y="99"/>
                  </a:lnTo>
                  <a:lnTo>
                    <a:pt x="7" y="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2854160" y="763920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2854160" y="6492960"/>
              <a:ext cx="936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863520" y="6492960"/>
              <a:ext cx="936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2863520" y="764856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2872880" y="6492960"/>
              <a:ext cx="11160" cy="561960"/>
            </a:xfrm>
            <a:custGeom>
              <a:avLst/>
              <a:gdLst/>
              <a:ahLst/>
              <a:rect l="l" t="t" r="r" b="b"/>
              <a:pathLst>
                <a:path w="7" h="354">
                  <a:moveTo>
                    <a:pt x="0" y="0"/>
                  </a:moveTo>
                  <a:lnTo>
                    <a:pt x="0" y="348"/>
                  </a:lnTo>
                  <a:lnTo>
                    <a:pt x="7" y="35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2884040" y="6492960"/>
              <a:ext cx="9720" cy="5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2872880" y="7648560"/>
              <a:ext cx="11160" cy="119160"/>
            </a:xfrm>
            <a:custGeom>
              <a:avLst/>
              <a:gdLst/>
              <a:ahLst/>
              <a:rect l="l" t="t" r="r" b="b"/>
              <a:pathLst>
                <a:path w="7" h="75">
                  <a:moveTo>
                    <a:pt x="0" y="0"/>
                  </a:moveTo>
                  <a:lnTo>
                    <a:pt x="0" y="75"/>
                  </a:lnTo>
                  <a:lnTo>
                    <a:pt x="7" y="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2893760" y="6492960"/>
              <a:ext cx="11160" cy="573120"/>
            </a:xfrm>
            <a:custGeom>
              <a:avLst/>
              <a:gdLst/>
              <a:ahLst/>
              <a:rect l="l" t="t" r="r" b="b"/>
              <a:pathLst>
                <a:path w="7" h="361">
                  <a:moveTo>
                    <a:pt x="0" y="0"/>
                  </a:moveTo>
                  <a:lnTo>
                    <a:pt x="0" y="361"/>
                  </a:lnTo>
                  <a:lnTo>
                    <a:pt x="7" y="3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2904920" y="6502320"/>
              <a:ext cx="9360" cy="56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2884040" y="7639200"/>
              <a:ext cx="30240" cy="117360"/>
            </a:xfrm>
            <a:custGeom>
              <a:avLst/>
              <a:gdLst/>
              <a:ahLst/>
              <a:rect l="l" t="t" r="r" b="b"/>
              <a:pathLst>
                <a:path w="19" h="74">
                  <a:moveTo>
                    <a:pt x="0" y="6"/>
                  </a:moveTo>
                  <a:lnTo>
                    <a:pt x="0" y="74"/>
                  </a:lnTo>
                  <a:lnTo>
                    <a:pt x="19" y="62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2914280" y="6502320"/>
              <a:ext cx="9720" cy="563760"/>
            </a:xfrm>
            <a:custGeom>
              <a:avLst/>
              <a:gdLst/>
              <a:ahLst/>
              <a:rect l="l" t="t" r="r" b="b"/>
              <a:pathLst>
                <a:path w="6" h="355">
                  <a:moveTo>
                    <a:pt x="0" y="0"/>
                  </a:moveTo>
                  <a:lnTo>
                    <a:pt x="0" y="355"/>
                  </a:lnTo>
                  <a:lnTo>
                    <a:pt x="6" y="35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2924000" y="6512040"/>
              <a:ext cx="10800" cy="56340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0"/>
                  </a:moveTo>
                  <a:lnTo>
                    <a:pt x="0" y="349"/>
                  </a:lnTo>
                  <a:lnTo>
                    <a:pt x="7" y="35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2914280" y="7628040"/>
              <a:ext cx="9720" cy="1094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7"/>
                  </a:moveTo>
                  <a:lnTo>
                    <a:pt x="0" y="69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924000" y="7628040"/>
              <a:ext cx="20520" cy="100080"/>
            </a:xfrm>
            <a:custGeom>
              <a:avLst/>
              <a:gdLst/>
              <a:ahLst/>
              <a:rect l="l" t="t" r="r" b="b"/>
              <a:pathLst>
                <a:path w="13" h="63">
                  <a:moveTo>
                    <a:pt x="0" y="0"/>
                  </a:moveTo>
                  <a:lnTo>
                    <a:pt x="0" y="63"/>
                  </a:lnTo>
                  <a:lnTo>
                    <a:pt x="13" y="5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934800" y="6521400"/>
              <a:ext cx="9720" cy="554040"/>
            </a:xfrm>
            <a:custGeom>
              <a:avLst/>
              <a:gdLst/>
              <a:ahLst/>
              <a:rect l="l" t="t" r="r" b="b"/>
              <a:pathLst>
                <a:path w="6" h="349">
                  <a:moveTo>
                    <a:pt x="0" y="0"/>
                  </a:moveTo>
                  <a:lnTo>
                    <a:pt x="0" y="349"/>
                  </a:lnTo>
                  <a:lnTo>
                    <a:pt x="6" y="3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944520" y="6531120"/>
              <a:ext cx="9360" cy="534960"/>
            </a:xfrm>
            <a:custGeom>
              <a:avLst/>
              <a:gdLst/>
              <a:ahLst/>
              <a:rect l="l" t="t" r="r" b="b"/>
              <a:pathLst>
                <a:path w="6" h="337">
                  <a:moveTo>
                    <a:pt x="0" y="0"/>
                  </a:moveTo>
                  <a:lnTo>
                    <a:pt x="0" y="337"/>
                  </a:lnTo>
                  <a:lnTo>
                    <a:pt x="6" y="33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953880" y="70261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2944520" y="7639200"/>
              <a:ext cx="9360" cy="7776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49"/>
                  </a:lnTo>
                  <a:lnTo>
                    <a:pt x="6" y="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2953880" y="6551640"/>
              <a:ext cx="11160" cy="474480"/>
            </a:xfrm>
            <a:custGeom>
              <a:avLst/>
              <a:gdLst/>
              <a:ahLst/>
              <a:rect l="l" t="t" r="r" b="b"/>
              <a:pathLst>
                <a:path w="7" h="299">
                  <a:moveTo>
                    <a:pt x="0" y="0"/>
                  </a:moveTo>
                  <a:lnTo>
                    <a:pt x="0" y="299"/>
                  </a:lnTo>
                  <a:lnTo>
                    <a:pt x="7" y="29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2965040" y="70261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2953880" y="76582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2965040" y="76676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965040" y="6561000"/>
              <a:ext cx="9720" cy="455760"/>
            </a:xfrm>
            <a:custGeom>
              <a:avLst/>
              <a:gdLst/>
              <a:ahLst/>
              <a:rect l="l" t="t" r="r" b="b"/>
              <a:pathLst>
                <a:path w="6" h="287">
                  <a:moveTo>
                    <a:pt x="0" y="0"/>
                  </a:moveTo>
                  <a:lnTo>
                    <a:pt x="0" y="287"/>
                  </a:lnTo>
                  <a:lnTo>
                    <a:pt x="6" y="287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974760" y="6581880"/>
              <a:ext cx="9360" cy="40464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0"/>
                  </a:moveTo>
                  <a:lnTo>
                    <a:pt x="0" y="255"/>
                  </a:lnTo>
                  <a:lnTo>
                    <a:pt x="6" y="2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2381040" y="1828800"/>
            <a:ext cx="11149200" cy="6748560"/>
            <a:chOff x="2381040" y="1828800"/>
            <a:chExt cx="11149200" cy="6748560"/>
          </a:xfrm>
        </p:grpSpPr>
        <p:sp>
          <p:nvSpPr>
            <p:cNvPr id="2253" name=""/>
            <p:cNvSpPr/>
            <p:nvPr/>
          </p:nvSpPr>
          <p:spPr>
            <a:xfrm>
              <a:off x="12974760" y="76788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2984120" y="6977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2984120" y="6591240"/>
              <a:ext cx="11160" cy="385920"/>
            </a:xfrm>
            <a:custGeom>
              <a:avLst/>
              <a:gdLst/>
              <a:ahLst/>
              <a:rect l="l" t="t" r="r" b="b"/>
              <a:pathLst>
                <a:path w="7" h="243">
                  <a:moveTo>
                    <a:pt x="0" y="0"/>
                  </a:moveTo>
                  <a:lnTo>
                    <a:pt x="0" y="243"/>
                  </a:lnTo>
                  <a:lnTo>
                    <a:pt x="7" y="2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2995280" y="660096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49"/>
                  </a:lnTo>
                  <a:lnTo>
                    <a:pt x="6" y="2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3004640" y="71834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3004640" y="6610320"/>
              <a:ext cx="9720" cy="366840"/>
            </a:xfrm>
            <a:custGeom>
              <a:avLst/>
              <a:gdLst/>
              <a:ahLst/>
              <a:rect l="l" t="t" r="r" b="b"/>
              <a:pathLst>
                <a:path w="6" h="231">
                  <a:moveTo>
                    <a:pt x="0" y="0"/>
                  </a:moveTo>
                  <a:lnTo>
                    <a:pt x="0" y="231"/>
                  </a:lnTo>
                  <a:lnTo>
                    <a:pt x="6" y="2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3014360" y="6621480"/>
              <a:ext cx="11160" cy="34452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0"/>
                  </a:moveTo>
                  <a:lnTo>
                    <a:pt x="0" y="217"/>
                  </a:lnTo>
                  <a:lnTo>
                    <a:pt x="7" y="20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3014360" y="6977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3014360" y="701676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3014360" y="7054920"/>
              <a:ext cx="11160" cy="507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7"/>
                  </a:moveTo>
                  <a:lnTo>
                    <a:pt x="0" y="19"/>
                  </a:lnTo>
                  <a:lnTo>
                    <a:pt x="7" y="3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3014360" y="71341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3014360" y="71740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3025520" y="6630840"/>
              <a:ext cx="9360" cy="33516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0"/>
                  </a:moveTo>
                  <a:lnTo>
                    <a:pt x="0" y="205"/>
                  </a:lnTo>
                  <a:lnTo>
                    <a:pt x="6" y="21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3025520" y="69660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3025520" y="70056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3025520" y="7026120"/>
              <a:ext cx="936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6"/>
                  </a:moveTo>
                  <a:lnTo>
                    <a:pt x="0" y="56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3025520" y="712476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3025520" y="717408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1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3034880" y="69660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3034880" y="6996240"/>
              <a:ext cx="111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3034880" y="7124760"/>
              <a:ext cx="11160" cy="9828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0" y="0"/>
                  </a:moveTo>
                  <a:lnTo>
                    <a:pt x="0" y="62"/>
                  </a:lnTo>
                  <a:lnTo>
                    <a:pt x="7" y="5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3034880" y="6640560"/>
              <a:ext cx="1116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3046040" y="6630840"/>
              <a:ext cx="9720" cy="33516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6"/>
                  </a:moveTo>
                  <a:lnTo>
                    <a:pt x="0" y="211"/>
                  </a:lnTo>
                  <a:lnTo>
                    <a:pt x="6" y="21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3046040" y="6977160"/>
              <a:ext cx="972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3046040" y="713412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3055760" y="6621480"/>
              <a:ext cx="936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6"/>
                  </a:moveTo>
                  <a:lnTo>
                    <a:pt x="0" y="361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3065120" y="6600960"/>
              <a:ext cx="11160" cy="56340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13"/>
                  </a:moveTo>
                  <a:lnTo>
                    <a:pt x="0" y="355"/>
                  </a:lnTo>
                  <a:lnTo>
                    <a:pt x="7" y="355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3065120" y="71643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3076280" y="6541920"/>
              <a:ext cx="936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6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3085640" y="6521400"/>
              <a:ext cx="9720" cy="642960"/>
            </a:xfrm>
            <a:custGeom>
              <a:avLst/>
              <a:gdLst/>
              <a:ahLst/>
              <a:rect l="l" t="t" r="r" b="b"/>
              <a:pathLst>
                <a:path w="6" h="405">
                  <a:moveTo>
                    <a:pt x="0" y="13"/>
                  </a:moveTo>
                  <a:lnTo>
                    <a:pt x="0" y="405"/>
                  </a:lnTo>
                  <a:lnTo>
                    <a:pt x="6" y="405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3095360" y="6512040"/>
              <a:ext cx="11160" cy="652320"/>
            </a:xfrm>
            <a:custGeom>
              <a:avLst/>
              <a:gdLst/>
              <a:ahLst/>
              <a:rect l="l" t="t" r="r" b="b"/>
              <a:pathLst>
                <a:path w="7" h="411">
                  <a:moveTo>
                    <a:pt x="0" y="6"/>
                  </a:moveTo>
                  <a:lnTo>
                    <a:pt x="0" y="411"/>
                  </a:lnTo>
                  <a:lnTo>
                    <a:pt x="7" y="41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3106520" y="6512040"/>
              <a:ext cx="9360" cy="65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3115880" y="71438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3115880" y="6502320"/>
              <a:ext cx="972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6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3125600" y="6502320"/>
              <a:ext cx="10800" cy="6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3125600" y="7143840"/>
              <a:ext cx="108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3136400" y="6492960"/>
              <a:ext cx="9720" cy="64116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6"/>
                  </a:moveTo>
                  <a:lnTo>
                    <a:pt x="0" y="404"/>
                  </a:lnTo>
                  <a:lnTo>
                    <a:pt x="6" y="40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3146120" y="6492960"/>
              <a:ext cx="936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3155480" y="6492960"/>
              <a:ext cx="11160" cy="66204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0"/>
                  </a:moveTo>
                  <a:lnTo>
                    <a:pt x="0" y="417"/>
                  </a:lnTo>
                  <a:lnTo>
                    <a:pt x="7" y="41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3166640" y="6502320"/>
              <a:ext cx="9720" cy="64152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0"/>
                  </a:moveTo>
                  <a:lnTo>
                    <a:pt x="0" y="404"/>
                  </a:lnTo>
                  <a:lnTo>
                    <a:pt x="6" y="39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3176360" y="6502320"/>
              <a:ext cx="11160" cy="622440"/>
            </a:xfrm>
            <a:custGeom>
              <a:avLst/>
              <a:gdLst/>
              <a:ahLst/>
              <a:rect l="l" t="t" r="r" b="b"/>
              <a:pathLst>
                <a:path w="7" h="392">
                  <a:moveTo>
                    <a:pt x="0" y="0"/>
                  </a:moveTo>
                  <a:lnTo>
                    <a:pt x="0" y="386"/>
                  </a:lnTo>
                  <a:lnTo>
                    <a:pt x="7" y="39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3187520" y="6512040"/>
              <a:ext cx="9360" cy="62208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0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3196880" y="6521400"/>
              <a:ext cx="9360" cy="5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3206240" y="6521400"/>
              <a:ext cx="1116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3217400" y="6521400"/>
              <a:ext cx="972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3227120" y="6512040"/>
              <a:ext cx="9360" cy="593640"/>
            </a:xfrm>
            <a:custGeom>
              <a:avLst/>
              <a:gdLst/>
              <a:ahLst/>
              <a:rect l="l" t="t" r="r" b="b"/>
              <a:pathLst>
                <a:path w="6" h="374">
                  <a:moveTo>
                    <a:pt x="0" y="6"/>
                  </a:moveTo>
                  <a:lnTo>
                    <a:pt x="0" y="374"/>
                  </a:lnTo>
                  <a:lnTo>
                    <a:pt x="6" y="3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3236480" y="6512040"/>
              <a:ext cx="20880" cy="593640"/>
            </a:xfrm>
            <a:custGeom>
              <a:avLst/>
              <a:gdLst/>
              <a:ahLst/>
              <a:rect l="l" t="t" r="r" b="b"/>
              <a:pathLst>
                <a:path w="13" h="374">
                  <a:moveTo>
                    <a:pt x="0" y="0"/>
                  </a:moveTo>
                  <a:lnTo>
                    <a:pt x="0" y="374"/>
                  </a:lnTo>
                  <a:lnTo>
                    <a:pt x="13" y="36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3257360" y="654192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0"/>
                  </a:moveTo>
                  <a:lnTo>
                    <a:pt x="0" y="348"/>
                  </a:lnTo>
                  <a:lnTo>
                    <a:pt x="6" y="34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3266720" y="6561000"/>
              <a:ext cx="11160" cy="524160"/>
            </a:xfrm>
            <a:custGeom>
              <a:avLst/>
              <a:gdLst/>
              <a:ahLst/>
              <a:rect l="l" t="t" r="r" b="b"/>
              <a:pathLst>
                <a:path w="7" h="330">
                  <a:moveTo>
                    <a:pt x="0" y="0"/>
                  </a:moveTo>
                  <a:lnTo>
                    <a:pt x="0" y="330"/>
                  </a:lnTo>
                  <a:lnTo>
                    <a:pt x="7" y="33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3277880" y="6570720"/>
              <a:ext cx="19080" cy="514440"/>
            </a:xfrm>
            <a:custGeom>
              <a:avLst/>
              <a:gdLst/>
              <a:ahLst/>
              <a:rect l="l" t="t" r="r" b="b"/>
              <a:pathLst>
                <a:path w="12" h="324">
                  <a:moveTo>
                    <a:pt x="0" y="0"/>
                  </a:moveTo>
                  <a:lnTo>
                    <a:pt x="0" y="324"/>
                  </a:lnTo>
                  <a:lnTo>
                    <a:pt x="12" y="324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3296960" y="659124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25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3296960" y="6719760"/>
              <a:ext cx="11160" cy="365400"/>
            </a:xfrm>
            <a:custGeom>
              <a:avLst/>
              <a:gdLst/>
              <a:ahLst/>
              <a:rect l="l" t="t" r="r" b="b"/>
              <a:pathLst>
                <a:path w="7" h="230">
                  <a:moveTo>
                    <a:pt x="0" y="0"/>
                  </a:moveTo>
                  <a:lnTo>
                    <a:pt x="0" y="230"/>
                  </a:lnTo>
                  <a:lnTo>
                    <a:pt x="7" y="230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3308120" y="6738840"/>
              <a:ext cx="9360" cy="34632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3317480" y="6748560"/>
              <a:ext cx="972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3327200" y="6748560"/>
              <a:ext cx="10800" cy="139680"/>
            </a:xfrm>
            <a:custGeom>
              <a:avLst/>
              <a:gdLst/>
              <a:ahLst/>
              <a:rect l="l" t="t" r="r" b="b"/>
              <a:pathLst>
                <a:path w="7" h="88">
                  <a:moveTo>
                    <a:pt x="0" y="0"/>
                  </a:moveTo>
                  <a:lnTo>
                    <a:pt x="0" y="88"/>
                  </a:lnTo>
                  <a:lnTo>
                    <a:pt x="7" y="7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338000" y="6759720"/>
              <a:ext cx="9720" cy="10764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3327200" y="6916680"/>
              <a:ext cx="10800" cy="158760"/>
            </a:xfrm>
            <a:custGeom>
              <a:avLst/>
              <a:gdLst/>
              <a:ahLst/>
              <a:rect l="l" t="t" r="r" b="b"/>
              <a:pathLst>
                <a:path w="7" h="100">
                  <a:moveTo>
                    <a:pt x="0" y="0"/>
                  </a:moveTo>
                  <a:lnTo>
                    <a:pt x="0" y="100"/>
                  </a:lnTo>
                  <a:lnTo>
                    <a:pt x="7" y="10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338000" y="6926400"/>
              <a:ext cx="9720" cy="149040"/>
            </a:xfrm>
            <a:custGeom>
              <a:avLst/>
              <a:gdLst/>
              <a:ahLst/>
              <a:rect l="l" t="t" r="r" b="b"/>
              <a:pathLst>
                <a:path w="6" h="94">
                  <a:moveTo>
                    <a:pt x="0" y="0"/>
                  </a:moveTo>
                  <a:lnTo>
                    <a:pt x="0" y="94"/>
                  </a:lnTo>
                  <a:lnTo>
                    <a:pt x="6" y="94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3347720" y="675972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0" y="49"/>
                  </a:lnTo>
                  <a:lnTo>
                    <a:pt x="7" y="43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347720" y="693720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0"/>
                  </a:moveTo>
                  <a:lnTo>
                    <a:pt x="0" y="87"/>
                  </a:lnTo>
                  <a:lnTo>
                    <a:pt x="7" y="87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3358880" y="6778800"/>
              <a:ext cx="936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1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3358880" y="695628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75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3368240" y="6966000"/>
              <a:ext cx="972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3377960" y="6966000"/>
              <a:ext cx="11160" cy="109440"/>
            </a:xfrm>
            <a:custGeom>
              <a:avLst/>
              <a:gdLst/>
              <a:ahLst/>
              <a:rect l="l" t="t" r="r" b="b"/>
              <a:pathLst>
                <a:path w="7" h="69">
                  <a:moveTo>
                    <a:pt x="0" y="0"/>
                  </a:moveTo>
                  <a:lnTo>
                    <a:pt x="0" y="69"/>
                  </a:lnTo>
                  <a:lnTo>
                    <a:pt x="7" y="6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3389120" y="6977160"/>
              <a:ext cx="9360" cy="7776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49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3398480" y="6977160"/>
              <a:ext cx="20520" cy="680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lnTo>
                    <a:pt x="0" y="37"/>
                  </a:lnTo>
                  <a:lnTo>
                    <a:pt x="13" y="43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3419000" y="6986520"/>
              <a:ext cx="19080" cy="586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37"/>
                  </a:lnTo>
                  <a:lnTo>
                    <a:pt x="12" y="3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3438080" y="698652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3449240" y="6986520"/>
              <a:ext cx="972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3458960" y="69865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3468320" y="698652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3479480" y="6986520"/>
              <a:ext cx="93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3488840" y="69865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3500000" y="69865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3519080" y="6986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1501280" y="6492960"/>
              <a:ext cx="2028960" cy="2035080"/>
            </a:xfrm>
            <a:custGeom>
              <a:avLst/>
              <a:gdLst/>
              <a:ahLst/>
              <a:rect l="l" t="t" r="r" b="b"/>
              <a:pathLst>
                <a:path w="1278" h="1282">
                  <a:moveTo>
                    <a:pt x="877" y="0"/>
                  </a:moveTo>
                  <a:lnTo>
                    <a:pt x="890" y="6"/>
                  </a:lnTo>
                  <a:lnTo>
                    <a:pt x="903" y="18"/>
                  </a:lnTo>
                  <a:lnTo>
                    <a:pt x="934" y="62"/>
                  </a:lnTo>
                  <a:lnTo>
                    <a:pt x="960" y="87"/>
                  </a:lnTo>
                  <a:lnTo>
                    <a:pt x="966" y="93"/>
                  </a:lnTo>
                  <a:lnTo>
                    <a:pt x="973" y="93"/>
                  </a:lnTo>
                  <a:lnTo>
                    <a:pt x="979" y="87"/>
                  </a:lnTo>
                  <a:lnTo>
                    <a:pt x="985" y="81"/>
                  </a:lnTo>
                  <a:lnTo>
                    <a:pt x="992" y="68"/>
                  </a:lnTo>
                  <a:lnTo>
                    <a:pt x="992" y="49"/>
                  </a:lnTo>
                  <a:lnTo>
                    <a:pt x="992" y="37"/>
                  </a:lnTo>
                  <a:lnTo>
                    <a:pt x="998" y="31"/>
                  </a:lnTo>
                  <a:lnTo>
                    <a:pt x="1004" y="18"/>
                  </a:lnTo>
                  <a:lnTo>
                    <a:pt x="1017" y="12"/>
                  </a:lnTo>
                  <a:lnTo>
                    <a:pt x="1030" y="6"/>
                  </a:lnTo>
                  <a:lnTo>
                    <a:pt x="1042" y="0"/>
                  </a:lnTo>
                  <a:lnTo>
                    <a:pt x="1055" y="6"/>
                  </a:lnTo>
                  <a:lnTo>
                    <a:pt x="1062" y="12"/>
                  </a:lnTo>
                  <a:lnTo>
                    <a:pt x="1074" y="18"/>
                  </a:lnTo>
                  <a:lnTo>
                    <a:pt x="1106" y="12"/>
                  </a:lnTo>
                  <a:lnTo>
                    <a:pt x="1106" y="31"/>
                  </a:lnTo>
                  <a:lnTo>
                    <a:pt x="1112" y="43"/>
                  </a:lnTo>
                  <a:lnTo>
                    <a:pt x="1119" y="49"/>
                  </a:lnTo>
                  <a:lnTo>
                    <a:pt x="1131" y="62"/>
                  </a:lnTo>
                  <a:lnTo>
                    <a:pt x="1138" y="74"/>
                  </a:lnTo>
                  <a:lnTo>
                    <a:pt x="1138" y="87"/>
                  </a:lnTo>
                  <a:lnTo>
                    <a:pt x="1131" y="99"/>
                  </a:lnTo>
                  <a:lnTo>
                    <a:pt x="1131" y="118"/>
                  </a:lnTo>
                  <a:lnTo>
                    <a:pt x="1131" y="130"/>
                  </a:lnTo>
                  <a:lnTo>
                    <a:pt x="1131" y="143"/>
                  </a:lnTo>
                  <a:lnTo>
                    <a:pt x="1138" y="155"/>
                  </a:lnTo>
                  <a:lnTo>
                    <a:pt x="1150" y="161"/>
                  </a:lnTo>
                  <a:lnTo>
                    <a:pt x="1163" y="168"/>
                  </a:lnTo>
                  <a:lnTo>
                    <a:pt x="1170" y="180"/>
                  </a:lnTo>
                  <a:lnTo>
                    <a:pt x="1176" y="186"/>
                  </a:lnTo>
                  <a:lnTo>
                    <a:pt x="1176" y="199"/>
                  </a:lnTo>
                  <a:lnTo>
                    <a:pt x="1170" y="211"/>
                  </a:lnTo>
                  <a:lnTo>
                    <a:pt x="1163" y="217"/>
                  </a:lnTo>
                  <a:lnTo>
                    <a:pt x="1157" y="236"/>
                  </a:lnTo>
                  <a:lnTo>
                    <a:pt x="1150" y="249"/>
                  </a:lnTo>
                  <a:lnTo>
                    <a:pt x="1150" y="255"/>
                  </a:lnTo>
                  <a:lnTo>
                    <a:pt x="1150" y="267"/>
                  </a:lnTo>
                  <a:lnTo>
                    <a:pt x="1163" y="280"/>
                  </a:lnTo>
                  <a:lnTo>
                    <a:pt x="1170" y="292"/>
                  </a:lnTo>
                  <a:lnTo>
                    <a:pt x="1195" y="305"/>
                  </a:lnTo>
                  <a:lnTo>
                    <a:pt x="1208" y="311"/>
                  </a:lnTo>
                  <a:lnTo>
                    <a:pt x="1220" y="317"/>
                  </a:lnTo>
                  <a:lnTo>
                    <a:pt x="1233" y="311"/>
                  </a:lnTo>
                  <a:lnTo>
                    <a:pt x="1252" y="311"/>
                  </a:lnTo>
                  <a:lnTo>
                    <a:pt x="1259" y="311"/>
                  </a:lnTo>
                  <a:lnTo>
                    <a:pt x="1278" y="311"/>
                  </a:lnTo>
                  <a:lnTo>
                    <a:pt x="1271" y="317"/>
                  </a:lnTo>
                  <a:lnTo>
                    <a:pt x="1259" y="323"/>
                  </a:lnTo>
                  <a:lnTo>
                    <a:pt x="1252" y="330"/>
                  </a:lnTo>
                  <a:lnTo>
                    <a:pt x="1246" y="330"/>
                  </a:lnTo>
                  <a:lnTo>
                    <a:pt x="1239" y="336"/>
                  </a:lnTo>
                  <a:lnTo>
                    <a:pt x="1233" y="342"/>
                  </a:lnTo>
                  <a:lnTo>
                    <a:pt x="1227" y="342"/>
                  </a:lnTo>
                  <a:lnTo>
                    <a:pt x="1220" y="342"/>
                  </a:lnTo>
                  <a:lnTo>
                    <a:pt x="1208" y="348"/>
                  </a:lnTo>
                  <a:lnTo>
                    <a:pt x="1195" y="342"/>
                  </a:lnTo>
                  <a:lnTo>
                    <a:pt x="1189" y="354"/>
                  </a:lnTo>
                  <a:lnTo>
                    <a:pt x="1189" y="361"/>
                  </a:lnTo>
                  <a:lnTo>
                    <a:pt x="1182" y="367"/>
                  </a:lnTo>
                  <a:lnTo>
                    <a:pt x="1176" y="367"/>
                  </a:lnTo>
                  <a:lnTo>
                    <a:pt x="1170" y="367"/>
                  </a:lnTo>
                  <a:lnTo>
                    <a:pt x="1163" y="367"/>
                  </a:lnTo>
                  <a:lnTo>
                    <a:pt x="1157" y="367"/>
                  </a:lnTo>
                  <a:lnTo>
                    <a:pt x="1150" y="367"/>
                  </a:lnTo>
                  <a:lnTo>
                    <a:pt x="1144" y="367"/>
                  </a:lnTo>
                  <a:lnTo>
                    <a:pt x="1138" y="373"/>
                  </a:lnTo>
                  <a:lnTo>
                    <a:pt x="1131" y="373"/>
                  </a:lnTo>
                  <a:lnTo>
                    <a:pt x="1119" y="373"/>
                  </a:lnTo>
                  <a:lnTo>
                    <a:pt x="1112" y="373"/>
                  </a:lnTo>
                  <a:lnTo>
                    <a:pt x="1106" y="379"/>
                  </a:lnTo>
                  <a:lnTo>
                    <a:pt x="1093" y="386"/>
                  </a:lnTo>
                  <a:lnTo>
                    <a:pt x="1087" y="386"/>
                  </a:lnTo>
                  <a:lnTo>
                    <a:pt x="1081" y="386"/>
                  </a:lnTo>
                  <a:lnTo>
                    <a:pt x="1074" y="386"/>
                  </a:lnTo>
                  <a:lnTo>
                    <a:pt x="1074" y="379"/>
                  </a:lnTo>
                  <a:lnTo>
                    <a:pt x="1068" y="379"/>
                  </a:lnTo>
                  <a:lnTo>
                    <a:pt x="1068" y="386"/>
                  </a:lnTo>
                  <a:lnTo>
                    <a:pt x="1068" y="392"/>
                  </a:lnTo>
                  <a:lnTo>
                    <a:pt x="1068" y="398"/>
                  </a:lnTo>
                  <a:lnTo>
                    <a:pt x="1068" y="404"/>
                  </a:lnTo>
                  <a:lnTo>
                    <a:pt x="1062" y="404"/>
                  </a:lnTo>
                  <a:lnTo>
                    <a:pt x="1062" y="398"/>
                  </a:lnTo>
                  <a:lnTo>
                    <a:pt x="1055" y="392"/>
                  </a:lnTo>
                  <a:lnTo>
                    <a:pt x="1055" y="398"/>
                  </a:lnTo>
                  <a:lnTo>
                    <a:pt x="1055" y="404"/>
                  </a:lnTo>
                  <a:lnTo>
                    <a:pt x="1049" y="410"/>
                  </a:lnTo>
                  <a:lnTo>
                    <a:pt x="1049" y="417"/>
                  </a:lnTo>
                  <a:lnTo>
                    <a:pt x="1042" y="417"/>
                  </a:lnTo>
                  <a:lnTo>
                    <a:pt x="1042" y="410"/>
                  </a:lnTo>
                  <a:lnTo>
                    <a:pt x="1042" y="404"/>
                  </a:lnTo>
                  <a:lnTo>
                    <a:pt x="1036" y="404"/>
                  </a:lnTo>
                  <a:lnTo>
                    <a:pt x="1030" y="404"/>
                  </a:lnTo>
                  <a:lnTo>
                    <a:pt x="1030" y="398"/>
                  </a:lnTo>
                  <a:lnTo>
                    <a:pt x="1023" y="398"/>
                  </a:lnTo>
                  <a:lnTo>
                    <a:pt x="1017" y="398"/>
                  </a:lnTo>
                  <a:lnTo>
                    <a:pt x="1017" y="404"/>
                  </a:lnTo>
                  <a:lnTo>
                    <a:pt x="1017" y="410"/>
                  </a:lnTo>
                  <a:lnTo>
                    <a:pt x="1023" y="410"/>
                  </a:lnTo>
                  <a:lnTo>
                    <a:pt x="1030" y="410"/>
                  </a:lnTo>
                  <a:lnTo>
                    <a:pt x="1030" y="417"/>
                  </a:lnTo>
                  <a:lnTo>
                    <a:pt x="1023" y="417"/>
                  </a:lnTo>
                  <a:lnTo>
                    <a:pt x="1017" y="417"/>
                  </a:lnTo>
                  <a:lnTo>
                    <a:pt x="1017" y="423"/>
                  </a:lnTo>
                  <a:lnTo>
                    <a:pt x="1011" y="423"/>
                  </a:lnTo>
                  <a:lnTo>
                    <a:pt x="1004" y="423"/>
                  </a:lnTo>
                  <a:lnTo>
                    <a:pt x="998" y="423"/>
                  </a:lnTo>
                  <a:lnTo>
                    <a:pt x="992" y="423"/>
                  </a:lnTo>
                  <a:lnTo>
                    <a:pt x="985" y="423"/>
                  </a:lnTo>
                  <a:lnTo>
                    <a:pt x="992" y="429"/>
                  </a:lnTo>
                  <a:lnTo>
                    <a:pt x="985" y="442"/>
                  </a:lnTo>
                  <a:lnTo>
                    <a:pt x="979" y="442"/>
                  </a:lnTo>
                  <a:lnTo>
                    <a:pt x="979" y="448"/>
                  </a:lnTo>
                  <a:lnTo>
                    <a:pt x="973" y="454"/>
                  </a:lnTo>
                  <a:lnTo>
                    <a:pt x="966" y="460"/>
                  </a:lnTo>
                  <a:lnTo>
                    <a:pt x="966" y="466"/>
                  </a:lnTo>
                  <a:lnTo>
                    <a:pt x="960" y="460"/>
                  </a:lnTo>
                  <a:lnTo>
                    <a:pt x="953" y="460"/>
                  </a:lnTo>
                  <a:lnTo>
                    <a:pt x="953" y="454"/>
                  </a:lnTo>
                  <a:lnTo>
                    <a:pt x="947" y="454"/>
                  </a:lnTo>
                  <a:lnTo>
                    <a:pt x="947" y="442"/>
                  </a:lnTo>
                  <a:lnTo>
                    <a:pt x="953" y="435"/>
                  </a:lnTo>
                  <a:lnTo>
                    <a:pt x="960" y="429"/>
                  </a:lnTo>
                  <a:lnTo>
                    <a:pt x="966" y="429"/>
                  </a:lnTo>
                  <a:lnTo>
                    <a:pt x="966" y="423"/>
                  </a:lnTo>
                  <a:lnTo>
                    <a:pt x="960" y="423"/>
                  </a:lnTo>
                  <a:lnTo>
                    <a:pt x="953" y="423"/>
                  </a:lnTo>
                  <a:lnTo>
                    <a:pt x="953" y="417"/>
                  </a:lnTo>
                  <a:lnTo>
                    <a:pt x="953" y="410"/>
                  </a:lnTo>
                  <a:lnTo>
                    <a:pt x="960" y="404"/>
                  </a:lnTo>
                  <a:lnTo>
                    <a:pt x="966" y="398"/>
                  </a:lnTo>
                  <a:lnTo>
                    <a:pt x="973" y="404"/>
                  </a:lnTo>
                  <a:lnTo>
                    <a:pt x="979" y="404"/>
                  </a:lnTo>
                  <a:lnTo>
                    <a:pt x="979" y="398"/>
                  </a:lnTo>
                  <a:lnTo>
                    <a:pt x="979" y="392"/>
                  </a:lnTo>
                  <a:lnTo>
                    <a:pt x="973" y="392"/>
                  </a:lnTo>
                  <a:lnTo>
                    <a:pt x="966" y="392"/>
                  </a:lnTo>
                  <a:lnTo>
                    <a:pt x="960" y="392"/>
                  </a:lnTo>
                  <a:lnTo>
                    <a:pt x="960" y="386"/>
                  </a:lnTo>
                  <a:lnTo>
                    <a:pt x="953" y="373"/>
                  </a:lnTo>
                  <a:lnTo>
                    <a:pt x="953" y="367"/>
                  </a:lnTo>
                  <a:lnTo>
                    <a:pt x="953" y="361"/>
                  </a:lnTo>
                  <a:lnTo>
                    <a:pt x="960" y="354"/>
                  </a:lnTo>
                  <a:lnTo>
                    <a:pt x="960" y="348"/>
                  </a:lnTo>
                  <a:lnTo>
                    <a:pt x="960" y="342"/>
                  </a:lnTo>
                  <a:lnTo>
                    <a:pt x="966" y="336"/>
                  </a:lnTo>
                  <a:lnTo>
                    <a:pt x="960" y="336"/>
                  </a:lnTo>
                  <a:lnTo>
                    <a:pt x="953" y="336"/>
                  </a:lnTo>
                  <a:lnTo>
                    <a:pt x="953" y="330"/>
                  </a:lnTo>
                  <a:lnTo>
                    <a:pt x="953" y="323"/>
                  </a:lnTo>
                  <a:lnTo>
                    <a:pt x="953" y="330"/>
                  </a:lnTo>
                  <a:lnTo>
                    <a:pt x="960" y="330"/>
                  </a:lnTo>
                  <a:lnTo>
                    <a:pt x="966" y="323"/>
                  </a:lnTo>
                  <a:lnTo>
                    <a:pt x="966" y="317"/>
                  </a:lnTo>
                  <a:lnTo>
                    <a:pt x="973" y="317"/>
                  </a:lnTo>
                  <a:lnTo>
                    <a:pt x="973" y="311"/>
                  </a:lnTo>
                  <a:lnTo>
                    <a:pt x="966" y="311"/>
                  </a:lnTo>
                  <a:lnTo>
                    <a:pt x="960" y="311"/>
                  </a:lnTo>
                  <a:lnTo>
                    <a:pt x="953" y="311"/>
                  </a:lnTo>
                  <a:lnTo>
                    <a:pt x="960" y="305"/>
                  </a:lnTo>
                  <a:lnTo>
                    <a:pt x="966" y="298"/>
                  </a:lnTo>
                  <a:lnTo>
                    <a:pt x="973" y="305"/>
                  </a:lnTo>
                  <a:lnTo>
                    <a:pt x="979" y="305"/>
                  </a:lnTo>
                  <a:lnTo>
                    <a:pt x="979" y="298"/>
                  </a:lnTo>
                  <a:lnTo>
                    <a:pt x="966" y="298"/>
                  </a:lnTo>
                  <a:lnTo>
                    <a:pt x="960" y="292"/>
                  </a:lnTo>
                  <a:lnTo>
                    <a:pt x="960" y="286"/>
                  </a:lnTo>
                  <a:lnTo>
                    <a:pt x="953" y="298"/>
                  </a:lnTo>
                  <a:lnTo>
                    <a:pt x="953" y="305"/>
                  </a:lnTo>
                  <a:lnTo>
                    <a:pt x="947" y="305"/>
                  </a:lnTo>
                  <a:lnTo>
                    <a:pt x="947" y="311"/>
                  </a:lnTo>
                  <a:lnTo>
                    <a:pt x="941" y="317"/>
                  </a:lnTo>
                  <a:lnTo>
                    <a:pt x="934" y="311"/>
                  </a:lnTo>
                  <a:lnTo>
                    <a:pt x="934" y="305"/>
                  </a:lnTo>
                  <a:lnTo>
                    <a:pt x="941" y="305"/>
                  </a:lnTo>
                  <a:lnTo>
                    <a:pt x="934" y="305"/>
                  </a:lnTo>
                  <a:lnTo>
                    <a:pt x="928" y="311"/>
                  </a:lnTo>
                  <a:lnTo>
                    <a:pt x="928" y="317"/>
                  </a:lnTo>
                  <a:lnTo>
                    <a:pt x="928" y="323"/>
                  </a:lnTo>
                  <a:lnTo>
                    <a:pt x="928" y="330"/>
                  </a:lnTo>
                  <a:lnTo>
                    <a:pt x="922" y="330"/>
                  </a:lnTo>
                  <a:lnTo>
                    <a:pt x="922" y="336"/>
                  </a:lnTo>
                  <a:lnTo>
                    <a:pt x="915" y="336"/>
                  </a:lnTo>
                  <a:lnTo>
                    <a:pt x="915" y="342"/>
                  </a:lnTo>
                  <a:lnTo>
                    <a:pt x="922" y="336"/>
                  </a:lnTo>
                  <a:lnTo>
                    <a:pt x="928" y="336"/>
                  </a:lnTo>
                  <a:lnTo>
                    <a:pt x="928" y="342"/>
                  </a:lnTo>
                  <a:lnTo>
                    <a:pt x="922" y="348"/>
                  </a:lnTo>
                  <a:lnTo>
                    <a:pt x="915" y="348"/>
                  </a:lnTo>
                  <a:lnTo>
                    <a:pt x="915" y="354"/>
                  </a:lnTo>
                  <a:lnTo>
                    <a:pt x="909" y="361"/>
                  </a:lnTo>
                  <a:lnTo>
                    <a:pt x="903" y="367"/>
                  </a:lnTo>
                  <a:lnTo>
                    <a:pt x="896" y="361"/>
                  </a:lnTo>
                  <a:lnTo>
                    <a:pt x="890" y="361"/>
                  </a:lnTo>
                  <a:lnTo>
                    <a:pt x="884" y="361"/>
                  </a:lnTo>
                  <a:lnTo>
                    <a:pt x="877" y="361"/>
                  </a:lnTo>
                  <a:lnTo>
                    <a:pt x="877" y="354"/>
                  </a:lnTo>
                  <a:lnTo>
                    <a:pt x="871" y="354"/>
                  </a:lnTo>
                  <a:lnTo>
                    <a:pt x="864" y="348"/>
                  </a:lnTo>
                  <a:lnTo>
                    <a:pt x="864" y="342"/>
                  </a:lnTo>
                  <a:lnTo>
                    <a:pt x="858" y="336"/>
                  </a:lnTo>
                  <a:lnTo>
                    <a:pt x="858" y="330"/>
                  </a:lnTo>
                  <a:lnTo>
                    <a:pt x="858" y="323"/>
                  </a:lnTo>
                  <a:lnTo>
                    <a:pt x="858" y="317"/>
                  </a:lnTo>
                  <a:lnTo>
                    <a:pt x="858" y="311"/>
                  </a:lnTo>
                  <a:lnTo>
                    <a:pt x="858" y="305"/>
                  </a:lnTo>
                  <a:lnTo>
                    <a:pt x="858" y="298"/>
                  </a:lnTo>
                  <a:lnTo>
                    <a:pt x="858" y="292"/>
                  </a:lnTo>
                  <a:lnTo>
                    <a:pt x="858" y="286"/>
                  </a:lnTo>
                  <a:lnTo>
                    <a:pt x="852" y="286"/>
                  </a:lnTo>
                  <a:lnTo>
                    <a:pt x="852" y="280"/>
                  </a:lnTo>
                  <a:lnTo>
                    <a:pt x="852" y="273"/>
                  </a:lnTo>
                  <a:lnTo>
                    <a:pt x="845" y="273"/>
                  </a:lnTo>
                  <a:lnTo>
                    <a:pt x="845" y="280"/>
                  </a:lnTo>
                  <a:lnTo>
                    <a:pt x="839" y="286"/>
                  </a:lnTo>
                  <a:lnTo>
                    <a:pt x="833" y="280"/>
                  </a:lnTo>
                  <a:lnTo>
                    <a:pt x="833" y="286"/>
                  </a:lnTo>
                  <a:lnTo>
                    <a:pt x="826" y="286"/>
                  </a:lnTo>
                  <a:lnTo>
                    <a:pt x="826" y="292"/>
                  </a:lnTo>
                  <a:lnTo>
                    <a:pt x="826" y="298"/>
                  </a:lnTo>
                  <a:lnTo>
                    <a:pt x="820" y="298"/>
                  </a:lnTo>
                  <a:lnTo>
                    <a:pt x="820" y="305"/>
                  </a:lnTo>
                  <a:lnTo>
                    <a:pt x="826" y="305"/>
                  </a:lnTo>
                  <a:lnTo>
                    <a:pt x="833" y="311"/>
                  </a:lnTo>
                  <a:lnTo>
                    <a:pt x="833" y="317"/>
                  </a:lnTo>
                  <a:lnTo>
                    <a:pt x="826" y="317"/>
                  </a:lnTo>
                  <a:lnTo>
                    <a:pt x="820" y="317"/>
                  </a:lnTo>
                  <a:lnTo>
                    <a:pt x="814" y="311"/>
                  </a:lnTo>
                  <a:lnTo>
                    <a:pt x="807" y="311"/>
                  </a:lnTo>
                  <a:lnTo>
                    <a:pt x="814" y="317"/>
                  </a:lnTo>
                  <a:lnTo>
                    <a:pt x="820" y="323"/>
                  </a:lnTo>
                  <a:lnTo>
                    <a:pt x="820" y="330"/>
                  </a:lnTo>
                  <a:lnTo>
                    <a:pt x="814" y="330"/>
                  </a:lnTo>
                  <a:lnTo>
                    <a:pt x="807" y="330"/>
                  </a:lnTo>
                  <a:lnTo>
                    <a:pt x="807" y="323"/>
                  </a:lnTo>
                  <a:lnTo>
                    <a:pt x="801" y="323"/>
                  </a:lnTo>
                  <a:lnTo>
                    <a:pt x="795" y="323"/>
                  </a:lnTo>
                  <a:lnTo>
                    <a:pt x="788" y="317"/>
                  </a:lnTo>
                  <a:lnTo>
                    <a:pt x="782" y="317"/>
                  </a:lnTo>
                  <a:lnTo>
                    <a:pt x="782" y="311"/>
                  </a:lnTo>
                  <a:lnTo>
                    <a:pt x="782" y="305"/>
                  </a:lnTo>
                  <a:lnTo>
                    <a:pt x="776" y="311"/>
                  </a:lnTo>
                  <a:lnTo>
                    <a:pt x="776" y="317"/>
                  </a:lnTo>
                  <a:lnTo>
                    <a:pt x="776" y="323"/>
                  </a:lnTo>
                  <a:lnTo>
                    <a:pt x="782" y="323"/>
                  </a:lnTo>
                  <a:lnTo>
                    <a:pt x="795" y="330"/>
                  </a:lnTo>
                  <a:lnTo>
                    <a:pt x="801" y="336"/>
                  </a:lnTo>
                  <a:lnTo>
                    <a:pt x="814" y="342"/>
                  </a:lnTo>
                  <a:lnTo>
                    <a:pt x="820" y="348"/>
                  </a:lnTo>
                  <a:lnTo>
                    <a:pt x="826" y="354"/>
                  </a:lnTo>
                  <a:lnTo>
                    <a:pt x="833" y="354"/>
                  </a:lnTo>
                  <a:lnTo>
                    <a:pt x="833" y="361"/>
                  </a:lnTo>
                  <a:lnTo>
                    <a:pt x="833" y="367"/>
                  </a:lnTo>
                  <a:lnTo>
                    <a:pt x="833" y="373"/>
                  </a:lnTo>
                  <a:lnTo>
                    <a:pt x="833" y="379"/>
                  </a:lnTo>
                  <a:lnTo>
                    <a:pt x="839" y="386"/>
                  </a:lnTo>
                  <a:lnTo>
                    <a:pt x="839" y="392"/>
                  </a:lnTo>
                  <a:lnTo>
                    <a:pt x="839" y="404"/>
                  </a:lnTo>
                  <a:lnTo>
                    <a:pt x="839" y="410"/>
                  </a:lnTo>
                  <a:lnTo>
                    <a:pt x="839" y="417"/>
                  </a:lnTo>
                  <a:lnTo>
                    <a:pt x="839" y="410"/>
                  </a:lnTo>
                  <a:lnTo>
                    <a:pt x="833" y="404"/>
                  </a:lnTo>
                  <a:lnTo>
                    <a:pt x="826" y="404"/>
                  </a:lnTo>
                  <a:lnTo>
                    <a:pt x="826" y="410"/>
                  </a:lnTo>
                  <a:lnTo>
                    <a:pt x="826" y="417"/>
                  </a:lnTo>
                  <a:lnTo>
                    <a:pt x="833" y="417"/>
                  </a:lnTo>
                  <a:lnTo>
                    <a:pt x="833" y="423"/>
                  </a:lnTo>
                  <a:lnTo>
                    <a:pt x="820" y="423"/>
                  </a:lnTo>
                  <a:lnTo>
                    <a:pt x="807" y="423"/>
                  </a:lnTo>
                  <a:lnTo>
                    <a:pt x="801" y="423"/>
                  </a:lnTo>
                  <a:lnTo>
                    <a:pt x="795" y="423"/>
                  </a:lnTo>
                  <a:lnTo>
                    <a:pt x="788" y="429"/>
                  </a:lnTo>
                  <a:lnTo>
                    <a:pt x="782" y="429"/>
                  </a:lnTo>
                  <a:lnTo>
                    <a:pt x="776" y="429"/>
                  </a:lnTo>
                  <a:lnTo>
                    <a:pt x="776" y="435"/>
                  </a:lnTo>
                  <a:lnTo>
                    <a:pt x="769" y="435"/>
                  </a:lnTo>
                  <a:lnTo>
                    <a:pt x="769" y="429"/>
                  </a:lnTo>
                  <a:lnTo>
                    <a:pt x="756" y="423"/>
                  </a:lnTo>
                  <a:lnTo>
                    <a:pt x="750" y="429"/>
                  </a:lnTo>
                  <a:lnTo>
                    <a:pt x="750" y="442"/>
                  </a:lnTo>
                  <a:lnTo>
                    <a:pt x="756" y="448"/>
                  </a:lnTo>
                  <a:lnTo>
                    <a:pt x="763" y="448"/>
                  </a:lnTo>
                  <a:lnTo>
                    <a:pt x="769" y="454"/>
                  </a:lnTo>
                  <a:lnTo>
                    <a:pt x="776" y="454"/>
                  </a:lnTo>
                  <a:lnTo>
                    <a:pt x="782" y="454"/>
                  </a:lnTo>
                  <a:lnTo>
                    <a:pt x="795" y="448"/>
                  </a:lnTo>
                  <a:lnTo>
                    <a:pt x="801" y="448"/>
                  </a:lnTo>
                  <a:lnTo>
                    <a:pt x="807" y="448"/>
                  </a:lnTo>
                  <a:lnTo>
                    <a:pt x="814" y="448"/>
                  </a:lnTo>
                  <a:lnTo>
                    <a:pt x="820" y="448"/>
                  </a:lnTo>
                  <a:lnTo>
                    <a:pt x="826" y="454"/>
                  </a:lnTo>
                  <a:lnTo>
                    <a:pt x="820" y="460"/>
                  </a:lnTo>
                  <a:lnTo>
                    <a:pt x="814" y="454"/>
                  </a:lnTo>
                  <a:lnTo>
                    <a:pt x="814" y="460"/>
                  </a:lnTo>
                  <a:lnTo>
                    <a:pt x="820" y="466"/>
                  </a:lnTo>
                  <a:lnTo>
                    <a:pt x="826" y="466"/>
                  </a:lnTo>
                  <a:lnTo>
                    <a:pt x="833" y="473"/>
                  </a:lnTo>
                  <a:lnTo>
                    <a:pt x="833" y="479"/>
                  </a:lnTo>
                  <a:lnTo>
                    <a:pt x="833" y="485"/>
                  </a:lnTo>
                  <a:lnTo>
                    <a:pt x="826" y="491"/>
                  </a:lnTo>
                  <a:lnTo>
                    <a:pt x="820" y="485"/>
                  </a:lnTo>
                  <a:lnTo>
                    <a:pt x="814" y="485"/>
                  </a:lnTo>
                  <a:lnTo>
                    <a:pt x="807" y="485"/>
                  </a:lnTo>
                  <a:lnTo>
                    <a:pt x="801" y="485"/>
                  </a:lnTo>
                  <a:lnTo>
                    <a:pt x="795" y="491"/>
                  </a:lnTo>
                  <a:lnTo>
                    <a:pt x="788" y="498"/>
                  </a:lnTo>
                  <a:lnTo>
                    <a:pt x="782" y="498"/>
                  </a:lnTo>
                  <a:lnTo>
                    <a:pt x="782" y="504"/>
                  </a:lnTo>
                  <a:lnTo>
                    <a:pt x="782" y="510"/>
                  </a:lnTo>
                  <a:lnTo>
                    <a:pt x="788" y="510"/>
                  </a:lnTo>
                  <a:lnTo>
                    <a:pt x="788" y="516"/>
                  </a:lnTo>
                  <a:lnTo>
                    <a:pt x="782" y="522"/>
                  </a:lnTo>
                  <a:lnTo>
                    <a:pt x="782" y="529"/>
                  </a:lnTo>
                  <a:lnTo>
                    <a:pt x="776" y="529"/>
                  </a:lnTo>
                  <a:lnTo>
                    <a:pt x="776" y="535"/>
                  </a:lnTo>
                  <a:lnTo>
                    <a:pt x="782" y="535"/>
                  </a:lnTo>
                  <a:lnTo>
                    <a:pt x="788" y="535"/>
                  </a:lnTo>
                  <a:lnTo>
                    <a:pt x="788" y="541"/>
                  </a:lnTo>
                  <a:lnTo>
                    <a:pt x="795" y="541"/>
                  </a:lnTo>
                  <a:lnTo>
                    <a:pt x="801" y="541"/>
                  </a:lnTo>
                  <a:lnTo>
                    <a:pt x="801" y="529"/>
                  </a:lnTo>
                  <a:lnTo>
                    <a:pt x="801" y="516"/>
                  </a:lnTo>
                  <a:lnTo>
                    <a:pt x="801" y="504"/>
                  </a:lnTo>
                  <a:lnTo>
                    <a:pt x="807" y="504"/>
                  </a:lnTo>
                  <a:lnTo>
                    <a:pt x="807" y="498"/>
                  </a:lnTo>
                  <a:lnTo>
                    <a:pt x="814" y="498"/>
                  </a:lnTo>
                  <a:lnTo>
                    <a:pt x="820" y="498"/>
                  </a:lnTo>
                  <a:lnTo>
                    <a:pt x="826" y="504"/>
                  </a:lnTo>
                  <a:lnTo>
                    <a:pt x="820" y="510"/>
                  </a:lnTo>
                  <a:lnTo>
                    <a:pt x="820" y="516"/>
                  </a:lnTo>
                  <a:lnTo>
                    <a:pt x="820" y="522"/>
                  </a:lnTo>
                  <a:lnTo>
                    <a:pt x="826" y="522"/>
                  </a:lnTo>
                  <a:lnTo>
                    <a:pt x="833" y="522"/>
                  </a:lnTo>
                  <a:lnTo>
                    <a:pt x="833" y="516"/>
                  </a:lnTo>
                  <a:lnTo>
                    <a:pt x="826" y="516"/>
                  </a:lnTo>
                  <a:lnTo>
                    <a:pt x="826" y="510"/>
                  </a:lnTo>
                  <a:lnTo>
                    <a:pt x="833" y="510"/>
                  </a:lnTo>
                  <a:lnTo>
                    <a:pt x="839" y="510"/>
                  </a:lnTo>
                  <a:lnTo>
                    <a:pt x="839" y="516"/>
                  </a:lnTo>
                  <a:lnTo>
                    <a:pt x="845" y="522"/>
                  </a:lnTo>
                  <a:lnTo>
                    <a:pt x="845" y="529"/>
                  </a:lnTo>
                  <a:lnTo>
                    <a:pt x="845" y="535"/>
                  </a:lnTo>
                  <a:lnTo>
                    <a:pt x="845" y="541"/>
                  </a:lnTo>
                  <a:lnTo>
                    <a:pt x="852" y="541"/>
                  </a:lnTo>
                  <a:lnTo>
                    <a:pt x="852" y="547"/>
                  </a:lnTo>
                  <a:lnTo>
                    <a:pt x="845" y="554"/>
                  </a:lnTo>
                  <a:lnTo>
                    <a:pt x="839" y="554"/>
                  </a:lnTo>
                  <a:lnTo>
                    <a:pt x="833" y="554"/>
                  </a:lnTo>
                  <a:lnTo>
                    <a:pt x="826" y="554"/>
                  </a:lnTo>
                  <a:lnTo>
                    <a:pt x="814" y="560"/>
                  </a:lnTo>
                  <a:lnTo>
                    <a:pt x="807" y="572"/>
                  </a:lnTo>
                  <a:lnTo>
                    <a:pt x="807" y="578"/>
                  </a:lnTo>
                  <a:lnTo>
                    <a:pt x="807" y="597"/>
                  </a:lnTo>
                  <a:lnTo>
                    <a:pt x="807" y="610"/>
                  </a:lnTo>
                  <a:lnTo>
                    <a:pt x="801" y="616"/>
                  </a:lnTo>
                  <a:lnTo>
                    <a:pt x="795" y="622"/>
                  </a:lnTo>
                  <a:lnTo>
                    <a:pt x="788" y="622"/>
                  </a:lnTo>
                  <a:lnTo>
                    <a:pt x="782" y="622"/>
                  </a:lnTo>
                  <a:lnTo>
                    <a:pt x="776" y="622"/>
                  </a:lnTo>
                  <a:lnTo>
                    <a:pt x="776" y="616"/>
                  </a:lnTo>
                  <a:lnTo>
                    <a:pt x="769" y="616"/>
                  </a:lnTo>
                  <a:lnTo>
                    <a:pt x="763" y="616"/>
                  </a:lnTo>
                  <a:lnTo>
                    <a:pt x="750" y="610"/>
                  </a:lnTo>
                  <a:lnTo>
                    <a:pt x="744" y="603"/>
                  </a:lnTo>
                  <a:lnTo>
                    <a:pt x="737" y="597"/>
                  </a:lnTo>
                  <a:lnTo>
                    <a:pt x="744" y="591"/>
                  </a:lnTo>
                  <a:lnTo>
                    <a:pt x="750" y="591"/>
                  </a:lnTo>
                  <a:lnTo>
                    <a:pt x="744" y="591"/>
                  </a:lnTo>
                  <a:lnTo>
                    <a:pt x="744" y="585"/>
                  </a:lnTo>
                  <a:lnTo>
                    <a:pt x="744" y="578"/>
                  </a:lnTo>
                  <a:lnTo>
                    <a:pt x="744" y="572"/>
                  </a:lnTo>
                  <a:lnTo>
                    <a:pt x="744" y="566"/>
                  </a:lnTo>
                  <a:lnTo>
                    <a:pt x="744" y="560"/>
                  </a:lnTo>
                  <a:lnTo>
                    <a:pt x="737" y="566"/>
                  </a:lnTo>
                  <a:lnTo>
                    <a:pt x="737" y="560"/>
                  </a:lnTo>
                  <a:lnTo>
                    <a:pt x="737" y="554"/>
                  </a:lnTo>
                  <a:lnTo>
                    <a:pt x="731" y="560"/>
                  </a:lnTo>
                  <a:lnTo>
                    <a:pt x="731" y="566"/>
                  </a:lnTo>
                  <a:lnTo>
                    <a:pt x="725" y="578"/>
                  </a:lnTo>
                  <a:lnTo>
                    <a:pt x="718" y="585"/>
                  </a:lnTo>
                  <a:lnTo>
                    <a:pt x="712" y="585"/>
                  </a:lnTo>
                  <a:lnTo>
                    <a:pt x="706" y="585"/>
                  </a:lnTo>
                  <a:lnTo>
                    <a:pt x="699" y="585"/>
                  </a:lnTo>
                  <a:lnTo>
                    <a:pt x="687" y="585"/>
                  </a:lnTo>
                  <a:lnTo>
                    <a:pt x="680" y="585"/>
                  </a:lnTo>
                  <a:lnTo>
                    <a:pt x="680" y="591"/>
                  </a:lnTo>
                  <a:lnTo>
                    <a:pt x="674" y="591"/>
                  </a:lnTo>
                  <a:lnTo>
                    <a:pt x="661" y="591"/>
                  </a:lnTo>
                  <a:lnTo>
                    <a:pt x="655" y="585"/>
                  </a:lnTo>
                  <a:lnTo>
                    <a:pt x="648" y="585"/>
                  </a:lnTo>
                  <a:lnTo>
                    <a:pt x="636" y="585"/>
                  </a:lnTo>
                  <a:lnTo>
                    <a:pt x="629" y="585"/>
                  </a:lnTo>
                  <a:lnTo>
                    <a:pt x="623" y="591"/>
                  </a:lnTo>
                  <a:lnTo>
                    <a:pt x="617" y="591"/>
                  </a:lnTo>
                  <a:lnTo>
                    <a:pt x="610" y="591"/>
                  </a:lnTo>
                  <a:lnTo>
                    <a:pt x="604" y="591"/>
                  </a:lnTo>
                  <a:lnTo>
                    <a:pt x="598" y="591"/>
                  </a:lnTo>
                  <a:lnTo>
                    <a:pt x="591" y="597"/>
                  </a:lnTo>
                  <a:lnTo>
                    <a:pt x="591" y="591"/>
                  </a:lnTo>
                  <a:lnTo>
                    <a:pt x="585" y="591"/>
                  </a:lnTo>
                  <a:lnTo>
                    <a:pt x="585" y="585"/>
                  </a:lnTo>
                  <a:lnTo>
                    <a:pt x="591" y="578"/>
                  </a:lnTo>
                  <a:lnTo>
                    <a:pt x="591" y="566"/>
                  </a:lnTo>
                  <a:lnTo>
                    <a:pt x="585" y="566"/>
                  </a:lnTo>
                  <a:lnTo>
                    <a:pt x="578" y="566"/>
                  </a:lnTo>
                  <a:lnTo>
                    <a:pt x="572" y="572"/>
                  </a:lnTo>
                  <a:lnTo>
                    <a:pt x="572" y="566"/>
                  </a:lnTo>
                  <a:lnTo>
                    <a:pt x="566" y="566"/>
                  </a:lnTo>
                  <a:lnTo>
                    <a:pt x="566" y="572"/>
                  </a:lnTo>
                  <a:lnTo>
                    <a:pt x="559" y="572"/>
                  </a:lnTo>
                  <a:lnTo>
                    <a:pt x="559" y="566"/>
                  </a:lnTo>
                  <a:lnTo>
                    <a:pt x="559" y="560"/>
                  </a:lnTo>
                  <a:lnTo>
                    <a:pt x="566" y="541"/>
                  </a:lnTo>
                  <a:lnTo>
                    <a:pt x="566" y="535"/>
                  </a:lnTo>
                  <a:lnTo>
                    <a:pt x="566" y="522"/>
                  </a:lnTo>
                  <a:lnTo>
                    <a:pt x="559" y="510"/>
                  </a:lnTo>
                  <a:lnTo>
                    <a:pt x="559" y="504"/>
                  </a:lnTo>
                  <a:lnTo>
                    <a:pt x="559" y="498"/>
                  </a:lnTo>
                  <a:lnTo>
                    <a:pt x="559" y="485"/>
                  </a:lnTo>
                  <a:lnTo>
                    <a:pt x="566" y="479"/>
                  </a:lnTo>
                  <a:lnTo>
                    <a:pt x="559" y="479"/>
                  </a:lnTo>
                  <a:lnTo>
                    <a:pt x="559" y="485"/>
                  </a:lnTo>
                  <a:lnTo>
                    <a:pt x="553" y="498"/>
                  </a:lnTo>
                  <a:lnTo>
                    <a:pt x="553" y="504"/>
                  </a:lnTo>
                  <a:lnTo>
                    <a:pt x="553" y="510"/>
                  </a:lnTo>
                  <a:lnTo>
                    <a:pt x="553" y="516"/>
                  </a:lnTo>
                  <a:lnTo>
                    <a:pt x="553" y="522"/>
                  </a:lnTo>
                  <a:lnTo>
                    <a:pt x="547" y="529"/>
                  </a:lnTo>
                  <a:lnTo>
                    <a:pt x="540" y="529"/>
                  </a:lnTo>
                  <a:lnTo>
                    <a:pt x="540" y="535"/>
                  </a:lnTo>
                  <a:lnTo>
                    <a:pt x="534" y="535"/>
                  </a:lnTo>
                  <a:lnTo>
                    <a:pt x="528" y="529"/>
                  </a:lnTo>
                  <a:lnTo>
                    <a:pt x="521" y="522"/>
                  </a:lnTo>
                  <a:lnTo>
                    <a:pt x="515" y="522"/>
                  </a:lnTo>
                  <a:lnTo>
                    <a:pt x="509" y="522"/>
                  </a:lnTo>
                  <a:lnTo>
                    <a:pt x="502" y="516"/>
                  </a:lnTo>
                  <a:lnTo>
                    <a:pt x="496" y="510"/>
                  </a:lnTo>
                  <a:lnTo>
                    <a:pt x="496" y="498"/>
                  </a:lnTo>
                  <a:lnTo>
                    <a:pt x="496" y="491"/>
                  </a:lnTo>
                  <a:lnTo>
                    <a:pt x="496" y="479"/>
                  </a:lnTo>
                  <a:lnTo>
                    <a:pt x="496" y="473"/>
                  </a:lnTo>
                  <a:lnTo>
                    <a:pt x="502" y="466"/>
                  </a:lnTo>
                  <a:lnTo>
                    <a:pt x="496" y="460"/>
                  </a:lnTo>
                  <a:lnTo>
                    <a:pt x="490" y="454"/>
                  </a:lnTo>
                  <a:lnTo>
                    <a:pt x="490" y="466"/>
                  </a:lnTo>
                  <a:lnTo>
                    <a:pt x="483" y="473"/>
                  </a:lnTo>
                  <a:lnTo>
                    <a:pt x="477" y="473"/>
                  </a:lnTo>
                  <a:lnTo>
                    <a:pt x="470" y="473"/>
                  </a:lnTo>
                  <a:lnTo>
                    <a:pt x="470" y="466"/>
                  </a:lnTo>
                  <a:lnTo>
                    <a:pt x="464" y="460"/>
                  </a:lnTo>
                  <a:lnTo>
                    <a:pt x="458" y="466"/>
                  </a:lnTo>
                  <a:lnTo>
                    <a:pt x="464" y="473"/>
                  </a:lnTo>
                  <a:lnTo>
                    <a:pt x="470" y="479"/>
                  </a:lnTo>
                  <a:lnTo>
                    <a:pt x="477" y="479"/>
                  </a:lnTo>
                  <a:lnTo>
                    <a:pt x="477" y="491"/>
                  </a:lnTo>
                  <a:lnTo>
                    <a:pt x="470" y="498"/>
                  </a:lnTo>
                  <a:lnTo>
                    <a:pt x="470" y="504"/>
                  </a:lnTo>
                  <a:lnTo>
                    <a:pt x="464" y="504"/>
                  </a:lnTo>
                  <a:lnTo>
                    <a:pt x="458" y="510"/>
                  </a:lnTo>
                  <a:lnTo>
                    <a:pt x="464" y="510"/>
                  </a:lnTo>
                  <a:lnTo>
                    <a:pt x="470" y="510"/>
                  </a:lnTo>
                  <a:lnTo>
                    <a:pt x="470" y="522"/>
                  </a:lnTo>
                  <a:lnTo>
                    <a:pt x="470" y="529"/>
                  </a:lnTo>
                  <a:lnTo>
                    <a:pt x="477" y="529"/>
                  </a:lnTo>
                  <a:lnTo>
                    <a:pt x="483" y="535"/>
                  </a:lnTo>
                  <a:lnTo>
                    <a:pt x="490" y="535"/>
                  </a:lnTo>
                  <a:lnTo>
                    <a:pt x="496" y="535"/>
                  </a:lnTo>
                  <a:lnTo>
                    <a:pt x="502" y="535"/>
                  </a:lnTo>
                  <a:lnTo>
                    <a:pt x="502" y="554"/>
                  </a:lnTo>
                  <a:lnTo>
                    <a:pt x="502" y="560"/>
                  </a:lnTo>
                  <a:lnTo>
                    <a:pt x="509" y="566"/>
                  </a:lnTo>
                  <a:lnTo>
                    <a:pt x="515" y="572"/>
                  </a:lnTo>
                  <a:lnTo>
                    <a:pt x="528" y="578"/>
                  </a:lnTo>
                  <a:lnTo>
                    <a:pt x="528" y="585"/>
                  </a:lnTo>
                  <a:lnTo>
                    <a:pt x="528" y="591"/>
                  </a:lnTo>
                  <a:lnTo>
                    <a:pt x="528" y="603"/>
                  </a:lnTo>
                  <a:lnTo>
                    <a:pt x="528" y="616"/>
                  </a:lnTo>
                  <a:lnTo>
                    <a:pt x="528" y="622"/>
                  </a:lnTo>
                  <a:lnTo>
                    <a:pt x="528" y="628"/>
                  </a:lnTo>
                  <a:lnTo>
                    <a:pt x="528" y="635"/>
                  </a:lnTo>
                  <a:lnTo>
                    <a:pt x="521" y="641"/>
                  </a:lnTo>
                  <a:lnTo>
                    <a:pt x="515" y="628"/>
                  </a:lnTo>
                  <a:lnTo>
                    <a:pt x="502" y="628"/>
                  </a:lnTo>
                  <a:lnTo>
                    <a:pt x="496" y="622"/>
                  </a:lnTo>
                  <a:lnTo>
                    <a:pt x="490" y="622"/>
                  </a:lnTo>
                  <a:lnTo>
                    <a:pt x="483" y="616"/>
                  </a:lnTo>
                  <a:lnTo>
                    <a:pt x="477" y="616"/>
                  </a:lnTo>
                  <a:lnTo>
                    <a:pt x="470" y="616"/>
                  </a:lnTo>
                  <a:lnTo>
                    <a:pt x="464" y="616"/>
                  </a:lnTo>
                  <a:lnTo>
                    <a:pt x="451" y="616"/>
                  </a:lnTo>
                  <a:lnTo>
                    <a:pt x="458" y="622"/>
                  </a:lnTo>
                  <a:lnTo>
                    <a:pt x="464" y="622"/>
                  </a:lnTo>
                  <a:lnTo>
                    <a:pt x="470" y="622"/>
                  </a:lnTo>
                  <a:lnTo>
                    <a:pt x="470" y="628"/>
                  </a:lnTo>
                  <a:lnTo>
                    <a:pt x="477" y="628"/>
                  </a:lnTo>
                  <a:lnTo>
                    <a:pt x="483" y="628"/>
                  </a:lnTo>
                  <a:lnTo>
                    <a:pt x="490" y="628"/>
                  </a:lnTo>
                  <a:lnTo>
                    <a:pt x="496" y="628"/>
                  </a:lnTo>
                  <a:lnTo>
                    <a:pt x="502" y="635"/>
                  </a:lnTo>
                  <a:lnTo>
                    <a:pt x="509" y="641"/>
                  </a:lnTo>
                  <a:lnTo>
                    <a:pt x="515" y="641"/>
                  </a:lnTo>
                  <a:lnTo>
                    <a:pt x="515" y="647"/>
                  </a:lnTo>
                  <a:lnTo>
                    <a:pt x="521" y="641"/>
                  </a:lnTo>
                  <a:lnTo>
                    <a:pt x="528" y="641"/>
                  </a:lnTo>
                  <a:lnTo>
                    <a:pt x="528" y="647"/>
                  </a:lnTo>
                  <a:lnTo>
                    <a:pt x="534" y="647"/>
                  </a:lnTo>
                  <a:lnTo>
                    <a:pt x="534" y="653"/>
                  </a:lnTo>
                  <a:lnTo>
                    <a:pt x="540" y="647"/>
                  </a:lnTo>
                  <a:lnTo>
                    <a:pt x="547" y="647"/>
                  </a:lnTo>
                  <a:lnTo>
                    <a:pt x="553" y="647"/>
                  </a:lnTo>
                  <a:lnTo>
                    <a:pt x="559" y="647"/>
                  </a:lnTo>
                  <a:lnTo>
                    <a:pt x="566" y="641"/>
                  </a:lnTo>
                  <a:lnTo>
                    <a:pt x="572" y="641"/>
                  </a:lnTo>
                  <a:lnTo>
                    <a:pt x="572" y="647"/>
                  </a:lnTo>
                  <a:lnTo>
                    <a:pt x="578" y="647"/>
                  </a:lnTo>
                  <a:lnTo>
                    <a:pt x="585" y="653"/>
                  </a:lnTo>
                  <a:lnTo>
                    <a:pt x="591" y="653"/>
                  </a:lnTo>
                  <a:lnTo>
                    <a:pt x="598" y="653"/>
                  </a:lnTo>
                  <a:lnTo>
                    <a:pt x="604" y="653"/>
                  </a:lnTo>
                  <a:lnTo>
                    <a:pt x="604" y="659"/>
                  </a:lnTo>
                  <a:lnTo>
                    <a:pt x="598" y="666"/>
                  </a:lnTo>
                  <a:lnTo>
                    <a:pt x="591" y="666"/>
                  </a:lnTo>
                  <a:lnTo>
                    <a:pt x="578" y="666"/>
                  </a:lnTo>
                  <a:lnTo>
                    <a:pt x="572" y="666"/>
                  </a:lnTo>
                  <a:lnTo>
                    <a:pt x="578" y="672"/>
                  </a:lnTo>
                  <a:lnTo>
                    <a:pt x="591" y="672"/>
                  </a:lnTo>
                  <a:lnTo>
                    <a:pt x="598" y="672"/>
                  </a:lnTo>
                  <a:lnTo>
                    <a:pt x="604" y="678"/>
                  </a:lnTo>
                  <a:lnTo>
                    <a:pt x="610" y="678"/>
                  </a:lnTo>
                  <a:lnTo>
                    <a:pt x="610" y="684"/>
                  </a:lnTo>
                  <a:lnTo>
                    <a:pt x="610" y="691"/>
                  </a:lnTo>
                  <a:lnTo>
                    <a:pt x="604" y="697"/>
                  </a:lnTo>
                  <a:lnTo>
                    <a:pt x="610" y="703"/>
                  </a:lnTo>
                  <a:lnTo>
                    <a:pt x="610" y="709"/>
                  </a:lnTo>
                  <a:lnTo>
                    <a:pt x="617" y="703"/>
                  </a:lnTo>
                  <a:lnTo>
                    <a:pt x="617" y="697"/>
                  </a:lnTo>
                  <a:lnTo>
                    <a:pt x="617" y="691"/>
                  </a:lnTo>
                  <a:lnTo>
                    <a:pt x="617" y="684"/>
                  </a:lnTo>
                  <a:lnTo>
                    <a:pt x="636" y="684"/>
                  </a:lnTo>
                  <a:lnTo>
                    <a:pt x="642" y="684"/>
                  </a:lnTo>
                  <a:lnTo>
                    <a:pt x="648" y="678"/>
                  </a:lnTo>
                  <a:lnTo>
                    <a:pt x="655" y="672"/>
                  </a:lnTo>
                  <a:lnTo>
                    <a:pt x="667" y="672"/>
                  </a:lnTo>
                  <a:lnTo>
                    <a:pt x="674" y="666"/>
                  </a:lnTo>
                  <a:lnTo>
                    <a:pt x="680" y="666"/>
                  </a:lnTo>
                  <a:lnTo>
                    <a:pt x="687" y="666"/>
                  </a:lnTo>
                  <a:lnTo>
                    <a:pt x="693" y="672"/>
                  </a:lnTo>
                  <a:lnTo>
                    <a:pt x="699" y="678"/>
                  </a:lnTo>
                  <a:lnTo>
                    <a:pt x="706" y="684"/>
                  </a:lnTo>
                  <a:lnTo>
                    <a:pt x="706" y="678"/>
                  </a:lnTo>
                  <a:lnTo>
                    <a:pt x="706" y="672"/>
                  </a:lnTo>
                  <a:lnTo>
                    <a:pt x="699" y="672"/>
                  </a:lnTo>
                  <a:lnTo>
                    <a:pt x="699" y="666"/>
                  </a:lnTo>
                  <a:lnTo>
                    <a:pt x="712" y="653"/>
                  </a:lnTo>
                  <a:lnTo>
                    <a:pt x="718" y="653"/>
                  </a:lnTo>
                  <a:lnTo>
                    <a:pt x="731" y="647"/>
                  </a:lnTo>
                  <a:lnTo>
                    <a:pt x="744" y="647"/>
                  </a:lnTo>
                  <a:lnTo>
                    <a:pt x="744" y="653"/>
                  </a:lnTo>
                  <a:lnTo>
                    <a:pt x="750" y="659"/>
                  </a:lnTo>
                  <a:lnTo>
                    <a:pt x="756" y="666"/>
                  </a:lnTo>
                  <a:lnTo>
                    <a:pt x="763" y="672"/>
                  </a:lnTo>
                  <a:lnTo>
                    <a:pt x="756" y="678"/>
                  </a:lnTo>
                  <a:lnTo>
                    <a:pt x="750" y="684"/>
                  </a:lnTo>
                  <a:lnTo>
                    <a:pt x="744" y="691"/>
                  </a:lnTo>
                  <a:lnTo>
                    <a:pt x="744" y="697"/>
                  </a:lnTo>
                  <a:lnTo>
                    <a:pt x="750" y="697"/>
                  </a:lnTo>
                  <a:lnTo>
                    <a:pt x="756" y="691"/>
                  </a:lnTo>
                  <a:lnTo>
                    <a:pt x="763" y="684"/>
                  </a:lnTo>
                  <a:lnTo>
                    <a:pt x="763" y="691"/>
                  </a:lnTo>
                  <a:lnTo>
                    <a:pt x="756" y="697"/>
                  </a:lnTo>
                  <a:lnTo>
                    <a:pt x="750" y="709"/>
                  </a:lnTo>
                  <a:lnTo>
                    <a:pt x="744" y="709"/>
                  </a:lnTo>
                  <a:lnTo>
                    <a:pt x="744" y="715"/>
                  </a:lnTo>
                  <a:lnTo>
                    <a:pt x="744" y="722"/>
                  </a:lnTo>
                  <a:lnTo>
                    <a:pt x="750" y="722"/>
                  </a:lnTo>
                  <a:lnTo>
                    <a:pt x="756" y="715"/>
                  </a:lnTo>
                  <a:lnTo>
                    <a:pt x="756" y="709"/>
                  </a:lnTo>
                  <a:lnTo>
                    <a:pt x="763" y="703"/>
                  </a:lnTo>
                  <a:lnTo>
                    <a:pt x="769" y="697"/>
                  </a:lnTo>
                  <a:lnTo>
                    <a:pt x="776" y="691"/>
                  </a:lnTo>
                  <a:lnTo>
                    <a:pt x="782" y="691"/>
                  </a:lnTo>
                  <a:lnTo>
                    <a:pt x="782" y="697"/>
                  </a:lnTo>
                  <a:lnTo>
                    <a:pt x="782" y="703"/>
                  </a:lnTo>
                  <a:lnTo>
                    <a:pt x="782" y="709"/>
                  </a:lnTo>
                  <a:lnTo>
                    <a:pt x="776" y="715"/>
                  </a:lnTo>
                  <a:lnTo>
                    <a:pt x="776" y="728"/>
                  </a:lnTo>
                  <a:lnTo>
                    <a:pt x="769" y="728"/>
                  </a:lnTo>
                  <a:lnTo>
                    <a:pt x="763" y="728"/>
                  </a:lnTo>
                  <a:lnTo>
                    <a:pt x="756" y="734"/>
                  </a:lnTo>
                  <a:lnTo>
                    <a:pt x="750" y="740"/>
                  </a:lnTo>
                  <a:lnTo>
                    <a:pt x="750" y="747"/>
                  </a:lnTo>
                  <a:lnTo>
                    <a:pt x="750" y="753"/>
                  </a:lnTo>
                  <a:lnTo>
                    <a:pt x="756" y="747"/>
                  </a:lnTo>
                  <a:lnTo>
                    <a:pt x="763" y="740"/>
                  </a:lnTo>
                  <a:lnTo>
                    <a:pt x="769" y="740"/>
                  </a:lnTo>
                  <a:lnTo>
                    <a:pt x="776" y="740"/>
                  </a:lnTo>
                  <a:lnTo>
                    <a:pt x="769" y="747"/>
                  </a:lnTo>
                  <a:lnTo>
                    <a:pt x="769" y="753"/>
                  </a:lnTo>
                  <a:lnTo>
                    <a:pt x="763" y="753"/>
                  </a:lnTo>
                  <a:lnTo>
                    <a:pt x="756" y="759"/>
                  </a:lnTo>
                  <a:lnTo>
                    <a:pt x="763" y="765"/>
                  </a:lnTo>
                  <a:lnTo>
                    <a:pt x="763" y="771"/>
                  </a:lnTo>
                  <a:lnTo>
                    <a:pt x="769" y="771"/>
                  </a:lnTo>
                  <a:lnTo>
                    <a:pt x="776" y="765"/>
                  </a:lnTo>
                  <a:lnTo>
                    <a:pt x="769" y="765"/>
                  </a:lnTo>
                  <a:lnTo>
                    <a:pt x="769" y="759"/>
                  </a:lnTo>
                  <a:lnTo>
                    <a:pt x="776" y="759"/>
                  </a:lnTo>
                  <a:lnTo>
                    <a:pt x="776" y="753"/>
                  </a:lnTo>
                  <a:lnTo>
                    <a:pt x="776" y="747"/>
                  </a:lnTo>
                  <a:lnTo>
                    <a:pt x="782" y="747"/>
                  </a:lnTo>
                  <a:lnTo>
                    <a:pt x="782" y="740"/>
                  </a:lnTo>
                  <a:lnTo>
                    <a:pt x="788" y="740"/>
                  </a:lnTo>
                  <a:lnTo>
                    <a:pt x="788" y="734"/>
                  </a:lnTo>
                  <a:lnTo>
                    <a:pt x="795" y="728"/>
                  </a:lnTo>
                  <a:lnTo>
                    <a:pt x="795" y="722"/>
                  </a:lnTo>
                  <a:lnTo>
                    <a:pt x="795" y="715"/>
                  </a:lnTo>
                  <a:lnTo>
                    <a:pt x="795" y="709"/>
                  </a:lnTo>
                  <a:lnTo>
                    <a:pt x="801" y="703"/>
                  </a:lnTo>
                  <a:lnTo>
                    <a:pt x="801" y="709"/>
                  </a:lnTo>
                  <a:lnTo>
                    <a:pt x="807" y="709"/>
                  </a:lnTo>
                  <a:lnTo>
                    <a:pt x="814" y="709"/>
                  </a:lnTo>
                  <a:lnTo>
                    <a:pt x="820" y="715"/>
                  </a:lnTo>
                  <a:lnTo>
                    <a:pt x="826" y="715"/>
                  </a:lnTo>
                  <a:lnTo>
                    <a:pt x="833" y="715"/>
                  </a:lnTo>
                  <a:lnTo>
                    <a:pt x="839" y="715"/>
                  </a:lnTo>
                  <a:lnTo>
                    <a:pt x="839" y="722"/>
                  </a:lnTo>
                  <a:lnTo>
                    <a:pt x="833" y="722"/>
                  </a:lnTo>
                  <a:lnTo>
                    <a:pt x="826" y="728"/>
                  </a:lnTo>
                  <a:lnTo>
                    <a:pt x="820" y="728"/>
                  </a:lnTo>
                  <a:lnTo>
                    <a:pt x="814" y="734"/>
                  </a:lnTo>
                  <a:lnTo>
                    <a:pt x="820" y="734"/>
                  </a:lnTo>
                  <a:lnTo>
                    <a:pt x="814" y="740"/>
                  </a:lnTo>
                  <a:lnTo>
                    <a:pt x="807" y="740"/>
                  </a:lnTo>
                  <a:lnTo>
                    <a:pt x="801" y="740"/>
                  </a:lnTo>
                  <a:lnTo>
                    <a:pt x="795" y="747"/>
                  </a:lnTo>
                  <a:lnTo>
                    <a:pt x="788" y="753"/>
                  </a:lnTo>
                  <a:lnTo>
                    <a:pt x="795" y="759"/>
                  </a:lnTo>
                  <a:lnTo>
                    <a:pt x="801" y="753"/>
                  </a:lnTo>
                  <a:lnTo>
                    <a:pt x="801" y="747"/>
                  </a:lnTo>
                  <a:lnTo>
                    <a:pt x="807" y="747"/>
                  </a:lnTo>
                  <a:lnTo>
                    <a:pt x="820" y="747"/>
                  </a:lnTo>
                  <a:lnTo>
                    <a:pt x="826" y="740"/>
                  </a:lnTo>
                  <a:lnTo>
                    <a:pt x="826" y="734"/>
                  </a:lnTo>
                  <a:lnTo>
                    <a:pt x="833" y="728"/>
                  </a:lnTo>
                  <a:lnTo>
                    <a:pt x="839" y="728"/>
                  </a:lnTo>
                  <a:lnTo>
                    <a:pt x="845" y="722"/>
                  </a:lnTo>
                  <a:lnTo>
                    <a:pt x="852" y="722"/>
                  </a:lnTo>
                  <a:lnTo>
                    <a:pt x="858" y="728"/>
                  </a:lnTo>
                  <a:lnTo>
                    <a:pt x="864" y="728"/>
                  </a:lnTo>
                  <a:lnTo>
                    <a:pt x="871" y="728"/>
                  </a:lnTo>
                  <a:lnTo>
                    <a:pt x="890" y="722"/>
                  </a:lnTo>
                  <a:lnTo>
                    <a:pt x="896" y="715"/>
                  </a:lnTo>
                  <a:lnTo>
                    <a:pt x="909" y="715"/>
                  </a:lnTo>
                  <a:lnTo>
                    <a:pt x="909" y="722"/>
                  </a:lnTo>
                  <a:lnTo>
                    <a:pt x="915" y="728"/>
                  </a:lnTo>
                  <a:lnTo>
                    <a:pt x="915" y="734"/>
                  </a:lnTo>
                  <a:lnTo>
                    <a:pt x="922" y="740"/>
                  </a:lnTo>
                  <a:lnTo>
                    <a:pt x="928" y="747"/>
                  </a:lnTo>
                  <a:lnTo>
                    <a:pt x="934" y="753"/>
                  </a:lnTo>
                  <a:lnTo>
                    <a:pt x="928" y="759"/>
                  </a:lnTo>
                  <a:lnTo>
                    <a:pt x="909" y="771"/>
                  </a:lnTo>
                  <a:lnTo>
                    <a:pt x="890" y="784"/>
                  </a:lnTo>
                  <a:lnTo>
                    <a:pt x="858" y="809"/>
                  </a:lnTo>
                  <a:lnTo>
                    <a:pt x="826" y="840"/>
                  </a:lnTo>
                  <a:lnTo>
                    <a:pt x="807" y="865"/>
                  </a:lnTo>
                  <a:lnTo>
                    <a:pt x="801" y="884"/>
                  </a:lnTo>
                  <a:lnTo>
                    <a:pt x="795" y="896"/>
                  </a:lnTo>
                  <a:lnTo>
                    <a:pt x="776" y="921"/>
                  </a:lnTo>
                  <a:lnTo>
                    <a:pt x="763" y="946"/>
                  </a:lnTo>
                  <a:lnTo>
                    <a:pt x="750" y="958"/>
                  </a:lnTo>
                  <a:lnTo>
                    <a:pt x="744" y="977"/>
                  </a:lnTo>
                  <a:lnTo>
                    <a:pt x="744" y="983"/>
                  </a:lnTo>
                  <a:lnTo>
                    <a:pt x="737" y="996"/>
                  </a:lnTo>
                  <a:lnTo>
                    <a:pt x="737" y="1008"/>
                  </a:lnTo>
                  <a:lnTo>
                    <a:pt x="725" y="1020"/>
                  </a:lnTo>
                  <a:lnTo>
                    <a:pt x="725" y="1027"/>
                  </a:lnTo>
                  <a:lnTo>
                    <a:pt x="718" y="1039"/>
                  </a:lnTo>
                  <a:lnTo>
                    <a:pt x="712" y="1045"/>
                  </a:lnTo>
                  <a:lnTo>
                    <a:pt x="712" y="1058"/>
                  </a:lnTo>
                  <a:lnTo>
                    <a:pt x="712" y="1064"/>
                  </a:lnTo>
                  <a:lnTo>
                    <a:pt x="712" y="1070"/>
                  </a:lnTo>
                  <a:lnTo>
                    <a:pt x="712" y="1076"/>
                  </a:lnTo>
                  <a:lnTo>
                    <a:pt x="712" y="1083"/>
                  </a:lnTo>
                  <a:lnTo>
                    <a:pt x="706" y="1089"/>
                  </a:lnTo>
                  <a:lnTo>
                    <a:pt x="706" y="1095"/>
                  </a:lnTo>
                  <a:lnTo>
                    <a:pt x="699" y="1101"/>
                  </a:lnTo>
                  <a:lnTo>
                    <a:pt x="693" y="1108"/>
                  </a:lnTo>
                  <a:lnTo>
                    <a:pt x="687" y="1108"/>
                  </a:lnTo>
                  <a:lnTo>
                    <a:pt x="680" y="1114"/>
                  </a:lnTo>
                  <a:lnTo>
                    <a:pt x="674" y="1114"/>
                  </a:lnTo>
                  <a:lnTo>
                    <a:pt x="667" y="1114"/>
                  </a:lnTo>
                  <a:lnTo>
                    <a:pt x="661" y="1108"/>
                  </a:lnTo>
                  <a:lnTo>
                    <a:pt x="661" y="1101"/>
                  </a:lnTo>
                  <a:lnTo>
                    <a:pt x="661" y="1089"/>
                  </a:lnTo>
                  <a:lnTo>
                    <a:pt x="661" y="1083"/>
                  </a:lnTo>
                  <a:lnTo>
                    <a:pt x="655" y="1076"/>
                  </a:lnTo>
                  <a:lnTo>
                    <a:pt x="655" y="1070"/>
                  </a:lnTo>
                  <a:lnTo>
                    <a:pt x="648" y="1064"/>
                  </a:lnTo>
                  <a:lnTo>
                    <a:pt x="642" y="1058"/>
                  </a:lnTo>
                  <a:lnTo>
                    <a:pt x="636" y="1058"/>
                  </a:lnTo>
                  <a:lnTo>
                    <a:pt x="629" y="1058"/>
                  </a:lnTo>
                  <a:lnTo>
                    <a:pt x="629" y="1052"/>
                  </a:lnTo>
                  <a:lnTo>
                    <a:pt x="629" y="1045"/>
                  </a:lnTo>
                  <a:lnTo>
                    <a:pt x="629" y="1039"/>
                  </a:lnTo>
                  <a:lnTo>
                    <a:pt x="623" y="1039"/>
                  </a:lnTo>
                  <a:lnTo>
                    <a:pt x="623" y="1045"/>
                  </a:lnTo>
                  <a:lnTo>
                    <a:pt x="623" y="1052"/>
                  </a:lnTo>
                  <a:lnTo>
                    <a:pt x="617" y="1052"/>
                  </a:lnTo>
                  <a:lnTo>
                    <a:pt x="617" y="1058"/>
                  </a:lnTo>
                  <a:lnTo>
                    <a:pt x="617" y="1064"/>
                  </a:lnTo>
                  <a:lnTo>
                    <a:pt x="610" y="1058"/>
                  </a:lnTo>
                  <a:lnTo>
                    <a:pt x="604" y="1058"/>
                  </a:lnTo>
                  <a:lnTo>
                    <a:pt x="598" y="1058"/>
                  </a:lnTo>
                  <a:lnTo>
                    <a:pt x="598" y="1064"/>
                  </a:lnTo>
                  <a:lnTo>
                    <a:pt x="598" y="1070"/>
                  </a:lnTo>
                  <a:lnTo>
                    <a:pt x="591" y="1070"/>
                  </a:lnTo>
                  <a:lnTo>
                    <a:pt x="591" y="1076"/>
                  </a:lnTo>
                  <a:lnTo>
                    <a:pt x="585" y="1070"/>
                  </a:lnTo>
                  <a:lnTo>
                    <a:pt x="585" y="1076"/>
                  </a:lnTo>
                  <a:lnTo>
                    <a:pt x="578" y="1083"/>
                  </a:lnTo>
                  <a:lnTo>
                    <a:pt x="578" y="1089"/>
                  </a:lnTo>
                  <a:lnTo>
                    <a:pt x="578" y="1083"/>
                  </a:lnTo>
                  <a:lnTo>
                    <a:pt x="572" y="1083"/>
                  </a:lnTo>
                  <a:lnTo>
                    <a:pt x="572" y="1076"/>
                  </a:lnTo>
                  <a:lnTo>
                    <a:pt x="572" y="1070"/>
                  </a:lnTo>
                  <a:lnTo>
                    <a:pt x="566" y="1070"/>
                  </a:lnTo>
                  <a:lnTo>
                    <a:pt x="566" y="1076"/>
                  </a:lnTo>
                  <a:lnTo>
                    <a:pt x="566" y="1083"/>
                  </a:lnTo>
                  <a:lnTo>
                    <a:pt x="566" y="1089"/>
                  </a:lnTo>
                  <a:lnTo>
                    <a:pt x="559" y="1083"/>
                  </a:lnTo>
                  <a:lnTo>
                    <a:pt x="559" y="1076"/>
                  </a:lnTo>
                  <a:lnTo>
                    <a:pt x="553" y="1076"/>
                  </a:lnTo>
                  <a:lnTo>
                    <a:pt x="553" y="1064"/>
                  </a:lnTo>
                  <a:lnTo>
                    <a:pt x="547" y="1058"/>
                  </a:lnTo>
                  <a:lnTo>
                    <a:pt x="540" y="1058"/>
                  </a:lnTo>
                  <a:lnTo>
                    <a:pt x="540" y="1064"/>
                  </a:lnTo>
                  <a:lnTo>
                    <a:pt x="540" y="1070"/>
                  </a:lnTo>
                  <a:lnTo>
                    <a:pt x="540" y="1076"/>
                  </a:lnTo>
                  <a:lnTo>
                    <a:pt x="547" y="1083"/>
                  </a:lnTo>
                  <a:lnTo>
                    <a:pt x="547" y="1089"/>
                  </a:lnTo>
                  <a:lnTo>
                    <a:pt x="547" y="1095"/>
                  </a:lnTo>
                  <a:lnTo>
                    <a:pt x="540" y="1095"/>
                  </a:lnTo>
                  <a:lnTo>
                    <a:pt x="540" y="1089"/>
                  </a:lnTo>
                  <a:lnTo>
                    <a:pt x="534" y="1089"/>
                  </a:lnTo>
                  <a:lnTo>
                    <a:pt x="534" y="1083"/>
                  </a:lnTo>
                  <a:lnTo>
                    <a:pt x="534" y="1076"/>
                  </a:lnTo>
                  <a:lnTo>
                    <a:pt x="528" y="1076"/>
                  </a:lnTo>
                  <a:lnTo>
                    <a:pt x="528" y="1070"/>
                  </a:lnTo>
                  <a:lnTo>
                    <a:pt x="521" y="1076"/>
                  </a:lnTo>
                  <a:lnTo>
                    <a:pt x="521" y="1083"/>
                  </a:lnTo>
                  <a:lnTo>
                    <a:pt x="521" y="1089"/>
                  </a:lnTo>
                  <a:lnTo>
                    <a:pt x="528" y="1095"/>
                  </a:lnTo>
                  <a:lnTo>
                    <a:pt x="534" y="1101"/>
                  </a:lnTo>
                  <a:lnTo>
                    <a:pt x="528" y="1108"/>
                  </a:lnTo>
                  <a:lnTo>
                    <a:pt x="521" y="1101"/>
                  </a:lnTo>
                  <a:lnTo>
                    <a:pt x="521" y="1108"/>
                  </a:lnTo>
                  <a:lnTo>
                    <a:pt x="502" y="1101"/>
                  </a:lnTo>
                  <a:lnTo>
                    <a:pt x="502" y="1108"/>
                  </a:lnTo>
                  <a:lnTo>
                    <a:pt x="509" y="1108"/>
                  </a:lnTo>
                  <a:lnTo>
                    <a:pt x="509" y="1114"/>
                  </a:lnTo>
                  <a:lnTo>
                    <a:pt x="509" y="1120"/>
                  </a:lnTo>
                  <a:lnTo>
                    <a:pt x="502" y="1120"/>
                  </a:lnTo>
                  <a:lnTo>
                    <a:pt x="496" y="1120"/>
                  </a:lnTo>
                  <a:lnTo>
                    <a:pt x="496" y="1114"/>
                  </a:lnTo>
                  <a:lnTo>
                    <a:pt x="490" y="1108"/>
                  </a:lnTo>
                  <a:lnTo>
                    <a:pt x="483" y="1108"/>
                  </a:lnTo>
                  <a:lnTo>
                    <a:pt x="483" y="1101"/>
                  </a:lnTo>
                  <a:lnTo>
                    <a:pt x="483" y="1095"/>
                  </a:lnTo>
                  <a:lnTo>
                    <a:pt x="477" y="1089"/>
                  </a:lnTo>
                  <a:lnTo>
                    <a:pt x="477" y="1095"/>
                  </a:lnTo>
                  <a:lnTo>
                    <a:pt x="477" y="1101"/>
                  </a:lnTo>
                  <a:lnTo>
                    <a:pt x="477" y="1108"/>
                  </a:lnTo>
                  <a:lnTo>
                    <a:pt x="483" y="1120"/>
                  </a:lnTo>
                  <a:lnTo>
                    <a:pt x="483" y="1126"/>
                  </a:lnTo>
                  <a:lnTo>
                    <a:pt x="483" y="1132"/>
                  </a:lnTo>
                  <a:lnTo>
                    <a:pt x="490" y="1139"/>
                  </a:lnTo>
                  <a:lnTo>
                    <a:pt x="496" y="1139"/>
                  </a:lnTo>
                  <a:lnTo>
                    <a:pt x="496" y="1145"/>
                  </a:lnTo>
                  <a:lnTo>
                    <a:pt x="502" y="1151"/>
                  </a:lnTo>
                  <a:lnTo>
                    <a:pt x="509" y="1145"/>
                  </a:lnTo>
                  <a:lnTo>
                    <a:pt x="502" y="1139"/>
                  </a:lnTo>
                  <a:lnTo>
                    <a:pt x="502" y="1132"/>
                  </a:lnTo>
                  <a:lnTo>
                    <a:pt x="502" y="1139"/>
                  </a:lnTo>
                  <a:lnTo>
                    <a:pt x="509" y="1139"/>
                  </a:lnTo>
                  <a:lnTo>
                    <a:pt x="515" y="1145"/>
                  </a:lnTo>
                  <a:lnTo>
                    <a:pt x="521" y="1145"/>
                  </a:lnTo>
                  <a:lnTo>
                    <a:pt x="528" y="1139"/>
                  </a:lnTo>
                  <a:lnTo>
                    <a:pt x="534" y="1145"/>
                  </a:lnTo>
                  <a:lnTo>
                    <a:pt x="540" y="1139"/>
                  </a:lnTo>
                  <a:lnTo>
                    <a:pt x="540" y="1132"/>
                  </a:lnTo>
                  <a:lnTo>
                    <a:pt x="540" y="1139"/>
                  </a:lnTo>
                  <a:lnTo>
                    <a:pt x="547" y="1145"/>
                  </a:lnTo>
                  <a:lnTo>
                    <a:pt x="553" y="1145"/>
                  </a:lnTo>
                  <a:lnTo>
                    <a:pt x="559" y="1145"/>
                  </a:lnTo>
                  <a:lnTo>
                    <a:pt x="566" y="1145"/>
                  </a:lnTo>
                  <a:lnTo>
                    <a:pt x="572" y="1145"/>
                  </a:lnTo>
                  <a:lnTo>
                    <a:pt x="572" y="1139"/>
                  </a:lnTo>
                  <a:lnTo>
                    <a:pt x="578" y="1139"/>
                  </a:lnTo>
                  <a:lnTo>
                    <a:pt x="585" y="1145"/>
                  </a:lnTo>
                  <a:lnTo>
                    <a:pt x="585" y="1151"/>
                  </a:lnTo>
                  <a:lnTo>
                    <a:pt x="585" y="1157"/>
                  </a:lnTo>
                  <a:lnTo>
                    <a:pt x="585" y="1170"/>
                  </a:lnTo>
                  <a:lnTo>
                    <a:pt x="585" y="1176"/>
                  </a:lnTo>
                  <a:lnTo>
                    <a:pt x="585" y="1182"/>
                  </a:lnTo>
                  <a:lnTo>
                    <a:pt x="591" y="1182"/>
                  </a:lnTo>
                  <a:lnTo>
                    <a:pt x="591" y="1189"/>
                  </a:lnTo>
                  <a:lnTo>
                    <a:pt x="591" y="1195"/>
                  </a:lnTo>
                  <a:lnTo>
                    <a:pt x="591" y="1201"/>
                  </a:lnTo>
                  <a:lnTo>
                    <a:pt x="598" y="1201"/>
                  </a:lnTo>
                  <a:lnTo>
                    <a:pt x="604" y="1201"/>
                  </a:lnTo>
                  <a:lnTo>
                    <a:pt x="604" y="1195"/>
                  </a:lnTo>
                  <a:lnTo>
                    <a:pt x="598" y="1182"/>
                  </a:lnTo>
                  <a:lnTo>
                    <a:pt x="598" y="1176"/>
                  </a:lnTo>
                  <a:lnTo>
                    <a:pt x="598" y="1170"/>
                  </a:lnTo>
                  <a:lnTo>
                    <a:pt x="598" y="1164"/>
                  </a:lnTo>
                  <a:lnTo>
                    <a:pt x="598" y="1157"/>
                  </a:lnTo>
                  <a:lnTo>
                    <a:pt x="598" y="1151"/>
                  </a:lnTo>
                  <a:lnTo>
                    <a:pt x="598" y="1145"/>
                  </a:lnTo>
                  <a:lnTo>
                    <a:pt x="604" y="1145"/>
                  </a:lnTo>
                  <a:lnTo>
                    <a:pt x="604" y="1139"/>
                  </a:lnTo>
                  <a:lnTo>
                    <a:pt x="610" y="1132"/>
                  </a:lnTo>
                  <a:lnTo>
                    <a:pt x="623" y="1139"/>
                  </a:lnTo>
                  <a:lnTo>
                    <a:pt x="629" y="1139"/>
                  </a:lnTo>
                  <a:lnTo>
                    <a:pt x="636" y="1139"/>
                  </a:lnTo>
                  <a:lnTo>
                    <a:pt x="642" y="1139"/>
                  </a:lnTo>
                  <a:lnTo>
                    <a:pt x="648" y="1139"/>
                  </a:lnTo>
                  <a:lnTo>
                    <a:pt x="648" y="1132"/>
                  </a:lnTo>
                  <a:lnTo>
                    <a:pt x="655" y="1132"/>
                  </a:lnTo>
                  <a:lnTo>
                    <a:pt x="655" y="1126"/>
                  </a:lnTo>
                  <a:lnTo>
                    <a:pt x="661" y="1126"/>
                  </a:lnTo>
                  <a:lnTo>
                    <a:pt x="667" y="1126"/>
                  </a:lnTo>
                  <a:lnTo>
                    <a:pt x="674" y="1126"/>
                  </a:lnTo>
                  <a:lnTo>
                    <a:pt x="674" y="1132"/>
                  </a:lnTo>
                  <a:lnTo>
                    <a:pt x="667" y="1139"/>
                  </a:lnTo>
                  <a:lnTo>
                    <a:pt x="667" y="1145"/>
                  </a:lnTo>
                  <a:lnTo>
                    <a:pt x="667" y="1151"/>
                  </a:lnTo>
                  <a:lnTo>
                    <a:pt x="674" y="1151"/>
                  </a:lnTo>
                  <a:lnTo>
                    <a:pt x="674" y="1157"/>
                  </a:lnTo>
                  <a:lnTo>
                    <a:pt x="667" y="1170"/>
                  </a:lnTo>
                  <a:lnTo>
                    <a:pt x="667" y="1176"/>
                  </a:lnTo>
                  <a:lnTo>
                    <a:pt x="661" y="1182"/>
                  </a:lnTo>
                  <a:lnTo>
                    <a:pt x="661" y="1189"/>
                  </a:lnTo>
                  <a:lnTo>
                    <a:pt x="655" y="1201"/>
                  </a:lnTo>
                  <a:lnTo>
                    <a:pt x="655" y="1207"/>
                  </a:lnTo>
                  <a:lnTo>
                    <a:pt x="648" y="1213"/>
                  </a:lnTo>
                  <a:lnTo>
                    <a:pt x="648" y="1220"/>
                  </a:lnTo>
                  <a:lnTo>
                    <a:pt x="642" y="1232"/>
                  </a:lnTo>
                  <a:lnTo>
                    <a:pt x="636" y="1238"/>
                  </a:lnTo>
                  <a:lnTo>
                    <a:pt x="636" y="1245"/>
                  </a:lnTo>
                  <a:lnTo>
                    <a:pt x="636" y="1251"/>
                  </a:lnTo>
                  <a:lnTo>
                    <a:pt x="629" y="1263"/>
                  </a:lnTo>
                  <a:lnTo>
                    <a:pt x="623" y="1269"/>
                  </a:lnTo>
                  <a:lnTo>
                    <a:pt x="617" y="1269"/>
                  </a:lnTo>
                  <a:lnTo>
                    <a:pt x="617" y="1282"/>
                  </a:lnTo>
                  <a:lnTo>
                    <a:pt x="610" y="1276"/>
                  </a:lnTo>
                  <a:lnTo>
                    <a:pt x="598" y="1263"/>
                  </a:lnTo>
                  <a:lnTo>
                    <a:pt x="591" y="1263"/>
                  </a:lnTo>
                  <a:lnTo>
                    <a:pt x="578" y="1251"/>
                  </a:lnTo>
                  <a:lnTo>
                    <a:pt x="585" y="1245"/>
                  </a:lnTo>
                  <a:lnTo>
                    <a:pt x="572" y="1238"/>
                  </a:lnTo>
                  <a:lnTo>
                    <a:pt x="566" y="1251"/>
                  </a:lnTo>
                  <a:lnTo>
                    <a:pt x="553" y="1257"/>
                  </a:lnTo>
                  <a:lnTo>
                    <a:pt x="553" y="1263"/>
                  </a:lnTo>
                  <a:lnTo>
                    <a:pt x="540" y="1269"/>
                  </a:lnTo>
                  <a:lnTo>
                    <a:pt x="534" y="1269"/>
                  </a:lnTo>
                  <a:lnTo>
                    <a:pt x="521" y="1269"/>
                  </a:lnTo>
                  <a:lnTo>
                    <a:pt x="515" y="1269"/>
                  </a:lnTo>
                  <a:lnTo>
                    <a:pt x="509" y="1269"/>
                  </a:lnTo>
                  <a:lnTo>
                    <a:pt x="502" y="1269"/>
                  </a:lnTo>
                  <a:lnTo>
                    <a:pt x="496" y="1276"/>
                  </a:lnTo>
                  <a:lnTo>
                    <a:pt x="490" y="1276"/>
                  </a:lnTo>
                  <a:lnTo>
                    <a:pt x="483" y="1282"/>
                  </a:lnTo>
                  <a:lnTo>
                    <a:pt x="477" y="1282"/>
                  </a:lnTo>
                  <a:lnTo>
                    <a:pt x="464" y="1276"/>
                  </a:lnTo>
                  <a:lnTo>
                    <a:pt x="451" y="1276"/>
                  </a:lnTo>
                  <a:lnTo>
                    <a:pt x="439" y="1276"/>
                  </a:lnTo>
                  <a:lnTo>
                    <a:pt x="420" y="1276"/>
                  </a:lnTo>
                  <a:lnTo>
                    <a:pt x="401" y="1276"/>
                  </a:lnTo>
                  <a:lnTo>
                    <a:pt x="388" y="1276"/>
                  </a:lnTo>
                  <a:lnTo>
                    <a:pt x="375" y="1276"/>
                  </a:lnTo>
                  <a:lnTo>
                    <a:pt x="362" y="1276"/>
                  </a:lnTo>
                  <a:lnTo>
                    <a:pt x="350" y="1276"/>
                  </a:lnTo>
                  <a:lnTo>
                    <a:pt x="337" y="1276"/>
                  </a:lnTo>
                  <a:lnTo>
                    <a:pt x="324" y="1276"/>
                  </a:lnTo>
                  <a:lnTo>
                    <a:pt x="299" y="1282"/>
                  </a:lnTo>
                  <a:lnTo>
                    <a:pt x="280" y="1282"/>
                  </a:lnTo>
                  <a:lnTo>
                    <a:pt x="261" y="1282"/>
                  </a:lnTo>
                  <a:lnTo>
                    <a:pt x="242" y="1276"/>
                  </a:lnTo>
                  <a:lnTo>
                    <a:pt x="229" y="1276"/>
                  </a:lnTo>
                  <a:lnTo>
                    <a:pt x="223" y="1263"/>
                  </a:lnTo>
                  <a:lnTo>
                    <a:pt x="204" y="1245"/>
                  </a:lnTo>
                  <a:lnTo>
                    <a:pt x="197" y="1238"/>
                  </a:lnTo>
                  <a:lnTo>
                    <a:pt x="184" y="1226"/>
                  </a:lnTo>
                  <a:lnTo>
                    <a:pt x="178" y="1226"/>
                  </a:lnTo>
                  <a:lnTo>
                    <a:pt x="172" y="1220"/>
                  </a:lnTo>
                  <a:lnTo>
                    <a:pt x="140" y="1226"/>
                  </a:lnTo>
                  <a:lnTo>
                    <a:pt x="95" y="1232"/>
                  </a:lnTo>
                  <a:lnTo>
                    <a:pt x="76" y="1226"/>
                  </a:lnTo>
                  <a:lnTo>
                    <a:pt x="64" y="1220"/>
                  </a:lnTo>
                  <a:lnTo>
                    <a:pt x="57" y="1213"/>
                  </a:lnTo>
                  <a:lnTo>
                    <a:pt x="45" y="1189"/>
                  </a:lnTo>
                  <a:lnTo>
                    <a:pt x="38" y="1157"/>
                  </a:lnTo>
                  <a:lnTo>
                    <a:pt x="32" y="1114"/>
                  </a:lnTo>
                  <a:lnTo>
                    <a:pt x="26" y="1089"/>
                  </a:lnTo>
                  <a:lnTo>
                    <a:pt x="19" y="1070"/>
                  </a:lnTo>
                  <a:lnTo>
                    <a:pt x="13" y="1058"/>
                  </a:lnTo>
                  <a:lnTo>
                    <a:pt x="7" y="1045"/>
                  </a:lnTo>
                  <a:lnTo>
                    <a:pt x="0" y="1039"/>
                  </a:lnTo>
                  <a:lnTo>
                    <a:pt x="0" y="1027"/>
                  </a:lnTo>
                  <a:lnTo>
                    <a:pt x="0" y="1014"/>
                  </a:lnTo>
                  <a:lnTo>
                    <a:pt x="7" y="1008"/>
                  </a:lnTo>
                  <a:lnTo>
                    <a:pt x="19" y="996"/>
                  </a:lnTo>
                  <a:lnTo>
                    <a:pt x="26" y="996"/>
                  </a:lnTo>
                  <a:lnTo>
                    <a:pt x="38" y="983"/>
                  </a:lnTo>
                  <a:lnTo>
                    <a:pt x="45" y="977"/>
                  </a:lnTo>
                  <a:lnTo>
                    <a:pt x="51" y="964"/>
                  </a:lnTo>
                  <a:lnTo>
                    <a:pt x="51" y="958"/>
                  </a:lnTo>
                  <a:lnTo>
                    <a:pt x="51" y="952"/>
                  </a:lnTo>
                  <a:lnTo>
                    <a:pt x="57" y="940"/>
                  </a:lnTo>
                  <a:lnTo>
                    <a:pt x="70" y="933"/>
                  </a:lnTo>
                  <a:lnTo>
                    <a:pt x="76" y="927"/>
                  </a:lnTo>
                  <a:lnTo>
                    <a:pt x="76" y="915"/>
                  </a:lnTo>
                  <a:lnTo>
                    <a:pt x="83" y="902"/>
                  </a:lnTo>
                  <a:lnTo>
                    <a:pt x="89" y="890"/>
                  </a:lnTo>
                  <a:lnTo>
                    <a:pt x="102" y="877"/>
                  </a:lnTo>
                  <a:lnTo>
                    <a:pt x="127" y="859"/>
                  </a:lnTo>
                  <a:lnTo>
                    <a:pt x="153" y="840"/>
                  </a:lnTo>
                  <a:lnTo>
                    <a:pt x="159" y="827"/>
                  </a:lnTo>
                  <a:lnTo>
                    <a:pt x="165" y="809"/>
                  </a:lnTo>
                  <a:lnTo>
                    <a:pt x="172" y="790"/>
                  </a:lnTo>
                  <a:lnTo>
                    <a:pt x="165" y="771"/>
                  </a:lnTo>
                  <a:lnTo>
                    <a:pt x="165" y="765"/>
                  </a:lnTo>
                  <a:lnTo>
                    <a:pt x="165" y="753"/>
                  </a:lnTo>
                  <a:lnTo>
                    <a:pt x="172" y="740"/>
                  </a:lnTo>
                  <a:lnTo>
                    <a:pt x="178" y="728"/>
                  </a:lnTo>
                  <a:lnTo>
                    <a:pt x="197" y="709"/>
                  </a:lnTo>
                  <a:lnTo>
                    <a:pt x="204" y="697"/>
                  </a:lnTo>
                  <a:lnTo>
                    <a:pt x="204" y="684"/>
                  </a:lnTo>
                  <a:lnTo>
                    <a:pt x="204" y="672"/>
                  </a:lnTo>
                  <a:lnTo>
                    <a:pt x="197" y="659"/>
                  </a:lnTo>
                  <a:lnTo>
                    <a:pt x="184" y="641"/>
                  </a:lnTo>
                  <a:lnTo>
                    <a:pt x="178" y="628"/>
                  </a:lnTo>
                  <a:lnTo>
                    <a:pt x="172" y="610"/>
                  </a:lnTo>
                  <a:lnTo>
                    <a:pt x="172" y="597"/>
                  </a:lnTo>
                  <a:lnTo>
                    <a:pt x="172" y="585"/>
                  </a:lnTo>
                  <a:lnTo>
                    <a:pt x="178" y="578"/>
                  </a:lnTo>
                  <a:lnTo>
                    <a:pt x="178" y="560"/>
                  </a:lnTo>
                  <a:lnTo>
                    <a:pt x="172" y="547"/>
                  </a:lnTo>
                  <a:lnTo>
                    <a:pt x="165" y="535"/>
                  </a:lnTo>
                  <a:lnTo>
                    <a:pt x="153" y="529"/>
                  </a:lnTo>
                  <a:lnTo>
                    <a:pt x="134" y="510"/>
                  </a:lnTo>
                  <a:lnTo>
                    <a:pt x="121" y="498"/>
                  </a:lnTo>
                  <a:lnTo>
                    <a:pt x="102" y="485"/>
                  </a:lnTo>
                  <a:lnTo>
                    <a:pt x="115" y="485"/>
                  </a:lnTo>
                  <a:lnTo>
                    <a:pt x="134" y="485"/>
                  </a:lnTo>
                  <a:lnTo>
                    <a:pt x="146" y="485"/>
                  </a:lnTo>
                  <a:lnTo>
                    <a:pt x="165" y="479"/>
                  </a:lnTo>
                  <a:lnTo>
                    <a:pt x="172" y="479"/>
                  </a:lnTo>
                  <a:lnTo>
                    <a:pt x="184" y="485"/>
                  </a:lnTo>
                  <a:lnTo>
                    <a:pt x="204" y="485"/>
                  </a:lnTo>
                  <a:lnTo>
                    <a:pt x="216" y="491"/>
                  </a:lnTo>
                  <a:lnTo>
                    <a:pt x="229" y="491"/>
                  </a:lnTo>
                  <a:lnTo>
                    <a:pt x="242" y="485"/>
                  </a:lnTo>
                  <a:lnTo>
                    <a:pt x="261" y="473"/>
                  </a:lnTo>
                  <a:lnTo>
                    <a:pt x="267" y="460"/>
                  </a:lnTo>
                  <a:lnTo>
                    <a:pt x="273" y="448"/>
                  </a:lnTo>
                  <a:lnTo>
                    <a:pt x="273" y="429"/>
                  </a:lnTo>
                  <a:lnTo>
                    <a:pt x="273" y="417"/>
                  </a:lnTo>
                  <a:lnTo>
                    <a:pt x="273" y="410"/>
                  </a:lnTo>
                  <a:lnTo>
                    <a:pt x="273" y="404"/>
                  </a:lnTo>
                  <a:lnTo>
                    <a:pt x="273" y="392"/>
                  </a:lnTo>
                  <a:lnTo>
                    <a:pt x="280" y="386"/>
                  </a:lnTo>
                  <a:lnTo>
                    <a:pt x="293" y="379"/>
                  </a:lnTo>
                  <a:lnTo>
                    <a:pt x="312" y="379"/>
                  </a:lnTo>
                  <a:lnTo>
                    <a:pt x="318" y="379"/>
                  </a:lnTo>
                  <a:lnTo>
                    <a:pt x="331" y="373"/>
                  </a:lnTo>
                  <a:lnTo>
                    <a:pt x="343" y="361"/>
                  </a:lnTo>
                  <a:lnTo>
                    <a:pt x="350" y="348"/>
                  </a:lnTo>
                  <a:lnTo>
                    <a:pt x="350" y="336"/>
                  </a:lnTo>
                  <a:lnTo>
                    <a:pt x="356" y="336"/>
                  </a:lnTo>
                  <a:lnTo>
                    <a:pt x="362" y="311"/>
                  </a:lnTo>
                  <a:lnTo>
                    <a:pt x="362" y="292"/>
                  </a:lnTo>
                  <a:lnTo>
                    <a:pt x="362" y="280"/>
                  </a:lnTo>
                  <a:lnTo>
                    <a:pt x="362" y="261"/>
                  </a:lnTo>
                  <a:lnTo>
                    <a:pt x="356" y="242"/>
                  </a:lnTo>
                  <a:lnTo>
                    <a:pt x="350" y="224"/>
                  </a:lnTo>
                  <a:lnTo>
                    <a:pt x="350" y="199"/>
                  </a:lnTo>
                  <a:lnTo>
                    <a:pt x="356" y="186"/>
                  </a:lnTo>
                  <a:lnTo>
                    <a:pt x="356" y="174"/>
                  </a:lnTo>
                  <a:lnTo>
                    <a:pt x="369" y="161"/>
                  </a:lnTo>
                  <a:lnTo>
                    <a:pt x="375" y="155"/>
                  </a:lnTo>
                  <a:lnTo>
                    <a:pt x="381" y="149"/>
                  </a:lnTo>
                  <a:lnTo>
                    <a:pt x="401" y="155"/>
                  </a:lnTo>
                  <a:lnTo>
                    <a:pt x="407" y="149"/>
                  </a:lnTo>
                  <a:lnTo>
                    <a:pt x="413" y="149"/>
                  </a:lnTo>
                  <a:lnTo>
                    <a:pt x="426" y="143"/>
                  </a:lnTo>
                  <a:lnTo>
                    <a:pt x="432" y="130"/>
                  </a:lnTo>
                  <a:lnTo>
                    <a:pt x="445" y="124"/>
                  </a:lnTo>
                  <a:lnTo>
                    <a:pt x="464" y="118"/>
                  </a:lnTo>
                  <a:lnTo>
                    <a:pt x="483" y="118"/>
                  </a:lnTo>
                  <a:lnTo>
                    <a:pt x="490" y="118"/>
                  </a:lnTo>
                  <a:lnTo>
                    <a:pt x="502" y="124"/>
                  </a:lnTo>
                  <a:lnTo>
                    <a:pt x="515" y="130"/>
                  </a:lnTo>
                  <a:lnTo>
                    <a:pt x="528" y="137"/>
                  </a:lnTo>
                  <a:lnTo>
                    <a:pt x="540" y="143"/>
                  </a:lnTo>
                  <a:lnTo>
                    <a:pt x="559" y="149"/>
                  </a:lnTo>
                  <a:lnTo>
                    <a:pt x="572" y="149"/>
                  </a:lnTo>
                  <a:lnTo>
                    <a:pt x="598" y="155"/>
                  </a:lnTo>
                  <a:lnTo>
                    <a:pt x="604" y="149"/>
                  </a:lnTo>
                  <a:lnTo>
                    <a:pt x="617" y="143"/>
                  </a:lnTo>
                  <a:lnTo>
                    <a:pt x="623" y="130"/>
                  </a:lnTo>
                  <a:lnTo>
                    <a:pt x="642" y="124"/>
                  </a:lnTo>
                  <a:lnTo>
                    <a:pt x="648" y="118"/>
                  </a:lnTo>
                  <a:lnTo>
                    <a:pt x="667" y="118"/>
                  </a:lnTo>
                  <a:lnTo>
                    <a:pt x="680" y="124"/>
                  </a:lnTo>
                  <a:lnTo>
                    <a:pt x="693" y="130"/>
                  </a:lnTo>
                  <a:lnTo>
                    <a:pt x="706" y="137"/>
                  </a:lnTo>
                  <a:lnTo>
                    <a:pt x="718" y="137"/>
                  </a:lnTo>
                  <a:lnTo>
                    <a:pt x="725" y="1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652200" y="6492960"/>
              <a:ext cx="241560" cy="21744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0" y="137"/>
                  </a:moveTo>
                  <a:lnTo>
                    <a:pt x="6" y="137"/>
                  </a:lnTo>
                  <a:lnTo>
                    <a:pt x="12" y="137"/>
                  </a:lnTo>
                  <a:lnTo>
                    <a:pt x="19" y="130"/>
                  </a:lnTo>
                  <a:lnTo>
                    <a:pt x="19" y="118"/>
                  </a:lnTo>
                  <a:lnTo>
                    <a:pt x="25" y="93"/>
                  </a:lnTo>
                  <a:lnTo>
                    <a:pt x="38" y="74"/>
                  </a:lnTo>
                  <a:lnTo>
                    <a:pt x="51" y="62"/>
                  </a:lnTo>
                  <a:lnTo>
                    <a:pt x="63" y="43"/>
                  </a:lnTo>
                  <a:lnTo>
                    <a:pt x="76" y="24"/>
                  </a:lnTo>
                  <a:lnTo>
                    <a:pt x="89" y="18"/>
                  </a:lnTo>
                  <a:lnTo>
                    <a:pt x="101" y="6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0118880" y="7529400"/>
              <a:ext cx="1503360" cy="622440"/>
            </a:xfrm>
            <a:custGeom>
              <a:avLst/>
              <a:gdLst/>
              <a:ahLst/>
              <a:rect l="l" t="t" r="r" b="b"/>
              <a:pathLst>
                <a:path w="947" h="392">
                  <a:moveTo>
                    <a:pt x="13" y="0"/>
                  </a:moveTo>
                  <a:lnTo>
                    <a:pt x="51" y="50"/>
                  </a:lnTo>
                  <a:lnTo>
                    <a:pt x="13" y="131"/>
                  </a:lnTo>
                  <a:lnTo>
                    <a:pt x="7" y="156"/>
                  </a:lnTo>
                  <a:lnTo>
                    <a:pt x="0" y="187"/>
                  </a:lnTo>
                  <a:lnTo>
                    <a:pt x="7" y="231"/>
                  </a:lnTo>
                  <a:lnTo>
                    <a:pt x="26" y="268"/>
                  </a:lnTo>
                  <a:lnTo>
                    <a:pt x="45" y="293"/>
                  </a:lnTo>
                  <a:lnTo>
                    <a:pt x="83" y="318"/>
                  </a:lnTo>
                  <a:lnTo>
                    <a:pt x="115" y="330"/>
                  </a:lnTo>
                  <a:lnTo>
                    <a:pt x="147" y="343"/>
                  </a:lnTo>
                  <a:lnTo>
                    <a:pt x="191" y="336"/>
                  </a:lnTo>
                  <a:lnTo>
                    <a:pt x="197" y="330"/>
                  </a:lnTo>
                  <a:lnTo>
                    <a:pt x="191" y="305"/>
                  </a:lnTo>
                  <a:lnTo>
                    <a:pt x="191" y="287"/>
                  </a:lnTo>
                  <a:lnTo>
                    <a:pt x="197" y="274"/>
                  </a:lnTo>
                  <a:lnTo>
                    <a:pt x="223" y="268"/>
                  </a:lnTo>
                  <a:lnTo>
                    <a:pt x="255" y="262"/>
                  </a:lnTo>
                  <a:lnTo>
                    <a:pt x="293" y="255"/>
                  </a:lnTo>
                  <a:lnTo>
                    <a:pt x="306" y="255"/>
                  </a:lnTo>
                  <a:lnTo>
                    <a:pt x="344" y="255"/>
                  </a:lnTo>
                  <a:lnTo>
                    <a:pt x="401" y="268"/>
                  </a:lnTo>
                  <a:lnTo>
                    <a:pt x="433" y="274"/>
                  </a:lnTo>
                  <a:lnTo>
                    <a:pt x="464" y="287"/>
                  </a:lnTo>
                  <a:lnTo>
                    <a:pt x="528" y="299"/>
                  </a:lnTo>
                  <a:lnTo>
                    <a:pt x="566" y="311"/>
                  </a:lnTo>
                  <a:lnTo>
                    <a:pt x="592" y="330"/>
                  </a:lnTo>
                  <a:lnTo>
                    <a:pt x="611" y="355"/>
                  </a:lnTo>
                  <a:lnTo>
                    <a:pt x="617" y="380"/>
                  </a:lnTo>
                  <a:lnTo>
                    <a:pt x="636" y="392"/>
                  </a:lnTo>
                  <a:lnTo>
                    <a:pt x="642" y="392"/>
                  </a:lnTo>
                  <a:lnTo>
                    <a:pt x="655" y="380"/>
                  </a:lnTo>
                  <a:lnTo>
                    <a:pt x="668" y="374"/>
                  </a:lnTo>
                  <a:lnTo>
                    <a:pt x="693" y="374"/>
                  </a:lnTo>
                  <a:lnTo>
                    <a:pt x="712" y="386"/>
                  </a:lnTo>
                  <a:lnTo>
                    <a:pt x="719" y="392"/>
                  </a:lnTo>
                  <a:lnTo>
                    <a:pt x="738" y="386"/>
                  </a:lnTo>
                  <a:lnTo>
                    <a:pt x="744" y="374"/>
                  </a:lnTo>
                  <a:lnTo>
                    <a:pt x="757" y="349"/>
                  </a:lnTo>
                  <a:lnTo>
                    <a:pt x="757" y="336"/>
                  </a:lnTo>
                  <a:lnTo>
                    <a:pt x="757" y="324"/>
                  </a:lnTo>
                  <a:lnTo>
                    <a:pt x="769" y="311"/>
                  </a:lnTo>
                  <a:lnTo>
                    <a:pt x="789" y="305"/>
                  </a:lnTo>
                  <a:lnTo>
                    <a:pt x="808" y="293"/>
                  </a:lnTo>
                  <a:lnTo>
                    <a:pt x="827" y="287"/>
                  </a:lnTo>
                  <a:lnTo>
                    <a:pt x="852" y="280"/>
                  </a:lnTo>
                  <a:lnTo>
                    <a:pt x="897" y="280"/>
                  </a:lnTo>
                  <a:lnTo>
                    <a:pt x="928" y="274"/>
                  </a:lnTo>
                  <a:lnTo>
                    <a:pt x="947" y="274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0310760" y="6956280"/>
              <a:ext cx="938160" cy="474840"/>
            </a:xfrm>
            <a:custGeom>
              <a:avLst/>
              <a:gdLst/>
              <a:ahLst/>
              <a:rect l="l" t="t" r="r" b="b"/>
              <a:pathLst>
                <a:path w="591" h="299">
                  <a:moveTo>
                    <a:pt x="0" y="131"/>
                  </a:moveTo>
                  <a:lnTo>
                    <a:pt x="13" y="137"/>
                  </a:lnTo>
                  <a:lnTo>
                    <a:pt x="26" y="143"/>
                  </a:lnTo>
                  <a:lnTo>
                    <a:pt x="32" y="156"/>
                  </a:lnTo>
                  <a:lnTo>
                    <a:pt x="32" y="168"/>
                  </a:lnTo>
                  <a:lnTo>
                    <a:pt x="32" y="193"/>
                  </a:lnTo>
                  <a:lnTo>
                    <a:pt x="32" y="212"/>
                  </a:lnTo>
                  <a:lnTo>
                    <a:pt x="32" y="224"/>
                  </a:lnTo>
                  <a:lnTo>
                    <a:pt x="38" y="237"/>
                  </a:lnTo>
                  <a:lnTo>
                    <a:pt x="38" y="249"/>
                  </a:lnTo>
                  <a:lnTo>
                    <a:pt x="45" y="268"/>
                  </a:lnTo>
                  <a:lnTo>
                    <a:pt x="51" y="280"/>
                  </a:lnTo>
                  <a:lnTo>
                    <a:pt x="64" y="293"/>
                  </a:lnTo>
                  <a:lnTo>
                    <a:pt x="64" y="299"/>
                  </a:lnTo>
                  <a:lnTo>
                    <a:pt x="70" y="299"/>
                  </a:lnTo>
                  <a:lnTo>
                    <a:pt x="83" y="299"/>
                  </a:lnTo>
                  <a:lnTo>
                    <a:pt x="96" y="299"/>
                  </a:lnTo>
                  <a:lnTo>
                    <a:pt x="102" y="293"/>
                  </a:lnTo>
                  <a:lnTo>
                    <a:pt x="115" y="286"/>
                  </a:lnTo>
                  <a:lnTo>
                    <a:pt x="121" y="274"/>
                  </a:lnTo>
                  <a:lnTo>
                    <a:pt x="127" y="268"/>
                  </a:lnTo>
                  <a:lnTo>
                    <a:pt x="134" y="255"/>
                  </a:lnTo>
                  <a:lnTo>
                    <a:pt x="140" y="249"/>
                  </a:lnTo>
                  <a:lnTo>
                    <a:pt x="140" y="243"/>
                  </a:lnTo>
                  <a:lnTo>
                    <a:pt x="153" y="243"/>
                  </a:lnTo>
                  <a:lnTo>
                    <a:pt x="159" y="249"/>
                  </a:lnTo>
                  <a:lnTo>
                    <a:pt x="178" y="255"/>
                  </a:lnTo>
                  <a:lnTo>
                    <a:pt x="191" y="255"/>
                  </a:lnTo>
                  <a:lnTo>
                    <a:pt x="204" y="255"/>
                  </a:lnTo>
                  <a:lnTo>
                    <a:pt x="216" y="249"/>
                  </a:lnTo>
                  <a:lnTo>
                    <a:pt x="229" y="237"/>
                  </a:lnTo>
                  <a:lnTo>
                    <a:pt x="235" y="230"/>
                  </a:lnTo>
                  <a:lnTo>
                    <a:pt x="254" y="206"/>
                  </a:lnTo>
                  <a:lnTo>
                    <a:pt x="267" y="193"/>
                  </a:lnTo>
                  <a:lnTo>
                    <a:pt x="274" y="181"/>
                  </a:lnTo>
                  <a:lnTo>
                    <a:pt x="312" y="156"/>
                  </a:lnTo>
                  <a:lnTo>
                    <a:pt x="356" y="131"/>
                  </a:lnTo>
                  <a:lnTo>
                    <a:pt x="420" y="100"/>
                  </a:lnTo>
                  <a:lnTo>
                    <a:pt x="458" y="81"/>
                  </a:lnTo>
                  <a:lnTo>
                    <a:pt x="477" y="75"/>
                  </a:lnTo>
                  <a:lnTo>
                    <a:pt x="490" y="75"/>
                  </a:lnTo>
                  <a:lnTo>
                    <a:pt x="496" y="75"/>
                  </a:lnTo>
                  <a:lnTo>
                    <a:pt x="509" y="81"/>
                  </a:lnTo>
                  <a:lnTo>
                    <a:pt x="521" y="75"/>
                  </a:lnTo>
                  <a:lnTo>
                    <a:pt x="528" y="69"/>
                  </a:lnTo>
                  <a:lnTo>
                    <a:pt x="534" y="62"/>
                  </a:lnTo>
                  <a:lnTo>
                    <a:pt x="540" y="50"/>
                  </a:lnTo>
                  <a:lnTo>
                    <a:pt x="540" y="38"/>
                  </a:lnTo>
                  <a:lnTo>
                    <a:pt x="540" y="31"/>
                  </a:lnTo>
                  <a:lnTo>
                    <a:pt x="540" y="19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553" y="0"/>
                  </a:lnTo>
                  <a:lnTo>
                    <a:pt x="566" y="0"/>
                  </a:lnTo>
                  <a:lnTo>
                    <a:pt x="579" y="0"/>
                  </a:lnTo>
                  <a:lnTo>
                    <a:pt x="591" y="1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1248920" y="6977160"/>
              <a:ext cx="414360" cy="285480"/>
            </a:xfrm>
            <a:custGeom>
              <a:avLst/>
              <a:gdLst/>
              <a:ahLst/>
              <a:rect l="l" t="t" r="r" b="b"/>
              <a:pathLst>
                <a:path w="261" h="180">
                  <a:moveTo>
                    <a:pt x="0" y="0"/>
                  </a:moveTo>
                  <a:lnTo>
                    <a:pt x="13" y="6"/>
                  </a:lnTo>
                  <a:lnTo>
                    <a:pt x="26" y="12"/>
                  </a:lnTo>
                  <a:lnTo>
                    <a:pt x="45" y="18"/>
                  </a:lnTo>
                  <a:lnTo>
                    <a:pt x="57" y="18"/>
                  </a:lnTo>
                  <a:lnTo>
                    <a:pt x="77" y="25"/>
                  </a:lnTo>
                  <a:lnTo>
                    <a:pt x="102" y="31"/>
                  </a:lnTo>
                  <a:lnTo>
                    <a:pt x="115" y="31"/>
                  </a:lnTo>
                  <a:lnTo>
                    <a:pt x="127" y="43"/>
                  </a:lnTo>
                  <a:lnTo>
                    <a:pt x="140" y="49"/>
                  </a:lnTo>
                  <a:lnTo>
                    <a:pt x="140" y="62"/>
                  </a:lnTo>
                  <a:lnTo>
                    <a:pt x="146" y="74"/>
                  </a:lnTo>
                  <a:lnTo>
                    <a:pt x="146" y="87"/>
                  </a:lnTo>
                  <a:lnTo>
                    <a:pt x="153" y="99"/>
                  </a:lnTo>
                  <a:lnTo>
                    <a:pt x="172" y="118"/>
                  </a:lnTo>
                  <a:lnTo>
                    <a:pt x="185" y="130"/>
                  </a:lnTo>
                  <a:lnTo>
                    <a:pt x="197" y="143"/>
                  </a:lnTo>
                  <a:lnTo>
                    <a:pt x="216" y="155"/>
                  </a:lnTo>
                  <a:lnTo>
                    <a:pt x="229" y="174"/>
                  </a:lnTo>
                  <a:lnTo>
                    <a:pt x="242" y="174"/>
                  </a:lnTo>
                  <a:lnTo>
                    <a:pt x="254" y="180"/>
                  </a:lnTo>
                  <a:lnTo>
                    <a:pt x="261" y="18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1622240" y="7262640"/>
              <a:ext cx="203040" cy="702000"/>
            </a:xfrm>
            <a:custGeom>
              <a:avLst/>
              <a:gdLst/>
              <a:ahLst/>
              <a:rect l="l" t="t" r="r" b="b"/>
              <a:pathLst>
                <a:path w="128" h="442">
                  <a:moveTo>
                    <a:pt x="0" y="442"/>
                  </a:moveTo>
                  <a:lnTo>
                    <a:pt x="0" y="430"/>
                  </a:lnTo>
                  <a:lnTo>
                    <a:pt x="7" y="417"/>
                  </a:lnTo>
                  <a:lnTo>
                    <a:pt x="13" y="405"/>
                  </a:lnTo>
                  <a:lnTo>
                    <a:pt x="26" y="392"/>
                  </a:lnTo>
                  <a:lnTo>
                    <a:pt x="51" y="374"/>
                  </a:lnTo>
                  <a:lnTo>
                    <a:pt x="77" y="355"/>
                  </a:lnTo>
                  <a:lnTo>
                    <a:pt x="83" y="342"/>
                  </a:lnTo>
                  <a:lnTo>
                    <a:pt x="89" y="324"/>
                  </a:lnTo>
                  <a:lnTo>
                    <a:pt x="96" y="305"/>
                  </a:lnTo>
                  <a:lnTo>
                    <a:pt x="89" y="286"/>
                  </a:lnTo>
                  <a:lnTo>
                    <a:pt x="89" y="280"/>
                  </a:lnTo>
                  <a:lnTo>
                    <a:pt x="89" y="268"/>
                  </a:lnTo>
                  <a:lnTo>
                    <a:pt x="96" y="255"/>
                  </a:lnTo>
                  <a:lnTo>
                    <a:pt x="102" y="243"/>
                  </a:lnTo>
                  <a:lnTo>
                    <a:pt x="121" y="224"/>
                  </a:lnTo>
                  <a:lnTo>
                    <a:pt x="128" y="212"/>
                  </a:lnTo>
                  <a:lnTo>
                    <a:pt x="128" y="199"/>
                  </a:lnTo>
                  <a:lnTo>
                    <a:pt x="128" y="187"/>
                  </a:lnTo>
                  <a:lnTo>
                    <a:pt x="121" y="174"/>
                  </a:lnTo>
                  <a:lnTo>
                    <a:pt x="108" y="156"/>
                  </a:lnTo>
                  <a:lnTo>
                    <a:pt x="102" y="143"/>
                  </a:lnTo>
                  <a:lnTo>
                    <a:pt x="96" y="125"/>
                  </a:lnTo>
                  <a:lnTo>
                    <a:pt x="96" y="112"/>
                  </a:lnTo>
                  <a:lnTo>
                    <a:pt x="96" y="100"/>
                  </a:lnTo>
                  <a:lnTo>
                    <a:pt x="102" y="93"/>
                  </a:lnTo>
                  <a:lnTo>
                    <a:pt x="102" y="75"/>
                  </a:lnTo>
                  <a:lnTo>
                    <a:pt x="96" y="62"/>
                  </a:lnTo>
                  <a:lnTo>
                    <a:pt x="89" y="50"/>
                  </a:lnTo>
                  <a:lnTo>
                    <a:pt x="77" y="44"/>
                  </a:lnTo>
                  <a:lnTo>
                    <a:pt x="58" y="25"/>
                  </a:lnTo>
                  <a:lnTo>
                    <a:pt x="45" y="13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0139400" y="7164360"/>
              <a:ext cx="171360" cy="365040"/>
            </a:xfrm>
            <a:custGeom>
              <a:avLst/>
              <a:gdLst/>
              <a:ahLst/>
              <a:rect l="l" t="t" r="r" b="b"/>
              <a:pathLst>
                <a:path w="108" h="230">
                  <a:moveTo>
                    <a:pt x="0" y="230"/>
                  </a:moveTo>
                  <a:lnTo>
                    <a:pt x="13" y="224"/>
                  </a:lnTo>
                  <a:lnTo>
                    <a:pt x="19" y="218"/>
                  </a:lnTo>
                  <a:lnTo>
                    <a:pt x="32" y="212"/>
                  </a:lnTo>
                  <a:lnTo>
                    <a:pt x="45" y="193"/>
                  </a:lnTo>
                  <a:lnTo>
                    <a:pt x="57" y="180"/>
                  </a:lnTo>
                  <a:lnTo>
                    <a:pt x="64" y="168"/>
                  </a:lnTo>
                  <a:lnTo>
                    <a:pt x="76" y="137"/>
                  </a:lnTo>
                  <a:lnTo>
                    <a:pt x="83" y="112"/>
                  </a:lnTo>
                  <a:lnTo>
                    <a:pt x="89" y="93"/>
                  </a:lnTo>
                  <a:lnTo>
                    <a:pt x="89" y="81"/>
                  </a:lnTo>
                  <a:lnTo>
                    <a:pt x="89" y="68"/>
                  </a:lnTo>
                  <a:lnTo>
                    <a:pt x="96" y="43"/>
                  </a:lnTo>
                  <a:lnTo>
                    <a:pt x="102" y="37"/>
                  </a:lnTo>
                  <a:lnTo>
                    <a:pt x="102" y="25"/>
                  </a:lnTo>
                  <a:lnTo>
                    <a:pt x="108" y="19"/>
                  </a:lnTo>
                  <a:lnTo>
                    <a:pt x="108" y="6"/>
                  </a:lnTo>
                  <a:lnTo>
                    <a:pt x="10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0180800" y="6729480"/>
              <a:ext cx="766440" cy="444600"/>
            </a:xfrm>
            <a:custGeom>
              <a:avLst/>
              <a:gdLst/>
              <a:ahLst/>
              <a:rect l="l" t="t" r="r" b="b"/>
              <a:pathLst>
                <a:path w="483" h="280">
                  <a:moveTo>
                    <a:pt x="82" y="280"/>
                  </a:moveTo>
                  <a:lnTo>
                    <a:pt x="44" y="255"/>
                  </a:lnTo>
                  <a:lnTo>
                    <a:pt x="12" y="230"/>
                  </a:lnTo>
                  <a:lnTo>
                    <a:pt x="0" y="193"/>
                  </a:lnTo>
                  <a:lnTo>
                    <a:pt x="12" y="162"/>
                  </a:lnTo>
                  <a:lnTo>
                    <a:pt x="31" y="131"/>
                  </a:lnTo>
                  <a:lnTo>
                    <a:pt x="25" y="100"/>
                  </a:lnTo>
                  <a:lnTo>
                    <a:pt x="25" y="87"/>
                  </a:lnTo>
                  <a:lnTo>
                    <a:pt x="44" y="75"/>
                  </a:lnTo>
                  <a:lnTo>
                    <a:pt x="76" y="87"/>
                  </a:lnTo>
                  <a:lnTo>
                    <a:pt x="95" y="106"/>
                  </a:lnTo>
                  <a:lnTo>
                    <a:pt x="114" y="118"/>
                  </a:lnTo>
                  <a:lnTo>
                    <a:pt x="146" y="118"/>
                  </a:lnTo>
                  <a:lnTo>
                    <a:pt x="158" y="112"/>
                  </a:lnTo>
                  <a:lnTo>
                    <a:pt x="178" y="75"/>
                  </a:lnTo>
                  <a:lnTo>
                    <a:pt x="184" y="50"/>
                  </a:lnTo>
                  <a:lnTo>
                    <a:pt x="190" y="37"/>
                  </a:lnTo>
                  <a:lnTo>
                    <a:pt x="203" y="25"/>
                  </a:lnTo>
                  <a:lnTo>
                    <a:pt x="228" y="12"/>
                  </a:lnTo>
                  <a:lnTo>
                    <a:pt x="279" y="0"/>
                  </a:lnTo>
                  <a:lnTo>
                    <a:pt x="305" y="0"/>
                  </a:lnTo>
                  <a:lnTo>
                    <a:pt x="343" y="6"/>
                  </a:lnTo>
                  <a:lnTo>
                    <a:pt x="375" y="12"/>
                  </a:lnTo>
                  <a:lnTo>
                    <a:pt x="400" y="25"/>
                  </a:lnTo>
                  <a:lnTo>
                    <a:pt x="419" y="19"/>
                  </a:lnTo>
                  <a:lnTo>
                    <a:pt x="451" y="6"/>
                  </a:lnTo>
                  <a:lnTo>
                    <a:pt x="48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V="1">
              <a:off x="10947240" y="6710040"/>
              <a:ext cx="69840" cy="1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1017080" y="6710400"/>
              <a:ext cx="51120" cy="144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1068200" y="6610320"/>
              <a:ext cx="583920" cy="277920"/>
            </a:xfrm>
            <a:custGeom>
              <a:avLst/>
              <a:gdLst/>
              <a:ahLst/>
              <a:rect l="l" t="t" r="r" b="b"/>
              <a:pathLst>
                <a:path w="368" h="175">
                  <a:moveTo>
                    <a:pt x="0" y="63"/>
                  </a:moveTo>
                  <a:lnTo>
                    <a:pt x="38" y="87"/>
                  </a:lnTo>
                  <a:lnTo>
                    <a:pt x="51" y="119"/>
                  </a:lnTo>
                  <a:lnTo>
                    <a:pt x="63" y="125"/>
                  </a:lnTo>
                  <a:lnTo>
                    <a:pt x="89" y="131"/>
                  </a:lnTo>
                  <a:lnTo>
                    <a:pt x="127" y="150"/>
                  </a:lnTo>
                  <a:lnTo>
                    <a:pt x="146" y="168"/>
                  </a:lnTo>
                  <a:lnTo>
                    <a:pt x="159" y="175"/>
                  </a:lnTo>
                  <a:lnTo>
                    <a:pt x="184" y="168"/>
                  </a:lnTo>
                  <a:lnTo>
                    <a:pt x="222" y="150"/>
                  </a:lnTo>
                  <a:lnTo>
                    <a:pt x="248" y="137"/>
                  </a:lnTo>
                  <a:lnTo>
                    <a:pt x="260" y="125"/>
                  </a:lnTo>
                  <a:lnTo>
                    <a:pt x="280" y="100"/>
                  </a:lnTo>
                  <a:lnTo>
                    <a:pt x="305" y="87"/>
                  </a:lnTo>
                  <a:lnTo>
                    <a:pt x="330" y="75"/>
                  </a:lnTo>
                  <a:lnTo>
                    <a:pt x="349" y="69"/>
                  </a:lnTo>
                  <a:lnTo>
                    <a:pt x="362" y="56"/>
                  </a:lnTo>
                  <a:lnTo>
                    <a:pt x="368" y="44"/>
                  </a:lnTo>
                  <a:lnTo>
                    <a:pt x="356" y="38"/>
                  </a:lnTo>
                  <a:lnTo>
                    <a:pt x="330" y="31"/>
                  </a:lnTo>
                  <a:lnTo>
                    <a:pt x="318" y="25"/>
                  </a:lnTo>
                  <a:lnTo>
                    <a:pt x="318" y="13"/>
                  </a:lnTo>
                  <a:lnTo>
                    <a:pt x="34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1612520" y="6600960"/>
              <a:ext cx="463680" cy="671400"/>
            </a:xfrm>
            <a:custGeom>
              <a:avLst/>
              <a:gdLst/>
              <a:ahLst/>
              <a:rect l="l" t="t" r="r" b="b"/>
              <a:pathLst>
                <a:path w="292" h="423">
                  <a:moveTo>
                    <a:pt x="0" y="6"/>
                  </a:moveTo>
                  <a:lnTo>
                    <a:pt x="19" y="0"/>
                  </a:lnTo>
                  <a:lnTo>
                    <a:pt x="51" y="0"/>
                  </a:lnTo>
                  <a:lnTo>
                    <a:pt x="89" y="19"/>
                  </a:lnTo>
                  <a:lnTo>
                    <a:pt x="114" y="44"/>
                  </a:lnTo>
                  <a:lnTo>
                    <a:pt x="121" y="50"/>
                  </a:lnTo>
                  <a:lnTo>
                    <a:pt x="140" y="75"/>
                  </a:lnTo>
                  <a:lnTo>
                    <a:pt x="153" y="100"/>
                  </a:lnTo>
                  <a:lnTo>
                    <a:pt x="153" y="118"/>
                  </a:lnTo>
                  <a:lnTo>
                    <a:pt x="159" y="125"/>
                  </a:lnTo>
                  <a:lnTo>
                    <a:pt x="172" y="131"/>
                  </a:lnTo>
                  <a:lnTo>
                    <a:pt x="197" y="131"/>
                  </a:lnTo>
                  <a:lnTo>
                    <a:pt x="216" y="106"/>
                  </a:lnTo>
                  <a:lnTo>
                    <a:pt x="235" y="93"/>
                  </a:lnTo>
                  <a:lnTo>
                    <a:pt x="242" y="93"/>
                  </a:lnTo>
                  <a:lnTo>
                    <a:pt x="248" y="93"/>
                  </a:lnTo>
                  <a:lnTo>
                    <a:pt x="261" y="112"/>
                  </a:lnTo>
                  <a:lnTo>
                    <a:pt x="273" y="125"/>
                  </a:lnTo>
                  <a:lnTo>
                    <a:pt x="280" y="156"/>
                  </a:lnTo>
                  <a:lnTo>
                    <a:pt x="286" y="174"/>
                  </a:lnTo>
                  <a:lnTo>
                    <a:pt x="292" y="230"/>
                  </a:lnTo>
                  <a:lnTo>
                    <a:pt x="286" y="268"/>
                  </a:lnTo>
                  <a:lnTo>
                    <a:pt x="267" y="293"/>
                  </a:lnTo>
                  <a:lnTo>
                    <a:pt x="242" y="311"/>
                  </a:lnTo>
                  <a:lnTo>
                    <a:pt x="229" y="305"/>
                  </a:lnTo>
                  <a:lnTo>
                    <a:pt x="210" y="311"/>
                  </a:lnTo>
                  <a:lnTo>
                    <a:pt x="197" y="336"/>
                  </a:lnTo>
                  <a:lnTo>
                    <a:pt x="197" y="355"/>
                  </a:lnTo>
                  <a:lnTo>
                    <a:pt x="203" y="367"/>
                  </a:lnTo>
                  <a:lnTo>
                    <a:pt x="203" y="380"/>
                  </a:lnTo>
                  <a:lnTo>
                    <a:pt x="197" y="392"/>
                  </a:lnTo>
                  <a:lnTo>
                    <a:pt x="184" y="411"/>
                  </a:lnTo>
                  <a:lnTo>
                    <a:pt x="178" y="417"/>
                  </a:lnTo>
                  <a:lnTo>
                    <a:pt x="165" y="423"/>
                  </a:lnTo>
                  <a:lnTo>
                    <a:pt x="134" y="423"/>
                  </a:lnTo>
                  <a:lnTo>
                    <a:pt x="102" y="417"/>
                  </a:lnTo>
                  <a:lnTo>
                    <a:pt x="64" y="411"/>
                  </a:lnTo>
                  <a:lnTo>
                    <a:pt x="32" y="417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226120" y="6630840"/>
              <a:ext cx="2795400" cy="1946520"/>
            </a:xfrm>
            <a:custGeom>
              <a:avLst/>
              <a:gdLst/>
              <a:ahLst/>
              <a:rect l="l" t="t" r="r" b="b"/>
              <a:pathLst>
                <a:path w="1761" h="1226">
                  <a:moveTo>
                    <a:pt x="1538" y="529"/>
                  </a:moveTo>
                  <a:lnTo>
                    <a:pt x="1538" y="535"/>
                  </a:lnTo>
                  <a:lnTo>
                    <a:pt x="1538" y="541"/>
                  </a:lnTo>
                  <a:lnTo>
                    <a:pt x="1544" y="560"/>
                  </a:lnTo>
                  <a:lnTo>
                    <a:pt x="1544" y="566"/>
                  </a:lnTo>
                  <a:lnTo>
                    <a:pt x="1551" y="572"/>
                  </a:lnTo>
                  <a:lnTo>
                    <a:pt x="1564" y="579"/>
                  </a:lnTo>
                  <a:lnTo>
                    <a:pt x="1570" y="591"/>
                  </a:lnTo>
                  <a:lnTo>
                    <a:pt x="1583" y="597"/>
                  </a:lnTo>
                  <a:lnTo>
                    <a:pt x="1589" y="604"/>
                  </a:lnTo>
                  <a:lnTo>
                    <a:pt x="1595" y="610"/>
                  </a:lnTo>
                  <a:lnTo>
                    <a:pt x="1602" y="616"/>
                  </a:lnTo>
                  <a:lnTo>
                    <a:pt x="1608" y="616"/>
                  </a:lnTo>
                  <a:lnTo>
                    <a:pt x="1621" y="616"/>
                  </a:lnTo>
                  <a:lnTo>
                    <a:pt x="1627" y="610"/>
                  </a:lnTo>
                  <a:lnTo>
                    <a:pt x="1640" y="616"/>
                  </a:lnTo>
                  <a:lnTo>
                    <a:pt x="1653" y="616"/>
                  </a:lnTo>
                  <a:lnTo>
                    <a:pt x="1659" y="622"/>
                  </a:lnTo>
                  <a:lnTo>
                    <a:pt x="1665" y="622"/>
                  </a:lnTo>
                  <a:lnTo>
                    <a:pt x="1672" y="628"/>
                  </a:lnTo>
                  <a:lnTo>
                    <a:pt x="1678" y="635"/>
                  </a:lnTo>
                  <a:lnTo>
                    <a:pt x="1691" y="635"/>
                  </a:lnTo>
                  <a:lnTo>
                    <a:pt x="1697" y="641"/>
                  </a:lnTo>
                  <a:lnTo>
                    <a:pt x="1703" y="647"/>
                  </a:lnTo>
                  <a:lnTo>
                    <a:pt x="1703" y="653"/>
                  </a:lnTo>
                  <a:lnTo>
                    <a:pt x="1703" y="660"/>
                  </a:lnTo>
                  <a:lnTo>
                    <a:pt x="1703" y="672"/>
                  </a:lnTo>
                  <a:lnTo>
                    <a:pt x="1710" y="684"/>
                  </a:lnTo>
                  <a:lnTo>
                    <a:pt x="1710" y="697"/>
                  </a:lnTo>
                  <a:lnTo>
                    <a:pt x="1710" y="703"/>
                  </a:lnTo>
                  <a:lnTo>
                    <a:pt x="1716" y="716"/>
                  </a:lnTo>
                  <a:lnTo>
                    <a:pt x="1716" y="722"/>
                  </a:lnTo>
                  <a:lnTo>
                    <a:pt x="1716" y="728"/>
                  </a:lnTo>
                  <a:lnTo>
                    <a:pt x="1722" y="734"/>
                  </a:lnTo>
                  <a:lnTo>
                    <a:pt x="1735" y="740"/>
                  </a:lnTo>
                  <a:lnTo>
                    <a:pt x="1735" y="747"/>
                  </a:lnTo>
                  <a:lnTo>
                    <a:pt x="1735" y="753"/>
                  </a:lnTo>
                  <a:lnTo>
                    <a:pt x="1741" y="759"/>
                  </a:lnTo>
                  <a:lnTo>
                    <a:pt x="1748" y="765"/>
                  </a:lnTo>
                  <a:lnTo>
                    <a:pt x="1754" y="772"/>
                  </a:lnTo>
                  <a:lnTo>
                    <a:pt x="1761" y="784"/>
                  </a:lnTo>
                  <a:lnTo>
                    <a:pt x="1761" y="797"/>
                  </a:lnTo>
                  <a:lnTo>
                    <a:pt x="1748" y="784"/>
                  </a:lnTo>
                  <a:lnTo>
                    <a:pt x="1741" y="778"/>
                  </a:lnTo>
                  <a:lnTo>
                    <a:pt x="1735" y="778"/>
                  </a:lnTo>
                  <a:lnTo>
                    <a:pt x="1735" y="772"/>
                  </a:lnTo>
                  <a:lnTo>
                    <a:pt x="1729" y="772"/>
                  </a:lnTo>
                  <a:lnTo>
                    <a:pt x="1729" y="765"/>
                  </a:lnTo>
                  <a:lnTo>
                    <a:pt x="1716" y="765"/>
                  </a:lnTo>
                  <a:lnTo>
                    <a:pt x="1710" y="765"/>
                  </a:lnTo>
                  <a:lnTo>
                    <a:pt x="1703" y="772"/>
                  </a:lnTo>
                  <a:lnTo>
                    <a:pt x="1697" y="772"/>
                  </a:lnTo>
                  <a:lnTo>
                    <a:pt x="1691" y="772"/>
                  </a:lnTo>
                  <a:lnTo>
                    <a:pt x="1684" y="772"/>
                  </a:lnTo>
                  <a:lnTo>
                    <a:pt x="1684" y="784"/>
                  </a:lnTo>
                  <a:lnTo>
                    <a:pt x="1678" y="784"/>
                  </a:lnTo>
                  <a:lnTo>
                    <a:pt x="1684" y="797"/>
                  </a:lnTo>
                  <a:lnTo>
                    <a:pt x="1684" y="803"/>
                  </a:lnTo>
                  <a:lnTo>
                    <a:pt x="1672" y="809"/>
                  </a:lnTo>
                  <a:lnTo>
                    <a:pt x="1665" y="803"/>
                  </a:lnTo>
                  <a:lnTo>
                    <a:pt x="1659" y="809"/>
                  </a:lnTo>
                  <a:lnTo>
                    <a:pt x="1653" y="815"/>
                  </a:lnTo>
                  <a:lnTo>
                    <a:pt x="1646" y="809"/>
                  </a:lnTo>
                  <a:lnTo>
                    <a:pt x="1640" y="809"/>
                  </a:lnTo>
                  <a:lnTo>
                    <a:pt x="1640" y="797"/>
                  </a:lnTo>
                  <a:lnTo>
                    <a:pt x="1627" y="797"/>
                  </a:lnTo>
                  <a:lnTo>
                    <a:pt x="1621" y="790"/>
                  </a:lnTo>
                  <a:lnTo>
                    <a:pt x="1614" y="790"/>
                  </a:lnTo>
                  <a:lnTo>
                    <a:pt x="1614" y="803"/>
                  </a:lnTo>
                  <a:lnTo>
                    <a:pt x="1614" y="809"/>
                  </a:lnTo>
                  <a:lnTo>
                    <a:pt x="1608" y="809"/>
                  </a:lnTo>
                  <a:lnTo>
                    <a:pt x="1595" y="803"/>
                  </a:lnTo>
                  <a:lnTo>
                    <a:pt x="1595" y="815"/>
                  </a:lnTo>
                  <a:lnTo>
                    <a:pt x="1589" y="815"/>
                  </a:lnTo>
                  <a:lnTo>
                    <a:pt x="1576" y="809"/>
                  </a:lnTo>
                  <a:lnTo>
                    <a:pt x="1576" y="815"/>
                  </a:lnTo>
                  <a:lnTo>
                    <a:pt x="1576" y="821"/>
                  </a:lnTo>
                  <a:lnTo>
                    <a:pt x="1564" y="828"/>
                  </a:lnTo>
                  <a:lnTo>
                    <a:pt x="1557" y="828"/>
                  </a:lnTo>
                  <a:lnTo>
                    <a:pt x="1557" y="840"/>
                  </a:lnTo>
                  <a:lnTo>
                    <a:pt x="1551" y="853"/>
                  </a:lnTo>
                  <a:lnTo>
                    <a:pt x="1551" y="859"/>
                  </a:lnTo>
                  <a:lnTo>
                    <a:pt x="1557" y="865"/>
                  </a:lnTo>
                  <a:lnTo>
                    <a:pt x="1557" y="871"/>
                  </a:lnTo>
                  <a:lnTo>
                    <a:pt x="1551" y="871"/>
                  </a:lnTo>
                  <a:lnTo>
                    <a:pt x="1544" y="884"/>
                  </a:lnTo>
                  <a:lnTo>
                    <a:pt x="1538" y="884"/>
                  </a:lnTo>
                  <a:lnTo>
                    <a:pt x="1532" y="890"/>
                  </a:lnTo>
                  <a:lnTo>
                    <a:pt x="1525" y="884"/>
                  </a:lnTo>
                  <a:lnTo>
                    <a:pt x="1525" y="877"/>
                  </a:lnTo>
                  <a:lnTo>
                    <a:pt x="1519" y="877"/>
                  </a:lnTo>
                  <a:lnTo>
                    <a:pt x="1506" y="871"/>
                  </a:lnTo>
                  <a:lnTo>
                    <a:pt x="1513" y="871"/>
                  </a:lnTo>
                  <a:lnTo>
                    <a:pt x="1513" y="865"/>
                  </a:lnTo>
                  <a:lnTo>
                    <a:pt x="1506" y="865"/>
                  </a:lnTo>
                  <a:lnTo>
                    <a:pt x="1500" y="865"/>
                  </a:lnTo>
                  <a:lnTo>
                    <a:pt x="1494" y="859"/>
                  </a:lnTo>
                  <a:lnTo>
                    <a:pt x="1487" y="859"/>
                  </a:lnTo>
                  <a:lnTo>
                    <a:pt x="1494" y="871"/>
                  </a:lnTo>
                  <a:lnTo>
                    <a:pt x="1487" y="871"/>
                  </a:lnTo>
                  <a:lnTo>
                    <a:pt x="1481" y="877"/>
                  </a:lnTo>
                  <a:lnTo>
                    <a:pt x="1475" y="877"/>
                  </a:lnTo>
                  <a:lnTo>
                    <a:pt x="1475" y="890"/>
                  </a:lnTo>
                  <a:lnTo>
                    <a:pt x="1475" y="896"/>
                  </a:lnTo>
                  <a:lnTo>
                    <a:pt x="1468" y="896"/>
                  </a:lnTo>
                  <a:lnTo>
                    <a:pt x="1468" y="890"/>
                  </a:lnTo>
                  <a:lnTo>
                    <a:pt x="1462" y="890"/>
                  </a:lnTo>
                  <a:lnTo>
                    <a:pt x="1462" y="884"/>
                  </a:lnTo>
                  <a:lnTo>
                    <a:pt x="1455" y="884"/>
                  </a:lnTo>
                  <a:lnTo>
                    <a:pt x="1455" y="890"/>
                  </a:lnTo>
                  <a:lnTo>
                    <a:pt x="1455" y="896"/>
                  </a:lnTo>
                  <a:lnTo>
                    <a:pt x="1449" y="896"/>
                  </a:lnTo>
                  <a:lnTo>
                    <a:pt x="1443" y="896"/>
                  </a:lnTo>
                  <a:lnTo>
                    <a:pt x="1436" y="896"/>
                  </a:lnTo>
                  <a:lnTo>
                    <a:pt x="1436" y="909"/>
                  </a:lnTo>
                  <a:lnTo>
                    <a:pt x="1424" y="909"/>
                  </a:lnTo>
                  <a:lnTo>
                    <a:pt x="1417" y="909"/>
                  </a:lnTo>
                  <a:lnTo>
                    <a:pt x="1411" y="915"/>
                  </a:lnTo>
                  <a:lnTo>
                    <a:pt x="1405" y="909"/>
                  </a:lnTo>
                  <a:lnTo>
                    <a:pt x="1405" y="902"/>
                  </a:lnTo>
                  <a:lnTo>
                    <a:pt x="1398" y="902"/>
                  </a:lnTo>
                  <a:lnTo>
                    <a:pt x="1398" y="909"/>
                  </a:lnTo>
                  <a:lnTo>
                    <a:pt x="1398" y="915"/>
                  </a:lnTo>
                  <a:lnTo>
                    <a:pt x="1398" y="927"/>
                  </a:lnTo>
                  <a:lnTo>
                    <a:pt x="1398" y="933"/>
                  </a:lnTo>
                  <a:lnTo>
                    <a:pt x="1392" y="940"/>
                  </a:lnTo>
                  <a:lnTo>
                    <a:pt x="1386" y="940"/>
                  </a:lnTo>
                  <a:lnTo>
                    <a:pt x="1379" y="933"/>
                  </a:lnTo>
                  <a:lnTo>
                    <a:pt x="1373" y="933"/>
                  </a:lnTo>
                  <a:lnTo>
                    <a:pt x="1373" y="927"/>
                  </a:lnTo>
                  <a:lnTo>
                    <a:pt x="1367" y="927"/>
                  </a:lnTo>
                  <a:lnTo>
                    <a:pt x="1360" y="927"/>
                  </a:lnTo>
                  <a:lnTo>
                    <a:pt x="1354" y="933"/>
                  </a:lnTo>
                  <a:lnTo>
                    <a:pt x="1354" y="940"/>
                  </a:lnTo>
                  <a:lnTo>
                    <a:pt x="1360" y="946"/>
                  </a:lnTo>
                  <a:lnTo>
                    <a:pt x="1360" y="952"/>
                  </a:lnTo>
                  <a:lnTo>
                    <a:pt x="1360" y="958"/>
                  </a:lnTo>
                  <a:lnTo>
                    <a:pt x="1354" y="958"/>
                  </a:lnTo>
                  <a:lnTo>
                    <a:pt x="1354" y="965"/>
                  </a:lnTo>
                  <a:lnTo>
                    <a:pt x="1354" y="971"/>
                  </a:lnTo>
                  <a:lnTo>
                    <a:pt x="1347" y="971"/>
                  </a:lnTo>
                  <a:lnTo>
                    <a:pt x="1341" y="971"/>
                  </a:lnTo>
                  <a:lnTo>
                    <a:pt x="1335" y="971"/>
                  </a:lnTo>
                  <a:lnTo>
                    <a:pt x="1328" y="971"/>
                  </a:lnTo>
                  <a:lnTo>
                    <a:pt x="1322" y="965"/>
                  </a:lnTo>
                  <a:lnTo>
                    <a:pt x="1316" y="965"/>
                  </a:lnTo>
                  <a:lnTo>
                    <a:pt x="1309" y="971"/>
                  </a:lnTo>
                  <a:lnTo>
                    <a:pt x="1309" y="977"/>
                  </a:lnTo>
                  <a:lnTo>
                    <a:pt x="1309" y="983"/>
                  </a:lnTo>
                  <a:lnTo>
                    <a:pt x="1309" y="996"/>
                  </a:lnTo>
                  <a:lnTo>
                    <a:pt x="1303" y="996"/>
                  </a:lnTo>
                  <a:lnTo>
                    <a:pt x="1303" y="1002"/>
                  </a:lnTo>
                  <a:lnTo>
                    <a:pt x="1297" y="1008"/>
                  </a:lnTo>
                  <a:lnTo>
                    <a:pt x="1297" y="1014"/>
                  </a:lnTo>
                  <a:lnTo>
                    <a:pt x="1290" y="1014"/>
                  </a:lnTo>
                  <a:lnTo>
                    <a:pt x="1284" y="1014"/>
                  </a:lnTo>
                  <a:lnTo>
                    <a:pt x="1278" y="1027"/>
                  </a:lnTo>
                  <a:lnTo>
                    <a:pt x="1278" y="1033"/>
                  </a:lnTo>
                  <a:lnTo>
                    <a:pt x="1271" y="1033"/>
                  </a:lnTo>
                  <a:lnTo>
                    <a:pt x="1265" y="1033"/>
                  </a:lnTo>
                  <a:lnTo>
                    <a:pt x="1265" y="1039"/>
                  </a:lnTo>
                  <a:lnTo>
                    <a:pt x="1258" y="1039"/>
                  </a:lnTo>
                  <a:lnTo>
                    <a:pt x="1258" y="1045"/>
                  </a:lnTo>
                  <a:lnTo>
                    <a:pt x="1258" y="1052"/>
                  </a:lnTo>
                  <a:lnTo>
                    <a:pt x="1271" y="1052"/>
                  </a:lnTo>
                  <a:lnTo>
                    <a:pt x="1271" y="1058"/>
                  </a:lnTo>
                  <a:lnTo>
                    <a:pt x="1265" y="1058"/>
                  </a:lnTo>
                  <a:lnTo>
                    <a:pt x="1258" y="1058"/>
                  </a:lnTo>
                  <a:lnTo>
                    <a:pt x="1252" y="1058"/>
                  </a:lnTo>
                  <a:lnTo>
                    <a:pt x="1246" y="1058"/>
                  </a:lnTo>
                  <a:lnTo>
                    <a:pt x="1239" y="1064"/>
                  </a:lnTo>
                  <a:lnTo>
                    <a:pt x="1246" y="1077"/>
                  </a:lnTo>
                  <a:lnTo>
                    <a:pt x="1239" y="1077"/>
                  </a:lnTo>
                  <a:lnTo>
                    <a:pt x="1233" y="1083"/>
                  </a:lnTo>
                  <a:lnTo>
                    <a:pt x="1233" y="1102"/>
                  </a:lnTo>
                  <a:lnTo>
                    <a:pt x="1220" y="1102"/>
                  </a:lnTo>
                  <a:lnTo>
                    <a:pt x="1208" y="1095"/>
                  </a:lnTo>
                  <a:lnTo>
                    <a:pt x="1201" y="1114"/>
                  </a:lnTo>
                  <a:lnTo>
                    <a:pt x="1201" y="1102"/>
                  </a:lnTo>
                  <a:lnTo>
                    <a:pt x="1201" y="1089"/>
                  </a:lnTo>
                  <a:lnTo>
                    <a:pt x="1195" y="1089"/>
                  </a:lnTo>
                  <a:lnTo>
                    <a:pt x="1176" y="1089"/>
                  </a:lnTo>
                  <a:lnTo>
                    <a:pt x="1176" y="1102"/>
                  </a:lnTo>
                  <a:lnTo>
                    <a:pt x="1169" y="1114"/>
                  </a:lnTo>
                  <a:lnTo>
                    <a:pt x="1157" y="1114"/>
                  </a:lnTo>
                  <a:lnTo>
                    <a:pt x="1138" y="1114"/>
                  </a:lnTo>
                  <a:lnTo>
                    <a:pt x="1150" y="1095"/>
                  </a:lnTo>
                  <a:lnTo>
                    <a:pt x="1138" y="1102"/>
                  </a:lnTo>
                  <a:lnTo>
                    <a:pt x="1125" y="1089"/>
                  </a:lnTo>
                  <a:lnTo>
                    <a:pt x="1112" y="1095"/>
                  </a:lnTo>
                  <a:lnTo>
                    <a:pt x="1100" y="1102"/>
                  </a:lnTo>
                  <a:lnTo>
                    <a:pt x="1093" y="1114"/>
                  </a:lnTo>
                  <a:lnTo>
                    <a:pt x="1087" y="1126"/>
                  </a:lnTo>
                  <a:lnTo>
                    <a:pt x="1081" y="1114"/>
                  </a:lnTo>
                  <a:lnTo>
                    <a:pt x="1081" y="1102"/>
                  </a:lnTo>
                  <a:lnTo>
                    <a:pt x="1087" y="1089"/>
                  </a:lnTo>
                  <a:lnTo>
                    <a:pt x="1087" y="1077"/>
                  </a:lnTo>
                  <a:lnTo>
                    <a:pt x="1081" y="1089"/>
                  </a:lnTo>
                  <a:lnTo>
                    <a:pt x="1068" y="1102"/>
                  </a:lnTo>
                  <a:lnTo>
                    <a:pt x="1074" y="1120"/>
                  </a:lnTo>
                  <a:lnTo>
                    <a:pt x="1074" y="1133"/>
                  </a:lnTo>
                  <a:lnTo>
                    <a:pt x="1061" y="1139"/>
                  </a:lnTo>
                  <a:lnTo>
                    <a:pt x="1049" y="1139"/>
                  </a:lnTo>
                  <a:lnTo>
                    <a:pt x="1042" y="1151"/>
                  </a:lnTo>
                  <a:lnTo>
                    <a:pt x="1036" y="1164"/>
                  </a:lnTo>
                  <a:lnTo>
                    <a:pt x="1023" y="1158"/>
                  </a:lnTo>
                  <a:lnTo>
                    <a:pt x="1011" y="1151"/>
                  </a:lnTo>
                  <a:lnTo>
                    <a:pt x="1017" y="1145"/>
                  </a:lnTo>
                  <a:lnTo>
                    <a:pt x="1030" y="1133"/>
                  </a:lnTo>
                  <a:lnTo>
                    <a:pt x="1036" y="1120"/>
                  </a:lnTo>
                  <a:lnTo>
                    <a:pt x="1036" y="1114"/>
                  </a:lnTo>
                  <a:lnTo>
                    <a:pt x="1023" y="1120"/>
                  </a:lnTo>
                  <a:lnTo>
                    <a:pt x="1017" y="1133"/>
                  </a:lnTo>
                  <a:lnTo>
                    <a:pt x="1004" y="1133"/>
                  </a:lnTo>
                  <a:lnTo>
                    <a:pt x="1004" y="1139"/>
                  </a:lnTo>
                  <a:lnTo>
                    <a:pt x="992" y="1139"/>
                  </a:lnTo>
                  <a:lnTo>
                    <a:pt x="998" y="1151"/>
                  </a:lnTo>
                  <a:lnTo>
                    <a:pt x="992" y="1158"/>
                  </a:lnTo>
                  <a:lnTo>
                    <a:pt x="979" y="1164"/>
                  </a:lnTo>
                  <a:lnTo>
                    <a:pt x="992" y="1170"/>
                  </a:lnTo>
                  <a:lnTo>
                    <a:pt x="992" y="1182"/>
                  </a:lnTo>
                  <a:lnTo>
                    <a:pt x="979" y="1182"/>
                  </a:lnTo>
                  <a:lnTo>
                    <a:pt x="966" y="1182"/>
                  </a:lnTo>
                  <a:lnTo>
                    <a:pt x="953" y="1182"/>
                  </a:lnTo>
                  <a:lnTo>
                    <a:pt x="941" y="1189"/>
                  </a:lnTo>
                  <a:lnTo>
                    <a:pt x="922" y="1182"/>
                  </a:lnTo>
                  <a:lnTo>
                    <a:pt x="915" y="1195"/>
                  </a:lnTo>
                  <a:lnTo>
                    <a:pt x="903" y="1195"/>
                  </a:lnTo>
                  <a:lnTo>
                    <a:pt x="890" y="1195"/>
                  </a:lnTo>
                  <a:lnTo>
                    <a:pt x="883" y="1176"/>
                  </a:lnTo>
                  <a:lnTo>
                    <a:pt x="871" y="1170"/>
                  </a:lnTo>
                  <a:lnTo>
                    <a:pt x="852" y="1170"/>
                  </a:lnTo>
                  <a:lnTo>
                    <a:pt x="845" y="1158"/>
                  </a:lnTo>
                  <a:lnTo>
                    <a:pt x="852" y="1145"/>
                  </a:lnTo>
                  <a:lnTo>
                    <a:pt x="864" y="1139"/>
                  </a:lnTo>
                  <a:lnTo>
                    <a:pt x="871" y="1120"/>
                  </a:lnTo>
                  <a:lnTo>
                    <a:pt x="883" y="1114"/>
                  </a:lnTo>
                  <a:lnTo>
                    <a:pt x="883" y="1095"/>
                  </a:lnTo>
                  <a:lnTo>
                    <a:pt x="871" y="1083"/>
                  </a:lnTo>
                  <a:lnTo>
                    <a:pt x="852" y="1077"/>
                  </a:lnTo>
                  <a:lnTo>
                    <a:pt x="839" y="1083"/>
                  </a:lnTo>
                  <a:lnTo>
                    <a:pt x="826" y="1102"/>
                  </a:lnTo>
                  <a:lnTo>
                    <a:pt x="820" y="1120"/>
                  </a:lnTo>
                  <a:lnTo>
                    <a:pt x="814" y="1133"/>
                  </a:lnTo>
                  <a:lnTo>
                    <a:pt x="807" y="1145"/>
                  </a:lnTo>
                  <a:lnTo>
                    <a:pt x="801" y="1158"/>
                  </a:lnTo>
                  <a:lnTo>
                    <a:pt x="814" y="1164"/>
                  </a:lnTo>
                  <a:lnTo>
                    <a:pt x="814" y="1176"/>
                  </a:lnTo>
                  <a:lnTo>
                    <a:pt x="801" y="1182"/>
                  </a:lnTo>
                  <a:lnTo>
                    <a:pt x="795" y="1195"/>
                  </a:lnTo>
                  <a:lnTo>
                    <a:pt x="782" y="1201"/>
                  </a:lnTo>
                  <a:lnTo>
                    <a:pt x="769" y="1195"/>
                  </a:lnTo>
                  <a:lnTo>
                    <a:pt x="763" y="1189"/>
                  </a:lnTo>
                  <a:lnTo>
                    <a:pt x="744" y="1182"/>
                  </a:lnTo>
                  <a:lnTo>
                    <a:pt x="731" y="1189"/>
                  </a:lnTo>
                  <a:lnTo>
                    <a:pt x="725" y="1195"/>
                  </a:lnTo>
                  <a:lnTo>
                    <a:pt x="706" y="1201"/>
                  </a:lnTo>
                  <a:lnTo>
                    <a:pt x="693" y="1201"/>
                  </a:lnTo>
                  <a:lnTo>
                    <a:pt x="680" y="1201"/>
                  </a:lnTo>
                  <a:lnTo>
                    <a:pt x="667" y="1214"/>
                  </a:lnTo>
                  <a:lnTo>
                    <a:pt x="661" y="1220"/>
                  </a:lnTo>
                  <a:lnTo>
                    <a:pt x="648" y="1226"/>
                  </a:lnTo>
                  <a:lnTo>
                    <a:pt x="636" y="1214"/>
                  </a:lnTo>
                  <a:lnTo>
                    <a:pt x="629" y="1201"/>
                  </a:lnTo>
                  <a:lnTo>
                    <a:pt x="617" y="1201"/>
                  </a:lnTo>
                  <a:lnTo>
                    <a:pt x="604" y="1195"/>
                  </a:lnTo>
                  <a:lnTo>
                    <a:pt x="591" y="1189"/>
                  </a:lnTo>
                  <a:lnTo>
                    <a:pt x="578" y="1182"/>
                  </a:lnTo>
                  <a:lnTo>
                    <a:pt x="566" y="1182"/>
                  </a:lnTo>
                  <a:lnTo>
                    <a:pt x="553" y="1176"/>
                  </a:lnTo>
                  <a:lnTo>
                    <a:pt x="547" y="1176"/>
                  </a:lnTo>
                  <a:lnTo>
                    <a:pt x="534" y="1176"/>
                  </a:lnTo>
                  <a:lnTo>
                    <a:pt x="528" y="1182"/>
                  </a:lnTo>
                  <a:lnTo>
                    <a:pt x="515" y="1207"/>
                  </a:lnTo>
                  <a:lnTo>
                    <a:pt x="502" y="1214"/>
                  </a:lnTo>
                  <a:lnTo>
                    <a:pt x="489" y="1207"/>
                  </a:lnTo>
                  <a:lnTo>
                    <a:pt x="477" y="1195"/>
                  </a:lnTo>
                  <a:lnTo>
                    <a:pt x="477" y="1182"/>
                  </a:lnTo>
                  <a:lnTo>
                    <a:pt x="477" y="1164"/>
                  </a:lnTo>
                  <a:lnTo>
                    <a:pt x="464" y="1164"/>
                  </a:lnTo>
                  <a:lnTo>
                    <a:pt x="451" y="1151"/>
                  </a:lnTo>
                  <a:lnTo>
                    <a:pt x="451" y="1145"/>
                  </a:lnTo>
                  <a:lnTo>
                    <a:pt x="458" y="1139"/>
                  </a:lnTo>
                  <a:lnTo>
                    <a:pt x="451" y="1120"/>
                  </a:lnTo>
                  <a:lnTo>
                    <a:pt x="432" y="1114"/>
                  </a:lnTo>
                  <a:lnTo>
                    <a:pt x="413" y="1108"/>
                  </a:lnTo>
                  <a:lnTo>
                    <a:pt x="388" y="1114"/>
                  </a:lnTo>
                  <a:lnTo>
                    <a:pt x="375" y="1102"/>
                  </a:lnTo>
                  <a:lnTo>
                    <a:pt x="369" y="1083"/>
                  </a:lnTo>
                  <a:lnTo>
                    <a:pt x="362" y="1070"/>
                  </a:lnTo>
                  <a:lnTo>
                    <a:pt x="356" y="1058"/>
                  </a:lnTo>
                  <a:lnTo>
                    <a:pt x="343" y="1052"/>
                  </a:lnTo>
                  <a:lnTo>
                    <a:pt x="324" y="1052"/>
                  </a:lnTo>
                  <a:lnTo>
                    <a:pt x="312" y="1039"/>
                  </a:lnTo>
                  <a:lnTo>
                    <a:pt x="312" y="1027"/>
                  </a:lnTo>
                  <a:lnTo>
                    <a:pt x="299" y="1014"/>
                  </a:lnTo>
                  <a:lnTo>
                    <a:pt x="292" y="1002"/>
                  </a:lnTo>
                  <a:lnTo>
                    <a:pt x="292" y="989"/>
                  </a:lnTo>
                  <a:lnTo>
                    <a:pt x="292" y="977"/>
                  </a:lnTo>
                  <a:lnTo>
                    <a:pt x="299" y="965"/>
                  </a:lnTo>
                  <a:lnTo>
                    <a:pt x="305" y="958"/>
                  </a:lnTo>
                  <a:lnTo>
                    <a:pt x="312" y="940"/>
                  </a:lnTo>
                  <a:lnTo>
                    <a:pt x="324" y="933"/>
                  </a:lnTo>
                  <a:lnTo>
                    <a:pt x="331" y="927"/>
                  </a:lnTo>
                  <a:lnTo>
                    <a:pt x="343" y="927"/>
                  </a:lnTo>
                  <a:lnTo>
                    <a:pt x="356" y="921"/>
                  </a:lnTo>
                  <a:lnTo>
                    <a:pt x="350" y="909"/>
                  </a:lnTo>
                  <a:lnTo>
                    <a:pt x="343" y="896"/>
                  </a:lnTo>
                  <a:lnTo>
                    <a:pt x="343" y="902"/>
                  </a:lnTo>
                  <a:lnTo>
                    <a:pt x="324" y="902"/>
                  </a:lnTo>
                  <a:lnTo>
                    <a:pt x="312" y="896"/>
                  </a:lnTo>
                  <a:lnTo>
                    <a:pt x="312" y="877"/>
                  </a:lnTo>
                  <a:lnTo>
                    <a:pt x="299" y="871"/>
                  </a:lnTo>
                  <a:lnTo>
                    <a:pt x="286" y="865"/>
                  </a:lnTo>
                  <a:lnTo>
                    <a:pt x="273" y="865"/>
                  </a:lnTo>
                  <a:lnTo>
                    <a:pt x="267" y="877"/>
                  </a:lnTo>
                  <a:lnTo>
                    <a:pt x="261" y="890"/>
                  </a:lnTo>
                  <a:lnTo>
                    <a:pt x="248" y="890"/>
                  </a:lnTo>
                  <a:lnTo>
                    <a:pt x="242" y="877"/>
                  </a:lnTo>
                  <a:lnTo>
                    <a:pt x="223" y="871"/>
                  </a:lnTo>
                  <a:lnTo>
                    <a:pt x="210" y="853"/>
                  </a:lnTo>
                  <a:lnTo>
                    <a:pt x="223" y="840"/>
                  </a:lnTo>
                  <a:lnTo>
                    <a:pt x="235" y="840"/>
                  </a:lnTo>
                  <a:lnTo>
                    <a:pt x="248" y="834"/>
                  </a:lnTo>
                  <a:lnTo>
                    <a:pt x="235" y="828"/>
                  </a:lnTo>
                  <a:lnTo>
                    <a:pt x="223" y="828"/>
                  </a:lnTo>
                  <a:lnTo>
                    <a:pt x="210" y="828"/>
                  </a:lnTo>
                  <a:lnTo>
                    <a:pt x="203" y="846"/>
                  </a:lnTo>
                  <a:lnTo>
                    <a:pt x="191" y="859"/>
                  </a:lnTo>
                  <a:lnTo>
                    <a:pt x="178" y="846"/>
                  </a:lnTo>
                  <a:lnTo>
                    <a:pt x="178" y="834"/>
                  </a:lnTo>
                  <a:lnTo>
                    <a:pt x="165" y="828"/>
                  </a:lnTo>
                  <a:lnTo>
                    <a:pt x="159" y="821"/>
                  </a:lnTo>
                  <a:lnTo>
                    <a:pt x="146" y="815"/>
                  </a:lnTo>
                  <a:lnTo>
                    <a:pt x="134" y="815"/>
                  </a:lnTo>
                  <a:lnTo>
                    <a:pt x="121" y="809"/>
                  </a:lnTo>
                  <a:lnTo>
                    <a:pt x="108" y="821"/>
                  </a:lnTo>
                  <a:lnTo>
                    <a:pt x="95" y="821"/>
                  </a:lnTo>
                  <a:lnTo>
                    <a:pt x="102" y="815"/>
                  </a:lnTo>
                  <a:lnTo>
                    <a:pt x="108" y="803"/>
                  </a:lnTo>
                  <a:lnTo>
                    <a:pt x="121" y="784"/>
                  </a:lnTo>
                  <a:lnTo>
                    <a:pt x="114" y="772"/>
                  </a:lnTo>
                  <a:lnTo>
                    <a:pt x="102" y="772"/>
                  </a:lnTo>
                  <a:lnTo>
                    <a:pt x="89" y="778"/>
                  </a:lnTo>
                  <a:lnTo>
                    <a:pt x="76" y="784"/>
                  </a:lnTo>
                  <a:lnTo>
                    <a:pt x="64" y="790"/>
                  </a:lnTo>
                  <a:lnTo>
                    <a:pt x="57" y="803"/>
                  </a:lnTo>
                  <a:lnTo>
                    <a:pt x="45" y="809"/>
                  </a:lnTo>
                  <a:lnTo>
                    <a:pt x="38" y="797"/>
                  </a:lnTo>
                  <a:lnTo>
                    <a:pt x="38" y="784"/>
                  </a:lnTo>
                  <a:lnTo>
                    <a:pt x="51" y="765"/>
                  </a:lnTo>
                  <a:lnTo>
                    <a:pt x="38" y="772"/>
                  </a:lnTo>
                  <a:lnTo>
                    <a:pt x="32" y="784"/>
                  </a:lnTo>
                  <a:lnTo>
                    <a:pt x="19" y="790"/>
                  </a:lnTo>
                  <a:lnTo>
                    <a:pt x="13" y="778"/>
                  </a:lnTo>
                  <a:lnTo>
                    <a:pt x="0" y="772"/>
                  </a:lnTo>
                  <a:lnTo>
                    <a:pt x="0" y="759"/>
                  </a:lnTo>
                  <a:lnTo>
                    <a:pt x="6" y="753"/>
                  </a:lnTo>
                  <a:lnTo>
                    <a:pt x="19" y="759"/>
                  </a:lnTo>
                  <a:lnTo>
                    <a:pt x="32" y="759"/>
                  </a:lnTo>
                  <a:lnTo>
                    <a:pt x="45" y="753"/>
                  </a:lnTo>
                  <a:lnTo>
                    <a:pt x="51" y="740"/>
                  </a:lnTo>
                  <a:lnTo>
                    <a:pt x="64" y="734"/>
                  </a:lnTo>
                  <a:lnTo>
                    <a:pt x="76" y="740"/>
                  </a:lnTo>
                  <a:lnTo>
                    <a:pt x="83" y="747"/>
                  </a:lnTo>
                  <a:lnTo>
                    <a:pt x="76" y="753"/>
                  </a:lnTo>
                  <a:lnTo>
                    <a:pt x="70" y="765"/>
                  </a:lnTo>
                  <a:lnTo>
                    <a:pt x="83" y="759"/>
                  </a:lnTo>
                  <a:lnTo>
                    <a:pt x="89" y="753"/>
                  </a:lnTo>
                  <a:lnTo>
                    <a:pt x="108" y="753"/>
                  </a:lnTo>
                  <a:lnTo>
                    <a:pt x="114" y="740"/>
                  </a:lnTo>
                  <a:lnTo>
                    <a:pt x="127" y="747"/>
                  </a:lnTo>
                  <a:lnTo>
                    <a:pt x="140" y="753"/>
                  </a:lnTo>
                  <a:lnTo>
                    <a:pt x="153" y="753"/>
                  </a:lnTo>
                  <a:lnTo>
                    <a:pt x="140" y="740"/>
                  </a:lnTo>
                  <a:lnTo>
                    <a:pt x="127" y="734"/>
                  </a:lnTo>
                  <a:lnTo>
                    <a:pt x="121" y="722"/>
                  </a:lnTo>
                  <a:lnTo>
                    <a:pt x="121" y="709"/>
                  </a:lnTo>
                  <a:lnTo>
                    <a:pt x="121" y="697"/>
                  </a:lnTo>
                  <a:lnTo>
                    <a:pt x="134" y="697"/>
                  </a:lnTo>
                  <a:lnTo>
                    <a:pt x="146" y="703"/>
                  </a:lnTo>
                  <a:lnTo>
                    <a:pt x="153" y="691"/>
                  </a:lnTo>
                  <a:lnTo>
                    <a:pt x="165" y="684"/>
                  </a:lnTo>
                  <a:lnTo>
                    <a:pt x="178" y="684"/>
                  </a:lnTo>
                  <a:lnTo>
                    <a:pt x="172" y="678"/>
                  </a:lnTo>
                  <a:lnTo>
                    <a:pt x="159" y="684"/>
                  </a:lnTo>
                  <a:lnTo>
                    <a:pt x="146" y="678"/>
                  </a:lnTo>
                  <a:lnTo>
                    <a:pt x="153" y="666"/>
                  </a:lnTo>
                  <a:lnTo>
                    <a:pt x="159" y="653"/>
                  </a:lnTo>
                  <a:lnTo>
                    <a:pt x="172" y="647"/>
                  </a:lnTo>
                  <a:lnTo>
                    <a:pt x="178" y="641"/>
                  </a:lnTo>
                  <a:lnTo>
                    <a:pt x="191" y="647"/>
                  </a:lnTo>
                  <a:lnTo>
                    <a:pt x="184" y="635"/>
                  </a:lnTo>
                  <a:lnTo>
                    <a:pt x="197" y="628"/>
                  </a:lnTo>
                  <a:lnTo>
                    <a:pt x="203" y="628"/>
                  </a:lnTo>
                  <a:lnTo>
                    <a:pt x="210" y="622"/>
                  </a:lnTo>
                  <a:lnTo>
                    <a:pt x="197" y="616"/>
                  </a:lnTo>
                  <a:lnTo>
                    <a:pt x="191" y="610"/>
                  </a:lnTo>
                  <a:lnTo>
                    <a:pt x="203" y="610"/>
                  </a:lnTo>
                  <a:lnTo>
                    <a:pt x="210" y="604"/>
                  </a:lnTo>
                  <a:lnTo>
                    <a:pt x="216" y="591"/>
                  </a:lnTo>
                  <a:lnTo>
                    <a:pt x="216" y="585"/>
                  </a:lnTo>
                  <a:lnTo>
                    <a:pt x="210" y="585"/>
                  </a:lnTo>
                  <a:lnTo>
                    <a:pt x="203" y="585"/>
                  </a:lnTo>
                  <a:lnTo>
                    <a:pt x="197" y="579"/>
                  </a:lnTo>
                  <a:lnTo>
                    <a:pt x="197" y="572"/>
                  </a:lnTo>
                  <a:lnTo>
                    <a:pt x="197" y="566"/>
                  </a:lnTo>
                  <a:lnTo>
                    <a:pt x="203" y="566"/>
                  </a:lnTo>
                  <a:lnTo>
                    <a:pt x="210" y="572"/>
                  </a:lnTo>
                  <a:lnTo>
                    <a:pt x="210" y="566"/>
                  </a:lnTo>
                  <a:lnTo>
                    <a:pt x="210" y="560"/>
                  </a:lnTo>
                  <a:lnTo>
                    <a:pt x="210" y="548"/>
                  </a:lnTo>
                  <a:lnTo>
                    <a:pt x="210" y="541"/>
                  </a:lnTo>
                  <a:lnTo>
                    <a:pt x="216" y="541"/>
                  </a:lnTo>
                  <a:lnTo>
                    <a:pt x="223" y="541"/>
                  </a:lnTo>
                  <a:lnTo>
                    <a:pt x="229" y="541"/>
                  </a:lnTo>
                  <a:lnTo>
                    <a:pt x="229" y="535"/>
                  </a:lnTo>
                  <a:lnTo>
                    <a:pt x="223" y="529"/>
                  </a:lnTo>
                  <a:lnTo>
                    <a:pt x="223" y="523"/>
                  </a:lnTo>
                  <a:lnTo>
                    <a:pt x="229" y="529"/>
                  </a:lnTo>
                  <a:lnTo>
                    <a:pt x="235" y="523"/>
                  </a:lnTo>
                  <a:lnTo>
                    <a:pt x="242" y="523"/>
                  </a:lnTo>
                  <a:lnTo>
                    <a:pt x="248" y="523"/>
                  </a:lnTo>
                  <a:lnTo>
                    <a:pt x="242" y="529"/>
                  </a:lnTo>
                  <a:lnTo>
                    <a:pt x="248" y="535"/>
                  </a:lnTo>
                  <a:lnTo>
                    <a:pt x="254" y="535"/>
                  </a:lnTo>
                  <a:lnTo>
                    <a:pt x="261" y="535"/>
                  </a:lnTo>
                  <a:lnTo>
                    <a:pt x="261" y="529"/>
                  </a:lnTo>
                  <a:lnTo>
                    <a:pt x="261" y="523"/>
                  </a:lnTo>
                  <a:lnTo>
                    <a:pt x="254" y="516"/>
                  </a:lnTo>
                  <a:lnTo>
                    <a:pt x="261" y="510"/>
                  </a:lnTo>
                  <a:lnTo>
                    <a:pt x="261" y="516"/>
                  </a:lnTo>
                  <a:lnTo>
                    <a:pt x="267" y="516"/>
                  </a:lnTo>
                  <a:lnTo>
                    <a:pt x="273" y="516"/>
                  </a:lnTo>
                  <a:lnTo>
                    <a:pt x="280" y="516"/>
                  </a:lnTo>
                  <a:lnTo>
                    <a:pt x="280" y="510"/>
                  </a:lnTo>
                  <a:lnTo>
                    <a:pt x="280" y="504"/>
                  </a:lnTo>
                  <a:lnTo>
                    <a:pt x="280" y="498"/>
                  </a:lnTo>
                  <a:lnTo>
                    <a:pt x="286" y="498"/>
                  </a:lnTo>
                  <a:lnTo>
                    <a:pt x="286" y="504"/>
                  </a:lnTo>
                  <a:lnTo>
                    <a:pt x="286" y="510"/>
                  </a:lnTo>
                  <a:lnTo>
                    <a:pt x="292" y="510"/>
                  </a:lnTo>
                  <a:lnTo>
                    <a:pt x="292" y="504"/>
                  </a:lnTo>
                  <a:lnTo>
                    <a:pt x="299" y="504"/>
                  </a:lnTo>
                  <a:lnTo>
                    <a:pt x="292" y="498"/>
                  </a:lnTo>
                  <a:lnTo>
                    <a:pt x="292" y="491"/>
                  </a:lnTo>
                  <a:lnTo>
                    <a:pt x="299" y="491"/>
                  </a:lnTo>
                  <a:lnTo>
                    <a:pt x="305" y="485"/>
                  </a:lnTo>
                  <a:lnTo>
                    <a:pt x="305" y="491"/>
                  </a:lnTo>
                  <a:lnTo>
                    <a:pt x="312" y="491"/>
                  </a:lnTo>
                  <a:lnTo>
                    <a:pt x="318" y="491"/>
                  </a:lnTo>
                  <a:lnTo>
                    <a:pt x="324" y="491"/>
                  </a:lnTo>
                  <a:lnTo>
                    <a:pt x="331" y="504"/>
                  </a:lnTo>
                  <a:lnTo>
                    <a:pt x="337" y="504"/>
                  </a:lnTo>
                  <a:lnTo>
                    <a:pt x="343" y="504"/>
                  </a:lnTo>
                  <a:lnTo>
                    <a:pt x="337" y="498"/>
                  </a:lnTo>
                  <a:lnTo>
                    <a:pt x="337" y="491"/>
                  </a:lnTo>
                  <a:lnTo>
                    <a:pt x="337" y="485"/>
                  </a:lnTo>
                  <a:lnTo>
                    <a:pt x="343" y="485"/>
                  </a:lnTo>
                  <a:lnTo>
                    <a:pt x="350" y="485"/>
                  </a:lnTo>
                  <a:lnTo>
                    <a:pt x="350" y="479"/>
                  </a:lnTo>
                  <a:lnTo>
                    <a:pt x="350" y="473"/>
                  </a:lnTo>
                  <a:lnTo>
                    <a:pt x="343" y="473"/>
                  </a:lnTo>
                  <a:lnTo>
                    <a:pt x="343" y="467"/>
                  </a:lnTo>
                  <a:lnTo>
                    <a:pt x="350" y="460"/>
                  </a:lnTo>
                  <a:lnTo>
                    <a:pt x="356" y="454"/>
                  </a:lnTo>
                  <a:lnTo>
                    <a:pt x="356" y="460"/>
                  </a:lnTo>
                  <a:lnTo>
                    <a:pt x="356" y="467"/>
                  </a:lnTo>
                  <a:lnTo>
                    <a:pt x="362" y="467"/>
                  </a:lnTo>
                  <a:lnTo>
                    <a:pt x="369" y="460"/>
                  </a:lnTo>
                  <a:lnTo>
                    <a:pt x="375" y="460"/>
                  </a:lnTo>
                  <a:lnTo>
                    <a:pt x="375" y="454"/>
                  </a:lnTo>
                  <a:lnTo>
                    <a:pt x="375" y="448"/>
                  </a:lnTo>
                  <a:lnTo>
                    <a:pt x="369" y="448"/>
                  </a:lnTo>
                  <a:lnTo>
                    <a:pt x="369" y="442"/>
                  </a:lnTo>
                  <a:lnTo>
                    <a:pt x="369" y="435"/>
                  </a:lnTo>
                  <a:lnTo>
                    <a:pt x="375" y="435"/>
                  </a:lnTo>
                  <a:lnTo>
                    <a:pt x="375" y="442"/>
                  </a:lnTo>
                  <a:lnTo>
                    <a:pt x="375" y="448"/>
                  </a:lnTo>
                  <a:lnTo>
                    <a:pt x="381" y="448"/>
                  </a:lnTo>
                  <a:lnTo>
                    <a:pt x="388" y="448"/>
                  </a:lnTo>
                  <a:lnTo>
                    <a:pt x="388" y="442"/>
                  </a:lnTo>
                  <a:lnTo>
                    <a:pt x="394" y="442"/>
                  </a:lnTo>
                  <a:lnTo>
                    <a:pt x="400" y="442"/>
                  </a:lnTo>
                  <a:lnTo>
                    <a:pt x="400" y="429"/>
                  </a:lnTo>
                  <a:lnTo>
                    <a:pt x="400" y="423"/>
                  </a:lnTo>
                  <a:lnTo>
                    <a:pt x="400" y="417"/>
                  </a:lnTo>
                  <a:lnTo>
                    <a:pt x="407" y="417"/>
                  </a:lnTo>
                  <a:lnTo>
                    <a:pt x="413" y="417"/>
                  </a:lnTo>
                  <a:lnTo>
                    <a:pt x="413" y="411"/>
                  </a:lnTo>
                  <a:lnTo>
                    <a:pt x="413" y="404"/>
                  </a:lnTo>
                  <a:lnTo>
                    <a:pt x="413" y="398"/>
                  </a:lnTo>
                  <a:lnTo>
                    <a:pt x="420" y="404"/>
                  </a:lnTo>
                  <a:lnTo>
                    <a:pt x="426" y="404"/>
                  </a:lnTo>
                  <a:lnTo>
                    <a:pt x="426" y="398"/>
                  </a:lnTo>
                  <a:lnTo>
                    <a:pt x="432" y="398"/>
                  </a:lnTo>
                  <a:lnTo>
                    <a:pt x="439" y="398"/>
                  </a:lnTo>
                  <a:lnTo>
                    <a:pt x="445" y="398"/>
                  </a:lnTo>
                  <a:lnTo>
                    <a:pt x="445" y="392"/>
                  </a:lnTo>
                  <a:lnTo>
                    <a:pt x="445" y="386"/>
                  </a:lnTo>
                  <a:lnTo>
                    <a:pt x="451" y="392"/>
                  </a:lnTo>
                  <a:lnTo>
                    <a:pt x="458" y="386"/>
                  </a:lnTo>
                  <a:lnTo>
                    <a:pt x="458" y="379"/>
                  </a:lnTo>
                  <a:lnTo>
                    <a:pt x="458" y="373"/>
                  </a:lnTo>
                  <a:lnTo>
                    <a:pt x="458" y="367"/>
                  </a:lnTo>
                  <a:lnTo>
                    <a:pt x="464" y="373"/>
                  </a:lnTo>
                  <a:lnTo>
                    <a:pt x="470" y="373"/>
                  </a:lnTo>
                  <a:lnTo>
                    <a:pt x="470" y="367"/>
                  </a:lnTo>
                  <a:lnTo>
                    <a:pt x="477" y="361"/>
                  </a:lnTo>
                  <a:lnTo>
                    <a:pt x="470" y="361"/>
                  </a:lnTo>
                  <a:lnTo>
                    <a:pt x="470" y="355"/>
                  </a:lnTo>
                  <a:lnTo>
                    <a:pt x="464" y="348"/>
                  </a:lnTo>
                  <a:lnTo>
                    <a:pt x="470" y="348"/>
                  </a:lnTo>
                  <a:lnTo>
                    <a:pt x="470" y="342"/>
                  </a:lnTo>
                  <a:lnTo>
                    <a:pt x="470" y="336"/>
                  </a:lnTo>
                  <a:lnTo>
                    <a:pt x="464" y="336"/>
                  </a:lnTo>
                  <a:lnTo>
                    <a:pt x="458" y="330"/>
                  </a:lnTo>
                  <a:lnTo>
                    <a:pt x="458" y="323"/>
                  </a:lnTo>
                  <a:lnTo>
                    <a:pt x="464" y="323"/>
                  </a:lnTo>
                  <a:lnTo>
                    <a:pt x="464" y="317"/>
                  </a:lnTo>
                  <a:lnTo>
                    <a:pt x="464" y="311"/>
                  </a:lnTo>
                  <a:lnTo>
                    <a:pt x="470" y="311"/>
                  </a:lnTo>
                  <a:lnTo>
                    <a:pt x="470" y="305"/>
                  </a:lnTo>
                  <a:lnTo>
                    <a:pt x="470" y="299"/>
                  </a:lnTo>
                  <a:lnTo>
                    <a:pt x="477" y="299"/>
                  </a:lnTo>
                  <a:lnTo>
                    <a:pt x="477" y="292"/>
                  </a:lnTo>
                  <a:lnTo>
                    <a:pt x="483" y="292"/>
                  </a:lnTo>
                  <a:lnTo>
                    <a:pt x="489" y="292"/>
                  </a:lnTo>
                  <a:lnTo>
                    <a:pt x="489" y="299"/>
                  </a:lnTo>
                  <a:lnTo>
                    <a:pt x="496" y="299"/>
                  </a:lnTo>
                  <a:lnTo>
                    <a:pt x="502" y="305"/>
                  </a:lnTo>
                  <a:lnTo>
                    <a:pt x="502" y="299"/>
                  </a:lnTo>
                  <a:lnTo>
                    <a:pt x="502" y="292"/>
                  </a:lnTo>
                  <a:lnTo>
                    <a:pt x="496" y="292"/>
                  </a:lnTo>
                  <a:lnTo>
                    <a:pt x="489" y="286"/>
                  </a:lnTo>
                  <a:lnTo>
                    <a:pt x="496" y="286"/>
                  </a:lnTo>
                  <a:lnTo>
                    <a:pt x="496" y="280"/>
                  </a:lnTo>
                  <a:lnTo>
                    <a:pt x="502" y="286"/>
                  </a:lnTo>
                  <a:lnTo>
                    <a:pt x="509" y="292"/>
                  </a:lnTo>
                  <a:lnTo>
                    <a:pt x="509" y="286"/>
                  </a:lnTo>
                  <a:lnTo>
                    <a:pt x="509" y="280"/>
                  </a:lnTo>
                  <a:lnTo>
                    <a:pt x="515" y="274"/>
                  </a:lnTo>
                  <a:lnTo>
                    <a:pt x="515" y="280"/>
                  </a:lnTo>
                  <a:lnTo>
                    <a:pt x="521" y="286"/>
                  </a:lnTo>
                  <a:lnTo>
                    <a:pt x="521" y="299"/>
                  </a:lnTo>
                  <a:lnTo>
                    <a:pt x="528" y="299"/>
                  </a:lnTo>
                  <a:lnTo>
                    <a:pt x="528" y="292"/>
                  </a:lnTo>
                  <a:lnTo>
                    <a:pt x="540" y="292"/>
                  </a:lnTo>
                  <a:lnTo>
                    <a:pt x="540" y="299"/>
                  </a:lnTo>
                  <a:lnTo>
                    <a:pt x="547" y="299"/>
                  </a:lnTo>
                  <a:lnTo>
                    <a:pt x="553" y="299"/>
                  </a:lnTo>
                  <a:lnTo>
                    <a:pt x="559" y="299"/>
                  </a:lnTo>
                  <a:lnTo>
                    <a:pt x="559" y="292"/>
                  </a:lnTo>
                  <a:lnTo>
                    <a:pt x="559" y="286"/>
                  </a:lnTo>
                  <a:lnTo>
                    <a:pt x="566" y="286"/>
                  </a:lnTo>
                  <a:lnTo>
                    <a:pt x="566" y="292"/>
                  </a:lnTo>
                  <a:lnTo>
                    <a:pt x="566" y="299"/>
                  </a:lnTo>
                  <a:lnTo>
                    <a:pt x="572" y="299"/>
                  </a:lnTo>
                  <a:lnTo>
                    <a:pt x="578" y="299"/>
                  </a:lnTo>
                  <a:lnTo>
                    <a:pt x="572" y="292"/>
                  </a:lnTo>
                  <a:lnTo>
                    <a:pt x="572" y="286"/>
                  </a:lnTo>
                  <a:lnTo>
                    <a:pt x="578" y="286"/>
                  </a:lnTo>
                  <a:lnTo>
                    <a:pt x="585" y="292"/>
                  </a:lnTo>
                  <a:lnTo>
                    <a:pt x="591" y="286"/>
                  </a:lnTo>
                  <a:lnTo>
                    <a:pt x="598" y="286"/>
                  </a:lnTo>
                  <a:lnTo>
                    <a:pt x="598" y="280"/>
                  </a:lnTo>
                  <a:lnTo>
                    <a:pt x="604" y="274"/>
                  </a:lnTo>
                  <a:lnTo>
                    <a:pt x="598" y="267"/>
                  </a:lnTo>
                  <a:lnTo>
                    <a:pt x="598" y="261"/>
                  </a:lnTo>
                  <a:lnTo>
                    <a:pt x="604" y="261"/>
                  </a:lnTo>
                  <a:lnTo>
                    <a:pt x="610" y="261"/>
                  </a:lnTo>
                  <a:lnTo>
                    <a:pt x="610" y="255"/>
                  </a:lnTo>
                  <a:lnTo>
                    <a:pt x="617" y="255"/>
                  </a:lnTo>
                  <a:lnTo>
                    <a:pt x="617" y="261"/>
                  </a:lnTo>
                  <a:lnTo>
                    <a:pt x="623" y="261"/>
                  </a:lnTo>
                  <a:lnTo>
                    <a:pt x="629" y="261"/>
                  </a:lnTo>
                  <a:lnTo>
                    <a:pt x="636" y="261"/>
                  </a:lnTo>
                  <a:lnTo>
                    <a:pt x="636" y="255"/>
                  </a:lnTo>
                  <a:lnTo>
                    <a:pt x="636" y="243"/>
                  </a:lnTo>
                  <a:lnTo>
                    <a:pt x="636" y="236"/>
                  </a:lnTo>
                  <a:lnTo>
                    <a:pt x="629" y="230"/>
                  </a:lnTo>
                  <a:lnTo>
                    <a:pt x="636" y="224"/>
                  </a:lnTo>
                  <a:lnTo>
                    <a:pt x="636" y="218"/>
                  </a:lnTo>
                  <a:lnTo>
                    <a:pt x="642" y="193"/>
                  </a:lnTo>
                  <a:lnTo>
                    <a:pt x="642" y="174"/>
                  </a:lnTo>
                  <a:lnTo>
                    <a:pt x="642" y="162"/>
                  </a:lnTo>
                  <a:lnTo>
                    <a:pt x="636" y="149"/>
                  </a:lnTo>
                  <a:lnTo>
                    <a:pt x="636" y="143"/>
                  </a:lnTo>
                  <a:lnTo>
                    <a:pt x="629" y="130"/>
                  </a:lnTo>
                  <a:lnTo>
                    <a:pt x="629" y="124"/>
                  </a:lnTo>
                  <a:lnTo>
                    <a:pt x="636" y="118"/>
                  </a:lnTo>
                  <a:lnTo>
                    <a:pt x="642" y="99"/>
                  </a:lnTo>
                  <a:lnTo>
                    <a:pt x="648" y="99"/>
                  </a:lnTo>
                  <a:lnTo>
                    <a:pt x="655" y="99"/>
                  </a:lnTo>
                  <a:lnTo>
                    <a:pt x="661" y="106"/>
                  </a:lnTo>
                  <a:lnTo>
                    <a:pt x="667" y="106"/>
                  </a:lnTo>
                  <a:lnTo>
                    <a:pt x="674" y="106"/>
                  </a:lnTo>
                  <a:lnTo>
                    <a:pt x="680" y="106"/>
                  </a:lnTo>
                  <a:lnTo>
                    <a:pt x="686" y="112"/>
                  </a:lnTo>
                  <a:lnTo>
                    <a:pt x="693" y="112"/>
                  </a:lnTo>
                  <a:lnTo>
                    <a:pt x="699" y="112"/>
                  </a:lnTo>
                  <a:lnTo>
                    <a:pt x="706" y="112"/>
                  </a:lnTo>
                  <a:lnTo>
                    <a:pt x="712" y="112"/>
                  </a:lnTo>
                  <a:lnTo>
                    <a:pt x="718" y="112"/>
                  </a:lnTo>
                  <a:lnTo>
                    <a:pt x="725" y="112"/>
                  </a:lnTo>
                  <a:lnTo>
                    <a:pt x="731" y="112"/>
                  </a:lnTo>
                  <a:lnTo>
                    <a:pt x="737" y="112"/>
                  </a:lnTo>
                  <a:lnTo>
                    <a:pt x="737" y="118"/>
                  </a:lnTo>
                  <a:lnTo>
                    <a:pt x="744" y="118"/>
                  </a:lnTo>
                  <a:lnTo>
                    <a:pt x="750" y="118"/>
                  </a:lnTo>
                  <a:lnTo>
                    <a:pt x="756" y="118"/>
                  </a:lnTo>
                  <a:lnTo>
                    <a:pt x="763" y="112"/>
                  </a:lnTo>
                  <a:lnTo>
                    <a:pt x="769" y="106"/>
                  </a:lnTo>
                  <a:lnTo>
                    <a:pt x="775" y="106"/>
                  </a:lnTo>
                  <a:lnTo>
                    <a:pt x="775" y="112"/>
                  </a:lnTo>
                  <a:lnTo>
                    <a:pt x="782" y="112"/>
                  </a:lnTo>
                  <a:lnTo>
                    <a:pt x="782" y="118"/>
                  </a:lnTo>
                  <a:lnTo>
                    <a:pt x="782" y="124"/>
                  </a:lnTo>
                  <a:lnTo>
                    <a:pt x="788" y="124"/>
                  </a:lnTo>
                  <a:lnTo>
                    <a:pt x="795" y="124"/>
                  </a:lnTo>
                  <a:lnTo>
                    <a:pt x="801" y="124"/>
                  </a:lnTo>
                  <a:lnTo>
                    <a:pt x="807" y="124"/>
                  </a:lnTo>
                  <a:lnTo>
                    <a:pt x="814" y="124"/>
                  </a:lnTo>
                  <a:lnTo>
                    <a:pt x="814" y="130"/>
                  </a:lnTo>
                  <a:lnTo>
                    <a:pt x="820" y="130"/>
                  </a:lnTo>
                  <a:lnTo>
                    <a:pt x="826" y="130"/>
                  </a:lnTo>
                  <a:lnTo>
                    <a:pt x="833" y="130"/>
                  </a:lnTo>
                  <a:lnTo>
                    <a:pt x="839" y="130"/>
                  </a:lnTo>
                  <a:lnTo>
                    <a:pt x="845" y="130"/>
                  </a:lnTo>
                  <a:lnTo>
                    <a:pt x="852" y="130"/>
                  </a:lnTo>
                  <a:lnTo>
                    <a:pt x="858" y="130"/>
                  </a:lnTo>
                  <a:lnTo>
                    <a:pt x="858" y="137"/>
                  </a:lnTo>
                  <a:lnTo>
                    <a:pt x="864" y="137"/>
                  </a:lnTo>
                  <a:lnTo>
                    <a:pt x="871" y="137"/>
                  </a:lnTo>
                  <a:lnTo>
                    <a:pt x="877" y="137"/>
                  </a:lnTo>
                  <a:lnTo>
                    <a:pt x="883" y="137"/>
                  </a:lnTo>
                  <a:lnTo>
                    <a:pt x="890" y="130"/>
                  </a:lnTo>
                  <a:lnTo>
                    <a:pt x="896" y="130"/>
                  </a:lnTo>
                  <a:lnTo>
                    <a:pt x="896" y="124"/>
                  </a:lnTo>
                  <a:lnTo>
                    <a:pt x="903" y="124"/>
                  </a:lnTo>
                  <a:lnTo>
                    <a:pt x="909" y="118"/>
                  </a:lnTo>
                  <a:lnTo>
                    <a:pt x="915" y="118"/>
                  </a:lnTo>
                  <a:lnTo>
                    <a:pt x="915" y="112"/>
                  </a:lnTo>
                  <a:lnTo>
                    <a:pt x="922" y="106"/>
                  </a:lnTo>
                  <a:lnTo>
                    <a:pt x="922" y="99"/>
                  </a:lnTo>
                  <a:lnTo>
                    <a:pt x="922" y="93"/>
                  </a:lnTo>
                  <a:lnTo>
                    <a:pt x="922" y="87"/>
                  </a:lnTo>
                  <a:lnTo>
                    <a:pt x="922" y="81"/>
                  </a:lnTo>
                  <a:lnTo>
                    <a:pt x="922" y="74"/>
                  </a:lnTo>
                  <a:lnTo>
                    <a:pt x="922" y="68"/>
                  </a:lnTo>
                  <a:lnTo>
                    <a:pt x="922" y="62"/>
                  </a:lnTo>
                  <a:lnTo>
                    <a:pt x="922" y="56"/>
                  </a:lnTo>
                  <a:lnTo>
                    <a:pt x="922" y="50"/>
                  </a:lnTo>
                  <a:lnTo>
                    <a:pt x="922" y="43"/>
                  </a:lnTo>
                  <a:lnTo>
                    <a:pt x="922" y="37"/>
                  </a:lnTo>
                  <a:lnTo>
                    <a:pt x="922" y="31"/>
                  </a:lnTo>
                  <a:lnTo>
                    <a:pt x="928" y="31"/>
                  </a:lnTo>
                  <a:lnTo>
                    <a:pt x="928" y="25"/>
                  </a:lnTo>
                  <a:lnTo>
                    <a:pt x="928" y="18"/>
                  </a:lnTo>
                  <a:lnTo>
                    <a:pt x="928" y="12"/>
                  </a:lnTo>
                  <a:lnTo>
                    <a:pt x="928" y="18"/>
                  </a:lnTo>
                  <a:lnTo>
                    <a:pt x="934" y="18"/>
                  </a:lnTo>
                  <a:lnTo>
                    <a:pt x="941" y="25"/>
                  </a:lnTo>
                  <a:lnTo>
                    <a:pt x="947" y="31"/>
                  </a:lnTo>
                  <a:lnTo>
                    <a:pt x="953" y="37"/>
                  </a:lnTo>
                  <a:lnTo>
                    <a:pt x="960" y="37"/>
                  </a:lnTo>
                  <a:lnTo>
                    <a:pt x="966" y="37"/>
                  </a:lnTo>
                  <a:lnTo>
                    <a:pt x="966" y="43"/>
                  </a:lnTo>
                  <a:lnTo>
                    <a:pt x="966" y="50"/>
                  </a:lnTo>
                  <a:lnTo>
                    <a:pt x="966" y="56"/>
                  </a:lnTo>
                  <a:lnTo>
                    <a:pt x="966" y="62"/>
                  </a:lnTo>
                  <a:lnTo>
                    <a:pt x="979" y="68"/>
                  </a:lnTo>
                  <a:lnTo>
                    <a:pt x="985" y="74"/>
                  </a:lnTo>
                  <a:lnTo>
                    <a:pt x="992" y="81"/>
                  </a:lnTo>
                  <a:lnTo>
                    <a:pt x="998" y="87"/>
                  </a:lnTo>
                  <a:lnTo>
                    <a:pt x="1004" y="87"/>
                  </a:lnTo>
                  <a:lnTo>
                    <a:pt x="1011" y="87"/>
                  </a:lnTo>
                  <a:lnTo>
                    <a:pt x="1017" y="93"/>
                  </a:lnTo>
                  <a:lnTo>
                    <a:pt x="1023" y="99"/>
                  </a:lnTo>
                  <a:lnTo>
                    <a:pt x="1036" y="99"/>
                  </a:lnTo>
                  <a:lnTo>
                    <a:pt x="1042" y="99"/>
                  </a:lnTo>
                  <a:lnTo>
                    <a:pt x="1055" y="99"/>
                  </a:lnTo>
                  <a:lnTo>
                    <a:pt x="1068" y="99"/>
                  </a:lnTo>
                  <a:lnTo>
                    <a:pt x="1074" y="93"/>
                  </a:lnTo>
                  <a:lnTo>
                    <a:pt x="1081" y="99"/>
                  </a:lnTo>
                  <a:lnTo>
                    <a:pt x="1081" y="106"/>
                  </a:lnTo>
                  <a:lnTo>
                    <a:pt x="1074" y="112"/>
                  </a:lnTo>
                  <a:lnTo>
                    <a:pt x="1081" y="118"/>
                  </a:lnTo>
                  <a:lnTo>
                    <a:pt x="1087" y="124"/>
                  </a:lnTo>
                  <a:lnTo>
                    <a:pt x="1093" y="124"/>
                  </a:lnTo>
                  <a:lnTo>
                    <a:pt x="1100" y="130"/>
                  </a:lnTo>
                  <a:lnTo>
                    <a:pt x="1125" y="124"/>
                  </a:lnTo>
                  <a:lnTo>
                    <a:pt x="1138" y="118"/>
                  </a:lnTo>
                  <a:lnTo>
                    <a:pt x="1157" y="106"/>
                  </a:lnTo>
                  <a:lnTo>
                    <a:pt x="1182" y="87"/>
                  </a:lnTo>
                  <a:lnTo>
                    <a:pt x="1195" y="87"/>
                  </a:lnTo>
                  <a:lnTo>
                    <a:pt x="1201" y="87"/>
                  </a:lnTo>
                  <a:lnTo>
                    <a:pt x="1201" y="81"/>
                  </a:lnTo>
                  <a:lnTo>
                    <a:pt x="1195" y="74"/>
                  </a:lnTo>
                  <a:lnTo>
                    <a:pt x="1201" y="68"/>
                  </a:lnTo>
                  <a:lnTo>
                    <a:pt x="1201" y="62"/>
                  </a:lnTo>
                  <a:lnTo>
                    <a:pt x="1208" y="68"/>
                  </a:lnTo>
                  <a:lnTo>
                    <a:pt x="1214" y="74"/>
                  </a:lnTo>
                  <a:lnTo>
                    <a:pt x="1220" y="68"/>
                  </a:lnTo>
                  <a:lnTo>
                    <a:pt x="1214" y="62"/>
                  </a:lnTo>
                  <a:lnTo>
                    <a:pt x="1214" y="56"/>
                  </a:lnTo>
                  <a:lnTo>
                    <a:pt x="1214" y="50"/>
                  </a:lnTo>
                  <a:lnTo>
                    <a:pt x="1220" y="50"/>
                  </a:lnTo>
                  <a:lnTo>
                    <a:pt x="1214" y="43"/>
                  </a:lnTo>
                  <a:lnTo>
                    <a:pt x="1214" y="37"/>
                  </a:lnTo>
                  <a:lnTo>
                    <a:pt x="1220" y="43"/>
                  </a:lnTo>
                  <a:lnTo>
                    <a:pt x="1227" y="43"/>
                  </a:lnTo>
                  <a:lnTo>
                    <a:pt x="1227" y="37"/>
                  </a:lnTo>
                  <a:lnTo>
                    <a:pt x="1347" y="43"/>
                  </a:lnTo>
                  <a:lnTo>
                    <a:pt x="1347" y="37"/>
                  </a:lnTo>
                  <a:lnTo>
                    <a:pt x="1341" y="18"/>
                  </a:lnTo>
                  <a:lnTo>
                    <a:pt x="1341" y="12"/>
                  </a:lnTo>
                  <a:lnTo>
                    <a:pt x="1360" y="12"/>
                  </a:lnTo>
                  <a:lnTo>
                    <a:pt x="1373" y="6"/>
                  </a:lnTo>
                  <a:lnTo>
                    <a:pt x="1392" y="6"/>
                  </a:lnTo>
                  <a:lnTo>
                    <a:pt x="1417" y="0"/>
                  </a:lnTo>
                  <a:lnTo>
                    <a:pt x="1436" y="0"/>
                  </a:lnTo>
                  <a:lnTo>
                    <a:pt x="1449" y="0"/>
                  </a:lnTo>
                  <a:lnTo>
                    <a:pt x="1455" y="0"/>
                  </a:lnTo>
                  <a:lnTo>
                    <a:pt x="1462" y="6"/>
                  </a:lnTo>
                  <a:lnTo>
                    <a:pt x="1455" y="12"/>
                  </a:lnTo>
                  <a:lnTo>
                    <a:pt x="1455" y="18"/>
                  </a:lnTo>
                  <a:lnTo>
                    <a:pt x="1455" y="31"/>
                  </a:lnTo>
                  <a:lnTo>
                    <a:pt x="1455" y="37"/>
                  </a:lnTo>
                  <a:lnTo>
                    <a:pt x="1455" y="56"/>
                  </a:lnTo>
                  <a:lnTo>
                    <a:pt x="1455" y="74"/>
                  </a:lnTo>
                  <a:lnTo>
                    <a:pt x="1455" y="81"/>
                  </a:lnTo>
                  <a:lnTo>
                    <a:pt x="1449" y="99"/>
                  </a:lnTo>
                  <a:lnTo>
                    <a:pt x="1436" y="118"/>
                  </a:lnTo>
                  <a:lnTo>
                    <a:pt x="1430" y="130"/>
                  </a:lnTo>
                  <a:lnTo>
                    <a:pt x="1430" y="137"/>
                  </a:lnTo>
                  <a:lnTo>
                    <a:pt x="1424" y="155"/>
                  </a:lnTo>
                  <a:lnTo>
                    <a:pt x="1424" y="174"/>
                  </a:lnTo>
                  <a:lnTo>
                    <a:pt x="1424" y="186"/>
                  </a:lnTo>
                  <a:lnTo>
                    <a:pt x="1430" y="205"/>
                  </a:lnTo>
                  <a:lnTo>
                    <a:pt x="1436" y="211"/>
                  </a:lnTo>
                  <a:lnTo>
                    <a:pt x="1443" y="211"/>
                  </a:lnTo>
                  <a:lnTo>
                    <a:pt x="1449" y="218"/>
                  </a:lnTo>
                  <a:lnTo>
                    <a:pt x="1449" y="224"/>
                  </a:lnTo>
                  <a:lnTo>
                    <a:pt x="1455" y="230"/>
                  </a:lnTo>
                  <a:lnTo>
                    <a:pt x="1455" y="243"/>
                  </a:lnTo>
                  <a:lnTo>
                    <a:pt x="1449" y="243"/>
                  </a:lnTo>
                  <a:lnTo>
                    <a:pt x="1449" y="249"/>
                  </a:lnTo>
                  <a:lnTo>
                    <a:pt x="1449" y="261"/>
                  </a:lnTo>
                  <a:lnTo>
                    <a:pt x="1455" y="274"/>
                  </a:lnTo>
                  <a:lnTo>
                    <a:pt x="1455" y="280"/>
                  </a:lnTo>
                  <a:lnTo>
                    <a:pt x="1455" y="292"/>
                  </a:lnTo>
                  <a:lnTo>
                    <a:pt x="1455" y="299"/>
                  </a:lnTo>
                  <a:lnTo>
                    <a:pt x="1455" y="311"/>
                  </a:lnTo>
                  <a:lnTo>
                    <a:pt x="1462" y="323"/>
                  </a:lnTo>
                  <a:lnTo>
                    <a:pt x="1475" y="336"/>
                  </a:lnTo>
                  <a:lnTo>
                    <a:pt x="1481" y="342"/>
                  </a:lnTo>
                  <a:lnTo>
                    <a:pt x="1487" y="348"/>
                  </a:lnTo>
                  <a:lnTo>
                    <a:pt x="1494" y="361"/>
                  </a:lnTo>
                  <a:lnTo>
                    <a:pt x="1500" y="373"/>
                  </a:lnTo>
                  <a:lnTo>
                    <a:pt x="1506" y="386"/>
                  </a:lnTo>
                  <a:lnTo>
                    <a:pt x="1500" y="404"/>
                  </a:lnTo>
                  <a:lnTo>
                    <a:pt x="1487" y="417"/>
                  </a:lnTo>
                  <a:lnTo>
                    <a:pt x="1481" y="435"/>
                  </a:lnTo>
                  <a:lnTo>
                    <a:pt x="1475" y="454"/>
                  </a:lnTo>
                  <a:lnTo>
                    <a:pt x="1487" y="467"/>
                  </a:lnTo>
                  <a:lnTo>
                    <a:pt x="1494" y="473"/>
                  </a:lnTo>
                  <a:lnTo>
                    <a:pt x="1500" y="479"/>
                  </a:lnTo>
                  <a:lnTo>
                    <a:pt x="1506" y="485"/>
                  </a:lnTo>
                  <a:lnTo>
                    <a:pt x="1513" y="491"/>
                  </a:lnTo>
                  <a:lnTo>
                    <a:pt x="1525" y="504"/>
                  </a:lnTo>
                  <a:lnTo>
                    <a:pt x="1532" y="510"/>
                  </a:lnTo>
                  <a:lnTo>
                    <a:pt x="1532" y="516"/>
                  </a:lnTo>
                  <a:lnTo>
                    <a:pt x="1538" y="529"/>
                  </a:lnTo>
                  <a:close/>
                </a:path>
              </a:pathLst>
            </a:custGeom>
            <a:solidFill>
              <a:srgbClr val="fffbc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290280" y="4734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51480" y="4734000"/>
              <a:ext cx="13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451920" y="4734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572520" y="4734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980160" y="80042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032360" y="80042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134960" y="800424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253040" y="80042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348080" y="800424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438080" y="800424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703320" y="52768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797640" y="527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873240" y="527688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993480" y="527688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111920" y="527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174200" y="52768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283640" y="527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9231120" y="365616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9338040" y="3656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9396360" y="365616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9530280" y="365616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9620640" y="365616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9745920" y="365616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1065320" y="62056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1173320" y="62056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1236320" y="6205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1338200" y="6205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1436840" y="62056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1489400" y="62056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1598480" y="62056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0436760" y="48229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0509480" y="482292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0598400" y="48229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0702080" y="48229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0801440" y="48229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0903680" y="48229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1006280" y="4822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1846880" y="78073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1940120" y="78073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12012840" y="780732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2101040" y="78073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2216600" y="78073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2314520" y="78073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2423600" y="780732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2539880" y="7807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2627360" y="78073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381040" y="35290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467080" y="3529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570760" y="35290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668680" y="3529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778120" y="352908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891160" y="3529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015360" y="35290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072240" y="35290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153240" y="35290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300120" y="191772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384720" y="1917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488400" y="19177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586320" y="1917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695400" y="191772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808800" y="1917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933000" y="1917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989880" y="19177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265800" y="20368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35184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455520" y="20368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55344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662520" y="203688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77556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872040" y="20368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96636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065720" y="203688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191720" y="2036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273440" y="20368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41060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525440" y="20368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591680" y="203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663320" y="203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742520" y="203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136760" y="18288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22316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326480" y="182880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42476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533840" y="18288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64688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743360" y="18288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83732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937040" y="18288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062680" y="1828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144760" y="182880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28192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396760" y="182880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463000" y="18288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524200" y="1828800"/>
              <a:ext cx="13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9202680" y="24210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28728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9390600" y="242100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48888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9597960" y="24210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971100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9807480" y="24210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990324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0001160" y="24210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10128600" y="2421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0210320" y="242100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034748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0460880" y="242100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0528560" y="2421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769160" y="223344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855200" y="22334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958880" y="223344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056800" y="22334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3" name=""/>
          <p:cNvSpPr/>
          <p:nvPr/>
        </p:nvSpPr>
        <p:spPr>
          <a:xfrm>
            <a:off x="8165880" y="2233440"/>
            <a:ext cx="1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8278920" y="22334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8375400" y="223344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8469720" y="22334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8569080" y="2233440"/>
            <a:ext cx="1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8695080" y="2233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8776800" y="2233440"/>
            <a:ext cx="19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8913960" y="22334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9028800" y="22334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87878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9095400" y="2233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9166680" y="2233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6524640" y="7569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6582960" y="756936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6696720" y="756936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6789960" y="7569360"/>
            <a:ext cx="15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6896160" y="75693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7007040" y="756936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0618920" y="75405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0718280" y="754056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0812960" y="754056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0901160" y="754056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1035440" y="754056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1092320" y="75405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1155680" y="7540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11246760" y="7540560"/>
            <a:ext cx="15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1365200" y="75405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11471040" y="7540560"/>
            <a:ext cx="13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1561040" y="7540560"/>
            <a:ext cx="15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0730160" y="68486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0829520" y="684864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0922400" y="684864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1012040" y="684864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114668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120680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126728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132920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138932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1438640" y="684864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1546280" y="68486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1609280" y="6848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1711160" y="6848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1809800" y="68486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1862360" y="684864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1971440" y="68486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8874360" y="549432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8974440" y="54943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9026280" y="54943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9126720" y="549432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9228240" y="5494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9347760" y="54943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114960" y="262908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6209280" y="2629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6273000" y="262908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370920" y="262908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6467400" y="262908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6552720" y="262908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877760" y="608796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1962360" y="60879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066040" y="608796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2163960" y="60879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273040" y="6087960"/>
            <a:ext cx="1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386080" y="60879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510640" y="608796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2567520" y="6087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2648520" y="6087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729520" y="6087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623960" y="8724960"/>
            <a:ext cx="192240" cy="326880"/>
          </a:xfrm>
          <a:custGeom>
            <a:avLst/>
            <a:gdLst/>
            <a:ahLst/>
            <a:rect l="l" t="t" r="r" b="b"/>
            <a:pathLst>
              <a:path w="121" h="206">
                <a:moveTo>
                  <a:pt x="57" y="131"/>
                </a:moveTo>
                <a:lnTo>
                  <a:pt x="121" y="206"/>
                </a:lnTo>
                <a:lnTo>
                  <a:pt x="57" y="0"/>
                </a:lnTo>
                <a:lnTo>
                  <a:pt x="0" y="206"/>
                </a:lnTo>
                <a:lnTo>
                  <a:pt x="57" y="13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714680" y="8755200"/>
            <a:ext cx="71280" cy="247680"/>
          </a:xfrm>
          <a:custGeom>
            <a:avLst/>
            <a:gdLst/>
            <a:ahLst/>
            <a:rect l="l" t="t" r="r" b="b"/>
            <a:pathLst>
              <a:path w="45" h="156">
                <a:moveTo>
                  <a:pt x="0" y="0"/>
                </a:moveTo>
                <a:lnTo>
                  <a:pt x="45" y="156"/>
                </a:lnTo>
                <a:lnTo>
                  <a:pt x="0" y="10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699560" y="85978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786200" y="642960"/>
            <a:ext cx="316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99824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90120" y="642960"/>
            <a:ext cx="2415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361120" y="642960"/>
            <a:ext cx="14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545220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5649480" y="642960"/>
            <a:ext cx="23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5855040" y="642960"/>
            <a:ext cx="1227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5969880" y="642960"/>
            <a:ext cx="3603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218280" y="642960"/>
            <a:ext cx="14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307200" y="642960"/>
            <a:ext cx="298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526080" y="642960"/>
            <a:ext cx="214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6668280" y="642960"/>
            <a:ext cx="2919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836760" y="642960"/>
            <a:ext cx="298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051680" y="642960"/>
            <a:ext cx="214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20792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424640" y="642960"/>
            <a:ext cx="1821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570800" y="642960"/>
            <a:ext cx="14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673040" y="642960"/>
            <a:ext cx="2415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84296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8030880" y="642960"/>
            <a:ext cx="23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8247600" y="642960"/>
            <a:ext cx="1227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8336160" y="642960"/>
            <a:ext cx="298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8525520" y="642960"/>
            <a:ext cx="2919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8771400" y="642960"/>
            <a:ext cx="1227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8861400" y="642960"/>
            <a:ext cx="29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905436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9250200" y="642960"/>
            <a:ext cx="214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940680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9576360" y="642960"/>
            <a:ext cx="3085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977040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2198240" y="9644040"/>
            <a:ext cx="150840" cy="39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2198240" y="9683640"/>
            <a:ext cx="150840" cy="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2349080" y="9644040"/>
            <a:ext cx="141480" cy="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12349080" y="9683640"/>
            <a:ext cx="141480" cy="3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12490560" y="9644040"/>
            <a:ext cx="150840" cy="39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12490560" y="9683640"/>
            <a:ext cx="150840" cy="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12641400" y="9644040"/>
            <a:ext cx="444240" cy="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2641400" y="9683640"/>
            <a:ext cx="444240" cy="3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13085640" y="9644040"/>
            <a:ext cx="444600" cy="39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13085640" y="9683640"/>
            <a:ext cx="444600" cy="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220076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227060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266444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1308816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315980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1353276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1360260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13696200" y="948708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3755240" y="9487080"/>
            <a:ext cx="16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12627000" y="10069560"/>
            <a:ext cx="9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2690000" y="10069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12759120" y="10069560"/>
            <a:ext cx="1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2844440" y="10069560"/>
            <a:ext cx="6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2895560" y="10069560"/>
            <a:ext cx="109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2972960" y="1006956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3014720" y="1006956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3062960" y="10069560"/>
            <a:ext cx="10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13158360" y="100695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3231800" y="10069560"/>
            <a:ext cx="17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3357800" y="10069560"/>
            <a:ext cx="12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87320" y="9723600"/>
            <a:ext cx="343080" cy="306360"/>
          </a:xfrm>
          <a:custGeom>
            <a:avLst/>
            <a:gdLst/>
            <a:ahLst/>
            <a:rect l="l" t="t" r="r" b="b"/>
            <a:pathLst>
              <a:path w="216" h="193">
                <a:moveTo>
                  <a:pt x="89" y="193"/>
                </a:moveTo>
                <a:lnTo>
                  <a:pt x="63" y="181"/>
                </a:lnTo>
                <a:lnTo>
                  <a:pt x="38" y="162"/>
                </a:lnTo>
                <a:lnTo>
                  <a:pt x="25" y="143"/>
                </a:lnTo>
                <a:lnTo>
                  <a:pt x="19" y="131"/>
                </a:lnTo>
                <a:lnTo>
                  <a:pt x="6" y="106"/>
                </a:lnTo>
                <a:lnTo>
                  <a:pt x="0" y="87"/>
                </a:lnTo>
                <a:lnTo>
                  <a:pt x="6" y="62"/>
                </a:lnTo>
                <a:lnTo>
                  <a:pt x="12" y="44"/>
                </a:lnTo>
                <a:lnTo>
                  <a:pt x="31" y="25"/>
                </a:lnTo>
                <a:lnTo>
                  <a:pt x="51" y="13"/>
                </a:lnTo>
                <a:lnTo>
                  <a:pt x="76" y="6"/>
                </a:lnTo>
                <a:lnTo>
                  <a:pt x="101" y="0"/>
                </a:lnTo>
                <a:lnTo>
                  <a:pt x="127" y="0"/>
                </a:lnTo>
                <a:lnTo>
                  <a:pt x="152" y="0"/>
                </a:lnTo>
                <a:lnTo>
                  <a:pt x="216" y="19"/>
                </a:lnTo>
                <a:lnTo>
                  <a:pt x="184" y="13"/>
                </a:lnTo>
                <a:lnTo>
                  <a:pt x="159" y="13"/>
                </a:lnTo>
                <a:lnTo>
                  <a:pt x="140" y="13"/>
                </a:lnTo>
                <a:lnTo>
                  <a:pt x="120" y="19"/>
                </a:lnTo>
                <a:lnTo>
                  <a:pt x="101" y="25"/>
                </a:lnTo>
                <a:lnTo>
                  <a:pt x="82" y="31"/>
                </a:lnTo>
                <a:lnTo>
                  <a:pt x="70" y="37"/>
                </a:lnTo>
                <a:lnTo>
                  <a:pt x="63" y="50"/>
                </a:lnTo>
                <a:lnTo>
                  <a:pt x="51" y="69"/>
                </a:lnTo>
                <a:lnTo>
                  <a:pt x="51" y="81"/>
                </a:lnTo>
                <a:lnTo>
                  <a:pt x="44" y="100"/>
                </a:lnTo>
                <a:lnTo>
                  <a:pt x="44" y="112"/>
                </a:lnTo>
                <a:lnTo>
                  <a:pt x="51" y="131"/>
                </a:lnTo>
                <a:lnTo>
                  <a:pt x="63" y="156"/>
                </a:lnTo>
                <a:lnTo>
                  <a:pt x="70" y="174"/>
                </a:lnTo>
                <a:lnTo>
                  <a:pt x="89" y="19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079640" y="9732960"/>
            <a:ext cx="272880" cy="316080"/>
          </a:xfrm>
          <a:custGeom>
            <a:avLst/>
            <a:gdLst/>
            <a:ahLst/>
            <a:rect l="l" t="t" r="r" b="b"/>
            <a:pathLst>
              <a:path w="172" h="199">
                <a:moveTo>
                  <a:pt x="83" y="0"/>
                </a:moveTo>
                <a:lnTo>
                  <a:pt x="95" y="7"/>
                </a:lnTo>
                <a:lnTo>
                  <a:pt x="121" y="19"/>
                </a:lnTo>
                <a:lnTo>
                  <a:pt x="133" y="38"/>
                </a:lnTo>
                <a:lnTo>
                  <a:pt x="153" y="56"/>
                </a:lnTo>
                <a:lnTo>
                  <a:pt x="159" y="81"/>
                </a:lnTo>
                <a:lnTo>
                  <a:pt x="172" y="94"/>
                </a:lnTo>
                <a:lnTo>
                  <a:pt x="172" y="112"/>
                </a:lnTo>
                <a:lnTo>
                  <a:pt x="172" y="125"/>
                </a:lnTo>
                <a:lnTo>
                  <a:pt x="165" y="143"/>
                </a:lnTo>
                <a:lnTo>
                  <a:pt x="159" y="156"/>
                </a:lnTo>
                <a:lnTo>
                  <a:pt x="146" y="168"/>
                </a:lnTo>
                <a:lnTo>
                  <a:pt x="133" y="181"/>
                </a:lnTo>
                <a:lnTo>
                  <a:pt x="108" y="187"/>
                </a:lnTo>
                <a:lnTo>
                  <a:pt x="95" y="199"/>
                </a:lnTo>
                <a:lnTo>
                  <a:pt x="64" y="199"/>
                </a:lnTo>
                <a:lnTo>
                  <a:pt x="32" y="199"/>
                </a:lnTo>
                <a:lnTo>
                  <a:pt x="0" y="187"/>
                </a:lnTo>
                <a:lnTo>
                  <a:pt x="25" y="193"/>
                </a:lnTo>
                <a:lnTo>
                  <a:pt x="38" y="193"/>
                </a:lnTo>
                <a:lnTo>
                  <a:pt x="64" y="187"/>
                </a:lnTo>
                <a:lnTo>
                  <a:pt x="70" y="175"/>
                </a:lnTo>
                <a:lnTo>
                  <a:pt x="83" y="162"/>
                </a:lnTo>
                <a:lnTo>
                  <a:pt x="83" y="143"/>
                </a:lnTo>
                <a:lnTo>
                  <a:pt x="83" y="131"/>
                </a:lnTo>
                <a:lnTo>
                  <a:pt x="70" y="125"/>
                </a:lnTo>
                <a:lnTo>
                  <a:pt x="57" y="106"/>
                </a:lnTo>
                <a:lnTo>
                  <a:pt x="32" y="81"/>
                </a:lnTo>
                <a:lnTo>
                  <a:pt x="25" y="75"/>
                </a:lnTo>
                <a:lnTo>
                  <a:pt x="19" y="63"/>
                </a:lnTo>
                <a:lnTo>
                  <a:pt x="25" y="56"/>
                </a:lnTo>
                <a:lnTo>
                  <a:pt x="32" y="44"/>
                </a:lnTo>
                <a:lnTo>
                  <a:pt x="83" y="0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868320" y="9744120"/>
            <a:ext cx="271440" cy="325440"/>
          </a:xfrm>
          <a:custGeom>
            <a:avLst/>
            <a:gdLst/>
            <a:ahLst/>
            <a:rect l="l" t="t" r="r" b="b"/>
            <a:pathLst>
              <a:path w="171" h="205">
                <a:moveTo>
                  <a:pt x="95" y="205"/>
                </a:moveTo>
                <a:lnTo>
                  <a:pt x="69" y="192"/>
                </a:lnTo>
                <a:lnTo>
                  <a:pt x="57" y="180"/>
                </a:lnTo>
                <a:lnTo>
                  <a:pt x="38" y="168"/>
                </a:lnTo>
                <a:lnTo>
                  <a:pt x="19" y="143"/>
                </a:lnTo>
                <a:lnTo>
                  <a:pt x="12" y="124"/>
                </a:lnTo>
                <a:lnTo>
                  <a:pt x="6" y="105"/>
                </a:lnTo>
                <a:lnTo>
                  <a:pt x="0" y="93"/>
                </a:lnTo>
                <a:lnTo>
                  <a:pt x="6" y="74"/>
                </a:lnTo>
                <a:lnTo>
                  <a:pt x="12" y="62"/>
                </a:lnTo>
                <a:lnTo>
                  <a:pt x="19" y="49"/>
                </a:lnTo>
                <a:lnTo>
                  <a:pt x="25" y="37"/>
                </a:lnTo>
                <a:lnTo>
                  <a:pt x="44" y="24"/>
                </a:lnTo>
                <a:lnTo>
                  <a:pt x="63" y="12"/>
                </a:lnTo>
                <a:lnTo>
                  <a:pt x="76" y="12"/>
                </a:lnTo>
                <a:lnTo>
                  <a:pt x="108" y="0"/>
                </a:lnTo>
                <a:lnTo>
                  <a:pt x="146" y="6"/>
                </a:lnTo>
                <a:lnTo>
                  <a:pt x="171" y="12"/>
                </a:lnTo>
                <a:lnTo>
                  <a:pt x="152" y="12"/>
                </a:lnTo>
                <a:lnTo>
                  <a:pt x="133" y="12"/>
                </a:lnTo>
                <a:lnTo>
                  <a:pt x="114" y="24"/>
                </a:lnTo>
                <a:lnTo>
                  <a:pt x="95" y="31"/>
                </a:lnTo>
                <a:lnTo>
                  <a:pt x="89" y="49"/>
                </a:lnTo>
                <a:lnTo>
                  <a:pt x="89" y="62"/>
                </a:lnTo>
                <a:lnTo>
                  <a:pt x="95" y="74"/>
                </a:lnTo>
                <a:lnTo>
                  <a:pt x="95" y="80"/>
                </a:lnTo>
                <a:lnTo>
                  <a:pt x="114" y="99"/>
                </a:lnTo>
                <a:lnTo>
                  <a:pt x="146" y="118"/>
                </a:lnTo>
                <a:lnTo>
                  <a:pt x="146" y="130"/>
                </a:lnTo>
                <a:lnTo>
                  <a:pt x="152" y="143"/>
                </a:lnTo>
                <a:lnTo>
                  <a:pt x="146" y="149"/>
                </a:lnTo>
                <a:lnTo>
                  <a:pt x="146" y="161"/>
                </a:lnTo>
                <a:lnTo>
                  <a:pt x="95" y="205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494000" y="9891720"/>
            <a:ext cx="129960" cy="168120"/>
          </a:xfrm>
          <a:custGeom>
            <a:avLst/>
            <a:gdLst/>
            <a:ahLst/>
            <a:rect l="l" t="t" r="r" b="b"/>
            <a:pathLst>
              <a:path w="82" h="106">
                <a:moveTo>
                  <a:pt x="0" y="93"/>
                </a:moveTo>
                <a:lnTo>
                  <a:pt x="6" y="62"/>
                </a:lnTo>
                <a:lnTo>
                  <a:pt x="25" y="75"/>
                </a:lnTo>
                <a:lnTo>
                  <a:pt x="31" y="75"/>
                </a:lnTo>
                <a:lnTo>
                  <a:pt x="44" y="75"/>
                </a:lnTo>
                <a:lnTo>
                  <a:pt x="44" y="68"/>
                </a:lnTo>
                <a:lnTo>
                  <a:pt x="44" y="62"/>
                </a:lnTo>
                <a:lnTo>
                  <a:pt x="31" y="62"/>
                </a:lnTo>
                <a:lnTo>
                  <a:pt x="25" y="62"/>
                </a:lnTo>
                <a:lnTo>
                  <a:pt x="19" y="62"/>
                </a:lnTo>
                <a:lnTo>
                  <a:pt x="6" y="50"/>
                </a:lnTo>
                <a:lnTo>
                  <a:pt x="6" y="43"/>
                </a:lnTo>
                <a:lnTo>
                  <a:pt x="6" y="37"/>
                </a:lnTo>
                <a:lnTo>
                  <a:pt x="6" y="19"/>
                </a:lnTo>
                <a:lnTo>
                  <a:pt x="19" y="12"/>
                </a:lnTo>
                <a:lnTo>
                  <a:pt x="31" y="6"/>
                </a:lnTo>
                <a:lnTo>
                  <a:pt x="44" y="0"/>
                </a:lnTo>
                <a:lnTo>
                  <a:pt x="63" y="6"/>
                </a:lnTo>
                <a:lnTo>
                  <a:pt x="76" y="6"/>
                </a:lnTo>
                <a:lnTo>
                  <a:pt x="70" y="37"/>
                </a:lnTo>
                <a:lnTo>
                  <a:pt x="57" y="25"/>
                </a:lnTo>
                <a:lnTo>
                  <a:pt x="50" y="25"/>
                </a:lnTo>
                <a:lnTo>
                  <a:pt x="44" y="25"/>
                </a:lnTo>
                <a:lnTo>
                  <a:pt x="44" y="31"/>
                </a:lnTo>
                <a:lnTo>
                  <a:pt x="44" y="37"/>
                </a:lnTo>
                <a:lnTo>
                  <a:pt x="50" y="37"/>
                </a:lnTo>
                <a:lnTo>
                  <a:pt x="57" y="37"/>
                </a:lnTo>
                <a:lnTo>
                  <a:pt x="63" y="43"/>
                </a:lnTo>
                <a:lnTo>
                  <a:pt x="76" y="50"/>
                </a:lnTo>
                <a:lnTo>
                  <a:pt x="76" y="56"/>
                </a:lnTo>
                <a:lnTo>
                  <a:pt x="82" y="62"/>
                </a:lnTo>
                <a:lnTo>
                  <a:pt x="76" y="81"/>
                </a:lnTo>
                <a:lnTo>
                  <a:pt x="70" y="93"/>
                </a:lnTo>
                <a:lnTo>
                  <a:pt x="50" y="99"/>
                </a:lnTo>
                <a:lnTo>
                  <a:pt x="38" y="106"/>
                </a:lnTo>
                <a:lnTo>
                  <a:pt x="19" y="99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635120" y="9901080"/>
            <a:ext cx="150840" cy="158760"/>
          </a:xfrm>
          <a:custGeom>
            <a:avLst/>
            <a:gdLst/>
            <a:ahLst/>
            <a:rect l="l" t="t" r="r" b="b"/>
            <a:pathLst>
              <a:path w="95" h="100">
                <a:moveTo>
                  <a:pt x="0" y="50"/>
                </a:moveTo>
                <a:lnTo>
                  <a:pt x="0" y="0"/>
                </a:lnTo>
                <a:lnTo>
                  <a:pt x="38" y="0"/>
                </a:lnTo>
                <a:lnTo>
                  <a:pt x="38" y="50"/>
                </a:lnTo>
                <a:lnTo>
                  <a:pt x="44" y="62"/>
                </a:lnTo>
                <a:lnTo>
                  <a:pt x="44" y="69"/>
                </a:lnTo>
                <a:lnTo>
                  <a:pt x="50" y="69"/>
                </a:lnTo>
                <a:lnTo>
                  <a:pt x="57" y="69"/>
                </a:lnTo>
                <a:lnTo>
                  <a:pt x="57" y="62"/>
                </a:lnTo>
                <a:lnTo>
                  <a:pt x="63" y="50"/>
                </a:lnTo>
                <a:lnTo>
                  <a:pt x="63" y="0"/>
                </a:lnTo>
                <a:lnTo>
                  <a:pt x="95" y="0"/>
                </a:lnTo>
                <a:lnTo>
                  <a:pt x="95" y="50"/>
                </a:lnTo>
                <a:lnTo>
                  <a:pt x="95" y="69"/>
                </a:lnTo>
                <a:lnTo>
                  <a:pt x="89" y="81"/>
                </a:lnTo>
                <a:lnTo>
                  <a:pt x="82" y="87"/>
                </a:lnTo>
                <a:lnTo>
                  <a:pt x="76" y="93"/>
                </a:lnTo>
                <a:lnTo>
                  <a:pt x="63" y="93"/>
                </a:lnTo>
                <a:lnTo>
                  <a:pt x="50" y="100"/>
                </a:lnTo>
                <a:lnTo>
                  <a:pt x="38" y="93"/>
                </a:lnTo>
                <a:lnTo>
                  <a:pt x="25" y="93"/>
                </a:lnTo>
                <a:lnTo>
                  <a:pt x="12" y="87"/>
                </a:lnTo>
                <a:lnTo>
                  <a:pt x="12" y="81"/>
                </a:lnTo>
                <a:lnTo>
                  <a:pt x="6" y="69"/>
                </a:lnTo>
                <a:lnTo>
                  <a:pt x="0" y="50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100160" y="9763200"/>
            <a:ext cx="322200" cy="315720"/>
          </a:xfrm>
          <a:custGeom>
            <a:avLst/>
            <a:gdLst/>
            <a:ahLst/>
            <a:rect l="l" t="t" r="r" b="b"/>
            <a:pathLst>
              <a:path w="203" h="199">
                <a:moveTo>
                  <a:pt x="120" y="0"/>
                </a:moveTo>
                <a:lnTo>
                  <a:pt x="146" y="19"/>
                </a:lnTo>
                <a:lnTo>
                  <a:pt x="171" y="37"/>
                </a:lnTo>
                <a:lnTo>
                  <a:pt x="184" y="56"/>
                </a:lnTo>
                <a:lnTo>
                  <a:pt x="190" y="68"/>
                </a:lnTo>
                <a:lnTo>
                  <a:pt x="203" y="93"/>
                </a:lnTo>
                <a:lnTo>
                  <a:pt x="203" y="118"/>
                </a:lnTo>
                <a:lnTo>
                  <a:pt x="203" y="137"/>
                </a:lnTo>
                <a:lnTo>
                  <a:pt x="190" y="156"/>
                </a:lnTo>
                <a:lnTo>
                  <a:pt x="178" y="168"/>
                </a:lnTo>
                <a:lnTo>
                  <a:pt x="159" y="180"/>
                </a:lnTo>
                <a:lnTo>
                  <a:pt x="140" y="193"/>
                </a:lnTo>
                <a:lnTo>
                  <a:pt x="108" y="199"/>
                </a:lnTo>
                <a:lnTo>
                  <a:pt x="82" y="199"/>
                </a:lnTo>
                <a:lnTo>
                  <a:pt x="57" y="193"/>
                </a:lnTo>
                <a:lnTo>
                  <a:pt x="0" y="180"/>
                </a:lnTo>
                <a:lnTo>
                  <a:pt x="25" y="187"/>
                </a:lnTo>
                <a:lnTo>
                  <a:pt x="51" y="187"/>
                </a:lnTo>
                <a:lnTo>
                  <a:pt x="70" y="187"/>
                </a:lnTo>
                <a:lnTo>
                  <a:pt x="95" y="180"/>
                </a:lnTo>
                <a:lnTo>
                  <a:pt x="108" y="174"/>
                </a:lnTo>
                <a:lnTo>
                  <a:pt x="127" y="168"/>
                </a:lnTo>
                <a:lnTo>
                  <a:pt x="140" y="156"/>
                </a:lnTo>
                <a:lnTo>
                  <a:pt x="152" y="143"/>
                </a:lnTo>
                <a:lnTo>
                  <a:pt x="159" y="131"/>
                </a:lnTo>
                <a:lnTo>
                  <a:pt x="165" y="118"/>
                </a:lnTo>
                <a:lnTo>
                  <a:pt x="165" y="100"/>
                </a:lnTo>
                <a:lnTo>
                  <a:pt x="165" y="87"/>
                </a:lnTo>
                <a:lnTo>
                  <a:pt x="159" y="62"/>
                </a:lnTo>
                <a:lnTo>
                  <a:pt x="152" y="50"/>
                </a:lnTo>
                <a:lnTo>
                  <a:pt x="140" y="25"/>
                </a:lnTo>
                <a:lnTo>
                  <a:pt x="12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816200" y="9901080"/>
            <a:ext cx="150840" cy="147960"/>
          </a:xfrm>
          <a:custGeom>
            <a:avLst/>
            <a:gdLst/>
            <a:ahLst/>
            <a:rect l="l" t="t" r="r" b="b"/>
            <a:pathLst>
              <a:path w="95" h="93">
                <a:moveTo>
                  <a:pt x="0" y="93"/>
                </a:moveTo>
                <a:lnTo>
                  <a:pt x="0" y="0"/>
                </a:lnTo>
                <a:lnTo>
                  <a:pt x="32" y="0"/>
                </a:lnTo>
                <a:lnTo>
                  <a:pt x="57" y="0"/>
                </a:lnTo>
                <a:lnTo>
                  <a:pt x="70" y="0"/>
                </a:lnTo>
                <a:lnTo>
                  <a:pt x="83" y="6"/>
                </a:lnTo>
                <a:lnTo>
                  <a:pt x="95" y="19"/>
                </a:lnTo>
                <a:lnTo>
                  <a:pt x="95" y="31"/>
                </a:lnTo>
                <a:lnTo>
                  <a:pt x="95" y="44"/>
                </a:lnTo>
                <a:lnTo>
                  <a:pt x="95" y="56"/>
                </a:lnTo>
                <a:lnTo>
                  <a:pt x="95" y="69"/>
                </a:lnTo>
                <a:lnTo>
                  <a:pt x="83" y="81"/>
                </a:lnTo>
                <a:lnTo>
                  <a:pt x="70" y="87"/>
                </a:lnTo>
                <a:lnTo>
                  <a:pt x="57" y="93"/>
                </a:lnTo>
                <a:lnTo>
                  <a:pt x="32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996920" y="9901080"/>
            <a:ext cx="111240" cy="147960"/>
          </a:xfrm>
          <a:custGeom>
            <a:avLst/>
            <a:gdLst/>
            <a:ahLst/>
            <a:rect l="l" t="t" r="r" b="b"/>
            <a:pathLst>
              <a:path w="70" h="93">
                <a:moveTo>
                  <a:pt x="0" y="93"/>
                </a:moveTo>
                <a:lnTo>
                  <a:pt x="0" y="0"/>
                </a:lnTo>
                <a:lnTo>
                  <a:pt x="64" y="0"/>
                </a:lnTo>
                <a:lnTo>
                  <a:pt x="64" y="19"/>
                </a:lnTo>
                <a:lnTo>
                  <a:pt x="39" y="19"/>
                </a:lnTo>
                <a:lnTo>
                  <a:pt x="39" y="31"/>
                </a:lnTo>
                <a:lnTo>
                  <a:pt x="64" y="31"/>
                </a:lnTo>
                <a:lnTo>
                  <a:pt x="64" y="56"/>
                </a:lnTo>
                <a:lnTo>
                  <a:pt x="39" y="56"/>
                </a:lnTo>
                <a:lnTo>
                  <a:pt x="39" y="69"/>
                </a:lnTo>
                <a:lnTo>
                  <a:pt x="70" y="69"/>
                </a:lnTo>
                <a:lnTo>
                  <a:pt x="70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2290680" y="9901080"/>
            <a:ext cx="150840" cy="147960"/>
          </a:xfrm>
          <a:custGeom>
            <a:avLst/>
            <a:gdLst/>
            <a:ahLst/>
            <a:rect l="l" t="t" r="r" b="b"/>
            <a:pathLst>
              <a:path w="95" h="93">
                <a:moveTo>
                  <a:pt x="0" y="93"/>
                </a:moveTo>
                <a:lnTo>
                  <a:pt x="0" y="0"/>
                </a:lnTo>
                <a:lnTo>
                  <a:pt x="38" y="0"/>
                </a:lnTo>
                <a:lnTo>
                  <a:pt x="38" y="31"/>
                </a:lnTo>
                <a:lnTo>
                  <a:pt x="57" y="31"/>
                </a:lnTo>
                <a:lnTo>
                  <a:pt x="57" y="0"/>
                </a:lnTo>
                <a:lnTo>
                  <a:pt x="95" y="0"/>
                </a:lnTo>
                <a:lnTo>
                  <a:pt x="95" y="93"/>
                </a:lnTo>
                <a:lnTo>
                  <a:pt x="57" y="93"/>
                </a:lnTo>
                <a:lnTo>
                  <a:pt x="57" y="56"/>
                </a:lnTo>
                <a:lnTo>
                  <a:pt x="38" y="56"/>
                </a:lnTo>
                <a:lnTo>
                  <a:pt x="38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462040" y="9891720"/>
            <a:ext cx="130320" cy="168120"/>
          </a:xfrm>
          <a:custGeom>
            <a:avLst/>
            <a:gdLst/>
            <a:ahLst/>
            <a:rect l="l" t="t" r="r" b="b"/>
            <a:pathLst>
              <a:path w="82" h="106">
                <a:moveTo>
                  <a:pt x="0" y="93"/>
                </a:moveTo>
                <a:lnTo>
                  <a:pt x="12" y="62"/>
                </a:lnTo>
                <a:lnTo>
                  <a:pt x="25" y="75"/>
                </a:lnTo>
                <a:lnTo>
                  <a:pt x="38" y="75"/>
                </a:lnTo>
                <a:lnTo>
                  <a:pt x="44" y="68"/>
                </a:lnTo>
                <a:lnTo>
                  <a:pt x="38" y="62"/>
                </a:lnTo>
                <a:lnTo>
                  <a:pt x="31" y="62"/>
                </a:lnTo>
                <a:lnTo>
                  <a:pt x="25" y="62"/>
                </a:lnTo>
                <a:lnTo>
                  <a:pt x="12" y="62"/>
                </a:lnTo>
                <a:lnTo>
                  <a:pt x="12" y="50"/>
                </a:lnTo>
                <a:lnTo>
                  <a:pt x="0" y="43"/>
                </a:lnTo>
                <a:lnTo>
                  <a:pt x="0" y="37"/>
                </a:lnTo>
                <a:lnTo>
                  <a:pt x="6" y="19"/>
                </a:lnTo>
                <a:lnTo>
                  <a:pt x="12" y="12"/>
                </a:lnTo>
                <a:lnTo>
                  <a:pt x="25" y="6"/>
                </a:lnTo>
                <a:lnTo>
                  <a:pt x="44" y="0"/>
                </a:lnTo>
                <a:lnTo>
                  <a:pt x="63" y="6"/>
                </a:lnTo>
                <a:lnTo>
                  <a:pt x="82" y="6"/>
                </a:lnTo>
                <a:lnTo>
                  <a:pt x="70" y="37"/>
                </a:lnTo>
                <a:lnTo>
                  <a:pt x="57" y="25"/>
                </a:lnTo>
                <a:lnTo>
                  <a:pt x="51" y="25"/>
                </a:lnTo>
                <a:lnTo>
                  <a:pt x="38" y="25"/>
                </a:lnTo>
                <a:lnTo>
                  <a:pt x="38" y="31"/>
                </a:lnTo>
                <a:lnTo>
                  <a:pt x="44" y="37"/>
                </a:lnTo>
                <a:lnTo>
                  <a:pt x="57" y="37"/>
                </a:lnTo>
                <a:lnTo>
                  <a:pt x="70" y="43"/>
                </a:lnTo>
                <a:lnTo>
                  <a:pt x="76" y="50"/>
                </a:lnTo>
                <a:lnTo>
                  <a:pt x="82" y="56"/>
                </a:lnTo>
                <a:lnTo>
                  <a:pt x="82" y="62"/>
                </a:lnTo>
                <a:lnTo>
                  <a:pt x="76" y="81"/>
                </a:lnTo>
                <a:lnTo>
                  <a:pt x="70" y="93"/>
                </a:lnTo>
                <a:lnTo>
                  <a:pt x="57" y="99"/>
                </a:lnTo>
                <a:lnTo>
                  <a:pt x="38" y="106"/>
                </a:lnTo>
                <a:lnTo>
                  <a:pt x="19" y="99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2128680" y="9901080"/>
            <a:ext cx="150840" cy="147960"/>
          </a:xfrm>
          <a:custGeom>
            <a:avLst/>
            <a:gdLst/>
            <a:ahLst/>
            <a:rect l="l" t="t" r="r" b="b"/>
            <a:pathLst>
              <a:path w="95" h="93">
                <a:moveTo>
                  <a:pt x="0" y="93"/>
                </a:moveTo>
                <a:lnTo>
                  <a:pt x="0" y="0"/>
                </a:lnTo>
                <a:lnTo>
                  <a:pt x="44" y="0"/>
                </a:lnTo>
                <a:lnTo>
                  <a:pt x="64" y="0"/>
                </a:lnTo>
                <a:lnTo>
                  <a:pt x="76" y="6"/>
                </a:lnTo>
                <a:lnTo>
                  <a:pt x="83" y="13"/>
                </a:lnTo>
                <a:lnTo>
                  <a:pt x="89" y="31"/>
                </a:lnTo>
                <a:lnTo>
                  <a:pt x="89" y="37"/>
                </a:lnTo>
                <a:lnTo>
                  <a:pt x="83" y="44"/>
                </a:lnTo>
                <a:lnTo>
                  <a:pt x="76" y="50"/>
                </a:lnTo>
                <a:lnTo>
                  <a:pt x="64" y="56"/>
                </a:lnTo>
                <a:lnTo>
                  <a:pt x="95" y="93"/>
                </a:lnTo>
                <a:lnTo>
                  <a:pt x="51" y="93"/>
                </a:lnTo>
                <a:lnTo>
                  <a:pt x="38" y="62"/>
                </a:lnTo>
                <a:lnTo>
                  <a:pt x="38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592360" y="9901080"/>
            <a:ext cx="182520" cy="147960"/>
          </a:xfrm>
          <a:custGeom>
            <a:avLst/>
            <a:gdLst/>
            <a:ahLst/>
            <a:rect l="l" t="t" r="r" b="b"/>
            <a:pathLst>
              <a:path w="115" h="93">
                <a:moveTo>
                  <a:pt x="0" y="93"/>
                </a:moveTo>
                <a:lnTo>
                  <a:pt x="32" y="0"/>
                </a:lnTo>
                <a:lnTo>
                  <a:pt x="77" y="0"/>
                </a:lnTo>
                <a:lnTo>
                  <a:pt x="115" y="93"/>
                </a:lnTo>
                <a:lnTo>
                  <a:pt x="70" y="93"/>
                </a:lnTo>
                <a:lnTo>
                  <a:pt x="64" y="81"/>
                </a:lnTo>
                <a:lnTo>
                  <a:pt x="38" y="81"/>
                </a:lnTo>
                <a:lnTo>
                  <a:pt x="38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876320" y="9941040"/>
            <a:ext cx="41400" cy="69840"/>
          </a:xfrm>
          <a:custGeom>
            <a:avLst/>
            <a:gdLst/>
            <a:ahLst/>
            <a:rect l="l" t="t" r="r" b="b"/>
            <a:pathLst>
              <a:path w="26" h="44">
                <a:moveTo>
                  <a:pt x="0" y="44"/>
                </a:moveTo>
                <a:lnTo>
                  <a:pt x="0" y="0"/>
                </a:lnTo>
                <a:lnTo>
                  <a:pt x="13" y="0"/>
                </a:lnTo>
                <a:lnTo>
                  <a:pt x="19" y="6"/>
                </a:lnTo>
                <a:lnTo>
                  <a:pt x="19" y="12"/>
                </a:lnTo>
                <a:lnTo>
                  <a:pt x="26" y="19"/>
                </a:lnTo>
                <a:lnTo>
                  <a:pt x="19" y="31"/>
                </a:lnTo>
                <a:lnTo>
                  <a:pt x="6" y="37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2189160" y="9931320"/>
            <a:ext cx="20520" cy="39600"/>
          </a:xfrm>
          <a:custGeom>
            <a:avLst/>
            <a:gdLst/>
            <a:ahLst/>
            <a:rect l="l" t="t" r="r" b="b"/>
            <a:pathLst>
              <a:path w="13" h="25">
                <a:moveTo>
                  <a:pt x="0" y="0"/>
                </a:moveTo>
                <a:lnTo>
                  <a:pt x="13" y="0"/>
                </a:lnTo>
                <a:lnTo>
                  <a:pt x="13" y="12"/>
                </a:lnTo>
                <a:lnTo>
                  <a:pt x="13" y="18"/>
                </a:lnTo>
                <a:lnTo>
                  <a:pt x="0" y="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2664000" y="9941040"/>
            <a:ext cx="29880" cy="48960"/>
          </a:xfrm>
          <a:custGeom>
            <a:avLst/>
            <a:gdLst/>
            <a:ahLst/>
            <a:rect l="l" t="t" r="r" b="b"/>
            <a:pathLst>
              <a:path w="19" h="31">
                <a:moveTo>
                  <a:pt x="0" y="31"/>
                </a:moveTo>
                <a:lnTo>
                  <a:pt x="6" y="19"/>
                </a:lnTo>
                <a:lnTo>
                  <a:pt x="6" y="6"/>
                </a:lnTo>
                <a:lnTo>
                  <a:pt x="6" y="0"/>
                </a:lnTo>
                <a:lnTo>
                  <a:pt x="6" y="6"/>
                </a:lnTo>
                <a:lnTo>
                  <a:pt x="13" y="19"/>
                </a:lnTo>
                <a:lnTo>
                  <a:pt x="19" y="31"/>
                </a:lnTo>
                <a:lnTo>
                  <a:pt x="0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16:35:55Z</dcterms:created>
  <dc:creator>Jaqueline</dc:creator>
  <dc:description/>
  <dc:language>en-US</dc:language>
  <cp:lastModifiedBy>SRH</cp:lastModifiedBy>
  <dcterms:modified xsi:type="dcterms:W3CDTF">2002-12-10T16:44:13Z</dcterms:modified>
  <cp:revision>5</cp:revision>
  <dc:subject/>
  <dc:title>Apresentação do PowerPoint</dc:title>
</cp:coreProperties>
</file>