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whoosh.wav" ContentType="audio/x-wav"/>
  <Override PartName="/ppt/media/image3.png" ContentType="image/png"/>
  <Override PartName="/ppt/media/camera.wav" ContentType="audio/x-wav"/>
  <Override PartName="/ppt/media/carbrake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E0C2-052B-4124-AB36-D8877AEAF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80EC-7E23-4370-872B-74026456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438A-A760-4B9A-BD86-10AB9AC0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3841-809F-43E4-829F-48BD3428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DA82-807B-411D-8B33-BBC82CF43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69AC-E234-4BA7-851A-87DB7320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2DCC-4C5B-46E6-A07F-12031F5B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18E9-8172-42E5-ACFA-7584B08C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A81D-28EB-48D3-AD0C-708859A1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D0E0-19CF-4CA0-A084-B8136B8D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2384-F24D-4234-BADE-68D38465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2451-F7D2-4991-9C0F-7913CB71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5E03-4F47-4197-B03F-A4182B2F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E0D5-9BB8-4BC7-B725-82DA9252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AE75-B7D9-41C1-B012-5EA19096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38F7-E896-46A2-A8FE-299EC89C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4C2B-0AAB-49A1-8565-A514398AC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6D73-0B61-40E2-952B-076493BE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C0E9-7321-4068-BE1E-DB3FAF91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AE6A-ECAA-46DD-A457-9EE56B3A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BA6A-B00A-4F12-924C-48DE97F6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D916-7F7B-42A2-9861-3D43419C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1212-0505-4610-87B8-FAB124B0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670F-014C-4BB5-B506-D7C85CE2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DECA-B509-485E-9E25-8BD7A9AA145E}" type="slidenum">
              <a:rPr b="0" lang="pt-BR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AA9E-53A0-4E19-A692-7E254D625F85}" type="slidenum"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INSTRUMENTO DA COBRANÇA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OPINIÕES E RECOMENDAÇÕ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Saneamento Básic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ara a credibilidade da cobrança, deve-se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er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Participação dos usuários da bacia, com     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representatividade da sociedade,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na            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formação do preço a ser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cobrad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Total transparência na gestão dos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recursos financeiros obtidos da cobrança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Total certeza de que os valores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rrecadados em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uma Bacia serão nela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plicados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cobrança deverá levar em consideração os seguintes itens, entre outro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reço Público Unitário (PPU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Volumes Captado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   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Volumes Consumidos ( perda inerente 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spejo de efluent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Classe de corpo líquido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O PPU deverá  estar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ujeito as leis de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ercado (oferta x demanda)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- O PPU  deverá respeitar as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sazonalidades.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(Período seco e úmido).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- O Preço Público Unitário (PPU), precisa de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ser estudado tecnicamente, tirando-se a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sua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formação por base empírica.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- Na formação do preço de cobrança devemos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dar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maior peso ao componente poluidor e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menor peso ao componente captação  de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água.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RECOMENDAÇÕE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Propomo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) Que a CTIL/CTCOB realize seminário  sobre o tema: “A Política de Recursos Hídricos e a Cobrança pelo Uso da Água”, tendo como convidados as Prestadoras de Serviços deste segment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b) Que a CTCOB crie um grupo técnico para estudar um embasamento técnico, para a definição do PPU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IMPACTOS SETORIAIS DA COBRANÇ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quase totalidade das </a:t>
            </a:r>
            <a:r>
              <a:rPr b="0" lang="en-US" sz="3200" spc="-1" strike="noStrike" u="sng">
                <a:solidFill>
                  <a:srgbClr val="00264c"/>
                </a:solidFill>
                <a:uFillTx/>
                <a:latin typeface="Times New Roman"/>
              </a:rPr>
              <a:t>prestadoras de serviço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, teriam dificuldades de absorver aumento de dispêndios em sua estrutura de custos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bsorver a cobrança implica sempre em adequar custos ou postergar investimentos, algo sempre complicado de se fazer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IMPACTOS SETORIAIS DA COBRANÇ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Não é intenção repassar custos para o usuário final, que terá dificuldades de absorver aumentos tarifários. Reflexo desse aumento: crescimento da </a:t>
            </a:r>
            <a:r>
              <a:rPr b="0" lang="en-US" sz="3200" spc="-1" strike="noStrike" u="sng">
                <a:solidFill>
                  <a:srgbClr val="00264c"/>
                </a:solidFill>
                <a:uFillTx/>
                <a:latin typeface="Times New Roman"/>
              </a:rPr>
              <a:t>inadimplência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É um dilema que o setor deverá analisar, discutir e a decisão será sempre caso a caso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tarifa pelo uso tem de ter valores módicos e ser referendada por instância superior aos Comitês de Bacia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DEFINIÇÃO DE USOS INSIGNIFICANTE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O universo das Prestadoras de Serviços inclui a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ESB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AE’S, DAAE’S (Municipal)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mpresas Privada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Dentro deste universo, é difícil inserir o conceito de uso insignificante, pois quase todas estas “unidades consumidoras” são representativas a nível da utilização dos recursos hídrico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LIMITES DE SUSTENTABILIDADE ECONÔMICA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628280"/>
            <a:ext cx="7772400" cy="46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O Brasil é muito diversificad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O limite de sustentabilidade estará  sempre atrelado ao cenário econômico de cada região e como a Bacia Hidrográfica se insere dentro desse  cenári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Nessa situação, é muito difícil definir um limite de sustentabilidade da cobrança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QUANDO IMPLANTAR 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umprir a Lei 9.433/97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apítulo IV –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ção IV – Da cobrança do uso dos Recursos Hídrico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ítulo II – Capítulo III – Dos comitês de Bacia Hidrográfica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ítulo II – Capítulo IV – Das agências de água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QUANDO IMPLANTAR 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</a:rPr>
              <a:t>Durante o andamento dos trâmites para cumprimento itens da lei retromencionada, os Comitês de Bacia deverão: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</a:rPr>
              <a:t>Realizar amplo debate entre usuários e a sociedade, visando: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Explicar o que é a COBRANÇA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senvolvimento amplo programa Plano de Educação Ambiental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ostrando claramente a situação de degradação da Bacia (quantitativamente e qualitativamente)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ando ampla divulgação junto aos usuários da Bacia daquilo que está sendo realizado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iscutir o Plano de Bacia, de forma democrática, com a participação da Sociedade e dos usuários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Introdução do conceito de auto sustentabilidade econômica da Bacia Hidrográfica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Este conceito tem por base que, a unidade territorial Bacia Hidrográfica seja um “ente econômico” capaz de no 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  <a:ea typeface="Times New Roman"/>
              </a:rPr>
              <a:t>médio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e 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  <a:ea typeface="Times New Roman"/>
              </a:rPr>
              <a:t>longo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prazos encontrar a maioria das soluções para os seus próprios problemas, preservando os seus corpos líquidos e assegurando as necessidades de gerações futura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Baseado neste conceito, deveremos ter em mente os seguintes princípios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)  Isonomia de Tratamento aos Integrantes da Bacia.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Inexistência de isenções de qualquer espécie.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  <a:ea typeface="Times New Roman"/>
              </a:rPr>
              <a:t>“Todos devem pagar”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b) Isonomia de Aplicação, o que implicaria na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plicação, ao mesmo tempo, da cobrança a todos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os setore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  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9T16:06:44Z</dcterms:created>
  <dc:creator>Katia Lepletier</dc:creator>
  <dc:description/>
  <dc:language>en-US</dc:language>
  <cp:lastModifiedBy>Katia Lepletier</cp:lastModifiedBy>
  <dcterms:modified xsi:type="dcterms:W3CDTF">2002-09-24T17:56:41Z</dcterms:modified>
  <cp:revision>39</cp:revision>
  <dc:subject/>
  <dc:title>Apresentação do PowerPoint</dc:title>
</cp:coreProperties>
</file>