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image3.png" ContentType="image/png"/>
  <Override PartName="/ppt/media/camera.wav" ContentType="audio/x-wav"/>
  <Override PartName="/ppt/media/carbrak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E8A-8049-4E32-B776-34576BB8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766-4880-4870-8CAD-D6ADC33B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308A-D44C-4342-8682-3A18F742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6609-2264-4538-BC6C-EEE5C0EF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F1E6-26EB-4A14-8E6A-19BE97B0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EA48-C12B-4A77-9B36-86FB4622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7B85-B3EA-4F92-A6DA-EBFDC251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2789-8D09-4CE8-84E6-A4CD2E82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23DC-71D1-4A7B-ADCC-A1AB7B56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944B-F985-4BFA-9174-A8818A55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583A-92CF-4BBC-9896-C617A95A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5A8D-795E-42BC-A0A2-71A52BF3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B0E0-1070-41D8-B920-F9FCE471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CE3D-3F7F-48D0-B7B2-8C23D2D0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9609-0A77-40FE-AEFC-F033A7E6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3DF4-925E-44B9-80BD-348D044F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0496-C57B-4CB8-92D6-6B59DB87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A9E-3DFA-480A-B54A-8858A53D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DA9E-6337-4035-940A-878EA6D2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EA0-F93B-49C0-8BB9-DF082B54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39A-FD91-48F1-8630-5C1DCC8C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B0BE-13CC-45B4-9EC2-32DCAF31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227B-7348-4BF3-B15E-13EA0BB1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CA5-347A-4FE9-8FE7-B87734A3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2090-B36D-4F9B-9566-66EF800E5D65}" type="slidenum">
              <a:rPr b="0" lang="pt-BR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6F90-16FC-4BD3-B2DF-4660B6AD0776}" type="slidenum"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INSTRUMENTO DA COBRANÇA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OPINIÕES E RECOMENDAÇÕ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Saneamento Básic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ara a credibilidade da cobrança, deve-se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er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Participação dos usuários da bacia, com     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presentatividade da sociedade,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na            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rmação do preço a ser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br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Total transparência na gestão do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cursos financeiros obtidos da cobrança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Total certeza de que os valore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rrecadados em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uma Bacia serão nela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licados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cobrança deverá levar em consideração os seguintes itens, entre outr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ço Público Unitário (PPU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lumes Captado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lumes Consumidos ( perda inerente 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spejo de efluent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lasse de corpo líquido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O PPU deverá  estar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ujeito as leis de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ercado (oferta x demanda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O PPU  deverá respeitar as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azonalidades.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(Período seco e úmido)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O Preço Público Unitário (PPU), precisa de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er estudado tecnicamente, tirando-se a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ua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formação por base empírica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Na formação do preço de cobrança devemos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dar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maior peso ao componente poluidor e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menor peso ao componente captação  de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água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RECOMENDAÇÕ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pom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) Que a CTIL/CTCOB realize seminário  sobre o tema: “A Política de Recursos Hídricos e a Cobrança pelo Uso da Água”, tendo como convidados as Prestadoras de Serviços deste segment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) Que a CTCOB crie um grupo técnico para estudar um embasamento técnico, para a definição do PPU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MPACTOS SETORIAIS DA COBRANÇ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quase totalidade das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prestadoras de serviço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, teriam dificuldades de absorver aumento de dispêndios em sua estrutura de custos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bsorver a cobrança implica sempre em adequar custos ou postergar investimentos, algo sempre complicado de se fazer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MPACTOS SETORIAIS DA COBRANÇ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Não é intenção repassar custos para o usuário final, que terá dificuldades de absorver aumentos tarifários. Reflexo desse aumento: crescimento da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inadimplência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É um dilema que o setor deverá analisar, discutir e a decisão será sempre caso a caso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tarifa pelo uso tem de ter valores módicos e ser referendada por instância superior aos Comitês de Baci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EFINIÇÃO DE USOS INSIGNIFICANT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O universo das Prestadoras de Serviços inclui a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ESB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AE’S, DAAE’S (Municipal)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mpresas Privad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Dentro deste universo, é difícil inserir o conceito de uso insignificante, pois quase todas estas “unidades consumidoras” são representativas a nível da utilização dos recursos hídr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LIMITES DE SUSTENTABILIDADE ECONÔMICA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28280"/>
            <a:ext cx="777240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O Brasil é muito diversific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O limite de sustentabilidade estará  sempre atrelado ao cenário econômico de cada região e como a Bacia Hidrográfica se insere dentro desse  cenári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Nessa situação, é muito difícil definir um limite de sustentabilidade da cobranç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QUANDO IMPLANTAR 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umprir a Lei 9.433/97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apítulo IV –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ção IV – Da cobrança do uso dos Recursos Hídr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ítulo II – Capítulo III – Dos comitês de Bacia Hidrográfic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ítulo II – Capítulo IV – Das agências de águ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QUANDO IMPLANTAR 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Durante o andamento dos trâmites para cumprimento itens da lei retromencionada, os Comitês de Bacia deverão: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Realizar amplo debate entre usuários e a sociedade, visando: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Explicar o que é a COBRANÇA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senvolvimento amplo programa Plano de Educação Ambiental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ostrando claramente a situação de degradação da Bacia (quantitativamente e qualitativamente)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ando ampla divulgação junto aos usuários da Bacia daquilo que está sendo realizado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iscutir o Plano de Bacia, de forma democrática, com a participação da Sociedade e dos usuários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trodução do conceito de auto sustentabilidade econômica da Bacia Hidrográfic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Este conceito tem por base que, a unidade territorial Bacia Hidrográfica seja um “ente econômico” capaz de no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médi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e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long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prazos encontrar a maioria das soluções para os seus próprios problemas, preservando os seus corpos líquidos e assegurando as necessidades de gerações futura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aseado neste conceito, deveremos ter em mente os seguintes princípios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)  Isonomia de Tratamento aos Integrantes da Bacia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nexistência de isenções de qualquer espécie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“Todos devem pagar”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) Isonomia de Aplicação, o que implicaria na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licação, ao mesmo tempo, da cobrança a todos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os setor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16:06:44Z</dcterms:created>
  <dc:creator>Katia Lepletier</dc:creator>
  <dc:description/>
  <dc:language>en-US</dc:language>
  <cp:lastModifiedBy>Katia Lepletier</cp:lastModifiedBy>
  <dcterms:modified xsi:type="dcterms:W3CDTF">2002-09-24T17:56:41Z</dcterms:modified>
  <cp:revision>39</cp:revision>
  <dc:subject/>
  <dc:title>Apresentação do PowerPoint</dc:title>
</cp:coreProperties>
</file>