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13F4-FEA3-4100-87E8-0D7FE278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10F4-2A93-4C9E-A8A8-DFE4EC78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15E2-B7EB-4972-B902-2593AAFE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1A1A-CE14-4077-B857-1FAE1A29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B732-2286-4BBD-AA05-C6B0F63A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3CD2-9418-4276-8BF1-0C24941A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D3BD-2058-4763-B316-FDB1B1EB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D9CC-37F0-4E45-BEF2-F7D071D0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EF7E-D774-4E04-B29B-0E97A873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AFE2-D755-4292-835A-7D76D64A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4760-FF02-4639-9BB1-BD0D5540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8AFC-7058-4A47-9ABF-A0F47533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DED8-10D0-41CF-A829-B5808CEEB977}" type="slidenum">
              <a:rPr b="0" lang="pt-BR" sz="14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4d4d4d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4d4d4d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4d4d4d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O IMPACTO DA COBRANÇA PELO USO DA ÁGUA </a:t>
            </a:r>
            <a:br>
              <a:rPr sz="4400"/>
            </a:b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NO COMPORTAMENTO</a:t>
            </a:r>
            <a:br>
              <a:rPr sz="4400"/>
            </a:b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 DO USUÁRIO</a:t>
            </a:r>
            <a:endParaRPr b="0" lang="en-US" sz="4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480" y="4572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Marilene de O. Ramos M. dos Santo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D.Sc. Engenharia Ambiental 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Coordenadora do Núcleo de Água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CIDS/EBAPE/FGV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45960" y="255600"/>
          <a:ext cx="8452080" cy="63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255600"/>
                    <a:ext cx="845208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O impacto da cobrança sobre o usuário doméstico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71680" y="1257480"/>
          <a:ext cx="7981920" cy="560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257480"/>
                    <a:ext cx="798192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533520" y="2590920"/>
          <a:ext cx="8065800" cy="307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90920"/>
                    <a:ext cx="806580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O impacto da cobrança sobre</a:t>
            </a:r>
            <a:br>
              <a:rPr sz="3200"/>
            </a:b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 o usuário doméstico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O impacto da cobrança sobre o usuário industrial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6280" y="1447920"/>
          <a:ext cx="8172360" cy="52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447920"/>
                    <a:ext cx="817236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61960" y="38160"/>
            <a:ext cx="80215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Eficiência e efetividade financeira da cobrança pelo uso da água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550800" y="835200"/>
          <a:ext cx="8042400" cy="518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835200"/>
                    <a:ext cx="8042400" cy="51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Eficiência e efetividade financeira da cobrança pelo uso da água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752480"/>
            <a:ext cx="8458200" cy="55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Inglaterra e País de Gales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1,5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Financia apenas os custos do sistema de gestão (administrativos e de monitoramento)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França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30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Gera recursos para financiar parte dos investimento contemplados nos planos de bacia e os custos administrativos dos comitês/agências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Holanda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43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ressarcimento às agências dos custos incorridos para tratamento dos efluentes nas estações sob sua responsabilidade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cc"/>
                </a:solidFill>
                <a:latin typeface="Tahoma"/>
              </a:rPr>
              <a:t>Avaliação das experiências/propostas brasileiras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6320" y="1239840"/>
          <a:ext cx="8993160" cy="43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39840"/>
                    <a:ext cx="899316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20000"/>
              </a:lnSpc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Analisar o impacto da </a:t>
            </a:r>
            <a:br>
              <a:rPr sz="4200"/>
            </a:b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cobrança pelo uso da água bruta e da cobrança-tarifaç</a:t>
            </a:r>
            <a:r>
              <a:rPr b="0" lang="pt-BR" sz="4200" spc="-1" strike="noStrike">
                <a:solidFill>
                  <a:srgbClr val="4d4d4d"/>
                </a:solidFill>
                <a:latin typeface="Tahoma"/>
                <a:ea typeface="Tahoma"/>
              </a:rPr>
              <a:t>ão </a:t>
            </a:r>
            <a:br>
              <a:rPr sz="4200"/>
            </a:br>
            <a:r>
              <a:rPr b="0" lang="pt-BR" sz="4200" spc="-1" strike="noStrike">
                <a:solidFill>
                  <a:srgbClr val="4d4d4d"/>
                </a:solidFill>
                <a:latin typeface="Tahoma"/>
                <a:ea typeface="Tahoma"/>
              </a:rPr>
              <a:t>de água e esgoto </a:t>
            </a: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sobre o comportamento do usuário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2860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cc"/>
                </a:solidFill>
                <a:latin typeface="Tahoma"/>
              </a:rPr>
              <a:t>Objetivo global do estudo</a:t>
            </a:r>
            <a:endParaRPr b="0" lang="en-US" sz="4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Impactos da cobrança pelo uso da água sobre as tarifas de saneamento no Brasil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6320" y="1295280"/>
          <a:ext cx="8991360" cy="522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95280"/>
                    <a:ext cx="8991360" cy="52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80880" y="304920"/>
          <a:ext cx="830592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3059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57200" y="0"/>
          <a:ext cx="82296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8229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685800" y="1828800"/>
          <a:ext cx="7591320" cy="421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59132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ahoma"/>
              </a:rPr>
              <a:t>Tarifa x Consum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ahoma"/>
              </a:rPr>
              <a:t>Países da OCD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cc"/>
                </a:solidFill>
                <a:latin typeface="Tahoma"/>
              </a:rPr>
              <a:t>Relação Tarifas x Consumo no Brasil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Brasil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: R$55/hab.ano =1% da rend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 e esgoto: R$107/hab.ano = 2% da rend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aíses da OCDE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+Esgoto = 0,3 a 0,8% da renda 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epasse para as tarifas dos custos de ampliação destes é limitad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Tarifas ponderadas elevadas e níveis de consumo moderados para um país tropical: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Tarifa média = US$1,13/m³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sumo médio = 150l/hab.di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fasagem entre custos de provisão e tarifas vem se reduzindo, média de  6% (2000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Simulação da receita potencial da cobrança por uso da água no Brasil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Médio prazo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em cobrança nas bacias do Amazonas, Tocantins e Paraguai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mais bacias adotou-se como “</a:t>
            </a:r>
            <a:r>
              <a:rPr b="1" i="1" lang="pt-BR" sz="2600" spc="-1" strike="noStrike">
                <a:solidFill>
                  <a:srgbClr val="4d4d4d"/>
                </a:solidFill>
                <a:latin typeface="Tahoma"/>
              </a:rPr>
              <a:t>cobrança unitária per capita de médio prazo”</a:t>
            </a: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 os seguintes valores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Vertente N/NE e São Francisco: US$0,6/hab.ano (similar ao Ceará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Vertente Leste, Uruguai e Vertente S/SE: US$1,3/hab.ano (similar ao Paraíba do Sul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Bacia do Paraná US$5/hab.ano (similar ao proposto para São Paulo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Longo prazo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obrança  futura em níveis similares ao sistema francês, mas ponderado pela capacidade de pagamento existente em cada bacia (renda per capita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Cobrança Longo Prazo (US$/hab.ano)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= 30*PIB</a:t>
            </a:r>
            <a:r>
              <a:rPr b="1" lang="pt-BR" sz="2600" spc="-1" strike="noStrike" baseline="-25000">
                <a:solidFill>
                  <a:srgbClr val="ff3300"/>
                </a:solidFill>
                <a:latin typeface="Tahoma"/>
              </a:rPr>
              <a:t>BACIA</a:t>
            </a: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/23.954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endo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obrança francesa = US$30/hab.an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IB França = US$23.954/hab.an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Simulação da receita potencial da cobrança por uso da água no Brasil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15920" y="380880"/>
          <a:ext cx="891396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380880"/>
                    <a:ext cx="891396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Impacto ambiental da cobrança no Brasil: alguns cenários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Investimentos em Água e Esgoto (SEDU, 1998)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$44 bilhões, até 2010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20 bilhões em coleta de esgotos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10 bilhões em tratamento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 7 bilhões em distribuição de água; 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7bilhões em reposição dos sistemas existente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Investimento em redução da poluição industrial (MENDES, 1994)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ínimo de 50% da carga poluente: US$815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ínimo de 75% da carga poluente: US$1.006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áximo da carga poluente: US$1.659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Impacto ambiental da cobrança no Brasil: alguns cenários (cont)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spcBef>
                <a:spcPts val="1800"/>
              </a:spcBef>
              <a:buClr>
                <a:srgbClr val="4d4d4d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nálise da experiência estrangeira de cobrança pelo uso da água bruta em termos de eficiência e efetividade (financeira e econômica), impacto ambiental, praticabilidade e aceitabilidad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5659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2) Análise das práticas dos países da OCDE em termos de tarif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 de água e esgot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e seu impacto sobre o usuário doméstic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5659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3) Avali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das potencialidades, impactos e limites da cobrança e tarif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de água no Brasil, 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à luz da 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experiência estrangeir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1522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cc"/>
                </a:solidFill>
                <a:latin typeface="Tahoma"/>
              </a:rPr>
              <a:t>Objetivos específicos</a:t>
            </a:r>
            <a:endParaRPr b="0" lang="en-US" sz="4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Estruturação da gestão de recursos hídricos no Brasil – algumas constatações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d4d4d"/>
                </a:solidFill>
                <a:latin typeface="Tahoma"/>
              </a:rPr>
              <a:t>    </a:t>
            </a:r>
            <a:r>
              <a:rPr b="1" lang="pt-BR" sz="2000" spc="-1" strike="noStrike">
                <a:solidFill>
                  <a:srgbClr val="ff3300"/>
                </a:solidFill>
                <a:latin typeface="Tahoma"/>
              </a:rPr>
              <a:t>Limitações para tanto da cobrança pelo uso da água bruta, como da cobrança pelos serviços de saneamento de gerar os recursos necessários</a:t>
            </a: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tores usuários: o que pagam ou pagarão não será suficiente para a reversão do quadr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tor público e os organismos de fomento: Buscar fontes de financiamento de “baixo custo” para gestão e investiment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m capacidade de intervenção e melhoria real dos problemas que afetam a qualidade da água e a disponibilidade hídrica, sistema pode cair em descrédito, e a cobrança passa a ser vista como apenas mais um impost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040" y="12952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Gradualismo e simplicidade: qualidades essenciais, dentro do já complicado sistema federalista brasileiro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Criação de agências de bacias ou sub-bacias precedida de análise de sua sustentabilidade econômico-financeira, social e técnica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Uniformidade na cobrança pelo uso da água: metodologias díspares em cada bacia ou sub-bacia, reduz transparência, prejudica a aceitabilidade e o impacto ambiental da aplicação do instrumento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Estruturação da gestão de recursos hídricos no Brasil – recomendações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381240" y="144756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etividade financeir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o sistema de gestão de gerar receitas para financiamento das atividades necessárias ao alcance dos objetivos para os quais o sistema foi montad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iciência financeir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é relativa aos custos de transação decorrentes dos encargos gerados para as autoridades responsáveis por sua aplicação e para os usuári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iciência econômic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a cobrança de incorporar os custos sociais (externalidades) dos us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Impacto ambiental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o instrumento de influenciar o comportamento dos usuários e melhorar a qualidade ambienta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Praticabilidade e Aceitabilidad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Cobrança pelo uso da água x Instrumento Econômico</a:t>
            </a:r>
            <a:r>
              <a:rPr b="0" lang="pt-BR" sz="24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Usuário doméstico individua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eduz uso quantitativ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Não tem controle sobre o uso qualitativ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ode privilegiar confort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Limitações macroeconômica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Prestadores dos serviços de água e esgoto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2251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Se repassam não são induzidos a reduzir uso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Usuário industrial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Extremamente sensível à cobrança quantitativ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Mais sensível à cobrança qualitativa quando descarrega os efluentes diretamente nos corpos hídrico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scarga em rede pública: depende dos padrões permitidos e do tipo de tarifa/cobranç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Cobrança da água bruta na França, Alemanha, Holanda e </a:t>
            </a:r>
            <a:br>
              <a:rPr sz="3600"/>
            </a:b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Inglaterra &amp; País de Gales 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Cobrança nos países analisados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não se baseia nos danos ambientais decorrentes do uso da águ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é um instrumento arrecadador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Desvinculação entre a cobrança por qualidade e por quantidade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s por captação e por consumo incidem sobre o volume outorgado/licenciado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por poluição: por kg de poluente presente no efluente final (tabelas de cargas poluentes por tipologia e porte da fonte)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por poluição: fórmula única definida nacionalmente e incide sobre fatores de cobrança também definidos nacionalmente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gradual (valores unitários e  novos poluentes) 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1T16:30:18Z</dcterms:created>
  <dc:creator>FGV</dc:creator>
  <dc:description/>
  <dc:language>en-US</dc:language>
  <cp:lastModifiedBy>Mramos</cp:lastModifiedBy>
  <cp:lastPrinted>2002-04-01T16:57:58Z</cp:lastPrinted>
  <dcterms:modified xsi:type="dcterms:W3CDTF">2002-09-24T22:47:50Z</dcterms:modified>
  <cp:revision>56</cp:revision>
  <dc:subject/>
  <dc:title>O IMPACTO DA COBRANÇA PELO USO DA ÁGUA NO COMPORTAMENTO DO USUÁRIO</dc:title>
</cp:coreProperties>
</file>