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0" spc="-1" strike="noStrike">
                <a:solidFill>
                  <a:srgbClr val="ffff00"/>
                </a:solidFill>
                <a:latin typeface="Arial"/>
                <a:ea typeface="Times New Roman"/>
              </a:rPr>
              <a:t>“</a:t>
            </a:r>
            <a:r>
              <a:rPr b="1" i="1" lang="pt-BR" sz="4000" spc="-1" strike="noStrike">
                <a:solidFill>
                  <a:srgbClr val="ffff00"/>
                </a:solidFill>
                <a:latin typeface="Arial"/>
                <a:ea typeface="Times New Roman"/>
              </a:rPr>
              <a:t>COBRANÇA PELO USO DA ÁGUA – UMA BREVE ABORDAGEM”</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ffcc00"/>
                </a:solidFill>
                <a:latin typeface="Times New Roman"/>
              </a:rPr>
              <a:t>Rodrigo Speziali de Carvalho – CERH -MG</a:t>
            </a:r>
            <a:endParaRPr b="0" lang="en-US" sz="2400" spc="-1" strike="noStrike">
              <a:solidFill>
                <a:srgbClr val="000000"/>
              </a:solidFill>
              <a:latin typeface="Times New Roman"/>
            </a:endParaRPr>
          </a:p>
        </p:txBody>
      </p:sp>
      <p:pic>
        <p:nvPicPr>
          <p:cNvPr id="39" name="" descr=""/>
          <p:cNvPicPr/>
          <p:nvPr/>
        </p:nvPicPr>
        <p:blipFill>
          <a:blip r:embed="rId1"/>
          <a:stretch/>
        </p:blipFill>
        <p:spPr>
          <a:xfrm>
            <a:off x="228600" y="0"/>
            <a:ext cx="1295280" cy="1295280"/>
          </a:xfrm>
          <a:prstGeom prst="rect">
            <a:avLst/>
          </a:prstGeom>
          <a:ln w="0">
            <a:noFill/>
          </a:ln>
        </p:spPr>
      </p:pic>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76320" y="76320"/>
            <a:ext cx="1371600" cy="1119240"/>
          </a:xfrm>
          <a:prstGeom prst="rect">
            <a:avLst/>
          </a:prstGeom>
          <a:ln w="0">
            <a:noFill/>
          </a:ln>
        </p:spPr>
      </p:pic>
      <p:sp>
        <p:nvSpPr>
          <p:cNvPr id="61" name=""/>
          <p:cNvSpPr/>
          <p:nvPr/>
        </p:nvSpPr>
        <p:spPr>
          <a:xfrm>
            <a:off x="533520" y="1066680"/>
            <a:ext cx="81532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1º  Em cada Bacia Hidrográfica, enquanto não ocorrer a aprovação do respectivo Plano Diretor de Recursos Hídricos, capaz de definir os padrões de quantidade, qualidade e regime a serem alcançados, a cobrança pelo uso dos recursos hídricos poderá iniciar-se com a tarifação progressiva em razão do consumo, levando em conta:</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 - </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vazões de derivação das coleções hídricas superficiais e subterrâneas, declaradas, estimadas, medidas ou outorgadas; </a:t>
            </a:r>
            <a:endParaRPr b="0" lang="en-US" sz="2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76320" y="76320"/>
            <a:ext cx="1371600" cy="1119240"/>
          </a:xfrm>
          <a:prstGeom prst="rect">
            <a:avLst/>
          </a:prstGeom>
          <a:ln w="0">
            <a:noFill/>
          </a:ln>
        </p:spPr>
      </p:pic>
      <p:sp>
        <p:nvSpPr>
          <p:cNvPr id="63" name=""/>
          <p:cNvSpPr/>
          <p:nvPr/>
        </p:nvSpPr>
        <p:spPr>
          <a:xfrm>
            <a:off x="380880" y="1066680"/>
            <a:ext cx="830592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I-</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vazões de lançamento nos cursos d’água, no solo ou nos aqüíferos subterrâneos, declaradas, estimadas, medidas ou outorgada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II-</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 duração, periodicidade e sazonalidade das derivações e lançamento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V-</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variações de regime artificialmente introduzidas pelos usuários, estabelecidas em relação às vazões extremas naturais do respectivo curso d’água;</a:t>
            </a:r>
            <a:endParaRPr b="0" lang="en-US" sz="2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76320" y="76320"/>
            <a:ext cx="1371600" cy="1119240"/>
          </a:xfrm>
          <a:prstGeom prst="rect">
            <a:avLst/>
          </a:prstGeom>
          <a:ln w="0">
            <a:noFill/>
          </a:ln>
        </p:spPr>
      </p:pic>
      <p:sp>
        <p:nvSpPr>
          <p:cNvPr id="65" name=""/>
          <p:cNvSpPr/>
          <p:nvPr/>
        </p:nvSpPr>
        <p:spPr>
          <a:xfrm>
            <a:off x="533520" y="1066680"/>
            <a:ext cx="8153280" cy="5486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V-</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variações, artificialmente introduzidas pelos usuários, na capacidade de recarga e de funcionamento perene das coleções hídricas subterrânea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VI-</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variações, artificialmente introduzidas pelos usuários, no regime natural de escoamento das calhas fluviais;</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VII-</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modificações, artificialmente introduzidas pelos usuários, na morfologia e na constituição das margens e no álveo dos cursos d’água;</a:t>
            </a:r>
            <a:endParaRPr b="0" lang="en-US" sz="2400" spc="-1" strike="noStrike">
              <a:solidFill>
                <a:srgbClr val="000000"/>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76320" y="76320"/>
            <a:ext cx="1371600" cy="1119240"/>
          </a:xfrm>
          <a:prstGeom prst="rect">
            <a:avLst/>
          </a:prstGeom>
          <a:ln w="0">
            <a:noFill/>
          </a:ln>
        </p:spPr>
      </p:pic>
      <p:sp>
        <p:nvSpPr>
          <p:cNvPr id="67" name=""/>
          <p:cNvSpPr/>
          <p:nvPr/>
        </p:nvSpPr>
        <p:spPr>
          <a:xfrm>
            <a:off x="533520" y="1295280"/>
            <a:ext cx="8153280" cy="4648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VIII-</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as limitações, artificialmente introduzidas pelos usuários, na capacidade de transporte hidroviário dos cursos d’água;</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X-</a:t>
            </a:r>
            <a:r>
              <a:rPr b="1" i="1" lang="pt-BR" sz="2400" spc="-1" strike="noStrike">
                <a:solidFill>
                  <a:srgbClr val="ffffff"/>
                </a:solidFill>
                <a:latin typeface="Arial"/>
                <a:ea typeface="Times New Roman"/>
              </a:rPr>
              <a:t>	</a:t>
            </a:r>
            <a:r>
              <a:rPr b="1" i="1" lang="pt-BR" sz="2400" spc="-1" strike="noStrike">
                <a:solidFill>
                  <a:srgbClr val="ffffff"/>
                </a:solidFill>
                <a:latin typeface="Arial"/>
                <a:ea typeface="Times New Roman"/>
              </a:rPr>
              <a:t>o potencial poluidor dos lançamentos, estabelecido por confronto com os parâmetros de enquadramento do respectivo curso d água ou formação aqüífera;</a:t>
            </a:r>
            <a:endParaRPr b="0" lang="en-US" sz="2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76320" y="76320"/>
            <a:ext cx="1371600" cy="1119240"/>
          </a:xfrm>
          <a:prstGeom prst="rect">
            <a:avLst/>
          </a:prstGeom>
          <a:ln w="0">
            <a:noFill/>
          </a:ln>
        </p:spPr>
      </p:pic>
      <p:sp>
        <p:nvSpPr>
          <p:cNvPr id="69" name=""/>
          <p:cNvSpPr/>
          <p:nvPr/>
        </p:nvSpPr>
        <p:spPr>
          <a:xfrm>
            <a:off x="304920" y="1066680"/>
            <a:ext cx="8381880" cy="4876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2º  A duração e a vigência do período de transição, durante o qual poderá ser aplicado o procedimento alternativo de cobrança descrito no parágrafo anterior serão aprovados, em cada caso, pelo Conselho Estadual de Recursos Hídricos, a partir de proposição fundamentada e detalhada do respectivo Comitê de Bacia Hidrográfica ou, na sua inexistência, a partir de proposição fundamentada e igualmente detalhada do Instituto Mineiro de Gestão das Águas - IGAM, comportando uma única prorrogação, desde que o período total de transição, em cada bacia, não  venha a exceder três anos. </a:t>
            </a:r>
            <a:endParaRPr b="0" lang="en-US" sz="2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76320" y="76320"/>
            <a:ext cx="1371600" cy="1119240"/>
          </a:xfrm>
          <a:prstGeom prst="rect">
            <a:avLst/>
          </a:prstGeom>
          <a:ln w="0">
            <a:noFill/>
          </a:ln>
        </p:spPr>
      </p:pic>
      <p:sp>
        <p:nvSpPr>
          <p:cNvPr id="71" name=""/>
          <p:cNvSpPr/>
          <p:nvPr/>
        </p:nvSpPr>
        <p:spPr>
          <a:xfrm>
            <a:off x="228600" y="1523880"/>
            <a:ext cx="8458200" cy="3810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3º  A progressividade da cobrança durante o período de transição de que tratam os dois parágrafos anteriores, deverá ficar limitada à variação máxima de 100% (cem por cento) entre as taxas mínima e máxima, aplicáveis em cada circunstância, para um mesmo tipo de interferência no estado antecedente de cada um dos atributos considerados, conforme o conceito fixado no §1° do Art. 43 do Decreto n° 41.578.</a:t>
            </a:r>
            <a:endParaRPr b="0" lang="en-US" sz="2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6320" y="76320"/>
            <a:ext cx="1371600" cy="1119240"/>
          </a:xfrm>
          <a:prstGeom prst="rect">
            <a:avLst/>
          </a:prstGeom>
          <a:ln w="0">
            <a:noFill/>
          </a:ln>
        </p:spPr>
      </p:pic>
      <p:sp>
        <p:nvSpPr>
          <p:cNvPr id="73" name=""/>
          <p:cNvSpPr/>
          <p:nvPr/>
        </p:nvSpPr>
        <p:spPr>
          <a:xfrm>
            <a:off x="304920" y="1447920"/>
            <a:ext cx="838188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4º  Durante o período de transição de que tratam os três parágrafos anteriores, não poderão ser estabelecidas, discricionariamente, isenções de cobrança ou tarifação nula, para a mesma classe de uso ou para os mesmos tipos de interferência no estado antecedente das coleções hídricas, dentro de uma mesma região hidrográfica ou dentro do território de atuação de um mesmo Comitê de Bacia Hidrográfica.</a:t>
            </a:r>
            <a:endParaRPr b="0" lang="en-US" sz="2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76320" y="76320"/>
            <a:ext cx="1371600" cy="1119240"/>
          </a:xfrm>
          <a:prstGeom prst="rect">
            <a:avLst/>
          </a:prstGeom>
          <a:ln w="0">
            <a:noFill/>
          </a:ln>
        </p:spPr>
      </p:pic>
      <p:sp>
        <p:nvSpPr>
          <p:cNvPr id="75" name=""/>
          <p:cNvSpPr/>
          <p:nvPr/>
        </p:nvSpPr>
        <p:spPr>
          <a:xfrm>
            <a:off x="228600" y="1295280"/>
            <a:ext cx="84582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5º - A cobrança será efetuad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I.</a:t>
            </a: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pelas agências de bacia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II.</a:t>
            </a: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pelo IGAM nas bacias hidrográficas desprovidas de agências de bacia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 </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6º - Os valores diretamente arrecadados com a cobrança pelo uso de recursos hídricos serão depositados de acordo com o disposto no § 1º do artigo 27 da Lei 13.199, de 1999 e aplicados conforme regulamento a ser aprovado pelo CERH-MG</a:t>
            </a:r>
            <a:endParaRPr b="0" lang="en-US" sz="2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6320" y="76320"/>
            <a:ext cx="1371600" cy="1119240"/>
          </a:xfrm>
          <a:prstGeom prst="rect">
            <a:avLst/>
          </a:prstGeom>
          <a:ln w="0">
            <a:noFill/>
          </a:ln>
        </p:spPr>
      </p:pic>
      <p:sp>
        <p:nvSpPr>
          <p:cNvPr id="77" name=""/>
          <p:cNvSpPr/>
          <p:nvPr/>
        </p:nvSpPr>
        <p:spPr>
          <a:xfrm>
            <a:off x="228600" y="990720"/>
            <a:ext cx="84582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7º - Nos casos em que os comitês de bacia optarem pelo cadastramento de usuários sob a forma de declaração de uso, conforme previsto no artigo 3º desta Deliberação Normativa, serão enquadrados nas penalidades previstas no Capítulo do Decreto 41.578, aqueles usuários que:</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 </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I.</a:t>
            </a: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não apresentarem a sua declaração de uso no prazo estipulado pelas agências;</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II.</a:t>
            </a: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apresentarem declaração fraudulenta ou incompleta;</a:t>
            </a:r>
            <a:endParaRPr b="0" lang="en-US" sz="2400" spc="-1" strike="noStrike">
              <a:solidFill>
                <a:srgbClr val="000000"/>
              </a:solidFill>
              <a:latin typeface="Times New Roman"/>
            </a:endParaRPr>
          </a:p>
          <a:p>
            <a:pPr marL="343080" indent="-343080" algn="just">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III.</a:t>
            </a:r>
            <a:r>
              <a:rPr b="1" i="1" lang="pt-BR" sz="2400" spc="-1" strike="noStrike">
                <a:solidFill>
                  <a:srgbClr val="ffffff"/>
                </a:solidFill>
                <a:latin typeface="Times New Roman"/>
                <a:ea typeface="Times New Roman"/>
              </a:rPr>
              <a:t>      </a:t>
            </a:r>
            <a:r>
              <a:rPr b="1" i="1" lang="pt-BR" sz="2400" spc="-1" strike="noStrike">
                <a:solidFill>
                  <a:srgbClr val="ffffff"/>
                </a:solidFill>
                <a:latin typeface="Arial"/>
                <a:ea typeface="Times New Roman"/>
              </a:rPr>
              <a:t>se recusarem a submeter às inspeções e controles das agências de água</a:t>
            </a:r>
            <a:endParaRPr b="0" lang="en-US" sz="2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76320" y="76320"/>
            <a:ext cx="1371600" cy="1119240"/>
          </a:xfrm>
          <a:prstGeom prst="rect">
            <a:avLst/>
          </a:prstGeom>
          <a:ln w="0">
            <a:noFill/>
          </a:ln>
        </p:spPr>
      </p:pic>
      <p:sp>
        <p:nvSpPr>
          <p:cNvPr id="79" name=""/>
          <p:cNvSpPr/>
          <p:nvPr/>
        </p:nvSpPr>
        <p:spPr>
          <a:xfrm>
            <a:off x="228600" y="990720"/>
            <a:ext cx="86868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8º - Na vigência do regime de transição de que trata o Art. 4° da presente Deliberação Normativa, os Comitês de Bacia Hidrográfica de rios de domínio estadual, já devidamente estabelecidos e homologados pelo Conselho Estadual de Recursos Hídricos - CERH, poderão firmar com entidades públicas e privadas, desde que usuárias cadastradas de águas das respectivas bacias, convênios de cooperação técinica-financeira, por meio dos quais poderão ser acordadas seções provisórias de materiais, equipamentos, prestação de serviços ou antecipações de valores monetários para possibilitar ações imediatas de melhoria das coleções hídricas, de forma compatível com os planos e diretrizes estabelecidos pelo competente Comitê de Bacia Hidrográfica. </a:t>
            </a: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40" name=""/>
          <p:cNvSpPr/>
          <p:nvPr/>
        </p:nvSpPr>
        <p:spPr>
          <a:xfrm>
            <a:off x="2057400" y="1676520"/>
            <a:ext cx="48006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00"/>
                </a:solidFill>
                <a:latin typeface="Arial"/>
              </a:rPr>
              <a:t>PROPOSTA DE DELIBERAÇÃO NORMATIVA DO CERH-MG</a:t>
            </a:r>
            <a:endParaRPr b="0" lang="en-US" sz="4000" spc="-1" strike="noStrike">
              <a:solidFill>
                <a:srgbClr val="000000"/>
              </a:solidFill>
              <a:latin typeface="Times New Roman"/>
            </a:endParaRPr>
          </a:p>
        </p:txBody>
      </p:sp>
      <p:pic>
        <p:nvPicPr>
          <p:cNvPr id="41" name="" descr=""/>
          <p:cNvPicPr/>
          <p:nvPr/>
        </p:nvPicPr>
        <p:blipFill>
          <a:blip r:embed="rId1"/>
          <a:stretch/>
        </p:blipFill>
        <p:spPr>
          <a:xfrm>
            <a:off x="76320" y="76320"/>
            <a:ext cx="1371600" cy="1119240"/>
          </a:xfrm>
          <a:prstGeom prst="rect">
            <a:avLst/>
          </a:prstGeom>
          <a:ln w="0">
            <a:noFill/>
          </a:ln>
        </p:spPr>
      </p:pic>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6320" y="76320"/>
            <a:ext cx="1371600" cy="1119240"/>
          </a:xfrm>
          <a:prstGeom prst="rect">
            <a:avLst/>
          </a:prstGeom>
          <a:ln w="0">
            <a:noFill/>
          </a:ln>
        </p:spPr>
      </p:pic>
      <p:sp>
        <p:nvSpPr>
          <p:cNvPr id="81" name=""/>
          <p:cNvSpPr/>
          <p:nvPr/>
        </p:nvSpPr>
        <p:spPr>
          <a:xfrm>
            <a:off x="304920" y="1447920"/>
            <a:ext cx="8381880" cy="4724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cc00"/>
                </a:solidFill>
                <a:latin typeface="Arial"/>
                <a:ea typeface="Times New Roman"/>
              </a:rPr>
              <a:t>§1º  Os convênios de que trata o presente Artigo ou instrumentos de natureza jurídica assemelhada somente terão efeitos legais e poderão, por conseguinte, ser implementados, após a competente análise técnica e jurídica por parte do Conselho Estadual de Recursos Hídricos - CERH, de quem dependerá a respectiva homologação final materializada em deliberação específica.</a:t>
            </a:r>
            <a:endParaRPr b="0" lang="en-US" sz="2400" spc="-1" strike="noStrike">
              <a:solidFill>
                <a:srgbClr val="000000"/>
              </a:solidFill>
              <a:latin typeface="Times New Roman"/>
            </a:endParaRPr>
          </a:p>
        </p:txBody>
      </p:sp>
    </p:spTree>
  </p:cSld>
  <p:transition spd="med">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76320" y="76320"/>
            <a:ext cx="1371600" cy="1119240"/>
          </a:xfrm>
          <a:prstGeom prst="rect">
            <a:avLst/>
          </a:prstGeom>
          <a:ln w="0">
            <a:noFill/>
          </a:ln>
        </p:spPr>
      </p:pic>
      <p:sp>
        <p:nvSpPr>
          <p:cNvPr id="83" name=""/>
          <p:cNvSpPr/>
          <p:nvPr/>
        </p:nvSpPr>
        <p:spPr>
          <a:xfrm>
            <a:off x="228600" y="1143000"/>
            <a:ext cx="845820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cc00"/>
                </a:solidFill>
                <a:latin typeface="Arial"/>
                <a:ea typeface="Times New Roman"/>
              </a:rPr>
              <a:t>§2º Os recursos monetários repassados ao Comitês de Bacias Hidrográficas e os valores correspondentes à cessão de materiais, equipamentos, e demais facilidades, à prestação de serviços e execução de obras, incluindo a mobilização temporária de pessoal técnico especializado, na vigência dos convênios ou instrumentos de natureza jurídica assemelhada de que trata o presente Artigo, deverão ser devidamente contabilizados pelos Comitê beneficiados, na melhor forma de direito e com a utilização de procedimentos adequados de contabilidade e registro, para instruir a imprescindível e periódica prestação de contas ao Conselho Estadual de Recursos Hídricos - CERH.</a:t>
            </a:r>
            <a:endParaRPr b="0" lang="en-US" sz="2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76320" y="76320"/>
            <a:ext cx="1371600" cy="1119240"/>
          </a:xfrm>
          <a:prstGeom prst="rect">
            <a:avLst/>
          </a:prstGeom>
          <a:ln w="0">
            <a:noFill/>
          </a:ln>
        </p:spPr>
      </p:pic>
      <p:sp>
        <p:nvSpPr>
          <p:cNvPr id="85" name=""/>
          <p:cNvSpPr/>
          <p:nvPr/>
        </p:nvSpPr>
        <p:spPr>
          <a:xfrm>
            <a:off x="228600" y="1219320"/>
            <a:ext cx="84582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cc00"/>
                </a:solidFill>
                <a:latin typeface="Arial"/>
                <a:ea typeface="Times New Roman"/>
              </a:rPr>
              <a:t>§3º Os valores monetários apurados e contabilizados na forma do disposto no parágrafo anterior poderão ser registrados como antecipação pelo pagamento da cobrança pelo uso da água de que trata a presente Deliberação Normativa, tanto durante o regime de transição previsto no Art. 4°, como após a adoção dos procedimentos permanentes regulados em conformidade com o Art. 1°., devendo, para esse efeito, serem registrados em conta gráfica específica a crédito do usuário cedente e a débito da conta de cobrança respectiva.</a:t>
            </a:r>
            <a:endParaRPr b="0" lang="en-US" sz="2400" spc="-1" strike="noStrike">
              <a:solidFill>
                <a:srgbClr val="000000"/>
              </a:solidFill>
              <a:latin typeface="Times New Roman"/>
            </a:endParaRPr>
          </a:p>
        </p:txBody>
      </p:sp>
    </p:spTree>
  </p:cSld>
  <p:transition spd="med">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76320" y="76320"/>
            <a:ext cx="1371600" cy="1119240"/>
          </a:xfrm>
          <a:prstGeom prst="rect">
            <a:avLst/>
          </a:prstGeom>
          <a:ln w="0">
            <a:noFill/>
          </a:ln>
        </p:spPr>
      </p:pic>
      <p:sp>
        <p:nvSpPr>
          <p:cNvPr id="87" name=""/>
          <p:cNvSpPr/>
          <p:nvPr/>
        </p:nvSpPr>
        <p:spPr>
          <a:xfrm>
            <a:off x="228600" y="1219320"/>
            <a:ext cx="84582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ea typeface="Times New Roman"/>
              </a:rPr>
              <a:t>GESTÃO DOS RECURSOS DA COBRANÇA</a:t>
            </a:r>
            <a:endParaRPr b="0" lang="en-US" sz="3200" spc="-1" strike="noStrike">
              <a:solidFill>
                <a:srgbClr val="000000"/>
              </a:solidFill>
              <a:latin typeface="Times New Roman"/>
            </a:endParaRPr>
          </a:p>
          <a:p>
            <a:pPr marL="343080" indent="-343080" algn="ctr">
              <a:lnSpc>
                <a:spcPct val="100000"/>
              </a:lnSpc>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ea typeface="Times New Roman"/>
              </a:rPr>
              <a:t>CF. ART.º 20 – Bens da União</a:t>
            </a:r>
            <a:endParaRPr b="0" lang="en-US" sz="3200" spc="-1" strike="noStrike">
              <a:solidFill>
                <a:srgbClr val="000000"/>
              </a:solidFill>
              <a:latin typeface="Times New Roman"/>
            </a:endParaRPr>
          </a:p>
          <a:p>
            <a:pPr lvl="2" marL="1143000" indent="-228600">
              <a:lnSpc>
                <a:spcPct val="100000"/>
              </a:lnSpc>
              <a:spcBef>
                <a:spcPts val="799"/>
              </a:spcBef>
              <a:buClr>
                <a:srgbClr val="ffcc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ea typeface="Times New Roman"/>
              </a:rPr>
              <a:t>Rios Federais</a:t>
            </a:r>
            <a:endParaRPr b="0" lang="en-US" sz="3200" spc="-1" strike="noStrike">
              <a:solidFill>
                <a:srgbClr val="000000"/>
              </a:solidFill>
              <a:latin typeface="Times New Roman"/>
            </a:endParaRPr>
          </a:p>
          <a:p>
            <a:pPr marL="343080" indent="-343080">
              <a:lnSpc>
                <a:spcPct val="100000"/>
              </a:lnSpc>
              <a:spcBef>
                <a:spcPts val="2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rPr>
              <a:t>LEI 4.320 – Art.º 11</a:t>
            </a:r>
            <a:endParaRPr b="0" lang="en-US" sz="3200" spc="-1" strike="noStrike">
              <a:solidFill>
                <a:srgbClr val="000000"/>
              </a:solidFill>
              <a:latin typeface="Times New Roman"/>
            </a:endParaRPr>
          </a:p>
          <a:p>
            <a:pPr lvl="4" marL="2057400" indent="-228600">
              <a:lnSpc>
                <a:spcPct val="100000"/>
              </a:lnSpc>
              <a:spcBef>
                <a:spcPts val="2001"/>
              </a:spcBef>
              <a:buClr>
                <a:srgbClr val="ffcc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rPr>
              <a:t>       </a:t>
            </a:r>
            <a:r>
              <a:rPr b="1" i="1" lang="pt-BR" sz="3200" spc="-1" strike="noStrike">
                <a:solidFill>
                  <a:srgbClr val="ffcc00"/>
                </a:solidFill>
                <a:latin typeface="Arial"/>
              </a:rPr>
              <a:t>Receita Patrimonial</a:t>
            </a:r>
            <a:endParaRPr b="0" lang="en-US" sz="3200" spc="-1" strike="noStrike">
              <a:solidFill>
                <a:srgbClr val="000000"/>
              </a:solidFill>
              <a:latin typeface="Times New Roman"/>
            </a:endParaRPr>
          </a:p>
          <a:p>
            <a:pPr lvl="4" marL="2057400" indent="-228600">
              <a:lnSpc>
                <a:spcPct val="100000"/>
              </a:lnSpc>
              <a:spcBef>
                <a:spcPts val="2001"/>
              </a:spcBef>
              <a:buClr>
                <a:srgbClr val="ffcc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76320" y="76320"/>
            <a:ext cx="1371600" cy="1119240"/>
          </a:xfrm>
          <a:prstGeom prst="rect">
            <a:avLst/>
          </a:prstGeom>
          <a:ln w="0">
            <a:noFill/>
          </a:ln>
        </p:spPr>
      </p:pic>
      <p:sp>
        <p:nvSpPr>
          <p:cNvPr id="89" name=""/>
          <p:cNvSpPr/>
          <p:nvPr/>
        </p:nvSpPr>
        <p:spPr>
          <a:xfrm>
            <a:off x="228600" y="1219320"/>
            <a:ext cx="8458200" cy="53337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539640" y="1052640"/>
            <a:ext cx="799308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rPr>
              <a:t>LEI N.º 9.984 – Cria a ANA</a:t>
            </a:r>
            <a:endParaRPr b="0" lang="en-US" sz="3200" spc="-1" strike="noStrike">
              <a:solidFill>
                <a:srgbClr val="000000"/>
              </a:solidFill>
              <a:latin typeface="Times New Roman"/>
            </a:endParaRPr>
          </a:p>
          <a:p>
            <a:pPr lvl="4" marL="1828800">
              <a:lnSpc>
                <a:spcPct val="100000"/>
              </a:lnSpc>
              <a:spcBef>
                <a:spcPts val="2001"/>
              </a:spcBef>
              <a:buClr>
                <a:srgbClr val="ffcc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rPr>
              <a:t>Art.º 4 Compete a ANA:</a:t>
            </a:r>
            <a:endParaRPr b="0" lang="en-US" sz="3200" spc="-1" strike="noStrike">
              <a:solidFill>
                <a:srgbClr val="000000"/>
              </a:solidFill>
              <a:latin typeface="Times New Roman"/>
            </a:endParaRPr>
          </a:p>
          <a:p>
            <a:pPr lvl="4" marL="1828800">
              <a:lnSpc>
                <a:spcPct val="100000"/>
              </a:lnSpc>
              <a:spcBef>
                <a:spcPts val="2001"/>
              </a:spcBef>
              <a:buClr>
                <a:srgbClr val="ffcc00"/>
              </a:buClr>
              <a:buFont typeface="Arial"/>
              <a:buChar char="•"/>
              <a:tabLst>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rPr>
              <a:t>IX -  Arrecadar, distribuir e aplicar receitas auferidas por intermédio  da cobrança pelo uso de recursos hídricos de domínio da União.</a:t>
            </a:r>
            <a:endParaRPr b="0" lang="en-US" sz="3200" spc="-1" strike="noStrike">
              <a:solidFill>
                <a:srgbClr val="000000"/>
              </a:solidFill>
              <a:latin typeface="Times New Roman"/>
            </a:endParaRPr>
          </a:p>
          <a:p>
            <a:pPr lvl="2" marL="914400" algn="ctr">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76320" y="76320"/>
            <a:ext cx="1371600" cy="1119240"/>
          </a:xfrm>
          <a:prstGeom prst="rect">
            <a:avLst/>
          </a:prstGeom>
          <a:ln w="0">
            <a:noFill/>
          </a:ln>
        </p:spPr>
      </p:pic>
      <p:sp>
        <p:nvSpPr>
          <p:cNvPr id="92" name=""/>
          <p:cNvSpPr/>
          <p:nvPr/>
        </p:nvSpPr>
        <p:spPr>
          <a:xfrm>
            <a:off x="228600" y="1143000"/>
            <a:ext cx="845820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900000" y="620640"/>
            <a:ext cx="7559640" cy="449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cc00"/>
                </a:solidFill>
                <a:latin typeface="Arial"/>
              </a:rPr>
              <a:t>Art.º 4 Compete a ANA:</a:t>
            </a:r>
            <a:endParaRPr b="0" lang="en-US" sz="30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cc00"/>
                </a:solidFill>
                <a:latin typeface="Arial"/>
              </a:rPr>
              <a:t>Parágrafo 6º - A aplicação das receitas que trata o inciso IX será de forma descentralizada, por meio das agências de que trata o Capitulo IV do Título II da Lei 9.433, e, na ausência ou impedimento destas, por outras entidades pertencentes ao Sistema Nacional de Gerenciamento</a:t>
            </a:r>
            <a:r>
              <a:rPr b="1" i="1" lang="pt-BR" sz="3200" spc="-1" strike="noStrike">
                <a:solidFill>
                  <a:srgbClr val="ffcc00"/>
                </a:solidFill>
                <a:latin typeface="Arial"/>
              </a:rPr>
              <a:t> de RH.</a:t>
            </a:r>
            <a:endParaRPr b="0" lang="en-US" sz="32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76320" y="76320"/>
            <a:ext cx="1371600" cy="1119240"/>
          </a:xfrm>
          <a:prstGeom prst="rect">
            <a:avLst/>
          </a:prstGeom>
          <a:ln w="0">
            <a:noFill/>
          </a:ln>
        </p:spPr>
      </p:pic>
      <p:sp>
        <p:nvSpPr>
          <p:cNvPr id="95" name=""/>
          <p:cNvSpPr/>
          <p:nvPr/>
        </p:nvSpPr>
        <p:spPr>
          <a:xfrm>
            <a:off x="228600" y="1143000"/>
            <a:ext cx="845820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900000" y="1052640"/>
            <a:ext cx="7559640" cy="39866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cc00"/>
                </a:solidFill>
                <a:latin typeface="Arial"/>
              </a:rPr>
              <a:t>Art.º 20  - Constituem receitas da ANA</a:t>
            </a:r>
            <a:endParaRPr b="0" lang="en-US" sz="3000" spc="-1" strike="noStrike">
              <a:solidFill>
                <a:srgbClr val="000000"/>
              </a:solidFill>
              <a:latin typeface="Times New Roman"/>
            </a:endParaRPr>
          </a:p>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3000" spc="-1" strike="noStrike">
                <a:solidFill>
                  <a:srgbClr val="ffcc00"/>
                </a:solidFill>
                <a:latin typeface="Arial"/>
              </a:rPr>
              <a:t>II – os recursos decorrentes da cobrança pelo uso de água de corpos hídricos de domínio da União, respeitando-se as formas e os limites de aplicação previstos no art.º 22 da Lei 9.433.</a:t>
            </a:r>
            <a:endParaRPr b="0" lang="en-US" sz="3000" spc="-1" strike="noStrike">
              <a:solidFill>
                <a:srgbClr val="000000"/>
              </a:solidFill>
              <a:latin typeface="Times New Roman"/>
            </a:endParaRPr>
          </a:p>
        </p:txBody>
      </p:sp>
    </p:spTree>
  </p:cSld>
  <p:transition spd="med">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76320" y="76320"/>
            <a:ext cx="1371600" cy="1119240"/>
          </a:xfrm>
          <a:prstGeom prst="rect">
            <a:avLst/>
          </a:prstGeom>
          <a:ln w="0">
            <a:noFill/>
          </a:ln>
        </p:spPr>
      </p:pic>
      <p:sp>
        <p:nvSpPr>
          <p:cNvPr id="98" name=""/>
          <p:cNvSpPr/>
          <p:nvPr/>
        </p:nvSpPr>
        <p:spPr>
          <a:xfrm>
            <a:off x="228600" y="1143000"/>
            <a:ext cx="8458200" cy="5410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900000" y="981000"/>
            <a:ext cx="7559640" cy="33224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8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cc00"/>
                </a:solidFill>
                <a:latin typeface="Arial"/>
              </a:rPr>
              <a:t>Art.º 21  -</a:t>
            </a:r>
            <a:r>
              <a:rPr b="1" i="1" lang="pt-BR" sz="3000" spc="-1" strike="noStrike">
                <a:solidFill>
                  <a:srgbClr val="ffcc00"/>
                </a:solidFill>
                <a:latin typeface="Arial"/>
              </a:rPr>
              <a:t>As receitas provenientes da cobrança pelo uso de recursos hídricos de domínio da União serão mantidas à disposição da ANA, na Conta Única do Tesouro Nacional, enquanto não forem destinadas para as respectivas programações.</a:t>
            </a:r>
            <a:endParaRPr b="0" lang="en-US" sz="30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533520" y="2742840"/>
            <a:ext cx="8153280" cy="35053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 - reconhecer a água como um bem econômico e dar ao usuário uma indicação de seu real valor;</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I - incentivar a racionalização do uso da água;</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III - obter recursos financeiros para o funcionamento de programas e intervenções incluídos nos planos de recursos hídricos;</a:t>
            </a:r>
            <a:endParaRPr b="0" lang="en-US" sz="2400" spc="-1" strike="noStrike">
              <a:solidFill>
                <a:srgbClr val="000000"/>
              </a:solidFill>
              <a:latin typeface="Times New Roman"/>
            </a:endParaRPr>
          </a:p>
        </p:txBody>
      </p:sp>
      <p:sp>
        <p:nvSpPr>
          <p:cNvPr id="43" name=""/>
          <p:cNvSpPr/>
          <p:nvPr/>
        </p:nvSpPr>
        <p:spPr>
          <a:xfrm>
            <a:off x="990720" y="1447920"/>
            <a:ext cx="73152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00"/>
                </a:solidFill>
                <a:latin typeface="Arial"/>
                <a:ea typeface="Times New Roman"/>
              </a:rPr>
              <a:t>Considerando que a cobrança pelo uso dos recursos hídricos visa a:</a:t>
            </a:r>
            <a:endParaRPr b="0" lang="en-US" sz="3200" spc="-1" strike="noStrike">
              <a:solidFill>
                <a:srgbClr val="000000"/>
              </a:solidFill>
              <a:latin typeface="Times New Roman"/>
            </a:endParaRPr>
          </a:p>
        </p:txBody>
      </p:sp>
      <p:pic>
        <p:nvPicPr>
          <p:cNvPr id="44" name="" descr=""/>
          <p:cNvPicPr/>
          <p:nvPr/>
        </p:nvPicPr>
        <p:blipFill>
          <a:blip r:embed="rId1"/>
          <a:stretch/>
        </p:blipFill>
        <p:spPr>
          <a:xfrm>
            <a:off x="76320" y="76320"/>
            <a:ext cx="1371600" cy="1119240"/>
          </a:xfrm>
          <a:prstGeom prst="rect">
            <a:avLst/>
          </a:prstGeom>
          <a:ln w="0">
            <a:noFill/>
          </a:ln>
        </p:spPr>
      </p:pic>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219320"/>
            <a:ext cx="8229600" cy="441936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Considerando a cobrança pelo uso de recursos hídricos instrumento de gestão fundamental para a implantação do Sistema Estadual de Gerenciamento de Recursos Hídricos;</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Considerando ser a cobrança pelo uso de recursos hídricos a principal fonte financeira do Sistema Estadual de Gerenciamento de Recursos Hídricos, que deverá utilizá-la para financiar as intervenções necessárias para a melhoria da quantidade e da qualidade da água nas bacias hidrográficas onde forem arrecadadas;</a:t>
            </a:r>
            <a:endParaRPr b="0" lang="en-US" sz="2400" spc="-1" strike="noStrike">
              <a:solidFill>
                <a:srgbClr val="000000"/>
              </a:solidFill>
              <a:latin typeface="Times New Roman"/>
            </a:endParaRPr>
          </a:p>
        </p:txBody>
      </p:sp>
      <p:pic>
        <p:nvPicPr>
          <p:cNvPr id="46" name="" descr=""/>
          <p:cNvPicPr/>
          <p:nvPr/>
        </p:nvPicPr>
        <p:blipFill>
          <a:blip r:embed="rId1"/>
          <a:stretch/>
        </p:blipFill>
        <p:spPr>
          <a:xfrm>
            <a:off x="76320" y="76320"/>
            <a:ext cx="1371600" cy="1119240"/>
          </a:xfrm>
          <a:prstGeom prst="rect">
            <a:avLst/>
          </a:prstGeom>
          <a:ln w="0">
            <a:noFill/>
          </a:ln>
        </p:spPr>
      </p:pic>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33520" y="1218960"/>
            <a:ext cx="8153280" cy="510516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Considerando que a cobrança pelo uso dos recursos hídricos deve assegurar uma participação eqüitativa de todos os usuários da água de maneira proporcional e justa;</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Considerando a necessidade de estabelecer os critérios e as normas gerais sobre a cobrança pelo uso de recursos hídricos, conforme estabelece o artigo 41, inciso VII da Lei 13.199, de 1999.</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1"/>
          <a:stretch/>
        </p:blipFill>
        <p:spPr>
          <a:xfrm>
            <a:off x="76320" y="76320"/>
            <a:ext cx="1371600" cy="1119240"/>
          </a:xfrm>
          <a:prstGeom prst="rect">
            <a:avLst/>
          </a:prstGeom>
          <a:ln w="0">
            <a:noFill/>
          </a:ln>
        </p:spPr>
      </p:pic>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533520" y="1599840"/>
            <a:ext cx="8153280" cy="480060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1º - Serão cobrados os usos de recursos hídricos superficiais ou subterrâneos, nos termos do artigo 43 do Decreto 41.578 que regulamenta a lei nº 13.199/99.</a:t>
            </a:r>
            <a:endParaRPr b="0" lang="en-US" sz="2400" spc="-1" strike="noStrike">
              <a:solidFill>
                <a:srgbClr val="000000"/>
              </a:solidFill>
              <a:latin typeface="Times New Roman"/>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2º - A cobrança pelo uso de recursos hídricos será vinculada à implementação de programas, projetos, serviços e obras, de interesse público, da iniciativa pública ou privada, definidos nos Planos de Recursos Hídricos, aprovados previamente pelos respectivos comitês de bacia e pelo Conselho Estadual de Recursos Hídrico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1523880" y="83808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00"/>
                </a:solidFill>
                <a:latin typeface="Arial"/>
              </a:rPr>
              <a:t>RESOLVE:</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76320" y="76320"/>
            <a:ext cx="1371600" cy="1119240"/>
          </a:xfrm>
          <a:prstGeom prst="rect">
            <a:avLst/>
          </a:prstGeom>
          <a:ln w="0">
            <a:noFill/>
          </a:ln>
        </p:spPr>
      </p:pic>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3º - A implantação da cobrança prevista nesta Deliberação Normativa será feita com a participação dos comitês de bacia, de forma gradativa e com o cadastramento dos de usuários de recursos hídricos.</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Parágrafo único: Este cadastramento poderá, a critério de cada comitê, ser feito a partir de uma declaração dos usuários, contendo informações sobre o uso dos recursos hídricos.</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76320" y="76320"/>
            <a:ext cx="1371600" cy="1119240"/>
          </a:xfrm>
          <a:prstGeom prst="rect">
            <a:avLst/>
          </a:prstGeom>
          <a:ln w="0">
            <a:noFill/>
          </a:ln>
        </p:spPr>
      </p:pic>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76320" y="76320"/>
            <a:ext cx="1371600" cy="1119240"/>
          </a:xfrm>
          <a:prstGeom prst="rect">
            <a:avLst/>
          </a:prstGeom>
          <a:ln w="0">
            <a:noFill/>
          </a:ln>
        </p:spPr>
      </p:pic>
      <p:sp>
        <p:nvSpPr>
          <p:cNvPr id="55" name=""/>
          <p:cNvSpPr/>
          <p:nvPr/>
        </p:nvSpPr>
        <p:spPr>
          <a:xfrm>
            <a:off x="533520" y="1371600"/>
            <a:ext cx="815328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ffff"/>
                </a:solidFill>
                <a:latin typeface="Arial"/>
                <a:ea typeface="Times New Roman"/>
              </a:rPr>
              <a:t>Artigo 4º - A metodologia para cálculo da cobrança pelo uso de recursos hídricos, deverá buscar a simplicidade na sua formulação e observar estritamente a conceituação estabelecida no § 1° do Art. 43 do Decreto n° 41.578, de 08.03.2001, admitido o procedimento alternativo de transição descrito nos parágrafos seguintes.</a:t>
            </a:r>
            <a:endParaRPr b="0" lang="en-US" sz="2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50000">
              <a:srgbClr val="003399"/>
            </a:gs>
            <a:gs pos="100000">
              <a:srgbClr val="001746"/>
            </a:gs>
          </a:gsLst>
          <a:lin ang="5400000"/>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6320" y="76320"/>
            <a:ext cx="1371600" cy="1119240"/>
          </a:xfrm>
          <a:prstGeom prst="rect">
            <a:avLst/>
          </a:prstGeom>
          <a:ln w="0">
            <a:noFill/>
          </a:ln>
        </p:spPr>
      </p:pic>
      <p:sp>
        <p:nvSpPr>
          <p:cNvPr id="57" name=""/>
          <p:cNvSpPr/>
          <p:nvPr/>
        </p:nvSpPr>
        <p:spPr>
          <a:xfrm>
            <a:off x="539640" y="1557360"/>
            <a:ext cx="8153640" cy="441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rPr>
              <a:t>Art.  43  - A forma, a periodicidade, o processo e as demais estipulações  de  caráter  técnico e  administrativo  inerentes  à cobrança  pelo  uso  de recursos hídricos serão  estabelecidos  em decreto  do  Governador do Estado, a partir de proposta  da  SEMAD aprovada pelo CERH-MG, observado o disposto no inciso VI do artigo 43 da Lei nº 13.199/99.</a:t>
            </a:r>
            <a:endParaRPr b="0" lang="en-US" sz="2000" spc="-1" strike="noStrike">
              <a:solidFill>
                <a:srgbClr val="000000"/>
              </a:solidFill>
              <a:latin typeface="Times New Roman"/>
            </a:endParaRPr>
          </a:p>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ffffff"/>
                </a:solidFill>
                <a:latin typeface="Arial"/>
              </a:rPr>
              <a:t>     </a:t>
            </a:r>
            <a:r>
              <a:rPr b="1" i="1" lang="pt-BR" sz="2000" spc="-1" strike="noStrike">
                <a:solidFill>
                  <a:srgbClr val="ffffff"/>
                </a:solidFill>
                <a:latin typeface="Arial"/>
              </a:rPr>
              <a:t>§ 1º - Os critérios de regulamentação da cobrança pelo uso de recursos  hídricos  fundamentar-se-ão  no  princípio  de   que   a exigência  constitui-se em compensação dos  usuários,  públicos  e privados,  para garantia dos padrões estabelecidos  de  quantidade, qualidade  e  regime,  pela interferência  no  estado  antecedente desses atributos, resultante do respectivo uso.</a:t>
            </a:r>
            <a:endParaRPr b="0" lang="en-US" sz="2000" spc="-1" strike="noStrike">
              <a:solidFill>
                <a:srgbClr val="000000"/>
              </a:solidFill>
              <a:latin typeface="Times New Roman"/>
            </a:endParaRPr>
          </a:p>
        </p:txBody>
      </p:sp>
      <p:sp>
        <p:nvSpPr>
          <p:cNvPr id="58" name=""/>
          <p:cNvSpPr/>
          <p:nvPr/>
        </p:nvSpPr>
        <p:spPr>
          <a:xfrm>
            <a:off x="1908000" y="368280"/>
            <a:ext cx="453564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835280" y="549360"/>
            <a:ext cx="59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Arial"/>
              </a:rPr>
              <a:t>Decreto n.º 41.512 </a:t>
            </a:r>
            <a:endParaRPr b="0" lang="en-US" sz="28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1T12:25:38Z</dcterms:created>
  <dc:creator>Paulo Vasconcelos</dc:creator>
  <dc:description/>
  <dc:language>en-US</dc:language>
  <cp:lastModifiedBy>eduardo.virgolim</cp:lastModifiedBy>
  <cp:lastPrinted>2001-07-31T16:19:20Z</cp:lastPrinted>
  <dcterms:modified xsi:type="dcterms:W3CDTF">2002-08-20T17:19:25Z</dcterms:modified>
  <cp:revision>319</cp:revision>
  <dc:subject/>
  <dc:title>CEDRO</dc:title>
</cp:coreProperties>
</file>