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46F-FA0C-4889-9252-5EBB7309E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C78-EB3F-4BB5-95DE-E46289D6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B0DA-993A-4C92-B520-FD9A3D1B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479-C078-4694-AF71-2F9E3458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D729-0334-437F-AA0A-B0293E19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7E67-9C9C-4533-AECD-264CF336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BB9-AD2A-4FE8-BEC8-B29885022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7863-0563-4189-A431-3D17A47B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4B8-12A2-4066-8B4B-635D02BF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0B9-664F-4479-92A7-E0A1CFC2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79E0-B8C3-4637-8F3E-17FE9BF5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A4F8-7746-4F0A-BFF8-D5B7DAF8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929C-7DF8-4BCB-BA46-1C96343B3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14360" y="87480"/>
            <a:ext cx="8344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nguiat Bk BT"/>
              </a:rPr>
              <a:t>FEDERAÇÃO DAS INDÚSTRIAS DO ESTADO DE SÃO PAULO 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enguiat Bk BT"/>
              </a:rPr>
              <a:t>CENTRO DAS INDÚSTRIAS DO ESTADO DE SÃO PA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19080" y="19080"/>
          <a:ext cx="11430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" y="19080"/>
                    <a:ext cx="1143000" cy="990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85328" dir="12393904" blurRad="0" rotWithShape="0">
                      <a:srgbClr val="006666"/>
                    </a:outerShdw>
                  </a:effectLst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2437920"/>
            <a:ext cx="80773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pt-PT" sz="4800" spc="-1" strike="noStrike">
                <a:solidFill>
                  <a:srgbClr val="00ffcc"/>
                </a:solidFill>
                <a:latin typeface="Benguiat Bk BT"/>
              </a:rPr>
              <a:t>COBRANÇA PELO </a:t>
            </a:r>
            <a:br>
              <a:rPr sz="4800"/>
            </a:br>
            <a:r>
              <a:rPr b="1" lang="pt-PT" sz="4800" spc="-1" strike="noStrike">
                <a:solidFill>
                  <a:srgbClr val="00ffcc"/>
                </a:solidFill>
                <a:latin typeface="Benguiat Bk BT"/>
              </a:rPr>
              <a:t>USO DA ÁGUA :</a:t>
            </a:r>
            <a:br>
              <a:rPr sz="4800"/>
            </a:br>
            <a:r>
              <a:rPr b="1" lang="pt-PT" sz="4800" spc="-1" strike="noStrike">
                <a:solidFill>
                  <a:srgbClr val="00ffcc"/>
                </a:solidFill>
                <a:latin typeface="Benguiat Bk BT"/>
              </a:rPr>
              <a:t>A VISÃO DO USUÁRIO INDUSTRIAL</a:t>
            </a:r>
            <a:endParaRPr b="1" lang="en-US" sz="4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8778960" y="2895480"/>
            <a:ext cx="18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087560" y="3200400"/>
            <a:ext cx="54432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775800" y="3200400"/>
            <a:ext cx="85572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6560" y="403056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143000"/>
            <a:ext cx="9296640" cy="53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NDICIONANTES PARA A IMPLANTAÇÃO DA COBRANÇA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49"/>
              </a:spcAft>
              <a:buClr>
                <a:srgbClr val="ffffff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elecimento de limites superiores de R$ 0,01 por 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os valores a  serem  cobrados para captação e consumo e de R$ 0,02 por m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ara o lançamento de efluentes, desde que o usuário esteja atendendo os padrões de emissão da classe em que estiver enquadrado o 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49"/>
              </a:spcAft>
              <a:buClr>
                <a:srgbClr val="ffffff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tabelecimento de prazo de um ano para o desenvolvimento de estudos sobre os impactos da cobrança nas cadeias produtivas, para posterior reavaliação dos valores de cobrança estabelec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1077840"/>
          <a:ext cx="8381880" cy="578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77840"/>
                    <a:ext cx="8381880" cy="57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514600" y="6019920"/>
            <a:ext cx="683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Fonte : Regiões Hidrográficas do Brasil, ANA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76520" y="1143000"/>
            <a:ext cx="73152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DEMANDA DE Á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NO BRAS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80880" y="2332080"/>
          <a:ext cx="91458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32080"/>
                    <a:ext cx="91458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523880" y="1143000"/>
            <a:ext cx="676908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DEMANDA DE Á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Benguiat Bk BT"/>
              </a:rPr>
              <a:t>NO ESTADO DE SÃO PAU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6172200"/>
            <a:ext cx="371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Fonte : DAEE/ PERH 2000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295280"/>
            <a:ext cx="8839080" cy="51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Monotype Sort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m termos de quantidade de água, o setor industrial não é o maior consumidor de águas no país e nem mesmo no Estado de São Paulo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Monotype Sort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carga orgânica remanescente total do Estado é estimada em 1,6 milhões de Kg DBO5, sendo que 1,2 milhões (77%) é de origem urbana e apenas 394 mil (23%) de origem industrial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ffff"/>
              </a:buClr>
              <a:buFont typeface="Monotype Sort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m termos de qualidade de águas , o setor industrial não é o maior poluidor. Em São Paulo o setor apresenta índices de tratamento de 95%, enquanto o principal poluidor é o setor público, com índices de tratamento de somente 5%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1523880"/>
            <a:ext cx="8915400" cy="42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 COBRANÇA ENQUANTO INSTRUMENTO DE GESTÃ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LTA EMBASAMENTO TÉCNICO PARA O ESTABELECIMENTO DE VALORES PARA A COBRANÇA PELO USO DA ÁGU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ÃO EXISTEM ESTUDOS CONSUBSTANCIADOS SOBRE OS IMPACTOS DA COBRANÇA CONSIDERANDO AS CADEIAS PRODUTIVA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1168560"/>
            <a:ext cx="8915400" cy="56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 COBRANÇA ENQUANTO INSTRUMENTO DE GESTÃ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EFICÁCIA DA COBRANÇA PARA MUDANÇA DE PADRÕES DE CONSUMO PARA O SETOR DE SANEAMENTO É QUESTIONÁVEL, POIS AS CONCESSIONÁRIAS PODERÃO REPASSAR SEUS CUSTOS INTEGRALMENTE PARA AS TARIF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SETOR PRODUTIVO TEM LIMITAÇÕES DE REPASSE POR EXISTIR UM MERCADO ABERTO E COMPETITIVO, ENQUANTO O SANEAMENTO É  UM MONOPÓLIO ESTAT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778960" y="2895480"/>
            <a:ext cx="18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087560" y="3200400"/>
            <a:ext cx="54432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75800" y="3200400"/>
            <a:ext cx="85572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6560" y="403056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295280"/>
            <a:ext cx="9525240" cy="47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 COBRANÇA ENQUANTO INSTRUMENTO DE ARRECADAÇÃO DE RECURSOS FINANCEIR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ICILMENTE OS RECURSOS SERÃO APLICADOS PARA O SETOR PRODUTIVO, DEVENDO SEREM INTEGRALMENTE APLICADOS PARA SISTEMAS DE SANEAMENTO PÚBLICO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TANTO O SETOR PRODUTIVO ESTARÁ FINANCIANDO UM SISTEMA DUPLAMENTE PERDULÁRIO, EM TERMOS ECONÔMICOS E FÍSIC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778960" y="2895480"/>
            <a:ext cx="18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087560" y="3200400"/>
            <a:ext cx="54432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775800" y="3200400"/>
            <a:ext cx="85572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6560" y="403056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295280"/>
            <a:ext cx="9525240" cy="47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S SISTEMAS PÚBLICOS DE SANEAMENTO SÃO DUPLAMENTE PERDULÁRI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NÔMICOS : PERDAS  DE FATURAMENTO  MÉDIO DE 39,4 (SNIS/2000) 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174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ÍSICOS : PERDAS FÍSICAS POR FALTA DE MANUTENÇÃO, MEDIÇÃO, E DE POLÍTICAS DE REUSO DE ÁGUA PARA FINALIDADES QUE NÃO EXIGEM ÁGUA COM QUALIDADE SUPERIOR, INCLUSIVE PARA O ABASTECIMENTO INDUSTR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b3b"/>
            </a:gs>
            <a:gs pos="100000">
              <a:srgbClr val="0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78960" y="2895480"/>
            <a:ext cx="18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087560" y="3200400"/>
            <a:ext cx="54432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75800" y="3200400"/>
            <a:ext cx="85572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6560" y="4030560"/>
            <a:ext cx="85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143000"/>
            <a:ext cx="89154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00000"/>
                </a:solidFill>
                <a:latin typeface="Arial"/>
              </a:rPr>
              <a:t>CONDICIONANTES PARA A IMPLANTAÇÃO DA COBRANÇA :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49"/>
              </a:spcAft>
              <a:buClr>
                <a:srgbClr val="ffffff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odos os usuários sujeitos à outorga estarem devidamente regularizad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49"/>
              </a:spcAft>
              <a:buClr>
                <a:srgbClr val="ffffff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xistência do Plano da Bacia para identificar o montante de recursos necessário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49"/>
              </a:spcAft>
              <a:buClr>
                <a:srgbClr val="ffffff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stabelecimento pelo Comitê de Bacia do montante de recursos a ser financiado pela cobrança ( 20%, 30%, etc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49"/>
              </a:spcAft>
              <a:buClr>
                <a:srgbClr val="ffffff"/>
              </a:buClr>
              <a:buFont typeface="Monotype Sort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roduto da cobrança vinculado à bacia em que for arrecadado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17:57:15Z</dcterms:created>
  <dc:creator>-ANICIA PIO</dc:creator>
  <dc:description/>
  <dc:language>en-US</dc:language>
  <cp:lastModifiedBy>FIESP</cp:lastModifiedBy>
  <cp:lastPrinted>2002-08-19T13:38:59Z</cp:lastPrinted>
  <dcterms:modified xsi:type="dcterms:W3CDTF">2002-08-19T14:17:09Z</dcterms:modified>
  <cp:revision>252</cp:revision>
  <dc:subject/>
  <dc:title>VALOR ECONOMICO</dc:title>
</cp:coreProperties>
</file>