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gif" ContentType="image/gi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8859-EB1D-4A87-A701-13EE2A8D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5E1-84E8-4665-9602-6DD7AE0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8A3-1FF2-4920-AE19-80907A14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9EAD-1116-4AD3-A1FB-E6043942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2C9FD-9457-4BE4-B5F3-C521C71CD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E9CDC-898C-4BFF-98F2-FCA35E35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270EA6-E1CE-4D9E-9B65-5BCDCDA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A5444-EBA4-4820-BF03-2B5B0095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AD2125-1761-4096-9F68-B537BB5C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C645-5A9E-4E44-9812-8B367446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B6F580-D088-45EF-B977-0388EAA4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645-4D10-4941-9D1C-4470916A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F0525-8453-4EE1-852B-0F9752F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CBB3-02AF-4C40-B631-10774B57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4900C6-7242-4306-B41F-425EDEC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D261A-E4FB-4951-9281-8FF9328B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461D5-8A78-49CF-80CC-E974E669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FF2A-2269-4C23-A801-991841BE5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DC9D4-D467-4C2B-9A0C-42769B92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EB11A-BEFE-4E4C-8ED2-2C59CDB2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835279-CB0D-433D-B54A-843BABB5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8DC1F-FC88-4545-A03C-29CBDF72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E5F-5926-43BD-9424-485A3422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9A889-A596-4B0E-B61D-962352D7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EB4C6-2498-4730-AA62-CDBB5F74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00F61F-3132-43D5-9C8A-9B01C034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4B05C-938A-4EF7-A378-A1AAA44D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B83AD-B126-4D33-8EC9-23271F2A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6CC6B-78E1-49BD-BAEE-879D2889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B41E32-B654-4B4F-AE3B-B8706FC1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428F1-1BF4-42D1-900C-D71C5A53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9C0EA-1CF0-4CA9-8D71-68E697CC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E099-C89E-48C1-8AC3-4301BEA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4B05-D400-43C5-89B5-8FDBBEE4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793B-6BD7-44FD-B6FB-7D4D5567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63E5-08B0-49B4-AFB7-87241CA4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5DE5-4C27-4228-A7D6-A574A8F7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B7E88-F2E4-485F-8D50-A0663C2A2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86ECA-664D-4F40-825A-E7E2520A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BBF3-0CB6-4C9F-B2D2-3DD45BC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AE76B-E947-44CE-85E0-EF282894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15C7-EC0A-4193-A8DC-5EDF2449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72AC5-DAEE-468E-822B-421E39359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323-63E5-466D-9AC2-D38093B8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03F3-7BF0-459E-816A-EEC11CF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6C9-7EB6-4112-916D-481D335F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502-1E5E-48BB-A1D5-FCD0EB25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F13-F142-4970-88E9-9A2FF24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1B7F-6A62-4956-BE52-CD141C539449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5ED-D756-499D-B850-3E295B4C7E2E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877C-1E93-457D-BE77-94231C5CD25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B1FB-32DC-48CE-A892-432CAFAC80C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0880" y="2590920"/>
            <a:ext cx="8305920" cy="48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Conselho Nacional de Recursos Hídric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700" spc="-1" strike="noStrike">
                <a:solidFill>
                  <a:srgbClr val="ffff00"/>
                </a:solidFill>
                <a:latin typeface="Book Antiqua"/>
              </a:rPr>
              <a:t>Reunião da Câmara Técnica de Outorg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A COBRANÇA PELO USO DOS RECURSOS HÍDRIC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Francisco Lopes Vi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Book Antiqua"/>
              </a:rPr>
              <a:t>Superintendente de Outorga e Cobranç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ffff00"/>
                </a:solidFill>
                <a:latin typeface="Book Antiqua"/>
              </a:rPr>
              <a:t>Brasília (DF),  20 de agosto de 2002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564000" y="716040"/>
            <a:ext cx="25207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468360" y="549360"/>
            <a:ext cx="7991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76480" indent="-82872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natureza do corpo d'água - superficial e subterrâne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classe de uso preponderante em que estiver enquadrado o corpo d'águ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 disponibilidade hídrica nos locais de captação e lanç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176480" indent="-828720" algn="just">
              <a:buClr>
                <a:srgbClr val="ffffff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volume captado, extraído ou derivado e seu regime de variaçã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8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8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800"/>
            </a:b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492280"/>
            <a:ext cx="7634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o volume consumido – diferença entre o volume captado e o devolvid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finalidade a que se destin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sazonalidad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>
              <a:buClr>
                <a:srgbClr val="ffffff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s características e a vulnerabilidade dos aqüífer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Art. 6</a:t>
            </a:r>
            <a:r>
              <a:rPr b="1" lang="pt-BR" sz="2400" spc="-1" strike="noStrike">
                <a:solidFill>
                  <a:srgbClr val="00ffcc"/>
                </a:solidFill>
                <a:latin typeface="Symbol"/>
                <a:ea typeface="Symbol"/>
              </a:rPr>
              <a:t>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. Para a fixação dos valores a serem cobrados pelo uso dos recursos hídricos deverão ser levados em consideração, dentre outros: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(continuação)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2205000"/>
            <a:ext cx="7777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s características físico-químicas e biológicas do corpo de água nos locais de captação de água e de lançamento de efluente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localização do usuário na bacia e com relação ao corpo de água receptor; 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979560" indent="-979560" algn="just">
              <a:buClr>
                <a:srgbClr val="ffffff"/>
              </a:buClr>
              <a:buFont typeface="Times New Roman"/>
              <a:buAutoNum type="romanU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ff"/>
                </a:solidFill>
                <a:latin typeface="Times New Roman"/>
              </a:rPr>
              <a:t>a carga lançada e seu regime de variação, ponderando-se os parâmetros biológicos, físico-químicos e de toxicidade dos efluent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68360" y="907920"/>
            <a:ext cx="8136000" cy="48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MECANISMOS PARA A DEFINIÇÃO DOS VAL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1º  O valores a serem cobrados, de que trata este artigo, serão fixados considerando  os volumes captado, extraído, derivado, consumido, e as cargas orgânicas e inorgânicas dos efluentes lançados nos corpos d'águ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§ 2º Os Comitês de Bacia poderão propor diferenciação dos valores a serem cobrados, em função de critérios e parâmetros que abranjam a qualidade e a disponibilidade de recursos hídricos, de acordo com as peculiaridades das respectivas unidades hidrográfic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71640" y="692280"/>
            <a:ext cx="7343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7º. Quando da ocorrência d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eventos crít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everão ser adotada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did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ções transitória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que influenciarão a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fixaçã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dos valores a serem cob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8º. Deverão ser adotados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mecanismos de compensação e incentiv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para a melhoria d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nibilidade e da qualidade, proteção, conservação e recuperação dos recursos hídrico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rt 9º. Caberá interposição d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recurs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a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obre a proposta  apresentada pelo respectivo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itê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para efeito de cobrança pelo uso de recurso hídrico na respectiva bacia hidrográf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539640" y="260280"/>
            <a:ext cx="8136000" cy="57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rt 10.  Estã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SENT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de pagament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OS SEGUINTES USO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a) 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de recursos hídricos destinados à satisfação das necessidades  de 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pequenos núcleos populacionais distribuídos no meio rural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;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b) a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deriv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apt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extraçõ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lançamentos  considerados insignificantes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, tanto do ponto de vista de volume, quanto de carga poluidora;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c) as acumulações de águas com volumes considerados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insignificante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arágrafo único. A definição d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uso insignificante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será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posta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mitê de Bacia Hidrográfico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 respectivo e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aprovado </a:t>
            </a:r>
            <a:r>
              <a:rPr b="1" lang="pt-BR" sz="2300" spc="-1" strike="noStrike">
                <a:solidFill>
                  <a:srgbClr val="ffffff"/>
                </a:solidFill>
                <a:latin typeface="Times New Roman"/>
              </a:rPr>
              <a:t>pelo respec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Conselho de Recursos Hídricos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63640" y="692280"/>
            <a:ext cx="82803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DO PAGAMENTO PELO USO DE RECURSOS HÍDR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1.  O percentual de setenta e cinco centésimos por cento  do valor da energia produzida relativos à compensação financeira constitui pagamento pelo uso de recursos hídricos por parte das respectivas concessionárias e autorizadas de geração elétr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 12.  O não pagamento dos valores estabelecidos pela cobrança até a data do vencimento, sem prejuízo das sanções administrativas ou judiciais cabíveis, sujeitará à suspensão ou perda do direito de uso, a critério e na forma definida pela autoridade outorga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A suspensão de que trata este artigo será efetuada pela respectiva autoridade outorgante no exercício de seu poder de políc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620640"/>
            <a:ext cx="777744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 PAGAMENTO PELO USO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3. Serão cobradas, sem prejuízo das sanções administrativas ou judiciais cabíveis, as diferenças detectadas a maior, entre os valores declarado pelo outorgado e os identificados pela autoridade competente, relativas aos volumes e respectivos regimes de variação, bem como às características físico-químicas e biológicas dos efluent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4. Quando o volume outorgado de direito de utilização pelo usuário, for superior ao efetivamente usado pelo mesmo, a diferença entre os dois valores será cobr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Parágrafo Único. O valor unitário a ser cobrado pelo volume não usado deverá ser igual ao valor unitário da parcela efetivamente utilizada.</a:t>
            </a:r>
            <a:r>
              <a:rPr b="0" lang="pt-B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6920" y="62064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5. Os recursos financeiros auferidos em razão da cobrança pelo uso de recursos hídricos serão aplicados em conformidade com os planos de recursos hídricos das bacias hidrográfica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Art. 16. As prioridades para a aplicação dos recursos oriundos da cobrança pelo uso de recursos hídricos a que se refere o § 4º do art. 21 da Lei nº 9.984, de 2000, serão estabelecidas mediante a observância  do disposto neste artig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1º. O produto da cobrança estará vinculado às bacias hidrográficas em que for arrecadado, e será aplicado no financiamento de estudos, programas, projetos e obras incluídos nos Planos de Recursos Hídric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2º. Desde que seja benéfico para a bacia sob sua jurisdição, o Comitê poderá decidir pela aplicação em outra bacia de parte do montante do recurso  arrecad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Times New Roman"/>
              </a:rPr>
              <a:t>§ 3º. Os recursos financeiros provenientes da cobrança poderão também ser utilizados para o financiamento aos usuários da bacia e aos órgãos e entidades componentes do Sistema Nacional de Gerenciamento de Recursos Hídricos, por definição do Comitê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55640" y="836640"/>
            <a:ext cx="7416720" cy="53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A APLICAÇÃO DOS RECUR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7. Os recursos oriundos da cobrança pelo uso de recursos hídricos somente poderão ser aplicados a fundo perdidos em projetos e obras que alterem, de modo considerado benéfico à coletividade, </a:t>
            </a:r>
            <a:r>
              <a:rPr b="1" lang="pt-BR" sz="2000" spc="-1" strike="noStrike">
                <a:solidFill>
                  <a:srgbClr val="00ffcc"/>
                </a:solidFill>
                <a:latin typeface="Times New Roman"/>
              </a:rPr>
              <a:t>a quantidade, a qualidade, o regime de vazão de um corpo d´água, mediante observação dos critérios estabelecidos  pela 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ouvidos os respectivos  Comitês, conforme  previsto no § 2º do art. 22, da Lei 9.433, de 1997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18.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aberá à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utoridade outorgante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 ouvidos os respectivos comitês de bacias,  o estabelecimento  de critérios para uso dos recursos adicionais cobrados por ocasião da vigência do regime de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men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para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mpensar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 financeiramente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os usuários que venham a ser racion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14400" y="307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400"/>
            </a:br>
            <a:r>
              <a:rPr b="1" i="1" lang="pt-BR" sz="2400" spc="-1" strike="noStrike">
                <a:solidFill>
                  <a:srgbClr val="e3e3ff"/>
                </a:solidFill>
                <a:latin typeface="Times New Roman"/>
              </a:rPr>
              <a:t> Versão nº 01 – 20/08/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197000"/>
            <a:ext cx="8362800" cy="54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ISPOSIÇÕES GER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OBJETIVOS DA COBRANÇ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S MECANISMOS PARA DEFINIÇÃO DOS VAL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O PAGAMENTO PELO USO DOS RECURSOS HÍDR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DA APLICAÇÃO DOS RECURS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9280" indent="-371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4360" y="981000"/>
            <a:ext cx="770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9. Os recursos oriundos da cobrança somente poderão financiar os usuários que não estiverem inadimplentes com as exigências estabelecidas no ato de outorga ou com os valores  decorrentes da aplicação de multas e ou de outras sanções previstas nos arts. 49 e 50 da Lei 9.433, de 1997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0. A aplicação de recursos auferidos pela cobrança de uso de recurso hídrico estará sujeita à fiscalização por órgão ou entidade compet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21. Esta Resolução entra em vigor na data de sua publicaçã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967040" y="2249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66240" y="46483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8795600">
            <a:off x="2143440" y="29444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772000">
            <a:off x="4471560" y="3096000"/>
            <a:ext cx="26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00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70320" y="313848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333360"/>
            <a:ext cx="758664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7d"/>
                </a:solidFill>
                <a:latin typeface="Times New Roman"/>
              </a:rPr>
              <a:t>Visão do público hoj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333600" y="5137200"/>
            <a:ext cx="2705400" cy="1720800"/>
            <a:chOff x="3333600" y="5137200"/>
            <a:chExt cx="2705400" cy="1720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3333600" y="5137200"/>
              <a:ext cx="1382760" cy="17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4840200" y="5661000"/>
              <a:ext cx="119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Cartór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470640" y="1601640"/>
            <a:ext cx="1700280" cy="19018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635520" y="3405240"/>
            <a:ext cx="162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pr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ul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Embargo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95280" y="1738440"/>
            <a:ext cx="2089080" cy="181764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95280" y="3645000"/>
            <a:ext cx="129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Cobrança = CPMF da águ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2000" fill="hold"/>
                                        <p:tgtEl>
                                          <p:spTgt spid="2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195640" y="2276640"/>
            <a:ext cx="4897440" cy="2520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59920" y="465948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Outorg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8795600">
            <a:off x="2337120" y="295524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Cobranç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2772000">
            <a:off x="4965840" y="3144240"/>
            <a:ext cx="22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Fiscaliz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64000" y="3149640"/>
            <a:ext cx="216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USUÁRI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ÁGU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344520"/>
            <a:ext cx="860436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6000" spc="-1" strike="noStrike">
                <a:solidFill>
                  <a:srgbClr val="0000ff"/>
                </a:solidFill>
                <a:latin typeface="Arial"/>
              </a:rPr>
              <a:t>Visão desejad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71440" y="5145120"/>
            <a:ext cx="8872560" cy="1712880"/>
            <a:chOff x="271440" y="5145120"/>
            <a:chExt cx="8872560" cy="1712880"/>
          </a:xfrm>
        </p:grpSpPr>
        <p:sp>
          <p:nvSpPr>
            <p:cNvPr id="276" name=""/>
            <p:cNvSpPr/>
            <p:nvPr/>
          </p:nvSpPr>
          <p:spPr>
            <a:xfrm>
              <a:off x="2009880" y="5264280"/>
              <a:ext cx="5400720" cy="8254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Fundamentação técnico-científi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Exercício dos direitos de acesso à águ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271440" y="5162760"/>
              <a:ext cx="1646280" cy="169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7452000" y="5145120"/>
              <a:ext cx="1692000" cy="1649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9" name=""/>
          <p:cNvGrpSpPr/>
          <p:nvPr/>
        </p:nvGrpSpPr>
        <p:grpSpPr>
          <a:xfrm>
            <a:off x="76320" y="1224000"/>
            <a:ext cx="4165200" cy="3263760"/>
            <a:chOff x="76320" y="1224000"/>
            <a:chExt cx="4165200" cy="3263760"/>
          </a:xfrm>
        </p:grpSpPr>
        <p:sp>
          <p:nvSpPr>
            <p:cNvPr id="280" name=""/>
            <p:cNvSpPr/>
            <p:nvPr/>
          </p:nvSpPr>
          <p:spPr>
            <a:xfrm>
              <a:off x="1962720" y="1224000"/>
              <a:ext cx="2278800" cy="119124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ffff"/>
                  </a:solidFill>
                  <a:latin typeface="Times New Roman"/>
                </a:rPr>
                <a:t>Financiamen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Bem econômic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ffff"/>
                  </a:solidFill>
                  <a:latin typeface="Times New Roman"/>
                </a:rPr>
                <a:t>Uso r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81" name="" descr=""/>
            <p:cNvPicPr/>
            <p:nvPr/>
          </p:nvPicPr>
          <p:blipFill>
            <a:blip r:embed="rId3"/>
            <a:stretch/>
          </p:blipFill>
          <p:spPr>
            <a:xfrm>
              <a:off x="76320" y="2836800"/>
              <a:ext cx="1979640" cy="165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4"/>
            <a:stretch/>
          </p:blipFill>
          <p:spPr>
            <a:xfrm>
              <a:off x="135000" y="1274760"/>
              <a:ext cx="1704960" cy="155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5130360" y="1268280"/>
            <a:ext cx="3868200" cy="11912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du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reven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rticipativa/Descentraliz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92360" y="2166840"/>
            <a:ext cx="5616360" cy="35672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00"/>
                </a:solidFill>
                <a:latin typeface="Times New Roman"/>
              </a:rPr>
              <a:t>A cobrança visa preservar o uso dos recursos hídricos para as presentes e futuras gerações</a:t>
            </a:r>
            <a:r>
              <a:rPr b="0" lang="pt-BR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PROPOSTA DE RESOLUÇÃO</a:t>
            </a:r>
            <a:br>
              <a:rPr sz="2800"/>
            </a:br>
            <a:r>
              <a:rPr b="1" i="1" lang="pt-BR" sz="2800" spc="-1" strike="noStrike">
                <a:solidFill>
                  <a:srgbClr val="e3e3ff"/>
                </a:solidFill>
                <a:latin typeface="Times New Roman"/>
              </a:rPr>
              <a:t> Versão nº 01 – 20.08.200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973080"/>
            <a:ext cx="86868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ONSELHO NACIONAL DE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roposta de Resolução para o Estabelecimento  de Critérios Gerais para a Cobrança pelo Uso dos Recursos Hídr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 Conselho Nacional de Recursos Hídricos, no uso das competências que lhe são conferidas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433, de 8 de janeiro de 1997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com a redação dada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Lei nº 9.984, de 17 de julho de 2000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regulamentada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2.612, de 3 de junho de 1998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o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Decreto nº 3.978, de 22 de outubro de 2001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tendo em vista o disposto no seu Regimento Interno, aprov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MMA nº 407, de 23 de novembro de 1999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alterado pela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Portaria nº 65, de 15 de fevereiro de 2002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, 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4360" y="495360"/>
            <a:ext cx="7848360" cy="61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Art. 1</a:t>
            </a:r>
            <a:r>
              <a:rPr b="1" lang="pt-BR" sz="22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. Esta Resolução tem por objeto o estabelecimento de critérios gerais para a cobrança pelo uso dos recursos hídricos nas bacias hidrográficas, conforme previsão dos arts. </a:t>
            </a:r>
            <a:r>
              <a:rPr b="1" lang="pt-BR" sz="2200" spc="-1" strike="noStrike" u="sng">
                <a:solidFill>
                  <a:srgbClr val="ffffff"/>
                </a:solidFill>
                <a:uFillTx/>
                <a:latin typeface="Times New Roman"/>
              </a:rPr>
              <a:t>19 a 22</a:t>
            </a:r>
            <a:r>
              <a:rPr b="1" lang="pt-BR" sz="2200" spc="-1" strike="noStrike">
                <a:solidFill>
                  <a:srgbClr val="ffffff"/>
                </a:solidFill>
                <a:latin typeface="Times New Roman"/>
              </a:rPr>
              <a:t> da Lei nº 9.433, de 1997, com  redação dada pela Lei nº 9.984, de 2000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ffcc"/>
                </a:solidFill>
                <a:latin typeface="Times New Roman"/>
              </a:rPr>
              <a:t>Lei  nº 9.433, de 1997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Art. 19.  A cobrança pelo uso de recursos hídricos objetiv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 – reconhecer a água como bem econômico e dar ao usuário uma indicação de seu real valor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 – incentivar a racionalização do uso da águ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III – obter recursos financeiros para o financiamento dos programas e intervenções contemplados nos planos de recursos hídricos.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 rot="18498000">
            <a:off x="674640" y="198360"/>
            <a:ext cx="89064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373960" cy="49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0. Serão cobrados os usos de recursos hídricos sujeitos a outorga, nos termos do art. 12 desta Lei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Art. 21. Na fixação dos valores a serem cobrados pelo uso dos recursos hídricos devem ser observados, dentre out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 - nas derivações, captações e extrações de água, o volume retirado e seu regime de variaçã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II - nos lançamentos de esgotos e demais resíduos líquidos ou gasosos, o volume lançado e seu regime de variação e as características físico-químicas, biológicas e de toxidade do afluent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ffcc"/>
                </a:solidFill>
                <a:latin typeface="Times New Roman"/>
              </a:rPr>
              <a:t>Lei  nº 9.433, de 1997.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36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Art. 22. Os valores arrecadados com a cobrança pelo uso de recursos hídricos serão aplicados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oritariamente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00ffcc"/>
                </a:solidFill>
                <a:latin typeface="Times New Roman"/>
              </a:rPr>
              <a:t>na bacia hidrográfica em que foram gerados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e serão utiliz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 - no financiamento de estudos, programas, projetos e obras incluídos nos Planos de Recursos Hídrico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II - no pagamento de despesas de implantação e custeio administrativo dos órgãos e entidades integrantes do Sistema Nacional de Gerenciamento de Recursos Hídr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1º A aplicação nas despesas previstas no inciso II deste artigo é limitada a </a:t>
            </a: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sete e meio por cento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o total arreca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§ 2º Os valores previstos no </a:t>
            </a:r>
            <a:r>
              <a:rPr b="1" i="1" lang="pt-BR" sz="2400" spc="-1" strike="noStrike">
                <a:solidFill>
                  <a:srgbClr val="ffff00"/>
                </a:solidFill>
                <a:latin typeface="Times New Roman"/>
              </a:rPr>
              <a:t>caput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 deste artigo poderão ser aplicados a fundo perdido em projetos e obras que alterem, de modo considerado benéfico à coletividade, a qualidade, a quantidade e o regime de vazão de um corpo de água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4360" y="496800"/>
            <a:ext cx="7848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DISPOSIÇÕES GERA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2º. Serão cobrados os usos de recursos hídricos </a:t>
            </a:r>
            <a:r>
              <a:rPr b="1" lang="pt-BR" sz="2800" spc="-1" strike="noStrike" u="sng">
                <a:solidFill>
                  <a:srgbClr val="00ffcc"/>
                </a:solidFill>
                <a:uFillTx/>
                <a:latin typeface="Times New Roman"/>
              </a:rPr>
              <a:t>sujeitos à outorga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, conforme previsão no art. 20 da Lei nº 9.433,  de 199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rt. 3º. A cobrança pelo uso dos recursos hídricos será efetuada por meio de ato da autoridade outorgante competente e estará condicionada à existência de comitê na bacia hidrográfica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 flipH="1">
            <a:off x="3851280" y="573264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ffcc"/>
                </a:solidFill>
                <a:latin typeface="Times New Roman"/>
              </a:rPr>
              <a:t>Disposições Gera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Art. 4º. As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autoridades outorgantes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 deverão elaborar estudos técnicos para subsidiar a definição, pelos respectivos Conselhos, dos valores a serem cobrados pelo uso de recursos hídricos, com base nos mecanismos e quantitativos sugeridos pelo </a:t>
            </a:r>
            <a:r>
              <a:rPr b="1" lang="pt-BR" sz="3200" spc="-1" strike="noStrike">
                <a:solidFill>
                  <a:srgbClr val="00ffcc"/>
                </a:solidFill>
                <a:latin typeface="Times New Roman"/>
              </a:rPr>
              <a:t>comitê de bacia hidrográfica, conforme inciso VI, do art. 38,  da Lei nº 9.433, de 1997</a:t>
            </a:r>
            <a:r>
              <a:rPr b="1" lang="pt-BR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539640" y="476280"/>
            <a:ext cx="828036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DOS OBJETIVOS DA COBRANÇ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rt. 5º 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A cobrança objetiv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reconhecer a água com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bem finit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otado de valor econômico e dar ao usuário uma    indicação de seu real valo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centivar a </a:t>
            </a: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racionaliz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nserv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peração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os recursos hídricos e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stimular a utilização de tecnologias limpa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e que demandem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menor volume de água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obte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cursos financeir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ara o financiamento de estudos, programas e projetos e a execução de intervenções contempladas nos Plan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induzir a adequada localização dos usuários nas bacias hidrográficas, buscando a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proteção e conservação dos recursos hídric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, de acordo com o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enquadramento de  corpos de águas em classes de usos preponderante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redistribuir custos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de forma eqüitativa entre os setores usuários e os usuários de recursos hídric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VI </a:t>
            </a:r>
            <a:r>
              <a:rPr b="1" lang="pt-BR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 possibilitar </a:t>
            </a:r>
            <a:r>
              <a:rPr b="1" lang="pt-BR" sz="2000" spc="-1" strike="noStrike">
                <a:solidFill>
                  <a:srgbClr val="ffff00"/>
                </a:solidFill>
                <a:latin typeface="Times New Roman"/>
              </a:rPr>
              <a:t>compensações e incentiv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8:26:32Z</dcterms:created>
  <dc:creator>xxxx</dc:creator>
  <dc:description/>
  <dc:language>en-US</dc:language>
  <cp:lastModifiedBy>Celia Cristina Moura Pimenta</cp:lastModifiedBy>
  <dcterms:modified xsi:type="dcterms:W3CDTF">2002-08-20T00:18:11Z</dcterms:modified>
  <cp:revision>84</cp:revision>
  <dc:subject/>
  <dc:title>Planos de Recursos Hídricos </dc:title>
</cp:coreProperties>
</file>