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6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722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Ministério do Meio Ambient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" name="governo_lula" descr=""/>
          <p:cNvPicPr/>
          <p:nvPr/>
        </p:nvPicPr>
        <p:blipFill>
          <a:blip r:embed="rId2"/>
          <a:stretch/>
        </p:blipFill>
        <p:spPr>
          <a:xfrm>
            <a:off x="6477120" y="6384960"/>
            <a:ext cx="2666880" cy="473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" name="ramsar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112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6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3" name="abertur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7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990720"/>
            <a:ext cx="65530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Zonas Úmidas na Bacia do Prata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276720"/>
            <a:ext cx="883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stema Pantanal/Paraguai - Paran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5" name="governo_lula" descr=""/>
          <p:cNvPicPr/>
          <p:nvPr/>
        </p:nvPicPr>
        <p:blipFill>
          <a:blip r:embed="rId1"/>
          <a:stretch/>
        </p:blipFill>
        <p:spPr>
          <a:xfrm>
            <a:off x="5410080" y="6195960"/>
            <a:ext cx="3733920" cy="6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81080" y="228600"/>
            <a:ext cx="6492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Sistema Pantanal/Paraguai - Paraná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1676520"/>
            <a:ext cx="88549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Bef>
                <a:spcPts val="2001"/>
              </a:spcBef>
              <a:spcAft>
                <a:spcPts val="2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i a planície Pantaneira (compartilhada pelo Brasil, Bolívia e Paraguai), os pantanais do Rio Paraguai médio e inferior e o vale aluvial do Rio Paraná médio e inferior até o Rio da Prata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spcBef>
                <a:spcPts val="2001"/>
              </a:spcBef>
              <a:spcAft>
                <a:spcPts val="2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olve território de cinco países: Argentina, Bolívia, Brasil, Paraguai e Uruguai;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spcBef>
                <a:spcPts val="2001"/>
              </a:spcBef>
              <a:spcAft>
                <a:spcPts val="2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ende-se por mais de 3.400 Km de rio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spcBef>
                <a:spcPts val="2001"/>
              </a:spcBef>
              <a:spcAft>
                <a:spcPts val="2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ura-se como um imenso corredor de áreas úmidas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81080" y="0"/>
            <a:ext cx="6492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Iniciativas nacionais ou multilaterais no âmbito da Bacia do Pra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080" y="1371600"/>
            <a:ext cx="88549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a Pantanal</a:t>
            </a:r>
            <a:br>
              <a:rPr sz="20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senvolvimento Sustentável do Pantana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a Marco para a Bacia do Prata</a:t>
            </a:r>
            <a:br>
              <a:rPr sz="20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arco para a Gestão Sustentável dos Recursos Hídricos da Bacia do Prata, relacionado com a variabilidade e mudança climát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a Delta América</a:t>
            </a:r>
            <a:br>
              <a:rPr sz="20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senvolvimento e Implementação de mecanismos para a disseminação de lições aprendidas e experiências em Gestão Integrada de Recursos Hídricos Transfronteiriços na América Latina e Carib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to Aqüífero Guarani </a:t>
            </a:r>
            <a:br>
              <a:rPr sz="20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teção Ambiental e Desenvolvimento Sustentável do Sistema Aqüífero Guarani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to Alto Paraguai</a:t>
            </a:r>
            <a:br>
              <a:rPr sz="20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mplementação do Programa Estratégico de Ação para o Gerenciamento Integrado do Pantanal e da Bacia do Alto Paraguai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600200"/>
            <a:ext cx="807696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rvas da Biosfer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ítios do Patrimôni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ítios Ramsa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Ambiental Fluvi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T-6 – Sub-grupo de Meio Ambiente do Mercosu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C – Comitê de Integração da Bacia do Prat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0"/>
            <a:ext cx="6492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Iniciativas nacionais ou multilaterais no âmbito da Bacia do Pra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1080" y="0"/>
            <a:ext cx="6810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Temas críticos transfronteiriços d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Programa Marco para a Bacia do Prata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8534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minaçã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egação/Hidrovi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sc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dança de uso do solo: erosão e agroquímicos da agricultur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ção e segurança de barragens e planos de ação de emergênci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xilhão dourado e cianobactéri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terogeneidade de níveis de desenvolvimen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florestaçã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cional/Legal: integração/harmonização de leis e parâmetro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ção/Padronizaçã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diversida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1371600"/>
            <a:ext cx="845820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moção de pesquisas científicas voltadas para a conservação e gestão do Pantanal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ção e troca de experiências com outras zonas úmidas da Bacia do Prata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operação com Paraguai e Bolívia para a gestão da Bacia Alto Paraguai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operação internacional para o monitoramento e proteção da biodiversidade do Pantanal;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spcAft>
                <a:spcPts val="15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ção com as ações de implementação da Reserva da Biosfera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5120" y="152280"/>
            <a:ext cx="627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164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Convenção de Ramsar e o Pantanal</a:t>
            </a:r>
            <a:br>
              <a:rPr sz="2800"/>
            </a:br>
            <a:r>
              <a:rPr b="0" i="1" lang="en-US" sz="2400" spc="-1" strike="noStrike">
                <a:solidFill>
                  <a:srgbClr val="99ffcc"/>
                </a:solidFill>
                <a:latin typeface="Arial"/>
              </a:rPr>
              <a:t>Agenda míni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523880"/>
            <a:ext cx="84582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érida/Mx – Reunião das representações da Bacia do Prata</a:t>
            </a:r>
            <a:br>
              <a:rPr sz="2000"/>
            </a:b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uta: Cooperação no âmbito do sistema da áreas úmidas Paraguai – Paraná</a:t>
            </a:r>
            <a:br>
              <a:rPr sz="1600"/>
            </a:b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moção: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inistério do Meio Ambiente – Brasil – Novembro 2004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84320" indent="-184320">
              <a:lnSpc>
                <a:spcPct val="11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rto Alegre/Br – Fórum Social Mundial: Oficina autogestionada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uta: Cooperação e Participação Social na construção de um Programa para o Sistema da Áreas Úmidas Paraguai-Paraná</a:t>
            </a:r>
            <a:br>
              <a:rPr sz="1600"/>
            </a:b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moção: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alizão Rios Vivos – Janeiro 2005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184320" indent="-184320">
              <a:lnSpc>
                <a:spcPct val="11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ntanal/Br – Seminário Internacional: </a:t>
            </a:r>
            <a:br>
              <a:rPr sz="2000"/>
            </a:b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uta: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 construção de uma Agenda de Cooperação para o Sistema de Áreas Úmidas Paraguai – Paraná</a:t>
            </a:r>
            <a:br>
              <a:rPr sz="1600"/>
            </a:b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moção: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inistério do Meio Ambiente – Brasil – Março/Abril 2005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54400" y="282600"/>
            <a:ext cx="41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164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Agenda de seguim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09:27Z</dcterms:created>
  <dc:creator>SPOACGMI</dc:creator>
  <dc:description/>
  <dc:language>en-US</dc:language>
  <cp:lastModifiedBy>Valmir Ortega</cp:lastModifiedBy>
  <dcterms:modified xsi:type="dcterms:W3CDTF">2005-03-02T10:51:44Z</dcterms:modified>
  <cp:revision>150</cp:revision>
  <dc:subject/>
  <dc:title>SISTEMA NACIONAL DE UNIDADES DE CONSERVAÇÃO</dc:title>
</cp:coreProperties>
</file>