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8A7-D5AD-4BA3-BD92-762A02A7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B9E-6384-40AB-8AAE-03AC2A6E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399-3B68-4F69-BD2A-D0D4C13E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CD4-2255-4229-BC78-450E50D2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D5C4-16F0-4F26-96DC-D69059D9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2BD7-5F81-4597-9A02-AB1FE9C6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D762-DF5F-4036-A37E-DDDB759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4BA-C62A-46A3-BCC0-001E0F3A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262F-26D8-4287-AD61-7FB75FB0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F057-6D92-4D98-A5E9-9C1C72D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C3C-86A0-4A96-A993-90A39BC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C18-9BE1-44BE-9EFE-BD9E00BE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ECAB-9EDC-42F7-B576-36B1207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1487-0FCA-4DBE-8AFE-FBF0AF1E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E899-BE18-4009-8622-CDD9825D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D0B1-FADE-42E7-A567-F4BC36C0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0F08-3436-4CF2-8F4A-6D04DAFD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26F-D545-4F82-9DFC-BA0F1F9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A64-D257-4A47-A619-04DEB0A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806-E402-45E6-AF4B-17F63EDC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8C7-88A2-432F-B19D-19496A28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F44-B088-4D9F-965A-3B5F0608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3AB-3B41-4988-A41E-BE384C86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595-A515-48C4-9ECF-DEC4537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3B3-9308-49D5-B8E7-87D4751E6DF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5FD1-1C7D-4EB5-94C3-331633330BE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s Internacionais para Operação Integrada de Transporte Hidroviári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Hidrovia Paraguai - 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Eng. Luiz Eduardo Ga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Administração da Hidrovia do Paraná – AHR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onselho Nacional de Recursos Hídricos –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âmara Técnica de Gestão de Recursos Hídricos Transfronteir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Brasília, 23 de Junho de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4920" y="1946160"/>
            <a:ext cx="6983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mpactos Diretos (Módulo A), segundo HS-LB-E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eio Físico, Biótico e Antróp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Regime Hidráulico (Pto. da Manga/Pinasco – km 2685 ao 208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Hidrologia e sedimentação devido às dragag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Qualidade da água e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Turbidez e perda biodivers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uscar reduzir a “mancha”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entos (dragagem 1,39% derrocamento 0,0039%, áreas relativ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erda pesca, poluição sonora, derrames, acidentes, tráfego, durante execução dos serviç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teú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 - Diagnó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 - Avaliação de Impacto Ambi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3 - Programa de Mitigação, Monitoramento, Controle e Minimização de Imp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sórcio Taylor-Golder Consular-Con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azo 30 m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usto de US$2,9 m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A (curto prazo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...A avaliação de impactos indica que os impactos serão de magnitude baixa a depreciável em todo o tramo. As dragagens dos diferentes locais não produzirão efeitos cumulativos ou sinérgicos consideráveis....As avaliações indicaram que a baixa ocorrência  de obras (construção) e da navegação (operação), não modificarão de modo apreciável os recursos ecossistêmicos.... Os impactos no Rio Paraná são praticamente desprezíveis devido ao tamanho do rio e da planície de inundação....Entre Assunção e Murtinho...série de derrocamentos...devido ao reduzido volume de rochas...que os impactos são reduzidos e controláveis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B1(médio praz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Os impactos diretos da construção de qualquer das alternativas são baixos. Os impactos indiretos (migrações, mudanças no uso do solo,economia) tampouco resultam substanciais para impedir a execução do projeto...Os consultores recomendam que se adote uma alternativa que assegure uma rentabilidade mínima ao projeto, porém que minimize ao máximo 1) o número de intervenções no rio e 2) a freqüência de embarcações....a possibilidade de relocação do porto de Cáceres em Morrinhos deveria ser estudada..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4920" y="1870200"/>
            <a:ext cx="6983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3 – PROGRAMA DE MITIGAÇÃO, MONITORAMENTO, CONTROLE E MINIMIZAÇÃO DE IMPA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Escritórios de Planejamento 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lano d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Gestão Ambiental(coleta e avaliação de parâmetros ambientais, emergências e derrames, controle das dragagens, regulamento ambiental, saúde e áreas protegid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Educação Ambiental e Capaci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Indíge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Custo: US$1,73 milhões impla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S$1,70 milhões/ano manuten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PYP_mapa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467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old4" descr=""/>
          <p:cNvPicPr/>
          <p:nvPr/>
        </p:nvPicPr>
        <p:blipFill>
          <a:blip r:embed="rId1"/>
          <a:stretch/>
        </p:blipFill>
        <p:spPr>
          <a:xfrm>
            <a:off x="1784520" y="533520"/>
            <a:ext cx="5454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479680"/>
            <a:ext cx="38098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Atual na Hidro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Futura (até 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6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Granéis agríco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7,5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inério de fe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bustíveis e deriv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adeira e Wood Chi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ein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elu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0,5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2209320"/>
            <a:ext cx="563868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-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de Transporte Flu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cordos (Hidrovia, MERCOSUL,IIR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rredores Estraté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old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EJE_O-A-P2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662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22510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erificação e identificação das dema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stalação de termi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dequação da infra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Transposição” de Itai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07720" y="1945800"/>
            <a:ext cx="606924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inistério dos Trans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NT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HRANA, AHI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4920" y="182844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e o  C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(CIH, PNUD, B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4920" y="1752480"/>
            <a:ext cx="698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Acordo de Transporte Fluvial pela Hidrovia Paraguai-Paraná (Porto de Cáceres/Porto de Nova Palmi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íc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gosto de 1989/Decreto 2.716 de 10/08/98 (promulga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acilitar e manter condições seguras do tráf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ar a competitividade em igualdade de cond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4920" y="1752120"/>
            <a:ext cx="698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Acordo de Transporte Fluvial (con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otocolos (7): aduana, navegação e segurança, seguros, igualdade de oportunidade para maior competitividade, soluções de controvérsia e cessação da bandei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Regulamentos (11): desde transporte de mercadorias, infrações, dimensões dos comboios, balizamento, entre outr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Órgãos oper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Comitê Intergoverna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issão do Aco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tê Intergovernamental da Hidrovia Paraguai – Paraná - 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Órgãos de apo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o Acordo -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Naval - G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Ambiental - G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s Técnicos - G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e Contraparte Técnica - C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vênio apoio PNUD-BID-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Unidade Coorden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do proj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o do tráfego na regi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terrupção da navegação durante os períodos de seca prolong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acterísticas próp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proveitamento em Corrente Liv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Dragagens, Derrocamentos e Sin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Nível de Referência - Hidrologia pecu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ponentes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sórcio Hidroservice-Louis Berger-E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azo de 30 m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alor US$ 3,5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6:52:05Z</dcterms:created>
  <dc:creator>Garcia</dc:creator>
  <dc:description/>
  <dc:language>en-US</dc:language>
  <cp:lastModifiedBy>Luiz Garcia</cp:lastModifiedBy>
  <dcterms:modified xsi:type="dcterms:W3CDTF">2003-06-22T13:43:31Z</dcterms:modified>
  <cp:revision>32</cp:revision>
  <dc:subject/>
  <dc:title>Hidrovias e Integração da América Latina</dc:title>
</cp:coreProperties>
</file>