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393F-E757-48DF-874E-D7F189FB4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79D5-6EDC-41ED-AE91-1476FBC07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0913-BAB4-49B0-9D6B-15EDF9C74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791C-6CD3-4FA6-A05A-9E4E108FB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140F6-504D-4FA9-BD72-1E2AFA3A9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AB234-EEAE-407F-9FA8-8F1C5A6AB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D6541-8737-4396-B45B-569143E0B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35FF2-8D03-458C-9E09-6577364CE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C1E75-5C70-4A71-9689-71B13C3FF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87F72-7FCC-489E-9123-A087A38A1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85622-341C-4D27-90D5-067BB6FBD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6F1D-DF02-49B1-A72E-B36E05DA9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999AA-4F7C-44D6-8FD0-CF2ABDE0D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38995-A89F-40F0-90DC-7CDFEC149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BD17E-3CA4-4165-BE37-E6D0494B7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21304-C4BD-45B4-962E-F7FFF9986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6BFAB-456B-4947-B796-02675B66A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A5C4-6E6F-42AE-94D3-E10D23DD0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9678-63AE-4CA3-87D0-C0B8F32C6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BCAD-1AD0-4F0F-982A-A9D338386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ED46-F233-4983-8B80-E1B52A94A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161F-1929-4F95-B3E1-9B384B6C2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5E4E-8321-4A11-A837-ADCBD790A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FF72-FF6C-4470-B94A-B5B1A5E1D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9DC33-5B1E-4F06-BB44-3AAD4181C81C}" type="slidenum"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5F1DB-FB13-4817-8A2A-DF656412D1BD}" type="slidenum"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30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Verdana"/>
              </a:rPr>
              <a:t>Acordos Internacionais para Operação Integrada de Transporte Hidroviário</a:t>
            </a:r>
            <a:br>
              <a:rPr sz="2400"/>
            </a:br>
            <a:r>
              <a:rPr b="1" lang="pt-BR" sz="2400" spc="-1" strike="noStrike">
                <a:solidFill>
                  <a:srgbClr val="ffff00"/>
                </a:solidFill>
                <a:latin typeface="Verdana"/>
              </a:rPr>
              <a:t>Hidrovia Paraguai - Paraná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828800" y="28195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Verdana"/>
              </a:rPr>
              <a:t>Eng. Luiz Eduardo Garc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Verdana"/>
              </a:rPr>
              <a:t>Administração da Hidrovia do Paraná – AHRA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Verdana"/>
              </a:rPr>
              <a:t>Conselho Nacional de Recursos Hídricos – CNR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Verdana"/>
              </a:rPr>
              <a:t>Câmara Técnica de Gestão de Recursos Hídricos Transfronteiriç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Verdana"/>
              </a:rPr>
              <a:t>Brasília, 23 de Junho de 200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Verdana"/>
              </a:rPr>
              <a:t>Acordo Hidrovia Paraguai-Paraná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474920" y="1946160"/>
            <a:ext cx="698328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A HIDROVIA  PARAGUAI – PARANÁ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Estudo de Impacto Ambient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Impactos Diretos (Módulo A), segundo HS-LB-EI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Meio Físico, Biótico e Antrópic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Principais resultad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Regime Hidráulico (Pto. da Manga/Pinasco – km 2685 ao 2080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Hidrologia e sedimentação devido às dragage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Qualidade da água e sediment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Turbidez e perda biodiversida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Buscar reduzir a “mancha”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Bentos (dragagem 1,39% derrocamento 0,0039%, áreas relativa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Perda pesca, poluição sonora, derrames, acidentes, tráfego, durante execução dos serviç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Verdana"/>
              </a:rPr>
              <a:t>Acordo Hidrovia Paraguai-Paraná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474920" y="1869840"/>
            <a:ext cx="6983280" cy="41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A HIDROVIA  PARAGUAI – PARANÁ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Módulo B2 - Estudo de Impacto Ambient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Conteú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1 - Diagnóstic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2 - Avaliação de Impacto Ambient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3 - Programa de Mitigação, Monitoramento, Controle e Minimização de Impact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Autor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Consórcio Taylor-Golder Consular-Conn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Prazo 30 mes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Custo de US$2,9 milhõ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Verdana"/>
              </a:rPr>
              <a:t>Acordo Hidrovia Paraguai-Paraná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474920" y="1869840"/>
            <a:ext cx="6983280" cy="41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A HIDROVIA  PARAGUAI – PARANÁ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Módulo B2 - Estudo de Impacto Ambient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2 - AVALIAÇÂO DE IMPACTO AMBIENT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Principais resultados: Módulo A (curto prazo</a:t>
            </a:r>
            <a:r>
              <a:rPr b="1" lang="pt-BR" sz="14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1" lang="pt-BR" sz="1400" spc="-1" strike="noStrike">
                <a:solidFill>
                  <a:srgbClr val="ffffff"/>
                </a:solidFill>
                <a:latin typeface="Verdana"/>
              </a:rPr>
              <a:t>...A avaliação de impactos indica que os impactos serão de magnitude baixa a depreciável em todo o tramo. As dragagens dos diferentes locais não produzirão efeitos cumulativos ou sinérgicos consideráveis....As avaliações indicaram que a baixa ocorrência  de obras (construção) e da navegação (operação), não modificarão de modo apreciável os recursos ecossistêmicos.... Os impactos no Rio Paraná são praticamente desprezíveis devido ao tamanho do rio e da planície de inundação....Entre Assunção e Murtinho...série de derrocamentos...devido ao reduzido volume de rochas...que os impactos são reduzidos e controláveis.”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Verdana"/>
              </a:rPr>
              <a:t>Acordo Hidrovia Paraguai-Paraná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74920" y="1869840"/>
            <a:ext cx="6983280" cy="41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A HIDROVIA  PARAGUAI – PARANÁ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Módulo B2 - Estudo de Impacto Ambient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2 - AVALIAÇÂO DE IMPACTO AMBIENT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Principais Resultados: Módulo B1(médio prazo</a:t>
            </a: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1" lang="pt-BR" sz="1400" spc="-1" strike="noStrike">
                <a:solidFill>
                  <a:srgbClr val="ffffff"/>
                </a:solidFill>
                <a:latin typeface="Verdana"/>
              </a:rPr>
              <a:t>Os impactos diretos da construção de qualquer das alternativas são baixos. Os impactos indiretos (migrações, mudanças no uso do solo,economia) tampouco resultam substanciais para impedir a execução do projeto...Os consultores recomendam que se adote uma alternativa que assegure uma rentabilidade mínima ao projeto, porém que minimize ao máximo 1) o número de intervenções no rio e 2) a freqüência de embarcações....a possibilidade de relocação do porto de Cáceres em Morrinhos deveria ser estudada...”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Verdana"/>
              </a:rPr>
              <a:t>Acordo Hidrovia Paraguai-Paraná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74920" y="1870200"/>
            <a:ext cx="698328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A HIDROVIA  PARAGUAI – PARANÁ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Módulo B2 - Estudo de Impacto Ambient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3 – PROGRAMA DE MITIGAÇÃO, MONITORAMENTO, CONTROLE E MINIMIZAÇÃO DE IMPACT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Verdana"/>
              </a:rPr>
              <a:t>Escritórios de Planejamento e Gestão Ambient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Verdana"/>
              </a:rPr>
              <a:t>Plano de Gestão Ambient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Verdana"/>
              </a:rPr>
              <a:t>Programa de Gestão Ambiental(coleta e avaliação de parâmetros ambientais, emergências e derrames, controle das dragagens, regulamento ambiental, saúde e áreas protegidas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Verdana"/>
              </a:rPr>
              <a:t>Programa de Educação Ambiental e Capacitaçã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Verdana"/>
              </a:rPr>
              <a:t>Programa Indígena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Verdana"/>
              </a:rPr>
              <a:t>Custo: US$1,73 milhões implantaçã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Verdana"/>
              </a:rPr>
              <a:t>           </a:t>
            </a:r>
            <a:r>
              <a:rPr b="1" lang="pt-BR" sz="1400" spc="-1" strike="noStrike">
                <a:solidFill>
                  <a:srgbClr val="ffffff"/>
                </a:solidFill>
                <a:latin typeface="Verdana"/>
              </a:rPr>
              <a:t>US$1,70 milhões/ano manutençã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Verdana"/>
              </a:rPr>
              <a:t>Acordo Hidrovia Paraguai-Paraná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74920" y="1945800"/>
            <a:ext cx="6983280" cy="36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A HIDROVIA  PARAGUAI – PARANÁ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Descri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map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Situação Atu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HPYP_mapa" descr=""/>
          <p:cNvPicPr/>
          <p:nvPr/>
        </p:nvPicPr>
        <p:blipFill>
          <a:blip r:embed="rId1"/>
          <a:stretch/>
        </p:blipFill>
        <p:spPr>
          <a:xfrm>
            <a:off x="1981080" y="152280"/>
            <a:ext cx="546732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mold4" descr=""/>
          <p:cNvPicPr/>
          <p:nvPr/>
        </p:nvPicPr>
        <p:blipFill>
          <a:blip r:embed="rId1"/>
          <a:stretch/>
        </p:blipFill>
        <p:spPr>
          <a:xfrm>
            <a:off x="1784520" y="533520"/>
            <a:ext cx="545436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Verdana"/>
              </a:rPr>
              <a:t>Acordo Hidrovia Paraguai-Paraná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A Hidrovia PARAGUAI – PARANÁ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Situação Atu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Verdana"/>
              </a:rPr>
              <a:t>Acordo Hidrovia Paraguai-Paraná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218960" y="2479680"/>
            <a:ext cx="3809880" cy="30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Carga Atual na Hidrov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12 milhões de tonelad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Carga Futura (até 200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16 milhões de tonelad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132160" y="19461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Granéis agrícol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7,5 milhões de 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Minério de ferr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3 milhões de 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Combustíveis e derivad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3 milhões de 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Madeira e Wood Chip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1 milhão de 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Conteiner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1 milhão de 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Celulo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0,5 milhão de 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Verdana"/>
              </a:rPr>
              <a:t>Acordo Hidrovia Paraguai-Paraná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590560" y="2209320"/>
            <a:ext cx="5638680" cy="285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Introdu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A Hidrovia Paraguai-Paraná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O Acordo de Transporte Fluv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Perspectivas de Integra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Conclusõ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Verdana"/>
              </a:rPr>
              <a:t>Acordo Hidrovia Paraguai-Paraná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Perspectivas de Integra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Acordos (Hidrovia, MERCOSUL,IIRS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Corredores Estratégic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mold3" descr=""/>
          <p:cNvPicPr/>
          <p:nvPr/>
        </p:nvPicPr>
        <p:blipFill>
          <a:blip r:embed="rId1"/>
          <a:stretch/>
        </p:blipFill>
        <p:spPr>
          <a:xfrm>
            <a:off x="2057400" y="228600"/>
            <a:ext cx="515160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EJE_O-A-P2" descr=""/>
          <p:cNvPicPr/>
          <p:nvPr/>
        </p:nvPicPr>
        <p:blipFill>
          <a:blip r:embed="rId1"/>
          <a:stretch/>
        </p:blipFill>
        <p:spPr>
          <a:xfrm>
            <a:off x="2362320" y="457200"/>
            <a:ext cx="466236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Verdana"/>
              </a:rPr>
              <a:t>Acordo Hidrovia Paraguai-Paraná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70000" y="2251080"/>
            <a:ext cx="7772400" cy="24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Conclusõ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Verificação e identificação das demand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Instalação de termina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Adequação da infraestrutu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Transposição” de Itaipu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Verdana"/>
              </a:rPr>
              <a:t>Acordo Hidrovia Paraguai-Paraná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007720" y="1945800"/>
            <a:ext cx="6069240" cy="29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INTRODU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Ministério dos Transpor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ANTA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DN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AHRANA, AHIP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Verdana"/>
              </a:rPr>
              <a:t>Acordo Hidrovia Paraguai-Paraná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474920" y="1828440"/>
            <a:ext cx="6983280" cy="36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A HIDROVIA  PARAGUAI – PARANÁ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Históric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O Acordo e o  CI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Os estudos e projeto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(CIH, PNUD, BI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Descri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map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Situação Atu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Verdana"/>
              </a:rPr>
              <a:t>Acordo Hidrovia Paraguai-Paraná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74920" y="1752480"/>
            <a:ext cx="69832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A HIDROVIA  PARAGUAI – PARANÁ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O Acordo de Transporte Fluvial pela Hidrovia Paraguai-Paraná (Porto de Cáceres/Porto de Nova Palmira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Início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Agosto de 1989/Decreto 2.716 de 10/08/98 (promulgação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Objetivo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Facilitar e manter condições seguras do tráfeg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Aumentar a competitividade em igualdade de condiçõ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Verdana"/>
              </a:rPr>
              <a:t>Acordo Hidrovia Paraguai-Paraná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74920" y="1752120"/>
            <a:ext cx="69832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A HIDROVIA  PARAGUAI – PARANÁ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O Acordo de Transporte Fluvial (cont.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Protocolos (7): aduana, navegação e segurança, seguros, igualdade de oportunidade para maior competitividade, soluções de controvérsia e cessação da bandeir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Regulamentos (11): desde transporte de mercadorias, infrações, dimensões dos comboios, balizamento, entre outros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Órgãos operaciona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O Comitê Intergovernament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Comissão do Acor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Verdana"/>
              </a:rPr>
              <a:t>Acordo Hidrovia Paraguai-Paraná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474920" y="1945800"/>
            <a:ext cx="6983280" cy="36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A HIDROVIA  PARAGUAI – PARANÁ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Comitê Intergovernamental da Hidrovia Paraguai – Paraná - CI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Atividad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Órgãos de apoio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Comissão do Acordo - 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Grupo Assessor Naval - GA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Grupo Assessor Ambiental - GA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Grupos Técnicos - G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Comissão de Contraparte Técnica - CC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Verdana"/>
              </a:rPr>
              <a:t>Acordo Hidrovia Paraguai-Paraná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74920" y="1945800"/>
            <a:ext cx="69832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A HIDROVIA  PARAGUAI – PARANÁ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Os estudos e projeto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Convênio apoio PNUD-BID-CI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Unidade Coordenador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Porque do proje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Aumento do tráfego na regiã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Interrupção da navegação durante os períodos de seca prolongado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Verdana"/>
              </a:rPr>
              <a:t>Acordo Hidrovia Paraguai-Paraná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474920" y="1945800"/>
            <a:ext cx="6983280" cy="37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A HIDROVIA  PARAGUAI – PARANÁ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Características própri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Aproveitamento em Corrente Liv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Dragagens, Derrocamentos e Sinalizaçã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Nível de Referência - Hidrologia peculia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Componentes do Proje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Módulo 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Módulo B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Autor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Consórcio Hidroservice-Louis Berger-EI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Prazo de 30 mes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Valor US$ 3,5 milhõ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3T16:52:05Z</dcterms:created>
  <dc:creator>Garcia</dc:creator>
  <dc:description/>
  <dc:language>en-US</dc:language>
  <cp:lastModifiedBy>Luiz Garcia</cp:lastModifiedBy>
  <dcterms:modified xsi:type="dcterms:W3CDTF">2003-06-22T13:43:31Z</dcterms:modified>
  <cp:revision>32</cp:revision>
  <dc:subject/>
  <dc:title>Hidrovias e Integração da América Latina</dc:title>
</cp:coreProperties>
</file>