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051A0-07A0-44E0-8C77-26D471B2B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9ABA-F1E1-4BD5-85C6-21251D027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517CD-40E0-4BC9-9AC2-18341A25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C809-323F-4EF5-B48F-CF32CF2E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4596-259B-4925-94D3-C4C6511A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4922-C8DF-438B-8980-921E5693D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12A0-2EF6-48F2-AF44-D7E369F30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90B5-E931-44F0-AD67-6CEC579F6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87BE-E5D6-466F-A05A-DB5153A1A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0483-8938-44C4-AAA8-672461E1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A1EC-FAA8-4A04-A69A-65E9704F4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9C5E-E01D-4270-9EC9-710F88ED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59C4-42AD-4C68-96F8-FB7AFBF69D3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25360"/>
            <a:ext cx="798984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ojeto de Proteção Ambiental e Desenvolvimento Sustentável do Sistema Aqüífero Guara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155240" y="2997000"/>
            <a:ext cx="7232760" cy="36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GEF/BIRD/OEA  ANA – Agência Nacional de Águ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Ana Luiza Saboia de Frei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óloga – Superintendência de Conservação de Água e Solo – SAS/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http://www.ana.gov.br/guara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218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nselho Superior de Direção do Projeto – CSDP – órgão político-técnico máximo do Projeto, encarregado de fixar as pautas para execução e de orientar suas ações no marco do Documento de Proje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sto por três membros de cada paí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Representação Brasilei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Agência Nacional de Águas – Agência Executora N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o Meio Ambiente/SR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ffff66"/>
                </a:solidFill>
                <a:latin typeface="Arial"/>
              </a:rPr>
              <a:t>Ministério das Relações Exteriores – DAM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95280" y="2493720"/>
            <a:ext cx="8075520" cy="38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Colegiada – CC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Responsável pela coordenação dos aspectos técnicos do projeto e apóia o CSDP nos aspectos téc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to pelos quatro coordenadores nacion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679840"/>
            <a:ext cx="807552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cretaria Geral do Projeto – SG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Responsável pelas atividades diárias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Trabalha conjuntamente à SG/OEA e ao 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Sede em Montevidéu - Urugu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2247480"/>
            <a:ext cx="8147160" cy="38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Nacion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ordenação a nível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país conta com u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ma conta com um coorden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Executora 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26720"/>
            <a:ext cx="800244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ráter Fede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gência Nacional de Águas – agência executora no Bras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ominialidade das águas subterrâneas dos Es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Unidade Nacional de Execução do Projeto – UNEP/BRAS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Unidades Estaduais de Execução do Proj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ada Unidade Estadual conta com um Coordenador Estad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omposição das Unidades Estaduais: órgão gestor de recursos hídricos, órgão de gestão e planejamento, representante das universidades, representante de comitês de bacias e O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9152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u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Valor total - US$ 26.760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ação GEF/FMAM - US$ 13.400.000,00 (não há internalização dos recursos nos paí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Outros co-financiadores – AIEA; BGR; Bank Netherlands Partership Program – BNPP - US$ 1.368.000,00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dos países - US$ 11.992.000,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Contrapartida Brasileira - US$ 6.622.100,00 (55% das contrapartidas dos beneficiári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Documentos do Projeto – http://www.ana.gov.br/guara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i="1" lang="pt-BR" sz="2800" spc="-1" strike="noStrike">
                <a:solidFill>
                  <a:srgbClr val="ffff66"/>
                </a:solidFill>
                <a:latin typeface="Arial"/>
              </a:rPr>
              <a:t>Project Appraisel Doc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Implementação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Plano de Operação do Projeto – lançamento do projeto 21 a 23 de maio - Montevidé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Termo Aditivo de Cooperação entre República Federativa do Brasil e O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unidade geológica com capacidade armazenar e conduzir água, em seus espaços vazios (poros, fraturas e cavidades naturais), em quantidades economicamente exploráveis, por meio de poços e nasc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40040" cy="4753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Sistema Aqüíf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qüência de rochas ou unidades geológicas mais e menos permeáveis, que formam uma unidade hidrológica identificável, entre a recarga e a descar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859280" y="1628640"/>
            <a:ext cx="3799080" cy="4824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95280" y="4149720"/>
            <a:ext cx="8497800" cy="2201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1832400"/>
            <a:ext cx="784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O aqüífero se constitui pelo preenchimento de espaços nas rochas (poros e fissuras). As rochas do Guarani constituem-se de um pacote de camadas arenosas depositadas na bacia geológica do Paraná, entre 245 e 144 milhões de atrás. A espessura das camadas varia de 50 a 800 metros, estando situadas em profundidades que podem atingir até 1800 metros. Em decorrência do gradiente geotérmico, as águas do aqüífero podem atingir temperaturas relativamente elevadas, em geral entre 50 e 85º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Tem extensão total aproximada de 1,2 milhões de km², sendo 840 mil km² no Brasil, 225,500 mil km² na Argentina, 71,700 mil km² no Paraguai e 58.500 km² no Urugua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 porção brasileira integra o território de oito Estados: MS (213.200 km²), RS (157.600 km²), SP (155.800 km²), PR (131.300 km²), GO (55.000 km²), MG (51.300 km²), SC (49.200 km²) e MT (26.400 km²). A população atual do domínio de ocorrência do aqüífero é estimada em 15 milhões de habita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1280" y="4221000"/>
            <a:ext cx="7993080" cy="207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Sistema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14640" y="1341360"/>
            <a:ext cx="498636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objetivo do projeto é apoiar a Argentina, Brasil, Paraguai e Uruguai na elaboração e implementação coordenada de uma proposta de modelo institucional, legal e técnico comum para a preservação e o gerenciamento do Sistema Aqüífero Guarani - SAG para as gerações atuais e futu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O resultado final geral do projeto é possibilitar que os quatro países disponham de um modelo de gestão para o SAG, através de um Programa de Ações Estratégicas - PAE, incluindo aspectos técnicos, científicos, institucionais, financeiros e legais para a sua proteção e uso sustent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mpon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Expansão e consolidação da base atual do conhecimento científico e técnico do SAG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e instrumentação conjunta de um marco de gestão para o SAG, baseado em um Programa de Ações Estratégica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Fomento à participação pública de atores interessados, comunicação social e educação ambiental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e seguimento do Projeto e disseminação dos seus result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Desenvolvimento de medidas para a gestão das águas subterrâneas e para a mitigação de danos, de acordo com as características da região, em áreas críticas estabelecidas pela fase e preparação do proje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Avaliação do potencial para utilização da energia geotérmica “limpa” do SAG; 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66"/>
                </a:solidFill>
                <a:latin typeface="Arial"/>
              </a:rPr>
              <a:t>Coordenação e gestão do Proje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Projeto Aqüífero Guara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2752560"/>
            <a:ext cx="7859880" cy="32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66"/>
                </a:solidFill>
                <a:latin typeface="Arial"/>
              </a:rPr>
              <a:t>Estrutura do Pro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Projeto de caráter multi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GEF/FMAM – recursos de do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Banco Mundial – agência implementadora dos recur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pt-BR" sz="2400" spc="-1" strike="noStrike">
                <a:solidFill>
                  <a:srgbClr val="ffff66"/>
                </a:solidFill>
                <a:latin typeface="Arial"/>
              </a:rPr>
              <a:t>OEA – agência executora interna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0" y="0"/>
          <a:ext cx="2162160" cy="5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162160" cy="5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4T14:59:12Z</dcterms:created>
  <dc:creator>Casa das Gatas</dc:creator>
  <dc:description/>
  <dc:language>en-US</dc:language>
  <cp:lastModifiedBy>EST-A518</cp:lastModifiedBy>
  <dcterms:modified xsi:type="dcterms:W3CDTF">2003-05-05T19:29:10Z</dcterms:modified>
  <cp:revision>20</cp:revision>
  <dc:subject/>
  <dc:title>Projeto de Proteção Ambiental e Desenvolvimento Sustentável do Sistema Aqüífero Guarani</dc:title>
</cp:coreProperties>
</file>