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FD4A-E41D-4054-82A8-16CB2C821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F8B4-6742-41EE-9C86-F73050E9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4495-1FB9-4F9A-BD5D-8073029F0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5EEE-4BA1-4595-9DE1-FD32CAF30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B86B-4B2A-46C0-A5E5-45BFE41A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D8E1-5D6C-424F-9E0D-6CBCD391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C2FB-584E-46F8-9709-6CAD0256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D659-35F7-4F3D-A1F5-ECD2F184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9545-1CA8-4755-84AA-1CB95BD9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D6AC-6502-4E21-9B9F-AEE4ED5C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DEC5-B72F-4B97-AADA-0D63FB0C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D3C7-44CF-42A2-AE5A-B1A223C6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8A86-9A39-4B3A-98F4-F5D44C744B1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25360"/>
            <a:ext cx="79898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rojeto de Proteção Ambiental e Desenvolvimento Sustentável do Sistema Aqüífero Guara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55240" y="2997000"/>
            <a:ext cx="72327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GEF/BIRD/OEA  ANA – Agência Nacional de Águ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Ana Luiza Saboia de Frei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Geóloga – Superintendência de Conservação de Água e Solo – SAS/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http://www.ana.gov.br/guara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Estrutur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Projeto de caráter multi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Conselho Superior de Direção do Projeto – CSDP – órgão político-técnico máximo do Projeto, encarregado de fixar as pautas para execução e de orientar suas ações no marco do Documento de Proje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Composto por três membros de cada paí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Representação Brasilei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66"/>
                </a:solidFill>
                <a:latin typeface="Arial"/>
              </a:rPr>
              <a:t>Agência Nacional de Águas – Agência Executora 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66"/>
                </a:solidFill>
                <a:latin typeface="Arial"/>
              </a:rPr>
              <a:t>Ministério do Meio Ambiente/SR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66"/>
                </a:solidFill>
                <a:latin typeface="Arial"/>
              </a:rPr>
              <a:t>Ministério das Relações Exteriores – DAM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2493720"/>
            <a:ext cx="80755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Estrutur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rojeto de caráter multi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oordenação Colegiada – C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Responsável pela coordenação dos aspectos técnicos do projeto e apóia o CSDP nos aspectos téc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omposto pelos quatro coordenadores na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679840"/>
            <a:ext cx="807552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Estrutur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Projeto de caráter multi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Secretaria Geral do Projeto – SG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Responsável pelas atividades diárias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Trabalha conjuntamente à SG/OEA e ao 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Sede em Montevidéu - Urugu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2247480"/>
            <a:ext cx="8147160" cy="38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Estrutur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rojeto de caráter multi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Unidades Nacionais de Execução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oordenação a nível 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ada país conta com 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ada uma conta com um coorden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gência Executora 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926720"/>
            <a:ext cx="80024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Estrutur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Unidade Nacional de Execução do Projeto – UNEP/BRA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aráter Feder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gência Nacional de Águas – agência executora no Bras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ominialidade das águas subterrâneas dos Es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Estrutur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Unidade Nacional de Execução do Projeto – UNEP/BRA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Unidades Estaduais de Execução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ada Unidade Estadual conta com um Coordenador Esta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omposição das Unidades Estaduais: órgão gestor de recursos hídricos, órgão de gestão e planejamento, representante das universidades, representante de comitês de bacias e O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Cu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Valor total - US$ 26.760.000,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Doação GEF/FMAM - US$ 13.400.000,00 (não há internalização dos recursos nos paí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Outros co-financiadores – AIEA; BGR; Bank Netherlands Partership Program – BNPP - US$ 1.368.000,00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Contrapartida dos países - US$ 11.992.000,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Contrapartida Brasileira - US$ 6.622.100,00 (55% das contrapartidas dos beneficiári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Documentos do Projeto – http://www.ana.gov.br/guar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i="1" lang="pt-BR" sz="2800" spc="-1" strike="noStrike">
                <a:solidFill>
                  <a:srgbClr val="ffff66"/>
                </a:solidFill>
                <a:latin typeface="Arial"/>
              </a:rPr>
              <a:t>Project Appraisel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Plano de Implementação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Plano de Operação do Projeto – lançamento do projeto 21 a 23 de maio - Montevidé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Termo Aditivo de Cooperação entre República Federativa do Brasil e O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Sistema Aqüífero Guara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qüíf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unidade geológica com capacidade armazenar e conduzir água, em seus espaços vazios (poros, fraturas e cavidades naturais), em quantidades economicamente exploráveis, por meio de poços e nasc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3740040" cy="475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Sistema Aqüífero Guara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istema Aqüíf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eqüência de rochas ou unidades geológicas mais e menos permeáveis, que formam uma unidade hidrológica identificável, entre a recarga e a descar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3799080" cy="482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Sistema Aqüífero Guara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5280" y="4149720"/>
            <a:ext cx="8497800" cy="2201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11280" y="1832400"/>
            <a:ext cx="78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O aqüífero se constitui pelo preenchimento de espaços nas rochas (poros e fissuras). As rochas do Guarani constituem-se de um pacote de camadas arenosas depositadas na bacia geológica do Paraná, entre 245 e 144 milhões de atrás. A espessura das camadas varia de 50 a 800 metros, estando situadas em profundidades que podem atingir até 1800 metros. Em decorrência do gradiente geotérmico, as águas do aqüífero podem atingir temperaturas relativamente elevadas, em geral entre 50 e 85º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Sistema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Tem extensão total aproximada de 1,2 milhões de km², sendo 840 mil km² no Brasil, 225,500 mil km² na Argentina, 71,700 mil km² no Paraguai e 58.500 km² no Urugua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A porção brasileira integra o território de oito Estados: MS (213.200 km²), RS (157.600 km²), SP (155.800 km²), PR (131.300 km²), GO (55.000 km²), MG (51.300 km²), SC (49.200 km²) e MT (26.400 km²). A população atual do domínio de ocorrência do aqüífero é estimada em 15 milhões de habitan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11280" y="4221000"/>
            <a:ext cx="7993080" cy="207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Sistema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114640" y="1341360"/>
            <a:ext cx="4986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 objetivo do projeto é apoiar a Argentina, Brasil, Paraguai e Uruguai na elaboração e implementação coordenada de uma proposta de modelo institucional, legal e técnico comum para a preservação e o gerenciamento do Sistema Aqüífero Guarani - SAG para as gerações atuais e futu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 resultado final geral do projeto é possibilitar que os quatro países disponham de um modelo de gestão para o SAG, através de um Programa de Ações Estratégicas - PAE, incluindo aspectos técnicos, científicos, institucionais, financeiros e legais para a sua proteção e uso sustentá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Compon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Expansão e consolidação da base atual do conhecimento científico e técnico do SA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Desenvolvimento e instrumentação conjunta de um marco de gestão para o SAG, baseado em um Programa de Ações Estratégic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Fomento à participação pública de atores interessados, comunicação social e educação ambient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Avaliação e seguimento do Projeto e disseminação dos seus resultad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Desenvolvimento de medidas para a gestão das águas subterrâneas e para a mitigação de danos, de acordo com as características da região, em áreas críticas estabelecidas pela fase e preparação do projet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Avaliação do potencial para utilização da energia geotérmica “limpa” do SAG; 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Coordenação e gestão do Proje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2752560"/>
            <a:ext cx="785988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Estrutur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Projeto de caráter multi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GEF/FMAM – recursos de do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Banco Mundial – agência implementadora dos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OEA – agência executora inter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4T14:59:12Z</dcterms:created>
  <dc:creator>Casa das Gatas</dc:creator>
  <dc:description/>
  <dc:language>en-US</dc:language>
  <cp:lastModifiedBy>EST-A518</cp:lastModifiedBy>
  <dcterms:modified xsi:type="dcterms:W3CDTF">2003-05-05T19:29:10Z</dcterms:modified>
  <cp:revision>20</cp:revision>
  <dc:subject/>
  <dc:title>Projeto de Proteção Ambiental e Desenvolvimento Sustentável do Sistema Aqüífero Guarani</dc:title>
</cp:coreProperties>
</file>