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579-973B-42F0-BD56-B03A94C3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95A-A625-4775-A832-3251A24E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0BE-C2D7-485A-8ACF-12F5F863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186-583D-4465-B87E-74872E36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15C-4C75-4548-A0A7-BB83389B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10E-C891-48CF-B480-4C3C3324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5E5-7932-4FE0-81C7-79DDB7D6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4E1-AE29-400F-A6A4-B7804169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2FA-4FAA-4AB3-92E6-1BF0885D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623-1BF5-4780-8DAC-F220632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DD9-ED94-41D3-9FDB-0B3102E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59F-599D-4B69-BDF3-F64ECA52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9785-7AA5-4F4C-9009-46E4A23F234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andro@unicamp.br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3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395280" y="652464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7"/>
          <p:cNvSpPr/>
          <p:nvPr/>
        </p:nvSpPr>
        <p:spPr>
          <a:xfrm>
            <a:off x="1475280" y="2349360"/>
            <a:ext cx="7482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Seminário em EA no SINGRE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ação da EA como Política Públ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EC + MMA = OGEA + Política Nacional de R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3 Módulos Temá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Papel mobilizador da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EA e os instrumentos da PNR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Experiências de EA em Comitês de Ba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Text Box 1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Volto à questã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xercício de respeito à alteridad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timento de pertencimento (“nosso grupo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xercício de Diálogo, de ouvir e f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nxergar-se numa produção cole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ixar-se interferir pelo Ou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</a:t>
            </a:r>
            <a:r>
              <a:rPr b="1" lang="pt-BR" sz="2200" spc="-1" strike="noStrike" u="sng">
                <a:solidFill>
                  <a:srgbClr val="339933"/>
                </a:solidFill>
                <a:uFillTx/>
                <a:latin typeface="Tahoma"/>
              </a:rPr>
              <a:t>PARA A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486900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914400" y="2133720"/>
            <a:ext cx="304920" cy="36543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403280" y="1989000"/>
            <a:ext cx="7388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EA e Gestão Ambien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ão diferentes? No qu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podem ser separadas? Pq nã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quais as vantagens e desvantage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quais os riscos da indiferenç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nesta sociedade moderna, tecnocrática, individualista, competitiva, produtivista, desumana, consumista, etc.,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116000" y="227664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833400" y="3102120"/>
            <a:ext cx="784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 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ducação</a:t>
            </a: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 não transforma o mu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A Educação transforma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9933"/>
                </a:solidFill>
                <a:latin typeface="Tahoma"/>
              </a:rPr>
              <a:t>Pessoas transformam o </a:t>
            </a: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Mu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(Paulo Freir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140360" y="544500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535400" y="2336760"/>
            <a:ext cx="746676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000" spc="-1" strike="noStrike">
                <a:solidFill>
                  <a:srgbClr val="339933"/>
                </a:solidFill>
                <a:latin typeface="Tahoma"/>
              </a:rPr>
              <a:t>EA no Piracicaba-Capivari-Jundiai PCJ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ritérios de Pontuação de projetos de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anual FEHIDRO de 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istema AQUAEDU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iálogo com ColetivosEducadores, SalasVer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651640" y="611028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1516680" y="2320920"/>
            <a:ext cx="72597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questões a serem discutidas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gradeço 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andro Tonso, arquiteto e educador ambi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Faculdade de Tecnolog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Universidade Estadual de Campi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4784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600200" y="2438280"/>
            <a:ext cx="257040" cy="243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888840" y="2394000"/>
            <a:ext cx="304920" cy="400680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523880" y="3048120"/>
            <a:ext cx="6782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99"/>
                </a:solidFill>
                <a:latin typeface="Tahoma"/>
                <a:ea typeface="Times New Roman"/>
              </a:rPr>
              <a:t>Tecnicizada, Materialista, Compartimentada, Individualista, Competitiva, Globalizada, Hierarquizada, Superficial nas relações (“veloz”), em busca de eficiência Produtivista e ..., profundamente, EXCLUDENT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981080" y="2305080"/>
            <a:ext cx="44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SOCIEDADE MODE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295280" y="2247840"/>
            <a:ext cx="70866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“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ivemos em sociedades repugnantemente desiguais. Mas a desigualdade não nos basta. A igualdade, entendida como ‘mesmice’, acaba excluindo o que é diferente. Tudo o que é homogêneo tende a transformar-se em violência excludent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oaventura de Souza SA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14400" y="2851200"/>
            <a:ext cx="304920" cy="362592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62120" y="5619600"/>
            <a:ext cx="7924680" cy="628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198080" y="5710320"/>
            <a:ext cx="7369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3399"/>
                </a:solidFill>
                <a:latin typeface="Tahoma"/>
                <a:ea typeface="Times New Roman"/>
              </a:rPr>
              <a:t>BONDER, DERSU, BAUMAN, BECK, GIDDENS, SANTOS ..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09480" y="5791320"/>
            <a:ext cx="257400" cy="242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914400" y="2565360"/>
            <a:ext cx="304920" cy="38163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1403280" y="2752560"/>
            <a:ext cx="727236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senvolvimento Sustentáve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Crescimento ou Desenvolviment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esenvolvimento ou Industrializaçã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esenvolvimento = Qualidade de Vid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Qualidade de Vida = Felicidad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Felicidade = Consum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Consumo = Consumismo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DS ou Sociedades Sustentáveis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971640" y="30430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762120" y="762120"/>
            <a:ext cx="609480" cy="23619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914400" y="2851200"/>
            <a:ext cx="311040" cy="324180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403280" y="3213000"/>
            <a:ext cx="72723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O que é ser “Sustentável” 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 projeto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ação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idéia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Uma sociedade sustentá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971640" y="35002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714240" y="785880"/>
            <a:ext cx="7925040" cy="6285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085840" y="84312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Tahoma"/>
              </a:rPr>
              <a:t>ex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50920" y="6524640"/>
            <a:ext cx="210492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550880" y="2367000"/>
            <a:ext cx="71769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Seminário em EA no SINGRE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cada um dos 3 mód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ação do 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ivisão em grupos (50) e sub-grupos (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sub-grupo: discussão em rodízio + rel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grupo: 5 relatos + síntese observ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plenário: síntese dos observ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762120" y="762120"/>
            <a:ext cx="609480" cy="5619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Pergunta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Apresentou novos conteúdo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Realizou aprofundamento conceitual... Enriqueceu-nos com trocas de informaçõ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 até aqui o foco está nos conteúdos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Mas, o que é EDUCAR (ambientalmente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995640" y="6381720"/>
            <a:ext cx="2105280" cy="127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1476360" y="2421000"/>
            <a:ext cx="72723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EDUCAÇÃO – EDUCAR – “E+DUCER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onduzir para “for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Quem conduz qu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Quem decide a direçã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De onde vem a força do caminh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914400" y="2565360"/>
            <a:ext cx="304920" cy="352764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1154160" y="38606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1144440" y="442908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1160640" y="49687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166760" y="550872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62120" y="762120"/>
            <a:ext cx="609480" cy="5835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292720" y="645336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14400" y="2851200"/>
            <a:ext cx="304920" cy="3386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476360" y="2421000"/>
            <a:ext cx="727236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EDUCAÇÃO num sentido LIBERT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sibiliz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Troca e Apropriação de Informa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Sentimos sobre o que sabe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Propiciar Posicionamento Polí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stimular a ação de transformação do mu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154160" y="36608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144440" y="422928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160640" y="47689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166760" y="530856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149480" y="5834160"/>
            <a:ext cx="21564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62120" y="762120"/>
            <a:ext cx="609480" cy="5835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292720" y="6453360"/>
            <a:ext cx="2104920" cy="126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914400" y="2851200"/>
            <a:ext cx="304920" cy="338616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76360" y="2421000"/>
            <a:ext cx="727236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9933"/>
                </a:solidFill>
                <a:latin typeface="Tahoma"/>
              </a:rPr>
              <a:t>Reduzir EDUCAÇÃO aos conteúdo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“tecnicizar” um processo humano: M.Sa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transformar processo em prod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oder “certificar” e impor um 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oder “avaliar” numer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estabelecer parâmetro exte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116000" y="2708280"/>
            <a:ext cx="287280" cy="289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154160" y="366084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440" y="4229280"/>
            <a:ext cx="21600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1160640" y="476892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1166760" y="5308560"/>
            <a:ext cx="216000" cy="216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9480" y="5834160"/>
            <a:ext cx="215640" cy="2156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547640" y="2349360"/>
            <a:ext cx="759636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Mas para realizar a EA Crítica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me saber conhecedor de al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quer ouvir o Outro (Alterida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(“dar voz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é preciso saber que a questão é complexa e cole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ninguém resolve sozinh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- a diversidade é funda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547640" y="2349360"/>
            <a:ext cx="759636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Educar e educar-se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 é tarefa daqueles que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sabem que pouco sabem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, e por isso sabem que sabem algo, e podem assim chegar a saber mais, em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diálogo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com aqueles que, quase sempre,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ensam que nada sabem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, para que estes, transformando seu saber que nada sabem em saber que pouco sabem,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possam igualmente saber mais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aulo Freire</a:t>
            </a:r>
            <a:r>
              <a:rPr b="1" lang="pt-BR" sz="2400" spc="-1" strike="noStrike">
                <a:solidFill>
                  <a:srgbClr val="00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23920" y="2610000"/>
            <a:ext cx="371520" cy="3823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533520" y="343080"/>
            <a:ext cx="807696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762120"/>
            <a:ext cx="609480" cy="5403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1123920"/>
            <a:ext cx="8076960" cy="6285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Educação Ambiental para a Gestão de Recursos Hídric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ndro Tonso - sandro@unicamp.b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914400" y="2851200"/>
            <a:ext cx="304920" cy="2936880"/>
          </a:xfrm>
          <a:prstGeom prst="rect">
            <a:avLst/>
          </a:prstGeom>
          <a:solidFill>
            <a:srgbClr val="339933"/>
          </a:solidFill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33520" y="374760"/>
            <a:ext cx="8076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XI Encontro Nacional de Comitês de Ba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Tahoma"/>
                <a:ea typeface="宋体"/>
              </a:rPr>
              <a:t>Reunião da CTEM- CNR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763640" y="2320920"/>
            <a:ext cx="738036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9933"/>
                </a:solidFill>
                <a:latin typeface="Tahoma"/>
              </a:rPr>
              <a:t>Volto à questã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Em que medida o Seminário foi “EDUCADOR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11280" y="3284640"/>
            <a:ext cx="844560" cy="190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258920" y="37242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258920" y="468144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257480" y="419580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244520" y="5154480"/>
            <a:ext cx="19836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249200" y="5648400"/>
            <a:ext cx="198720" cy="1936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0:37:06Z</dcterms:created>
  <dc:creator>Lelio Tonso</dc:creator>
  <dc:description/>
  <dc:language>en-US</dc:language>
  <cp:lastModifiedBy>Admin</cp:lastModifiedBy>
  <dcterms:modified xsi:type="dcterms:W3CDTF">2009-11-11T10:52:23Z</dcterms:modified>
  <cp:revision>36</cp:revision>
  <dc:subject/>
  <dc:title>Slide 1</dc:title>
</cp:coreProperties>
</file>