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21DB-5455-4EC7-944C-FABE6C06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B67E-64A0-4842-BB3C-CA26411A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49F-4D42-473A-B311-EA9A0D8D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AAB3-E104-4BB5-85DF-BE0D2560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550C-BDCA-4F53-B47B-1A98B1E0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999-C8E6-4E37-B7C2-9E44CD7A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CAF-F234-4C33-97DF-E0BE29A9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63B-FF10-4BE1-BA37-DF43D7E4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A58B-4FB1-4485-B50A-451939E9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A288-BAE5-43BE-8FDC-E17373A8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E971-1F5B-44DE-8E8C-6E5107DB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D42F-0465-4DE4-98A3-5F7AD06F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D8CB-872A-4F53-BC6A-E49DD665DA5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sandro@unicamp.br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13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Rectangle 14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15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395280" y="6524640"/>
            <a:ext cx="2104920" cy="127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16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17"/>
          <p:cNvSpPr/>
          <p:nvPr/>
        </p:nvSpPr>
        <p:spPr>
          <a:xfrm>
            <a:off x="1475280" y="2349360"/>
            <a:ext cx="748224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Seminário em EA no SINGRE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Apresentação da EA como Política Públ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MEC + MMA = OGEA + Política Nacional de R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3 Módulos Temát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Papel mobilizador da 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EA e os instrumentos da PNR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Experiências de EA em Comitês de Bac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Rectangle 18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Text Box 1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763640" y="2320920"/>
            <a:ext cx="738036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Volto à questão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que medida o Seminário foi “EDUCADOR”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xercício de respeito à alteridad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Sentimento de pertencimento (“nosso grupo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xercício de Diálogo, de ouvir e fa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nxergar-se numa produção cole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Deixar-se interferir pelo Out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11280" y="3284640"/>
            <a:ext cx="844560" cy="1904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58920" y="372420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1258920" y="468144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1257480" y="419580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1244520" y="515448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1249200" y="5648400"/>
            <a:ext cx="19872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</a:t>
            </a:r>
            <a:r>
              <a:rPr b="1" lang="pt-BR" sz="2200" spc="-1" strike="noStrike" u="sng">
                <a:solidFill>
                  <a:srgbClr val="339933"/>
                </a:solidFill>
                <a:uFillTx/>
                <a:latin typeface="Tahoma"/>
              </a:rPr>
              <a:t>PARA A</a:t>
            </a:r>
            <a:r>
              <a:rPr b="1" lang="pt-BR" sz="2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</a:t>
            </a:r>
            <a:r>
              <a:rPr b="0" lang="pt-BR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11280" y="4869000"/>
            <a:ext cx="2104920" cy="1267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914400" y="2133720"/>
            <a:ext cx="304920" cy="365436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403280" y="1989000"/>
            <a:ext cx="73882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EA e Gestão Ambient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são diferentes? No qu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podem ser separadas? Pq nã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quais as vantagens e desvantage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quais os riscos da indiferenç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nesta sociedade moderna, tecnocrática, individualista, competitiva, produtivista, desumana, consumista, etc.,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1116000" y="227664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833400" y="3102120"/>
            <a:ext cx="784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pt-BR" sz="3200" spc="-1" strike="noStrike">
                <a:solidFill>
                  <a:srgbClr val="339933"/>
                </a:solidFill>
                <a:latin typeface="Tahoma"/>
              </a:rPr>
              <a:t>  </a:t>
            </a: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Educação</a:t>
            </a:r>
            <a:r>
              <a:rPr b="1" lang="pt-BR" sz="3200" spc="-1" strike="noStrike">
                <a:solidFill>
                  <a:srgbClr val="339933"/>
                </a:solidFill>
                <a:latin typeface="Tahoma"/>
              </a:rPr>
              <a:t> não transforma o mu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9933"/>
                </a:solidFill>
                <a:latin typeface="Tahoma"/>
              </a:rPr>
              <a:t>A Educação transforma </a:t>
            </a: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Pesso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9933"/>
                </a:solidFill>
                <a:latin typeface="Tahoma"/>
              </a:rPr>
              <a:t>Pessoas transformam o </a:t>
            </a: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Mu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(Paulo Freir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140360" y="5445000"/>
            <a:ext cx="2104920" cy="127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535400" y="2336760"/>
            <a:ext cx="7466760" cy="31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pt-BR" sz="3000" spc="-1" strike="noStrike">
                <a:solidFill>
                  <a:srgbClr val="339933"/>
                </a:solidFill>
                <a:latin typeface="Tahoma"/>
              </a:rPr>
              <a:t>EA no Piracicaba-Capivari-Jundiai PCJ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Critérios de Pontuação de projetos de 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Manual FEHIDRO de 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Sistema AQUAEDU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Diálogo com ColetivosEducadores, SalasVer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651640" y="6110280"/>
            <a:ext cx="2104920" cy="127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1516680" y="2320920"/>
            <a:ext cx="725976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questões a serem discutidas.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Agradeço !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Sandro Tonso, arquiteto e educador ambi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Faculdade de Tecnolog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Universidade Estadual de Campi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609480" y="2247840"/>
            <a:ext cx="7925040" cy="6285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762120" y="762120"/>
            <a:ext cx="609480" cy="23619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1600200" y="2438280"/>
            <a:ext cx="257040" cy="243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888840" y="2394000"/>
            <a:ext cx="304920" cy="400680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523880" y="3048120"/>
            <a:ext cx="6782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333399"/>
                </a:solidFill>
                <a:latin typeface="Tahoma"/>
                <a:ea typeface="Times New Roman"/>
              </a:rPr>
              <a:t>Tecnicizada, Materialista, Compartimentada, Individualista, Competitiva, Globalizada, Hierarquizada, Superficial nas relações (“veloz”), em busca de eficiência Produtivista e ..., profundamente, EXCLUDENT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981080" y="2305080"/>
            <a:ext cx="44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9933"/>
                </a:solidFill>
                <a:latin typeface="Tahoma"/>
              </a:rPr>
              <a:t>SOCIEDADE MODER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714240" y="785880"/>
            <a:ext cx="7925040" cy="6285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085840" y="84312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ext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762120" y="762120"/>
            <a:ext cx="609480" cy="23619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1295280" y="2247840"/>
            <a:ext cx="708660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“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ivemos em sociedades repugnantemente desiguais. Mas a desigualdade não nos basta. A igualdade, entendida como ‘mesmice’, acaba excluindo o que é diferente. Tudo o que é homogêneo tende a transformar-se em violência excludent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  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oaventura de Souza SAN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914400" y="2851200"/>
            <a:ext cx="304920" cy="362592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762120" y="5619600"/>
            <a:ext cx="7924680" cy="6289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1198080" y="5710320"/>
            <a:ext cx="7369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333399"/>
                </a:solidFill>
                <a:latin typeface="Tahoma"/>
                <a:ea typeface="Times New Roman"/>
              </a:rPr>
              <a:t>BONDER, DERSU, BAUMAN, BECK, GIDDENS, SANTOS ..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09480" y="5791320"/>
            <a:ext cx="257400" cy="242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714240" y="785880"/>
            <a:ext cx="7925040" cy="6285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2085840" y="84312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ext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762120" y="762120"/>
            <a:ext cx="609480" cy="23619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914400" y="2565360"/>
            <a:ext cx="304920" cy="381636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1403280" y="2752560"/>
            <a:ext cx="727236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Desenvolvimento Sustentável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Crescimento ou Desenvolvimento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Desenvolvimento ou Industrialização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Desenvolvimento = Qualidade de Vida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Qualidade de Vida = Felicidade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Felicidade = Consumo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Consumo = Consumismo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DS ou Sociedades Sustentáveis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971640" y="304308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714240" y="785880"/>
            <a:ext cx="7925040" cy="6285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2085840" y="84312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ext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762120" y="762120"/>
            <a:ext cx="609480" cy="23619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914400" y="2851200"/>
            <a:ext cx="311040" cy="324180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403280" y="3213000"/>
            <a:ext cx="7272360" cy="2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O que é ser “Sustentável” 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Um projeto sustentá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Uma ação sustentá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Uma idéia sustentá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Uma sociedade sustentá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971640" y="350028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714240" y="785880"/>
            <a:ext cx="7925040" cy="6285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085840" y="84312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ext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50920" y="6524640"/>
            <a:ext cx="2104920" cy="127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550880" y="2367000"/>
            <a:ext cx="717696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Seminário em EA no SINGRE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cada um dos 3 módu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apresentação do 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divisão em grupos (50) e sub-grupos (1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sub-grupo: discussão em rodízio + rel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grupo: 5 relatos + síntese observa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plenário: síntese dos observad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762120" y="762120"/>
            <a:ext cx="609480" cy="5619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763640" y="2320920"/>
            <a:ext cx="738036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Pergunta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que medida o Seminário foi “EDUCADOR”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Apresentou novos conteúdo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Realizou aprofundamento conceitual... Enriqueceu-nos com trocas de informaçõ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 até aqui o foco está nos conteúdos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Mas, o que é EDUCAR (ambientalmente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611280" y="3284640"/>
            <a:ext cx="844560" cy="1904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258920" y="372420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258920" y="468144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1257480" y="419580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1244520" y="515448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1249200" y="5648400"/>
            <a:ext cx="19872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995640" y="6381720"/>
            <a:ext cx="2105280" cy="127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1476360" y="2421000"/>
            <a:ext cx="72723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9933"/>
                </a:solidFill>
                <a:latin typeface="Tahoma"/>
              </a:rPr>
              <a:t>EDUCAÇÃO – EDUCAR – “E+DUCER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Conduzir para “fora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Quem conduz qu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Quem decide a direçã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De onde vem a força do caminh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914400" y="2565360"/>
            <a:ext cx="304920" cy="352764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1116000" y="2708280"/>
            <a:ext cx="287280" cy="289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1154160" y="3860640"/>
            <a:ext cx="21600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1144440" y="4429080"/>
            <a:ext cx="21600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Rectangle 22"/>
          <p:cNvSpPr/>
          <p:nvPr/>
        </p:nvSpPr>
        <p:spPr>
          <a:xfrm>
            <a:off x="1160640" y="4968720"/>
            <a:ext cx="21564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1166760" y="5508720"/>
            <a:ext cx="216000" cy="215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762120" y="762120"/>
            <a:ext cx="609480" cy="5835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292720" y="6453360"/>
            <a:ext cx="2104920" cy="1267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914400" y="2851200"/>
            <a:ext cx="304920" cy="338616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476360" y="2421000"/>
            <a:ext cx="727236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9933"/>
                </a:solidFill>
                <a:latin typeface="Tahoma"/>
              </a:rPr>
              <a:t>EDUCAÇÃO num sentido LIBERTAD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Sensibiliz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Troca e Apropriação de Informaçõ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Sentimos sobre o que sabem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Propiciar Posicionamento Polí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stimular a ação de transformação do mun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116000" y="2708280"/>
            <a:ext cx="287280" cy="289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1154160" y="3660840"/>
            <a:ext cx="21600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1144440" y="4229280"/>
            <a:ext cx="216000" cy="215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1160640" y="4768920"/>
            <a:ext cx="21564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1166760" y="5308560"/>
            <a:ext cx="21600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1149480" y="5834160"/>
            <a:ext cx="215640" cy="215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762120" y="762120"/>
            <a:ext cx="609480" cy="5835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292720" y="6453360"/>
            <a:ext cx="2104920" cy="1267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914400" y="2851200"/>
            <a:ext cx="304920" cy="338616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476360" y="2421000"/>
            <a:ext cx="727236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9933"/>
                </a:solidFill>
                <a:latin typeface="Tahoma"/>
              </a:rPr>
              <a:t>Reduzir EDUCAÇÃO aos conteúdos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“tecnicizar” um processo humano: M.San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transformar processo em produ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poder “certificar” e impor um mod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poder “avaliar” numeric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estabelecer parâmetro exter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116000" y="2708280"/>
            <a:ext cx="287280" cy="289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1154160" y="3660840"/>
            <a:ext cx="21600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144440" y="4229280"/>
            <a:ext cx="216000" cy="215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1160640" y="4768920"/>
            <a:ext cx="21564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1166760" y="5308560"/>
            <a:ext cx="21600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149480" y="5834160"/>
            <a:ext cx="215640" cy="215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547640" y="2349360"/>
            <a:ext cx="7596360" cy="41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Mas para realizar a EA Crítica.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preciso me saber conhecedor de al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preciso quer ouvir o Outro (Alterida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(“dar voz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preciso saber que a questão é complexa e coletiv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ninguém resolve sozinh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a diversidade é funda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547640" y="2349360"/>
            <a:ext cx="759636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Educar e educar-se.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 é tarefa daqueles que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sabem que pouco sabem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, e por isso sabem que sabem algo, e podem assim chegar a saber mais, em 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diálogo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com aqueles que, quase sempre,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ensam que nada sabem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, para que estes, transformando seu saber que nada sabem em saber que pouco sabem, 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possam igualmente saber mais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aulo Freire</a:t>
            </a:r>
            <a:r>
              <a:rPr b="1" lang="pt-BR" sz="2400" spc="-1" strike="noStrike">
                <a:solidFill>
                  <a:srgbClr val="0099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763640" y="2320920"/>
            <a:ext cx="738036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Volto à questão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que medida o Seminário foi “EDUCADOR”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611280" y="3284640"/>
            <a:ext cx="844560" cy="1904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1258920" y="372420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1258920" y="468144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1257480" y="419580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1244520" y="515448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1249200" y="5648400"/>
            <a:ext cx="19872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0:37:06Z</dcterms:created>
  <dc:creator>Lelio Tonso</dc:creator>
  <dc:description/>
  <dc:language>en-US</dc:language>
  <cp:lastModifiedBy>Admin</cp:lastModifiedBy>
  <dcterms:modified xsi:type="dcterms:W3CDTF">2009-11-11T10:52:23Z</dcterms:modified>
  <cp:revision>36</cp:revision>
  <dc:subject/>
  <dc:title>Slide 1</dc:title>
</cp:coreProperties>
</file>