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Lst>
  <p:sldSz cx="9144000" cy="6858000"/>
  <p:notesSz cx="664845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5C3D5-289A-4F51-8DF5-5BA07650E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B1110-96B9-45B7-B7A5-180B7D19F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A5397-8892-4E14-84CB-B2F3236D1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39BEE-14B4-4F0A-80E9-66F1AE247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82A8-D7FE-4873-A28D-03F3A81EB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519F7-5BB5-4AB0-AA2D-D8BEFF4A5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285C-8066-46C9-8EE6-42D8638DA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CE7D8-8198-4EE4-87CD-72AF62A5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F122-72F5-4ADE-99C2-E495A3FFB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B25C-592D-4176-BB3B-B0A3C9EA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54C2-FF00-484C-A927-2CDF74D5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AD5D-6412-4F39-B369-4D439E861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8B0DA-CCA1-4741-A3C1-49B9C71086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h-srh.gov.br/delibera/resolucoes/R015.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380880"/>
            <a:ext cx="8610480" cy="10428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onselho Nacional de Recursos Hídricos</a:t>
            </a:r>
            <a:endParaRPr b="0" lang="en-US" sz="2800" spc="-1" strike="noStrike">
              <a:solidFill>
                <a:srgbClr val="000000"/>
              </a:solidFill>
              <a:latin typeface="Times New Roman"/>
            </a:endParaRPr>
          </a:p>
          <a:p>
            <a:pPr marL="457200" indent="-457200" algn="ctr">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2800" spc="-1" strike="noStrike">
                <a:solidFill>
                  <a:srgbClr val="000099"/>
                </a:solidFill>
                <a:latin typeface="Garamond"/>
              </a:rPr>
              <a:t>Câmara Técnica de Educação,Capacitação, Mobilização Social e Informação em Recursos Hídricos</a:t>
            </a:r>
            <a:endParaRPr b="0" lang="en-US" sz="2800" spc="-1" strike="noStrike">
              <a:solidFill>
                <a:srgbClr val="000000"/>
              </a:solidFill>
              <a:latin typeface="Times New Roman"/>
            </a:endParaRPr>
          </a:p>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rupo de Trabalho de Capacitação e Educação</a:t>
            </a:r>
            <a:endParaRPr b="0" lang="en-US" sz="32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s: </a:t>
            </a:r>
            <a:endParaRPr b="0" lang="en-US" sz="2800" spc="-1" strike="noStrike">
              <a:solidFill>
                <a:srgbClr val="000000"/>
              </a:solidFill>
              <a:latin typeface="Times New Roman"/>
            </a:endParaRPr>
          </a:p>
          <a:p>
            <a:pPr marL="457200" indent="-457200" algn="ctr">
              <a:lnSpc>
                <a:spcPct val="100000"/>
              </a:lnSpc>
              <a:buClr>
                <a:srgbClr val="000099"/>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ropor diretrizes, planos e programas de educação e capacitação em recursos hídricos; e</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2. Propor e analisar mecanismos de articulação e cooperação entre o poder público, os setores usuários e a sociedade civil quanto à educação e capacitação em recursos hídricos.</a:t>
            </a:r>
            <a:endParaRPr b="0" lang="en-US" sz="24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solução CNRH n° 39, de 26 de março de 2004)</a:t>
            </a:r>
            <a:r>
              <a:rPr b="1" lang="en-GB" sz="2400" spc="-1" strike="noStrike">
                <a:solidFill>
                  <a:srgbClr val="000099"/>
                </a:solidFill>
                <a:latin typeface="Garamond"/>
              </a:rPr>
              <a:t>‏</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 y="380880"/>
            <a:ext cx="8610480" cy="7224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estruturação de uma rede nacional de capacitação, aproveitando a capacidade instalada e a infra-estrutura existentes no paí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formação de sujeitos sociais qualificados política e tecnicamente, capazes de intervir  no setor para qualificação do gasto público, universalização da oferta dos serviços, promoção da salubridade ambiental e da qualidade da prestação dos serviços (meta da ReCESA)</a:t>
            </a:r>
            <a:r>
              <a:rPr b="1" lang="en-GB" sz="2800" spc="-1" strike="noStrike">
                <a:solidFill>
                  <a:srgbClr val="000099"/>
                </a:solidFill>
                <a:latin typeface="Garamond"/>
              </a:rPr>
              <a:t>‏</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s Comissões Técnicas Tripartites foram instituídas como um espaço de diálogo entre os órgãos e entidades ambientais dos municípios, estados, do DF e da União, com o objetivo de fortalecer o SISNA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O Plano Nacional de Capacitação de Gestores Ambientais preconiza que os Governos, o CONAMA e os Conselhos Estaduais e Municipais, devem concretizar a Política Nacional de Meio Ambiente, estabelecer articulações entre os órgãos e entidades, e descentralizar efetivamente o Sistem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 y="380880"/>
            <a:ext cx="8610480" cy="5944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Instrumentos de descentralização e participação: a rede de Conselhos de Meio Ambiente; a rede de fundos sócio-ambientais; o SINIMA; a Conferência Nacional do Meio Ambiente; a Comissão Tripartite Nacional e as Comissões Tripartites Estaduais e Municipai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80880"/>
            <a:ext cx="8610480" cy="8077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O PNC, como parte das ações de fortalecimento do SISNAMA pode aportar uma contribuição significativa para a diretriz estratégica do desenvolvimento sustentável. A concepção do Programa em conjunto com a ABEMA e a ANAMMA e o apoio da CNM assegura uma articulação essencial para que sejam contemplados os interesses dos diversos atores e se obtenha a afirmação do Programa através da retroalimentação permanente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228600" y="380880"/>
            <a:ext cx="8610480" cy="7225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mplementação do PNC: DAI (Diretoria de Articulação Institucional/MMA)/ DEA (Diretoria de Educação Ambiental/MMA), FNMA (Fundo Nacional de Meio Ambiente/MMA)/ CONAMA (Conselho Ambiental de Meio Ambiente)/ IBAM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ada Estado deverá fazer seu caderno didático, com metodologia participativ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espera-se que o capacitador e o capacitado sejam multiplicadores de EA</a:t>
            </a: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cente criação do GT de Monitoramento e Avaliação (GTM&amp;A) no âmbito do Comitê Gestor do PNC</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228600" y="380880"/>
            <a:ext cx="8610480" cy="710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800" spc="-1" strike="noStrike">
                <a:solidFill>
                  <a:srgbClr val="000099"/>
                </a:solidFill>
                <a:latin typeface="Garamond"/>
              </a:rPr>
              <a:t>Realização em 2004 de consulta pública para definição do perfil do ACS e referencial curricular, conteúdo, metodologia e carga horária para a referida formação - documento “Referencial curricular para curso técnico de Agente Comunitário de Saúd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apel do ACS de mobilizador social na comunidade em que vive</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 capacitação para o fortalecimento de fundos socioambientais púbicos é uma das frentes do FNMA e um marco no financiamento ambiental no Brasi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desenvolver competências para o funcionamento de um fundo socioambiental, com participação e controle social. Os participantes são co-autores e co-editores de saberes (socialização de saberes/sensibilização) com formação continuada e processual</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sulta pública para o edital dos Fundos Socioambientais Público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28600" y="380880"/>
            <a:ext cx="8610480" cy="7774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RIRH: forma de repasse de informações transversal entre provedores, usuários e as organizações/entidades parceira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A Rede possui nós temáticos, que são o Water Web Consortium e a Iniciativa Pantanal Everglad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lataforma da RIRH na internet (www.rirh.net), que se compõem de vários nós (metadados), cada um dedicado a uma sub-região das Américas, com interação direta com os países das Américas e a função de disponibilizar informações e experiências em gestão integrada de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28600" y="380880"/>
            <a:ext cx="8610480" cy="5457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unicação entre os usuários por meio de fóruns virtuais, para realização de conferências eletrônicas, análise de documentos e outros usos afin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ssibilidade de compartilhamento de informações sobre recursos hídric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28600" y="380880"/>
            <a:ext cx="8610480" cy="6310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potencial como instrumento de apoio à capacitação no país é cada vez maior quanto maior a contribuição dos próprios participantes do processo de capacitação em compartilhar informações</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 existência de material didático disponível, como o da LA-WET Net, Cap-Net, UNESCO e RIRH, com metodologia e modelos pronto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28600" y="380880"/>
            <a:ext cx="8610480" cy="9702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Referências</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Além do Plano e da Política Nacional de Recursos Hídricos, a Política Nacional de Educação Ambiental (PNEA), as Metas de Desenvolvimento do Milênio, as diretrizes básicas da Agenda 21, do Tratado de Educação Ambiental para Sociedades Sustentáveis e da Carta da Terra.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Também consideramos o Plano Nacional de Capacitação em Recursos Hídricos que vinha sendo desenvolvido no âmbito da Secretaria de Recursos Hídricos do Ministério do Meio Ambiente (SRH/MMA), com o apoio da Câmara Técnica de Ciência e Tecnologia do Conselho Nacional de Recursos Hídricos (CTCT/CNRH).</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228600" y="380880"/>
            <a:ext cx="8610480" cy="86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OFICINA  NACIONAL  DE   DISCUSSÃO  SOBR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CAPACITAÇÃO  E  EDUCAÇÃO  PAR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A  GESTÃO  INTEGRADA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II Encontro Nacional de Comitês de Bacias Hidrográfica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Vila Velha, 07 a 09 de agosto 2006                                                        </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0"/>
            <a:ext cx="8893080" cy="89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quipe – membros do GT Capacitação e Educação da CTEM/CN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ordenação: Mônica Bran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acilitadores: Ana Paula Xavier, Bruno Agapito, José Leitão, Matheus Marinho, Maurício Pompeu, Nina Laranjeira, Vilma Feito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poio: Suraya Modaelli (Coordenação do Fóru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ercy Neto (SRH/MM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250920" y="0"/>
            <a:ext cx="8893080" cy="921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bjetiv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buscar subsídios para o estabelecimento de diretrizes, estratégias e instrumentos par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buscar orientações para o Subprograma IV-2 do Plano Nacional de Recursos Hídricos: “Capacitação e Educação, em especial Ambiental, para a GIRH”</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50920" y="0"/>
            <a:ext cx="8381880" cy="107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Macrodiretri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t>
            </a:r>
            <a:r>
              <a:rPr b="0" lang="en-GB" sz="2000" spc="-1" strike="noStrike">
                <a:solidFill>
                  <a:srgbClr val="000099"/>
                </a:solidFill>
                <a:latin typeface="Garamond"/>
              </a:rPr>
              <a:t>promover a formação de profissionais para atuar em GIRH, atualizar os decisores públicos do processo de gestão em seus diversos níveis de atuação, como também qualificar membros da sociedade, incluídos aí grupos tradicionais e representantes das comunidades indígenas, para participar de forma efetiva dos colegiados do Sistema Nacional de Gerenciamento de Recursos Hídricos (SINGRE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Qualificar pessoas para atuar em GIRH e participar de forma efetiva dos colegiados do SINGREH (formando profissionais, atualizando gestores públicos e incluindo grupos tradicionais e indígenas)        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Formar, qualificar e aperfeiçoar a atuação de pessoas em GIRH para atuar no SINGREH</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0"/>
            <a:ext cx="9144000" cy="999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utras diretrizes do PNRH </a:t>
            </a:r>
            <a:r>
              <a:rPr b="0" lang="en-GB" sz="2800" spc="-1" strike="noStrike">
                <a:solidFill>
                  <a:srgbClr val="000099"/>
                </a:solidFill>
                <a:latin typeface="Garamond"/>
              </a:rPr>
              <a:t>que podem orientar a capacitação e educação em GIR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ases para o estabelecimento de diretrizes e aspectos metodológ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sistemas e instrumentos de solução de conflitos como orientadores e indicado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t>
            </a:r>
            <a:r>
              <a:rPr b="0" lang="en-GB" sz="2400" spc="-1" strike="noStrike">
                <a:solidFill>
                  <a:srgbClr val="000099"/>
                </a:solidFill>
                <a:latin typeface="Garamond"/>
              </a:rPr>
              <a:t>ações sobre o território comum da bacia devem ser integr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articulação do planejamento municipal (planos diretores) com o planejamento de recursos hídric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50920" y="0"/>
            <a:ext cx="8893080" cy="735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nacion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ideração das situações especiais de planejamento (recorte diverso da BH): Amazônia, Pantanal, RM, Semi-Árido, zonas costeiras e manaciais subterrâne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tegração da concepção e do desenvolvimento dos planos de recursos hídricos nacional (ações de cunho estratégico e nacional), estaduais, do DF e das bacias, com divisão de ações em seus respectivos escopo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0"/>
            <a:ext cx="8893080" cy="82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xto intra-setorial e intersetorial da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necessidade de integração entre os órgãos do SINGREH; entre SINGREH/SEGRHs; e SINGREH/SISNAM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com os setores usuários e com as instituições públicas que formulam e implementam políticas de desenvolvimento nacional e regional (coordenação regulatória)</a:t>
            </a:r>
            <a:r>
              <a:rPr b="0" lang="en-GB" sz="2800" spc="-1" strike="noStrike">
                <a:solidFill>
                  <a:srgbClr val="000099"/>
                </a:solidFill>
                <a:latin typeface="Garamond"/>
              </a:rPr>
              <a:t>‏</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250920" y="0"/>
            <a:ext cx="8893080" cy="698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atureza dos problemas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rticulação da PNRH com as políticas públicas federais e municipais (cidades), no tocante à drenagem pluvial e à ocupação do solo urban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ções sob a ótica do desenvolvimento sustentável e da convivência com o semi-árid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0"/>
            <a:ext cx="8893080" cy="783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bordagens transversai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destaque para as relações do PNRH com as políticas públicas de saúde, segurança alimentar e nutricional, ciência e tecnologia e educ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entivar o desenvolvimento de uma cultura de gestão da demanda da água (percepção da conservação da água como valor socioambiental relev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corporação da perspectiva de gên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onância com as Metas do Milênio e com os compromissos assumidos na Agenda 21 Brasileir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250920" y="0"/>
            <a:ext cx="8893080" cy="72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GENDA 21 capítulo 18: “Proteção da Qualidade e do Abastecimento dos Recursos Hídricos: aplicação de critérios integrados no Desenvolvimento, Manejo e Uso dos Recursos Hídricos” estabelece como bases para a açã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desenvolvimento e manejo integrad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valiação dos recursos hídr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proteção dos recursos hídricos, da qualidade da água e dos ecossistemas aquáticos;</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bastecimento de água potável e saneamento;</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a água e o desenvolvimento urbano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água para a produção de alimentos e desenvolvimento rural sustentável;</a:t>
            </a:r>
            <a:endParaRPr b="0" lang="en-US" sz="20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99"/>
                </a:solidFill>
                <a:latin typeface="Garamond"/>
              </a:rPr>
              <a:t>impactos da mudança do clima sobre os recursos hídrico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228600" y="380880"/>
            <a:ext cx="8610480" cy="10067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n-GB" sz="3200" spc="-1" strike="noStrike">
                <a:solidFill>
                  <a:srgbClr val="000099"/>
                </a:solidFill>
                <a:latin typeface="Garamond"/>
              </a:rPr>
              <a:t>GT Capacitação e Educação</a:t>
            </a:r>
            <a:endParaRPr b="0" lang="en-US" sz="32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Metodologia</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hecer experiências de ações e políticas de capacitação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presentantes de instituições e redes para falar de suas experiências: recursos hídricos, meio ambiente, saneamento, saúde, ciência e tecnologia e educ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cepção, estratégias, objetivos, metas, desenho institucional, público-alvo, dificuldades e lições aprendida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pergunt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programas de capacitação em GIRH, na perspectiva de formação de agentes multiplicadores, para que a Política Nacional de Recursos Hídricos seja difundida no País?" </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0"/>
            <a:ext cx="8893080" cy="76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s de Capacitação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CONSTITUIÇÃO FEDE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rt. 225. Todos têm direito ao meio ambiente ecologicamente equilibrado, bem de uso comum do povo e essencial à sadia qualidade de vida, impondo-se ao Poder Público e à coletividade o dever de defendê-lo e preservá-lo para as presentes e futuras ger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 1º Para assegurar a efetividade desse direito, incumbe ao Poder Públ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VI - </a:t>
            </a:r>
            <a:r>
              <a:rPr b="1" lang="en-GB" sz="2400" spc="-1" strike="noStrike">
                <a:solidFill>
                  <a:srgbClr val="000099"/>
                </a:solidFill>
                <a:latin typeface="Garamond"/>
              </a:rPr>
              <a:t>promover a educação ambiental em todos os níveis de ensino e a conscientização pública para a preservação do meio ambient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0"/>
            <a:ext cx="8893080" cy="76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domínio público/ valor </a:t>
            </a:r>
            <a:r>
              <a:rPr b="1" lang="en-GB" sz="2800" spc="-1" strike="noStrike">
                <a:solidFill>
                  <a:srgbClr val="990099"/>
                </a:solidFill>
                <a:latin typeface="Garamond"/>
              </a:rPr>
              <a:t>social</a:t>
            </a:r>
            <a:r>
              <a:rPr b="1" lang="en-GB" sz="2800" spc="-1" strike="noStrike">
                <a:solidFill>
                  <a:srgbClr val="000099"/>
                </a:solidFill>
                <a:latin typeface="Garamond"/>
              </a:rPr>
              <a:t> e econômico/ prioridade em situações de escassez/ </a:t>
            </a:r>
            <a:r>
              <a:rPr b="1" lang="en-GB" sz="2800" spc="-1" strike="noStrike">
                <a:solidFill>
                  <a:srgbClr val="009900"/>
                </a:solidFill>
                <a:latin typeface="Garamond"/>
              </a:rPr>
              <a:t>usos múltiplos</a:t>
            </a:r>
            <a:r>
              <a:rPr b="1" lang="en-GB" sz="2800" spc="-1" strike="noStrike">
                <a:solidFill>
                  <a:srgbClr val="000099"/>
                </a:solidFill>
                <a:latin typeface="Garamond"/>
              </a:rPr>
              <a:t>/ BH como unidade de planejamento e gestão/ descentralização e participaçã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uso sustentável/ utilização racional e </a:t>
            </a:r>
            <a:r>
              <a:rPr b="1" lang="en-GB" sz="2800" spc="-1" strike="noStrike">
                <a:solidFill>
                  <a:srgbClr val="009900"/>
                </a:solidFill>
                <a:latin typeface="Garamond"/>
              </a:rPr>
              <a:t>integrada</a:t>
            </a:r>
            <a:r>
              <a:rPr b="1" lang="en-GB" sz="2800" spc="-1" strike="noStrike">
                <a:solidFill>
                  <a:srgbClr val="000099"/>
                </a:solidFill>
                <a:latin typeface="Garamond"/>
              </a:rPr>
              <a:t>/ eventos hidrológicos crít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quantidade-qualidade/ adequação da gestão às diversidades.../ </a:t>
            </a:r>
            <a:r>
              <a:rPr b="1" lang="en-GB" sz="2800" spc="-1" strike="noStrike">
                <a:solidFill>
                  <a:srgbClr val="009900"/>
                </a:solidFill>
                <a:latin typeface="Garamond"/>
              </a:rPr>
              <a:t>integração</a:t>
            </a:r>
            <a:r>
              <a:rPr b="1" lang="en-GB" sz="2800" spc="-1" strike="noStrike">
                <a:solidFill>
                  <a:srgbClr val="000099"/>
                </a:solidFill>
                <a:latin typeface="Garamond"/>
              </a:rPr>
              <a:t> água-ambiente/ articulação dos planejamentos/ </a:t>
            </a:r>
            <a:r>
              <a:rPr b="1" lang="en-GB" sz="2800" spc="-1" strike="noStrike">
                <a:solidFill>
                  <a:srgbClr val="009900"/>
                </a:solidFill>
                <a:latin typeface="Garamond"/>
              </a:rPr>
              <a:t>integração</a:t>
            </a:r>
            <a:r>
              <a:rPr b="1" lang="en-GB" sz="2800" spc="-1" strike="noStrike">
                <a:solidFill>
                  <a:srgbClr val="000099"/>
                </a:solidFill>
                <a:latin typeface="Garamond"/>
              </a:rPr>
              <a:t> com a gestão costeira</a:t>
            </a:r>
            <a:r>
              <a:rPr b="1" lang="en-GB" sz="2800" spc="-1" strike="noStrike">
                <a:solidFill>
                  <a:srgbClr val="000000"/>
                </a:solidFill>
                <a:latin typeface="Garamond"/>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250920" y="0"/>
            <a:ext cx="8893080" cy="63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enfoque humanista, democrático, holístico, participativo/ interdependência/ pluralismo/permanente/ diversi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compreensão integrada/garantia de democratização info ambientais/ consciência crítica/ cooperação/ integração/solidar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250920" y="0"/>
            <a:ext cx="8893080" cy="852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NE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sustentabilidade/ transversalidade/ participação/descentralização e controle social/ fortalecimento dos sistemas de meio ambiente e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Objetivos:</a:t>
            </a:r>
            <a:r>
              <a:rPr b="1" lang="en-GB" sz="2800" spc="-1" strike="noStrike">
                <a:solidFill>
                  <a:srgbClr val="000099"/>
                </a:solidFill>
                <a:latin typeface="Garamond"/>
              </a:rPr>
              <a:t> enraizar/ empoderar/ exercitar (dar o testemunho)</a:t>
            </a:r>
            <a:r>
              <a:rPr b="1"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Linhas de ação:</a:t>
            </a:r>
            <a:r>
              <a:rPr b="1" lang="en-GB" sz="2800" spc="-1" strike="noStrike">
                <a:solidFill>
                  <a:srgbClr val="000099"/>
                </a:solidFill>
                <a:latin typeface="Garamond"/>
              </a:rPr>
              <a:t> formação de educador@s ambientais, gestão e planejamento da EA no país, comunicação para EA, inclusão da EA nas instituições de ensino, monitoramento e avaliação de políticas, programas e projetos de 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stituição de 1988 e Lei Orgânica da Saúde nº 8080/90 determinan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a:t>
            </a:r>
            <a:r>
              <a:rPr b="1" lang="en-GB" sz="2800" spc="-1" strike="noStrike">
                <a:solidFill>
                  <a:srgbClr val="000099"/>
                </a:solidFill>
                <a:latin typeface="Garamond"/>
              </a:rPr>
              <a:t> </a:t>
            </a:r>
            <a:r>
              <a:rPr b="1" lang="en-GB" sz="2800" spc="-1" strike="noStrike">
                <a:solidFill>
                  <a:srgbClr val="000099"/>
                </a:solidFill>
                <a:latin typeface="Garamond"/>
              </a:rPr>
              <a:t>universalidade, integralidade e eqüid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iretrizes:</a:t>
            </a:r>
            <a:r>
              <a:rPr b="1" lang="en-GB" sz="2800" spc="-1" strike="noStrike">
                <a:solidFill>
                  <a:srgbClr val="000099"/>
                </a:solidFill>
                <a:latin typeface="Garamond"/>
              </a:rPr>
              <a:t> </a:t>
            </a:r>
            <a:r>
              <a:rPr b="1" lang="en-GB" sz="2800" spc="-1" strike="noStrike">
                <a:solidFill>
                  <a:srgbClr val="000099"/>
                </a:solidFill>
                <a:latin typeface="Garamond"/>
              </a:rPr>
              <a:t>descentralização, organização hierarquizada e controle soci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Controle Social </a:t>
            </a:r>
            <a:r>
              <a:rPr b="1" lang="en-GB" sz="2800" spc="-1" strike="noStrike">
                <a:solidFill>
                  <a:srgbClr val="000099"/>
                </a:solidFill>
                <a:latin typeface="Garamond"/>
              </a:rPr>
              <a:t>através dos conselhos municipais, estaduais e nacional e das conferências de saúde em todos os níveis com participação da socieda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0"/>
            <a:ext cx="8893080" cy="91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nterfaces com a capacitação e educação para GIRH:</a:t>
            </a:r>
            <a:r>
              <a:rPr b="1" lang="en-GB" sz="2800" spc="-1" strike="noStrike">
                <a:solidFill>
                  <a:srgbClr val="000099"/>
                </a:solidFill>
                <a:latin typeface="Garamond"/>
              </a:rPr>
              <a:t> </a:t>
            </a:r>
            <a:r>
              <a:rPr b="1" lang="en-GB" sz="2400" spc="-1" strike="noStrike">
                <a:solidFill>
                  <a:srgbClr val="ff0066"/>
                </a:solidFill>
                <a:latin typeface="Garamond"/>
              </a:rPr>
              <a:t>Promoção da Saúde</a:t>
            </a:r>
            <a:r>
              <a:rPr b="0" lang="en-GB" sz="2400" spc="-1" strike="noStrike">
                <a:solidFill>
                  <a:srgbClr val="ff0066"/>
                </a:solidFill>
                <a:latin typeface="Garamond"/>
              </a:rPr>
              <a:t>:</a:t>
            </a:r>
            <a:r>
              <a:rPr b="0" lang="en-GB" sz="2400" spc="-1" strike="noStrike">
                <a:solidFill>
                  <a:srgbClr val="000099"/>
                </a:solidFill>
                <a:latin typeface="Garamond"/>
              </a:rPr>
              <a:t> trabalha a mobilização comunitária,  que tenta romper o individualismo, atuando no fortalecimento da ação comunitária, compartilhando os saberes técnicos e populares e criando condições para a construção de estratégias para enfrentar os problemas de saúde. Mobilização -  a favor da vida e conectada aos movimentos globais a favor do desenvolvimento humano. Busca construir espaços saudáve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a:t>
            </a:r>
            <a:r>
              <a:rPr b="0" lang="en-GB" sz="2400" spc="-1" strike="noStrike">
                <a:solidFill>
                  <a:srgbClr val="ff0066"/>
                </a:solidFill>
                <a:latin typeface="Garamond"/>
              </a:rPr>
              <a:t> </a:t>
            </a:r>
            <a:r>
              <a:rPr b="0" lang="en-GB" sz="2400" spc="-1" strike="noStrike">
                <a:solidFill>
                  <a:srgbClr val="000099"/>
                </a:solidFill>
                <a:latin typeface="Garamond"/>
              </a:rPr>
              <a:t>Capacitação e qualificação de profissionais e gestores nos conteúdos da promoção da saúde e em sua instrumentalização com enfoque transversal nas capacitações, treinamentos e cursos” descentralização, organização hierarquizada e controle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através dos conselhos municipais, estaduais e nacional e das conferências de saúde em todos os níveis com participação da socieda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250920" y="0"/>
            <a:ext cx="8893080" cy="90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olítica de Saú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Interfaces com a capacitação e educação para GIRH:</a:t>
            </a:r>
            <a:r>
              <a:rPr b="1" lang="en-GB" sz="2400" spc="-1" strike="noStrike">
                <a:solidFill>
                  <a:srgbClr val="000099"/>
                </a:solidFill>
                <a:latin typeface="Garamon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Atenção à Saúde (Saúde da Família)</a:t>
            </a:r>
            <a:r>
              <a:rPr b="0" lang="en-GB" sz="2400" spc="-1" strike="noStrike">
                <a:solidFill>
                  <a:srgbClr val="ff0066"/>
                </a:solidFill>
                <a:latin typeface="Garamond"/>
              </a:rPr>
              <a:t>: </a:t>
            </a:r>
            <a:r>
              <a:rPr b="0" lang="en-GB" sz="2400" spc="-1" strike="noStrike">
                <a:solidFill>
                  <a:srgbClr val="000099"/>
                </a:solidFill>
                <a:latin typeface="Garamond"/>
              </a:rPr>
              <a:t>permanente comunicação/troca de experiências e conhecimentos entre os integrantes da equipe e desses com o saber popular do agente de saúde. Estabelece vínculo de compromisso e co-responsabilidade com a população, estimulando a organização das comunidades para exercer o controle social das ações e serviços de saúde; utilizando sistemas de informação para  monitoramento e tomada de decisões; atuando de forma intersetorial, através de parcerias estabelecidas com diferentes segmentos sociais e institucionais, intervindo em situações que transcendem a especificidade do setor saúde e que têm efeitos determinantes sobre as condições de vida e saúde dos indivíduos-famílias-comun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0066"/>
                </a:solidFill>
                <a:latin typeface="Garamond"/>
              </a:rPr>
              <a:t>Como: </a:t>
            </a:r>
            <a:r>
              <a:rPr b="0" lang="en-GB" sz="2400" spc="-1" strike="noStrike">
                <a:solidFill>
                  <a:srgbClr val="000099"/>
                </a:solidFill>
                <a:latin typeface="Garamond"/>
              </a:rPr>
              <a:t>Capacitação de 24.600 equipes de PSF em 4986 municípios nos cursos de formação e qualificação dos profissionai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5, de 10 de abril de 20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a formação e funcionamento dos Comitês de Bacia Hidrográf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be aos Comitês de Bacias Hidrográfic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apoiar iniciativas em educação ambiental em consonância com a PNE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0"/>
            <a:ext cx="8893080" cy="81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1, de 21 de junho de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stitui a Câmara Técnica Permanente de Ciência e Tecn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por diretrizes gerais para capacitação técnica buscando a excelência na área de gestão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0"/>
            <a:ext cx="8893080" cy="860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17, de 29 de maio de 20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Estabelece diretrizes para elaboração dos Planos de Recursos Hídricos de Bacias Hidrográficas</a:t>
            </a:r>
            <a:r>
              <a:rPr b="0" lang="en-GB" sz="2800" spc="-1" strike="noStrike" u="sng">
                <a:solidFill>
                  <a:srgbClr val="ccccff"/>
                </a:solidFill>
                <a:uFillTx/>
                <a:latin typeface="Garamond"/>
                <a:hlinkClick r:id="rId2"/>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nteúdo mínimo dos Planos de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para a implementação dos instrumentos de gestão, que contemple ações de educação ambiental consonantes com a PNE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10480" cy="829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rasília, 30 de junho de 2006, SRH/MM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Objetivo</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iniciar o trabalho de buscar subsídios para o estabelecimento de diretrizes e estratégias de abrangência nacional para a capacitação e educação em recursos hídricos, em consonância com os objetivos, programas e metas do Plano Nacional de Recursos Hídricos.</a:t>
            </a:r>
            <a:endParaRPr b="0" lang="en-US" sz="28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250920" y="0"/>
            <a:ext cx="8893080" cy="915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39, de 26 de março de 200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Câmara Técnica de Educação, Capacitação, Mobilização Social e Informação em Recursos Hídricos –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et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 - propor diretrizes, planos e programas de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I - propor e analisar mecanismos de articulação e cooperação entre o poder público, os setores usuários e a sociedade civil quanto à educação e capacitação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50920" y="0"/>
            <a:ext cx="8893080" cy="964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solu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Resolução nº 49,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Estabelece as prioridades para aplicação dos recursos provenientes da cobrança pelo uso de recursos hídricos, para o exercício de 2006, e dá outras providênci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aplicação dos recursos provenientes do pagamento pelo uso dos recursos hídricos pelo setor elétrico deverá contemplar as seguintes prioridades relativas às ações do PPA 2004/2007, para o exercício de 2006:</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grama 0052 - Educação Ambiental para Sociedades Sustentáve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6270 - Educação Ambiental para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50920" y="0"/>
            <a:ext cx="8893080" cy="913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18, de 25 de março de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Solicita que sejam adotadas medidas que possibilitem a implantação, nas universidades brasileiras, de cursos de pós-graduação em hidrogeolo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irigida ao Ministro da Educação, ao Presidente da Coordenação de Aperfeiçoamento de Pessoal de Nível Superior-CAPES e aos Reitores das Universidad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0"/>
            <a:ext cx="8893080" cy="824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22, de 15 de outubro de 20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ções baseadas em documento contendo conjunto de demandas em ciência e tecnologia e propostas de estudos e ações em capacitação técnica e educação ambiental voltadas para a gestão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comenda que o Ministério da Educação incorpore, em seus programas e ações, propostas de capacitação de recursos humanos e de educação ambiental para a gestão dos recursos hídric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250920" y="0"/>
            <a:ext cx="8893080" cy="915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1, de 21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instituição da Década Brasileira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Decreto de 22 de març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Institui a Década Brasileira da Água, a ser iniciada em 22 março 200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A Década Brasileira da Água terá como objetivos promover e intensificar a formulação e implementação de políticas, programas e projetos relativos ao gerenciamento e uso sustentável da água, em todos os níveis, assim como assegurar a ampla participação e cooperação das comunidades voltadas ao alcance dos objetivos contemplados na PNRH ou estabelecidos em convenções, acordos e resoluções a que o Brasil tenha aderido</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250920" y="0"/>
            <a:ext cx="8893080" cy="87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Moções CNR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Mocão nº 35, de 28 de novembro de 200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99"/>
                </a:solidFill>
                <a:latin typeface="Garamond"/>
              </a:rPr>
              <a:t>Recomenda a órgãos e entidades ações para fomentar a integração das políticas públicas de recursos hídricos, florestais e de conservação de so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os Ministérios do Meio Ambiente e da Educação, que incorporem, nas ações do ProNEA, a promoção da educação ambiental, capacitação, mobilização social, difusão da informação e comunicação social como processos de conhecimento das relações de interdependências entre águas, florestas e demais recursos natura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Tratado de EA para Sociedades Sustentáve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EA como processo de aprendizagem permanente, baseado no respeito a todas as formas de vid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Princípios: </a:t>
            </a:r>
            <a:r>
              <a:rPr b="1" lang="en-GB" sz="2800" spc="-1" strike="noStrike">
                <a:solidFill>
                  <a:srgbClr val="000099"/>
                </a:solidFill>
                <a:latin typeface="Garamond"/>
              </a:rPr>
              <a:t>EA é direito de todos, somos todos aprendizes e educadores/ EA  deve ter como base o pensamento crítico, promovendo a transformação e a construção da sociedade/ respeito à autodeterminação dos povos e soberania das nações/ perspectiva holística interdisciplinar/ estimular a solidariedade, igualdade e respeito aos direitos human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0"/>
            <a:ext cx="8893080" cy="746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programas de captação de águas pluviais </a:t>
            </a:r>
            <a:r>
              <a:rPr b="0" lang="en-GB" sz="2800" spc="-1" strike="noStrike">
                <a:solidFill>
                  <a:srgbClr val="000099"/>
                </a:solidFill>
                <a:latin typeface="Garamond"/>
              </a:rPr>
              <a:t>(aproveitamento, reaproveitamento, conservação, armazenamento e tratamento)</a:t>
            </a:r>
            <a:r>
              <a:rPr b="0" lang="en-GB" sz="2800" spc="-1" strike="noStrike">
                <a:solidFill>
                  <a:srgbClr val="000099"/>
                </a:solidFill>
                <a:latin typeface="Garamond"/>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r a PNRH com as demais políticas setoriais</a:t>
            </a:r>
            <a:r>
              <a:rPr b="0" lang="en-GB" sz="2800" spc="-1" strike="noStrike">
                <a:solidFill>
                  <a:srgbClr val="000099"/>
                </a:solidFill>
                <a:latin typeface="Garamond"/>
              </a:rPr>
              <a:t> (federal, estaduais, municipais) de saneamento, saúde, meio ambiente,</a:t>
            </a:r>
            <a:r>
              <a:rPr b="1" lang="en-GB" sz="2800" spc="-1" strike="noStrike">
                <a:solidFill>
                  <a:srgbClr val="000099"/>
                </a:solidFill>
                <a:latin typeface="Garamond"/>
              </a:rPr>
              <a:t> educação </a:t>
            </a:r>
            <a:r>
              <a:rPr b="0" lang="en-GB" sz="2800" spc="-1" strike="noStrike">
                <a:solidFill>
                  <a:srgbClr val="000099"/>
                </a:solidFill>
                <a:latin typeface="Garamond"/>
              </a:rPr>
              <a:t>e energ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erir a questão de gênero e etnia na política de gestão integrada de recursos hídric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250920" y="0"/>
            <a:ext cx="8893080" cy="83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compartilhar, em</a:t>
            </a:r>
            <a:r>
              <a:rPr b="1" lang="en-GB" sz="2800" spc="-1" strike="noStrike">
                <a:solidFill>
                  <a:srgbClr val="000099"/>
                </a:solidFill>
                <a:latin typeface="Garamond"/>
              </a:rPr>
              <a:t> linguagem acessível,</a:t>
            </a:r>
            <a:r>
              <a:rPr b="0" lang="en-GB" sz="2800" spc="-1" strike="noStrike">
                <a:solidFill>
                  <a:srgbClr val="000099"/>
                </a:solidFill>
                <a:latin typeface="Garamond"/>
              </a:rPr>
              <a:t> as</a:t>
            </a:r>
            <a:r>
              <a:rPr b="1" lang="en-GB" sz="2800" spc="-1" strike="noStrike">
                <a:solidFill>
                  <a:srgbClr val="000099"/>
                </a:solidFill>
                <a:latin typeface="Garamond"/>
              </a:rPr>
              <a:t> informações </a:t>
            </a:r>
            <a:r>
              <a:rPr b="0" lang="en-GB" sz="2800" spc="-1" strike="noStrike">
                <a:solidFill>
                  <a:srgbClr val="000099"/>
                </a:solidFill>
                <a:latin typeface="Garamond"/>
              </a:rPr>
              <a:t>com os representantes da sociedade civil nos comitês de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incentivar e facilitar a participação da comunidade </a:t>
            </a:r>
            <a:r>
              <a:rPr b="0" lang="en-GB" sz="2800" spc="-1" strike="noStrike">
                <a:solidFill>
                  <a:srgbClr val="000099"/>
                </a:solidFill>
                <a:latin typeface="Garamond"/>
              </a:rPr>
              <a:t>na formulação das leis que tratam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esenvolver e fortalecer a capacidade institucional </a:t>
            </a:r>
            <a:r>
              <a:rPr b="0" lang="en-GB" sz="2800" spc="-1" strike="noStrike">
                <a:solidFill>
                  <a:srgbClr val="000099"/>
                </a:solidFill>
                <a:latin typeface="Garamond"/>
              </a:rPr>
              <a:t>entre os estados, fomentando a cooperação para a capacitação em gestão de recursos hídricos de domínio da Uni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250920" y="0"/>
            <a:ext cx="8893080" cy="789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assegurar a implantação de</a:t>
            </a:r>
            <a:r>
              <a:rPr b="1" lang="en-GB" sz="2800" spc="-1" strike="noStrike">
                <a:solidFill>
                  <a:srgbClr val="000099"/>
                </a:solidFill>
                <a:latin typeface="Garamond"/>
              </a:rPr>
              <a:t> programas </a:t>
            </a:r>
            <a:r>
              <a:rPr b="0" lang="en-GB" sz="2800" spc="-1" strike="noStrike">
                <a:solidFill>
                  <a:srgbClr val="000099"/>
                </a:solidFill>
                <a:latin typeface="Garamond"/>
              </a:rPr>
              <a:t>nacionais, estaduais e municipais , inclusive</a:t>
            </a:r>
            <a:r>
              <a:rPr b="1" lang="en-GB" sz="2800" spc="-1" strike="noStrike">
                <a:solidFill>
                  <a:srgbClr val="000099"/>
                </a:solidFill>
                <a:latin typeface="Garamond"/>
              </a:rPr>
              <a:t> de educação ambiental,  que contemplem a bacia hidrográfica como unidade territorial de gestão e planejamento </a:t>
            </a:r>
            <a:r>
              <a:rPr b="0" lang="en-GB" sz="2800" spc="-1" strike="noStrike">
                <a:solidFill>
                  <a:srgbClr val="000099"/>
                </a:solidFill>
                <a:latin typeface="Garamond"/>
              </a:rPr>
              <a:t>para a harmonização, adequação e integração das políticas públicas relacionadas ao uso da água, priorizando a conservação dos recursos hídricos e recuperação dos ecossistemas associados, garantindo ampla divulgação por meio de diversos veículos de comunicação e audiências públicas aprovadas pelos respectivos comitês de baci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228600" y="380880"/>
            <a:ext cx="8610480" cy="6815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of. Demetrios Christofidis: “Implementa-</a:t>
            </a:r>
            <a:r>
              <a:rPr b="1" i="1" lang="en-GB" sz="2800" spc="-1" strike="noStrike">
                <a:solidFill>
                  <a:srgbClr val="000099"/>
                </a:solidFill>
                <a:latin typeface="Garamond"/>
              </a:rPr>
              <a:t>ação de educação</a:t>
            </a:r>
            <a:r>
              <a:rPr b="1" lang="en-GB" sz="2800" spc="-1" strike="noStrike">
                <a:solidFill>
                  <a:srgbClr val="000099"/>
                </a:solidFill>
                <a:latin typeface="Garamond"/>
              </a:rPr>
              <a:t>: o Plano Nacional de Recursos Hídricos”</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Berenice Cordeiro: Experiência da ReCESA - Rede Nacional de Capacitação e Extensão Tecnológica em Saneamento Ambiental</a:t>
            </a:r>
            <a:endParaRPr b="0" lang="en-US" sz="28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Virgínia Musell: Diretrizes do Programa Nacional de Capacitação de Gestores Ambientais e Conselheiros do SISNAMA – PNC</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50920" y="0"/>
            <a:ext cx="889308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desenvolver e fortalecer as instituições envolvidas com a gestão de recursos hídricos nos países fronteiriços e criar mecanismos legais que viabilizem a cooperação e</a:t>
            </a:r>
            <a:r>
              <a:rPr b="1" lang="en-GB" sz="2800" spc="-1" strike="noStrike">
                <a:solidFill>
                  <a:srgbClr val="000099"/>
                </a:solidFill>
                <a:latin typeface="Garamond"/>
              </a:rPr>
              <a:t> capacitação de pessoal para a gestão compartilhada de recursos hídricos transfronteiriço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250920" y="0"/>
            <a:ext cx="8893080" cy="726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priorizar esforços e subsidiar pesquisas e  estudos, visando incentivar, ampliar e melhorar a difusão das ações, dos conhecimentos e dos dados hidrogeológicos básicos; divulgar os resultados para a sociedade civil organizada, usuários e instituições; fortalecer o sistema de informações e</a:t>
            </a:r>
            <a:r>
              <a:rPr b="1" lang="en-GB" sz="2800" spc="-1" strike="noStrike">
                <a:solidFill>
                  <a:srgbClr val="000099"/>
                </a:solidFill>
                <a:latin typeface="Garamond"/>
              </a:rPr>
              <a:t> capacitar os profissionais, dando prioridade às regiões com menor nível de conhecimento de seu subsolo e de água subterrânea</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0"/>
            <a:ext cx="8893080" cy="68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spcBef>
                <a:spcPts val="1749"/>
              </a:spcBef>
              <a:buClr>
                <a:srgbClr val="ff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mover concursos públicos para suprir as demandas de técnicos dos órgãos </a:t>
            </a:r>
            <a:r>
              <a:rPr b="0" lang="en-GB" sz="2800" spc="-1" strike="noStrike">
                <a:solidFill>
                  <a:srgbClr val="000099"/>
                </a:solidFill>
                <a:latin typeface="Garamond"/>
              </a:rPr>
              <a:t>de forma a atender as necessidades de gerenciamento de recursos hídricos para todos os setor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250920" y="0"/>
            <a:ext cx="8893080" cy="81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implementar o </a:t>
            </a:r>
            <a:r>
              <a:rPr b="0" lang="en-GB" sz="2800" spc="-1" strike="noStrike">
                <a:solidFill>
                  <a:srgbClr val="000099"/>
                </a:solidFill>
                <a:latin typeface="Garamond"/>
              </a:rPr>
              <a:t>Sistema Nacional de Informações sobre Recursos Hídricos</a:t>
            </a:r>
            <a:r>
              <a:rPr b="1" lang="en-GB" sz="2800" spc="-1" strike="noStrike">
                <a:solidFill>
                  <a:srgbClr val="000099"/>
                </a:solidFill>
                <a:latin typeface="Garamond"/>
              </a:rPr>
              <a:t> (SNIRH) articulado com </a:t>
            </a:r>
            <a:r>
              <a:rPr b="0" lang="en-GB" sz="2800" spc="-1" strike="noStrike">
                <a:solidFill>
                  <a:srgbClr val="000099"/>
                </a:solidFill>
                <a:latin typeface="Garamond"/>
              </a:rPr>
              <a:t>o Sistema Nacional de Informações em Meio Ambiente</a:t>
            </a:r>
            <a:r>
              <a:rPr b="1" lang="en-GB" sz="2800" spc="-1" strike="noStrike">
                <a:solidFill>
                  <a:srgbClr val="000099"/>
                </a:solidFill>
                <a:latin typeface="Garamond"/>
              </a:rPr>
              <a:t> (SINIMA) e com o </a:t>
            </a:r>
            <a:r>
              <a:rPr b="0" lang="en-GB" sz="2800" spc="-1" strike="noStrike">
                <a:solidFill>
                  <a:srgbClr val="000099"/>
                </a:solidFill>
                <a:latin typeface="Garamond"/>
              </a:rPr>
              <a:t>Sistema Brasileiro de Informações em Educação Ambiental</a:t>
            </a:r>
            <a:r>
              <a:rPr b="1" lang="en-GB" sz="2800" spc="-1" strike="noStrike">
                <a:solidFill>
                  <a:srgbClr val="000099"/>
                </a:solidFill>
                <a:latin typeface="Garamond"/>
              </a:rPr>
              <a:t> (SIBEA), com adequada gestão e integração das informações com Estados e Municíp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ssegurar a qualidade da água das comunidades ribeirinhas, a partir de programas de preservação de mananciais hídricos, </a:t>
            </a:r>
            <a:r>
              <a:rPr b="1" lang="en-GB" sz="2800" spc="-1" strike="noStrike">
                <a:solidFill>
                  <a:srgbClr val="000099"/>
                </a:solidFill>
                <a:latin typeface="Garamond"/>
              </a:rPr>
              <a:t>valorizando o saber local</a:t>
            </a:r>
            <a:r>
              <a:rPr b="0" lang="en-GB" sz="2800" spc="-1" strike="noStrike">
                <a:solidFill>
                  <a:srgbClr val="000099"/>
                </a:solidFill>
                <a:latin typeface="Garamond"/>
              </a:rPr>
              <a:t>, com fortalecimento de políticas públicas nas três esferas de governo e envolvendo as associações de bairros, comunidades e morado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apoiar e </a:t>
            </a:r>
            <a:r>
              <a:rPr b="1" lang="en-GB" sz="2800" spc="-1" strike="noStrike">
                <a:solidFill>
                  <a:srgbClr val="000099"/>
                </a:solidFill>
                <a:latin typeface="Garamond"/>
              </a:rPr>
              <a:t>fortalecer, técnica</a:t>
            </a:r>
            <a:r>
              <a:rPr b="0" lang="en-GB" sz="2800" spc="-1" strike="noStrike">
                <a:solidFill>
                  <a:srgbClr val="000099"/>
                </a:solidFill>
                <a:latin typeface="Garamond"/>
              </a:rPr>
              <a:t> e financeiramente, </a:t>
            </a:r>
            <a:r>
              <a:rPr b="1" lang="en-GB" sz="2800" spc="-1" strike="noStrike">
                <a:solidFill>
                  <a:srgbClr val="000099"/>
                </a:solidFill>
                <a:latin typeface="Garamond"/>
              </a:rPr>
              <a:t>a estruturação dos Sistemas Estaduais, Regionais e Municipais de Gerenciamento de Recursos Hídricos</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250920" y="0"/>
            <a:ext cx="8893080" cy="68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implementar </a:t>
            </a:r>
            <a:r>
              <a:rPr b="1" lang="en-GB" sz="2800" spc="-1" strike="noStrike">
                <a:solidFill>
                  <a:srgbClr val="000099"/>
                </a:solidFill>
                <a:latin typeface="Garamond"/>
              </a:rPr>
              <a:t>programa de capacitação continuada de gestores e corpo técnico </a:t>
            </a:r>
            <a:r>
              <a:rPr b="0" lang="en-GB" sz="2800" spc="-1" strike="noStrike">
                <a:solidFill>
                  <a:srgbClr val="000099"/>
                </a:solidFill>
                <a:latin typeface="Garamond"/>
              </a:rPr>
              <a:t>vinculados ao gerenciamento de recursos hídricos,</a:t>
            </a:r>
            <a:r>
              <a:rPr b="1" lang="en-GB" sz="2800" spc="-1" strike="noStrike">
                <a:solidFill>
                  <a:srgbClr val="000099"/>
                </a:solidFill>
                <a:latin typeface="Garamond"/>
              </a:rPr>
              <a:t> com ênfase na temática de revitalização de ri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incentivar</a:t>
            </a:r>
            <a:r>
              <a:rPr b="1" lang="en-GB" sz="2800" spc="-1" strike="noStrike">
                <a:solidFill>
                  <a:srgbClr val="000099"/>
                </a:solidFill>
                <a:latin typeface="Garamond"/>
              </a:rPr>
              <a:t> programas de educação ambiental para preservação dos cursos de águas, rios e córregos </a:t>
            </a:r>
            <a:r>
              <a:rPr b="0" lang="en-GB" sz="2800" spc="-1" strike="noStrike">
                <a:solidFill>
                  <a:srgbClr val="000099"/>
                </a:solidFill>
                <a:latin typeface="Garamond"/>
              </a:rPr>
              <a:t>a partir do replantio e adensamento da mata ciliar nas bacias hidrográficas, implementando conteúdos</a:t>
            </a:r>
            <a:r>
              <a:rPr b="1" lang="en-GB" sz="2800" spc="-1" strike="noStrike">
                <a:solidFill>
                  <a:srgbClr val="000099"/>
                </a:solidFill>
                <a:latin typeface="Garamond"/>
              </a:rPr>
              <a:t> voltados para o uso sustentável de recursos hídricos</a:t>
            </a: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0" lang="en-GB" sz="2800" spc="-1" strike="noStrike">
                <a:solidFill>
                  <a:srgbClr val="000099"/>
                </a:solidFill>
                <a:latin typeface="Garamond"/>
              </a:rPr>
              <a:t>fomentar e priorizar projetos de pesquisa científica e tecnológica para o uso sustentado e</a:t>
            </a:r>
            <a:r>
              <a:rPr b="1" lang="en-GB" sz="2800" spc="-1" strike="noStrike">
                <a:solidFill>
                  <a:srgbClr val="000099"/>
                </a:solidFill>
                <a:latin typeface="Garamond"/>
              </a:rPr>
              <a:t> promover a conservação dos recursos hídricos e difusão de conhecimentos, por meio de instrumentos de comunicação social, educação ambiental e capacitação da sociedade civil organizada, </a:t>
            </a:r>
            <a:r>
              <a:rPr b="0" lang="en-GB" sz="2800" spc="-1" strike="noStrike">
                <a:solidFill>
                  <a:srgbClr val="000099"/>
                </a:solidFill>
                <a:latin typeface="Garamond"/>
              </a:rPr>
              <a:t>dentro da própria bacia hidrográfica,</a:t>
            </a:r>
            <a:r>
              <a:rPr b="1" lang="en-GB" sz="2800" spc="-1" strike="noStrike">
                <a:solidFill>
                  <a:srgbClr val="000099"/>
                </a:solidFill>
                <a:latin typeface="Garamond"/>
              </a:rPr>
              <a:t> compatibilizados com os planos diretores ou planos de trabalho da instância deliberativa dos CBHs, </a:t>
            </a:r>
            <a:r>
              <a:rPr b="0" lang="en-GB" sz="2800" spc="-1" strike="noStrike">
                <a:solidFill>
                  <a:srgbClr val="000099"/>
                </a:solidFill>
                <a:latin typeface="Garamond"/>
              </a:rPr>
              <a:t>quando existentes, divulgando os resultados nos fóruns permanentes</a:t>
            </a: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50920" y="0"/>
            <a:ext cx="889308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just">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99"/>
                </a:solidFill>
                <a:latin typeface="Garamond"/>
              </a:rPr>
              <a:t> </a:t>
            </a:r>
            <a:r>
              <a:rPr b="0" lang="en-GB" sz="2800" spc="-1" strike="noStrike">
                <a:solidFill>
                  <a:srgbClr val="000099"/>
                </a:solidFill>
                <a:latin typeface="Garamond"/>
              </a:rPr>
              <a:t>estruturar os órgãos estaduais de recursos hídricos e de meio ambiente a partir da realização de concurso público; destinação de verbas para fiscalização, gestão e acompanhamento; e </a:t>
            </a:r>
            <a:r>
              <a:rPr b="1" lang="en-GB" sz="2800" spc="-1" strike="noStrike">
                <a:solidFill>
                  <a:srgbClr val="000099"/>
                </a:solidFill>
                <a:latin typeface="Garamond"/>
              </a:rPr>
              <a:t>assegurar a capacitação do corpo técnico para melhor desenvoltura dos trabalhos</a:t>
            </a: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50920" y="0"/>
            <a:ext cx="8893080" cy="72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Oficina Nacional de Capacitação e Educação em GIRH</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u="sng">
                <a:solidFill>
                  <a:srgbClr val="000099"/>
                </a:solidFill>
                <a:uFillTx/>
                <a:latin typeface="Garamond"/>
              </a:rPr>
              <a:t>VIII Encontro Nacional de Comitês de Bacias Hidrográficas</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66"/>
                </a:solidFill>
                <a:latin typeface="Garamond"/>
              </a:rPr>
              <a:t>II CNMA – Deliberaçõ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qualificar e capacitar os profissionais municipais para gestão dos recursos hídricos </a:t>
            </a:r>
            <a:r>
              <a:rPr b="0" lang="en-GB" sz="2800" spc="-1" strike="noStrike">
                <a:solidFill>
                  <a:srgbClr val="000099"/>
                </a:solidFill>
                <a:latin typeface="Garamond"/>
              </a:rPr>
              <a:t>nos Municípios e regiões, aprovadas em planos dos respectivos CBHs, quando estes forem existentes e em funcionam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r um programa de capacitação em recursos hídricos, </a:t>
            </a:r>
            <a:r>
              <a:rPr b="0" lang="en-GB" sz="2800" spc="-1" strike="noStrike">
                <a:solidFill>
                  <a:srgbClr val="000099"/>
                </a:solidFill>
                <a:latin typeface="Garamond"/>
              </a:rPr>
              <a:t>junto às instituições federais, estaduais, do DF e municípios,</a:t>
            </a:r>
            <a:r>
              <a:rPr b="1" lang="en-GB" sz="2800" spc="-1" strike="noStrike">
                <a:solidFill>
                  <a:srgbClr val="000099"/>
                </a:solidFill>
                <a:latin typeface="Garamond"/>
              </a:rPr>
              <a:t> para desenvolver pesquisas e estudos de águas subterrâne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04920" y="0"/>
            <a:ext cx="8381880" cy="642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GIRH</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ea typeface="Times New Roman"/>
              </a:rPr>
              <a:t>    </a:t>
            </a:r>
            <a:r>
              <a:rPr b="1" lang="en-GB" sz="2800" spc="-1" strike="noStrike">
                <a:solidFill>
                  <a:srgbClr val="3333cc"/>
                </a:solidFill>
                <a:latin typeface="Garamond"/>
                <a:ea typeface="Times New Roman"/>
              </a:rPr>
              <a:t>A GIRH baseia-se nos princípios postulados na Conferência Internacional sobre Recursos Hídricos e Meio Ambiente, ocorrida em janeiro de 1992, em Dublin, Irlanda, evento preparatório para a Rio-92.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Times New Roman"/>
              </a:rPr>
              <a:t>    </a:t>
            </a:r>
            <a:r>
              <a:rPr b="1" lang="en-GB" sz="2800" spc="-1" strike="noStrike">
                <a:solidFill>
                  <a:srgbClr val="3333cc"/>
                </a:solidFill>
                <a:latin typeface="Garamond"/>
                <a:ea typeface="Times New Roman"/>
              </a:rPr>
              <a:t>As recomendações emanadas dessa conferência contribuíram para a construção do capítulo 18 da Agenda 21, que trata da proteção da qualidade e do abastecimento dos recursos hídricos.</a:t>
            </a:r>
            <a:endParaRPr b="0" lang="en-US" sz="2800" spc="-1" strike="noStrike">
              <a:solidFill>
                <a:srgbClr val="000000"/>
              </a:solidFill>
              <a:latin typeface="Times New Roman"/>
            </a:endParaRPr>
          </a:p>
          <a:p>
            <a:pPr marL="457200" indent="-457200">
              <a:lnSpc>
                <a:spcPct val="100000"/>
              </a:lnSpc>
              <a:spcBef>
                <a:spcPts val="1624"/>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28600" y="380880"/>
            <a:ext cx="8610480" cy="76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Palestrant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Núbia Brelas Nunes (Saúde): Capacitação para Agentes Comunitários de Saúde</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aciana (FNMA/MMA): Capacitação para o fortalecimento de Fundos Socio-ambientais públicos</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Timothy (MEC) : EJA</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Alberto Palombo e Maria do Carmo Zinato: O Tema da Capacitação no contexto da Rede Inter-Americana de Recursos Hídricos - RIRH </a:t>
            </a:r>
            <a:endParaRPr b="0" lang="en-US" sz="28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04920" y="0"/>
            <a:ext cx="8381880" cy="708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gn="just">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9900"/>
                </a:solidFill>
                <a:latin typeface="Garamond"/>
              </a:rPr>
              <a:t>GIRH -     </a:t>
            </a:r>
            <a:r>
              <a:rPr b="1" lang="en-GB" sz="2800" spc="-1" strike="noStrike">
                <a:solidFill>
                  <a:srgbClr val="ff0066"/>
                </a:solidFill>
                <a:latin typeface="Garamond"/>
              </a:rPr>
              <a:t>Princípios</a:t>
            </a:r>
            <a:r>
              <a:rPr b="1" lang="en-GB" sz="2800" spc="-1" strike="noStrike">
                <a:solidFill>
                  <a:srgbClr val="009900"/>
                </a:solidFill>
                <a:latin typeface="Garamond"/>
              </a:rPr>
              <a:t> Dublin</a:t>
            </a:r>
            <a:endParaRPr b="0" lang="en-US" sz="28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doce é um </a:t>
            </a:r>
            <a:r>
              <a:rPr b="1" lang="en-GB" sz="2600" spc="-1" strike="noStrike">
                <a:solidFill>
                  <a:srgbClr val="ff0000"/>
                </a:solidFill>
                <a:latin typeface="Garamond"/>
                <a:ea typeface="Times New Roman"/>
              </a:rPr>
              <a:t>recurso finito e vulnerável</a:t>
            </a:r>
            <a:r>
              <a:rPr b="1" lang="en-GB" sz="2600" spc="-1" strike="noStrike">
                <a:solidFill>
                  <a:srgbClr val="000099"/>
                </a:solidFill>
                <a:latin typeface="Garamond"/>
                <a:ea typeface="Times New Roman"/>
              </a:rPr>
              <a:t>, essencial para a conservação da vida, a manutenção do desenvolvimento e do meio ambiente;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o desenvolvimento e a gestão da água devem ser baseados na </a:t>
            </a:r>
            <a:r>
              <a:rPr b="1" lang="en-GB" sz="2600" spc="-1" strike="noStrike">
                <a:solidFill>
                  <a:srgbClr val="ff0066"/>
                </a:solidFill>
                <a:latin typeface="Garamond"/>
                <a:ea typeface="Times New Roman"/>
              </a:rPr>
              <a:t>participação</a:t>
            </a:r>
            <a:r>
              <a:rPr b="1" lang="en-GB" sz="2600" spc="-1" strike="noStrike">
                <a:solidFill>
                  <a:srgbClr val="000099"/>
                </a:solidFill>
                <a:latin typeface="Garamond"/>
                <a:ea typeface="Times New Roman"/>
              </a:rPr>
              <a:t> dos usuários, dos planejadores e dos decisores políticos, em todos os níveis;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s </a:t>
            </a:r>
            <a:r>
              <a:rPr b="1" lang="en-GB" sz="2600" spc="-1" strike="noStrike">
                <a:solidFill>
                  <a:srgbClr val="ff0000"/>
                </a:solidFill>
                <a:latin typeface="Garamond"/>
                <a:ea typeface="Times New Roman"/>
              </a:rPr>
              <a:t>mulheres</a:t>
            </a:r>
            <a:r>
              <a:rPr b="1" lang="en-GB" sz="2600" spc="-1" strike="noStrike">
                <a:solidFill>
                  <a:srgbClr val="000099"/>
                </a:solidFill>
                <a:latin typeface="Garamond"/>
                <a:ea typeface="Times New Roman"/>
              </a:rPr>
              <a:t> desempenham um papel essencial na conservação e gestão da água; </a:t>
            </a:r>
            <a:endParaRPr b="0" lang="en-US" sz="2600" spc="-1" strike="noStrike">
              <a:solidFill>
                <a:srgbClr val="000000"/>
              </a:solidFill>
              <a:latin typeface="Times New Roman"/>
            </a:endParaRPr>
          </a:p>
          <a:p>
            <a:pPr marL="457200" indent="-457200">
              <a:lnSpc>
                <a:spcPct val="100000"/>
              </a:lnSpc>
              <a:spcBef>
                <a:spcPts val="1624"/>
              </a:spcBef>
              <a:buClr>
                <a:srgbClr val="000099"/>
              </a:buClr>
              <a:buFont typeface="Garamond"/>
              <a:buAutoNum type="alphaLcParen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600" spc="-1" strike="noStrike">
                <a:solidFill>
                  <a:srgbClr val="000099"/>
                </a:solidFill>
                <a:latin typeface="Garamond"/>
                <a:ea typeface="Times New Roman"/>
              </a:rPr>
              <a:t>a água tem </a:t>
            </a:r>
            <a:r>
              <a:rPr b="1" lang="en-GB" sz="2600" spc="-1" strike="noStrike">
                <a:solidFill>
                  <a:srgbClr val="ff0000"/>
                </a:solidFill>
                <a:latin typeface="Garamond"/>
                <a:ea typeface="Times New Roman"/>
              </a:rPr>
              <a:t>valor econômico</a:t>
            </a:r>
            <a:r>
              <a:rPr b="1" lang="en-GB" sz="2600" spc="-1" strike="noStrike">
                <a:solidFill>
                  <a:srgbClr val="000099"/>
                </a:solidFill>
                <a:latin typeface="Garamond"/>
                <a:ea typeface="Times New Roman"/>
              </a:rPr>
              <a:t> em todos seus usos competitivos e deve ser reconhecida como um bem econômico.</a:t>
            </a:r>
            <a:r>
              <a:rPr b="1" lang="en-GB" sz="2600" spc="-1" strike="noStrike">
                <a:solidFill>
                  <a:srgbClr val="000099"/>
                </a:solidFill>
                <a:latin typeface="Garamond"/>
              </a:rPr>
              <a:t> </a:t>
            </a:r>
            <a:endParaRPr b="0" lang="en-US" sz="2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04920" y="0"/>
            <a:ext cx="8381880" cy="741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4 bilhões de pessoas enfrentam algum tipo de racionamento de água em mais de 40 país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63 bacias são compartilhadas por duas ou mais naçõe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2 milhões t de resíduos provenientes de atividades humanas são depositados diariamente em cursos d’águ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Metade da população do mundo desenvolvido está exposta a mananciais poluíd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O incremento da população mundial, de 6 para 9 bilhões, será o principal fator indutor da gestão de recursos hídricos nos próximos 50 anos.</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A água é fundamental para a sobrevivência, saúde e dignidade humana, além de recurso fundamental para o desenvolvimento.</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0"/>
            <a:ext cx="8381880" cy="68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rise da governança da água:</a:t>
            </a:r>
            <a:r>
              <a:rPr b="1" lang="en-GB" sz="2400" spc="-1" strike="noStrike">
                <a:solidFill>
                  <a:srgbClr val="000000"/>
                </a:solidFill>
                <a:latin typeface="Garamond"/>
                <a:ea typeface="Times New Roman"/>
              </a:rPr>
              <a:t> a gestão setorial da água ainda prevalece, o que leva a um desenvolvimento fragmentado e descoordenad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Times New Roman"/>
              </a:rPr>
              <a:t>Competição crescente pelo recurso finito</a:t>
            </a:r>
            <a:r>
              <a:rPr b="1" lang="en-GB" sz="2400" spc="-1" strike="noStrike">
                <a:solidFill>
                  <a:srgbClr val="000000"/>
                </a:solidFill>
                <a:latin typeface="Garamond"/>
                <a:ea typeface="Arial Unicode MS"/>
              </a:rPr>
              <a:t> </a:t>
            </a:r>
            <a:endParaRPr b="0" lang="en-US" sz="24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In)segurança hídrica:</a:t>
            </a:r>
            <a:r>
              <a:rPr b="1" lang="en-GB" sz="2400" spc="-1" strike="noStrike">
                <a:solidFill>
                  <a:srgbClr val="000000"/>
                </a:solidFill>
                <a:latin typeface="Garamond"/>
                <a:ea typeface="Arial Unicode MS"/>
              </a:rPr>
              <a:t> um quinto da população do mundo não tem acesso à água segura e metade da população não tem saneamento adequad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Arial Unicode MS"/>
              </a:rPr>
              <a:t>Afeta os segmentos mais pobres dos países em desenvolvimento, como o Brasil. Uma das metas do milênio, com as quais os líderes mundiais se comprometeram perante as Nações Unidas, em setembro de 2000, é a de reduzir à metade o contingente populacional que não tem acesso à águ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304920" y="0"/>
            <a:ext cx="8381880" cy="45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ff0000"/>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ff0000"/>
                </a:solidFill>
                <a:latin typeface="Garamond"/>
                <a:ea typeface="Arial Unicode MS"/>
              </a:rPr>
              <a:t>Água segura para produção alimentar:</a:t>
            </a:r>
            <a:r>
              <a:rPr b="1" lang="en-GB" sz="2400" spc="-1" strike="noStrike">
                <a:solidFill>
                  <a:srgbClr val="000000"/>
                </a:solidFill>
                <a:latin typeface="Garamond"/>
                <a:ea typeface="Arial Unicode MS"/>
              </a:rPr>
              <a:t> </a:t>
            </a:r>
            <a:r>
              <a:rPr b="1" lang="en-GB" sz="2400" spc="-1" strike="noStrike">
                <a:solidFill>
                  <a:srgbClr val="000000"/>
                </a:solidFill>
                <a:latin typeface="Garamond"/>
                <a:ea typeface="Times New Roman"/>
              </a:rPr>
              <a:t>Nos próximos 25 anos será necessário incrementar a produção de alimentos para mais 2 ou 3 bilhões de pessoas. A escassez de água será um fator limitante para essa produção, mais ainda do que a escassez de terra. </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304920" y="0"/>
            <a:ext cx="83818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r>
              <a:rPr b="1" lang="en-GB" sz="2800" spc="-1" strike="noStrike">
                <a:solidFill>
                  <a:srgbClr val="000000"/>
                </a:solidFill>
                <a:latin typeface="Garamond"/>
              </a:rPr>
              <a:t> </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a água é um recurso estratégico: múltiplo usos e funçõ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ooperação: usos da água são interdependentes</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ecisamos nos educar para uma nova consciência da água</a:t>
            </a:r>
            <a:endParaRPr b="0" lang="en-US" sz="2800" spc="-1" strike="noStrike">
              <a:solidFill>
                <a:srgbClr val="000000"/>
              </a:solidFill>
              <a:latin typeface="Times New Roman"/>
            </a:endParaRPr>
          </a:p>
          <a:p>
            <a:pPr>
              <a:lnSpc>
                <a:spcPct val="100000"/>
              </a:lnSpc>
              <a:spcBef>
                <a:spcPts val="1749"/>
              </a:spcBef>
              <a:buClr>
                <a:srgbClr val="0000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99"/>
                </a:solidFill>
                <a:latin typeface="Garamond"/>
              </a:rPr>
              <a:t>locus</a:t>
            </a:r>
            <a:r>
              <a:rPr b="1" lang="en-GB" sz="2800" spc="-1" strike="noStrike">
                <a:solidFill>
                  <a:srgbClr val="000099"/>
                </a:solidFill>
                <a:latin typeface="Garamond"/>
              </a:rPr>
              <a:t> principal da gestão da água é o</a:t>
            </a:r>
            <a:r>
              <a:rPr b="1" lang="en-GB" sz="2800" spc="-1" strike="noStrike">
                <a:solidFill>
                  <a:srgbClr val="cc0099"/>
                </a:solidFill>
                <a:latin typeface="Garamond"/>
              </a:rPr>
              <a:t> Comitê de Bacia </a:t>
            </a:r>
            <a:r>
              <a:rPr b="1" lang="en-GB" sz="2800" spc="-1" strike="noStrike">
                <a:solidFill>
                  <a:srgbClr val="000099"/>
                </a:solidFill>
                <a:latin typeface="Garamond"/>
              </a:rPr>
              <a:t>– diálogo, negociação, prática da integração</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04920" y="0"/>
            <a:ext cx="8381880" cy="836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74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r>
              <a:rPr b="1" lang="en-GB" sz="2800" spc="-1" strike="noStrike">
                <a:solidFill>
                  <a:srgbClr val="009900"/>
                </a:solidFill>
                <a:latin typeface="Garamond"/>
              </a:rPr>
              <a:t>Por que GIRH?</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cc0099"/>
                </a:solidFill>
                <a:latin typeface="Garamond"/>
              </a:rPr>
              <a:t>Urgência para ação </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3333cc"/>
                </a:solidFill>
                <a:latin typeface="Garamond"/>
                <a:ea typeface="Lucida Sans Unicode"/>
              </a:rPr>
              <a:t>    </a:t>
            </a:r>
            <a:r>
              <a:rPr b="1" lang="en-GB" sz="2800" spc="-1" strike="noStrike">
                <a:solidFill>
                  <a:srgbClr val="3333cc"/>
                </a:solidFill>
                <a:latin typeface="Garamond"/>
                <a:ea typeface="Tahoma"/>
              </a:rPr>
              <a:t> </a:t>
            </a:r>
            <a:r>
              <a:rPr b="1" lang="en-GB" sz="2800" spc="-1" strike="noStrike">
                <a:solidFill>
                  <a:srgbClr val="3333cc"/>
                </a:solidFill>
                <a:latin typeface="Garamond"/>
                <a:ea typeface="Tahoma"/>
              </a:rPr>
              <a:t>A necessidade de capacitação para profissionais de água e saneamento, além de enfoques participatórios, capacitação das comunidades locais, educação pública em água e saneamento e informação livre para as comunidades locais sobre o tema foram  diagnosticados na Conferencia Internacional de Água Doce, conhecida como Dublin + 10, ocorrida em Bonn, em dezembro de 2001, sob o patrocínio do governo alemão, e que teve especial enfoque para os pobres.</a:t>
            </a:r>
            <a:endParaRPr b="0" lang="en-US" sz="2800" spc="-1" strike="noStrike">
              <a:solidFill>
                <a:srgbClr val="000000"/>
              </a:solidFill>
              <a:latin typeface="Times New Roman"/>
            </a:endParaRPr>
          </a:p>
          <a:p>
            <a:pPr lvl="1" marL="646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250920" y="765000"/>
            <a:ext cx="3095640" cy="186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00"/>
                </a:solidFill>
                <a:latin typeface="Garamond"/>
              </a:rPr>
              <a:t> </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p:txBody>
      </p:sp>
      <p:pic>
        <p:nvPicPr>
          <p:cNvPr id="107" name="" descr=""/>
          <p:cNvPicPr/>
          <p:nvPr/>
        </p:nvPicPr>
        <p:blipFill>
          <a:blip r:embed="rId2"/>
          <a:stretch/>
        </p:blipFill>
        <p:spPr>
          <a:xfrm>
            <a:off x="4643280" y="836640"/>
            <a:ext cx="3537000" cy="1954080"/>
          </a:xfrm>
          <a:prstGeom prst="rect">
            <a:avLst/>
          </a:prstGeom>
          <a:ln w="0">
            <a:noFill/>
          </a:ln>
        </p:spPr>
      </p:pic>
      <p:pic>
        <p:nvPicPr>
          <p:cNvPr id="108" name="" descr=""/>
          <p:cNvPicPr/>
          <p:nvPr/>
        </p:nvPicPr>
        <p:blipFill>
          <a:blip r:embed="rId3"/>
          <a:stretch/>
        </p:blipFill>
        <p:spPr>
          <a:xfrm>
            <a:off x="4643280" y="3357720"/>
            <a:ext cx="3537000" cy="2197080"/>
          </a:xfrm>
          <a:prstGeom prst="rect">
            <a:avLst/>
          </a:prstGeom>
          <a:ln w="0">
            <a:noFill/>
          </a:ln>
        </p:spPr>
      </p:pic>
      <p:sp>
        <p:nvSpPr>
          <p:cNvPr id="109" name=""/>
          <p:cNvSpPr/>
          <p:nvPr/>
        </p:nvSpPr>
        <p:spPr>
          <a:xfrm>
            <a:off x="376200" y="907920"/>
            <a:ext cx="333216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a:off x="324000" y="907920"/>
            <a:ext cx="392256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9900"/>
                </a:solidFill>
                <a:latin typeface="Garamond"/>
              </a:rPr>
              <a:t>Gestão Integra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9900"/>
                </a:solidFill>
                <a:latin typeface="Garamond"/>
              </a:rPr>
              <a:t>disparidade de gêner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 papel da mulher com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vedora e gestor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da água, guardiã 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protetora do recurs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ão está refletid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nos arranjo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stitucionais</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0"/>
            <a:ext cx="8381880" cy="844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800" spc="-1" strike="noStrike">
                <a:solidFill>
                  <a:srgbClr val="ff0000"/>
                </a:solidFill>
                <a:latin typeface="Garamond"/>
              </a:rPr>
              <a:t>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as iniciativas de EA dos Comitês com as Comissões Interinstitucionais Estaduais de EA (CIEA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solidação dos princípios de consumo sustentável nas açõ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ferramenta da linguagem Libras na capacitação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ção para a utilização racional e integrada da água para a sustentabilid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papel dos </a:t>
            </a:r>
            <a:r>
              <a:rPr b="1" lang="en-GB" sz="2400" spc="-1" strike="noStrike" u="sng">
                <a:solidFill>
                  <a:srgbClr val="000099"/>
                </a:solidFill>
                <a:uFillTx/>
                <a:latin typeface="Garamond"/>
              </a:rPr>
              <a:t>profissionais de educação (</a:t>
            </a:r>
            <a:r>
              <a:rPr b="1" lang="en-GB" sz="2400" spc="-1" strike="noStrike">
                <a:solidFill>
                  <a:srgbClr val="000099"/>
                </a:solidFill>
                <a:latin typeface="Garamond"/>
              </a:rPr>
              <a:t>substituir por educadores)nos CBH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304920" y="0"/>
            <a:ext cx="8381880" cy="911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a:t>
            </a:r>
            <a:r>
              <a:rPr b="1" lang="en-GB" sz="2400" spc="-1" strike="noStrike">
                <a:solidFill>
                  <a:srgbClr val="ff0000"/>
                </a:solidFill>
                <a:latin typeface="Garamond"/>
              </a:rPr>
              <a:t>DIRETRIZ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as comunidades tradicionais nas estratégias de educação e capacitação ambiental no âmbito d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ocialização dos conhecimentos científicos utilizado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templar e difundir o conhecimento do Sistema de Recursos Hídricos, assim como funcionamento e papel do Comitê para a comunidade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esenvolvimento de uma compreensão integrada do meio ambiente em suas múltiplas relações (Art. 5o. PNE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04920" y="0"/>
            <a:ext cx="8381880" cy="83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formação de indivíduos que se harmonizem no ambiente em que vivem, destacando a importância da água para os seres v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nfoque da bacia hidrográfica como unidade de planejamento e gestão conhecendo suas características, potencialidades e conflit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gate do conhecimento popular relacionado com o conhecimento científico da Gestão das Águ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onhecimento sobre a história e as características da B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228600" y="380880"/>
            <a:ext cx="8610480" cy="649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Que diretrizes estratégicas poderiam nortear a mobilização social e a efetiva capacitação para implementação do SINGREH?“</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para mudança de trajetória</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uma Educação que possibilite a atualização e uma integração dos agentes e de suas ações, saindo do modo “aproveitamento” dos recursos hídricos (atuação setorial e fragmentada) para o desenvolvimento sustentável (cuidando da oferta e uso, integração dos agentes,  planos de bacias, comitês e agências de bacias, integração das políticas - nacional e estaduais -  e dos programas).</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304920" y="0"/>
            <a:ext cx="8381880" cy="881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t>
            </a:r>
            <a:r>
              <a:rPr b="1" lang="en-GB" sz="2800" spc="-1" strike="noStrike">
                <a:solidFill>
                  <a:srgbClr val="ff0000"/>
                </a:solidFill>
                <a:latin typeface="Garamond"/>
              </a:rPr>
              <a:t>	</a:t>
            </a:r>
            <a:r>
              <a:rPr b="1" lang="en-GB" sz="2800" spc="-1" strike="noStrike">
                <a:solidFill>
                  <a:srgbClr val="ff0000"/>
                </a:solidFill>
                <a:latin typeface="Garamond"/>
              </a:rPr>
              <a:t>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gração do SINGREH com o SISNAMA e outras políticas públicas (educação, saúde, desenvolvimento, turismo, agricultura, saneamento, etc.)</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cionalização da educação ambiental a nível estadual e municipal de acordo com os princípios do ProN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ção do fortalecimento institu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todas as capacitações devem ser realizadas à nível de ba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0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para promover a inserção das populações tradicionais e indígenas n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alorização do saber local nas estratégia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busca, difusão e intercambio permanente de informações entre as organizaçõ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speitar as especificidades dos diferentes públicos (linguagem) desenvolvendo metodologias pedagógicas para cada um de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regionalmente a melhor estratégia para garantir o acesso amplo e efetivo à capacitação</a:t>
            </a: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lvl="1" marL="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00"/>
                </a:solidFill>
                <a:latin typeface="Garamond"/>
                <a:ea typeface="Lucida Sans Unicode"/>
              </a:rPr>
              <a:t> </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0"/>
            <a:ext cx="8381880" cy="72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promover a sensibilização dos usuários sobre a necessidade da conservação e do uso racional dos recursos hídricos, a garantia dos usos múltiplos e a importância da sua participação na implementação da PNRH e sua gestão integr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integração do processo de licenciamento ambiental com a gestão integrada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garantir a compatibilidade das atividades produtivas com a gestão dos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304920" y="0"/>
            <a:ext cx="8381880" cy="75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DIRETRIZ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rcâmbio permanente de informações em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ntegração entre a pesquisa privada e pública para o desenvolvimento cientifico e tecnológico da gestão integrada de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valiação contínua e permanente do proc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04920" y="0"/>
            <a:ext cx="838188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em geral     DIRETRI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sensibilizar para a necessidade de transversalidade da questão das águas nas diferentes políticas setoriai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0"/>
            <a:ext cx="8381880" cy="85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s</a:t>
            </a:r>
            <a:r>
              <a:rPr b="1" lang="en-GB" sz="2400" spc="-1" strike="noStrike">
                <a:solidFill>
                  <a:srgbClr val="000099"/>
                </a:solidFill>
                <a:latin typeface="Garamond"/>
              </a:rPr>
              <a:t>ensibilizar os gestores públicos para priorização dos recursos orçamentários para RH</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ensibilizar os gestores públicos para integração de áreas afins no planejamento da gestão ambiental compartilhad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sensibilizar os gestores para co-responsabilidade e comprometimento como gestores públicos e cidadã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apacitar gestores públicos para elaboração e gestão de projeto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Captação e gerenciamento dos recursos destinados a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porcionar o conhecimento técnico para diagnostico, avaliação e gerenciamento da realidade de su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conhecimento sobre os instrumentos legais de planejamento ambiental e suas potencialidades para gestão de RH’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porcionar o conhecimento da realidade social e conflitos nos usos dos RH’s da bacia</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apacitar gestores para trabalhos em equipe com abordagens transversais</a:t>
            </a:r>
            <a:r>
              <a:rPr b="1" lang="en-GB" sz="2800" spc="-1" strike="noStrike">
                <a:solidFill>
                  <a:srgbClr val="000099"/>
                </a:solidFill>
                <a:latin typeface="Garamond"/>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304920" y="0"/>
            <a:ext cx="83818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s</a:t>
            </a:r>
            <a:r>
              <a:rPr b="1" lang="en-GB" sz="2800" spc="-1" strike="noStrike">
                <a:solidFill>
                  <a:srgbClr val="000099"/>
                </a:solidFill>
                <a:latin typeface="Garamond"/>
              </a:rPr>
              <a:t>ensibilizar os gestores na integração e fortalecimento da sociedade civil organizada para gestão particip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800" spc="-1" strike="noStrike">
                <a:solidFill>
                  <a:srgbClr val="000099"/>
                </a:solidFill>
                <a:latin typeface="Garamond"/>
              </a:rPr>
              <a:t>responsabilizar o Poder Público na gestão dos RH’s </a:t>
            </a:r>
            <a:endParaRPr b="0" lang="en-US" sz="28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riação de uma equipe nacional para elaboração da proposição para disseminar o programa nos estados e municípios, buscando a integração, estratégias de fomento e formalização do referido programa, subsidiando assim as coordenações locais (estaduais, municipais e comitês) na elaboração da capacitação local</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tercâmbio de experiências entre comitês</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romover formas de reconhecimento dos esforços realizados pelas prefeituras na capacitação e gestão para conservação dos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0"/>
            <a:ext cx="8381880" cy="74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parcerias com instituições de ensino e pesquisa, ONG’s e empresas para capacitação de gestores de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talecer e incentivar a criação dos fundos estaduais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unificação dos Sistemas de Informação de Meio Ambiente, Recursos Hídricos e outras áre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ribuir aos comitês de bacia o papel protagonista no processo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ar a produção e disseminação local de material didático demonstrando as condições e experiências da bacia</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28600" y="380880"/>
            <a:ext cx="8610480" cy="6189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uma Educação que valorize os aspectos pluridisciplinares da gestão de recursos hídricos - envolvendo profissões, conhecimento, os agentes e os tomadores de decisão para as mudanças de olhar que ultrapassem o conhecimento disciplinar</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redes: criação de um sistema de informações integrado e sinérgico, para apoiar ações executivas em parceria e cooperação</a:t>
            </a:r>
            <a:endParaRPr b="0" lang="en-US" sz="2400" spc="-1" strike="noStrike">
              <a:solidFill>
                <a:srgbClr val="000000"/>
              </a:solidFill>
              <a:latin typeface="Times New Roman"/>
            </a:endParaRPr>
          </a:p>
          <a:p>
            <a:pPr marL="457200" indent="-457200" algn="just">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gn="just">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sistema de informação e comunicação </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304920" y="0"/>
            <a:ext cx="838188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ESTRE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parcerias para viabilização de projetos e bases cartográficas necessárias ao diagnóstico da baci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parcerias com a área de saúde para cooperação em pesquisa e capacitação </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0"/>
            <a:ext cx="838188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ídeo-conferência, cursos presenciais,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sítios interativos para disseminação de informações e avali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miação de gestores que se destacarem nos processos de consolidação dos comitês de bacia e instrumentos de gestão – sugest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vênios, contratos e acordos de cooper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formação de uma matriz de fontes financiadoras de recursos exclusivos para RH’s, destacando seus crité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s de informação, seminários interativos entre as comiss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fóruns estaduais de avaliação dos trabalhos realizados pelos Comitês e Gestor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rede/ banco de experiênc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construção de banco de boas práticas/ talentos da sociedade civil</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304920" y="0"/>
            <a:ext cx="8381880" cy="673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AVALI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apoio às comissões locais para criação de indicadores adequ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ntificar  projetos elaborados e executados a partir da capacitação na gestão de R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lacionar e avaliar os resultados oriundos dos recursos orçamentários disponibilizados em projetos de conservação dos RH’s da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valiar o montante de recursos investidos em projetos de conservação dos RH’s da bacia e relacionar com os resultados obtidos</a:t>
            </a:r>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304920" y="0"/>
            <a:ext cx="8381880" cy="600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governo         PÚBLICO CONSIDERA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estores e Técnicos Ambientais, Saúde, Educação, Planejamento e Desenvolvimento Urbano, Comissões Tripartites, Desenvolvimento Rural, Social, Turismo, Poder Legislativo e Judiciário e Ministério Público </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mportância da sua participação na implementação da PNRH e sua gestão integrada </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0"/>
            <a:ext cx="8381880" cy="81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apacitar e orientar para 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necessidade da conservação e do uso racional dos recursos hídr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garantia dos usos múltiplos dos recursos hídricos</a:t>
            </a: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importância da sua participação na implementação da PNRH e sua gestão integrad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incentivar que os grandes usuários obtenham certificações ambient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304920" y="0"/>
            <a:ext cx="8381880" cy="66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cursos específicos para a formação / capacitação do corpo técnico dos órgãos e outros (agentes sanitaristas, de saúde, hídricos e desenvolvimento sustentável) para atuarem como multiplicadores junto aos usuár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ção aos usuários sobre aspectos ambientais quando da emissão de outorgas e licenciamentos, incluindo a necessidade da manutenção de APPs para a preservação dos recursos hídricos </a:t>
            </a:r>
            <a:endParaRPr b="0" lang="en-US" sz="24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0"/>
            <a:ext cx="8381880" cy="661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centivos fiscais para empresas com comprovada implantação de planos de EA e programas de capacitação do corpo técnico dos usuários (acho que cabe melhor aqui, penso que para ser instrumento precisaria estar definido que tipo de incentiv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exigência de planos de EA (com ênfase na gestão de recursos hídricos) para concessão de recursos públicos e licenças ambientais, resguardadas as características de cada empreendimento</a:t>
            </a: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buscar parcerias financeiras junto a entidades privadas, universidades e ONG’s</a:t>
            </a:r>
            <a:endParaRPr b="0" lang="en-US" sz="24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228600" y="380880"/>
            <a:ext cx="8610480" cy="7591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000099"/>
                </a:solidFill>
                <a:latin typeface="Garamond"/>
              </a:rPr>
              <a:t>Primeira Oficina de Discussão sobre Capacitação e Educação em GIRH - Brasília</a:t>
            </a:r>
            <a:endParaRPr b="0" lang="en-US" sz="2800" spc="-1" strike="noStrike">
              <a:solidFill>
                <a:srgbClr val="000000"/>
              </a:solidFill>
              <a:latin typeface="Times New Roman"/>
            </a:endParaRPr>
          </a:p>
          <a:p>
            <a:pPr marL="457200" indent="-457200" algn="ctr">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800" spc="-1" strike="noStrike">
                <a:solidFill>
                  <a:srgbClr val="ff33cc"/>
                </a:solidFill>
                <a:latin typeface="Garamond"/>
              </a:rPr>
              <a:t>Contribuições: </a:t>
            </a:r>
            <a:endParaRPr b="0" lang="en-US" sz="28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8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identificar e qualificar a oferta e a demanda de capacitação</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construção de rede com estratégia de governança</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indicadores de desempenho para subsidiar o monitoramento e a avaliação do funcionamento da rede</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a:p>
            <a:pPr marL="457200" indent="-457200">
              <a:lnSpc>
                <a:spcPct val="100000"/>
              </a:lnSpc>
              <a:buClr>
                <a:srgbClr val="000099"/>
              </a:buClr>
              <a:buFont typeface="Garamond"/>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pactuação dos compromissos de cooperação para viabilizar o intercâmbio técnico, a disseminação de informação e conhecimento e disponibilizar infra-estrutura educacional, recursos instrucionais, formadores e instrutores</a:t>
            </a:r>
            <a:endParaRPr b="0" lang="en-US" sz="2400" spc="-1" strike="noStrike">
              <a:solidFill>
                <a:srgbClr val="000000"/>
              </a:solidFill>
              <a:latin typeface="Times New Roman"/>
            </a:endParaRPr>
          </a:p>
          <a:p>
            <a:pPr marL="457200" indent="-45720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usuário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divulgação dos meios de financiamento disponíveis (CT-Hidro, FUNASA, UNESCO, IRD, Pró-Água et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stituindo canais de comunicação e difusão da inform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ndo as principais instituições relacionadas com recursos hídricos para divulgação através de: página de Internet, conta de água, conta de energia, cartilhas entre outr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r percentual dos valores arrecadados com as multas provenientes das infrações ambientais e taxas de utilização de recursos hídricos em projetos de capacitação e EA</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304920" y="0"/>
            <a:ext cx="8381880" cy="771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geral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financeiros para uma campanha nacional de sensibilização e mobilização em gestão de águas (obs.: semelhante ao plano nacional de vacinação)</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rticular o apoio dos estados e municípios à campanha n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buscar o engajamento de instituições (governamentais, colegiadas, não governamentais – privadas,, religiosas, beneficentes, associativas, sindicais, etc.) na consolidação de ações pós-campan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locar recursos no orçamento geral da união e nos orçamentos gerais dos estados para continuidade do processo</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04920" y="0"/>
            <a:ext cx="8381880" cy="63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omover formação de pessoal para elaboração de projetos e captação de recurs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fundir e fortalecer o papel d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em gestão de organizações sociais (produção de projetos, planejamento estratégico, mobilização social, administrativ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apacitar para conhecimento e aplicação da legislação (integração entre a ambiental e a de recursos hídricos)</a:t>
            </a:r>
            <a:r>
              <a:rPr b="1" lang="en-GB" sz="2400" spc="-1" strike="noStrike">
                <a:solidFill>
                  <a:srgbClr val="000099"/>
                </a:solidFill>
                <a:latin typeface="Garamond"/>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04920" y="0"/>
            <a:ext cx="8381880" cy="820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sociedade organizada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ímulo à criação e fortalecimento de Câmaras Técnicas de Educação Ambiental nos Comitês de Ba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interligação de forma horizontal e vertical entre todos os setores (governamentais e não governamentais) para planejamento e efetivação dos projetos de capacitaç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stimular e fortalecer parcerias entre órgãos governamentais e não governamentais para viabilização de recursos técnicos, financeiros, humanos e materia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replicação de projetos de gestão de recursos hídricos exitosos </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4920" y="0"/>
            <a:ext cx="8381880" cy="734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orientar para a aplicação da metodologia de projetos na gestão da água, tendo como unidade básica a B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qualificação de profissionais de comunicação voltada para a gestão das águ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sensibilizar a comunidade para importância da gestão das águas nas 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ontemplar e difundir o conhecimento do Sistema de Recursos Hídricos, assim como funcionamento e papel do Comitê para a comunidade da baci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mobilização da comunidade para a participação nos processos decisórios de gestão da á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04920" y="0"/>
            <a:ext cx="838188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ESTRATÉG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a:t>
            </a:r>
            <a:r>
              <a:rPr b="1" lang="en-GB" sz="2400" spc="-1" strike="noStrike">
                <a:solidFill>
                  <a:srgbClr val="000099"/>
                </a:solidFill>
                <a:latin typeface="Garamond"/>
              </a:rPr>
              <a:t>criação de uma rede regional de capacitação e EA por bacias hidrográfic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de câmaras técnicas de EA nos comitês de bac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elaboração de um programa permanente de EA para os CB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vinculação do sistema de outorga a recursos destinados a Programas Permanentes d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previsão de percentual dos recursos gerados pela cobrança de usos de água para realização de Programas Permanente de EA nas bacia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304920" y="0"/>
            <a:ext cx="8381880" cy="685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criação de um banco de dados pelos órgãos gestores e a disponibilização dessas informaçõ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realização de oficinas temáticas de EA e capacitação para a Gestão das Águas nas regiões hidrográficas naciona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 veiculação de Programas de EA na mídia</a:t>
            </a: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04920" y="0"/>
            <a:ext cx="8381880" cy="74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Oficina Nacional de Capacitação e Educação em GIR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33cc"/>
                </a:solidFill>
                <a:latin typeface="Garamond"/>
              </a:rPr>
              <a:t>Sistematização do trabalho dos grup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grupo educadores       INSTRUMENT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utilização da EAD na EA com as diferentes modalidades tecnologias (transmissão via satélite, antena parabólica, rádio - TV, webrádio, internet-tele-conferência e TV Escola) de acordo com a região (ilhas isoladas, plataformas marítimas, cadeias e outros)</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elaborar e divulgar cadastros de fontes financiadoras em programas de capacitação e 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criação e consolidação dos fundos federais e estaduais de fomento a pesquisa em recursos hídricos</a:t>
            </a:r>
            <a:r>
              <a:rPr b="1" lang="en-GB" sz="2800" spc="-1" strike="noStrike">
                <a:solidFill>
                  <a:srgbClr val="000099"/>
                </a:solidFill>
                <a:latin typeface="Garamond"/>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304920" y="0"/>
            <a:ext cx="8381880" cy="79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inclusive os membros C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0"/>
            <a:ext cx="8381880" cy="75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0099"/>
                </a:solidFill>
                <a:latin typeface="Garamond"/>
              </a:rPr>
              <a:t>GT Capacitação Educaçã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0000"/>
                </a:solidFill>
                <a:latin typeface="Garamond"/>
              </a:rPr>
              <a:t>próximos pas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a sistematização dos resultados das oficinas (Brasília e Vila Velha)</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buClr>
                <a:srgbClr val="000099"/>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a:t>
            </a:r>
            <a:r>
              <a:rPr b="1" lang="en-GB" sz="2400" spc="-1" strike="noStrike">
                <a:solidFill>
                  <a:srgbClr val="000099"/>
                </a:solidFill>
                <a:latin typeface="Garamond"/>
              </a:rPr>
              <a:t>concluir o documento-b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1. recomendações para a capacitação e educação em GIRH para o Sistema (formar, qualificar e aperfeiçoar a atuação de pessoas) – Plano Nacional de Recursos Hídr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2. recomendações gerais para a capacitação e educação em GIRH (incluindo EA para a sociedade)</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3. propostas de Res e Moções para a CT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0099"/>
                </a:solidFill>
                <a:latin typeface="Garamond"/>
              </a:rPr>
              <a:t>- discutir o GT bicâmara (CTEM)</a:t>
            </a:r>
            <a:r>
              <a:rPr b="1" lang="en-GB" sz="2400" spc="-1" strike="noStrike">
                <a:solidFill>
                  <a:srgbClr val="000099"/>
                </a:solidFill>
                <a:latin typeface="Garamond"/>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naldo Mancin</dc:creator>
  <dc:description/>
  <dc:language>en-US</dc:language>
  <cp:lastModifiedBy>Matriz</cp:lastModifiedBy>
  <cp:revision>0</cp:revision>
  <dc:subject/>
  <dc:title>Slide sem título </dc:title>
</cp:coreProperties>
</file>