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C13-AA97-4501-A3A9-9D5A449B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D9D-A578-4E0D-BB03-E1057752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89F-2A7E-4AE5-A00F-95BFD1C2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80B-E543-403F-927A-43C8EA6F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FAD-FE48-4293-95E7-98DADCBB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D12-5428-4CF8-A332-2E6A21C9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531-424B-464E-B8AD-D1863E33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557-269A-4255-A2DF-341239CA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512-EC23-4441-906D-B6F66AD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12C-1624-4F16-AF68-99CFD51F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FBB-D1D6-4762-9A55-0070241F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7B2-8A52-453E-86ED-0437100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3F41-4220-4494-82BB-B569715C9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2920" y="838080"/>
            <a:ext cx="1981080" cy="633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63360"/>
          <a:ext cx="914400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360"/>
                    <a:ext cx="914400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981080" cy="63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838080"/>
            <a:ext cx="6046920" cy="66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2590920"/>
            <a:ext cx="8481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O 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 Unicode MS"/>
              </a:rPr>
              <a:t>- CNRH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varé - SP, 27 de outu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SSUNTOS LEGAIS E INSTITU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NTEGRAÇÃO DE PROCEDIMENTOS, AÇÕES DE OUTORGA E AÇÕES REGUL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ÁGUAS SUBTERRÂ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IÊNCIA E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NÁLISE DE PRO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 RECURSOS HÍDRICOS TRANSFRONTEIRI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COBRANÇA PELO USO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EDUCAÇÃO, CAPACITAÇÃO, MOBILIZAÇÃO SOCIAL E INFORMAÇÃO EM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NRH - Câmaras Téc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s Estaduai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23880" y="2378880"/>
            <a:ext cx="5518080" cy="3885120"/>
            <a:chOff x="1523880" y="2378880"/>
            <a:chExt cx="5518080" cy="3885120"/>
          </a:xfrm>
        </p:grpSpPr>
        <p:grpSp>
          <p:nvGrpSpPr>
            <p:cNvPr id="112" name=""/>
            <p:cNvGrpSpPr/>
            <p:nvPr/>
          </p:nvGrpSpPr>
          <p:grpSpPr>
            <a:xfrm>
              <a:off x="1523880" y="2378880"/>
              <a:ext cx="5518080" cy="3885120"/>
              <a:chOff x="1523880" y="2378880"/>
              <a:chExt cx="5518080" cy="38851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523880" y="2378880"/>
                <a:ext cx="5145120" cy="3612600"/>
                <a:chOff x="1523880" y="2378880"/>
                <a:chExt cx="5145120" cy="3612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23880" y="5277960"/>
                  <a:ext cx="302400" cy="1468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77400" y="5276880"/>
                  <a:ext cx="173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ão 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3880" y="5531040"/>
                  <a:ext cx="302400" cy="1468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71000" y="5510880"/>
                  <a:ext cx="1311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Possuem CER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23880" y="5798160"/>
                  <a:ext cx="302400" cy="146880"/>
                </a:xfrm>
                <a:custGeom>
                  <a:avLst/>
                  <a:gdLst/>
                  <a:ahLst/>
                  <a:rect l="l" t="t" r="r" b="b"/>
                  <a:pathLst>
                    <a:path w="240" h="125">
                      <a:moveTo>
                        <a:pt x="0" y="62"/>
                      </a:move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240" y="125"/>
                      </a:lnTo>
                      <a:lnTo>
                        <a:pt x="0" y="125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72360" y="5778000"/>
                  <a:ext cx="2019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usência de Legisl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05" y="465"/>
                      </a:lnTo>
                      <a:lnTo>
                        <a:pt x="412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405" y="458"/>
                      </a:lnTo>
                      <a:lnTo>
                        <a:pt x="398" y="458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51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44"/>
                      </a:lnTo>
                      <a:lnTo>
                        <a:pt x="391" y="437"/>
                      </a:lnTo>
                      <a:lnTo>
                        <a:pt x="391" y="437"/>
                      </a:lnTo>
                      <a:lnTo>
                        <a:pt x="384" y="437"/>
                      </a:lnTo>
                      <a:lnTo>
                        <a:pt x="384" y="437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84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8" y="437"/>
                      </a:lnTo>
                      <a:lnTo>
                        <a:pt x="378" y="444"/>
                      </a:lnTo>
                      <a:lnTo>
                        <a:pt x="378" y="444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71" y="437"/>
                      </a:lnTo>
                      <a:lnTo>
                        <a:pt x="364" y="437"/>
                      </a:lnTo>
                      <a:lnTo>
                        <a:pt x="364" y="430"/>
                      </a:lnTo>
                      <a:lnTo>
                        <a:pt x="364" y="430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64" y="437"/>
                      </a:lnTo>
                      <a:lnTo>
                        <a:pt x="357" y="437"/>
                      </a:lnTo>
                      <a:lnTo>
                        <a:pt x="357" y="437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7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23"/>
                      </a:lnTo>
                      <a:lnTo>
                        <a:pt x="350" y="423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50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43" y="430"/>
                      </a:lnTo>
                      <a:lnTo>
                        <a:pt x="336" y="430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6" y="423"/>
                      </a:lnTo>
                      <a:lnTo>
                        <a:pt x="330" y="423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30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7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23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10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16" y="403"/>
                      </a:lnTo>
                      <a:lnTo>
                        <a:pt x="309" y="403"/>
                      </a:lnTo>
                      <a:lnTo>
                        <a:pt x="309" y="403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9" y="396"/>
                      </a:lnTo>
                      <a:lnTo>
                        <a:pt x="302" y="396"/>
                      </a:lnTo>
                      <a:lnTo>
                        <a:pt x="309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295" y="403"/>
                      </a:lnTo>
                      <a:lnTo>
                        <a:pt x="295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403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96"/>
                      </a:lnTo>
                      <a:lnTo>
                        <a:pt x="288" y="396"/>
                      </a:lnTo>
                      <a:lnTo>
                        <a:pt x="281" y="389"/>
                      </a:lnTo>
                      <a:lnTo>
                        <a:pt x="281" y="396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75" y="389"/>
                      </a:lnTo>
                      <a:lnTo>
                        <a:pt x="268" y="389"/>
                      </a:lnTo>
                      <a:lnTo>
                        <a:pt x="268" y="389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8" y="382"/>
                      </a:lnTo>
                      <a:lnTo>
                        <a:pt x="261" y="382"/>
                      </a:lnTo>
                      <a:lnTo>
                        <a:pt x="261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54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7" y="382"/>
                      </a:lnTo>
                      <a:lnTo>
                        <a:pt x="227" y="382"/>
                      </a:lnTo>
                      <a:lnTo>
                        <a:pt x="227" y="389"/>
                      </a:lnTo>
                      <a:lnTo>
                        <a:pt x="227" y="389"/>
                      </a:lnTo>
                      <a:lnTo>
                        <a:pt x="220" y="389"/>
                      </a:lnTo>
                      <a:lnTo>
                        <a:pt x="220" y="389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20" y="382"/>
                      </a:lnTo>
                      <a:lnTo>
                        <a:pt x="213" y="382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9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13" y="382"/>
                      </a:lnTo>
                      <a:lnTo>
                        <a:pt x="206" y="382"/>
                      </a:lnTo>
                      <a:lnTo>
                        <a:pt x="206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75"/>
                      </a:lnTo>
                      <a:lnTo>
                        <a:pt x="192" y="368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8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92" y="361"/>
                      </a:lnTo>
                      <a:lnTo>
                        <a:pt x="185" y="361"/>
                      </a:lnTo>
                      <a:lnTo>
                        <a:pt x="185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61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8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8" y="340"/>
                      </a:lnTo>
                      <a:lnTo>
                        <a:pt x="158" y="347"/>
                      </a:lnTo>
                      <a:lnTo>
                        <a:pt x="158" y="347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7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40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51" y="326"/>
                      </a:lnTo>
                      <a:lnTo>
                        <a:pt x="151" y="326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37" y="319"/>
                      </a:lnTo>
                      <a:lnTo>
                        <a:pt x="137" y="319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7" y="326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9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12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7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30" y="306"/>
                      </a:lnTo>
                      <a:lnTo>
                        <a:pt x="124" y="299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24" y="292"/>
                      </a:lnTo>
                      <a:lnTo>
                        <a:pt x="130" y="292"/>
                      </a:lnTo>
                      <a:lnTo>
                        <a:pt x="130" y="285"/>
                      </a:lnTo>
                      <a:lnTo>
                        <a:pt x="130" y="285"/>
                      </a:lnTo>
                      <a:lnTo>
                        <a:pt x="124" y="285"/>
                      </a:lnTo>
                      <a:lnTo>
                        <a:pt x="124" y="285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30" y="271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7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24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9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22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17" y="215"/>
                      </a:lnTo>
                      <a:lnTo>
                        <a:pt x="124" y="208"/>
                      </a:lnTo>
                      <a:lnTo>
                        <a:pt x="124" y="208"/>
                      </a:lnTo>
                      <a:lnTo>
                        <a:pt x="117" y="208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201"/>
                      </a:lnTo>
                      <a:lnTo>
                        <a:pt x="124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95"/>
                      </a:lnTo>
                      <a:lnTo>
                        <a:pt x="130" y="188"/>
                      </a:lnTo>
                      <a:lnTo>
                        <a:pt x="124" y="188"/>
                      </a:lnTo>
                      <a:lnTo>
                        <a:pt x="130" y="188"/>
                      </a:lnTo>
                      <a:lnTo>
                        <a:pt x="130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81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74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24" y="167"/>
                      </a:lnTo>
                      <a:lnTo>
                        <a:pt x="130" y="167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60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24" y="153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46"/>
                      </a:lnTo>
                      <a:lnTo>
                        <a:pt x="117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10" y="160"/>
                      </a:lnTo>
                      <a:lnTo>
                        <a:pt x="110" y="153"/>
                      </a:lnTo>
                      <a:lnTo>
                        <a:pt x="110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96" y="153"/>
                      </a:lnTo>
                      <a:lnTo>
                        <a:pt x="96" y="160"/>
                      </a:lnTo>
                      <a:lnTo>
                        <a:pt x="96" y="160"/>
                      </a:lnTo>
                      <a:lnTo>
                        <a:pt x="89" y="160"/>
                      </a:lnTo>
                      <a:lnTo>
                        <a:pt x="96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96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9" y="160"/>
                      </a:lnTo>
                      <a:lnTo>
                        <a:pt x="82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60"/>
                      </a:lnTo>
                      <a:lnTo>
                        <a:pt x="82" y="160"/>
                      </a:lnTo>
                      <a:lnTo>
                        <a:pt x="75" y="160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75" y="153"/>
                      </a:lnTo>
                      <a:lnTo>
                        <a:pt x="69" y="153"/>
                      </a:lnTo>
                      <a:lnTo>
                        <a:pt x="69" y="153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9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62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41" y="160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95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03480" y="3693240"/>
                  <a:ext cx="742680" cy="571680"/>
                </a:xfrm>
                <a:custGeom>
                  <a:avLst/>
                  <a:gdLst/>
                  <a:ahLst/>
                  <a:rect l="l" t="t" r="r" b="b"/>
                  <a:pathLst>
                    <a:path w="590" h="486">
                      <a:moveTo>
                        <a:pt x="0" y="160"/>
                      </a:moveTo>
                      <a:lnTo>
                        <a:pt x="0" y="160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7" y="153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75" y="125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32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32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24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8" y="118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58" y="97"/>
                      </a:lnTo>
                      <a:lnTo>
                        <a:pt x="165" y="97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65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2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20" y="91"/>
                      </a:lnTo>
                      <a:lnTo>
                        <a:pt x="220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84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63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56"/>
                      </a:lnTo>
                      <a:lnTo>
                        <a:pt x="240" y="56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9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54" y="28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28"/>
                      </a:lnTo>
                      <a:lnTo>
                        <a:pt x="254" y="28"/>
                      </a:lnTo>
                      <a:lnTo>
                        <a:pt x="261" y="28"/>
                      </a:lnTo>
                      <a:lnTo>
                        <a:pt x="261" y="28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1" y="21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1" y="7"/>
                      </a:lnTo>
                      <a:lnTo>
                        <a:pt x="295" y="7"/>
                      </a:lnTo>
                      <a:lnTo>
                        <a:pt x="330" y="0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64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1" y="35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2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2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0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53" y="84"/>
                      </a:lnTo>
                      <a:lnTo>
                        <a:pt x="453" y="84"/>
                      </a:lnTo>
                      <a:lnTo>
                        <a:pt x="446" y="84"/>
                      </a:lnTo>
                      <a:lnTo>
                        <a:pt x="446" y="84"/>
                      </a:lnTo>
                      <a:lnTo>
                        <a:pt x="446" y="91"/>
                      </a:lnTo>
                      <a:lnTo>
                        <a:pt x="446" y="91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97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1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39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2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53" y="146"/>
                      </a:lnTo>
                      <a:lnTo>
                        <a:pt x="453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39" y="153"/>
                      </a:lnTo>
                      <a:lnTo>
                        <a:pt x="439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53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39" y="188"/>
                      </a:lnTo>
                      <a:lnTo>
                        <a:pt x="446" y="188"/>
                      </a:lnTo>
                      <a:lnTo>
                        <a:pt x="446" y="195"/>
                      </a:lnTo>
                      <a:lnTo>
                        <a:pt x="446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39" y="195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1"/>
                      </a:lnTo>
                      <a:lnTo>
                        <a:pt x="446" y="208"/>
                      </a:lnTo>
                      <a:lnTo>
                        <a:pt x="446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08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15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2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53" y="229"/>
                      </a:lnTo>
                      <a:lnTo>
                        <a:pt x="446" y="229"/>
                      </a:lnTo>
                      <a:lnTo>
                        <a:pt x="446" y="236"/>
                      </a:lnTo>
                      <a:lnTo>
                        <a:pt x="446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36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53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43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0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46" y="257"/>
                      </a:lnTo>
                      <a:lnTo>
                        <a:pt x="453" y="257"/>
                      </a:lnTo>
                      <a:lnTo>
                        <a:pt x="487" y="257"/>
                      </a:lnTo>
                      <a:lnTo>
                        <a:pt x="535" y="257"/>
                      </a:lnTo>
                      <a:lnTo>
                        <a:pt x="535" y="257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64"/>
                      </a:lnTo>
                      <a:lnTo>
                        <a:pt x="549" y="271"/>
                      </a:lnTo>
                      <a:lnTo>
                        <a:pt x="549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56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63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0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1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78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77" y="285"/>
                      </a:lnTo>
                      <a:lnTo>
                        <a:pt x="584" y="285"/>
                      </a:lnTo>
                      <a:lnTo>
                        <a:pt x="584" y="285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2"/>
                      </a:lnTo>
                      <a:lnTo>
                        <a:pt x="584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7" y="299"/>
                      </a:lnTo>
                      <a:lnTo>
                        <a:pt x="570" y="299"/>
                      </a:lnTo>
                      <a:lnTo>
                        <a:pt x="570" y="299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70" y="306"/>
                      </a:lnTo>
                      <a:lnTo>
                        <a:pt x="563" y="306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2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19"/>
                      </a:lnTo>
                      <a:lnTo>
                        <a:pt x="563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70" y="326"/>
                      </a:lnTo>
                      <a:lnTo>
                        <a:pt x="563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0" y="333"/>
                      </a:lnTo>
                      <a:lnTo>
                        <a:pt x="577" y="333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0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77" y="347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54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1"/>
                      </a:lnTo>
                      <a:lnTo>
                        <a:pt x="584" y="368"/>
                      </a:lnTo>
                      <a:lnTo>
                        <a:pt x="584" y="368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75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90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2"/>
                      </a:lnTo>
                      <a:lnTo>
                        <a:pt x="584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7" y="389"/>
                      </a:lnTo>
                      <a:lnTo>
                        <a:pt x="570" y="389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396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03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0"/>
                      </a:lnTo>
                      <a:lnTo>
                        <a:pt x="570" y="417"/>
                      </a:lnTo>
                      <a:lnTo>
                        <a:pt x="570" y="417"/>
                      </a:lnTo>
                      <a:lnTo>
                        <a:pt x="570" y="423"/>
                      </a:lnTo>
                      <a:lnTo>
                        <a:pt x="570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63" y="423"/>
                      </a:lnTo>
                      <a:lnTo>
                        <a:pt x="556" y="423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56" y="430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37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44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9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1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58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42" y="465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35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2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9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22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79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15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86"/>
                      </a:lnTo>
                      <a:lnTo>
                        <a:pt x="508" y="479"/>
                      </a:lnTo>
                      <a:lnTo>
                        <a:pt x="508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501" y="479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94" y="479"/>
                      </a:lnTo>
                      <a:lnTo>
                        <a:pt x="494" y="479"/>
                      </a:lnTo>
                      <a:lnTo>
                        <a:pt x="494" y="472"/>
                      </a:lnTo>
                      <a:lnTo>
                        <a:pt x="494" y="472"/>
                      </a:lnTo>
                      <a:lnTo>
                        <a:pt x="487" y="479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94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7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7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60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2"/>
                      </a:lnTo>
                      <a:lnTo>
                        <a:pt x="453" y="479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46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32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26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9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72"/>
                      </a:lnTo>
                      <a:lnTo>
                        <a:pt x="419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  <a:lnTo>
                        <a:pt x="412" y="46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03480" y="3864960"/>
                  <a:ext cx="518760" cy="375120"/>
                </a:xfrm>
                <a:custGeom>
                  <a:avLst/>
                  <a:gdLst/>
                  <a:ahLst/>
                  <a:rect l="l" t="t" r="r" b="b"/>
                  <a:pathLst>
                    <a:path w="412" h="319">
                      <a:moveTo>
                        <a:pt x="412" y="319"/>
                      </a:move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12" y="319"/>
                      </a:lnTo>
                      <a:lnTo>
                        <a:pt x="405" y="319"/>
                      </a:lnTo>
                      <a:lnTo>
                        <a:pt x="412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398" y="312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305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8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8"/>
                      </a:lnTo>
                      <a:lnTo>
                        <a:pt x="391" y="291"/>
                      </a:lnTo>
                      <a:lnTo>
                        <a:pt x="391" y="291"/>
                      </a:lnTo>
                      <a:lnTo>
                        <a:pt x="384" y="291"/>
                      </a:lnTo>
                      <a:lnTo>
                        <a:pt x="384" y="291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84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8" y="291"/>
                      </a:lnTo>
                      <a:lnTo>
                        <a:pt x="378" y="298"/>
                      </a:lnTo>
                      <a:lnTo>
                        <a:pt x="378" y="298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71" y="291"/>
                      </a:lnTo>
                      <a:lnTo>
                        <a:pt x="364" y="291"/>
                      </a:lnTo>
                      <a:lnTo>
                        <a:pt x="364" y="284"/>
                      </a:lnTo>
                      <a:lnTo>
                        <a:pt x="364" y="284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64" y="291"/>
                      </a:lnTo>
                      <a:lnTo>
                        <a:pt x="357" y="291"/>
                      </a:lnTo>
                      <a:lnTo>
                        <a:pt x="357" y="291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7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77"/>
                      </a:lnTo>
                      <a:lnTo>
                        <a:pt x="350" y="277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50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43" y="284"/>
                      </a:lnTo>
                      <a:lnTo>
                        <a:pt x="336" y="284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6" y="277"/>
                      </a:lnTo>
                      <a:lnTo>
                        <a:pt x="330" y="277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23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16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7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50"/>
                      </a:lnTo>
                      <a:lnTo>
                        <a:pt x="288" y="250"/>
                      </a:lnTo>
                      <a:lnTo>
                        <a:pt x="281" y="243"/>
                      </a:lnTo>
                      <a:lnTo>
                        <a:pt x="281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7" y="236"/>
                      </a:lnTo>
                      <a:lnTo>
                        <a:pt x="227" y="236"/>
                      </a:lnTo>
                      <a:lnTo>
                        <a:pt x="227" y="243"/>
                      </a:lnTo>
                      <a:lnTo>
                        <a:pt x="227" y="243"/>
                      </a:lnTo>
                      <a:lnTo>
                        <a:pt x="220" y="243"/>
                      </a:lnTo>
                      <a:lnTo>
                        <a:pt x="220" y="243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20" y="236"/>
                      </a:lnTo>
                      <a:lnTo>
                        <a:pt x="213" y="236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43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13" y="236"/>
                      </a:lnTo>
                      <a:lnTo>
                        <a:pt x="206" y="236"/>
                      </a:lnTo>
                      <a:lnTo>
                        <a:pt x="206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36"/>
                      </a:lnTo>
                      <a:lnTo>
                        <a:pt x="199" y="229"/>
                      </a:lnTo>
                      <a:lnTo>
                        <a:pt x="199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9"/>
                      </a:lnTo>
                      <a:lnTo>
                        <a:pt x="192" y="222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22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92" y="215"/>
                      </a:lnTo>
                      <a:lnTo>
                        <a:pt x="185" y="215"/>
                      </a:lnTo>
                      <a:lnTo>
                        <a:pt x="185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15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8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65" y="208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72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65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8" y="201"/>
                      </a:lnTo>
                      <a:lnTo>
                        <a:pt x="158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0"/>
                      </a:lnTo>
                      <a:lnTo>
                        <a:pt x="151" y="180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73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6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7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24" y="153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24" y="146"/>
                      </a:lnTo>
                      <a:lnTo>
                        <a:pt x="130" y="146"/>
                      </a:lnTo>
                      <a:lnTo>
                        <a:pt x="130" y="139"/>
                      </a:lnTo>
                      <a:lnTo>
                        <a:pt x="130" y="139"/>
                      </a:lnTo>
                      <a:lnTo>
                        <a:pt x="124" y="139"/>
                      </a:lnTo>
                      <a:lnTo>
                        <a:pt x="124" y="139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24" y="125"/>
                      </a:lnTo>
                      <a:lnTo>
                        <a:pt x="130" y="125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7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90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24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83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76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17" y="69"/>
                      </a:lnTo>
                      <a:lnTo>
                        <a:pt x="124" y="62"/>
                      </a:lnTo>
                      <a:lnTo>
                        <a:pt x="124" y="62"/>
                      </a:lnTo>
                      <a:lnTo>
                        <a:pt x="117" y="62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55"/>
                      </a:lnTo>
                      <a:lnTo>
                        <a:pt x="124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2"/>
                      </a:lnTo>
                      <a:lnTo>
                        <a:pt x="124" y="42"/>
                      </a:lnTo>
                      <a:lnTo>
                        <a:pt x="130" y="42"/>
                      </a:lnTo>
                      <a:lnTo>
                        <a:pt x="130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30" y="21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4" y="14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7"/>
                      </a:lnTo>
                      <a:lnTo>
                        <a:pt x="110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2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75" y="14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34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14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33800" y="3611880"/>
                  <a:ext cx="786960" cy="399960"/>
                </a:xfrm>
                <a:custGeom>
                  <a:avLst/>
                  <a:gdLst/>
                  <a:ahLst/>
                  <a:rect l="l" t="t" r="r" b="b"/>
                  <a:pathLst>
                    <a:path w="625" h="340">
                      <a:moveTo>
                        <a:pt x="20" y="0"/>
                      </a:moveTo>
                      <a:lnTo>
                        <a:pt x="27" y="0"/>
                      </a:lnTo>
                      <a:lnTo>
                        <a:pt x="62" y="21"/>
                      </a:lnTo>
                      <a:lnTo>
                        <a:pt x="96" y="35"/>
                      </a:lnTo>
                      <a:lnTo>
                        <a:pt x="117" y="42"/>
                      </a:lnTo>
                      <a:lnTo>
                        <a:pt x="117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172" y="55"/>
                      </a:lnTo>
                      <a:lnTo>
                        <a:pt x="206" y="62"/>
                      </a:lnTo>
                      <a:lnTo>
                        <a:pt x="213" y="62"/>
                      </a:lnTo>
                      <a:lnTo>
                        <a:pt x="233" y="69"/>
                      </a:lnTo>
                      <a:lnTo>
                        <a:pt x="261" y="76"/>
                      </a:lnTo>
                      <a:lnTo>
                        <a:pt x="295" y="83"/>
                      </a:lnTo>
                      <a:lnTo>
                        <a:pt x="302" y="83"/>
                      </a:lnTo>
                      <a:lnTo>
                        <a:pt x="309" y="83"/>
                      </a:lnTo>
                      <a:lnTo>
                        <a:pt x="316" y="90"/>
                      </a:lnTo>
                      <a:lnTo>
                        <a:pt x="329" y="97"/>
                      </a:lnTo>
                      <a:lnTo>
                        <a:pt x="364" y="111"/>
                      </a:lnTo>
                      <a:lnTo>
                        <a:pt x="378" y="125"/>
                      </a:lnTo>
                      <a:lnTo>
                        <a:pt x="391" y="132"/>
                      </a:lnTo>
                      <a:lnTo>
                        <a:pt x="412" y="139"/>
                      </a:lnTo>
                      <a:lnTo>
                        <a:pt x="426" y="146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46" y="160"/>
                      </a:lnTo>
                      <a:lnTo>
                        <a:pt x="460" y="166"/>
                      </a:lnTo>
                      <a:lnTo>
                        <a:pt x="494" y="180"/>
                      </a:lnTo>
                      <a:lnTo>
                        <a:pt x="515" y="187"/>
                      </a:lnTo>
                      <a:lnTo>
                        <a:pt x="570" y="208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83" y="215"/>
                      </a:lnTo>
                      <a:lnTo>
                        <a:pt x="590" y="222"/>
                      </a:lnTo>
                      <a:lnTo>
                        <a:pt x="611" y="229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36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25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8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43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11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0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604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57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7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64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90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83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7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0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70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63" y="277"/>
                      </a:lnTo>
                      <a:lnTo>
                        <a:pt x="563" y="277"/>
                      </a:lnTo>
                      <a:lnTo>
                        <a:pt x="556" y="277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56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9" y="284"/>
                      </a:lnTo>
                      <a:lnTo>
                        <a:pt x="542" y="284"/>
                      </a:lnTo>
                      <a:lnTo>
                        <a:pt x="542" y="284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1"/>
                      </a:lnTo>
                      <a:lnTo>
                        <a:pt x="542" y="298"/>
                      </a:lnTo>
                      <a:lnTo>
                        <a:pt x="535" y="298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35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305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9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22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15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8" y="298"/>
                      </a:lnTo>
                      <a:lnTo>
                        <a:pt x="501" y="298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05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501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87" y="319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7" y="326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26"/>
                      </a:lnTo>
                      <a:lnTo>
                        <a:pt x="480" y="326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74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33"/>
                      </a:lnTo>
                      <a:lnTo>
                        <a:pt x="467" y="340"/>
                      </a:lnTo>
                      <a:lnTo>
                        <a:pt x="467" y="340"/>
                      </a:lnTo>
                      <a:lnTo>
                        <a:pt x="460" y="340"/>
                      </a:lnTo>
                      <a:lnTo>
                        <a:pt x="446" y="340"/>
                      </a:lnTo>
                      <a:lnTo>
                        <a:pt x="453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40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46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26"/>
                      </a:lnTo>
                      <a:lnTo>
                        <a:pt x="439" y="333"/>
                      </a:lnTo>
                      <a:lnTo>
                        <a:pt x="439" y="333"/>
                      </a:lnTo>
                      <a:lnTo>
                        <a:pt x="439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9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33"/>
                      </a:lnTo>
                      <a:lnTo>
                        <a:pt x="432" y="326"/>
                      </a:lnTo>
                      <a:lnTo>
                        <a:pt x="432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26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9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12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405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8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91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84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64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7" y="326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50" y="319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43" y="319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43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26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9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302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88" y="326"/>
                      </a:lnTo>
                      <a:lnTo>
                        <a:pt x="288" y="305"/>
                      </a:lnTo>
                      <a:lnTo>
                        <a:pt x="288" y="284"/>
                      </a:lnTo>
                      <a:lnTo>
                        <a:pt x="288" y="277"/>
                      </a:lnTo>
                      <a:lnTo>
                        <a:pt x="288" y="250"/>
                      </a:lnTo>
                      <a:lnTo>
                        <a:pt x="288" y="243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95" y="222"/>
                      </a:lnTo>
                      <a:lnTo>
                        <a:pt x="295" y="229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22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95" y="215"/>
                      </a:lnTo>
                      <a:lnTo>
                        <a:pt x="288" y="215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88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8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302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295" y="201"/>
                      </a:lnTo>
                      <a:lnTo>
                        <a:pt x="302" y="201"/>
                      </a:lnTo>
                      <a:lnTo>
                        <a:pt x="295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302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95" y="194"/>
                      </a:lnTo>
                      <a:lnTo>
                        <a:pt x="288" y="194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8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1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81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08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75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15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61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29"/>
                      </a:lnTo>
                      <a:lnTo>
                        <a:pt x="247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36"/>
                      </a:lnTo>
                      <a:lnTo>
                        <a:pt x="240" y="243"/>
                      </a:lnTo>
                      <a:lnTo>
                        <a:pt x="240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33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226" y="243"/>
                      </a:lnTo>
                      <a:lnTo>
                        <a:pt x="199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22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44" y="201"/>
                      </a:lnTo>
                      <a:lnTo>
                        <a:pt x="144" y="208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23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7" y="201"/>
                      </a:lnTo>
                      <a:lnTo>
                        <a:pt x="117" y="194"/>
                      </a:lnTo>
                      <a:lnTo>
                        <a:pt x="117" y="201"/>
                      </a:lnTo>
                      <a:lnTo>
                        <a:pt x="110" y="194"/>
                      </a:lnTo>
                      <a:lnTo>
                        <a:pt x="117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10" y="194"/>
                      </a:lnTo>
                      <a:lnTo>
                        <a:pt x="103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94"/>
                      </a:lnTo>
                      <a:lnTo>
                        <a:pt x="69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75" y="187"/>
                      </a:lnTo>
                      <a:lnTo>
                        <a:pt x="82" y="187"/>
                      </a:lnTo>
                      <a:lnTo>
                        <a:pt x="75" y="187"/>
                      </a:lnTo>
                      <a:lnTo>
                        <a:pt x="75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6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60"/>
                      </a:lnTo>
                      <a:lnTo>
                        <a:pt x="89" y="153"/>
                      </a:lnTo>
                      <a:lnTo>
                        <a:pt x="89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53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2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32"/>
                      </a:lnTo>
                      <a:lnTo>
                        <a:pt x="69" y="125"/>
                      </a:lnTo>
                      <a:lnTo>
                        <a:pt x="62" y="132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25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8"/>
                      </a:lnTo>
                      <a:lnTo>
                        <a:pt x="62" y="111"/>
                      </a:lnTo>
                      <a:lnTo>
                        <a:pt x="62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55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34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27" y="76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7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0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7" y="21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59360" y="2680920"/>
                  <a:ext cx="1884960" cy="1199880"/>
                </a:xfrm>
                <a:custGeom>
                  <a:avLst/>
                  <a:gdLst/>
                  <a:ahLst/>
                  <a:rect l="l" t="t" r="r" b="b"/>
                  <a:pathLst>
                    <a:path w="1497" h="1020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1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11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104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7"/>
                      </a:lnTo>
                      <a:lnTo>
                        <a:pt x="728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35" y="90"/>
                      </a:lnTo>
                      <a:lnTo>
                        <a:pt x="742" y="90"/>
                      </a:lnTo>
                      <a:lnTo>
                        <a:pt x="735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7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2" y="90"/>
                      </a:lnTo>
                      <a:lnTo>
                        <a:pt x="749" y="90"/>
                      </a:lnTo>
                      <a:lnTo>
                        <a:pt x="749" y="90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49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83"/>
                      </a:lnTo>
                      <a:lnTo>
                        <a:pt x="756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76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3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83"/>
                      </a:lnTo>
                      <a:lnTo>
                        <a:pt x="769" y="83"/>
                      </a:lnTo>
                      <a:lnTo>
                        <a:pt x="769" y="76"/>
                      </a:lnTo>
                      <a:lnTo>
                        <a:pt x="769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76" y="76"/>
                      </a:lnTo>
                      <a:lnTo>
                        <a:pt x="783" y="76"/>
                      </a:lnTo>
                      <a:lnTo>
                        <a:pt x="776" y="76"/>
                      </a:lnTo>
                      <a:lnTo>
                        <a:pt x="776" y="70"/>
                      </a:lnTo>
                      <a:lnTo>
                        <a:pt x="776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783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0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63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797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70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04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63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1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56"/>
                      </a:lnTo>
                      <a:lnTo>
                        <a:pt x="818" y="49"/>
                      </a:lnTo>
                      <a:lnTo>
                        <a:pt x="818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9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24" y="42"/>
                      </a:lnTo>
                      <a:lnTo>
                        <a:pt x="818" y="42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35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8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24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1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38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45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21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2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14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59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66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2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7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79" y="0"/>
                      </a:lnTo>
                      <a:lnTo>
                        <a:pt x="886" y="7"/>
                      </a:lnTo>
                      <a:lnTo>
                        <a:pt x="886" y="7"/>
                      </a:lnTo>
                      <a:lnTo>
                        <a:pt x="893" y="7"/>
                      </a:lnTo>
                      <a:lnTo>
                        <a:pt x="893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7"/>
                      </a:lnTo>
                      <a:lnTo>
                        <a:pt x="900" y="14"/>
                      </a:lnTo>
                      <a:lnTo>
                        <a:pt x="900" y="14"/>
                      </a:lnTo>
                      <a:lnTo>
                        <a:pt x="907" y="14"/>
                      </a:lnTo>
                      <a:lnTo>
                        <a:pt x="907" y="14"/>
                      </a:lnTo>
                      <a:lnTo>
                        <a:pt x="914" y="21"/>
                      </a:lnTo>
                      <a:lnTo>
                        <a:pt x="914" y="14"/>
                      </a:lnTo>
                      <a:lnTo>
                        <a:pt x="921" y="14"/>
                      </a:lnTo>
                      <a:lnTo>
                        <a:pt x="921" y="14"/>
                      </a:lnTo>
                      <a:lnTo>
                        <a:pt x="927" y="14"/>
                      </a:lnTo>
                      <a:lnTo>
                        <a:pt x="927" y="21"/>
                      </a:lnTo>
                      <a:lnTo>
                        <a:pt x="927" y="21"/>
                      </a:lnTo>
                      <a:lnTo>
                        <a:pt x="934" y="21"/>
                      </a:lnTo>
                      <a:lnTo>
                        <a:pt x="934" y="21"/>
                      </a:lnTo>
                      <a:lnTo>
                        <a:pt x="941" y="21"/>
                      </a:lnTo>
                      <a:lnTo>
                        <a:pt x="941" y="28"/>
                      </a:lnTo>
                      <a:lnTo>
                        <a:pt x="941" y="28"/>
                      </a:lnTo>
                      <a:lnTo>
                        <a:pt x="934" y="35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2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34" y="49"/>
                      </a:lnTo>
                      <a:lnTo>
                        <a:pt x="927" y="49"/>
                      </a:lnTo>
                      <a:lnTo>
                        <a:pt x="927" y="56"/>
                      </a:lnTo>
                      <a:lnTo>
                        <a:pt x="927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56"/>
                      </a:lnTo>
                      <a:lnTo>
                        <a:pt x="934" y="63"/>
                      </a:lnTo>
                      <a:lnTo>
                        <a:pt x="934" y="63"/>
                      </a:lnTo>
                      <a:lnTo>
                        <a:pt x="941" y="63"/>
                      </a:lnTo>
                      <a:lnTo>
                        <a:pt x="941" y="63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1" y="70"/>
                      </a:lnTo>
                      <a:lnTo>
                        <a:pt x="948" y="76"/>
                      </a:lnTo>
                      <a:lnTo>
                        <a:pt x="948" y="83"/>
                      </a:lnTo>
                      <a:lnTo>
                        <a:pt x="948" y="90"/>
                      </a:lnTo>
                      <a:lnTo>
                        <a:pt x="948" y="90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97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55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111"/>
                      </a:lnTo>
                      <a:lnTo>
                        <a:pt x="955" y="111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55" y="118"/>
                      </a:lnTo>
                      <a:lnTo>
                        <a:pt x="962" y="118"/>
                      </a:lnTo>
                      <a:lnTo>
                        <a:pt x="962" y="125"/>
                      </a:lnTo>
                      <a:lnTo>
                        <a:pt x="955" y="125"/>
                      </a:lnTo>
                      <a:lnTo>
                        <a:pt x="955" y="125"/>
                      </a:lnTo>
                      <a:lnTo>
                        <a:pt x="955" y="132"/>
                      </a:lnTo>
                      <a:lnTo>
                        <a:pt x="955" y="132"/>
                      </a:lnTo>
                      <a:lnTo>
                        <a:pt x="955" y="139"/>
                      </a:lnTo>
                      <a:lnTo>
                        <a:pt x="955" y="139"/>
                      </a:lnTo>
                      <a:lnTo>
                        <a:pt x="955" y="146"/>
                      </a:lnTo>
                      <a:lnTo>
                        <a:pt x="955" y="146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55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53"/>
                      </a:lnTo>
                      <a:lnTo>
                        <a:pt x="962" y="160"/>
                      </a:lnTo>
                      <a:lnTo>
                        <a:pt x="962" y="160"/>
                      </a:lnTo>
                      <a:lnTo>
                        <a:pt x="955" y="160"/>
                      </a:lnTo>
                      <a:lnTo>
                        <a:pt x="962" y="160"/>
                      </a:lnTo>
                      <a:lnTo>
                        <a:pt x="955" y="167"/>
                      </a:lnTo>
                      <a:lnTo>
                        <a:pt x="962" y="167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74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2" y="181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87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69" y="194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1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08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75" y="215"/>
                      </a:lnTo>
                      <a:lnTo>
                        <a:pt x="982" y="215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82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2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75" y="229"/>
                      </a:lnTo>
                      <a:lnTo>
                        <a:pt x="969" y="229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69" y="236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75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43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9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62" y="250"/>
                      </a:lnTo>
                      <a:lnTo>
                        <a:pt x="955" y="250"/>
                      </a:lnTo>
                      <a:lnTo>
                        <a:pt x="955" y="243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0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55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2" y="257"/>
                      </a:lnTo>
                      <a:lnTo>
                        <a:pt x="969" y="264"/>
                      </a:lnTo>
                      <a:lnTo>
                        <a:pt x="962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64"/>
                      </a:lnTo>
                      <a:lnTo>
                        <a:pt x="969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2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89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85"/>
                      </a:lnTo>
                      <a:lnTo>
                        <a:pt x="996" y="292"/>
                      </a:lnTo>
                      <a:lnTo>
                        <a:pt x="996" y="292"/>
                      </a:lnTo>
                      <a:lnTo>
                        <a:pt x="1003" y="292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298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03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0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17" y="305"/>
                      </a:lnTo>
                      <a:lnTo>
                        <a:pt x="1023" y="305"/>
                      </a:lnTo>
                      <a:lnTo>
                        <a:pt x="1023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0" y="312"/>
                      </a:lnTo>
                      <a:lnTo>
                        <a:pt x="1037" y="312"/>
                      </a:lnTo>
                      <a:lnTo>
                        <a:pt x="1037" y="319"/>
                      </a:lnTo>
                      <a:lnTo>
                        <a:pt x="1037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44" y="319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7" y="312"/>
                      </a:lnTo>
                      <a:lnTo>
                        <a:pt x="1030" y="312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305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8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0" y="278"/>
                      </a:lnTo>
                      <a:lnTo>
                        <a:pt x="1030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8"/>
                      </a:lnTo>
                      <a:lnTo>
                        <a:pt x="1037" y="271"/>
                      </a:lnTo>
                      <a:lnTo>
                        <a:pt x="1037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71"/>
                      </a:lnTo>
                      <a:lnTo>
                        <a:pt x="1030" y="264"/>
                      </a:lnTo>
                      <a:lnTo>
                        <a:pt x="1030" y="264"/>
                      </a:lnTo>
                      <a:lnTo>
                        <a:pt x="1037" y="264"/>
                      </a:lnTo>
                      <a:lnTo>
                        <a:pt x="1037" y="264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7"/>
                      </a:lnTo>
                      <a:lnTo>
                        <a:pt x="1037" y="250"/>
                      </a:lnTo>
                      <a:lnTo>
                        <a:pt x="1037" y="250"/>
                      </a:lnTo>
                      <a:lnTo>
                        <a:pt x="1044" y="250"/>
                      </a:lnTo>
                      <a:lnTo>
                        <a:pt x="1044" y="250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44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43"/>
                      </a:lnTo>
                      <a:lnTo>
                        <a:pt x="1051" y="236"/>
                      </a:lnTo>
                      <a:lnTo>
                        <a:pt x="1051" y="243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58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36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65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2" y="229"/>
                      </a:lnTo>
                      <a:lnTo>
                        <a:pt x="1078" y="229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78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85" y="236"/>
                      </a:lnTo>
                      <a:lnTo>
                        <a:pt x="1092" y="236"/>
                      </a:lnTo>
                      <a:lnTo>
                        <a:pt x="1085" y="236"/>
                      </a:lnTo>
                      <a:lnTo>
                        <a:pt x="1085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43"/>
                      </a:lnTo>
                      <a:lnTo>
                        <a:pt x="1092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0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57"/>
                      </a:lnTo>
                      <a:lnTo>
                        <a:pt x="1099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06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13" y="264"/>
                      </a:lnTo>
                      <a:lnTo>
                        <a:pt x="1120" y="257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64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0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26" y="257"/>
                      </a:lnTo>
                      <a:lnTo>
                        <a:pt x="1133" y="257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33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50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40" y="243"/>
                      </a:lnTo>
                      <a:lnTo>
                        <a:pt x="1133" y="243"/>
                      </a:lnTo>
                      <a:lnTo>
                        <a:pt x="1133" y="243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36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33" y="229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33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22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15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8"/>
                      </a:lnTo>
                      <a:lnTo>
                        <a:pt x="1140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201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94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47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7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81"/>
                      </a:lnTo>
                      <a:lnTo>
                        <a:pt x="1154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74"/>
                      </a:lnTo>
                      <a:lnTo>
                        <a:pt x="1161" y="167"/>
                      </a:lnTo>
                      <a:lnTo>
                        <a:pt x="1161" y="167"/>
                      </a:lnTo>
                      <a:lnTo>
                        <a:pt x="1216" y="167"/>
                      </a:lnTo>
                      <a:lnTo>
                        <a:pt x="1236" y="167"/>
                      </a:lnTo>
                      <a:lnTo>
                        <a:pt x="1257" y="167"/>
                      </a:lnTo>
                      <a:lnTo>
                        <a:pt x="1257" y="187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194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1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08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15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64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2"/>
                      </a:lnTo>
                      <a:lnTo>
                        <a:pt x="1271" y="229"/>
                      </a:lnTo>
                      <a:lnTo>
                        <a:pt x="1271" y="229"/>
                      </a:lnTo>
                      <a:lnTo>
                        <a:pt x="1278" y="229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8" y="236"/>
                      </a:lnTo>
                      <a:lnTo>
                        <a:pt x="1271" y="236"/>
                      </a:lnTo>
                      <a:lnTo>
                        <a:pt x="1271" y="236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1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43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78" y="250"/>
                      </a:lnTo>
                      <a:lnTo>
                        <a:pt x="1284" y="250"/>
                      </a:lnTo>
                      <a:lnTo>
                        <a:pt x="1284" y="250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84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57"/>
                      </a:lnTo>
                      <a:lnTo>
                        <a:pt x="1291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64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1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298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78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05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2" y="285"/>
                      </a:lnTo>
                      <a:lnTo>
                        <a:pt x="1319" y="285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19" y="292"/>
                      </a:lnTo>
                      <a:lnTo>
                        <a:pt x="1326" y="292"/>
                      </a:lnTo>
                      <a:lnTo>
                        <a:pt x="1326" y="292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26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2" y="285"/>
                      </a:lnTo>
                      <a:lnTo>
                        <a:pt x="1339" y="285"/>
                      </a:lnTo>
                      <a:lnTo>
                        <a:pt x="1339" y="285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2"/>
                      </a:lnTo>
                      <a:lnTo>
                        <a:pt x="1339" y="298"/>
                      </a:lnTo>
                      <a:lnTo>
                        <a:pt x="1339" y="298"/>
                      </a:lnTo>
                      <a:lnTo>
                        <a:pt x="1332" y="298"/>
                      </a:lnTo>
                      <a:lnTo>
                        <a:pt x="1332" y="298"/>
                      </a:lnTo>
                      <a:lnTo>
                        <a:pt x="1332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05"/>
                      </a:lnTo>
                      <a:lnTo>
                        <a:pt x="1339" y="312"/>
                      </a:lnTo>
                      <a:lnTo>
                        <a:pt x="1339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46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2"/>
                      </a:lnTo>
                      <a:lnTo>
                        <a:pt x="1353" y="319"/>
                      </a:lnTo>
                      <a:lnTo>
                        <a:pt x="1353" y="319"/>
                      </a:lnTo>
                      <a:lnTo>
                        <a:pt x="1353" y="312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2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19"/>
                      </a:lnTo>
                      <a:lnTo>
                        <a:pt x="1360" y="326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19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67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74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26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1" y="333"/>
                      </a:lnTo>
                      <a:lnTo>
                        <a:pt x="1387" y="326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87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394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1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33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08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0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15" y="347"/>
                      </a:lnTo>
                      <a:lnTo>
                        <a:pt x="1422" y="347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2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54"/>
                      </a:lnTo>
                      <a:lnTo>
                        <a:pt x="1429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35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1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68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2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49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75"/>
                      </a:lnTo>
                      <a:lnTo>
                        <a:pt x="1456" y="368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63" y="375"/>
                      </a:lnTo>
                      <a:lnTo>
                        <a:pt x="1463" y="368"/>
                      </a:lnTo>
                      <a:lnTo>
                        <a:pt x="1463" y="368"/>
                      </a:lnTo>
                      <a:lnTo>
                        <a:pt x="1470" y="368"/>
                      </a:lnTo>
                      <a:lnTo>
                        <a:pt x="1470" y="375"/>
                      </a:lnTo>
                      <a:lnTo>
                        <a:pt x="1470" y="375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0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77" y="368"/>
                      </a:lnTo>
                      <a:lnTo>
                        <a:pt x="1483" y="368"/>
                      </a:lnTo>
                      <a:lnTo>
                        <a:pt x="1483" y="368"/>
                      </a:lnTo>
                      <a:lnTo>
                        <a:pt x="1483" y="361"/>
                      </a:lnTo>
                      <a:lnTo>
                        <a:pt x="1483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0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7" y="361"/>
                      </a:lnTo>
                      <a:lnTo>
                        <a:pt x="1490" y="368"/>
                      </a:lnTo>
                      <a:lnTo>
                        <a:pt x="1490" y="368"/>
                      </a:lnTo>
                      <a:lnTo>
                        <a:pt x="1490" y="375"/>
                      </a:lnTo>
                      <a:lnTo>
                        <a:pt x="1483" y="375"/>
                      </a:lnTo>
                      <a:lnTo>
                        <a:pt x="1483" y="375"/>
                      </a:lnTo>
                      <a:lnTo>
                        <a:pt x="1477" y="382"/>
                      </a:lnTo>
                      <a:lnTo>
                        <a:pt x="1477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2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70" y="389"/>
                      </a:lnTo>
                      <a:lnTo>
                        <a:pt x="1463" y="396"/>
                      </a:lnTo>
                      <a:lnTo>
                        <a:pt x="1463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396"/>
                      </a:lnTo>
                      <a:lnTo>
                        <a:pt x="1470" y="402"/>
                      </a:lnTo>
                      <a:lnTo>
                        <a:pt x="1463" y="409"/>
                      </a:lnTo>
                      <a:lnTo>
                        <a:pt x="1456" y="423"/>
                      </a:lnTo>
                      <a:lnTo>
                        <a:pt x="1456" y="430"/>
                      </a:lnTo>
                      <a:lnTo>
                        <a:pt x="1449" y="444"/>
                      </a:lnTo>
                      <a:lnTo>
                        <a:pt x="1442" y="465"/>
                      </a:lnTo>
                      <a:lnTo>
                        <a:pt x="1442" y="465"/>
                      </a:lnTo>
                      <a:lnTo>
                        <a:pt x="1435" y="472"/>
                      </a:lnTo>
                      <a:lnTo>
                        <a:pt x="1429" y="486"/>
                      </a:lnTo>
                      <a:lnTo>
                        <a:pt x="1429" y="493"/>
                      </a:lnTo>
                      <a:lnTo>
                        <a:pt x="1422" y="500"/>
                      </a:lnTo>
                      <a:lnTo>
                        <a:pt x="1415" y="507"/>
                      </a:lnTo>
                      <a:lnTo>
                        <a:pt x="1401" y="555"/>
                      </a:lnTo>
                      <a:lnTo>
                        <a:pt x="1374" y="604"/>
                      </a:lnTo>
                      <a:lnTo>
                        <a:pt x="1367" y="618"/>
                      </a:lnTo>
                      <a:lnTo>
                        <a:pt x="1360" y="631"/>
                      </a:lnTo>
                      <a:lnTo>
                        <a:pt x="1346" y="659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12" y="735"/>
                      </a:lnTo>
                      <a:lnTo>
                        <a:pt x="1305" y="735"/>
                      </a:lnTo>
                      <a:lnTo>
                        <a:pt x="1305" y="735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305" y="742"/>
                      </a:lnTo>
                      <a:lnTo>
                        <a:pt x="1298" y="749"/>
                      </a:lnTo>
                      <a:lnTo>
                        <a:pt x="1298" y="749"/>
                      </a:lnTo>
                      <a:lnTo>
                        <a:pt x="1298" y="756"/>
                      </a:lnTo>
                      <a:lnTo>
                        <a:pt x="1298" y="756"/>
                      </a:lnTo>
                      <a:lnTo>
                        <a:pt x="1291" y="763"/>
                      </a:lnTo>
                      <a:lnTo>
                        <a:pt x="1298" y="763"/>
                      </a:lnTo>
                      <a:lnTo>
                        <a:pt x="1298" y="770"/>
                      </a:lnTo>
                      <a:lnTo>
                        <a:pt x="1298" y="770"/>
                      </a:lnTo>
                      <a:lnTo>
                        <a:pt x="1298" y="777"/>
                      </a:lnTo>
                      <a:lnTo>
                        <a:pt x="1298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77"/>
                      </a:lnTo>
                      <a:lnTo>
                        <a:pt x="1305" y="784"/>
                      </a:lnTo>
                      <a:lnTo>
                        <a:pt x="1312" y="784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2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1"/>
                      </a:lnTo>
                      <a:lnTo>
                        <a:pt x="1319" y="798"/>
                      </a:lnTo>
                      <a:lnTo>
                        <a:pt x="1319" y="798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05"/>
                      </a:lnTo>
                      <a:lnTo>
                        <a:pt x="1319" y="812"/>
                      </a:lnTo>
                      <a:lnTo>
                        <a:pt x="1326" y="812"/>
                      </a:lnTo>
                      <a:lnTo>
                        <a:pt x="1326" y="812"/>
                      </a:lnTo>
                      <a:lnTo>
                        <a:pt x="1319" y="812"/>
                      </a:lnTo>
                      <a:lnTo>
                        <a:pt x="1319" y="819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26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9" y="833"/>
                      </a:lnTo>
                      <a:lnTo>
                        <a:pt x="1312" y="833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0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12" y="846"/>
                      </a:lnTo>
                      <a:lnTo>
                        <a:pt x="1305" y="846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53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0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05" y="867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12" y="874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1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88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895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305" y="902"/>
                      </a:lnTo>
                      <a:lnTo>
                        <a:pt x="1298" y="902"/>
                      </a:lnTo>
                      <a:lnTo>
                        <a:pt x="1298" y="902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09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16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23"/>
                      </a:lnTo>
                      <a:lnTo>
                        <a:pt x="1298" y="930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23"/>
                      </a:lnTo>
                      <a:lnTo>
                        <a:pt x="1305" y="930"/>
                      </a:lnTo>
                      <a:lnTo>
                        <a:pt x="1305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0"/>
                      </a:lnTo>
                      <a:lnTo>
                        <a:pt x="1298" y="937"/>
                      </a:lnTo>
                      <a:lnTo>
                        <a:pt x="1291" y="937"/>
                      </a:lnTo>
                      <a:lnTo>
                        <a:pt x="1243" y="937"/>
                      </a:lnTo>
                      <a:lnTo>
                        <a:pt x="1243" y="937"/>
                      </a:lnTo>
                      <a:lnTo>
                        <a:pt x="1181" y="937"/>
                      </a:lnTo>
                      <a:lnTo>
                        <a:pt x="1133" y="937"/>
                      </a:lnTo>
                      <a:lnTo>
                        <a:pt x="1099" y="937"/>
                      </a:lnTo>
                      <a:lnTo>
                        <a:pt x="1099" y="937"/>
                      </a:lnTo>
                      <a:lnTo>
                        <a:pt x="1092" y="937"/>
                      </a:lnTo>
                      <a:lnTo>
                        <a:pt x="1030" y="937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30" y="930"/>
                      </a:lnTo>
                      <a:lnTo>
                        <a:pt x="1023" y="930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23" y="923"/>
                      </a:lnTo>
                      <a:lnTo>
                        <a:pt x="1017" y="923"/>
                      </a:lnTo>
                      <a:lnTo>
                        <a:pt x="1017" y="923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7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0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10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1003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96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9" y="937"/>
                      </a:lnTo>
                      <a:lnTo>
                        <a:pt x="982" y="930"/>
                      </a:lnTo>
                      <a:lnTo>
                        <a:pt x="982" y="930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23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82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16"/>
                      </a:lnTo>
                      <a:lnTo>
                        <a:pt x="975" y="923"/>
                      </a:lnTo>
                      <a:lnTo>
                        <a:pt x="975" y="923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16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9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9" y="902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62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55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95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8" y="888"/>
                      </a:lnTo>
                      <a:lnTo>
                        <a:pt x="941" y="888"/>
                      </a:lnTo>
                      <a:lnTo>
                        <a:pt x="941" y="888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81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41" y="874"/>
                      </a:lnTo>
                      <a:lnTo>
                        <a:pt x="934" y="874"/>
                      </a:lnTo>
                      <a:lnTo>
                        <a:pt x="934" y="874"/>
                      </a:lnTo>
                      <a:lnTo>
                        <a:pt x="934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7" y="867"/>
                      </a:lnTo>
                      <a:lnTo>
                        <a:pt x="921" y="860"/>
                      </a:lnTo>
                      <a:lnTo>
                        <a:pt x="886" y="867"/>
                      </a:lnTo>
                      <a:lnTo>
                        <a:pt x="872" y="867"/>
                      </a:lnTo>
                      <a:lnTo>
                        <a:pt x="866" y="860"/>
                      </a:lnTo>
                      <a:lnTo>
                        <a:pt x="859" y="860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67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9" y="874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1"/>
                      </a:lnTo>
                      <a:lnTo>
                        <a:pt x="852" y="888"/>
                      </a:lnTo>
                      <a:lnTo>
                        <a:pt x="852" y="888"/>
                      </a:lnTo>
                      <a:lnTo>
                        <a:pt x="845" y="888"/>
                      </a:lnTo>
                      <a:lnTo>
                        <a:pt x="845" y="888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95"/>
                      </a:lnTo>
                      <a:lnTo>
                        <a:pt x="845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88"/>
                      </a:lnTo>
                      <a:lnTo>
                        <a:pt x="838" y="895"/>
                      </a:lnTo>
                      <a:lnTo>
                        <a:pt x="838" y="895"/>
                      </a:lnTo>
                      <a:lnTo>
                        <a:pt x="831" y="895"/>
                      </a:lnTo>
                      <a:lnTo>
                        <a:pt x="831" y="895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2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09"/>
                      </a:lnTo>
                      <a:lnTo>
                        <a:pt x="831" y="916"/>
                      </a:lnTo>
                      <a:lnTo>
                        <a:pt x="838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31" y="916"/>
                      </a:lnTo>
                      <a:lnTo>
                        <a:pt x="824" y="916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24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23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0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37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8" y="944"/>
                      </a:lnTo>
                      <a:lnTo>
                        <a:pt x="811" y="944"/>
                      </a:lnTo>
                      <a:lnTo>
                        <a:pt x="811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51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804" y="944"/>
                      </a:lnTo>
                      <a:lnTo>
                        <a:pt x="797" y="944"/>
                      </a:lnTo>
                      <a:lnTo>
                        <a:pt x="797" y="944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90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83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76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9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63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1"/>
                      </a:lnTo>
                      <a:lnTo>
                        <a:pt x="756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57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64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1"/>
                      </a:lnTo>
                      <a:lnTo>
                        <a:pt x="749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78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42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35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85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8"/>
                      </a:lnTo>
                      <a:lnTo>
                        <a:pt x="728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1"/>
                      </a:lnTo>
                      <a:lnTo>
                        <a:pt x="721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15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78"/>
                      </a:lnTo>
                      <a:lnTo>
                        <a:pt x="708" y="985"/>
                      </a:lnTo>
                      <a:lnTo>
                        <a:pt x="708" y="985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8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701" y="992"/>
                      </a:lnTo>
                      <a:lnTo>
                        <a:pt x="701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94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85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7" y="992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80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9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73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92"/>
                      </a:lnTo>
                      <a:lnTo>
                        <a:pt x="666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60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53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46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9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32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85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25" y="992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999"/>
                      </a:lnTo>
                      <a:lnTo>
                        <a:pt x="618" y="1006"/>
                      </a:lnTo>
                      <a:lnTo>
                        <a:pt x="618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12" y="1006"/>
                      </a:lnTo>
                      <a:lnTo>
                        <a:pt x="605" y="1006"/>
                      </a:lnTo>
                      <a:lnTo>
                        <a:pt x="605" y="1006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8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13"/>
                      </a:lnTo>
                      <a:lnTo>
                        <a:pt x="591" y="1020"/>
                      </a:lnTo>
                      <a:lnTo>
                        <a:pt x="591" y="1020"/>
                      </a:lnTo>
                      <a:lnTo>
                        <a:pt x="570" y="1013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63" y="1006"/>
                      </a:lnTo>
                      <a:lnTo>
                        <a:pt x="550" y="999"/>
                      </a:lnTo>
                      <a:lnTo>
                        <a:pt x="495" y="978"/>
                      </a:lnTo>
                      <a:lnTo>
                        <a:pt x="474" y="971"/>
                      </a:lnTo>
                      <a:lnTo>
                        <a:pt x="440" y="957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26" y="951"/>
                      </a:lnTo>
                      <a:lnTo>
                        <a:pt x="406" y="937"/>
                      </a:lnTo>
                      <a:lnTo>
                        <a:pt x="392" y="930"/>
                      </a:lnTo>
                      <a:lnTo>
                        <a:pt x="371" y="923"/>
                      </a:lnTo>
                      <a:lnTo>
                        <a:pt x="358" y="916"/>
                      </a:lnTo>
                      <a:lnTo>
                        <a:pt x="344" y="902"/>
                      </a:lnTo>
                      <a:lnTo>
                        <a:pt x="309" y="888"/>
                      </a:lnTo>
                      <a:lnTo>
                        <a:pt x="296" y="881"/>
                      </a:lnTo>
                      <a:lnTo>
                        <a:pt x="289" y="874"/>
                      </a:lnTo>
                      <a:lnTo>
                        <a:pt x="282" y="874"/>
                      </a:lnTo>
                      <a:lnTo>
                        <a:pt x="275" y="874"/>
                      </a:lnTo>
                      <a:lnTo>
                        <a:pt x="241" y="867"/>
                      </a:lnTo>
                      <a:lnTo>
                        <a:pt x="213" y="860"/>
                      </a:lnTo>
                      <a:lnTo>
                        <a:pt x="193" y="853"/>
                      </a:lnTo>
                      <a:lnTo>
                        <a:pt x="186" y="853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52" y="846"/>
                      </a:lnTo>
                      <a:lnTo>
                        <a:pt x="138" y="840"/>
                      </a:lnTo>
                      <a:lnTo>
                        <a:pt x="138" y="840"/>
                      </a:lnTo>
                      <a:lnTo>
                        <a:pt x="97" y="833"/>
                      </a:lnTo>
                      <a:lnTo>
                        <a:pt x="97" y="833"/>
                      </a:lnTo>
                      <a:lnTo>
                        <a:pt x="76" y="826"/>
                      </a:lnTo>
                      <a:lnTo>
                        <a:pt x="42" y="812"/>
                      </a:lnTo>
                      <a:lnTo>
                        <a:pt x="7" y="791"/>
                      </a:lnTo>
                      <a:lnTo>
                        <a:pt x="0" y="791"/>
                      </a:lnTo>
                      <a:close/>
                    </a:path>
                  </a:pathLst>
                </a:custGeom>
                <a:solidFill>
                  <a:srgbClr val="ffa7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259360" y="2680920"/>
                  <a:ext cx="900360" cy="930600"/>
                </a:xfrm>
                <a:custGeom>
                  <a:avLst/>
                  <a:gdLst/>
                  <a:ahLst/>
                  <a:rect l="l" t="t" r="r" b="b"/>
                  <a:pathLst>
                    <a:path w="715" h="791">
                      <a:moveTo>
                        <a:pt x="0" y="791"/>
                      </a:moveTo>
                      <a:lnTo>
                        <a:pt x="0" y="791"/>
                      </a:lnTo>
                      <a:lnTo>
                        <a:pt x="0" y="791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84"/>
                      </a:lnTo>
                      <a:lnTo>
                        <a:pt x="7" y="777"/>
                      </a:lnTo>
                      <a:lnTo>
                        <a:pt x="7" y="777"/>
                      </a:lnTo>
                      <a:lnTo>
                        <a:pt x="0" y="777"/>
                      </a:lnTo>
                      <a:lnTo>
                        <a:pt x="0" y="777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70"/>
                      </a:lnTo>
                      <a:lnTo>
                        <a:pt x="7" y="763"/>
                      </a:lnTo>
                      <a:lnTo>
                        <a:pt x="7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63"/>
                      </a:lnTo>
                      <a:lnTo>
                        <a:pt x="14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1" y="756"/>
                      </a:lnTo>
                      <a:lnTo>
                        <a:pt x="28" y="756"/>
                      </a:lnTo>
                      <a:lnTo>
                        <a:pt x="28" y="756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28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35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2" y="749"/>
                      </a:lnTo>
                      <a:lnTo>
                        <a:pt x="49" y="749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49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42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35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9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55" y="722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15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8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701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49" y="694"/>
                      </a:lnTo>
                      <a:lnTo>
                        <a:pt x="49" y="694"/>
                      </a:lnTo>
                      <a:lnTo>
                        <a:pt x="55" y="694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7"/>
                      </a:lnTo>
                      <a:lnTo>
                        <a:pt x="55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80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73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69" y="652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45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8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83" y="631"/>
                      </a:lnTo>
                      <a:lnTo>
                        <a:pt x="76" y="631"/>
                      </a:lnTo>
                      <a:lnTo>
                        <a:pt x="76" y="631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76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24"/>
                      </a:lnTo>
                      <a:lnTo>
                        <a:pt x="83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0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8"/>
                      </a:lnTo>
                      <a:lnTo>
                        <a:pt x="97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03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11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0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604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17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7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24" y="590"/>
                      </a:lnTo>
                      <a:lnTo>
                        <a:pt x="131" y="590"/>
                      </a:lnTo>
                      <a:lnTo>
                        <a:pt x="131" y="597"/>
                      </a:lnTo>
                      <a:lnTo>
                        <a:pt x="131" y="597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1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38" y="590"/>
                      </a:lnTo>
                      <a:lnTo>
                        <a:pt x="145" y="590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45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83"/>
                      </a:lnTo>
                      <a:lnTo>
                        <a:pt x="152" y="576"/>
                      </a:lnTo>
                      <a:lnTo>
                        <a:pt x="152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76"/>
                      </a:lnTo>
                      <a:lnTo>
                        <a:pt x="158" y="576"/>
                      </a:lnTo>
                      <a:lnTo>
                        <a:pt x="158" y="569"/>
                      </a:lnTo>
                      <a:lnTo>
                        <a:pt x="158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65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2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79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86" y="576"/>
                      </a:lnTo>
                      <a:lnTo>
                        <a:pt x="186" y="576"/>
                      </a:lnTo>
                      <a:lnTo>
                        <a:pt x="186" y="569"/>
                      </a:lnTo>
                      <a:lnTo>
                        <a:pt x="186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9"/>
                      </a:lnTo>
                      <a:lnTo>
                        <a:pt x="193" y="562"/>
                      </a:lnTo>
                      <a:lnTo>
                        <a:pt x="193" y="562"/>
                      </a:lnTo>
                      <a:lnTo>
                        <a:pt x="193" y="569"/>
                      </a:lnTo>
                      <a:lnTo>
                        <a:pt x="200" y="569"/>
                      </a:lnTo>
                      <a:lnTo>
                        <a:pt x="193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2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9"/>
                      </a:lnTo>
                      <a:lnTo>
                        <a:pt x="200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06" y="569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06" y="562"/>
                      </a:lnTo>
                      <a:lnTo>
                        <a:pt x="206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13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0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55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27" y="562"/>
                      </a:lnTo>
                      <a:lnTo>
                        <a:pt x="234" y="562"/>
                      </a:lnTo>
                      <a:lnTo>
                        <a:pt x="234" y="555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34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62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1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55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48" y="548"/>
                      </a:lnTo>
                      <a:lnTo>
                        <a:pt x="255" y="548"/>
                      </a:lnTo>
                      <a:lnTo>
                        <a:pt x="248" y="548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55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1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68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75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2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89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1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48"/>
                      </a:lnTo>
                      <a:lnTo>
                        <a:pt x="296" y="555"/>
                      </a:lnTo>
                      <a:lnTo>
                        <a:pt x="296" y="555"/>
                      </a:lnTo>
                      <a:lnTo>
                        <a:pt x="303" y="548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296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3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16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23" y="548"/>
                      </a:lnTo>
                      <a:lnTo>
                        <a:pt x="330" y="520"/>
                      </a:lnTo>
                      <a:lnTo>
                        <a:pt x="337" y="500"/>
                      </a:lnTo>
                      <a:lnTo>
                        <a:pt x="344" y="430"/>
                      </a:lnTo>
                      <a:lnTo>
                        <a:pt x="351" y="396"/>
                      </a:lnTo>
                      <a:lnTo>
                        <a:pt x="364" y="347"/>
                      </a:lnTo>
                      <a:lnTo>
                        <a:pt x="364" y="319"/>
                      </a:lnTo>
                      <a:lnTo>
                        <a:pt x="364" y="312"/>
                      </a:lnTo>
                      <a:lnTo>
                        <a:pt x="364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12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305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8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92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85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8"/>
                      </a:lnTo>
                      <a:lnTo>
                        <a:pt x="371" y="271"/>
                      </a:lnTo>
                      <a:lnTo>
                        <a:pt x="371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64" y="271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64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8" y="257"/>
                      </a:lnTo>
                      <a:lnTo>
                        <a:pt x="351" y="257"/>
                      </a:lnTo>
                      <a:lnTo>
                        <a:pt x="358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1" y="250"/>
                      </a:lnTo>
                      <a:lnTo>
                        <a:pt x="358" y="250"/>
                      </a:lnTo>
                      <a:lnTo>
                        <a:pt x="358" y="250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43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8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44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22"/>
                      </a:lnTo>
                      <a:lnTo>
                        <a:pt x="337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30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16" y="208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201"/>
                      </a:lnTo>
                      <a:lnTo>
                        <a:pt x="316" y="187"/>
                      </a:lnTo>
                      <a:lnTo>
                        <a:pt x="316" y="181"/>
                      </a:lnTo>
                      <a:lnTo>
                        <a:pt x="316" y="167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9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2"/>
                      </a:lnTo>
                      <a:lnTo>
                        <a:pt x="351" y="139"/>
                      </a:lnTo>
                      <a:lnTo>
                        <a:pt x="358" y="139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58" y="132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64" y="125"/>
                      </a:lnTo>
                      <a:lnTo>
                        <a:pt x="371" y="125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92" y="139"/>
                      </a:lnTo>
                      <a:lnTo>
                        <a:pt x="385" y="139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2" y="132"/>
                      </a:lnTo>
                      <a:lnTo>
                        <a:pt x="399" y="132"/>
                      </a:lnTo>
                      <a:lnTo>
                        <a:pt x="399" y="132"/>
                      </a:lnTo>
                      <a:lnTo>
                        <a:pt x="392" y="132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25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8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11"/>
                      </a:lnTo>
                      <a:lnTo>
                        <a:pt x="392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8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51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44" y="90"/>
                      </a:lnTo>
                      <a:lnTo>
                        <a:pt x="344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97"/>
                      </a:lnTo>
                      <a:lnTo>
                        <a:pt x="337" y="76"/>
                      </a:lnTo>
                      <a:lnTo>
                        <a:pt x="337" y="56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37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44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1" y="42"/>
                      </a:lnTo>
                      <a:lnTo>
                        <a:pt x="358" y="42"/>
                      </a:lnTo>
                      <a:lnTo>
                        <a:pt x="358" y="35"/>
                      </a:lnTo>
                      <a:lnTo>
                        <a:pt x="358" y="35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64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71" y="42"/>
                      </a:lnTo>
                      <a:lnTo>
                        <a:pt x="392" y="42"/>
                      </a:lnTo>
                      <a:lnTo>
                        <a:pt x="433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35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67" y="28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74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1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1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88" y="28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35"/>
                      </a:lnTo>
                      <a:lnTo>
                        <a:pt x="495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495" y="28"/>
                      </a:lnTo>
                      <a:lnTo>
                        <a:pt x="502" y="28"/>
                      </a:lnTo>
                      <a:lnTo>
                        <a:pt x="502" y="28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2" y="21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09" y="14"/>
                      </a:lnTo>
                      <a:lnTo>
                        <a:pt x="515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36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0"/>
                      </a:lnTo>
                      <a:lnTo>
                        <a:pt x="543" y="14"/>
                      </a:lnTo>
                      <a:lnTo>
                        <a:pt x="550" y="14"/>
                      </a:lnTo>
                      <a:lnTo>
                        <a:pt x="550" y="14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0" y="28"/>
                      </a:lnTo>
                      <a:lnTo>
                        <a:pt x="557" y="28"/>
                      </a:lnTo>
                      <a:lnTo>
                        <a:pt x="557" y="28"/>
                      </a:lnTo>
                      <a:lnTo>
                        <a:pt x="563" y="28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35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2"/>
                      </a:lnTo>
                      <a:lnTo>
                        <a:pt x="563" y="49"/>
                      </a:lnTo>
                      <a:lnTo>
                        <a:pt x="570" y="49"/>
                      </a:lnTo>
                      <a:lnTo>
                        <a:pt x="570" y="49"/>
                      </a:lnTo>
                      <a:lnTo>
                        <a:pt x="570" y="63"/>
                      </a:lnTo>
                      <a:lnTo>
                        <a:pt x="570" y="63"/>
                      </a:lnTo>
                      <a:lnTo>
                        <a:pt x="570" y="70"/>
                      </a:lnTo>
                      <a:lnTo>
                        <a:pt x="570" y="70"/>
                      </a:lnTo>
                      <a:lnTo>
                        <a:pt x="563" y="76"/>
                      </a:lnTo>
                      <a:lnTo>
                        <a:pt x="570" y="83"/>
                      </a:lnTo>
                      <a:lnTo>
                        <a:pt x="570" y="83"/>
                      </a:lnTo>
                      <a:lnTo>
                        <a:pt x="563" y="90"/>
                      </a:lnTo>
                      <a:lnTo>
                        <a:pt x="584" y="83"/>
                      </a:lnTo>
                      <a:lnTo>
                        <a:pt x="612" y="104"/>
                      </a:lnTo>
                      <a:lnTo>
                        <a:pt x="632" y="125"/>
                      </a:lnTo>
                      <a:lnTo>
                        <a:pt x="639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46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25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53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0" y="118"/>
                      </a:lnTo>
                      <a:lnTo>
                        <a:pt x="666" y="118"/>
                      </a:lnTo>
                      <a:lnTo>
                        <a:pt x="666" y="118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66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11"/>
                      </a:lnTo>
                      <a:lnTo>
                        <a:pt x="673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0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87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694" y="104"/>
                      </a:lnTo>
                      <a:lnTo>
                        <a:pt x="701" y="104"/>
                      </a:lnTo>
                      <a:lnTo>
                        <a:pt x="701" y="104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1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701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25"/>
                      </a:lnTo>
                      <a:lnTo>
                        <a:pt x="694" y="132"/>
                      </a:lnTo>
                      <a:lnTo>
                        <a:pt x="694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1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32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25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08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8"/>
                      </a:lnTo>
                      <a:lnTo>
                        <a:pt x="715" y="111"/>
                      </a:lnTo>
                      <a:lnTo>
                        <a:pt x="715" y="111"/>
                      </a:lnTo>
                      <a:lnTo>
                        <a:pt x="715" y="11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59720" y="2680920"/>
                  <a:ext cx="984600" cy="457560"/>
                </a:xfrm>
                <a:custGeom>
                  <a:avLst/>
                  <a:gdLst/>
                  <a:ahLst/>
                  <a:rect l="l" t="t" r="r" b="b"/>
                  <a:pathLst>
                    <a:path w="782" h="389">
                      <a:moveTo>
                        <a:pt x="0" y="111"/>
                      </a:move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6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7" y="90"/>
                      </a:lnTo>
                      <a:lnTo>
                        <a:pt x="20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34" y="90"/>
                      </a:lnTo>
                      <a:lnTo>
                        <a:pt x="34" y="90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34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83"/>
                      </a:lnTo>
                      <a:lnTo>
                        <a:pt x="54" y="83"/>
                      </a:lnTo>
                      <a:lnTo>
                        <a:pt x="54" y="76"/>
                      </a:lnTo>
                      <a:lnTo>
                        <a:pt x="54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61" y="70"/>
                      </a:lnTo>
                      <a:lnTo>
                        <a:pt x="61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70"/>
                      </a:lnTo>
                      <a:lnTo>
                        <a:pt x="68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75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63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2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70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89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63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96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56"/>
                      </a:lnTo>
                      <a:lnTo>
                        <a:pt x="103" y="49"/>
                      </a:lnTo>
                      <a:lnTo>
                        <a:pt x="103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9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9" y="42"/>
                      </a:lnTo>
                      <a:lnTo>
                        <a:pt x="103" y="42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8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21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57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7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64" y="0"/>
                      </a:lnTo>
                      <a:lnTo>
                        <a:pt x="171" y="7"/>
                      </a:lnTo>
                      <a:lnTo>
                        <a:pt x="171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92" y="14"/>
                      </a:lnTo>
                      <a:lnTo>
                        <a:pt x="192" y="14"/>
                      </a:lnTo>
                      <a:lnTo>
                        <a:pt x="199" y="21"/>
                      </a:lnTo>
                      <a:lnTo>
                        <a:pt x="199" y="14"/>
                      </a:lnTo>
                      <a:lnTo>
                        <a:pt x="206" y="14"/>
                      </a:lnTo>
                      <a:lnTo>
                        <a:pt x="206" y="14"/>
                      </a:lnTo>
                      <a:lnTo>
                        <a:pt x="212" y="14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9" y="21"/>
                      </a:lnTo>
                      <a:lnTo>
                        <a:pt x="219" y="21"/>
                      </a:lnTo>
                      <a:lnTo>
                        <a:pt x="226" y="21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19" y="35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2" y="49"/>
                      </a:lnTo>
                      <a:lnTo>
                        <a:pt x="212" y="56"/>
                      </a:lnTo>
                      <a:lnTo>
                        <a:pt x="212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26" y="63"/>
                      </a:lnTo>
                      <a:lnTo>
                        <a:pt x="226" y="63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26" y="70"/>
                      </a:lnTo>
                      <a:lnTo>
                        <a:pt x="233" y="76"/>
                      </a:lnTo>
                      <a:lnTo>
                        <a:pt x="233" y="83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97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0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04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53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0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47" y="181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87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54" y="194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1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08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0" y="215"/>
                      </a:lnTo>
                      <a:lnTo>
                        <a:pt x="267" y="215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54" y="229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60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0" y="250"/>
                      </a:lnTo>
                      <a:lnTo>
                        <a:pt x="240" y="243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0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0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54" y="264"/>
                      </a:lnTo>
                      <a:lnTo>
                        <a:pt x="247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64"/>
                      </a:lnTo>
                      <a:lnTo>
                        <a:pt x="254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0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67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78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74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85"/>
                      </a:lnTo>
                      <a:lnTo>
                        <a:pt x="281" y="292"/>
                      </a:lnTo>
                      <a:lnTo>
                        <a:pt x="281" y="292"/>
                      </a:lnTo>
                      <a:lnTo>
                        <a:pt x="288" y="292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298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88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295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2" y="305"/>
                      </a:lnTo>
                      <a:lnTo>
                        <a:pt x="308" y="305"/>
                      </a:lnTo>
                      <a:lnTo>
                        <a:pt x="308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15" y="312"/>
                      </a:lnTo>
                      <a:lnTo>
                        <a:pt x="322" y="312"/>
                      </a:lnTo>
                      <a:lnTo>
                        <a:pt x="322" y="319"/>
                      </a:lnTo>
                      <a:lnTo>
                        <a:pt x="322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9" y="319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22" y="312"/>
                      </a:lnTo>
                      <a:lnTo>
                        <a:pt x="315" y="312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305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8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92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15" y="285"/>
                      </a:lnTo>
                      <a:lnTo>
                        <a:pt x="322" y="285"/>
                      </a:lnTo>
                      <a:lnTo>
                        <a:pt x="315" y="278"/>
                      </a:lnTo>
                      <a:lnTo>
                        <a:pt x="315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8"/>
                      </a:lnTo>
                      <a:lnTo>
                        <a:pt x="322" y="271"/>
                      </a:lnTo>
                      <a:lnTo>
                        <a:pt x="322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71"/>
                      </a:lnTo>
                      <a:lnTo>
                        <a:pt x="315" y="264"/>
                      </a:lnTo>
                      <a:lnTo>
                        <a:pt x="315" y="264"/>
                      </a:lnTo>
                      <a:lnTo>
                        <a:pt x="322" y="264"/>
                      </a:lnTo>
                      <a:lnTo>
                        <a:pt x="322" y="264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7"/>
                      </a:lnTo>
                      <a:lnTo>
                        <a:pt x="322" y="250"/>
                      </a:lnTo>
                      <a:lnTo>
                        <a:pt x="322" y="250"/>
                      </a:lnTo>
                      <a:lnTo>
                        <a:pt x="329" y="250"/>
                      </a:lnTo>
                      <a:lnTo>
                        <a:pt x="329" y="250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29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43"/>
                      </a:lnTo>
                      <a:lnTo>
                        <a:pt x="336" y="236"/>
                      </a:lnTo>
                      <a:lnTo>
                        <a:pt x="336" y="243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43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36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63" y="229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63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0" y="236"/>
                      </a:lnTo>
                      <a:lnTo>
                        <a:pt x="377" y="236"/>
                      </a:lnTo>
                      <a:lnTo>
                        <a:pt x="370" y="236"/>
                      </a:lnTo>
                      <a:lnTo>
                        <a:pt x="370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43"/>
                      </a:lnTo>
                      <a:lnTo>
                        <a:pt x="377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0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57"/>
                      </a:lnTo>
                      <a:lnTo>
                        <a:pt x="384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1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398" y="264"/>
                      </a:lnTo>
                      <a:lnTo>
                        <a:pt x="405" y="257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64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05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1" y="257"/>
                      </a:lnTo>
                      <a:lnTo>
                        <a:pt x="418" y="257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18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25" y="243"/>
                      </a:lnTo>
                      <a:lnTo>
                        <a:pt x="418" y="243"/>
                      </a:lnTo>
                      <a:lnTo>
                        <a:pt x="418" y="243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36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18" y="229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18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15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8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201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94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2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81"/>
                      </a:lnTo>
                      <a:lnTo>
                        <a:pt x="439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74"/>
                      </a:lnTo>
                      <a:lnTo>
                        <a:pt x="446" y="167"/>
                      </a:lnTo>
                      <a:lnTo>
                        <a:pt x="446" y="167"/>
                      </a:lnTo>
                      <a:lnTo>
                        <a:pt x="501" y="167"/>
                      </a:lnTo>
                      <a:lnTo>
                        <a:pt x="521" y="167"/>
                      </a:lnTo>
                      <a:lnTo>
                        <a:pt x="542" y="167"/>
                      </a:lnTo>
                      <a:lnTo>
                        <a:pt x="542" y="187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194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08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15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49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2"/>
                      </a:lnTo>
                      <a:lnTo>
                        <a:pt x="556" y="229"/>
                      </a:lnTo>
                      <a:lnTo>
                        <a:pt x="556" y="229"/>
                      </a:lnTo>
                      <a:lnTo>
                        <a:pt x="563" y="229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63" y="236"/>
                      </a:lnTo>
                      <a:lnTo>
                        <a:pt x="556" y="236"/>
                      </a:lnTo>
                      <a:lnTo>
                        <a:pt x="556" y="236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56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43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3" y="250"/>
                      </a:lnTo>
                      <a:lnTo>
                        <a:pt x="569" y="250"/>
                      </a:lnTo>
                      <a:lnTo>
                        <a:pt x="569" y="250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69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57"/>
                      </a:lnTo>
                      <a:lnTo>
                        <a:pt x="576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64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1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83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78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0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597" y="285"/>
                      </a:lnTo>
                      <a:lnTo>
                        <a:pt x="604" y="285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04" y="292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17" y="285"/>
                      </a:lnTo>
                      <a:lnTo>
                        <a:pt x="624" y="285"/>
                      </a:lnTo>
                      <a:lnTo>
                        <a:pt x="624" y="285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2"/>
                      </a:lnTo>
                      <a:lnTo>
                        <a:pt x="624" y="298"/>
                      </a:lnTo>
                      <a:lnTo>
                        <a:pt x="624" y="298"/>
                      </a:lnTo>
                      <a:lnTo>
                        <a:pt x="617" y="298"/>
                      </a:lnTo>
                      <a:lnTo>
                        <a:pt x="617" y="298"/>
                      </a:lnTo>
                      <a:lnTo>
                        <a:pt x="617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05"/>
                      </a:lnTo>
                      <a:lnTo>
                        <a:pt x="624" y="312"/>
                      </a:lnTo>
                      <a:lnTo>
                        <a:pt x="624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1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2"/>
                      </a:lnTo>
                      <a:lnTo>
                        <a:pt x="638" y="319"/>
                      </a:lnTo>
                      <a:lnTo>
                        <a:pt x="638" y="319"/>
                      </a:lnTo>
                      <a:lnTo>
                        <a:pt x="638" y="312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2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19"/>
                      </a:lnTo>
                      <a:lnTo>
                        <a:pt x="645" y="326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19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2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59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26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66" y="333"/>
                      </a:lnTo>
                      <a:lnTo>
                        <a:pt x="672" y="326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2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79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86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33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693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0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0" y="347"/>
                      </a:lnTo>
                      <a:lnTo>
                        <a:pt x="707" y="347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07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14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0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1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68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27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34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75"/>
                      </a:lnTo>
                      <a:lnTo>
                        <a:pt x="741" y="368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48" y="375"/>
                      </a:lnTo>
                      <a:lnTo>
                        <a:pt x="748" y="368"/>
                      </a:lnTo>
                      <a:lnTo>
                        <a:pt x="748" y="368"/>
                      </a:lnTo>
                      <a:lnTo>
                        <a:pt x="755" y="368"/>
                      </a:lnTo>
                      <a:lnTo>
                        <a:pt x="755" y="375"/>
                      </a:lnTo>
                      <a:lnTo>
                        <a:pt x="755" y="375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55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2" y="368"/>
                      </a:lnTo>
                      <a:lnTo>
                        <a:pt x="768" y="368"/>
                      </a:lnTo>
                      <a:lnTo>
                        <a:pt x="768" y="368"/>
                      </a:lnTo>
                      <a:lnTo>
                        <a:pt x="768" y="361"/>
                      </a:lnTo>
                      <a:lnTo>
                        <a:pt x="768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75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82" y="361"/>
                      </a:lnTo>
                      <a:lnTo>
                        <a:pt x="775" y="368"/>
                      </a:lnTo>
                      <a:lnTo>
                        <a:pt x="775" y="368"/>
                      </a:lnTo>
                      <a:lnTo>
                        <a:pt x="775" y="375"/>
                      </a:lnTo>
                      <a:lnTo>
                        <a:pt x="768" y="375"/>
                      </a:lnTo>
                      <a:lnTo>
                        <a:pt x="768" y="375"/>
                      </a:lnTo>
                      <a:lnTo>
                        <a:pt x="762" y="382"/>
                      </a:lnTo>
                      <a:lnTo>
                        <a:pt x="762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2"/>
                      </a:lnTo>
                      <a:lnTo>
                        <a:pt x="755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259360" y="3138840"/>
                  <a:ext cx="1851120" cy="741960"/>
                </a:xfrm>
                <a:custGeom>
                  <a:avLst/>
                  <a:gdLst/>
                  <a:ahLst/>
                  <a:rect l="l" t="t" r="r" b="b"/>
                  <a:pathLst>
                    <a:path w="1470" h="631">
                      <a:moveTo>
                        <a:pt x="1470" y="0"/>
                      </a:moveTo>
                      <a:lnTo>
                        <a:pt x="1470" y="0"/>
                      </a:lnTo>
                      <a:lnTo>
                        <a:pt x="1470" y="0"/>
                      </a:lnTo>
                      <a:lnTo>
                        <a:pt x="1463" y="7"/>
                      </a:lnTo>
                      <a:lnTo>
                        <a:pt x="1463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7"/>
                      </a:lnTo>
                      <a:lnTo>
                        <a:pt x="1470" y="13"/>
                      </a:lnTo>
                      <a:lnTo>
                        <a:pt x="1463" y="20"/>
                      </a:lnTo>
                      <a:lnTo>
                        <a:pt x="1456" y="34"/>
                      </a:lnTo>
                      <a:lnTo>
                        <a:pt x="1456" y="41"/>
                      </a:lnTo>
                      <a:lnTo>
                        <a:pt x="1449" y="55"/>
                      </a:lnTo>
                      <a:lnTo>
                        <a:pt x="1442" y="76"/>
                      </a:lnTo>
                      <a:lnTo>
                        <a:pt x="1442" y="76"/>
                      </a:lnTo>
                      <a:lnTo>
                        <a:pt x="1435" y="83"/>
                      </a:lnTo>
                      <a:lnTo>
                        <a:pt x="1429" y="97"/>
                      </a:lnTo>
                      <a:lnTo>
                        <a:pt x="1429" y="104"/>
                      </a:lnTo>
                      <a:lnTo>
                        <a:pt x="1422" y="111"/>
                      </a:lnTo>
                      <a:lnTo>
                        <a:pt x="1415" y="118"/>
                      </a:lnTo>
                      <a:lnTo>
                        <a:pt x="1401" y="166"/>
                      </a:lnTo>
                      <a:lnTo>
                        <a:pt x="1374" y="215"/>
                      </a:lnTo>
                      <a:lnTo>
                        <a:pt x="1367" y="229"/>
                      </a:lnTo>
                      <a:lnTo>
                        <a:pt x="1360" y="242"/>
                      </a:lnTo>
                      <a:lnTo>
                        <a:pt x="1346" y="270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12" y="346"/>
                      </a:lnTo>
                      <a:lnTo>
                        <a:pt x="1305" y="346"/>
                      </a:lnTo>
                      <a:lnTo>
                        <a:pt x="1305" y="346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305" y="353"/>
                      </a:lnTo>
                      <a:lnTo>
                        <a:pt x="1298" y="360"/>
                      </a:lnTo>
                      <a:lnTo>
                        <a:pt x="1298" y="360"/>
                      </a:lnTo>
                      <a:lnTo>
                        <a:pt x="1298" y="367"/>
                      </a:lnTo>
                      <a:lnTo>
                        <a:pt x="1298" y="367"/>
                      </a:lnTo>
                      <a:lnTo>
                        <a:pt x="1291" y="374"/>
                      </a:lnTo>
                      <a:lnTo>
                        <a:pt x="1298" y="374"/>
                      </a:lnTo>
                      <a:lnTo>
                        <a:pt x="1298" y="381"/>
                      </a:lnTo>
                      <a:lnTo>
                        <a:pt x="1298" y="381"/>
                      </a:lnTo>
                      <a:lnTo>
                        <a:pt x="1298" y="388"/>
                      </a:lnTo>
                      <a:lnTo>
                        <a:pt x="1298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88"/>
                      </a:lnTo>
                      <a:lnTo>
                        <a:pt x="1305" y="395"/>
                      </a:lnTo>
                      <a:lnTo>
                        <a:pt x="1312" y="395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2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2"/>
                      </a:lnTo>
                      <a:lnTo>
                        <a:pt x="1319" y="409"/>
                      </a:lnTo>
                      <a:lnTo>
                        <a:pt x="1319" y="409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16"/>
                      </a:lnTo>
                      <a:lnTo>
                        <a:pt x="1319" y="423"/>
                      </a:lnTo>
                      <a:lnTo>
                        <a:pt x="1326" y="423"/>
                      </a:lnTo>
                      <a:lnTo>
                        <a:pt x="1326" y="423"/>
                      </a:lnTo>
                      <a:lnTo>
                        <a:pt x="1319" y="423"/>
                      </a:lnTo>
                      <a:lnTo>
                        <a:pt x="1319" y="430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37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9" y="444"/>
                      </a:lnTo>
                      <a:lnTo>
                        <a:pt x="1312" y="444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1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12" y="457"/>
                      </a:lnTo>
                      <a:lnTo>
                        <a:pt x="1305" y="457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64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1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05" y="478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12" y="485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2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499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06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305" y="513"/>
                      </a:lnTo>
                      <a:lnTo>
                        <a:pt x="1298" y="513"/>
                      </a:lnTo>
                      <a:lnTo>
                        <a:pt x="1298" y="513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0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27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34"/>
                      </a:lnTo>
                      <a:lnTo>
                        <a:pt x="1298" y="541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34"/>
                      </a:lnTo>
                      <a:lnTo>
                        <a:pt x="1305" y="541"/>
                      </a:lnTo>
                      <a:lnTo>
                        <a:pt x="1305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1"/>
                      </a:lnTo>
                      <a:lnTo>
                        <a:pt x="1298" y="548"/>
                      </a:lnTo>
                      <a:lnTo>
                        <a:pt x="1291" y="548"/>
                      </a:lnTo>
                      <a:lnTo>
                        <a:pt x="1243" y="548"/>
                      </a:lnTo>
                      <a:lnTo>
                        <a:pt x="1243" y="548"/>
                      </a:lnTo>
                      <a:lnTo>
                        <a:pt x="1181" y="548"/>
                      </a:lnTo>
                      <a:lnTo>
                        <a:pt x="1133" y="548"/>
                      </a:lnTo>
                      <a:lnTo>
                        <a:pt x="1099" y="548"/>
                      </a:lnTo>
                      <a:lnTo>
                        <a:pt x="1099" y="548"/>
                      </a:lnTo>
                      <a:lnTo>
                        <a:pt x="1092" y="548"/>
                      </a:lnTo>
                      <a:lnTo>
                        <a:pt x="1030" y="548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30" y="541"/>
                      </a:lnTo>
                      <a:lnTo>
                        <a:pt x="1023" y="541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23" y="534"/>
                      </a:lnTo>
                      <a:lnTo>
                        <a:pt x="1017" y="534"/>
                      </a:lnTo>
                      <a:lnTo>
                        <a:pt x="1017" y="534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7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1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10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1003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96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2" y="541"/>
                      </a:lnTo>
                      <a:lnTo>
                        <a:pt x="982" y="541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34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82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27"/>
                      </a:lnTo>
                      <a:lnTo>
                        <a:pt x="975" y="534"/>
                      </a:lnTo>
                      <a:lnTo>
                        <a:pt x="975" y="534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7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20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9" y="513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62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55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506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8" y="499"/>
                      </a:lnTo>
                      <a:lnTo>
                        <a:pt x="941" y="499"/>
                      </a:lnTo>
                      <a:lnTo>
                        <a:pt x="941" y="499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92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41" y="485"/>
                      </a:lnTo>
                      <a:lnTo>
                        <a:pt x="934" y="485"/>
                      </a:lnTo>
                      <a:lnTo>
                        <a:pt x="934" y="485"/>
                      </a:lnTo>
                      <a:lnTo>
                        <a:pt x="934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7" y="478"/>
                      </a:lnTo>
                      <a:lnTo>
                        <a:pt x="921" y="471"/>
                      </a:lnTo>
                      <a:lnTo>
                        <a:pt x="886" y="478"/>
                      </a:lnTo>
                      <a:lnTo>
                        <a:pt x="872" y="478"/>
                      </a:lnTo>
                      <a:lnTo>
                        <a:pt x="866" y="471"/>
                      </a:lnTo>
                      <a:lnTo>
                        <a:pt x="859" y="471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78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9" y="485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2"/>
                      </a:lnTo>
                      <a:lnTo>
                        <a:pt x="852" y="499"/>
                      </a:lnTo>
                      <a:lnTo>
                        <a:pt x="852" y="499"/>
                      </a:lnTo>
                      <a:lnTo>
                        <a:pt x="845" y="499"/>
                      </a:lnTo>
                      <a:lnTo>
                        <a:pt x="845" y="499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506"/>
                      </a:lnTo>
                      <a:lnTo>
                        <a:pt x="845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499"/>
                      </a:lnTo>
                      <a:lnTo>
                        <a:pt x="838" y="506"/>
                      </a:lnTo>
                      <a:lnTo>
                        <a:pt x="838" y="506"/>
                      </a:lnTo>
                      <a:lnTo>
                        <a:pt x="831" y="506"/>
                      </a:lnTo>
                      <a:lnTo>
                        <a:pt x="831" y="506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13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0"/>
                      </a:lnTo>
                      <a:lnTo>
                        <a:pt x="831" y="527"/>
                      </a:lnTo>
                      <a:lnTo>
                        <a:pt x="838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31" y="527"/>
                      </a:lnTo>
                      <a:lnTo>
                        <a:pt x="824" y="527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24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34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1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48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8" y="555"/>
                      </a:lnTo>
                      <a:lnTo>
                        <a:pt x="811" y="555"/>
                      </a:lnTo>
                      <a:lnTo>
                        <a:pt x="811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62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804" y="555"/>
                      </a:lnTo>
                      <a:lnTo>
                        <a:pt x="797" y="555"/>
                      </a:lnTo>
                      <a:lnTo>
                        <a:pt x="797" y="555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90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83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76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63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2"/>
                      </a:lnTo>
                      <a:lnTo>
                        <a:pt x="756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68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75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2"/>
                      </a:lnTo>
                      <a:lnTo>
                        <a:pt x="749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89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42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35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96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9"/>
                      </a:lnTo>
                      <a:lnTo>
                        <a:pt x="728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2"/>
                      </a:lnTo>
                      <a:lnTo>
                        <a:pt x="721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15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89"/>
                      </a:lnTo>
                      <a:lnTo>
                        <a:pt x="708" y="596"/>
                      </a:lnTo>
                      <a:lnTo>
                        <a:pt x="708" y="596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8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701" y="603"/>
                      </a:lnTo>
                      <a:lnTo>
                        <a:pt x="701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94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596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7" y="603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80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10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73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603"/>
                      </a:lnTo>
                      <a:lnTo>
                        <a:pt x="666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60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53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46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9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32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596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25" y="603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0"/>
                      </a:lnTo>
                      <a:lnTo>
                        <a:pt x="618" y="617"/>
                      </a:lnTo>
                      <a:lnTo>
                        <a:pt x="618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12" y="617"/>
                      </a:lnTo>
                      <a:lnTo>
                        <a:pt x="605" y="617"/>
                      </a:lnTo>
                      <a:lnTo>
                        <a:pt x="605" y="617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8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24"/>
                      </a:lnTo>
                      <a:lnTo>
                        <a:pt x="591" y="631"/>
                      </a:lnTo>
                      <a:lnTo>
                        <a:pt x="591" y="631"/>
                      </a:lnTo>
                      <a:lnTo>
                        <a:pt x="570" y="624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63" y="617"/>
                      </a:lnTo>
                      <a:lnTo>
                        <a:pt x="550" y="610"/>
                      </a:lnTo>
                      <a:lnTo>
                        <a:pt x="495" y="589"/>
                      </a:lnTo>
                      <a:lnTo>
                        <a:pt x="474" y="582"/>
                      </a:lnTo>
                      <a:lnTo>
                        <a:pt x="440" y="568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26" y="562"/>
                      </a:lnTo>
                      <a:lnTo>
                        <a:pt x="406" y="548"/>
                      </a:lnTo>
                      <a:lnTo>
                        <a:pt x="392" y="541"/>
                      </a:lnTo>
                      <a:lnTo>
                        <a:pt x="371" y="534"/>
                      </a:lnTo>
                      <a:lnTo>
                        <a:pt x="358" y="527"/>
                      </a:lnTo>
                      <a:lnTo>
                        <a:pt x="344" y="513"/>
                      </a:lnTo>
                      <a:lnTo>
                        <a:pt x="309" y="499"/>
                      </a:lnTo>
                      <a:lnTo>
                        <a:pt x="296" y="492"/>
                      </a:lnTo>
                      <a:lnTo>
                        <a:pt x="289" y="485"/>
                      </a:lnTo>
                      <a:lnTo>
                        <a:pt x="282" y="485"/>
                      </a:lnTo>
                      <a:lnTo>
                        <a:pt x="275" y="485"/>
                      </a:lnTo>
                      <a:lnTo>
                        <a:pt x="241" y="478"/>
                      </a:lnTo>
                      <a:lnTo>
                        <a:pt x="213" y="471"/>
                      </a:lnTo>
                      <a:lnTo>
                        <a:pt x="193" y="464"/>
                      </a:lnTo>
                      <a:lnTo>
                        <a:pt x="186" y="464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52" y="457"/>
                      </a:lnTo>
                      <a:lnTo>
                        <a:pt x="138" y="451"/>
                      </a:lnTo>
                      <a:lnTo>
                        <a:pt x="138" y="451"/>
                      </a:lnTo>
                      <a:lnTo>
                        <a:pt x="97" y="444"/>
                      </a:lnTo>
                      <a:lnTo>
                        <a:pt x="97" y="444"/>
                      </a:lnTo>
                      <a:lnTo>
                        <a:pt x="76" y="437"/>
                      </a:lnTo>
                      <a:lnTo>
                        <a:pt x="42" y="423"/>
                      </a:lnTo>
                      <a:lnTo>
                        <a:pt x="7" y="402"/>
                      </a:lnTo>
                      <a:lnTo>
                        <a:pt x="0" y="4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11200" y="2378880"/>
                  <a:ext cx="639360" cy="677520"/>
                </a:xfrm>
                <a:custGeom>
                  <a:avLst/>
                  <a:gdLst/>
                  <a:ahLst/>
                  <a:rect l="l" t="t" r="r" b="b"/>
                  <a:pathLst>
                    <a:path w="508" h="576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87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494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8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424"/>
                      </a:lnTo>
                      <a:lnTo>
                        <a:pt x="480" y="424"/>
                      </a:lnTo>
                      <a:lnTo>
                        <a:pt x="460" y="424"/>
                      </a:lnTo>
                      <a:lnTo>
                        <a:pt x="405" y="424"/>
                      </a:lnTo>
                      <a:lnTo>
                        <a:pt x="405" y="424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398" y="431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38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8" y="444"/>
                      </a:lnTo>
                      <a:lnTo>
                        <a:pt x="391" y="444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1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91" y="458"/>
                      </a:lnTo>
                      <a:lnTo>
                        <a:pt x="384" y="458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65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2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84" y="479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86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493"/>
                      </a:lnTo>
                      <a:lnTo>
                        <a:pt x="377" y="500"/>
                      </a:lnTo>
                      <a:lnTo>
                        <a:pt x="377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0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84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07"/>
                      </a:lnTo>
                      <a:lnTo>
                        <a:pt x="377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70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14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21"/>
                      </a:lnTo>
                      <a:lnTo>
                        <a:pt x="364" y="514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7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50" y="521"/>
                      </a:lnTo>
                      <a:lnTo>
                        <a:pt x="343" y="521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14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43" y="507"/>
                      </a:lnTo>
                      <a:lnTo>
                        <a:pt x="336" y="507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36" y="500"/>
                      </a:lnTo>
                      <a:lnTo>
                        <a:pt x="329" y="500"/>
                      </a:lnTo>
                      <a:lnTo>
                        <a:pt x="329" y="493"/>
                      </a:lnTo>
                      <a:lnTo>
                        <a:pt x="336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9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93"/>
                      </a:lnTo>
                      <a:lnTo>
                        <a:pt x="322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16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86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295" y="500"/>
                      </a:lnTo>
                      <a:lnTo>
                        <a:pt x="295" y="493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95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0"/>
                      </a:lnTo>
                      <a:lnTo>
                        <a:pt x="288" y="507"/>
                      </a:lnTo>
                      <a:lnTo>
                        <a:pt x="288" y="507"/>
                      </a:lnTo>
                      <a:lnTo>
                        <a:pt x="281" y="507"/>
                      </a:lnTo>
                      <a:lnTo>
                        <a:pt x="281" y="507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14"/>
                      </a:lnTo>
                      <a:lnTo>
                        <a:pt x="281" y="521"/>
                      </a:lnTo>
                      <a:lnTo>
                        <a:pt x="281" y="521"/>
                      </a:lnTo>
                      <a:lnTo>
                        <a:pt x="274" y="521"/>
                      </a:lnTo>
                      <a:lnTo>
                        <a:pt x="274" y="521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74" y="528"/>
                      </a:lnTo>
                      <a:lnTo>
                        <a:pt x="281" y="528"/>
                      </a:lnTo>
                      <a:lnTo>
                        <a:pt x="281" y="528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81" y="535"/>
                      </a:lnTo>
                      <a:lnTo>
                        <a:pt x="274" y="535"/>
                      </a:lnTo>
                      <a:lnTo>
                        <a:pt x="274" y="535"/>
                      </a:lnTo>
                      <a:lnTo>
                        <a:pt x="281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2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49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55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2"/>
                      </a:lnTo>
                      <a:lnTo>
                        <a:pt x="274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1" y="569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8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74" y="569"/>
                      </a:lnTo>
                      <a:lnTo>
                        <a:pt x="267" y="569"/>
                      </a:lnTo>
                      <a:lnTo>
                        <a:pt x="267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61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55"/>
                      </a:lnTo>
                      <a:lnTo>
                        <a:pt x="247" y="549"/>
                      </a:lnTo>
                      <a:lnTo>
                        <a:pt x="240" y="549"/>
                      </a:lnTo>
                      <a:lnTo>
                        <a:pt x="240" y="549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40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42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33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35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26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9" y="528"/>
                      </a:lnTo>
                      <a:lnTo>
                        <a:pt x="213" y="528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13" y="521"/>
                      </a:lnTo>
                      <a:lnTo>
                        <a:pt x="206" y="521"/>
                      </a:lnTo>
                      <a:lnTo>
                        <a:pt x="213" y="521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206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14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7"/>
                      </a:lnTo>
                      <a:lnTo>
                        <a:pt x="199" y="500"/>
                      </a:lnTo>
                      <a:lnTo>
                        <a:pt x="199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06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7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500"/>
                      </a:lnTo>
                      <a:lnTo>
                        <a:pt x="219" y="500"/>
                      </a:lnTo>
                      <a:lnTo>
                        <a:pt x="219" y="500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93"/>
                      </a:lnTo>
                      <a:lnTo>
                        <a:pt x="213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86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19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9"/>
                      </a:lnTo>
                      <a:lnTo>
                        <a:pt x="226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72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51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13" y="444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8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31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206" y="417"/>
                      </a:lnTo>
                      <a:lnTo>
                        <a:pt x="199" y="417"/>
                      </a:lnTo>
                      <a:lnTo>
                        <a:pt x="206" y="417"/>
                      </a:lnTo>
                      <a:lnTo>
                        <a:pt x="206" y="417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206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10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396"/>
                      </a:lnTo>
                      <a:lnTo>
                        <a:pt x="199" y="396"/>
                      </a:lnTo>
                      <a:lnTo>
                        <a:pt x="199" y="389"/>
                      </a:lnTo>
                      <a:lnTo>
                        <a:pt x="199" y="389"/>
                      </a:lnTo>
                      <a:lnTo>
                        <a:pt x="199" y="382"/>
                      </a:lnTo>
                      <a:lnTo>
                        <a:pt x="199" y="382"/>
                      </a:lnTo>
                      <a:lnTo>
                        <a:pt x="206" y="382"/>
                      </a:lnTo>
                      <a:lnTo>
                        <a:pt x="206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75"/>
                      </a:lnTo>
                      <a:lnTo>
                        <a:pt x="199" y="368"/>
                      </a:lnTo>
                      <a:lnTo>
                        <a:pt x="206" y="368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206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61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9" y="354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0"/>
                      </a:lnTo>
                      <a:lnTo>
                        <a:pt x="192" y="333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7"/>
                      </a:lnTo>
                      <a:lnTo>
                        <a:pt x="185" y="320"/>
                      </a:lnTo>
                      <a:lnTo>
                        <a:pt x="185" y="320"/>
                      </a:lnTo>
                      <a:lnTo>
                        <a:pt x="178" y="320"/>
                      </a:lnTo>
                      <a:lnTo>
                        <a:pt x="178" y="320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8" y="313"/>
                      </a:lnTo>
                      <a:lnTo>
                        <a:pt x="171" y="313"/>
                      </a:lnTo>
                      <a:lnTo>
                        <a:pt x="171" y="313"/>
                      </a:lnTo>
                      <a:lnTo>
                        <a:pt x="171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306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9"/>
                      </a:lnTo>
                      <a:lnTo>
                        <a:pt x="178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1" y="278"/>
                      </a:lnTo>
                      <a:lnTo>
                        <a:pt x="171" y="278"/>
                      </a:lnTo>
                      <a:lnTo>
                        <a:pt x="171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58" y="271"/>
                      </a:lnTo>
                      <a:lnTo>
                        <a:pt x="158" y="278"/>
                      </a:lnTo>
                      <a:lnTo>
                        <a:pt x="151" y="271"/>
                      </a:lnTo>
                      <a:lnTo>
                        <a:pt x="151" y="271"/>
                      </a:lnTo>
                      <a:lnTo>
                        <a:pt x="144" y="271"/>
                      </a:lnTo>
                      <a:lnTo>
                        <a:pt x="144" y="271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44" y="264"/>
                      </a:lnTo>
                      <a:lnTo>
                        <a:pt x="137" y="264"/>
                      </a:lnTo>
                      <a:lnTo>
                        <a:pt x="137" y="264"/>
                      </a:lnTo>
                      <a:lnTo>
                        <a:pt x="130" y="264"/>
                      </a:lnTo>
                      <a:lnTo>
                        <a:pt x="130" y="264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7"/>
                      </a:lnTo>
                      <a:lnTo>
                        <a:pt x="123" y="250"/>
                      </a:lnTo>
                      <a:lnTo>
                        <a:pt x="123" y="250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43"/>
                      </a:lnTo>
                      <a:lnTo>
                        <a:pt x="123" y="236"/>
                      </a:lnTo>
                      <a:lnTo>
                        <a:pt x="123" y="236"/>
                      </a:lnTo>
                      <a:lnTo>
                        <a:pt x="116" y="236"/>
                      </a:lnTo>
                      <a:lnTo>
                        <a:pt x="116" y="236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96" y="243"/>
                      </a:lnTo>
                      <a:lnTo>
                        <a:pt x="96" y="243"/>
                      </a:lnTo>
                      <a:lnTo>
                        <a:pt x="89" y="243"/>
                      </a:lnTo>
                      <a:lnTo>
                        <a:pt x="82" y="243"/>
                      </a:lnTo>
                      <a:lnTo>
                        <a:pt x="82" y="243"/>
                      </a:lnTo>
                      <a:lnTo>
                        <a:pt x="82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75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36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9"/>
                      </a:lnTo>
                      <a:lnTo>
                        <a:pt x="68" y="222"/>
                      </a:lnTo>
                      <a:lnTo>
                        <a:pt x="68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22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68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16"/>
                      </a:lnTo>
                      <a:lnTo>
                        <a:pt x="75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9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202"/>
                      </a:lnTo>
                      <a:lnTo>
                        <a:pt x="68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95"/>
                      </a:lnTo>
                      <a:lnTo>
                        <a:pt x="62" y="188"/>
                      </a:lnTo>
                      <a:lnTo>
                        <a:pt x="62" y="188"/>
                      </a:lnTo>
                      <a:lnTo>
                        <a:pt x="55" y="188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81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48" y="160"/>
                      </a:lnTo>
                      <a:lnTo>
                        <a:pt x="48" y="160"/>
                      </a:lnTo>
                      <a:lnTo>
                        <a:pt x="48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46"/>
                      </a:lnTo>
                      <a:close/>
                    </a:path>
                  </a:pathLst>
                </a:custGeom>
                <a:solidFill>
                  <a:srgbClr val="38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11200" y="2378880"/>
                  <a:ext cx="613080" cy="391680"/>
                </a:xfrm>
                <a:custGeom>
                  <a:avLst/>
                  <a:gdLst/>
                  <a:ahLst/>
                  <a:rect l="l" t="t" r="r" b="b"/>
                  <a:pathLst>
                    <a:path w="487" h="333">
                      <a:moveTo>
                        <a:pt x="55" y="146"/>
                      </a:moveTo>
                      <a:lnTo>
                        <a:pt x="55" y="146"/>
                      </a:lnTo>
                      <a:lnTo>
                        <a:pt x="55" y="146"/>
                      </a:lnTo>
                      <a:lnTo>
                        <a:pt x="55" y="139"/>
                      </a:lnTo>
                      <a:lnTo>
                        <a:pt x="48" y="139"/>
                      </a:lnTo>
                      <a:lnTo>
                        <a:pt x="48" y="139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1" y="132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105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8"/>
                      </a:lnTo>
                      <a:lnTo>
                        <a:pt x="7" y="91"/>
                      </a:lnTo>
                      <a:lnTo>
                        <a:pt x="0" y="91"/>
                      </a:lnTo>
                      <a:lnTo>
                        <a:pt x="0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7" y="84"/>
                      </a:lnTo>
                      <a:lnTo>
                        <a:pt x="13" y="84"/>
                      </a:lnTo>
                      <a:lnTo>
                        <a:pt x="13" y="91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27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98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2" y="105"/>
                      </a:lnTo>
                      <a:lnTo>
                        <a:pt x="68" y="105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96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05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03" y="111"/>
                      </a:lnTo>
                      <a:lnTo>
                        <a:pt x="110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23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0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18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2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9"/>
                      </a:lnTo>
                      <a:lnTo>
                        <a:pt x="165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1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32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25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1" y="118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78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85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2" y="105"/>
                      </a:lnTo>
                      <a:lnTo>
                        <a:pt x="199" y="105"/>
                      </a:lnTo>
                      <a:lnTo>
                        <a:pt x="192" y="105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2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199" y="98"/>
                      </a:lnTo>
                      <a:lnTo>
                        <a:pt x="206" y="98"/>
                      </a:lnTo>
                      <a:lnTo>
                        <a:pt x="206" y="91"/>
                      </a:lnTo>
                      <a:lnTo>
                        <a:pt x="199" y="91"/>
                      </a:lnTo>
                      <a:lnTo>
                        <a:pt x="199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06" y="91"/>
                      </a:lnTo>
                      <a:lnTo>
                        <a:pt x="213" y="91"/>
                      </a:lnTo>
                      <a:lnTo>
                        <a:pt x="213" y="91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3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19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26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8"/>
                      </a:lnTo>
                      <a:lnTo>
                        <a:pt x="233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8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0" y="91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8"/>
                      </a:lnTo>
                      <a:lnTo>
                        <a:pt x="247" y="91"/>
                      </a:lnTo>
                      <a:lnTo>
                        <a:pt x="247" y="91"/>
                      </a:lnTo>
                      <a:lnTo>
                        <a:pt x="247" y="98"/>
                      </a:lnTo>
                      <a:lnTo>
                        <a:pt x="254" y="98"/>
                      </a:lnTo>
                      <a:lnTo>
                        <a:pt x="254" y="98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91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1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67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74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295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70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09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16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63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56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36" y="49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43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64" y="28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0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0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7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0"/>
                      </a:lnTo>
                      <a:lnTo>
                        <a:pt x="398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7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05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14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1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12" y="28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35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49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56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398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05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2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19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25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0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2" y="77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84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2" y="91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05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1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18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25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9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2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32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25" y="139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19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46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53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0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25" y="167"/>
                      </a:lnTo>
                      <a:lnTo>
                        <a:pt x="419" y="167"/>
                      </a:lnTo>
                      <a:lnTo>
                        <a:pt x="419" y="167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74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9" y="181"/>
                      </a:lnTo>
                      <a:lnTo>
                        <a:pt x="412" y="181"/>
                      </a:lnTo>
                      <a:lnTo>
                        <a:pt x="412" y="181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2"/>
                      </a:lnTo>
                      <a:lnTo>
                        <a:pt x="412" y="209"/>
                      </a:lnTo>
                      <a:lnTo>
                        <a:pt x="412" y="209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16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2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19" y="243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85"/>
                      </a:lnTo>
                      <a:lnTo>
                        <a:pt x="439" y="285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46" y="299"/>
                      </a:lnTo>
                      <a:lnTo>
                        <a:pt x="453" y="299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53" y="306"/>
                      </a:lnTo>
                      <a:lnTo>
                        <a:pt x="460" y="306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13"/>
                      </a:lnTo>
                      <a:lnTo>
                        <a:pt x="460" y="320"/>
                      </a:lnTo>
                      <a:lnTo>
                        <a:pt x="460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67" y="320"/>
                      </a:lnTo>
                      <a:lnTo>
                        <a:pt x="473" y="327"/>
                      </a:lnTo>
                      <a:lnTo>
                        <a:pt x="467" y="327"/>
                      </a:lnTo>
                      <a:lnTo>
                        <a:pt x="467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73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27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0" y="333"/>
                      </a:lnTo>
                      <a:lnTo>
                        <a:pt x="487" y="333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71680" y="2550600"/>
                  <a:ext cx="578880" cy="505800"/>
                </a:xfrm>
                <a:custGeom>
                  <a:avLst/>
                  <a:gdLst/>
                  <a:ahLst/>
                  <a:rect l="l" t="t" r="r" b="b"/>
                  <a:pathLst>
                    <a:path w="460" h="430">
                      <a:moveTo>
                        <a:pt x="439" y="187"/>
                      </a:move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39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46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87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60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194"/>
                      </a:lnTo>
                      <a:lnTo>
                        <a:pt x="453" y="278"/>
                      </a:lnTo>
                      <a:lnTo>
                        <a:pt x="432" y="278"/>
                      </a:lnTo>
                      <a:lnTo>
                        <a:pt x="412" y="278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0" y="285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2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50" y="298"/>
                      </a:lnTo>
                      <a:lnTo>
                        <a:pt x="343" y="298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05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43" y="312"/>
                      </a:lnTo>
                      <a:lnTo>
                        <a:pt x="336" y="312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19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26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36" y="333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0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47"/>
                      </a:lnTo>
                      <a:lnTo>
                        <a:pt x="329" y="354"/>
                      </a:lnTo>
                      <a:lnTo>
                        <a:pt x="329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54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36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1"/>
                      </a:lnTo>
                      <a:lnTo>
                        <a:pt x="329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22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68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75"/>
                      </a:lnTo>
                      <a:lnTo>
                        <a:pt x="316" y="368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295" y="375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8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95" y="361"/>
                      </a:lnTo>
                      <a:lnTo>
                        <a:pt x="288" y="361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8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7"/>
                      </a:lnTo>
                      <a:lnTo>
                        <a:pt x="274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47" y="354"/>
                      </a:lnTo>
                      <a:lnTo>
                        <a:pt x="247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61"/>
                      </a:lnTo>
                      <a:lnTo>
                        <a:pt x="240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26" y="375"/>
                      </a:lnTo>
                      <a:lnTo>
                        <a:pt x="226" y="375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26" y="382"/>
                      </a:lnTo>
                      <a:lnTo>
                        <a:pt x="233" y="382"/>
                      </a:lnTo>
                      <a:lnTo>
                        <a:pt x="233" y="382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33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09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16"/>
                      </a:lnTo>
                      <a:lnTo>
                        <a:pt x="226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33" y="423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40" y="430"/>
                      </a:lnTo>
                      <a:lnTo>
                        <a:pt x="233" y="430"/>
                      </a:lnTo>
                      <a:lnTo>
                        <a:pt x="233" y="430"/>
                      </a:lnTo>
                      <a:lnTo>
                        <a:pt x="233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26" y="423"/>
                      </a:lnTo>
                      <a:lnTo>
                        <a:pt x="219" y="423"/>
                      </a:lnTo>
                      <a:lnTo>
                        <a:pt x="219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13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206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16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9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8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71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65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58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61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54"/>
                      </a:lnTo>
                      <a:lnTo>
                        <a:pt x="171" y="354"/>
                      </a:lnTo>
                      <a:lnTo>
                        <a:pt x="171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26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9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71" y="312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305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65" y="298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78"/>
                      </a:lnTo>
                      <a:lnTo>
                        <a:pt x="151" y="278"/>
                      </a:lnTo>
                      <a:lnTo>
                        <a:pt x="158" y="271"/>
                      </a:lnTo>
                      <a:lnTo>
                        <a:pt x="151" y="271"/>
                      </a:lnTo>
                      <a:lnTo>
                        <a:pt x="158" y="271"/>
                      </a:lnTo>
                      <a:lnTo>
                        <a:pt x="158" y="271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64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8" y="236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22"/>
                      </a:lnTo>
                      <a:lnTo>
                        <a:pt x="158" y="222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15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194"/>
                      </a:lnTo>
                      <a:lnTo>
                        <a:pt x="144" y="187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30" y="167"/>
                      </a:lnTo>
                      <a:lnTo>
                        <a:pt x="123" y="167"/>
                      </a:lnTo>
                      <a:lnTo>
                        <a:pt x="123" y="167"/>
                      </a:lnTo>
                      <a:lnTo>
                        <a:pt x="123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53"/>
                      </a:lnTo>
                      <a:lnTo>
                        <a:pt x="130" y="146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25"/>
                      </a:lnTo>
                      <a:lnTo>
                        <a:pt x="117" y="125"/>
                      </a:lnTo>
                      <a:lnTo>
                        <a:pt x="117" y="125"/>
                      </a:lnTo>
                      <a:lnTo>
                        <a:pt x="110" y="125"/>
                      </a:lnTo>
                      <a:lnTo>
                        <a:pt x="110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96" y="118"/>
                      </a:lnTo>
                      <a:lnTo>
                        <a:pt x="89" y="118"/>
                      </a:lnTo>
                      <a:lnTo>
                        <a:pt x="89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0"/>
                      </a:lnTo>
                      <a:lnTo>
                        <a:pt x="75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55" y="97"/>
                      </a:lnTo>
                      <a:lnTo>
                        <a:pt x="55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1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7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0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70"/>
                      </a:lnTo>
                      <a:lnTo>
                        <a:pt x="27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63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56"/>
                      </a:lnTo>
                      <a:lnTo>
                        <a:pt x="20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9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35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cc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42280" y="2648160"/>
                  <a:ext cx="1366200" cy="1233000"/>
                </a:xfrm>
                <a:custGeom>
                  <a:avLst/>
                  <a:gdLst/>
                  <a:ahLst/>
                  <a:rect l="l" t="t" r="r" b="b"/>
                  <a:pathLst>
                    <a:path w="1085" h="1048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1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58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65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2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79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92" y="236"/>
                      </a:lnTo>
                      <a:lnTo>
                        <a:pt x="892" y="243"/>
                      </a:lnTo>
                      <a:lnTo>
                        <a:pt x="892" y="250"/>
                      </a:lnTo>
                      <a:lnTo>
                        <a:pt x="892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906" y="264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8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27" y="271"/>
                      </a:lnTo>
                      <a:lnTo>
                        <a:pt x="934" y="271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64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34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1" y="271"/>
                      </a:lnTo>
                      <a:lnTo>
                        <a:pt x="947" y="271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1" y="264"/>
                      </a:lnTo>
                      <a:lnTo>
                        <a:pt x="941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47" y="271"/>
                      </a:lnTo>
                      <a:lnTo>
                        <a:pt x="947" y="264"/>
                      </a:lnTo>
                      <a:lnTo>
                        <a:pt x="947" y="264"/>
                      </a:lnTo>
                      <a:lnTo>
                        <a:pt x="954" y="264"/>
                      </a:lnTo>
                      <a:lnTo>
                        <a:pt x="954" y="264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1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54" y="278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64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1" y="271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85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8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68" y="264"/>
                      </a:lnTo>
                      <a:lnTo>
                        <a:pt x="968" y="264"/>
                      </a:lnTo>
                      <a:lnTo>
                        <a:pt x="975" y="264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68" y="271"/>
                      </a:lnTo>
                      <a:lnTo>
                        <a:pt x="968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75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64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2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8"/>
                      </a:lnTo>
                      <a:lnTo>
                        <a:pt x="989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89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85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8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995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1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85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2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78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09" y="285"/>
                      </a:lnTo>
                      <a:lnTo>
                        <a:pt x="1016" y="285"/>
                      </a:lnTo>
                      <a:lnTo>
                        <a:pt x="1016" y="292"/>
                      </a:lnTo>
                      <a:lnTo>
                        <a:pt x="1009" y="292"/>
                      </a:lnTo>
                      <a:lnTo>
                        <a:pt x="1009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92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85"/>
                      </a:lnTo>
                      <a:lnTo>
                        <a:pt x="1016" y="278"/>
                      </a:lnTo>
                      <a:lnTo>
                        <a:pt x="1016" y="285"/>
                      </a:lnTo>
                      <a:lnTo>
                        <a:pt x="1023" y="285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16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78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92"/>
                      </a:lnTo>
                      <a:lnTo>
                        <a:pt x="1023" y="285"/>
                      </a:lnTo>
                      <a:lnTo>
                        <a:pt x="1023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92"/>
                      </a:lnTo>
                      <a:lnTo>
                        <a:pt x="1030" y="285"/>
                      </a:lnTo>
                      <a:lnTo>
                        <a:pt x="1030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37" y="285"/>
                      </a:lnTo>
                      <a:lnTo>
                        <a:pt x="1044" y="285"/>
                      </a:lnTo>
                      <a:lnTo>
                        <a:pt x="1044" y="285"/>
                      </a:lnTo>
                      <a:lnTo>
                        <a:pt x="1037" y="292"/>
                      </a:lnTo>
                      <a:lnTo>
                        <a:pt x="1037" y="285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2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37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2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9"/>
                      </a:lnTo>
                      <a:lnTo>
                        <a:pt x="1044" y="299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7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2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299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0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299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57" y="306"/>
                      </a:lnTo>
                      <a:lnTo>
                        <a:pt x="1057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71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306"/>
                      </a:lnTo>
                      <a:lnTo>
                        <a:pt x="1064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64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1" y="292"/>
                      </a:lnTo>
                      <a:lnTo>
                        <a:pt x="1078" y="292"/>
                      </a:lnTo>
                      <a:lnTo>
                        <a:pt x="1078" y="292"/>
                      </a:lnTo>
                      <a:lnTo>
                        <a:pt x="1078" y="299"/>
                      </a:lnTo>
                      <a:lnTo>
                        <a:pt x="1078" y="292"/>
                      </a:lnTo>
                      <a:lnTo>
                        <a:pt x="1071" y="292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299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1" y="306"/>
                      </a:lnTo>
                      <a:lnTo>
                        <a:pt x="1071" y="306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13"/>
                      </a:lnTo>
                      <a:lnTo>
                        <a:pt x="1071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299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13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78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06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13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85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0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78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26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85" y="333"/>
                      </a:lnTo>
                      <a:lnTo>
                        <a:pt x="1078" y="333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0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47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54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8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71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1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64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68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75"/>
                      </a:lnTo>
                      <a:lnTo>
                        <a:pt x="1071" y="382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89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71" y="396"/>
                      </a:lnTo>
                      <a:lnTo>
                        <a:pt x="1064" y="396"/>
                      </a:lnTo>
                      <a:lnTo>
                        <a:pt x="1064" y="396"/>
                      </a:lnTo>
                      <a:lnTo>
                        <a:pt x="1071" y="396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64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03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0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0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17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24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7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0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50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37"/>
                      </a:lnTo>
                      <a:lnTo>
                        <a:pt x="1044" y="444"/>
                      </a:lnTo>
                      <a:lnTo>
                        <a:pt x="1044" y="444"/>
                      </a:lnTo>
                      <a:lnTo>
                        <a:pt x="1044" y="437"/>
                      </a:lnTo>
                      <a:lnTo>
                        <a:pt x="1037" y="437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44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37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1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44" y="458"/>
                      </a:lnTo>
                      <a:lnTo>
                        <a:pt x="1044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58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65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2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7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79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30" y="486"/>
                      </a:lnTo>
                      <a:lnTo>
                        <a:pt x="1023" y="486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493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23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16" y="500"/>
                      </a:lnTo>
                      <a:lnTo>
                        <a:pt x="1009" y="500"/>
                      </a:lnTo>
                      <a:lnTo>
                        <a:pt x="1016" y="500"/>
                      </a:lnTo>
                      <a:lnTo>
                        <a:pt x="1016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07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9" y="514"/>
                      </a:lnTo>
                      <a:lnTo>
                        <a:pt x="1002" y="514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1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28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35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1002" y="541"/>
                      </a:lnTo>
                      <a:lnTo>
                        <a:pt x="995" y="541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95" y="548"/>
                      </a:lnTo>
                      <a:lnTo>
                        <a:pt x="989" y="548"/>
                      </a:lnTo>
                      <a:lnTo>
                        <a:pt x="989" y="548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9" y="555"/>
                      </a:lnTo>
                      <a:lnTo>
                        <a:pt x="982" y="555"/>
                      </a:lnTo>
                      <a:lnTo>
                        <a:pt x="982" y="555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82" y="562"/>
                      </a:lnTo>
                      <a:lnTo>
                        <a:pt x="975" y="562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82" y="569"/>
                      </a:lnTo>
                      <a:lnTo>
                        <a:pt x="982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69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75" y="576"/>
                      </a:lnTo>
                      <a:lnTo>
                        <a:pt x="968" y="576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83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8" y="590"/>
                      </a:lnTo>
                      <a:lnTo>
                        <a:pt x="961" y="590"/>
                      </a:lnTo>
                      <a:lnTo>
                        <a:pt x="961" y="590"/>
                      </a:lnTo>
                      <a:lnTo>
                        <a:pt x="961" y="597"/>
                      </a:lnTo>
                      <a:lnTo>
                        <a:pt x="961" y="597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54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7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41" y="604"/>
                      </a:lnTo>
                      <a:lnTo>
                        <a:pt x="927" y="618"/>
                      </a:lnTo>
                      <a:lnTo>
                        <a:pt x="920" y="618"/>
                      </a:lnTo>
                      <a:lnTo>
                        <a:pt x="920" y="625"/>
                      </a:lnTo>
                      <a:lnTo>
                        <a:pt x="913" y="625"/>
                      </a:lnTo>
                      <a:lnTo>
                        <a:pt x="906" y="632"/>
                      </a:lnTo>
                      <a:lnTo>
                        <a:pt x="906" y="632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52"/>
                      </a:lnTo>
                      <a:lnTo>
                        <a:pt x="886" y="652"/>
                      </a:lnTo>
                      <a:lnTo>
                        <a:pt x="879" y="652"/>
                      </a:lnTo>
                      <a:lnTo>
                        <a:pt x="858" y="666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65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2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79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86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73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2" y="680"/>
                      </a:lnTo>
                      <a:lnTo>
                        <a:pt x="899" y="680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899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06" y="687"/>
                      </a:lnTo>
                      <a:lnTo>
                        <a:pt x="913" y="687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13" y="694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906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1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08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899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15"/>
                      </a:lnTo>
                      <a:lnTo>
                        <a:pt x="906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9" y="722"/>
                      </a:lnTo>
                      <a:lnTo>
                        <a:pt x="892" y="722"/>
                      </a:lnTo>
                      <a:lnTo>
                        <a:pt x="892" y="722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2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29"/>
                      </a:lnTo>
                      <a:lnTo>
                        <a:pt x="899" y="736"/>
                      </a:lnTo>
                      <a:lnTo>
                        <a:pt x="899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92" y="736"/>
                      </a:lnTo>
                      <a:lnTo>
                        <a:pt x="886" y="736"/>
                      </a:lnTo>
                      <a:lnTo>
                        <a:pt x="886" y="736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43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86" y="750"/>
                      </a:lnTo>
                      <a:lnTo>
                        <a:pt x="892" y="750"/>
                      </a:lnTo>
                      <a:lnTo>
                        <a:pt x="892" y="757"/>
                      </a:lnTo>
                      <a:lnTo>
                        <a:pt x="892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86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9" y="757"/>
                      </a:lnTo>
                      <a:lnTo>
                        <a:pt x="872" y="757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72" y="763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0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77"/>
                      </a:lnTo>
                      <a:lnTo>
                        <a:pt x="865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8" y="784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51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44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8" y="791"/>
                      </a:lnTo>
                      <a:lnTo>
                        <a:pt x="831" y="798"/>
                      </a:lnTo>
                      <a:lnTo>
                        <a:pt x="831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05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2"/>
                      </a:lnTo>
                      <a:lnTo>
                        <a:pt x="824" y="819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26"/>
                      </a:lnTo>
                      <a:lnTo>
                        <a:pt x="824" y="833"/>
                      </a:lnTo>
                      <a:lnTo>
                        <a:pt x="824" y="833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7" y="840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10" y="847"/>
                      </a:lnTo>
                      <a:lnTo>
                        <a:pt x="803" y="854"/>
                      </a:lnTo>
                      <a:lnTo>
                        <a:pt x="803" y="854"/>
                      </a:lnTo>
                      <a:lnTo>
                        <a:pt x="803" y="861"/>
                      </a:lnTo>
                      <a:lnTo>
                        <a:pt x="810" y="861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0" y="868"/>
                      </a:lnTo>
                      <a:lnTo>
                        <a:pt x="817" y="868"/>
                      </a:lnTo>
                      <a:lnTo>
                        <a:pt x="817" y="874"/>
                      </a:lnTo>
                      <a:lnTo>
                        <a:pt x="817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74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1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88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895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2"/>
                      </a:lnTo>
                      <a:lnTo>
                        <a:pt x="824" y="909"/>
                      </a:lnTo>
                      <a:lnTo>
                        <a:pt x="824" y="909"/>
                      </a:lnTo>
                      <a:lnTo>
                        <a:pt x="817" y="909"/>
                      </a:lnTo>
                      <a:lnTo>
                        <a:pt x="817" y="916"/>
                      </a:lnTo>
                      <a:lnTo>
                        <a:pt x="817" y="916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7" y="923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10" y="930"/>
                      </a:lnTo>
                      <a:lnTo>
                        <a:pt x="803" y="930"/>
                      </a:lnTo>
                      <a:lnTo>
                        <a:pt x="803" y="930"/>
                      </a:lnTo>
                      <a:lnTo>
                        <a:pt x="803" y="937"/>
                      </a:lnTo>
                      <a:lnTo>
                        <a:pt x="803" y="937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803" y="944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96" y="951"/>
                      </a:lnTo>
                      <a:lnTo>
                        <a:pt x="789" y="958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9" y="965"/>
                      </a:lnTo>
                      <a:lnTo>
                        <a:pt x="783" y="965"/>
                      </a:lnTo>
                      <a:lnTo>
                        <a:pt x="783" y="965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76" y="972"/>
                      </a:lnTo>
                      <a:lnTo>
                        <a:pt x="769" y="972"/>
                      </a:lnTo>
                      <a:lnTo>
                        <a:pt x="769" y="979"/>
                      </a:lnTo>
                      <a:lnTo>
                        <a:pt x="769" y="979"/>
                      </a:lnTo>
                      <a:lnTo>
                        <a:pt x="769" y="985"/>
                      </a:lnTo>
                      <a:lnTo>
                        <a:pt x="769" y="985"/>
                      </a:lnTo>
                      <a:lnTo>
                        <a:pt x="762" y="985"/>
                      </a:lnTo>
                      <a:lnTo>
                        <a:pt x="762" y="985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62" y="992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55" y="999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06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13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0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8" y="1027"/>
                      </a:lnTo>
                      <a:lnTo>
                        <a:pt x="741" y="1027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34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41" y="1041"/>
                      </a:lnTo>
                      <a:lnTo>
                        <a:pt x="735" y="1041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735" y="1048"/>
                      </a:lnTo>
                      <a:lnTo>
                        <a:pt x="686" y="1048"/>
                      </a:lnTo>
                      <a:lnTo>
                        <a:pt x="666" y="1048"/>
                      </a:lnTo>
                      <a:lnTo>
                        <a:pt x="645" y="1041"/>
                      </a:lnTo>
                      <a:lnTo>
                        <a:pt x="632" y="1041"/>
                      </a:lnTo>
                      <a:lnTo>
                        <a:pt x="563" y="1041"/>
                      </a:lnTo>
                      <a:lnTo>
                        <a:pt x="535" y="1034"/>
                      </a:lnTo>
                      <a:lnTo>
                        <a:pt x="529" y="1034"/>
                      </a:lnTo>
                      <a:lnTo>
                        <a:pt x="487" y="1034"/>
                      </a:lnTo>
                      <a:lnTo>
                        <a:pt x="453" y="1027"/>
                      </a:lnTo>
                      <a:lnTo>
                        <a:pt x="405" y="1027"/>
                      </a:lnTo>
                      <a:lnTo>
                        <a:pt x="364" y="1020"/>
                      </a:lnTo>
                      <a:lnTo>
                        <a:pt x="357" y="1020"/>
                      </a:lnTo>
                      <a:lnTo>
                        <a:pt x="329" y="1020"/>
                      </a:lnTo>
                      <a:lnTo>
                        <a:pt x="268" y="1013"/>
                      </a:lnTo>
                      <a:lnTo>
                        <a:pt x="233" y="1013"/>
                      </a:lnTo>
                      <a:lnTo>
                        <a:pt x="226" y="1013"/>
                      </a:lnTo>
                      <a:lnTo>
                        <a:pt x="192" y="1006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85" y="1013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1006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8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72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65" y="999"/>
                      </a:lnTo>
                      <a:lnTo>
                        <a:pt x="158" y="999"/>
                      </a:lnTo>
                      <a:lnTo>
                        <a:pt x="158" y="999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92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85"/>
                      </a:lnTo>
                      <a:lnTo>
                        <a:pt x="158" y="979"/>
                      </a:lnTo>
                      <a:lnTo>
                        <a:pt x="158" y="979"/>
                      </a:lnTo>
                      <a:lnTo>
                        <a:pt x="151" y="979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44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7" y="972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30" y="965"/>
                      </a:lnTo>
                      <a:lnTo>
                        <a:pt x="124" y="965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24" y="958"/>
                      </a:lnTo>
                      <a:lnTo>
                        <a:pt x="117" y="958"/>
                      </a:lnTo>
                      <a:lnTo>
                        <a:pt x="117" y="958"/>
                      </a:lnTo>
                      <a:lnTo>
                        <a:pt x="110" y="958"/>
                      </a:lnTo>
                      <a:lnTo>
                        <a:pt x="110" y="958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51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44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10" y="937"/>
                      </a:lnTo>
                      <a:lnTo>
                        <a:pt x="103" y="937"/>
                      </a:lnTo>
                      <a:lnTo>
                        <a:pt x="110" y="937"/>
                      </a:lnTo>
                      <a:lnTo>
                        <a:pt x="110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30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23"/>
                      </a:lnTo>
                      <a:lnTo>
                        <a:pt x="103" y="916"/>
                      </a:lnTo>
                      <a:lnTo>
                        <a:pt x="103" y="916"/>
                      </a:lnTo>
                      <a:lnTo>
                        <a:pt x="110" y="916"/>
                      </a:lnTo>
                      <a:lnTo>
                        <a:pt x="110" y="916"/>
                      </a:lnTo>
                      <a:lnTo>
                        <a:pt x="110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9"/>
                      </a:lnTo>
                      <a:lnTo>
                        <a:pt x="103" y="902"/>
                      </a:lnTo>
                      <a:lnTo>
                        <a:pt x="96" y="895"/>
                      </a:lnTo>
                      <a:lnTo>
                        <a:pt x="96" y="895"/>
                      </a:lnTo>
                      <a:lnTo>
                        <a:pt x="89" y="888"/>
                      </a:lnTo>
                      <a:lnTo>
                        <a:pt x="89" y="888"/>
                      </a:lnTo>
                      <a:lnTo>
                        <a:pt x="89" y="881"/>
                      </a:lnTo>
                      <a:lnTo>
                        <a:pt x="89" y="881"/>
                      </a:lnTo>
                      <a:lnTo>
                        <a:pt x="89" y="874"/>
                      </a:lnTo>
                      <a:lnTo>
                        <a:pt x="89" y="874"/>
                      </a:lnTo>
                      <a:lnTo>
                        <a:pt x="89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8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61"/>
                      </a:lnTo>
                      <a:lnTo>
                        <a:pt x="82" y="854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7"/>
                      </a:lnTo>
                      <a:lnTo>
                        <a:pt x="75" y="840"/>
                      </a:lnTo>
                      <a:lnTo>
                        <a:pt x="69" y="840"/>
                      </a:lnTo>
                      <a:lnTo>
                        <a:pt x="69" y="840"/>
                      </a:lnTo>
                      <a:lnTo>
                        <a:pt x="62" y="840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33"/>
                      </a:lnTo>
                      <a:lnTo>
                        <a:pt x="62" y="826"/>
                      </a:lnTo>
                      <a:lnTo>
                        <a:pt x="62" y="826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62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9"/>
                      </a:lnTo>
                      <a:lnTo>
                        <a:pt x="55" y="812"/>
                      </a:lnTo>
                      <a:lnTo>
                        <a:pt x="48" y="812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8" y="805"/>
                      </a:lnTo>
                      <a:lnTo>
                        <a:pt x="41" y="805"/>
                      </a:lnTo>
                      <a:lnTo>
                        <a:pt x="41" y="805"/>
                      </a:lnTo>
                      <a:lnTo>
                        <a:pt x="41" y="798"/>
                      </a:lnTo>
                      <a:lnTo>
                        <a:pt x="41" y="798"/>
                      </a:lnTo>
                      <a:lnTo>
                        <a:pt x="41" y="791"/>
                      </a:lnTo>
                      <a:lnTo>
                        <a:pt x="34" y="791"/>
                      </a:lnTo>
                      <a:lnTo>
                        <a:pt x="41" y="784"/>
                      </a:lnTo>
                      <a:lnTo>
                        <a:pt x="41" y="784"/>
                      </a:lnTo>
                      <a:lnTo>
                        <a:pt x="41" y="777"/>
                      </a:lnTo>
                      <a:lnTo>
                        <a:pt x="41" y="777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70"/>
                      </a:lnTo>
                      <a:lnTo>
                        <a:pt x="48" y="763"/>
                      </a:lnTo>
                      <a:lnTo>
                        <a:pt x="48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55" y="763"/>
                      </a:lnTo>
                      <a:lnTo>
                        <a:pt x="89" y="687"/>
                      </a:lnTo>
                      <a:lnTo>
                        <a:pt x="103" y="659"/>
                      </a:lnTo>
                      <a:lnTo>
                        <a:pt x="110" y="646"/>
                      </a:lnTo>
                      <a:lnTo>
                        <a:pt x="117" y="632"/>
                      </a:lnTo>
                      <a:lnTo>
                        <a:pt x="144" y="583"/>
                      </a:lnTo>
                      <a:lnTo>
                        <a:pt x="158" y="535"/>
                      </a:lnTo>
                      <a:lnTo>
                        <a:pt x="165" y="528"/>
                      </a:lnTo>
                      <a:lnTo>
                        <a:pt x="172" y="521"/>
                      </a:lnTo>
                      <a:lnTo>
                        <a:pt x="172" y="514"/>
                      </a:lnTo>
                      <a:lnTo>
                        <a:pt x="178" y="500"/>
                      </a:lnTo>
                      <a:lnTo>
                        <a:pt x="185" y="493"/>
                      </a:lnTo>
                      <a:lnTo>
                        <a:pt x="185" y="493"/>
                      </a:lnTo>
                      <a:lnTo>
                        <a:pt x="192" y="472"/>
                      </a:lnTo>
                      <a:lnTo>
                        <a:pt x="199" y="458"/>
                      </a:lnTo>
                      <a:lnTo>
                        <a:pt x="199" y="451"/>
                      </a:lnTo>
                      <a:lnTo>
                        <a:pt x="206" y="437"/>
                      </a:lnTo>
                      <a:lnTo>
                        <a:pt x="213" y="430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7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13" y="410"/>
                      </a:lnTo>
                      <a:lnTo>
                        <a:pt x="220" y="410"/>
                      </a:lnTo>
                      <a:lnTo>
                        <a:pt x="220" y="410"/>
                      </a:lnTo>
                      <a:lnTo>
                        <a:pt x="226" y="403"/>
                      </a:lnTo>
                      <a:lnTo>
                        <a:pt x="226" y="403"/>
                      </a:lnTo>
                      <a:lnTo>
                        <a:pt x="233" y="403"/>
                      </a:lnTo>
                      <a:lnTo>
                        <a:pt x="233" y="396"/>
                      </a:lnTo>
                      <a:lnTo>
                        <a:pt x="233" y="396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33" y="389"/>
                      </a:lnTo>
                      <a:lnTo>
                        <a:pt x="226" y="389"/>
                      </a:lnTo>
                      <a:lnTo>
                        <a:pt x="226" y="389"/>
                      </a:lnTo>
                      <a:lnTo>
                        <a:pt x="226" y="396"/>
                      </a:lnTo>
                      <a:lnTo>
                        <a:pt x="226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20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396"/>
                      </a:lnTo>
                      <a:lnTo>
                        <a:pt x="213" y="403"/>
                      </a:lnTo>
                      <a:lnTo>
                        <a:pt x="213" y="403"/>
                      </a:lnTo>
                      <a:lnTo>
                        <a:pt x="213" y="396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206" y="403"/>
                      </a:lnTo>
                      <a:lnTo>
                        <a:pt x="206" y="396"/>
                      </a:lnTo>
                      <a:lnTo>
                        <a:pt x="206" y="396"/>
                      </a:lnTo>
                      <a:lnTo>
                        <a:pt x="199" y="396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9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403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96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85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8" y="389"/>
                      </a:lnTo>
                      <a:lnTo>
                        <a:pt x="172" y="389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72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82"/>
                      </a:lnTo>
                      <a:lnTo>
                        <a:pt x="165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75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54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61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47"/>
                      </a:lnTo>
                      <a:lnTo>
                        <a:pt x="110" y="354"/>
                      </a:lnTo>
                      <a:lnTo>
                        <a:pt x="110" y="347"/>
                      </a:lnTo>
                      <a:lnTo>
                        <a:pt x="103" y="354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103" y="347"/>
                      </a:lnTo>
                      <a:lnTo>
                        <a:pt x="103" y="340"/>
                      </a:lnTo>
                      <a:lnTo>
                        <a:pt x="96" y="340"/>
                      </a:lnTo>
                      <a:lnTo>
                        <a:pt x="96" y="347"/>
                      </a:lnTo>
                      <a:lnTo>
                        <a:pt x="96" y="347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96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5" y="333"/>
                      </a:lnTo>
                      <a:lnTo>
                        <a:pt x="75" y="326"/>
                      </a:lnTo>
                      <a:lnTo>
                        <a:pt x="75" y="326"/>
                      </a:lnTo>
                      <a:lnTo>
                        <a:pt x="82" y="326"/>
                      </a:lnTo>
                      <a:lnTo>
                        <a:pt x="82" y="326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20"/>
                      </a:lnTo>
                      <a:lnTo>
                        <a:pt x="82" y="313"/>
                      </a:lnTo>
                      <a:lnTo>
                        <a:pt x="82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75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13"/>
                      </a:lnTo>
                      <a:lnTo>
                        <a:pt x="69" y="320"/>
                      </a:lnTo>
                      <a:lnTo>
                        <a:pt x="69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20"/>
                      </a:lnTo>
                      <a:lnTo>
                        <a:pt x="62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55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13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8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306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9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41" y="292"/>
                      </a:lnTo>
                      <a:lnTo>
                        <a:pt x="34" y="292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34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85"/>
                      </a:lnTo>
                      <a:lnTo>
                        <a:pt x="27" y="278"/>
                      </a:lnTo>
                      <a:lnTo>
                        <a:pt x="27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8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21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71"/>
                      </a:lnTo>
                      <a:lnTo>
                        <a:pt x="14" y="264"/>
                      </a:lnTo>
                      <a:lnTo>
                        <a:pt x="14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64"/>
                      </a:lnTo>
                      <a:lnTo>
                        <a:pt x="21" y="257"/>
                      </a:lnTo>
                      <a:lnTo>
                        <a:pt x="14" y="257"/>
                      </a:lnTo>
                      <a:lnTo>
                        <a:pt x="14" y="257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14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50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43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36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0" y="215"/>
                      </a:lnTo>
                      <a:lnTo>
                        <a:pt x="0" y="195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842280" y="2648160"/>
                  <a:ext cx="1062360" cy="376200"/>
                </a:xfrm>
                <a:custGeom>
                  <a:avLst/>
                  <a:gdLst/>
                  <a:ahLst/>
                  <a:rect l="l" t="t" r="r" b="b"/>
                  <a:pathLst>
                    <a:path w="844" h="320">
                      <a:moveTo>
                        <a:pt x="0" y="111"/>
                      </a:move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11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104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41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8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34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91"/>
                      </a:lnTo>
                      <a:lnTo>
                        <a:pt x="48" y="91"/>
                      </a:lnTo>
                      <a:lnTo>
                        <a:pt x="41" y="91"/>
                      </a:lnTo>
                      <a:lnTo>
                        <a:pt x="41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48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55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84"/>
                      </a:lnTo>
                      <a:lnTo>
                        <a:pt x="62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69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82" y="84"/>
                      </a:lnTo>
                      <a:lnTo>
                        <a:pt x="75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75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2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89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7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96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0"/>
                      </a:lnTo>
                      <a:lnTo>
                        <a:pt x="103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7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17" y="70"/>
                      </a:lnTo>
                      <a:lnTo>
                        <a:pt x="124" y="70"/>
                      </a:lnTo>
                      <a:lnTo>
                        <a:pt x="124" y="70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63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24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56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44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78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85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56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20" y="49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0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26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33" y="56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63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0" y="56"/>
                      </a:lnTo>
                      <a:lnTo>
                        <a:pt x="247" y="63"/>
                      </a:lnTo>
                      <a:lnTo>
                        <a:pt x="247" y="56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47" y="63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56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9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0" y="35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7" y="21"/>
                      </a:lnTo>
                      <a:lnTo>
                        <a:pt x="247" y="21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8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7"/>
                      </a:lnTo>
                      <a:lnTo>
                        <a:pt x="281" y="14"/>
                      </a:lnTo>
                      <a:lnTo>
                        <a:pt x="281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88" y="7"/>
                      </a:lnTo>
                      <a:lnTo>
                        <a:pt x="295" y="7"/>
                      </a:lnTo>
                      <a:lnTo>
                        <a:pt x="302" y="14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2" y="0"/>
                      </a:lnTo>
                      <a:lnTo>
                        <a:pt x="309" y="7"/>
                      </a:lnTo>
                      <a:lnTo>
                        <a:pt x="309" y="7"/>
                      </a:lnTo>
                      <a:lnTo>
                        <a:pt x="316" y="0"/>
                      </a:lnTo>
                      <a:lnTo>
                        <a:pt x="316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lnTo>
                        <a:pt x="336" y="0"/>
                      </a:lnTo>
                      <a:lnTo>
                        <a:pt x="336" y="0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43" y="14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35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2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49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63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57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64" y="63"/>
                      </a:lnTo>
                      <a:lnTo>
                        <a:pt x="371" y="63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77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05" y="84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05" y="91"/>
                      </a:lnTo>
                      <a:lnTo>
                        <a:pt x="405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2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19" y="91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19" y="98"/>
                      </a:lnTo>
                      <a:lnTo>
                        <a:pt x="419" y="98"/>
                      </a:lnTo>
                      <a:lnTo>
                        <a:pt x="426" y="98"/>
                      </a:lnTo>
                      <a:lnTo>
                        <a:pt x="426" y="91"/>
                      </a:lnTo>
                      <a:lnTo>
                        <a:pt x="426" y="91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26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2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39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98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46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1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7" y="118"/>
                      </a:lnTo>
                      <a:lnTo>
                        <a:pt x="460" y="118"/>
                      </a:lnTo>
                      <a:lnTo>
                        <a:pt x="460" y="118"/>
                      </a:lnTo>
                      <a:lnTo>
                        <a:pt x="460" y="125"/>
                      </a:lnTo>
                      <a:lnTo>
                        <a:pt x="460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25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67" y="139"/>
                      </a:lnTo>
                      <a:lnTo>
                        <a:pt x="474" y="139"/>
                      </a:lnTo>
                      <a:lnTo>
                        <a:pt x="474" y="146"/>
                      </a:lnTo>
                      <a:lnTo>
                        <a:pt x="474" y="146"/>
                      </a:lnTo>
                      <a:lnTo>
                        <a:pt x="481" y="146"/>
                      </a:lnTo>
                      <a:lnTo>
                        <a:pt x="481" y="146"/>
                      </a:lnTo>
                      <a:lnTo>
                        <a:pt x="481" y="153"/>
                      </a:lnTo>
                      <a:lnTo>
                        <a:pt x="481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53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87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94" y="160"/>
                      </a:lnTo>
                      <a:lnTo>
                        <a:pt x="487" y="160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67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74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1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88"/>
                      </a:lnTo>
                      <a:lnTo>
                        <a:pt x="487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195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2"/>
                      </a:lnTo>
                      <a:lnTo>
                        <a:pt x="494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09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15"/>
                      </a:lnTo>
                      <a:lnTo>
                        <a:pt x="501" y="222"/>
                      </a:lnTo>
                      <a:lnTo>
                        <a:pt x="501" y="222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08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36"/>
                      </a:lnTo>
                      <a:lnTo>
                        <a:pt x="522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43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9" y="250"/>
                      </a:lnTo>
                      <a:lnTo>
                        <a:pt x="522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57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29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35" y="264"/>
                      </a:lnTo>
                      <a:lnTo>
                        <a:pt x="542" y="264"/>
                      </a:lnTo>
                      <a:lnTo>
                        <a:pt x="542" y="264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1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78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92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2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85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2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299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49" y="306"/>
                      </a:lnTo>
                      <a:lnTo>
                        <a:pt x="556" y="306"/>
                      </a:lnTo>
                      <a:lnTo>
                        <a:pt x="556" y="306"/>
                      </a:lnTo>
                      <a:lnTo>
                        <a:pt x="556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63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0" y="313"/>
                      </a:lnTo>
                      <a:lnTo>
                        <a:pt x="577" y="313"/>
                      </a:lnTo>
                      <a:lnTo>
                        <a:pt x="577" y="313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84" y="320"/>
                      </a:lnTo>
                      <a:lnTo>
                        <a:pt x="577" y="320"/>
                      </a:lnTo>
                      <a:lnTo>
                        <a:pt x="577" y="320"/>
                      </a:lnTo>
                      <a:lnTo>
                        <a:pt x="584" y="320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84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0" y="313"/>
                      </a:lnTo>
                      <a:lnTo>
                        <a:pt x="597" y="313"/>
                      </a:lnTo>
                      <a:lnTo>
                        <a:pt x="604" y="313"/>
                      </a:lnTo>
                      <a:lnTo>
                        <a:pt x="604" y="313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306"/>
                      </a:lnTo>
                      <a:lnTo>
                        <a:pt x="611" y="299"/>
                      </a:lnTo>
                      <a:lnTo>
                        <a:pt x="611" y="292"/>
                      </a:lnTo>
                      <a:lnTo>
                        <a:pt x="611" y="292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85"/>
                      </a:lnTo>
                      <a:lnTo>
                        <a:pt x="611" y="278"/>
                      </a:lnTo>
                      <a:lnTo>
                        <a:pt x="618" y="271"/>
                      </a:lnTo>
                      <a:lnTo>
                        <a:pt x="625" y="271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25" y="264"/>
                      </a:lnTo>
                      <a:lnTo>
                        <a:pt x="632" y="257"/>
                      </a:lnTo>
                      <a:lnTo>
                        <a:pt x="632" y="257"/>
                      </a:lnTo>
                      <a:lnTo>
                        <a:pt x="632" y="250"/>
                      </a:lnTo>
                      <a:lnTo>
                        <a:pt x="638" y="250"/>
                      </a:lnTo>
                      <a:lnTo>
                        <a:pt x="638" y="250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38" y="243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36"/>
                      </a:lnTo>
                      <a:lnTo>
                        <a:pt x="645" y="229"/>
                      </a:lnTo>
                      <a:lnTo>
                        <a:pt x="652" y="229"/>
                      </a:lnTo>
                      <a:lnTo>
                        <a:pt x="652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59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66" y="215"/>
                      </a:lnTo>
                      <a:lnTo>
                        <a:pt x="666" y="215"/>
                      </a:lnTo>
                      <a:lnTo>
                        <a:pt x="673" y="215"/>
                      </a:lnTo>
                      <a:lnTo>
                        <a:pt x="673" y="215"/>
                      </a:lnTo>
                      <a:lnTo>
                        <a:pt x="673" y="209"/>
                      </a:lnTo>
                      <a:lnTo>
                        <a:pt x="680" y="209"/>
                      </a:lnTo>
                      <a:lnTo>
                        <a:pt x="680" y="209"/>
                      </a:lnTo>
                      <a:lnTo>
                        <a:pt x="686" y="209"/>
                      </a:lnTo>
                      <a:lnTo>
                        <a:pt x="686" y="209"/>
                      </a:lnTo>
                      <a:lnTo>
                        <a:pt x="693" y="209"/>
                      </a:lnTo>
                      <a:lnTo>
                        <a:pt x="700" y="202"/>
                      </a:lnTo>
                      <a:lnTo>
                        <a:pt x="700" y="202"/>
                      </a:lnTo>
                      <a:lnTo>
                        <a:pt x="700" y="195"/>
                      </a:lnTo>
                      <a:lnTo>
                        <a:pt x="707" y="195"/>
                      </a:lnTo>
                      <a:lnTo>
                        <a:pt x="707" y="195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07" y="188"/>
                      </a:lnTo>
                      <a:lnTo>
                        <a:pt x="714" y="181"/>
                      </a:lnTo>
                      <a:lnTo>
                        <a:pt x="714" y="181"/>
                      </a:lnTo>
                      <a:lnTo>
                        <a:pt x="714" y="174"/>
                      </a:lnTo>
                      <a:lnTo>
                        <a:pt x="714" y="174"/>
                      </a:lnTo>
                      <a:lnTo>
                        <a:pt x="714" y="167"/>
                      </a:lnTo>
                      <a:lnTo>
                        <a:pt x="714" y="167"/>
                      </a:lnTo>
                      <a:lnTo>
                        <a:pt x="721" y="167"/>
                      </a:lnTo>
                      <a:lnTo>
                        <a:pt x="721" y="167"/>
                      </a:lnTo>
                      <a:lnTo>
                        <a:pt x="721" y="160"/>
                      </a:lnTo>
                      <a:lnTo>
                        <a:pt x="728" y="160"/>
                      </a:lnTo>
                      <a:lnTo>
                        <a:pt x="728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35" y="160"/>
                      </a:lnTo>
                      <a:lnTo>
                        <a:pt x="741" y="160"/>
                      </a:lnTo>
                      <a:lnTo>
                        <a:pt x="748" y="160"/>
                      </a:lnTo>
                      <a:lnTo>
                        <a:pt x="748" y="160"/>
                      </a:lnTo>
                      <a:lnTo>
                        <a:pt x="748" y="167"/>
                      </a:lnTo>
                      <a:lnTo>
                        <a:pt x="748" y="167"/>
                      </a:lnTo>
                      <a:lnTo>
                        <a:pt x="748" y="174"/>
                      </a:lnTo>
                      <a:lnTo>
                        <a:pt x="748" y="174"/>
                      </a:lnTo>
                      <a:lnTo>
                        <a:pt x="748" y="181"/>
                      </a:lnTo>
                      <a:lnTo>
                        <a:pt x="748" y="188"/>
                      </a:lnTo>
                      <a:lnTo>
                        <a:pt x="748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55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2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69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76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3" y="188"/>
                      </a:lnTo>
                      <a:lnTo>
                        <a:pt x="789" y="195"/>
                      </a:lnTo>
                      <a:lnTo>
                        <a:pt x="789" y="195"/>
                      </a:lnTo>
                      <a:lnTo>
                        <a:pt x="789" y="202"/>
                      </a:lnTo>
                      <a:lnTo>
                        <a:pt x="796" y="202"/>
                      </a:lnTo>
                      <a:lnTo>
                        <a:pt x="796" y="209"/>
                      </a:lnTo>
                      <a:lnTo>
                        <a:pt x="796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09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03" y="215"/>
                      </a:lnTo>
                      <a:lnTo>
                        <a:pt x="810" y="215"/>
                      </a:lnTo>
                      <a:lnTo>
                        <a:pt x="838" y="229"/>
                      </a:lnTo>
                      <a:lnTo>
                        <a:pt x="838" y="229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  <a:lnTo>
                        <a:pt x="844" y="23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905000" y="2926080"/>
                  <a:ext cx="303480" cy="457560"/>
                </a:xfrm>
                <a:custGeom>
                  <a:avLst/>
                  <a:gdLst/>
                  <a:ahLst/>
                  <a:rect l="l" t="t" r="r" b="b"/>
                  <a:pathLst>
                    <a:path w="241" h="3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48" y="7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62" y="28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83" y="35"/>
                      </a:lnTo>
                      <a:lnTo>
                        <a:pt x="90" y="35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28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0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97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10" y="28"/>
                      </a:lnTo>
                      <a:lnTo>
                        <a:pt x="110" y="28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28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42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28"/>
                      </a:lnTo>
                      <a:lnTo>
                        <a:pt x="124" y="28"/>
                      </a:lnTo>
                      <a:lnTo>
                        <a:pt x="131" y="28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28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5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45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42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1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58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2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65" y="49"/>
                      </a:lnTo>
                      <a:lnTo>
                        <a:pt x="172" y="49"/>
                      </a:lnTo>
                      <a:lnTo>
                        <a:pt x="172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9"/>
                      </a:lnTo>
                      <a:lnTo>
                        <a:pt x="172" y="42"/>
                      </a:lnTo>
                      <a:lnTo>
                        <a:pt x="172" y="49"/>
                      </a:lnTo>
                      <a:lnTo>
                        <a:pt x="179" y="49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2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2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56"/>
                      </a:lnTo>
                      <a:lnTo>
                        <a:pt x="179" y="49"/>
                      </a:lnTo>
                      <a:lnTo>
                        <a:pt x="179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56"/>
                      </a:lnTo>
                      <a:lnTo>
                        <a:pt x="186" y="49"/>
                      </a:lnTo>
                      <a:lnTo>
                        <a:pt x="186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56"/>
                      </a:lnTo>
                      <a:lnTo>
                        <a:pt x="193" y="49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56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193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56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63"/>
                      </a:lnTo>
                      <a:lnTo>
                        <a:pt x="200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7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70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27" y="56"/>
                      </a:lnTo>
                      <a:lnTo>
                        <a:pt x="234" y="56"/>
                      </a:lnTo>
                      <a:lnTo>
                        <a:pt x="234" y="56"/>
                      </a:lnTo>
                      <a:lnTo>
                        <a:pt x="234" y="63"/>
                      </a:lnTo>
                      <a:lnTo>
                        <a:pt x="234" y="56"/>
                      </a:lnTo>
                      <a:lnTo>
                        <a:pt x="227" y="56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63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34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77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41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84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34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0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41" y="97"/>
                      </a:lnTo>
                      <a:lnTo>
                        <a:pt x="234" y="97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04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1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18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39"/>
                      </a:lnTo>
                      <a:lnTo>
                        <a:pt x="227" y="146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53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7" y="160"/>
                      </a:lnTo>
                      <a:lnTo>
                        <a:pt x="220" y="160"/>
                      </a:lnTo>
                      <a:lnTo>
                        <a:pt x="220" y="160"/>
                      </a:lnTo>
                      <a:lnTo>
                        <a:pt x="227" y="160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20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67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74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06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1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88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6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1"/>
                      </a:lnTo>
                      <a:lnTo>
                        <a:pt x="200" y="208"/>
                      </a:lnTo>
                      <a:lnTo>
                        <a:pt x="200" y="208"/>
                      </a:lnTo>
                      <a:lnTo>
                        <a:pt x="200" y="201"/>
                      </a:lnTo>
                      <a:lnTo>
                        <a:pt x="193" y="201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08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193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15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200" y="222"/>
                      </a:lnTo>
                      <a:lnTo>
                        <a:pt x="200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2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29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36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93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43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86" y="250"/>
                      </a:lnTo>
                      <a:lnTo>
                        <a:pt x="179" y="250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57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9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72" y="264"/>
                      </a:lnTo>
                      <a:lnTo>
                        <a:pt x="165" y="264"/>
                      </a:lnTo>
                      <a:lnTo>
                        <a:pt x="172" y="264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58" y="278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85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8" y="305"/>
                      </a:lnTo>
                      <a:lnTo>
                        <a:pt x="151" y="305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51" y="312"/>
                      </a:lnTo>
                      <a:lnTo>
                        <a:pt x="145" y="312"/>
                      </a:lnTo>
                      <a:lnTo>
                        <a:pt x="145" y="312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45" y="319"/>
                      </a:lnTo>
                      <a:lnTo>
                        <a:pt x="138" y="319"/>
                      </a:lnTo>
                      <a:lnTo>
                        <a:pt x="138" y="319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8" y="326"/>
                      </a:lnTo>
                      <a:lnTo>
                        <a:pt x="131" y="326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8" y="333"/>
                      </a:lnTo>
                      <a:lnTo>
                        <a:pt x="138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33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31" y="340"/>
                      </a:lnTo>
                      <a:lnTo>
                        <a:pt x="124" y="340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47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24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61"/>
                      </a:lnTo>
                      <a:lnTo>
                        <a:pt x="117" y="361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103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97" y="368"/>
                      </a:lnTo>
                      <a:lnTo>
                        <a:pt x="83" y="382"/>
                      </a:lnTo>
                      <a:lnTo>
                        <a:pt x="76" y="382"/>
                      </a:lnTo>
                      <a:lnTo>
                        <a:pt x="76" y="38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42280" y="2778840"/>
                  <a:ext cx="1158480" cy="1102320"/>
                </a:xfrm>
                <a:custGeom>
                  <a:avLst/>
                  <a:gdLst/>
                  <a:ahLst/>
                  <a:rect l="l" t="t" r="r" b="b"/>
                  <a:pathLst>
                    <a:path w="920" h="937">
                      <a:moveTo>
                        <a:pt x="920" y="514"/>
                      </a:moveTo>
                      <a:lnTo>
                        <a:pt x="913" y="514"/>
                      </a:lnTo>
                      <a:lnTo>
                        <a:pt x="906" y="521"/>
                      </a:lnTo>
                      <a:lnTo>
                        <a:pt x="906" y="521"/>
                      </a:lnTo>
                      <a:lnTo>
                        <a:pt x="892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35"/>
                      </a:lnTo>
                      <a:lnTo>
                        <a:pt x="886" y="541"/>
                      </a:lnTo>
                      <a:lnTo>
                        <a:pt x="886" y="541"/>
                      </a:lnTo>
                      <a:lnTo>
                        <a:pt x="879" y="541"/>
                      </a:lnTo>
                      <a:lnTo>
                        <a:pt x="858" y="555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58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65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2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79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86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2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2" y="569"/>
                      </a:lnTo>
                      <a:lnTo>
                        <a:pt x="899" y="569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899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06" y="576"/>
                      </a:lnTo>
                      <a:lnTo>
                        <a:pt x="913" y="576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13" y="583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906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0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597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899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04"/>
                      </a:lnTo>
                      <a:lnTo>
                        <a:pt x="906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9" y="611"/>
                      </a:lnTo>
                      <a:lnTo>
                        <a:pt x="892" y="611"/>
                      </a:lnTo>
                      <a:lnTo>
                        <a:pt x="892" y="611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2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18"/>
                      </a:lnTo>
                      <a:lnTo>
                        <a:pt x="899" y="625"/>
                      </a:lnTo>
                      <a:lnTo>
                        <a:pt x="899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92" y="625"/>
                      </a:lnTo>
                      <a:lnTo>
                        <a:pt x="886" y="625"/>
                      </a:lnTo>
                      <a:lnTo>
                        <a:pt x="886" y="625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2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86" y="639"/>
                      </a:lnTo>
                      <a:lnTo>
                        <a:pt x="892" y="639"/>
                      </a:lnTo>
                      <a:lnTo>
                        <a:pt x="892" y="646"/>
                      </a:lnTo>
                      <a:lnTo>
                        <a:pt x="892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86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9" y="646"/>
                      </a:lnTo>
                      <a:lnTo>
                        <a:pt x="872" y="646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72" y="652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59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66"/>
                      </a:lnTo>
                      <a:lnTo>
                        <a:pt x="865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8" y="673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51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44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8" y="680"/>
                      </a:lnTo>
                      <a:lnTo>
                        <a:pt x="831" y="687"/>
                      </a:lnTo>
                      <a:lnTo>
                        <a:pt x="831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87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694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1"/>
                      </a:lnTo>
                      <a:lnTo>
                        <a:pt x="824" y="708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15"/>
                      </a:lnTo>
                      <a:lnTo>
                        <a:pt x="824" y="722"/>
                      </a:lnTo>
                      <a:lnTo>
                        <a:pt x="824" y="722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7" y="729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10" y="736"/>
                      </a:lnTo>
                      <a:lnTo>
                        <a:pt x="803" y="743"/>
                      </a:lnTo>
                      <a:lnTo>
                        <a:pt x="803" y="743"/>
                      </a:lnTo>
                      <a:lnTo>
                        <a:pt x="803" y="750"/>
                      </a:lnTo>
                      <a:lnTo>
                        <a:pt x="810" y="750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0" y="757"/>
                      </a:lnTo>
                      <a:lnTo>
                        <a:pt x="817" y="757"/>
                      </a:lnTo>
                      <a:lnTo>
                        <a:pt x="817" y="763"/>
                      </a:lnTo>
                      <a:lnTo>
                        <a:pt x="817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63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0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77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84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1"/>
                      </a:lnTo>
                      <a:lnTo>
                        <a:pt x="824" y="798"/>
                      </a:lnTo>
                      <a:lnTo>
                        <a:pt x="824" y="798"/>
                      </a:lnTo>
                      <a:lnTo>
                        <a:pt x="817" y="798"/>
                      </a:lnTo>
                      <a:lnTo>
                        <a:pt x="817" y="805"/>
                      </a:lnTo>
                      <a:lnTo>
                        <a:pt x="817" y="805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7" y="812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10" y="819"/>
                      </a:lnTo>
                      <a:lnTo>
                        <a:pt x="803" y="819"/>
                      </a:lnTo>
                      <a:lnTo>
                        <a:pt x="803" y="819"/>
                      </a:lnTo>
                      <a:lnTo>
                        <a:pt x="803" y="826"/>
                      </a:lnTo>
                      <a:lnTo>
                        <a:pt x="803" y="826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803" y="833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96" y="840"/>
                      </a:lnTo>
                      <a:lnTo>
                        <a:pt x="789" y="847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9" y="854"/>
                      </a:lnTo>
                      <a:lnTo>
                        <a:pt x="783" y="854"/>
                      </a:lnTo>
                      <a:lnTo>
                        <a:pt x="783" y="854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76" y="861"/>
                      </a:lnTo>
                      <a:lnTo>
                        <a:pt x="769" y="861"/>
                      </a:lnTo>
                      <a:lnTo>
                        <a:pt x="769" y="868"/>
                      </a:lnTo>
                      <a:lnTo>
                        <a:pt x="769" y="868"/>
                      </a:lnTo>
                      <a:lnTo>
                        <a:pt x="769" y="874"/>
                      </a:lnTo>
                      <a:lnTo>
                        <a:pt x="769" y="874"/>
                      </a:lnTo>
                      <a:lnTo>
                        <a:pt x="762" y="874"/>
                      </a:lnTo>
                      <a:lnTo>
                        <a:pt x="762" y="874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62" y="881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55" y="888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895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2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09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8" y="916"/>
                      </a:lnTo>
                      <a:lnTo>
                        <a:pt x="741" y="916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23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41" y="930"/>
                      </a:lnTo>
                      <a:lnTo>
                        <a:pt x="735" y="930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735" y="937"/>
                      </a:lnTo>
                      <a:lnTo>
                        <a:pt x="686" y="937"/>
                      </a:lnTo>
                      <a:lnTo>
                        <a:pt x="666" y="937"/>
                      </a:lnTo>
                      <a:lnTo>
                        <a:pt x="645" y="930"/>
                      </a:lnTo>
                      <a:lnTo>
                        <a:pt x="632" y="930"/>
                      </a:lnTo>
                      <a:lnTo>
                        <a:pt x="563" y="930"/>
                      </a:lnTo>
                      <a:lnTo>
                        <a:pt x="535" y="923"/>
                      </a:lnTo>
                      <a:lnTo>
                        <a:pt x="529" y="923"/>
                      </a:lnTo>
                      <a:lnTo>
                        <a:pt x="487" y="923"/>
                      </a:lnTo>
                      <a:lnTo>
                        <a:pt x="453" y="916"/>
                      </a:lnTo>
                      <a:lnTo>
                        <a:pt x="405" y="916"/>
                      </a:lnTo>
                      <a:lnTo>
                        <a:pt x="364" y="909"/>
                      </a:lnTo>
                      <a:lnTo>
                        <a:pt x="357" y="909"/>
                      </a:lnTo>
                      <a:lnTo>
                        <a:pt x="329" y="909"/>
                      </a:lnTo>
                      <a:lnTo>
                        <a:pt x="268" y="902"/>
                      </a:lnTo>
                      <a:lnTo>
                        <a:pt x="233" y="902"/>
                      </a:lnTo>
                      <a:lnTo>
                        <a:pt x="226" y="902"/>
                      </a:lnTo>
                      <a:lnTo>
                        <a:pt x="192" y="895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85" y="902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95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8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72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65" y="888"/>
                      </a:lnTo>
                      <a:lnTo>
                        <a:pt x="158" y="888"/>
                      </a:lnTo>
                      <a:lnTo>
                        <a:pt x="158" y="888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81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74"/>
                      </a:lnTo>
                      <a:lnTo>
                        <a:pt x="158" y="868"/>
                      </a:lnTo>
                      <a:lnTo>
                        <a:pt x="158" y="868"/>
                      </a:lnTo>
                      <a:lnTo>
                        <a:pt x="151" y="868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44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7" y="861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30" y="854"/>
                      </a:lnTo>
                      <a:lnTo>
                        <a:pt x="124" y="854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24" y="847"/>
                      </a:lnTo>
                      <a:lnTo>
                        <a:pt x="117" y="847"/>
                      </a:lnTo>
                      <a:lnTo>
                        <a:pt x="117" y="847"/>
                      </a:lnTo>
                      <a:lnTo>
                        <a:pt x="110" y="847"/>
                      </a:lnTo>
                      <a:lnTo>
                        <a:pt x="110" y="847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40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33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10" y="826"/>
                      </a:lnTo>
                      <a:lnTo>
                        <a:pt x="103" y="826"/>
                      </a:lnTo>
                      <a:lnTo>
                        <a:pt x="110" y="826"/>
                      </a:lnTo>
                      <a:lnTo>
                        <a:pt x="110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9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12"/>
                      </a:lnTo>
                      <a:lnTo>
                        <a:pt x="103" y="805"/>
                      </a:lnTo>
                      <a:lnTo>
                        <a:pt x="103" y="805"/>
                      </a:lnTo>
                      <a:lnTo>
                        <a:pt x="110" y="805"/>
                      </a:lnTo>
                      <a:lnTo>
                        <a:pt x="110" y="805"/>
                      </a:lnTo>
                      <a:lnTo>
                        <a:pt x="110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8"/>
                      </a:lnTo>
                      <a:lnTo>
                        <a:pt x="103" y="791"/>
                      </a:lnTo>
                      <a:lnTo>
                        <a:pt x="96" y="784"/>
                      </a:lnTo>
                      <a:lnTo>
                        <a:pt x="96" y="784"/>
                      </a:lnTo>
                      <a:lnTo>
                        <a:pt x="89" y="777"/>
                      </a:lnTo>
                      <a:lnTo>
                        <a:pt x="89" y="777"/>
                      </a:lnTo>
                      <a:lnTo>
                        <a:pt x="89" y="770"/>
                      </a:lnTo>
                      <a:lnTo>
                        <a:pt x="89" y="770"/>
                      </a:lnTo>
                      <a:lnTo>
                        <a:pt x="89" y="763"/>
                      </a:lnTo>
                      <a:lnTo>
                        <a:pt x="89" y="763"/>
                      </a:lnTo>
                      <a:lnTo>
                        <a:pt x="89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7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50"/>
                      </a:lnTo>
                      <a:lnTo>
                        <a:pt x="82" y="743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36"/>
                      </a:lnTo>
                      <a:lnTo>
                        <a:pt x="75" y="729"/>
                      </a:lnTo>
                      <a:lnTo>
                        <a:pt x="69" y="729"/>
                      </a:lnTo>
                      <a:lnTo>
                        <a:pt x="69" y="729"/>
                      </a:lnTo>
                      <a:lnTo>
                        <a:pt x="62" y="729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22"/>
                      </a:lnTo>
                      <a:lnTo>
                        <a:pt x="62" y="715"/>
                      </a:lnTo>
                      <a:lnTo>
                        <a:pt x="62" y="715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62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8"/>
                      </a:lnTo>
                      <a:lnTo>
                        <a:pt x="55" y="701"/>
                      </a:lnTo>
                      <a:lnTo>
                        <a:pt x="48" y="701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8" y="694"/>
                      </a:lnTo>
                      <a:lnTo>
                        <a:pt x="41" y="694"/>
                      </a:lnTo>
                      <a:lnTo>
                        <a:pt x="41" y="694"/>
                      </a:lnTo>
                      <a:lnTo>
                        <a:pt x="41" y="687"/>
                      </a:lnTo>
                      <a:lnTo>
                        <a:pt x="41" y="687"/>
                      </a:lnTo>
                      <a:lnTo>
                        <a:pt x="41" y="680"/>
                      </a:lnTo>
                      <a:lnTo>
                        <a:pt x="34" y="680"/>
                      </a:lnTo>
                      <a:lnTo>
                        <a:pt x="41" y="673"/>
                      </a:lnTo>
                      <a:lnTo>
                        <a:pt x="41" y="673"/>
                      </a:lnTo>
                      <a:lnTo>
                        <a:pt x="41" y="666"/>
                      </a:lnTo>
                      <a:lnTo>
                        <a:pt x="41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55" y="652"/>
                      </a:lnTo>
                      <a:lnTo>
                        <a:pt x="89" y="576"/>
                      </a:lnTo>
                      <a:lnTo>
                        <a:pt x="103" y="548"/>
                      </a:lnTo>
                      <a:lnTo>
                        <a:pt x="110" y="535"/>
                      </a:lnTo>
                      <a:lnTo>
                        <a:pt x="117" y="521"/>
                      </a:lnTo>
                      <a:lnTo>
                        <a:pt x="144" y="472"/>
                      </a:lnTo>
                      <a:lnTo>
                        <a:pt x="158" y="424"/>
                      </a:lnTo>
                      <a:lnTo>
                        <a:pt x="165" y="417"/>
                      </a:lnTo>
                      <a:lnTo>
                        <a:pt x="172" y="410"/>
                      </a:lnTo>
                      <a:lnTo>
                        <a:pt x="172" y="403"/>
                      </a:lnTo>
                      <a:lnTo>
                        <a:pt x="178" y="389"/>
                      </a:lnTo>
                      <a:lnTo>
                        <a:pt x="185" y="382"/>
                      </a:lnTo>
                      <a:lnTo>
                        <a:pt x="185" y="382"/>
                      </a:lnTo>
                      <a:lnTo>
                        <a:pt x="192" y="361"/>
                      </a:lnTo>
                      <a:lnTo>
                        <a:pt x="199" y="347"/>
                      </a:lnTo>
                      <a:lnTo>
                        <a:pt x="199" y="340"/>
                      </a:lnTo>
                      <a:lnTo>
                        <a:pt x="206" y="326"/>
                      </a:lnTo>
                      <a:lnTo>
                        <a:pt x="213" y="319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13" y="313"/>
                      </a:lnTo>
                      <a:lnTo>
                        <a:pt x="206" y="313"/>
                      </a:lnTo>
                      <a:lnTo>
                        <a:pt x="206" y="313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306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13" y="299"/>
                      </a:lnTo>
                      <a:lnTo>
                        <a:pt x="220" y="299"/>
                      </a:lnTo>
                      <a:lnTo>
                        <a:pt x="220" y="299"/>
                      </a:lnTo>
                      <a:lnTo>
                        <a:pt x="226" y="292"/>
                      </a:lnTo>
                      <a:lnTo>
                        <a:pt x="226" y="292"/>
                      </a:lnTo>
                      <a:lnTo>
                        <a:pt x="233" y="292"/>
                      </a:lnTo>
                      <a:lnTo>
                        <a:pt x="233" y="285"/>
                      </a:lnTo>
                      <a:lnTo>
                        <a:pt x="233" y="285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40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33" y="278"/>
                      </a:lnTo>
                      <a:lnTo>
                        <a:pt x="226" y="278"/>
                      </a:lnTo>
                      <a:lnTo>
                        <a:pt x="226" y="278"/>
                      </a:lnTo>
                      <a:lnTo>
                        <a:pt x="226" y="285"/>
                      </a:lnTo>
                      <a:lnTo>
                        <a:pt x="226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20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85"/>
                      </a:lnTo>
                      <a:lnTo>
                        <a:pt x="213" y="292"/>
                      </a:lnTo>
                      <a:lnTo>
                        <a:pt x="213" y="292"/>
                      </a:lnTo>
                      <a:lnTo>
                        <a:pt x="213" y="285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206" y="292"/>
                      </a:lnTo>
                      <a:lnTo>
                        <a:pt x="206" y="285"/>
                      </a:lnTo>
                      <a:lnTo>
                        <a:pt x="206" y="285"/>
                      </a:lnTo>
                      <a:lnTo>
                        <a:pt x="199" y="285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9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92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92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85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85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8" y="278"/>
                      </a:lnTo>
                      <a:lnTo>
                        <a:pt x="172" y="278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65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64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8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7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51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44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7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50"/>
                      </a:lnTo>
                      <a:lnTo>
                        <a:pt x="130" y="243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50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24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7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36"/>
                      </a:lnTo>
                      <a:lnTo>
                        <a:pt x="103" y="243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103" y="236"/>
                      </a:lnTo>
                      <a:lnTo>
                        <a:pt x="103" y="229"/>
                      </a:lnTo>
                      <a:lnTo>
                        <a:pt x="96" y="229"/>
                      </a:lnTo>
                      <a:lnTo>
                        <a:pt x="96" y="236"/>
                      </a:lnTo>
                      <a:lnTo>
                        <a:pt x="96" y="236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96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9" y="229"/>
                      </a:lnTo>
                      <a:lnTo>
                        <a:pt x="82" y="229"/>
                      </a:lnTo>
                      <a:lnTo>
                        <a:pt x="82" y="229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82" y="222"/>
                      </a:lnTo>
                      <a:lnTo>
                        <a:pt x="75" y="222"/>
                      </a:lnTo>
                      <a:lnTo>
                        <a:pt x="75" y="215"/>
                      </a:lnTo>
                      <a:lnTo>
                        <a:pt x="75" y="215"/>
                      </a:lnTo>
                      <a:lnTo>
                        <a:pt x="82" y="215"/>
                      </a:lnTo>
                      <a:lnTo>
                        <a:pt x="82" y="215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9"/>
                      </a:lnTo>
                      <a:lnTo>
                        <a:pt x="82" y="202"/>
                      </a:lnTo>
                      <a:lnTo>
                        <a:pt x="82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75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2"/>
                      </a:lnTo>
                      <a:lnTo>
                        <a:pt x="69" y="209"/>
                      </a:lnTo>
                      <a:lnTo>
                        <a:pt x="69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9"/>
                      </a:lnTo>
                      <a:lnTo>
                        <a:pt x="62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55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202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95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67"/>
                      </a:lnTo>
                      <a:lnTo>
                        <a:pt x="27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60"/>
                      </a:lnTo>
                      <a:lnTo>
                        <a:pt x="14" y="153"/>
                      </a:lnTo>
                      <a:lnTo>
                        <a:pt x="14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14" y="146"/>
                      </a:lnTo>
                      <a:lnTo>
                        <a:pt x="14" y="146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04"/>
                      </a:lnTo>
                      <a:lnTo>
                        <a:pt x="0" y="8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18400" y="29671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104080" y="2975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104080" y="2975400"/>
                  <a:ext cx="1080" cy="72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157000" y="2983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157000" y="2983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64560" y="2999880"/>
                  <a:ext cx="1080" cy="1080"/>
                </a:xfrm>
                <a:prstGeom prst="rect">
                  <a:avLst/>
                </a:prstGeom>
                <a:solidFill>
                  <a:srgbClr val="ffaa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64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73560" y="2991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220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73560" y="2999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90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99840" y="299988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08480" y="30081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74280" y="2461320"/>
                  <a:ext cx="527400" cy="563400"/>
                </a:xfrm>
                <a:custGeom>
                  <a:avLst/>
                  <a:gdLst/>
                  <a:ahLst/>
                  <a:rect l="l" t="t" r="r" b="b"/>
                  <a:pathLst>
                    <a:path w="419" h="479">
                      <a:moveTo>
                        <a:pt x="0" y="166"/>
                      </a:moveTo>
                      <a:lnTo>
                        <a:pt x="7" y="166"/>
                      </a:lnTo>
                      <a:lnTo>
                        <a:pt x="7" y="166"/>
                      </a:lnTo>
                      <a:lnTo>
                        <a:pt x="14" y="166"/>
                      </a:lnTo>
                      <a:lnTo>
                        <a:pt x="14" y="173"/>
                      </a:lnTo>
                      <a:lnTo>
                        <a:pt x="14" y="180"/>
                      </a:lnTo>
                      <a:lnTo>
                        <a:pt x="21" y="180"/>
                      </a:lnTo>
                      <a:lnTo>
                        <a:pt x="35" y="187"/>
                      </a:lnTo>
                      <a:lnTo>
                        <a:pt x="55" y="194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7"/>
                      </a:lnTo>
                      <a:lnTo>
                        <a:pt x="76" y="180"/>
                      </a:lnTo>
                      <a:lnTo>
                        <a:pt x="76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3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80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03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0"/>
                      </a:lnTo>
                      <a:lnTo>
                        <a:pt x="110" y="187"/>
                      </a:lnTo>
                      <a:lnTo>
                        <a:pt x="110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7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73"/>
                      </a:lnTo>
                      <a:lnTo>
                        <a:pt x="131" y="173"/>
                      </a:lnTo>
                      <a:lnTo>
                        <a:pt x="131" y="173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0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73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66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2" y="152"/>
                      </a:lnTo>
                      <a:lnTo>
                        <a:pt x="192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46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199" y="139"/>
                      </a:lnTo>
                      <a:lnTo>
                        <a:pt x="206" y="139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13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0" y="97"/>
                      </a:lnTo>
                      <a:lnTo>
                        <a:pt x="220" y="104"/>
                      </a:lnTo>
                      <a:lnTo>
                        <a:pt x="220" y="104"/>
                      </a:lnTo>
                      <a:lnTo>
                        <a:pt x="220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7"/>
                      </a:lnTo>
                      <a:lnTo>
                        <a:pt x="227" y="90"/>
                      </a:lnTo>
                      <a:lnTo>
                        <a:pt x="227" y="90"/>
                      </a:lnTo>
                      <a:lnTo>
                        <a:pt x="234" y="83"/>
                      </a:lnTo>
                      <a:lnTo>
                        <a:pt x="234" y="83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34" y="76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9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1" y="62"/>
                      </a:lnTo>
                      <a:lnTo>
                        <a:pt x="247" y="62"/>
                      </a:lnTo>
                      <a:lnTo>
                        <a:pt x="247" y="62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47" y="55"/>
                      </a:lnTo>
                      <a:lnTo>
                        <a:pt x="254" y="55"/>
                      </a:lnTo>
                      <a:lnTo>
                        <a:pt x="254" y="55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54" y="48"/>
                      </a:lnTo>
                      <a:lnTo>
                        <a:pt x="261" y="48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68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8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14"/>
                      </a:lnTo>
                      <a:lnTo>
                        <a:pt x="275" y="14"/>
                      </a:lnTo>
                      <a:lnTo>
                        <a:pt x="282" y="7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2" y="0"/>
                      </a:lnTo>
                      <a:lnTo>
                        <a:pt x="289" y="7"/>
                      </a:lnTo>
                      <a:lnTo>
                        <a:pt x="289" y="7"/>
                      </a:lnTo>
                      <a:lnTo>
                        <a:pt x="295" y="14"/>
                      </a:lnTo>
                      <a:lnTo>
                        <a:pt x="302" y="21"/>
                      </a:lnTo>
                      <a:lnTo>
                        <a:pt x="309" y="21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41"/>
                      </a:lnTo>
                      <a:lnTo>
                        <a:pt x="323" y="41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48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55"/>
                      </a:lnTo>
                      <a:lnTo>
                        <a:pt x="323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16" y="62"/>
                      </a:lnTo>
                      <a:lnTo>
                        <a:pt x="323" y="69"/>
                      </a:lnTo>
                      <a:lnTo>
                        <a:pt x="323" y="76"/>
                      </a:lnTo>
                      <a:lnTo>
                        <a:pt x="323" y="83"/>
                      </a:lnTo>
                      <a:lnTo>
                        <a:pt x="316" y="83"/>
                      </a:lnTo>
                      <a:lnTo>
                        <a:pt x="316" y="83"/>
                      </a:lnTo>
                      <a:lnTo>
                        <a:pt x="323" y="90"/>
                      </a:lnTo>
                      <a:lnTo>
                        <a:pt x="323" y="90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04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1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30" y="118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2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0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39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46"/>
                      </a:lnTo>
                      <a:lnTo>
                        <a:pt x="337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7" y="152"/>
                      </a:lnTo>
                      <a:lnTo>
                        <a:pt x="343" y="152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59"/>
                      </a:lnTo>
                      <a:lnTo>
                        <a:pt x="343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37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66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43" y="173"/>
                      </a:lnTo>
                      <a:lnTo>
                        <a:pt x="350" y="173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0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87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0" y="194"/>
                      </a:lnTo>
                      <a:lnTo>
                        <a:pt x="357" y="194"/>
                      </a:lnTo>
                      <a:lnTo>
                        <a:pt x="357" y="194"/>
                      </a:lnTo>
                      <a:lnTo>
                        <a:pt x="364" y="187"/>
                      </a:lnTo>
                      <a:lnTo>
                        <a:pt x="364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1" y="187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194"/>
                      </a:lnTo>
                      <a:lnTo>
                        <a:pt x="378" y="201"/>
                      </a:lnTo>
                      <a:lnTo>
                        <a:pt x="378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1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08"/>
                      </a:lnTo>
                      <a:lnTo>
                        <a:pt x="385" y="215"/>
                      </a:lnTo>
                      <a:lnTo>
                        <a:pt x="392" y="222"/>
                      </a:lnTo>
                      <a:lnTo>
                        <a:pt x="398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2"/>
                      </a:lnTo>
                      <a:lnTo>
                        <a:pt x="405" y="229"/>
                      </a:lnTo>
                      <a:lnTo>
                        <a:pt x="412" y="229"/>
                      </a:lnTo>
                      <a:lnTo>
                        <a:pt x="419" y="229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36"/>
                      </a:lnTo>
                      <a:lnTo>
                        <a:pt x="419" y="243"/>
                      </a:lnTo>
                      <a:lnTo>
                        <a:pt x="419" y="250"/>
                      </a:lnTo>
                      <a:lnTo>
                        <a:pt x="419" y="250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57"/>
                      </a:lnTo>
                      <a:lnTo>
                        <a:pt x="419" y="263"/>
                      </a:lnTo>
                      <a:lnTo>
                        <a:pt x="419" y="263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0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84"/>
                      </a:lnTo>
                      <a:lnTo>
                        <a:pt x="419" y="284"/>
                      </a:lnTo>
                      <a:lnTo>
                        <a:pt x="412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9" y="291"/>
                      </a:lnTo>
                      <a:lnTo>
                        <a:pt x="412" y="291"/>
                      </a:lnTo>
                      <a:lnTo>
                        <a:pt x="412" y="291"/>
                      </a:lnTo>
                      <a:lnTo>
                        <a:pt x="412" y="298"/>
                      </a:lnTo>
                      <a:lnTo>
                        <a:pt x="412" y="298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05"/>
                      </a:lnTo>
                      <a:lnTo>
                        <a:pt x="405" y="312"/>
                      </a:lnTo>
                      <a:lnTo>
                        <a:pt x="405" y="312"/>
                      </a:lnTo>
                      <a:lnTo>
                        <a:pt x="405" y="319"/>
                      </a:lnTo>
                      <a:lnTo>
                        <a:pt x="398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92" y="319"/>
                      </a:lnTo>
                      <a:lnTo>
                        <a:pt x="385" y="319"/>
                      </a:lnTo>
                      <a:lnTo>
                        <a:pt x="385" y="319"/>
                      </a:lnTo>
                      <a:lnTo>
                        <a:pt x="378" y="319"/>
                      </a:lnTo>
                      <a:lnTo>
                        <a:pt x="378" y="326"/>
                      </a:lnTo>
                      <a:lnTo>
                        <a:pt x="378" y="326"/>
                      </a:lnTo>
                      <a:lnTo>
                        <a:pt x="371" y="326"/>
                      </a:lnTo>
                      <a:lnTo>
                        <a:pt x="371" y="326"/>
                      </a:lnTo>
                      <a:lnTo>
                        <a:pt x="371" y="333"/>
                      </a:lnTo>
                      <a:lnTo>
                        <a:pt x="371" y="333"/>
                      </a:lnTo>
                      <a:lnTo>
                        <a:pt x="371" y="340"/>
                      </a:lnTo>
                      <a:lnTo>
                        <a:pt x="371" y="340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47"/>
                      </a:lnTo>
                      <a:lnTo>
                        <a:pt x="364" y="354"/>
                      </a:lnTo>
                      <a:lnTo>
                        <a:pt x="364" y="354"/>
                      </a:lnTo>
                      <a:lnTo>
                        <a:pt x="357" y="354"/>
                      </a:lnTo>
                      <a:lnTo>
                        <a:pt x="357" y="361"/>
                      </a:lnTo>
                      <a:lnTo>
                        <a:pt x="357" y="361"/>
                      </a:lnTo>
                      <a:lnTo>
                        <a:pt x="350" y="368"/>
                      </a:lnTo>
                      <a:lnTo>
                        <a:pt x="343" y="368"/>
                      </a:lnTo>
                      <a:lnTo>
                        <a:pt x="343" y="368"/>
                      </a:lnTo>
                      <a:lnTo>
                        <a:pt x="337" y="368"/>
                      </a:lnTo>
                      <a:lnTo>
                        <a:pt x="337" y="368"/>
                      </a:lnTo>
                      <a:lnTo>
                        <a:pt x="330" y="368"/>
                      </a:lnTo>
                      <a:lnTo>
                        <a:pt x="330" y="374"/>
                      </a:lnTo>
                      <a:lnTo>
                        <a:pt x="330" y="374"/>
                      </a:lnTo>
                      <a:lnTo>
                        <a:pt x="323" y="374"/>
                      </a:lnTo>
                      <a:lnTo>
                        <a:pt x="323" y="374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23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16" y="381"/>
                      </a:lnTo>
                      <a:lnTo>
                        <a:pt x="309" y="381"/>
                      </a:lnTo>
                      <a:lnTo>
                        <a:pt x="309" y="388"/>
                      </a:lnTo>
                      <a:lnTo>
                        <a:pt x="302" y="388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302" y="395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2"/>
                      </a:lnTo>
                      <a:lnTo>
                        <a:pt x="295" y="409"/>
                      </a:lnTo>
                      <a:lnTo>
                        <a:pt x="295" y="409"/>
                      </a:lnTo>
                      <a:lnTo>
                        <a:pt x="289" y="409"/>
                      </a:lnTo>
                      <a:lnTo>
                        <a:pt x="289" y="416"/>
                      </a:lnTo>
                      <a:lnTo>
                        <a:pt x="289" y="416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23"/>
                      </a:lnTo>
                      <a:lnTo>
                        <a:pt x="282" y="430"/>
                      </a:lnTo>
                      <a:lnTo>
                        <a:pt x="275" y="430"/>
                      </a:lnTo>
                      <a:lnTo>
                        <a:pt x="268" y="437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44"/>
                      </a:lnTo>
                      <a:lnTo>
                        <a:pt x="268" y="451"/>
                      </a:lnTo>
                      <a:lnTo>
                        <a:pt x="268" y="451"/>
                      </a:lnTo>
                      <a:lnTo>
                        <a:pt x="268" y="458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8" y="465"/>
                      </a:lnTo>
                      <a:lnTo>
                        <a:pt x="261" y="472"/>
                      </a:lnTo>
                      <a:lnTo>
                        <a:pt x="261" y="472"/>
                      </a:lnTo>
                      <a:lnTo>
                        <a:pt x="254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7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2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41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9"/>
                      </a:lnTo>
                      <a:lnTo>
                        <a:pt x="234" y="472"/>
                      </a:lnTo>
                      <a:lnTo>
                        <a:pt x="234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7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20" y="472"/>
                      </a:lnTo>
                      <a:lnTo>
                        <a:pt x="213" y="472"/>
                      </a:lnTo>
                      <a:lnTo>
                        <a:pt x="213" y="465"/>
                      </a:lnTo>
                      <a:lnTo>
                        <a:pt x="213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65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51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206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44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7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92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23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86" y="416"/>
                      </a:lnTo>
                      <a:lnTo>
                        <a:pt x="179" y="416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9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86" y="402"/>
                      </a:lnTo>
                      <a:lnTo>
                        <a:pt x="179" y="402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9" y="395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72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65" y="388"/>
                      </a:lnTo>
                      <a:lnTo>
                        <a:pt x="158" y="381"/>
                      </a:lnTo>
                      <a:lnTo>
                        <a:pt x="158" y="381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74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8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44" y="354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7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40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26"/>
                      </a:lnTo>
                      <a:lnTo>
                        <a:pt x="144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51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9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44" y="312"/>
                      </a:lnTo>
                      <a:lnTo>
                        <a:pt x="138" y="312"/>
                      </a:lnTo>
                      <a:lnTo>
                        <a:pt x="138" y="312"/>
                      </a:lnTo>
                      <a:lnTo>
                        <a:pt x="138" y="305"/>
                      </a:lnTo>
                      <a:lnTo>
                        <a:pt x="138" y="305"/>
                      </a:lnTo>
                      <a:lnTo>
                        <a:pt x="131" y="305"/>
                      </a:lnTo>
                      <a:lnTo>
                        <a:pt x="131" y="305"/>
                      </a:lnTo>
                      <a:lnTo>
                        <a:pt x="131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8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91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24" y="284"/>
                      </a:lnTo>
                      <a:lnTo>
                        <a:pt x="117" y="284"/>
                      </a:lnTo>
                      <a:lnTo>
                        <a:pt x="117" y="284"/>
                      </a:lnTo>
                      <a:lnTo>
                        <a:pt x="117" y="277"/>
                      </a:lnTo>
                      <a:lnTo>
                        <a:pt x="117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7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24" y="270"/>
                      </a:lnTo>
                      <a:lnTo>
                        <a:pt x="117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70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10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63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103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96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9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83" y="257"/>
                      </a:lnTo>
                      <a:lnTo>
                        <a:pt x="83" y="250"/>
                      </a:lnTo>
                      <a:lnTo>
                        <a:pt x="83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76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9" y="250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43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62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55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41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9"/>
                      </a:lnTo>
                      <a:lnTo>
                        <a:pt x="28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2"/>
                      </a:lnTo>
                      <a:lnTo>
                        <a:pt x="21" y="229"/>
                      </a:lnTo>
                      <a:lnTo>
                        <a:pt x="21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14" y="222"/>
                      </a:lnTo>
                      <a:lnTo>
                        <a:pt x="14" y="229"/>
                      </a:lnTo>
                      <a:lnTo>
                        <a:pt x="14" y="229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14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8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7" y="180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ffaa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14920" y="3415320"/>
                  <a:ext cx="536040" cy="824760"/>
                </a:xfrm>
                <a:custGeom>
                  <a:avLst/>
                  <a:gdLst/>
                  <a:ahLst/>
                  <a:rect l="l" t="t" r="r" b="b"/>
                  <a:pathLst>
                    <a:path w="426" h="701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28"/>
                      </a:lnTo>
                      <a:lnTo>
                        <a:pt x="351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35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57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64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1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2"/>
                      </a:lnTo>
                      <a:lnTo>
                        <a:pt x="378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92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85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8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48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55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2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64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1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78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69"/>
                      </a:lnTo>
                      <a:lnTo>
                        <a:pt x="385" y="576"/>
                      </a:lnTo>
                      <a:lnTo>
                        <a:pt x="385" y="576"/>
                      </a:lnTo>
                      <a:lnTo>
                        <a:pt x="378" y="576"/>
                      </a:lnTo>
                      <a:lnTo>
                        <a:pt x="378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76"/>
                      </a:lnTo>
                      <a:lnTo>
                        <a:pt x="371" y="583"/>
                      </a:lnTo>
                      <a:lnTo>
                        <a:pt x="371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83"/>
                      </a:lnTo>
                      <a:lnTo>
                        <a:pt x="364" y="590"/>
                      </a:lnTo>
                      <a:lnTo>
                        <a:pt x="364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71" y="590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64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71" y="597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1"/>
                      </a:lnTo>
                      <a:lnTo>
                        <a:pt x="371" y="618"/>
                      </a:lnTo>
                      <a:lnTo>
                        <a:pt x="371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18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18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85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8" y="639"/>
                      </a:lnTo>
                      <a:lnTo>
                        <a:pt x="378" y="639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46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8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92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85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3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64" y="659"/>
                      </a:lnTo>
                      <a:lnTo>
                        <a:pt x="357" y="659"/>
                      </a:lnTo>
                      <a:lnTo>
                        <a:pt x="357" y="659"/>
                      </a:lnTo>
                      <a:lnTo>
                        <a:pt x="344" y="659"/>
                      </a:lnTo>
                      <a:lnTo>
                        <a:pt x="337" y="659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66"/>
                      </a:lnTo>
                      <a:lnTo>
                        <a:pt x="330" y="673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66"/>
                      </a:lnTo>
                      <a:lnTo>
                        <a:pt x="323" y="666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23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73"/>
                      </a:lnTo>
                      <a:lnTo>
                        <a:pt x="316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9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302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0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96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9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82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7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75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80"/>
                      </a:lnTo>
                      <a:lnTo>
                        <a:pt x="268" y="673"/>
                      </a:lnTo>
                      <a:lnTo>
                        <a:pt x="268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73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54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0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87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694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61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54" y="701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8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94"/>
                      </a:lnTo>
                      <a:lnTo>
                        <a:pt x="241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94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34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7" y="687"/>
                      </a:lnTo>
                      <a:lnTo>
                        <a:pt x="227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87"/>
                      </a:lnTo>
                      <a:lnTo>
                        <a:pt x="220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13" y="694"/>
                      </a:lnTo>
                      <a:lnTo>
                        <a:pt x="213" y="687"/>
                      </a:lnTo>
                      <a:lnTo>
                        <a:pt x="220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13" y="687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20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13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0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206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9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7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80"/>
                      </a:lnTo>
                      <a:lnTo>
                        <a:pt x="193" y="673"/>
                      </a:lnTo>
                      <a:lnTo>
                        <a:pt x="193" y="680"/>
                      </a:lnTo>
                      <a:lnTo>
                        <a:pt x="186" y="680"/>
                      </a:lnTo>
                      <a:lnTo>
                        <a:pt x="186" y="673"/>
                      </a:lnTo>
                      <a:lnTo>
                        <a:pt x="186" y="673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0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86" y="687"/>
                      </a:lnTo>
                      <a:lnTo>
                        <a:pt x="179" y="694"/>
                      </a:lnTo>
                      <a:lnTo>
                        <a:pt x="179" y="694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7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80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73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9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72" y="666"/>
                      </a:lnTo>
                      <a:lnTo>
                        <a:pt x="165" y="666"/>
                      </a:lnTo>
                      <a:lnTo>
                        <a:pt x="172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9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65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53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46"/>
                      </a:lnTo>
                      <a:lnTo>
                        <a:pt x="158" y="653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45" y="659"/>
                      </a:lnTo>
                      <a:lnTo>
                        <a:pt x="138" y="659"/>
                      </a:lnTo>
                      <a:lnTo>
                        <a:pt x="138" y="659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53"/>
                      </a:lnTo>
                      <a:lnTo>
                        <a:pt x="138" y="646"/>
                      </a:lnTo>
                      <a:lnTo>
                        <a:pt x="131" y="646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31" y="653"/>
                      </a:lnTo>
                      <a:lnTo>
                        <a:pt x="124" y="653"/>
                      </a:lnTo>
                      <a:lnTo>
                        <a:pt x="124" y="653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59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24" y="666"/>
                      </a:lnTo>
                      <a:lnTo>
                        <a:pt x="117" y="666"/>
                      </a:lnTo>
                      <a:lnTo>
                        <a:pt x="117" y="666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73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0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17" y="687"/>
                      </a:lnTo>
                      <a:lnTo>
                        <a:pt x="103" y="680"/>
                      </a:lnTo>
                      <a:lnTo>
                        <a:pt x="96" y="680"/>
                      </a:lnTo>
                      <a:lnTo>
                        <a:pt x="69" y="666"/>
                      </a:lnTo>
                      <a:lnTo>
                        <a:pt x="69" y="659"/>
                      </a:lnTo>
                      <a:lnTo>
                        <a:pt x="69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62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55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8" y="653"/>
                      </a:lnTo>
                      <a:lnTo>
                        <a:pt x="48" y="653"/>
                      </a:lnTo>
                      <a:lnTo>
                        <a:pt x="48" y="659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42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53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46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9"/>
                      </a:lnTo>
                      <a:lnTo>
                        <a:pt x="35" y="639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32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25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1"/>
                      </a:lnTo>
                      <a:lnTo>
                        <a:pt x="48" y="611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8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42" y="618"/>
                      </a:lnTo>
                      <a:lnTo>
                        <a:pt x="35" y="618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35" y="625"/>
                      </a:lnTo>
                      <a:lnTo>
                        <a:pt x="28" y="625"/>
                      </a:lnTo>
                      <a:lnTo>
                        <a:pt x="28" y="625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8" y="632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8" y="632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8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39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46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21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53"/>
                      </a:lnTo>
                      <a:lnTo>
                        <a:pt x="14" y="646"/>
                      </a:lnTo>
                      <a:lnTo>
                        <a:pt x="7" y="646"/>
                      </a:lnTo>
                      <a:lnTo>
                        <a:pt x="7" y="653"/>
                      </a:lnTo>
                      <a:lnTo>
                        <a:pt x="7" y="653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46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9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7" y="632"/>
                      </a:lnTo>
                      <a:lnTo>
                        <a:pt x="7" y="632"/>
                      </a:lnTo>
                      <a:lnTo>
                        <a:pt x="0" y="632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25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8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11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604"/>
                      </a:lnTo>
                      <a:lnTo>
                        <a:pt x="7" y="597"/>
                      </a:lnTo>
                      <a:lnTo>
                        <a:pt x="7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0" y="597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90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83"/>
                      </a:lnTo>
                      <a:lnTo>
                        <a:pt x="7" y="583"/>
                      </a:lnTo>
                      <a:lnTo>
                        <a:pt x="0" y="583"/>
                      </a:lnTo>
                      <a:lnTo>
                        <a:pt x="0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76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7" y="569"/>
                      </a:lnTo>
                      <a:lnTo>
                        <a:pt x="0" y="569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62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0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55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8"/>
                      </a:lnTo>
                      <a:lnTo>
                        <a:pt x="7" y="542"/>
                      </a:lnTo>
                      <a:lnTo>
                        <a:pt x="7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42"/>
                      </a:lnTo>
                      <a:lnTo>
                        <a:pt x="0" y="535"/>
                      </a:lnTo>
                      <a:lnTo>
                        <a:pt x="0" y="535"/>
                      </a:lnTo>
                      <a:lnTo>
                        <a:pt x="0" y="53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14920" y="3415320"/>
                  <a:ext cx="536040" cy="629280"/>
                </a:xfrm>
                <a:custGeom>
                  <a:avLst/>
                  <a:gdLst/>
                  <a:ahLst/>
                  <a:rect l="l" t="t" r="r" b="b"/>
                  <a:pathLst>
                    <a:path w="426" h="535">
                      <a:moveTo>
                        <a:pt x="0" y="535"/>
                      </a:move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7" y="521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14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7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500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86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7" y="479"/>
                      </a:lnTo>
                      <a:lnTo>
                        <a:pt x="14" y="479"/>
                      </a:lnTo>
                      <a:lnTo>
                        <a:pt x="14" y="479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14" y="47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65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8"/>
                      </a:lnTo>
                      <a:lnTo>
                        <a:pt x="14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51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1" y="444"/>
                      </a:lnTo>
                      <a:lnTo>
                        <a:pt x="28" y="444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7"/>
                      </a:lnTo>
                      <a:lnTo>
                        <a:pt x="28" y="431"/>
                      </a:lnTo>
                      <a:lnTo>
                        <a:pt x="28" y="431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24"/>
                      </a:lnTo>
                      <a:lnTo>
                        <a:pt x="28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7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35" y="410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403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96"/>
                      </a:lnTo>
                      <a:lnTo>
                        <a:pt x="42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8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61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55" y="354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2" y="347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40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76" y="333"/>
                      </a:lnTo>
                      <a:lnTo>
                        <a:pt x="76" y="333"/>
                      </a:lnTo>
                      <a:lnTo>
                        <a:pt x="76" y="327"/>
                      </a:lnTo>
                      <a:lnTo>
                        <a:pt x="76" y="327"/>
                      </a:lnTo>
                      <a:lnTo>
                        <a:pt x="76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83" y="320"/>
                      </a:lnTo>
                      <a:lnTo>
                        <a:pt x="90" y="313"/>
                      </a:lnTo>
                      <a:lnTo>
                        <a:pt x="90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13"/>
                      </a:lnTo>
                      <a:lnTo>
                        <a:pt x="96" y="306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92"/>
                      </a:lnTo>
                      <a:lnTo>
                        <a:pt x="110" y="285"/>
                      </a:lnTo>
                      <a:lnTo>
                        <a:pt x="110" y="285"/>
                      </a:lnTo>
                      <a:lnTo>
                        <a:pt x="110" y="278"/>
                      </a:lnTo>
                      <a:lnTo>
                        <a:pt x="110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17" y="278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71"/>
                      </a:lnTo>
                      <a:lnTo>
                        <a:pt x="124" y="264"/>
                      </a:lnTo>
                      <a:lnTo>
                        <a:pt x="124" y="264"/>
                      </a:lnTo>
                      <a:lnTo>
                        <a:pt x="124" y="257"/>
                      </a:lnTo>
                      <a:lnTo>
                        <a:pt x="131" y="257"/>
                      </a:lnTo>
                      <a:lnTo>
                        <a:pt x="131" y="257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50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43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0" y="209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17" y="195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24" y="188"/>
                      </a:lnTo>
                      <a:lnTo>
                        <a:pt x="131" y="181"/>
                      </a:lnTo>
                      <a:lnTo>
                        <a:pt x="131" y="181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74"/>
                      </a:lnTo>
                      <a:lnTo>
                        <a:pt x="131" y="167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60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1" y="146"/>
                      </a:lnTo>
                      <a:lnTo>
                        <a:pt x="138" y="146"/>
                      </a:lnTo>
                      <a:lnTo>
                        <a:pt x="138" y="146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45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1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58" y="139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72" y="132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25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2" y="118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11"/>
                      </a:lnTo>
                      <a:lnTo>
                        <a:pt x="179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86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3" y="105"/>
                      </a:lnTo>
                      <a:lnTo>
                        <a:pt x="199" y="105"/>
                      </a:lnTo>
                      <a:lnTo>
                        <a:pt x="199" y="105"/>
                      </a:lnTo>
                      <a:lnTo>
                        <a:pt x="199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8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91"/>
                      </a:lnTo>
                      <a:lnTo>
                        <a:pt x="193" y="84"/>
                      </a:lnTo>
                      <a:lnTo>
                        <a:pt x="193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206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06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13" y="49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42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35"/>
                      </a:lnTo>
                      <a:lnTo>
                        <a:pt x="206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14"/>
                      </a:lnTo>
                      <a:lnTo>
                        <a:pt x="165" y="21"/>
                      </a:lnTo>
                      <a:lnTo>
                        <a:pt x="172" y="14"/>
                      </a:lnTo>
                      <a:lnTo>
                        <a:pt x="172" y="21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2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7"/>
                      </a:lnTo>
                      <a:lnTo>
                        <a:pt x="186" y="0"/>
                      </a:lnTo>
                      <a:lnTo>
                        <a:pt x="193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20" y="7"/>
                      </a:lnTo>
                      <a:lnTo>
                        <a:pt x="220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1" y="7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14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61" y="21"/>
                      </a:lnTo>
                      <a:lnTo>
                        <a:pt x="261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68" y="28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35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2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49"/>
                      </a:lnTo>
                      <a:lnTo>
                        <a:pt x="275" y="56"/>
                      </a:lnTo>
                      <a:lnTo>
                        <a:pt x="275" y="56"/>
                      </a:lnTo>
                      <a:lnTo>
                        <a:pt x="275" y="63"/>
                      </a:lnTo>
                      <a:lnTo>
                        <a:pt x="275" y="63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0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77"/>
                      </a:lnTo>
                      <a:lnTo>
                        <a:pt x="275" y="84"/>
                      </a:lnTo>
                      <a:lnTo>
                        <a:pt x="275" y="84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1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98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82" y="105"/>
                      </a:lnTo>
                      <a:lnTo>
                        <a:pt x="275" y="105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75" y="111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25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2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53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8" y="160"/>
                      </a:lnTo>
                      <a:lnTo>
                        <a:pt x="261" y="160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61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74"/>
                      </a:lnTo>
                      <a:lnTo>
                        <a:pt x="254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1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68" y="181"/>
                      </a:lnTo>
                      <a:lnTo>
                        <a:pt x="275" y="181"/>
                      </a:lnTo>
                      <a:lnTo>
                        <a:pt x="275" y="181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75" y="188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1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68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195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75" y="202"/>
                      </a:lnTo>
                      <a:lnTo>
                        <a:pt x="282" y="202"/>
                      </a:lnTo>
                      <a:lnTo>
                        <a:pt x="282" y="202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16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2" y="209"/>
                      </a:lnTo>
                      <a:lnTo>
                        <a:pt x="289" y="209"/>
                      </a:lnTo>
                      <a:lnTo>
                        <a:pt x="289" y="209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89" y="216"/>
                      </a:lnTo>
                      <a:lnTo>
                        <a:pt x="289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2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296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36"/>
                      </a:lnTo>
                      <a:lnTo>
                        <a:pt x="302" y="236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16" y="243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1" y="236"/>
                      </a:lnTo>
                      <a:lnTo>
                        <a:pt x="357" y="236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43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0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57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7" y="264"/>
                      </a:lnTo>
                      <a:lnTo>
                        <a:pt x="351" y="264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51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30" y="271"/>
                      </a:lnTo>
                      <a:lnTo>
                        <a:pt x="330" y="271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78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30" y="285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2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299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06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9" y="320"/>
                      </a:lnTo>
                      <a:lnTo>
                        <a:pt x="316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23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0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47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0" y="354"/>
                      </a:lnTo>
                      <a:lnTo>
                        <a:pt x="337" y="354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37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1"/>
                      </a:lnTo>
                      <a:lnTo>
                        <a:pt x="344" y="368"/>
                      </a:lnTo>
                      <a:lnTo>
                        <a:pt x="344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68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75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51" y="382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44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89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1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396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03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0"/>
                      </a:lnTo>
                      <a:lnTo>
                        <a:pt x="357" y="417"/>
                      </a:lnTo>
                      <a:lnTo>
                        <a:pt x="357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17"/>
                      </a:lnTo>
                      <a:lnTo>
                        <a:pt x="364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1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78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24"/>
                      </a:lnTo>
                      <a:lnTo>
                        <a:pt x="385" y="431"/>
                      </a:lnTo>
                      <a:lnTo>
                        <a:pt x="385" y="431"/>
                      </a:lnTo>
                      <a:lnTo>
                        <a:pt x="392" y="431"/>
                      </a:lnTo>
                      <a:lnTo>
                        <a:pt x="392" y="424"/>
                      </a:lnTo>
                      <a:lnTo>
                        <a:pt x="399" y="424"/>
                      </a:lnTo>
                      <a:lnTo>
                        <a:pt x="399" y="424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399" y="431"/>
                      </a:lnTo>
                      <a:lnTo>
                        <a:pt x="405" y="431"/>
                      </a:lnTo>
                      <a:lnTo>
                        <a:pt x="405" y="431"/>
                      </a:lnTo>
                      <a:lnTo>
                        <a:pt x="412" y="431"/>
                      </a:lnTo>
                      <a:lnTo>
                        <a:pt x="412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31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19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24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1"/>
                      </a:lnTo>
                      <a:lnTo>
                        <a:pt x="426" y="437"/>
                      </a:lnTo>
                      <a:lnTo>
                        <a:pt x="426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2" y="437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44"/>
                      </a:lnTo>
                      <a:lnTo>
                        <a:pt x="412" y="451"/>
                      </a:lnTo>
                      <a:lnTo>
                        <a:pt x="412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405" y="451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9" y="458"/>
                      </a:lnTo>
                      <a:lnTo>
                        <a:pt x="392" y="458"/>
                      </a:lnTo>
                      <a:lnTo>
                        <a:pt x="392" y="458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92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85" y="465"/>
                      </a:lnTo>
                      <a:lnTo>
                        <a:pt x="378" y="465"/>
                      </a:lnTo>
                      <a:lnTo>
                        <a:pt x="378" y="465"/>
                      </a:lnTo>
                      <a:lnTo>
                        <a:pt x="385" y="472"/>
                      </a:lnTo>
                      <a:lnTo>
                        <a:pt x="385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2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8" y="479"/>
                      </a:lnTo>
                      <a:lnTo>
                        <a:pt x="371" y="486"/>
                      </a:lnTo>
                      <a:lnTo>
                        <a:pt x="371" y="486"/>
                      </a:lnTo>
                      <a:lnTo>
                        <a:pt x="378" y="486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71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493"/>
                      </a:lnTo>
                      <a:lnTo>
                        <a:pt x="364" y="500"/>
                      </a:lnTo>
                      <a:lnTo>
                        <a:pt x="364" y="500"/>
                      </a:lnTo>
                      <a:lnTo>
                        <a:pt x="364" y="507"/>
                      </a:lnTo>
                      <a:lnTo>
                        <a:pt x="357" y="507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7" y="514"/>
                      </a:lnTo>
                      <a:lnTo>
                        <a:pt x="351" y="514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  <a:lnTo>
                        <a:pt x="351" y="5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14920" y="4028400"/>
                  <a:ext cx="493200" cy="211320"/>
                </a:xfrm>
                <a:custGeom>
                  <a:avLst/>
                  <a:gdLst/>
                  <a:ahLst/>
                  <a:rect l="l" t="t" r="r" b="b"/>
                  <a:pathLst>
                    <a:path w="392" h="180">
                      <a:moveTo>
                        <a:pt x="351" y="0"/>
                      </a:moveTo>
                      <a:lnTo>
                        <a:pt x="351" y="0"/>
                      </a:lnTo>
                      <a:lnTo>
                        <a:pt x="351" y="0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1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1"/>
                      </a:lnTo>
                      <a:lnTo>
                        <a:pt x="378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92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85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8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27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34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1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64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1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78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48"/>
                      </a:lnTo>
                      <a:lnTo>
                        <a:pt x="385" y="55"/>
                      </a:lnTo>
                      <a:lnTo>
                        <a:pt x="385" y="55"/>
                      </a:lnTo>
                      <a:lnTo>
                        <a:pt x="378" y="55"/>
                      </a:lnTo>
                      <a:lnTo>
                        <a:pt x="378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55"/>
                      </a:lnTo>
                      <a:lnTo>
                        <a:pt x="371" y="62"/>
                      </a:lnTo>
                      <a:lnTo>
                        <a:pt x="371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2"/>
                      </a:lnTo>
                      <a:lnTo>
                        <a:pt x="364" y="69"/>
                      </a:lnTo>
                      <a:lnTo>
                        <a:pt x="364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71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71" y="76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0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97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97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85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04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1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1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25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8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92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85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8" y="138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71" y="145"/>
                      </a:lnTo>
                      <a:lnTo>
                        <a:pt x="364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8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64" y="138"/>
                      </a:lnTo>
                      <a:lnTo>
                        <a:pt x="357" y="138"/>
                      </a:lnTo>
                      <a:lnTo>
                        <a:pt x="357" y="138"/>
                      </a:lnTo>
                      <a:lnTo>
                        <a:pt x="344" y="138"/>
                      </a:lnTo>
                      <a:lnTo>
                        <a:pt x="337" y="138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45"/>
                      </a:lnTo>
                      <a:lnTo>
                        <a:pt x="330" y="152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45"/>
                      </a:lnTo>
                      <a:lnTo>
                        <a:pt x="323" y="145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23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2"/>
                      </a:lnTo>
                      <a:lnTo>
                        <a:pt x="316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9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302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59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96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9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82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9"/>
                      </a:lnTo>
                      <a:lnTo>
                        <a:pt x="268" y="152"/>
                      </a:lnTo>
                      <a:lnTo>
                        <a:pt x="268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54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66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73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61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54" y="180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8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73"/>
                      </a:lnTo>
                      <a:lnTo>
                        <a:pt x="241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73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34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7" y="166"/>
                      </a:lnTo>
                      <a:lnTo>
                        <a:pt x="227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66"/>
                      </a:lnTo>
                      <a:lnTo>
                        <a:pt x="220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13" y="173"/>
                      </a:lnTo>
                      <a:lnTo>
                        <a:pt x="213" y="166"/>
                      </a:lnTo>
                      <a:lnTo>
                        <a:pt x="220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13" y="166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20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13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59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206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9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66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9"/>
                      </a:lnTo>
                      <a:lnTo>
                        <a:pt x="193" y="152"/>
                      </a:lnTo>
                      <a:lnTo>
                        <a:pt x="193" y="159"/>
                      </a:lnTo>
                      <a:lnTo>
                        <a:pt x="186" y="159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59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86" y="166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72" y="145"/>
                      </a:lnTo>
                      <a:lnTo>
                        <a:pt x="165" y="145"/>
                      </a:lnTo>
                      <a:lnTo>
                        <a:pt x="172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8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65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32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25"/>
                      </a:lnTo>
                      <a:lnTo>
                        <a:pt x="158" y="132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45" y="138"/>
                      </a:lnTo>
                      <a:lnTo>
                        <a:pt x="138" y="138"/>
                      </a:lnTo>
                      <a:lnTo>
                        <a:pt x="138" y="138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32"/>
                      </a:lnTo>
                      <a:lnTo>
                        <a:pt x="138" y="125"/>
                      </a:lnTo>
                      <a:lnTo>
                        <a:pt x="131" y="125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31" y="132"/>
                      </a:lnTo>
                      <a:lnTo>
                        <a:pt x="124" y="132"/>
                      </a:lnTo>
                      <a:lnTo>
                        <a:pt x="124" y="132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38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24" y="145"/>
                      </a:lnTo>
                      <a:lnTo>
                        <a:pt x="117" y="145"/>
                      </a:lnTo>
                      <a:lnTo>
                        <a:pt x="117" y="145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59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69" y="145"/>
                      </a:lnTo>
                      <a:lnTo>
                        <a:pt x="69" y="138"/>
                      </a:lnTo>
                      <a:lnTo>
                        <a:pt x="69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8" y="132"/>
                      </a:lnTo>
                      <a:lnTo>
                        <a:pt x="48" y="132"/>
                      </a:lnTo>
                      <a:lnTo>
                        <a:pt x="48" y="138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42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32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25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8"/>
                      </a:lnTo>
                      <a:lnTo>
                        <a:pt x="35" y="118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11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104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8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42" y="97"/>
                      </a:lnTo>
                      <a:lnTo>
                        <a:pt x="35" y="97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35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8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7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90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83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9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62"/>
                      </a:lnTo>
                      <a:lnTo>
                        <a:pt x="7" y="62"/>
                      </a:lnTo>
                      <a:lnTo>
                        <a:pt x="0" y="62"/>
                      </a:lnTo>
                      <a:lnTo>
                        <a:pt x="0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24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22640" y="3008160"/>
                  <a:ext cx="744120" cy="914400"/>
                </a:xfrm>
                <a:custGeom>
                  <a:avLst/>
                  <a:gdLst/>
                  <a:ahLst/>
                  <a:rect l="l" t="t" r="r" b="b"/>
                  <a:pathLst>
                    <a:path w="591" h="777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34"/>
                      </a:lnTo>
                      <a:lnTo>
                        <a:pt x="330" y="27"/>
                      </a:lnTo>
                      <a:lnTo>
                        <a:pt x="330" y="27"/>
                      </a:lnTo>
                      <a:lnTo>
                        <a:pt x="337" y="27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7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34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1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8"/>
                      </a:lnTo>
                      <a:lnTo>
                        <a:pt x="330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1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1"/>
                      </a:lnTo>
                      <a:lnTo>
                        <a:pt x="343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48"/>
                      </a:lnTo>
                      <a:lnTo>
                        <a:pt x="337" y="48"/>
                      </a:lnTo>
                      <a:lnTo>
                        <a:pt x="343" y="48"/>
                      </a:lnTo>
                      <a:lnTo>
                        <a:pt x="343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48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55"/>
                      </a:lnTo>
                      <a:lnTo>
                        <a:pt x="337" y="55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0" y="62"/>
                      </a:lnTo>
                      <a:lnTo>
                        <a:pt x="330" y="69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37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43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2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0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0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64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97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04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1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1" y="118"/>
                      </a:lnTo>
                      <a:lnTo>
                        <a:pt x="378" y="124"/>
                      </a:lnTo>
                      <a:lnTo>
                        <a:pt x="378" y="124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78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85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1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1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398" y="118"/>
                      </a:lnTo>
                      <a:lnTo>
                        <a:pt x="405" y="118"/>
                      </a:lnTo>
                      <a:lnTo>
                        <a:pt x="405" y="118"/>
                      </a:lnTo>
                      <a:lnTo>
                        <a:pt x="405" y="124"/>
                      </a:lnTo>
                      <a:lnTo>
                        <a:pt x="405" y="131"/>
                      </a:lnTo>
                      <a:lnTo>
                        <a:pt x="405" y="131"/>
                      </a:lnTo>
                      <a:lnTo>
                        <a:pt x="405" y="124"/>
                      </a:lnTo>
                      <a:lnTo>
                        <a:pt x="412" y="124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19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11"/>
                      </a:lnTo>
                      <a:lnTo>
                        <a:pt x="426" y="104"/>
                      </a:lnTo>
                      <a:lnTo>
                        <a:pt x="426" y="104"/>
                      </a:lnTo>
                      <a:lnTo>
                        <a:pt x="433" y="104"/>
                      </a:lnTo>
                      <a:lnTo>
                        <a:pt x="433" y="97"/>
                      </a:lnTo>
                      <a:lnTo>
                        <a:pt x="433" y="97"/>
                      </a:lnTo>
                      <a:lnTo>
                        <a:pt x="440" y="97"/>
                      </a:lnTo>
                      <a:lnTo>
                        <a:pt x="440" y="104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46" y="111"/>
                      </a:lnTo>
                      <a:lnTo>
                        <a:pt x="453" y="111"/>
                      </a:lnTo>
                      <a:lnTo>
                        <a:pt x="453" y="111"/>
                      </a:lnTo>
                      <a:lnTo>
                        <a:pt x="453" y="104"/>
                      </a:lnTo>
                      <a:lnTo>
                        <a:pt x="453" y="104"/>
                      </a:lnTo>
                      <a:lnTo>
                        <a:pt x="453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60" y="111"/>
                      </a:lnTo>
                      <a:lnTo>
                        <a:pt x="474" y="111"/>
                      </a:lnTo>
                      <a:lnTo>
                        <a:pt x="474" y="111"/>
                      </a:lnTo>
                      <a:lnTo>
                        <a:pt x="481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88" y="118"/>
                      </a:lnTo>
                      <a:lnTo>
                        <a:pt x="494" y="118"/>
                      </a:lnTo>
                      <a:lnTo>
                        <a:pt x="501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8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15" y="131"/>
                      </a:lnTo>
                      <a:lnTo>
                        <a:pt x="508" y="131"/>
                      </a:lnTo>
                      <a:lnTo>
                        <a:pt x="508" y="131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08" y="124"/>
                      </a:lnTo>
                      <a:lnTo>
                        <a:pt x="515" y="131"/>
                      </a:lnTo>
                      <a:lnTo>
                        <a:pt x="522" y="138"/>
                      </a:lnTo>
                      <a:lnTo>
                        <a:pt x="522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29" y="138"/>
                      </a:lnTo>
                      <a:lnTo>
                        <a:pt x="536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3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49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56" y="138"/>
                      </a:lnTo>
                      <a:lnTo>
                        <a:pt x="563" y="138"/>
                      </a:lnTo>
                      <a:lnTo>
                        <a:pt x="563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45"/>
                      </a:lnTo>
                      <a:lnTo>
                        <a:pt x="570" y="138"/>
                      </a:lnTo>
                      <a:lnTo>
                        <a:pt x="570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77" y="138"/>
                      </a:lnTo>
                      <a:lnTo>
                        <a:pt x="584" y="138"/>
                      </a:lnTo>
                      <a:lnTo>
                        <a:pt x="584" y="138"/>
                      </a:lnTo>
                      <a:lnTo>
                        <a:pt x="591" y="138"/>
                      </a:lnTo>
                      <a:lnTo>
                        <a:pt x="591" y="138"/>
                      </a:lnTo>
                      <a:lnTo>
                        <a:pt x="584" y="138"/>
                      </a:lnTo>
                      <a:lnTo>
                        <a:pt x="591" y="145"/>
                      </a:lnTo>
                      <a:lnTo>
                        <a:pt x="591" y="145"/>
                      </a:lnTo>
                      <a:lnTo>
                        <a:pt x="584" y="145"/>
                      </a:lnTo>
                      <a:lnTo>
                        <a:pt x="584" y="145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2"/>
                      </a:lnTo>
                      <a:lnTo>
                        <a:pt x="584" y="159"/>
                      </a:lnTo>
                      <a:lnTo>
                        <a:pt x="584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59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91" y="166"/>
                      </a:lnTo>
                      <a:lnTo>
                        <a:pt x="584" y="166"/>
                      </a:lnTo>
                      <a:lnTo>
                        <a:pt x="584" y="166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84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73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7" y="180"/>
                      </a:lnTo>
                      <a:lnTo>
                        <a:pt x="570" y="180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70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87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63" y="194"/>
                      </a:lnTo>
                      <a:lnTo>
                        <a:pt x="556" y="194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56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9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43" y="201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36" y="201"/>
                      </a:lnTo>
                      <a:lnTo>
                        <a:pt x="536" y="201"/>
                      </a:lnTo>
                      <a:lnTo>
                        <a:pt x="536" y="208"/>
                      </a:lnTo>
                      <a:lnTo>
                        <a:pt x="536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2" y="208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22" y="215"/>
                      </a:lnTo>
                      <a:lnTo>
                        <a:pt x="515" y="215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2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29"/>
                      </a:lnTo>
                      <a:lnTo>
                        <a:pt x="515" y="235"/>
                      </a:lnTo>
                      <a:lnTo>
                        <a:pt x="515" y="235"/>
                      </a:lnTo>
                      <a:lnTo>
                        <a:pt x="508" y="235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2"/>
                      </a:lnTo>
                      <a:lnTo>
                        <a:pt x="508" y="249"/>
                      </a:lnTo>
                      <a:lnTo>
                        <a:pt x="508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49"/>
                      </a:lnTo>
                      <a:lnTo>
                        <a:pt x="501" y="256"/>
                      </a:lnTo>
                      <a:lnTo>
                        <a:pt x="501" y="256"/>
                      </a:lnTo>
                      <a:lnTo>
                        <a:pt x="494" y="256"/>
                      </a:lnTo>
                      <a:lnTo>
                        <a:pt x="494" y="256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94" y="263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0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77"/>
                      </a:lnTo>
                      <a:lnTo>
                        <a:pt x="488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494" y="284"/>
                      </a:lnTo>
                      <a:lnTo>
                        <a:pt x="501" y="284"/>
                      </a:lnTo>
                      <a:lnTo>
                        <a:pt x="494" y="284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1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501" y="298"/>
                      </a:lnTo>
                      <a:lnTo>
                        <a:pt x="494" y="298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94" y="305"/>
                      </a:lnTo>
                      <a:lnTo>
                        <a:pt x="488" y="305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2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19"/>
                      </a:lnTo>
                      <a:lnTo>
                        <a:pt x="494" y="326"/>
                      </a:lnTo>
                      <a:lnTo>
                        <a:pt x="494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26"/>
                      </a:lnTo>
                      <a:lnTo>
                        <a:pt x="501" y="333"/>
                      </a:lnTo>
                      <a:lnTo>
                        <a:pt x="501" y="333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0"/>
                      </a:lnTo>
                      <a:lnTo>
                        <a:pt x="501" y="346"/>
                      </a:lnTo>
                      <a:lnTo>
                        <a:pt x="501" y="346"/>
                      </a:lnTo>
                      <a:lnTo>
                        <a:pt x="508" y="346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53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0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501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94" y="367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74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8" y="381"/>
                      </a:lnTo>
                      <a:lnTo>
                        <a:pt x="481" y="381"/>
                      </a:lnTo>
                      <a:lnTo>
                        <a:pt x="481" y="381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88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395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2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09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16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23"/>
                      </a:lnTo>
                      <a:lnTo>
                        <a:pt x="481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0"/>
                      </a:lnTo>
                      <a:lnTo>
                        <a:pt x="488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494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37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44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501" y="451"/>
                      </a:lnTo>
                      <a:lnTo>
                        <a:pt x="494" y="451"/>
                      </a:lnTo>
                      <a:lnTo>
                        <a:pt x="494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501" y="457"/>
                      </a:lnTo>
                      <a:lnTo>
                        <a:pt x="494" y="457"/>
                      </a:lnTo>
                      <a:lnTo>
                        <a:pt x="494" y="464"/>
                      </a:lnTo>
                      <a:lnTo>
                        <a:pt x="501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64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1"/>
                      </a:lnTo>
                      <a:lnTo>
                        <a:pt x="494" y="478"/>
                      </a:lnTo>
                      <a:lnTo>
                        <a:pt x="494" y="478"/>
                      </a:lnTo>
                      <a:lnTo>
                        <a:pt x="488" y="478"/>
                      </a:lnTo>
                      <a:lnTo>
                        <a:pt x="488" y="478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8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81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7" y="485"/>
                      </a:lnTo>
                      <a:lnTo>
                        <a:pt x="460" y="485"/>
                      </a:lnTo>
                      <a:lnTo>
                        <a:pt x="460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85"/>
                      </a:lnTo>
                      <a:lnTo>
                        <a:pt x="453" y="492"/>
                      </a:lnTo>
                      <a:lnTo>
                        <a:pt x="453" y="492"/>
                      </a:lnTo>
                      <a:lnTo>
                        <a:pt x="446" y="492"/>
                      </a:lnTo>
                      <a:lnTo>
                        <a:pt x="446" y="492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6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85"/>
                      </a:lnTo>
                      <a:lnTo>
                        <a:pt x="440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33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26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9" y="478"/>
                      </a:lnTo>
                      <a:lnTo>
                        <a:pt x="412" y="478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12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85"/>
                      </a:lnTo>
                      <a:lnTo>
                        <a:pt x="405" y="478"/>
                      </a:lnTo>
                      <a:lnTo>
                        <a:pt x="405" y="478"/>
                      </a:lnTo>
                      <a:lnTo>
                        <a:pt x="405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8" y="485"/>
                      </a:lnTo>
                      <a:lnTo>
                        <a:pt x="391" y="485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85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91" y="492"/>
                      </a:lnTo>
                      <a:lnTo>
                        <a:pt x="385" y="492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499"/>
                      </a:lnTo>
                      <a:lnTo>
                        <a:pt x="385" y="506"/>
                      </a:lnTo>
                      <a:lnTo>
                        <a:pt x="385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06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8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71" y="513"/>
                      </a:lnTo>
                      <a:lnTo>
                        <a:pt x="364" y="513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64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0"/>
                      </a:lnTo>
                      <a:lnTo>
                        <a:pt x="357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27"/>
                      </a:lnTo>
                      <a:lnTo>
                        <a:pt x="350" y="534"/>
                      </a:lnTo>
                      <a:lnTo>
                        <a:pt x="350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43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7" y="534"/>
                      </a:lnTo>
                      <a:lnTo>
                        <a:pt x="330" y="534"/>
                      </a:lnTo>
                      <a:lnTo>
                        <a:pt x="330" y="534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30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23" y="541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16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9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302" y="555"/>
                      </a:lnTo>
                      <a:lnTo>
                        <a:pt x="302" y="555"/>
                      </a:lnTo>
                      <a:lnTo>
                        <a:pt x="302" y="548"/>
                      </a:lnTo>
                      <a:lnTo>
                        <a:pt x="302" y="548"/>
                      </a:lnTo>
                      <a:lnTo>
                        <a:pt x="295" y="548"/>
                      </a:lnTo>
                      <a:lnTo>
                        <a:pt x="295" y="548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95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8" y="555"/>
                      </a:lnTo>
                      <a:lnTo>
                        <a:pt x="282" y="555"/>
                      </a:lnTo>
                      <a:lnTo>
                        <a:pt x="282" y="555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82" y="562"/>
                      </a:lnTo>
                      <a:lnTo>
                        <a:pt x="275" y="562"/>
                      </a:lnTo>
                      <a:lnTo>
                        <a:pt x="275" y="562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68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75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75" y="582"/>
                      </a:lnTo>
                      <a:lnTo>
                        <a:pt x="275" y="582"/>
                      </a:lnTo>
                      <a:lnTo>
                        <a:pt x="268" y="582"/>
                      </a:lnTo>
                      <a:lnTo>
                        <a:pt x="268" y="589"/>
                      </a:lnTo>
                      <a:lnTo>
                        <a:pt x="275" y="589"/>
                      </a:lnTo>
                      <a:lnTo>
                        <a:pt x="275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89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596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8" y="603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0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17"/>
                      </a:lnTo>
                      <a:lnTo>
                        <a:pt x="261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61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24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1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54" y="638"/>
                      </a:lnTo>
                      <a:lnTo>
                        <a:pt x="247" y="638"/>
                      </a:lnTo>
                      <a:lnTo>
                        <a:pt x="247" y="638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45"/>
                      </a:lnTo>
                      <a:lnTo>
                        <a:pt x="247" y="652"/>
                      </a:lnTo>
                      <a:lnTo>
                        <a:pt x="247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2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40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59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66"/>
                      </a:lnTo>
                      <a:lnTo>
                        <a:pt x="234" y="673"/>
                      </a:lnTo>
                      <a:lnTo>
                        <a:pt x="234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3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79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86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693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0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0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47" y="707"/>
                      </a:lnTo>
                      <a:lnTo>
                        <a:pt x="254" y="707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54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14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1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28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35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2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49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56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63"/>
                      </a:lnTo>
                      <a:lnTo>
                        <a:pt x="247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0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40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7"/>
                      </a:lnTo>
                      <a:lnTo>
                        <a:pt x="234" y="770"/>
                      </a:lnTo>
                      <a:lnTo>
                        <a:pt x="234" y="770"/>
                      </a:lnTo>
                      <a:lnTo>
                        <a:pt x="227" y="770"/>
                      </a:lnTo>
                      <a:lnTo>
                        <a:pt x="227" y="777"/>
                      </a:lnTo>
                      <a:lnTo>
                        <a:pt x="220" y="777"/>
                      </a:lnTo>
                      <a:lnTo>
                        <a:pt x="220" y="777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20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13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206" y="770"/>
                      </a:lnTo>
                      <a:lnTo>
                        <a:pt x="199" y="770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9" y="763"/>
                      </a:lnTo>
                      <a:lnTo>
                        <a:pt x="192" y="763"/>
                      </a:lnTo>
                      <a:lnTo>
                        <a:pt x="192" y="763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56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9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92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42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86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79" y="735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8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21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86" y="714"/>
                      </a:lnTo>
                      <a:lnTo>
                        <a:pt x="179" y="714"/>
                      </a:lnTo>
                      <a:lnTo>
                        <a:pt x="179" y="714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9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7"/>
                      </a:lnTo>
                      <a:lnTo>
                        <a:pt x="172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700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93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65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86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51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9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44" y="673"/>
                      </a:lnTo>
                      <a:lnTo>
                        <a:pt x="151" y="673"/>
                      </a:lnTo>
                      <a:lnTo>
                        <a:pt x="144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1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9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52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45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58" y="638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31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24"/>
                      </a:lnTo>
                      <a:lnTo>
                        <a:pt x="165" y="617"/>
                      </a:lnTo>
                      <a:lnTo>
                        <a:pt x="165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2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79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7"/>
                      </a:lnTo>
                      <a:lnTo>
                        <a:pt x="186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10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603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96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9"/>
                      </a:lnTo>
                      <a:lnTo>
                        <a:pt x="192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82"/>
                      </a:lnTo>
                      <a:lnTo>
                        <a:pt x="186" y="575"/>
                      </a:lnTo>
                      <a:lnTo>
                        <a:pt x="179" y="575"/>
                      </a:lnTo>
                      <a:lnTo>
                        <a:pt x="179" y="575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9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72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65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2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8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89"/>
                      </a:lnTo>
                      <a:lnTo>
                        <a:pt x="151" y="596"/>
                      </a:lnTo>
                      <a:lnTo>
                        <a:pt x="151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44" y="589"/>
                      </a:lnTo>
                      <a:lnTo>
                        <a:pt x="137" y="589"/>
                      </a:lnTo>
                      <a:lnTo>
                        <a:pt x="144" y="589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44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82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7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75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31" y="568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8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62"/>
                      </a:lnTo>
                      <a:lnTo>
                        <a:pt x="124" y="555"/>
                      </a:lnTo>
                      <a:lnTo>
                        <a:pt x="124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62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55"/>
                      </a:lnTo>
                      <a:lnTo>
                        <a:pt x="117" y="548"/>
                      </a:lnTo>
                      <a:lnTo>
                        <a:pt x="117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8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10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96" y="541"/>
                      </a:lnTo>
                      <a:lnTo>
                        <a:pt x="103" y="541"/>
                      </a:lnTo>
                      <a:lnTo>
                        <a:pt x="103" y="541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34"/>
                      </a:lnTo>
                      <a:lnTo>
                        <a:pt x="110" y="527"/>
                      </a:lnTo>
                      <a:lnTo>
                        <a:pt x="110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103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96" y="527"/>
                      </a:lnTo>
                      <a:lnTo>
                        <a:pt x="89" y="527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20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89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13"/>
                      </a:lnTo>
                      <a:lnTo>
                        <a:pt x="96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506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03" y="499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10" y="492"/>
                      </a:lnTo>
                      <a:lnTo>
                        <a:pt x="103" y="492"/>
                      </a:lnTo>
                      <a:lnTo>
                        <a:pt x="103" y="485"/>
                      </a:lnTo>
                      <a:lnTo>
                        <a:pt x="103" y="485"/>
                      </a:lnTo>
                      <a:lnTo>
                        <a:pt x="110" y="485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8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71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64"/>
                      </a:lnTo>
                      <a:lnTo>
                        <a:pt x="110" y="457"/>
                      </a:lnTo>
                      <a:lnTo>
                        <a:pt x="117" y="457"/>
                      </a:lnTo>
                      <a:lnTo>
                        <a:pt x="110" y="457"/>
                      </a:lnTo>
                      <a:lnTo>
                        <a:pt x="110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51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44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7" y="437"/>
                      </a:lnTo>
                      <a:lnTo>
                        <a:pt x="110" y="430"/>
                      </a:lnTo>
                      <a:lnTo>
                        <a:pt x="110" y="430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23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16"/>
                      </a:lnTo>
                      <a:lnTo>
                        <a:pt x="110" y="409"/>
                      </a:lnTo>
                      <a:lnTo>
                        <a:pt x="110" y="409"/>
                      </a:lnTo>
                      <a:lnTo>
                        <a:pt x="110" y="402"/>
                      </a:lnTo>
                      <a:lnTo>
                        <a:pt x="110" y="402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95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8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10" y="381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103" y="374"/>
                      </a:lnTo>
                      <a:lnTo>
                        <a:pt x="96" y="374"/>
                      </a:lnTo>
                      <a:lnTo>
                        <a:pt x="96" y="367"/>
                      </a:lnTo>
                      <a:lnTo>
                        <a:pt x="89" y="367"/>
                      </a:lnTo>
                      <a:lnTo>
                        <a:pt x="89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83" y="367"/>
                      </a:lnTo>
                      <a:lnTo>
                        <a:pt x="76" y="367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60"/>
                      </a:lnTo>
                      <a:lnTo>
                        <a:pt x="76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9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62" y="353"/>
                      </a:lnTo>
                      <a:lnTo>
                        <a:pt x="55" y="360"/>
                      </a:lnTo>
                      <a:lnTo>
                        <a:pt x="55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8" y="353"/>
                      </a:lnTo>
                      <a:lnTo>
                        <a:pt x="41" y="353"/>
                      </a:lnTo>
                      <a:lnTo>
                        <a:pt x="41" y="353"/>
                      </a:lnTo>
                      <a:lnTo>
                        <a:pt x="34" y="353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1" y="346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21" y="353"/>
                      </a:lnTo>
                      <a:lnTo>
                        <a:pt x="14" y="353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14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0"/>
                      </a:lnTo>
                      <a:lnTo>
                        <a:pt x="7" y="367"/>
                      </a:lnTo>
                      <a:lnTo>
                        <a:pt x="7" y="360"/>
                      </a:lnTo>
                      <a:lnTo>
                        <a:pt x="0" y="367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922640" y="3008160"/>
                  <a:ext cx="406440" cy="423720"/>
                </a:xfrm>
                <a:custGeom>
                  <a:avLst/>
                  <a:gdLst/>
                  <a:ahLst/>
                  <a:rect l="l" t="t" r="r" b="b"/>
                  <a:pathLst>
                    <a:path w="323" h="360">
                      <a:moveTo>
                        <a:pt x="0" y="360"/>
                      </a:moveTo>
                      <a:lnTo>
                        <a:pt x="21" y="346"/>
                      </a:lnTo>
                      <a:lnTo>
                        <a:pt x="28" y="346"/>
                      </a:lnTo>
                      <a:lnTo>
                        <a:pt x="28" y="346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28" y="340"/>
                      </a:lnTo>
                      <a:lnTo>
                        <a:pt x="34" y="340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55" y="319"/>
                      </a:lnTo>
                      <a:lnTo>
                        <a:pt x="62" y="319"/>
                      </a:lnTo>
                      <a:lnTo>
                        <a:pt x="62" y="312"/>
                      </a:lnTo>
                      <a:lnTo>
                        <a:pt x="69" y="312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3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89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96" y="298"/>
                      </a:lnTo>
                      <a:lnTo>
                        <a:pt x="103" y="291"/>
                      </a:lnTo>
                      <a:lnTo>
                        <a:pt x="103" y="291"/>
                      </a:lnTo>
                      <a:lnTo>
                        <a:pt x="103" y="284"/>
                      </a:lnTo>
                      <a:lnTo>
                        <a:pt x="103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84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7"/>
                      </a:lnTo>
                      <a:lnTo>
                        <a:pt x="110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70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63"/>
                      </a:lnTo>
                      <a:lnTo>
                        <a:pt x="124" y="263"/>
                      </a:lnTo>
                      <a:lnTo>
                        <a:pt x="117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56"/>
                      </a:lnTo>
                      <a:lnTo>
                        <a:pt x="124" y="249"/>
                      </a:lnTo>
                      <a:lnTo>
                        <a:pt x="124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9"/>
                      </a:lnTo>
                      <a:lnTo>
                        <a:pt x="131" y="242"/>
                      </a:lnTo>
                      <a:lnTo>
                        <a:pt x="131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42"/>
                      </a:lnTo>
                      <a:lnTo>
                        <a:pt x="137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35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9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22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15"/>
                      </a:lnTo>
                      <a:lnTo>
                        <a:pt x="144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8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8" y="201"/>
                      </a:lnTo>
                      <a:lnTo>
                        <a:pt x="158" y="194"/>
                      </a:lnTo>
                      <a:lnTo>
                        <a:pt x="151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58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94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7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73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1"/>
                      </a:lnTo>
                      <a:lnTo>
                        <a:pt x="186" y="131"/>
                      </a:lnTo>
                      <a:lnTo>
                        <a:pt x="186" y="138"/>
                      </a:lnTo>
                      <a:lnTo>
                        <a:pt x="186" y="138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86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31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2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24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8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2" y="111"/>
                      </a:lnTo>
                      <a:lnTo>
                        <a:pt x="199" y="111"/>
                      </a:lnTo>
                      <a:lnTo>
                        <a:pt x="199" y="111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97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199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13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90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83"/>
                      </a:lnTo>
                      <a:lnTo>
                        <a:pt x="213" y="76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62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06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13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55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8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41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34"/>
                      </a:lnTo>
                      <a:lnTo>
                        <a:pt x="220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7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7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20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27" y="7"/>
                      </a:lnTo>
                      <a:lnTo>
                        <a:pt x="234" y="7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34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0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14"/>
                      </a:lnTo>
                      <a:lnTo>
                        <a:pt x="247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61" y="14"/>
                      </a:lnTo>
                      <a:lnTo>
                        <a:pt x="261" y="14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54" y="20"/>
                      </a:lnTo>
                      <a:lnTo>
                        <a:pt x="254" y="27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0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54" y="34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14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68" y="20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68" y="27"/>
                      </a:lnTo>
                      <a:lnTo>
                        <a:pt x="275" y="27"/>
                      </a:lnTo>
                      <a:lnTo>
                        <a:pt x="268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0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75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0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82" y="27"/>
                      </a:lnTo>
                      <a:lnTo>
                        <a:pt x="275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75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41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27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34"/>
                      </a:lnTo>
                      <a:lnTo>
                        <a:pt x="282" y="34"/>
                      </a:lnTo>
                      <a:lnTo>
                        <a:pt x="282" y="34"/>
                      </a:lnTo>
                      <a:lnTo>
                        <a:pt x="288" y="27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7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88" y="20"/>
                      </a:lnTo>
                      <a:lnTo>
                        <a:pt x="295" y="20"/>
                      </a:lnTo>
                      <a:lnTo>
                        <a:pt x="288" y="20"/>
                      </a:lnTo>
                      <a:lnTo>
                        <a:pt x="295" y="27"/>
                      </a:lnTo>
                      <a:lnTo>
                        <a:pt x="295" y="20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27"/>
                      </a:lnTo>
                      <a:lnTo>
                        <a:pt x="295" y="27"/>
                      </a:lnTo>
                      <a:lnTo>
                        <a:pt x="288" y="27"/>
                      </a:lnTo>
                      <a:lnTo>
                        <a:pt x="295" y="27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88" y="41"/>
                      </a:lnTo>
                      <a:lnTo>
                        <a:pt x="288" y="34"/>
                      </a:lnTo>
                      <a:lnTo>
                        <a:pt x="288" y="34"/>
                      </a:lnTo>
                      <a:lnTo>
                        <a:pt x="295" y="34"/>
                      </a:lnTo>
                      <a:lnTo>
                        <a:pt x="295" y="34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2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2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27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09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09" y="41"/>
                      </a:lnTo>
                      <a:lnTo>
                        <a:pt x="316" y="41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16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41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  <a:lnTo>
                        <a:pt x="323" y="3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17480" y="3039840"/>
                  <a:ext cx="449280" cy="775080"/>
                </a:xfrm>
                <a:custGeom>
                  <a:avLst/>
                  <a:gdLst/>
                  <a:ahLst/>
                  <a:rect l="l" t="t" r="r" b="b"/>
                  <a:pathLst>
                    <a:path w="357" h="659">
                      <a:moveTo>
                        <a:pt x="89" y="7"/>
                      </a:move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14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7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21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14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14"/>
                      </a:lnTo>
                      <a:lnTo>
                        <a:pt x="109" y="14"/>
                      </a:lnTo>
                      <a:lnTo>
                        <a:pt x="116" y="14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1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96" y="35"/>
                      </a:lnTo>
                      <a:lnTo>
                        <a:pt x="96" y="42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3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09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35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16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23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49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56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0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77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84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37" y="91"/>
                      </a:lnTo>
                      <a:lnTo>
                        <a:pt x="144" y="97"/>
                      </a:lnTo>
                      <a:lnTo>
                        <a:pt x="144" y="97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44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1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84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64" y="91"/>
                      </a:lnTo>
                      <a:lnTo>
                        <a:pt x="171" y="91"/>
                      </a:lnTo>
                      <a:lnTo>
                        <a:pt x="171" y="91"/>
                      </a:lnTo>
                      <a:lnTo>
                        <a:pt x="171" y="97"/>
                      </a:lnTo>
                      <a:lnTo>
                        <a:pt x="171" y="104"/>
                      </a:lnTo>
                      <a:lnTo>
                        <a:pt x="171" y="104"/>
                      </a:lnTo>
                      <a:lnTo>
                        <a:pt x="171" y="97"/>
                      </a:lnTo>
                      <a:lnTo>
                        <a:pt x="178" y="97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91"/>
                      </a:lnTo>
                      <a:lnTo>
                        <a:pt x="178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85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84"/>
                      </a:lnTo>
                      <a:lnTo>
                        <a:pt x="192" y="77"/>
                      </a:lnTo>
                      <a:lnTo>
                        <a:pt x="192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2" y="84"/>
                      </a:lnTo>
                      <a:lnTo>
                        <a:pt x="219" y="84"/>
                      </a:lnTo>
                      <a:lnTo>
                        <a:pt x="219" y="84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26" y="84"/>
                      </a:lnTo>
                      <a:lnTo>
                        <a:pt x="240" y="84"/>
                      </a:lnTo>
                      <a:lnTo>
                        <a:pt x="240" y="84"/>
                      </a:lnTo>
                      <a:lnTo>
                        <a:pt x="247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54" y="91"/>
                      </a:lnTo>
                      <a:lnTo>
                        <a:pt x="260" y="91"/>
                      </a:lnTo>
                      <a:lnTo>
                        <a:pt x="267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11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81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81" y="104"/>
                      </a:lnTo>
                      <a:lnTo>
                        <a:pt x="288" y="111"/>
                      </a:lnTo>
                      <a:lnTo>
                        <a:pt x="288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302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15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2" y="111"/>
                      </a:lnTo>
                      <a:lnTo>
                        <a:pt x="329" y="111"/>
                      </a:lnTo>
                      <a:lnTo>
                        <a:pt x="329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0" y="111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0" y="139"/>
                      </a:lnTo>
                      <a:lnTo>
                        <a:pt x="350" y="139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50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46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43" y="153"/>
                      </a:lnTo>
                      <a:lnTo>
                        <a:pt x="336" y="153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0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9" y="167"/>
                      </a:lnTo>
                      <a:lnTo>
                        <a:pt x="322" y="167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22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15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74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95" y="181"/>
                      </a:lnTo>
                      <a:lnTo>
                        <a:pt x="288" y="181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8" y="188"/>
                      </a:lnTo>
                      <a:lnTo>
                        <a:pt x="281" y="188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195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2"/>
                      </a:lnTo>
                      <a:lnTo>
                        <a:pt x="281" y="208"/>
                      </a:lnTo>
                      <a:lnTo>
                        <a:pt x="281" y="208"/>
                      </a:lnTo>
                      <a:lnTo>
                        <a:pt x="274" y="208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15"/>
                      </a:lnTo>
                      <a:lnTo>
                        <a:pt x="274" y="222"/>
                      </a:lnTo>
                      <a:lnTo>
                        <a:pt x="274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9"/>
                      </a:lnTo>
                      <a:lnTo>
                        <a:pt x="267" y="229"/>
                      </a:lnTo>
                      <a:lnTo>
                        <a:pt x="260" y="229"/>
                      </a:lnTo>
                      <a:lnTo>
                        <a:pt x="260" y="229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60" y="236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43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0"/>
                      </a:lnTo>
                      <a:lnTo>
                        <a:pt x="254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0" y="257"/>
                      </a:lnTo>
                      <a:lnTo>
                        <a:pt x="267" y="257"/>
                      </a:lnTo>
                      <a:lnTo>
                        <a:pt x="260" y="257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64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7" y="271"/>
                      </a:lnTo>
                      <a:lnTo>
                        <a:pt x="260" y="271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60" y="278"/>
                      </a:lnTo>
                      <a:lnTo>
                        <a:pt x="254" y="278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85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9"/>
                      </a:lnTo>
                      <a:lnTo>
                        <a:pt x="260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3"/>
                      </a:lnTo>
                      <a:lnTo>
                        <a:pt x="267" y="319"/>
                      </a:lnTo>
                      <a:lnTo>
                        <a:pt x="267" y="319"/>
                      </a:lnTo>
                      <a:lnTo>
                        <a:pt x="274" y="319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26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33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7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60" y="340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47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03"/>
                      </a:lnTo>
                      <a:lnTo>
                        <a:pt x="254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0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0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17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7" y="424"/>
                      </a:lnTo>
                      <a:lnTo>
                        <a:pt x="260" y="424"/>
                      </a:lnTo>
                      <a:lnTo>
                        <a:pt x="260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7" y="430"/>
                      </a:lnTo>
                      <a:lnTo>
                        <a:pt x="260" y="430"/>
                      </a:lnTo>
                      <a:lnTo>
                        <a:pt x="260" y="437"/>
                      </a:lnTo>
                      <a:lnTo>
                        <a:pt x="267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37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44"/>
                      </a:lnTo>
                      <a:lnTo>
                        <a:pt x="260" y="451"/>
                      </a:lnTo>
                      <a:lnTo>
                        <a:pt x="260" y="451"/>
                      </a:lnTo>
                      <a:lnTo>
                        <a:pt x="254" y="451"/>
                      </a:lnTo>
                      <a:lnTo>
                        <a:pt x="254" y="451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54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7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40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33" y="458"/>
                      </a:lnTo>
                      <a:lnTo>
                        <a:pt x="226" y="458"/>
                      </a:lnTo>
                      <a:lnTo>
                        <a:pt x="226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58"/>
                      </a:lnTo>
                      <a:lnTo>
                        <a:pt x="219" y="465"/>
                      </a:lnTo>
                      <a:lnTo>
                        <a:pt x="219" y="465"/>
                      </a:lnTo>
                      <a:lnTo>
                        <a:pt x="212" y="465"/>
                      </a:lnTo>
                      <a:lnTo>
                        <a:pt x="212" y="465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12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8"/>
                      </a:lnTo>
                      <a:lnTo>
                        <a:pt x="206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9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92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85" y="451"/>
                      </a:lnTo>
                      <a:lnTo>
                        <a:pt x="178" y="451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8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8"/>
                      </a:lnTo>
                      <a:lnTo>
                        <a:pt x="171" y="451"/>
                      </a:lnTo>
                      <a:lnTo>
                        <a:pt x="171" y="451"/>
                      </a:lnTo>
                      <a:lnTo>
                        <a:pt x="171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64" y="458"/>
                      </a:lnTo>
                      <a:lnTo>
                        <a:pt x="157" y="458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58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7" y="465"/>
                      </a:lnTo>
                      <a:lnTo>
                        <a:pt x="151" y="465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2"/>
                      </a:lnTo>
                      <a:lnTo>
                        <a:pt x="151" y="479"/>
                      </a:lnTo>
                      <a:lnTo>
                        <a:pt x="151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79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30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493"/>
                      </a:lnTo>
                      <a:lnTo>
                        <a:pt x="123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0"/>
                      </a:lnTo>
                      <a:lnTo>
                        <a:pt x="116" y="507"/>
                      </a:lnTo>
                      <a:lnTo>
                        <a:pt x="116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9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103" y="507"/>
                      </a:lnTo>
                      <a:lnTo>
                        <a:pt x="96" y="507"/>
                      </a:lnTo>
                      <a:lnTo>
                        <a:pt x="96" y="507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96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9" y="514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82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75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8" y="528"/>
                      </a:lnTo>
                      <a:lnTo>
                        <a:pt x="68" y="528"/>
                      </a:lnTo>
                      <a:lnTo>
                        <a:pt x="68" y="521"/>
                      </a:lnTo>
                      <a:lnTo>
                        <a:pt x="68" y="521"/>
                      </a:lnTo>
                      <a:lnTo>
                        <a:pt x="61" y="521"/>
                      </a:lnTo>
                      <a:lnTo>
                        <a:pt x="61" y="521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61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54" y="528"/>
                      </a:lnTo>
                      <a:lnTo>
                        <a:pt x="48" y="528"/>
                      </a:lnTo>
                      <a:lnTo>
                        <a:pt x="48" y="528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8" y="535"/>
                      </a:lnTo>
                      <a:lnTo>
                        <a:pt x="41" y="535"/>
                      </a:lnTo>
                      <a:lnTo>
                        <a:pt x="41" y="535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1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48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41" y="555"/>
                      </a:lnTo>
                      <a:lnTo>
                        <a:pt x="41" y="555"/>
                      </a:lnTo>
                      <a:lnTo>
                        <a:pt x="34" y="555"/>
                      </a:lnTo>
                      <a:lnTo>
                        <a:pt x="34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2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69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34" y="576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83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0"/>
                      </a:lnTo>
                      <a:lnTo>
                        <a:pt x="27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7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597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04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20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25"/>
                      </a:lnTo>
                      <a:lnTo>
                        <a:pt x="13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2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39"/>
                      </a:lnTo>
                      <a:lnTo>
                        <a:pt x="0" y="646"/>
                      </a:lnTo>
                      <a:lnTo>
                        <a:pt x="0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46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2"/>
                      </a:lnTo>
                      <a:lnTo>
                        <a:pt x="6" y="659"/>
                      </a:lnTo>
                      <a:lnTo>
                        <a:pt x="6" y="659"/>
                      </a:lnTo>
                      <a:lnTo>
                        <a:pt x="6" y="6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922640" y="3415320"/>
                  <a:ext cx="319680" cy="507240"/>
                </a:xfrm>
                <a:custGeom>
                  <a:avLst/>
                  <a:gdLst/>
                  <a:ahLst/>
                  <a:rect l="l" t="t" r="r" b="b"/>
                  <a:pathLst>
                    <a:path w="254" h="431">
                      <a:moveTo>
                        <a:pt x="240" y="340"/>
                      </a:move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0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47" y="361"/>
                      </a:lnTo>
                      <a:lnTo>
                        <a:pt x="254" y="361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54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68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396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03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0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17"/>
                      </a:lnTo>
                      <a:lnTo>
                        <a:pt x="247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24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40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31"/>
                      </a:lnTo>
                      <a:lnTo>
                        <a:pt x="234" y="424"/>
                      </a:lnTo>
                      <a:lnTo>
                        <a:pt x="234" y="424"/>
                      </a:lnTo>
                      <a:lnTo>
                        <a:pt x="227" y="424"/>
                      </a:lnTo>
                      <a:lnTo>
                        <a:pt x="227" y="431"/>
                      </a:lnTo>
                      <a:lnTo>
                        <a:pt x="220" y="431"/>
                      </a:lnTo>
                      <a:lnTo>
                        <a:pt x="220" y="431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20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13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206" y="424"/>
                      </a:lnTo>
                      <a:lnTo>
                        <a:pt x="199" y="424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10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403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92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96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86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79" y="389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82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75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86" y="368"/>
                      </a:lnTo>
                      <a:lnTo>
                        <a:pt x="179" y="368"/>
                      </a:lnTo>
                      <a:lnTo>
                        <a:pt x="179" y="368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9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61"/>
                      </a:lnTo>
                      <a:lnTo>
                        <a:pt x="172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8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51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33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44" y="327"/>
                      </a:lnTo>
                      <a:lnTo>
                        <a:pt x="151" y="327"/>
                      </a:lnTo>
                      <a:lnTo>
                        <a:pt x="144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20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1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13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306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9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58" y="292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85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8"/>
                      </a:lnTo>
                      <a:lnTo>
                        <a:pt x="165" y="271"/>
                      </a:lnTo>
                      <a:lnTo>
                        <a:pt x="165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2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79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71"/>
                      </a:lnTo>
                      <a:lnTo>
                        <a:pt x="186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64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7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50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43"/>
                      </a:lnTo>
                      <a:lnTo>
                        <a:pt x="192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36"/>
                      </a:lnTo>
                      <a:lnTo>
                        <a:pt x="186" y="229"/>
                      </a:lnTo>
                      <a:lnTo>
                        <a:pt x="179" y="229"/>
                      </a:lnTo>
                      <a:lnTo>
                        <a:pt x="179" y="229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9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72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65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36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8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43"/>
                      </a:lnTo>
                      <a:lnTo>
                        <a:pt x="151" y="250"/>
                      </a:lnTo>
                      <a:lnTo>
                        <a:pt x="151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44" y="243"/>
                      </a:lnTo>
                      <a:lnTo>
                        <a:pt x="137" y="243"/>
                      </a:lnTo>
                      <a:lnTo>
                        <a:pt x="144" y="243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44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36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7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31" y="222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22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09"/>
                      </a:lnTo>
                      <a:lnTo>
                        <a:pt x="124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16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9"/>
                      </a:lnTo>
                      <a:lnTo>
                        <a:pt x="117" y="202"/>
                      </a:lnTo>
                      <a:lnTo>
                        <a:pt x="117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202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96" y="195"/>
                      </a:lnTo>
                      <a:lnTo>
                        <a:pt x="103" y="195"/>
                      </a:lnTo>
                      <a:lnTo>
                        <a:pt x="103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1"/>
                      </a:lnTo>
                      <a:lnTo>
                        <a:pt x="110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103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74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89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7"/>
                      </a:lnTo>
                      <a:lnTo>
                        <a:pt x="96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60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03" y="153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10" y="146"/>
                      </a:lnTo>
                      <a:lnTo>
                        <a:pt x="103" y="146"/>
                      </a:lnTo>
                      <a:lnTo>
                        <a:pt x="103" y="139"/>
                      </a:lnTo>
                      <a:lnTo>
                        <a:pt x="103" y="139"/>
                      </a:lnTo>
                      <a:lnTo>
                        <a:pt x="110" y="139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32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10" y="111"/>
                      </a:lnTo>
                      <a:lnTo>
                        <a:pt x="117" y="111"/>
                      </a:lnTo>
                      <a:lnTo>
                        <a:pt x="110" y="111"/>
                      </a:lnTo>
                      <a:lnTo>
                        <a:pt x="110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105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8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7" y="91"/>
                      </a:lnTo>
                      <a:lnTo>
                        <a:pt x="110" y="84"/>
                      </a:lnTo>
                      <a:lnTo>
                        <a:pt x="110" y="84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7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70"/>
                      </a:lnTo>
                      <a:lnTo>
                        <a:pt x="110" y="63"/>
                      </a:lnTo>
                      <a:lnTo>
                        <a:pt x="110" y="63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103" y="28"/>
                      </a:lnTo>
                      <a:lnTo>
                        <a:pt x="96" y="28"/>
                      </a:lnTo>
                      <a:lnTo>
                        <a:pt x="96" y="21"/>
                      </a:lnTo>
                      <a:lnTo>
                        <a:pt x="89" y="21"/>
                      </a:lnTo>
                      <a:lnTo>
                        <a:pt x="89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14"/>
                      </a:lnTo>
                      <a:lnTo>
                        <a:pt x="76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3760" y="3138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0920" y="311400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80920" y="3105720"/>
                  <a:ext cx="1080" cy="108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72280" y="3089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363640" y="3081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63640" y="3089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63640" y="30812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3640" y="308124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prstGeom prst="rect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63640" y="3081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63640" y="30729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54640" y="30729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47080" y="30729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47080" y="307296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54640" y="30729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354640" y="30646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5464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47080" y="305640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347080" y="30646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47080" y="30481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38080" y="304812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38080" y="30564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2944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2944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20800" y="3031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20800" y="3039840"/>
                  <a:ext cx="828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2080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311800" y="303984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47080" y="30564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38080" y="303156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0800" y="30398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1180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31180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294160" y="304812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77960" y="3039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8552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68960" y="30315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68960" y="30398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26896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60320" y="303156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60320" y="3024720"/>
                  <a:ext cx="1080" cy="6840"/>
                </a:xfrm>
                <a:custGeom>
                  <a:avLst/>
                  <a:gdLst/>
                  <a:ahLst/>
                  <a:rect l="l" t="t" r="r" b="b"/>
                  <a:pathLst>
                    <a:path w="0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60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251320" y="30398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60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132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51320" y="3016440"/>
                  <a:ext cx="8640" cy="234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51320" y="303156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5132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42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33680" y="30247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33680" y="30247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33680" y="3016440"/>
                  <a:ext cx="864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33680" y="3016440"/>
                  <a:ext cx="1080" cy="108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17480" y="3178800"/>
                  <a:ext cx="595440" cy="816480"/>
                </a:xfrm>
                <a:custGeom>
                  <a:avLst/>
                  <a:gdLst/>
                  <a:ahLst/>
                  <a:rect l="l" t="t" r="r" b="b"/>
                  <a:pathLst>
                    <a:path w="473" h="694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37"/>
                      </a:lnTo>
                      <a:lnTo>
                        <a:pt x="460" y="444"/>
                      </a:lnTo>
                      <a:lnTo>
                        <a:pt x="460" y="444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53" y="451"/>
                      </a:lnTo>
                      <a:lnTo>
                        <a:pt x="460" y="451"/>
                      </a:lnTo>
                      <a:lnTo>
                        <a:pt x="460" y="451"/>
                      </a:lnTo>
                      <a:lnTo>
                        <a:pt x="453" y="458"/>
                      </a:lnTo>
                      <a:lnTo>
                        <a:pt x="453" y="451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53" y="458"/>
                      </a:lnTo>
                      <a:lnTo>
                        <a:pt x="446" y="458"/>
                      </a:lnTo>
                      <a:lnTo>
                        <a:pt x="446" y="458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46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65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9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2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32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25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79"/>
                      </a:lnTo>
                      <a:lnTo>
                        <a:pt x="418" y="486"/>
                      </a:lnTo>
                      <a:lnTo>
                        <a:pt x="418" y="479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86"/>
                      </a:lnTo>
                      <a:lnTo>
                        <a:pt x="412" y="493"/>
                      </a:lnTo>
                      <a:lnTo>
                        <a:pt x="412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493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405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8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0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91" y="507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84" y="514"/>
                      </a:lnTo>
                      <a:lnTo>
                        <a:pt x="377" y="514"/>
                      </a:lnTo>
                      <a:lnTo>
                        <a:pt x="377" y="514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1"/>
                      </a:lnTo>
                      <a:lnTo>
                        <a:pt x="377" y="528"/>
                      </a:lnTo>
                      <a:lnTo>
                        <a:pt x="377" y="521"/>
                      </a:lnTo>
                      <a:lnTo>
                        <a:pt x="370" y="521"/>
                      </a:lnTo>
                      <a:lnTo>
                        <a:pt x="370" y="521"/>
                      </a:lnTo>
                      <a:lnTo>
                        <a:pt x="370" y="528"/>
                      </a:lnTo>
                      <a:lnTo>
                        <a:pt x="370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28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63" y="534"/>
                      </a:lnTo>
                      <a:lnTo>
                        <a:pt x="357" y="534"/>
                      </a:lnTo>
                      <a:lnTo>
                        <a:pt x="357" y="534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7" y="541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50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36" y="548"/>
                      </a:lnTo>
                      <a:lnTo>
                        <a:pt x="329" y="548"/>
                      </a:lnTo>
                      <a:lnTo>
                        <a:pt x="329" y="555"/>
                      </a:lnTo>
                      <a:lnTo>
                        <a:pt x="329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22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15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55"/>
                      </a:lnTo>
                      <a:lnTo>
                        <a:pt x="309" y="562"/>
                      </a:lnTo>
                      <a:lnTo>
                        <a:pt x="309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2"/>
                      </a:lnTo>
                      <a:lnTo>
                        <a:pt x="302" y="569"/>
                      </a:lnTo>
                      <a:lnTo>
                        <a:pt x="302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95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69"/>
                      </a:lnTo>
                      <a:lnTo>
                        <a:pt x="288" y="576"/>
                      </a:lnTo>
                      <a:lnTo>
                        <a:pt x="288" y="569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76"/>
                      </a:lnTo>
                      <a:lnTo>
                        <a:pt x="281" y="569"/>
                      </a:lnTo>
                      <a:lnTo>
                        <a:pt x="274" y="569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76"/>
                      </a:lnTo>
                      <a:lnTo>
                        <a:pt x="274" y="583"/>
                      </a:lnTo>
                      <a:lnTo>
                        <a:pt x="267" y="583"/>
                      </a:lnTo>
                      <a:lnTo>
                        <a:pt x="267" y="583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7" y="576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60" y="569"/>
                      </a:lnTo>
                      <a:lnTo>
                        <a:pt x="254" y="569"/>
                      </a:lnTo>
                      <a:lnTo>
                        <a:pt x="254" y="569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54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7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40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33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62"/>
                      </a:lnTo>
                      <a:lnTo>
                        <a:pt x="226" y="555"/>
                      </a:lnTo>
                      <a:lnTo>
                        <a:pt x="226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55"/>
                      </a:lnTo>
                      <a:lnTo>
                        <a:pt x="219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48"/>
                      </a:lnTo>
                      <a:lnTo>
                        <a:pt x="212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206" y="555"/>
                      </a:lnTo>
                      <a:lnTo>
                        <a:pt x="199" y="555"/>
                      </a:lnTo>
                      <a:lnTo>
                        <a:pt x="199" y="562"/>
                      </a:lnTo>
                      <a:lnTo>
                        <a:pt x="199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92" y="562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69"/>
                      </a:lnTo>
                      <a:lnTo>
                        <a:pt x="185" y="576"/>
                      </a:lnTo>
                      <a:lnTo>
                        <a:pt x="178" y="576"/>
                      </a:lnTo>
                      <a:lnTo>
                        <a:pt x="185" y="576"/>
                      </a:lnTo>
                      <a:lnTo>
                        <a:pt x="185" y="576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83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85" y="590"/>
                      </a:lnTo>
                      <a:lnTo>
                        <a:pt x="192" y="590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2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597"/>
                      </a:lnTo>
                      <a:lnTo>
                        <a:pt x="199" y="604"/>
                      </a:lnTo>
                      <a:lnTo>
                        <a:pt x="199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04"/>
                      </a:lnTo>
                      <a:lnTo>
                        <a:pt x="192" y="611"/>
                      </a:lnTo>
                      <a:lnTo>
                        <a:pt x="192" y="611"/>
                      </a:lnTo>
                      <a:lnTo>
                        <a:pt x="199" y="611"/>
                      </a:lnTo>
                      <a:lnTo>
                        <a:pt x="199" y="611"/>
                      </a:lnTo>
                      <a:lnTo>
                        <a:pt x="199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18"/>
                      </a:lnTo>
                      <a:lnTo>
                        <a:pt x="192" y="625"/>
                      </a:lnTo>
                      <a:lnTo>
                        <a:pt x="192" y="625"/>
                      </a:lnTo>
                      <a:lnTo>
                        <a:pt x="185" y="625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2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85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38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8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71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45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2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64" y="659"/>
                      </a:lnTo>
                      <a:lnTo>
                        <a:pt x="157" y="659"/>
                      </a:lnTo>
                      <a:lnTo>
                        <a:pt x="157" y="659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7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51" y="666"/>
                      </a:lnTo>
                      <a:lnTo>
                        <a:pt x="144" y="666"/>
                      </a:lnTo>
                      <a:lnTo>
                        <a:pt x="144" y="666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44" y="659"/>
                      </a:lnTo>
                      <a:lnTo>
                        <a:pt x="137" y="659"/>
                      </a:lnTo>
                      <a:lnTo>
                        <a:pt x="137" y="659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7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30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23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66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16" y="673"/>
                      </a:lnTo>
                      <a:lnTo>
                        <a:pt x="109" y="680"/>
                      </a:lnTo>
                      <a:lnTo>
                        <a:pt x="109" y="673"/>
                      </a:lnTo>
                      <a:lnTo>
                        <a:pt x="109" y="673"/>
                      </a:lnTo>
                      <a:lnTo>
                        <a:pt x="109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0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103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96" y="687"/>
                      </a:lnTo>
                      <a:lnTo>
                        <a:pt x="89" y="694"/>
                      </a:lnTo>
                      <a:lnTo>
                        <a:pt x="89" y="687"/>
                      </a:lnTo>
                      <a:lnTo>
                        <a:pt x="89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82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7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75" y="680"/>
                      </a:lnTo>
                      <a:lnTo>
                        <a:pt x="68" y="680"/>
                      </a:lnTo>
                      <a:lnTo>
                        <a:pt x="68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80"/>
                      </a:lnTo>
                      <a:lnTo>
                        <a:pt x="61" y="673"/>
                      </a:lnTo>
                      <a:lnTo>
                        <a:pt x="54" y="673"/>
                      </a:lnTo>
                      <a:lnTo>
                        <a:pt x="54" y="673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54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66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9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48" y="652"/>
                      </a:lnTo>
                      <a:lnTo>
                        <a:pt x="54" y="652"/>
                      </a:lnTo>
                      <a:lnTo>
                        <a:pt x="54" y="652"/>
                      </a:lnTo>
                      <a:lnTo>
                        <a:pt x="48" y="652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45"/>
                      </a:lnTo>
                      <a:lnTo>
                        <a:pt x="48" y="638"/>
                      </a:lnTo>
                      <a:lnTo>
                        <a:pt x="48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8"/>
                      </a:lnTo>
                      <a:lnTo>
                        <a:pt x="41" y="632"/>
                      </a:lnTo>
                      <a:lnTo>
                        <a:pt x="41" y="632"/>
                      </a:lnTo>
                      <a:lnTo>
                        <a:pt x="34" y="632"/>
                      </a:lnTo>
                      <a:lnTo>
                        <a:pt x="34" y="632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34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25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20" y="632"/>
                      </a:lnTo>
                      <a:lnTo>
                        <a:pt x="13" y="632"/>
                      </a:lnTo>
                      <a:lnTo>
                        <a:pt x="13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17480" y="3178800"/>
                  <a:ext cx="595440" cy="743400"/>
                </a:xfrm>
                <a:custGeom>
                  <a:avLst/>
                  <a:gdLst/>
                  <a:ahLst/>
                  <a:rect l="l" t="t" r="r" b="b"/>
                  <a:pathLst>
                    <a:path w="473" h="632">
                      <a:moveTo>
                        <a:pt x="6" y="632"/>
                      </a:move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32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6" y="625"/>
                      </a:lnTo>
                      <a:lnTo>
                        <a:pt x="13" y="625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8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11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604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7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90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83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76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13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9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20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62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13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55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8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41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34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6" y="528"/>
                      </a:lnTo>
                      <a:lnTo>
                        <a:pt x="0" y="528"/>
                      </a:lnTo>
                      <a:lnTo>
                        <a:pt x="0" y="528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2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14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6" y="507"/>
                      </a:lnTo>
                      <a:lnTo>
                        <a:pt x="13" y="507"/>
                      </a:lnTo>
                      <a:lnTo>
                        <a:pt x="13" y="507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500"/>
                      </a:lnTo>
                      <a:lnTo>
                        <a:pt x="13" y="493"/>
                      </a:lnTo>
                      <a:lnTo>
                        <a:pt x="13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93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8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51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34" y="444"/>
                      </a:lnTo>
                      <a:lnTo>
                        <a:pt x="41" y="444"/>
                      </a:lnTo>
                      <a:lnTo>
                        <a:pt x="41" y="444"/>
                      </a:lnTo>
                      <a:lnTo>
                        <a:pt x="34" y="444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34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7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30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23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7"/>
                      </a:lnTo>
                      <a:lnTo>
                        <a:pt x="48" y="410"/>
                      </a:lnTo>
                      <a:lnTo>
                        <a:pt x="48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54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10"/>
                      </a:lnTo>
                      <a:lnTo>
                        <a:pt x="61" y="403"/>
                      </a:lnTo>
                      <a:lnTo>
                        <a:pt x="61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10"/>
                      </a:lnTo>
                      <a:lnTo>
                        <a:pt x="68" y="410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68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75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2" y="403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89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96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3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09" y="389"/>
                      </a:lnTo>
                      <a:lnTo>
                        <a:pt x="116" y="389"/>
                      </a:lnTo>
                      <a:lnTo>
                        <a:pt x="116" y="389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16" y="382"/>
                      </a:lnTo>
                      <a:lnTo>
                        <a:pt x="123" y="382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23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75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44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7"/>
                      </a:lnTo>
                      <a:lnTo>
                        <a:pt x="157" y="340"/>
                      </a:lnTo>
                      <a:lnTo>
                        <a:pt x="157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64" y="340"/>
                      </a:lnTo>
                      <a:lnTo>
                        <a:pt x="171" y="340"/>
                      </a:lnTo>
                      <a:lnTo>
                        <a:pt x="171" y="333"/>
                      </a:lnTo>
                      <a:lnTo>
                        <a:pt x="171" y="333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1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40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06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0"/>
                      </a:lnTo>
                      <a:lnTo>
                        <a:pt x="212" y="347"/>
                      </a:lnTo>
                      <a:lnTo>
                        <a:pt x="212" y="347"/>
                      </a:lnTo>
                      <a:lnTo>
                        <a:pt x="219" y="347"/>
                      </a:lnTo>
                      <a:lnTo>
                        <a:pt x="219" y="347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19" y="340"/>
                      </a:lnTo>
                      <a:lnTo>
                        <a:pt x="226" y="340"/>
                      </a:lnTo>
                      <a:lnTo>
                        <a:pt x="226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33"/>
                      </a:lnTo>
                      <a:lnTo>
                        <a:pt x="254" y="333"/>
                      </a:lnTo>
                      <a:lnTo>
                        <a:pt x="260" y="333"/>
                      </a:lnTo>
                      <a:lnTo>
                        <a:pt x="260" y="333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26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0" y="319"/>
                      </a:lnTo>
                      <a:lnTo>
                        <a:pt x="267" y="319"/>
                      </a:lnTo>
                      <a:lnTo>
                        <a:pt x="260" y="319"/>
                      </a:lnTo>
                      <a:lnTo>
                        <a:pt x="260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7" y="312"/>
                      </a:lnTo>
                      <a:lnTo>
                        <a:pt x="260" y="312"/>
                      </a:lnTo>
                      <a:lnTo>
                        <a:pt x="260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306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9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7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60" y="292"/>
                      </a:lnTo>
                      <a:lnTo>
                        <a:pt x="254" y="292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85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8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71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64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7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50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43"/>
                      </a:lnTo>
                      <a:lnTo>
                        <a:pt x="247" y="236"/>
                      </a:lnTo>
                      <a:lnTo>
                        <a:pt x="247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36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54" y="229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0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22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15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67" y="208"/>
                      </a:lnTo>
                      <a:lnTo>
                        <a:pt x="274" y="201"/>
                      </a:lnTo>
                      <a:lnTo>
                        <a:pt x="267" y="201"/>
                      </a:lnTo>
                      <a:lnTo>
                        <a:pt x="267" y="201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95"/>
                      </a:lnTo>
                      <a:lnTo>
                        <a:pt x="267" y="188"/>
                      </a:lnTo>
                      <a:lnTo>
                        <a:pt x="267" y="188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7" y="181"/>
                      </a:lnTo>
                      <a:lnTo>
                        <a:pt x="260" y="181"/>
                      </a:lnTo>
                      <a:lnTo>
                        <a:pt x="260" y="181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74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60" y="167"/>
                      </a:lnTo>
                      <a:lnTo>
                        <a:pt x="254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60"/>
                      </a:lnTo>
                      <a:lnTo>
                        <a:pt x="260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53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7" y="146"/>
                      </a:lnTo>
                      <a:lnTo>
                        <a:pt x="260" y="139"/>
                      </a:lnTo>
                      <a:lnTo>
                        <a:pt x="267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60" y="139"/>
                      </a:lnTo>
                      <a:lnTo>
                        <a:pt x="254" y="139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32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54" y="125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8"/>
                      </a:lnTo>
                      <a:lnTo>
                        <a:pt x="260" y="111"/>
                      </a:lnTo>
                      <a:lnTo>
                        <a:pt x="260" y="111"/>
                      </a:lnTo>
                      <a:lnTo>
                        <a:pt x="267" y="111"/>
                      </a:lnTo>
                      <a:lnTo>
                        <a:pt x="267" y="111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67" y="104"/>
                      </a:lnTo>
                      <a:lnTo>
                        <a:pt x="274" y="104"/>
                      </a:lnTo>
                      <a:lnTo>
                        <a:pt x="274" y="104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7"/>
                      </a:lnTo>
                      <a:lnTo>
                        <a:pt x="274" y="90"/>
                      </a:lnTo>
                      <a:lnTo>
                        <a:pt x="281" y="90"/>
                      </a:lnTo>
                      <a:lnTo>
                        <a:pt x="281" y="90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84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7"/>
                      </a:lnTo>
                      <a:lnTo>
                        <a:pt x="281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70"/>
                      </a:lnTo>
                      <a:lnTo>
                        <a:pt x="288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56"/>
                      </a:lnTo>
                      <a:lnTo>
                        <a:pt x="295" y="63"/>
                      </a:lnTo>
                      <a:lnTo>
                        <a:pt x="295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63"/>
                      </a:lnTo>
                      <a:lnTo>
                        <a:pt x="302" y="56"/>
                      </a:lnTo>
                      <a:lnTo>
                        <a:pt x="302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09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15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42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35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43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1"/>
                      </a:lnTo>
                      <a:lnTo>
                        <a:pt x="350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7" y="14"/>
                      </a:lnTo>
                      <a:lnTo>
                        <a:pt x="350" y="14"/>
                      </a:lnTo>
                      <a:lnTo>
                        <a:pt x="350" y="14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63" y="0"/>
                      </a:lnTo>
                      <a:lnTo>
                        <a:pt x="363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77" y="14"/>
                      </a:lnTo>
                      <a:lnTo>
                        <a:pt x="377" y="14"/>
                      </a:lnTo>
                      <a:lnTo>
                        <a:pt x="377" y="7"/>
                      </a:lnTo>
                      <a:lnTo>
                        <a:pt x="384" y="7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84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1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14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1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28"/>
                      </a:lnTo>
                      <a:lnTo>
                        <a:pt x="398" y="35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84" y="49"/>
                      </a:lnTo>
                      <a:lnTo>
                        <a:pt x="391" y="49"/>
                      </a:lnTo>
                      <a:lnTo>
                        <a:pt x="391" y="49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56"/>
                      </a:lnTo>
                      <a:lnTo>
                        <a:pt x="391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8" y="63"/>
                      </a:lnTo>
                      <a:lnTo>
                        <a:pt x="391" y="63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0"/>
                      </a:lnTo>
                      <a:lnTo>
                        <a:pt x="391" y="77"/>
                      </a:lnTo>
                      <a:lnTo>
                        <a:pt x="391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398" y="77"/>
                      </a:lnTo>
                      <a:lnTo>
                        <a:pt x="405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84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398" y="90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97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398" y="104"/>
                      </a:lnTo>
                      <a:lnTo>
                        <a:pt x="398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05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04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1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18"/>
                      </a:lnTo>
                      <a:lnTo>
                        <a:pt x="412" y="125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2"/>
                      </a:lnTo>
                      <a:lnTo>
                        <a:pt x="412" y="139"/>
                      </a:lnTo>
                      <a:lnTo>
                        <a:pt x="412" y="139"/>
                      </a:lnTo>
                      <a:lnTo>
                        <a:pt x="405" y="139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46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53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398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67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74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05" y="181"/>
                      </a:lnTo>
                      <a:lnTo>
                        <a:pt x="405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88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2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18" y="195"/>
                      </a:lnTo>
                      <a:lnTo>
                        <a:pt x="418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25" y="201"/>
                      </a:lnTo>
                      <a:lnTo>
                        <a:pt x="432" y="201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25" y="208"/>
                      </a:lnTo>
                      <a:lnTo>
                        <a:pt x="432" y="208"/>
                      </a:lnTo>
                      <a:lnTo>
                        <a:pt x="432" y="208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32" y="215"/>
                      </a:lnTo>
                      <a:lnTo>
                        <a:pt x="425" y="215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32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2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32" y="229"/>
                      </a:lnTo>
                      <a:lnTo>
                        <a:pt x="425" y="229"/>
                      </a:lnTo>
                      <a:lnTo>
                        <a:pt x="432" y="229"/>
                      </a:lnTo>
                      <a:lnTo>
                        <a:pt x="432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25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36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32" y="243"/>
                      </a:lnTo>
                      <a:lnTo>
                        <a:pt x="425" y="243"/>
                      </a:lnTo>
                      <a:lnTo>
                        <a:pt x="425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0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57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64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1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78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85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2" y="292"/>
                      </a:lnTo>
                      <a:lnTo>
                        <a:pt x="439" y="292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299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06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2"/>
                      </a:lnTo>
                      <a:lnTo>
                        <a:pt x="439" y="319"/>
                      </a:lnTo>
                      <a:lnTo>
                        <a:pt x="439" y="319"/>
                      </a:lnTo>
                      <a:lnTo>
                        <a:pt x="446" y="319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26"/>
                      </a:lnTo>
                      <a:lnTo>
                        <a:pt x="446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53" y="333"/>
                      </a:lnTo>
                      <a:lnTo>
                        <a:pt x="460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33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66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0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47"/>
                      </a:lnTo>
                      <a:lnTo>
                        <a:pt x="473" y="354"/>
                      </a:lnTo>
                      <a:lnTo>
                        <a:pt x="473" y="354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73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1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68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75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6" y="382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60" y="389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53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396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46" y="403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0"/>
                      </a:lnTo>
                      <a:lnTo>
                        <a:pt x="453" y="417"/>
                      </a:lnTo>
                      <a:lnTo>
                        <a:pt x="453" y="417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53" y="423"/>
                      </a:lnTo>
                      <a:lnTo>
                        <a:pt x="460" y="423"/>
                      </a:lnTo>
                      <a:lnTo>
                        <a:pt x="460" y="430"/>
                      </a:lnTo>
                      <a:lnTo>
                        <a:pt x="460" y="430"/>
                      </a:lnTo>
                      <a:lnTo>
                        <a:pt x="460" y="43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24680" y="3684960"/>
                  <a:ext cx="571680" cy="310320"/>
                </a:xfrm>
                <a:custGeom>
                  <a:avLst/>
                  <a:gdLst/>
                  <a:ahLst/>
                  <a:rect l="l" t="t" r="r" b="b"/>
                  <a:pathLst>
                    <a:path w="454" h="264">
                      <a:moveTo>
                        <a:pt x="454" y="0"/>
                      </a:move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0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7"/>
                      </a:lnTo>
                      <a:lnTo>
                        <a:pt x="454" y="14"/>
                      </a:lnTo>
                      <a:lnTo>
                        <a:pt x="454" y="14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47" y="21"/>
                      </a:lnTo>
                      <a:lnTo>
                        <a:pt x="454" y="21"/>
                      </a:lnTo>
                      <a:lnTo>
                        <a:pt x="454" y="21"/>
                      </a:lnTo>
                      <a:lnTo>
                        <a:pt x="447" y="28"/>
                      </a:lnTo>
                      <a:lnTo>
                        <a:pt x="447" y="21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7" y="28"/>
                      </a:lnTo>
                      <a:lnTo>
                        <a:pt x="440" y="28"/>
                      </a:lnTo>
                      <a:lnTo>
                        <a:pt x="440" y="28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40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35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33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9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49"/>
                      </a:lnTo>
                      <a:lnTo>
                        <a:pt x="412" y="56"/>
                      </a:lnTo>
                      <a:lnTo>
                        <a:pt x="412" y="49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56"/>
                      </a:lnTo>
                      <a:lnTo>
                        <a:pt x="406" y="63"/>
                      </a:lnTo>
                      <a:lnTo>
                        <a:pt x="406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63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9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92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0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85" y="77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8" y="84"/>
                      </a:lnTo>
                      <a:lnTo>
                        <a:pt x="371" y="84"/>
                      </a:lnTo>
                      <a:lnTo>
                        <a:pt x="371" y="84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1"/>
                      </a:lnTo>
                      <a:lnTo>
                        <a:pt x="371" y="98"/>
                      </a:lnTo>
                      <a:lnTo>
                        <a:pt x="371" y="91"/>
                      </a:lnTo>
                      <a:lnTo>
                        <a:pt x="364" y="91"/>
                      </a:lnTo>
                      <a:lnTo>
                        <a:pt x="364" y="91"/>
                      </a:lnTo>
                      <a:lnTo>
                        <a:pt x="364" y="98"/>
                      </a:lnTo>
                      <a:lnTo>
                        <a:pt x="364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98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1" y="104"/>
                      </a:lnTo>
                      <a:lnTo>
                        <a:pt x="351" y="104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51" y="111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44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7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25"/>
                      </a:lnTo>
                      <a:lnTo>
                        <a:pt x="303" y="132"/>
                      </a:lnTo>
                      <a:lnTo>
                        <a:pt x="303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2"/>
                      </a:lnTo>
                      <a:lnTo>
                        <a:pt x="296" y="139"/>
                      </a:lnTo>
                      <a:lnTo>
                        <a:pt x="296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9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39"/>
                      </a:lnTo>
                      <a:lnTo>
                        <a:pt x="282" y="146"/>
                      </a:lnTo>
                      <a:lnTo>
                        <a:pt x="282" y="139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46"/>
                      </a:lnTo>
                      <a:lnTo>
                        <a:pt x="275" y="139"/>
                      </a:lnTo>
                      <a:lnTo>
                        <a:pt x="268" y="139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46"/>
                      </a:lnTo>
                      <a:lnTo>
                        <a:pt x="268" y="153"/>
                      </a:lnTo>
                      <a:lnTo>
                        <a:pt x="261" y="153"/>
                      </a:lnTo>
                      <a:lnTo>
                        <a:pt x="261" y="153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48" y="139"/>
                      </a:lnTo>
                      <a:lnTo>
                        <a:pt x="248" y="139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8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41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34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18"/>
                      </a:lnTo>
                      <a:lnTo>
                        <a:pt x="206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200" y="125"/>
                      </a:lnTo>
                      <a:lnTo>
                        <a:pt x="193" y="125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86" y="132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39"/>
                      </a:lnTo>
                      <a:lnTo>
                        <a:pt x="179" y="146"/>
                      </a:lnTo>
                      <a:lnTo>
                        <a:pt x="172" y="146"/>
                      </a:lnTo>
                      <a:lnTo>
                        <a:pt x="179" y="146"/>
                      </a:lnTo>
                      <a:lnTo>
                        <a:pt x="179" y="146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53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79" y="160"/>
                      </a:lnTo>
                      <a:lnTo>
                        <a:pt x="186" y="160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86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67"/>
                      </a:lnTo>
                      <a:lnTo>
                        <a:pt x="193" y="174"/>
                      </a:lnTo>
                      <a:lnTo>
                        <a:pt x="193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74"/>
                      </a:lnTo>
                      <a:lnTo>
                        <a:pt x="186" y="181"/>
                      </a:lnTo>
                      <a:lnTo>
                        <a:pt x="186" y="181"/>
                      </a:lnTo>
                      <a:lnTo>
                        <a:pt x="193" y="181"/>
                      </a:lnTo>
                      <a:lnTo>
                        <a:pt x="193" y="181"/>
                      </a:lnTo>
                      <a:lnTo>
                        <a:pt x="193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88"/>
                      </a:lnTo>
                      <a:lnTo>
                        <a:pt x="186" y="195"/>
                      </a:lnTo>
                      <a:lnTo>
                        <a:pt x="186" y="195"/>
                      </a:lnTo>
                      <a:lnTo>
                        <a:pt x="179" y="195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2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9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08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72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65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15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2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8" y="229"/>
                      </a:lnTo>
                      <a:lnTo>
                        <a:pt x="151" y="229"/>
                      </a:lnTo>
                      <a:lnTo>
                        <a:pt x="151" y="229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51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45" y="236"/>
                      </a:lnTo>
                      <a:lnTo>
                        <a:pt x="138" y="236"/>
                      </a:lnTo>
                      <a:lnTo>
                        <a:pt x="138" y="236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8" y="229"/>
                      </a:lnTo>
                      <a:lnTo>
                        <a:pt x="131" y="229"/>
                      </a:lnTo>
                      <a:lnTo>
                        <a:pt x="131" y="229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31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24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7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36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10" y="243"/>
                      </a:lnTo>
                      <a:lnTo>
                        <a:pt x="103" y="250"/>
                      </a:lnTo>
                      <a:lnTo>
                        <a:pt x="103" y="243"/>
                      </a:lnTo>
                      <a:lnTo>
                        <a:pt x="103" y="243"/>
                      </a:lnTo>
                      <a:lnTo>
                        <a:pt x="103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0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7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90" y="257"/>
                      </a:lnTo>
                      <a:lnTo>
                        <a:pt x="83" y="264"/>
                      </a:lnTo>
                      <a:lnTo>
                        <a:pt x="83" y="257"/>
                      </a:lnTo>
                      <a:lnTo>
                        <a:pt x="83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76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7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9" y="250"/>
                      </a:lnTo>
                      <a:lnTo>
                        <a:pt x="62" y="250"/>
                      </a:lnTo>
                      <a:lnTo>
                        <a:pt x="62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50"/>
                      </a:lnTo>
                      <a:lnTo>
                        <a:pt x="55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36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9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2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2" y="222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15"/>
                      </a:lnTo>
                      <a:lnTo>
                        <a:pt x="42" y="208"/>
                      </a:lnTo>
                      <a:lnTo>
                        <a:pt x="42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8"/>
                      </a:lnTo>
                      <a:lnTo>
                        <a:pt x="35" y="202"/>
                      </a:lnTo>
                      <a:lnTo>
                        <a:pt x="35" y="202"/>
                      </a:lnTo>
                      <a:lnTo>
                        <a:pt x="28" y="202"/>
                      </a:lnTo>
                      <a:lnTo>
                        <a:pt x="28" y="202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21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195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14" y="202"/>
                      </a:lnTo>
                      <a:lnTo>
                        <a:pt x="7" y="202"/>
                      </a:lnTo>
                      <a:lnTo>
                        <a:pt x="7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00960" y="3178800"/>
                  <a:ext cx="449640" cy="505800"/>
                </a:xfrm>
                <a:custGeom>
                  <a:avLst/>
                  <a:gdLst/>
                  <a:ahLst/>
                  <a:rect l="l" t="t" r="r" b="b"/>
                  <a:pathLst>
                    <a:path w="357" h="430">
                      <a:moveTo>
                        <a:pt x="7" y="49"/>
                      </a:move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7" y="42"/>
                      </a:lnTo>
                      <a:lnTo>
                        <a:pt x="14" y="35"/>
                      </a:lnTo>
                      <a:lnTo>
                        <a:pt x="7" y="35"/>
                      </a:lnTo>
                      <a:lnTo>
                        <a:pt x="14" y="35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96" y="0"/>
                      </a:lnTo>
                      <a:lnTo>
                        <a:pt x="96" y="0"/>
                      </a:lnTo>
                      <a:lnTo>
                        <a:pt x="103" y="0"/>
                      </a:lnTo>
                      <a:lnTo>
                        <a:pt x="103" y="7"/>
                      </a:lnTo>
                      <a:lnTo>
                        <a:pt x="110" y="7"/>
                      </a:lnTo>
                      <a:lnTo>
                        <a:pt x="110" y="0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24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37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58" y="28"/>
                      </a:lnTo>
                      <a:lnTo>
                        <a:pt x="165" y="28"/>
                      </a:lnTo>
                      <a:lnTo>
                        <a:pt x="165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79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42"/>
                      </a:lnTo>
                      <a:lnTo>
                        <a:pt x="185" y="42"/>
                      </a:lnTo>
                      <a:lnTo>
                        <a:pt x="192" y="42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2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49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199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56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0" y="63"/>
                      </a:lnTo>
                      <a:lnTo>
                        <a:pt x="227" y="63"/>
                      </a:lnTo>
                      <a:lnTo>
                        <a:pt x="227" y="63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33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0" y="77"/>
                      </a:lnTo>
                      <a:lnTo>
                        <a:pt x="247" y="77"/>
                      </a:lnTo>
                      <a:lnTo>
                        <a:pt x="247" y="77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54" y="84"/>
                      </a:lnTo>
                      <a:lnTo>
                        <a:pt x="254" y="77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54" y="84"/>
                      </a:lnTo>
                      <a:lnTo>
                        <a:pt x="261" y="90"/>
                      </a:lnTo>
                      <a:lnTo>
                        <a:pt x="261" y="97"/>
                      </a:lnTo>
                      <a:lnTo>
                        <a:pt x="261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68" y="97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04"/>
                      </a:lnTo>
                      <a:lnTo>
                        <a:pt x="275" y="111"/>
                      </a:lnTo>
                      <a:lnTo>
                        <a:pt x="282" y="111"/>
                      </a:lnTo>
                      <a:lnTo>
                        <a:pt x="282" y="111"/>
                      </a:lnTo>
                      <a:lnTo>
                        <a:pt x="282" y="118"/>
                      </a:lnTo>
                      <a:lnTo>
                        <a:pt x="282" y="118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88" y="125"/>
                      </a:lnTo>
                      <a:lnTo>
                        <a:pt x="295" y="125"/>
                      </a:lnTo>
                      <a:lnTo>
                        <a:pt x="295" y="125"/>
                      </a:lnTo>
                      <a:lnTo>
                        <a:pt x="295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16" y="139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0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36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43" y="160"/>
                      </a:lnTo>
                      <a:lnTo>
                        <a:pt x="350" y="160"/>
                      </a:lnTo>
                      <a:lnTo>
                        <a:pt x="350" y="160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67"/>
                      </a:lnTo>
                      <a:lnTo>
                        <a:pt x="350" y="174"/>
                      </a:lnTo>
                      <a:lnTo>
                        <a:pt x="357" y="174"/>
                      </a:lnTo>
                      <a:lnTo>
                        <a:pt x="357" y="174"/>
                      </a:lnTo>
                      <a:lnTo>
                        <a:pt x="343" y="174"/>
                      </a:lnTo>
                      <a:lnTo>
                        <a:pt x="336" y="181"/>
                      </a:lnTo>
                      <a:lnTo>
                        <a:pt x="336" y="181"/>
                      </a:lnTo>
                      <a:lnTo>
                        <a:pt x="323" y="181"/>
                      </a:lnTo>
                      <a:lnTo>
                        <a:pt x="323" y="188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16" y="195"/>
                      </a:lnTo>
                      <a:lnTo>
                        <a:pt x="309" y="201"/>
                      </a:lnTo>
                      <a:lnTo>
                        <a:pt x="309" y="201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08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9" y="215"/>
                      </a:lnTo>
                      <a:lnTo>
                        <a:pt x="302" y="215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2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302" y="229"/>
                      </a:lnTo>
                      <a:lnTo>
                        <a:pt x="295" y="229"/>
                      </a:lnTo>
                      <a:lnTo>
                        <a:pt x="295" y="236"/>
                      </a:lnTo>
                      <a:lnTo>
                        <a:pt x="295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36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43"/>
                      </a:lnTo>
                      <a:lnTo>
                        <a:pt x="288" y="250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0"/>
                      </a:lnTo>
                      <a:lnTo>
                        <a:pt x="288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82" y="264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75" y="271"/>
                      </a:lnTo>
                      <a:lnTo>
                        <a:pt x="268" y="271"/>
                      </a:lnTo>
                      <a:lnTo>
                        <a:pt x="268" y="271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8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61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78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54" y="285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2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7" y="299"/>
                      </a:lnTo>
                      <a:lnTo>
                        <a:pt x="240" y="299"/>
                      </a:lnTo>
                      <a:lnTo>
                        <a:pt x="240" y="299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0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06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7" y="312"/>
                      </a:lnTo>
                      <a:lnTo>
                        <a:pt x="240" y="312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19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26"/>
                      </a:lnTo>
                      <a:lnTo>
                        <a:pt x="233" y="326"/>
                      </a:lnTo>
                      <a:lnTo>
                        <a:pt x="240" y="326"/>
                      </a:lnTo>
                      <a:lnTo>
                        <a:pt x="240" y="326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40" y="340"/>
                      </a:lnTo>
                      <a:lnTo>
                        <a:pt x="233" y="340"/>
                      </a:lnTo>
                      <a:lnTo>
                        <a:pt x="233" y="340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27" y="347"/>
                      </a:lnTo>
                      <a:lnTo>
                        <a:pt x="227" y="347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54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27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1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68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33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75"/>
                      </a:lnTo>
                      <a:lnTo>
                        <a:pt x="240" y="382"/>
                      </a:lnTo>
                      <a:lnTo>
                        <a:pt x="240" y="382"/>
                      </a:lnTo>
                      <a:lnTo>
                        <a:pt x="247" y="375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2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7" y="389"/>
                      </a:lnTo>
                      <a:lnTo>
                        <a:pt x="240" y="389"/>
                      </a:lnTo>
                      <a:lnTo>
                        <a:pt x="240" y="389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396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40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03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33" y="410"/>
                      </a:lnTo>
                      <a:lnTo>
                        <a:pt x="227" y="410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7" y="417"/>
                      </a:lnTo>
                      <a:lnTo>
                        <a:pt x="227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17"/>
                      </a:lnTo>
                      <a:lnTo>
                        <a:pt x="220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23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13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206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30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23"/>
                      </a:lnTo>
                      <a:lnTo>
                        <a:pt x="199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92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85" y="417"/>
                      </a:lnTo>
                      <a:lnTo>
                        <a:pt x="179" y="417"/>
                      </a:lnTo>
                      <a:lnTo>
                        <a:pt x="179" y="410"/>
                      </a:lnTo>
                      <a:lnTo>
                        <a:pt x="179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85" y="410"/>
                      </a:lnTo>
                      <a:lnTo>
                        <a:pt x="179" y="410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9" y="403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72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96"/>
                      </a:lnTo>
                      <a:lnTo>
                        <a:pt x="165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8" y="389"/>
                      </a:lnTo>
                      <a:lnTo>
                        <a:pt x="151" y="389"/>
                      </a:lnTo>
                      <a:lnTo>
                        <a:pt x="151" y="389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51" y="382"/>
                      </a:lnTo>
                      <a:lnTo>
                        <a:pt x="144" y="382"/>
                      </a:lnTo>
                      <a:lnTo>
                        <a:pt x="144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7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30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24" y="389"/>
                      </a:lnTo>
                      <a:lnTo>
                        <a:pt x="117" y="396"/>
                      </a:lnTo>
                      <a:lnTo>
                        <a:pt x="110" y="396"/>
                      </a:lnTo>
                      <a:lnTo>
                        <a:pt x="103" y="396"/>
                      </a:lnTo>
                      <a:lnTo>
                        <a:pt x="103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96" y="389"/>
                      </a:lnTo>
                      <a:lnTo>
                        <a:pt x="89" y="389"/>
                      </a:lnTo>
                      <a:lnTo>
                        <a:pt x="89" y="389"/>
                      </a:lnTo>
                      <a:lnTo>
                        <a:pt x="82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76" y="389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82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61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7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9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40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82" y="333"/>
                      </a:lnTo>
                      <a:lnTo>
                        <a:pt x="76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9" y="333"/>
                      </a:lnTo>
                      <a:lnTo>
                        <a:pt x="62" y="333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26"/>
                      </a:lnTo>
                      <a:lnTo>
                        <a:pt x="62" y="319"/>
                      </a:lnTo>
                      <a:lnTo>
                        <a:pt x="55" y="319"/>
                      </a:lnTo>
                      <a:lnTo>
                        <a:pt x="55" y="319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12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306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9"/>
                      </a:lnTo>
                      <a:lnTo>
                        <a:pt x="55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92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85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8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71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64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7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8" y="250"/>
                      </a:lnTo>
                      <a:lnTo>
                        <a:pt x="41" y="250"/>
                      </a:lnTo>
                      <a:lnTo>
                        <a:pt x="41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43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8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1" y="236"/>
                      </a:lnTo>
                      <a:lnTo>
                        <a:pt x="48" y="236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8" y="229"/>
                      </a:lnTo>
                      <a:lnTo>
                        <a:pt x="41" y="229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8" y="222"/>
                      </a:lnTo>
                      <a:lnTo>
                        <a:pt x="41" y="222"/>
                      </a:lnTo>
                      <a:lnTo>
                        <a:pt x="41" y="222"/>
                      </a:lnTo>
                      <a:lnTo>
                        <a:pt x="41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15"/>
                      </a:lnTo>
                      <a:lnTo>
                        <a:pt x="48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8"/>
                      </a:lnTo>
                      <a:lnTo>
                        <a:pt x="41" y="208"/>
                      </a:lnTo>
                      <a:lnTo>
                        <a:pt x="48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41" y="201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201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34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95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8" y="188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8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81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74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14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7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60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53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46"/>
                      </a:lnTo>
                      <a:lnTo>
                        <a:pt x="21" y="139"/>
                      </a:lnTo>
                      <a:lnTo>
                        <a:pt x="28" y="139"/>
                      </a:lnTo>
                      <a:lnTo>
                        <a:pt x="28" y="139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32"/>
                      </a:lnTo>
                      <a:lnTo>
                        <a:pt x="28" y="125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8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11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21" y="97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90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14" y="84"/>
                      </a:lnTo>
                      <a:lnTo>
                        <a:pt x="21" y="84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7" y="77"/>
                      </a:lnTo>
                      <a:lnTo>
                        <a:pt x="7" y="77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7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14" y="63"/>
                      </a:lnTo>
                      <a:lnTo>
                        <a:pt x="7" y="63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56"/>
                      </a:lnTo>
                      <a:lnTo>
                        <a:pt x="7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lnTo>
                        <a:pt x="7" y="49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03360" y="3383640"/>
                  <a:ext cx="388800" cy="211680"/>
                </a:xfrm>
                <a:custGeom>
                  <a:avLst/>
                  <a:gdLst/>
                  <a:ahLst/>
                  <a:rect l="l" t="t" r="r" b="b"/>
                  <a:pathLst>
                    <a:path w="309" h="180">
                      <a:moveTo>
                        <a:pt x="0" y="125"/>
                      </a:move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104"/>
                      </a:lnTo>
                      <a:lnTo>
                        <a:pt x="28" y="97"/>
                      </a:lnTo>
                      <a:lnTo>
                        <a:pt x="28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35" y="97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90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2" y="83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8" y="76"/>
                      </a:lnTo>
                      <a:lnTo>
                        <a:pt x="42" y="76"/>
                      </a:lnTo>
                      <a:lnTo>
                        <a:pt x="42" y="76"/>
                      </a:lnTo>
                      <a:lnTo>
                        <a:pt x="48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48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55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41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34"/>
                      </a:lnTo>
                      <a:lnTo>
                        <a:pt x="69" y="27"/>
                      </a:lnTo>
                      <a:lnTo>
                        <a:pt x="69" y="27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83" y="14"/>
                      </a:lnTo>
                      <a:lnTo>
                        <a:pt x="83" y="14"/>
                      </a:lnTo>
                      <a:lnTo>
                        <a:pt x="83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24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1" y="14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38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51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58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65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79" y="21"/>
                      </a:lnTo>
                      <a:lnTo>
                        <a:pt x="186" y="21"/>
                      </a:lnTo>
                      <a:lnTo>
                        <a:pt x="186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27" y="21"/>
                      </a:lnTo>
                      <a:lnTo>
                        <a:pt x="227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1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8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54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1" y="27"/>
                      </a:lnTo>
                      <a:lnTo>
                        <a:pt x="268" y="27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68" y="34"/>
                      </a:lnTo>
                      <a:lnTo>
                        <a:pt x="275" y="34"/>
                      </a:lnTo>
                      <a:lnTo>
                        <a:pt x="275" y="34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48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55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2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2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69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76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83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0"/>
                      </a:lnTo>
                      <a:lnTo>
                        <a:pt x="289" y="97"/>
                      </a:lnTo>
                      <a:lnTo>
                        <a:pt x="289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97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04"/>
                      </a:lnTo>
                      <a:lnTo>
                        <a:pt x="296" y="111"/>
                      </a:lnTo>
                      <a:lnTo>
                        <a:pt x="296" y="111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296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18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9" y="138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302" y="145"/>
                      </a:lnTo>
                      <a:lnTo>
                        <a:pt x="296" y="138"/>
                      </a:lnTo>
                      <a:lnTo>
                        <a:pt x="296" y="138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96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9" y="145"/>
                      </a:lnTo>
                      <a:lnTo>
                        <a:pt x="282" y="145"/>
                      </a:lnTo>
                      <a:lnTo>
                        <a:pt x="282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75" y="145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8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61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54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8" y="138"/>
                      </a:lnTo>
                      <a:lnTo>
                        <a:pt x="241" y="138"/>
                      </a:lnTo>
                      <a:lnTo>
                        <a:pt x="241" y="138"/>
                      </a:lnTo>
                      <a:lnTo>
                        <a:pt x="234" y="138"/>
                      </a:lnTo>
                      <a:lnTo>
                        <a:pt x="227" y="138"/>
                      </a:lnTo>
                      <a:lnTo>
                        <a:pt x="227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20" y="138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13" y="132"/>
                      </a:lnTo>
                      <a:lnTo>
                        <a:pt x="213" y="138"/>
                      </a:lnTo>
                      <a:lnTo>
                        <a:pt x="206" y="132"/>
                      </a:lnTo>
                      <a:lnTo>
                        <a:pt x="206" y="138"/>
                      </a:lnTo>
                      <a:lnTo>
                        <a:pt x="206" y="138"/>
                      </a:lnTo>
                      <a:lnTo>
                        <a:pt x="199" y="138"/>
                      </a:lnTo>
                      <a:lnTo>
                        <a:pt x="199" y="138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3" y="132"/>
                      </a:lnTo>
                      <a:lnTo>
                        <a:pt x="199" y="132"/>
                      </a:lnTo>
                      <a:lnTo>
                        <a:pt x="199" y="132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93" y="125"/>
                      </a:lnTo>
                      <a:lnTo>
                        <a:pt x="186" y="125"/>
                      </a:lnTo>
                      <a:lnTo>
                        <a:pt x="186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2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38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79" y="145"/>
                      </a:lnTo>
                      <a:lnTo>
                        <a:pt x="186" y="145"/>
                      </a:lnTo>
                      <a:lnTo>
                        <a:pt x="186" y="145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86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9" y="152"/>
                      </a:lnTo>
                      <a:lnTo>
                        <a:pt x="172" y="152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2" y="159"/>
                      </a:lnTo>
                      <a:lnTo>
                        <a:pt x="179" y="159"/>
                      </a:lnTo>
                      <a:lnTo>
                        <a:pt x="179" y="159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9" y="166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73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80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73"/>
                      </a:lnTo>
                      <a:lnTo>
                        <a:pt x="158" y="166"/>
                      </a:lnTo>
                      <a:lnTo>
                        <a:pt x="151" y="159"/>
                      </a:lnTo>
                      <a:lnTo>
                        <a:pt x="145" y="159"/>
                      </a:lnTo>
                      <a:lnTo>
                        <a:pt x="145" y="166"/>
                      </a:lnTo>
                      <a:lnTo>
                        <a:pt x="145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66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8" y="159"/>
                      </a:lnTo>
                      <a:lnTo>
                        <a:pt x="131" y="159"/>
                      </a:lnTo>
                      <a:lnTo>
                        <a:pt x="131" y="159"/>
                      </a:lnTo>
                      <a:lnTo>
                        <a:pt x="131" y="166"/>
                      </a:lnTo>
                      <a:lnTo>
                        <a:pt x="131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7" y="166"/>
                      </a:lnTo>
                      <a:lnTo>
                        <a:pt x="110" y="166"/>
                      </a:lnTo>
                      <a:lnTo>
                        <a:pt x="117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10" y="159"/>
                      </a:lnTo>
                      <a:lnTo>
                        <a:pt x="103" y="159"/>
                      </a:lnTo>
                      <a:lnTo>
                        <a:pt x="103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38"/>
                      </a:lnTo>
                      <a:lnTo>
                        <a:pt x="103" y="138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32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25"/>
                      </a:lnTo>
                      <a:lnTo>
                        <a:pt x="110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17" y="118"/>
                      </a:lnTo>
                      <a:lnTo>
                        <a:pt x="124" y="118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11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24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7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90" y="111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83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76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18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9" y="125"/>
                      </a:lnTo>
                      <a:lnTo>
                        <a:pt x="62" y="125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9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62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2"/>
                      </a:lnTo>
                      <a:lnTo>
                        <a:pt x="55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2" y="138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45"/>
                      </a:lnTo>
                      <a:lnTo>
                        <a:pt x="42" y="138"/>
                      </a:lnTo>
                      <a:lnTo>
                        <a:pt x="42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35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45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8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8"/>
                      </a:lnTo>
                      <a:lnTo>
                        <a:pt x="21" y="132"/>
                      </a:lnTo>
                      <a:lnTo>
                        <a:pt x="21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0" y="132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6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69"/>
                      </a:lnTo>
                      <a:close/>
                      <a:moveTo>
                        <a:pt x="329" y="83"/>
                      </a:move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86800" y="3506040"/>
                  <a:ext cx="423000" cy="219600"/>
                </a:xfrm>
                <a:custGeom>
                  <a:avLst/>
                  <a:gdLst/>
                  <a:ahLst/>
                  <a:rect l="l" t="t" r="r" b="b"/>
                  <a:pathLst>
                    <a:path w="336" h="187">
                      <a:moveTo>
                        <a:pt x="0" y="69"/>
                      </a:moveTo>
                      <a:lnTo>
                        <a:pt x="0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9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6" y="62"/>
                      </a:lnTo>
                      <a:lnTo>
                        <a:pt x="6" y="62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6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34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1" y="41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55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1" y="34"/>
                      </a:lnTo>
                      <a:lnTo>
                        <a:pt x="68" y="34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68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75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21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89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09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7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30" y="14"/>
                      </a:lnTo>
                      <a:lnTo>
                        <a:pt x="123" y="14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23" y="21"/>
                      </a:lnTo>
                      <a:lnTo>
                        <a:pt x="116" y="21"/>
                      </a:lnTo>
                      <a:lnTo>
                        <a:pt x="116" y="21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28"/>
                      </a:lnTo>
                      <a:lnTo>
                        <a:pt x="116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1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09" y="55"/>
                      </a:lnTo>
                      <a:lnTo>
                        <a:pt x="109" y="55"/>
                      </a:lnTo>
                      <a:lnTo>
                        <a:pt x="116" y="55"/>
                      </a:lnTo>
                      <a:lnTo>
                        <a:pt x="116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23" y="55"/>
                      </a:lnTo>
                      <a:lnTo>
                        <a:pt x="130" y="55"/>
                      </a:lnTo>
                      <a:lnTo>
                        <a:pt x="123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0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44" y="62"/>
                      </a:lnTo>
                      <a:lnTo>
                        <a:pt x="144" y="62"/>
                      </a:lnTo>
                      <a:lnTo>
                        <a:pt x="144" y="55"/>
                      </a:lnTo>
                      <a:lnTo>
                        <a:pt x="144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55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1" y="62"/>
                      </a:lnTo>
                      <a:lnTo>
                        <a:pt x="158" y="62"/>
                      </a:lnTo>
                      <a:lnTo>
                        <a:pt x="158" y="62"/>
                      </a:lnTo>
                      <a:lnTo>
                        <a:pt x="158" y="55"/>
                      </a:lnTo>
                      <a:lnTo>
                        <a:pt x="164" y="55"/>
                      </a:lnTo>
                      <a:lnTo>
                        <a:pt x="171" y="62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69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1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78" y="76"/>
                      </a:lnTo>
                      <a:lnTo>
                        <a:pt x="185" y="76"/>
                      </a:lnTo>
                      <a:lnTo>
                        <a:pt x="185" y="76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85" y="69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62"/>
                      </a:lnTo>
                      <a:lnTo>
                        <a:pt x="192" y="55"/>
                      </a:lnTo>
                      <a:lnTo>
                        <a:pt x="192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55"/>
                      </a:lnTo>
                      <a:lnTo>
                        <a:pt x="185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1"/>
                      </a:lnTo>
                      <a:lnTo>
                        <a:pt x="199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34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2" y="28"/>
                      </a:lnTo>
                      <a:lnTo>
                        <a:pt x="199" y="28"/>
                      </a:lnTo>
                      <a:lnTo>
                        <a:pt x="199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212" y="21"/>
                      </a:lnTo>
                      <a:lnTo>
                        <a:pt x="212" y="21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212" y="34"/>
                      </a:lnTo>
                      <a:lnTo>
                        <a:pt x="212" y="34"/>
                      </a:lnTo>
                      <a:lnTo>
                        <a:pt x="219" y="34"/>
                      </a:lnTo>
                      <a:lnTo>
                        <a:pt x="219" y="34"/>
                      </a:lnTo>
                      <a:lnTo>
                        <a:pt x="219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33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7" y="34"/>
                      </a:lnTo>
                      <a:lnTo>
                        <a:pt x="254" y="34"/>
                      </a:lnTo>
                      <a:lnTo>
                        <a:pt x="254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1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67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74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1" y="34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95" y="41"/>
                      </a:lnTo>
                      <a:lnTo>
                        <a:pt x="295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2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41"/>
                      </a:lnTo>
                      <a:lnTo>
                        <a:pt x="309" y="34"/>
                      </a:lnTo>
                      <a:lnTo>
                        <a:pt x="309" y="34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15" y="41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34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48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55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2" y="62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69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76"/>
                      </a:lnTo>
                      <a:lnTo>
                        <a:pt x="329" y="76"/>
                      </a:lnTo>
                      <a:lnTo>
                        <a:pt x="336" y="76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29" y="83"/>
                      </a:lnTo>
                      <a:lnTo>
                        <a:pt x="336" y="83"/>
                      </a:lnTo>
                      <a:lnTo>
                        <a:pt x="329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0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97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04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1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18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36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9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25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22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8"/>
                      </a:lnTo>
                      <a:lnTo>
                        <a:pt x="315" y="111"/>
                      </a:lnTo>
                      <a:lnTo>
                        <a:pt x="309" y="111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302" y="111"/>
                      </a:lnTo>
                      <a:lnTo>
                        <a:pt x="295" y="111"/>
                      </a:lnTo>
                      <a:lnTo>
                        <a:pt x="295" y="111"/>
                      </a:lnTo>
                      <a:lnTo>
                        <a:pt x="295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81" y="118"/>
                      </a:lnTo>
                      <a:lnTo>
                        <a:pt x="274" y="118"/>
                      </a:lnTo>
                      <a:lnTo>
                        <a:pt x="274" y="118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2"/>
                      </a:lnTo>
                      <a:lnTo>
                        <a:pt x="274" y="139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2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7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7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40" y="145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5"/>
                      </a:lnTo>
                      <a:lnTo>
                        <a:pt x="233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26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9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45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12" y="152"/>
                      </a:lnTo>
                      <a:lnTo>
                        <a:pt x="206" y="152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45"/>
                      </a:lnTo>
                      <a:lnTo>
                        <a:pt x="206" y="152"/>
                      </a:lnTo>
                      <a:lnTo>
                        <a:pt x="199" y="145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2"/>
                      </a:lnTo>
                      <a:lnTo>
                        <a:pt x="199" y="159"/>
                      </a:lnTo>
                      <a:lnTo>
                        <a:pt x="199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92" y="159"/>
                      </a:lnTo>
                      <a:lnTo>
                        <a:pt x="185" y="159"/>
                      </a:lnTo>
                      <a:lnTo>
                        <a:pt x="185" y="152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59"/>
                      </a:lnTo>
                      <a:lnTo>
                        <a:pt x="185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66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73"/>
                      </a:lnTo>
                      <a:lnTo>
                        <a:pt x="178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80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73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7" y="166"/>
                      </a:lnTo>
                      <a:lnTo>
                        <a:pt x="130" y="166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30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66"/>
                      </a:lnTo>
                      <a:lnTo>
                        <a:pt x="123" y="159"/>
                      </a:lnTo>
                      <a:lnTo>
                        <a:pt x="116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23" y="159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52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0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45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7" y="139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32"/>
                      </a:lnTo>
                      <a:lnTo>
                        <a:pt x="137" y="125"/>
                      </a:lnTo>
                      <a:lnTo>
                        <a:pt x="137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51" y="125"/>
                      </a:lnTo>
                      <a:lnTo>
                        <a:pt x="151" y="125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51" y="118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11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6" y="104"/>
                      </a:lnTo>
                      <a:lnTo>
                        <a:pt x="123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1"/>
                      </a:lnTo>
                      <a:lnTo>
                        <a:pt x="109" y="118"/>
                      </a:lnTo>
                      <a:lnTo>
                        <a:pt x="109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18"/>
                      </a:lnTo>
                      <a:lnTo>
                        <a:pt x="103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96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25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9" y="132"/>
                      </a:lnTo>
                      <a:lnTo>
                        <a:pt x="89" y="132"/>
                      </a:lnTo>
                      <a:lnTo>
                        <a:pt x="89" y="139"/>
                      </a:lnTo>
                      <a:lnTo>
                        <a:pt x="89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82" y="132"/>
                      </a:lnTo>
                      <a:lnTo>
                        <a:pt x="75" y="132"/>
                      </a:lnTo>
                      <a:lnTo>
                        <a:pt x="75" y="132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68" y="139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8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45"/>
                      </a:lnTo>
                      <a:lnTo>
                        <a:pt x="61" y="152"/>
                      </a:lnTo>
                      <a:lnTo>
                        <a:pt x="61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55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45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52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45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34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7" y="139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20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45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9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32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6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25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8"/>
                      </a:lnTo>
                      <a:lnTo>
                        <a:pt x="13" y="111"/>
                      </a:lnTo>
                      <a:lnTo>
                        <a:pt x="13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97"/>
                      </a:lnTo>
                      <a:lnTo>
                        <a:pt x="13" y="104"/>
                      </a:lnTo>
                      <a:lnTo>
                        <a:pt x="13" y="104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7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6" y="8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86800" y="3587040"/>
                  <a:ext cx="7560" cy="1620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6" y="14"/>
                      </a:move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401160" y="35953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09600" y="3628440"/>
                  <a:ext cx="700200" cy="219960"/>
                </a:xfrm>
                <a:custGeom>
                  <a:avLst/>
                  <a:gdLst/>
                  <a:ahLst/>
                  <a:rect l="l" t="t" r="r" b="b"/>
                  <a:pathLst>
                    <a:path w="556" h="187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39"/>
                      </a:lnTo>
                      <a:lnTo>
                        <a:pt x="302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46"/>
                      </a:lnTo>
                      <a:lnTo>
                        <a:pt x="295" y="152"/>
                      </a:lnTo>
                      <a:lnTo>
                        <a:pt x="295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9"/>
                      </a:lnTo>
                      <a:lnTo>
                        <a:pt x="288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81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59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75" y="166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8" y="173"/>
                      </a:lnTo>
                      <a:lnTo>
                        <a:pt x="261" y="173"/>
                      </a:lnTo>
                      <a:lnTo>
                        <a:pt x="261" y="166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9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52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7" y="139"/>
                      </a:lnTo>
                      <a:lnTo>
                        <a:pt x="247" y="139"/>
                      </a:lnTo>
                      <a:lnTo>
                        <a:pt x="247" y="132"/>
                      </a:lnTo>
                      <a:lnTo>
                        <a:pt x="247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33" y="132"/>
                      </a:lnTo>
                      <a:lnTo>
                        <a:pt x="233" y="139"/>
                      </a:lnTo>
                      <a:lnTo>
                        <a:pt x="233" y="139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26" y="146"/>
                      </a:lnTo>
                      <a:lnTo>
                        <a:pt x="226" y="146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9"/>
                      </a:lnTo>
                      <a:lnTo>
                        <a:pt x="226" y="132"/>
                      </a:lnTo>
                      <a:lnTo>
                        <a:pt x="226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13" y="125"/>
                      </a:lnTo>
                      <a:lnTo>
                        <a:pt x="206" y="125"/>
                      </a:lnTo>
                      <a:lnTo>
                        <a:pt x="206" y="132"/>
                      </a:lnTo>
                      <a:lnTo>
                        <a:pt x="206" y="132"/>
                      </a:lnTo>
                      <a:lnTo>
                        <a:pt x="206" y="125"/>
                      </a:lnTo>
                      <a:lnTo>
                        <a:pt x="206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9" y="125"/>
                      </a:lnTo>
                      <a:lnTo>
                        <a:pt x="192" y="125"/>
                      </a:lnTo>
                      <a:lnTo>
                        <a:pt x="192" y="125"/>
                      </a:lnTo>
                      <a:lnTo>
                        <a:pt x="192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85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8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11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72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04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65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8" y="111"/>
                      </a:lnTo>
                      <a:lnTo>
                        <a:pt x="151" y="111"/>
                      </a:lnTo>
                      <a:lnTo>
                        <a:pt x="151" y="118"/>
                      </a:lnTo>
                      <a:lnTo>
                        <a:pt x="151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18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25"/>
                      </a:lnTo>
                      <a:lnTo>
                        <a:pt x="144" y="132"/>
                      </a:lnTo>
                      <a:lnTo>
                        <a:pt x="144" y="132"/>
                      </a:lnTo>
                      <a:lnTo>
                        <a:pt x="137" y="125"/>
                      </a:lnTo>
                      <a:lnTo>
                        <a:pt x="137" y="132"/>
                      </a:lnTo>
                      <a:lnTo>
                        <a:pt x="130" y="132"/>
                      </a:lnTo>
                      <a:lnTo>
                        <a:pt x="130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2"/>
                      </a:lnTo>
                      <a:lnTo>
                        <a:pt x="123" y="139"/>
                      </a:lnTo>
                      <a:lnTo>
                        <a:pt x="123" y="139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23" y="146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103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89" y="152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59"/>
                      </a:lnTo>
                      <a:lnTo>
                        <a:pt x="89" y="166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9" y="173"/>
                      </a:lnTo>
                      <a:lnTo>
                        <a:pt x="82" y="180"/>
                      </a:lnTo>
                      <a:lnTo>
                        <a:pt x="82" y="180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82" y="173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75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0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9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62" y="187"/>
                      </a:lnTo>
                      <a:lnTo>
                        <a:pt x="55" y="187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48" y="187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48" y="180"/>
                      </a:lnTo>
                      <a:lnTo>
                        <a:pt x="55" y="180"/>
                      </a:lnTo>
                      <a:lnTo>
                        <a:pt x="55" y="180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73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62" y="166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52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8" y="146"/>
                      </a:lnTo>
                      <a:lnTo>
                        <a:pt x="41" y="146"/>
                      </a:lnTo>
                      <a:lnTo>
                        <a:pt x="41" y="146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9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41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34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25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21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0" y="125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09600" y="3628440"/>
                  <a:ext cx="700200" cy="211680"/>
                </a:xfrm>
                <a:custGeom>
                  <a:avLst/>
                  <a:gdLst/>
                  <a:ahLst/>
                  <a:rect l="l" t="t" r="r" b="b"/>
                  <a:pathLst>
                    <a:path w="556" h="180">
                      <a:moveTo>
                        <a:pt x="0" y="118"/>
                      </a:move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8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21" y="111"/>
                      </a:lnTo>
                      <a:lnTo>
                        <a:pt x="21" y="111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1" y="104"/>
                      </a:lnTo>
                      <a:lnTo>
                        <a:pt x="27" y="97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7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9" y="69"/>
                      </a:lnTo>
                      <a:lnTo>
                        <a:pt x="69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9" y="62"/>
                      </a:lnTo>
                      <a:lnTo>
                        <a:pt x="69" y="62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55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69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21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9" y="7"/>
                      </a:lnTo>
                      <a:lnTo>
                        <a:pt x="75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14"/>
                      </a:lnTo>
                      <a:lnTo>
                        <a:pt x="103" y="14"/>
                      </a:lnTo>
                      <a:lnTo>
                        <a:pt x="110" y="14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23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7" y="7"/>
                      </a:lnTo>
                      <a:lnTo>
                        <a:pt x="137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44" y="7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58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1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8" y="28"/>
                      </a:lnTo>
                      <a:lnTo>
                        <a:pt x="172" y="28"/>
                      </a:lnTo>
                      <a:lnTo>
                        <a:pt x="172" y="28"/>
                      </a:lnTo>
                      <a:lnTo>
                        <a:pt x="172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78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85" y="35"/>
                      </a:lnTo>
                      <a:lnTo>
                        <a:pt x="192" y="35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1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2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199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06" y="41"/>
                      </a:lnTo>
                      <a:lnTo>
                        <a:pt x="213" y="41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13" y="35"/>
                      </a:lnTo>
                      <a:lnTo>
                        <a:pt x="213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35"/>
                      </a:lnTo>
                      <a:lnTo>
                        <a:pt x="220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0" y="41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54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35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1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8" y="48"/>
                      </a:lnTo>
                      <a:lnTo>
                        <a:pt x="268" y="48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68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1"/>
                      </a:lnTo>
                      <a:lnTo>
                        <a:pt x="275" y="48"/>
                      </a:lnTo>
                      <a:lnTo>
                        <a:pt x="275" y="48"/>
                      </a:lnTo>
                      <a:lnTo>
                        <a:pt x="281" y="48"/>
                      </a:lnTo>
                      <a:lnTo>
                        <a:pt x="281" y="48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1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41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28"/>
                      </a:lnTo>
                      <a:lnTo>
                        <a:pt x="295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2" y="28"/>
                      </a:lnTo>
                      <a:lnTo>
                        <a:pt x="302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8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09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16" y="21"/>
                      </a:lnTo>
                      <a:lnTo>
                        <a:pt x="323" y="21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3" y="14"/>
                      </a:lnTo>
                      <a:lnTo>
                        <a:pt x="329" y="14"/>
                      </a:lnTo>
                      <a:lnTo>
                        <a:pt x="329" y="14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36" y="7"/>
                      </a:lnTo>
                      <a:lnTo>
                        <a:pt x="343" y="7"/>
                      </a:lnTo>
                      <a:lnTo>
                        <a:pt x="336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43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0" y="0"/>
                      </a:lnTo>
                      <a:lnTo>
                        <a:pt x="357" y="0"/>
                      </a:lnTo>
                      <a:lnTo>
                        <a:pt x="357" y="0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57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64" y="7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64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14"/>
                      </a:lnTo>
                      <a:lnTo>
                        <a:pt x="371" y="21"/>
                      </a:lnTo>
                      <a:lnTo>
                        <a:pt x="371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64" y="21"/>
                      </a:lnTo>
                      <a:lnTo>
                        <a:pt x="357" y="21"/>
                      </a:lnTo>
                      <a:lnTo>
                        <a:pt x="357" y="21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7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0" y="28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35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7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1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50" y="48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36" y="55"/>
                      </a:lnTo>
                      <a:lnTo>
                        <a:pt x="343" y="55"/>
                      </a:lnTo>
                      <a:lnTo>
                        <a:pt x="343" y="62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43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55"/>
                      </a:lnTo>
                      <a:lnTo>
                        <a:pt x="350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2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64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1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78" y="83"/>
                      </a:lnTo>
                      <a:lnTo>
                        <a:pt x="384" y="83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84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1" y="76"/>
                      </a:lnTo>
                      <a:lnTo>
                        <a:pt x="398" y="76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9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2" y="55"/>
                      </a:lnTo>
                      <a:lnTo>
                        <a:pt x="419" y="55"/>
                      </a:lnTo>
                      <a:lnTo>
                        <a:pt x="419" y="55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8"/>
                      </a:lnTo>
                      <a:lnTo>
                        <a:pt x="419" y="41"/>
                      </a:lnTo>
                      <a:lnTo>
                        <a:pt x="426" y="48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1"/>
                      </a:lnTo>
                      <a:lnTo>
                        <a:pt x="426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8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2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39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46" y="41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53" y="48"/>
                      </a:lnTo>
                      <a:lnTo>
                        <a:pt x="453" y="48"/>
                      </a:lnTo>
                      <a:lnTo>
                        <a:pt x="453" y="41"/>
                      </a:lnTo>
                      <a:lnTo>
                        <a:pt x="453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0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67" y="41"/>
                      </a:lnTo>
                      <a:lnTo>
                        <a:pt x="474" y="41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74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1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87" y="28"/>
                      </a:lnTo>
                      <a:lnTo>
                        <a:pt x="494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21"/>
                      </a:lnTo>
                      <a:lnTo>
                        <a:pt x="494" y="14"/>
                      </a:lnTo>
                      <a:lnTo>
                        <a:pt x="494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1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08" y="14"/>
                      </a:lnTo>
                      <a:lnTo>
                        <a:pt x="515" y="14"/>
                      </a:lnTo>
                      <a:lnTo>
                        <a:pt x="515" y="7"/>
                      </a:lnTo>
                      <a:lnTo>
                        <a:pt x="515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14"/>
                      </a:lnTo>
                      <a:lnTo>
                        <a:pt x="529" y="14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2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49" y="21"/>
                      </a:lnTo>
                      <a:lnTo>
                        <a:pt x="556" y="21"/>
                      </a:lnTo>
                      <a:lnTo>
                        <a:pt x="549" y="21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56" y="28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49" y="35"/>
                      </a:lnTo>
                      <a:lnTo>
                        <a:pt x="556" y="35"/>
                      </a:lnTo>
                      <a:lnTo>
                        <a:pt x="556" y="41"/>
                      </a:lnTo>
                      <a:lnTo>
                        <a:pt x="549" y="41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56" y="55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2"/>
                      </a:lnTo>
                      <a:lnTo>
                        <a:pt x="549" y="69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76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83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0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97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42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04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1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35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18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25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9" y="132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9"/>
                      </a:lnTo>
                      <a:lnTo>
                        <a:pt x="522" y="132"/>
                      </a:lnTo>
                      <a:lnTo>
                        <a:pt x="515" y="139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15" y="132"/>
                      </a:lnTo>
                      <a:lnTo>
                        <a:pt x="508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501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94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7" y="132"/>
                      </a:lnTo>
                      <a:lnTo>
                        <a:pt x="481" y="132"/>
                      </a:lnTo>
                      <a:lnTo>
                        <a:pt x="481" y="132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81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9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74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7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2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60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53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39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46" y="146"/>
                      </a:lnTo>
                      <a:lnTo>
                        <a:pt x="439" y="146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9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2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32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59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26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9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12" y="166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405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73"/>
                      </a:lnTo>
                      <a:lnTo>
                        <a:pt x="398" y="166"/>
                      </a:lnTo>
                      <a:lnTo>
                        <a:pt x="391" y="166"/>
                      </a:lnTo>
                      <a:lnTo>
                        <a:pt x="384" y="173"/>
                      </a:lnTo>
                      <a:lnTo>
                        <a:pt x="384" y="173"/>
                      </a:lnTo>
                      <a:lnTo>
                        <a:pt x="384" y="166"/>
                      </a:lnTo>
                      <a:lnTo>
                        <a:pt x="378" y="166"/>
                      </a:lnTo>
                      <a:lnTo>
                        <a:pt x="378" y="166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73"/>
                      </a:lnTo>
                      <a:lnTo>
                        <a:pt x="378" y="180"/>
                      </a:lnTo>
                      <a:lnTo>
                        <a:pt x="371" y="180"/>
                      </a:lnTo>
                      <a:lnTo>
                        <a:pt x="371" y="173"/>
                      </a:lnTo>
                      <a:lnTo>
                        <a:pt x="371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73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64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7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66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50" y="159"/>
                      </a:lnTo>
                      <a:lnTo>
                        <a:pt x="343" y="159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43" y="152"/>
                      </a:lnTo>
                      <a:lnTo>
                        <a:pt x="336" y="152"/>
                      </a:lnTo>
                      <a:lnTo>
                        <a:pt x="336" y="152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39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9"/>
                      </a:lnTo>
                      <a:lnTo>
                        <a:pt x="309" y="132"/>
                      </a:lnTo>
                      <a:lnTo>
                        <a:pt x="309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2"/>
                      </a:lnTo>
                      <a:lnTo>
                        <a:pt x="302" y="13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09600" y="3750840"/>
                  <a:ext cx="380160" cy="97560"/>
                </a:xfrm>
                <a:custGeom>
                  <a:avLst/>
                  <a:gdLst/>
                  <a:ahLst/>
                  <a:rect l="l" t="t" r="r" b="b"/>
                  <a:pathLst>
                    <a:path w="302" h="83">
                      <a:moveTo>
                        <a:pt x="302" y="35"/>
                      </a:move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2"/>
                      </a:lnTo>
                      <a:lnTo>
                        <a:pt x="295" y="48"/>
                      </a:lnTo>
                      <a:lnTo>
                        <a:pt x="295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48"/>
                      </a:lnTo>
                      <a:lnTo>
                        <a:pt x="288" y="55"/>
                      </a:lnTo>
                      <a:lnTo>
                        <a:pt x="288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81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55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75" y="62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8" y="69"/>
                      </a:lnTo>
                      <a:lnTo>
                        <a:pt x="261" y="69"/>
                      </a:lnTo>
                      <a:lnTo>
                        <a:pt x="261" y="62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55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8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61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54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7" y="42"/>
                      </a:lnTo>
                      <a:lnTo>
                        <a:pt x="240" y="42"/>
                      </a:lnTo>
                      <a:lnTo>
                        <a:pt x="240" y="42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0" y="35"/>
                      </a:lnTo>
                      <a:lnTo>
                        <a:pt x="247" y="35"/>
                      </a:lnTo>
                      <a:lnTo>
                        <a:pt x="247" y="35"/>
                      </a:lnTo>
                      <a:lnTo>
                        <a:pt x="247" y="28"/>
                      </a:lnTo>
                      <a:lnTo>
                        <a:pt x="247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40" y="28"/>
                      </a:lnTo>
                      <a:lnTo>
                        <a:pt x="233" y="28"/>
                      </a:lnTo>
                      <a:lnTo>
                        <a:pt x="233" y="35"/>
                      </a:lnTo>
                      <a:lnTo>
                        <a:pt x="233" y="35"/>
                      </a:lnTo>
                      <a:lnTo>
                        <a:pt x="233" y="42"/>
                      </a:lnTo>
                      <a:lnTo>
                        <a:pt x="233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0" y="28"/>
                      </a:lnTo>
                      <a:lnTo>
                        <a:pt x="220" y="28"/>
                      </a:lnTo>
                      <a:lnTo>
                        <a:pt x="220" y="21"/>
                      </a:lnTo>
                      <a:lnTo>
                        <a:pt x="220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13" y="21"/>
                      </a:lnTo>
                      <a:lnTo>
                        <a:pt x="206" y="21"/>
                      </a:lnTo>
                      <a:lnTo>
                        <a:pt x="206" y="28"/>
                      </a:lnTo>
                      <a:lnTo>
                        <a:pt x="206" y="28"/>
                      </a:lnTo>
                      <a:lnTo>
                        <a:pt x="206" y="21"/>
                      </a:lnTo>
                      <a:lnTo>
                        <a:pt x="206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9" y="21"/>
                      </a:lnTo>
                      <a:lnTo>
                        <a:pt x="192" y="21"/>
                      </a:lnTo>
                      <a:lnTo>
                        <a:pt x="192" y="21"/>
                      </a:lnTo>
                      <a:lnTo>
                        <a:pt x="192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85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65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1" y="7"/>
                      </a:lnTo>
                      <a:lnTo>
                        <a:pt x="151" y="14"/>
                      </a:lnTo>
                      <a:lnTo>
                        <a:pt x="151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14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1"/>
                      </a:lnTo>
                      <a:lnTo>
                        <a:pt x="144" y="28"/>
                      </a:lnTo>
                      <a:lnTo>
                        <a:pt x="144" y="28"/>
                      </a:lnTo>
                      <a:lnTo>
                        <a:pt x="137" y="21"/>
                      </a:lnTo>
                      <a:lnTo>
                        <a:pt x="137" y="28"/>
                      </a:lnTo>
                      <a:lnTo>
                        <a:pt x="130" y="28"/>
                      </a:lnTo>
                      <a:lnTo>
                        <a:pt x="130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28"/>
                      </a:lnTo>
                      <a:lnTo>
                        <a:pt x="123" y="35"/>
                      </a:lnTo>
                      <a:lnTo>
                        <a:pt x="123" y="35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23" y="42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7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10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96" y="48"/>
                      </a:lnTo>
                      <a:lnTo>
                        <a:pt x="89" y="48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55"/>
                      </a:lnTo>
                      <a:lnTo>
                        <a:pt x="89" y="62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9" y="69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82" y="69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76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9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83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48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9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62"/>
                      </a:lnTo>
                      <a:lnTo>
                        <a:pt x="55" y="62"/>
                      </a:lnTo>
                      <a:lnTo>
                        <a:pt x="55" y="62"/>
                      </a:lnTo>
                      <a:lnTo>
                        <a:pt x="62" y="62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62" y="55"/>
                      </a:lnTo>
                      <a:lnTo>
                        <a:pt x="55" y="55"/>
                      </a:lnTo>
                      <a:lnTo>
                        <a:pt x="55" y="55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55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8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35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651720" y="328500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7280" y="3783600"/>
                  <a:ext cx="319680" cy="162360"/>
                </a:xfrm>
                <a:custGeom>
                  <a:avLst/>
                  <a:gdLst/>
                  <a:ahLst/>
                  <a:rect l="l" t="t" r="r" b="b"/>
                  <a:pathLst>
                    <a:path w="254" h="138">
                      <a:moveTo>
                        <a:pt x="0" y="41"/>
                      </a:move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7" y="20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20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34" y="14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1" y="14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27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89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34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103" y="41"/>
                      </a:lnTo>
                      <a:lnTo>
                        <a:pt x="103" y="41"/>
                      </a:lnTo>
                      <a:lnTo>
                        <a:pt x="103" y="48"/>
                      </a:lnTo>
                      <a:lnTo>
                        <a:pt x="110" y="48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41"/>
                      </a:lnTo>
                      <a:lnTo>
                        <a:pt x="110" y="34"/>
                      </a:lnTo>
                      <a:lnTo>
                        <a:pt x="110" y="34"/>
                      </a:lnTo>
                      <a:lnTo>
                        <a:pt x="116" y="34"/>
                      </a:lnTo>
                      <a:lnTo>
                        <a:pt x="116" y="41"/>
                      </a:lnTo>
                      <a:lnTo>
                        <a:pt x="116" y="41"/>
                      </a:lnTo>
                      <a:lnTo>
                        <a:pt x="123" y="34"/>
                      </a:lnTo>
                      <a:lnTo>
                        <a:pt x="130" y="34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0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37" y="41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44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1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34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58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7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20"/>
                      </a:lnTo>
                      <a:lnTo>
                        <a:pt x="171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14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78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85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7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2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06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7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19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40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7"/>
                      </a:lnTo>
                      <a:lnTo>
                        <a:pt x="254" y="0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7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14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0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7" y="27"/>
                      </a:lnTo>
                      <a:lnTo>
                        <a:pt x="240" y="27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34"/>
                      </a:lnTo>
                      <a:lnTo>
                        <a:pt x="240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33" y="41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48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26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55"/>
                      </a:lnTo>
                      <a:lnTo>
                        <a:pt x="219" y="62"/>
                      </a:lnTo>
                      <a:lnTo>
                        <a:pt x="219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2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13" y="69"/>
                      </a:lnTo>
                      <a:lnTo>
                        <a:pt x="213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76"/>
                      </a:lnTo>
                      <a:lnTo>
                        <a:pt x="206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76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9" y="83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92" y="90"/>
                      </a:lnTo>
                      <a:lnTo>
                        <a:pt x="185" y="97"/>
                      </a:lnTo>
                      <a:lnTo>
                        <a:pt x="185" y="97"/>
                      </a:lnTo>
                      <a:lnTo>
                        <a:pt x="185" y="104"/>
                      </a:lnTo>
                      <a:lnTo>
                        <a:pt x="185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04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8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1"/>
                      </a:lnTo>
                      <a:lnTo>
                        <a:pt x="171" y="118"/>
                      </a:lnTo>
                      <a:lnTo>
                        <a:pt x="171" y="118"/>
                      </a:lnTo>
                      <a:lnTo>
                        <a:pt x="164" y="118"/>
                      </a:lnTo>
                      <a:lnTo>
                        <a:pt x="164" y="124"/>
                      </a:lnTo>
                      <a:lnTo>
                        <a:pt x="164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24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1"/>
                      </a:lnTo>
                      <a:lnTo>
                        <a:pt x="158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8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51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44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31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24"/>
                      </a:lnTo>
                      <a:lnTo>
                        <a:pt x="137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30" y="124"/>
                      </a:lnTo>
                      <a:lnTo>
                        <a:pt x="123" y="124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23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8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104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103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96" y="97"/>
                      </a:lnTo>
                      <a:lnTo>
                        <a:pt x="89" y="90"/>
                      </a:lnTo>
                      <a:lnTo>
                        <a:pt x="89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90"/>
                      </a:lnTo>
                      <a:lnTo>
                        <a:pt x="82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75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61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34" y="69"/>
                      </a:lnTo>
                      <a:lnTo>
                        <a:pt x="34" y="69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34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55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38280" y="3848400"/>
                  <a:ext cx="198720" cy="204480"/>
                </a:xfrm>
                <a:custGeom>
                  <a:avLst/>
                  <a:gdLst/>
                  <a:ahLst/>
                  <a:rect l="l" t="t" r="r" b="b"/>
                  <a:pathLst>
                    <a:path w="158" h="174">
                      <a:moveTo>
                        <a:pt x="7" y="111"/>
                      </a:moveTo>
                      <a:lnTo>
                        <a:pt x="7" y="111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7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14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41" y="104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41" y="83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34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76"/>
                      </a:lnTo>
                      <a:lnTo>
                        <a:pt x="41" y="69"/>
                      </a:lnTo>
                      <a:lnTo>
                        <a:pt x="41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8" y="69"/>
                      </a:lnTo>
                      <a:lnTo>
                        <a:pt x="41" y="63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56"/>
                      </a:lnTo>
                      <a:lnTo>
                        <a:pt x="41" y="49"/>
                      </a:lnTo>
                      <a:lnTo>
                        <a:pt x="41" y="49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41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34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42"/>
                      </a:lnTo>
                      <a:lnTo>
                        <a:pt x="27" y="35"/>
                      </a:lnTo>
                      <a:lnTo>
                        <a:pt x="20" y="35"/>
                      </a:lnTo>
                      <a:lnTo>
                        <a:pt x="27" y="35"/>
                      </a:lnTo>
                      <a:lnTo>
                        <a:pt x="27" y="35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14"/>
                      </a:lnTo>
                      <a:lnTo>
                        <a:pt x="41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48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8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1"/>
                      </a:lnTo>
                      <a:lnTo>
                        <a:pt x="75" y="28"/>
                      </a:lnTo>
                      <a:lnTo>
                        <a:pt x="75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9" y="28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89" y="35"/>
                      </a:lnTo>
                      <a:lnTo>
                        <a:pt x="96" y="35"/>
                      </a:lnTo>
                      <a:lnTo>
                        <a:pt x="96" y="35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2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0" y="49"/>
                      </a:lnTo>
                      <a:lnTo>
                        <a:pt x="117" y="49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17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56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23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3"/>
                      </a:lnTo>
                      <a:lnTo>
                        <a:pt x="130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9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37" y="63"/>
                      </a:lnTo>
                      <a:lnTo>
                        <a:pt x="144" y="63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44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1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76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83"/>
                      </a:lnTo>
                      <a:lnTo>
                        <a:pt x="158" y="90"/>
                      </a:lnTo>
                      <a:lnTo>
                        <a:pt x="158" y="90"/>
                      </a:lnTo>
                      <a:lnTo>
                        <a:pt x="151" y="90"/>
                      </a:lnTo>
                      <a:lnTo>
                        <a:pt x="144" y="90"/>
                      </a:lnTo>
                      <a:lnTo>
                        <a:pt x="144" y="90"/>
                      </a:lnTo>
                      <a:lnTo>
                        <a:pt x="137" y="97"/>
                      </a:lnTo>
                      <a:lnTo>
                        <a:pt x="137" y="97"/>
                      </a:lnTo>
                      <a:lnTo>
                        <a:pt x="130" y="97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17" y="111"/>
                      </a:lnTo>
                      <a:lnTo>
                        <a:pt x="110" y="118"/>
                      </a:lnTo>
                      <a:lnTo>
                        <a:pt x="110" y="118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103" y="125"/>
                      </a:lnTo>
                      <a:lnTo>
                        <a:pt x="96" y="139"/>
                      </a:lnTo>
                      <a:lnTo>
                        <a:pt x="96" y="139"/>
                      </a:lnTo>
                      <a:lnTo>
                        <a:pt x="89" y="146"/>
                      </a:lnTo>
                      <a:lnTo>
                        <a:pt x="89" y="153"/>
                      </a:lnTo>
                      <a:lnTo>
                        <a:pt x="82" y="160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82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75" y="167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8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62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55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41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7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7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7" y="160"/>
                      </a:lnTo>
                      <a:lnTo>
                        <a:pt x="20" y="160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7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46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20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14" y="139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14" y="125"/>
                      </a:lnTo>
                      <a:lnTo>
                        <a:pt x="14" y="132"/>
                      </a:lnTo>
                      <a:lnTo>
                        <a:pt x="14" y="132"/>
                      </a:lnTo>
                      <a:lnTo>
                        <a:pt x="14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25"/>
                      </a:lnTo>
                      <a:lnTo>
                        <a:pt x="7" y="118"/>
                      </a:lnTo>
                      <a:lnTo>
                        <a:pt x="7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18"/>
                      </a:lnTo>
                      <a:lnTo>
                        <a:pt x="0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7" y="111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57000" y="3750840"/>
                  <a:ext cx="984960" cy="978840"/>
                </a:xfrm>
                <a:custGeom>
                  <a:avLst/>
                  <a:gdLst/>
                  <a:ahLst/>
                  <a:rect l="l" t="t" r="r" b="b"/>
                  <a:pathLst>
                    <a:path w="782" h="832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7" y="340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47"/>
                      </a:lnTo>
                      <a:lnTo>
                        <a:pt x="720" y="354"/>
                      </a:lnTo>
                      <a:lnTo>
                        <a:pt x="714" y="354"/>
                      </a:lnTo>
                      <a:lnTo>
                        <a:pt x="714" y="354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1"/>
                      </a:lnTo>
                      <a:lnTo>
                        <a:pt x="707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68"/>
                      </a:lnTo>
                      <a:lnTo>
                        <a:pt x="700" y="374"/>
                      </a:lnTo>
                      <a:lnTo>
                        <a:pt x="700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93" y="374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86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9" y="381"/>
                      </a:lnTo>
                      <a:lnTo>
                        <a:pt x="672" y="381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9" y="374"/>
                      </a:lnTo>
                      <a:lnTo>
                        <a:pt x="672" y="374"/>
                      </a:lnTo>
                      <a:lnTo>
                        <a:pt x="672" y="374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72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1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65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88"/>
                      </a:lnTo>
                      <a:lnTo>
                        <a:pt x="659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52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395"/>
                      </a:lnTo>
                      <a:lnTo>
                        <a:pt x="645" y="402"/>
                      </a:lnTo>
                      <a:lnTo>
                        <a:pt x="645" y="402"/>
                      </a:lnTo>
                      <a:lnTo>
                        <a:pt x="645" y="409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09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45" y="416"/>
                      </a:lnTo>
                      <a:lnTo>
                        <a:pt x="652" y="416"/>
                      </a:lnTo>
                      <a:lnTo>
                        <a:pt x="652" y="416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23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45" y="430"/>
                      </a:lnTo>
                      <a:lnTo>
                        <a:pt x="652" y="430"/>
                      </a:lnTo>
                      <a:lnTo>
                        <a:pt x="652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45" y="437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44"/>
                      </a:lnTo>
                      <a:lnTo>
                        <a:pt x="638" y="451"/>
                      </a:lnTo>
                      <a:lnTo>
                        <a:pt x="645" y="451"/>
                      </a:lnTo>
                      <a:lnTo>
                        <a:pt x="645" y="451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58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65"/>
                      </a:lnTo>
                      <a:lnTo>
                        <a:pt x="645" y="472"/>
                      </a:lnTo>
                      <a:lnTo>
                        <a:pt x="645" y="472"/>
                      </a:lnTo>
                      <a:lnTo>
                        <a:pt x="645" y="479"/>
                      </a:lnTo>
                      <a:lnTo>
                        <a:pt x="645" y="479"/>
                      </a:lnTo>
                      <a:lnTo>
                        <a:pt x="638" y="479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38" y="485"/>
                      </a:lnTo>
                      <a:lnTo>
                        <a:pt x="645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2"/>
                      </a:lnTo>
                      <a:lnTo>
                        <a:pt x="638" y="499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06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8" y="513"/>
                      </a:lnTo>
                      <a:lnTo>
                        <a:pt x="631" y="520"/>
                      </a:lnTo>
                      <a:lnTo>
                        <a:pt x="631" y="520"/>
                      </a:lnTo>
                      <a:lnTo>
                        <a:pt x="631" y="527"/>
                      </a:lnTo>
                      <a:lnTo>
                        <a:pt x="631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27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34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1"/>
                      </a:lnTo>
                      <a:lnTo>
                        <a:pt x="638" y="548"/>
                      </a:lnTo>
                      <a:lnTo>
                        <a:pt x="638" y="548"/>
                      </a:lnTo>
                      <a:lnTo>
                        <a:pt x="638" y="555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69"/>
                      </a:lnTo>
                      <a:lnTo>
                        <a:pt x="638" y="576"/>
                      </a:lnTo>
                      <a:lnTo>
                        <a:pt x="638" y="576"/>
                      </a:lnTo>
                      <a:lnTo>
                        <a:pt x="645" y="583"/>
                      </a:lnTo>
                      <a:lnTo>
                        <a:pt x="645" y="590"/>
                      </a:lnTo>
                      <a:lnTo>
                        <a:pt x="645" y="590"/>
                      </a:lnTo>
                      <a:lnTo>
                        <a:pt x="645" y="596"/>
                      </a:lnTo>
                      <a:lnTo>
                        <a:pt x="645" y="596"/>
                      </a:lnTo>
                      <a:lnTo>
                        <a:pt x="645" y="603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0"/>
                      </a:lnTo>
                      <a:lnTo>
                        <a:pt x="645" y="617"/>
                      </a:lnTo>
                      <a:lnTo>
                        <a:pt x="652" y="617"/>
                      </a:lnTo>
                      <a:lnTo>
                        <a:pt x="652" y="617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52" y="624"/>
                      </a:lnTo>
                      <a:lnTo>
                        <a:pt x="645" y="631"/>
                      </a:lnTo>
                      <a:lnTo>
                        <a:pt x="645" y="638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45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45" y="652"/>
                      </a:lnTo>
                      <a:lnTo>
                        <a:pt x="638" y="652"/>
                      </a:lnTo>
                      <a:lnTo>
                        <a:pt x="638" y="652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8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73"/>
                      </a:lnTo>
                      <a:lnTo>
                        <a:pt x="631" y="680"/>
                      </a:lnTo>
                      <a:lnTo>
                        <a:pt x="631" y="680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87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694"/>
                      </a:lnTo>
                      <a:lnTo>
                        <a:pt x="631" y="701"/>
                      </a:lnTo>
                      <a:lnTo>
                        <a:pt x="624" y="694"/>
                      </a:lnTo>
                      <a:lnTo>
                        <a:pt x="624" y="701"/>
                      </a:lnTo>
                      <a:lnTo>
                        <a:pt x="624" y="701"/>
                      </a:lnTo>
                      <a:lnTo>
                        <a:pt x="624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31" y="707"/>
                      </a:lnTo>
                      <a:lnTo>
                        <a:pt x="624" y="714"/>
                      </a:lnTo>
                      <a:lnTo>
                        <a:pt x="624" y="714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1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28"/>
                      </a:lnTo>
                      <a:lnTo>
                        <a:pt x="624" y="735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2"/>
                      </a:lnTo>
                      <a:lnTo>
                        <a:pt x="624" y="749"/>
                      </a:lnTo>
                      <a:lnTo>
                        <a:pt x="624" y="749"/>
                      </a:lnTo>
                      <a:lnTo>
                        <a:pt x="624" y="756"/>
                      </a:lnTo>
                      <a:lnTo>
                        <a:pt x="624" y="756"/>
                      </a:lnTo>
                      <a:lnTo>
                        <a:pt x="624" y="763"/>
                      </a:lnTo>
                      <a:lnTo>
                        <a:pt x="624" y="763"/>
                      </a:lnTo>
                      <a:lnTo>
                        <a:pt x="624" y="770"/>
                      </a:lnTo>
                      <a:lnTo>
                        <a:pt x="624" y="770"/>
                      </a:lnTo>
                      <a:lnTo>
                        <a:pt x="624" y="777"/>
                      </a:lnTo>
                      <a:lnTo>
                        <a:pt x="631" y="777"/>
                      </a:lnTo>
                      <a:lnTo>
                        <a:pt x="624" y="777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24" y="784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7" y="791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11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604" y="798"/>
                      </a:lnTo>
                      <a:lnTo>
                        <a:pt x="597" y="798"/>
                      </a:lnTo>
                      <a:lnTo>
                        <a:pt x="597" y="805"/>
                      </a:lnTo>
                      <a:lnTo>
                        <a:pt x="597" y="805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2"/>
                      </a:lnTo>
                      <a:lnTo>
                        <a:pt x="590" y="818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25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83" y="832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62" y="818"/>
                      </a:lnTo>
                      <a:lnTo>
                        <a:pt x="549" y="812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35" y="798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42" y="791"/>
                      </a:lnTo>
                      <a:lnTo>
                        <a:pt x="535" y="791"/>
                      </a:lnTo>
                      <a:lnTo>
                        <a:pt x="535" y="791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84"/>
                      </a:lnTo>
                      <a:lnTo>
                        <a:pt x="535" y="777"/>
                      </a:lnTo>
                      <a:lnTo>
                        <a:pt x="535" y="784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7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8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70"/>
                      </a:lnTo>
                      <a:lnTo>
                        <a:pt x="521" y="763"/>
                      </a:lnTo>
                      <a:lnTo>
                        <a:pt x="521" y="763"/>
                      </a:lnTo>
                      <a:lnTo>
                        <a:pt x="514" y="770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63"/>
                      </a:lnTo>
                      <a:lnTo>
                        <a:pt x="514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8" y="756"/>
                      </a:lnTo>
                      <a:lnTo>
                        <a:pt x="501" y="756"/>
                      </a:lnTo>
                      <a:lnTo>
                        <a:pt x="501" y="756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1" y="749"/>
                      </a:lnTo>
                      <a:lnTo>
                        <a:pt x="501" y="749"/>
                      </a:lnTo>
                      <a:lnTo>
                        <a:pt x="508" y="749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42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35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8"/>
                      </a:lnTo>
                      <a:lnTo>
                        <a:pt x="508" y="721"/>
                      </a:lnTo>
                      <a:lnTo>
                        <a:pt x="508" y="721"/>
                      </a:lnTo>
                      <a:lnTo>
                        <a:pt x="508" y="714"/>
                      </a:lnTo>
                      <a:lnTo>
                        <a:pt x="508" y="714"/>
                      </a:lnTo>
                      <a:lnTo>
                        <a:pt x="514" y="714"/>
                      </a:lnTo>
                      <a:lnTo>
                        <a:pt x="514" y="714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14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1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14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7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35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701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94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28" y="687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35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80"/>
                      </a:lnTo>
                      <a:lnTo>
                        <a:pt x="542" y="673"/>
                      </a:lnTo>
                      <a:lnTo>
                        <a:pt x="542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73"/>
                      </a:lnTo>
                      <a:lnTo>
                        <a:pt x="549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66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56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9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52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2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9" y="645"/>
                      </a:lnTo>
                      <a:lnTo>
                        <a:pt x="562" y="645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8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62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56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31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9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42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24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35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8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21" y="617"/>
                      </a:lnTo>
                      <a:lnTo>
                        <a:pt x="514" y="610"/>
                      </a:lnTo>
                      <a:lnTo>
                        <a:pt x="514" y="610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14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7"/>
                      </a:lnTo>
                      <a:lnTo>
                        <a:pt x="508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501" y="610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03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94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10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03"/>
                      </a:lnTo>
                      <a:lnTo>
                        <a:pt x="487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10"/>
                      </a:lnTo>
                      <a:lnTo>
                        <a:pt x="480" y="603"/>
                      </a:lnTo>
                      <a:lnTo>
                        <a:pt x="480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03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73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6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60" y="617"/>
                      </a:lnTo>
                      <a:lnTo>
                        <a:pt x="460" y="610"/>
                      </a:lnTo>
                      <a:lnTo>
                        <a:pt x="460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53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46" y="610"/>
                      </a:lnTo>
                      <a:lnTo>
                        <a:pt x="439" y="610"/>
                      </a:lnTo>
                      <a:lnTo>
                        <a:pt x="439" y="603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9" y="590"/>
                      </a:lnTo>
                      <a:lnTo>
                        <a:pt x="432" y="583"/>
                      </a:lnTo>
                      <a:lnTo>
                        <a:pt x="425" y="576"/>
                      </a:lnTo>
                      <a:lnTo>
                        <a:pt x="405" y="555"/>
                      </a:lnTo>
                      <a:lnTo>
                        <a:pt x="405" y="555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8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91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84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7" y="562"/>
                      </a:lnTo>
                      <a:lnTo>
                        <a:pt x="370" y="562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70" y="555"/>
                      </a:lnTo>
                      <a:lnTo>
                        <a:pt x="363" y="555"/>
                      </a:lnTo>
                      <a:lnTo>
                        <a:pt x="363" y="555"/>
                      </a:lnTo>
                      <a:lnTo>
                        <a:pt x="363" y="562"/>
                      </a:lnTo>
                      <a:lnTo>
                        <a:pt x="363" y="562"/>
                      </a:lnTo>
                      <a:lnTo>
                        <a:pt x="363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7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50" y="555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43" y="548"/>
                      </a:lnTo>
                      <a:lnTo>
                        <a:pt x="336" y="548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1"/>
                      </a:lnTo>
                      <a:lnTo>
                        <a:pt x="336" y="548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9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41"/>
                      </a:lnTo>
                      <a:lnTo>
                        <a:pt x="322" y="534"/>
                      </a:lnTo>
                      <a:lnTo>
                        <a:pt x="322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34"/>
                      </a:lnTo>
                      <a:lnTo>
                        <a:pt x="315" y="527"/>
                      </a:lnTo>
                      <a:lnTo>
                        <a:pt x="315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8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7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302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95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8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81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74" y="520"/>
                      </a:lnTo>
                      <a:lnTo>
                        <a:pt x="267" y="520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7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27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60" y="534"/>
                      </a:lnTo>
                      <a:lnTo>
                        <a:pt x="254" y="534"/>
                      </a:lnTo>
                      <a:lnTo>
                        <a:pt x="254" y="534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54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7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7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40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33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20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13"/>
                      </a:lnTo>
                      <a:lnTo>
                        <a:pt x="226" y="506"/>
                      </a:lnTo>
                      <a:lnTo>
                        <a:pt x="233" y="506"/>
                      </a:lnTo>
                      <a:lnTo>
                        <a:pt x="233" y="506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9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33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26" y="492"/>
                      </a:lnTo>
                      <a:lnTo>
                        <a:pt x="219" y="492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92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9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12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205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9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92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85" y="485"/>
                      </a:lnTo>
                      <a:lnTo>
                        <a:pt x="178" y="485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8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71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2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64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499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7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51" y="506"/>
                      </a:lnTo>
                      <a:lnTo>
                        <a:pt x="144" y="506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06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13"/>
                      </a:lnTo>
                      <a:lnTo>
                        <a:pt x="144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7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0"/>
                      </a:lnTo>
                      <a:lnTo>
                        <a:pt x="130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23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16" y="527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9" y="534"/>
                      </a:lnTo>
                      <a:lnTo>
                        <a:pt x="102" y="534"/>
                      </a:lnTo>
                      <a:lnTo>
                        <a:pt x="102" y="534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102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1"/>
                      </a:lnTo>
                      <a:lnTo>
                        <a:pt x="96" y="548"/>
                      </a:lnTo>
                      <a:lnTo>
                        <a:pt x="96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8"/>
                      </a:lnTo>
                      <a:lnTo>
                        <a:pt x="89" y="541"/>
                      </a:lnTo>
                      <a:lnTo>
                        <a:pt x="89" y="541"/>
                      </a:lnTo>
                      <a:lnTo>
                        <a:pt x="89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48"/>
                      </a:lnTo>
                      <a:lnTo>
                        <a:pt x="82" y="555"/>
                      </a:lnTo>
                      <a:lnTo>
                        <a:pt x="82" y="548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75" y="555"/>
                      </a:lnTo>
                      <a:lnTo>
                        <a:pt x="68" y="555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8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61" y="562"/>
                      </a:lnTo>
                      <a:lnTo>
                        <a:pt x="54" y="562"/>
                      </a:lnTo>
                      <a:lnTo>
                        <a:pt x="54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2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8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9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1" y="562"/>
                      </a:lnTo>
                      <a:lnTo>
                        <a:pt x="48" y="562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55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8" y="541"/>
                      </a:lnTo>
                      <a:lnTo>
                        <a:pt x="41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34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7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20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13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506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48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9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92"/>
                      </a:lnTo>
                      <a:lnTo>
                        <a:pt x="54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8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85"/>
                      </a:lnTo>
                      <a:lnTo>
                        <a:pt x="41" y="485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41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72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65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8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51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44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7"/>
                      </a:lnTo>
                      <a:lnTo>
                        <a:pt x="27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34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30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27" y="423"/>
                      </a:lnTo>
                      <a:lnTo>
                        <a:pt x="34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27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16"/>
                      </a:lnTo>
                      <a:lnTo>
                        <a:pt x="34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9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41" y="402"/>
                      </a:lnTo>
                      <a:lnTo>
                        <a:pt x="34" y="409"/>
                      </a:lnTo>
                      <a:lnTo>
                        <a:pt x="34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7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9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402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95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8"/>
                      </a:lnTo>
                      <a:lnTo>
                        <a:pt x="20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27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81"/>
                      </a:lnTo>
                      <a:lnTo>
                        <a:pt x="34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41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34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7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74"/>
                      </a:lnTo>
                      <a:lnTo>
                        <a:pt x="20" y="368"/>
                      </a:lnTo>
                      <a:lnTo>
                        <a:pt x="20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8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61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0" y="354"/>
                      </a:lnTo>
                      <a:lnTo>
                        <a:pt x="27" y="354"/>
                      </a:lnTo>
                      <a:lnTo>
                        <a:pt x="27" y="354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0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7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40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34" y="333"/>
                      </a:lnTo>
                      <a:lnTo>
                        <a:pt x="27" y="340"/>
                      </a:lnTo>
                      <a:lnTo>
                        <a:pt x="27" y="340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lnTo>
                        <a:pt x="20" y="333"/>
                      </a:lnTo>
                      <a:lnTo>
                        <a:pt x="20" y="333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26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9"/>
                      </a:lnTo>
                      <a:lnTo>
                        <a:pt x="20" y="319"/>
                      </a:lnTo>
                      <a:lnTo>
                        <a:pt x="13" y="319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20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13" y="312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20" y="305"/>
                      </a:lnTo>
                      <a:lnTo>
                        <a:pt x="13" y="305"/>
                      </a:lnTo>
                      <a:lnTo>
                        <a:pt x="13" y="305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13" y="298"/>
                      </a:lnTo>
                      <a:lnTo>
                        <a:pt x="20" y="298"/>
                      </a:lnTo>
                      <a:lnTo>
                        <a:pt x="20" y="298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0" y="291"/>
                      </a:lnTo>
                      <a:lnTo>
                        <a:pt x="27" y="291"/>
                      </a:lnTo>
                      <a:lnTo>
                        <a:pt x="27" y="291"/>
                      </a:lnTo>
                      <a:lnTo>
                        <a:pt x="34" y="291"/>
                      </a:lnTo>
                      <a:lnTo>
                        <a:pt x="34" y="291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34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7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13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84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7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0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27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41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34" y="263"/>
                      </a:lnTo>
                      <a:lnTo>
                        <a:pt x="27" y="263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7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20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13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7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6" y="250"/>
                      </a:lnTo>
                      <a:lnTo>
                        <a:pt x="0" y="250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36"/>
                      </a:lnTo>
                      <a:lnTo>
                        <a:pt x="0" y="236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57000" y="3750840"/>
                  <a:ext cx="984960" cy="399960"/>
                </a:xfrm>
                <a:custGeom>
                  <a:avLst/>
                  <a:gdLst/>
                  <a:ahLst/>
                  <a:rect l="l" t="t" r="r" b="b"/>
                  <a:pathLst>
                    <a:path w="782" h="340">
                      <a:moveTo>
                        <a:pt x="0" y="236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9"/>
                      </a:lnTo>
                      <a:lnTo>
                        <a:pt x="6" y="222"/>
                      </a:lnTo>
                      <a:lnTo>
                        <a:pt x="13" y="222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13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0" y="208"/>
                      </a:lnTo>
                      <a:lnTo>
                        <a:pt x="27" y="201"/>
                      </a:lnTo>
                      <a:lnTo>
                        <a:pt x="20" y="201"/>
                      </a:lnTo>
                      <a:lnTo>
                        <a:pt x="20" y="201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7"/>
                      </a:lnTo>
                      <a:lnTo>
                        <a:pt x="34" y="187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54" y="166"/>
                      </a:lnTo>
                      <a:lnTo>
                        <a:pt x="61" y="166"/>
                      </a:lnTo>
                      <a:lnTo>
                        <a:pt x="61" y="166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9"/>
                      </a:lnTo>
                      <a:lnTo>
                        <a:pt x="61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75" y="152"/>
                      </a:lnTo>
                      <a:lnTo>
                        <a:pt x="75" y="152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46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68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75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39"/>
                      </a:lnTo>
                      <a:lnTo>
                        <a:pt x="82" y="146"/>
                      </a:lnTo>
                      <a:lnTo>
                        <a:pt x="82" y="146"/>
                      </a:lnTo>
                      <a:lnTo>
                        <a:pt x="89" y="146"/>
                      </a:lnTo>
                      <a:lnTo>
                        <a:pt x="89" y="146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89" y="152"/>
                      </a:lnTo>
                      <a:lnTo>
                        <a:pt x="96" y="152"/>
                      </a:lnTo>
                      <a:lnTo>
                        <a:pt x="96" y="152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59"/>
                      </a:lnTo>
                      <a:lnTo>
                        <a:pt x="96" y="166"/>
                      </a:lnTo>
                      <a:lnTo>
                        <a:pt x="102" y="166"/>
                      </a:lnTo>
                      <a:lnTo>
                        <a:pt x="102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96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0"/>
                      </a:lnTo>
                      <a:lnTo>
                        <a:pt x="102" y="187"/>
                      </a:lnTo>
                      <a:lnTo>
                        <a:pt x="102" y="187"/>
                      </a:lnTo>
                      <a:lnTo>
                        <a:pt x="109" y="187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09" y="194"/>
                      </a:lnTo>
                      <a:lnTo>
                        <a:pt x="116" y="194"/>
                      </a:lnTo>
                      <a:lnTo>
                        <a:pt x="116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23" y="201"/>
                      </a:lnTo>
                      <a:lnTo>
                        <a:pt x="123" y="194"/>
                      </a:lnTo>
                      <a:lnTo>
                        <a:pt x="123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8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44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201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7" y="194"/>
                      </a:lnTo>
                      <a:lnTo>
                        <a:pt x="157" y="187"/>
                      </a:lnTo>
                      <a:lnTo>
                        <a:pt x="157" y="187"/>
                      </a:lnTo>
                      <a:lnTo>
                        <a:pt x="157" y="194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7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1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78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80"/>
                      </a:lnTo>
                      <a:lnTo>
                        <a:pt x="185" y="173"/>
                      </a:lnTo>
                      <a:lnTo>
                        <a:pt x="185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73"/>
                      </a:lnTo>
                      <a:lnTo>
                        <a:pt x="192" y="180"/>
                      </a:lnTo>
                      <a:lnTo>
                        <a:pt x="192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199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80"/>
                      </a:lnTo>
                      <a:lnTo>
                        <a:pt x="205" y="173"/>
                      </a:lnTo>
                      <a:lnTo>
                        <a:pt x="205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73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66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2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19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9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26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52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46"/>
                      </a:lnTo>
                      <a:lnTo>
                        <a:pt x="233" y="139"/>
                      </a:lnTo>
                      <a:lnTo>
                        <a:pt x="240" y="139"/>
                      </a:lnTo>
                      <a:lnTo>
                        <a:pt x="240" y="139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0" y="132"/>
                      </a:lnTo>
                      <a:lnTo>
                        <a:pt x="247" y="132"/>
                      </a:lnTo>
                      <a:lnTo>
                        <a:pt x="247" y="125"/>
                      </a:lnTo>
                      <a:lnTo>
                        <a:pt x="247" y="125"/>
                      </a:lnTo>
                      <a:lnTo>
                        <a:pt x="240" y="125"/>
                      </a:lnTo>
                      <a:lnTo>
                        <a:pt x="240" y="125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0" y="118"/>
                      </a:lnTo>
                      <a:lnTo>
                        <a:pt x="247" y="118"/>
                      </a:lnTo>
                      <a:lnTo>
                        <a:pt x="247" y="118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7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11"/>
                      </a:lnTo>
                      <a:lnTo>
                        <a:pt x="240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104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7"/>
                      </a:lnTo>
                      <a:lnTo>
                        <a:pt x="233" y="90"/>
                      </a:lnTo>
                      <a:lnTo>
                        <a:pt x="233" y="90"/>
                      </a:lnTo>
                      <a:lnTo>
                        <a:pt x="226" y="90"/>
                      </a:lnTo>
                      <a:lnTo>
                        <a:pt x="233" y="90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33" y="83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0" y="76"/>
                      </a:lnTo>
                      <a:lnTo>
                        <a:pt x="247" y="76"/>
                      </a:lnTo>
                      <a:lnTo>
                        <a:pt x="247" y="76"/>
                      </a:lnTo>
                      <a:lnTo>
                        <a:pt x="247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54" y="69"/>
                      </a:lnTo>
                      <a:lnTo>
                        <a:pt x="260" y="69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0" y="62"/>
                      </a:lnTo>
                      <a:lnTo>
                        <a:pt x="267" y="62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67" y="69"/>
                      </a:lnTo>
                      <a:lnTo>
                        <a:pt x="274" y="69"/>
                      </a:lnTo>
                      <a:lnTo>
                        <a:pt x="274" y="69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74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1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88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295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76"/>
                      </a:lnTo>
                      <a:lnTo>
                        <a:pt x="302" y="83"/>
                      </a:lnTo>
                      <a:lnTo>
                        <a:pt x="302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08" y="83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0"/>
                      </a:lnTo>
                      <a:lnTo>
                        <a:pt x="315" y="97"/>
                      </a:lnTo>
                      <a:lnTo>
                        <a:pt x="315" y="97"/>
                      </a:lnTo>
                      <a:lnTo>
                        <a:pt x="322" y="97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90"/>
                      </a:lnTo>
                      <a:lnTo>
                        <a:pt x="322" y="83"/>
                      </a:lnTo>
                      <a:lnTo>
                        <a:pt x="329" y="83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29" y="90"/>
                      </a:lnTo>
                      <a:lnTo>
                        <a:pt x="336" y="83"/>
                      </a:lnTo>
                      <a:lnTo>
                        <a:pt x="336" y="90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36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43" y="83"/>
                      </a:lnTo>
                      <a:lnTo>
                        <a:pt x="350" y="83"/>
                      </a:lnTo>
                      <a:lnTo>
                        <a:pt x="350" y="83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0" y="76"/>
                      </a:lnTo>
                      <a:lnTo>
                        <a:pt x="357" y="76"/>
                      </a:lnTo>
                      <a:lnTo>
                        <a:pt x="357" y="76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57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63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0" y="69"/>
                      </a:lnTo>
                      <a:lnTo>
                        <a:pt x="377" y="69"/>
                      </a:lnTo>
                      <a:lnTo>
                        <a:pt x="377" y="69"/>
                      </a:lnTo>
                      <a:lnTo>
                        <a:pt x="377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84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1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398" y="62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55"/>
                      </a:lnTo>
                      <a:lnTo>
                        <a:pt x="405" y="48"/>
                      </a:lnTo>
                      <a:lnTo>
                        <a:pt x="405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8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1" y="42"/>
                      </a:lnTo>
                      <a:lnTo>
                        <a:pt x="418" y="42"/>
                      </a:lnTo>
                      <a:lnTo>
                        <a:pt x="418" y="42"/>
                      </a:lnTo>
                      <a:lnTo>
                        <a:pt x="418" y="35"/>
                      </a:lnTo>
                      <a:lnTo>
                        <a:pt x="418" y="35"/>
                      </a:lnTo>
                      <a:lnTo>
                        <a:pt x="425" y="35"/>
                      </a:lnTo>
                      <a:lnTo>
                        <a:pt x="425" y="42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35"/>
                      </a:lnTo>
                      <a:lnTo>
                        <a:pt x="425" y="28"/>
                      </a:lnTo>
                      <a:lnTo>
                        <a:pt x="425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2" y="28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21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14"/>
                      </a:lnTo>
                      <a:lnTo>
                        <a:pt x="439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46" y="21"/>
                      </a:lnTo>
                      <a:lnTo>
                        <a:pt x="453" y="21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53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14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0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1"/>
                      </a:lnTo>
                      <a:lnTo>
                        <a:pt x="466" y="28"/>
                      </a:lnTo>
                      <a:lnTo>
                        <a:pt x="466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73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28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2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87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48"/>
                      </a:lnTo>
                      <a:lnTo>
                        <a:pt x="494" y="55"/>
                      </a:lnTo>
                      <a:lnTo>
                        <a:pt x="494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55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2"/>
                      </a:lnTo>
                      <a:lnTo>
                        <a:pt x="501" y="62"/>
                      </a:lnTo>
                      <a:lnTo>
                        <a:pt x="501" y="62"/>
                      </a:lnTo>
                      <a:lnTo>
                        <a:pt x="494" y="62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69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94" y="76"/>
                      </a:lnTo>
                      <a:lnTo>
                        <a:pt x="487" y="76"/>
                      </a:lnTo>
                      <a:lnTo>
                        <a:pt x="487" y="83"/>
                      </a:lnTo>
                      <a:lnTo>
                        <a:pt x="494" y="76"/>
                      </a:lnTo>
                      <a:lnTo>
                        <a:pt x="494" y="76"/>
                      </a:lnTo>
                      <a:lnTo>
                        <a:pt x="494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1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83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08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14" y="76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69"/>
                      </a:lnTo>
                      <a:lnTo>
                        <a:pt x="521" y="76"/>
                      </a:lnTo>
                      <a:lnTo>
                        <a:pt x="521" y="76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9"/>
                      </a:lnTo>
                      <a:lnTo>
                        <a:pt x="528" y="62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55"/>
                      </a:lnTo>
                      <a:lnTo>
                        <a:pt x="528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35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2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49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42"/>
                      </a:lnTo>
                      <a:lnTo>
                        <a:pt x="562" y="35"/>
                      </a:lnTo>
                      <a:lnTo>
                        <a:pt x="562" y="35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2" y="28"/>
                      </a:lnTo>
                      <a:lnTo>
                        <a:pt x="569" y="28"/>
                      </a:lnTo>
                      <a:lnTo>
                        <a:pt x="569" y="28"/>
                      </a:lnTo>
                      <a:lnTo>
                        <a:pt x="576" y="28"/>
                      </a:lnTo>
                      <a:lnTo>
                        <a:pt x="576" y="21"/>
                      </a:lnTo>
                      <a:lnTo>
                        <a:pt x="583" y="28"/>
                      </a:lnTo>
                      <a:lnTo>
                        <a:pt x="583" y="28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21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83" y="14"/>
                      </a:lnTo>
                      <a:lnTo>
                        <a:pt x="590" y="14"/>
                      </a:lnTo>
                      <a:lnTo>
                        <a:pt x="590" y="14"/>
                      </a:lnTo>
                      <a:lnTo>
                        <a:pt x="590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04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7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17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24" y="14"/>
                      </a:lnTo>
                      <a:lnTo>
                        <a:pt x="631" y="14"/>
                      </a:lnTo>
                      <a:lnTo>
                        <a:pt x="631" y="21"/>
                      </a:lnTo>
                      <a:lnTo>
                        <a:pt x="631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38" y="21"/>
                      </a:lnTo>
                      <a:lnTo>
                        <a:pt x="645" y="21"/>
                      </a:lnTo>
                      <a:lnTo>
                        <a:pt x="645" y="21"/>
                      </a:lnTo>
                      <a:lnTo>
                        <a:pt x="645" y="28"/>
                      </a:lnTo>
                      <a:lnTo>
                        <a:pt x="645" y="28"/>
                      </a:lnTo>
                      <a:lnTo>
                        <a:pt x="645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2" y="21"/>
                      </a:lnTo>
                      <a:lnTo>
                        <a:pt x="659" y="21"/>
                      </a:lnTo>
                      <a:lnTo>
                        <a:pt x="659" y="21"/>
                      </a:lnTo>
                      <a:lnTo>
                        <a:pt x="659" y="28"/>
                      </a:lnTo>
                      <a:lnTo>
                        <a:pt x="659" y="28"/>
                      </a:lnTo>
                      <a:lnTo>
                        <a:pt x="665" y="28"/>
                      </a:lnTo>
                      <a:lnTo>
                        <a:pt x="665" y="28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35"/>
                      </a:lnTo>
                      <a:lnTo>
                        <a:pt x="665" y="42"/>
                      </a:lnTo>
                      <a:lnTo>
                        <a:pt x="665" y="42"/>
                      </a:lnTo>
                      <a:lnTo>
                        <a:pt x="672" y="42"/>
                      </a:lnTo>
                      <a:lnTo>
                        <a:pt x="672" y="42"/>
                      </a:lnTo>
                      <a:lnTo>
                        <a:pt x="672" y="35"/>
                      </a:lnTo>
                      <a:lnTo>
                        <a:pt x="672" y="35"/>
                      </a:lnTo>
                      <a:lnTo>
                        <a:pt x="672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79" y="28"/>
                      </a:lnTo>
                      <a:lnTo>
                        <a:pt x="686" y="28"/>
                      </a:lnTo>
                      <a:lnTo>
                        <a:pt x="686" y="28"/>
                      </a:lnTo>
                      <a:lnTo>
                        <a:pt x="686" y="35"/>
                      </a:lnTo>
                      <a:lnTo>
                        <a:pt x="686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35"/>
                      </a:lnTo>
                      <a:lnTo>
                        <a:pt x="679" y="42"/>
                      </a:lnTo>
                      <a:lnTo>
                        <a:pt x="679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2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48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55"/>
                      </a:lnTo>
                      <a:lnTo>
                        <a:pt x="700" y="62"/>
                      </a:lnTo>
                      <a:lnTo>
                        <a:pt x="700" y="69"/>
                      </a:lnTo>
                      <a:lnTo>
                        <a:pt x="707" y="69"/>
                      </a:lnTo>
                      <a:lnTo>
                        <a:pt x="707" y="69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07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14" y="76"/>
                      </a:lnTo>
                      <a:lnTo>
                        <a:pt x="720" y="76"/>
                      </a:lnTo>
                      <a:lnTo>
                        <a:pt x="720" y="76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83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0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7" y="97"/>
                      </a:lnTo>
                      <a:lnTo>
                        <a:pt x="727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97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04"/>
                      </a:lnTo>
                      <a:lnTo>
                        <a:pt x="720" y="111"/>
                      </a:lnTo>
                      <a:lnTo>
                        <a:pt x="720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1"/>
                      </a:lnTo>
                      <a:lnTo>
                        <a:pt x="727" y="118"/>
                      </a:lnTo>
                      <a:lnTo>
                        <a:pt x="727" y="118"/>
                      </a:lnTo>
                      <a:lnTo>
                        <a:pt x="720" y="118"/>
                      </a:lnTo>
                      <a:lnTo>
                        <a:pt x="727" y="118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27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34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25"/>
                      </a:lnTo>
                      <a:lnTo>
                        <a:pt x="741" y="132"/>
                      </a:lnTo>
                      <a:lnTo>
                        <a:pt x="741" y="132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39"/>
                      </a:lnTo>
                      <a:lnTo>
                        <a:pt x="741" y="146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8" y="152"/>
                      </a:lnTo>
                      <a:lnTo>
                        <a:pt x="741" y="152"/>
                      </a:lnTo>
                      <a:lnTo>
                        <a:pt x="741" y="152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41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34" y="159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66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73"/>
                      </a:lnTo>
                      <a:lnTo>
                        <a:pt x="741" y="187"/>
                      </a:lnTo>
                      <a:lnTo>
                        <a:pt x="727" y="187"/>
                      </a:lnTo>
                      <a:lnTo>
                        <a:pt x="727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20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14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87"/>
                      </a:lnTo>
                      <a:lnTo>
                        <a:pt x="707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194"/>
                      </a:lnTo>
                      <a:lnTo>
                        <a:pt x="700" y="194"/>
                      </a:lnTo>
                      <a:lnTo>
                        <a:pt x="707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0" y="201"/>
                      </a:lnTo>
                      <a:lnTo>
                        <a:pt x="707" y="201"/>
                      </a:lnTo>
                      <a:lnTo>
                        <a:pt x="707" y="201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07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08"/>
                      </a:lnTo>
                      <a:lnTo>
                        <a:pt x="714" y="208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14" y="215"/>
                      </a:lnTo>
                      <a:lnTo>
                        <a:pt x="720" y="215"/>
                      </a:lnTo>
                      <a:lnTo>
                        <a:pt x="720" y="215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14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2"/>
                      </a:lnTo>
                      <a:lnTo>
                        <a:pt x="720" y="229"/>
                      </a:lnTo>
                      <a:lnTo>
                        <a:pt x="720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29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7" y="236"/>
                      </a:lnTo>
                      <a:lnTo>
                        <a:pt x="720" y="236"/>
                      </a:lnTo>
                      <a:lnTo>
                        <a:pt x="727" y="236"/>
                      </a:lnTo>
                      <a:lnTo>
                        <a:pt x="720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50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27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43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34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0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1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48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55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2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68" y="257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75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82" y="250"/>
                      </a:lnTo>
                      <a:lnTo>
                        <a:pt x="775" y="257"/>
                      </a:lnTo>
                      <a:lnTo>
                        <a:pt x="775" y="257"/>
                      </a:lnTo>
                      <a:lnTo>
                        <a:pt x="768" y="270"/>
                      </a:lnTo>
                      <a:lnTo>
                        <a:pt x="762" y="270"/>
                      </a:lnTo>
                      <a:lnTo>
                        <a:pt x="762" y="284"/>
                      </a:lnTo>
                      <a:lnTo>
                        <a:pt x="755" y="291"/>
                      </a:lnTo>
                      <a:lnTo>
                        <a:pt x="755" y="291"/>
                      </a:lnTo>
                      <a:lnTo>
                        <a:pt x="755" y="298"/>
                      </a:lnTo>
                      <a:lnTo>
                        <a:pt x="755" y="298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8" y="305"/>
                      </a:lnTo>
                      <a:lnTo>
                        <a:pt x="741" y="312"/>
                      </a:lnTo>
                      <a:lnTo>
                        <a:pt x="741" y="319"/>
                      </a:lnTo>
                      <a:lnTo>
                        <a:pt x="741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26"/>
                      </a:lnTo>
                      <a:lnTo>
                        <a:pt x="734" y="333"/>
                      </a:lnTo>
                      <a:lnTo>
                        <a:pt x="734" y="333"/>
                      </a:lnTo>
                      <a:lnTo>
                        <a:pt x="727" y="333"/>
                      </a:lnTo>
                      <a:lnTo>
                        <a:pt x="727" y="34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94160" y="4150800"/>
                  <a:ext cx="777960" cy="578880"/>
                </a:xfrm>
                <a:custGeom>
                  <a:avLst/>
                  <a:gdLst/>
                  <a:ahLst/>
                  <a:rect l="l" t="t" r="r" b="b"/>
                  <a:pathLst>
                    <a:path w="618" h="492">
                      <a:moveTo>
                        <a:pt x="618" y="0"/>
                      </a:move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8" y="0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05" y="14"/>
                      </a:lnTo>
                      <a:lnTo>
                        <a:pt x="605" y="14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1"/>
                      </a:lnTo>
                      <a:lnTo>
                        <a:pt x="598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28"/>
                      </a:lnTo>
                      <a:lnTo>
                        <a:pt x="591" y="34"/>
                      </a:lnTo>
                      <a:lnTo>
                        <a:pt x="591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84" y="34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7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70" y="41"/>
                      </a:lnTo>
                      <a:lnTo>
                        <a:pt x="563" y="41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70" y="34"/>
                      </a:lnTo>
                      <a:lnTo>
                        <a:pt x="563" y="34"/>
                      </a:lnTo>
                      <a:lnTo>
                        <a:pt x="563" y="34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63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1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6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48"/>
                      </a:lnTo>
                      <a:lnTo>
                        <a:pt x="550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43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55"/>
                      </a:lnTo>
                      <a:lnTo>
                        <a:pt x="536" y="62"/>
                      </a:lnTo>
                      <a:lnTo>
                        <a:pt x="536" y="62"/>
                      </a:lnTo>
                      <a:lnTo>
                        <a:pt x="536" y="69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69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36" y="76"/>
                      </a:lnTo>
                      <a:lnTo>
                        <a:pt x="543" y="76"/>
                      </a:lnTo>
                      <a:lnTo>
                        <a:pt x="543" y="76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36" y="90"/>
                      </a:lnTo>
                      <a:lnTo>
                        <a:pt x="543" y="90"/>
                      </a:lnTo>
                      <a:lnTo>
                        <a:pt x="543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36" y="97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04"/>
                      </a:lnTo>
                      <a:lnTo>
                        <a:pt x="529" y="111"/>
                      </a:lnTo>
                      <a:lnTo>
                        <a:pt x="536" y="111"/>
                      </a:lnTo>
                      <a:lnTo>
                        <a:pt x="536" y="111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18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25"/>
                      </a:lnTo>
                      <a:lnTo>
                        <a:pt x="536" y="132"/>
                      </a:lnTo>
                      <a:lnTo>
                        <a:pt x="536" y="132"/>
                      </a:lnTo>
                      <a:lnTo>
                        <a:pt x="536" y="139"/>
                      </a:lnTo>
                      <a:lnTo>
                        <a:pt x="536" y="139"/>
                      </a:lnTo>
                      <a:lnTo>
                        <a:pt x="529" y="139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29" y="145"/>
                      </a:lnTo>
                      <a:lnTo>
                        <a:pt x="536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2"/>
                      </a:lnTo>
                      <a:lnTo>
                        <a:pt x="529" y="159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66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9" y="173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7"/>
                      </a:lnTo>
                      <a:lnTo>
                        <a:pt x="522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87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194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1"/>
                      </a:lnTo>
                      <a:lnTo>
                        <a:pt x="529" y="208"/>
                      </a:lnTo>
                      <a:lnTo>
                        <a:pt x="529" y="208"/>
                      </a:lnTo>
                      <a:lnTo>
                        <a:pt x="529" y="215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29"/>
                      </a:lnTo>
                      <a:lnTo>
                        <a:pt x="529" y="236"/>
                      </a:lnTo>
                      <a:lnTo>
                        <a:pt x="529" y="236"/>
                      </a:lnTo>
                      <a:lnTo>
                        <a:pt x="536" y="243"/>
                      </a:lnTo>
                      <a:lnTo>
                        <a:pt x="536" y="250"/>
                      </a:lnTo>
                      <a:lnTo>
                        <a:pt x="536" y="250"/>
                      </a:lnTo>
                      <a:lnTo>
                        <a:pt x="536" y="256"/>
                      </a:lnTo>
                      <a:lnTo>
                        <a:pt x="536" y="256"/>
                      </a:lnTo>
                      <a:lnTo>
                        <a:pt x="536" y="263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0"/>
                      </a:lnTo>
                      <a:lnTo>
                        <a:pt x="536" y="277"/>
                      </a:lnTo>
                      <a:lnTo>
                        <a:pt x="543" y="277"/>
                      </a:lnTo>
                      <a:lnTo>
                        <a:pt x="543" y="277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43" y="284"/>
                      </a:lnTo>
                      <a:lnTo>
                        <a:pt x="536" y="291"/>
                      </a:lnTo>
                      <a:lnTo>
                        <a:pt x="536" y="298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05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36" y="312"/>
                      </a:lnTo>
                      <a:lnTo>
                        <a:pt x="529" y="312"/>
                      </a:lnTo>
                      <a:lnTo>
                        <a:pt x="529" y="312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19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26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9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33"/>
                      </a:lnTo>
                      <a:lnTo>
                        <a:pt x="522" y="340"/>
                      </a:lnTo>
                      <a:lnTo>
                        <a:pt x="522" y="340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47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54"/>
                      </a:lnTo>
                      <a:lnTo>
                        <a:pt x="522" y="361"/>
                      </a:lnTo>
                      <a:lnTo>
                        <a:pt x="515" y="354"/>
                      </a:lnTo>
                      <a:lnTo>
                        <a:pt x="515" y="361"/>
                      </a:lnTo>
                      <a:lnTo>
                        <a:pt x="515" y="361"/>
                      </a:lnTo>
                      <a:lnTo>
                        <a:pt x="515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22" y="367"/>
                      </a:lnTo>
                      <a:lnTo>
                        <a:pt x="515" y="374"/>
                      </a:lnTo>
                      <a:lnTo>
                        <a:pt x="515" y="374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1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88"/>
                      </a:lnTo>
                      <a:lnTo>
                        <a:pt x="515" y="395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2"/>
                      </a:lnTo>
                      <a:lnTo>
                        <a:pt x="515" y="409"/>
                      </a:lnTo>
                      <a:lnTo>
                        <a:pt x="515" y="409"/>
                      </a:lnTo>
                      <a:lnTo>
                        <a:pt x="515" y="416"/>
                      </a:lnTo>
                      <a:lnTo>
                        <a:pt x="515" y="416"/>
                      </a:lnTo>
                      <a:lnTo>
                        <a:pt x="515" y="423"/>
                      </a:lnTo>
                      <a:lnTo>
                        <a:pt x="515" y="423"/>
                      </a:lnTo>
                      <a:lnTo>
                        <a:pt x="515" y="430"/>
                      </a:lnTo>
                      <a:lnTo>
                        <a:pt x="515" y="430"/>
                      </a:lnTo>
                      <a:lnTo>
                        <a:pt x="515" y="437"/>
                      </a:lnTo>
                      <a:lnTo>
                        <a:pt x="522" y="437"/>
                      </a:lnTo>
                      <a:lnTo>
                        <a:pt x="515" y="437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15" y="444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8" y="451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502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95" y="458"/>
                      </a:lnTo>
                      <a:lnTo>
                        <a:pt x="488" y="458"/>
                      </a:lnTo>
                      <a:lnTo>
                        <a:pt x="488" y="465"/>
                      </a:lnTo>
                      <a:lnTo>
                        <a:pt x="488" y="465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2"/>
                      </a:lnTo>
                      <a:lnTo>
                        <a:pt x="481" y="478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85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74" y="492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53" y="478"/>
                      </a:lnTo>
                      <a:lnTo>
                        <a:pt x="440" y="472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26" y="458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33" y="451"/>
                      </a:lnTo>
                      <a:lnTo>
                        <a:pt x="426" y="451"/>
                      </a:lnTo>
                      <a:lnTo>
                        <a:pt x="426" y="451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44"/>
                      </a:lnTo>
                      <a:lnTo>
                        <a:pt x="426" y="437"/>
                      </a:lnTo>
                      <a:lnTo>
                        <a:pt x="426" y="444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7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9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30"/>
                      </a:lnTo>
                      <a:lnTo>
                        <a:pt x="412" y="423"/>
                      </a:lnTo>
                      <a:lnTo>
                        <a:pt x="412" y="423"/>
                      </a:lnTo>
                      <a:lnTo>
                        <a:pt x="405" y="430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23"/>
                      </a:lnTo>
                      <a:lnTo>
                        <a:pt x="405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9" y="416"/>
                      </a:lnTo>
                      <a:lnTo>
                        <a:pt x="392" y="416"/>
                      </a:lnTo>
                      <a:lnTo>
                        <a:pt x="392" y="416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2" y="409"/>
                      </a:lnTo>
                      <a:lnTo>
                        <a:pt x="392" y="409"/>
                      </a:lnTo>
                      <a:lnTo>
                        <a:pt x="399" y="409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402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95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8"/>
                      </a:lnTo>
                      <a:lnTo>
                        <a:pt x="399" y="381"/>
                      </a:lnTo>
                      <a:lnTo>
                        <a:pt x="399" y="381"/>
                      </a:lnTo>
                      <a:lnTo>
                        <a:pt x="399" y="374"/>
                      </a:lnTo>
                      <a:lnTo>
                        <a:pt x="399" y="374"/>
                      </a:lnTo>
                      <a:lnTo>
                        <a:pt x="405" y="374"/>
                      </a:lnTo>
                      <a:lnTo>
                        <a:pt x="405" y="374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05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2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74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19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7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26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61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54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19" y="347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26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40"/>
                      </a:lnTo>
                      <a:lnTo>
                        <a:pt x="433" y="333"/>
                      </a:lnTo>
                      <a:lnTo>
                        <a:pt x="433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33"/>
                      </a:lnTo>
                      <a:lnTo>
                        <a:pt x="440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26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47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9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12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53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60" y="305"/>
                      </a:lnTo>
                      <a:lnTo>
                        <a:pt x="453" y="305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8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53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7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91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40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33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84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26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9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12" y="277"/>
                      </a:lnTo>
                      <a:lnTo>
                        <a:pt x="405" y="270"/>
                      </a:lnTo>
                      <a:lnTo>
                        <a:pt x="405" y="270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405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7"/>
                      </a:lnTo>
                      <a:lnTo>
                        <a:pt x="399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92" y="270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63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85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70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63"/>
                      </a:lnTo>
                      <a:lnTo>
                        <a:pt x="378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70"/>
                      </a:lnTo>
                      <a:lnTo>
                        <a:pt x="371" y="263"/>
                      </a:lnTo>
                      <a:lnTo>
                        <a:pt x="371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63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64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7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51" y="277"/>
                      </a:lnTo>
                      <a:lnTo>
                        <a:pt x="351" y="270"/>
                      </a:lnTo>
                      <a:lnTo>
                        <a:pt x="351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44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7" y="270"/>
                      </a:lnTo>
                      <a:lnTo>
                        <a:pt x="330" y="270"/>
                      </a:lnTo>
                      <a:lnTo>
                        <a:pt x="330" y="263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30" y="250"/>
                      </a:lnTo>
                      <a:lnTo>
                        <a:pt x="323" y="243"/>
                      </a:lnTo>
                      <a:lnTo>
                        <a:pt x="316" y="236"/>
                      </a:lnTo>
                      <a:lnTo>
                        <a:pt x="296" y="215"/>
                      </a:lnTo>
                      <a:lnTo>
                        <a:pt x="296" y="215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9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82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75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61" y="215"/>
                      </a:lnTo>
                      <a:lnTo>
                        <a:pt x="254" y="215"/>
                      </a:lnTo>
                      <a:lnTo>
                        <a:pt x="254" y="215"/>
                      </a:lnTo>
                      <a:lnTo>
                        <a:pt x="254" y="222"/>
                      </a:lnTo>
                      <a:lnTo>
                        <a:pt x="254" y="222"/>
                      </a:lnTo>
                      <a:lnTo>
                        <a:pt x="254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41" y="215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34" y="208"/>
                      </a:lnTo>
                      <a:lnTo>
                        <a:pt x="227" y="208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1"/>
                      </a:lnTo>
                      <a:lnTo>
                        <a:pt x="227" y="208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20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201"/>
                      </a:lnTo>
                      <a:lnTo>
                        <a:pt x="213" y="194"/>
                      </a:lnTo>
                      <a:lnTo>
                        <a:pt x="213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94"/>
                      </a:lnTo>
                      <a:lnTo>
                        <a:pt x="206" y="187"/>
                      </a:lnTo>
                      <a:lnTo>
                        <a:pt x="206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9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7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93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86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9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72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65" y="180"/>
                      </a:lnTo>
                      <a:lnTo>
                        <a:pt x="158" y="180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8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87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51" y="194"/>
                      </a:lnTo>
                      <a:lnTo>
                        <a:pt x="145" y="194"/>
                      </a:lnTo>
                      <a:lnTo>
                        <a:pt x="145" y="194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45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8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7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31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80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73"/>
                      </a:lnTo>
                      <a:lnTo>
                        <a:pt x="117" y="166"/>
                      </a:lnTo>
                      <a:lnTo>
                        <a:pt x="124" y="166"/>
                      </a:lnTo>
                      <a:lnTo>
                        <a:pt x="124" y="166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9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24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7" y="152"/>
                      </a:lnTo>
                      <a:lnTo>
                        <a:pt x="110" y="152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52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10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103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6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90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83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76" y="145"/>
                      </a:lnTo>
                      <a:lnTo>
                        <a:pt x="69" y="145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9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62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59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8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42" y="166"/>
                      </a:lnTo>
                      <a:lnTo>
                        <a:pt x="35" y="166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66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73"/>
                      </a:lnTo>
                      <a:lnTo>
                        <a:pt x="35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8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0"/>
                      </a:lnTo>
                      <a:lnTo>
                        <a:pt x="21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14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7" y="187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157000" y="4028400"/>
                  <a:ext cx="137160" cy="391680"/>
                </a:xfrm>
                <a:custGeom>
                  <a:avLst/>
                  <a:gdLst/>
                  <a:ahLst/>
                  <a:rect l="l" t="t" r="r" b="b"/>
                  <a:pathLst>
                    <a:path w="109" h="333">
                      <a:moveTo>
                        <a:pt x="109" y="298"/>
                      </a:move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9" y="298"/>
                      </a:lnTo>
                      <a:lnTo>
                        <a:pt x="102" y="298"/>
                      </a:lnTo>
                      <a:lnTo>
                        <a:pt x="102" y="298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102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05"/>
                      </a:lnTo>
                      <a:lnTo>
                        <a:pt x="96" y="312"/>
                      </a:lnTo>
                      <a:lnTo>
                        <a:pt x="96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12"/>
                      </a:lnTo>
                      <a:lnTo>
                        <a:pt x="89" y="305"/>
                      </a:lnTo>
                      <a:lnTo>
                        <a:pt x="89" y="305"/>
                      </a:lnTo>
                      <a:lnTo>
                        <a:pt x="89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2"/>
                      </a:lnTo>
                      <a:lnTo>
                        <a:pt x="82" y="319"/>
                      </a:lnTo>
                      <a:lnTo>
                        <a:pt x="82" y="312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75" y="319"/>
                      </a:lnTo>
                      <a:lnTo>
                        <a:pt x="68" y="319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8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61" y="326"/>
                      </a:lnTo>
                      <a:lnTo>
                        <a:pt x="54" y="326"/>
                      </a:lnTo>
                      <a:lnTo>
                        <a:pt x="54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26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8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33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1" y="326"/>
                      </a:lnTo>
                      <a:lnTo>
                        <a:pt x="48" y="326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9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12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8" y="305"/>
                      </a:lnTo>
                      <a:lnTo>
                        <a:pt x="41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8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91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84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70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48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63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56"/>
                      </a:lnTo>
                      <a:lnTo>
                        <a:pt x="54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8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9"/>
                      </a:lnTo>
                      <a:lnTo>
                        <a:pt x="41" y="249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41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43"/>
                      </a:lnTo>
                      <a:lnTo>
                        <a:pt x="34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36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9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22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8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201"/>
                      </a:lnTo>
                      <a:lnTo>
                        <a:pt x="27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34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94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27" y="187"/>
                      </a:lnTo>
                      <a:lnTo>
                        <a:pt x="34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27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80"/>
                      </a:lnTo>
                      <a:lnTo>
                        <a:pt x="34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73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41" y="166"/>
                      </a:lnTo>
                      <a:lnTo>
                        <a:pt x="34" y="173"/>
                      </a:lnTo>
                      <a:lnTo>
                        <a:pt x="34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7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73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66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9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52"/>
                      </a:lnTo>
                      <a:lnTo>
                        <a:pt x="20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27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45"/>
                      </a:lnTo>
                      <a:lnTo>
                        <a:pt x="34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41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34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7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8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0" y="118"/>
                      </a:lnTo>
                      <a:lnTo>
                        <a:pt x="27" y="118"/>
                      </a:lnTo>
                      <a:lnTo>
                        <a:pt x="27" y="118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0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11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104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34" y="97"/>
                      </a:lnTo>
                      <a:lnTo>
                        <a:pt x="27" y="104"/>
                      </a:lnTo>
                      <a:lnTo>
                        <a:pt x="27" y="104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7" y="97"/>
                      </a:lnTo>
                      <a:lnTo>
                        <a:pt x="20" y="97"/>
                      </a:lnTo>
                      <a:lnTo>
                        <a:pt x="20" y="97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90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83"/>
                      </a:lnTo>
                      <a:lnTo>
                        <a:pt x="20" y="83"/>
                      </a:lnTo>
                      <a:lnTo>
                        <a:pt x="13" y="83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20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13" y="76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20" y="69"/>
                      </a:lnTo>
                      <a:lnTo>
                        <a:pt x="13" y="69"/>
                      </a:lnTo>
                      <a:lnTo>
                        <a:pt x="13" y="69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13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0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34" y="55"/>
                      </a:lnTo>
                      <a:lnTo>
                        <a:pt x="34" y="55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34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7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13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0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27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41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7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80720" y="4321440"/>
                  <a:ext cx="1192320" cy="865800"/>
                </a:xfrm>
                <a:custGeom>
                  <a:avLst/>
                  <a:gdLst/>
                  <a:ahLst/>
                  <a:rect l="l" t="t" r="r" b="b"/>
                  <a:pathLst>
                    <a:path w="947" h="736">
                      <a:moveTo>
                        <a:pt x="0" y="472"/>
                      </a:moveTo>
                      <a:lnTo>
                        <a:pt x="0" y="472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65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0" y="458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51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7" y="444"/>
                      </a:lnTo>
                      <a:lnTo>
                        <a:pt x="14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20" y="444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14" y="437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31"/>
                      </a:lnTo>
                      <a:lnTo>
                        <a:pt x="20" y="424"/>
                      </a:lnTo>
                      <a:lnTo>
                        <a:pt x="20" y="424"/>
                      </a:lnTo>
                      <a:lnTo>
                        <a:pt x="27" y="424"/>
                      </a:lnTo>
                      <a:lnTo>
                        <a:pt x="27" y="424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27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34" y="417"/>
                      </a:lnTo>
                      <a:lnTo>
                        <a:pt x="41" y="417"/>
                      </a:lnTo>
                      <a:lnTo>
                        <a:pt x="41" y="417"/>
                      </a:lnTo>
                      <a:lnTo>
                        <a:pt x="41" y="410"/>
                      </a:lnTo>
                      <a:lnTo>
                        <a:pt x="41" y="410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8" y="403"/>
                      </a:lnTo>
                      <a:lnTo>
                        <a:pt x="41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48" y="396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55" y="389"/>
                      </a:lnTo>
                      <a:lnTo>
                        <a:pt x="62" y="382"/>
                      </a:lnTo>
                      <a:lnTo>
                        <a:pt x="62" y="382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2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69" y="375"/>
                      </a:lnTo>
                      <a:lnTo>
                        <a:pt x="75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75"/>
                      </a:lnTo>
                      <a:lnTo>
                        <a:pt x="82" y="368"/>
                      </a:lnTo>
                      <a:lnTo>
                        <a:pt x="82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89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96" y="368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68"/>
                      </a:lnTo>
                      <a:lnTo>
                        <a:pt x="103" y="375"/>
                      </a:lnTo>
                      <a:lnTo>
                        <a:pt x="103" y="375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0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17" y="368"/>
                      </a:lnTo>
                      <a:lnTo>
                        <a:pt x="123" y="361"/>
                      </a:lnTo>
                      <a:lnTo>
                        <a:pt x="123" y="368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23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1"/>
                      </a:lnTo>
                      <a:lnTo>
                        <a:pt x="130" y="368"/>
                      </a:lnTo>
                      <a:lnTo>
                        <a:pt x="130" y="368"/>
                      </a:lnTo>
                      <a:lnTo>
                        <a:pt x="137" y="368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75"/>
                      </a:lnTo>
                      <a:lnTo>
                        <a:pt x="137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44" y="368"/>
                      </a:lnTo>
                      <a:lnTo>
                        <a:pt x="151" y="368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1" y="361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58" y="354"/>
                      </a:lnTo>
                      <a:lnTo>
                        <a:pt x="165" y="347"/>
                      </a:lnTo>
                      <a:lnTo>
                        <a:pt x="165" y="347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65" y="354"/>
                      </a:lnTo>
                      <a:lnTo>
                        <a:pt x="172" y="354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2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78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85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2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199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06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13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0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26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33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0" y="347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47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54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54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61"/>
                      </a:lnTo>
                      <a:lnTo>
                        <a:pt x="261" y="354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61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68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75" y="354"/>
                      </a:lnTo>
                      <a:lnTo>
                        <a:pt x="281" y="354"/>
                      </a:lnTo>
                      <a:lnTo>
                        <a:pt x="281" y="354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1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7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88" y="340"/>
                      </a:lnTo>
                      <a:lnTo>
                        <a:pt x="295" y="340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295" y="340"/>
                      </a:lnTo>
                      <a:lnTo>
                        <a:pt x="295" y="333"/>
                      </a:lnTo>
                      <a:lnTo>
                        <a:pt x="295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09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09" y="313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306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09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23" y="292"/>
                      </a:lnTo>
                      <a:lnTo>
                        <a:pt x="316" y="292"/>
                      </a:lnTo>
                      <a:lnTo>
                        <a:pt x="316" y="292"/>
                      </a:lnTo>
                      <a:lnTo>
                        <a:pt x="316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23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9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8"/>
                      </a:lnTo>
                      <a:lnTo>
                        <a:pt x="302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71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295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9" y="264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2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7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16" y="250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36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9" y="229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22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16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23" y="209"/>
                      </a:lnTo>
                      <a:lnTo>
                        <a:pt x="323" y="202"/>
                      </a:lnTo>
                      <a:lnTo>
                        <a:pt x="316" y="209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16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202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9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95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2" y="188"/>
                      </a:lnTo>
                      <a:lnTo>
                        <a:pt x="309" y="188"/>
                      </a:lnTo>
                      <a:lnTo>
                        <a:pt x="302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09" y="174"/>
                      </a:lnTo>
                      <a:lnTo>
                        <a:pt x="316" y="174"/>
                      </a:lnTo>
                      <a:lnTo>
                        <a:pt x="316" y="174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7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53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3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39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29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36" y="146"/>
                      </a:lnTo>
                      <a:lnTo>
                        <a:pt x="343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9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0" y="118"/>
                      </a:lnTo>
                      <a:lnTo>
                        <a:pt x="350" y="118"/>
                      </a:lnTo>
                      <a:lnTo>
                        <a:pt x="350" y="111"/>
                      </a:lnTo>
                      <a:lnTo>
                        <a:pt x="350" y="111"/>
                      </a:lnTo>
                      <a:lnTo>
                        <a:pt x="343" y="111"/>
                      </a:lnTo>
                      <a:lnTo>
                        <a:pt x="343" y="111"/>
                      </a:lnTo>
                      <a:lnTo>
                        <a:pt x="343" y="105"/>
                      </a:lnTo>
                      <a:lnTo>
                        <a:pt x="350" y="105"/>
                      </a:lnTo>
                      <a:lnTo>
                        <a:pt x="350" y="105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0" y="98"/>
                      </a:lnTo>
                      <a:lnTo>
                        <a:pt x="357" y="98"/>
                      </a:lnTo>
                      <a:lnTo>
                        <a:pt x="350" y="98"/>
                      </a:lnTo>
                      <a:lnTo>
                        <a:pt x="350" y="91"/>
                      </a:lnTo>
                      <a:lnTo>
                        <a:pt x="357" y="91"/>
                      </a:lnTo>
                      <a:lnTo>
                        <a:pt x="357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43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57" y="63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64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1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78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70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84" y="63"/>
                      </a:lnTo>
                      <a:lnTo>
                        <a:pt x="378" y="63"/>
                      </a:lnTo>
                      <a:lnTo>
                        <a:pt x="378" y="63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84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2"/>
                      </a:lnTo>
                      <a:lnTo>
                        <a:pt x="391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49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398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05" y="56"/>
                      </a:lnTo>
                      <a:lnTo>
                        <a:pt x="412" y="56"/>
                      </a:lnTo>
                      <a:lnTo>
                        <a:pt x="412" y="63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2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19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77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19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84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26" y="77"/>
                      </a:lnTo>
                      <a:lnTo>
                        <a:pt x="432" y="77"/>
                      </a:lnTo>
                      <a:lnTo>
                        <a:pt x="432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39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7"/>
                      </a:lnTo>
                      <a:lnTo>
                        <a:pt x="446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53" y="70"/>
                      </a:lnTo>
                      <a:lnTo>
                        <a:pt x="460" y="63"/>
                      </a:lnTo>
                      <a:lnTo>
                        <a:pt x="460" y="70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0" y="63"/>
                      </a:lnTo>
                      <a:lnTo>
                        <a:pt x="467" y="63"/>
                      </a:lnTo>
                      <a:lnTo>
                        <a:pt x="467" y="56"/>
                      </a:lnTo>
                      <a:lnTo>
                        <a:pt x="467" y="56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67" y="63"/>
                      </a:lnTo>
                      <a:lnTo>
                        <a:pt x="474" y="63"/>
                      </a:lnTo>
                      <a:lnTo>
                        <a:pt x="474" y="63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74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56"/>
                      </a:lnTo>
                      <a:lnTo>
                        <a:pt x="480" y="49"/>
                      </a:lnTo>
                      <a:lnTo>
                        <a:pt x="480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87" y="49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494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1" y="42"/>
                      </a:lnTo>
                      <a:lnTo>
                        <a:pt x="508" y="42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08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15" y="35"/>
                      </a:lnTo>
                      <a:lnTo>
                        <a:pt x="522" y="35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8"/>
                      </a:lnTo>
                      <a:lnTo>
                        <a:pt x="522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2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29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21"/>
                      </a:lnTo>
                      <a:lnTo>
                        <a:pt x="535" y="21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35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14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2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49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7"/>
                      </a:lnTo>
                      <a:lnTo>
                        <a:pt x="556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63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0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77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83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0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0"/>
                      </a:lnTo>
                      <a:lnTo>
                        <a:pt x="597" y="7"/>
                      </a:lnTo>
                      <a:lnTo>
                        <a:pt x="597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04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7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14"/>
                      </a:lnTo>
                      <a:lnTo>
                        <a:pt x="611" y="21"/>
                      </a:lnTo>
                      <a:lnTo>
                        <a:pt x="611" y="21"/>
                      </a:lnTo>
                      <a:lnTo>
                        <a:pt x="604" y="21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28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04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1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35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18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25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2"/>
                      </a:lnTo>
                      <a:lnTo>
                        <a:pt x="632" y="49"/>
                      </a:lnTo>
                      <a:lnTo>
                        <a:pt x="632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9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38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42"/>
                      </a:lnTo>
                      <a:lnTo>
                        <a:pt x="645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2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59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66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73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0" y="42"/>
                      </a:lnTo>
                      <a:lnTo>
                        <a:pt x="680" y="35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86" y="42"/>
                      </a:lnTo>
                      <a:lnTo>
                        <a:pt x="693" y="42"/>
                      </a:lnTo>
                      <a:lnTo>
                        <a:pt x="693" y="42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693" y="49"/>
                      </a:lnTo>
                      <a:lnTo>
                        <a:pt x="700" y="49"/>
                      </a:lnTo>
                      <a:lnTo>
                        <a:pt x="700" y="49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0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07" y="56"/>
                      </a:lnTo>
                      <a:lnTo>
                        <a:pt x="714" y="63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56"/>
                      </a:lnTo>
                      <a:lnTo>
                        <a:pt x="714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1" y="63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28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35" y="70"/>
                      </a:lnTo>
                      <a:lnTo>
                        <a:pt x="741" y="70"/>
                      </a:lnTo>
                      <a:lnTo>
                        <a:pt x="741" y="77"/>
                      </a:lnTo>
                      <a:lnTo>
                        <a:pt x="741" y="77"/>
                      </a:lnTo>
                      <a:lnTo>
                        <a:pt x="741" y="70"/>
                      </a:lnTo>
                      <a:lnTo>
                        <a:pt x="741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0"/>
                      </a:lnTo>
                      <a:lnTo>
                        <a:pt x="748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55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2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69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76" y="77"/>
                      </a:lnTo>
                      <a:lnTo>
                        <a:pt x="783" y="70"/>
                      </a:lnTo>
                      <a:lnTo>
                        <a:pt x="783" y="70"/>
                      </a:lnTo>
                      <a:lnTo>
                        <a:pt x="803" y="91"/>
                      </a:lnTo>
                      <a:lnTo>
                        <a:pt x="810" y="98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05"/>
                      </a:lnTo>
                      <a:lnTo>
                        <a:pt x="817" y="118"/>
                      </a:lnTo>
                      <a:lnTo>
                        <a:pt x="817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24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1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32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38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44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25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1" y="118"/>
                      </a:lnTo>
                      <a:lnTo>
                        <a:pt x="858" y="118"/>
                      </a:lnTo>
                      <a:lnTo>
                        <a:pt x="858" y="118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58" y="125"/>
                      </a:lnTo>
                      <a:lnTo>
                        <a:pt x="865" y="125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18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65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25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2" y="118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79" y="125"/>
                      </a:lnTo>
                      <a:lnTo>
                        <a:pt x="886" y="125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86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32"/>
                      </a:lnTo>
                      <a:lnTo>
                        <a:pt x="892" y="125"/>
                      </a:lnTo>
                      <a:lnTo>
                        <a:pt x="892" y="125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899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06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2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13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0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39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27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34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46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53"/>
                      </a:lnTo>
                      <a:lnTo>
                        <a:pt x="940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7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0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67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40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74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34" y="181"/>
                      </a:lnTo>
                      <a:lnTo>
                        <a:pt x="927" y="181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7" y="188"/>
                      </a:lnTo>
                      <a:lnTo>
                        <a:pt x="920" y="188"/>
                      </a:lnTo>
                      <a:lnTo>
                        <a:pt x="920" y="188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20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13" y="195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2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09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06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16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13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9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906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9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2"/>
                      </a:lnTo>
                      <a:lnTo>
                        <a:pt x="892" y="229"/>
                      </a:lnTo>
                      <a:lnTo>
                        <a:pt x="892" y="229"/>
                      </a:lnTo>
                      <a:lnTo>
                        <a:pt x="886" y="229"/>
                      </a:lnTo>
                      <a:lnTo>
                        <a:pt x="886" y="229"/>
                      </a:lnTo>
                      <a:lnTo>
                        <a:pt x="886" y="236"/>
                      </a:lnTo>
                      <a:lnTo>
                        <a:pt x="886" y="236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43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0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57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86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64"/>
                      </a:lnTo>
                      <a:lnTo>
                        <a:pt x="879" y="271"/>
                      </a:lnTo>
                      <a:lnTo>
                        <a:pt x="879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86" y="271"/>
                      </a:lnTo>
                      <a:lnTo>
                        <a:pt x="892" y="271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78"/>
                      </a:lnTo>
                      <a:lnTo>
                        <a:pt x="892" y="285"/>
                      </a:lnTo>
                      <a:lnTo>
                        <a:pt x="899" y="278"/>
                      </a:lnTo>
                      <a:lnTo>
                        <a:pt x="899" y="278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899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85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06" y="292"/>
                      </a:lnTo>
                      <a:lnTo>
                        <a:pt x="913" y="299"/>
                      </a:lnTo>
                      <a:lnTo>
                        <a:pt x="913" y="292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299"/>
                      </a:lnTo>
                      <a:lnTo>
                        <a:pt x="913" y="306"/>
                      </a:lnTo>
                      <a:lnTo>
                        <a:pt x="913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20" y="306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13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906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9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92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86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13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9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72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20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65" y="313"/>
                      </a:lnTo>
                      <a:lnTo>
                        <a:pt x="858" y="320"/>
                      </a:lnTo>
                      <a:lnTo>
                        <a:pt x="858" y="320"/>
                      </a:lnTo>
                      <a:lnTo>
                        <a:pt x="858" y="313"/>
                      </a:lnTo>
                      <a:lnTo>
                        <a:pt x="858" y="320"/>
                      </a:lnTo>
                      <a:lnTo>
                        <a:pt x="865" y="327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65" y="333"/>
                      </a:lnTo>
                      <a:lnTo>
                        <a:pt x="858" y="333"/>
                      </a:lnTo>
                      <a:lnTo>
                        <a:pt x="858" y="333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8" y="327"/>
                      </a:lnTo>
                      <a:lnTo>
                        <a:pt x="851" y="333"/>
                      </a:lnTo>
                      <a:lnTo>
                        <a:pt x="851" y="327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51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44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33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0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47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8" y="354"/>
                      </a:lnTo>
                      <a:lnTo>
                        <a:pt x="831" y="354"/>
                      </a:lnTo>
                      <a:lnTo>
                        <a:pt x="831" y="354"/>
                      </a:lnTo>
                      <a:lnTo>
                        <a:pt x="838" y="354"/>
                      </a:lnTo>
                      <a:lnTo>
                        <a:pt x="844" y="354"/>
                      </a:lnTo>
                      <a:lnTo>
                        <a:pt x="844" y="354"/>
                      </a:lnTo>
                      <a:lnTo>
                        <a:pt x="844" y="361"/>
                      </a:lnTo>
                      <a:lnTo>
                        <a:pt x="844" y="361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68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44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75"/>
                      </a:lnTo>
                      <a:lnTo>
                        <a:pt x="851" y="382"/>
                      </a:lnTo>
                      <a:lnTo>
                        <a:pt x="851" y="382"/>
                      </a:lnTo>
                      <a:lnTo>
                        <a:pt x="858" y="382"/>
                      </a:lnTo>
                      <a:lnTo>
                        <a:pt x="858" y="389"/>
                      </a:lnTo>
                      <a:lnTo>
                        <a:pt x="858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51" y="389"/>
                      </a:lnTo>
                      <a:lnTo>
                        <a:pt x="844" y="389"/>
                      </a:lnTo>
                      <a:lnTo>
                        <a:pt x="844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8" y="382"/>
                      </a:lnTo>
                      <a:lnTo>
                        <a:pt x="831" y="382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96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1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89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38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396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03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44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0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1" y="417"/>
                      </a:lnTo>
                      <a:lnTo>
                        <a:pt x="858" y="417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8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1" y="424"/>
                      </a:lnTo>
                      <a:lnTo>
                        <a:pt x="858" y="424"/>
                      </a:lnTo>
                      <a:lnTo>
                        <a:pt x="851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8" y="431"/>
                      </a:lnTo>
                      <a:lnTo>
                        <a:pt x="851" y="431"/>
                      </a:lnTo>
                      <a:lnTo>
                        <a:pt x="851" y="431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8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37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51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44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44" y="451"/>
                      </a:lnTo>
                      <a:lnTo>
                        <a:pt x="838" y="451"/>
                      </a:lnTo>
                      <a:lnTo>
                        <a:pt x="838" y="451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8" y="458"/>
                      </a:lnTo>
                      <a:lnTo>
                        <a:pt x="831" y="458"/>
                      </a:lnTo>
                      <a:lnTo>
                        <a:pt x="838" y="458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1" y="465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8" y="472"/>
                      </a:lnTo>
                      <a:lnTo>
                        <a:pt x="838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2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31" y="479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79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86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24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493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0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7" y="507"/>
                      </a:lnTo>
                      <a:lnTo>
                        <a:pt x="810" y="507"/>
                      </a:lnTo>
                      <a:lnTo>
                        <a:pt x="789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07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83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14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76" y="521"/>
                      </a:lnTo>
                      <a:lnTo>
                        <a:pt x="783" y="521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28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83" y="535"/>
                      </a:lnTo>
                      <a:lnTo>
                        <a:pt x="776" y="535"/>
                      </a:lnTo>
                      <a:lnTo>
                        <a:pt x="776" y="535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83" y="542"/>
                      </a:lnTo>
                      <a:lnTo>
                        <a:pt x="776" y="542"/>
                      </a:lnTo>
                      <a:lnTo>
                        <a:pt x="776" y="542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48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76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55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2"/>
                      </a:lnTo>
                      <a:lnTo>
                        <a:pt x="769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2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62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48" y="569"/>
                      </a:lnTo>
                      <a:lnTo>
                        <a:pt x="748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69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76"/>
                      </a:lnTo>
                      <a:lnTo>
                        <a:pt x="755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83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0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8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597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04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1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41" y="618"/>
                      </a:lnTo>
                      <a:lnTo>
                        <a:pt x="735" y="618"/>
                      </a:lnTo>
                      <a:lnTo>
                        <a:pt x="735" y="618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35" y="632"/>
                      </a:lnTo>
                      <a:lnTo>
                        <a:pt x="735" y="625"/>
                      </a:lnTo>
                      <a:lnTo>
                        <a:pt x="741" y="632"/>
                      </a:lnTo>
                      <a:lnTo>
                        <a:pt x="741" y="625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41" y="632"/>
                      </a:lnTo>
                      <a:lnTo>
                        <a:pt x="735" y="632"/>
                      </a:lnTo>
                      <a:lnTo>
                        <a:pt x="735" y="632"/>
                      </a:lnTo>
                      <a:lnTo>
                        <a:pt x="735" y="639"/>
                      </a:lnTo>
                      <a:lnTo>
                        <a:pt x="735" y="639"/>
                      </a:lnTo>
                      <a:lnTo>
                        <a:pt x="728" y="639"/>
                      </a:lnTo>
                      <a:lnTo>
                        <a:pt x="728" y="639"/>
                      </a:lnTo>
                      <a:lnTo>
                        <a:pt x="721" y="639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14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7" y="646"/>
                      </a:lnTo>
                      <a:lnTo>
                        <a:pt x="700" y="646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700" y="653"/>
                      </a:lnTo>
                      <a:lnTo>
                        <a:pt x="693" y="653"/>
                      </a:lnTo>
                      <a:lnTo>
                        <a:pt x="686" y="653"/>
                      </a:lnTo>
                      <a:lnTo>
                        <a:pt x="686" y="653"/>
                      </a:lnTo>
                      <a:lnTo>
                        <a:pt x="686" y="659"/>
                      </a:lnTo>
                      <a:lnTo>
                        <a:pt x="686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80" y="659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73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66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66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9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52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45" y="659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66"/>
                      </a:lnTo>
                      <a:lnTo>
                        <a:pt x="638" y="659"/>
                      </a:lnTo>
                      <a:lnTo>
                        <a:pt x="638" y="659"/>
                      </a:lnTo>
                      <a:lnTo>
                        <a:pt x="638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66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59"/>
                      </a:lnTo>
                      <a:lnTo>
                        <a:pt x="632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59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25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66"/>
                      </a:lnTo>
                      <a:lnTo>
                        <a:pt x="618" y="659"/>
                      </a:lnTo>
                      <a:lnTo>
                        <a:pt x="618" y="666"/>
                      </a:lnTo>
                      <a:lnTo>
                        <a:pt x="611" y="659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11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604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7" y="666"/>
                      </a:lnTo>
                      <a:lnTo>
                        <a:pt x="597" y="673"/>
                      </a:lnTo>
                      <a:lnTo>
                        <a:pt x="590" y="666"/>
                      </a:lnTo>
                      <a:lnTo>
                        <a:pt x="590" y="666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90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83" y="673"/>
                      </a:lnTo>
                      <a:lnTo>
                        <a:pt x="577" y="673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7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70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63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56" y="680"/>
                      </a:lnTo>
                      <a:lnTo>
                        <a:pt x="549" y="680"/>
                      </a:lnTo>
                      <a:lnTo>
                        <a:pt x="549" y="680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9" y="687"/>
                      </a:lnTo>
                      <a:lnTo>
                        <a:pt x="542" y="687"/>
                      </a:lnTo>
                      <a:lnTo>
                        <a:pt x="542" y="680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42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35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87"/>
                      </a:lnTo>
                      <a:lnTo>
                        <a:pt x="529" y="694"/>
                      </a:lnTo>
                      <a:lnTo>
                        <a:pt x="529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22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15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8" y="694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501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1"/>
                      </a:lnTo>
                      <a:lnTo>
                        <a:pt x="494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7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08"/>
                      </a:lnTo>
                      <a:lnTo>
                        <a:pt x="480" y="715"/>
                      </a:lnTo>
                      <a:lnTo>
                        <a:pt x="474" y="715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74" y="708"/>
                      </a:lnTo>
                      <a:lnTo>
                        <a:pt x="467" y="708"/>
                      </a:lnTo>
                      <a:lnTo>
                        <a:pt x="467" y="708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7" y="715"/>
                      </a:lnTo>
                      <a:lnTo>
                        <a:pt x="460" y="715"/>
                      </a:lnTo>
                      <a:lnTo>
                        <a:pt x="460" y="715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60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46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08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53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39" y="715"/>
                      </a:lnTo>
                      <a:lnTo>
                        <a:pt x="439" y="715"/>
                      </a:lnTo>
                      <a:lnTo>
                        <a:pt x="439" y="722"/>
                      </a:lnTo>
                      <a:lnTo>
                        <a:pt x="446" y="722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46" y="715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53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53" y="722"/>
                      </a:lnTo>
                      <a:lnTo>
                        <a:pt x="453" y="729"/>
                      </a:lnTo>
                      <a:lnTo>
                        <a:pt x="446" y="729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2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46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9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32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29"/>
                      </a:lnTo>
                      <a:lnTo>
                        <a:pt x="426" y="736"/>
                      </a:lnTo>
                      <a:lnTo>
                        <a:pt x="426" y="729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9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36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12" y="729"/>
                      </a:lnTo>
                      <a:lnTo>
                        <a:pt x="405" y="729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36"/>
                      </a:lnTo>
                      <a:lnTo>
                        <a:pt x="405" y="729"/>
                      </a:lnTo>
                      <a:lnTo>
                        <a:pt x="405" y="729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36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8" y="729"/>
                      </a:lnTo>
                      <a:lnTo>
                        <a:pt x="391" y="729"/>
                      </a:lnTo>
                      <a:lnTo>
                        <a:pt x="391" y="729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8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22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84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15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8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91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84" y="701"/>
                      </a:lnTo>
                      <a:lnTo>
                        <a:pt x="378" y="701"/>
                      </a:lnTo>
                      <a:lnTo>
                        <a:pt x="378" y="701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8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94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71" y="687"/>
                      </a:lnTo>
                      <a:lnTo>
                        <a:pt x="364" y="687"/>
                      </a:lnTo>
                      <a:lnTo>
                        <a:pt x="364" y="687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64" y="680"/>
                      </a:lnTo>
                      <a:lnTo>
                        <a:pt x="371" y="680"/>
                      </a:lnTo>
                      <a:lnTo>
                        <a:pt x="371" y="680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1" y="673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8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64" y="666"/>
                      </a:lnTo>
                      <a:lnTo>
                        <a:pt x="371" y="666"/>
                      </a:lnTo>
                      <a:lnTo>
                        <a:pt x="371" y="666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1" y="659"/>
                      </a:lnTo>
                      <a:lnTo>
                        <a:pt x="378" y="659"/>
                      </a:lnTo>
                      <a:lnTo>
                        <a:pt x="378" y="659"/>
                      </a:lnTo>
                      <a:lnTo>
                        <a:pt x="371" y="659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53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46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9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1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32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78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25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8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84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8" y="611"/>
                      </a:lnTo>
                      <a:lnTo>
                        <a:pt x="371" y="611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71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64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7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04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50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11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43" y="604"/>
                      </a:lnTo>
                      <a:lnTo>
                        <a:pt x="336" y="604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7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36" y="590"/>
                      </a:lnTo>
                      <a:lnTo>
                        <a:pt x="329" y="590"/>
                      </a:lnTo>
                      <a:lnTo>
                        <a:pt x="329" y="590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83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76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9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9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62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55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3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29" y="548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36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42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9" y="535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23" y="528"/>
                      </a:lnTo>
                      <a:lnTo>
                        <a:pt x="316" y="528"/>
                      </a:lnTo>
                      <a:lnTo>
                        <a:pt x="316" y="528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21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3" y="514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7"/>
                      </a:lnTo>
                      <a:lnTo>
                        <a:pt x="323" y="500"/>
                      </a:lnTo>
                      <a:lnTo>
                        <a:pt x="323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16" y="500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9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93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302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95" y="486"/>
                      </a:lnTo>
                      <a:lnTo>
                        <a:pt x="288" y="486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8" y="493"/>
                      </a:lnTo>
                      <a:lnTo>
                        <a:pt x="281" y="493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81" y="486"/>
                      </a:lnTo>
                      <a:lnTo>
                        <a:pt x="275" y="486"/>
                      </a:lnTo>
                      <a:lnTo>
                        <a:pt x="275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86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493"/>
                      </a:lnTo>
                      <a:lnTo>
                        <a:pt x="268" y="500"/>
                      </a:lnTo>
                      <a:lnTo>
                        <a:pt x="268" y="500"/>
                      </a:lnTo>
                      <a:lnTo>
                        <a:pt x="261" y="500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61" y="493"/>
                      </a:lnTo>
                      <a:lnTo>
                        <a:pt x="254" y="493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54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7" y="500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40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33" y="493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40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33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6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20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13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206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9" y="500"/>
                      </a:lnTo>
                      <a:lnTo>
                        <a:pt x="192" y="500"/>
                      </a:lnTo>
                      <a:lnTo>
                        <a:pt x="192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0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85" y="507"/>
                      </a:lnTo>
                      <a:lnTo>
                        <a:pt x="178" y="507"/>
                      </a:lnTo>
                      <a:lnTo>
                        <a:pt x="178" y="514"/>
                      </a:lnTo>
                      <a:lnTo>
                        <a:pt x="185" y="514"/>
                      </a:lnTo>
                      <a:lnTo>
                        <a:pt x="185" y="514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1"/>
                      </a:lnTo>
                      <a:lnTo>
                        <a:pt x="185" y="528"/>
                      </a:lnTo>
                      <a:lnTo>
                        <a:pt x="178" y="528"/>
                      </a:lnTo>
                      <a:lnTo>
                        <a:pt x="178" y="528"/>
                      </a:lnTo>
                      <a:lnTo>
                        <a:pt x="178" y="521"/>
                      </a:lnTo>
                      <a:lnTo>
                        <a:pt x="178" y="521"/>
                      </a:lnTo>
                      <a:lnTo>
                        <a:pt x="178" y="514"/>
                      </a:lnTo>
                      <a:lnTo>
                        <a:pt x="178" y="507"/>
                      </a:lnTo>
                      <a:lnTo>
                        <a:pt x="178" y="507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72" y="500"/>
                      </a:lnTo>
                      <a:lnTo>
                        <a:pt x="165" y="500"/>
                      </a:lnTo>
                      <a:lnTo>
                        <a:pt x="165" y="500"/>
                      </a:lnTo>
                      <a:lnTo>
                        <a:pt x="165" y="507"/>
                      </a:lnTo>
                      <a:lnTo>
                        <a:pt x="165" y="507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8" y="514"/>
                      </a:lnTo>
                      <a:lnTo>
                        <a:pt x="151" y="514"/>
                      </a:lnTo>
                      <a:lnTo>
                        <a:pt x="151" y="514"/>
                      </a:lnTo>
                      <a:lnTo>
                        <a:pt x="151" y="507"/>
                      </a:lnTo>
                      <a:lnTo>
                        <a:pt x="151" y="507"/>
                      </a:lnTo>
                      <a:lnTo>
                        <a:pt x="144" y="500"/>
                      </a:lnTo>
                      <a:lnTo>
                        <a:pt x="144" y="500"/>
                      </a:lnTo>
                      <a:lnTo>
                        <a:pt x="144" y="493"/>
                      </a:lnTo>
                      <a:lnTo>
                        <a:pt x="144" y="493"/>
                      </a:lnTo>
                      <a:lnTo>
                        <a:pt x="144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51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44" y="486"/>
                      </a:lnTo>
                      <a:lnTo>
                        <a:pt x="137" y="486"/>
                      </a:lnTo>
                      <a:lnTo>
                        <a:pt x="137" y="486"/>
                      </a:lnTo>
                      <a:lnTo>
                        <a:pt x="130" y="486"/>
                      </a:lnTo>
                      <a:lnTo>
                        <a:pt x="130" y="486"/>
                      </a:lnTo>
                      <a:lnTo>
                        <a:pt x="130" y="479"/>
                      </a:lnTo>
                      <a:lnTo>
                        <a:pt x="130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23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7" y="479"/>
                      </a:lnTo>
                      <a:lnTo>
                        <a:pt x="110" y="479"/>
                      </a:lnTo>
                      <a:lnTo>
                        <a:pt x="110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79"/>
                      </a:lnTo>
                      <a:lnTo>
                        <a:pt x="103" y="486"/>
                      </a:lnTo>
                      <a:lnTo>
                        <a:pt x="96" y="486"/>
                      </a:lnTo>
                      <a:lnTo>
                        <a:pt x="96" y="486"/>
                      </a:lnTo>
                      <a:lnTo>
                        <a:pt x="96" y="479"/>
                      </a:lnTo>
                      <a:lnTo>
                        <a:pt x="89" y="479"/>
                      </a:lnTo>
                      <a:lnTo>
                        <a:pt x="89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82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75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9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9"/>
                      </a:lnTo>
                      <a:lnTo>
                        <a:pt x="62" y="472"/>
                      </a:lnTo>
                      <a:lnTo>
                        <a:pt x="55" y="472"/>
                      </a:lnTo>
                      <a:lnTo>
                        <a:pt x="55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8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41" y="472"/>
                      </a:lnTo>
                      <a:lnTo>
                        <a:pt x="34" y="472"/>
                      </a:lnTo>
                      <a:lnTo>
                        <a:pt x="34" y="472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34" y="479"/>
                      </a:lnTo>
                      <a:lnTo>
                        <a:pt x="27" y="479"/>
                      </a:lnTo>
                      <a:lnTo>
                        <a:pt x="27" y="479"/>
                      </a:lnTo>
                      <a:lnTo>
                        <a:pt x="20" y="479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20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14" y="486"/>
                      </a:lnTo>
                      <a:lnTo>
                        <a:pt x="7" y="486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7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93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86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2"/>
                      </a:lnTo>
                      <a:lnTo>
                        <a:pt x="0" y="472"/>
                      </a:lnTo>
                      <a:lnTo>
                        <a:pt x="0" y="472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80720" y="4337640"/>
                  <a:ext cx="682560" cy="538920"/>
                </a:xfrm>
                <a:custGeom>
                  <a:avLst/>
                  <a:gdLst/>
                  <a:ahLst/>
                  <a:rect l="l" t="t" r="r" b="b"/>
                  <a:pathLst>
                    <a:path w="542" h="458">
                      <a:moveTo>
                        <a:pt x="0" y="458"/>
                      </a:moveTo>
                      <a:lnTo>
                        <a:pt x="0" y="458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51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0" y="444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7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7" y="430"/>
                      </a:lnTo>
                      <a:lnTo>
                        <a:pt x="14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20" y="430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14" y="423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7"/>
                      </a:lnTo>
                      <a:lnTo>
                        <a:pt x="20" y="410"/>
                      </a:lnTo>
                      <a:lnTo>
                        <a:pt x="20" y="410"/>
                      </a:lnTo>
                      <a:lnTo>
                        <a:pt x="27" y="410"/>
                      </a:lnTo>
                      <a:lnTo>
                        <a:pt x="27" y="410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27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34" y="403"/>
                      </a:lnTo>
                      <a:lnTo>
                        <a:pt x="41" y="403"/>
                      </a:lnTo>
                      <a:lnTo>
                        <a:pt x="41" y="403"/>
                      </a:lnTo>
                      <a:lnTo>
                        <a:pt x="41" y="396"/>
                      </a:lnTo>
                      <a:lnTo>
                        <a:pt x="41" y="396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8" y="389"/>
                      </a:lnTo>
                      <a:lnTo>
                        <a:pt x="41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48" y="382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55" y="375"/>
                      </a:lnTo>
                      <a:lnTo>
                        <a:pt x="62" y="368"/>
                      </a:lnTo>
                      <a:lnTo>
                        <a:pt x="62" y="368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2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69" y="361"/>
                      </a:lnTo>
                      <a:lnTo>
                        <a:pt x="75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61"/>
                      </a:lnTo>
                      <a:lnTo>
                        <a:pt x="82" y="354"/>
                      </a:lnTo>
                      <a:lnTo>
                        <a:pt x="82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89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96" y="354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54"/>
                      </a:lnTo>
                      <a:lnTo>
                        <a:pt x="103" y="361"/>
                      </a:lnTo>
                      <a:lnTo>
                        <a:pt x="103" y="361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0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17" y="354"/>
                      </a:lnTo>
                      <a:lnTo>
                        <a:pt x="123" y="347"/>
                      </a:lnTo>
                      <a:lnTo>
                        <a:pt x="123" y="354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23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47"/>
                      </a:lnTo>
                      <a:lnTo>
                        <a:pt x="130" y="354"/>
                      </a:lnTo>
                      <a:lnTo>
                        <a:pt x="130" y="354"/>
                      </a:lnTo>
                      <a:lnTo>
                        <a:pt x="137" y="354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61"/>
                      </a:lnTo>
                      <a:lnTo>
                        <a:pt x="137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44" y="354"/>
                      </a:lnTo>
                      <a:lnTo>
                        <a:pt x="151" y="354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1" y="347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58" y="340"/>
                      </a:lnTo>
                      <a:lnTo>
                        <a:pt x="165" y="333"/>
                      </a:lnTo>
                      <a:lnTo>
                        <a:pt x="165" y="333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65" y="340"/>
                      </a:lnTo>
                      <a:lnTo>
                        <a:pt x="172" y="340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2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78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85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2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199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06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13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0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26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33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0" y="333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47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54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0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7"/>
                      </a:lnTo>
                      <a:lnTo>
                        <a:pt x="261" y="340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7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68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75" y="340"/>
                      </a:lnTo>
                      <a:lnTo>
                        <a:pt x="281" y="340"/>
                      </a:lnTo>
                      <a:lnTo>
                        <a:pt x="281" y="340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1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33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88" y="326"/>
                      </a:lnTo>
                      <a:lnTo>
                        <a:pt x="295" y="326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295" y="326"/>
                      </a:lnTo>
                      <a:lnTo>
                        <a:pt x="295" y="319"/>
                      </a:lnTo>
                      <a:lnTo>
                        <a:pt x="295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2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9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09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13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306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16" y="299"/>
                      </a:lnTo>
                      <a:lnTo>
                        <a:pt x="309" y="299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92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09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85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23" y="278"/>
                      </a:lnTo>
                      <a:lnTo>
                        <a:pt x="316" y="278"/>
                      </a:lnTo>
                      <a:lnTo>
                        <a:pt x="316" y="278"/>
                      </a:lnTo>
                      <a:lnTo>
                        <a:pt x="316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23" y="271"/>
                      </a:lnTo>
                      <a:lnTo>
                        <a:pt x="316" y="271"/>
                      </a:lnTo>
                      <a:lnTo>
                        <a:pt x="316" y="271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16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9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64"/>
                      </a:lnTo>
                      <a:lnTo>
                        <a:pt x="302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7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295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2" y="250"/>
                      </a:lnTo>
                      <a:lnTo>
                        <a:pt x="309" y="250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2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43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09" y="236"/>
                      </a:lnTo>
                      <a:lnTo>
                        <a:pt x="309" y="236"/>
                      </a:lnTo>
                      <a:lnTo>
                        <a:pt x="316" y="236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16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9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3" y="222"/>
                      </a:lnTo>
                      <a:lnTo>
                        <a:pt x="323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22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9" y="215"/>
                      </a:lnTo>
                      <a:lnTo>
                        <a:pt x="323" y="208"/>
                      </a:lnTo>
                      <a:lnTo>
                        <a:pt x="323" y="215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8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202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23" y="195"/>
                      </a:lnTo>
                      <a:lnTo>
                        <a:pt x="323" y="188"/>
                      </a:lnTo>
                      <a:lnTo>
                        <a:pt x="316" y="195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16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8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9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81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2" y="174"/>
                      </a:lnTo>
                      <a:lnTo>
                        <a:pt x="309" y="174"/>
                      </a:lnTo>
                      <a:lnTo>
                        <a:pt x="302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7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09" y="160"/>
                      </a:lnTo>
                      <a:lnTo>
                        <a:pt x="316" y="160"/>
                      </a:lnTo>
                      <a:lnTo>
                        <a:pt x="316" y="160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53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09" y="146"/>
                      </a:lnTo>
                      <a:lnTo>
                        <a:pt x="309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46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9"/>
                      </a:lnTo>
                      <a:lnTo>
                        <a:pt x="316" y="132"/>
                      </a:lnTo>
                      <a:lnTo>
                        <a:pt x="316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9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3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25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29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36" y="132"/>
                      </a:lnTo>
                      <a:lnTo>
                        <a:pt x="343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25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8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11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7" y="104"/>
                      </a:lnTo>
                      <a:lnTo>
                        <a:pt x="350" y="104"/>
                      </a:lnTo>
                      <a:lnTo>
                        <a:pt x="350" y="104"/>
                      </a:lnTo>
                      <a:lnTo>
                        <a:pt x="350" y="97"/>
                      </a:lnTo>
                      <a:lnTo>
                        <a:pt x="350" y="97"/>
                      </a:lnTo>
                      <a:lnTo>
                        <a:pt x="343" y="97"/>
                      </a:lnTo>
                      <a:lnTo>
                        <a:pt x="343" y="97"/>
                      </a:lnTo>
                      <a:lnTo>
                        <a:pt x="343" y="91"/>
                      </a:lnTo>
                      <a:lnTo>
                        <a:pt x="350" y="91"/>
                      </a:lnTo>
                      <a:lnTo>
                        <a:pt x="350" y="91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0" y="84"/>
                      </a:lnTo>
                      <a:lnTo>
                        <a:pt x="357" y="84"/>
                      </a:lnTo>
                      <a:lnTo>
                        <a:pt x="350" y="84"/>
                      </a:lnTo>
                      <a:lnTo>
                        <a:pt x="350" y="77"/>
                      </a:lnTo>
                      <a:lnTo>
                        <a:pt x="357" y="77"/>
                      </a:lnTo>
                      <a:lnTo>
                        <a:pt x="357" y="77"/>
                      </a:lnTo>
                      <a:lnTo>
                        <a:pt x="350" y="77"/>
                      </a:lnTo>
                      <a:lnTo>
                        <a:pt x="350" y="77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43" y="70"/>
                      </a:lnTo>
                      <a:lnTo>
                        <a:pt x="350" y="70"/>
                      </a:lnTo>
                      <a:lnTo>
                        <a:pt x="350" y="70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63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56"/>
                      </a:lnTo>
                      <a:lnTo>
                        <a:pt x="350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57" y="49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64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1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78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56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84" y="49"/>
                      </a:lnTo>
                      <a:lnTo>
                        <a:pt x="378" y="49"/>
                      </a:lnTo>
                      <a:lnTo>
                        <a:pt x="378" y="49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78" y="42"/>
                      </a:lnTo>
                      <a:lnTo>
                        <a:pt x="384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35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78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28"/>
                      </a:lnTo>
                      <a:lnTo>
                        <a:pt x="391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35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398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05" y="42"/>
                      </a:lnTo>
                      <a:lnTo>
                        <a:pt x="412" y="42"/>
                      </a:lnTo>
                      <a:lnTo>
                        <a:pt x="412" y="49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2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19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2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49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56"/>
                      </a:lnTo>
                      <a:lnTo>
                        <a:pt x="426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63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19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70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26" y="63"/>
                      </a:lnTo>
                      <a:lnTo>
                        <a:pt x="432" y="63"/>
                      </a:lnTo>
                      <a:lnTo>
                        <a:pt x="432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39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63"/>
                      </a:lnTo>
                      <a:lnTo>
                        <a:pt x="446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53" y="56"/>
                      </a:lnTo>
                      <a:lnTo>
                        <a:pt x="460" y="49"/>
                      </a:lnTo>
                      <a:lnTo>
                        <a:pt x="460" y="56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0" y="49"/>
                      </a:lnTo>
                      <a:lnTo>
                        <a:pt x="467" y="49"/>
                      </a:lnTo>
                      <a:lnTo>
                        <a:pt x="467" y="42"/>
                      </a:lnTo>
                      <a:lnTo>
                        <a:pt x="467" y="42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67" y="49"/>
                      </a:lnTo>
                      <a:lnTo>
                        <a:pt x="474" y="49"/>
                      </a:lnTo>
                      <a:lnTo>
                        <a:pt x="474" y="49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74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42"/>
                      </a:lnTo>
                      <a:lnTo>
                        <a:pt x="480" y="35"/>
                      </a:lnTo>
                      <a:lnTo>
                        <a:pt x="480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87" y="35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494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1" y="28"/>
                      </a:lnTo>
                      <a:lnTo>
                        <a:pt x="508" y="28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08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15" y="21"/>
                      </a:lnTo>
                      <a:lnTo>
                        <a:pt x="522" y="21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14"/>
                      </a:lnTo>
                      <a:lnTo>
                        <a:pt x="522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2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29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7"/>
                      </a:lnTo>
                      <a:lnTo>
                        <a:pt x="535" y="7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35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363640" y="4321440"/>
                  <a:ext cx="509400" cy="652680"/>
                </a:xfrm>
                <a:custGeom>
                  <a:avLst/>
                  <a:gdLst/>
                  <a:ahLst/>
                  <a:rect l="l" t="t" r="r" b="b"/>
                  <a:pathLst>
                    <a:path w="405" h="555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0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69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35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83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2"/>
                      </a:lnTo>
                      <a:lnTo>
                        <a:pt x="90" y="49"/>
                      </a:lnTo>
                      <a:lnTo>
                        <a:pt x="90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9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96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42"/>
                      </a:lnTo>
                      <a:lnTo>
                        <a:pt x="103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0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17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24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1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38" y="42"/>
                      </a:lnTo>
                      <a:lnTo>
                        <a:pt x="138" y="35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51" y="42"/>
                      </a:lnTo>
                      <a:lnTo>
                        <a:pt x="151" y="42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1" y="49"/>
                      </a:lnTo>
                      <a:lnTo>
                        <a:pt x="158" y="49"/>
                      </a:lnTo>
                      <a:lnTo>
                        <a:pt x="158" y="49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58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65" y="56"/>
                      </a:lnTo>
                      <a:lnTo>
                        <a:pt x="172" y="63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72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79" y="63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86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3" y="70"/>
                      </a:lnTo>
                      <a:lnTo>
                        <a:pt x="199" y="70"/>
                      </a:lnTo>
                      <a:lnTo>
                        <a:pt x="199" y="77"/>
                      </a:lnTo>
                      <a:lnTo>
                        <a:pt x="199" y="77"/>
                      </a:lnTo>
                      <a:lnTo>
                        <a:pt x="199" y="70"/>
                      </a:lnTo>
                      <a:lnTo>
                        <a:pt x="199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0"/>
                      </a:lnTo>
                      <a:lnTo>
                        <a:pt x="206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0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27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34" y="77"/>
                      </a:lnTo>
                      <a:lnTo>
                        <a:pt x="241" y="70"/>
                      </a:lnTo>
                      <a:lnTo>
                        <a:pt x="241" y="70"/>
                      </a:lnTo>
                      <a:lnTo>
                        <a:pt x="261" y="91"/>
                      </a:lnTo>
                      <a:lnTo>
                        <a:pt x="268" y="98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05"/>
                      </a:lnTo>
                      <a:lnTo>
                        <a:pt x="275" y="118"/>
                      </a:lnTo>
                      <a:lnTo>
                        <a:pt x="275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2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89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32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296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2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25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09" y="118"/>
                      </a:lnTo>
                      <a:lnTo>
                        <a:pt x="316" y="118"/>
                      </a:lnTo>
                      <a:lnTo>
                        <a:pt x="316" y="118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16" y="125"/>
                      </a:lnTo>
                      <a:lnTo>
                        <a:pt x="323" y="125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18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23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25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0" y="118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37" y="125"/>
                      </a:lnTo>
                      <a:lnTo>
                        <a:pt x="344" y="125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44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32"/>
                      </a:lnTo>
                      <a:lnTo>
                        <a:pt x="350" y="125"/>
                      </a:lnTo>
                      <a:lnTo>
                        <a:pt x="350" y="125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57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64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2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1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78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39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85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2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46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53"/>
                      </a:lnTo>
                      <a:lnTo>
                        <a:pt x="398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405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0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67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8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74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92" y="181"/>
                      </a:lnTo>
                      <a:lnTo>
                        <a:pt x="385" y="181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85" y="188"/>
                      </a:lnTo>
                      <a:lnTo>
                        <a:pt x="378" y="188"/>
                      </a:lnTo>
                      <a:lnTo>
                        <a:pt x="378" y="188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8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71" y="195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2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09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64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16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9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64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7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2"/>
                      </a:lnTo>
                      <a:lnTo>
                        <a:pt x="350" y="229"/>
                      </a:lnTo>
                      <a:lnTo>
                        <a:pt x="350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43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0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57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44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64"/>
                      </a:lnTo>
                      <a:lnTo>
                        <a:pt x="337" y="271"/>
                      </a:lnTo>
                      <a:lnTo>
                        <a:pt x="337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44" y="271"/>
                      </a:lnTo>
                      <a:lnTo>
                        <a:pt x="350" y="271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78"/>
                      </a:lnTo>
                      <a:lnTo>
                        <a:pt x="350" y="285"/>
                      </a:lnTo>
                      <a:lnTo>
                        <a:pt x="357" y="278"/>
                      </a:lnTo>
                      <a:lnTo>
                        <a:pt x="357" y="278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57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85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64" y="292"/>
                      </a:lnTo>
                      <a:lnTo>
                        <a:pt x="371" y="299"/>
                      </a:lnTo>
                      <a:lnTo>
                        <a:pt x="371" y="292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299"/>
                      </a:lnTo>
                      <a:lnTo>
                        <a:pt x="371" y="306"/>
                      </a:lnTo>
                      <a:lnTo>
                        <a:pt x="371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8" y="306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71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64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7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50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44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13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7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30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20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23" y="313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16" y="313"/>
                      </a:lnTo>
                      <a:lnTo>
                        <a:pt x="316" y="320"/>
                      </a:lnTo>
                      <a:lnTo>
                        <a:pt x="323" y="327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23" y="333"/>
                      </a:lnTo>
                      <a:lnTo>
                        <a:pt x="316" y="333"/>
                      </a:lnTo>
                      <a:lnTo>
                        <a:pt x="316" y="333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16" y="327"/>
                      </a:lnTo>
                      <a:lnTo>
                        <a:pt x="309" y="333"/>
                      </a:lnTo>
                      <a:lnTo>
                        <a:pt x="309" y="327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9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302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33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0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47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96" y="354"/>
                      </a:lnTo>
                      <a:lnTo>
                        <a:pt x="289" y="354"/>
                      </a:lnTo>
                      <a:lnTo>
                        <a:pt x="289" y="354"/>
                      </a:lnTo>
                      <a:lnTo>
                        <a:pt x="296" y="354"/>
                      </a:lnTo>
                      <a:lnTo>
                        <a:pt x="302" y="354"/>
                      </a:lnTo>
                      <a:lnTo>
                        <a:pt x="302" y="354"/>
                      </a:lnTo>
                      <a:lnTo>
                        <a:pt x="302" y="361"/>
                      </a:lnTo>
                      <a:lnTo>
                        <a:pt x="302" y="361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68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2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75"/>
                      </a:lnTo>
                      <a:lnTo>
                        <a:pt x="309" y="382"/>
                      </a:lnTo>
                      <a:lnTo>
                        <a:pt x="309" y="382"/>
                      </a:lnTo>
                      <a:lnTo>
                        <a:pt x="316" y="382"/>
                      </a:lnTo>
                      <a:lnTo>
                        <a:pt x="316" y="389"/>
                      </a:lnTo>
                      <a:lnTo>
                        <a:pt x="316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9" y="389"/>
                      </a:lnTo>
                      <a:lnTo>
                        <a:pt x="302" y="389"/>
                      </a:lnTo>
                      <a:lnTo>
                        <a:pt x="302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96" y="382"/>
                      </a:lnTo>
                      <a:lnTo>
                        <a:pt x="289" y="382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96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89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89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296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396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03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2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0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09" y="417"/>
                      </a:lnTo>
                      <a:lnTo>
                        <a:pt x="316" y="417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16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09" y="424"/>
                      </a:lnTo>
                      <a:lnTo>
                        <a:pt x="316" y="424"/>
                      </a:lnTo>
                      <a:lnTo>
                        <a:pt x="309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16" y="431"/>
                      </a:lnTo>
                      <a:lnTo>
                        <a:pt x="309" y="431"/>
                      </a:lnTo>
                      <a:lnTo>
                        <a:pt x="309" y="431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16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37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9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44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302" y="451"/>
                      </a:lnTo>
                      <a:lnTo>
                        <a:pt x="296" y="451"/>
                      </a:lnTo>
                      <a:lnTo>
                        <a:pt x="296" y="451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96" y="458"/>
                      </a:lnTo>
                      <a:lnTo>
                        <a:pt x="289" y="458"/>
                      </a:lnTo>
                      <a:lnTo>
                        <a:pt x="296" y="458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89" y="465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96" y="472"/>
                      </a:lnTo>
                      <a:lnTo>
                        <a:pt x="296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2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9" y="479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79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86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82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493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0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75" y="507"/>
                      </a:lnTo>
                      <a:lnTo>
                        <a:pt x="268" y="507"/>
                      </a:lnTo>
                      <a:lnTo>
                        <a:pt x="247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07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41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14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34" y="521"/>
                      </a:lnTo>
                      <a:lnTo>
                        <a:pt x="241" y="521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28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41" y="535"/>
                      </a:lnTo>
                      <a:lnTo>
                        <a:pt x="234" y="535"/>
                      </a:lnTo>
                      <a:lnTo>
                        <a:pt x="234" y="535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41" y="542"/>
                      </a:lnTo>
                      <a:lnTo>
                        <a:pt x="234" y="542"/>
                      </a:lnTo>
                      <a:lnTo>
                        <a:pt x="234" y="542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48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34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  <a:lnTo>
                        <a:pt x="227" y="55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35880" y="4885200"/>
                  <a:ext cx="813600" cy="302040"/>
                </a:xfrm>
                <a:custGeom>
                  <a:avLst/>
                  <a:gdLst/>
                  <a:ahLst/>
                  <a:rect l="l" t="t" r="r" b="b"/>
                  <a:pathLst>
                    <a:path w="646" h="257">
                      <a:moveTo>
                        <a:pt x="646" y="76"/>
                      </a:move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83"/>
                      </a:lnTo>
                      <a:lnTo>
                        <a:pt x="646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83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9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25" y="90"/>
                      </a:lnTo>
                      <a:lnTo>
                        <a:pt x="625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0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97"/>
                      </a:lnTo>
                      <a:lnTo>
                        <a:pt x="632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04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1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25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18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25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2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8" y="139"/>
                      </a:lnTo>
                      <a:lnTo>
                        <a:pt x="612" y="139"/>
                      </a:lnTo>
                      <a:lnTo>
                        <a:pt x="612" y="139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2" y="153"/>
                      </a:lnTo>
                      <a:lnTo>
                        <a:pt x="612" y="146"/>
                      </a:lnTo>
                      <a:lnTo>
                        <a:pt x="618" y="153"/>
                      </a:lnTo>
                      <a:lnTo>
                        <a:pt x="618" y="146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8" y="153"/>
                      </a:lnTo>
                      <a:lnTo>
                        <a:pt x="612" y="153"/>
                      </a:lnTo>
                      <a:lnTo>
                        <a:pt x="612" y="153"/>
                      </a:lnTo>
                      <a:lnTo>
                        <a:pt x="612" y="160"/>
                      </a:lnTo>
                      <a:lnTo>
                        <a:pt x="612" y="160"/>
                      </a:lnTo>
                      <a:lnTo>
                        <a:pt x="605" y="160"/>
                      </a:lnTo>
                      <a:lnTo>
                        <a:pt x="605" y="160"/>
                      </a:lnTo>
                      <a:lnTo>
                        <a:pt x="598" y="160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91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84" y="167"/>
                      </a:lnTo>
                      <a:lnTo>
                        <a:pt x="577" y="167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7" y="174"/>
                      </a:lnTo>
                      <a:lnTo>
                        <a:pt x="570" y="174"/>
                      </a:lnTo>
                      <a:lnTo>
                        <a:pt x="563" y="174"/>
                      </a:lnTo>
                      <a:lnTo>
                        <a:pt x="563" y="174"/>
                      </a:lnTo>
                      <a:lnTo>
                        <a:pt x="563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7" y="180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50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7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43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36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9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22" y="180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7"/>
                      </a:lnTo>
                      <a:lnTo>
                        <a:pt x="515" y="180"/>
                      </a:lnTo>
                      <a:lnTo>
                        <a:pt x="515" y="180"/>
                      </a:lnTo>
                      <a:lnTo>
                        <a:pt x="515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7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0"/>
                      </a:lnTo>
                      <a:lnTo>
                        <a:pt x="509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0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502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7"/>
                      </a:lnTo>
                      <a:lnTo>
                        <a:pt x="495" y="180"/>
                      </a:lnTo>
                      <a:lnTo>
                        <a:pt x="495" y="187"/>
                      </a:lnTo>
                      <a:lnTo>
                        <a:pt x="488" y="180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8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81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74" y="187"/>
                      </a:lnTo>
                      <a:lnTo>
                        <a:pt x="474" y="194"/>
                      </a:lnTo>
                      <a:lnTo>
                        <a:pt x="467" y="187"/>
                      </a:lnTo>
                      <a:lnTo>
                        <a:pt x="467" y="187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7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60" y="194"/>
                      </a:lnTo>
                      <a:lnTo>
                        <a:pt x="454" y="194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54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7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40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33" y="201"/>
                      </a:lnTo>
                      <a:lnTo>
                        <a:pt x="426" y="201"/>
                      </a:lnTo>
                      <a:lnTo>
                        <a:pt x="426" y="201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26" y="208"/>
                      </a:lnTo>
                      <a:lnTo>
                        <a:pt x="419" y="208"/>
                      </a:lnTo>
                      <a:lnTo>
                        <a:pt x="419" y="201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9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12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08"/>
                      </a:lnTo>
                      <a:lnTo>
                        <a:pt x="406" y="215"/>
                      </a:lnTo>
                      <a:lnTo>
                        <a:pt x="406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9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92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85" y="215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8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2"/>
                      </a:lnTo>
                      <a:lnTo>
                        <a:pt x="371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64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29"/>
                      </a:lnTo>
                      <a:lnTo>
                        <a:pt x="357" y="236"/>
                      </a:lnTo>
                      <a:lnTo>
                        <a:pt x="351" y="236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51" y="229"/>
                      </a:lnTo>
                      <a:lnTo>
                        <a:pt x="344" y="229"/>
                      </a:lnTo>
                      <a:lnTo>
                        <a:pt x="344" y="229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44" y="236"/>
                      </a:lnTo>
                      <a:lnTo>
                        <a:pt x="337" y="236"/>
                      </a:lnTo>
                      <a:lnTo>
                        <a:pt x="337" y="236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7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23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29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30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16" y="236"/>
                      </a:lnTo>
                      <a:lnTo>
                        <a:pt x="316" y="236"/>
                      </a:lnTo>
                      <a:lnTo>
                        <a:pt x="316" y="243"/>
                      </a:lnTo>
                      <a:lnTo>
                        <a:pt x="323" y="243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23" y="236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30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30" y="243"/>
                      </a:lnTo>
                      <a:lnTo>
                        <a:pt x="330" y="250"/>
                      </a:lnTo>
                      <a:lnTo>
                        <a:pt x="323" y="250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43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23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16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9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0"/>
                      </a:lnTo>
                      <a:lnTo>
                        <a:pt x="303" y="257"/>
                      </a:lnTo>
                      <a:lnTo>
                        <a:pt x="303" y="250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96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7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9" y="250"/>
                      </a:lnTo>
                      <a:lnTo>
                        <a:pt x="282" y="250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7"/>
                      </a:lnTo>
                      <a:lnTo>
                        <a:pt x="282" y="250"/>
                      </a:lnTo>
                      <a:lnTo>
                        <a:pt x="282" y="250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7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75" y="250"/>
                      </a:lnTo>
                      <a:lnTo>
                        <a:pt x="268" y="250"/>
                      </a:lnTo>
                      <a:lnTo>
                        <a:pt x="268" y="250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75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43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1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36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9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8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61" y="222"/>
                      </a:lnTo>
                      <a:lnTo>
                        <a:pt x="255" y="222"/>
                      </a:lnTo>
                      <a:lnTo>
                        <a:pt x="255" y="222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55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15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8" y="208"/>
                      </a:lnTo>
                      <a:lnTo>
                        <a:pt x="241" y="208"/>
                      </a:lnTo>
                      <a:lnTo>
                        <a:pt x="241" y="208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1" y="201"/>
                      </a:lnTo>
                      <a:lnTo>
                        <a:pt x="248" y="201"/>
                      </a:lnTo>
                      <a:lnTo>
                        <a:pt x="248" y="201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48" y="194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55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1" y="187"/>
                      </a:lnTo>
                      <a:lnTo>
                        <a:pt x="248" y="187"/>
                      </a:lnTo>
                      <a:lnTo>
                        <a:pt x="248" y="187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48" y="180"/>
                      </a:lnTo>
                      <a:lnTo>
                        <a:pt x="255" y="180"/>
                      </a:lnTo>
                      <a:lnTo>
                        <a:pt x="255" y="180"/>
                      </a:lnTo>
                      <a:lnTo>
                        <a:pt x="248" y="180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74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7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60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48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53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55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46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55" y="132"/>
                      </a:lnTo>
                      <a:lnTo>
                        <a:pt x="248" y="132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8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41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34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25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7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32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20" y="125"/>
                      </a:lnTo>
                      <a:lnTo>
                        <a:pt x="213" y="125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8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13" y="111"/>
                      </a:lnTo>
                      <a:lnTo>
                        <a:pt x="206" y="111"/>
                      </a:lnTo>
                      <a:lnTo>
                        <a:pt x="206" y="111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104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7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6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90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83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76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0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06" y="69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63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6" y="56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200" y="49"/>
                      </a:lnTo>
                      <a:lnTo>
                        <a:pt x="193" y="49"/>
                      </a:lnTo>
                      <a:lnTo>
                        <a:pt x="193" y="49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193" y="35"/>
                      </a:lnTo>
                      <a:lnTo>
                        <a:pt x="200" y="35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1"/>
                      </a:lnTo>
                      <a:lnTo>
                        <a:pt x="200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93" y="21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86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14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9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72" y="7"/>
                      </a:lnTo>
                      <a:lnTo>
                        <a:pt x="165" y="7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65" y="14"/>
                      </a:lnTo>
                      <a:lnTo>
                        <a:pt x="158" y="14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8" y="7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7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21"/>
                      </a:lnTo>
                      <a:lnTo>
                        <a:pt x="145" y="21"/>
                      </a:lnTo>
                      <a:lnTo>
                        <a:pt x="138" y="21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1" y="14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24" y="21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7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0" y="14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7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10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90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83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1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5" y="28"/>
                      </a:lnTo>
                      <a:lnTo>
                        <a:pt x="55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2"/>
                      </a:lnTo>
                      <a:lnTo>
                        <a:pt x="62" y="49"/>
                      </a:lnTo>
                      <a:lnTo>
                        <a:pt x="55" y="49"/>
                      </a:lnTo>
                      <a:lnTo>
                        <a:pt x="55" y="49"/>
                      </a:lnTo>
                      <a:lnTo>
                        <a:pt x="55" y="42"/>
                      </a:lnTo>
                      <a:lnTo>
                        <a:pt x="55" y="42"/>
                      </a:lnTo>
                      <a:lnTo>
                        <a:pt x="55" y="35"/>
                      </a:lnTo>
                      <a:lnTo>
                        <a:pt x="55" y="28"/>
                      </a:lnTo>
                      <a:lnTo>
                        <a:pt x="55" y="28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9" y="21"/>
                      </a:lnTo>
                      <a:lnTo>
                        <a:pt x="42" y="21"/>
                      </a:lnTo>
                      <a:lnTo>
                        <a:pt x="42" y="21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35" y="35"/>
                      </a:lnTo>
                      <a:lnTo>
                        <a:pt x="28" y="35"/>
                      </a:lnTo>
                      <a:lnTo>
                        <a:pt x="28" y="35"/>
                      </a:lnTo>
                      <a:lnTo>
                        <a:pt x="28" y="28"/>
                      </a:lnTo>
                      <a:lnTo>
                        <a:pt x="28" y="28"/>
                      </a:lnTo>
                      <a:lnTo>
                        <a:pt x="21" y="21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80720" y="4876920"/>
                  <a:ext cx="154800" cy="2448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123" y="7"/>
                      </a:moveTo>
                      <a:lnTo>
                        <a:pt x="123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7" y="7"/>
                      </a:lnTo>
                      <a:lnTo>
                        <a:pt x="110" y="7"/>
                      </a:lnTo>
                      <a:lnTo>
                        <a:pt x="110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96" y="14"/>
                      </a:lnTo>
                      <a:lnTo>
                        <a:pt x="96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75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9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7"/>
                      </a:lnTo>
                      <a:lnTo>
                        <a:pt x="62" y="0"/>
                      </a:lnTo>
                      <a:lnTo>
                        <a:pt x="55" y="0"/>
                      </a:lnTo>
                      <a:lnTo>
                        <a:pt x="55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658120" y="4689720"/>
                  <a:ext cx="232920" cy="33372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0" y="242"/>
                      </a:moveTo>
                      <a:lnTo>
                        <a:pt x="0" y="242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7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2"/>
                      </a:lnTo>
                      <a:lnTo>
                        <a:pt x="0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201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7" y="194"/>
                      </a:lnTo>
                      <a:lnTo>
                        <a:pt x="13" y="194"/>
                      </a:lnTo>
                      <a:lnTo>
                        <a:pt x="34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94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7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1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80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48" y="173"/>
                      </a:lnTo>
                      <a:lnTo>
                        <a:pt x="48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66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62" y="159"/>
                      </a:lnTo>
                      <a:lnTo>
                        <a:pt x="55" y="159"/>
                      </a:lnTo>
                      <a:lnTo>
                        <a:pt x="62" y="159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55" y="152"/>
                      </a:lnTo>
                      <a:lnTo>
                        <a:pt x="62" y="145"/>
                      </a:lnTo>
                      <a:lnTo>
                        <a:pt x="55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45"/>
                      </a:lnTo>
                      <a:lnTo>
                        <a:pt x="62" y="138"/>
                      </a:lnTo>
                      <a:lnTo>
                        <a:pt x="62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8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68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31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24"/>
                      </a:lnTo>
                      <a:lnTo>
                        <a:pt x="82" y="124"/>
                      </a:lnTo>
                      <a:lnTo>
                        <a:pt x="75" y="118"/>
                      </a:lnTo>
                      <a:lnTo>
                        <a:pt x="75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82" y="118"/>
                      </a:lnTo>
                      <a:lnTo>
                        <a:pt x="75" y="118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82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104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75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7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90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8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83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83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69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2" y="76"/>
                      </a:lnTo>
                      <a:lnTo>
                        <a:pt x="68" y="76"/>
                      </a:lnTo>
                      <a:lnTo>
                        <a:pt x="68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75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69"/>
                      </a:lnTo>
                      <a:lnTo>
                        <a:pt x="75" y="69"/>
                      </a:lnTo>
                      <a:lnTo>
                        <a:pt x="75" y="69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55"/>
                      </a:lnTo>
                      <a:lnTo>
                        <a:pt x="68" y="48"/>
                      </a:lnTo>
                      <a:lnTo>
                        <a:pt x="68" y="48"/>
                      </a:lnTo>
                      <a:lnTo>
                        <a:pt x="68" y="41"/>
                      </a:lnTo>
                      <a:lnTo>
                        <a:pt x="68" y="41"/>
                      </a:lnTo>
                      <a:lnTo>
                        <a:pt x="62" y="41"/>
                      </a:lnTo>
                      <a:lnTo>
                        <a:pt x="55" y="41"/>
                      </a:lnTo>
                      <a:lnTo>
                        <a:pt x="55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41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68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20"/>
                      </a:lnTo>
                      <a:lnTo>
                        <a:pt x="75" y="14"/>
                      </a:lnTo>
                      <a:lnTo>
                        <a:pt x="75" y="20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14"/>
                      </a:lnTo>
                      <a:lnTo>
                        <a:pt x="82" y="20"/>
                      </a:lnTo>
                      <a:lnTo>
                        <a:pt x="82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20"/>
                      </a:lnTo>
                      <a:lnTo>
                        <a:pt x="89" y="14"/>
                      </a:lnTo>
                      <a:lnTo>
                        <a:pt x="82" y="7"/>
                      </a:lnTo>
                      <a:lnTo>
                        <a:pt x="82" y="0"/>
                      </a:lnTo>
                      <a:lnTo>
                        <a:pt x="82" y="7"/>
                      </a:lnTo>
                      <a:lnTo>
                        <a:pt x="82" y="7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89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96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7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0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51" y="14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64" y="20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34"/>
                      </a:lnTo>
                      <a:lnTo>
                        <a:pt x="185" y="41"/>
                      </a:lnTo>
                      <a:lnTo>
                        <a:pt x="185" y="41"/>
                      </a:lnTo>
                      <a:lnTo>
                        <a:pt x="178" y="48"/>
                      </a:lnTo>
                      <a:lnTo>
                        <a:pt x="178" y="48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55"/>
                      </a:lnTo>
                      <a:lnTo>
                        <a:pt x="178" y="62"/>
                      </a:lnTo>
                      <a:lnTo>
                        <a:pt x="178" y="62"/>
                      </a:lnTo>
                      <a:lnTo>
                        <a:pt x="178" y="69"/>
                      </a:lnTo>
                      <a:lnTo>
                        <a:pt x="178" y="76"/>
                      </a:lnTo>
                      <a:lnTo>
                        <a:pt x="178" y="83"/>
                      </a:lnTo>
                      <a:lnTo>
                        <a:pt x="178" y="97"/>
                      </a:lnTo>
                      <a:lnTo>
                        <a:pt x="185" y="104"/>
                      </a:lnTo>
                      <a:lnTo>
                        <a:pt x="185" y="111"/>
                      </a:lnTo>
                      <a:lnTo>
                        <a:pt x="185" y="118"/>
                      </a:lnTo>
                      <a:lnTo>
                        <a:pt x="185" y="124"/>
                      </a:lnTo>
                      <a:lnTo>
                        <a:pt x="178" y="131"/>
                      </a:lnTo>
                      <a:lnTo>
                        <a:pt x="178" y="138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71" y="145"/>
                      </a:lnTo>
                      <a:lnTo>
                        <a:pt x="164" y="145"/>
                      </a:lnTo>
                      <a:lnTo>
                        <a:pt x="164" y="145"/>
                      </a:lnTo>
                      <a:lnTo>
                        <a:pt x="164" y="152"/>
                      </a:lnTo>
                      <a:lnTo>
                        <a:pt x="158" y="152"/>
                      </a:lnTo>
                      <a:lnTo>
                        <a:pt x="158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59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51" y="166"/>
                      </a:lnTo>
                      <a:lnTo>
                        <a:pt x="144" y="166"/>
                      </a:lnTo>
                      <a:lnTo>
                        <a:pt x="144" y="166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73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0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87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44" y="194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201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0" y="201"/>
                      </a:lnTo>
                      <a:lnTo>
                        <a:pt x="137" y="201"/>
                      </a:lnTo>
                      <a:lnTo>
                        <a:pt x="130" y="201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08"/>
                      </a:lnTo>
                      <a:lnTo>
                        <a:pt x="130" y="215"/>
                      </a:lnTo>
                      <a:lnTo>
                        <a:pt x="123" y="215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2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23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29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29"/>
                      </a:lnTo>
                      <a:lnTo>
                        <a:pt x="116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35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9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103" y="242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2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96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49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56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9" y="263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0"/>
                      </a:lnTo>
                      <a:lnTo>
                        <a:pt x="82" y="277"/>
                      </a:lnTo>
                      <a:lnTo>
                        <a:pt x="75" y="277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75" y="284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84"/>
                      </a:lnTo>
                      <a:lnTo>
                        <a:pt x="68" y="277"/>
                      </a:lnTo>
                      <a:lnTo>
                        <a:pt x="68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62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84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55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8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41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34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7"/>
                      </a:lnTo>
                      <a:lnTo>
                        <a:pt x="27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20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70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63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7" y="256"/>
                      </a:lnTo>
                      <a:lnTo>
                        <a:pt x="13" y="256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13" y="249"/>
                      </a:lnTo>
                      <a:lnTo>
                        <a:pt x="7" y="249"/>
                      </a:lnTo>
                      <a:lnTo>
                        <a:pt x="7" y="249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close/>
                      <a:moveTo>
                        <a:pt x="123" y="229"/>
                      </a:moveTo>
                      <a:lnTo>
                        <a:pt x="123" y="229"/>
                      </a:lnTo>
                      <a:lnTo>
                        <a:pt x="123" y="229"/>
                      </a:lnTo>
                      <a:close/>
                      <a:moveTo>
                        <a:pt x="130" y="208"/>
                      </a:moveTo>
                      <a:lnTo>
                        <a:pt x="130" y="208"/>
                      </a:lnTo>
                      <a:lnTo>
                        <a:pt x="130" y="208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080" y="4974480"/>
                  <a:ext cx="414360" cy="252720"/>
                </a:xfrm>
                <a:custGeom>
                  <a:avLst/>
                  <a:gdLst/>
                  <a:ahLst/>
                  <a:rect l="l" t="t" r="r" b="b"/>
                  <a:pathLst>
                    <a:path w="329" h="215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61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95"/>
                      </a:lnTo>
                      <a:lnTo>
                        <a:pt x="55" y="195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55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1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8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8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41" y="181"/>
                      </a:lnTo>
                      <a:lnTo>
                        <a:pt x="34" y="181"/>
                      </a:lnTo>
                      <a:lnTo>
                        <a:pt x="34" y="181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41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34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88"/>
                      </a:lnTo>
                      <a:lnTo>
                        <a:pt x="27" y="195"/>
                      </a:lnTo>
                      <a:lnTo>
                        <a:pt x="20" y="195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20" y="188"/>
                      </a:lnTo>
                      <a:lnTo>
                        <a:pt x="20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195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2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2"/>
                      </a:lnTo>
                      <a:lnTo>
                        <a:pt x="20" y="202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13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15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0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34" y="215"/>
                      </a:lnTo>
                      <a:lnTo>
                        <a:pt x="27" y="215"/>
                      </a:lnTo>
                      <a:lnTo>
                        <a:pt x="27" y="209"/>
                      </a:lnTo>
                      <a:lnTo>
                        <a:pt x="27" y="209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7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20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13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15"/>
                      </a:lnTo>
                      <a:lnTo>
                        <a:pt x="7" y="209"/>
                      </a:lnTo>
                      <a:lnTo>
                        <a:pt x="7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2"/>
                      </a:lnTo>
                      <a:lnTo>
                        <a:pt x="0" y="202"/>
                      </a:lnTo>
                      <a:close/>
                      <a:moveTo>
                        <a:pt x="27" y="215"/>
                      </a:moveTo>
                      <a:lnTo>
                        <a:pt x="27" y="215"/>
                      </a:lnTo>
                      <a:lnTo>
                        <a:pt x="27" y="215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338080" y="4974480"/>
                  <a:ext cx="414360" cy="237600"/>
                </a:xfrm>
                <a:custGeom>
                  <a:avLst/>
                  <a:gdLst/>
                  <a:ahLst/>
                  <a:rect l="l" t="t" r="r" b="b"/>
                  <a:pathLst>
                    <a:path w="329" h="202">
                      <a:moveTo>
                        <a:pt x="0" y="202"/>
                      </a:move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0" y="202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95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8"/>
                      </a:lnTo>
                      <a:lnTo>
                        <a:pt x="7" y="181"/>
                      </a:lnTo>
                      <a:lnTo>
                        <a:pt x="7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13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81"/>
                      </a:lnTo>
                      <a:lnTo>
                        <a:pt x="20" y="174"/>
                      </a:lnTo>
                      <a:lnTo>
                        <a:pt x="20" y="181"/>
                      </a:lnTo>
                      <a:lnTo>
                        <a:pt x="27" y="174"/>
                      </a:lnTo>
                      <a:lnTo>
                        <a:pt x="27" y="181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27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34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1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74"/>
                      </a:lnTo>
                      <a:lnTo>
                        <a:pt x="48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7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61" y="160"/>
                      </a:lnTo>
                      <a:lnTo>
                        <a:pt x="61" y="160"/>
                      </a:lnTo>
                      <a:lnTo>
                        <a:pt x="55" y="160"/>
                      </a:lnTo>
                      <a:lnTo>
                        <a:pt x="55" y="160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55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8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34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7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53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20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46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13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9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7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13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32"/>
                      </a:lnTo>
                      <a:lnTo>
                        <a:pt x="20" y="125"/>
                      </a:lnTo>
                      <a:lnTo>
                        <a:pt x="20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32"/>
                      </a:lnTo>
                      <a:lnTo>
                        <a:pt x="27" y="125"/>
                      </a:lnTo>
                      <a:lnTo>
                        <a:pt x="27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34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1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48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25"/>
                      </a:lnTo>
                      <a:lnTo>
                        <a:pt x="55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8"/>
                      </a:lnTo>
                      <a:lnTo>
                        <a:pt x="68" y="111"/>
                      </a:lnTo>
                      <a:lnTo>
                        <a:pt x="68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8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75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2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11"/>
                      </a:lnTo>
                      <a:lnTo>
                        <a:pt x="89" y="104"/>
                      </a:lnTo>
                      <a:lnTo>
                        <a:pt x="96" y="111"/>
                      </a:lnTo>
                      <a:lnTo>
                        <a:pt x="96" y="104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96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04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03" y="111"/>
                      </a:lnTo>
                      <a:lnTo>
                        <a:pt x="110" y="111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04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0" y="111"/>
                      </a:lnTo>
                      <a:lnTo>
                        <a:pt x="116" y="111"/>
                      </a:lnTo>
                      <a:lnTo>
                        <a:pt x="116" y="104"/>
                      </a:lnTo>
                      <a:lnTo>
                        <a:pt x="116" y="104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16" y="111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23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0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37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04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44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1" y="111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58" y="104"/>
                      </a:lnTo>
                      <a:lnTo>
                        <a:pt x="164" y="104"/>
                      </a:lnTo>
                      <a:lnTo>
                        <a:pt x="164" y="104"/>
                      </a:lnTo>
                      <a:lnTo>
                        <a:pt x="164" y="98"/>
                      </a:lnTo>
                      <a:lnTo>
                        <a:pt x="164" y="98"/>
                      </a:lnTo>
                      <a:lnTo>
                        <a:pt x="171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8"/>
                      </a:lnTo>
                      <a:lnTo>
                        <a:pt x="178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85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2" y="91"/>
                      </a:lnTo>
                      <a:lnTo>
                        <a:pt x="199" y="84"/>
                      </a:lnTo>
                      <a:lnTo>
                        <a:pt x="206" y="84"/>
                      </a:lnTo>
                      <a:lnTo>
                        <a:pt x="206" y="84"/>
                      </a:lnTo>
                      <a:lnTo>
                        <a:pt x="213" y="84"/>
                      </a:lnTo>
                      <a:lnTo>
                        <a:pt x="213" y="84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7"/>
                      </a:lnTo>
                      <a:lnTo>
                        <a:pt x="219" y="70"/>
                      </a:lnTo>
                      <a:lnTo>
                        <a:pt x="219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7"/>
                      </a:lnTo>
                      <a:lnTo>
                        <a:pt x="213" y="77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70"/>
                      </a:lnTo>
                      <a:lnTo>
                        <a:pt x="213" y="63"/>
                      </a:lnTo>
                      <a:lnTo>
                        <a:pt x="213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63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56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9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19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42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35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26" y="28"/>
                      </a:lnTo>
                      <a:lnTo>
                        <a:pt x="233" y="28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0" y="14"/>
                      </a:lnTo>
                      <a:lnTo>
                        <a:pt x="240" y="7"/>
                      </a:lnTo>
                      <a:lnTo>
                        <a:pt x="247" y="14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7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54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0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7"/>
                      </a:lnTo>
                      <a:lnTo>
                        <a:pt x="267" y="14"/>
                      </a:lnTo>
                      <a:lnTo>
                        <a:pt x="261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14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1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67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74" y="28"/>
                      </a:lnTo>
                      <a:lnTo>
                        <a:pt x="281" y="28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1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88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295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2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42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09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16" y="35"/>
                      </a:lnTo>
                      <a:lnTo>
                        <a:pt x="322" y="35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2" y="35"/>
                      </a:lnTo>
                      <a:lnTo>
                        <a:pt x="322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2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9" y="49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56"/>
                      </a:lnTo>
                      <a:lnTo>
                        <a:pt x="322" y="63"/>
                      </a:lnTo>
                      <a:lnTo>
                        <a:pt x="322" y="63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0"/>
                      </a:lnTo>
                      <a:lnTo>
                        <a:pt x="322" y="77"/>
                      </a:lnTo>
                      <a:lnTo>
                        <a:pt x="322" y="77"/>
                      </a:lnTo>
                      <a:lnTo>
                        <a:pt x="322" y="84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98"/>
                      </a:lnTo>
                      <a:lnTo>
                        <a:pt x="329" y="104"/>
                      </a:lnTo>
                      <a:lnTo>
                        <a:pt x="329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22" y="104"/>
                      </a:lnTo>
                      <a:lnTo>
                        <a:pt x="316" y="111"/>
                      </a:lnTo>
                      <a:lnTo>
                        <a:pt x="316" y="111"/>
                      </a:lnTo>
                      <a:lnTo>
                        <a:pt x="309" y="111"/>
                      </a:lnTo>
                      <a:lnTo>
                        <a:pt x="309" y="111"/>
                      </a:lnTo>
                      <a:lnTo>
                        <a:pt x="302" y="118"/>
                      </a:lnTo>
                      <a:lnTo>
                        <a:pt x="288" y="118"/>
                      </a:lnTo>
                      <a:lnTo>
                        <a:pt x="288" y="118"/>
                      </a:lnTo>
                      <a:lnTo>
                        <a:pt x="281" y="118"/>
                      </a:lnTo>
                      <a:lnTo>
                        <a:pt x="281" y="125"/>
                      </a:lnTo>
                      <a:lnTo>
                        <a:pt x="274" y="125"/>
                      </a:lnTo>
                      <a:lnTo>
                        <a:pt x="274" y="125"/>
                      </a:lnTo>
                      <a:lnTo>
                        <a:pt x="267" y="125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2"/>
                      </a:lnTo>
                      <a:lnTo>
                        <a:pt x="261" y="139"/>
                      </a:lnTo>
                      <a:lnTo>
                        <a:pt x="261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39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54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7" y="146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53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0" y="160"/>
                      </a:lnTo>
                      <a:lnTo>
                        <a:pt x="247" y="160"/>
                      </a:lnTo>
                      <a:lnTo>
                        <a:pt x="247" y="160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54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67"/>
                      </a:lnTo>
                      <a:lnTo>
                        <a:pt x="247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7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74"/>
                      </a:lnTo>
                      <a:lnTo>
                        <a:pt x="240" y="174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1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40" y="181"/>
                      </a:lnTo>
                      <a:lnTo>
                        <a:pt x="233" y="181"/>
                      </a:lnTo>
                      <a:lnTo>
                        <a:pt x="219" y="181"/>
                      </a:lnTo>
                      <a:lnTo>
                        <a:pt x="213" y="181"/>
                      </a:lnTo>
                      <a:lnTo>
                        <a:pt x="206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9" y="181"/>
                      </a:lnTo>
                      <a:lnTo>
                        <a:pt x="192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85" y="181"/>
                      </a:lnTo>
                      <a:lnTo>
                        <a:pt x="178" y="181"/>
                      </a:lnTo>
                      <a:lnTo>
                        <a:pt x="171" y="181"/>
                      </a:lnTo>
                      <a:lnTo>
                        <a:pt x="171" y="181"/>
                      </a:lnTo>
                      <a:lnTo>
                        <a:pt x="164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8" y="181"/>
                      </a:lnTo>
                      <a:lnTo>
                        <a:pt x="158" y="188"/>
                      </a:lnTo>
                      <a:lnTo>
                        <a:pt x="151" y="188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51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44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74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1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7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8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51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44" y="160"/>
                      </a:lnTo>
                      <a:lnTo>
                        <a:pt x="137" y="160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7" y="167"/>
                      </a:lnTo>
                      <a:lnTo>
                        <a:pt x="130" y="167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74"/>
                      </a:lnTo>
                      <a:lnTo>
                        <a:pt x="137" y="181"/>
                      </a:lnTo>
                      <a:lnTo>
                        <a:pt x="137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1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44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7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23" y="181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1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23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30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6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03" y="195"/>
                      </a:lnTo>
                      <a:lnTo>
                        <a:pt x="89" y="195"/>
                      </a:lnTo>
                      <a:lnTo>
                        <a:pt x="82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95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88"/>
                      </a:lnTo>
                      <a:lnTo>
                        <a:pt x="75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95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2" y="188"/>
                      </a:lnTo>
                      <a:lnTo>
                        <a:pt x="89" y="195"/>
                      </a:lnTo>
                      <a:lnTo>
                        <a:pt x="89" y="195"/>
                      </a:lnTo>
                      <a:lnTo>
                        <a:pt x="96" y="195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95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10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103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8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96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9" y="181"/>
                      </a:lnTo>
                      <a:lnTo>
                        <a:pt x="89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82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75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8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1"/>
                      </a:lnTo>
                      <a:lnTo>
                        <a:pt x="68" y="18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338080" y="5187240"/>
                  <a:ext cx="85320" cy="39960"/>
                </a:xfrm>
                <a:custGeom>
                  <a:avLst/>
                  <a:gdLst/>
                  <a:ahLst/>
                  <a:rect l="l" t="t" r="r" b="b"/>
                  <a:pathLst>
                    <a:path w="68" h="34">
                      <a:moveTo>
                        <a:pt x="68" y="7"/>
                      </a:move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61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14"/>
                      </a:lnTo>
                      <a:lnTo>
                        <a:pt x="55" y="14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20" y="7"/>
                      </a:lnTo>
                      <a:lnTo>
                        <a:pt x="20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1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20" y="21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13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34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0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34" y="34"/>
                      </a:lnTo>
                      <a:lnTo>
                        <a:pt x="27" y="34"/>
                      </a:lnTo>
                      <a:lnTo>
                        <a:pt x="27" y="28"/>
                      </a:lnTo>
                      <a:lnTo>
                        <a:pt x="27" y="28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34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72280" y="52272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674680" y="512964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74680" y="51379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37228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363640" y="521208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37228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63640" y="521208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363640" y="522036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54640" y="522036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354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63640" y="521208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54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54640" y="520380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363640" y="520380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3722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72280" y="5195520"/>
                  <a:ext cx="1080" cy="792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7228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389920" y="5203800"/>
                  <a:ext cx="33840" cy="1620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7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23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512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32760" y="5195520"/>
                  <a:ext cx="8640" cy="72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3276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41400" y="518724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41400" y="5195520"/>
                  <a:ext cx="1080" cy="720"/>
                </a:xfrm>
                <a:prstGeom prst="ellipse">
                  <a:avLst/>
                </a:prstGeom>
                <a:solidFill>
                  <a:srgbClr val="005ce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32760" y="519552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7668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484240" y="5203800"/>
                  <a:ext cx="1080" cy="72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ce6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484600" y="5195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1952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10880" y="520416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510880" y="5204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1952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1088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10880" y="519588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502240" y="519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8520" y="5171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10880" y="51710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10880" y="5179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13080" y="5326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21720" y="5334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174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42680" y="5276880"/>
                <a:ext cx="1080" cy="108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268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25132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513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4268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68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779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8552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77960" y="52686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6" y="7"/>
                    </a:move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94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9416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5520" y="52851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3160" y="527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3160" y="527688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3160" y="52686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20800" y="526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85520" y="5252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94160" y="525240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0316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0316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11800" y="52441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20800" y="524412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29440" y="52275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29440" y="5235840"/>
                <a:ext cx="1080" cy="720"/>
              </a:xfrm>
              <a:prstGeom prst="rect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38080" y="5235840"/>
                <a:ext cx="1080" cy="720"/>
              </a:xfrm>
              <a:prstGeom prst="ellipse">
                <a:avLst/>
              </a:prstGeom>
              <a:solidFill>
                <a:srgbClr val="005ce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5520" y="52524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800" y="52441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8080" y="52275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38080" y="52358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64360" y="4876920"/>
                <a:ext cx="950400" cy="546840"/>
              </a:xfrm>
              <a:custGeom>
                <a:avLst/>
                <a:gdLst/>
                <a:ahLst/>
                <a:rect l="l" t="t" r="r" b="b"/>
                <a:pathLst>
                  <a:path w="755" h="465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8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57"/>
                    </a:lnTo>
                    <a:lnTo>
                      <a:pt x="721" y="264"/>
                    </a:lnTo>
                    <a:lnTo>
                      <a:pt x="721" y="257"/>
                    </a:lnTo>
                    <a:lnTo>
                      <a:pt x="714" y="264"/>
                    </a:lnTo>
                    <a:lnTo>
                      <a:pt x="714" y="257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14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7" y="264"/>
                    </a:lnTo>
                    <a:lnTo>
                      <a:pt x="701" y="264"/>
                    </a:lnTo>
                    <a:lnTo>
                      <a:pt x="701" y="264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1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701" y="278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85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694" y="292"/>
                    </a:lnTo>
                    <a:lnTo>
                      <a:pt x="701" y="292"/>
                    </a:lnTo>
                    <a:lnTo>
                      <a:pt x="701" y="292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7" y="298"/>
                    </a:lnTo>
                    <a:lnTo>
                      <a:pt x="707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701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305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94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298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7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73" y="305"/>
                    </a:lnTo>
                    <a:lnTo>
                      <a:pt x="673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05"/>
                    </a:lnTo>
                    <a:lnTo>
                      <a:pt x="680" y="312"/>
                    </a:lnTo>
                    <a:lnTo>
                      <a:pt x="680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73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2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66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9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52" y="326"/>
                    </a:lnTo>
                    <a:lnTo>
                      <a:pt x="652" y="319"/>
                    </a:lnTo>
                    <a:lnTo>
                      <a:pt x="646" y="319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26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46" y="333"/>
                    </a:lnTo>
                    <a:lnTo>
                      <a:pt x="646" y="333"/>
                    </a:lnTo>
                    <a:lnTo>
                      <a:pt x="652" y="333"/>
                    </a:lnTo>
                    <a:lnTo>
                      <a:pt x="652" y="333"/>
                    </a:lnTo>
                    <a:lnTo>
                      <a:pt x="652" y="340"/>
                    </a:lnTo>
                    <a:lnTo>
                      <a:pt x="652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46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9" y="340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40"/>
                    </a:lnTo>
                    <a:lnTo>
                      <a:pt x="632" y="340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32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25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8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11" y="333"/>
                    </a:lnTo>
                    <a:lnTo>
                      <a:pt x="604" y="333"/>
                    </a:lnTo>
                    <a:lnTo>
                      <a:pt x="598" y="333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8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84" y="340"/>
                    </a:lnTo>
                    <a:lnTo>
                      <a:pt x="591" y="340"/>
                    </a:lnTo>
                    <a:lnTo>
                      <a:pt x="584" y="340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47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84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7" y="354"/>
                    </a:lnTo>
                    <a:lnTo>
                      <a:pt x="570" y="361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70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63" y="354"/>
                    </a:lnTo>
                    <a:lnTo>
                      <a:pt x="556" y="354"/>
                    </a:lnTo>
                    <a:lnTo>
                      <a:pt x="556" y="361"/>
                    </a:lnTo>
                    <a:lnTo>
                      <a:pt x="550" y="361"/>
                    </a:lnTo>
                    <a:lnTo>
                      <a:pt x="536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9" y="368"/>
                    </a:lnTo>
                    <a:lnTo>
                      <a:pt x="522" y="375"/>
                    </a:lnTo>
                    <a:lnTo>
                      <a:pt x="515" y="375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15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495" y="396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95" y="403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81" y="409"/>
                    </a:lnTo>
                    <a:lnTo>
                      <a:pt x="474" y="409"/>
                    </a:lnTo>
                    <a:lnTo>
                      <a:pt x="474" y="416"/>
                    </a:lnTo>
                    <a:lnTo>
                      <a:pt x="474" y="416"/>
                    </a:lnTo>
                    <a:lnTo>
                      <a:pt x="467" y="416"/>
                    </a:lnTo>
                    <a:lnTo>
                      <a:pt x="460" y="423"/>
                    </a:lnTo>
                    <a:lnTo>
                      <a:pt x="460" y="423"/>
                    </a:lnTo>
                    <a:lnTo>
                      <a:pt x="447" y="430"/>
                    </a:lnTo>
                    <a:lnTo>
                      <a:pt x="440" y="437"/>
                    </a:lnTo>
                    <a:lnTo>
                      <a:pt x="440" y="437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44"/>
                    </a:lnTo>
                    <a:lnTo>
                      <a:pt x="440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40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1"/>
                    </a:lnTo>
                    <a:lnTo>
                      <a:pt x="433" y="458"/>
                    </a:lnTo>
                    <a:lnTo>
                      <a:pt x="426" y="458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26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9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8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51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44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12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37"/>
                    </a:lnTo>
                    <a:lnTo>
                      <a:pt x="405" y="437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405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44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8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37"/>
                    </a:lnTo>
                    <a:lnTo>
                      <a:pt x="392" y="444"/>
                    </a:lnTo>
                    <a:lnTo>
                      <a:pt x="392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85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44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7"/>
                    </a:lnTo>
                    <a:lnTo>
                      <a:pt x="385" y="437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78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85" y="430"/>
                    </a:lnTo>
                    <a:lnTo>
                      <a:pt x="378" y="430"/>
                    </a:lnTo>
                    <a:lnTo>
                      <a:pt x="378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23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85" y="416"/>
                    </a:lnTo>
                    <a:lnTo>
                      <a:pt x="378" y="416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8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71" y="416"/>
                    </a:lnTo>
                    <a:lnTo>
                      <a:pt x="371" y="409"/>
                    </a:lnTo>
                    <a:lnTo>
                      <a:pt x="371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64" y="416"/>
                    </a:lnTo>
                    <a:lnTo>
                      <a:pt x="364" y="416"/>
                    </a:lnTo>
                    <a:lnTo>
                      <a:pt x="364" y="409"/>
                    </a:lnTo>
                    <a:lnTo>
                      <a:pt x="364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7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50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44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7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09"/>
                    </a:lnTo>
                    <a:lnTo>
                      <a:pt x="330" y="416"/>
                    </a:lnTo>
                    <a:lnTo>
                      <a:pt x="323" y="416"/>
                    </a:lnTo>
                    <a:lnTo>
                      <a:pt x="323" y="416"/>
                    </a:lnTo>
                    <a:lnTo>
                      <a:pt x="323" y="409"/>
                    </a:lnTo>
                    <a:lnTo>
                      <a:pt x="323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16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403"/>
                    </a:lnTo>
                    <a:lnTo>
                      <a:pt x="323" y="396"/>
                    </a:lnTo>
                    <a:lnTo>
                      <a:pt x="316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96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9"/>
                    </a:lnTo>
                    <a:lnTo>
                      <a:pt x="323" y="382"/>
                    </a:lnTo>
                    <a:lnTo>
                      <a:pt x="330" y="382"/>
                    </a:lnTo>
                    <a:lnTo>
                      <a:pt x="330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23" y="382"/>
                    </a:lnTo>
                    <a:lnTo>
                      <a:pt x="316" y="382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75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9" y="361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54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302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7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40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33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95" y="326"/>
                    </a:lnTo>
                    <a:lnTo>
                      <a:pt x="289" y="326"/>
                    </a:lnTo>
                    <a:lnTo>
                      <a:pt x="295" y="326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9" y="319"/>
                    </a:lnTo>
                    <a:lnTo>
                      <a:pt x="289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89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12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95" y="305"/>
                    </a:lnTo>
                    <a:lnTo>
                      <a:pt x="289" y="305"/>
                    </a:lnTo>
                    <a:lnTo>
                      <a:pt x="295" y="298"/>
                    </a:lnTo>
                    <a:lnTo>
                      <a:pt x="295" y="305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95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8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92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9" y="285"/>
                    </a:lnTo>
                    <a:lnTo>
                      <a:pt x="282" y="285"/>
                    </a:lnTo>
                    <a:lnTo>
                      <a:pt x="282" y="285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75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8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8" y="271"/>
                    </a:lnTo>
                    <a:lnTo>
                      <a:pt x="261" y="271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61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54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41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34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7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20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13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64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92" y="257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86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9" y="250"/>
                    </a:lnTo>
                    <a:lnTo>
                      <a:pt x="172" y="250"/>
                    </a:lnTo>
                    <a:lnTo>
                      <a:pt x="172" y="250"/>
                    </a:lnTo>
                    <a:lnTo>
                      <a:pt x="165" y="250"/>
                    </a:lnTo>
                    <a:lnTo>
                      <a:pt x="165" y="250"/>
                    </a:lnTo>
                    <a:lnTo>
                      <a:pt x="158" y="250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8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51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8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31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24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7" y="243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10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36"/>
                    </a:lnTo>
                    <a:lnTo>
                      <a:pt x="96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90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83" y="229"/>
                    </a:lnTo>
                    <a:lnTo>
                      <a:pt x="76" y="229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36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76" y="243"/>
                    </a:lnTo>
                    <a:lnTo>
                      <a:pt x="69" y="243"/>
                    </a:lnTo>
                    <a:lnTo>
                      <a:pt x="69" y="243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9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62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55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8" y="236"/>
                    </a:lnTo>
                    <a:lnTo>
                      <a:pt x="41" y="236"/>
                    </a:lnTo>
                    <a:lnTo>
                      <a:pt x="41" y="236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35" y="236"/>
                    </a:lnTo>
                    <a:lnTo>
                      <a:pt x="35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64360" y="4876920"/>
                <a:ext cx="950400" cy="310320"/>
              </a:xfrm>
              <a:custGeom>
                <a:avLst/>
                <a:gdLst/>
                <a:ahLst/>
                <a:rect l="l" t="t" r="r" b="b"/>
                <a:pathLst>
                  <a:path w="755" h="264">
                    <a:moveTo>
                      <a:pt x="0" y="236"/>
                    </a:move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7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1" y="215"/>
                    </a:lnTo>
                    <a:lnTo>
                      <a:pt x="21" y="215"/>
                    </a:lnTo>
                    <a:lnTo>
                      <a:pt x="28" y="215"/>
                    </a:lnTo>
                    <a:lnTo>
                      <a:pt x="28" y="215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1" y="208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48" y="201"/>
                    </a:lnTo>
                    <a:lnTo>
                      <a:pt x="55" y="201"/>
                    </a:lnTo>
                    <a:lnTo>
                      <a:pt x="55" y="201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55" y="194"/>
                    </a:lnTo>
                    <a:lnTo>
                      <a:pt x="62" y="194"/>
                    </a:lnTo>
                    <a:lnTo>
                      <a:pt x="62" y="187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9" y="181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69" y="174"/>
                    </a:lnTo>
                    <a:lnTo>
                      <a:pt x="76" y="174"/>
                    </a:lnTo>
                    <a:lnTo>
                      <a:pt x="76" y="174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76" y="167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83" y="160"/>
                    </a:lnTo>
                    <a:lnTo>
                      <a:pt x="90" y="160"/>
                    </a:lnTo>
                    <a:lnTo>
                      <a:pt x="90" y="153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83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0" y="146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9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3" y="132"/>
                    </a:lnTo>
                    <a:lnTo>
                      <a:pt x="103" y="132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17" y="97"/>
                    </a:lnTo>
                    <a:lnTo>
                      <a:pt x="124" y="97"/>
                    </a:lnTo>
                    <a:lnTo>
                      <a:pt x="124" y="97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90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83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31" y="70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38" y="56"/>
                    </a:lnTo>
                    <a:lnTo>
                      <a:pt x="144" y="56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44" y="49"/>
                    </a:lnTo>
                    <a:lnTo>
                      <a:pt x="151" y="42"/>
                    </a:lnTo>
                    <a:lnTo>
                      <a:pt x="151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58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65" y="42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28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86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14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7" y="0"/>
                    </a:lnTo>
                    <a:lnTo>
                      <a:pt x="227" y="0"/>
                    </a:lnTo>
                    <a:lnTo>
                      <a:pt x="234" y="0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1" y="7"/>
                    </a:lnTo>
                    <a:lnTo>
                      <a:pt x="261" y="7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5" y="14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295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16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23" y="14"/>
                    </a:lnTo>
                    <a:lnTo>
                      <a:pt x="316" y="14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42"/>
                    </a:lnTo>
                    <a:lnTo>
                      <a:pt x="323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0" y="42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44" y="28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9"/>
                    </a:lnTo>
                    <a:lnTo>
                      <a:pt x="350" y="49"/>
                    </a:lnTo>
                    <a:lnTo>
                      <a:pt x="350" y="56"/>
                    </a:lnTo>
                    <a:lnTo>
                      <a:pt x="350" y="56"/>
                    </a:lnTo>
                    <a:lnTo>
                      <a:pt x="357" y="56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9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0" y="42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57" y="28"/>
                    </a:lnTo>
                    <a:lnTo>
                      <a:pt x="364" y="28"/>
                    </a:lnTo>
                    <a:lnTo>
                      <a:pt x="364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1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78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85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2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398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05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12" y="28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05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2" y="21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19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8"/>
                    </a:lnTo>
                    <a:lnTo>
                      <a:pt x="426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1"/>
                    </a:lnTo>
                    <a:lnTo>
                      <a:pt x="433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21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7" y="14"/>
                    </a:lnTo>
                    <a:lnTo>
                      <a:pt x="447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14"/>
                    </a:lnTo>
                    <a:lnTo>
                      <a:pt x="453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21"/>
                    </a:lnTo>
                    <a:lnTo>
                      <a:pt x="460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67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14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74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1" y="21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88" y="28"/>
                    </a:lnTo>
                    <a:lnTo>
                      <a:pt x="495" y="28"/>
                    </a:lnTo>
                    <a:lnTo>
                      <a:pt x="495" y="28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35"/>
                    </a:lnTo>
                    <a:lnTo>
                      <a:pt x="495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2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49"/>
                    </a:lnTo>
                    <a:lnTo>
                      <a:pt x="488" y="56"/>
                    </a:lnTo>
                    <a:lnTo>
                      <a:pt x="488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495" y="56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63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1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8" y="70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501" y="76"/>
                    </a:lnTo>
                    <a:lnTo>
                      <a:pt x="495" y="76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83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0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495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97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04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1"/>
                    </a:lnTo>
                    <a:lnTo>
                      <a:pt x="501" y="118"/>
                    </a:lnTo>
                    <a:lnTo>
                      <a:pt x="501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18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25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15" y="132"/>
                    </a:lnTo>
                    <a:lnTo>
                      <a:pt x="508" y="132"/>
                    </a:lnTo>
                    <a:lnTo>
                      <a:pt x="515" y="132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15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9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2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29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36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2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43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0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39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46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6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53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50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0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74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1"/>
                    </a:lnTo>
                    <a:lnTo>
                      <a:pt x="543" y="187"/>
                    </a:lnTo>
                    <a:lnTo>
                      <a:pt x="550" y="187"/>
                    </a:lnTo>
                    <a:lnTo>
                      <a:pt x="550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87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36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43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50" y="194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1"/>
                    </a:lnTo>
                    <a:lnTo>
                      <a:pt x="543" y="208"/>
                    </a:lnTo>
                    <a:lnTo>
                      <a:pt x="543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08"/>
                    </a:lnTo>
                    <a:lnTo>
                      <a:pt x="536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36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15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43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2"/>
                    </a:lnTo>
                    <a:lnTo>
                      <a:pt x="550" y="229"/>
                    </a:lnTo>
                    <a:lnTo>
                      <a:pt x="550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36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56" y="243"/>
                    </a:lnTo>
                    <a:lnTo>
                      <a:pt x="563" y="243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43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63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70" y="250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63" y="257"/>
                    </a:lnTo>
                    <a:lnTo>
                      <a:pt x="563" y="257"/>
                    </a:lnTo>
                    <a:lnTo>
                      <a:pt x="570" y="257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77" y="257"/>
                    </a:lnTo>
                    <a:lnTo>
                      <a:pt x="577" y="257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1" y="264"/>
                    </a:lnTo>
                    <a:lnTo>
                      <a:pt x="598" y="257"/>
                    </a:lnTo>
                    <a:lnTo>
                      <a:pt x="598" y="264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598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1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7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7"/>
                    </a:lnTo>
                    <a:lnTo>
                      <a:pt x="625" y="257"/>
                    </a:lnTo>
                    <a:lnTo>
                      <a:pt x="625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18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25" y="250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50"/>
                    </a:lnTo>
                    <a:lnTo>
                      <a:pt x="611" y="250"/>
                    </a:lnTo>
                    <a:lnTo>
                      <a:pt x="611" y="243"/>
                    </a:lnTo>
                    <a:lnTo>
                      <a:pt x="611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18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18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36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25" y="243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36"/>
                    </a:lnTo>
                    <a:lnTo>
                      <a:pt x="632" y="243"/>
                    </a:lnTo>
                    <a:lnTo>
                      <a:pt x="632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43"/>
                    </a:lnTo>
                    <a:lnTo>
                      <a:pt x="639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39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36"/>
                    </a:lnTo>
                    <a:lnTo>
                      <a:pt x="646" y="243"/>
                    </a:lnTo>
                    <a:lnTo>
                      <a:pt x="652" y="243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2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59" y="236"/>
                    </a:lnTo>
                    <a:lnTo>
                      <a:pt x="666" y="236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66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73" y="229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0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87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694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1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2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07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29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14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1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28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35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2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36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55" y="243"/>
                    </a:lnTo>
                    <a:lnTo>
                      <a:pt x="755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43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9" y="250"/>
                    </a:lnTo>
                    <a:lnTo>
                      <a:pt x="742" y="250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42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  <a:lnTo>
                      <a:pt x="735" y="25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64360" y="5146560"/>
                <a:ext cx="925560" cy="277200"/>
              </a:xfrm>
              <a:custGeom>
                <a:avLst/>
                <a:gdLst/>
                <a:ahLst/>
                <a:rect l="l" t="t" r="r" b="b"/>
                <a:pathLst>
                  <a:path w="735" h="236">
                    <a:moveTo>
                      <a:pt x="735" y="28"/>
                    </a:moveTo>
                    <a:lnTo>
                      <a:pt x="735" y="28"/>
                    </a:lnTo>
                    <a:lnTo>
                      <a:pt x="735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8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28"/>
                    </a:lnTo>
                    <a:lnTo>
                      <a:pt x="721" y="35"/>
                    </a:lnTo>
                    <a:lnTo>
                      <a:pt x="721" y="28"/>
                    </a:lnTo>
                    <a:lnTo>
                      <a:pt x="714" y="35"/>
                    </a:lnTo>
                    <a:lnTo>
                      <a:pt x="714" y="28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14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7" y="35"/>
                    </a:lnTo>
                    <a:lnTo>
                      <a:pt x="701" y="35"/>
                    </a:lnTo>
                    <a:lnTo>
                      <a:pt x="701" y="35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2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701" y="49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56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694" y="63"/>
                    </a:lnTo>
                    <a:lnTo>
                      <a:pt x="701" y="63"/>
                    </a:lnTo>
                    <a:lnTo>
                      <a:pt x="701" y="63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7" y="69"/>
                    </a:lnTo>
                    <a:lnTo>
                      <a:pt x="707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701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76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94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69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7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73" y="76"/>
                    </a:lnTo>
                    <a:lnTo>
                      <a:pt x="673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76"/>
                    </a:lnTo>
                    <a:lnTo>
                      <a:pt x="680" y="83"/>
                    </a:lnTo>
                    <a:lnTo>
                      <a:pt x="680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73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83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66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9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52" y="97"/>
                    </a:lnTo>
                    <a:lnTo>
                      <a:pt x="652" y="90"/>
                    </a:lnTo>
                    <a:lnTo>
                      <a:pt x="646" y="90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97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46" y="104"/>
                    </a:lnTo>
                    <a:lnTo>
                      <a:pt x="646" y="104"/>
                    </a:lnTo>
                    <a:lnTo>
                      <a:pt x="652" y="104"/>
                    </a:lnTo>
                    <a:lnTo>
                      <a:pt x="652" y="104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46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9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32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25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8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11" y="104"/>
                    </a:lnTo>
                    <a:lnTo>
                      <a:pt x="604" y="104"/>
                    </a:lnTo>
                    <a:lnTo>
                      <a:pt x="598" y="104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84" y="111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18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84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7" y="125"/>
                    </a:lnTo>
                    <a:lnTo>
                      <a:pt x="570" y="132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70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63" y="125"/>
                    </a:lnTo>
                    <a:lnTo>
                      <a:pt x="556" y="125"/>
                    </a:lnTo>
                    <a:lnTo>
                      <a:pt x="556" y="132"/>
                    </a:lnTo>
                    <a:lnTo>
                      <a:pt x="550" y="132"/>
                    </a:lnTo>
                    <a:lnTo>
                      <a:pt x="536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9" y="139"/>
                    </a:lnTo>
                    <a:lnTo>
                      <a:pt x="522" y="146"/>
                    </a:lnTo>
                    <a:lnTo>
                      <a:pt x="515" y="146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15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0"/>
                    </a:lnTo>
                    <a:lnTo>
                      <a:pt x="508" y="167"/>
                    </a:lnTo>
                    <a:lnTo>
                      <a:pt x="501" y="167"/>
                    </a:lnTo>
                    <a:lnTo>
                      <a:pt x="501" y="167"/>
                    </a:lnTo>
                    <a:lnTo>
                      <a:pt x="495" y="167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95" y="174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81" y="180"/>
                    </a:lnTo>
                    <a:lnTo>
                      <a:pt x="474" y="180"/>
                    </a:lnTo>
                    <a:lnTo>
                      <a:pt x="474" y="187"/>
                    </a:lnTo>
                    <a:lnTo>
                      <a:pt x="474" y="187"/>
                    </a:lnTo>
                    <a:lnTo>
                      <a:pt x="467" y="187"/>
                    </a:lnTo>
                    <a:lnTo>
                      <a:pt x="460" y="194"/>
                    </a:lnTo>
                    <a:lnTo>
                      <a:pt x="460" y="194"/>
                    </a:lnTo>
                    <a:lnTo>
                      <a:pt x="447" y="201"/>
                    </a:lnTo>
                    <a:lnTo>
                      <a:pt x="440" y="208"/>
                    </a:lnTo>
                    <a:lnTo>
                      <a:pt x="440" y="208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15"/>
                    </a:lnTo>
                    <a:lnTo>
                      <a:pt x="440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40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2"/>
                    </a:lnTo>
                    <a:lnTo>
                      <a:pt x="433" y="229"/>
                    </a:lnTo>
                    <a:lnTo>
                      <a:pt x="426" y="229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19" y="236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26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9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9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22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15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12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08"/>
                    </a:lnTo>
                    <a:lnTo>
                      <a:pt x="405" y="208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405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15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8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08"/>
                    </a:lnTo>
                    <a:lnTo>
                      <a:pt x="392" y="215"/>
                    </a:lnTo>
                    <a:lnTo>
                      <a:pt x="392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85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15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8"/>
                    </a:lnTo>
                    <a:lnTo>
                      <a:pt x="385" y="208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78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85" y="201"/>
                    </a:lnTo>
                    <a:lnTo>
                      <a:pt x="378" y="201"/>
                    </a:lnTo>
                    <a:lnTo>
                      <a:pt x="378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94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85" y="187"/>
                    </a:lnTo>
                    <a:lnTo>
                      <a:pt x="378" y="187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8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71" y="187"/>
                    </a:lnTo>
                    <a:lnTo>
                      <a:pt x="371" y="180"/>
                    </a:lnTo>
                    <a:lnTo>
                      <a:pt x="371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64" y="187"/>
                    </a:lnTo>
                    <a:lnTo>
                      <a:pt x="364" y="187"/>
                    </a:lnTo>
                    <a:lnTo>
                      <a:pt x="364" y="180"/>
                    </a:lnTo>
                    <a:lnTo>
                      <a:pt x="364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7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50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44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7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0" y="187"/>
                    </a:lnTo>
                    <a:lnTo>
                      <a:pt x="323" y="187"/>
                    </a:lnTo>
                    <a:lnTo>
                      <a:pt x="323" y="187"/>
                    </a:lnTo>
                    <a:lnTo>
                      <a:pt x="323" y="180"/>
                    </a:lnTo>
                    <a:lnTo>
                      <a:pt x="323" y="187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74"/>
                    </a:lnTo>
                    <a:lnTo>
                      <a:pt x="323" y="167"/>
                    </a:lnTo>
                    <a:lnTo>
                      <a:pt x="316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7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60"/>
                    </a:lnTo>
                    <a:lnTo>
                      <a:pt x="323" y="153"/>
                    </a:lnTo>
                    <a:lnTo>
                      <a:pt x="330" y="153"/>
                    </a:lnTo>
                    <a:lnTo>
                      <a:pt x="330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23" y="153"/>
                    </a:lnTo>
                    <a:lnTo>
                      <a:pt x="316" y="153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9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9" y="132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25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302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8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11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104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89" y="97"/>
                    </a:lnTo>
                    <a:lnTo>
                      <a:pt x="295" y="97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89" y="90"/>
                    </a:lnTo>
                    <a:lnTo>
                      <a:pt x="289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90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89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83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9" y="76"/>
                    </a:lnTo>
                    <a:lnTo>
                      <a:pt x="295" y="69"/>
                    </a:lnTo>
                    <a:lnTo>
                      <a:pt x="295" y="76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9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63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9" y="56"/>
                    </a:lnTo>
                    <a:lnTo>
                      <a:pt x="282" y="56"/>
                    </a:lnTo>
                    <a:lnTo>
                      <a:pt x="282" y="56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82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75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9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8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7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20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9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35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86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9" y="21"/>
                    </a:lnTo>
                    <a:lnTo>
                      <a:pt x="172" y="21"/>
                    </a:lnTo>
                    <a:lnTo>
                      <a:pt x="172" y="21"/>
                    </a:lnTo>
                    <a:lnTo>
                      <a:pt x="165" y="21"/>
                    </a:lnTo>
                    <a:lnTo>
                      <a:pt x="165" y="21"/>
                    </a:lnTo>
                    <a:lnTo>
                      <a:pt x="158" y="21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8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7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00560" y="5146560"/>
                <a:ext cx="700200" cy="416160"/>
              </a:xfrm>
              <a:custGeom>
                <a:avLst/>
                <a:gdLst/>
                <a:ahLst/>
                <a:rect l="l" t="t" r="r" b="b"/>
                <a:pathLst>
                  <a:path w="556" h="354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36" y="298"/>
                    </a:lnTo>
                    <a:lnTo>
                      <a:pt x="336" y="298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36" y="305"/>
                    </a:lnTo>
                    <a:lnTo>
                      <a:pt x="329" y="305"/>
                    </a:lnTo>
                    <a:lnTo>
                      <a:pt x="329" y="305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9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2"/>
                    </a:lnTo>
                    <a:lnTo>
                      <a:pt x="322" y="319"/>
                    </a:lnTo>
                    <a:lnTo>
                      <a:pt x="322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9"/>
                    </a:lnTo>
                    <a:lnTo>
                      <a:pt x="316" y="312"/>
                    </a:lnTo>
                    <a:lnTo>
                      <a:pt x="309" y="312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9"/>
                    </a:lnTo>
                    <a:lnTo>
                      <a:pt x="309" y="312"/>
                    </a:lnTo>
                    <a:lnTo>
                      <a:pt x="309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302" y="312"/>
                    </a:lnTo>
                    <a:lnTo>
                      <a:pt x="295" y="312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95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8" y="319"/>
                    </a:lnTo>
                    <a:lnTo>
                      <a:pt x="281" y="319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26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33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1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0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8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81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47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74" y="354"/>
                    </a:lnTo>
                    <a:lnTo>
                      <a:pt x="268" y="354"/>
                    </a:lnTo>
                    <a:lnTo>
                      <a:pt x="268" y="354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8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61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7"/>
                    </a:lnTo>
                    <a:lnTo>
                      <a:pt x="254" y="340"/>
                    </a:lnTo>
                    <a:lnTo>
                      <a:pt x="247" y="340"/>
                    </a:lnTo>
                    <a:lnTo>
                      <a:pt x="247" y="347"/>
                    </a:lnTo>
                    <a:lnTo>
                      <a:pt x="247" y="347"/>
                    </a:lnTo>
                    <a:lnTo>
                      <a:pt x="240" y="340"/>
                    </a:lnTo>
                    <a:lnTo>
                      <a:pt x="240" y="347"/>
                    </a:lnTo>
                    <a:lnTo>
                      <a:pt x="240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20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40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9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33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33"/>
                    </a:lnTo>
                    <a:lnTo>
                      <a:pt x="171" y="326"/>
                    </a:lnTo>
                    <a:lnTo>
                      <a:pt x="171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51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44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30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26"/>
                    </a:lnTo>
                    <a:lnTo>
                      <a:pt x="123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96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9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9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12"/>
                    </a:lnTo>
                    <a:lnTo>
                      <a:pt x="82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305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75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8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8" y="291"/>
                    </a:lnTo>
                    <a:lnTo>
                      <a:pt x="62" y="291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91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8" y="285"/>
                    </a:lnTo>
                    <a:lnTo>
                      <a:pt x="62" y="285"/>
                    </a:lnTo>
                    <a:lnTo>
                      <a:pt x="68" y="285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2" y="278"/>
                    </a:lnTo>
                    <a:lnTo>
                      <a:pt x="68" y="278"/>
                    </a:lnTo>
                    <a:lnTo>
                      <a:pt x="68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71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62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64"/>
                    </a:lnTo>
                    <a:lnTo>
                      <a:pt x="55" y="257"/>
                    </a:lnTo>
                    <a:lnTo>
                      <a:pt x="55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8" y="257"/>
                    </a:lnTo>
                    <a:lnTo>
                      <a:pt x="41" y="257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64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0"/>
                    </a:lnTo>
                    <a:lnTo>
                      <a:pt x="41" y="250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57"/>
                    </a:lnTo>
                    <a:lnTo>
                      <a:pt x="34" y="264"/>
                    </a:lnTo>
                    <a:lnTo>
                      <a:pt x="34" y="264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7" y="257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20" y="264"/>
                    </a:lnTo>
                    <a:lnTo>
                      <a:pt x="14" y="264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71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64"/>
                    </a:lnTo>
                    <a:lnTo>
                      <a:pt x="0" y="264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00560" y="5146560"/>
                <a:ext cx="700200" cy="366840"/>
              </a:xfrm>
              <a:custGeom>
                <a:avLst/>
                <a:gdLst/>
                <a:ahLst/>
                <a:rect l="l" t="t" r="r" b="b"/>
                <a:pathLst>
                  <a:path w="556" h="312">
                    <a:moveTo>
                      <a:pt x="0" y="250"/>
                    </a:move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7" y="236"/>
                    </a:lnTo>
                    <a:lnTo>
                      <a:pt x="14" y="236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15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194"/>
                    </a:lnTo>
                    <a:lnTo>
                      <a:pt x="20" y="194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0"/>
                    </a:lnTo>
                    <a:lnTo>
                      <a:pt x="27" y="180"/>
                    </a:lnTo>
                    <a:lnTo>
                      <a:pt x="27" y="174"/>
                    </a:lnTo>
                    <a:lnTo>
                      <a:pt x="27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7" y="167"/>
                    </a:lnTo>
                    <a:lnTo>
                      <a:pt x="27" y="160"/>
                    </a:lnTo>
                    <a:lnTo>
                      <a:pt x="27" y="160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9"/>
                    </a:lnTo>
                    <a:lnTo>
                      <a:pt x="20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34" y="132"/>
                    </a:lnTo>
                    <a:lnTo>
                      <a:pt x="34" y="132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8" y="118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1" y="111"/>
                    </a:lnTo>
                    <a:lnTo>
                      <a:pt x="48" y="111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62" y="76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75" y="69"/>
                    </a:lnTo>
                    <a:lnTo>
                      <a:pt x="75" y="69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49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0" y="21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14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44" y="0"/>
                    </a:lnTo>
                    <a:lnTo>
                      <a:pt x="144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14"/>
                    </a:lnTo>
                    <a:lnTo>
                      <a:pt x="199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7"/>
                    </a:lnTo>
                    <a:lnTo>
                      <a:pt x="206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26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33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0" y="7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74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1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16" y="21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29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57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64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1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77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84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35"/>
                    </a:lnTo>
                    <a:lnTo>
                      <a:pt x="391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2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398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05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49"/>
                    </a:lnTo>
                    <a:lnTo>
                      <a:pt x="412" y="56"/>
                    </a:lnTo>
                    <a:lnTo>
                      <a:pt x="412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56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19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76"/>
                    </a:lnTo>
                    <a:lnTo>
                      <a:pt x="425" y="69"/>
                    </a:lnTo>
                    <a:lnTo>
                      <a:pt x="419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19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25" y="90"/>
                    </a:lnTo>
                    <a:lnTo>
                      <a:pt x="425" y="90"/>
                    </a:lnTo>
                    <a:lnTo>
                      <a:pt x="425" y="97"/>
                    </a:lnTo>
                    <a:lnTo>
                      <a:pt x="419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97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04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1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25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18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2" y="125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39" y="132"/>
                    </a:lnTo>
                    <a:lnTo>
                      <a:pt x="439" y="139"/>
                    </a:lnTo>
                    <a:lnTo>
                      <a:pt x="446" y="132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39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46"/>
                    </a:lnTo>
                    <a:lnTo>
                      <a:pt x="446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53" y="153"/>
                    </a:lnTo>
                    <a:lnTo>
                      <a:pt x="460" y="153"/>
                    </a:lnTo>
                    <a:lnTo>
                      <a:pt x="460" y="153"/>
                    </a:lnTo>
                    <a:lnTo>
                      <a:pt x="453" y="153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0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53" y="167"/>
                    </a:lnTo>
                    <a:lnTo>
                      <a:pt x="446" y="167"/>
                    </a:lnTo>
                    <a:lnTo>
                      <a:pt x="453" y="167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53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74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46" y="180"/>
                    </a:lnTo>
                    <a:lnTo>
                      <a:pt x="453" y="187"/>
                    </a:lnTo>
                    <a:lnTo>
                      <a:pt x="453" y="180"/>
                    </a:lnTo>
                    <a:lnTo>
                      <a:pt x="453" y="187"/>
                    </a:lnTo>
                    <a:lnTo>
                      <a:pt x="453" y="187"/>
                    </a:lnTo>
                    <a:lnTo>
                      <a:pt x="460" y="187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0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67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74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0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87" y="180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494" y="180"/>
                    </a:lnTo>
                    <a:lnTo>
                      <a:pt x="494" y="187"/>
                    </a:lnTo>
                    <a:lnTo>
                      <a:pt x="494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1" y="187"/>
                    </a:lnTo>
                    <a:lnTo>
                      <a:pt x="501" y="187"/>
                    </a:lnTo>
                    <a:lnTo>
                      <a:pt x="501" y="180"/>
                    </a:lnTo>
                    <a:lnTo>
                      <a:pt x="501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0"/>
                    </a:lnTo>
                    <a:lnTo>
                      <a:pt x="508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87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15" y="194"/>
                    </a:lnTo>
                    <a:lnTo>
                      <a:pt x="508" y="194"/>
                    </a:lnTo>
                    <a:lnTo>
                      <a:pt x="508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15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08" y="201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15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08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08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15" y="215"/>
                    </a:lnTo>
                    <a:lnTo>
                      <a:pt x="522" y="215"/>
                    </a:lnTo>
                    <a:lnTo>
                      <a:pt x="522" y="215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2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08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28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15"/>
                    </a:lnTo>
                    <a:lnTo>
                      <a:pt x="535" y="215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35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08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15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2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36"/>
                    </a:lnTo>
                    <a:lnTo>
                      <a:pt x="549" y="243"/>
                    </a:lnTo>
                    <a:lnTo>
                      <a:pt x="542" y="243"/>
                    </a:lnTo>
                    <a:lnTo>
                      <a:pt x="542" y="243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28" y="257"/>
                    </a:lnTo>
                    <a:lnTo>
                      <a:pt x="528" y="264"/>
                    </a:lnTo>
                    <a:lnTo>
                      <a:pt x="522" y="264"/>
                    </a:lnTo>
                    <a:lnTo>
                      <a:pt x="522" y="264"/>
                    </a:lnTo>
                    <a:lnTo>
                      <a:pt x="522" y="271"/>
                    </a:lnTo>
                    <a:lnTo>
                      <a:pt x="515" y="278"/>
                    </a:lnTo>
                    <a:lnTo>
                      <a:pt x="515" y="278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15" y="285"/>
                    </a:lnTo>
                    <a:lnTo>
                      <a:pt x="508" y="285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8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487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80" y="291"/>
                    </a:lnTo>
                    <a:lnTo>
                      <a:pt x="474" y="291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74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7" y="298"/>
                    </a:lnTo>
                    <a:lnTo>
                      <a:pt x="467" y="291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60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53" y="298"/>
                    </a:lnTo>
                    <a:lnTo>
                      <a:pt x="446" y="298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53" y="305"/>
                    </a:lnTo>
                    <a:lnTo>
                      <a:pt x="453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46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39" y="305"/>
                    </a:lnTo>
                    <a:lnTo>
                      <a:pt x="439" y="305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32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25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12"/>
                    </a:lnTo>
                    <a:lnTo>
                      <a:pt x="419" y="305"/>
                    </a:lnTo>
                    <a:lnTo>
                      <a:pt x="412" y="305"/>
                    </a:lnTo>
                    <a:lnTo>
                      <a:pt x="412" y="312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12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305"/>
                    </a:lnTo>
                    <a:lnTo>
                      <a:pt x="405" y="305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405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8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91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84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7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71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298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64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305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7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50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  <a:lnTo>
                      <a:pt x="343" y="29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00560" y="5440680"/>
                <a:ext cx="431640" cy="122400"/>
              </a:xfrm>
              <a:custGeom>
                <a:avLst/>
                <a:gdLst/>
                <a:ahLst/>
                <a:rect l="l" t="t" r="r" b="b"/>
                <a:pathLst>
                  <a:path w="343" h="104">
                    <a:moveTo>
                      <a:pt x="343" y="48"/>
                    </a:moveTo>
                    <a:lnTo>
                      <a:pt x="343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2"/>
                    </a:lnTo>
                    <a:lnTo>
                      <a:pt x="322" y="69"/>
                    </a:lnTo>
                    <a:lnTo>
                      <a:pt x="322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9"/>
                    </a:lnTo>
                    <a:lnTo>
                      <a:pt x="316" y="62"/>
                    </a:lnTo>
                    <a:lnTo>
                      <a:pt x="309" y="62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9"/>
                    </a:lnTo>
                    <a:lnTo>
                      <a:pt x="309" y="62"/>
                    </a:lnTo>
                    <a:lnTo>
                      <a:pt x="309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302" y="62"/>
                    </a:lnTo>
                    <a:lnTo>
                      <a:pt x="295" y="62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95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8" y="69"/>
                    </a:lnTo>
                    <a:lnTo>
                      <a:pt x="281" y="69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76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83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97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74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0"/>
                    </a:lnTo>
                    <a:lnTo>
                      <a:pt x="247" y="90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0" y="90"/>
                    </a:lnTo>
                    <a:lnTo>
                      <a:pt x="240" y="97"/>
                    </a:lnTo>
                    <a:lnTo>
                      <a:pt x="240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33" y="97"/>
                    </a:lnTo>
                    <a:lnTo>
                      <a:pt x="226" y="97"/>
                    </a:lnTo>
                    <a:lnTo>
                      <a:pt x="226" y="97"/>
                    </a:lnTo>
                    <a:lnTo>
                      <a:pt x="226" y="90"/>
                    </a:lnTo>
                    <a:lnTo>
                      <a:pt x="226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20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90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13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206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9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92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76"/>
                    </a:lnTo>
                    <a:lnTo>
                      <a:pt x="178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76"/>
                    </a:lnTo>
                    <a:lnTo>
                      <a:pt x="171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51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44" y="76"/>
                    </a:lnTo>
                    <a:lnTo>
                      <a:pt x="137" y="76"/>
                    </a:lnTo>
                    <a:lnTo>
                      <a:pt x="137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3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7" y="69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9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2"/>
                    </a:lnTo>
                    <a:lnTo>
                      <a:pt x="103" y="69"/>
                    </a:lnTo>
                    <a:lnTo>
                      <a:pt x="103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96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9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9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62"/>
                    </a:lnTo>
                    <a:lnTo>
                      <a:pt x="82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55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75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8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2" y="41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41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8" y="35"/>
                    </a:lnTo>
                    <a:lnTo>
                      <a:pt x="62" y="35"/>
                    </a:lnTo>
                    <a:lnTo>
                      <a:pt x="68" y="35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8" y="28"/>
                    </a:lnTo>
                    <a:lnTo>
                      <a:pt x="68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1" y="7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80880" y="5604120"/>
                <a:ext cx="847080" cy="659880"/>
              </a:xfrm>
              <a:custGeom>
                <a:avLst/>
                <a:gdLst/>
                <a:ahLst/>
                <a:rect l="l" t="t" r="r" b="b"/>
                <a:pathLst>
                  <a:path w="673" h="561">
                    <a:moveTo>
                      <a:pt x="27" y="242"/>
                    </a:move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35"/>
                    </a:lnTo>
                    <a:lnTo>
                      <a:pt x="27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41" y="228"/>
                    </a:lnTo>
                    <a:lnTo>
                      <a:pt x="41" y="222"/>
                    </a:lnTo>
                    <a:lnTo>
                      <a:pt x="41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55" y="215"/>
                    </a:lnTo>
                    <a:lnTo>
                      <a:pt x="55" y="208"/>
                    </a:lnTo>
                    <a:lnTo>
                      <a:pt x="55" y="208"/>
                    </a:lnTo>
                    <a:lnTo>
                      <a:pt x="62" y="201"/>
                    </a:lnTo>
                    <a:lnTo>
                      <a:pt x="62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201"/>
                    </a:lnTo>
                    <a:lnTo>
                      <a:pt x="68" y="194"/>
                    </a:lnTo>
                    <a:lnTo>
                      <a:pt x="68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94"/>
                    </a:lnTo>
                    <a:lnTo>
                      <a:pt x="75" y="187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82" y="173"/>
                    </a:lnTo>
                    <a:lnTo>
                      <a:pt x="89" y="173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89" y="166"/>
                    </a:lnTo>
                    <a:lnTo>
                      <a:pt x="96" y="166"/>
                    </a:lnTo>
                    <a:lnTo>
                      <a:pt x="96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66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9"/>
                    </a:lnTo>
                    <a:lnTo>
                      <a:pt x="103" y="152"/>
                    </a:lnTo>
                    <a:lnTo>
                      <a:pt x="103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52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0" y="145"/>
                    </a:lnTo>
                    <a:lnTo>
                      <a:pt x="116" y="138"/>
                    </a:lnTo>
                    <a:lnTo>
                      <a:pt x="116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30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24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37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7"/>
                    </a:lnTo>
                    <a:lnTo>
                      <a:pt x="144" y="111"/>
                    </a:lnTo>
                    <a:lnTo>
                      <a:pt x="144" y="111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1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04"/>
                    </a:lnTo>
                    <a:lnTo>
                      <a:pt x="158" y="111"/>
                    </a:lnTo>
                    <a:lnTo>
                      <a:pt x="158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11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65" y="104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58" y="97"/>
                    </a:lnTo>
                    <a:lnTo>
                      <a:pt x="165" y="97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83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90"/>
                    </a:lnTo>
                    <a:lnTo>
                      <a:pt x="171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78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85" y="83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76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9"/>
                    </a:lnTo>
                    <a:lnTo>
                      <a:pt x="199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213" y="69"/>
                    </a:lnTo>
                    <a:lnTo>
                      <a:pt x="213" y="69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3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33" y="48"/>
                    </a:lnTo>
                    <a:lnTo>
                      <a:pt x="226" y="48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33" y="41"/>
                    </a:lnTo>
                    <a:lnTo>
                      <a:pt x="240" y="34"/>
                    </a:lnTo>
                    <a:lnTo>
                      <a:pt x="240" y="34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41"/>
                    </a:lnTo>
                    <a:lnTo>
                      <a:pt x="240" y="34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41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47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34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7"/>
                    </a:lnTo>
                    <a:lnTo>
                      <a:pt x="261" y="27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34"/>
                    </a:lnTo>
                    <a:lnTo>
                      <a:pt x="261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68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74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1" y="27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20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88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295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13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6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6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29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36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43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77" y="6"/>
                    </a:lnTo>
                    <a:lnTo>
                      <a:pt x="384" y="6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0"/>
                    </a:lnTo>
                    <a:lnTo>
                      <a:pt x="384" y="6"/>
                    </a:lnTo>
                    <a:lnTo>
                      <a:pt x="391" y="6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1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398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05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25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2" y="13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6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39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46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13"/>
                    </a:lnTo>
                    <a:lnTo>
                      <a:pt x="453" y="20"/>
                    </a:lnTo>
                    <a:lnTo>
                      <a:pt x="460" y="20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0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13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67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80" y="20"/>
                    </a:lnTo>
                    <a:lnTo>
                      <a:pt x="474" y="20"/>
                    </a:lnTo>
                    <a:lnTo>
                      <a:pt x="474" y="20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27"/>
                    </a:lnTo>
                    <a:lnTo>
                      <a:pt x="480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27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87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494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27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1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34"/>
                    </a:lnTo>
                    <a:lnTo>
                      <a:pt x="508" y="41"/>
                    </a:lnTo>
                    <a:lnTo>
                      <a:pt x="508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15" y="41"/>
                    </a:lnTo>
                    <a:lnTo>
                      <a:pt x="515" y="34"/>
                    </a:lnTo>
                    <a:lnTo>
                      <a:pt x="515" y="34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1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2" y="48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1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28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48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55"/>
                    </a:lnTo>
                    <a:lnTo>
                      <a:pt x="549" y="55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49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2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56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69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63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76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83"/>
                    </a:lnTo>
                    <a:lnTo>
                      <a:pt x="570" y="90"/>
                    </a:lnTo>
                    <a:lnTo>
                      <a:pt x="570" y="83"/>
                    </a:lnTo>
                    <a:lnTo>
                      <a:pt x="576" y="83"/>
                    </a:lnTo>
                    <a:lnTo>
                      <a:pt x="576" y="83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76" y="90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83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7" y="104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597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1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18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1" y="111"/>
                    </a:lnTo>
                    <a:lnTo>
                      <a:pt x="638" y="111"/>
                    </a:lnTo>
                    <a:lnTo>
                      <a:pt x="631" y="111"/>
                    </a:lnTo>
                    <a:lnTo>
                      <a:pt x="631" y="117"/>
                    </a:lnTo>
                    <a:lnTo>
                      <a:pt x="631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38" y="117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1"/>
                    </a:lnTo>
                    <a:lnTo>
                      <a:pt x="645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2" y="111"/>
                    </a:lnTo>
                    <a:lnTo>
                      <a:pt x="659" y="111"/>
                    </a:lnTo>
                    <a:lnTo>
                      <a:pt x="659" y="111"/>
                    </a:lnTo>
                    <a:lnTo>
                      <a:pt x="652" y="111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2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59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17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73" y="124"/>
                    </a:lnTo>
                    <a:lnTo>
                      <a:pt x="673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66" y="124"/>
                    </a:lnTo>
                    <a:lnTo>
                      <a:pt x="666" y="131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24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9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1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52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38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52" y="145"/>
                    </a:lnTo>
                    <a:lnTo>
                      <a:pt x="645" y="145"/>
                    </a:lnTo>
                    <a:lnTo>
                      <a:pt x="645" y="145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52" y="152"/>
                    </a:lnTo>
                    <a:lnTo>
                      <a:pt x="645" y="152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45" y="159"/>
                    </a:lnTo>
                    <a:lnTo>
                      <a:pt x="652" y="159"/>
                    </a:lnTo>
                    <a:lnTo>
                      <a:pt x="652" y="159"/>
                    </a:lnTo>
                    <a:lnTo>
                      <a:pt x="645" y="159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52" y="166"/>
                    </a:lnTo>
                    <a:lnTo>
                      <a:pt x="652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66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73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73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0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1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8" y="187"/>
                    </a:lnTo>
                    <a:lnTo>
                      <a:pt x="631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38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80"/>
                    </a:lnTo>
                    <a:lnTo>
                      <a:pt x="645" y="173"/>
                    </a:lnTo>
                    <a:lnTo>
                      <a:pt x="645" y="173"/>
                    </a:lnTo>
                    <a:lnTo>
                      <a:pt x="652" y="173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2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0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59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87"/>
                    </a:lnTo>
                    <a:lnTo>
                      <a:pt x="666" y="194"/>
                    </a:lnTo>
                    <a:lnTo>
                      <a:pt x="659" y="194"/>
                    </a:lnTo>
                    <a:lnTo>
                      <a:pt x="652" y="208"/>
                    </a:lnTo>
                    <a:lnTo>
                      <a:pt x="652" y="215"/>
                    </a:lnTo>
                    <a:lnTo>
                      <a:pt x="652" y="215"/>
                    </a:lnTo>
                    <a:lnTo>
                      <a:pt x="645" y="215"/>
                    </a:lnTo>
                    <a:lnTo>
                      <a:pt x="645" y="215"/>
                    </a:lnTo>
                    <a:lnTo>
                      <a:pt x="645" y="222"/>
                    </a:lnTo>
                    <a:lnTo>
                      <a:pt x="645" y="222"/>
                    </a:lnTo>
                    <a:lnTo>
                      <a:pt x="638" y="228"/>
                    </a:lnTo>
                    <a:lnTo>
                      <a:pt x="638" y="235"/>
                    </a:lnTo>
                    <a:lnTo>
                      <a:pt x="638" y="235"/>
                    </a:lnTo>
                    <a:lnTo>
                      <a:pt x="631" y="242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31" y="249"/>
                    </a:lnTo>
                    <a:lnTo>
                      <a:pt x="625" y="263"/>
                    </a:lnTo>
                    <a:lnTo>
                      <a:pt x="625" y="263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25" y="270"/>
                    </a:lnTo>
                    <a:lnTo>
                      <a:pt x="618" y="277"/>
                    </a:lnTo>
                    <a:lnTo>
                      <a:pt x="618" y="284"/>
                    </a:lnTo>
                    <a:lnTo>
                      <a:pt x="618" y="284"/>
                    </a:lnTo>
                    <a:lnTo>
                      <a:pt x="611" y="291"/>
                    </a:lnTo>
                    <a:lnTo>
                      <a:pt x="604" y="298"/>
                    </a:lnTo>
                    <a:lnTo>
                      <a:pt x="604" y="305"/>
                    </a:lnTo>
                    <a:lnTo>
                      <a:pt x="597" y="312"/>
                    </a:lnTo>
                    <a:lnTo>
                      <a:pt x="590" y="326"/>
                    </a:lnTo>
                    <a:lnTo>
                      <a:pt x="583" y="326"/>
                    </a:lnTo>
                    <a:lnTo>
                      <a:pt x="583" y="333"/>
                    </a:lnTo>
                    <a:lnTo>
                      <a:pt x="576" y="339"/>
                    </a:lnTo>
                    <a:lnTo>
                      <a:pt x="576" y="339"/>
                    </a:lnTo>
                    <a:lnTo>
                      <a:pt x="570" y="346"/>
                    </a:lnTo>
                    <a:lnTo>
                      <a:pt x="570" y="346"/>
                    </a:lnTo>
                    <a:lnTo>
                      <a:pt x="563" y="353"/>
                    </a:lnTo>
                    <a:lnTo>
                      <a:pt x="563" y="353"/>
                    </a:lnTo>
                    <a:lnTo>
                      <a:pt x="556" y="360"/>
                    </a:lnTo>
                    <a:lnTo>
                      <a:pt x="549" y="367"/>
                    </a:lnTo>
                    <a:lnTo>
                      <a:pt x="542" y="367"/>
                    </a:lnTo>
                    <a:lnTo>
                      <a:pt x="542" y="374"/>
                    </a:lnTo>
                    <a:lnTo>
                      <a:pt x="542" y="374"/>
                    </a:lnTo>
                    <a:lnTo>
                      <a:pt x="535" y="374"/>
                    </a:lnTo>
                    <a:lnTo>
                      <a:pt x="535" y="381"/>
                    </a:lnTo>
                    <a:lnTo>
                      <a:pt x="528" y="388"/>
                    </a:lnTo>
                    <a:lnTo>
                      <a:pt x="522" y="388"/>
                    </a:lnTo>
                    <a:lnTo>
                      <a:pt x="515" y="395"/>
                    </a:lnTo>
                    <a:lnTo>
                      <a:pt x="508" y="395"/>
                    </a:lnTo>
                    <a:lnTo>
                      <a:pt x="501" y="402"/>
                    </a:lnTo>
                    <a:lnTo>
                      <a:pt x="494" y="409"/>
                    </a:lnTo>
                    <a:lnTo>
                      <a:pt x="487" y="409"/>
                    </a:lnTo>
                    <a:lnTo>
                      <a:pt x="480" y="416"/>
                    </a:lnTo>
                    <a:lnTo>
                      <a:pt x="474" y="416"/>
                    </a:lnTo>
                    <a:lnTo>
                      <a:pt x="467" y="423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0"/>
                    </a:lnTo>
                    <a:lnTo>
                      <a:pt x="460" y="430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46" y="444"/>
                    </a:lnTo>
                    <a:lnTo>
                      <a:pt x="446" y="450"/>
                    </a:lnTo>
                    <a:lnTo>
                      <a:pt x="446" y="457"/>
                    </a:lnTo>
                    <a:lnTo>
                      <a:pt x="439" y="464"/>
                    </a:lnTo>
                    <a:lnTo>
                      <a:pt x="439" y="464"/>
                    </a:lnTo>
                    <a:lnTo>
                      <a:pt x="439" y="478"/>
                    </a:lnTo>
                    <a:lnTo>
                      <a:pt x="432" y="478"/>
                    </a:lnTo>
                    <a:lnTo>
                      <a:pt x="432" y="492"/>
                    </a:lnTo>
                    <a:lnTo>
                      <a:pt x="425" y="499"/>
                    </a:lnTo>
                    <a:lnTo>
                      <a:pt x="425" y="506"/>
                    </a:lnTo>
                    <a:lnTo>
                      <a:pt x="419" y="506"/>
                    </a:lnTo>
                    <a:lnTo>
                      <a:pt x="419" y="513"/>
                    </a:lnTo>
                    <a:lnTo>
                      <a:pt x="412" y="520"/>
                    </a:lnTo>
                    <a:lnTo>
                      <a:pt x="405" y="527"/>
                    </a:lnTo>
                    <a:lnTo>
                      <a:pt x="384" y="541"/>
                    </a:lnTo>
                    <a:lnTo>
                      <a:pt x="377" y="548"/>
                    </a:lnTo>
                    <a:lnTo>
                      <a:pt x="371" y="555"/>
                    </a:lnTo>
                    <a:lnTo>
                      <a:pt x="371" y="555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61"/>
                    </a:lnTo>
                    <a:lnTo>
                      <a:pt x="357" y="555"/>
                    </a:lnTo>
                    <a:lnTo>
                      <a:pt x="357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55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8"/>
                    </a:lnTo>
                    <a:lnTo>
                      <a:pt x="343" y="541"/>
                    </a:lnTo>
                    <a:lnTo>
                      <a:pt x="350" y="534"/>
                    </a:lnTo>
                    <a:lnTo>
                      <a:pt x="350" y="527"/>
                    </a:lnTo>
                    <a:lnTo>
                      <a:pt x="343" y="520"/>
                    </a:lnTo>
                    <a:lnTo>
                      <a:pt x="343" y="513"/>
                    </a:lnTo>
                    <a:lnTo>
                      <a:pt x="350" y="499"/>
                    </a:lnTo>
                    <a:lnTo>
                      <a:pt x="357" y="499"/>
                    </a:lnTo>
                    <a:lnTo>
                      <a:pt x="364" y="499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64" y="492"/>
                    </a:lnTo>
                    <a:lnTo>
                      <a:pt x="371" y="492"/>
                    </a:lnTo>
                    <a:lnTo>
                      <a:pt x="364" y="492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85"/>
                    </a:lnTo>
                    <a:lnTo>
                      <a:pt x="377" y="478"/>
                    </a:lnTo>
                    <a:lnTo>
                      <a:pt x="384" y="478"/>
                    </a:lnTo>
                    <a:lnTo>
                      <a:pt x="384" y="478"/>
                    </a:lnTo>
                    <a:lnTo>
                      <a:pt x="377" y="471"/>
                    </a:lnTo>
                    <a:lnTo>
                      <a:pt x="377" y="471"/>
                    </a:lnTo>
                    <a:lnTo>
                      <a:pt x="377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71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64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64"/>
                    </a:lnTo>
                    <a:lnTo>
                      <a:pt x="357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50" y="457"/>
                    </a:lnTo>
                    <a:lnTo>
                      <a:pt x="350" y="450"/>
                    </a:lnTo>
                    <a:lnTo>
                      <a:pt x="343" y="457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43" y="450"/>
                    </a:lnTo>
                    <a:lnTo>
                      <a:pt x="336" y="450"/>
                    </a:lnTo>
                    <a:lnTo>
                      <a:pt x="336" y="450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44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7"/>
                    </a:lnTo>
                    <a:lnTo>
                      <a:pt x="336" y="430"/>
                    </a:lnTo>
                    <a:lnTo>
                      <a:pt x="336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30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9" y="423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23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22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16"/>
                    </a:lnTo>
                    <a:lnTo>
                      <a:pt x="316" y="409"/>
                    </a:lnTo>
                    <a:lnTo>
                      <a:pt x="316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9" y="409"/>
                    </a:lnTo>
                    <a:lnTo>
                      <a:pt x="302" y="409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2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302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9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95" y="402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81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8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74"/>
                    </a:lnTo>
                    <a:lnTo>
                      <a:pt x="261" y="367"/>
                    </a:lnTo>
                    <a:lnTo>
                      <a:pt x="261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54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7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40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7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33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60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26" y="353"/>
                    </a:lnTo>
                    <a:lnTo>
                      <a:pt x="226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53"/>
                    </a:lnTo>
                    <a:lnTo>
                      <a:pt x="213" y="353"/>
                    </a:lnTo>
                    <a:lnTo>
                      <a:pt x="219" y="360"/>
                    </a:lnTo>
                    <a:lnTo>
                      <a:pt x="213" y="360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13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206" y="353"/>
                    </a:lnTo>
                    <a:lnTo>
                      <a:pt x="199" y="353"/>
                    </a:lnTo>
                    <a:lnTo>
                      <a:pt x="199" y="353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46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9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9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92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33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85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26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8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2"/>
                    </a:lnTo>
                    <a:lnTo>
                      <a:pt x="171" y="312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71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19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65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26"/>
                    </a:lnTo>
                    <a:lnTo>
                      <a:pt x="158" y="333"/>
                    </a:lnTo>
                    <a:lnTo>
                      <a:pt x="158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51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3"/>
                    </a:lnTo>
                    <a:lnTo>
                      <a:pt x="144" y="339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33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26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9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7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30" y="312"/>
                    </a:lnTo>
                    <a:lnTo>
                      <a:pt x="130" y="305"/>
                    </a:lnTo>
                    <a:lnTo>
                      <a:pt x="130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305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23" y="298"/>
                    </a:lnTo>
                    <a:lnTo>
                      <a:pt x="116" y="298"/>
                    </a:lnTo>
                    <a:lnTo>
                      <a:pt x="116" y="298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6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91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10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103" y="277"/>
                    </a:lnTo>
                    <a:lnTo>
                      <a:pt x="103" y="284"/>
                    </a:lnTo>
                    <a:lnTo>
                      <a:pt x="103" y="284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96" y="277"/>
                    </a:lnTo>
                    <a:lnTo>
                      <a:pt x="89" y="277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9" y="270"/>
                    </a:lnTo>
                    <a:lnTo>
                      <a:pt x="82" y="270"/>
                    </a:lnTo>
                    <a:lnTo>
                      <a:pt x="89" y="270"/>
                    </a:lnTo>
                    <a:lnTo>
                      <a:pt x="82" y="263"/>
                    </a:lnTo>
                    <a:lnTo>
                      <a:pt x="82" y="270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82" y="263"/>
                    </a:lnTo>
                    <a:lnTo>
                      <a:pt x="75" y="263"/>
                    </a:lnTo>
                    <a:lnTo>
                      <a:pt x="75" y="263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75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56"/>
                    </a:lnTo>
                    <a:lnTo>
                      <a:pt x="68" y="249"/>
                    </a:lnTo>
                    <a:lnTo>
                      <a:pt x="68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49"/>
                    </a:lnTo>
                    <a:lnTo>
                      <a:pt x="62" y="256"/>
                    </a:lnTo>
                    <a:lnTo>
                      <a:pt x="62" y="256"/>
                    </a:lnTo>
                    <a:lnTo>
                      <a:pt x="62" y="249"/>
                    </a:lnTo>
                    <a:lnTo>
                      <a:pt x="55" y="249"/>
                    </a:lnTo>
                    <a:lnTo>
                      <a:pt x="55" y="256"/>
                    </a:lnTo>
                    <a:lnTo>
                      <a:pt x="55" y="249"/>
                    </a:lnTo>
                    <a:lnTo>
                      <a:pt x="55" y="249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49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8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56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41" y="263"/>
                    </a:lnTo>
                    <a:lnTo>
                      <a:pt x="34" y="263"/>
                    </a:lnTo>
                    <a:lnTo>
                      <a:pt x="34" y="263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34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63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20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7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49"/>
                    </a:lnTo>
                    <a:lnTo>
                      <a:pt x="14" y="249"/>
                    </a:lnTo>
                    <a:lnTo>
                      <a:pt x="20" y="249"/>
                    </a:lnTo>
                    <a:lnTo>
                      <a:pt x="20" y="242"/>
                    </a:lnTo>
                    <a:lnTo>
                      <a:pt x="27" y="242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14720" y="5604120"/>
                <a:ext cx="813240" cy="317520"/>
              </a:xfrm>
              <a:custGeom>
                <a:avLst/>
                <a:gdLst/>
                <a:ahLst/>
                <a:rect l="l" t="t" r="r" b="b"/>
                <a:pathLst>
                  <a:path w="646" h="270">
                    <a:moveTo>
                      <a:pt x="0" y="242"/>
                    </a:move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28"/>
                    </a:lnTo>
                    <a:lnTo>
                      <a:pt x="7" y="228"/>
                    </a:lnTo>
                    <a:lnTo>
                      <a:pt x="7" y="228"/>
                    </a:lnTo>
                    <a:lnTo>
                      <a:pt x="14" y="228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21" y="222"/>
                    </a:lnTo>
                    <a:lnTo>
                      <a:pt x="21" y="222"/>
                    </a:lnTo>
                    <a:lnTo>
                      <a:pt x="28" y="215"/>
                    </a:lnTo>
                    <a:lnTo>
                      <a:pt x="28" y="208"/>
                    </a:lnTo>
                    <a:lnTo>
                      <a:pt x="28" y="208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94"/>
                    </a:lnTo>
                    <a:lnTo>
                      <a:pt x="48" y="187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80"/>
                    </a:lnTo>
                    <a:lnTo>
                      <a:pt x="55" y="173"/>
                    </a:lnTo>
                    <a:lnTo>
                      <a:pt x="62" y="173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69" y="166"/>
                    </a:lnTo>
                    <a:lnTo>
                      <a:pt x="69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66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9"/>
                    </a:lnTo>
                    <a:lnTo>
                      <a:pt x="76" y="152"/>
                    </a:lnTo>
                    <a:lnTo>
                      <a:pt x="76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9" y="138"/>
                    </a:lnTo>
                    <a:lnTo>
                      <a:pt x="89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1"/>
                    </a:lnTo>
                    <a:lnTo>
                      <a:pt x="96" y="131"/>
                    </a:lnTo>
                    <a:lnTo>
                      <a:pt x="103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24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0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7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8" y="104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138" y="97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144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1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58" y="83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76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65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9"/>
                    </a:lnTo>
                    <a:lnTo>
                      <a:pt x="172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79" y="62"/>
                    </a:lnTo>
                    <a:lnTo>
                      <a:pt x="186" y="69"/>
                    </a:lnTo>
                    <a:lnTo>
                      <a:pt x="186" y="69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86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86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2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199" y="55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199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13" y="34"/>
                    </a:lnTo>
                    <a:lnTo>
                      <a:pt x="213" y="34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41"/>
                    </a:lnTo>
                    <a:lnTo>
                      <a:pt x="213" y="34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41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0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34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27" y="27"/>
                    </a:lnTo>
                    <a:lnTo>
                      <a:pt x="234" y="27"/>
                    </a:lnTo>
                    <a:lnTo>
                      <a:pt x="234" y="27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34"/>
                    </a:lnTo>
                    <a:lnTo>
                      <a:pt x="234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1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47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54" y="27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1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68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13"/>
                    </a:lnTo>
                    <a:lnTo>
                      <a:pt x="275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2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6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0"/>
                    </a:lnTo>
                    <a:lnTo>
                      <a:pt x="289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6"/>
                    </a:lnTo>
                    <a:lnTo>
                      <a:pt x="295" y="0"/>
                    </a:lnTo>
                    <a:lnTo>
                      <a:pt x="295" y="0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2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09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16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6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23" y="6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44" y="6"/>
                    </a:lnTo>
                    <a:lnTo>
                      <a:pt x="344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0" y="6"/>
                    </a:lnTo>
                    <a:lnTo>
                      <a:pt x="357" y="6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0"/>
                    </a:lnTo>
                    <a:lnTo>
                      <a:pt x="357" y="6"/>
                    </a:lnTo>
                    <a:lnTo>
                      <a:pt x="364" y="6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64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1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78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6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85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2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398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05" y="13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6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2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19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13"/>
                    </a:lnTo>
                    <a:lnTo>
                      <a:pt x="426" y="20"/>
                    </a:lnTo>
                    <a:lnTo>
                      <a:pt x="433" y="20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33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13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0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53" y="20"/>
                    </a:lnTo>
                    <a:lnTo>
                      <a:pt x="447" y="20"/>
                    </a:lnTo>
                    <a:lnTo>
                      <a:pt x="447" y="20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47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27"/>
                    </a:lnTo>
                    <a:lnTo>
                      <a:pt x="453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27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0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67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27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74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34"/>
                    </a:lnTo>
                    <a:lnTo>
                      <a:pt x="481" y="41"/>
                    </a:lnTo>
                    <a:lnTo>
                      <a:pt x="481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88" y="41"/>
                    </a:lnTo>
                    <a:lnTo>
                      <a:pt x="488" y="34"/>
                    </a:lnTo>
                    <a:lnTo>
                      <a:pt x="488" y="34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1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495" y="48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1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1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48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15" y="55"/>
                    </a:lnTo>
                    <a:lnTo>
                      <a:pt x="522" y="55"/>
                    </a:lnTo>
                    <a:lnTo>
                      <a:pt x="522" y="55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2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2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29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69"/>
                    </a:lnTo>
                    <a:lnTo>
                      <a:pt x="536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36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76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83"/>
                    </a:lnTo>
                    <a:lnTo>
                      <a:pt x="543" y="90"/>
                    </a:lnTo>
                    <a:lnTo>
                      <a:pt x="543" y="83"/>
                    </a:lnTo>
                    <a:lnTo>
                      <a:pt x="549" y="83"/>
                    </a:lnTo>
                    <a:lnTo>
                      <a:pt x="549" y="83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49" y="90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56" y="97"/>
                    </a:lnTo>
                    <a:lnTo>
                      <a:pt x="563" y="97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70" y="104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0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77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84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7"/>
                    </a:lnTo>
                    <a:lnTo>
                      <a:pt x="591" y="117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1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1"/>
                    </a:lnTo>
                    <a:lnTo>
                      <a:pt x="598" y="117"/>
                    </a:lnTo>
                    <a:lnTo>
                      <a:pt x="598" y="117"/>
                    </a:lnTo>
                    <a:lnTo>
                      <a:pt x="598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04" y="111"/>
                    </a:lnTo>
                    <a:lnTo>
                      <a:pt x="611" y="111"/>
                    </a:lnTo>
                    <a:lnTo>
                      <a:pt x="604" y="111"/>
                    </a:lnTo>
                    <a:lnTo>
                      <a:pt x="604" y="117"/>
                    </a:lnTo>
                    <a:lnTo>
                      <a:pt x="604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1" y="117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1"/>
                    </a:lnTo>
                    <a:lnTo>
                      <a:pt x="618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25" y="111"/>
                    </a:lnTo>
                    <a:lnTo>
                      <a:pt x="632" y="111"/>
                    </a:lnTo>
                    <a:lnTo>
                      <a:pt x="632" y="111"/>
                    </a:lnTo>
                    <a:lnTo>
                      <a:pt x="625" y="111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25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2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17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46" y="124"/>
                    </a:lnTo>
                    <a:lnTo>
                      <a:pt x="646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9" y="124"/>
                    </a:lnTo>
                    <a:lnTo>
                      <a:pt x="639" y="131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24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32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1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25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38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25" y="145"/>
                    </a:lnTo>
                    <a:lnTo>
                      <a:pt x="618" y="145"/>
                    </a:lnTo>
                    <a:lnTo>
                      <a:pt x="618" y="145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25" y="152"/>
                    </a:lnTo>
                    <a:lnTo>
                      <a:pt x="618" y="152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18" y="159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18" y="159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25" y="166"/>
                    </a:lnTo>
                    <a:lnTo>
                      <a:pt x="625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66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73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0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04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80"/>
                    </a:lnTo>
                    <a:lnTo>
                      <a:pt x="618" y="173"/>
                    </a:lnTo>
                    <a:lnTo>
                      <a:pt x="618" y="173"/>
                    </a:lnTo>
                    <a:lnTo>
                      <a:pt x="625" y="173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25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0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2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87"/>
                    </a:lnTo>
                    <a:lnTo>
                      <a:pt x="639" y="194"/>
                    </a:lnTo>
                    <a:lnTo>
                      <a:pt x="632" y="194"/>
                    </a:lnTo>
                    <a:lnTo>
                      <a:pt x="625" y="208"/>
                    </a:lnTo>
                    <a:lnTo>
                      <a:pt x="625" y="215"/>
                    </a:lnTo>
                    <a:lnTo>
                      <a:pt x="625" y="215"/>
                    </a:lnTo>
                    <a:lnTo>
                      <a:pt x="618" y="215"/>
                    </a:lnTo>
                    <a:lnTo>
                      <a:pt x="618" y="215"/>
                    </a:lnTo>
                    <a:lnTo>
                      <a:pt x="618" y="222"/>
                    </a:lnTo>
                    <a:lnTo>
                      <a:pt x="618" y="222"/>
                    </a:lnTo>
                    <a:lnTo>
                      <a:pt x="611" y="228"/>
                    </a:lnTo>
                    <a:lnTo>
                      <a:pt x="611" y="235"/>
                    </a:lnTo>
                    <a:lnTo>
                      <a:pt x="611" y="235"/>
                    </a:lnTo>
                    <a:lnTo>
                      <a:pt x="604" y="242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604" y="249"/>
                    </a:lnTo>
                    <a:lnTo>
                      <a:pt x="598" y="263"/>
                    </a:lnTo>
                    <a:lnTo>
                      <a:pt x="598" y="263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  <a:lnTo>
                      <a:pt x="598" y="2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80880" y="5888880"/>
                <a:ext cx="786960" cy="375120"/>
              </a:xfrm>
              <a:custGeom>
                <a:avLst/>
                <a:gdLst/>
                <a:ahLst/>
                <a:rect l="l" t="t" r="r" b="b"/>
                <a:pathLst>
                  <a:path w="625" h="319">
                    <a:moveTo>
                      <a:pt x="625" y="28"/>
                    </a:moveTo>
                    <a:lnTo>
                      <a:pt x="618" y="35"/>
                    </a:lnTo>
                    <a:lnTo>
                      <a:pt x="618" y="42"/>
                    </a:lnTo>
                    <a:lnTo>
                      <a:pt x="618" y="42"/>
                    </a:lnTo>
                    <a:lnTo>
                      <a:pt x="611" y="49"/>
                    </a:lnTo>
                    <a:lnTo>
                      <a:pt x="604" y="56"/>
                    </a:lnTo>
                    <a:lnTo>
                      <a:pt x="604" y="63"/>
                    </a:lnTo>
                    <a:lnTo>
                      <a:pt x="597" y="70"/>
                    </a:lnTo>
                    <a:lnTo>
                      <a:pt x="590" y="84"/>
                    </a:lnTo>
                    <a:lnTo>
                      <a:pt x="583" y="84"/>
                    </a:lnTo>
                    <a:lnTo>
                      <a:pt x="583" y="91"/>
                    </a:lnTo>
                    <a:lnTo>
                      <a:pt x="576" y="97"/>
                    </a:lnTo>
                    <a:lnTo>
                      <a:pt x="576" y="97"/>
                    </a:lnTo>
                    <a:lnTo>
                      <a:pt x="570" y="104"/>
                    </a:lnTo>
                    <a:lnTo>
                      <a:pt x="570" y="104"/>
                    </a:lnTo>
                    <a:lnTo>
                      <a:pt x="563" y="111"/>
                    </a:lnTo>
                    <a:lnTo>
                      <a:pt x="563" y="111"/>
                    </a:lnTo>
                    <a:lnTo>
                      <a:pt x="556" y="118"/>
                    </a:lnTo>
                    <a:lnTo>
                      <a:pt x="549" y="125"/>
                    </a:lnTo>
                    <a:lnTo>
                      <a:pt x="542" y="125"/>
                    </a:lnTo>
                    <a:lnTo>
                      <a:pt x="542" y="132"/>
                    </a:lnTo>
                    <a:lnTo>
                      <a:pt x="542" y="132"/>
                    </a:lnTo>
                    <a:lnTo>
                      <a:pt x="535" y="132"/>
                    </a:lnTo>
                    <a:lnTo>
                      <a:pt x="535" y="139"/>
                    </a:lnTo>
                    <a:lnTo>
                      <a:pt x="528" y="146"/>
                    </a:lnTo>
                    <a:lnTo>
                      <a:pt x="522" y="146"/>
                    </a:lnTo>
                    <a:lnTo>
                      <a:pt x="515" y="153"/>
                    </a:lnTo>
                    <a:lnTo>
                      <a:pt x="508" y="153"/>
                    </a:lnTo>
                    <a:lnTo>
                      <a:pt x="501" y="160"/>
                    </a:lnTo>
                    <a:lnTo>
                      <a:pt x="494" y="167"/>
                    </a:lnTo>
                    <a:lnTo>
                      <a:pt x="487" y="167"/>
                    </a:lnTo>
                    <a:lnTo>
                      <a:pt x="480" y="174"/>
                    </a:lnTo>
                    <a:lnTo>
                      <a:pt x="474" y="174"/>
                    </a:lnTo>
                    <a:lnTo>
                      <a:pt x="467" y="181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7" y="188"/>
                    </a:lnTo>
                    <a:lnTo>
                      <a:pt x="460" y="188"/>
                    </a:lnTo>
                    <a:lnTo>
                      <a:pt x="460" y="188"/>
                    </a:lnTo>
                    <a:lnTo>
                      <a:pt x="453" y="195"/>
                    </a:lnTo>
                    <a:lnTo>
                      <a:pt x="453" y="195"/>
                    </a:lnTo>
                    <a:lnTo>
                      <a:pt x="446" y="202"/>
                    </a:lnTo>
                    <a:lnTo>
                      <a:pt x="446" y="208"/>
                    </a:lnTo>
                    <a:lnTo>
                      <a:pt x="446" y="215"/>
                    </a:lnTo>
                    <a:lnTo>
                      <a:pt x="439" y="222"/>
                    </a:lnTo>
                    <a:lnTo>
                      <a:pt x="439" y="222"/>
                    </a:lnTo>
                    <a:lnTo>
                      <a:pt x="439" y="236"/>
                    </a:lnTo>
                    <a:lnTo>
                      <a:pt x="432" y="236"/>
                    </a:lnTo>
                    <a:lnTo>
                      <a:pt x="432" y="250"/>
                    </a:lnTo>
                    <a:lnTo>
                      <a:pt x="425" y="257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2" y="278"/>
                    </a:lnTo>
                    <a:lnTo>
                      <a:pt x="405" y="285"/>
                    </a:lnTo>
                    <a:lnTo>
                      <a:pt x="384" y="299"/>
                    </a:lnTo>
                    <a:lnTo>
                      <a:pt x="377" y="306"/>
                    </a:lnTo>
                    <a:lnTo>
                      <a:pt x="371" y="313"/>
                    </a:lnTo>
                    <a:lnTo>
                      <a:pt x="371" y="313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9"/>
                    </a:lnTo>
                    <a:lnTo>
                      <a:pt x="357" y="313"/>
                    </a:lnTo>
                    <a:lnTo>
                      <a:pt x="357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13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306"/>
                    </a:lnTo>
                    <a:lnTo>
                      <a:pt x="343" y="299"/>
                    </a:lnTo>
                    <a:lnTo>
                      <a:pt x="350" y="292"/>
                    </a:lnTo>
                    <a:lnTo>
                      <a:pt x="350" y="285"/>
                    </a:lnTo>
                    <a:lnTo>
                      <a:pt x="343" y="278"/>
                    </a:lnTo>
                    <a:lnTo>
                      <a:pt x="343" y="271"/>
                    </a:lnTo>
                    <a:lnTo>
                      <a:pt x="350" y="257"/>
                    </a:lnTo>
                    <a:lnTo>
                      <a:pt x="357" y="257"/>
                    </a:lnTo>
                    <a:lnTo>
                      <a:pt x="364" y="257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64" y="250"/>
                    </a:lnTo>
                    <a:lnTo>
                      <a:pt x="371" y="250"/>
                    </a:lnTo>
                    <a:lnTo>
                      <a:pt x="364" y="250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43"/>
                    </a:lnTo>
                    <a:lnTo>
                      <a:pt x="377" y="236"/>
                    </a:lnTo>
                    <a:lnTo>
                      <a:pt x="384" y="236"/>
                    </a:lnTo>
                    <a:lnTo>
                      <a:pt x="384" y="236"/>
                    </a:lnTo>
                    <a:lnTo>
                      <a:pt x="377" y="229"/>
                    </a:lnTo>
                    <a:lnTo>
                      <a:pt x="377" y="229"/>
                    </a:lnTo>
                    <a:lnTo>
                      <a:pt x="377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71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64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22"/>
                    </a:lnTo>
                    <a:lnTo>
                      <a:pt x="357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50" y="215"/>
                    </a:lnTo>
                    <a:lnTo>
                      <a:pt x="350" y="208"/>
                    </a:lnTo>
                    <a:lnTo>
                      <a:pt x="343" y="215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43" y="208"/>
                    </a:lnTo>
                    <a:lnTo>
                      <a:pt x="336" y="208"/>
                    </a:lnTo>
                    <a:lnTo>
                      <a:pt x="336" y="208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202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95"/>
                    </a:lnTo>
                    <a:lnTo>
                      <a:pt x="336" y="188"/>
                    </a:lnTo>
                    <a:lnTo>
                      <a:pt x="336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8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9" y="181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81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22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74"/>
                    </a:lnTo>
                    <a:lnTo>
                      <a:pt x="316" y="167"/>
                    </a:lnTo>
                    <a:lnTo>
                      <a:pt x="316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9" y="167"/>
                    </a:lnTo>
                    <a:lnTo>
                      <a:pt x="302" y="167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0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302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7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95" y="160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32"/>
                    </a:lnTo>
                    <a:lnTo>
                      <a:pt x="261" y="125"/>
                    </a:lnTo>
                    <a:lnTo>
                      <a:pt x="261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54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7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40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8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1"/>
                    </a:lnTo>
                    <a:lnTo>
                      <a:pt x="213" y="111"/>
                    </a:lnTo>
                    <a:lnTo>
                      <a:pt x="219" y="118"/>
                    </a:lnTo>
                    <a:lnTo>
                      <a:pt x="213" y="118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13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199" y="111"/>
                    </a:lnTo>
                    <a:lnTo>
                      <a:pt x="199" y="111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104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9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7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92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91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85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84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0"/>
                    </a:lnTo>
                    <a:lnTo>
                      <a:pt x="171" y="70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71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77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65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84"/>
                    </a:lnTo>
                    <a:lnTo>
                      <a:pt x="158" y="91"/>
                    </a:lnTo>
                    <a:lnTo>
                      <a:pt x="158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51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1"/>
                    </a:lnTo>
                    <a:lnTo>
                      <a:pt x="144" y="97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91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84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7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7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63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23" y="56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6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9" y="28"/>
                    </a:lnTo>
                    <a:lnTo>
                      <a:pt x="82" y="28"/>
                    </a:lnTo>
                    <a:lnTo>
                      <a:pt x="89" y="28"/>
                    </a:lnTo>
                    <a:lnTo>
                      <a:pt x="82" y="21"/>
                    </a:lnTo>
                    <a:lnTo>
                      <a:pt x="82" y="28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75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7"/>
                    </a:lnTo>
                    <a:lnTo>
                      <a:pt x="68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55" y="7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7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27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20400" y="4615920"/>
                <a:ext cx="769320" cy="685800"/>
              </a:xfrm>
              <a:custGeom>
                <a:avLst/>
                <a:gdLst/>
                <a:ahLst/>
                <a:rect l="l" t="t" r="r" b="b"/>
                <a:pathLst>
                  <a:path w="611" h="583">
                    <a:moveTo>
                      <a:pt x="13" y="201"/>
                    </a:moveTo>
                    <a:lnTo>
                      <a:pt x="27" y="174"/>
                    </a:lnTo>
                    <a:lnTo>
                      <a:pt x="34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53"/>
                    </a:lnTo>
                    <a:lnTo>
                      <a:pt x="41" y="146"/>
                    </a:lnTo>
                    <a:lnTo>
                      <a:pt x="34" y="146"/>
                    </a:lnTo>
                    <a:lnTo>
                      <a:pt x="55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48" y="70"/>
                    </a:lnTo>
                    <a:lnTo>
                      <a:pt x="41" y="56"/>
                    </a:lnTo>
                    <a:lnTo>
                      <a:pt x="41" y="56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9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35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9"/>
                    </a:lnTo>
                    <a:lnTo>
                      <a:pt x="48" y="42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48" y="49"/>
                    </a:lnTo>
                    <a:lnTo>
                      <a:pt x="55" y="49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68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5" y="5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28"/>
                    </a:lnTo>
                    <a:lnTo>
                      <a:pt x="103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0" y="28"/>
                    </a:lnTo>
                    <a:lnTo>
                      <a:pt x="116" y="28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21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3" y="7"/>
                    </a:lnTo>
                    <a:lnTo>
                      <a:pt x="123" y="7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14"/>
                    </a:lnTo>
                    <a:lnTo>
                      <a:pt x="137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44" y="14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14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58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2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199" y="7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3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14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19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26" y="28"/>
                    </a:lnTo>
                    <a:lnTo>
                      <a:pt x="226" y="21"/>
                    </a:lnTo>
                    <a:lnTo>
                      <a:pt x="226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0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42"/>
                    </a:lnTo>
                    <a:lnTo>
                      <a:pt x="261" y="42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67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74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1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35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88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8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1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16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28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35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2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29" y="42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36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35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8"/>
                    </a:lnTo>
                    <a:lnTo>
                      <a:pt x="350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14"/>
                    </a:lnTo>
                    <a:lnTo>
                      <a:pt x="364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0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7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0"/>
                    </a:lnTo>
                    <a:lnTo>
                      <a:pt x="377" y="7"/>
                    </a:lnTo>
                    <a:lnTo>
                      <a:pt x="384" y="7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64" y="49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56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64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63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77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63"/>
                    </a:lnTo>
                    <a:lnTo>
                      <a:pt x="384" y="70"/>
                    </a:lnTo>
                    <a:lnTo>
                      <a:pt x="384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1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398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05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25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32" y="70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77"/>
                    </a:lnTo>
                    <a:lnTo>
                      <a:pt x="425" y="83"/>
                    </a:lnTo>
                    <a:lnTo>
                      <a:pt x="425" y="83"/>
                    </a:lnTo>
                    <a:lnTo>
                      <a:pt x="432" y="83"/>
                    </a:lnTo>
                    <a:lnTo>
                      <a:pt x="432" y="90"/>
                    </a:lnTo>
                    <a:lnTo>
                      <a:pt x="432" y="90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2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39" y="97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0"/>
                    </a:lnTo>
                    <a:lnTo>
                      <a:pt x="446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53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60" y="97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53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04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46" y="111"/>
                    </a:lnTo>
                    <a:lnTo>
                      <a:pt x="439" y="111"/>
                    </a:lnTo>
                    <a:lnTo>
                      <a:pt x="439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25"/>
                    </a:lnTo>
                    <a:lnTo>
                      <a:pt x="446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73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0" y="125"/>
                    </a:lnTo>
                    <a:lnTo>
                      <a:pt x="487" y="125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87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2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494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1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39"/>
                    </a:lnTo>
                    <a:lnTo>
                      <a:pt x="508" y="146"/>
                    </a:lnTo>
                    <a:lnTo>
                      <a:pt x="508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15" y="146"/>
                    </a:lnTo>
                    <a:lnTo>
                      <a:pt x="522" y="146"/>
                    </a:lnTo>
                    <a:lnTo>
                      <a:pt x="522" y="146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28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53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35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2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0"/>
                    </a:lnTo>
                    <a:lnTo>
                      <a:pt x="549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56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0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67"/>
                    </a:lnTo>
                    <a:lnTo>
                      <a:pt x="576" y="174"/>
                    </a:lnTo>
                    <a:lnTo>
                      <a:pt x="576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83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74"/>
                    </a:lnTo>
                    <a:lnTo>
                      <a:pt x="590" y="181"/>
                    </a:lnTo>
                    <a:lnTo>
                      <a:pt x="597" y="174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597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1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04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08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2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29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36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43"/>
                    </a:lnTo>
                    <a:lnTo>
                      <a:pt x="604" y="250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604" y="257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7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90" y="264"/>
                    </a:lnTo>
                    <a:lnTo>
                      <a:pt x="583" y="264"/>
                    </a:lnTo>
                    <a:lnTo>
                      <a:pt x="583" y="264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1"/>
                    </a:lnTo>
                    <a:lnTo>
                      <a:pt x="576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70" y="278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85"/>
                    </a:lnTo>
                    <a:lnTo>
                      <a:pt x="563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2"/>
                    </a:lnTo>
                    <a:lnTo>
                      <a:pt x="556" y="298"/>
                    </a:lnTo>
                    <a:lnTo>
                      <a:pt x="556" y="298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05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2"/>
                    </a:lnTo>
                    <a:lnTo>
                      <a:pt x="556" y="319"/>
                    </a:lnTo>
                    <a:lnTo>
                      <a:pt x="556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9" y="319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26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42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33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0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47"/>
                    </a:lnTo>
                    <a:lnTo>
                      <a:pt x="535" y="354"/>
                    </a:lnTo>
                    <a:lnTo>
                      <a:pt x="535" y="354"/>
                    </a:lnTo>
                    <a:lnTo>
                      <a:pt x="528" y="354"/>
                    </a:lnTo>
                    <a:lnTo>
                      <a:pt x="528" y="354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8" y="361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22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68"/>
                    </a:lnTo>
                    <a:lnTo>
                      <a:pt x="515" y="375"/>
                    </a:lnTo>
                    <a:lnTo>
                      <a:pt x="515" y="375"/>
                    </a:lnTo>
                    <a:lnTo>
                      <a:pt x="522" y="375"/>
                    </a:lnTo>
                    <a:lnTo>
                      <a:pt x="522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15" y="382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89"/>
                    </a:lnTo>
                    <a:lnTo>
                      <a:pt x="508" y="396"/>
                    </a:lnTo>
                    <a:lnTo>
                      <a:pt x="508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396"/>
                    </a:lnTo>
                    <a:lnTo>
                      <a:pt x="501" y="403"/>
                    </a:lnTo>
                    <a:lnTo>
                      <a:pt x="494" y="403"/>
                    </a:lnTo>
                    <a:lnTo>
                      <a:pt x="494" y="403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16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73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7" y="430"/>
                    </a:lnTo>
                    <a:lnTo>
                      <a:pt x="460" y="437"/>
                    </a:lnTo>
                    <a:lnTo>
                      <a:pt x="460" y="437"/>
                    </a:lnTo>
                    <a:lnTo>
                      <a:pt x="453" y="437"/>
                    </a:lnTo>
                    <a:lnTo>
                      <a:pt x="453" y="437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53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46" y="444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9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1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32" y="458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25" y="465"/>
                    </a:lnTo>
                    <a:lnTo>
                      <a:pt x="419" y="465"/>
                    </a:lnTo>
                    <a:lnTo>
                      <a:pt x="419" y="465"/>
                    </a:lnTo>
                    <a:lnTo>
                      <a:pt x="419" y="472"/>
                    </a:lnTo>
                    <a:lnTo>
                      <a:pt x="419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12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2"/>
                    </a:lnTo>
                    <a:lnTo>
                      <a:pt x="405" y="479"/>
                    </a:lnTo>
                    <a:lnTo>
                      <a:pt x="405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391" y="479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91" y="486"/>
                    </a:lnTo>
                    <a:lnTo>
                      <a:pt x="384" y="486"/>
                    </a:lnTo>
                    <a:lnTo>
                      <a:pt x="384" y="486"/>
                    </a:lnTo>
                    <a:lnTo>
                      <a:pt x="384" y="493"/>
                    </a:lnTo>
                    <a:lnTo>
                      <a:pt x="384" y="493"/>
                    </a:lnTo>
                    <a:lnTo>
                      <a:pt x="384" y="500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84" y="507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14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0" y="520"/>
                    </a:lnTo>
                    <a:lnTo>
                      <a:pt x="370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34"/>
                    </a:lnTo>
                    <a:lnTo>
                      <a:pt x="357" y="534"/>
                    </a:lnTo>
                    <a:lnTo>
                      <a:pt x="350" y="541"/>
                    </a:lnTo>
                    <a:lnTo>
                      <a:pt x="350" y="541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48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55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43" y="562"/>
                    </a:lnTo>
                    <a:lnTo>
                      <a:pt x="350" y="562"/>
                    </a:lnTo>
                    <a:lnTo>
                      <a:pt x="350" y="569"/>
                    </a:lnTo>
                    <a:lnTo>
                      <a:pt x="343" y="569"/>
                    </a:lnTo>
                    <a:lnTo>
                      <a:pt x="343" y="569"/>
                    </a:lnTo>
                    <a:lnTo>
                      <a:pt x="343" y="576"/>
                    </a:lnTo>
                    <a:lnTo>
                      <a:pt x="343" y="576"/>
                    </a:lnTo>
                    <a:lnTo>
                      <a:pt x="336" y="583"/>
                    </a:lnTo>
                    <a:lnTo>
                      <a:pt x="336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83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9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76"/>
                    </a:lnTo>
                    <a:lnTo>
                      <a:pt x="322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16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9"/>
                    </a:lnTo>
                    <a:lnTo>
                      <a:pt x="309" y="562"/>
                    </a:lnTo>
                    <a:lnTo>
                      <a:pt x="309" y="569"/>
                    </a:lnTo>
                    <a:lnTo>
                      <a:pt x="302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74" y="576"/>
                    </a:lnTo>
                    <a:lnTo>
                      <a:pt x="274" y="569"/>
                    </a:lnTo>
                    <a:lnTo>
                      <a:pt x="267" y="569"/>
                    </a:lnTo>
                    <a:lnTo>
                      <a:pt x="267" y="569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7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69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61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54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7" y="576"/>
                    </a:lnTo>
                    <a:lnTo>
                      <a:pt x="240" y="576"/>
                    </a:lnTo>
                    <a:lnTo>
                      <a:pt x="240" y="569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40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76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9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33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8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19" y="534"/>
                    </a:lnTo>
                    <a:lnTo>
                      <a:pt x="226" y="527"/>
                    </a:lnTo>
                    <a:lnTo>
                      <a:pt x="219" y="527"/>
                    </a:lnTo>
                    <a:lnTo>
                      <a:pt x="226" y="527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26" y="520"/>
                    </a:lnTo>
                    <a:lnTo>
                      <a:pt x="219" y="520"/>
                    </a:lnTo>
                    <a:lnTo>
                      <a:pt x="219" y="520"/>
                    </a:lnTo>
                    <a:lnTo>
                      <a:pt x="219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26" y="514"/>
                    </a:lnTo>
                    <a:lnTo>
                      <a:pt x="219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26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7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500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93"/>
                    </a:lnTo>
                    <a:lnTo>
                      <a:pt x="219" y="493"/>
                    </a:lnTo>
                    <a:lnTo>
                      <a:pt x="219" y="493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86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9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3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72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65"/>
                    </a:lnTo>
                    <a:lnTo>
                      <a:pt x="219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8"/>
                    </a:lnTo>
                    <a:lnTo>
                      <a:pt x="213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51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0"/>
                    </a:lnTo>
                    <a:lnTo>
                      <a:pt x="199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92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71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64" y="430"/>
                    </a:lnTo>
                    <a:lnTo>
                      <a:pt x="164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8" y="423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51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44" y="416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16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7" y="423"/>
                    </a:lnTo>
                    <a:lnTo>
                      <a:pt x="130" y="423"/>
                    </a:lnTo>
                    <a:lnTo>
                      <a:pt x="137" y="423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30"/>
                    </a:lnTo>
                    <a:lnTo>
                      <a:pt x="130" y="423"/>
                    </a:lnTo>
                    <a:lnTo>
                      <a:pt x="130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23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23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6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10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103" y="423"/>
                    </a:lnTo>
                    <a:lnTo>
                      <a:pt x="103" y="430"/>
                    </a:lnTo>
                    <a:lnTo>
                      <a:pt x="103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23"/>
                    </a:lnTo>
                    <a:lnTo>
                      <a:pt x="96" y="423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96" y="430"/>
                    </a:lnTo>
                    <a:lnTo>
                      <a:pt x="89" y="430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9" y="430"/>
                    </a:lnTo>
                    <a:lnTo>
                      <a:pt x="89" y="423"/>
                    </a:lnTo>
                    <a:lnTo>
                      <a:pt x="89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23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82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23"/>
                    </a:lnTo>
                    <a:lnTo>
                      <a:pt x="75" y="430"/>
                    </a:lnTo>
                    <a:lnTo>
                      <a:pt x="75" y="430"/>
                    </a:lnTo>
                    <a:lnTo>
                      <a:pt x="75" y="423"/>
                    </a:lnTo>
                    <a:lnTo>
                      <a:pt x="68" y="430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62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55" y="423"/>
                    </a:lnTo>
                    <a:lnTo>
                      <a:pt x="48" y="423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8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41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34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7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16"/>
                    </a:lnTo>
                    <a:lnTo>
                      <a:pt x="20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13" y="409"/>
                    </a:lnTo>
                    <a:lnTo>
                      <a:pt x="20" y="409"/>
                    </a:lnTo>
                    <a:lnTo>
                      <a:pt x="20" y="409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403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96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9"/>
                    </a:lnTo>
                    <a:lnTo>
                      <a:pt x="20" y="382"/>
                    </a:lnTo>
                    <a:lnTo>
                      <a:pt x="20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7" y="382"/>
                    </a:lnTo>
                    <a:lnTo>
                      <a:pt x="20" y="382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75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8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61"/>
                    </a:lnTo>
                    <a:lnTo>
                      <a:pt x="20" y="354"/>
                    </a:lnTo>
                    <a:lnTo>
                      <a:pt x="27" y="354"/>
                    </a:lnTo>
                    <a:lnTo>
                      <a:pt x="27" y="354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7" y="347"/>
                    </a:lnTo>
                    <a:lnTo>
                      <a:pt x="20" y="347"/>
                    </a:lnTo>
                    <a:lnTo>
                      <a:pt x="20" y="347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40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33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26"/>
                    </a:lnTo>
                    <a:lnTo>
                      <a:pt x="27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34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9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0" y="312"/>
                    </a:lnTo>
                    <a:lnTo>
                      <a:pt x="27" y="312"/>
                    </a:lnTo>
                    <a:lnTo>
                      <a:pt x="27" y="312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7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305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7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8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20" y="292"/>
                    </a:lnTo>
                    <a:lnTo>
                      <a:pt x="13" y="292"/>
                    </a:lnTo>
                    <a:lnTo>
                      <a:pt x="13" y="285"/>
                    </a:lnTo>
                    <a:lnTo>
                      <a:pt x="13" y="285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8"/>
                    </a:lnTo>
                    <a:lnTo>
                      <a:pt x="13" y="271"/>
                    </a:lnTo>
                    <a:lnTo>
                      <a:pt x="13" y="271"/>
                    </a:lnTo>
                    <a:lnTo>
                      <a:pt x="7" y="271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0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7" y="250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13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7" y="215"/>
                    </a:lnTo>
                    <a:lnTo>
                      <a:pt x="13" y="201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36600" y="4615920"/>
                <a:ext cx="752760" cy="449280"/>
              </a:xfrm>
              <a:custGeom>
                <a:avLst/>
                <a:gdLst/>
                <a:ahLst/>
                <a:rect l="l" t="t" r="r" b="b"/>
                <a:pathLst>
                  <a:path w="598" h="382">
                    <a:moveTo>
                      <a:pt x="0" y="201"/>
                    </a:moveTo>
                    <a:lnTo>
                      <a:pt x="14" y="174"/>
                    </a:lnTo>
                    <a:lnTo>
                      <a:pt x="21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46"/>
                    </a:lnTo>
                    <a:lnTo>
                      <a:pt x="21" y="146"/>
                    </a:lnTo>
                    <a:lnTo>
                      <a:pt x="42" y="90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9" y="83"/>
                    </a:lnTo>
                    <a:lnTo>
                      <a:pt x="42" y="77"/>
                    </a:lnTo>
                    <a:lnTo>
                      <a:pt x="42" y="77"/>
                    </a:lnTo>
                    <a:lnTo>
                      <a:pt x="35" y="70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9"/>
                    </a:lnTo>
                    <a:lnTo>
                      <a:pt x="35" y="42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42" y="49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49"/>
                    </a:lnTo>
                    <a:lnTo>
                      <a:pt x="62" y="56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9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97" y="28"/>
                    </a:lnTo>
                    <a:lnTo>
                      <a:pt x="103" y="2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17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7"/>
                    </a:lnTo>
                    <a:lnTo>
                      <a:pt x="131" y="14"/>
                    </a:lnTo>
                    <a:lnTo>
                      <a:pt x="131" y="14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14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7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2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79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86" y="7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193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14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06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28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34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1" y="35"/>
                    </a:lnTo>
                    <a:lnTo>
                      <a:pt x="248" y="35"/>
                    </a:lnTo>
                    <a:lnTo>
                      <a:pt x="248" y="42"/>
                    </a:lnTo>
                    <a:lnTo>
                      <a:pt x="248" y="42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48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54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68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35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75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8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296" y="21"/>
                    </a:lnTo>
                    <a:lnTo>
                      <a:pt x="296" y="28"/>
                    </a:lnTo>
                    <a:lnTo>
                      <a:pt x="296" y="21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3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35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09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0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35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8"/>
                    </a:lnTo>
                    <a:lnTo>
                      <a:pt x="337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44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14"/>
                    </a:lnTo>
                    <a:lnTo>
                      <a:pt x="351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14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57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7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64" y="7"/>
                    </a:lnTo>
                    <a:lnTo>
                      <a:pt x="371" y="7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64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7" y="42"/>
                    </a:lnTo>
                    <a:lnTo>
                      <a:pt x="351" y="42"/>
                    </a:lnTo>
                    <a:lnTo>
                      <a:pt x="351" y="42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51" y="49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56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44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1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63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57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64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63"/>
                    </a:lnTo>
                    <a:lnTo>
                      <a:pt x="371" y="70"/>
                    </a:lnTo>
                    <a:lnTo>
                      <a:pt x="371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78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85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2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399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06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2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9" y="70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77"/>
                    </a:lnTo>
                    <a:lnTo>
                      <a:pt x="412" y="83"/>
                    </a:lnTo>
                    <a:lnTo>
                      <a:pt x="412" y="83"/>
                    </a:lnTo>
                    <a:lnTo>
                      <a:pt x="419" y="83"/>
                    </a:lnTo>
                    <a:lnTo>
                      <a:pt x="419" y="90"/>
                    </a:lnTo>
                    <a:lnTo>
                      <a:pt x="419" y="90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19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26" y="97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0"/>
                    </a:lnTo>
                    <a:lnTo>
                      <a:pt x="433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0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7" y="97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04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33" y="111"/>
                    </a:lnTo>
                    <a:lnTo>
                      <a:pt x="426" y="111"/>
                    </a:lnTo>
                    <a:lnTo>
                      <a:pt x="426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18"/>
                    </a:lnTo>
                    <a:lnTo>
                      <a:pt x="433" y="125"/>
                    </a:lnTo>
                    <a:lnTo>
                      <a:pt x="433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47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54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0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67" y="125"/>
                    </a:lnTo>
                    <a:lnTo>
                      <a:pt x="474" y="125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74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2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1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88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39"/>
                    </a:lnTo>
                    <a:lnTo>
                      <a:pt x="495" y="146"/>
                    </a:lnTo>
                    <a:lnTo>
                      <a:pt x="495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2" y="146"/>
                    </a:lnTo>
                    <a:lnTo>
                      <a:pt x="509" y="146"/>
                    </a:lnTo>
                    <a:lnTo>
                      <a:pt x="509" y="146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09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15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53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2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29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6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43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0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57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67"/>
                    </a:lnTo>
                    <a:lnTo>
                      <a:pt x="563" y="174"/>
                    </a:lnTo>
                    <a:lnTo>
                      <a:pt x="563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0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74"/>
                    </a:lnTo>
                    <a:lnTo>
                      <a:pt x="577" y="181"/>
                    </a:lnTo>
                    <a:lnTo>
                      <a:pt x="584" y="174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84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1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1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87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194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8" y="201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08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15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2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29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36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43"/>
                    </a:lnTo>
                    <a:lnTo>
                      <a:pt x="591" y="250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91" y="257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84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7" y="264"/>
                    </a:lnTo>
                    <a:lnTo>
                      <a:pt x="570" y="264"/>
                    </a:lnTo>
                    <a:lnTo>
                      <a:pt x="570" y="264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1"/>
                    </a:lnTo>
                    <a:lnTo>
                      <a:pt x="563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7" y="278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85"/>
                    </a:lnTo>
                    <a:lnTo>
                      <a:pt x="550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2"/>
                    </a:lnTo>
                    <a:lnTo>
                      <a:pt x="543" y="298"/>
                    </a:lnTo>
                    <a:lnTo>
                      <a:pt x="543" y="298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05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2"/>
                    </a:lnTo>
                    <a:lnTo>
                      <a:pt x="543" y="319"/>
                    </a:lnTo>
                    <a:lnTo>
                      <a:pt x="543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36" y="319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26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9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33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0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47"/>
                    </a:lnTo>
                    <a:lnTo>
                      <a:pt x="522" y="354"/>
                    </a:lnTo>
                    <a:lnTo>
                      <a:pt x="522" y="354"/>
                    </a:lnTo>
                    <a:lnTo>
                      <a:pt x="515" y="354"/>
                    </a:lnTo>
                    <a:lnTo>
                      <a:pt x="515" y="354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15" y="361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9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68"/>
                    </a:lnTo>
                    <a:lnTo>
                      <a:pt x="502" y="375"/>
                    </a:lnTo>
                    <a:lnTo>
                      <a:pt x="502" y="375"/>
                    </a:lnTo>
                    <a:lnTo>
                      <a:pt x="509" y="375"/>
                    </a:lnTo>
                    <a:lnTo>
                      <a:pt x="509" y="38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20400" y="4852080"/>
                <a:ext cx="657360" cy="449280"/>
              </a:xfrm>
              <a:custGeom>
                <a:avLst/>
                <a:gdLst/>
                <a:ahLst/>
                <a:rect l="l" t="t" r="r" b="b"/>
                <a:pathLst>
                  <a:path w="522" h="382">
                    <a:moveTo>
                      <a:pt x="522" y="181"/>
                    </a:moveTo>
                    <a:lnTo>
                      <a:pt x="515" y="181"/>
                    </a:lnTo>
                    <a:lnTo>
                      <a:pt x="515" y="181"/>
                    </a:lnTo>
                    <a:lnTo>
                      <a:pt x="515" y="181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88"/>
                    </a:lnTo>
                    <a:lnTo>
                      <a:pt x="508" y="195"/>
                    </a:lnTo>
                    <a:lnTo>
                      <a:pt x="508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195"/>
                    </a:lnTo>
                    <a:lnTo>
                      <a:pt x="501" y="202"/>
                    </a:lnTo>
                    <a:lnTo>
                      <a:pt x="494" y="202"/>
                    </a:lnTo>
                    <a:lnTo>
                      <a:pt x="494" y="202"/>
                    </a:lnTo>
                    <a:lnTo>
                      <a:pt x="494" y="208"/>
                    </a:lnTo>
                    <a:lnTo>
                      <a:pt x="494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15"/>
                    </a:lnTo>
                    <a:lnTo>
                      <a:pt x="487" y="222"/>
                    </a:lnTo>
                    <a:lnTo>
                      <a:pt x="487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80" y="222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73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7" y="229"/>
                    </a:lnTo>
                    <a:lnTo>
                      <a:pt x="460" y="236"/>
                    </a:lnTo>
                    <a:lnTo>
                      <a:pt x="460" y="236"/>
                    </a:lnTo>
                    <a:lnTo>
                      <a:pt x="453" y="236"/>
                    </a:lnTo>
                    <a:lnTo>
                      <a:pt x="453" y="236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53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46" y="243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9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0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32" y="257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19" y="264"/>
                    </a:lnTo>
                    <a:lnTo>
                      <a:pt x="419" y="264"/>
                    </a:lnTo>
                    <a:lnTo>
                      <a:pt x="419" y="271"/>
                    </a:lnTo>
                    <a:lnTo>
                      <a:pt x="419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12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1"/>
                    </a:lnTo>
                    <a:lnTo>
                      <a:pt x="405" y="278"/>
                    </a:lnTo>
                    <a:lnTo>
                      <a:pt x="405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8" y="278"/>
                    </a:lnTo>
                    <a:lnTo>
                      <a:pt x="391" y="278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91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84" y="292"/>
                    </a:lnTo>
                    <a:lnTo>
                      <a:pt x="384" y="299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84" y="306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3"/>
                    </a:lnTo>
                    <a:lnTo>
                      <a:pt x="377" y="319"/>
                    </a:lnTo>
                    <a:lnTo>
                      <a:pt x="377" y="319"/>
                    </a:lnTo>
                    <a:lnTo>
                      <a:pt x="370" y="319"/>
                    </a:lnTo>
                    <a:lnTo>
                      <a:pt x="370" y="319"/>
                    </a:lnTo>
                    <a:lnTo>
                      <a:pt x="364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26"/>
                    </a:lnTo>
                    <a:lnTo>
                      <a:pt x="357" y="333"/>
                    </a:lnTo>
                    <a:lnTo>
                      <a:pt x="357" y="333"/>
                    </a:lnTo>
                    <a:lnTo>
                      <a:pt x="350" y="340"/>
                    </a:lnTo>
                    <a:lnTo>
                      <a:pt x="350" y="340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47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54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43" y="361"/>
                    </a:lnTo>
                    <a:lnTo>
                      <a:pt x="350" y="361"/>
                    </a:lnTo>
                    <a:lnTo>
                      <a:pt x="350" y="368"/>
                    </a:lnTo>
                    <a:lnTo>
                      <a:pt x="343" y="368"/>
                    </a:lnTo>
                    <a:lnTo>
                      <a:pt x="343" y="368"/>
                    </a:lnTo>
                    <a:lnTo>
                      <a:pt x="343" y="375"/>
                    </a:lnTo>
                    <a:lnTo>
                      <a:pt x="343" y="375"/>
                    </a:lnTo>
                    <a:lnTo>
                      <a:pt x="336" y="382"/>
                    </a:lnTo>
                    <a:lnTo>
                      <a:pt x="336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82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9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75"/>
                    </a:lnTo>
                    <a:lnTo>
                      <a:pt x="322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16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8"/>
                    </a:lnTo>
                    <a:lnTo>
                      <a:pt x="309" y="361"/>
                    </a:lnTo>
                    <a:lnTo>
                      <a:pt x="309" y="368"/>
                    </a:lnTo>
                    <a:lnTo>
                      <a:pt x="302" y="361"/>
                    </a:lnTo>
                    <a:lnTo>
                      <a:pt x="309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302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95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1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8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81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74" y="375"/>
                    </a:lnTo>
                    <a:lnTo>
                      <a:pt x="274" y="368"/>
                    </a:lnTo>
                    <a:lnTo>
                      <a:pt x="267" y="368"/>
                    </a:lnTo>
                    <a:lnTo>
                      <a:pt x="267" y="368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7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68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61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54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7" y="375"/>
                    </a:lnTo>
                    <a:lnTo>
                      <a:pt x="240" y="375"/>
                    </a:lnTo>
                    <a:lnTo>
                      <a:pt x="240" y="368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40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75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8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61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54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33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7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40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26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26" y="326"/>
                    </a:lnTo>
                    <a:lnTo>
                      <a:pt x="219" y="326"/>
                    </a:lnTo>
                    <a:lnTo>
                      <a:pt x="226" y="326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26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26" y="313"/>
                    </a:lnTo>
                    <a:lnTo>
                      <a:pt x="219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26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306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9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92"/>
                    </a:lnTo>
                    <a:lnTo>
                      <a:pt x="219" y="292"/>
                    </a:lnTo>
                    <a:lnTo>
                      <a:pt x="219" y="292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85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8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3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71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64"/>
                    </a:lnTo>
                    <a:lnTo>
                      <a:pt x="219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7"/>
                    </a:lnTo>
                    <a:lnTo>
                      <a:pt x="213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206" y="236"/>
                    </a:lnTo>
                    <a:lnTo>
                      <a:pt x="206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92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85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8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71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51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44" y="215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15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7" y="222"/>
                    </a:lnTo>
                    <a:lnTo>
                      <a:pt x="130" y="222"/>
                    </a:lnTo>
                    <a:lnTo>
                      <a:pt x="137" y="222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9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6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10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103" y="222"/>
                    </a:lnTo>
                    <a:lnTo>
                      <a:pt x="103" y="229"/>
                    </a:lnTo>
                    <a:lnTo>
                      <a:pt x="103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2"/>
                    </a:lnTo>
                    <a:lnTo>
                      <a:pt x="96" y="222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96" y="229"/>
                    </a:lnTo>
                    <a:lnTo>
                      <a:pt x="89" y="229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9" y="229"/>
                    </a:lnTo>
                    <a:lnTo>
                      <a:pt x="89" y="222"/>
                    </a:lnTo>
                    <a:lnTo>
                      <a:pt x="89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2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82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2"/>
                    </a:lnTo>
                    <a:lnTo>
                      <a:pt x="75" y="229"/>
                    </a:lnTo>
                    <a:lnTo>
                      <a:pt x="75" y="229"/>
                    </a:lnTo>
                    <a:lnTo>
                      <a:pt x="75" y="222"/>
                    </a:lnTo>
                    <a:lnTo>
                      <a:pt x="68" y="229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8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62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55" y="222"/>
                    </a:lnTo>
                    <a:lnTo>
                      <a:pt x="48" y="222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8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41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34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7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15"/>
                    </a:lnTo>
                    <a:lnTo>
                      <a:pt x="20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13" y="208"/>
                    </a:lnTo>
                    <a:lnTo>
                      <a:pt x="20" y="208"/>
                    </a:lnTo>
                    <a:lnTo>
                      <a:pt x="20" y="208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95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8"/>
                    </a:lnTo>
                    <a:lnTo>
                      <a:pt x="20" y="181"/>
                    </a:lnTo>
                    <a:lnTo>
                      <a:pt x="20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7" y="181"/>
                    </a:lnTo>
                    <a:lnTo>
                      <a:pt x="20" y="181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74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7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20" y="153"/>
                    </a:lnTo>
                    <a:lnTo>
                      <a:pt x="27" y="153"/>
                    </a:lnTo>
                    <a:lnTo>
                      <a:pt x="27" y="153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7" y="146"/>
                    </a:lnTo>
                    <a:lnTo>
                      <a:pt x="20" y="146"/>
                    </a:lnTo>
                    <a:lnTo>
                      <a:pt x="20" y="146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9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25"/>
                    </a:lnTo>
                    <a:lnTo>
                      <a:pt x="27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8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7" y="111"/>
                    </a:lnTo>
                    <a:lnTo>
                      <a:pt x="27" y="111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7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13" y="91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7" y="42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7" y="14"/>
                    </a:lnTo>
                    <a:lnTo>
                      <a:pt x="13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66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39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9" y="846"/>
                    </a:lnTo>
                    <a:lnTo>
                      <a:pt x="653" y="846"/>
                    </a:lnTo>
                    <a:lnTo>
                      <a:pt x="653" y="846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53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46" y="853"/>
                    </a:lnTo>
                    <a:lnTo>
                      <a:pt x="639" y="853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0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9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32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25" y="867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8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74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7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11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605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8" y="860"/>
                    </a:lnTo>
                    <a:lnTo>
                      <a:pt x="598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53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91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84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0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7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70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63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6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67"/>
                    </a:lnTo>
                    <a:lnTo>
                      <a:pt x="550" y="874"/>
                    </a:lnTo>
                    <a:lnTo>
                      <a:pt x="550" y="874"/>
                    </a:lnTo>
                    <a:lnTo>
                      <a:pt x="550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43" y="867"/>
                    </a:lnTo>
                    <a:lnTo>
                      <a:pt x="543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7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36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9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22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60"/>
                    </a:lnTo>
                    <a:lnTo>
                      <a:pt x="515" y="860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15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53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8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502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95" y="846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8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81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9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74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7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60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2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53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7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40" y="839"/>
                    </a:lnTo>
                    <a:lnTo>
                      <a:pt x="440" y="846"/>
                    </a:lnTo>
                    <a:lnTo>
                      <a:pt x="433" y="846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39"/>
                    </a:lnTo>
                    <a:lnTo>
                      <a:pt x="433" y="846"/>
                    </a:lnTo>
                    <a:lnTo>
                      <a:pt x="426" y="839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26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9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39"/>
                    </a:lnTo>
                    <a:lnTo>
                      <a:pt x="412" y="839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12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46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53"/>
                    </a:lnTo>
                    <a:lnTo>
                      <a:pt x="405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9" y="860"/>
                    </a:lnTo>
                    <a:lnTo>
                      <a:pt x="392" y="860"/>
                    </a:lnTo>
                    <a:lnTo>
                      <a:pt x="392" y="860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67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92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74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85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8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71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1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64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7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51" y="895"/>
                    </a:lnTo>
                    <a:lnTo>
                      <a:pt x="351" y="895"/>
                    </a:lnTo>
                    <a:lnTo>
                      <a:pt x="351" y="888"/>
                    </a:lnTo>
                    <a:lnTo>
                      <a:pt x="351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8"/>
                    </a:lnTo>
                    <a:lnTo>
                      <a:pt x="344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81"/>
                    </a:lnTo>
                    <a:lnTo>
                      <a:pt x="337" y="874"/>
                    </a:lnTo>
                    <a:lnTo>
                      <a:pt x="330" y="881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74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7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30" y="860"/>
                    </a:lnTo>
                    <a:lnTo>
                      <a:pt x="323" y="860"/>
                    </a:lnTo>
                    <a:lnTo>
                      <a:pt x="316" y="853"/>
                    </a:lnTo>
                    <a:lnTo>
                      <a:pt x="309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60"/>
                    </a:lnTo>
                    <a:lnTo>
                      <a:pt x="302" y="853"/>
                    </a:lnTo>
                    <a:lnTo>
                      <a:pt x="302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96" y="853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9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46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82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9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75" y="832"/>
                    </a:lnTo>
                    <a:lnTo>
                      <a:pt x="268" y="832"/>
                    </a:lnTo>
                    <a:lnTo>
                      <a:pt x="268" y="825"/>
                    </a:lnTo>
                    <a:lnTo>
                      <a:pt x="275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25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8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11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804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8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91"/>
                    </a:lnTo>
                    <a:lnTo>
                      <a:pt x="268" y="784"/>
                    </a:lnTo>
                    <a:lnTo>
                      <a:pt x="268" y="784"/>
                    </a:lnTo>
                    <a:lnTo>
                      <a:pt x="268" y="777"/>
                    </a:lnTo>
                    <a:lnTo>
                      <a:pt x="268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7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70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75" y="763"/>
                    </a:lnTo>
                    <a:lnTo>
                      <a:pt x="282" y="763"/>
                    </a:lnTo>
                    <a:lnTo>
                      <a:pt x="282" y="763"/>
                    </a:lnTo>
                    <a:lnTo>
                      <a:pt x="282" y="756"/>
                    </a:lnTo>
                    <a:lnTo>
                      <a:pt x="282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75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68" y="756"/>
                    </a:lnTo>
                    <a:lnTo>
                      <a:pt x="241" y="756"/>
                    </a:lnTo>
                    <a:lnTo>
                      <a:pt x="179" y="756"/>
                    </a:lnTo>
                    <a:lnTo>
                      <a:pt x="124" y="756"/>
                    </a:lnTo>
                    <a:lnTo>
                      <a:pt x="117" y="721"/>
                    </a:lnTo>
                    <a:lnTo>
                      <a:pt x="117" y="687"/>
                    </a:lnTo>
                    <a:lnTo>
                      <a:pt x="90" y="652"/>
                    </a:lnTo>
                    <a:lnTo>
                      <a:pt x="96" y="652"/>
                    </a:lnTo>
                    <a:lnTo>
                      <a:pt x="117" y="652"/>
                    </a:lnTo>
                    <a:lnTo>
                      <a:pt x="110" y="617"/>
                    </a:lnTo>
                    <a:lnTo>
                      <a:pt x="110" y="617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10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10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603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96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103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9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82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76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96" y="569"/>
                    </a:lnTo>
                    <a:lnTo>
                      <a:pt x="103" y="569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96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8"/>
                    </a:lnTo>
                    <a:lnTo>
                      <a:pt x="96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8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90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83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41"/>
                    </a:lnTo>
                    <a:lnTo>
                      <a:pt x="76" y="541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34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76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83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7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13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506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03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9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92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0" y="485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8"/>
                    </a:lnTo>
                    <a:lnTo>
                      <a:pt x="117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24" y="471"/>
                    </a:lnTo>
                    <a:lnTo>
                      <a:pt x="131" y="471"/>
                    </a:lnTo>
                    <a:lnTo>
                      <a:pt x="131" y="471"/>
                    </a:lnTo>
                    <a:lnTo>
                      <a:pt x="131" y="465"/>
                    </a:lnTo>
                    <a:lnTo>
                      <a:pt x="131" y="465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8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51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44"/>
                    </a:lnTo>
                    <a:lnTo>
                      <a:pt x="131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38" y="437"/>
                    </a:lnTo>
                    <a:lnTo>
                      <a:pt x="145" y="437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45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30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51" y="423"/>
                    </a:lnTo>
                    <a:lnTo>
                      <a:pt x="145" y="416"/>
                    </a:lnTo>
                    <a:lnTo>
                      <a:pt x="145" y="416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9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45" y="402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95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8"/>
                    </a:lnTo>
                    <a:lnTo>
                      <a:pt x="138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31" y="381"/>
                    </a:lnTo>
                    <a:lnTo>
                      <a:pt x="124" y="381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31" y="374"/>
                    </a:lnTo>
                    <a:lnTo>
                      <a:pt x="124" y="374"/>
                    </a:lnTo>
                    <a:lnTo>
                      <a:pt x="124" y="374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7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60"/>
                    </a:lnTo>
                    <a:lnTo>
                      <a:pt x="124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54"/>
                    </a:lnTo>
                    <a:lnTo>
                      <a:pt x="131" y="347"/>
                    </a:lnTo>
                    <a:lnTo>
                      <a:pt x="131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38" y="347"/>
                    </a:lnTo>
                    <a:lnTo>
                      <a:pt x="145" y="347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40"/>
                    </a:lnTo>
                    <a:lnTo>
                      <a:pt x="145" y="333"/>
                    </a:lnTo>
                    <a:lnTo>
                      <a:pt x="145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33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26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8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31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24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7" y="319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2"/>
                    </a:lnTo>
                    <a:lnTo>
                      <a:pt x="110" y="319"/>
                    </a:lnTo>
                    <a:lnTo>
                      <a:pt x="110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9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103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05"/>
                    </a:lnTo>
                    <a:lnTo>
                      <a:pt x="96" y="305"/>
                    </a:lnTo>
                    <a:lnTo>
                      <a:pt x="48" y="305"/>
                    </a:lnTo>
                    <a:lnTo>
                      <a:pt x="14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305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8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7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91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7" y="277"/>
                    </a:lnTo>
                    <a:lnTo>
                      <a:pt x="14" y="277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70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63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14" y="256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7" y="249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243"/>
                    </a:lnTo>
                    <a:lnTo>
                      <a:pt x="7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0" y="229"/>
                    </a:lnTo>
                    <a:lnTo>
                      <a:pt x="7" y="229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15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201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7" y="194"/>
                    </a:lnTo>
                    <a:lnTo>
                      <a:pt x="14" y="194"/>
                    </a:lnTo>
                    <a:lnTo>
                      <a:pt x="14" y="194"/>
                    </a:lnTo>
                    <a:lnTo>
                      <a:pt x="7" y="194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7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7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7" y="173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56440" y="3636720"/>
                <a:ext cx="1211400" cy="1061280"/>
              </a:xfrm>
              <a:custGeom>
                <a:avLst/>
                <a:gdLst/>
                <a:ahLst/>
                <a:rect l="l" t="t" r="r" b="b"/>
                <a:pathLst>
                  <a:path w="962" h="902">
                    <a:moveTo>
                      <a:pt x="0" y="159"/>
                    </a:move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9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62" y="125"/>
                    </a:lnTo>
                    <a:lnTo>
                      <a:pt x="69" y="125"/>
                    </a:lnTo>
                    <a:lnTo>
                      <a:pt x="69" y="125"/>
                    </a:lnTo>
                    <a:lnTo>
                      <a:pt x="103" y="125"/>
                    </a:lnTo>
                    <a:lnTo>
                      <a:pt x="151" y="125"/>
                    </a:lnTo>
                    <a:lnTo>
                      <a:pt x="213" y="125"/>
                    </a:lnTo>
                    <a:lnTo>
                      <a:pt x="213" y="125"/>
                    </a:lnTo>
                    <a:lnTo>
                      <a:pt x="261" y="125"/>
                    </a:lnTo>
                    <a:lnTo>
                      <a:pt x="268" y="125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68" y="118"/>
                    </a:lnTo>
                    <a:lnTo>
                      <a:pt x="275" y="118"/>
                    </a:lnTo>
                    <a:lnTo>
                      <a:pt x="275" y="118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68" y="118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7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90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83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76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75" y="69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55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8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41"/>
                    </a:lnTo>
                    <a:lnTo>
                      <a:pt x="275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34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8"/>
                    </a:lnTo>
                    <a:lnTo>
                      <a:pt x="282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21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7"/>
                    </a:lnTo>
                    <a:lnTo>
                      <a:pt x="289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302" y="0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2" y="7"/>
                    </a:lnTo>
                    <a:lnTo>
                      <a:pt x="309" y="14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1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16" y="34"/>
                    </a:lnTo>
                    <a:lnTo>
                      <a:pt x="316" y="34"/>
                    </a:lnTo>
                    <a:lnTo>
                      <a:pt x="316" y="41"/>
                    </a:lnTo>
                    <a:lnTo>
                      <a:pt x="316" y="41"/>
                    </a:lnTo>
                    <a:lnTo>
                      <a:pt x="316" y="48"/>
                    </a:lnTo>
                    <a:lnTo>
                      <a:pt x="316" y="48"/>
                    </a:lnTo>
                    <a:lnTo>
                      <a:pt x="323" y="55"/>
                    </a:lnTo>
                    <a:lnTo>
                      <a:pt x="323" y="55"/>
                    </a:lnTo>
                    <a:lnTo>
                      <a:pt x="330" y="62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0" y="69"/>
                    </a:lnTo>
                    <a:lnTo>
                      <a:pt x="337" y="69"/>
                    </a:lnTo>
                    <a:lnTo>
                      <a:pt x="337" y="76"/>
                    </a:lnTo>
                    <a:lnTo>
                      <a:pt x="337" y="76"/>
                    </a:lnTo>
                    <a:lnTo>
                      <a:pt x="330" y="76"/>
                    </a:lnTo>
                    <a:lnTo>
                      <a:pt x="330" y="76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83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0" y="90"/>
                    </a:lnTo>
                    <a:lnTo>
                      <a:pt x="337" y="90"/>
                    </a:lnTo>
                    <a:lnTo>
                      <a:pt x="337" y="97"/>
                    </a:lnTo>
                    <a:lnTo>
                      <a:pt x="330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04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7" y="118"/>
                    </a:lnTo>
                    <a:lnTo>
                      <a:pt x="337" y="118"/>
                    </a:lnTo>
                    <a:lnTo>
                      <a:pt x="344" y="118"/>
                    </a:lnTo>
                    <a:lnTo>
                      <a:pt x="344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18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1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57" y="125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64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1" y="132"/>
                    </a:lnTo>
                    <a:lnTo>
                      <a:pt x="378" y="139"/>
                    </a:lnTo>
                    <a:lnTo>
                      <a:pt x="385" y="139"/>
                    </a:lnTo>
                    <a:lnTo>
                      <a:pt x="385" y="139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45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2"/>
                    </a:lnTo>
                    <a:lnTo>
                      <a:pt x="385" y="159"/>
                    </a:lnTo>
                    <a:lnTo>
                      <a:pt x="385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2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399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59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05" y="166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2" y="173"/>
                    </a:lnTo>
                    <a:lnTo>
                      <a:pt x="419" y="166"/>
                    </a:lnTo>
                    <a:lnTo>
                      <a:pt x="453" y="173"/>
                    </a:lnTo>
                    <a:lnTo>
                      <a:pt x="460" y="173"/>
                    </a:lnTo>
                    <a:lnTo>
                      <a:pt x="495" y="173"/>
                    </a:lnTo>
                    <a:lnTo>
                      <a:pt x="556" y="180"/>
                    </a:lnTo>
                    <a:lnTo>
                      <a:pt x="584" y="180"/>
                    </a:lnTo>
                    <a:lnTo>
                      <a:pt x="591" y="180"/>
                    </a:lnTo>
                    <a:lnTo>
                      <a:pt x="632" y="187"/>
                    </a:lnTo>
                    <a:lnTo>
                      <a:pt x="680" y="187"/>
                    </a:lnTo>
                    <a:lnTo>
                      <a:pt x="714" y="194"/>
                    </a:lnTo>
                    <a:lnTo>
                      <a:pt x="756" y="194"/>
                    </a:lnTo>
                    <a:lnTo>
                      <a:pt x="762" y="194"/>
                    </a:lnTo>
                    <a:lnTo>
                      <a:pt x="790" y="201"/>
                    </a:lnTo>
                    <a:lnTo>
                      <a:pt x="859" y="201"/>
                    </a:lnTo>
                    <a:lnTo>
                      <a:pt x="872" y="201"/>
                    </a:lnTo>
                    <a:lnTo>
                      <a:pt x="893" y="208"/>
                    </a:lnTo>
                    <a:lnTo>
                      <a:pt x="913" y="208"/>
                    </a:lnTo>
                    <a:lnTo>
                      <a:pt x="962" y="208"/>
                    </a:lnTo>
                    <a:lnTo>
                      <a:pt x="962" y="208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62" y="215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2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55" y="229"/>
                    </a:lnTo>
                    <a:lnTo>
                      <a:pt x="948" y="229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36"/>
                    </a:lnTo>
                    <a:lnTo>
                      <a:pt x="948" y="243"/>
                    </a:lnTo>
                    <a:lnTo>
                      <a:pt x="948" y="243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49"/>
                    </a:lnTo>
                    <a:lnTo>
                      <a:pt x="948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56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41" y="263"/>
                    </a:lnTo>
                    <a:lnTo>
                      <a:pt x="934" y="263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0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34" y="277"/>
                    </a:lnTo>
                    <a:lnTo>
                      <a:pt x="927" y="277"/>
                    </a:lnTo>
                    <a:lnTo>
                      <a:pt x="927" y="277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84"/>
                    </a:lnTo>
                    <a:lnTo>
                      <a:pt x="934" y="291"/>
                    </a:lnTo>
                    <a:lnTo>
                      <a:pt x="934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1"/>
                    </a:lnTo>
                    <a:lnTo>
                      <a:pt x="927" y="298"/>
                    </a:lnTo>
                    <a:lnTo>
                      <a:pt x="927" y="298"/>
                    </a:lnTo>
                    <a:lnTo>
                      <a:pt x="934" y="298"/>
                    </a:lnTo>
                    <a:lnTo>
                      <a:pt x="934" y="298"/>
                    </a:lnTo>
                    <a:lnTo>
                      <a:pt x="927" y="298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05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2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19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26"/>
                    </a:lnTo>
                    <a:lnTo>
                      <a:pt x="927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33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0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47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0" y="354"/>
                    </a:lnTo>
                    <a:lnTo>
                      <a:pt x="927" y="354"/>
                    </a:lnTo>
                    <a:lnTo>
                      <a:pt x="927" y="354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0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7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67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74"/>
                    </a:lnTo>
                    <a:lnTo>
                      <a:pt x="920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1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7" y="388"/>
                    </a:lnTo>
                    <a:lnTo>
                      <a:pt x="920" y="388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0" y="395"/>
                    </a:lnTo>
                    <a:lnTo>
                      <a:pt x="920" y="395"/>
                    </a:lnTo>
                    <a:lnTo>
                      <a:pt x="927" y="395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7" y="402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0" y="409"/>
                    </a:lnTo>
                    <a:lnTo>
                      <a:pt x="927" y="409"/>
                    </a:lnTo>
                    <a:lnTo>
                      <a:pt x="927" y="409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16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23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0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7" y="437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0" y="444"/>
                    </a:lnTo>
                    <a:lnTo>
                      <a:pt x="927" y="444"/>
                    </a:lnTo>
                    <a:lnTo>
                      <a:pt x="927" y="444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1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58"/>
                    </a:lnTo>
                    <a:lnTo>
                      <a:pt x="927" y="465"/>
                    </a:lnTo>
                    <a:lnTo>
                      <a:pt x="927" y="465"/>
                    </a:lnTo>
                    <a:lnTo>
                      <a:pt x="927" y="458"/>
                    </a:lnTo>
                    <a:lnTo>
                      <a:pt x="934" y="458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34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41" y="465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1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34" y="478"/>
                    </a:lnTo>
                    <a:lnTo>
                      <a:pt x="927" y="478"/>
                    </a:lnTo>
                    <a:lnTo>
                      <a:pt x="927" y="485"/>
                    </a:lnTo>
                    <a:lnTo>
                      <a:pt x="927" y="485"/>
                    </a:lnTo>
                    <a:lnTo>
                      <a:pt x="934" y="485"/>
                    </a:lnTo>
                    <a:lnTo>
                      <a:pt x="934" y="485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27" y="492"/>
                    </a:lnTo>
                    <a:lnTo>
                      <a:pt x="927" y="492"/>
                    </a:lnTo>
                    <a:lnTo>
                      <a:pt x="934" y="492"/>
                    </a:lnTo>
                    <a:lnTo>
                      <a:pt x="934" y="492"/>
                    </a:lnTo>
                    <a:lnTo>
                      <a:pt x="934" y="499"/>
                    </a:lnTo>
                    <a:lnTo>
                      <a:pt x="927" y="499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06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7" y="513"/>
                    </a:lnTo>
                    <a:lnTo>
                      <a:pt x="920" y="513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20" y="520"/>
                    </a:lnTo>
                    <a:lnTo>
                      <a:pt x="913" y="520"/>
                    </a:lnTo>
                    <a:lnTo>
                      <a:pt x="913" y="527"/>
                    </a:lnTo>
                    <a:lnTo>
                      <a:pt x="913" y="527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13" y="534"/>
                    </a:lnTo>
                    <a:lnTo>
                      <a:pt x="907" y="534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1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07" y="548"/>
                    </a:lnTo>
                    <a:lnTo>
                      <a:pt x="913" y="548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13" y="555"/>
                    </a:lnTo>
                    <a:lnTo>
                      <a:pt x="907" y="555"/>
                    </a:lnTo>
                    <a:lnTo>
                      <a:pt x="907" y="555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07" y="562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13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69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7" y="576"/>
                    </a:lnTo>
                    <a:lnTo>
                      <a:pt x="900" y="576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2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89"/>
                    </a:lnTo>
                    <a:lnTo>
                      <a:pt x="900" y="596"/>
                    </a:lnTo>
                    <a:lnTo>
                      <a:pt x="900" y="596"/>
                    </a:lnTo>
                    <a:lnTo>
                      <a:pt x="893" y="596"/>
                    </a:lnTo>
                    <a:lnTo>
                      <a:pt x="900" y="596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03"/>
                    </a:lnTo>
                    <a:lnTo>
                      <a:pt x="900" y="610"/>
                    </a:lnTo>
                    <a:lnTo>
                      <a:pt x="900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17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24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93" y="631"/>
                    </a:lnTo>
                    <a:lnTo>
                      <a:pt x="886" y="631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38"/>
                    </a:lnTo>
                    <a:lnTo>
                      <a:pt x="893" y="638"/>
                    </a:lnTo>
                    <a:lnTo>
                      <a:pt x="893" y="638"/>
                    </a:lnTo>
                    <a:lnTo>
                      <a:pt x="886" y="638"/>
                    </a:lnTo>
                    <a:lnTo>
                      <a:pt x="886" y="645"/>
                    </a:lnTo>
                    <a:lnTo>
                      <a:pt x="886" y="645"/>
                    </a:lnTo>
                    <a:lnTo>
                      <a:pt x="879" y="645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52"/>
                    </a:lnTo>
                    <a:lnTo>
                      <a:pt x="872" y="645"/>
                    </a:lnTo>
                    <a:lnTo>
                      <a:pt x="872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65" y="645"/>
                    </a:lnTo>
                    <a:lnTo>
                      <a:pt x="859" y="645"/>
                    </a:lnTo>
                    <a:lnTo>
                      <a:pt x="859" y="645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9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2"/>
                    </a:lnTo>
                    <a:lnTo>
                      <a:pt x="852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45" y="659"/>
                    </a:lnTo>
                    <a:lnTo>
                      <a:pt x="838" y="659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38" y="666"/>
                    </a:lnTo>
                    <a:lnTo>
                      <a:pt x="845" y="666"/>
                    </a:lnTo>
                    <a:lnTo>
                      <a:pt x="845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73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0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8" y="687"/>
                    </a:lnTo>
                    <a:lnTo>
                      <a:pt x="831" y="687"/>
                    </a:lnTo>
                    <a:lnTo>
                      <a:pt x="831" y="693"/>
                    </a:lnTo>
                    <a:lnTo>
                      <a:pt x="838" y="693"/>
                    </a:lnTo>
                    <a:lnTo>
                      <a:pt x="838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693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0"/>
                    </a:lnTo>
                    <a:lnTo>
                      <a:pt x="831" y="707"/>
                    </a:lnTo>
                    <a:lnTo>
                      <a:pt x="831" y="707"/>
                    </a:lnTo>
                    <a:lnTo>
                      <a:pt x="824" y="707"/>
                    </a:lnTo>
                    <a:lnTo>
                      <a:pt x="824" y="707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24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7" y="714"/>
                    </a:lnTo>
                    <a:lnTo>
                      <a:pt x="811" y="714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11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804" y="721"/>
                    </a:lnTo>
                    <a:lnTo>
                      <a:pt x="797" y="721"/>
                    </a:lnTo>
                    <a:lnTo>
                      <a:pt x="797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1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90" y="728"/>
                    </a:lnTo>
                    <a:lnTo>
                      <a:pt x="783" y="728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35"/>
                    </a:lnTo>
                    <a:lnTo>
                      <a:pt x="783" y="742"/>
                    </a:lnTo>
                    <a:lnTo>
                      <a:pt x="783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76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9" y="742"/>
                    </a:lnTo>
                    <a:lnTo>
                      <a:pt x="762" y="742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9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2" y="749"/>
                    </a:lnTo>
                    <a:lnTo>
                      <a:pt x="769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49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62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56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63"/>
                    </a:lnTo>
                    <a:lnTo>
                      <a:pt x="756" y="770"/>
                    </a:lnTo>
                    <a:lnTo>
                      <a:pt x="756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0"/>
                    </a:lnTo>
                    <a:lnTo>
                      <a:pt x="762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77"/>
                    </a:lnTo>
                    <a:lnTo>
                      <a:pt x="756" y="784"/>
                    </a:lnTo>
                    <a:lnTo>
                      <a:pt x="756" y="777"/>
                    </a:lnTo>
                    <a:lnTo>
                      <a:pt x="749" y="777"/>
                    </a:lnTo>
                    <a:lnTo>
                      <a:pt x="749" y="777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84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9" y="791"/>
                    </a:lnTo>
                    <a:lnTo>
                      <a:pt x="742" y="791"/>
                    </a:lnTo>
                    <a:lnTo>
                      <a:pt x="742" y="791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42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798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35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04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8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1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18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21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25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2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14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39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14" y="846"/>
                    </a:lnTo>
                    <a:lnTo>
                      <a:pt x="714" y="846"/>
                    </a:lnTo>
                    <a:lnTo>
                      <a:pt x="708" y="846"/>
                    </a:lnTo>
                    <a:lnTo>
                      <a:pt x="708" y="846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53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0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67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74"/>
                    </a:lnTo>
                    <a:lnTo>
                      <a:pt x="708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1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88"/>
                    </a:lnTo>
                    <a:lnTo>
                      <a:pt x="714" y="895"/>
                    </a:lnTo>
                    <a:lnTo>
                      <a:pt x="714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895"/>
                    </a:lnTo>
                    <a:lnTo>
                      <a:pt x="721" y="902"/>
                    </a:lnTo>
                    <a:lnTo>
                      <a:pt x="721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14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8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701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94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7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80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895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73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66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902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9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53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95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46" y="888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81"/>
                    </a:lnTo>
                    <a:lnTo>
                      <a:pt x="653" y="874"/>
                    </a:lnTo>
                    <a:lnTo>
                      <a:pt x="653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59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66" y="874"/>
                    </a:lnTo>
                    <a:lnTo>
                      <a:pt x="673" y="839"/>
                    </a:lnTo>
                    <a:lnTo>
                      <a:pt x="666" y="839"/>
                    </a:lnTo>
                    <a:lnTo>
                      <a:pt x="666" y="832"/>
                    </a:lnTo>
                    <a:lnTo>
                      <a:pt x="666" y="832"/>
                    </a:lnTo>
                    <a:lnTo>
                      <a:pt x="666" y="83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52200" y="4012200"/>
                <a:ext cx="742680" cy="677520"/>
              </a:xfrm>
              <a:custGeom>
                <a:avLst/>
                <a:gdLst/>
                <a:ahLst/>
                <a:rect l="l" t="t" r="r" b="b"/>
                <a:pathLst>
                  <a:path w="590" h="576">
                    <a:moveTo>
                      <a:pt x="590" y="513"/>
                    </a:moveTo>
                    <a:lnTo>
                      <a:pt x="590" y="520"/>
                    </a:lnTo>
                    <a:lnTo>
                      <a:pt x="590" y="520"/>
                    </a:lnTo>
                    <a:lnTo>
                      <a:pt x="590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0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83" y="527"/>
                    </a:lnTo>
                    <a:lnTo>
                      <a:pt x="577" y="527"/>
                    </a:lnTo>
                    <a:lnTo>
                      <a:pt x="577" y="527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7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70" y="534"/>
                    </a:lnTo>
                    <a:lnTo>
                      <a:pt x="563" y="534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1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63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56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9" y="548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42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55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8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35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9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22" y="541"/>
                    </a:lnTo>
                    <a:lnTo>
                      <a:pt x="522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34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15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8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1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501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94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7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80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48"/>
                    </a:lnTo>
                    <a:lnTo>
                      <a:pt x="474" y="555"/>
                    </a:lnTo>
                    <a:lnTo>
                      <a:pt x="474" y="555"/>
                    </a:lnTo>
                    <a:lnTo>
                      <a:pt x="474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7" y="548"/>
                    </a:lnTo>
                    <a:lnTo>
                      <a:pt x="467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8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60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53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46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41"/>
                    </a:lnTo>
                    <a:lnTo>
                      <a:pt x="439" y="541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9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34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32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26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9" y="527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12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405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20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8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91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84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13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7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71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64" y="520"/>
                    </a:lnTo>
                    <a:lnTo>
                      <a:pt x="364" y="527"/>
                    </a:lnTo>
                    <a:lnTo>
                      <a:pt x="357" y="527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0"/>
                    </a:lnTo>
                    <a:lnTo>
                      <a:pt x="357" y="527"/>
                    </a:lnTo>
                    <a:lnTo>
                      <a:pt x="350" y="520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50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43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34"/>
                    </a:lnTo>
                    <a:lnTo>
                      <a:pt x="329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16" y="541"/>
                    </a:lnTo>
                    <a:lnTo>
                      <a:pt x="316" y="541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48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16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55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9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302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95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2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8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81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75" y="576"/>
                    </a:lnTo>
                    <a:lnTo>
                      <a:pt x="275" y="576"/>
                    </a:lnTo>
                    <a:lnTo>
                      <a:pt x="275" y="569"/>
                    </a:lnTo>
                    <a:lnTo>
                      <a:pt x="275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9"/>
                    </a:lnTo>
                    <a:lnTo>
                      <a:pt x="268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62"/>
                    </a:lnTo>
                    <a:lnTo>
                      <a:pt x="261" y="555"/>
                    </a:lnTo>
                    <a:lnTo>
                      <a:pt x="254" y="562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55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8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54" y="541"/>
                    </a:lnTo>
                    <a:lnTo>
                      <a:pt x="247" y="541"/>
                    </a:lnTo>
                    <a:lnTo>
                      <a:pt x="240" y="534"/>
                    </a:lnTo>
                    <a:lnTo>
                      <a:pt x="233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41"/>
                    </a:lnTo>
                    <a:lnTo>
                      <a:pt x="226" y="534"/>
                    </a:lnTo>
                    <a:lnTo>
                      <a:pt x="226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20" y="534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13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7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206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20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9" y="513"/>
                    </a:lnTo>
                    <a:lnTo>
                      <a:pt x="192" y="513"/>
                    </a:lnTo>
                    <a:lnTo>
                      <a:pt x="192" y="506"/>
                    </a:lnTo>
                    <a:lnTo>
                      <a:pt x="199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506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9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92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85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9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72"/>
                    </a:lnTo>
                    <a:lnTo>
                      <a:pt x="192" y="465"/>
                    </a:lnTo>
                    <a:lnTo>
                      <a:pt x="192" y="465"/>
                    </a:lnTo>
                    <a:lnTo>
                      <a:pt x="192" y="458"/>
                    </a:lnTo>
                    <a:lnTo>
                      <a:pt x="192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8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51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199" y="444"/>
                    </a:lnTo>
                    <a:lnTo>
                      <a:pt x="206" y="444"/>
                    </a:lnTo>
                    <a:lnTo>
                      <a:pt x="206" y="444"/>
                    </a:lnTo>
                    <a:lnTo>
                      <a:pt x="206" y="437"/>
                    </a:lnTo>
                    <a:lnTo>
                      <a:pt x="206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9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92" y="437"/>
                    </a:lnTo>
                    <a:lnTo>
                      <a:pt x="165" y="437"/>
                    </a:lnTo>
                    <a:lnTo>
                      <a:pt x="103" y="437"/>
                    </a:lnTo>
                    <a:lnTo>
                      <a:pt x="48" y="437"/>
                    </a:lnTo>
                    <a:lnTo>
                      <a:pt x="41" y="402"/>
                    </a:lnTo>
                    <a:lnTo>
                      <a:pt x="41" y="368"/>
                    </a:lnTo>
                    <a:lnTo>
                      <a:pt x="14" y="333"/>
                    </a:lnTo>
                    <a:lnTo>
                      <a:pt x="20" y="333"/>
                    </a:lnTo>
                    <a:lnTo>
                      <a:pt x="41" y="333"/>
                    </a:lnTo>
                    <a:lnTo>
                      <a:pt x="34" y="298"/>
                    </a:lnTo>
                    <a:lnTo>
                      <a:pt x="34" y="298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91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34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84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7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7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70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63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7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0" y="250"/>
                    </a:lnTo>
                    <a:lnTo>
                      <a:pt x="27" y="250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7" y="243"/>
                    </a:lnTo>
                    <a:lnTo>
                      <a:pt x="20" y="243"/>
                    </a:lnTo>
                    <a:lnTo>
                      <a:pt x="27" y="243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7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9"/>
                    </a:lnTo>
                    <a:lnTo>
                      <a:pt x="20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9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14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7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2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7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8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14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0" y="201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94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7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27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9"/>
                    </a:lnTo>
                    <a:lnTo>
                      <a:pt x="41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5" y="146"/>
                    </a:lnTo>
                    <a:lnTo>
                      <a:pt x="55" y="146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9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32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69" y="118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9" y="83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9"/>
                    </a:lnTo>
                    <a:lnTo>
                      <a:pt x="62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55" y="62"/>
                    </a:lnTo>
                    <a:lnTo>
                      <a:pt x="48" y="62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55" y="55"/>
                    </a:lnTo>
                    <a:lnTo>
                      <a:pt x="48" y="55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41"/>
                    </a:lnTo>
                    <a:lnTo>
                      <a:pt x="48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9" y="28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69" y="14"/>
                    </a:lnTo>
                    <a:lnTo>
                      <a:pt x="69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56440" y="3823920"/>
                <a:ext cx="164520" cy="188280"/>
              </a:xfrm>
              <a:custGeom>
                <a:avLst/>
                <a:gdLst/>
                <a:ahLst/>
                <a:rect l="l" t="t" r="r" b="b"/>
                <a:pathLst>
                  <a:path w="131" h="160">
                    <a:moveTo>
                      <a:pt x="131" y="160"/>
                    </a:move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31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24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7" y="160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53"/>
                    </a:lnTo>
                    <a:lnTo>
                      <a:pt x="110" y="160"/>
                    </a:lnTo>
                    <a:lnTo>
                      <a:pt x="110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60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103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53"/>
                    </a:lnTo>
                    <a:lnTo>
                      <a:pt x="96" y="146"/>
                    </a:lnTo>
                    <a:lnTo>
                      <a:pt x="96" y="146"/>
                    </a:lnTo>
                    <a:lnTo>
                      <a:pt x="48" y="146"/>
                    </a:lnTo>
                    <a:lnTo>
                      <a:pt x="14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7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14" y="125"/>
                    </a:lnTo>
                    <a:lnTo>
                      <a:pt x="7" y="125"/>
                    </a:lnTo>
                    <a:lnTo>
                      <a:pt x="7" y="125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7" y="118"/>
                    </a:lnTo>
                    <a:lnTo>
                      <a:pt x="14" y="118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48160" y="4134240"/>
                <a:ext cx="776520" cy="709200"/>
              </a:xfrm>
              <a:custGeom>
                <a:avLst/>
                <a:gdLst/>
                <a:ahLst/>
                <a:rect l="l" t="t" r="r" b="b"/>
                <a:pathLst>
                  <a:path w="617" h="603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76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83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0" y="83"/>
                    </a:lnTo>
                    <a:lnTo>
                      <a:pt x="597" y="83"/>
                    </a:lnTo>
                    <a:lnTo>
                      <a:pt x="597" y="83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76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604" y="83"/>
                    </a:lnTo>
                    <a:lnTo>
                      <a:pt x="597" y="83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7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0" y="90"/>
                    </a:lnTo>
                    <a:lnTo>
                      <a:pt x="597" y="90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97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0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7" y="104"/>
                    </a:lnTo>
                    <a:lnTo>
                      <a:pt x="590" y="104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1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18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25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2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39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0" y="146"/>
                    </a:lnTo>
                    <a:lnTo>
                      <a:pt x="597" y="146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597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3"/>
                    </a:lnTo>
                    <a:lnTo>
                      <a:pt x="604" y="153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04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1" y="159"/>
                    </a:lnTo>
                    <a:lnTo>
                      <a:pt x="617" y="159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66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7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73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0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87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194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1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11" y="208"/>
                    </a:lnTo>
                    <a:lnTo>
                      <a:pt x="604" y="208"/>
                    </a:lnTo>
                    <a:lnTo>
                      <a:pt x="611" y="215"/>
                    </a:lnTo>
                    <a:lnTo>
                      <a:pt x="611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604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15"/>
                    </a:lnTo>
                    <a:lnTo>
                      <a:pt x="597" y="222"/>
                    </a:lnTo>
                    <a:lnTo>
                      <a:pt x="597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90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15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83" y="208"/>
                    </a:lnTo>
                    <a:lnTo>
                      <a:pt x="576" y="208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76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9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1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3" y="208"/>
                    </a:lnTo>
                    <a:lnTo>
                      <a:pt x="569" y="208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15"/>
                    </a:lnTo>
                    <a:lnTo>
                      <a:pt x="563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9" y="222"/>
                    </a:lnTo>
                    <a:lnTo>
                      <a:pt x="563" y="222"/>
                    </a:lnTo>
                    <a:lnTo>
                      <a:pt x="569" y="222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9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63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56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9" y="229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42" y="222"/>
                    </a:lnTo>
                    <a:lnTo>
                      <a:pt x="535" y="222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29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36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28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43"/>
                    </a:lnTo>
                    <a:lnTo>
                      <a:pt x="535" y="250"/>
                    </a:lnTo>
                    <a:lnTo>
                      <a:pt x="535" y="250"/>
                    </a:lnTo>
                    <a:lnTo>
                      <a:pt x="542" y="250"/>
                    </a:lnTo>
                    <a:lnTo>
                      <a:pt x="542" y="250"/>
                    </a:lnTo>
                    <a:lnTo>
                      <a:pt x="535" y="250"/>
                    </a:lnTo>
                    <a:lnTo>
                      <a:pt x="535" y="257"/>
                    </a:lnTo>
                    <a:lnTo>
                      <a:pt x="542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57"/>
                    </a:lnTo>
                    <a:lnTo>
                      <a:pt x="535" y="264"/>
                    </a:lnTo>
                    <a:lnTo>
                      <a:pt x="535" y="264"/>
                    </a:lnTo>
                    <a:lnTo>
                      <a:pt x="528" y="264"/>
                    </a:lnTo>
                    <a:lnTo>
                      <a:pt x="528" y="270"/>
                    </a:lnTo>
                    <a:lnTo>
                      <a:pt x="528" y="270"/>
                    </a:lnTo>
                    <a:lnTo>
                      <a:pt x="535" y="270"/>
                    </a:lnTo>
                    <a:lnTo>
                      <a:pt x="535" y="270"/>
                    </a:lnTo>
                    <a:lnTo>
                      <a:pt x="535" y="277"/>
                    </a:lnTo>
                    <a:lnTo>
                      <a:pt x="535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77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84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1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28" y="298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21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298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14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05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8" y="312"/>
                    </a:lnTo>
                    <a:lnTo>
                      <a:pt x="501" y="312"/>
                    </a:lnTo>
                    <a:lnTo>
                      <a:pt x="501" y="305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305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8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494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91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84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7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501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70"/>
                    </a:lnTo>
                    <a:lnTo>
                      <a:pt x="494" y="264"/>
                    </a:lnTo>
                    <a:lnTo>
                      <a:pt x="487" y="264"/>
                    </a:lnTo>
                    <a:lnTo>
                      <a:pt x="480" y="264"/>
                    </a:lnTo>
                    <a:lnTo>
                      <a:pt x="473" y="264"/>
                    </a:lnTo>
                    <a:lnTo>
                      <a:pt x="460" y="264"/>
                    </a:lnTo>
                    <a:lnTo>
                      <a:pt x="439" y="264"/>
                    </a:lnTo>
                    <a:lnTo>
                      <a:pt x="439" y="264"/>
                    </a:lnTo>
                    <a:lnTo>
                      <a:pt x="425" y="264"/>
                    </a:lnTo>
                    <a:lnTo>
                      <a:pt x="425" y="264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77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84"/>
                    </a:lnTo>
                    <a:lnTo>
                      <a:pt x="425" y="291"/>
                    </a:lnTo>
                    <a:lnTo>
                      <a:pt x="425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1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298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05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18" y="312"/>
                    </a:lnTo>
                    <a:lnTo>
                      <a:pt x="432" y="312"/>
                    </a:lnTo>
                    <a:lnTo>
                      <a:pt x="439" y="312"/>
                    </a:lnTo>
                    <a:lnTo>
                      <a:pt x="439" y="312"/>
                    </a:lnTo>
                    <a:lnTo>
                      <a:pt x="446" y="312"/>
                    </a:lnTo>
                    <a:lnTo>
                      <a:pt x="460" y="312"/>
                    </a:lnTo>
                    <a:lnTo>
                      <a:pt x="466" y="312"/>
                    </a:lnTo>
                    <a:lnTo>
                      <a:pt x="473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2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494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19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26"/>
                    </a:lnTo>
                    <a:lnTo>
                      <a:pt x="501" y="333"/>
                    </a:lnTo>
                    <a:lnTo>
                      <a:pt x="501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33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94" y="340"/>
                    </a:lnTo>
                    <a:lnTo>
                      <a:pt x="487" y="340"/>
                    </a:lnTo>
                    <a:lnTo>
                      <a:pt x="494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47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87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54"/>
                    </a:lnTo>
                    <a:lnTo>
                      <a:pt x="494" y="354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494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1"/>
                    </a:lnTo>
                    <a:lnTo>
                      <a:pt x="501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1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68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75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1"/>
                    </a:lnTo>
                    <a:lnTo>
                      <a:pt x="508" y="388"/>
                    </a:lnTo>
                    <a:lnTo>
                      <a:pt x="508" y="381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14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395"/>
                    </a:lnTo>
                    <a:lnTo>
                      <a:pt x="508" y="395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8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2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501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09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16"/>
                    </a:lnTo>
                    <a:lnTo>
                      <a:pt x="487" y="416"/>
                    </a:lnTo>
                    <a:lnTo>
                      <a:pt x="494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7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23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0" y="430"/>
                    </a:lnTo>
                    <a:lnTo>
                      <a:pt x="487" y="430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87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494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37"/>
                    </a:lnTo>
                    <a:lnTo>
                      <a:pt x="501" y="444"/>
                    </a:lnTo>
                    <a:lnTo>
                      <a:pt x="501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8" y="444"/>
                    </a:lnTo>
                    <a:lnTo>
                      <a:pt x="501" y="444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8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1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501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58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65"/>
                    </a:lnTo>
                    <a:lnTo>
                      <a:pt x="494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2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79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501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86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94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7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2"/>
                    </a:lnTo>
                    <a:lnTo>
                      <a:pt x="480" y="499"/>
                    </a:lnTo>
                    <a:lnTo>
                      <a:pt x="480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499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73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06"/>
                    </a:lnTo>
                    <a:lnTo>
                      <a:pt x="466" y="513"/>
                    </a:lnTo>
                    <a:lnTo>
                      <a:pt x="466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60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13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53" y="520"/>
                    </a:lnTo>
                    <a:lnTo>
                      <a:pt x="446" y="513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20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46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9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32" y="513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25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8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11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405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8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91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84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7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70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63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06"/>
                    </a:lnTo>
                    <a:lnTo>
                      <a:pt x="357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13"/>
                    </a:lnTo>
                    <a:lnTo>
                      <a:pt x="350" y="506"/>
                    </a:lnTo>
                    <a:lnTo>
                      <a:pt x="350" y="506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43" y="513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0"/>
                    </a:lnTo>
                    <a:lnTo>
                      <a:pt x="336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9" y="527"/>
                    </a:lnTo>
                    <a:lnTo>
                      <a:pt x="322" y="527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34"/>
                    </a:lnTo>
                    <a:lnTo>
                      <a:pt x="322" y="527"/>
                    </a:lnTo>
                    <a:lnTo>
                      <a:pt x="315" y="527"/>
                    </a:lnTo>
                    <a:lnTo>
                      <a:pt x="315" y="527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15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0"/>
                    </a:lnTo>
                    <a:lnTo>
                      <a:pt x="308" y="527"/>
                    </a:lnTo>
                    <a:lnTo>
                      <a:pt x="308" y="520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302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95" y="527"/>
                    </a:lnTo>
                    <a:lnTo>
                      <a:pt x="288" y="534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8" y="534"/>
                    </a:lnTo>
                    <a:lnTo>
                      <a:pt x="288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81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74" y="527"/>
                    </a:lnTo>
                    <a:lnTo>
                      <a:pt x="267" y="527"/>
                    </a:lnTo>
                    <a:lnTo>
                      <a:pt x="267" y="527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7" y="534"/>
                    </a:lnTo>
                    <a:lnTo>
                      <a:pt x="260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54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34"/>
                    </a:lnTo>
                    <a:lnTo>
                      <a:pt x="247" y="541"/>
                    </a:lnTo>
                    <a:lnTo>
                      <a:pt x="247" y="541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40" y="548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33" y="555"/>
                    </a:lnTo>
                    <a:lnTo>
                      <a:pt x="226" y="555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33" y="562"/>
                    </a:lnTo>
                    <a:lnTo>
                      <a:pt x="226" y="569"/>
                    </a:lnTo>
                    <a:lnTo>
                      <a:pt x="226" y="569"/>
                    </a:lnTo>
                    <a:lnTo>
                      <a:pt x="226" y="576"/>
                    </a:lnTo>
                    <a:lnTo>
                      <a:pt x="226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9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76"/>
                    </a:lnTo>
                    <a:lnTo>
                      <a:pt x="212" y="583"/>
                    </a:lnTo>
                    <a:lnTo>
                      <a:pt x="212" y="583"/>
                    </a:lnTo>
                    <a:lnTo>
                      <a:pt x="205" y="583"/>
                    </a:lnTo>
                    <a:lnTo>
                      <a:pt x="205" y="583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205" y="590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199" y="596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205" y="603"/>
                    </a:lnTo>
                    <a:lnTo>
                      <a:pt x="199" y="603"/>
                    </a:lnTo>
                    <a:lnTo>
                      <a:pt x="192" y="603"/>
                    </a:lnTo>
                    <a:lnTo>
                      <a:pt x="192" y="603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92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6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85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90"/>
                    </a:lnTo>
                    <a:lnTo>
                      <a:pt x="178" y="583"/>
                    </a:lnTo>
                    <a:lnTo>
                      <a:pt x="171" y="590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71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64" y="583"/>
                    </a:lnTo>
                    <a:lnTo>
                      <a:pt x="157" y="583"/>
                    </a:lnTo>
                    <a:lnTo>
                      <a:pt x="157" y="583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7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51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44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7" y="576"/>
                    </a:lnTo>
                    <a:lnTo>
                      <a:pt x="130" y="576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30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23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9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16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9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62"/>
                    </a:lnTo>
                    <a:lnTo>
                      <a:pt x="103" y="555"/>
                    </a:lnTo>
                    <a:lnTo>
                      <a:pt x="103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96" y="555"/>
                    </a:lnTo>
                    <a:lnTo>
                      <a:pt x="89" y="555"/>
                    </a:lnTo>
                    <a:lnTo>
                      <a:pt x="89" y="555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9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82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8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75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41"/>
                    </a:lnTo>
                    <a:lnTo>
                      <a:pt x="68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61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54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8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41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34" y="534"/>
                    </a:lnTo>
                    <a:lnTo>
                      <a:pt x="27" y="534"/>
                    </a:lnTo>
                    <a:lnTo>
                      <a:pt x="27" y="534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7" y="527"/>
                    </a:lnTo>
                    <a:lnTo>
                      <a:pt x="20" y="527"/>
                    </a:lnTo>
                    <a:lnTo>
                      <a:pt x="20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20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27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34" y="513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41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34" y="506"/>
                    </a:lnTo>
                    <a:lnTo>
                      <a:pt x="27" y="506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7" y="499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20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506"/>
                    </a:lnTo>
                    <a:lnTo>
                      <a:pt x="13" y="499"/>
                    </a:lnTo>
                    <a:lnTo>
                      <a:pt x="13" y="499"/>
                    </a:lnTo>
                    <a:lnTo>
                      <a:pt x="13" y="492"/>
                    </a:lnTo>
                    <a:lnTo>
                      <a:pt x="6" y="492"/>
                    </a:lnTo>
                    <a:lnTo>
                      <a:pt x="6" y="492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6" y="486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9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13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65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6" y="458"/>
                    </a:lnTo>
                    <a:lnTo>
                      <a:pt x="0" y="458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51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48160" y="4134240"/>
                <a:ext cx="760320" cy="514080"/>
              </a:xfrm>
              <a:custGeom>
                <a:avLst/>
                <a:gdLst/>
                <a:ahLst/>
                <a:rect l="l" t="t" r="r" b="b"/>
                <a:pathLst>
                  <a:path w="604" h="437">
                    <a:moveTo>
                      <a:pt x="0" y="437"/>
                    </a:move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7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6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16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9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6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402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95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13" y="388"/>
                    </a:lnTo>
                    <a:lnTo>
                      <a:pt x="20" y="388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0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81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27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75"/>
                    </a:lnTo>
                    <a:lnTo>
                      <a:pt x="34" y="368"/>
                    </a:lnTo>
                    <a:lnTo>
                      <a:pt x="34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8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61"/>
                    </a:lnTo>
                    <a:lnTo>
                      <a:pt x="41" y="354"/>
                    </a:lnTo>
                    <a:lnTo>
                      <a:pt x="41" y="354"/>
                    </a:lnTo>
                    <a:lnTo>
                      <a:pt x="48" y="354"/>
                    </a:lnTo>
                    <a:lnTo>
                      <a:pt x="48" y="361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48" y="354"/>
                    </a:lnTo>
                    <a:lnTo>
                      <a:pt x="54" y="354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54" y="347"/>
                    </a:lnTo>
                    <a:lnTo>
                      <a:pt x="48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40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48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26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54" y="333"/>
                    </a:lnTo>
                    <a:lnTo>
                      <a:pt x="61" y="333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26"/>
                    </a:lnTo>
                    <a:lnTo>
                      <a:pt x="61" y="326"/>
                    </a:lnTo>
                    <a:lnTo>
                      <a:pt x="54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1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68" y="319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12"/>
                    </a:lnTo>
                    <a:lnTo>
                      <a:pt x="75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305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89" y="298"/>
                    </a:lnTo>
                    <a:lnTo>
                      <a:pt x="89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96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8"/>
                    </a:lnTo>
                    <a:lnTo>
                      <a:pt x="103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09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91"/>
                    </a:lnTo>
                    <a:lnTo>
                      <a:pt x="116" y="284"/>
                    </a:lnTo>
                    <a:lnTo>
                      <a:pt x="116" y="284"/>
                    </a:lnTo>
                    <a:lnTo>
                      <a:pt x="123" y="284"/>
                    </a:lnTo>
                    <a:lnTo>
                      <a:pt x="123" y="284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7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30" y="270"/>
                    </a:lnTo>
                    <a:lnTo>
                      <a:pt x="130" y="270"/>
                    </a:lnTo>
                    <a:lnTo>
                      <a:pt x="123" y="270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64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7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43"/>
                    </a:lnTo>
                    <a:lnTo>
                      <a:pt x="130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37" y="236"/>
                    </a:lnTo>
                    <a:lnTo>
                      <a:pt x="144" y="236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44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9"/>
                    </a:lnTo>
                    <a:lnTo>
                      <a:pt x="151" y="222"/>
                    </a:lnTo>
                    <a:lnTo>
                      <a:pt x="151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57" y="222"/>
                    </a:lnTo>
                    <a:lnTo>
                      <a:pt x="164" y="222"/>
                    </a:lnTo>
                    <a:lnTo>
                      <a:pt x="164" y="222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64" y="229"/>
                    </a:lnTo>
                    <a:lnTo>
                      <a:pt x="171" y="222"/>
                    </a:lnTo>
                    <a:lnTo>
                      <a:pt x="178" y="222"/>
                    </a:lnTo>
                    <a:lnTo>
                      <a:pt x="178" y="222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85" y="215"/>
                    </a:lnTo>
                    <a:lnTo>
                      <a:pt x="178" y="215"/>
                    </a:lnTo>
                    <a:lnTo>
                      <a:pt x="178" y="215"/>
                    </a:lnTo>
                    <a:lnTo>
                      <a:pt x="185" y="215"/>
                    </a:lnTo>
                    <a:lnTo>
                      <a:pt x="178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8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201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85" y="194"/>
                    </a:lnTo>
                    <a:lnTo>
                      <a:pt x="192" y="194"/>
                    </a:lnTo>
                    <a:lnTo>
                      <a:pt x="192" y="187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80"/>
                    </a:lnTo>
                    <a:lnTo>
                      <a:pt x="192" y="173"/>
                    </a:lnTo>
                    <a:lnTo>
                      <a:pt x="185" y="173"/>
                    </a:lnTo>
                    <a:lnTo>
                      <a:pt x="192" y="173"/>
                    </a:lnTo>
                    <a:lnTo>
                      <a:pt x="192" y="173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53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9"/>
                    </a:lnTo>
                    <a:lnTo>
                      <a:pt x="199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199" y="132"/>
                    </a:lnTo>
                    <a:lnTo>
                      <a:pt x="205" y="132"/>
                    </a:lnTo>
                    <a:lnTo>
                      <a:pt x="205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8"/>
                    </a:lnTo>
                    <a:lnTo>
                      <a:pt x="199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04"/>
                    </a:lnTo>
                    <a:lnTo>
                      <a:pt x="205" y="104"/>
                    </a:lnTo>
                    <a:lnTo>
                      <a:pt x="205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7"/>
                    </a:lnTo>
                    <a:lnTo>
                      <a:pt x="212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90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83"/>
                    </a:lnTo>
                    <a:lnTo>
                      <a:pt x="219" y="76"/>
                    </a:lnTo>
                    <a:lnTo>
                      <a:pt x="226" y="76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19" y="69"/>
                    </a:lnTo>
                    <a:lnTo>
                      <a:pt x="219" y="69"/>
                    </a:lnTo>
                    <a:lnTo>
                      <a:pt x="226" y="69"/>
                    </a:lnTo>
                    <a:lnTo>
                      <a:pt x="226" y="69"/>
                    </a:lnTo>
                    <a:lnTo>
                      <a:pt x="226" y="62"/>
                    </a:lnTo>
                    <a:lnTo>
                      <a:pt x="226" y="62"/>
                    </a:lnTo>
                    <a:lnTo>
                      <a:pt x="219" y="62"/>
                    </a:lnTo>
                    <a:lnTo>
                      <a:pt x="219" y="62"/>
                    </a:lnTo>
                    <a:lnTo>
                      <a:pt x="219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55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26" y="48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42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35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8"/>
                    </a:lnTo>
                    <a:lnTo>
                      <a:pt x="240" y="21"/>
                    </a:lnTo>
                    <a:lnTo>
                      <a:pt x="240" y="28"/>
                    </a:lnTo>
                    <a:lnTo>
                      <a:pt x="233" y="28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21"/>
                    </a:lnTo>
                    <a:lnTo>
                      <a:pt x="240" y="14"/>
                    </a:lnTo>
                    <a:lnTo>
                      <a:pt x="240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14"/>
                    </a:lnTo>
                    <a:lnTo>
                      <a:pt x="247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0"/>
                    </a:lnTo>
                    <a:lnTo>
                      <a:pt x="260" y="0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7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14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54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28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35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47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54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0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67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74" y="48"/>
                    </a:lnTo>
                    <a:lnTo>
                      <a:pt x="281" y="48"/>
                    </a:lnTo>
                    <a:lnTo>
                      <a:pt x="281" y="48"/>
                    </a:lnTo>
                    <a:lnTo>
                      <a:pt x="281" y="55"/>
                    </a:lnTo>
                    <a:lnTo>
                      <a:pt x="308" y="69"/>
                    </a:lnTo>
                    <a:lnTo>
                      <a:pt x="315" y="69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9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62"/>
                    </a:lnTo>
                    <a:lnTo>
                      <a:pt x="329" y="55"/>
                    </a:lnTo>
                    <a:lnTo>
                      <a:pt x="329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55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8"/>
                    </a:lnTo>
                    <a:lnTo>
                      <a:pt x="336" y="42"/>
                    </a:lnTo>
                    <a:lnTo>
                      <a:pt x="336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42"/>
                    </a:lnTo>
                    <a:lnTo>
                      <a:pt x="343" y="35"/>
                    </a:lnTo>
                    <a:lnTo>
                      <a:pt x="350" y="35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2"/>
                    </a:lnTo>
                    <a:lnTo>
                      <a:pt x="350" y="48"/>
                    </a:lnTo>
                    <a:lnTo>
                      <a:pt x="350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57" y="48"/>
                    </a:lnTo>
                    <a:lnTo>
                      <a:pt x="370" y="42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35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2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77" y="48"/>
                    </a:lnTo>
                    <a:lnTo>
                      <a:pt x="384" y="48"/>
                    </a:lnTo>
                    <a:lnTo>
                      <a:pt x="377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84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55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2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69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76"/>
                    </a:lnTo>
                    <a:lnTo>
                      <a:pt x="391" y="83"/>
                    </a:lnTo>
                    <a:lnTo>
                      <a:pt x="391" y="83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76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98" y="62"/>
                    </a:lnTo>
                    <a:lnTo>
                      <a:pt x="398" y="62"/>
                    </a:lnTo>
                    <a:lnTo>
                      <a:pt x="398" y="69"/>
                    </a:lnTo>
                    <a:lnTo>
                      <a:pt x="405" y="69"/>
                    </a:lnTo>
                    <a:lnTo>
                      <a:pt x="405" y="62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69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05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1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76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18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25" y="69"/>
                    </a:lnTo>
                    <a:lnTo>
                      <a:pt x="432" y="69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25" y="76"/>
                    </a:lnTo>
                    <a:lnTo>
                      <a:pt x="432" y="76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25" y="83"/>
                    </a:lnTo>
                    <a:lnTo>
                      <a:pt x="425" y="76"/>
                    </a:lnTo>
                    <a:lnTo>
                      <a:pt x="432" y="83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2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39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83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46" y="76"/>
                    </a:lnTo>
                    <a:lnTo>
                      <a:pt x="453" y="76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53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0" y="83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90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83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76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66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9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73" y="62"/>
                    </a:lnTo>
                    <a:lnTo>
                      <a:pt x="480" y="62"/>
                    </a:lnTo>
                    <a:lnTo>
                      <a:pt x="480" y="62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0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87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494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1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76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08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14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1" y="69"/>
                    </a:lnTo>
                    <a:lnTo>
                      <a:pt x="528" y="69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28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35" y="55"/>
                    </a:lnTo>
                    <a:lnTo>
                      <a:pt x="535" y="62"/>
                    </a:lnTo>
                    <a:lnTo>
                      <a:pt x="542" y="62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2" y="55"/>
                    </a:lnTo>
                    <a:lnTo>
                      <a:pt x="549" y="48"/>
                    </a:lnTo>
                    <a:lnTo>
                      <a:pt x="556" y="48"/>
                    </a:lnTo>
                    <a:lnTo>
                      <a:pt x="569" y="48"/>
                    </a:lnTo>
                    <a:lnTo>
                      <a:pt x="569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8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76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2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83" y="48"/>
                    </a:lnTo>
                    <a:lnTo>
                      <a:pt x="576" y="48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83" y="55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0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597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604" y="48"/>
                    </a:lnTo>
                    <a:lnTo>
                      <a:pt x="597" y="48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7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90" y="55"/>
                    </a:lnTo>
                    <a:lnTo>
                      <a:pt x="583" y="55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2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  <a:lnTo>
                      <a:pt x="583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19680" y="4215600"/>
                <a:ext cx="405000" cy="546840"/>
              </a:xfrm>
              <a:custGeom>
                <a:avLst/>
                <a:gdLst/>
                <a:ahLst/>
                <a:rect l="l" t="t" r="r" b="b"/>
                <a:pathLst>
                  <a:path w="322" h="465">
                    <a:moveTo>
                      <a:pt x="288" y="0"/>
                    </a:move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7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88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295" y="14"/>
                    </a:lnTo>
                    <a:lnTo>
                      <a:pt x="302" y="14"/>
                    </a:lnTo>
                    <a:lnTo>
                      <a:pt x="302" y="14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9" y="14"/>
                    </a:lnTo>
                    <a:lnTo>
                      <a:pt x="302" y="14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302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302" y="21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28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295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302" y="35"/>
                    </a:lnTo>
                    <a:lnTo>
                      <a:pt x="295" y="35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2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49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56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63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0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295" y="77"/>
                    </a:lnTo>
                    <a:lnTo>
                      <a:pt x="302" y="77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2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84"/>
                    </a:lnTo>
                    <a:lnTo>
                      <a:pt x="309" y="84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09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16" y="90"/>
                    </a:lnTo>
                    <a:lnTo>
                      <a:pt x="322" y="90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97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22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04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1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18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25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2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16" y="139"/>
                    </a:lnTo>
                    <a:lnTo>
                      <a:pt x="309" y="139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9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46"/>
                    </a:lnTo>
                    <a:lnTo>
                      <a:pt x="302" y="153"/>
                    </a:lnTo>
                    <a:lnTo>
                      <a:pt x="302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95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46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8" y="139"/>
                    </a:lnTo>
                    <a:lnTo>
                      <a:pt x="281" y="139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81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2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68" y="139"/>
                    </a:lnTo>
                    <a:lnTo>
                      <a:pt x="274" y="139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46"/>
                    </a:lnTo>
                    <a:lnTo>
                      <a:pt x="268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74" y="153"/>
                    </a:lnTo>
                    <a:lnTo>
                      <a:pt x="268" y="153"/>
                    </a:lnTo>
                    <a:lnTo>
                      <a:pt x="274" y="153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74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8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61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7" y="153"/>
                    </a:lnTo>
                    <a:lnTo>
                      <a:pt x="240" y="153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0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33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74"/>
                    </a:lnTo>
                    <a:lnTo>
                      <a:pt x="240" y="181"/>
                    </a:lnTo>
                    <a:lnTo>
                      <a:pt x="240" y="181"/>
                    </a:lnTo>
                    <a:lnTo>
                      <a:pt x="247" y="181"/>
                    </a:lnTo>
                    <a:lnTo>
                      <a:pt x="247" y="181"/>
                    </a:lnTo>
                    <a:lnTo>
                      <a:pt x="240" y="181"/>
                    </a:lnTo>
                    <a:lnTo>
                      <a:pt x="240" y="188"/>
                    </a:lnTo>
                    <a:lnTo>
                      <a:pt x="247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88"/>
                    </a:lnTo>
                    <a:lnTo>
                      <a:pt x="240" y="195"/>
                    </a:lnTo>
                    <a:lnTo>
                      <a:pt x="240" y="195"/>
                    </a:lnTo>
                    <a:lnTo>
                      <a:pt x="233" y="195"/>
                    </a:lnTo>
                    <a:lnTo>
                      <a:pt x="233" y="201"/>
                    </a:lnTo>
                    <a:lnTo>
                      <a:pt x="233" y="201"/>
                    </a:lnTo>
                    <a:lnTo>
                      <a:pt x="240" y="201"/>
                    </a:lnTo>
                    <a:lnTo>
                      <a:pt x="240" y="201"/>
                    </a:lnTo>
                    <a:lnTo>
                      <a:pt x="240" y="208"/>
                    </a:lnTo>
                    <a:lnTo>
                      <a:pt x="240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08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15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2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47" y="229"/>
                    </a:lnTo>
                    <a:lnTo>
                      <a:pt x="233" y="229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26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9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36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13" y="243"/>
                    </a:lnTo>
                    <a:lnTo>
                      <a:pt x="206" y="243"/>
                    </a:lnTo>
                    <a:lnTo>
                      <a:pt x="206" y="236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36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199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22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15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8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206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201"/>
                    </a:lnTo>
                    <a:lnTo>
                      <a:pt x="199" y="195"/>
                    </a:lnTo>
                    <a:lnTo>
                      <a:pt x="192" y="195"/>
                    </a:lnTo>
                    <a:lnTo>
                      <a:pt x="185" y="195"/>
                    </a:lnTo>
                    <a:lnTo>
                      <a:pt x="178" y="195"/>
                    </a:lnTo>
                    <a:lnTo>
                      <a:pt x="165" y="195"/>
                    </a:lnTo>
                    <a:lnTo>
                      <a:pt x="144" y="195"/>
                    </a:lnTo>
                    <a:lnTo>
                      <a:pt x="144" y="195"/>
                    </a:lnTo>
                    <a:lnTo>
                      <a:pt x="130" y="195"/>
                    </a:lnTo>
                    <a:lnTo>
                      <a:pt x="130" y="195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08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15"/>
                    </a:lnTo>
                    <a:lnTo>
                      <a:pt x="130" y="222"/>
                    </a:lnTo>
                    <a:lnTo>
                      <a:pt x="130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2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29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36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23" y="243"/>
                    </a:lnTo>
                    <a:lnTo>
                      <a:pt x="137" y="243"/>
                    </a:lnTo>
                    <a:lnTo>
                      <a:pt x="144" y="243"/>
                    </a:lnTo>
                    <a:lnTo>
                      <a:pt x="144" y="243"/>
                    </a:lnTo>
                    <a:lnTo>
                      <a:pt x="151" y="243"/>
                    </a:lnTo>
                    <a:lnTo>
                      <a:pt x="165" y="243"/>
                    </a:lnTo>
                    <a:lnTo>
                      <a:pt x="171" y="243"/>
                    </a:lnTo>
                    <a:lnTo>
                      <a:pt x="178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43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199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57"/>
                    </a:lnTo>
                    <a:lnTo>
                      <a:pt x="206" y="264"/>
                    </a:lnTo>
                    <a:lnTo>
                      <a:pt x="206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64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9" y="271"/>
                    </a:lnTo>
                    <a:lnTo>
                      <a:pt x="192" y="271"/>
                    </a:lnTo>
                    <a:lnTo>
                      <a:pt x="199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78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2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199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06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2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299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06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2"/>
                    </a:lnTo>
                    <a:lnTo>
                      <a:pt x="213" y="319"/>
                    </a:lnTo>
                    <a:lnTo>
                      <a:pt x="213" y="312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19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9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26"/>
                    </a:lnTo>
                    <a:lnTo>
                      <a:pt x="213" y="326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13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33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206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0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47"/>
                    </a:lnTo>
                    <a:lnTo>
                      <a:pt x="192" y="347"/>
                    </a:lnTo>
                    <a:lnTo>
                      <a:pt x="199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92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54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85" y="361"/>
                    </a:lnTo>
                    <a:lnTo>
                      <a:pt x="192" y="361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2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199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68"/>
                    </a:lnTo>
                    <a:lnTo>
                      <a:pt x="206" y="375"/>
                    </a:lnTo>
                    <a:lnTo>
                      <a:pt x="206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13" y="375"/>
                    </a:lnTo>
                    <a:lnTo>
                      <a:pt x="206" y="375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13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2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206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89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396"/>
                    </a:lnTo>
                    <a:lnTo>
                      <a:pt x="199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03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0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206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17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9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92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23"/>
                    </a:lnTo>
                    <a:lnTo>
                      <a:pt x="185" y="430"/>
                    </a:lnTo>
                    <a:lnTo>
                      <a:pt x="185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8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37"/>
                    </a:lnTo>
                    <a:lnTo>
                      <a:pt x="171" y="444"/>
                    </a:lnTo>
                    <a:lnTo>
                      <a:pt x="171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65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44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8" y="451"/>
                    </a:lnTo>
                    <a:lnTo>
                      <a:pt x="151" y="444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51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51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44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7" y="444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30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23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6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10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103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96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9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82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75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8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37"/>
                    </a:lnTo>
                    <a:lnTo>
                      <a:pt x="62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44"/>
                    </a:lnTo>
                    <a:lnTo>
                      <a:pt x="55" y="437"/>
                    </a:lnTo>
                    <a:lnTo>
                      <a:pt x="55" y="437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8" y="444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1"/>
                    </a:lnTo>
                    <a:lnTo>
                      <a:pt x="41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34" y="458"/>
                    </a:lnTo>
                    <a:lnTo>
                      <a:pt x="27" y="458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65"/>
                    </a:lnTo>
                    <a:lnTo>
                      <a:pt x="27" y="458"/>
                    </a:lnTo>
                    <a:lnTo>
                      <a:pt x="20" y="458"/>
                    </a:lnTo>
                    <a:lnTo>
                      <a:pt x="20" y="458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20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1"/>
                    </a:lnTo>
                    <a:lnTo>
                      <a:pt x="13" y="458"/>
                    </a:lnTo>
                    <a:lnTo>
                      <a:pt x="13" y="451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7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  <a:lnTo>
                      <a:pt x="0" y="45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48160" y="4648680"/>
                <a:ext cx="371520" cy="195120"/>
              </a:xfrm>
              <a:custGeom>
                <a:avLst/>
                <a:gdLst/>
                <a:ahLst/>
                <a:rect l="l" t="t" r="r" b="b"/>
                <a:pathLst>
                  <a:path w="295" h="166">
                    <a:moveTo>
                      <a:pt x="295" y="90"/>
                    </a:moveTo>
                    <a:lnTo>
                      <a:pt x="295" y="90"/>
                    </a:lnTo>
                    <a:lnTo>
                      <a:pt x="295" y="90"/>
                    </a:lnTo>
                    <a:lnTo>
                      <a:pt x="288" y="97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8" y="97"/>
                    </a:lnTo>
                    <a:lnTo>
                      <a:pt x="288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74" y="90"/>
                    </a:lnTo>
                    <a:lnTo>
                      <a:pt x="267" y="90"/>
                    </a:lnTo>
                    <a:lnTo>
                      <a:pt x="267" y="90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7" y="97"/>
                    </a:lnTo>
                    <a:lnTo>
                      <a:pt x="260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54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97"/>
                    </a:lnTo>
                    <a:lnTo>
                      <a:pt x="247" y="104"/>
                    </a:lnTo>
                    <a:lnTo>
                      <a:pt x="247" y="104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33" y="118"/>
                    </a:lnTo>
                    <a:lnTo>
                      <a:pt x="226" y="118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33" y="125"/>
                    </a:lnTo>
                    <a:lnTo>
                      <a:pt x="226" y="132"/>
                    </a:lnTo>
                    <a:lnTo>
                      <a:pt x="226" y="132"/>
                    </a:lnTo>
                    <a:lnTo>
                      <a:pt x="226" y="139"/>
                    </a:lnTo>
                    <a:lnTo>
                      <a:pt x="226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9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39"/>
                    </a:lnTo>
                    <a:lnTo>
                      <a:pt x="212" y="146"/>
                    </a:lnTo>
                    <a:lnTo>
                      <a:pt x="212" y="146"/>
                    </a:lnTo>
                    <a:lnTo>
                      <a:pt x="205" y="146"/>
                    </a:lnTo>
                    <a:lnTo>
                      <a:pt x="205" y="146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205" y="153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199" y="159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205" y="166"/>
                    </a:lnTo>
                    <a:lnTo>
                      <a:pt x="199" y="166"/>
                    </a:lnTo>
                    <a:lnTo>
                      <a:pt x="192" y="166"/>
                    </a:lnTo>
                    <a:lnTo>
                      <a:pt x="192" y="166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92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9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85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53"/>
                    </a:lnTo>
                    <a:lnTo>
                      <a:pt x="178" y="146"/>
                    </a:lnTo>
                    <a:lnTo>
                      <a:pt x="171" y="153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71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64" y="146"/>
                    </a:lnTo>
                    <a:lnTo>
                      <a:pt x="157" y="146"/>
                    </a:lnTo>
                    <a:lnTo>
                      <a:pt x="157" y="146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7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51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44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7" y="139"/>
                    </a:lnTo>
                    <a:lnTo>
                      <a:pt x="130" y="139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30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32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16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9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25"/>
                    </a:lnTo>
                    <a:lnTo>
                      <a:pt x="103" y="118"/>
                    </a:lnTo>
                    <a:lnTo>
                      <a:pt x="103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9" y="118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82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75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104"/>
                    </a:lnTo>
                    <a:lnTo>
                      <a:pt x="68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8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27" y="97"/>
                    </a:lnTo>
                    <a:lnTo>
                      <a:pt x="27" y="97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0" y="90"/>
                    </a:lnTo>
                    <a:lnTo>
                      <a:pt x="20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27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27" y="69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20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9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74480" y="4445280"/>
                <a:ext cx="104400" cy="5616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83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76" y="41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83" y="48"/>
                    </a:lnTo>
                    <a:lnTo>
                      <a:pt x="55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28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14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85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1"/>
                    </a:lnTo>
                    <a:lnTo>
                      <a:pt x="309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16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30" y="264"/>
                    </a:lnTo>
                    <a:lnTo>
                      <a:pt x="330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64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23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30" y="257"/>
                    </a:lnTo>
                    <a:lnTo>
                      <a:pt x="323" y="257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30" y="250"/>
                    </a:lnTo>
                    <a:lnTo>
                      <a:pt x="323" y="250"/>
                    </a:lnTo>
                    <a:lnTo>
                      <a:pt x="323" y="250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23" y="243"/>
                    </a:lnTo>
                    <a:lnTo>
                      <a:pt x="330" y="243"/>
                    </a:lnTo>
                    <a:lnTo>
                      <a:pt x="330" y="243"/>
                    </a:lnTo>
                    <a:lnTo>
                      <a:pt x="323" y="243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23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36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0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9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37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9"/>
                    </a:lnTo>
                    <a:lnTo>
                      <a:pt x="351" y="222"/>
                    </a:lnTo>
                    <a:lnTo>
                      <a:pt x="351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22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44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7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30" y="209"/>
                    </a:lnTo>
                    <a:lnTo>
                      <a:pt x="330" y="209"/>
                    </a:lnTo>
                    <a:lnTo>
                      <a:pt x="330" y="215"/>
                    </a:lnTo>
                    <a:lnTo>
                      <a:pt x="330" y="215"/>
                    </a:lnTo>
                    <a:lnTo>
                      <a:pt x="323" y="215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23" y="209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16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16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15"/>
                    </a:lnTo>
                    <a:lnTo>
                      <a:pt x="309" y="209"/>
                    </a:lnTo>
                    <a:lnTo>
                      <a:pt x="309" y="209"/>
                    </a:lnTo>
                    <a:lnTo>
                      <a:pt x="303" y="209"/>
                    </a:lnTo>
                    <a:lnTo>
                      <a:pt x="303" y="215"/>
                    </a:lnTo>
                    <a:lnTo>
                      <a:pt x="303" y="215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303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96" y="215"/>
                    </a:lnTo>
                    <a:lnTo>
                      <a:pt x="296" y="215"/>
                    </a:lnTo>
                    <a:lnTo>
                      <a:pt x="296" y="209"/>
                    </a:lnTo>
                    <a:lnTo>
                      <a:pt x="296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9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82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9"/>
                    </a:lnTo>
                    <a:lnTo>
                      <a:pt x="275" y="202"/>
                    </a:lnTo>
                    <a:lnTo>
                      <a:pt x="268" y="209"/>
                    </a:lnTo>
                    <a:lnTo>
                      <a:pt x="268" y="209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202"/>
                    </a:lnTo>
                    <a:lnTo>
                      <a:pt x="268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61" y="195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8"/>
                    </a:lnTo>
                    <a:lnTo>
                      <a:pt x="254" y="181"/>
                    </a:lnTo>
                    <a:lnTo>
                      <a:pt x="254" y="181"/>
                    </a:lnTo>
                    <a:lnTo>
                      <a:pt x="248" y="181"/>
                    </a:lnTo>
                    <a:lnTo>
                      <a:pt x="248" y="188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81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8" y="174"/>
                    </a:lnTo>
                    <a:lnTo>
                      <a:pt x="241" y="174"/>
                    </a:lnTo>
                    <a:lnTo>
                      <a:pt x="241" y="174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41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7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34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60"/>
                    </a:lnTo>
                    <a:lnTo>
                      <a:pt x="227" y="153"/>
                    </a:lnTo>
                    <a:lnTo>
                      <a:pt x="227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20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53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13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46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6" y="139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46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200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2"/>
                    </a:lnTo>
                    <a:lnTo>
                      <a:pt x="193" y="132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93" y="139"/>
                    </a:lnTo>
                    <a:lnTo>
                      <a:pt x="186" y="139"/>
                    </a:lnTo>
                    <a:lnTo>
                      <a:pt x="186" y="139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86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25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9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72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25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58" y="132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8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25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8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8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45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1"/>
                    </a:lnTo>
                    <a:lnTo>
                      <a:pt x="138" y="118"/>
                    </a:lnTo>
                    <a:lnTo>
                      <a:pt x="131" y="118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31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24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11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10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11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90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104"/>
                    </a:lnTo>
                    <a:lnTo>
                      <a:pt x="62" y="104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2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5" y="104"/>
                    </a:lnTo>
                    <a:lnTo>
                      <a:pt x="55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35" y="9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8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21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5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86240" y="5488920"/>
                <a:ext cx="571680" cy="335160"/>
              </a:xfrm>
              <a:custGeom>
                <a:avLst/>
                <a:gdLst/>
                <a:ahLst/>
                <a:rect l="l" t="t" r="r" b="b"/>
                <a:pathLst>
                  <a:path w="454" h="285">
                    <a:moveTo>
                      <a:pt x="0" y="104"/>
                    </a:moveTo>
                    <a:lnTo>
                      <a:pt x="0" y="104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63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9" y="35"/>
                    </a:lnTo>
                    <a:lnTo>
                      <a:pt x="69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76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103" y="35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03" y="35"/>
                    </a:lnTo>
                    <a:lnTo>
                      <a:pt x="103" y="42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0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17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1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38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2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45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65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49"/>
                    </a:lnTo>
                    <a:lnTo>
                      <a:pt x="179" y="56"/>
                    </a:lnTo>
                    <a:lnTo>
                      <a:pt x="179" y="56"/>
                    </a:lnTo>
                    <a:lnTo>
                      <a:pt x="179" y="49"/>
                    </a:lnTo>
                    <a:lnTo>
                      <a:pt x="186" y="49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193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56"/>
                    </a:lnTo>
                    <a:lnTo>
                      <a:pt x="200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0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63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06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13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56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20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9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42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35"/>
                    </a:lnTo>
                    <a:lnTo>
                      <a:pt x="213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8"/>
                    </a:lnTo>
                    <a:lnTo>
                      <a:pt x="227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8"/>
                    </a:lnTo>
                    <a:lnTo>
                      <a:pt x="241" y="21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8"/>
                    </a:lnTo>
                    <a:lnTo>
                      <a:pt x="248" y="21"/>
                    </a:lnTo>
                    <a:lnTo>
                      <a:pt x="248" y="28"/>
                    </a:lnTo>
                    <a:lnTo>
                      <a:pt x="254" y="28"/>
                    </a:lnTo>
                    <a:lnTo>
                      <a:pt x="254" y="28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54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2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14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75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2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7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89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14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296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3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09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16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23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0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7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37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14"/>
                    </a:lnTo>
                    <a:lnTo>
                      <a:pt x="344" y="21"/>
                    </a:lnTo>
                    <a:lnTo>
                      <a:pt x="344" y="14"/>
                    </a:lnTo>
                    <a:lnTo>
                      <a:pt x="351" y="1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57" y="21"/>
                    </a:lnTo>
                    <a:lnTo>
                      <a:pt x="357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64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21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1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85" y="14"/>
                    </a:lnTo>
                    <a:lnTo>
                      <a:pt x="378" y="14"/>
                    </a:lnTo>
                    <a:lnTo>
                      <a:pt x="378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0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399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6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9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33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0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7"/>
                    </a:lnTo>
                    <a:lnTo>
                      <a:pt x="440" y="14"/>
                    </a:lnTo>
                    <a:lnTo>
                      <a:pt x="440" y="14"/>
                    </a:lnTo>
                    <a:lnTo>
                      <a:pt x="440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1"/>
                    </a:lnTo>
                    <a:lnTo>
                      <a:pt x="447" y="28"/>
                    </a:lnTo>
                    <a:lnTo>
                      <a:pt x="447" y="28"/>
                    </a:lnTo>
                    <a:lnTo>
                      <a:pt x="440" y="35"/>
                    </a:lnTo>
                    <a:lnTo>
                      <a:pt x="440" y="35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2"/>
                    </a:lnTo>
                    <a:lnTo>
                      <a:pt x="440" y="49"/>
                    </a:lnTo>
                    <a:lnTo>
                      <a:pt x="433" y="49"/>
                    </a:lnTo>
                    <a:lnTo>
                      <a:pt x="433" y="49"/>
                    </a:lnTo>
                    <a:lnTo>
                      <a:pt x="433" y="56"/>
                    </a:lnTo>
                    <a:lnTo>
                      <a:pt x="433" y="56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63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33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0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40" y="77"/>
                    </a:lnTo>
                    <a:lnTo>
                      <a:pt x="433" y="77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84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1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98"/>
                    </a:lnTo>
                    <a:lnTo>
                      <a:pt x="440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47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98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54" y="104"/>
                    </a:lnTo>
                    <a:lnTo>
                      <a:pt x="454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7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04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0" y="118"/>
                    </a:lnTo>
                    <a:lnTo>
                      <a:pt x="440" y="111"/>
                    </a:lnTo>
                    <a:lnTo>
                      <a:pt x="440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1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7" y="118"/>
                    </a:lnTo>
                    <a:lnTo>
                      <a:pt x="440" y="118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7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40" y="125"/>
                    </a:lnTo>
                    <a:lnTo>
                      <a:pt x="433" y="125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2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39"/>
                    </a:lnTo>
                    <a:lnTo>
                      <a:pt x="440" y="146"/>
                    </a:lnTo>
                    <a:lnTo>
                      <a:pt x="433" y="139"/>
                    </a:lnTo>
                    <a:lnTo>
                      <a:pt x="433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46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53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0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67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74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40" y="181"/>
                    </a:lnTo>
                    <a:lnTo>
                      <a:pt x="433" y="181"/>
                    </a:lnTo>
                    <a:lnTo>
                      <a:pt x="440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88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195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33" y="202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09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15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26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9" y="222"/>
                    </a:lnTo>
                    <a:lnTo>
                      <a:pt x="412" y="229"/>
                    </a:lnTo>
                    <a:lnTo>
                      <a:pt x="406" y="229"/>
                    </a:lnTo>
                    <a:lnTo>
                      <a:pt x="399" y="236"/>
                    </a:lnTo>
                    <a:lnTo>
                      <a:pt x="392" y="243"/>
                    </a:lnTo>
                    <a:lnTo>
                      <a:pt x="385" y="250"/>
                    </a:lnTo>
                    <a:lnTo>
                      <a:pt x="378" y="250"/>
                    </a:lnTo>
                    <a:lnTo>
                      <a:pt x="378" y="250"/>
                    </a:lnTo>
                    <a:lnTo>
                      <a:pt x="371" y="250"/>
                    </a:lnTo>
                    <a:lnTo>
                      <a:pt x="371" y="257"/>
                    </a:lnTo>
                    <a:lnTo>
                      <a:pt x="364" y="264"/>
                    </a:lnTo>
                    <a:lnTo>
                      <a:pt x="364" y="264"/>
                    </a:lnTo>
                    <a:lnTo>
                      <a:pt x="351" y="278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44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85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7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8"/>
                    </a:lnTo>
                    <a:lnTo>
                      <a:pt x="330" y="271"/>
                    </a:lnTo>
                    <a:lnTo>
                      <a:pt x="323" y="271"/>
                    </a:lnTo>
                    <a:lnTo>
                      <a:pt x="323" y="271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23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16" y="278"/>
                    </a:lnTo>
                    <a:lnTo>
                      <a:pt x="309" y="278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16" y="285"/>
                    </a:lnTo>
                    <a:lnTo>
                      <a:pt x="309" y="28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86240" y="5604120"/>
                <a:ext cx="441720" cy="219960"/>
              </a:xfrm>
              <a:custGeom>
                <a:avLst/>
                <a:gdLst/>
                <a:ahLst/>
                <a:rect l="l" t="t" r="r" b="b"/>
                <a:pathLst>
                  <a:path w="351" h="187">
                    <a:moveTo>
                      <a:pt x="309" y="187"/>
                    </a:move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7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73"/>
                    </a:lnTo>
                    <a:lnTo>
                      <a:pt x="309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80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16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73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30" y="166"/>
                    </a:lnTo>
                    <a:lnTo>
                      <a:pt x="330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66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23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30" y="159"/>
                    </a:lnTo>
                    <a:lnTo>
                      <a:pt x="323" y="159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30" y="152"/>
                    </a:lnTo>
                    <a:lnTo>
                      <a:pt x="323" y="152"/>
                    </a:lnTo>
                    <a:lnTo>
                      <a:pt x="323" y="152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23" y="145"/>
                    </a:lnTo>
                    <a:lnTo>
                      <a:pt x="330" y="145"/>
                    </a:lnTo>
                    <a:lnTo>
                      <a:pt x="330" y="145"/>
                    </a:lnTo>
                    <a:lnTo>
                      <a:pt x="323" y="145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23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8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0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31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37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31"/>
                    </a:lnTo>
                    <a:lnTo>
                      <a:pt x="351" y="124"/>
                    </a:lnTo>
                    <a:lnTo>
                      <a:pt x="351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24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44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7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7" y="111"/>
                    </a:lnTo>
                    <a:lnTo>
                      <a:pt x="337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30" y="111"/>
                    </a:lnTo>
                    <a:lnTo>
                      <a:pt x="330" y="111"/>
                    </a:lnTo>
                    <a:lnTo>
                      <a:pt x="330" y="117"/>
                    </a:lnTo>
                    <a:lnTo>
                      <a:pt x="330" y="117"/>
                    </a:lnTo>
                    <a:lnTo>
                      <a:pt x="323" y="117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23" y="111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16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16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7"/>
                    </a:lnTo>
                    <a:lnTo>
                      <a:pt x="309" y="111"/>
                    </a:lnTo>
                    <a:lnTo>
                      <a:pt x="309" y="111"/>
                    </a:lnTo>
                    <a:lnTo>
                      <a:pt x="303" y="111"/>
                    </a:lnTo>
                    <a:lnTo>
                      <a:pt x="303" y="117"/>
                    </a:lnTo>
                    <a:lnTo>
                      <a:pt x="303" y="117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303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96" y="117"/>
                    </a:lnTo>
                    <a:lnTo>
                      <a:pt x="296" y="117"/>
                    </a:lnTo>
                    <a:lnTo>
                      <a:pt x="296" y="111"/>
                    </a:lnTo>
                    <a:lnTo>
                      <a:pt x="296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9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82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11"/>
                    </a:lnTo>
                    <a:lnTo>
                      <a:pt x="275" y="104"/>
                    </a:lnTo>
                    <a:lnTo>
                      <a:pt x="268" y="111"/>
                    </a:lnTo>
                    <a:lnTo>
                      <a:pt x="268" y="111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104"/>
                    </a:lnTo>
                    <a:lnTo>
                      <a:pt x="268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61" y="97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90"/>
                    </a:lnTo>
                    <a:lnTo>
                      <a:pt x="254" y="83"/>
                    </a:lnTo>
                    <a:lnTo>
                      <a:pt x="254" y="83"/>
                    </a:lnTo>
                    <a:lnTo>
                      <a:pt x="248" y="83"/>
                    </a:lnTo>
                    <a:lnTo>
                      <a:pt x="248" y="90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83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8" y="76"/>
                    </a:lnTo>
                    <a:lnTo>
                      <a:pt x="241" y="76"/>
                    </a:lnTo>
                    <a:lnTo>
                      <a:pt x="241" y="76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41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62"/>
                    </a:lnTo>
                    <a:lnTo>
                      <a:pt x="227" y="55"/>
                    </a:lnTo>
                    <a:lnTo>
                      <a:pt x="227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20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55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13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8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6" y="41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8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200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34"/>
                    </a:lnTo>
                    <a:lnTo>
                      <a:pt x="193" y="34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93" y="41"/>
                    </a:lnTo>
                    <a:lnTo>
                      <a:pt x="186" y="41"/>
                    </a:lnTo>
                    <a:lnTo>
                      <a:pt x="186" y="41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27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72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27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8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7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13"/>
                    </a:lnTo>
                    <a:lnTo>
                      <a:pt x="138" y="20"/>
                    </a:lnTo>
                    <a:lnTo>
                      <a:pt x="131" y="20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24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40280" y="56358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40280" y="5644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40280" y="5627520"/>
                <a:ext cx="24840" cy="493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7" y="42"/>
                    </a:moveTo>
                    <a:lnTo>
                      <a:pt x="7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42"/>
                    </a:lnTo>
                    <a:lnTo>
                      <a:pt x="7" y="42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40280" y="566064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40880" y="49428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9040" y="4942800"/>
                <a:ext cx="8640" cy="72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ce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372400" y="2608560"/>
              <a:ext cx="4212360" cy="3370680"/>
              <a:chOff x="2372400" y="2608560"/>
              <a:chExt cx="4212360" cy="33706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372400" y="2608560"/>
                <a:ext cx="4212360" cy="3370680"/>
                <a:chOff x="2372400" y="2608560"/>
                <a:chExt cx="4212360" cy="33706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263560" y="46382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006800" y="415584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807800" y="506412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64000" y="52772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635360" y="55454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S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50600" y="58114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801400" y="479700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49400" y="50428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83524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78880" y="367452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93320" y="44769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G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84720" y="394272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59440" y="484164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M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72400" y="37098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343320" y="3974400"/>
                  <a:ext cx="287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0000"/>
                      </a:solidFill>
                      <a:latin typeface="Verdana"/>
                    </a:rPr>
                    <a:t>R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297680" y="3408480"/>
                  <a:ext cx="288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P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479400" y="26085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R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21560" y="33426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72240" y="3909960"/>
                  <a:ext cx="284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T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77680" y="270828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Verdana"/>
                    </a:rPr>
                    <a:t>AP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42480" y="364284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156640" y="330840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M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57800" y="3383640"/>
                  <a:ext cx="282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R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514480" y="407448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B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98920" y="3542760"/>
                  <a:ext cx="2858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P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42800" y="4318200"/>
                  <a:ext cx="286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Verdana"/>
                    </a:rPr>
                    <a:t>D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6228360" y="3774600"/>
                <a:ext cx="28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3300"/>
                    </a:solidFill>
                    <a:latin typeface="Verdana"/>
                  </a:rPr>
                  <a:t>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ERHs e 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GESTÃO DESCENTRALIZADA E PARTICIP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LANO NACIONAL E PLANOS ESTADUAIS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 Unicode MS"/>
              </a:rPr>
              <a:t>www.cnrh-srh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RETARIA EXECUTIVA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 Unicode MS"/>
              </a:rPr>
              <a:t>sec.executiva@cnrh-srh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Arial Unicode MS"/>
              </a:rPr>
              <a:t>Sistema Nacional de Gerenciamento de Recursos Hídricos - SINGRE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2057400"/>
            <a:ext cx="8858520" cy="4736520"/>
            <a:chOff x="152280" y="2057400"/>
            <a:chExt cx="8858520" cy="4736520"/>
          </a:xfrm>
        </p:grpSpPr>
        <p:sp>
          <p:nvSpPr>
            <p:cNvPr id="52" name=""/>
            <p:cNvSpPr/>
            <p:nvPr/>
          </p:nvSpPr>
          <p:spPr>
            <a:xfrm>
              <a:off x="2971800" y="46645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52280" y="2057400"/>
              <a:ext cx="8858520" cy="4736520"/>
              <a:chOff x="152280" y="2057400"/>
              <a:chExt cx="8858520" cy="47365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52280" y="2699640"/>
                <a:ext cx="8839440" cy="4094280"/>
                <a:chOff x="152280" y="2699640"/>
                <a:chExt cx="8839440" cy="409428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52280" y="2699640"/>
                  <a:ext cx="8839440" cy="642240"/>
                  <a:chOff x="152280" y="2699640"/>
                  <a:chExt cx="8839440" cy="6422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52280" y="2828160"/>
                    <a:ext cx="990720" cy="51336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Âmbit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581280" y="2699640"/>
                    <a:ext cx="17528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dministraçã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iret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7696080" y="2754720"/>
                    <a:ext cx="129564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a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5791320" y="2754720"/>
                    <a:ext cx="1447560" cy="5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Pod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utorgant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523880" y="2699640"/>
                    <a:ext cx="1524240" cy="6422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Organism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legiad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152280" y="3507480"/>
                  <a:ext cx="8839440" cy="1468440"/>
                  <a:chOff x="152280" y="3507480"/>
                  <a:chExt cx="8839440" cy="146844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152280" y="3984480"/>
                    <a:ext cx="10670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Nacion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581280" y="3507480"/>
                    <a:ext cx="17528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MMA / S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7696080" y="4388400"/>
                    <a:ext cx="129564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791320" y="3507480"/>
                    <a:ext cx="144756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N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523880" y="3580920"/>
                    <a:ext cx="1524240" cy="513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N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638360" y="4388400"/>
                    <a:ext cx="1295280" cy="5875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048120" y="380124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5334120" y="38012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38880" y="380124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344080" y="38012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930400" y="4975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286000" y="4095000"/>
                    <a:ext cx="0" cy="293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64771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V="1">
                    <a:off x="4419720" y="409464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152280" y="5325120"/>
                  <a:ext cx="8839440" cy="1468800"/>
                  <a:chOff x="152280" y="5325120"/>
                  <a:chExt cx="8839440" cy="146880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152280" y="5802480"/>
                    <a:ext cx="1067040" cy="5140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581280" y="5325120"/>
                    <a:ext cx="17528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Secretar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Estad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696080" y="6206400"/>
                    <a:ext cx="129564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Agên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791320" y="5325120"/>
                    <a:ext cx="1447560" cy="8812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ntidad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Gestor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staduai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398560"/>
                    <a:ext cx="1524240" cy="513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ER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638360" y="6206400"/>
                    <a:ext cx="1295280" cy="58716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Comitê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de Baci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048120" y="5618880"/>
                    <a:ext cx="53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34120" y="561888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238880" y="5618880"/>
                    <a:ext cx="1079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344080" y="5618880"/>
                    <a:ext cx="0" cy="587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930400" y="6793920"/>
                    <a:ext cx="4765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286000" y="5912280"/>
                    <a:ext cx="0" cy="29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>
                    <a:off x="6477120" y="6206400"/>
                    <a:ext cx="0" cy="29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>
                    <a:off x="4419720" y="5912280"/>
                    <a:ext cx="0" cy="587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971800" y="6500160"/>
                    <a:ext cx="3505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1562040" y="2259000"/>
                <a:ext cx="3733920" cy="29376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Formulação da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3160" y="2057400"/>
                <a:ext cx="3257640" cy="6422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mplementação 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Instrumentos de Polít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    </a:t>
            </a:r>
            <a:r>
              <a:rPr b="1" lang="pt-BR" sz="2800" spc="-1" strike="noStrike">
                <a:solidFill>
                  <a:srgbClr val="ff0000"/>
                </a:solidFill>
                <a:latin typeface="Arial Unicode MS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CRI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Lei nº 9.43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ULAMENT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UNIÃO DE INSTALA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5/11/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REGIMENTO INTERNO: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 aprovado em 25/6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Unicode MS"/>
              </a:rPr>
              <a:t>ALTERAÇÃO DA COMPOSIÇÃO: </a:t>
            </a:r>
            <a:r>
              <a:rPr b="1" lang="pt-BR" sz="2400" spc="-1" strike="noStrike">
                <a:solidFill>
                  <a:srgbClr val="ff0000"/>
                </a:solidFill>
                <a:latin typeface="Arial Unicode MS"/>
              </a:rPr>
              <a:t>Decreto nº 4.61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Unicode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C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ÓRGÃO MÁXIMO DO SINGR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CARÁTER NORMATIVO E DELIB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FÓRUM DE DISCUSSÃO (GOVERNO, USUÁRIOS E SOCIEDADE CIV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 Unicode MS"/>
              </a:rPr>
              <a:t>ATRIBU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NALIS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ALTERAÇÃO DA LEGISLAÇÃO PERTINENTE À RECURSOS HÍDRICOS E À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DIRETRIZES COMPLEMENTARES PARA IMPLEMENTAÇÃO DA POLÍTICA NACIONAL D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PROMOVE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A ARTICULAÇÃO DO PLANEJAMENTO DE RECURSOS HÍDRICOS COM OS PLANEJAMENTOS NACIONAL, REGIONAIS, ESTADUAIS E DOS SETORES USUÁRI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RBIT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ONFLITOS SOBRE RECURSOS HÍDRIC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DELIBER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SOBRE OS PROJETOS DE APROVEITAMENTO DE RECURSOS HÍDRICOS CUJAS REPERCUSSÕES EXTRAPOLEM O ÂMBITO DOS ESTA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PROPOSTAS DE INSTITUIÇÃO DE COMITÊS DE BACIA HIDROGRÁFIC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ESTABELECER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 CRITÉRIOS GERAIS PARA A OUTORGA DE DIREITO DE USO DE RECURSOS HÍDRICOS E PARA A COBRANÇA POR SEU USO;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 Unicode MS"/>
              </a:rPr>
              <a:t>APROVAR </a:t>
            </a:r>
            <a:r>
              <a:rPr b="1" lang="pt-BR" sz="1400" spc="-1" strike="noStrike">
                <a:solidFill>
                  <a:srgbClr val="000099"/>
                </a:solidFill>
                <a:latin typeface="Arial Unicode MS"/>
              </a:rPr>
              <a:t>O PLANO NACIONAL DE RECURSOS HÍDRICOS E ACOMPANHAR SUA EXEC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PRESID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SECRETÁR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REPRESENTANTE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GOVERNO FED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CER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USUÁRIOS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ORGANIZAÇÕES CI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 Unicode MS"/>
              </a:rPr>
              <a:t>SECRETARIA EXECUTIVA (SRH/M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POIO ADMINISTRATIVO, TÉCNICO E 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INTERAÇÃO COM MÚLTIPLOS A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 Unicode MS"/>
              </a:rPr>
              <a:t>ACOMPANHAMENTO E MONITORAMENTO DAS DELIBERAÇÕES D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COMPOSIÇÃO (57 MEM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MINISTÉRIOS E SECRETARIAS ESPECIAIS DA PRESIDÊNCIA 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REPÚBLIC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9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SELHOS ESTADUAIS DE RECURSOS HÍDRIC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0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USUÁRIO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1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RRIG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DÚST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NCESSIONÁRIAS E AUTORIZADAS DE GERAÇÃO HIDRELÉ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PESCADORES E USUÁRIOS DE LAZER  E TU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INSTITUIÇÕES ENCARREGADAS DE ABASTECIMENTO DE ÁGUA E ESGOTAMENTO SANIT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8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HIDROVI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COMITÊS, CONSÓRCIOS E ASSOCIAÇÕES INTERMUNICIPAIS DE BACIAS HIDROGRÁFICA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TÉCNICAS E DE ENSINO E PESQUISA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Unicode MS"/>
              </a:rPr>
              <a:t>ORGANIZAÇÕES NÃO-GOVERNAMENTAIS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(2 MEMB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        </a:t>
            </a:r>
            <a:r>
              <a:rPr b="1" lang="pt-BR" sz="1100" spc="-1" strike="noStrike">
                <a:solidFill>
                  <a:srgbClr val="ff0000"/>
                </a:solidFill>
                <a:latin typeface="Arial Unicode MS"/>
              </a:rPr>
              <a:t>PRINCIPAIS DELIBERAÇÕES APROVAD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0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INSTITUIÇÃO DE COMITÊ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NQUADRAMENTO DE CORPOS DE ÁGU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3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SISTEMA NACIONAL DE INFORMAÇÕ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4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ROCEDIMENTOS DE INDICAÇÃO DOS REPRESENTANTES DOS CERHs, DOS USUÁRIOS E DAS ORGANIZAÇÕES CIVIS NO CNR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GESTÃO DE ÁGUAS SUBTERRÂN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6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OUTORGA DE DIREITO DE USO</a:t>
            </a: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PLANOS DE RECURSOS HÍDRIC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19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CRITÉRIOS E VALORES PARA A COBRANÇA NA BACIA DO RIO PARAÍBA DO SU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29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IRETRIZES PARA A OUTORGA DE USO DOS RECURSOS HÍDRICOS PARA O APROVEITAMENTO DOS RECURSOS MINERA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º 32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INSTITUI A DIVISÃO HIDROGRÁFICA NAC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MOÇÃO Nº 20 - 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RECOMENDA MEDIDAS QUE ASSEGUREM O NÃO-CONTINGENCIAMENTO DOS RECURSOS DA COBRANÇA, BEM COMO SUA APLICAÇÃO DE ACORDO COM A LEGISLAÇÃO VIG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5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7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DIRETRIZES PARA A OUTORGA DE RECURSOS HÍDRICOS PARA A IMPLANTAÇÃO DE BARRAGE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38 -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DELEGAR COMPETÊNCIA À ASSOCIAÇÃO PRÓ-GESTÃO DAS ÁGUAS DA BACIA HIDROGRÁFICA DO RIO PARAÍBA DO S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99"/>
                </a:solidFill>
                <a:latin typeface="Arial Unicode MS"/>
              </a:rPr>
              <a:t>RESOLUÇÃO N° 41 – </a:t>
            </a:r>
            <a:r>
              <a:rPr b="0" lang="pt-BR" sz="1100" spc="-1" strike="noStrike">
                <a:solidFill>
                  <a:srgbClr val="000099"/>
                </a:solidFill>
                <a:latin typeface="Arial Unicode MS"/>
              </a:rPr>
              <a:t>ESTABELECE AS PRIORIDADES PARA APLICAÇÃO DOS RECURSOS ORIUNDOS DA COBRANÇA PELO USO DE RECURSOS HÍDRICOS, PARA O EXERCÍCIO DE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 Unicode MS"/>
              </a:rPr>
              <a:t>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     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Arial Unicode MS"/>
              </a:rPr>
              <a:t>CÂMARAS TÉCNICAS</a:t>
            </a: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SSESSORAM TECNICAMENTE O CNRH (RECOMENDAM A DECISÃ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ATUALMENTE SÃO NOVE ( 7 a 17 membros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COMPETÊNCIAS GERAI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EXAMINAR ASSUNTOS DE SUA COMPETÊNCIA E RELATAR AO PLENÁR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Unicode MS"/>
              </a:rPr>
              <a:t>COMPOSIÇÃO QUE PERMITE A INTEGRAÇÃO DOS SETO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 Unicode MS"/>
              </a:rPr>
              <a:t>PROCESSO DE DISCUSSÃO: DEMOCRÁTICO, ABERTO E PARTICIP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3:42:49Z</dcterms:created>
  <dc:creator>SPOA-CGTI</dc:creator>
  <dc:description/>
  <dc:language>en-US</dc:language>
  <cp:lastModifiedBy>SRH</cp:lastModifiedBy>
  <cp:lastPrinted>2003-07-21T18:42:49Z</cp:lastPrinted>
  <dcterms:modified xsi:type="dcterms:W3CDTF">2004-10-15T13:29:20Z</dcterms:modified>
  <cp:revision>472</cp:revision>
  <dc:subject/>
  <dc:title>Apresentação do PowerPoint</dc:title>
</cp:coreProperties>
</file>