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5C46-5E6B-4421-AE5E-E604316D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2EFF-3CDA-43B8-BA4C-8AF51F64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45EC-FF56-40D2-BA6B-F390BDD0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112B-AF90-4B66-AE8C-6205CA931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FD7A-84D9-43D8-B068-277CA668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FB07-F530-414C-8EF1-F9D1DF12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3416-51D2-48E0-A43F-BBD65354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7949-961D-4A66-A4D0-A2E3EA3D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ABDC-43C4-4EE6-9B47-8EF2EEA1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B4CA-4DB6-42F7-9FD0-518A3D70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4A41-4E27-4B63-812D-313614D9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CF2F-A780-40FA-A538-2CD1DF1F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7AD5-4536-4BE1-AAFA-FDC789558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63360"/>
          <a:ext cx="9144000" cy="26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3360"/>
                    <a:ext cx="914400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162920" y="838080"/>
            <a:ext cx="1981080" cy="633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609480" y="838080"/>
            <a:ext cx="6046920" cy="66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63360"/>
          <a:ext cx="9144000" cy="26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360"/>
                    <a:ext cx="914400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162920" y="228600"/>
            <a:ext cx="1981080" cy="633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09480" y="838080"/>
            <a:ext cx="6046920" cy="663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2590920"/>
            <a:ext cx="84819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 Unicode MS"/>
              </a:rPr>
              <a:t>O Conselho Nacional de Recursos Híd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 Unicode MS"/>
              </a:rPr>
              <a:t>- CNRH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Avaré - SP, 27 de outubro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ASSUNTOS LEGAIS E INSTITUCION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PLANO NACIONAL DE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INTEGRAÇÃO DE PROCEDIMENTOS, AÇÕES DE OUTORGA E AÇÕES REGULADO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ÁGUAS SUBTERRÂN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CIÊNCIA E TECNOLO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ANÁLISE DE PROJ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GESTÃO DE RECURSOS HÍDRICOS TRANSFRONTEIRIÇ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COBRANÇA PELO USO DE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EDUCAÇÃO, CAPACITAÇÃO, MOBILIZAÇÃO SOCIAL E INFORMAÇÃO EM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NRH - Câmaras Téc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s Estaduais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523880" y="2378880"/>
            <a:ext cx="5518080" cy="3885120"/>
            <a:chOff x="1523880" y="2378880"/>
            <a:chExt cx="5518080" cy="3885120"/>
          </a:xfrm>
        </p:grpSpPr>
        <p:grpSp>
          <p:nvGrpSpPr>
            <p:cNvPr id="112" name=""/>
            <p:cNvGrpSpPr/>
            <p:nvPr/>
          </p:nvGrpSpPr>
          <p:grpSpPr>
            <a:xfrm>
              <a:off x="1523880" y="2378880"/>
              <a:ext cx="5518080" cy="3885120"/>
              <a:chOff x="1523880" y="2378880"/>
              <a:chExt cx="5518080" cy="38851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1523880" y="2378880"/>
                <a:ext cx="5145120" cy="3612600"/>
                <a:chOff x="1523880" y="2378880"/>
                <a:chExt cx="5145120" cy="36126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523880" y="5277960"/>
                  <a:ext cx="302400" cy="146880"/>
                </a:xfrm>
                <a:prstGeom prst="rect">
                  <a:avLst/>
                </a:prstGeom>
                <a:solidFill>
                  <a:srgbClr val="ffaa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877400" y="5276880"/>
                  <a:ext cx="17305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ão Possuem CER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523880" y="5531040"/>
                  <a:ext cx="302400" cy="146880"/>
                </a:xfrm>
                <a:prstGeom prst="rect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971000" y="5510880"/>
                  <a:ext cx="13114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Possuem CER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523880" y="5798160"/>
                  <a:ext cx="302400" cy="146880"/>
                </a:xfrm>
                <a:custGeom>
                  <a:avLst/>
                  <a:gdLst/>
                  <a:ahLst/>
                  <a:rect l="l" t="t" r="r" b="b"/>
                  <a:pathLst>
                    <a:path w="240" h="125">
                      <a:moveTo>
                        <a:pt x="0" y="62"/>
                      </a:moveTo>
                      <a:lnTo>
                        <a:pt x="0" y="0"/>
                      </a:lnTo>
                      <a:lnTo>
                        <a:pt x="240" y="0"/>
                      </a:lnTo>
                      <a:lnTo>
                        <a:pt x="240" y="125"/>
                      </a:lnTo>
                      <a:lnTo>
                        <a:pt x="0" y="125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00cc99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872360" y="5778000"/>
                  <a:ext cx="20199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usência de Legisla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003480" y="3693240"/>
                  <a:ext cx="742680" cy="571680"/>
                </a:xfrm>
                <a:custGeom>
                  <a:avLst/>
                  <a:gdLst/>
                  <a:ahLst/>
                  <a:rect l="l" t="t" r="r" b="b"/>
                  <a:pathLst>
                    <a:path w="590" h="486">
                      <a:moveTo>
                        <a:pt x="0" y="160"/>
                      </a:moveTo>
                      <a:lnTo>
                        <a:pt x="0" y="160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14" y="146"/>
                      </a:lnTo>
                      <a:lnTo>
                        <a:pt x="14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75" y="125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96" y="132"/>
                      </a:lnTo>
                      <a:lnTo>
                        <a:pt x="96" y="132"/>
                      </a:lnTo>
                      <a:lnTo>
                        <a:pt x="96" y="132"/>
                      </a:lnTo>
                      <a:lnTo>
                        <a:pt x="96" y="125"/>
                      </a:lnTo>
                      <a:lnTo>
                        <a:pt x="96" y="132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25"/>
                      </a:lnTo>
                      <a:lnTo>
                        <a:pt x="117" y="125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24" y="118"/>
                      </a:lnTo>
                      <a:lnTo>
                        <a:pt x="124" y="118"/>
                      </a:lnTo>
                      <a:lnTo>
                        <a:pt x="124" y="118"/>
                      </a:lnTo>
                      <a:lnTo>
                        <a:pt x="130" y="118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8" y="118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65" y="97"/>
                      </a:lnTo>
                      <a:lnTo>
                        <a:pt x="165" y="91"/>
                      </a:lnTo>
                      <a:lnTo>
                        <a:pt x="165" y="91"/>
                      </a:lnTo>
                      <a:lnTo>
                        <a:pt x="165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20" y="91"/>
                      </a:lnTo>
                      <a:lnTo>
                        <a:pt x="220" y="84"/>
                      </a:lnTo>
                      <a:lnTo>
                        <a:pt x="227" y="84"/>
                      </a:lnTo>
                      <a:lnTo>
                        <a:pt x="227" y="84"/>
                      </a:lnTo>
                      <a:lnTo>
                        <a:pt x="227" y="84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63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7" y="56"/>
                      </a:lnTo>
                      <a:lnTo>
                        <a:pt x="240" y="56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35"/>
                      </a:lnTo>
                      <a:lnTo>
                        <a:pt x="240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54" y="28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28"/>
                      </a:lnTo>
                      <a:lnTo>
                        <a:pt x="254" y="28"/>
                      </a:lnTo>
                      <a:lnTo>
                        <a:pt x="261" y="28"/>
                      </a:lnTo>
                      <a:lnTo>
                        <a:pt x="261" y="28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0"/>
                      </a:lnTo>
                      <a:lnTo>
                        <a:pt x="275" y="0"/>
                      </a:lnTo>
                      <a:lnTo>
                        <a:pt x="281" y="7"/>
                      </a:lnTo>
                      <a:lnTo>
                        <a:pt x="295" y="7"/>
                      </a:lnTo>
                      <a:lnTo>
                        <a:pt x="330" y="0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84" y="63"/>
                      </a:lnTo>
                      <a:lnTo>
                        <a:pt x="384" y="63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53" y="84"/>
                      </a:lnTo>
                      <a:lnTo>
                        <a:pt x="453" y="84"/>
                      </a:lnTo>
                      <a:lnTo>
                        <a:pt x="446" y="84"/>
                      </a:lnTo>
                      <a:lnTo>
                        <a:pt x="446" y="84"/>
                      </a:lnTo>
                      <a:lnTo>
                        <a:pt x="446" y="91"/>
                      </a:lnTo>
                      <a:lnTo>
                        <a:pt x="446" y="91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8"/>
                      </a:lnTo>
                      <a:lnTo>
                        <a:pt x="439" y="111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46"/>
                      </a:lnTo>
                      <a:lnTo>
                        <a:pt x="453" y="146"/>
                      </a:lnTo>
                      <a:lnTo>
                        <a:pt x="453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39" y="153"/>
                      </a:lnTo>
                      <a:lnTo>
                        <a:pt x="439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46" y="188"/>
                      </a:lnTo>
                      <a:lnTo>
                        <a:pt x="446" y="195"/>
                      </a:lnTo>
                      <a:lnTo>
                        <a:pt x="446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8"/>
                      </a:lnTo>
                      <a:lnTo>
                        <a:pt x="446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15"/>
                      </a:lnTo>
                      <a:lnTo>
                        <a:pt x="453" y="215"/>
                      </a:lnTo>
                      <a:lnTo>
                        <a:pt x="453" y="215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9"/>
                      </a:lnTo>
                      <a:lnTo>
                        <a:pt x="446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46" y="229"/>
                      </a:lnTo>
                      <a:lnTo>
                        <a:pt x="446" y="236"/>
                      </a:lnTo>
                      <a:lnTo>
                        <a:pt x="446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43"/>
                      </a:lnTo>
                      <a:lnTo>
                        <a:pt x="453" y="243"/>
                      </a:lnTo>
                      <a:lnTo>
                        <a:pt x="453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53" y="257"/>
                      </a:lnTo>
                      <a:lnTo>
                        <a:pt x="487" y="257"/>
                      </a:lnTo>
                      <a:lnTo>
                        <a:pt x="535" y="257"/>
                      </a:lnTo>
                      <a:lnTo>
                        <a:pt x="535" y="257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9" y="271"/>
                      </a:lnTo>
                      <a:lnTo>
                        <a:pt x="549" y="271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71"/>
                      </a:lnTo>
                      <a:lnTo>
                        <a:pt x="549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84" y="285"/>
                      </a:lnTo>
                      <a:lnTo>
                        <a:pt x="584" y="285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0" y="299"/>
                      </a:lnTo>
                      <a:lnTo>
                        <a:pt x="570" y="299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63" y="306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63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7" y="333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84" y="354"/>
                      </a:lnTo>
                      <a:lnTo>
                        <a:pt x="584" y="354"/>
                      </a:lnTo>
                      <a:lnTo>
                        <a:pt x="584" y="354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8"/>
                      </a:lnTo>
                      <a:lnTo>
                        <a:pt x="584" y="368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0" y="389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403"/>
                      </a:lnTo>
                      <a:lnTo>
                        <a:pt x="570" y="403"/>
                      </a:lnTo>
                      <a:lnTo>
                        <a:pt x="570" y="403"/>
                      </a:lnTo>
                      <a:lnTo>
                        <a:pt x="570" y="410"/>
                      </a:lnTo>
                      <a:lnTo>
                        <a:pt x="570" y="410"/>
                      </a:lnTo>
                      <a:lnTo>
                        <a:pt x="570" y="410"/>
                      </a:lnTo>
                      <a:lnTo>
                        <a:pt x="570" y="417"/>
                      </a:lnTo>
                      <a:lnTo>
                        <a:pt x="570" y="417"/>
                      </a:lnTo>
                      <a:lnTo>
                        <a:pt x="570" y="423"/>
                      </a:lnTo>
                      <a:lnTo>
                        <a:pt x="570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56" y="423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9"/>
                      </a:lnTo>
                      <a:lnTo>
                        <a:pt x="529" y="472"/>
                      </a:lnTo>
                      <a:lnTo>
                        <a:pt x="529" y="479"/>
                      </a:lnTo>
                      <a:lnTo>
                        <a:pt x="529" y="479"/>
                      </a:lnTo>
                      <a:lnTo>
                        <a:pt x="529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15" y="479"/>
                      </a:lnTo>
                      <a:lnTo>
                        <a:pt x="515" y="479"/>
                      </a:lnTo>
                      <a:lnTo>
                        <a:pt x="515" y="479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79"/>
                      </a:lnTo>
                      <a:lnTo>
                        <a:pt x="508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494" y="479"/>
                      </a:lnTo>
                      <a:lnTo>
                        <a:pt x="494" y="479"/>
                      </a:lnTo>
                      <a:lnTo>
                        <a:pt x="494" y="472"/>
                      </a:lnTo>
                      <a:lnTo>
                        <a:pt x="494" y="472"/>
                      </a:lnTo>
                      <a:lnTo>
                        <a:pt x="494" y="479"/>
                      </a:lnTo>
                      <a:lnTo>
                        <a:pt x="494" y="479"/>
                      </a:lnTo>
                      <a:lnTo>
                        <a:pt x="494" y="472"/>
                      </a:lnTo>
                      <a:lnTo>
                        <a:pt x="494" y="472"/>
                      </a:lnTo>
                      <a:lnTo>
                        <a:pt x="487" y="479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94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9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26" y="472"/>
                      </a:lnTo>
                      <a:lnTo>
                        <a:pt x="432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9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05" y="465"/>
                      </a:lnTo>
                      <a:lnTo>
                        <a:pt x="412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398" y="458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84" y="437"/>
                      </a:lnTo>
                      <a:lnTo>
                        <a:pt x="384" y="437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78" y="444"/>
                      </a:lnTo>
                      <a:lnTo>
                        <a:pt x="378" y="437"/>
                      </a:lnTo>
                      <a:lnTo>
                        <a:pt x="378" y="444"/>
                      </a:lnTo>
                      <a:lnTo>
                        <a:pt x="378" y="444"/>
                      </a:lnTo>
                      <a:lnTo>
                        <a:pt x="378" y="444"/>
                      </a:lnTo>
                      <a:lnTo>
                        <a:pt x="378" y="437"/>
                      </a:lnTo>
                      <a:lnTo>
                        <a:pt x="378" y="444"/>
                      </a:lnTo>
                      <a:lnTo>
                        <a:pt x="378" y="444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64" y="437"/>
                      </a:lnTo>
                      <a:lnTo>
                        <a:pt x="364" y="430"/>
                      </a:lnTo>
                      <a:lnTo>
                        <a:pt x="364" y="430"/>
                      </a:lnTo>
                      <a:lnTo>
                        <a:pt x="364" y="437"/>
                      </a:lnTo>
                      <a:lnTo>
                        <a:pt x="364" y="437"/>
                      </a:lnTo>
                      <a:lnTo>
                        <a:pt x="364" y="437"/>
                      </a:lnTo>
                      <a:lnTo>
                        <a:pt x="364" y="437"/>
                      </a:lnTo>
                      <a:lnTo>
                        <a:pt x="364" y="437"/>
                      </a:lnTo>
                      <a:lnTo>
                        <a:pt x="357" y="437"/>
                      </a:lnTo>
                      <a:lnTo>
                        <a:pt x="357" y="437"/>
                      </a:lnTo>
                      <a:lnTo>
                        <a:pt x="357" y="430"/>
                      </a:lnTo>
                      <a:lnTo>
                        <a:pt x="357" y="430"/>
                      </a:lnTo>
                      <a:lnTo>
                        <a:pt x="357" y="430"/>
                      </a:lnTo>
                      <a:lnTo>
                        <a:pt x="357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23"/>
                      </a:lnTo>
                      <a:lnTo>
                        <a:pt x="350" y="423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36" y="430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0" y="423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0"/>
                      </a:lnTo>
                      <a:lnTo>
                        <a:pt x="323" y="410"/>
                      </a:lnTo>
                      <a:lnTo>
                        <a:pt x="323" y="410"/>
                      </a:lnTo>
                      <a:lnTo>
                        <a:pt x="316" y="410"/>
                      </a:lnTo>
                      <a:lnTo>
                        <a:pt x="316" y="410"/>
                      </a:lnTo>
                      <a:lnTo>
                        <a:pt x="316" y="410"/>
                      </a:lnTo>
                      <a:lnTo>
                        <a:pt x="316" y="410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09" y="403"/>
                      </a:lnTo>
                      <a:lnTo>
                        <a:pt x="309" y="403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2" y="396"/>
                      </a:lnTo>
                      <a:lnTo>
                        <a:pt x="309" y="396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295" y="403"/>
                      </a:lnTo>
                      <a:lnTo>
                        <a:pt x="295" y="403"/>
                      </a:lnTo>
                      <a:lnTo>
                        <a:pt x="288" y="403"/>
                      </a:lnTo>
                      <a:lnTo>
                        <a:pt x="288" y="403"/>
                      </a:lnTo>
                      <a:lnTo>
                        <a:pt x="288" y="403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1" y="396"/>
                      </a:lnTo>
                      <a:lnTo>
                        <a:pt x="281" y="396"/>
                      </a:lnTo>
                      <a:lnTo>
                        <a:pt x="288" y="396"/>
                      </a:lnTo>
                      <a:lnTo>
                        <a:pt x="281" y="396"/>
                      </a:lnTo>
                      <a:lnTo>
                        <a:pt x="288" y="396"/>
                      </a:lnTo>
                      <a:lnTo>
                        <a:pt x="281" y="389"/>
                      </a:lnTo>
                      <a:lnTo>
                        <a:pt x="281" y="396"/>
                      </a:lnTo>
                      <a:lnTo>
                        <a:pt x="275" y="389"/>
                      </a:lnTo>
                      <a:lnTo>
                        <a:pt x="275" y="389"/>
                      </a:lnTo>
                      <a:lnTo>
                        <a:pt x="275" y="389"/>
                      </a:lnTo>
                      <a:lnTo>
                        <a:pt x="268" y="389"/>
                      </a:lnTo>
                      <a:lnTo>
                        <a:pt x="268" y="389"/>
                      </a:lnTo>
                      <a:lnTo>
                        <a:pt x="268" y="382"/>
                      </a:lnTo>
                      <a:lnTo>
                        <a:pt x="268" y="382"/>
                      </a:lnTo>
                      <a:lnTo>
                        <a:pt x="268" y="382"/>
                      </a:lnTo>
                      <a:lnTo>
                        <a:pt x="261" y="382"/>
                      </a:lnTo>
                      <a:lnTo>
                        <a:pt x="261" y="382"/>
                      </a:lnTo>
                      <a:lnTo>
                        <a:pt x="254" y="382"/>
                      </a:lnTo>
                      <a:lnTo>
                        <a:pt x="254" y="382"/>
                      </a:lnTo>
                      <a:lnTo>
                        <a:pt x="254" y="382"/>
                      </a:lnTo>
                      <a:lnTo>
                        <a:pt x="254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7" y="382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7" y="382"/>
                      </a:lnTo>
                      <a:lnTo>
                        <a:pt x="227" y="382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0" y="389"/>
                      </a:lnTo>
                      <a:lnTo>
                        <a:pt x="220" y="389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13" y="382"/>
                      </a:lnTo>
                      <a:lnTo>
                        <a:pt x="213" y="389"/>
                      </a:lnTo>
                      <a:lnTo>
                        <a:pt x="213" y="389"/>
                      </a:lnTo>
                      <a:lnTo>
                        <a:pt x="213" y="389"/>
                      </a:lnTo>
                      <a:lnTo>
                        <a:pt x="213" y="389"/>
                      </a:lnTo>
                      <a:lnTo>
                        <a:pt x="213" y="382"/>
                      </a:lnTo>
                      <a:lnTo>
                        <a:pt x="213" y="382"/>
                      </a:lnTo>
                      <a:lnTo>
                        <a:pt x="213" y="382"/>
                      </a:lnTo>
                      <a:lnTo>
                        <a:pt x="206" y="382"/>
                      </a:lnTo>
                      <a:lnTo>
                        <a:pt x="206" y="382"/>
                      </a:lnTo>
                      <a:lnTo>
                        <a:pt x="199" y="382"/>
                      </a:lnTo>
                      <a:lnTo>
                        <a:pt x="199" y="382"/>
                      </a:lnTo>
                      <a:lnTo>
                        <a:pt x="199" y="382"/>
                      </a:lnTo>
                      <a:lnTo>
                        <a:pt x="199" y="375"/>
                      </a:lnTo>
                      <a:lnTo>
                        <a:pt x="199" y="375"/>
                      </a:lnTo>
                      <a:lnTo>
                        <a:pt x="192" y="375"/>
                      </a:lnTo>
                      <a:lnTo>
                        <a:pt x="192" y="375"/>
                      </a:lnTo>
                      <a:lnTo>
                        <a:pt x="192" y="375"/>
                      </a:lnTo>
                      <a:lnTo>
                        <a:pt x="192" y="375"/>
                      </a:lnTo>
                      <a:lnTo>
                        <a:pt x="192" y="368"/>
                      </a:lnTo>
                      <a:lnTo>
                        <a:pt x="192" y="368"/>
                      </a:lnTo>
                      <a:lnTo>
                        <a:pt x="192" y="361"/>
                      </a:lnTo>
                      <a:lnTo>
                        <a:pt x="192" y="361"/>
                      </a:lnTo>
                      <a:lnTo>
                        <a:pt x="192" y="368"/>
                      </a:lnTo>
                      <a:lnTo>
                        <a:pt x="192" y="361"/>
                      </a:lnTo>
                      <a:lnTo>
                        <a:pt x="192" y="361"/>
                      </a:lnTo>
                      <a:lnTo>
                        <a:pt x="192" y="361"/>
                      </a:lnTo>
                      <a:lnTo>
                        <a:pt x="185" y="361"/>
                      </a:lnTo>
                      <a:lnTo>
                        <a:pt x="185" y="361"/>
                      </a:lnTo>
                      <a:lnTo>
                        <a:pt x="178" y="361"/>
                      </a:lnTo>
                      <a:lnTo>
                        <a:pt x="178" y="361"/>
                      </a:lnTo>
                      <a:lnTo>
                        <a:pt x="178" y="361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58" y="347"/>
                      </a:lnTo>
                      <a:lnTo>
                        <a:pt x="158" y="347"/>
                      </a:lnTo>
                      <a:lnTo>
                        <a:pt x="158" y="347"/>
                      </a:lnTo>
                      <a:lnTo>
                        <a:pt x="158" y="340"/>
                      </a:lnTo>
                      <a:lnTo>
                        <a:pt x="158" y="347"/>
                      </a:lnTo>
                      <a:lnTo>
                        <a:pt x="158" y="347"/>
                      </a:lnTo>
                      <a:lnTo>
                        <a:pt x="151" y="347"/>
                      </a:lnTo>
                      <a:lnTo>
                        <a:pt x="151" y="340"/>
                      </a:lnTo>
                      <a:lnTo>
                        <a:pt x="151" y="347"/>
                      </a:lnTo>
                      <a:lnTo>
                        <a:pt x="151" y="340"/>
                      </a:lnTo>
                      <a:lnTo>
                        <a:pt x="151" y="340"/>
                      </a:lnTo>
                      <a:lnTo>
                        <a:pt x="151" y="340"/>
                      </a:lnTo>
                      <a:lnTo>
                        <a:pt x="151" y="340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51" y="326"/>
                      </a:lnTo>
                      <a:lnTo>
                        <a:pt x="151" y="326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37" y="319"/>
                      </a:lnTo>
                      <a:lnTo>
                        <a:pt x="137" y="319"/>
                      </a:lnTo>
                      <a:lnTo>
                        <a:pt x="137" y="326"/>
                      </a:lnTo>
                      <a:lnTo>
                        <a:pt x="137" y="326"/>
                      </a:lnTo>
                      <a:lnTo>
                        <a:pt x="137" y="326"/>
                      </a:lnTo>
                      <a:lnTo>
                        <a:pt x="130" y="319"/>
                      </a:lnTo>
                      <a:lnTo>
                        <a:pt x="130" y="319"/>
                      </a:lnTo>
                      <a:lnTo>
                        <a:pt x="130" y="319"/>
                      </a:lnTo>
                      <a:lnTo>
                        <a:pt x="130" y="319"/>
                      </a:lnTo>
                      <a:lnTo>
                        <a:pt x="130" y="312"/>
                      </a:lnTo>
                      <a:lnTo>
                        <a:pt x="130" y="312"/>
                      </a:lnTo>
                      <a:lnTo>
                        <a:pt x="130" y="312"/>
                      </a:lnTo>
                      <a:lnTo>
                        <a:pt x="130" y="312"/>
                      </a:lnTo>
                      <a:lnTo>
                        <a:pt x="130" y="306"/>
                      </a:lnTo>
                      <a:lnTo>
                        <a:pt x="130" y="306"/>
                      </a:lnTo>
                      <a:lnTo>
                        <a:pt x="137" y="306"/>
                      </a:lnTo>
                      <a:lnTo>
                        <a:pt x="137" y="306"/>
                      </a:lnTo>
                      <a:lnTo>
                        <a:pt x="137" y="306"/>
                      </a:lnTo>
                      <a:lnTo>
                        <a:pt x="130" y="306"/>
                      </a:lnTo>
                      <a:lnTo>
                        <a:pt x="130" y="306"/>
                      </a:lnTo>
                      <a:lnTo>
                        <a:pt x="130" y="306"/>
                      </a:lnTo>
                      <a:lnTo>
                        <a:pt x="124" y="299"/>
                      </a:lnTo>
                      <a:lnTo>
                        <a:pt x="124" y="292"/>
                      </a:lnTo>
                      <a:lnTo>
                        <a:pt x="124" y="292"/>
                      </a:lnTo>
                      <a:lnTo>
                        <a:pt x="124" y="292"/>
                      </a:lnTo>
                      <a:lnTo>
                        <a:pt x="124" y="292"/>
                      </a:lnTo>
                      <a:lnTo>
                        <a:pt x="130" y="292"/>
                      </a:lnTo>
                      <a:lnTo>
                        <a:pt x="130" y="285"/>
                      </a:lnTo>
                      <a:lnTo>
                        <a:pt x="130" y="285"/>
                      </a:lnTo>
                      <a:lnTo>
                        <a:pt x="124" y="285"/>
                      </a:lnTo>
                      <a:lnTo>
                        <a:pt x="124" y="285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30" y="271"/>
                      </a:lnTo>
                      <a:lnTo>
                        <a:pt x="130" y="264"/>
                      </a:lnTo>
                      <a:lnTo>
                        <a:pt x="130" y="264"/>
                      </a:lnTo>
                      <a:lnTo>
                        <a:pt x="130" y="264"/>
                      </a:lnTo>
                      <a:lnTo>
                        <a:pt x="130" y="264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29"/>
                      </a:lnTo>
                      <a:lnTo>
                        <a:pt x="124" y="229"/>
                      </a:lnTo>
                      <a:lnTo>
                        <a:pt x="124" y="229"/>
                      </a:lnTo>
                      <a:lnTo>
                        <a:pt x="117" y="229"/>
                      </a:lnTo>
                      <a:lnTo>
                        <a:pt x="117" y="229"/>
                      </a:lnTo>
                      <a:lnTo>
                        <a:pt x="117" y="229"/>
                      </a:lnTo>
                      <a:lnTo>
                        <a:pt x="117" y="229"/>
                      </a:lnTo>
                      <a:lnTo>
                        <a:pt x="117" y="229"/>
                      </a:lnTo>
                      <a:lnTo>
                        <a:pt x="117" y="222"/>
                      </a:lnTo>
                      <a:lnTo>
                        <a:pt x="117" y="222"/>
                      </a:lnTo>
                      <a:lnTo>
                        <a:pt x="117" y="222"/>
                      </a:lnTo>
                      <a:lnTo>
                        <a:pt x="117" y="222"/>
                      </a:lnTo>
                      <a:lnTo>
                        <a:pt x="117" y="222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24" y="208"/>
                      </a:lnTo>
                      <a:lnTo>
                        <a:pt x="124" y="208"/>
                      </a:lnTo>
                      <a:lnTo>
                        <a:pt x="117" y="208"/>
                      </a:lnTo>
                      <a:lnTo>
                        <a:pt x="124" y="201"/>
                      </a:lnTo>
                      <a:lnTo>
                        <a:pt x="124" y="201"/>
                      </a:lnTo>
                      <a:lnTo>
                        <a:pt x="124" y="201"/>
                      </a:lnTo>
                      <a:lnTo>
                        <a:pt x="124" y="201"/>
                      </a:lnTo>
                      <a:lnTo>
                        <a:pt x="124" y="195"/>
                      </a:lnTo>
                      <a:lnTo>
                        <a:pt x="130" y="195"/>
                      </a:lnTo>
                      <a:lnTo>
                        <a:pt x="130" y="195"/>
                      </a:lnTo>
                      <a:lnTo>
                        <a:pt x="130" y="195"/>
                      </a:lnTo>
                      <a:lnTo>
                        <a:pt x="130" y="195"/>
                      </a:lnTo>
                      <a:lnTo>
                        <a:pt x="130" y="188"/>
                      </a:lnTo>
                      <a:lnTo>
                        <a:pt x="124" y="188"/>
                      </a:lnTo>
                      <a:lnTo>
                        <a:pt x="130" y="188"/>
                      </a:lnTo>
                      <a:lnTo>
                        <a:pt x="130" y="181"/>
                      </a:lnTo>
                      <a:lnTo>
                        <a:pt x="124" y="181"/>
                      </a:lnTo>
                      <a:lnTo>
                        <a:pt x="124" y="181"/>
                      </a:lnTo>
                      <a:lnTo>
                        <a:pt x="124" y="181"/>
                      </a:lnTo>
                      <a:lnTo>
                        <a:pt x="124" y="174"/>
                      </a:lnTo>
                      <a:lnTo>
                        <a:pt x="124" y="174"/>
                      </a:lnTo>
                      <a:lnTo>
                        <a:pt x="124" y="174"/>
                      </a:lnTo>
                      <a:lnTo>
                        <a:pt x="124" y="167"/>
                      </a:lnTo>
                      <a:lnTo>
                        <a:pt x="124" y="167"/>
                      </a:lnTo>
                      <a:lnTo>
                        <a:pt x="124" y="167"/>
                      </a:lnTo>
                      <a:lnTo>
                        <a:pt x="130" y="167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24" y="160"/>
                      </a:lnTo>
                      <a:lnTo>
                        <a:pt x="124" y="153"/>
                      </a:lnTo>
                      <a:lnTo>
                        <a:pt x="124" y="153"/>
                      </a:lnTo>
                      <a:lnTo>
                        <a:pt x="124" y="153"/>
                      </a:lnTo>
                      <a:lnTo>
                        <a:pt x="124" y="153"/>
                      </a:lnTo>
                      <a:lnTo>
                        <a:pt x="117" y="146"/>
                      </a:lnTo>
                      <a:lnTo>
                        <a:pt x="117" y="146"/>
                      </a:lnTo>
                      <a:lnTo>
                        <a:pt x="117" y="146"/>
                      </a:lnTo>
                      <a:lnTo>
                        <a:pt x="117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60"/>
                      </a:lnTo>
                      <a:lnTo>
                        <a:pt x="110" y="160"/>
                      </a:lnTo>
                      <a:lnTo>
                        <a:pt x="110" y="153"/>
                      </a:lnTo>
                      <a:lnTo>
                        <a:pt x="110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53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89" y="160"/>
                      </a:lnTo>
                      <a:lnTo>
                        <a:pt x="96" y="160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96" y="153"/>
                      </a:lnTo>
                      <a:lnTo>
                        <a:pt x="96" y="153"/>
                      </a:lnTo>
                      <a:lnTo>
                        <a:pt x="96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60"/>
                      </a:lnTo>
                      <a:lnTo>
                        <a:pt x="82" y="160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60"/>
                      </a:lnTo>
                      <a:lnTo>
                        <a:pt x="82" y="160"/>
                      </a:lnTo>
                      <a:lnTo>
                        <a:pt x="75" y="160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69" y="153"/>
                      </a:lnTo>
                      <a:lnTo>
                        <a:pt x="69" y="153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55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14" y="167"/>
                      </a:lnTo>
                      <a:lnTo>
                        <a:pt x="0" y="160"/>
                      </a:lnTo>
                      <a:close/>
                    </a:path>
                  </a:pathLst>
                </a:custGeom>
                <a:solidFill>
                  <a:srgbClr val="195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003480" y="3693240"/>
                  <a:ext cx="742680" cy="571680"/>
                </a:xfrm>
                <a:custGeom>
                  <a:avLst/>
                  <a:gdLst/>
                  <a:ahLst/>
                  <a:rect l="l" t="t" r="r" b="b"/>
                  <a:pathLst>
                    <a:path w="590" h="486">
                      <a:moveTo>
                        <a:pt x="0" y="160"/>
                      </a:moveTo>
                      <a:lnTo>
                        <a:pt x="0" y="160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14" y="146"/>
                      </a:lnTo>
                      <a:lnTo>
                        <a:pt x="14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75" y="125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96" y="132"/>
                      </a:lnTo>
                      <a:lnTo>
                        <a:pt x="96" y="132"/>
                      </a:lnTo>
                      <a:lnTo>
                        <a:pt x="96" y="132"/>
                      </a:lnTo>
                      <a:lnTo>
                        <a:pt x="96" y="125"/>
                      </a:lnTo>
                      <a:lnTo>
                        <a:pt x="96" y="132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25"/>
                      </a:lnTo>
                      <a:lnTo>
                        <a:pt x="117" y="125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24" y="118"/>
                      </a:lnTo>
                      <a:lnTo>
                        <a:pt x="124" y="118"/>
                      </a:lnTo>
                      <a:lnTo>
                        <a:pt x="124" y="118"/>
                      </a:lnTo>
                      <a:lnTo>
                        <a:pt x="130" y="118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8" y="118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65" y="97"/>
                      </a:lnTo>
                      <a:lnTo>
                        <a:pt x="165" y="91"/>
                      </a:lnTo>
                      <a:lnTo>
                        <a:pt x="165" y="91"/>
                      </a:lnTo>
                      <a:lnTo>
                        <a:pt x="165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20" y="91"/>
                      </a:lnTo>
                      <a:lnTo>
                        <a:pt x="220" y="84"/>
                      </a:lnTo>
                      <a:lnTo>
                        <a:pt x="227" y="84"/>
                      </a:lnTo>
                      <a:lnTo>
                        <a:pt x="227" y="84"/>
                      </a:lnTo>
                      <a:lnTo>
                        <a:pt x="227" y="84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63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7" y="56"/>
                      </a:lnTo>
                      <a:lnTo>
                        <a:pt x="240" y="56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35"/>
                      </a:lnTo>
                      <a:lnTo>
                        <a:pt x="240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54" y="28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28"/>
                      </a:lnTo>
                      <a:lnTo>
                        <a:pt x="254" y="28"/>
                      </a:lnTo>
                      <a:lnTo>
                        <a:pt x="261" y="28"/>
                      </a:lnTo>
                      <a:lnTo>
                        <a:pt x="261" y="28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0"/>
                      </a:lnTo>
                      <a:lnTo>
                        <a:pt x="275" y="0"/>
                      </a:lnTo>
                      <a:lnTo>
                        <a:pt x="281" y="7"/>
                      </a:lnTo>
                      <a:lnTo>
                        <a:pt x="295" y="7"/>
                      </a:lnTo>
                      <a:lnTo>
                        <a:pt x="330" y="0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84" y="63"/>
                      </a:lnTo>
                      <a:lnTo>
                        <a:pt x="384" y="63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53" y="84"/>
                      </a:lnTo>
                      <a:lnTo>
                        <a:pt x="453" y="84"/>
                      </a:lnTo>
                      <a:lnTo>
                        <a:pt x="446" y="84"/>
                      </a:lnTo>
                      <a:lnTo>
                        <a:pt x="446" y="84"/>
                      </a:lnTo>
                      <a:lnTo>
                        <a:pt x="446" y="91"/>
                      </a:lnTo>
                      <a:lnTo>
                        <a:pt x="446" y="91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8"/>
                      </a:lnTo>
                      <a:lnTo>
                        <a:pt x="439" y="111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46"/>
                      </a:lnTo>
                      <a:lnTo>
                        <a:pt x="453" y="146"/>
                      </a:lnTo>
                      <a:lnTo>
                        <a:pt x="453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39" y="153"/>
                      </a:lnTo>
                      <a:lnTo>
                        <a:pt x="439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46" y="188"/>
                      </a:lnTo>
                      <a:lnTo>
                        <a:pt x="446" y="195"/>
                      </a:lnTo>
                      <a:lnTo>
                        <a:pt x="446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8"/>
                      </a:lnTo>
                      <a:lnTo>
                        <a:pt x="446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15"/>
                      </a:lnTo>
                      <a:lnTo>
                        <a:pt x="453" y="215"/>
                      </a:lnTo>
                      <a:lnTo>
                        <a:pt x="453" y="215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9"/>
                      </a:lnTo>
                      <a:lnTo>
                        <a:pt x="446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46" y="229"/>
                      </a:lnTo>
                      <a:lnTo>
                        <a:pt x="446" y="236"/>
                      </a:lnTo>
                      <a:lnTo>
                        <a:pt x="446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43"/>
                      </a:lnTo>
                      <a:lnTo>
                        <a:pt x="453" y="243"/>
                      </a:lnTo>
                      <a:lnTo>
                        <a:pt x="453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53" y="257"/>
                      </a:lnTo>
                      <a:lnTo>
                        <a:pt x="487" y="257"/>
                      </a:lnTo>
                      <a:lnTo>
                        <a:pt x="535" y="257"/>
                      </a:lnTo>
                      <a:lnTo>
                        <a:pt x="535" y="257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9" y="271"/>
                      </a:lnTo>
                      <a:lnTo>
                        <a:pt x="549" y="271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71"/>
                      </a:lnTo>
                      <a:lnTo>
                        <a:pt x="549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84" y="285"/>
                      </a:lnTo>
                      <a:lnTo>
                        <a:pt x="584" y="285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0" y="299"/>
                      </a:lnTo>
                      <a:lnTo>
                        <a:pt x="570" y="299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63" y="306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63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7" y="333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84" y="354"/>
                      </a:lnTo>
                      <a:lnTo>
                        <a:pt x="584" y="354"/>
                      </a:lnTo>
                      <a:lnTo>
                        <a:pt x="584" y="354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8"/>
                      </a:lnTo>
                      <a:lnTo>
                        <a:pt x="584" y="368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0" y="389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403"/>
                      </a:lnTo>
                      <a:lnTo>
                        <a:pt x="570" y="403"/>
                      </a:lnTo>
                      <a:lnTo>
                        <a:pt x="570" y="403"/>
                      </a:lnTo>
                      <a:lnTo>
                        <a:pt x="570" y="410"/>
                      </a:lnTo>
                      <a:lnTo>
                        <a:pt x="570" y="410"/>
                      </a:lnTo>
                      <a:lnTo>
                        <a:pt x="570" y="410"/>
                      </a:lnTo>
                      <a:lnTo>
                        <a:pt x="570" y="417"/>
                      </a:lnTo>
                      <a:lnTo>
                        <a:pt x="570" y="417"/>
                      </a:lnTo>
                      <a:lnTo>
                        <a:pt x="570" y="423"/>
                      </a:lnTo>
                      <a:lnTo>
                        <a:pt x="570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56" y="423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9"/>
                      </a:lnTo>
                      <a:lnTo>
                        <a:pt x="529" y="472"/>
                      </a:lnTo>
                      <a:lnTo>
                        <a:pt x="529" y="479"/>
                      </a:lnTo>
                      <a:lnTo>
                        <a:pt x="529" y="479"/>
                      </a:lnTo>
                      <a:lnTo>
                        <a:pt x="529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15" y="479"/>
                      </a:lnTo>
                      <a:lnTo>
                        <a:pt x="515" y="479"/>
                      </a:lnTo>
                      <a:lnTo>
                        <a:pt x="515" y="479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79"/>
                      </a:lnTo>
                      <a:lnTo>
                        <a:pt x="508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494" y="479"/>
                      </a:lnTo>
                      <a:lnTo>
                        <a:pt x="494" y="479"/>
                      </a:lnTo>
                      <a:lnTo>
                        <a:pt x="494" y="472"/>
                      </a:lnTo>
                      <a:lnTo>
                        <a:pt x="494" y="472"/>
                      </a:lnTo>
                      <a:lnTo>
                        <a:pt x="494" y="479"/>
                      </a:lnTo>
                      <a:lnTo>
                        <a:pt x="494" y="479"/>
                      </a:lnTo>
                      <a:lnTo>
                        <a:pt x="494" y="472"/>
                      </a:lnTo>
                      <a:lnTo>
                        <a:pt x="494" y="472"/>
                      </a:lnTo>
                      <a:lnTo>
                        <a:pt x="487" y="479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94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9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26" y="472"/>
                      </a:lnTo>
                      <a:lnTo>
                        <a:pt x="432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9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003480" y="3864960"/>
                  <a:ext cx="518760" cy="375120"/>
                </a:xfrm>
                <a:custGeom>
                  <a:avLst/>
                  <a:gdLst/>
                  <a:ahLst/>
                  <a:rect l="l" t="t" r="r" b="b"/>
                  <a:pathLst>
                    <a:path w="412" h="319">
                      <a:moveTo>
                        <a:pt x="412" y="319"/>
                      </a:moveTo>
                      <a:lnTo>
                        <a:pt x="412" y="319"/>
                      </a:lnTo>
                      <a:lnTo>
                        <a:pt x="412" y="319"/>
                      </a:lnTo>
                      <a:lnTo>
                        <a:pt x="412" y="319"/>
                      </a:lnTo>
                      <a:lnTo>
                        <a:pt x="412" y="319"/>
                      </a:lnTo>
                      <a:lnTo>
                        <a:pt x="405" y="319"/>
                      </a:lnTo>
                      <a:lnTo>
                        <a:pt x="412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398" y="312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84" y="291"/>
                      </a:lnTo>
                      <a:lnTo>
                        <a:pt x="384" y="291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78" y="298"/>
                      </a:lnTo>
                      <a:lnTo>
                        <a:pt x="378" y="291"/>
                      </a:lnTo>
                      <a:lnTo>
                        <a:pt x="378" y="298"/>
                      </a:lnTo>
                      <a:lnTo>
                        <a:pt x="378" y="298"/>
                      </a:lnTo>
                      <a:lnTo>
                        <a:pt x="378" y="298"/>
                      </a:lnTo>
                      <a:lnTo>
                        <a:pt x="378" y="291"/>
                      </a:lnTo>
                      <a:lnTo>
                        <a:pt x="378" y="298"/>
                      </a:lnTo>
                      <a:lnTo>
                        <a:pt x="378" y="298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64" y="291"/>
                      </a:lnTo>
                      <a:lnTo>
                        <a:pt x="364" y="284"/>
                      </a:lnTo>
                      <a:lnTo>
                        <a:pt x="364" y="284"/>
                      </a:lnTo>
                      <a:lnTo>
                        <a:pt x="364" y="291"/>
                      </a:lnTo>
                      <a:lnTo>
                        <a:pt x="364" y="291"/>
                      </a:lnTo>
                      <a:lnTo>
                        <a:pt x="364" y="291"/>
                      </a:lnTo>
                      <a:lnTo>
                        <a:pt x="364" y="291"/>
                      </a:lnTo>
                      <a:lnTo>
                        <a:pt x="364" y="291"/>
                      </a:lnTo>
                      <a:lnTo>
                        <a:pt x="357" y="291"/>
                      </a:lnTo>
                      <a:lnTo>
                        <a:pt x="357" y="291"/>
                      </a:lnTo>
                      <a:lnTo>
                        <a:pt x="357" y="284"/>
                      </a:lnTo>
                      <a:lnTo>
                        <a:pt x="357" y="284"/>
                      </a:lnTo>
                      <a:lnTo>
                        <a:pt x="357" y="284"/>
                      </a:lnTo>
                      <a:lnTo>
                        <a:pt x="357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77"/>
                      </a:lnTo>
                      <a:lnTo>
                        <a:pt x="350" y="277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36" y="284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0" y="277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64"/>
                      </a:lnTo>
                      <a:lnTo>
                        <a:pt x="323" y="264"/>
                      </a:lnTo>
                      <a:lnTo>
                        <a:pt x="323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2" y="250"/>
                      </a:lnTo>
                      <a:lnTo>
                        <a:pt x="309" y="250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88" y="257"/>
                      </a:lnTo>
                      <a:lnTo>
                        <a:pt x="288" y="257"/>
                      </a:lnTo>
                      <a:lnTo>
                        <a:pt x="288" y="257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1" y="250"/>
                      </a:lnTo>
                      <a:lnTo>
                        <a:pt x="281" y="250"/>
                      </a:lnTo>
                      <a:lnTo>
                        <a:pt x="288" y="250"/>
                      </a:lnTo>
                      <a:lnTo>
                        <a:pt x="281" y="250"/>
                      </a:lnTo>
                      <a:lnTo>
                        <a:pt x="288" y="250"/>
                      </a:lnTo>
                      <a:lnTo>
                        <a:pt x="281" y="243"/>
                      </a:lnTo>
                      <a:lnTo>
                        <a:pt x="281" y="250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68" y="243"/>
                      </a:lnTo>
                      <a:lnTo>
                        <a:pt x="268" y="243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0" y="243"/>
                      </a:lnTo>
                      <a:lnTo>
                        <a:pt x="240" y="243"/>
                      </a:lnTo>
                      <a:lnTo>
                        <a:pt x="240" y="243"/>
                      </a:lnTo>
                      <a:lnTo>
                        <a:pt x="240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7" y="236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7" y="236"/>
                      </a:lnTo>
                      <a:lnTo>
                        <a:pt x="227" y="236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0" y="243"/>
                      </a:lnTo>
                      <a:lnTo>
                        <a:pt x="220" y="243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13" y="236"/>
                      </a:lnTo>
                      <a:lnTo>
                        <a:pt x="213" y="243"/>
                      </a:lnTo>
                      <a:lnTo>
                        <a:pt x="213" y="243"/>
                      </a:lnTo>
                      <a:lnTo>
                        <a:pt x="213" y="243"/>
                      </a:lnTo>
                      <a:lnTo>
                        <a:pt x="213" y="243"/>
                      </a:lnTo>
                      <a:lnTo>
                        <a:pt x="213" y="236"/>
                      </a:lnTo>
                      <a:lnTo>
                        <a:pt x="213" y="236"/>
                      </a:lnTo>
                      <a:lnTo>
                        <a:pt x="213" y="236"/>
                      </a:lnTo>
                      <a:lnTo>
                        <a:pt x="206" y="236"/>
                      </a:lnTo>
                      <a:lnTo>
                        <a:pt x="206" y="236"/>
                      </a:lnTo>
                      <a:lnTo>
                        <a:pt x="199" y="236"/>
                      </a:lnTo>
                      <a:lnTo>
                        <a:pt x="199" y="236"/>
                      </a:lnTo>
                      <a:lnTo>
                        <a:pt x="199" y="236"/>
                      </a:lnTo>
                      <a:lnTo>
                        <a:pt x="199" y="229"/>
                      </a:lnTo>
                      <a:lnTo>
                        <a:pt x="199" y="229"/>
                      </a:lnTo>
                      <a:lnTo>
                        <a:pt x="192" y="229"/>
                      </a:lnTo>
                      <a:lnTo>
                        <a:pt x="192" y="229"/>
                      </a:lnTo>
                      <a:lnTo>
                        <a:pt x="192" y="229"/>
                      </a:lnTo>
                      <a:lnTo>
                        <a:pt x="192" y="229"/>
                      </a:lnTo>
                      <a:lnTo>
                        <a:pt x="192" y="222"/>
                      </a:lnTo>
                      <a:lnTo>
                        <a:pt x="192" y="222"/>
                      </a:lnTo>
                      <a:lnTo>
                        <a:pt x="192" y="215"/>
                      </a:lnTo>
                      <a:lnTo>
                        <a:pt x="192" y="215"/>
                      </a:lnTo>
                      <a:lnTo>
                        <a:pt x="192" y="222"/>
                      </a:lnTo>
                      <a:lnTo>
                        <a:pt x="192" y="215"/>
                      </a:lnTo>
                      <a:lnTo>
                        <a:pt x="192" y="215"/>
                      </a:lnTo>
                      <a:lnTo>
                        <a:pt x="192" y="215"/>
                      </a:lnTo>
                      <a:lnTo>
                        <a:pt x="185" y="215"/>
                      </a:lnTo>
                      <a:lnTo>
                        <a:pt x="185" y="215"/>
                      </a:lnTo>
                      <a:lnTo>
                        <a:pt x="178" y="215"/>
                      </a:lnTo>
                      <a:lnTo>
                        <a:pt x="178" y="215"/>
                      </a:lnTo>
                      <a:lnTo>
                        <a:pt x="178" y="215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65" y="208"/>
                      </a:lnTo>
                      <a:lnTo>
                        <a:pt x="165" y="208"/>
                      </a:lnTo>
                      <a:lnTo>
                        <a:pt x="165" y="208"/>
                      </a:lnTo>
                      <a:lnTo>
                        <a:pt x="165" y="208"/>
                      </a:lnTo>
                      <a:lnTo>
                        <a:pt x="172" y="201"/>
                      </a:lnTo>
                      <a:lnTo>
                        <a:pt x="172" y="201"/>
                      </a:lnTo>
                      <a:lnTo>
                        <a:pt x="172" y="201"/>
                      </a:lnTo>
                      <a:lnTo>
                        <a:pt x="165" y="201"/>
                      </a:lnTo>
                      <a:lnTo>
                        <a:pt x="165" y="201"/>
                      </a:lnTo>
                      <a:lnTo>
                        <a:pt x="165" y="201"/>
                      </a:lnTo>
                      <a:lnTo>
                        <a:pt x="165" y="201"/>
                      </a:lnTo>
                      <a:lnTo>
                        <a:pt x="165" y="201"/>
                      </a:lnTo>
                      <a:lnTo>
                        <a:pt x="158" y="201"/>
                      </a:lnTo>
                      <a:lnTo>
                        <a:pt x="158" y="201"/>
                      </a:lnTo>
                      <a:lnTo>
                        <a:pt x="158" y="201"/>
                      </a:lnTo>
                      <a:lnTo>
                        <a:pt x="158" y="194"/>
                      </a:lnTo>
                      <a:lnTo>
                        <a:pt x="158" y="201"/>
                      </a:lnTo>
                      <a:lnTo>
                        <a:pt x="158" y="201"/>
                      </a:lnTo>
                      <a:lnTo>
                        <a:pt x="151" y="201"/>
                      </a:lnTo>
                      <a:lnTo>
                        <a:pt x="151" y="194"/>
                      </a:lnTo>
                      <a:lnTo>
                        <a:pt x="151" y="201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51" y="180"/>
                      </a:lnTo>
                      <a:lnTo>
                        <a:pt x="151" y="180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0" y="173"/>
                      </a:lnTo>
                      <a:lnTo>
                        <a:pt x="130" y="173"/>
                      </a:lnTo>
                      <a:lnTo>
                        <a:pt x="130" y="173"/>
                      </a:lnTo>
                      <a:lnTo>
                        <a:pt x="130" y="173"/>
                      </a:lnTo>
                      <a:lnTo>
                        <a:pt x="130" y="166"/>
                      </a:lnTo>
                      <a:lnTo>
                        <a:pt x="130" y="166"/>
                      </a:lnTo>
                      <a:lnTo>
                        <a:pt x="130" y="166"/>
                      </a:lnTo>
                      <a:lnTo>
                        <a:pt x="130" y="166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7" y="160"/>
                      </a:lnTo>
                      <a:lnTo>
                        <a:pt x="137" y="160"/>
                      </a:lnTo>
                      <a:lnTo>
                        <a:pt x="137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24" y="153"/>
                      </a:lnTo>
                      <a:lnTo>
                        <a:pt x="124" y="146"/>
                      </a:lnTo>
                      <a:lnTo>
                        <a:pt x="124" y="146"/>
                      </a:lnTo>
                      <a:lnTo>
                        <a:pt x="124" y="146"/>
                      </a:lnTo>
                      <a:lnTo>
                        <a:pt x="124" y="146"/>
                      </a:lnTo>
                      <a:lnTo>
                        <a:pt x="130" y="146"/>
                      </a:lnTo>
                      <a:lnTo>
                        <a:pt x="130" y="139"/>
                      </a:lnTo>
                      <a:lnTo>
                        <a:pt x="130" y="139"/>
                      </a:lnTo>
                      <a:lnTo>
                        <a:pt x="124" y="139"/>
                      </a:lnTo>
                      <a:lnTo>
                        <a:pt x="124" y="139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25"/>
                      </a:lnTo>
                      <a:lnTo>
                        <a:pt x="124" y="125"/>
                      </a:lnTo>
                      <a:lnTo>
                        <a:pt x="124" y="125"/>
                      </a:lnTo>
                      <a:lnTo>
                        <a:pt x="124" y="125"/>
                      </a:lnTo>
                      <a:lnTo>
                        <a:pt x="130" y="125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0"/>
                      </a:lnTo>
                      <a:lnTo>
                        <a:pt x="124" y="90"/>
                      </a:lnTo>
                      <a:lnTo>
                        <a:pt x="124" y="90"/>
                      </a:lnTo>
                      <a:lnTo>
                        <a:pt x="124" y="90"/>
                      </a:lnTo>
                      <a:lnTo>
                        <a:pt x="124" y="83"/>
                      </a:lnTo>
                      <a:lnTo>
                        <a:pt x="124" y="83"/>
                      </a:lnTo>
                      <a:lnTo>
                        <a:pt x="124" y="83"/>
                      </a:lnTo>
                      <a:lnTo>
                        <a:pt x="117" y="83"/>
                      </a:lnTo>
                      <a:lnTo>
                        <a:pt x="117" y="83"/>
                      </a:lnTo>
                      <a:lnTo>
                        <a:pt x="117" y="83"/>
                      </a:lnTo>
                      <a:lnTo>
                        <a:pt x="117" y="83"/>
                      </a:lnTo>
                      <a:lnTo>
                        <a:pt x="117" y="83"/>
                      </a:lnTo>
                      <a:lnTo>
                        <a:pt x="117" y="76"/>
                      </a:lnTo>
                      <a:lnTo>
                        <a:pt x="117" y="76"/>
                      </a:lnTo>
                      <a:lnTo>
                        <a:pt x="117" y="76"/>
                      </a:lnTo>
                      <a:lnTo>
                        <a:pt x="117" y="76"/>
                      </a:lnTo>
                      <a:lnTo>
                        <a:pt x="117" y="76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24" y="62"/>
                      </a:lnTo>
                      <a:lnTo>
                        <a:pt x="124" y="62"/>
                      </a:lnTo>
                      <a:lnTo>
                        <a:pt x="117" y="62"/>
                      </a:lnTo>
                      <a:lnTo>
                        <a:pt x="124" y="55"/>
                      </a:lnTo>
                      <a:lnTo>
                        <a:pt x="124" y="55"/>
                      </a:lnTo>
                      <a:lnTo>
                        <a:pt x="124" y="55"/>
                      </a:lnTo>
                      <a:lnTo>
                        <a:pt x="124" y="55"/>
                      </a:lnTo>
                      <a:lnTo>
                        <a:pt x="124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2"/>
                      </a:lnTo>
                      <a:lnTo>
                        <a:pt x="124" y="42"/>
                      </a:lnTo>
                      <a:lnTo>
                        <a:pt x="130" y="42"/>
                      </a:lnTo>
                      <a:lnTo>
                        <a:pt x="130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28"/>
                      </a:lnTo>
                      <a:lnTo>
                        <a:pt x="124" y="28"/>
                      </a:lnTo>
                      <a:lnTo>
                        <a:pt x="124" y="28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30" y="21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24" y="14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17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14"/>
                      </a:lnTo>
                      <a:lnTo>
                        <a:pt x="110" y="14"/>
                      </a:lnTo>
                      <a:lnTo>
                        <a:pt x="110" y="7"/>
                      </a:lnTo>
                      <a:lnTo>
                        <a:pt x="110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7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89" y="14"/>
                      </a:lnTo>
                      <a:lnTo>
                        <a:pt x="96" y="14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14"/>
                      </a:lnTo>
                      <a:lnTo>
                        <a:pt x="82" y="14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75" y="14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55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14" y="21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233800" y="3611880"/>
                  <a:ext cx="786960" cy="399960"/>
                </a:xfrm>
                <a:custGeom>
                  <a:avLst/>
                  <a:gdLst/>
                  <a:ahLst/>
                  <a:rect l="l" t="t" r="r" b="b"/>
                  <a:pathLst>
                    <a:path w="625" h="340">
                      <a:moveTo>
                        <a:pt x="20" y="0"/>
                      </a:moveTo>
                      <a:lnTo>
                        <a:pt x="27" y="0"/>
                      </a:lnTo>
                      <a:lnTo>
                        <a:pt x="62" y="21"/>
                      </a:lnTo>
                      <a:lnTo>
                        <a:pt x="96" y="35"/>
                      </a:lnTo>
                      <a:lnTo>
                        <a:pt x="117" y="42"/>
                      </a:lnTo>
                      <a:lnTo>
                        <a:pt x="117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72" y="55"/>
                      </a:lnTo>
                      <a:lnTo>
                        <a:pt x="172" y="55"/>
                      </a:lnTo>
                      <a:lnTo>
                        <a:pt x="172" y="55"/>
                      </a:lnTo>
                      <a:lnTo>
                        <a:pt x="206" y="62"/>
                      </a:lnTo>
                      <a:lnTo>
                        <a:pt x="213" y="62"/>
                      </a:lnTo>
                      <a:lnTo>
                        <a:pt x="233" y="69"/>
                      </a:lnTo>
                      <a:lnTo>
                        <a:pt x="261" y="76"/>
                      </a:lnTo>
                      <a:lnTo>
                        <a:pt x="295" y="83"/>
                      </a:lnTo>
                      <a:lnTo>
                        <a:pt x="302" y="83"/>
                      </a:lnTo>
                      <a:lnTo>
                        <a:pt x="309" y="83"/>
                      </a:lnTo>
                      <a:lnTo>
                        <a:pt x="316" y="90"/>
                      </a:lnTo>
                      <a:lnTo>
                        <a:pt x="329" y="97"/>
                      </a:lnTo>
                      <a:lnTo>
                        <a:pt x="364" y="111"/>
                      </a:lnTo>
                      <a:lnTo>
                        <a:pt x="378" y="125"/>
                      </a:lnTo>
                      <a:lnTo>
                        <a:pt x="391" y="132"/>
                      </a:lnTo>
                      <a:lnTo>
                        <a:pt x="412" y="139"/>
                      </a:lnTo>
                      <a:lnTo>
                        <a:pt x="426" y="146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60" y="166"/>
                      </a:lnTo>
                      <a:lnTo>
                        <a:pt x="494" y="180"/>
                      </a:lnTo>
                      <a:lnTo>
                        <a:pt x="515" y="187"/>
                      </a:lnTo>
                      <a:lnTo>
                        <a:pt x="570" y="208"/>
                      </a:lnTo>
                      <a:lnTo>
                        <a:pt x="583" y="215"/>
                      </a:lnTo>
                      <a:lnTo>
                        <a:pt x="583" y="215"/>
                      </a:lnTo>
                      <a:lnTo>
                        <a:pt x="583" y="215"/>
                      </a:lnTo>
                      <a:lnTo>
                        <a:pt x="590" y="222"/>
                      </a:lnTo>
                      <a:lnTo>
                        <a:pt x="611" y="229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43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43"/>
                      </a:lnTo>
                      <a:lnTo>
                        <a:pt x="625" y="243"/>
                      </a:lnTo>
                      <a:lnTo>
                        <a:pt x="625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1" y="243"/>
                      </a:lnTo>
                      <a:lnTo>
                        <a:pt x="611" y="243"/>
                      </a:lnTo>
                      <a:lnTo>
                        <a:pt x="611" y="243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04" y="250"/>
                      </a:lnTo>
                      <a:lnTo>
                        <a:pt x="604" y="250"/>
                      </a:lnTo>
                      <a:lnTo>
                        <a:pt x="604" y="250"/>
                      </a:lnTo>
                      <a:lnTo>
                        <a:pt x="604" y="250"/>
                      </a:lnTo>
                      <a:lnTo>
                        <a:pt x="604" y="257"/>
                      </a:lnTo>
                      <a:lnTo>
                        <a:pt x="604" y="250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597" y="257"/>
                      </a:lnTo>
                      <a:lnTo>
                        <a:pt x="597" y="257"/>
                      </a:lnTo>
                      <a:lnTo>
                        <a:pt x="597" y="257"/>
                      </a:lnTo>
                      <a:lnTo>
                        <a:pt x="597" y="257"/>
                      </a:lnTo>
                      <a:lnTo>
                        <a:pt x="597" y="257"/>
                      </a:lnTo>
                      <a:lnTo>
                        <a:pt x="597" y="264"/>
                      </a:lnTo>
                      <a:lnTo>
                        <a:pt x="597" y="257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70"/>
                      </a:lnTo>
                      <a:lnTo>
                        <a:pt x="590" y="270"/>
                      </a:lnTo>
                      <a:lnTo>
                        <a:pt x="590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7"/>
                      </a:lnTo>
                      <a:lnTo>
                        <a:pt x="570" y="277"/>
                      </a:lnTo>
                      <a:lnTo>
                        <a:pt x="570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56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56" y="277"/>
                      </a:lnTo>
                      <a:lnTo>
                        <a:pt x="556" y="284"/>
                      </a:lnTo>
                      <a:lnTo>
                        <a:pt x="556" y="284"/>
                      </a:lnTo>
                      <a:lnTo>
                        <a:pt x="556" y="284"/>
                      </a:lnTo>
                      <a:lnTo>
                        <a:pt x="556" y="284"/>
                      </a:lnTo>
                      <a:lnTo>
                        <a:pt x="556" y="284"/>
                      </a:lnTo>
                      <a:lnTo>
                        <a:pt x="549" y="284"/>
                      </a:lnTo>
                      <a:lnTo>
                        <a:pt x="549" y="284"/>
                      </a:lnTo>
                      <a:lnTo>
                        <a:pt x="549" y="284"/>
                      </a:lnTo>
                      <a:lnTo>
                        <a:pt x="549" y="284"/>
                      </a:lnTo>
                      <a:lnTo>
                        <a:pt x="549" y="284"/>
                      </a:lnTo>
                      <a:lnTo>
                        <a:pt x="542" y="284"/>
                      </a:lnTo>
                      <a:lnTo>
                        <a:pt x="542" y="284"/>
                      </a:lnTo>
                      <a:lnTo>
                        <a:pt x="542" y="291"/>
                      </a:lnTo>
                      <a:lnTo>
                        <a:pt x="542" y="291"/>
                      </a:lnTo>
                      <a:lnTo>
                        <a:pt x="542" y="291"/>
                      </a:lnTo>
                      <a:lnTo>
                        <a:pt x="542" y="291"/>
                      </a:lnTo>
                      <a:lnTo>
                        <a:pt x="542" y="298"/>
                      </a:lnTo>
                      <a:lnTo>
                        <a:pt x="535" y="298"/>
                      </a:lnTo>
                      <a:lnTo>
                        <a:pt x="535" y="305"/>
                      </a:lnTo>
                      <a:lnTo>
                        <a:pt x="535" y="305"/>
                      </a:lnTo>
                      <a:lnTo>
                        <a:pt x="535" y="305"/>
                      </a:lnTo>
                      <a:lnTo>
                        <a:pt x="529" y="305"/>
                      </a:lnTo>
                      <a:lnTo>
                        <a:pt x="529" y="305"/>
                      </a:lnTo>
                      <a:lnTo>
                        <a:pt x="529" y="305"/>
                      </a:lnTo>
                      <a:lnTo>
                        <a:pt x="529" y="305"/>
                      </a:lnTo>
                      <a:lnTo>
                        <a:pt x="529" y="305"/>
                      </a:lnTo>
                      <a:lnTo>
                        <a:pt x="529" y="298"/>
                      </a:lnTo>
                      <a:lnTo>
                        <a:pt x="529" y="298"/>
                      </a:lnTo>
                      <a:lnTo>
                        <a:pt x="529" y="298"/>
                      </a:lnTo>
                      <a:lnTo>
                        <a:pt x="529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1" y="298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12"/>
                      </a:lnTo>
                      <a:lnTo>
                        <a:pt x="501" y="312"/>
                      </a:lnTo>
                      <a:lnTo>
                        <a:pt x="501" y="312"/>
                      </a:lnTo>
                      <a:lnTo>
                        <a:pt x="501" y="312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87" y="319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0" y="326"/>
                      </a:lnTo>
                      <a:lnTo>
                        <a:pt x="480" y="326"/>
                      </a:lnTo>
                      <a:lnTo>
                        <a:pt x="480" y="333"/>
                      </a:lnTo>
                      <a:lnTo>
                        <a:pt x="480" y="326"/>
                      </a:lnTo>
                      <a:lnTo>
                        <a:pt x="480" y="326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67" y="333"/>
                      </a:lnTo>
                      <a:lnTo>
                        <a:pt x="467" y="333"/>
                      </a:lnTo>
                      <a:lnTo>
                        <a:pt x="467" y="333"/>
                      </a:lnTo>
                      <a:lnTo>
                        <a:pt x="467" y="340"/>
                      </a:lnTo>
                      <a:lnTo>
                        <a:pt x="467" y="340"/>
                      </a:lnTo>
                      <a:lnTo>
                        <a:pt x="460" y="340"/>
                      </a:lnTo>
                      <a:lnTo>
                        <a:pt x="446" y="340"/>
                      </a:lnTo>
                      <a:lnTo>
                        <a:pt x="453" y="340"/>
                      </a:lnTo>
                      <a:lnTo>
                        <a:pt x="446" y="340"/>
                      </a:lnTo>
                      <a:lnTo>
                        <a:pt x="446" y="340"/>
                      </a:lnTo>
                      <a:lnTo>
                        <a:pt x="446" y="340"/>
                      </a:lnTo>
                      <a:lnTo>
                        <a:pt x="446" y="340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33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33"/>
                      </a:lnTo>
                      <a:lnTo>
                        <a:pt x="446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33"/>
                      </a:lnTo>
                      <a:lnTo>
                        <a:pt x="439" y="333"/>
                      </a:lnTo>
                      <a:lnTo>
                        <a:pt x="439" y="326"/>
                      </a:lnTo>
                      <a:lnTo>
                        <a:pt x="432" y="326"/>
                      </a:lnTo>
                      <a:lnTo>
                        <a:pt x="432" y="333"/>
                      </a:lnTo>
                      <a:lnTo>
                        <a:pt x="439" y="333"/>
                      </a:lnTo>
                      <a:lnTo>
                        <a:pt x="432" y="333"/>
                      </a:lnTo>
                      <a:lnTo>
                        <a:pt x="432" y="326"/>
                      </a:lnTo>
                      <a:lnTo>
                        <a:pt x="432" y="326"/>
                      </a:lnTo>
                      <a:lnTo>
                        <a:pt x="432" y="333"/>
                      </a:lnTo>
                      <a:lnTo>
                        <a:pt x="432" y="333"/>
                      </a:lnTo>
                      <a:lnTo>
                        <a:pt x="432" y="326"/>
                      </a:lnTo>
                      <a:lnTo>
                        <a:pt x="432" y="333"/>
                      </a:lnTo>
                      <a:lnTo>
                        <a:pt x="432" y="326"/>
                      </a:lnTo>
                      <a:lnTo>
                        <a:pt x="432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57" y="326"/>
                      </a:lnTo>
                      <a:lnTo>
                        <a:pt x="364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0" y="326"/>
                      </a:lnTo>
                      <a:lnTo>
                        <a:pt x="350" y="326"/>
                      </a:lnTo>
                      <a:lnTo>
                        <a:pt x="350" y="319"/>
                      </a:lnTo>
                      <a:lnTo>
                        <a:pt x="350" y="326"/>
                      </a:lnTo>
                      <a:lnTo>
                        <a:pt x="350" y="326"/>
                      </a:lnTo>
                      <a:lnTo>
                        <a:pt x="343" y="319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295" y="326"/>
                      </a:lnTo>
                      <a:lnTo>
                        <a:pt x="295" y="326"/>
                      </a:lnTo>
                      <a:lnTo>
                        <a:pt x="295" y="326"/>
                      </a:lnTo>
                      <a:lnTo>
                        <a:pt x="288" y="326"/>
                      </a:lnTo>
                      <a:lnTo>
                        <a:pt x="288" y="305"/>
                      </a:lnTo>
                      <a:lnTo>
                        <a:pt x="288" y="284"/>
                      </a:lnTo>
                      <a:lnTo>
                        <a:pt x="288" y="277"/>
                      </a:lnTo>
                      <a:lnTo>
                        <a:pt x="288" y="250"/>
                      </a:lnTo>
                      <a:lnTo>
                        <a:pt x="288" y="243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95" y="222"/>
                      </a:lnTo>
                      <a:lnTo>
                        <a:pt x="295" y="229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15"/>
                      </a:lnTo>
                      <a:lnTo>
                        <a:pt x="295" y="215"/>
                      </a:lnTo>
                      <a:lnTo>
                        <a:pt x="295" y="215"/>
                      </a:lnTo>
                      <a:lnTo>
                        <a:pt x="295" y="215"/>
                      </a:lnTo>
                      <a:lnTo>
                        <a:pt x="288" y="215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302" y="201"/>
                      </a:lnTo>
                      <a:lnTo>
                        <a:pt x="302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302" y="201"/>
                      </a:lnTo>
                      <a:lnTo>
                        <a:pt x="295" y="194"/>
                      </a:lnTo>
                      <a:lnTo>
                        <a:pt x="302" y="194"/>
                      </a:lnTo>
                      <a:lnTo>
                        <a:pt x="302" y="194"/>
                      </a:lnTo>
                      <a:lnTo>
                        <a:pt x="302" y="194"/>
                      </a:lnTo>
                      <a:lnTo>
                        <a:pt x="302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88" y="194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1" y="201"/>
                      </a:lnTo>
                      <a:lnTo>
                        <a:pt x="281" y="201"/>
                      </a:lnTo>
                      <a:lnTo>
                        <a:pt x="281" y="201"/>
                      </a:lnTo>
                      <a:lnTo>
                        <a:pt x="281" y="201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81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9"/>
                      </a:lnTo>
                      <a:lnTo>
                        <a:pt x="261" y="229"/>
                      </a:lnTo>
                      <a:lnTo>
                        <a:pt x="261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47" y="229"/>
                      </a:lnTo>
                      <a:lnTo>
                        <a:pt x="247" y="229"/>
                      </a:lnTo>
                      <a:lnTo>
                        <a:pt x="247" y="229"/>
                      </a:lnTo>
                      <a:lnTo>
                        <a:pt x="247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43"/>
                      </a:lnTo>
                      <a:lnTo>
                        <a:pt x="240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199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44" y="208"/>
                      </a:lnTo>
                      <a:lnTo>
                        <a:pt x="151" y="208"/>
                      </a:lnTo>
                      <a:lnTo>
                        <a:pt x="144" y="201"/>
                      </a:lnTo>
                      <a:lnTo>
                        <a:pt x="144" y="208"/>
                      </a:lnTo>
                      <a:lnTo>
                        <a:pt x="144" y="201"/>
                      </a:lnTo>
                      <a:lnTo>
                        <a:pt x="144" y="208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17" y="201"/>
                      </a:lnTo>
                      <a:lnTo>
                        <a:pt x="117" y="201"/>
                      </a:lnTo>
                      <a:lnTo>
                        <a:pt x="117" y="201"/>
                      </a:lnTo>
                      <a:lnTo>
                        <a:pt x="117" y="201"/>
                      </a:lnTo>
                      <a:lnTo>
                        <a:pt x="117" y="194"/>
                      </a:lnTo>
                      <a:lnTo>
                        <a:pt x="117" y="194"/>
                      </a:lnTo>
                      <a:lnTo>
                        <a:pt x="117" y="194"/>
                      </a:lnTo>
                      <a:lnTo>
                        <a:pt x="117" y="194"/>
                      </a:lnTo>
                      <a:lnTo>
                        <a:pt x="117" y="194"/>
                      </a:lnTo>
                      <a:lnTo>
                        <a:pt x="117" y="201"/>
                      </a:lnTo>
                      <a:lnTo>
                        <a:pt x="117" y="201"/>
                      </a:lnTo>
                      <a:lnTo>
                        <a:pt x="117" y="194"/>
                      </a:lnTo>
                      <a:lnTo>
                        <a:pt x="117" y="201"/>
                      </a:lnTo>
                      <a:lnTo>
                        <a:pt x="110" y="194"/>
                      </a:lnTo>
                      <a:lnTo>
                        <a:pt x="117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03" y="194"/>
                      </a:lnTo>
                      <a:lnTo>
                        <a:pt x="69" y="194"/>
                      </a:lnTo>
                      <a:lnTo>
                        <a:pt x="69" y="194"/>
                      </a:lnTo>
                      <a:lnTo>
                        <a:pt x="69" y="194"/>
                      </a:lnTo>
                      <a:lnTo>
                        <a:pt x="69" y="187"/>
                      </a:lnTo>
                      <a:lnTo>
                        <a:pt x="75" y="187"/>
                      </a:lnTo>
                      <a:lnTo>
                        <a:pt x="75" y="187"/>
                      </a:lnTo>
                      <a:lnTo>
                        <a:pt x="75" y="187"/>
                      </a:lnTo>
                      <a:lnTo>
                        <a:pt x="75" y="187"/>
                      </a:lnTo>
                      <a:lnTo>
                        <a:pt x="75" y="187"/>
                      </a:lnTo>
                      <a:lnTo>
                        <a:pt x="82" y="187"/>
                      </a:lnTo>
                      <a:lnTo>
                        <a:pt x="75" y="187"/>
                      </a:lnTo>
                      <a:lnTo>
                        <a:pt x="75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9" y="180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2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66"/>
                      </a:lnTo>
                      <a:lnTo>
                        <a:pt x="89" y="166"/>
                      </a:lnTo>
                      <a:lnTo>
                        <a:pt x="89" y="166"/>
                      </a:lnTo>
                      <a:lnTo>
                        <a:pt x="89" y="166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25"/>
                      </a:lnTo>
                      <a:lnTo>
                        <a:pt x="62" y="132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18"/>
                      </a:lnTo>
                      <a:lnTo>
                        <a:pt x="62" y="111"/>
                      </a:lnTo>
                      <a:lnTo>
                        <a:pt x="62" y="118"/>
                      </a:lnTo>
                      <a:lnTo>
                        <a:pt x="62" y="111"/>
                      </a:lnTo>
                      <a:lnTo>
                        <a:pt x="62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48" y="111"/>
                      </a:lnTo>
                      <a:lnTo>
                        <a:pt x="48" y="111"/>
                      </a:lnTo>
                      <a:lnTo>
                        <a:pt x="48" y="111"/>
                      </a:lnTo>
                      <a:lnTo>
                        <a:pt x="48" y="111"/>
                      </a:lnTo>
                      <a:lnTo>
                        <a:pt x="48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0"/>
                      </a:lnTo>
                      <a:lnTo>
                        <a:pt x="34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27" y="76"/>
                      </a:lnTo>
                      <a:lnTo>
                        <a:pt x="27" y="69"/>
                      </a:lnTo>
                      <a:lnTo>
                        <a:pt x="27" y="69"/>
                      </a:lnTo>
                      <a:lnTo>
                        <a:pt x="27" y="69"/>
                      </a:lnTo>
                      <a:lnTo>
                        <a:pt x="27" y="69"/>
                      </a:lnTo>
                      <a:lnTo>
                        <a:pt x="27" y="69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0" y="49"/>
                      </a:lnTo>
                      <a:lnTo>
                        <a:pt x="20" y="49"/>
                      </a:lnTo>
                      <a:lnTo>
                        <a:pt x="20" y="49"/>
                      </a:lnTo>
                      <a:lnTo>
                        <a:pt x="20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2"/>
                      </a:lnTo>
                      <a:lnTo>
                        <a:pt x="14" y="42"/>
                      </a:lnTo>
                      <a:lnTo>
                        <a:pt x="7" y="42"/>
                      </a:lnTo>
                      <a:lnTo>
                        <a:pt x="7" y="42"/>
                      </a:lnTo>
                      <a:lnTo>
                        <a:pt x="7" y="42"/>
                      </a:lnTo>
                      <a:lnTo>
                        <a:pt x="0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7" y="21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259360" y="2680920"/>
                  <a:ext cx="1884960" cy="1199880"/>
                </a:xfrm>
                <a:custGeom>
                  <a:avLst/>
                  <a:gdLst/>
                  <a:ahLst/>
                  <a:rect l="l" t="t" r="r" b="b"/>
                  <a:pathLst>
                    <a:path w="1497" h="1020">
                      <a:moveTo>
                        <a:pt x="0" y="791"/>
                      </a:moveTo>
                      <a:lnTo>
                        <a:pt x="0" y="791"/>
                      </a:lnTo>
                      <a:lnTo>
                        <a:pt x="0" y="791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77"/>
                      </a:lnTo>
                      <a:lnTo>
                        <a:pt x="7" y="777"/>
                      </a:lnTo>
                      <a:lnTo>
                        <a:pt x="0" y="777"/>
                      </a:lnTo>
                      <a:lnTo>
                        <a:pt x="0" y="777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63"/>
                      </a:lnTo>
                      <a:lnTo>
                        <a:pt x="7" y="763"/>
                      </a:lnTo>
                      <a:lnTo>
                        <a:pt x="14" y="763"/>
                      </a:lnTo>
                      <a:lnTo>
                        <a:pt x="14" y="763"/>
                      </a:lnTo>
                      <a:lnTo>
                        <a:pt x="14" y="763"/>
                      </a:lnTo>
                      <a:lnTo>
                        <a:pt x="14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8" y="756"/>
                      </a:lnTo>
                      <a:lnTo>
                        <a:pt x="28" y="756"/>
                      </a:lnTo>
                      <a:lnTo>
                        <a:pt x="28" y="749"/>
                      </a:lnTo>
                      <a:lnTo>
                        <a:pt x="28" y="749"/>
                      </a:lnTo>
                      <a:lnTo>
                        <a:pt x="28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9" y="749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55" y="742"/>
                      </a:lnTo>
                      <a:lnTo>
                        <a:pt x="49" y="742"/>
                      </a:lnTo>
                      <a:lnTo>
                        <a:pt x="55" y="742"/>
                      </a:lnTo>
                      <a:lnTo>
                        <a:pt x="55" y="742"/>
                      </a:lnTo>
                      <a:lnTo>
                        <a:pt x="55" y="742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08"/>
                      </a:lnTo>
                      <a:lnTo>
                        <a:pt x="49" y="708"/>
                      </a:lnTo>
                      <a:lnTo>
                        <a:pt x="49" y="708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55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55" y="694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73"/>
                      </a:lnTo>
                      <a:lnTo>
                        <a:pt x="62" y="673"/>
                      </a:lnTo>
                      <a:lnTo>
                        <a:pt x="62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2"/>
                      </a:lnTo>
                      <a:lnTo>
                        <a:pt x="69" y="652"/>
                      </a:lnTo>
                      <a:lnTo>
                        <a:pt x="69" y="652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1"/>
                      </a:lnTo>
                      <a:lnTo>
                        <a:pt x="76" y="631"/>
                      </a:lnTo>
                      <a:lnTo>
                        <a:pt x="83" y="631"/>
                      </a:lnTo>
                      <a:lnTo>
                        <a:pt x="76" y="631"/>
                      </a:lnTo>
                      <a:lnTo>
                        <a:pt x="83" y="631"/>
                      </a:lnTo>
                      <a:lnTo>
                        <a:pt x="76" y="631"/>
                      </a:lnTo>
                      <a:lnTo>
                        <a:pt x="76" y="631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24" y="597"/>
                      </a:lnTo>
                      <a:lnTo>
                        <a:pt x="124" y="597"/>
                      </a:lnTo>
                      <a:lnTo>
                        <a:pt x="124" y="597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31" y="590"/>
                      </a:lnTo>
                      <a:lnTo>
                        <a:pt x="131" y="597"/>
                      </a:lnTo>
                      <a:lnTo>
                        <a:pt x="131" y="597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45" y="590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76"/>
                      </a:lnTo>
                      <a:lnTo>
                        <a:pt x="152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69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69"/>
                      </a:lnTo>
                      <a:lnTo>
                        <a:pt x="158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76"/>
                      </a:lnTo>
                      <a:lnTo>
                        <a:pt x="186" y="576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2"/>
                      </a:lnTo>
                      <a:lnTo>
                        <a:pt x="193" y="562"/>
                      </a:lnTo>
                      <a:lnTo>
                        <a:pt x="193" y="569"/>
                      </a:lnTo>
                      <a:lnTo>
                        <a:pt x="200" y="569"/>
                      </a:lnTo>
                      <a:lnTo>
                        <a:pt x="193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9"/>
                      </a:lnTo>
                      <a:lnTo>
                        <a:pt x="200" y="569"/>
                      </a:lnTo>
                      <a:lnTo>
                        <a:pt x="200" y="569"/>
                      </a:lnTo>
                      <a:lnTo>
                        <a:pt x="200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13" y="562"/>
                      </a:lnTo>
                      <a:lnTo>
                        <a:pt x="206" y="569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55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34" y="562"/>
                      </a:lnTo>
                      <a:lnTo>
                        <a:pt x="234" y="555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62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55" y="548"/>
                      </a:lnTo>
                      <a:lnTo>
                        <a:pt x="248" y="548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55"/>
                      </a:lnTo>
                      <a:lnTo>
                        <a:pt x="296" y="555"/>
                      </a:lnTo>
                      <a:lnTo>
                        <a:pt x="303" y="548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296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48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48"/>
                      </a:lnTo>
                      <a:lnTo>
                        <a:pt x="323" y="548"/>
                      </a:lnTo>
                      <a:lnTo>
                        <a:pt x="323" y="548"/>
                      </a:lnTo>
                      <a:lnTo>
                        <a:pt x="330" y="520"/>
                      </a:lnTo>
                      <a:lnTo>
                        <a:pt x="337" y="500"/>
                      </a:lnTo>
                      <a:lnTo>
                        <a:pt x="344" y="430"/>
                      </a:lnTo>
                      <a:lnTo>
                        <a:pt x="351" y="396"/>
                      </a:lnTo>
                      <a:lnTo>
                        <a:pt x="364" y="347"/>
                      </a:lnTo>
                      <a:lnTo>
                        <a:pt x="364" y="319"/>
                      </a:lnTo>
                      <a:lnTo>
                        <a:pt x="364" y="312"/>
                      </a:lnTo>
                      <a:lnTo>
                        <a:pt x="364" y="312"/>
                      </a:lnTo>
                      <a:lnTo>
                        <a:pt x="371" y="312"/>
                      </a:lnTo>
                      <a:lnTo>
                        <a:pt x="371" y="312"/>
                      </a:lnTo>
                      <a:lnTo>
                        <a:pt x="371" y="312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298"/>
                      </a:lnTo>
                      <a:lnTo>
                        <a:pt x="371" y="298"/>
                      </a:lnTo>
                      <a:lnTo>
                        <a:pt x="371" y="298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1"/>
                      </a:lnTo>
                      <a:lnTo>
                        <a:pt x="371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1" y="257"/>
                      </a:lnTo>
                      <a:lnTo>
                        <a:pt x="358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8" y="250"/>
                      </a:lnTo>
                      <a:lnTo>
                        <a:pt x="358" y="250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36"/>
                      </a:lnTo>
                      <a:lnTo>
                        <a:pt x="358" y="236"/>
                      </a:lnTo>
                      <a:lnTo>
                        <a:pt x="358" y="236"/>
                      </a:lnTo>
                      <a:lnTo>
                        <a:pt x="351" y="236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22"/>
                      </a:lnTo>
                      <a:lnTo>
                        <a:pt x="344" y="222"/>
                      </a:lnTo>
                      <a:lnTo>
                        <a:pt x="344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15"/>
                      </a:lnTo>
                      <a:lnTo>
                        <a:pt x="330" y="215"/>
                      </a:lnTo>
                      <a:lnTo>
                        <a:pt x="330" y="215"/>
                      </a:lnTo>
                      <a:lnTo>
                        <a:pt x="330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16" y="208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187"/>
                      </a:lnTo>
                      <a:lnTo>
                        <a:pt x="316" y="181"/>
                      </a:lnTo>
                      <a:lnTo>
                        <a:pt x="316" y="167"/>
                      </a:lnTo>
                      <a:lnTo>
                        <a:pt x="316" y="146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9"/>
                      </a:lnTo>
                      <a:lnTo>
                        <a:pt x="358" y="139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71" y="125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92" y="139"/>
                      </a:lnTo>
                      <a:lnTo>
                        <a:pt x="385" y="139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9" y="132"/>
                      </a:lnTo>
                      <a:lnTo>
                        <a:pt x="399" y="132"/>
                      </a:lnTo>
                      <a:lnTo>
                        <a:pt x="392" y="132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44" y="97"/>
                      </a:lnTo>
                      <a:lnTo>
                        <a:pt x="344" y="97"/>
                      </a:lnTo>
                      <a:lnTo>
                        <a:pt x="344" y="97"/>
                      </a:lnTo>
                      <a:lnTo>
                        <a:pt x="344" y="90"/>
                      </a:lnTo>
                      <a:lnTo>
                        <a:pt x="344" y="97"/>
                      </a:lnTo>
                      <a:lnTo>
                        <a:pt x="344" y="90"/>
                      </a:lnTo>
                      <a:lnTo>
                        <a:pt x="344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76"/>
                      </a:lnTo>
                      <a:lnTo>
                        <a:pt x="337" y="56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8" y="42"/>
                      </a:lnTo>
                      <a:lnTo>
                        <a:pt x="358" y="35"/>
                      </a:lnTo>
                      <a:lnTo>
                        <a:pt x="358" y="35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92" y="42"/>
                      </a:lnTo>
                      <a:lnTo>
                        <a:pt x="433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8" y="28"/>
                      </a:lnTo>
                      <a:lnTo>
                        <a:pt x="488" y="28"/>
                      </a:lnTo>
                      <a:lnTo>
                        <a:pt x="488" y="28"/>
                      </a:lnTo>
                      <a:lnTo>
                        <a:pt x="495" y="35"/>
                      </a:lnTo>
                      <a:lnTo>
                        <a:pt x="495" y="35"/>
                      </a:lnTo>
                      <a:lnTo>
                        <a:pt x="495" y="35"/>
                      </a:lnTo>
                      <a:lnTo>
                        <a:pt x="495" y="28"/>
                      </a:lnTo>
                      <a:lnTo>
                        <a:pt x="495" y="28"/>
                      </a:lnTo>
                      <a:lnTo>
                        <a:pt x="502" y="28"/>
                      </a:lnTo>
                      <a:lnTo>
                        <a:pt x="495" y="28"/>
                      </a:lnTo>
                      <a:lnTo>
                        <a:pt x="502" y="28"/>
                      </a:lnTo>
                      <a:lnTo>
                        <a:pt x="502" y="28"/>
                      </a:lnTo>
                      <a:lnTo>
                        <a:pt x="502" y="21"/>
                      </a:lnTo>
                      <a:lnTo>
                        <a:pt x="502" y="21"/>
                      </a:lnTo>
                      <a:lnTo>
                        <a:pt x="502" y="21"/>
                      </a:lnTo>
                      <a:lnTo>
                        <a:pt x="509" y="14"/>
                      </a:lnTo>
                      <a:lnTo>
                        <a:pt x="509" y="14"/>
                      </a:lnTo>
                      <a:lnTo>
                        <a:pt x="509" y="14"/>
                      </a:lnTo>
                      <a:lnTo>
                        <a:pt x="515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36" y="0"/>
                      </a:lnTo>
                      <a:lnTo>
                        <a:pt x="536" y="0"/>
                      </a:lnTo>
                      <a:lnTo>
                        <a:pt x="536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14"/>
                      </a:lnTo>
                      <a:lnTo>
                        <a:pt x="550" y="14"/>
                      </a:lnTo>
                      <a:lnTo>
                        <a:pt x="550" y="14"/>
                      </a:lnTo>
                      <a:lnTo>
                        <a:pt x="550" y="28"/>
                      </a:lnTo>
                      <a:lnTo>
                        <a:pt x="550" y="28"/>
                      </a:lnTo>
                      <a:lnTo>
                        <a:pt x="550" y="28"/>
                      </a:lnTo>
                      <a:lnTo>
                        <a:pt x="557" y="28"/>
                      </a:lnTo>
                      <a:lnTo>
                        <a:pt x="557" y="28"/>
                      </a:lnTo>
                      <a:lnTo>
                        <a:pt x="563" y="28"/>
                      </a:lnTo>
                      <a:lnTo>
                        <a:pt x="563" y="35"/>
                      </a:lnTo>
                      <a:lnTo>
                        <a:pt x="563" y="35"/>
                      </a:lnTo>
                      <a:lnTo>
                        <a:pt x="563" y="35"/>
                      </a:lnTo>
                      <a:lnTo>
                        <a:pt x="563" y="42"/>
                      </a:lnTo>
                      <a:lnTo>
                        <a:pt x="563" y="42"/>
                      </a:lnTo>
                      <a:lnTo>
                        <a:pt x="563" y="42"/>
                      </a:lnTo>
                      <a:lnTo>
                        <a:pt x="563" y="49"/>
                      </a:lnTo>
                      <a:lnTo>
                        <a:pt x="570" y="49"/>
                      </a:lnTo>
                      <a:lnTo>
                        <a:pt x="570" y="49"/>
                      </a:lnTo>
                      <a:lnTo>
                        <a:pt x="570" y="63"/>
                      </a:lnTo>
                      <a:lnTo>
                        <a:pt x="570" y="63"/>
                      </a:lnTo>
                      <a:lnTo>
                        <a:pt x="570" y="70"/>
                      </a:lnTo>
                      <a:lnTo>
                        <a:pt x="570" y="70"/>
                      </a:lnTo>
                      <a:lnTo>
                        <a:pt x="563" y="76"/>
                      </a:lnTo>
                      <a:lnTo>
                        <a:pt x="570" y="83"/>
                      </a:lnTo>
                      <a:lnTo>
                        <a:pt x="570" y="83"/>
                      </a:lnTo>
                      <a:lnTo>
                        <a:pt x="563" y="90"/>
                      </a:lnTo>
                      <a:lnTo>
                        <a:pt x="584" y="83"/>
                      </a:lnTo>
                      <a:lnTo>
                        <a:pt x="612" y="104"/>
                      </a:lnTo>
                      <a:lnTo>
                        <a:pt x="632" y="125"/>
                      </a:lnTo>
                      <a:lnTo>
                        <a:pt x="639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6" y="118"/>
                      </a:lnTo>
                      <a:lnTo>
                        <a:pt x="666" y="118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73" y="111"/>
                      </a:lnTo>
                      <a:lnTo>
                        <a:pt x="673" y="111"/>
                      </a:lnTo>
                      <a:lnTo>
                        <a:pt x="673" y="111"/>
                      </a:lnTo>
                      <a:lnTo>
                        <a:pt x="673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94" y="104"/>
                      </a:lnTo>
                      <a:lnTo>
                        <a:pt x="687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701" y="104"/>
                      </a:lnTo>
                      <a:lnTo>
                        <a:pt x="701" y="104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32"/>
                      </a:lnTo>
                      <a:lnTo>
                        <a:pt x="694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15" y="118"/>
                      </a:lnTo>
                      <a:lnTo>
                        <a:pt x="715" y="118"/>
                      </a:lnTo>
                      <a:lnTo>
                        <a:pt x="715" y="118"/>
                      </a:lnTo>
                      <a:lnTo>
                        <a:pt x="715" y="111"/>
                      </a:lnTo>
                      <a:lnTo>
                        <a:pt x="715" y="111"/>
                      </a:lnTo>
                      <a:lnTo>
                        <a:pt x="715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04"/>
                      </a:lnTo>
                      <a:lnTo>
                        <a:pt x="728" y="104"/>
                      </a:lnTo>
                      <a:lnTo>
                        <a:pt x="728" y="104"/>
                      </a:lnTo>
                      <a:lnTo>
                        <a:pt x="728" y="104"/>
                      </a:lnTo>
                      <a:lnTo>
                        <a:pt x="728" y="104"/>
                      </a:lnTo>
                      <a:lnTo>
                        <a:pt x="728" y="97"/>
                      </a:lnTo>
                      <a:lnTo>
                        <a:pt x="728" y="97"/>
                      </a:lnTo>
                      <a:lnTo>
                        <a:pt x="728" y="97"/>
                      </a:lnTo>
                      <a:lnTo>
                        <a:pt x="728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42" y="90"/>
                      </a:lnTo>
                      <a:lnTo>
                        <a:pt x="735" y="97"/>
                      </a:lnTo>
                      <a:lnTo>
                        <a:pt x="742" y="97"/>
                      </a:lnTo>
                      <a:lnTo>
                        <a:pt x="742" y="97"/>
                      </a:lnTo>
                      <a:lnTo>
                        <a:pt x="742" y="97"/>
                      </a:lnTo>
                      <a:lnTo>
                        <a:pt x="742" y="90"/>
                      </a:lnTo>
                      <a:lnTo>
                        <a:pt x="742" y="90"/>
                      </a:lnTo>
                      <a:lnTo>
                        <a:pt x="742" y="90"/>
                      </a:lnTo>
                      <a:lnTo>
                        <a:pt x="749" y="90"/>
                      </a:lnTo>
                      <a:lnTo>
                        <a:pt x="749" y="90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76"/>
                      </a:lnTo>
                      <a:lnTo>
                        <a:pt x="763" y="76"/>
                      </a:lnTo>
                      <a:lnTo>
                        <a:pt x="763" y="76"/>
                      </a:lnTo>
                      <a:lnTo>
                        <a:pt x="763" y="76"/>
                      </a:lnTo>
                      <a:lnTo>
                        <a:pt x="763" y="83"/>
                      </a:lnTo>
                      <a:lnTo>
                        <a:pt x="763" y="83"/>
                      </a:lnTo>
                      <a:lnTo>
                        <a:pt x="763" y="83"/>
                      </a:lnTo>
                      <a:lnTo>
                        <a:pt x="763" y="83"/>
                      </a:lnTo>
                      <a:lnTo>
                        <a:pt x="763" y="83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76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76"/>
                      </a:lnTo>
                      <a:lnTo>
                        <a:pt x="769" y="76"/>
                      </a:lnTo>
                      <a:lnTo>
                        <a:pt x="776" y="76"/>
                      </a:lnTo>
                      <a:lnTo>
                        <a:pt x="776" y="76"/>
                      </a:lnTo>
                      <a:lnTo>
                        <a:pt x="776" y="76"/>
                      </a:lnTo>
                      <a:lnTo>
                        <a:pt x="776" y="76"/>
                      </a:lnTo>
                      <a:lnTo>
                        <a:pt x="776" y="76"/>
                      </a:lnTo>
                      <a:lnTo>
                        <a:pt x="783" y="76"/>
                      </a:lnTo>
                      <a:lnTo>
                        <a:pt x="776" y="76"/>
                      </a:lnTo>
                      <a:lnTo>
                        <a:pt x="776" y="70"/>
                      </a:lnTo>
                      <a:lnTo>
                        <a:pt x="776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804" y="70"/>
                      </a:lnTo>
                      <a:lnTo>
                        <a:pt x="804" y="70"/>
                      </a:lnTo>
                      <a:lnTo>
                        <a:pt x="804" y="70"/>
                      </a:lnTo>
                      <a:lnTo>
                        <a:pt x="804" y="70"/>
                      </a:lnTo>
                      <a:lnTo>
                        <a:pt x="804" y="70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11" y="63"/>
                      </a:lnTo>
                      <a:lnTo>
                        <a:pt x="811" y="63"/>
                      </a:lnTo>
                      <a:lnTo>
                        <a:pt x="811" y="63"/>
                      </a:lnTo>
                      <a:lnTo>
                        <a:pt x="811" y="63"/>
                      </a:lnTo>
                      <a:lnTo>
                        <a:pt x="811" y="56"/>
                      </a:lnTo>
                      <a:lnTo>
                        <a:pt x="811" y="56"/>
                      </a:lnTo>
                      <a:lnTo>
                        <a:pt x="811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49"/>
                      </a:lnTo>
                      <a:lnTo>
                        <a:pt x="818" y="49"/>
                      </a:lnTo>
                      <a:lnTo>
                        <a:pt x="824" y="49"/>
                      </a:lnTo>
                      <a:lnTo>
                        <a:pt x="824" y="49"/>
                      </a:lnTo>
                      <a:lnTo>
                        <a:pt x="824" y="49"/>
                      </a:lnTo>
                      <a:lnTo>
                        <a:pt x="824" y="42"/>
                      </a:lnTo>
                      <a:lnTo>
                        <a:pt x="824" y="42"/>
                      </a:lnTo>
                      <a:lnTo>
                        <a:pt x="824" y="42"/>
                      </a:lnTo>
                      <a:lnTo>
                        <a:pt x="824" y="42"/>
                      </a:lnTo>
                      <a:lnTo>
                        <a:pt x="824" y="42"/>
                      </a:lnTo>
                      <a:lnTo>
                        <a:pt x="818" y="42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1"/>
                      </a:lnTo>
                      <a:lnTo>
                        <a:pt x="824" y="21"/>
                      </a:lnTo>
                      <a:lnTo>
                        <a:pt x="824" y="21"/>
                      </a:lnTo>
                      <a:lnTo>
                        <a:pt x="824" y="21"/>
                      </a:lnTo>
                      <a:lnTo>
                        <a:pt x="824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8" y="21"/>
                      </a:lnTo>
                      <a:lnTo>
                        <a:pt x="838" y="21"/>
                      </a:lnTo>
                      <a:lnTo>
                        <a:pt x="838" y="21"/>
                      </a:lnTo>
                      <a:lnTo>
                        <a:pt x="838" y="21"/>
                      </a:lnTo>
                      <a:lnTo>
                        <a:pt x="838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52" y="21"/>
                      </a:lnTo>
                      <a:lnTo>
                        <a:pt x="852" y="21"/>
                      </a:lnTo>
                      <a:lnTo>
                        <a:pt x="852" y="21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7"/>
                      </a:lnTo>
                      <a:lnTo>
                        <a:pt x="859" y="7"/>
                      </a:lnTo>
                      <a:lnTo>
                        <a:pt x="859" y="7"/>
                      </a:lnTo>
                      <a:lnTo>
                        <a:pt x="866" y="7"/>
                      </a:lnTo>
                      <a:lnTo>
                        <a:pt x="866" y="7"/>
                      </a:lnTo>
                      <a:lnTo>
                        <a:pt x="866" y="7"/>
                      </a:lnTo>
                      <a:lnTo>
                        <a:pt x="866" y="7"/>
                      </a:lnTo>
                      <a:lnTo>
                        <a:pt x="866" y="7"/>
                      </a:lnTo>
                      <a:lnTo>
                        <a:pt x="872" y="7"/>
                      </a:lnTo>
                      <a:lnTo>
                        <a:pt x="872" y="7"/>
                      </a:lnTo>
                      <a:lnTo>
                        <a:pt x="872" y="7"/>
                      </a:lnTo>
                      <a:lnTo>
                        <a:pt x="872" y="7"/>
                      </a:lnTo>
                      <a:lnTo>
                        <a:pt x="872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0"/>
                      </a:lnTo>
                      <a:lnTo>
                        <a:pt x="879" y="0"/>
                      </a:lnTo>
                      <a:lnTo>
                        <a:pt x="879" y="0"/>
                      </a:lnTo>
                      <a:lnTo>
                        <a:pt x="879" y="0"/>
                      </a:lnTo>
                      <a:lnTo>
                        <a:pt x="886" y="7"/>
                      </a:lnTo>
                      <a:lnTo>
                        <a:pt x="886" y="7"/>
                      </a:lnTo>
                      <a:lnTo>
                        <a:pt x="893" y="7"/>
                      </a:lnTo>
                      <a:lnTo>
                        <a:pt x="893" y="7"/>
                      </a:lnTo>
                      <a:lnTo>
                        <a:pt x="900" y="7"/>
                      </a:lnTo>
                      <a:lnTo>
                        <a:pt x="900" y="7"/>
                      </a:lnTo>
                      <a:lnTo>
                        <a:pt x="900" y="7"/>
                      </a:lnTo>
                      <a:lnTo>
                        <a:pt x="900" y="7"/>
                      </a:lnTo>
                      <a:lnTo>
                        <a:pt x="900" y="7"/>
                      </a:lnTo>
                      <a:lnTo>
                        <a:pt x="900" y="14"/>
                      </a:lnTo>
                      <a:lnTo>
                        <a:pt x="900" y="14"/>
                      </a:lnTo>
                      <a:lnTo>
                        <a:pt x="907" y="14"/>
                      </a:lnTo>
                      <a:lnTo>
                        <a:pt x="907" y="14"/>
                      </a:lnTo>
                      <a:lnTo>
                        <a:pt x="914" y="21"/>
                      </a:lnTo>
                      <a:lnTo>
                        <a:pt x="914" y="14"/>
                      </a:lnTo>
                      <a:lnTo>
                        <a:pt x="921" y="14"/>
                      </a:lnTo>
                      <a:lnTo>
                        <a:pt x="921" y="14"/>
                      </a:lnTo>
                      <a:lnTo>
                        <a:pt x="927" y="14"/>
                      </a:lnTo>
                      <a:lnTo>
                        <a:pt x="927" y="21"/>
                      </a:lnTo>
                      <a:lnTo>
                        <a:pt x="927" y="21"/>
                      </a:lnTo>
                      <a:lnTo>
                        <a:pt x="934" y="21"/>
                      </a:lnTo>
                      <a:lnTo>
                        <a:pt x="934" y="21"/>
                      </a:lnTo>
                      <a:lnTo>
                        <a:pt x="941" y="21"/>
                      </a:lnTo>
                      <a:lnTo>
                        <a:pt x="941" y="28"/>
                      </a:lnTo>
                      <a:lnTo>
                        <a:pt x="941" y="28"/>
                      </a:lnTo>
                      <a:lnTo>
                        <a:pt x="934" y="35"/>
                      </a:lnTo>
                      <a:lnTo>
                        <a:pt x="934" y="42"/>
                      </a:lnTo>
                      <a:lnTo>
                        <a:pt x="934" y="42"/>
                      </a:lnTo>
                      <a:lnTo>
                        <a:pt x="934" y="42"/>
                      </a:lnTo>
                      <a:lnTo>
                        <a:pt x="934" y="49"/>
                      </a:lnTo>
                      <a:lnTo>
                        <a:pt x="934" y="49"/>
                      </a:lnTo>
                      <a:lnTo>
                        <a:pt x="934" y="49"/>
                      </a:lnTo>
                      <a:lnTo>
                        <a:pt x="934" y="49"/>
                      </a:lnTo>
                      <a:lnTo>
                        <a:pt x="927" y="49"/>
                      </a:lnTo>
                      <a:lnTo>
                        <a:pt x="927" y="56"/>
                      </a:lnTo>
                      <a:lnTo>
                        <a:pt x="927" y="56"/>
                      </a:lnTo>
                      <a:lnTo>
                        <a:pt x="934" y="56"/>
                      </a:lnTo>
                      <a:lnTo>
                        <a:pt x="934" y="56"/>
                      </a:lnTo>
                      <a:lnTo>
                        <a:pt x="934" y="56"/>
                      </a:lnTo>
                      <a:lnTo>
                        <a:pt x="934" y="56"/>
                      </a:lnTo>
                      <a:lnTo>
                        <a:pt x="934" y="63"/>
                      </a:lnTo>
                      <a:lnTo>
                        <a:pt x="934" y="63"/>
                      </a:lnTo>
                      <a:lnTo>
                        <a:pt x="941" y="63"/>
                      </a:lnTo>
                      <a:lnTo>
                        <a:pt x="941" y="63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8" y="76"/>
                      </a:lnTo>
                      <a:lnTo>
                        <a:pt x="948" y="83"/>
                      </a:lnTo>
                      <a:lnTo>
                        <a:pt x="948" y="90"/>
                      </a:lnTo>
                      <a:lnTo>
                        <a:pt x="948" y="90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104"/>
                      </a:lnTo>
                      <a:lnTo>
                        <a:pt x="955" y="104"/>
                      </a:lnTo>
                      <a:lnTo>
                        <a:pt x="955" y="104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111"/>
                      </a:lnTo>
                      <a:lnTo>
                        <a:pt x="955" y="111"/>
                      </a:lnTo>
                      <a:lnTo>
                        <a:pt x="955" y="118"/>
                      </a:lnTo>
                      <a:lnTo>
                        <a:pt x="955" y="118"/>
                      </a:lnTo>
                      <a:lnTo>
                        <a:pt x="955" y="118"/>
                      </a:lnTo>
                      <a:lnTo>
                        <a:pt x="962" y="118"/>
                      </a:lnTo>
                      <a:lnTo>
                        <a:pt x="962" y="125"/>
                      </a:lnTo>
                      <a:lnTo>
                        <a:pt x="955" y="125"/>
                      </a:lnTo>
                      <a:lnTo>
                        <a:pt x="955" y="125"/>
                      </a:lnTo>
                      <a:lnTo>
                        <a:pt x="955" y="132"/>
                      </a:lnTo>
                      <a:lnTo>
                        <a:pt x="955" y="132"/>
                      </a:lnTo>
                      <a:lnTo>
                        <a:pt x="955" y="139"/>
                      </a:lnTo>
                      <a:lnTo>
                        <a:pt x="955" y="139"/>
                      </a:lnTo>
                      <a:lnTo>
                        <a:pt x="955" y="146"/>
                      </a:lnTo>
                      <a:lnTo>
                        <a:pt x="955" y="146"/>
                      </a:lnTo>
                      <a:lnTo>
                        <a:pt x="955" y="153"/>
                      </a:lnTo>
                      <a:lnTo>
                        <a:pt x="955" y="153"/>
                      </a:lnTo>
                      <a:lnTo>
                        <a:pt x="955" y="153"/>
                      </a:lnTo>
                      <a:lnTo>
                        <a:pt x="955" y="153"/>
                      </a:lnTo>
                      <a:lnTo>
                        <a:pt x="962" y="153"/>
                      </a:lnTo>
                      <a:lnTo>
                        <a:pt x="962" y="153"/>
                      </a:lnTo>
                      <a:lnTo>
                        <a:pt x="962" y="153"/>
                      </a:lnTo>
                      <a:lnTo>
                        <a:pt x="962" y="160"/>
                      </a:lnTo>
                      <a:lnTo>
                        <a:pt x="962" y="160"/>
                      </a:lnTo>
                      <a:lnTo>
                        <a:pt x="955" y="160"/>
                      </a:lnTo>
                      <a:lnTo>
                        <a:pt x="962" y="160"/>
                      </a:lnTo>
                      <a:lnTo>
                        <a:pt x="955" y="167"/>
                      </a:lnTo>
                      <a:lnTo>
                        <a:pt x="962" y="167"/>
                      </a:lnTo>
                      <a:lnTo>
                        <a:pt x="962" y="174"/>
                      </a:lnTo>
                      <a:lnTo>
                        <a:pt x="962" y="174"/>
                      </a:lnTo>
                      <a:lnTo>
                        <a:pt x="962" y="174"/>
                      </a:lnTo>
                      <a:lnTo>
                        <a:pt x="962" y="174"/>
                      </a:lnTo>
                      <a:lnTo>
                        <a:pt x="962" y="181"/>
                      </a:lnTo>
                      <a:lnTo>
                        <a:pt x="962" y="181"/>
                      </a:lnTo>
                      <a:lnTo>
                        <a:pt x="962" y="181"/>
                      </a:lnTo>
                      <a:lnTo>
                        <a:pt x="962" y="181"/>
                      </a:lnTo>
                      <a:lnTo>
                        <a:pt x="969" y="187"/>
                      </a:lnTo>
                      <a:lnTo>
                        <a:pt x="969" y="187"/>
                      </a:lnTo>
                      <a:lnTo>
                        <a:pt x="969" y="187"/>
                      </a:lnTo>
                      <a:lnTo>
                        <a:pt x="969" y="187"/>
                      </a:lnTo>
                      <a:lnTo>
                        <a:pt x="969" y="194"/>
                      </a:lnTo>
                      <a:lnTo>
                        <a:pt x="969" y="194"/>
                      </a:lnTo>
                      <a:lnTo>
                        <a:pt x="969" y="194"/>
                      </a:lnTo>
                      <a:lnTo>
                        <a:pt x="969" y="194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82" y="215"/>
                      </a:lnTo>
                      <a:lnTo>
                        <a:pt x="982" y="222"/>
                      </a:lnTo>
                      <a:lnTo>
                        <a:pt x="982" y="222"/>
                      </a:lnTo>
                      <a:lnTo>
                        <a:pt x="982" y="222"/>
                      </a:lnTo>
                      <a:lnTo>
                        <a:pt x="982" y="222"/>
                      </a:lnTo>
                      <a:lnTo>
                        <a:pt x="982" y="222"/>
                      </a:lnTo>
                      <a:lnTo>
                        <a:pt x="975" y="222"/>
                      </a:lnTo>
                      <a:lnTo>
                        <a:pt x="975" y="222"/>
                      </a:lnTo>
                      <a:lnTo>
                        <a:pt x="975" y="222"/>
                      </a:lnTo>
                      <a:lnTo>
                        <a:pt x="975" y="222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69" y="229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75" y="243"/>
                      </a:lnTo>
                      <a:lnTo>
                        <a:pt x="975" y="243"/>
                      </a:lnTo>
                      <a:lnTo>
                        <a:pt x="969" y="243"/>
                      </a:lnTo>
                      <a:lnTo>
                        <a:pt x="975" y="243"/>
                      </a:lnTo>
                      <a:lnTo>
                        <a:pt x="975" y="243"/>
                      </a:lnTo>
                      <a:lnTo>
                        <a:pt x="975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50"/>
                      </a:lnTo>
                      <a:lnTo>
                        <a:pt x="969" y="250"/>
                      </a:lnTo>
                      <a:lnTo>
                        <a:pt x="969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55" y="250"/>
                      </a:lnTo>
                      <a:lnTo>
                        <a:pt x="955" y="243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7"/>
                      </a:lnTo>
                      <a:lnTo>
                        <a:pt x="955" y="257"/>
                      </a:lnTo>
                      <a:lnTo>
                        <a:pt x="955" y="257"/>
                      </a:lnTo>
                      <a:lnTo>
                        <a:pt x="955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9" y="264"/>
                      </a:lnTo>
                      <a:lnTo>
                        <a:pt x="962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8"/>
                      </a:lnTo>
                      <a:lnTo>
                        <a:pt x="982" y="278"/>
                      </a:lnTo>
                      <a:lnTo>
                        <a:pt x="982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85"/>
                      </a:lnTo>
                      <a:lnTo>
                        <a:pt x="989" y="285"/>
                      </a:lnTo>
                      <a:lnTo>
                        <a:pt x="989" y="285"/>
                      </a:lnTo>
                      <a:lnTo>
                        <a:pt x="996" y="285"/>
                      </a:lnTo>
                      <a:lnTo>
                        <a:pt x="996" y="285"/>
                      </a:lnTo>
                      <a:lnTo>
                        <a:pt x="996" y="285"/>
                      </a:lnTo>
                      <a:lnTo>
                        <a:pt x="996" y="292"/>
                      </a:lnTo>
                      <a:lnTo>
                        <a:pt x="996" y="292"/>
                      </a:lnTo>
                      <a:lnTo>
                        <a:pt x="1003" y="292"/>
                      </a:lnTo>
                      <a:lnTo>
                        <a:pt x="1003" y="298"/>
                      </a:lnTo>
                      <a:lnTo>
                        <a:pt x="1003" y="298"/>
                      </a:lnTo>
                      <a:lnTo>
                        <a:pt x="1003" y="298"/>
                      </a:lnTo>
                      <a:lnTo>
                        <a:pt x="1003" y="305"/>
                      </a:lnTo>
                      <a:lnTo>
                        <a:pt x="1003" y="305"/>
                      </a:lnTo>
                      <a:lnTo>
                        <a:pt x="1003" y="305"/>
                      </a:lnTo>
                      <a:lnTo>
                        <a:pt x="1010" y="305"/>
                      </a:lnTo>
                      <a:lnTo>
                        <a:pt x="1010" y="305"/>
                      </a:lnTo>
                      <a:lnTo>
                        <a:pt x="1010" y="305"/>
                      </a:lnTo>
                      <a:lnTo>
                        <a:pt x="1010" y="305"/>
                      </a:lnTo>
                      <a:lnTo>
                        <a:pt x="1017" y="305"/>
                      </a:lnTo>
                      <a:lnTo>
                        <a:pt x="1017" y="305"/>
                      </a:lnTo>
                      <a:lnTo>
                        <a:pt x="1017" y="305"/>
                      </a:lnTo>
                      <a:lnTo>
                        <a:pt x="1017" y="305"/>
                      </a:lnTo>
                      <a:lnTo>
                        <a:pt x="1023" y="305"/>
                      </a:lnTo>
                      <a:lnTo>
                        <a:pt x="1023" y="312"/>
                      </a:lnTo>
                      <a:lnTo>
                        <a:pt x="1030" y="312"/>
                      </a:lnTo>
                      <a:lnTo>
                        <a:pt x="1030" y="312"/>
                      </a:lnTo>
                      <a:lnTo>
                        <a:pt x="1030" y="312"/>
                      </a:lnTo>
                      <a:lnTo>
                        <a:pt x="1037" y="312"/>
                      </a:lnTo>
                      <a:lnTo>
                        <a:pt x="1037" y="319"/>
                      </a:lnTo>
                      <a:lnTo>
                        <a:pt x="1037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37" y="312"/>
                      </a:lnTo>
                      <a:lnTo>
                        <a:pt x="1037" y="312"/>
                      </a:lnTo>
                      <a:lnTo>
                        <a:pt x="1037" y="312"/>
                      </a:lnTo>
                      <a:lnTo>
                        <a:pt x="1037" y="312"/>
                      </a:lnTo>
                      <a:lnTo>
                        <a:pt x="1037" y="312"/>
                      </a:lnTo>
                      <a:lnTo>
                        <a:pt x="1030" y="312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298"/>
                      </a:lnTo>
                      <a:lnTo>
                        <a:pt x="1030" y="298"/>
                      </a:lnTo>
                      <a:lnTo>
                        <a:pt x="1030" y="298"/>
                      </a:lnTo>
                      <a:lnTo>
                        <a:pt x="1030" y="298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7" y="285"/>
                      </a:lnTo>
                      <a:lnTo>
                        <a:pt x="1030" y="278"/>
                      </a:lnTo>
                      <a:lnTo>
                        <a:pt x="1030" y="278"/>
                      </a:lnTo>
                      <a:lnTo>
                        <a:pt x="1037" y="278"/>
                      </a:lnTo>
                      <a:lnTo>
                        <a:pt x="1037" y="278"/>
                      </a:lnTo>
                      <a:lnTo>
                        <a:pt x="1037" y="278"/>
                      </a:lnTo>
                      <a:lnTo>
                        <a:pt x="1037" y="278"/>
                      </a:lnTo>
                      <a:lnTo>
                        <a:pt x="1037" y="271"/>
                      </a:lnTo>
                      <a:lnTo>
                        <a:pt x="1037" y="271"/>
                      </a:lnTo>
                      <a:lnTo>
                        <a:pt x="1030" y="271"/>
                      </a:lnTo>
                      <a:lnTo>
                        <a:pt x="1030" y="271"/>
                      </a:lnTo>
                      <a:lnTo>
                        <a:pt x="1030" y="271"/>
                      </a:lnTo>
                      <a:lnTo>
                        <a:pt x="1030" y="271"/>
                      </a:lnTo>
                      <a:lnTo>
                        <a:pt x="1030" y="264"/>
                      </a:lnTo>
                      <a:lnTo>
                        <a:pt x="1030" y="264"/>
                      </a:lnTo>
                      <a:lnTo>
                        <a:pt x="1037" y="264"/>
                      </a:lnTo>
                      <a:lnTo>
                        <a:pt x="1037" y="264"/>
                      </a:lnTo>
                      <a:lnTo>
                        <a:pt x="1037" y="257"/>
                      </a:lnTo>
                      <a:lnTo>
                        <a:pt x="1037" y="257"/>
                      </a:lnTo>
                      <a:lnTo>
                        <a:pt x="1037" y="257"/>
                      </a:lnTo>
                      <a:lnTo>
                        <a:pt x="1037" y="257"/>
                      </a:lnTo>
                      <a:lnTo>
                        <a:pt x="1037" y="250"/>
                      </a:lnTo>
                      <a:lnTo>
                        <a:pt x="1037" y="250"/>
                      </a:lnTo>
                      <a:lnTo>
                        <a:pt x="1044" y="250"/>
                      </a:lnTo>
                      <a:lnTo>
                        <a:pt x="1044" y="250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51" y="243"/>
                      </a:lnTo>
                      <a:lnTo>
                        <a:pt x="1051" y="243"/>
                      </a:lnTo>
                      <a:lnTo>
                        <a:pt x="1051" y="243"/>
                      </a:lnTo>
                      <a:lnTo>
                        <a:pt x="1051" y="236"/>
                      </a:lnTo>
                      <a:lnTo>
                        <a:pt x="1051" y="243"/>
                      </a:lnTo>
                      <a:lnTo>
                        <a:pt x="1058" y="236"/>
                      </a:lnTo>
                      <a:lnTo>
                        <a:pt x="1058" y="236"/>
                      </a:lnTo>
                      <a:lnTo>
                        <a:pt x="1058" y="236"/>
                      </a:lnTo>
                      <a:lnTo>
                        <a:pt x="1065" y="236"/>
                      </a:lnTo>
                      <a:lnTo>
                        <a:pt x="1065" y="236"/>
                      </a:lnTo>
                      <a:lnTo>
                        <a:pt x="1065" y="236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72" y="229"/>
                      </a:lnTo>
                      <a:lnTo>
                        <a:pt x="1072" y="229"/>
                      </a:lnTo>
                      <a:lnTo>
                        <a:pt x="1072" y="229"/>
                      </a:lnTo>
                      <a:lnTo>
                        <a:pt x="1072" y="229"/>
                      </a:lnTo>
                      <a:lnTo>
                        <a:pt x="1072" y="229"/>
                      </a:lnTo>
                      <a:lnTo>
                        <a:pt x="1078" y="229"/>
                      </a:lnTo>
                      <a:lnTo>
                        <a:pt x="1078" y="236"/>
                      </a:lnTo>
                      <a:lnTo>
                        <a:pt x="1078" y="236"/>
                      </a:lnTo>
                      <a:lnTo>
                        <a:pt x="1078" y="236"/>
                      </a:lnTo>
                      <a:lnTo>
                        <a:pt x="1078" y="236"/>
                      </a:lnTo>
                      <a:lnTo>
                        <a:pt x="1078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92" y="236"/>
                      </a:lnTo>
                      <a:lnTo>
                        <a:pt x="1085" y="236"/>
                      </a:lnTo>
                      <a:lnTo>
                        <a:pt x="1085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64"/>
                      </a:lnTo>
                      <a:lnTo>
                        <a:pt x="1106" y="264"/>
                      </a:lnTo>
                      <a:lnTo>
                        <a:pt x="1106" y="264"/>
                      </a:lnTo>
                      <a:lnTo>
                        <a:pt x="1106" y="264"/>
                      </a:lnTo>
                      <a:lnTo>
                        <a:pt x="1106" y="264"/>
                      </a:lnTo>
                      <a:lnTo>
                        <a:pt x="1106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20" y="257"/>
                      </a:lnTo>
                      <a:lnTo>
                        <a:pt x="1120" y="264"/>
                      </a:lnTo>
                      <a:lnTo>
                        <a:pt x="1120" y="264"/>
                      </a:lnTo>
                      <a:lnTo>
                        <a:pt x="1120" y="264"/>
                      </a:lnTo>
                      <a:lnTo>
                        <a:pt x="1120" y="264"/>
                      </a:lnTo>
                      <a:lnTo>
                        <a:pt x="1120" y="257"/>
                      </a:lnTo>
                      <a:lnTo>
                        <a:pt x="1120" y="257"/>
                      </a:lnTo>
                      <a:lnTo>
                        <a:pt x="1120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33" y="257"/>
                      </a:lnTo>
                      <a:lnTo>
                        <a:pt x="1133" y="250"/>
                      </a:lnTo>
                      <a:lnTo>
                        <a:pt x="1133" y="250"/>
                      </a:lnTo>
                      <a:lnTo>
                        <a:pt x="1133" y="250"/>
                      </a:lnTo>
                      <a:lnTo>
                        <a:pt x="1133" y="250"/>
                      </a:lnTo>
                      <a:lnTo>
                        <a:pt x="1140" y="250"/>
                      </a:lnTo>
                      <a:lnTo>
                        <a:pt x="1140" y="250"/>
                      </a:lnTo>
                      <a:lnTo>
                        <a:pt x="1140" y="250"/>
                      </a:lnTo>
                      <a:lnTo>
                        <a:pt x="1140" y="250"/>
                      </a:lnTo>
                      <a:lnTo>
                        <a:pt x="1140" y="250"/>
                      </a:lnTo>
                      <a:lnTo>
                        <a:pt x="1140" y="243"/>
                      </a:lnTo>
                      <a:lnTo>
                        <a:pt x="1140" y="243"/>
                      </a:lnTo>
                      <a:lnTo>
                        <a:pt x="1140" y="243"/>
                      </a:lnTo>
                      <a:lnTo>
                        <a:pt x="1140" y="243"/>
                      </a:lnTo>
                      <a:lnTo>
                        <a:pt x="1140" y="243"/>
                      </a:lnTo>
                      <a:lnTo>
                        <a:pt x="1133" y="243"/>
                      </a:lnTo>
                      <a:lnTo>
                        <a:pt x="1133" y="243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29"/>
                      </a:lnTo>
                      <a:lnTo>
                        <a:pt x="1133" y="229"/>
                      </a:lnTo>
                      <a:lnTo>
                        <a:pt x="1133" y="229"/>
                      </a:lnTo>
                      <a:lnTo>
                        <a:pt x="1133" y="229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33" y="222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40" y="215"/>
                      </a:lnTo>
                      <a:lnTo>
                        <a:pt x="1140" y="215"/>
                      </a:lnTo>
                      <a:lnTo>
                        <a:pt x="1140" y="215"/>
                      </a:lnTo>
                      <a:lnTo>
                        <a:pt x="1140" y="215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194"/>
                      </a:lnTo>
                      <a:lnTo>
                        <a:pt x="1147" y="194"/>
                      </a:lnTo>
                      <a:lnTo>
                        <a:pt x="1147" y="194"/>
                      </a:lnTo>
                      <a:lnTo>
                        <a:pt x="1147" y="187"/>
                      </a:lnTo>
                      <a:lnTo>
                        <a:pt x="1154" y="187"/>
                      </a:lnTo>
                      <a:lnTo>
                        <a:pt x="1147" y="187"/>
                      </a:lnTo>
                      <a:lnTo>
                        <a:pt x="1154" y="187"/>
                      </a:lnTo>
                      <a:lnTo>
                        <a:pt x="1154" y="187"/>
                      </a:lnTo>
                      <a:lnTo>
                        <a:pt x="1154" y="187"/>
                      </a:lnTo>
                      <a:lnTo>
                        <a:pt x="1154" y="187"/>
                      </a:lnTo>
                      <a:lnTo>
                        <a:pt x="1154" y="187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74"/>
                      </a:lnTo>
                      <a:lnTo>
                        <a:pt x="1161" y="174"/>
                      </a:lnTo>
                      <a:lnTo>
                        <a:pt x="1161" y="174"/>
                      </a:lnTo>
                      <a:lnTo>
                        <a:pt x="1161" y="174"/>
                      </a:lnTo>
                      <a:lnTo>
                        <a:pt x="1161" y="167"/>
                      </a:lnTo>
                      <a:lnTo>
                        <a:pt x="1161" y="167"/>
                      </a:lnTo>
                      <a:lnTo>
                        <a:pt x="1216" y="167"/>
                      </a:lnTo>
                      <a:lnTo>
                        <a:pt x="1236" y="167"/>
                      </a:lnTo>
                      <a:lnTo>
                        <a:pt x="1257" y="167"/>
                      </a:lnTo>
                      <a:lnTo>
                        <a:pt x="1257" y="187"/>
                      </a:lnTo>
                      <a:lnTo>
                        <a:pt x="1264" y="194"/>
                      </a:lnTo>
                      <a:lnTo>
                        <a:pt x="1264" y="194"/>
                      </a:lnTo>
                      <a:lnTo>
                        <a:pt x="1264" y="194"/>
                      </a:lnTo>
                      <a:lnTo>
                        <a:pt x="1264" y="194"/>
                      </a:lnTo>
                      <a:lnTo>
                        <a:pt x="1264" y="194"/>
                      </a:lnTo>
                      <a:lnTo>
                        <a:pt x="1264" y="201"/>
                      </a:lnTo>
                      <a:lnTo>
                        <a:pt x="1264" y="201"/>
                      </a:lnTo>
                      <a:lnTo>
                        <a:pt x="1264" y="201"/>
                      </a:lnTo>
                      <a:lnTo>
                        <a:pt x="1264" y="208"/>
                      </a:lnTo>
                      <a:lnTo>
                        <a:pt x="1264" y="208"/>
                      </a:lnTo>
                      <a:lnTo>
                        <a:pt x="1264" y="208"/>
                      </a:lnTo>
                      <a:lnTo>
                        <a:pt x="1264" y="208"/>
                      </a:lnTo>
                      <a:lnTo>
                        <a:pt x="1264" y="215"/>
                      </a:lnTo>
                      <a:lnTo>
                        <a:pt x="1264" y="215"/>
                      </a:lnTo>
                      <a:lnTo>
                        <a:pt x="1264" y="215"/>
                      </a:lnTo>
                      <a:lnTo>
                        <a:pt x="1264" y="222"/>
                      </a:lnTo>
                      <a:lnTo>
                        <a:pt x="1264" y="222"/>
                      </a:lnTo>
                      <a:lnTo>
                        <a:pt x="1264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9"/>
                      </a:lnTo>
                      <a:lnTo>
                        <a:pt x="1271" y="229"/>
                      </a:lnTo>
                      <a:lnTo>
                        <a:pt x="1278" y="229"/>
                      </a:lnTo>
                      <a:lnTo>
                        <a:pt x="1278" y="236"/>
                      </a:lnTo>
                      <a:lnTo>
                        <a:pt x="1278" y="236"/>
                      </a:lnTo>
                      <a:lnTo>
                        <a:pt x="1278" y="236"/>
                      </a:lnTo>
                      <a:lnTo>
                        <a:pt x="1278" y="236"/>
                      </a:lnTo>
                      <a:lnTo>
                        <a:pt x="1271" y="236"/>
                      </a:lnTo>
                      <a:lnTo>
                        <a:pt x="1271" y="236"/>
                      </a:lnTo>
                      <a:lnTo>
                        <a:pt x="1271" y="243"/>
                      </a:lnTo>
                      <a:lnTo>
                        <a:pt x="1271" y="243"/>
                      </a:lnTo>
                      <a:lnTo>
                        <a:pt x="1271" y="243"/>
                      </a:lnTo>
                      <a:lnTo>
                        <a:pt x="1278" y="243"/>
                      </a:lnTo>
                      <a:lnTo>
                        <a:pt x="1278" y="243"/>
                      </a:lnTo>
                      <a:lnTo>
                        <a:pt x="1278" y="243"/>
                      </a:lnTo>
                      <a:lnTo>
                        <a:pt x="1278" y="243"/>
                      </a:lnTo>
                      <a:lnTo>
                        <a:pt x="1278" y="250"/>
                      </a:lnTo>
                      <a:lnTo>
                        <a:pt x="1278" y="250"/>
                      </a:lnTo>
                      <a:lnTo>
                        <a:pt x="1278" y="250"/>
                      </a:lnTo>
                      <a:lnTo>
                        <a:pt x="1278" y="250"/>
                      </a:lnTo>
                      <a:lnTo>
                        <a:pt x="1284" y="250"/>
                      </a:lnTo>
                      <a:lnTo>
                        <a:pt x="1284" y="250"/>
                      </a:lnTo>
                      <a:lnTo>
                        <a:pt x="1284" y="257"/>
                      </a:lnTo>
                      <a:lnTo>
                        <a:pt x="1284" y="257"/>
                      </a:lnTo>
                      <a:lnTo>
                        <a:pt x="1284" y="257"/>
                      </a:lnTo>
                      <a:lnTo>
                        <a:pt x="1284" y="257"/>
                      </a:lnTo>
                      <a:lnTo>
                        <a:pt x="1284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8"/>
                      </a:lnTo>
                      <a:lnTo>
                        <a:pt x="1298" y="278"/>
                      </a:lnTo>
                      <a:lnTo>
                        <a:pt x="1298" y="278"/>
                      </a:lnTo>
                      <a:lnTo>
                        <a:pt x="1298" y="278"/>
                      </a:lnTo>
                      <a:lnTo>
                        <a:pt x="1305" y="278"/>
                      </a:lnTo>
                      <a:lnTo>
                        <a:pt x="1305" y="278"/>
                      </a:lnTo>
                      <a:lnTo>
                        <a:pt x="1305" y="278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12" y="285"/>
                      </a:lnTo>
                      <a:lnTo>
                        <a:pt x="1312" y="285"/>
                      </a:lnTo>
                      <a:lnTo>
                        <a:pt x="1312" y="285"/>
                      </a:lnTo>
                      <a:lnTo>
                        <a:pt x="1312" y="285"/>
                      </a:lnTo>
                      <a:lnTo>
                        <a:pt x="1319" y="285"/>
                      </a:lnTo>
                      <a:lnTo>
                        <a:pt x="1319" y="292"/>
                      </a:lnTo>
                      <a:lnTo>
                        <a:pt x="1319" y="292"/>
                      </a:lnTo>
                      <a:lnTo>
                        <a:pt x="1319" y="292"/>
                      </a:lnTo>
                      <a:lnTo>
                        <a:pt x="1319" y="292"/>
                      </a:lnTo>
                      <a:lnTo>
                        <a:pt x="1326" y="292"/>
                      </a:lnTo>
                      <a:lnTo>
                        <a:pt x="1326" y="292"/>
                      </a:lnTo>
                      <a:lnTo>
                        <a:pt x="1326" y="285"/>
                      </a:lnTo>
                      <a:lnTo>
                        <a:pt x="1326" y="285"/>
                      </a:lnTo>
                      <a:lnTo>
                        <a:pt x="1326" y="285"/>
                      </a:lnTo>
                      <a:lnTo>
                        <a:pt x="1326" y="285"/>
                      </a:lnTo>
                      <a:lnTo>
                        <a:pt x="1326" y="285"/>
                      </a:lnTo>
                      <a:lnTo>
                        <a:pt x="1332" y="285"/>
                      </a:lnTo>
                      <a:lnTo>
                        <a:pt x="1332" y="285"/>
                      </a:lnTo>
                      <a:lnTo>
                        <a:pt x="1332" y="285"/>
                      </a:lnTo>
                      <a:lnTo>
                        <a:pt x="1332" y="285"/>
                      </a:lnTo>
                      <a:lnTo>
                        <a:pt x="1332" y="285"/>
                      </a:lnTo>
                      <a:lnTo>
                        <a:pt x="1339" y="285"/>
                      </a:lnTo>
                      <a:lnTo>
                        <a:pt x="1339" y="285"/>
                      </a:lnTo>
                      <a:lnTo>
                        <a:pt x="1339" y="292"/>
                      </a:lnTo>
                      <a:lnTo>
                        <a:pt x="1339" y="292"/>
                      </a:lnTo>
                      <a:lnTo>
                        <a:pt x="1339" y="292"/>
                      </a:lnTo>
                      <a:lnTo>
                        <a:pt x="1339" y="292"/>
                      </a:lnTo>
                      <a:lnTo>
                        <a:pt x="1339" y="298"/>
                      </a:lnTo>
                      <a:lnTo>
                        <a:pt x="1339" y="298"/>
                      </a:lnTo>
                      <a:lnTo>
                        <a:pt x="1332" y="298"/>
                      </a:lnTo>
                      <a:lnTo>
                        <a:pt x="1332" y="298"/>
                      </a:lnTo>
                      <a:lnTo>
                        <a:pt x="1332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12"/>
                      </a:lnTo>
                      <a:lnTo>
                        <a:pt x="1339" y="312"/>
                      </a:lnTo>
                      <a:lnTo>
                        <a:pt x="1346" y="312"/>
                      </a:lnTo>
                      <a:lnTo>
                        <a:pt x="1346" y="312"/>
                      </a:lnTo>
                      <a:lnTo>
                        <a:pt x="1346" y="312"/>
                      </a:lnTo>
                      <a:lnTo>
                        <a:pt x="1346" y="312"/>
                      </a:lnTo>
                      <a:lnTo>
                        <a:pt x="1346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9"/>
                      </a:lnTo>
                      <a:lnTo>
                        <a:pt x="1353" y="319"/>
                      </a:lnTo>
                      <a:lnTo>
                        <a:pt x="1353" y="312"/>
                      </a:lnTo>
                      <a:lnTo>
                        <a:pt x="1360" y="312"/>
                      </a:lnTo>
                      <a:lnTo>
                        <a:pt x="1360" y="319"/>
                      </a:lnTo>
                      <a:lnTo>
                        <a:pt x="1360" y="312"/>
                      </a:lnTo>
                      <a:lnTo>
                        <a:pt x="1360" y="319"/>
                      </a:lnTo>
                      <a:lnTo>
                        <a:pt x="1360" y="319"/>
                      </a:lnTo>
                      <a:lnTo>
                        <a:pt x="1360" y="319"/>
                      </a:lnTo>
                      <a:lnTo>
                        <a:pt x="1360" y="319"/>
                      </a:lnTo>
                      <a:lnTo>
                        <a:pt x="1360" y="319"/>
                      </a:lnTo>
                      <a:lnTo>
                        <a:pt x="1360" y="326"/>
                      </a:lnTo>
                      <a:lnTo>
                        <a:pt x="1367" y="319"/>
                      </a:lnTo>
                      <a:lnTo>
                        <a:pt x="1367" y="326"/>
                      </a:lnTo>
                      <a:lnTo>
                        <a:pt x="1367" y="319"/>
                      </a:lnTo>
                      <a:lnTo>
                        <a:pt x="1367" y="319"/>
                      </a:lnTo>
                      <a:lnTo>
                        <a:pt x="1367" y="319"/>
                      </a:lnTo>
                      <a:lnTo>
                        <a:pt x="1367" y="326"/>
                      </a:lnTo>
                      <a:lnTo>
                        <a:pt x="1367" y="326"/>
                      </a:lnTo>
                      <a:lnTo>
                        <a:pt x="1367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81" y="326"/>
                      </a:lnTo>
                      <a:lnTo>
                        <a:pt x="1381" y="326"/>
                      </a:lnTo>
                      <a:lnTo>
                        <a:pt x="1381" y="326"/>
                      </a:lnTo>
                      <a:lnTo>
                        <a:pt x="1381" y="333"/>
                      </a:lnTo>
                      <a:lnTo>
                        <a:pt x="1381" y="326"/>
                      </a:lnTo>
                      <a:lnTo>
                        <a:pt x="1381" y="333"/>
                      </a:lnTo>
                      <a:lnTo>
                        <a:pt x="1381" y="333"/>
                      </a:lnTo>
                      <a:lnTo>
                        <a:pt x="1381" y="333"/>
                      </a:lnTo>
                      <a:lnTo>
                        <a:pt x="1387" y="326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94" y="333"/>
                      </a:lnTo>
                      <a:lnTo>
                        <a:pt x="1394" y="333"/>
                      </a:lnTo>
                      <a:lnTo>
                        <a:pt x="1394" y="333"/>
                      </a:lnTo>
                      <a:lnTo>
                        <a:pt x="1394" y="333"/>
                      </a:lnTo>
                      <a:lnTo>
                        <a:pt x="1394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8" y="333"/>
                      </a:lnTo>
                      <a:lnTo>
                        <a:pt x="1408" y="333"/>
                      </a:lnTo>
                      <a:lnTo>
                        <a:pt x="1408" y="333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7"/>
                      </a:lnTo>
                      <a:lnTo>
                        <a:pt x="1415" y="347"/>
                      </a:lnTo>
                      <a:lnTo>
                        <a:pt x="1415" y="347"/>
                      </a:lnTo>
                      <a:lnTo>
                        <a:pt x="1415" y="347"/>
                      </a:lnTo>
                      <a:lnTo>
                        <a:pt x="1415" y="347"/>
                      </a:lnTo>
                      <a:lnTo>
                        <a:pt x="1422" y="347"/>
                      </a:lnTo>
                      <a:lnTo>
                        <a:pt x="1422" y="354"/>
                      </a:lnTo>
                      <a:lnTo>
                        <a:pt x="1422" y="354"/>
                      </a:lnTo>
                      <a:lnTo>
                        <a:pt x="1422" y="354"/>
                      </a:lnTo>
                      <a:lnTo>
                        <a:pt x="1422" y="354"/>
                      </a:lnTo>
                      <a:lnTo>
                        <a:pt x="1429" y="354"/>
                      </a:lnTo>
                      <a:lnTo>
                        <a:pt x="1429" y="354"/>
                      </a:lnTo>
                      <a:lnTo>
                        <a:pt x="1429" y="354"/>
                      </a:lnTo>
                      <a:lnTo>
                        <a:pt x="1429" y="361"/>
                      </a:lnTo>
                      <a:lnTo>
                        <a:pt x="1435" y="361"/>
                      </a:lnTo>
                      <a:lnTo>
                        <a:pt x="1435" y="361"/>
                      </a:lnTo>
                      <a:lnTo>
                        <a:pt x="1435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8"/>
                      </a:lnTo>
                      <a:lnTo>
                        <a:pt x="1442" y="368"/>
                      </a:lnTo>
                      <a:lnTo>
                        <a:pt x="1442" y="368"/>
                      </a:lnTo>
                      <a:lnTo>
                        <a:pt x="1442" y="375"/>
                      </a:lnTo>
                      <a:lnTo>
                        <a:pt x="1442" y="375"/>
                      </a:lnTo>
                      <a:lnTo>
                        <a:pt x="1442" y="375"/>
                      </a:lnTo>
                      <a:lnTo>
                        <a:pt x="1442" y="375"/>
                      </a:lnTo>
                      <a:lnTo>
                        <a:pt x="1442" y="375"/>
                      </a:lnTo>
                      <a:lnTo>
                        <a:pt x="1449" y="375"/>
                      </a:lnTo>
                      <a:lnTo>
                        <a:pt x="1449" y="375"/>
                      </a:lnTo>
                      <a:lnTo>
                        <a:pt x="1449" y="375"/>
                      </a:lnTo>
                      <a:lnTo>
                        <a:pt x="1449" y="375"/>
                      </a:lnTo>
                      <a:lnTo>
                        <a:pt x="1449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68"/>
                      </a:lnTo>
                      <a:lnTo>
                        <a:pt x="1463" y="368"/>
                      </a:lnTo>
                      <a:lnTo>
                        <a:pt x="1463" y="368"/>
                      </a:lnTo>
                      <a:lnTo>
                        <a:pt x="1463" y="375"/>
                      </a:lnTo>
                      <a:lnTo>
                        <a:pt x="1463" y="368"/>
                      </a:lnTo>
                      <a:lnTo>
                        <a:pt x="1463" y="368"/>
                      </a:lnTo>
                      <a:lnTo>
                        <a:pt x="1470" y="368"/>
                      </a:lnTo>
                      <a:lnTo>
                        <a:pt x="1470" y="375"/>
                      </a:lnTo>
                      <a:lnTo>
                        <a:pt x="1470" y="375"/>
                      </a:lnTo>
                      <a:lnTo>
                        <a:pt x="1470" y="368"/>
                      </a:lnTo>
                      <a:lnTo>
                        <a:pt x="1470" y="368"/>
                      </a:lnTo>
                      <a:lnTo>
                        <a:pt x="1470" y="368"/>
                      </a:lnTo>
                      <a:lnTo>
                        <a:pt x="1477" y="368"/>
                      </a:lnTo>
                      <a:lnTo>
                        <a:pt x="1477" y="368"/>
                      </a:lnTo>
                      <a:lnTo>
                        <a:pt x="1477" y="368"/>
                      </a:lnTo>
                      <a:lnTo>
                        <a:pt x="1477" y="368"/>
                      </a:lnTo>
                      <a:lnTo>
                        <a:pt x="1477" y="368"/>
                      </a:lnTo>
                      <a:lnTo>
                        <a:pt x="1483" y="368"/>
                      </a:lnTo>
                      <a:lnTo>
                        <a:pt x="1483" y="368"/>
                      </a:lnTo>
                      <a:lnTo>
                        <a:pt x="1483" y="361"/>
                      </a:lnTo>
                      <a:lnTo>
                        <a:pt x="1483" y="361"/>
                      </a:lnTo>
                      <a:lnTo>
                        <a:pt x="1490" y="361"/>
                      </a:lnTo>
                      <a:lnTo>
                        <a:pt x="1490" y="361"/>
                      </a:lnTo>
                      <a:lnTo>
                        <a:pt x="1490" y="361"/>
                      </a:lnTo>
                      <a:lnTo>
                        <a:pt x="1490" y="361"/>
                      </a:lnTo>
                      <a:lnTo>
                        <a:pt x="1497" y="361"/>
                      </a:lnTo>
                      <a:lnTo>
                        <a:pt x="1497" y="361"/>
                      </a:lnTo>
                      <a:lnTo>
                        <a:pt x="1497" y="361"/>
                      </a:lnTo>
                      <a:lnTo>
                        <a:pt x="1490" y="368"/>
                      </a:lnTo>
                      <a:lnTo>
                        <a:pt x="1490" y="368"/>
                      </a:lnTo>
                      <a:lnTo>
                        <a:pt x="1490" y="375"/>
                      </a:lnTo>
                      <a:lnTo>
                        <a:pt x="1483" y="375"/>
                      </a:lnTo>
                      <a:lnTo>
                        <a:pt x="1483" y="375"/>
                      </a:lnTo>
                      <a:lnTo>
                        <a:pt x="1477" y="382"/>
                      </a:lnTo>
                      <a:lnTo>
                        <a:pt x="1477" y="382"/>
                      </a:lnTo>
                      <a:lnTo>
                        <a:pt x="1470" y="382"/>
                      </a:lnTo>
                      <a:lnTo>
                        <a:pt x="1470" y="382"/>
                      </a:lnTo>
                      <a:lnTo>
                        <a:pt x="1470" y="382"/>
                      </a:lnTo>
                      <a:lnTo>
                        <a:pt x="1470" y="389"/>
                      </a:lnTo>
                      <a:lnTo>
                        <a:pt x="1470" y="389"/>
                      </a:lnTo>
                      <a:lnTo>
                        <a:pt x="1470" y="389"/>
                      </a:lnTo>
                      <a:lnTo>
                        <a:pt x="1463" y="396"/>
                      </a:lnTo>
                      <a:lnTo>
                        <a:pt x="1463" y="396"/>
                      </a:lnTo>
                      <a:lnTo>
                        <a:pt x="1470" y="396"/>
                      </a:lnTo>
                      <a:lnTo>
                        <a:pt x="1470" y="396"/>
                      </a:lnTo>
                      <a:lnTo>
                        <a:pt x="1470" y="396"/>
                      </a:lnTo>
                      <a:lnTo>
                        <a:pt x="1470" y="396"/>
                      </a:lnTo>
                      <a:lnTo>
                        <a:pt x="1470" y="402"/>
                      </a:lnTo>
                      <a:lnTo>
                        <a:pt x="1463" y="409"/>
                      </a:lnTo>
                      <a:lnTo>
                        <a:pt x="1456" y="423"/>
                      </a:lnTo>
                      <a:lnTo>
                        <a:pt x="1456" y="430"/>
                      </a:lnTo>
                      <a:lnTo>
                        <a:pt x="1449" y="444"/>
                      </a:lnTo>
                      <a:lnTo>
                        <a:pt x="1442" y="465"/>
                      </a:lnTo>
                      <a:lnTo>
                        <a:pt x="1442" y="465"/>
                      </a:lnTo>
                      <a:lnTo>
                        <a:pt x="1435" y="472"/>
                      </a:lnTo>
                      <a:lnTo>
                        <a:pt x="1429" y="486"/>
                      </a:lnTo>
                      <a:lnTo>
                        <a:pt x="1429" y="493"/>
                      </a:lnTo>
                      <a:lnTo>
                        <a:pt x="1422" y="500"/>
                      </a:lnTo>
                      <a:lnTo>
                        <a:pt x="1415" y="507"/>
                      </a:lnTo>
                      <a:lnTo>
                        <a:pt x="1401" y="555"/>
                      </a:lnTo>
                      <a:lnTo>
                        <a:pt x="1374" y="604"/>
                      </a:lnTo>
                      <a:lnTo>
                        <a:pt x="1367" y="618"/>
                      </a:lnTo>
                      <a:lnTo>
                        <a:pt x="1360" y="631"/>
                      </a:lnTo>
                      <a:lnTo>
                        <a:pt x="1346" y="659"/>
                      </a:lnTo>
                      <a:lnTo>
                        <a:pt x="1312" y="735"/>
                      </a:lnTo>
                      <a:lnTo>
                        <a:pt x="1312" y="735"/>
                      </a:lnTo>
                      <a:lnTo>
                        <a:pt x="1312" y="735"/>
                      </a:lnTo>
                      <a:lnTo>
                        <a:pt x="1312" y="735"/>
                      </a:lnTo>
                      <a:lnTo>
                        <a:pt x="1312" y="735"/>
                      </a:lnTo>
                      <a:lnTo>
                        <a:pt x="1305" y="735"/>
                      </a:lnTo>
                      <a:lnTo>
                        <a:pt x="1305" y="735"/>
                      </a:lnTo>
                      <a:lnTo>
                        <a:pt x="1305" y="742"/>
                      </a:lnTo>
                      <a:lnTo>
                        <a:pt x="1305" y="742"/>
                      </a:lnTo>
                      <a:lnTo>
                        <a:pt x="1305" y="742"/>
                      </a:lnTo>
                      <a:lnTo>
                        <a:pt x="1305" y="742"/>
                      </a:lnTo>
                      <a:lnTo>
                        <a:pt x="1298" y="749"/>
                      </a:lnTo>
                      <a:lnTo>
                        <a:pt x="1298" y="749"/>
                      </a:lnTo>
                      <a:lnTo>
                        <a:pt x="1298" y="756"/>
                      </a:lnTo>
                      <a:lnTo>
                        <a:pt x="1298" y="756"/>
                      </a:lnTo>
                      <a:lnTo>
                        <a:pt x="1291" y="763"/>
                      </a:lnTo>
                      <a:lnTo>
                        <a:pt x="1298" y="763"/>
                      </a:lnTo>
                      <a:lnTo>
                        <a:pt x="1298" y="770"/>
                      </a:lnTo>
                      <a:lnTo>
                        <a:pt x="1298" y="770"/>
                      </a:lnTo>
                      <a:lnTo>
                        <a:pt x="1298" y="777"/>
                      </a:lnTo>
                      <a:lnTo>
                        <a:pt x="1298" y="777"/>
                      </a:lnTo>
                      <a:lnTo>
                        <a:pt x="1305" y="777"/>
                      </a:lnTo>
                      <a:lnTo>
                        <a:pt x="1305" y="777"/>
                      </a:lnTo>
                      <a:lnTo>
                        <a:pt x="1305" y="777"/>
                      </a:lnTo>
                      <a:lnTo>
                        <a:pt x="1305" y="784"/>
                      </a:lnTo>
                      <a:lnTo>
                        <a:pt x="1312" y="784"/>
                      </a:lnTo>
                      <a:lnTo>
                        <a:pt x="1312" y="791"/>
                      </a:lnTo>
                      <a:lnTo>
                        <a:pt x="1312" y="791"/>
                      </a:lnTo>
                      <a:lnTo>
                        <a:pt x="1312" y="791"/>
                      </a:lnTo>
                      <a:lnTo>
                        <a:pt x="1319" y="791"/>
                      </a:lnTo>
                      <a:lnTo>
                        <a:pt x="1319" y="791"/>
                      </a:lnTo>
                      <a:lnTo>
                        <a:pt x="1319" y="791"/>
                      </a:lnTo>
                      <a:lnTo>
                        <a:pt x="1319" y="791"/>
                      </a:lnTo>
                      <a:lnTo>
                        <a:pt x="1319" y="798"/>
                      </a:lnTo>
                      <a:lnTo>
                        <a:pt x="1319" y="798"/>
                      </a:lnTo>
                      <a:lnTo>
                        <a:pt x="1319" y="805"/>
                      </a:lnTo>
                      <a:lnTo>
                        <a:pt x="1319" y="805"/>
                      </a:lnTo>
                      <a:lnTo>
                        <a:pt x="1319" y="805"/>
                      </a:lnTo>
                      <a:lnTo>
                        <a:pt x="1319" y="812"/>
                      </a:lnTo>
                      <a:lnTo>
                        <a:pt x="1326" y="812"/>
                      </a:lnTo>
                      <a:lnTo>
                        <a:pt x="1326" y="812"/>
                      </a:lnTo>
                      <a:lnTo>
                        <a:pt x="1319" y="812"/>
                      </a:lnTo>
                      <a:lnTo>
                        <a:pt x="1319" y="819"/>
                      </a:lnTo>
                      <a:lnTo>
                        <a:pt x="1319" y="826"/>
                      </a:lnTo>
                      <a:lnTo>
                        <a:pt x="1319" y="826"/>
                      </a:lnTo>
                      <a:lnTo>
                        <a:pt x="1319" y="826"/>
                      </a:lnTo>
                      <a:lnTo>
                        <a:pt x="1319" y="833"/>
                      </a:lnTo>
                      <a:lnTo>
                        <a:pt x="1319" y="833"/>
                      </a:lnTo>
                      <a:lnTo>
                        <a:pt x="1319" y="833"/>
                      </a:lnTo>
                      <a:lnTo>
                        <a:pt x="1312" y="833"/>
                      </a:lnTo>
                      <a:lnTo>
                        <a:pt x="1312" y="840"/>
                      </a:lnTo>
                      <a:lnTo>
                        <a:pt x="1312" y="840"/>
                      </a:lnTo>
                      <a:lnTo>
                        <a:pt x="1312" y="840"/>
                      </a:lnTo>
                      <a:lnTo>
                        <a:pt x="1312" y="846"/>
                      </a:lnTo>
                      <a:lnTo>
                        <a:pt x="1312" y="846"/>
                      </a:lnTo>
                      <a:lnTo>
                        <a:pt x="1312" y="846"/>
                      </a:lnTo>
                      <a:lnTo>
                        <a:pt x="1305" y="846"/>
                      </a:lnTo>
                      <a:lnTo>
                        <a:pt x="1305" y="853"/>
                      </a:lnTo>
                      <a:lnTo>
                        <a:pt x="1305" y="853"/>
                      </a:lnTo>
                      <a:lnTo>
                        <a:pt x="1305" y="853"/>
                      </a:lnTo>
                      <a:lnTo>
                        <a:pt x="1305" y="853"/>
                      </a:lnTo>
                      <a:lnTo>
                        <a:pt x="1305" y="853"/>
                      </a:lnTo>
                      <a:lnTo>
                        <a:pt x="1305" y="860"/>
                      </a:lnTo>
                      <a:lnTo>
                        <a:pt x="1305" y="860"/>
                      </a:lnTo>
                      <a:lnTo>
                        <a:pt x="1305" y="860"/>
                      </a:lnTo>
                      <a:lnTo>
                        <a:pt x="1305" y="867"/>
                      </a:lnTo>
                      <a:lnTo>
                        <a:pt x="1305" y="867"/>
                      </a:lnTo>
                      <a:lnTo>
                        <a:pt x="1305" y="867"/>
                      </a:lnTo>
                      <a:lnTo>
                        <a:pt x="1312" y="874"/>
                      </a:lnTo>
                      <a:lnTo>
                        <a:pt x="1312" y="874"/>
                      </a:lnTo>
                      <a:lnTo>
                        <a:pt x="1312" y="874"/>
                      </a:lnTo>
                      <a:lnTo>
                        <a:pt x="1312" y="874"/>
                      </a:lnTo>
                      <a:lnTo>
                        <a:pt x="1312" y="874"/>
                      </a:lnTo>
                      <a:lnTo>
                        <a:pt x="1305" y="881"/>
                      </a:lnTo>
                      <a:lnTo>
                        <a:pt x="1305" y="881"/>
                      </a:lnTo>
                      <a:lnTo>
                        <a:pt x="1305" y="881"/>
                      </a:lnTo>
                      <a:lnTo>
                        <a:pt x="1305" y="888"/>
                      </a:lnTo>
                      <a:lnTo>
                        <a:pt x="1305" y="888"/>
                      </a:lnTo>
                      <a:lnTo>
                        <a:pt x="1305" y="888"/>
                      </a:lnTo>
                      <a:lnTo>
                        <a:pt x="1305" y="888"/>
                      </a:lnTo>
                      <a:lnTo>
                        <a:pt x="1305" y="895"/>
                      </a:lnTo>
                      <a:lnTo>
                        <a:pt x="1305" y="895"/>
                      </a:lnTo>
                      <a:lnTo>
                        <a:pt x="1305" y="895"/>
                      </a:lnTo>
                      <a:lnTo>
                        <a:pt x="1305" y="895"/>
                      </a:lnTo>
                      <a:lnTo>
                        <a:pt x="1305" y="895"/>
                      </a:lnTo>
                      <a:lnTo>
                        <a:pt x="1305" y="902"/>
                      </a:lnTo>
                      <a:lnTo>
                        <a:pt x="1305" y="902"/>
                      </a:lnTo>
                      <a:lnTo>
                        <a:pt x="1305" y="902"/>
                      </a:lnTo>
                      <a:lnTo>
                        <a:pt x="1298" y="902"/>
                      </a:lnTo>
                      <a:lnTo>
                        <a:pt x="1298" y="902"/>
                      </a:lnTo>
                      <a:lnTo>
                        <a:pt x="1298" y="909"/>
                      </a:lnTo>
                      <a:lnTo>
                        <a:pt x="1298" y="909"/>
                      </a:lnTo>
                      <a:lnTo>
                        <a:pt x="1298" y="909"/>
                      </a:lnTo>
                      <a:lnTo>
                        <a:pt x="1298" y="916"/>
                      </a:lnTo>
                      <a:lnTo>
                        <a:pt x="1298" y="916"/>
                      </a:lnTo>
                      <a:lnTo>
                        <a:pt x="1298" y="916"/>
                      </a:lnTo>
                      <a:lnTo>
                        <a:pt x="1298" y="916"/>
                      </a:lnTo>
                      <a:lnTo>
                        <a:pt x="1298" y="923"/>
                      </a:lnTo>
                      <a:lnTo>
                        <a:pt x="1298" y="923"/>
                      </a:lnTo>
                      <a:lnTo>
                        <a:pt x="1298" y="923"/>
                      </a:lnTo>
                      <a:lnTo>
                        <a:pt x="1298" y="923"/>
                      </a:lnTo>
                      <a:lnTo>
                        <a:pt x="1298" y="930"/>
                      </a:lnTo>
                      <a:lnTo>
                        <a:pt x="1305" y="923"/>
                      </a:lnTo>
                      <a:lnTo>
                        <a:pt x="1305" y="923"/>
                      </a:lnTo>
                      <a:lnTo>
                        <a:pt x="1305" y="923"/>
                      </a:lnTo>
                      <a:lnTo>
                        <a:pt x="1305" y="923"/>
                      </a:lnTo>
                      <a:lnTo>
                        <a:pt x="1305" y="930"/>
                      </a:lnTo>
                      <a:lnTo>
                        <a:pt x="1305" y="930"/>
                      </a:lnTo>
                      <a:lnTo>
                        <a:pt x="1298" y="930"/>
                      </a:lnTo>
                      <a:lnTo>
                        <a:pt x="1298" y="930"/>
                      </a:lnTo>
                      <a:lnTo>
                        <a:pt x="1298" y="930"/>
                      </a:lnTo>
                      <a:lnTo>
                        <a:pt x="1298" y="930"/>
                      </a:lnTo>
                      <a:lnTo>
                        <a:pt x="1298" y="937"/>
                      </a:lnTo>
                      <a:lnTo>
                        <a:pt x="1291" y="937"/>
                      </a:lnTo>
                      <a:lnTo>
                        <a:pt x="1243" y="937"/>
                      </a:lnTo>
                      <a:lnTo>
                        <a:pt x="1243" y="937"/>
                      </a:lnTo>
                      <a:lnTo>
                        <a:pt x="1181" y="937"/>
                      </a:lnTo>
                      <a:lnTo>
                        <a:pt x="1133" y="937"/>
                      </a:lnTo>
                      <a:lnTo>
                        <a:pt x="1099" y="937"/>
                      </a:lnTo>
                      <a:lnTo>
                        <a:pt x="1099" y="937"/>
                      </a:lnTo>
                      <a:lnTo>
                        <a:pt x="1092" y="937"/>
                      </a:lnTo>
                      <a:lnTo>
                        <a:pt x="1030" y="937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23" y="930"/>
                      </a:lnTo>
                      <a:lnTo>
                        <a:pt x="1023" y="923"/>
                      </a:lnTo>
                      <a:lnTo>
                        <a:pt x="1023" y="923"/>
                      </a:lnTo>
                      <a:lnTo>
                        <a:pt x="1023" y="923"/>
                      </a:lnTo>
                      <a:lnTo>
                        <a:pt x="1023" y="923"/>
                      </a:lnTo>
                      <a:lnTo>
                        <a:pt x="1023" y="923"/>
                      </a:lnTo>
                      <a:lnTo>
                        <a:pt x="1017" y="923"/>
                      </a:lnTo>
                      <a:lnTo>
                        <a:pt x="1017" y="923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0" y="930"/>
                      </a:lnTo>
                      <a:lnTo>
                        <a:pt x="1010" y="930"/>
                      </a:lnTo>
                      <a:lnTo>
                        <a:pt x="1010" y="930"/>
                      </a:lnTo>
                      <a:lnTo>
                        <a:pt x="1010" y="930"/>
                      </a:lnTo>
                      <a:lnTo>
                        <a:pt x="1010" y="930"/>
                      </a:lnTo>
                      <a:lnTo>
                        <a:pt x="1010" y="937"/>
                      </a:lnTo>
                      <a:lnTo>
                        <a:pt x="1010" y="937"/>
                      </a:lnTo>
                      <a:lnTo>
                        <a:pt x="1010" y="937"/>
                      </a:lnTo>
                      <a:lnTo>
                        <a:pt x="1010" y="937"/>
                      </a:lnTo>
                      <a:lnTo>
                        <a:pt x="1010" y="937"/>
                      </a:lnTo>
                      <a:lnTo>
                        <a:pt x="1003" y="937"/>
                      </a:lnTo>
                      <a:lnTo>
                        <a:pt x="1003" y="937"/>
                      </a:lnTo>
                      <a:lnTo>
                        <a:pt x="1003" y="937"/>
                      </a:lnTo>
                      <a:lnTo>
                        <a:pt x="1003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89" y="937"/>
                      </a:lnTo>
                      <a:lnTo>
                        <a:pt x="989" y="937"/>
                      </a:lnTo>
                      <a:lnTo>
                        <a:pt x="989" y="937"/>
                      </a:lnTo>
                      <a:lnTo>
                        <a:pt x="982" y="930"/>
                      </a:lnTo>
                      <a:lnTo>
                        <a:pt x="982" y="930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16"/>
                      </a:lnTo>
                      <a:lnTo>
                        <a:pt x="982" y="916"/>
                      </a:lnTo>
                      <a:lnTo>
                        <a:pt x="982" y="916"/>
                      </a:lnTo>
                      <a:lnTo>
                        <a:pt x="982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23"/>
                      </a:lnTo>
                      <a:lnTo>
                        <a:pt x="975" y="923"/>
                      </a:lnTo>
                      <a:lnTo>
                        <a:pt x="969" y="916"/>
                      </a:lnTo>
                      <a:lnTo>
                        <a:pt x="969" y="916"/>
                      </a:lnTo>
                      <a:lnTo>
                        <a:pt x="969" y="916"/>
                      </a:lnTo>
                      <a:lnTo>
                        <a:pt x="969" y="916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2"/>
                      </a:lnTo>
                      <a:lnTo>
                        <a:pt x="969" y="902"/>
                      </a:lnTo>
                      <a:lnTo>
                        <a:pt x="969" y="902"/>
                      </a:lnTo>
                      <a:lnTo>
                        <a:pt x="969" y="902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48" y="895"/>
                      </a:lnTo>
                      <a:lnTo>
                        <a:pt x="948" y="895"/>
                      </a:lnTo>
                      <a:lnTo>
                        <a:pt x="948" y="895"/>
                      </a:lnTo>
                      <a:lnTo>
                        <a:pt x="948" y="895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1" y="888"/>
                      </a:lnTo>
                      <a:lnTo>
                        <a:pt x="941" y="888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74"/>
                      </a:lnTo>
                      <a:lnTo>
                        <a:pt x="941" y="874"/>
                      </a:lnTo>
                      <a:lnTo>
                        <a:pt x="941" y="874"/>
                      </a:lnTo>
                      <a:lnTo>
                        <a:pt x="941" y="874"/>
                      </a:lnTo>
                      <a:lnTo>
                        <a:pt x="934" y="874"/>
                      </a:lnTo>
                      <a:lnTo>
                        <a:pt x="934" y="874"/>
                      </a:lnTo>
                      <a:lnTo>
                        <a:pt x="934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1" y="860"/>
                      </a:lnTo>
                      <a:lnTo>
                        <a:pt x="886" y="867"/>
                      </a:lnTo>
                      <a:lnTo>
                        <a:pt x="872" y="867"/>
                      </a:lnTo>
                      <a:lnTo>
                        <a:pt x="866" y="860"/>
                      </a:lnTo>
                      <a:lnTo>
                        <a:pt x="859" y="860"/>
                      </a:lnTo>
                      <a:lnTo>
                        <a:pt x="859" y="867"/>
                      </a:lnTo>
                      <a:lnTo>
                        <a:pt x="859" y="867"/>
                      </a:lnTo>
                      <a:lnTo>
                        <a:pt x="859" y="867"/>
                      </a:lnTo>
                      <a:lnTo>
                        <a:pt x="859" y="867"/>
                      </a:lnTo>
                      <a:lnTo>
                        <a:pt x="859" y="874"/>
                      </a:lnTo>
                      <a:lnTo>
                        <a:pt x="859" y="874"/>
                      </a:lnTo>
                      <a:lnTo>
                        <a:pt x="859" y="874"/>
                      </a:lnTo>
                      <a:lnTo>
                        <a:pt x="859" y="874"/>
                      </a:lnTo>
                      <a:lnTo>
                        <a:pt x="859" y="874"/>
                      </a:lnTo>
                      <a:lnTo>
                        <a:pt x="852" y="881"/>
                      </a:lnTo>
                      <a:lnTo>
                        <a:pt x="852" y="881"/>
                      </a:lnTo>
                      <a:lnTo>
                        <a:pt x="852" y="881"/>
                      </a:lnTo>
                      <a:lnTo>
                        <a:pt x="852" y="881"/>
                      </a:lnTo>
                      <a:lnTo>
                        <a:pt x="852" y="888"/>
                      </a:lnTo>
                      <a:lnTo>
                        <a:pt x="852" y="888"/>
                      </a:lnTo>
                      <a:lnTo>
                        <a:pt x="845" y="888"/>
                      </a:lnTo>
                      <a:lnTo>
                        <a:pt x="845" y="888"/>
                      </a:lnTo>
                      <a:lnTo>
                        <a:pt x="845" y="895"/>
                      </a:lnTo>
                      <a:lnTo>
                        <a:pt x="845" y="895"/>
                      </a:lnTo>
                      <a:lnTo>
                        <a:pt x="845" y="895"/>
                      </a:lnTo>
                      <a:lnTo>
                        <a:pt x="845" y="888"/>
                      </a:lnTo>
                      <a:lnTo>
                        <a:pt x="838" y="888"/>
                      </a:lnTo>
                      <a:lnTo>
                        <a:pt x="838" y="888"/>
                      </a:lnTo>
                      <a:lnTo>
                        <a:pt x="838" y="888"/>
                      </a:lnTo>
                      <a:lnTo>
                        <a:pt x="838" y="888"/>
                      </a:lnTo>
                      <a:lnTo>
                        <a:pt x="838" y="895"/>
                      </a:lnTo>
                      <a:lnTo>
                        <a:pt x="838" y="895"/>
                      </a:lnTo>
                      <a:lnTo>
                        <a:pt x="831" y="895"/>
                      </a:lnTo>
                      <a:lnTo>
                        <a:pt x="831" y="895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9"/>
                      </a:lnTo>
                      <a:lnTo>
                        <a:pt x="831" y="909"/>
                      </a:lnTo>
                      <a:lnTo>
                        <a:pt x="831" y="909"/>
                      </a:lnTo>
                      <a:lnTo>
                        <a:pt x="831" y="909"/>
                      </a:lnTo>
                      <a:lnTo>
                        <a:pt x="831" y="916"/>
                      </a:lnTo>
                      <a:lnTo>
                        <a:pt x="838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24" y="916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18" y="930"/>
                      </a:lnTo>
                      <a:lnTo>
                        <a:pt x="818" y="930"/>
                      </a:lnTo>
                      <a:lnTo>
                        <a:pt x="818" y="923"/>
                      </a:lnTo>
                      <a:lnTo>
                        <a:pt x="818" y="930"/>
                      </a:lnTo>
                      <a:lnTo>
                        <a:pt x="818" y="930"/>
                      </a:lnTo>
                      <a:lnTo>
                        <a:pt x="818" y="930"/>
                      </a:lnTo>
                      <a:lnTo>
                        <a:pt x="818" y="937"/>
                      </a:lnTo>
                      <a:lnTo>
                        <a:pt x="818" y="937"/>
                      </a:lnTo>
                      <a:lnTo>
                        <a:pt x="818" y="937"/>
                      </a:lnTo>
                      <a:lnTo>
                        <a:pt x="818" y="937"/>
                      </a:lnTo>
                      <a:lnTo>
                        <a:pt x="818" y="937"/>
                      </a:lnTo>
                      <a:lnTo>
                        <a:pt x="818" y="944"/>
                      </a:lnTo>
                      <a:lnTo>
                        <a:pt x="818" y="944"/>
                      </a:lnTo>
                      <a:lnTo>
                        <a:pt x="818" y="944"/>
                      </a:lnTo>
                      <a:lnTo>
                        <a:pt x="811" y="944"/>
                      </a:lnTo>
                      <a:lnTo>
                        <a:pt x="811" y="951"/>
                      </a:lnTo>
                      <a:lnTo>
                        <a:pt x="804" y="951"/>
                      </a:lnTo>
                      <a:lnTo>
                        <a:pt x="804" y="951"/>
                      </a:lnTo>
                      <a:lnTo>
                        <a:pt x="804" y="951"/>
                      </a:lnTo>
                      <a:lnTo>
                        <a:pt x="804" y="951"/>
                      </a:lnTo>
                      <a:lnTo>
                        <a:pt x="804" y="951"/>
                      </a:lnTo>
                      <a:lnTo>
                        <a:pt x="804" y="944"/>
                      </a:lnTo>
                      <a:lnTo>
                        <a:pt x="804" y="944"/>
                      </a:lnTo>
                      <a:lnTo>
                        <a:pt x="804" y="944"/>
                      </a:lnTo>
                      <a:lnTo>
                        <a:pt x="797" y="944"/>
                      </a:lnTo>
                      <a:lnTo>
                        <a:pt x="797" y="944"/>
                      </a:lnTo>
                      <a:lnTo>
                        <a:pt x="790" y="951"/>
                      </a:lnTo>
                      <a:lnTo>
                        <a:pt x="790" y="951"/>
                      </a:lnTo>
                      <a:lnTo>
                        <a:pt x="790" y="951"/>
                      </a:lnTo>
                      <a:lnTo>
                        <a:pt x="790" y="951"/>
                      </a:lnTo>
                      <a:lnTo>
                        <a:pt x="783" y="951"/>
                      </a:lnTo>
                      <a:lnTo>
                        <a:pt x="783" y="951"/>
                      </a:lnTo>
                      <a:lnTo>
                        <a:pt x="783" y="951"/>
                      </a:lnTo>
                      <a:lnTo>
                        <a:pt x="783" y="951"/>
                      </a:lnTo>
                      <a:lnTo>
                        <a:pt x="783" y="951"/>
                      </a:lnTo>
                      <a:lnTo>
                        <a:pt x="776" y="951"/>
                      </a:lnTo>
                      <a:lnTo>
                        <a:pt x="776" y="951"/>
                      </a:lnTo>
                      <a:lnTo>
                        <a:pt x="776" y="951"/>
                      </a:lnTo>
                      <a:lnTo>
                        <a:pt x="776" y="951"/>
                      </a:lnTo>
                      <a:lnTo>
                        <a:pt x="776" y="951"/>
                      </a:lnTo>
                      <a:lnTo>
                        <a:pt x="769" y="951"/>
                      </a:lnTo>
                      <a:lnTo>
                        <a:pt x="769" y="951"/>
                      </a:lnTo>
                      <a:lnTo>
                        <a:pt x="769" y="951"/>
                      </a:lnTo>
                      <a:lnTo>
                        <a:pt x="769" y="951"/>
                      </a:lnTo>
                      <a:lnTo>
                        <a:pt x="769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56" y="951"/>
                      </a:lnTo>
                      <a:lnTo>
                        <a:pt x="756" y="951"/>
                      </a:lnTo>
                      <a:lnTo>
                        <a:pt x="756" y="951"/>
                      </a:lnTo>
                      <a:lnTo>
                        <a:pt x="756" y="957"/>
                      </a:lnTo>
                      <a:lnTo>
                        <a:pt x="749" y="957"/>
                      </a:lnTo>
                      <a:lnTo>
                        <a:pt x="749" y="957"/>
                      </a:lnTo>
                      <a:lnTo>
                        <a:pt x="749" y="957"/>
                      </a:lnTo>
                      <a:lnTo>
                        <a:pt x="749" y="957"/>
                      </a:lnTo>
                      <a:lnTo>
                        <a:pt x="749" y="957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71"/>
                      </a:lnTo>
                      <a:lnTo>
                        <a:pt x="749" y="971"/>
                      </a:lnTo>
                      <a:lnTo>
                        <a:pt x="749" y="971"/>
                      </a:lnTo>
                      <a:lnTo>
                        <a:pt x="749" y="971"/>
                      </a:lnTo>
                      <a:lnTo>
                        <a:pt x="749" y="971"/>
                      </a:lnTo>
                      <a:lnTo>
                        <a:pt x="749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85"/>
                      </a:lnTo>
                      <a:lnTo>
                        <a:pt x="742" y="985"/>
                      </a:lnTo>
                      <a:lnTo>
                        <a:pt x="742" y="985"/>
                      </a:lnTo>
                      <a:lnTo>
                        <a:pt x="735" y="985"/>
                      </a:lnTo>
                      <a:lnTo>
                        <a:pt x="735" y="985"/>
                      </a:lnTo>
                      <a:lnTo>
                        <a:pt x="735" y="985"/>
                      </a:lnTo>
                      <a:lnTo>
                        <a:pt x="735" y="985"/>
                      </a:lnTo>
                      <a:lnTo>
                        <a:pt x="735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78"/>
                      </a:lnTo>
                      <a:lnTo>
                        <a:pt x="728" y="978"/>
                      </a:lnTo>
                      <a:lnTo>
                        <a:pt x="728" y="978"/>
                      </a:lnTo>
                      <a:lnTo>
                        <a:pt x="728" y="978"/>
                      </a:lnTo>
                      <a:lnTo>
                        <a:pt x="728" y="978"/>
                      </a:lnTo>
                      <a:lnTo>
                        <a:pt x="728" y="971"/>
                      </a:lnTo>
                      <a:lnTo>
                        <a:pt x="721" y="971"/>
                      </a:lnTo>
                      <a:lnTo>
                        <a:pt x="721" y="971"/>
                      </a:lnTo>
                      <a:lnTo>
                        <a:pt x="721" y="971"/>
                      </a:lnTo>
                      <a:lnTo>
                        <a:pt x="721" y="978"/>
                      </a:lnTo>
                      <a:lnTo>
                        <a:pt x="715" y="978"/>
                      </a:lnTo>
                      <a:lnTo>
                        <a:pt x="715" y="978"/>
                      </a:lnTo>
                      <a:lnTo>
                        <a:pt x="715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85"/>
                      </a:lnTo>
                      <a:lnTo>
                        <a:pt x="708" y="985"/>
                      </a:lnTo>
                      <a:lnTo>
                        <a:pt x="708" y="992"/>
                      </a:lnTo>
                      <a:lnTo>
                        <a:pt x="708" y="992"/>
                      </a:lnTo>
                      <a:lnTo>
                        <a:pt x="708" y="992"/>
                      </a:lnTo>
                      <a:lnTo>
                        <a:pt x="708" y="992"/>
                      </a:lnTo>
                      <a:lnTo>
                        <a:pt x="701" y="992"/>
                      </a:lnTo>
                      <a:lnTo>
                        <a:pt x="701" y="992"/>
                      </a:lnTo>
                      <a:lnTo>
                        <a:pt x="701" y="992"/>
                      </a:lnTo>
                      <a:lnTo>
                        <a:pt x="701" y="992"/>
                      </a:lnTo>
                      <a:lnTo>
                        <a:pt x="701" y="992"/>
                      </a:lnTo>
                      <a:lnTo>
                        <a:pt x="701" y="985"/>
                      </a:lnTo>
                      <a:lnTo>
                        <a:pt x="701" y="992"/>
                      </a:lnTo>
                      <a:lnTo>
                        <a:pt x="701" y="985"/>
                      </a:lnTo>
                      <a:lnTo>
                        <a:pt x="694" y="985"/>
                      </a:lnTo>
                      <a:lnTo>
                        <a:pt x="694" y="985"/>
                      </a:lnTo>
                      <a:lnTo>
                        <a:pt x="694" y="985"/>
                      </a:lnTo>
                      <a:lnTo>
                        <a:pt x="694" y="985"/>
                      </a:lnTo>
                      <a:lnTo>
                        <a:pt x="694" y="985"/>
                      </a:lnTo>
                      <a:lnTo>
                        <a:pt x="687" y="985"/>
                      </a:lnTo>
                      <a:lnTo>
                        <a:pt x="687" y="985"/>
                      </a:lnTo>
                      <a:lnTo>
                        <a:pt x="687" y="985"/>
                      </a:lnTo>
                      <a:lnTo>
                        <a:pt x="687" y="992"/>
                      </a:lnTo>
                      <a:lnTo>
                        <a:pt x="687" y="985"/>
                      </a:lnTo>
                      <a:lnTo>
                        <a:pt x="687" y="992"/>
                      </a:lnTo>
                      <a:lnTo>
                        <a:pt x="687" y="992"/>
                      </a:lnTo>
                      <a:lnTo>
                        <a:pt x="687" y="992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73" y="999"/>
                      </a:lnTo>
                      <a:lnTo>
                        <a:pt x="673" y="999"/>
                      </a:lnTo>
                      <a:lnTo>
                        <a:pt x="673" y="999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66" y="992"/>
                      </a:lnTo>
                      <a:lnTo>
                        <a:pt x="666" y="992"/>
                      </a:lnTo>
                      <a:lnTo>
                        <a:pt x="666" y="992"/>
                      </a:lnTo>
                      <a:lnTo>
                        <a:pt x="666" y="992"/>
                      </a:lnTo>
                      <a:lnTo>
                        <a:pt x="666" y="985"/>
                      </a:lnTo>
                      <a:lnTo>
                        <a:pt x="660" y="985"/>
                      </a:lnTo>
                      <a:lnTo>
                        <a:pt x="660" y="985"/>
                      </a:lnTo>
                      <a:lnTo>
                        <a:pt x="660" y="985"/>
                      </a:lnTo>
                      <a:lnTo>
                        <a:pt x="660" y="985"/>
                      </a:lnTo>
                      <a:lnTo>
                        <a:pt x="660" y="985"/>
                      </a:lnTo>
                      <a:lnTo>
                        <a:pt x="653" y="985"/>
                      </a:lnTo>
                      <a:lnTo>
                        <a:pt x="653" y="985"/>
                      </a:lnTo>
                      <a:lnTo>
                        <a:pt x="653" y="985"/>
                      </a:lnTo>
                      <a:lnTo>
                        <a:pt x="646" y="985"/>
                      </a:lnTo>
                      <a:lnTo>
                        <a:pt x="646" y="985"/>
                      </a:lnTo>
                      <a:lnTo>
                        <a:pt x="646" y="985"/>
                      </a:lnTo>
                      <a:lnTo>
                        <a:pt x="646" y="985"/>
                      </a:lnTo>
                      <a:lnTo>
                        <a:pt x="646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25" y="985"/>
                      </a:lnTo>
                      <a:lnTo>
                        <a:pt x="625" y="985"/>
                      </a:lnTo>
                      <a:lnTo>
                        <a:pt x="625" y="985"/>
                      </a:lnTo>
                      <a:lnTo>
                        <a:pt x="625" y="985"/>
                      </a:lnTo>
                      <a:lnTo>
                        <a:pt x="625" y="985"/>
                      </a:lnTo>
                      <a:lnTo>
                        <a:pt x="625" y="992"/>
                      </a:lnTo>
                      <a:lnTo>
                        <a:pt x="625" y="992"/>
                      </a:lnTo>
                      <a:lnTo>
                        <a:pt x="625" y="992"/>
                      </a:lnTo>
                      <a:lnTo>
                        <a:pt x="618" y="999"/>
                      </a:lnTo>
                      <a:lnTo>
                        <a:pt x="618" y="999"/>
                      </a:lnTo>
                      <a:lnTo>
                        <a:pt x="618" y="999"/>
                      </a:lnTo>
                      <a:lnTo>
                        <a:pt x="618" y="999"/>
                      </a:lnTo>
                      <a:lnTo>
                        <a:pt x="618" y="1006"/>
                      </a:lnTo>
                      <a:lnTo>
                        <a:pt x="618" y="1006"/>
                      </a:lnTo>
                      <a:lnTo>
                        <a:pt x="612" y="1006"/>
                      </a:lnTo>
                      <a:lnTo>
                        <a:pt x="612" y="1006"/>
                      </a:lnTo>
                      <a:lnTo>
                        <a:pt x="612" y="1006"/>
                      </a:lnTo>
                      <a:lnTo>
                        <a:pt x="605" y="1006"/>
                      </a:lnTo>
                      <a:lnTo>
                        <a:pt x="605" y="1006"/>
                      </a:lnTo>
                      <a:lnTo>
                        <a:pt x="598" y="1013"/>
                      </a:lnTo>
                      <a:lnTo>
                        <a:pt x="598" y="1013"/>
                      </a:lnTo>
                      <a:lnTo>
                        <a:pt x="598" y="1013"/>
                      </a:lnTo>
                      <a:lnTo>
                        <a:pt x="598" y="1013"/>
                      </a:lnTo>
                      <a:lnTo>
                        <a:pt x="598" y="1013"/>
                      </a:lnTo>
                      <a:lnTo>
                        <a:pt x="591" y="1013"/>
                      </a:lnTo>
                      <a:lnTo>
                        <a:pt x="591" y="1013"/>
                      </a:lnTo>
                      <a:lnTo>
                        <a:pt x="591" y="1013"/>
                      </a:lnTo>
                      <a:lnTo>
                        <a:pt x="591" y="1020"/>
                      </a:lnTo>
                      <a:lnTo>
                        <a:pt x="591" y="1020"/>
                      </a:lnTo>
                      <a:lnTo>
                        <a:pt x="570" y="1013"/>
                      </a:lnTo>
                      <a:lnTo>
                        <a:pt x="563" y="1006"/>
                      </a:lnTo>
                      <a:lnTo>
                        <a:pt x="563" y="1006"/>
                      </a:lnTo>
                      <a:lnTo>
                        <a:pt x="563" y="1006"/>
                      </a:lnTo>
                      <a:lnTo>
                        <a:pt x="550" y="999"/>
                      </a:lnTo>
                      <a:lnTo>
                        <a:pt x="495" y="978"/>
                      </a:lnTo>
                      <a:lnTo>
                        <a:pt x="474" y="971"/>
                      </a:lnTo>
                      <a:lnTo>
                        <a:pt x="440" y="957"/>
                      </a:lnTo>
                      <a:lnTo>
                        <a:pt x="426" y="951"/>
                      </a:lnTo>
                      <a:lnTo>
                        <a:pt x="426" y="951"/>
                      </a:lnTo>
                      <a:lnTo>
                        <a:pt x="426" y="951"/>
                      </a:lnTo>
                      <a:lnTo>
                        <a:pt x="406" y="937"/>
                      </a:lnTo>
                      <a:lnTo>
                        <a:pt x="392" y="930"/>
                      </a:lnTo>
                      <a:lnTo>
                        <a:pt x="371" y="923"/>
                      </a:lnTo>
                      <a:lnTo>
                        <a:pt x="358" y="916"/>
                      </a:lnTo>
                      <a:lnTo>
                        <a:pt x="344" y="902"/>
                      </a:lnTo>
                      <a:lnTo>
                        <a:pt x="309" y="888"/>
                      </a:lnTo>
                      <a:lnTo>
                        <a:pt x="296" y="881"/>
                      </a:lnTo>
                      <a:lnTo>
                        <a:pt x="289" y="874"/>
                      </a:lnTo>
                      <a:lnTo>
                        <a:pt x="282" y="874"/>
                      </a:lnTo>
                      <a:lnTo>
                        <a:pt x="275" y="874"/>
                      </a:lnTo>
                      <a:lnTo>
                        <a:pt x="241" y="867"/>
                      </a:lnTo>
                      <a:lnTo>
                        <a:pt x="213" y="860"/>
                      </a:lnTo>
                      <a:lnTo>
                        <a:pt x="193" y="853"/>
                      </a:lnTo>
                      <a:lnTo>
                        <a:pt x="186" y="853"/>
                      </a:lnTo>
                      <a:lnTo>
                        <a:pt x="152" y="846"/>
                      </a:lnTo>
                      <a:lnTo>
                        <a:pt x="152" y="846"/>
                      </a:lnTo>
                      <a:lnTo>
                        <a:pt x="152" y="846"/>
                      </a:lnTo>
                      <a:lnTo>
                        <a:pt x="138" y="840"/>
                      </a:lnTo>
                      <a:lnTo>
                        <a:pt x="138" y="840"/>
                      </a:lnTo>
                      <a:lnTo>
                        <a:pt x="97" y="833"/>
                      </a:lnTo>
                      <a:lnTo>
                        <a:pt x="97" y="833"/>
                      </a:lnTo>
                      <a:lnTo>
                        <a:pt x="76" y="826"/>
                      </a:lnTo>
                      <a:lnTo>
                        <a:pt x="42" y="812"/>
                      </a:lnTo>
                      <a:lnTo>
                        <a:pt x="7" y="791"/>
                      </a:lnTo>
                      <a:lnTo>
                        <a:pt x="0" y="791"/>
                      </a:lnTo>
                      <a:close/>
                    </a:path>
                  </a:pathLst>
                </a:custGeom>
                <a:solidFill>
                  <a:srgbClr val="ffa7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259360" y="2680920"/>
                  <a:ext cx="900360" cy="930600"/>
                </a:xfrm>
                <a:custGeom>
                  <a:avLst/>
                  <a:gdLst/>
                  <a:ahLst/>
                  <a:rect l="l" t="t" r="r" b="b"/>
                  <a:pathLst>
                    <a:path w="715" h="791">
                      <a:moveTo>
                        <a:pt x="0" y="791"/>
                      </a:moveTo>
                      <a:lnTo>
                        <a:pt x="0" y="791"/>
                      </a:lnTo>
                      <a:lnTo>
                        <a:pt x="0" y="791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77"/>
                      </a:lnTo>
                      <a:lnTo>
                        <a:pt x="7" y="777"/>
                      </a:lnTo>
                      <a:lnTo>
                        <a:pt x="0" y="777"/>
                      </a:lnTo>
                      <a:lnTo>
                        <a:pt x="0" y="777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63"/>
                      </a:lnTo>
                      <a:lnTo>
                        <a:pt x="7" y="763"/>
                      </a:lnTo>
                      <a:lnTo>
                        <a:pt x="14" y="763"/>
                      </a:lnTo>
                      <a:lnTo>
                        <a:pt x="14" y="763"/>
                      </a:lnTo>
                      <a:lnTo>
                        <a:pt x="14" y="763"/>
                      </a:lnTo>
                      <a:lnTo>
                        <a:pt x="14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8" y="756"/>
                      </a:lnTo>
                      <a:lnTo>
                        <a:pt x="28" y="756"/>
                      </a:lnTo>
                      <a:lnTo>
                        <a:pt x="28" y="749"/>
                      </a:lnTo>
                      <a:lnTo>
                        <a:pt x="28" y="749"/>
                      </a:lnTo>
                      <a:lnTo>
                        <a:pt x="28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9" y="749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55" y="742"/>
                      </a:lnTo>
                      <a:lnTo>
                        <a:pt x="49" y="742"/>
                      </a:lnTo>
                      <a:lnTo>
                        <a:pt x="55" y="742"/>
                      </a:lnTo>
                      <a:lnTo>
                        <a:pt x="55" y="742"/>
                      </a:lnTo>
                      <a:lnTo>
                        <a:pt x="55" y="742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08"/>
                      </a:lnTo>
                      <a:lnTo>
                        <a:pt x="49" y="708"/>
                      </a:lnTo>
                      <a:lnTo>
                        <a:pt x="49" y="708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55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55" y="694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73"/>
                      </a:lnTo>
                      <a:lnTo>
                        <a:pt x="62" y="673"/>
                      </a:lnTo>
                      <a:lnTo>
                        <a:pt x="62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2"/>
                      </a:lnTo>
                      <a:lnTo>
                        <a:pt x="69" y="652"/>
                      </a:lnTo>
                      <a:lnTo>
                        <a:pt x="69" y="652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1"/>
                      </a:lnTo>
                      <a:lnTo>
                        <a:pt x="76" y="631"/>
                      </a:lnTo>
                      <a:lnTo>
                        <a:pt x="83" y="631"/>
                      </a:lnTo>
                      <a:lnTo>
                        <a:pt x="76" y="631"/>
                      </a:lnTo>
                      <a:lnTo>
                        <a:pt x="83" y="631"/>
                      </a:lnTo>
                      <a:lnTo>
                        <a:pt x="76" y="631"/>
                      </a:lnTo>
                      <a:lnTo>
                        <a:pt x="76" y="631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24" y="597"/>
                      </a:lnTo>
                      <a:lnTo>
                        <a:pt x="124" y="597"/>
                      </a:lnTo>
                      <a:lnTo>
                        <a:pt x="124" y="597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31" y="590"/>
                      </a:lnTo>
                      <a:lnTo>
                        <a:pt x="131" y="597"/>
                      </a:lnTo>
                      <a:lnTo>
                        <a:pt x="131" y="597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45" y="590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76"/>
                      </a:lnTo>
                      <a:lnTo>
                        <a:pt x="152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69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69"/>
                      </a:lnTo>
                      <a:lnTo>
                        <a:pt x="158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76"/>
                      </a:lnTo>
                      <a:lnTo>
                        <a:pt x="186" y="576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2"/>
                      </a:lnTo>
                      <a:lnTo>
                        <a:pt x="193" y="562"/>
                      </a:lnTo>
                      <a:lnTo>
                        <a:pt x="193" y="569"/>
                      </a:lnTo>
                      <a:lnTo>
                        <a:pt x="200" y="569"/>
                      </a:lnTo>
                      <a:lnTo>
                        <a:pt x="193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9"/>
                      </a:lnTo>
                      <a:lnTo>
                        <a:pt x="200" y="569"/>
                      </a:lnTo>
                      <a:lnTo>
                        <a:pt x="200" y="569"/>
                      </a:lnTo>
                      <a:lnTo>
                        <a:pt x="200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13" y="562"/>
                      </a:lnTo>
                      <a:lnTo>
                        <a:pt x="206" y="569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55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34" y="562"/>
                      </a:lnTo>
                      <a:lnTo>
                        <a:pt x="234" y="555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62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55" y="548"/>
                      </a:lnTo>
                      <a:lnTo>
                        <a:pt x="248" y="548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55"/>
                      </a:lnTo>
                      <a:lnTo>
                        <a:pt x="296" y="555"/>
                      </a:lnTo>
                      <a:lnTo>
                        <a:pt x="303" y="548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296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48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48"/>
                      </a:lnTo>
                      <a:lnTo>
                        <a:pt x="323" y="548"/>
                      </a:lnTo>
                      <a:lnTo>
                        <a:pt x="323" y="548"/>
                      </a:lnTo>
                      <a:lnTo>
                        <a:pt x="330" y="520"/>
                      </a:lnTo>
                      <a:lnTo>
                        <a:pt x="337" y="500"/>
                      </a:lnTo>
                      <a:lnTo>
                        <a:pt x="344" y="430"/>
                      </a:lnTo>
                      <a:lnTo>
                        <a:pt x="351" y="396"/>
                      </a:lnTo>
                      <a:lnTo>
                        <a:pt x="364" y="347"/>
                      </a:lnTo>
                      <a:lnTo>
                        <a:pt x="364" y="319"/>
                      </a:lnTo>
                      <a:lnTo>
                        <a:pt x="364" y="312"/>
                      </a:lnTo>
                      <a:lnTo>
                        <a:pt x="364" y="312"/>
                      </a:lnTo>
                      <a:lnTo>
                        <a:pt x="371" y="312"/>
                      </a:lnTo>
                      <a:lnTo>
                        <a:pt x="371" y="312"/>
                      </a:lnTo>
                      <a:lnTo>
                        <a:pt x="371" y="312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298"/>
                      </a:lnTo>
                      <a:lnTo>
                        <a:pt x="371" y="298"/>
                      </a:lnTo>
                      <a:lnTo>
                        <a:pt x="371" y="298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1"/>
                      </a:lnTo>
                      <a:lnTo>
                        <a:pt x="371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1" y="257"/>
                      </a:lnTo>
                      <a:lnTo>
                        <a:pt x="358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8" y="250"/>
                      </a:lnTo>
                      <a:lnTo>
                        <a:pt x="358" y="250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36"/>
                      </a:lnTo>
                      <a:lnTo>
                        <a:pt x="358" y="236"/>
                      </a:lnTo>
                      <a:lnTo>
                        <a:pt x="358" y="236"/>
                      </a:lnTo>
                      <a:lnTo>
                        <a:pt x="351" y="236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22"/>
                      </a:lnTo>
                      <a:lnTo>
                        <a:pt x="344" y="222"/>
                      </a:lnTo>
                      <a:lnTo>
                        <a:pt x="344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15"/>
                      </a:lnTo>
                      <a:lnTo>
                        <a:pt x="330" y="215"/>
                      </a:lnTo>
                      <a:lnTo>
                        <a:pt x="330" y="215"/>
                      </a:lnTo>
                      <a:lnTo>
                        <a:pt x="330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16" y="208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187"/>
                      </a:lnTo>
                      <a:lnTo>
                        <a:pt x="316" y="181"/>
                      </a:lnTo>
                      <a:lnTo>
                        <a:pt x="316" y="167"/>
                      </a:lnTo>
                      <a:lnTo>
                        <a:pt x="316" y="146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9"/>
                      </a:lnTo>
                      <a:lnTo>
                        <a:pt x="358" y="139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71" y="125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92" y="139"/>
                      </a:lnTo>
                      <a:lnTo>
                        <a:pt x="385" y="139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9" y="132"/>
                      </a:lnTo>
                      <a:lnTo>
                        <a:pt x="399" y="132"/>
                      </a:lnTo>
                      <a:lnTo>
                        <a:pt x="392" y="132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44" y="97"/>
                      </a:lnTo>
                      <a:lnTo>
                        <a:pt x="344" y="97"/>
                      </a:lnTo>
                      <a:lnTo>
                        <a:pt x="344" y="97"/>
                      </a:lnTo>
                      <a:lnTo>
                        <a:pt x="344" y="90"/>
                      </a:lnTo>
                      <a:lnTo>
                        <a:pt x="344" y="97"/>
                      </a:lnTo>
                      <a:lnTo>
                        <a:pt x="344" y="90"/>
                      </a:lnTo>
                      <a:lnTo>
                        <a:pt x="344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76"/>
                      </a:lnTo>
                      <a:lnTo>
                        <a:pt x="337" y="56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8" y="42"/>
                      </a:lnTo>
                      <a:lnTo>
                        <a:pt x="358" y="35"/>
                      </a:lnTo>
                      <a:lnTo>
                        <a:pt x="358" y="35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92" y="42"/>
                      </a:lnTo>
                      <a:lnTo>
                        <a:pt x="433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8" y="28"/>
                      </a:lnTo>
                      <a:lnTo>
                        <a:pt x="488" y="28"/>
                      </a:lnTo>
                      <a:lnTo>
                        <a:pt x="488" y="28"/>
                      </a:lnTo>
                      <a:lnTo>
                        <a:pt x="495" y="35"/>
                      </a:lnTo>
                      <a:lnTo>
                        <a:pt x="495" y="35"/>
                      </a:lnTo>
                      <a:lnTo>
                        <a:pt x="495" y="35"/>
                      </a:lnTo>
                      <a:lnTo>
                        <a:pt x="495" y="28"/>
                      </a:lnTo>
                      <a:lnTo>
                        <a:pt x="495" y="28"/>
                      </a:lnTo>
                      <a:lnTo>
                        <a:pt x="502" y="28"/>
                      </a:lnTo>
                      <a:lnTo>
                        <a:pt x="495" y="28"/>
                      </a:lnTo>
                      <a:lnTo>
                        <a:pt x="502" y="28"/>
                      </a:lnTo>
                      <a:lnTo>
                        <a:pt x="502" y="28"/>
                      </a:lnTo>
                      <a:lnTo>
                        <a:pt x="502" y="21"/>
                      </a:lnTo>
                      <a:lnTo>
                        <a:pt x="502" y="21"/>
                      </a:lnTo>
                      <a:lnTo>
                        <a:pt x="502" y="21"/>
                      </a:lnTo>
                      <a:lnTo>
                        <a:pt x="509" y="14"/>
                      </a:lnTo>
                      <a:lnTo>
                        <a:pt x="509" y="14"/>
                      </a:lnTo>
                      <a:lnTo>
                        <a:pt x="509" y="14"/>
                      </a:lnTo>
                      <a:lnTo>
                        <a:pt x="515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36" y="0"/>
                      </a:lnTo>
                      <a:lnTo>
                        <a:pt x="536" y="0"/>
                      </a:lnTo>
                      <a:lnTo>
                        <a:pt x="536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14"/>
                      </a:lnTo>
                      <a:lnTo>
                        <a:pt x="550" y="14"/>
                      </a:lnTo>
                      <a:lnTo>
                        <a:pt x="550" y="14"/>
                      </a:lnTo>
                      <a:lnTo>
                        <a:pt x="550" y="28"/>
                      </a:lnTo>
                      <a:lnTo>
                        <a:pt x="550" y="28"/>
                      </a:lnTo>
                      <a:lnTo>
                        <a:pt x="550" y="28"/>
                      </a:lnTo>
                      <a:lnTo>
                        <a:pt x="557" y="28"/>
                      </a:lnTo>
                      <a:lnTo>
                        <a:pt x="557" y="28"/>
                      </a:lnTo>
                      <a:lnTo>
                        <a:pt x="563" y="28"/>
                      </a:lnTo>
                      <a:lnTo>
                        <a:pt x="563" y="35"/>
                      </a:lnTo>
                      <a:lnTo>
                        <a:pt x="563" y="35"/>
                      </a:lnTo>
                      <a:lnTo>
                        <a:pt x="563" y="35"/>
                      </a:lnTo>
                      <a:lnTo>
                        <a:pt x="563" y="42"/>
                      </a:lnTo>
                      <a:lnTo>
                        <a:pt x="563" y="42"/>
                      </a:lnTo>
                      <a:lnTo>
                        <a:pt x="563" y="42"/>
                      </a:lnTo>
                      <a:lnTo>
                        <a:pt x="563" y="49"/>
                      </a:lnTo>
                      <a:lnTo>
                        <a:pt x="570" y="49"/>
                      </a:lnTo>
                      <a:lnTo>
                        <a:pt x="570" y="49"/>
                      </a:lnTo>
                      <a:lnTo>
                        <a:pt x="570" y="63"/>
                      </a:lnTo>
                      <a:lnTo>
                        <a:pt x="570" y="63"/>
                      </a:lnTo>
                      <a:lnTo>
                        <a:pt x="570" y="70"/>
                      </a:lnTo>
                      <a:lnTo>
                        <a:pt x="570" y="70"/>
                      </a:lnTo>
                      <a:lnTo>
                        <a:pt x="563" y="76"/>
                      </a:lnTo>
                      <a:lnTo>
                        <a:pt x="570" y="83"/>
                      </a:lnTo>
                      <a:lnTo>
                        <a:pt x="570" y="83"/>
                      </a:lnTo>
                      <a:lnTo>
                        <a:pt x="563" y="90"/>
                      </a:lnTo>
                      <a:lnTo>
                        <a:pt x="584" y="83"/>
                      </a:lnTo>
                      <a:lnTo>
                        <a:pt x="612" y="104"/>
                      </a:lnTo>
                      <a:lnTo>
                        <a:pt x="632" y="125"/>
                      </a:lnTo>
                      <a:lnTo>
                        <a:pt x="639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6" y="118"/>
                      </a:lnTo>
                      <a:lnTo>
                        <a:pt x="666" y="118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73" y="111"/>
                      </a:lnTo>
                      <a:lnTo>
                        <a:pt x="673" y="111"/>
                      </a:lnTo>
                      <a:lnTo>
                        <a:pt x="673" y="111"/>
                      </a:lnTo>
                      <a:lnTo>
                        <a:pt x="673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94" y="104"/>
                      </a:lnTo>
                      <a:lnTo>
                        <a:pt x="687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701" y="104"/>
                      </a:lnTo>
                      <a:lnTo>
                        <a:pt x="701" y="104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32"/>
                      </a:lnTo>
                      <a:lnTo>
                        <a:pt x="694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15" y="118"/>
                      </a:lnTo>
                      <a:lnTo>
                        <a:pt x="715" y="118"/>
                      </a:lnTo>
                      <a:lnTo>
                        <a:pt x="715" y="118"/>
                      </a:lnTo>
                      <a:lnTo>
                        <a:pt x="715" y="111"/>
                      </a:lnTo>
                      <a:lnTo>
                        <a:pt x="715" y="111"/>
                      </a:lnTo>
                      <a:lnTo>
                        <a:pt x="715" y="111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159720" y="2680920"/>
                  <a:ext cx="984600" cy="457560"/>
                </a:xfrm>
                <a:custGeom>
                  <a:avLst/>
                  <a:gdLst/>
                  <a:ahLst/>
                  <a:rect l="l" t="t" r="r" b="b"/>
                  <a:pathLst>
                    <a:path w="782" h="389">
                      <a:moveTo>
                        <a:pt x="0" y="111"/>
                      </a:move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7" y="90"/>
                      </a:lnTo>
                      <a:lnTo>
                        <a:pt x="20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34" y="90"/>
                      </a:lnTo>
                      <a:lnTo>
                        <a:pt x="34" y="90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76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76"/>
                      </a:lnTo>
                      <a:lnTo>
                        <a:pt x="54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8" y="76"/>
                      </a:lnTo>
                      <a:lnTo>
                        <a:pt x="61" y="76"/>
                      </a:lnTo>
                      <a:lnTo>
                        <a:pt x="61" y="70"/>
                      </a:lnTo>
                      <a:lnTo>
                        <a:pt x="61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9" y="70"/>
                      </a:lnTo>
                      <a:lnTo>
                        <a:pt x="89" y="70"/>
                      </a:lnTo>
                      <a:lnTo>
                        <a:pt x="89" y="70"/>
                      </a:lnTo>
                      <a:lnTo>
                        <a:pt x="89" y="70"/>
                      </a:lnTo>
                      <a:lnTo>
                        <a:pt x="89" y="70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96" y="63"/>
                      </a:lnTo>
                      <a:lnTo>
                        <a:pt x="96" y="63"/>
                      </a:lnTo>
                      <a:lnTo>
                        <a:pt x="96" y="63"/>
                      </a:lnTo>
                      <a:lnTo>
                        <a:pt x="96" y="63"/>
                      </a:lnTo>
                      <a:lnTo>
                        <a:pt x="96" y="56"/>
                      </a:lnTo>
                      <a:lnTo>
                        <a:pt x="96" y="56"/>
                      </a:lnTo>
                      <a:lnTo>
                        <a:pt x="96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49"/>
                      </a:lnTo>
                      <a:lnTo>
                        <a:pt x="103" y="49"/>
                      </a:lnTo>
                      <a:lnTo>
                        <a:pt x="109" y="49"/>
                      </a:lnTo>
                      <a:lnTo>
                        <a:pt x="109" y="49"/>
                      </a:lnTo>
                      <a:lnTo>
                        <a:pt x="109" y="49"/>
                      </a:lnTo>
                      <a:lnTo>
                        <a:pt x="109" y="42"/>
                      </a:lnTo>
                      <a:lnTo>
                        <a:pt x="109" y="42"/>
                      </a:lnTo>
                      <a:lnTo>
                        <a:pt x="109" y="42"/>
                      </a:lnTo>
                      <a:lnTo>
                        <a:pt x="109" y="42"/>
                      </a:lnTo>
                      <a:lnTo>
                        <a:pt x="109" y="42"/>
                      </a:lnTo>
                      <a:lnTo>
                        <a:pt x="103" y="42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7" y="21"/>
                      </a:lnTo>
                      <a:lnTo>
                        <a:pt x="137" y="21"/>
                      </a:lnTo>
                      <a:lnTo>
                        <a:pt x="137" y="21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7"/>
                      </a:lnTo>
                      <a:lnTo>
                        <a:pt x="144" y="7"/>
                      </a:lnTo>
                      <a:lnTo>
                        <a:pt x="144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0"/>
                      </a:lnTo>
                      <a:lnTo>
                        <a:pt x="164" y="0"/>
                      </a:lnTo>
                      <a:lnTo>
                        <a:pt x="164" y="0"/>
                      </a:lnTo>
                      <a:lnTo>
                        <a:pt x="164" y="0"/>
                      </a:lnTo>
                      <a:lnTo>
                        <a:pt x="171" y="7"/>
                      </a:lnTo>
                      <a:lnTo>
                        <a:pt x="171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92" y="14"/>
                      </a:lnTo>
                      <a:lnTo>
                        <a:pt x="192" y="14"/>
                      </a:lnTo>
                      <a:lnTo>
                        <a:pt x="199" y="21"/>
                      </a:lnTo>
                      <a:lnTo>
                        <a:pt x="199" y="14"/>
                      </a:lnTo>
                      <a:lnTo>
                        <a:pt x="206" y="14"/>
                      </a:lnTo>
                      <a:lnTo>
                        <a:pt x="206" y="14"/>
                      </a:lnTo>
                      <a:lnTo>
                        <a:pt x="212" y="14"/>
                      </a:lnTo>
                      <a:lnTo>
                        <a:pt x="212" y="21"/>
                      </a:lnTo>
                      <a:lnTo>
                        <a:pt x="212" y="21"/>
                      </a:lnTo>
                      <a:lnTo>
                        <a:pt x="219" y="21"/>
                      </a:lnTo>
                      <a:lnTo>
                        <a:pt x="219" y="21"/>
                      </a:lnTo>
                      <a:lnTo>
                        <a:pt x="226" y="21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19" y="35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2" y="49"/>
                      </a:lnTo>
                      <a:lnTo>
                        <a:pt x="212" y="56"/>
                      </a:lnTo>
                      <a:lnTo>
                        <a:pt x="212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26" y="63"/>
                      </a:lnTo>
                      <a:lnTo>
                        <a:pt x="226" y="63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33" y="76"/>
                      </a:lnTo>
                      <a:lnTo>
                        <a:pt x="233" y="83"/>
                      </a:lnTo>
                      <a:lnTo>
                        <a:pt x="233" y="90"/>
                      </a:lnTo>
                      <a:lnTo>
                        <a:pt x="233" y="90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104"/>
                      </a:lnTo>
                      <a:lnTo>
                        <a:pt x="240" y="104"/>
                      </a:lnTo>
                      <a:lnTo>
                        <a:pt x="240" y="104"/>
                      </a:lnTo>
                      <a:lnTo>
                        <a:pt x="247" y="104"/>
                      </a:lnTo>
                      <a:lnTo>
                        <a:pt x="247" y="104"/>
                      </a:lnTo>
                      <a:lnTo>
                        <a:pt x="247" y="104"/>
                      </a:lnTo>
                      <a:lnTo>
                        <a:pt x="247" y="111"/>
                      </a:lnTo>
                      <a:lnTo>
                        <a:pt x="240" y="111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7" y="118"/>
                      </a:lnTo>
                      <a:lnTo>
                        <a:pt x="247" y="125"/>
                      </a:lnTo>
                      <a:lnTo>
                        <a:pt x="240" y="125"/>
                      </a:lnTo>
                      <a:lnTo>
                        <a:pt x="240" y="125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0" y="146"/>
                      </a:lnTo>
                      <a:lnTo>
                        <a:pt x="240" y="146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7" y="153"/>
                      </a:lnTo>
                      <a:lnTo>
                        <a:pt x="247" y="153"/>
                      </a:lnTo>
                      <a:lnTo>
                        <a:pt x="247" y="153"/>
                      </a:lnTo>
                      <a:lnTo>
                        <a:pt x="247" y="160"/>
                      </a:lnTo>
                      <a:lnTo>
                        <a:pt x="247" y="160"/>
                      </a:lnTo>
                      <a:lnTo>
                        <a:pt x="240" y="160"/>
                      </a:lnTo>
                      <a:lnTo>
                        <a:pt x="247" y="160"/>
                      </a:lnTo>
                      <a:lnTo>
                        <a:pt x="240" y="167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7" y="181"/>
                      </a:lnTo>
                      <a:lnTo>
                        <a:pt x="247" y="181"/>
                      </a:lnTo>
                      <a:lnTo>
                        <a:pt x="247" y="181"/>
                      </a:lnTo>
                      <a:lnTo>
                        <a:pt x="247" y="181"/>
                      </a:lnTo>
                      <a:lnTo>
                        <a:pt x="254" y="187"/>
                      </a:lnTo>
                      <a:lnTo>
                        <a:pt x="254" y="187"/>
                      </a:lnTo>
                      <a:lnTo>
                        <a:pt x="254" y="187"/>
                      </a:lnTo>
                      <a:lnTo>
                        <a:pt x="254" y="187"/>
                      </a:lnTo>
                      <a:lnTo>
                        <a:pt x="254" y="194"/>
                      </a:lnTo>
                      <a:lnTo>
                        <a:pt x="254" y="194"/>
                      </a:lnTo>
                      <a:lnTo>
                        <a:pt x="254" y="194"/>
                      </a:lnTo>
                      <a:lnTo>
                        <a:pt x="254" y="194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7" y="215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54" y="229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60" y="243"/>
                      </a:lnTo>
                      <a:lnTo>
                        <a:pt x="260" y="243"/>
                      </a:lnTo>
                      <a:lnTo>
                        <a:pt x="254" y="243"/>
                      </a:lnTo>
                      <a:lnTo>
                        <a:pt x="260" y="243"/>
                      </a:lnTo>
                      <a:lnTo>
                        <a:pt x="260" y="243"/>
                      </a:lnTo>
                      <a:lnTo>
                        <a:pt x="260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0" y="250"/>
                      </a:lnTo>
                      <a:lnTo>
                        <a:pt x="240" y="243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7"/>
                      </a:lnTo>
                      <a:lnTo>
                        <a:pt x="240" y="257"/>
                      </a:lnTo>
                      <a:lnTo>
                        <a:pt x="240" y="257"/>
                      </a:lnTo>
                      <a:lnTo>
                        <a:pt x="240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54" y="264"/>
                      </a:lnTo>
                      <a:lnTo>
                        <a:pt x="247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71"/>
                      </a:lnTo>
                      <a:lnTo>
                        <a:pt x="260" y="271"/>
                      </a:lnTo>
                      <a:lnTo>
                        <a:pt x="260" y="271"/>
                      </a:lnTo>
                      <a:lnTo>
                        <a:pt x="260" y="271"/>
                      </a:lnTo>
                      <a:lnTo>
                        <a:pt x="260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8"/>
                      </a:lnTo>
                      <a:lnTo>
                        <a:pt x="267" y="278"/>
                      </a:lnTo>
                      <a:lnTo>
                        <a:pt x="267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85"/>
                      </a:lnTo>
                      <a:lnTo>
                        <a:pt x="274" y="285"/>
                      </a:lnTo>
                      <a:lnTo>
                        <a:pt x="274" y="285"/>
                      </a:lnTo>
                      <a:lnTo>
                        <a:pt x="281" y="285"/>
                      </a:lnTo>
                      <a:lnTo>
                        <a:pt x="281" y="285"/>
                      </a:lnTo>
                      <a:lnTo>
                        <a:pt x="281" y="285"/>
                      </a:lnTo>
                      <a:lnTo>
                        <a:pt x="281" y="292"/>
                      </a:lnTo>
                      <a:lnTo>
                        <a:pt x="281" y="292"/>
                      </a:lnTo>
                      <a:lnTo>
                        <a:pt x="288" y="292"/>
                      </a:lnTo>
                      <a:lnTo>
                        <a:pt x="288" y="298"/>
                      </a:lnTo>
                      <a:lnTo>
                        <a:pt x="288" y="298"/>
                      </a:lnTo>
                      <a:lnTo>
                        <a:pt x="288" y="298"/>
                      </a:lnTo>
                      <a:lnTo>
                        <a:pt x="288" y="305"/>
                      </a:lnTo>
                      <a:lnTo>
                        <a:pt x="288" y="305"/>
                      </a:lnTo>
                      <a:lnTo>
                        <a:pt x="288" y="305"/>
                      </a:lnTo>
                      <a:lnTo>
                        <a:pt x="295" y="305"/>
                      </a:lnTo>
                      <a:lnTo>
                        <a:pt x="295" y="305"/>
                      </a:lnTo>
                      <a:lnTo>
                        <a:pt x="295" y="305"/>
                      </a:lnTo>
                      <a:lnTo>
                        <a:pt x="295" y="305"/>
                      </a:lnTo>
                      <a:lnTo>
                        <a:pt x="302" y="305"/>
                      </a:lnTo>
                      <a:lnTo>
                        <a:pt x="302" y="305"/>
                      </a:lnTo>
                      <a:lnTo>
                        <a:pt x="302" y="305"/>
                      </a:lnTo>
                      <a:lnTo>
                        <a:pt x="302" y="305"/>
                      </a:lnTo>
                      <a:lnTo>
                        <a:pt x="308" y="305"/>
                      </a:lnTo>
                      <a:lnTo>
                        <a:pt x="308" y="312"/>
                      </a:lnTo>
                      <a:lnTo>
                        <a:pt x="315" y="312"/>
                      </a:lnTo>
                      <a:lnTo>
                        <a:pt x="315" y="312"/>
                      </a:lnTo>
                      <a:lnTo>
                        <a:pt x="315" y="312"/>
                      </a:lnTo>
                      <a:lnTo>
                        <a:pt x="322" y="312"/>
                      </a:lnTo>
                      <a:lnTo>
                        <a:pt x="322" y="319"/>
                      </a:lnTo>
                      <a:lnTo>
                        <a:pt x="322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2" y="312"/>
                      </a:lnTo>
                      <a:lnTo>
                        <a:pt x="322" y="312"/>
                      </a:lnTo>
                      <a:lnTo>
                        <a:pt x="322" y="312"/>
                      </a:lnTo>
                      <a:lnTo>
                        <a:pt x="322" y="312"/>
                      </a:lnTo>
                      <a:lnTo>
                        <a:pt x="322" y="312"/>
                      </a:lnTo>
                      <a:lnTo>
                        <a:pt x="315" y="312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298"/>
                      </a:lnTo>
                      <a:lnTo>
                        <a:pt x="315" y="298"/>
                      </a:lnTo>
                      <a:lnTo>
                        <a:pt x="315" y="298"/>
                      </a:lnTo>
                      <a:lnTo>
                        <a:pt x="315" y="298"/>
                      </a:lnTo>
                      <a:lnTo>
                        <a:pt x="315" y="292"/>
                      </a:lnTo>
                      <a:lnTo>
                        <a:pt x="315" y="292"/>
                      </a:lnTo>
                      <a:lnTo>
                        <a:pt x="315" y="292"/>
                      </a:lnTo>
                      <a:lnTo>
                        <a:pt x="315" y="292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22" y="285"/>
                      </a:lnTo>
                      <a:lnTo>
                        <a:pt x="315" y="278"/>
                      </a:lnTo>
                      <a:lnTo>
                        <a:pt x="315" y="278"/>
                      </a:lnTo>
                      <a:lnTo>
                        <a:pt x="322" y="278"/>
                      </a:lnTo>
                      <a:lnTo>
                        <a:pt x="322" y="278"/>
                      </a:lnTo>
                      <a:lnTo>
                        <a:pt x="322" y="278"/>
                      </a:lnTo>
                      <a:lnTo>
                        <a:pt x="322" y="278"/>
                      </a:lnTo>
                      <a:lnTo>
                        <a:pt x="322" y="271"/>
                      </a:lnTo>
                      <a:lnTo>
                        <a:pt x="322" y="271"/>
                      </a:lnTo>
                      <a:lnTo>
                        <a:pt x="315" y="271"/>
                      </a:lnTo>
                      <a:lnTo>
                        <a:pt x="315" y="271"/>
                      </a:lnTo>
                      <a:lnTo>
                        <a:pt x="315" y="271"/>
                      </a:lnTo>
                      <a:lnTo>
                        <a:pt x="315" y="271"/>
                      </a:lnTo>
                      <a:lnTo>
                        <a:pt x="315" y="264"/>
                      </a:lnTo>
                      <a:lnTo>
                        <a:pt x="315" y="264"/>
                      </a:lnTo>
                      <a:lnTo>
                        <a:pt x="322" y="264"/>
                      </a:lnTo>
                      <a:lnTo>
                        <a:pt x="322" y="264"/>
                      </a:lnTo>
                      <a:lnTo>
                        <a:pt x="322" y="257"/>
                      </a:lnTo>
                      <a:lnTo>
                        <a:pt x="322" y="257"/>
                      </a:lnTo>
                      <a:lnTo>
                        <a:pt x="322" y="257"/>
                      </a:lnTo>
                      <a:lnTo>
                        <a:pt x="322" y="257"/>
                      </a:lnTo>
                      <a:lnTo>
                        <a:pt x="322" y="250"/>
                      </a:lnTo>
                      <a:lnTo>
                        <a:pt x="322" y="250"/>
                      </a:lnTo>
                      <a:lnTo>
                        <a:pt x="329" y="250"/>
                      </a:lnTo>
                      <a:lnTo>
                        <a:pt x="329" y="250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36" y="243"/>
                      </a:lnTo>
                      <a:lnTo>
                        <a:pt x="336" y="243"/>
                      </a:lnTo>
                      <a:lnTo>
                        <a:pt x="336" y="243"/>
                      </a:lnTo>
                      <a:lnTo>
                        <a:pt x="336" y="236"/>
                      </a:lnTo>
                      <a:lnTo>
                        <a:pt x="336" y="243"/>
                      </a:lnTo>
                      <a:lnTo>
                        <a:pt x="343" y="236"/>
                      </a:lnTo>
                      <a:lnTo>
                        <a:pt x="343" y="236"/>
                      </a:lnTo>
                      <a:lnTo>
                        <a:pt x="343" y="236"/>
                      </a:lnTo>
                      <a:lnTo>
                        <a:pt x="350" y="236"/>
                      </a:lnTo>
                      <a:lnTo>
                        <a:pt x="350" y="236"/>
                      </a:lnTo>
                      <a:lnTo>
                        <a:pt x="350" y="236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63" y="229"/>
                      </a:lnTo>
                      <a:lnTo>
                        <a:pt x="363" y="236"/>
                      </a:lnTo>
                      <a:lnTo>
                        <a:pt x="363" y="236"/>
                      </a:lnTo>
                      <a:lnTo>
                        <a:pt x="363" y="236"/>
                      </a:lnTo>
                      <a:lnTo>
                        <a:pt x="363" y="236"/>
                      </a:lnTo>
                      <a:lnTo>
                        <a:pt x="363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7" y="236"/>
                      </a:lnTo>
                      <a:lnTo>
                        <a:pt x="370" y="236"/>
                      </a:lnTo>
                      <a:lnTo>
                        <a:pt x="370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64"/>
                      </a:lnTo>
                      <a:lnTo>
                        <a:pt x="391" y="264"/>
                      </a:lnTo>
                      <a:lnTo>
                        <a:pt x="391" y="264"/>
                      </a:lnTo>
                      <a:lnTo>
                        <a:pt x="391" y="264"/>
                      </a:lnTo>
                      <a:lnTo>
                        <a:pt x="391" y="264"/>
                      </a:lnTo>
                      <a:lnTo>
                        <a:pt x="391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405" y="257"/>
                      </a:lnTo>
                      <a:lnTo>
                        <a:pt x="405" y="264"/>
                      </a:lnTo>
                      <a:lnTo>
                        <a:pt x="405" y="264"/>
                      </a:lnTo>
                      <a:lnTo>
                        <a:pt x="405" y="264"/>
                      </a:lnTo>
                      <a:lnTo>
                        <a:pt x="405" y="264"/>
                      </a:lnTo>
                      <a:lnTo>
                        <a:pt x="405" y="257"/>
                      </a:lnTo>
                      <a:lnTo>
                        <a:pt x="405" y="257"/>
                      </a:lnTo>
                      <a:lnTo>
                        <a:pt x="405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8" y="257"/>
                      </a:lnTo>
                      <a:lnTo>
                        <a:pt x="418" y="250"/>
                      </a:lnTo>
                      <a:lnTo>
                        <a:pt x="418" y="250"/>
                      </a:lnTo>
                      <a:lnTo>
                        <a:pt x="418" y="250"/>
                      </a:lnTo>
                      <a:lnTo>
                        <a:pt x="418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43"/>
                      </a:lnTo>
                      <a:lnTo>
                        <a:pt x="425" y="243"/>
                      </a:lnTo>
                      <a:lnTo>
                        <a:pt x="425" y="243"/>
                      </a:lnTo>
                      <a:lnTo>
                        <a:pt x="425" y="243"/>
                      </a:lnTo>
                      <a:lnTo>
                        <a:pt x="425" y="243"/>
                      </a:lnTo>
                      <a:lnTo>
                        <a:pt x="418" y="243"/>
                      </a:lnTo>
                      <a:lnTo>
                        <a:pt x="418" y="243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29"/>
                      </a:lnTo>
                      <a:lnTo>
                        <a:pt x="418" y="229"/>
                      </a:lnTo>
                      <a:lnTo>
                        <a:pt x="418" y="229"/>
                      </a:lnTo>
                      <a:lnTo>
                        <a:pt x="418" y="229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18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15"/>
                      </a:lnTo>
                      <a:lnTo>
                        <a:pt x="425" y="215"/>
                      </a:lnTo>
                      <a:lnTo>
                        <a:pt x="425" y="215"/>
                      </a:lnTo>
                      <a:lnTo>
                        <a:pt x="425" y="215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194"/>
                      </a:lnTo>
                      <a:lnTo>
                        <a:pt x="432" y="194"/>
                      </a:lnTo>
                      <a:lnTo>
                        <a:pt x="432" y="194"/>
                      </a:lnTo>
                      <a:lnTo>
                        <a:pt x="432" y="187"/>
                      </a:lnTo>
                      <a:lnTo>
                        <a:pt x="439" y="187"/>
                      </a:lnTo>
                      <a:lnTo>
                        <a:pt x="432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501" y="167"/>
                      </a:lnTo>
                      <a:lnTo>
                        <a:pt x="521" y="167"/>
                      </a:lnTo>
                      <a:lnTo>
                        <a:pt x="542" y="167"/>
                      </a:lnTo>
                      <a:lnTo>
                        <a:pt x="542" y="187"/>
                      </a:lnTo>
                      <a:lnTo>
                        <a:pt x="549" y="194"/>
                      </a:lnTo>
                      <a:lnTo>
                        <a:pt x="549" y="194"/>
                      </a:lnTo>
                      <a:lnTo>
                        <a:pt x="549" y="194"/>
                      </a:lnTo>
                      <a:lnTo>
                        <a:pt x="549" y="194"/>
                      </a:lnTo>
                      <a:lnTo>
                        <a:pt x="549" y="194"/>
                      </a:lnTo>
                      <a:lnTo>
                        <a:pt x="549" y="201"/>
                      </a:lnTo>
                      <a:lnTo>
                        <a:pt x="549" y="201"/>
                      </a:lnTo>
                      <a:lnTo>
                        <a:pt x="549" y="201"/>
                      </a:lnTo>
                      <a:lnTo>
                        <a:pt x="549" y="208"/>
                      </a:lnTo>
                      <a:lnTo>
                        <a:pt x="549" y="208"/>
                      </a:lnTo>
                      <a:lnTo>
                        <a:pt x="549" y="208"/>
                      </a:lnTo>
                      <a:lnTo>
                        <a:pt x="549" y="208"/>
                      </a:lnTo>
                      <a:lnTo>
                        <a:pt x="549" y="215"/>
                      </a:lnTo>
                      <a:lnTo>
                        <a:pt x="549" y="215"/>
                      </a:lnTo>
                      <a:lnTo>
                        <a:pt x="549" y="215"/>
                      </a:lnTo>
                      <a:lnTo>
                        <a:pt x="549" y="222"/>
                      </a:lnTo>
                      <a:lnTo>
                        <a:pt x="549" y="222"/>
                      </a:lnTo>
                      <a:lnTo>
                        <a:pt x="549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9"/>
                      </a:lnTo>
                      <a:lnTo>
                        <a:pt x="556" y="229"/>
                      </a:lnTo>
                      <a:lnTo>
                        <a:pt x="563" y="229"/>
                      </a:lnTo>
                      <a:lnTo>
                        <a:pt x="563" y="236"/>
                      </a:lnTo>
                      <a:lnTo>
                        <a:pt x="563" y="236"/>
                      </a:lnTo>
                      <a:lnTo>
                        <a:pt x="563" y="236"/>
                      </a:lnTo>
                      <a:lnTo>
                        <a:pt x="563" y="236"/>
                      </a:lnTo>
                      <a:lnTo>
                        <a:pt x="556" y="236"/>
                      </a:lnTo>
                      <a:lnTo>
                        <a:pt x="556" y="236"/>
                      </a:lnTo>
                      <a:lnTo>
                        <a:pt x="556" y="243"/>
                      </a:lnTo>
                      <a:lnTo>
                        <a:pt x="556" y="243"/>
                      </a:lnTo>
                      <a:lnTo>
                        <a:pt x="556" y="243"/>
                      </a:lnTo>
                      <a:lnTo>
                        <a:pt x="563" y="243"/>
                      </a:lnTo>
                      <a:lnTo>
                        <a:pt x="563" y="243"/>
                      </a:lnTo>
                      <a:lnTo>
                        <a:pt x="563" y="243"/>
                      </a:lnTo>
                      <a:lnTo>
                        <a:pt x="563" y="243"/>
                      </a:lnTo>
                      <a:lnTo>
                        <a:pt x="563" y="250"/>
                      </a:lnTo>
                      <a:lnTo>
                        <a:pt x="563" y="250"/>
                      </a:lnTo>
                      <a:lnTo>
                        <a:pt x="563" y="250"/>
                      </a:lnTo>
                      <a:lnTo>
                        <a:pt x="563" y="250"/>
                      </a:lnTo>
                      <a:lnTo>
                        <a:pt x="569" y="250"/>
                      </a:lnTo>
                      <a:lnTo>
                        <a:pt x="569" y="250"/>
                      </a:lnTo>
                      <a:lnTo>
                        <a:pt x="569" y="257"/>
                      </a:lnTo>
                      <a:lnTo>
                        <a:pt x="569" y="257"/>
                      </a:lnTo>
                      <a:lnTo>
                        <a:pt x="569" y="257"/>
                      </a:lnTo>
                      <a:lnTo>
                        <a:pt x="569" y="257"/>
                      </a:lnTo>
                      <a:lnTo>
                        <a:pt x="569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8"/>
                      </a:lnTo>
                      <a:lnTo>
                        <a:pt x="583" y="278"/>
                      </a:lnTo>
                      <a:lnTo>
                        <a:pt x="583" y="278"/>
                      </a:lnTo>
                      <a:lnTo>
                        <a:pt x="583" y="278"/>
                      </a:lnTo>
                      <a:lnTo>
                        <a:pt x="590" y="278"/>
                      </a:lnTo>
                      <a:lnTo>
                        <a:pt x="590" y="278"/>
                      </a:lnTo>
                      <a:lnTo>
                        <a:pt x="590" y="278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7" y="285"/>
                      </a:lnTo>
                      <a:lnTo>
                        <a:pt x="597" y="285"/>
                      </a:lnTo>
                      <a:lnTo>
                        <a:pt x="597" y="285"/>
                      </a:lnTo>
                      <a:lnTo>
                        <a:pt x="597" y="285"/>
                      </a:lnTo>
                      <a:lnTo>
                        <a:pt x="604" y="285"/>
                      </a:lnTo>
                      <a:lnTo>
                        <a:pt x="604" y="292"/>
                      </a:lnTo>
                      <a:lnTo>
                        <a:pt x="604" y="292"/>
                      </a:lnTo>
                      <a:lnTo>
                        <a:pt x="604" y="292"/>
                      </a:lnTo>
                      <a:lnTo>
                        <a:pt x="604" y="292"/>
                      </a:lnTo>
                      <a:lnTo>
                        <a:pt x="611" y="292"/>
                      </a:lnTo>
                      <a:lnTo>
                        <a:pt x="611" y="292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7" y="285"/>
                      </a:lnTo>
                      <a:lnTo>
                        <a:pt x="617" y="285"/>
                      </a:lnTo>
                      <a:lnTo>
                        <a:pt x="617" y="285"/>
                      </a:lnTo>
                      <a:lnTo>
                        <a:pt x="617" y="285"/>
                      </a:lnTo>
                      <a:lnTo>
                        <a:pt x="617" y="285"/>
                      </a:lnTo>
                      <a:lnTo>
                        <a:pt x="624" y="285"/>
                      </a:lnTo>
                      <a:lnTo>
                        <a:pt x="624" y="285"/>
                      </a:lnTo>
                      <a:lnTo>
                        <a:pt x="624" y="292"/>
                      </a:lnTo>
                      <a:lnTo>
                        <a:pt x="624" y="292"/>
                      </a:lnTo>
                      <a:lnTo>
                        <a:pt x="624" y="292"/>
                      </a:lnTo>
                      <a:lnTo>
                        <a:pt x="624" y="292"/>
                      </a:lnTo>
                      <a:lnTo>
                        <a:pt x="624" y="298"/>
                      </a:lnTo>
                      <a:lnTo>
                        <a:pt x="624" y="298"/>
                      </a:lnTo>
                      <a:lnTo>
                        <a:pt x="617" y="298"/>
                      </a:lnTo>
                      <a:lnTo>
                        <a:pt x="617" y="298"/>
                      </a:lnTo>
                      <a:lnTo>
                        <a:pt x="617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12"/>
                      </a:lnTo>
                      <a:lnTo>
                        <a:pt x="624" y="312"/>
                      </a:lnTo>
                      <a:lnTo>
                        <a:pt x="631" y="312"/>
                      </a:lnTo>
                      <a:lnTo>
                        <a:pt x="631" y="312"/>
                      </a:lnTo>
                      <a:lnTo>
                        <a:pt x="631" y="312"/>
                      </a:lnTo>
                      <a:lnTo>
                        <a:pt x="631" y="312"/>
                      </a:lnTo>
                      <a:lnTo>
                        <a:pt x="631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9"/>
                      </a:lnTo>
                      <a:lnTo>
                        <a:pt x="638" y="319"/>
                      </a:lnTo>
                      <a:lnTo>
                        <a:pt x="638" y="312"/>
                      </a:lnTo>
                      <a:lnTo>
                        <a:pt x="645" y="312"/>
                      </a:lnTo>
                      <a:lnTo>
                        <a:pt x="645" y="319"/>
                      </a:lnTo>
                      <a:lnTo>
                        <a:pt x="645" y="312"/>
                      </a:lnTo>
                      <a:lnTo>
                        <a:pt x="645" y="319"/>
                      </a:lnTo>
                      <a:lnTo>
                        <a:pt x="645" y="319"/>
                      </a:lnTo>
                      <a:lnTo>
                        <a:pt x="645" y="319"/>
                      </a:lnTo>
                      <a:lnTo>
                        <a:pt x="645" y="319"/>
                      </a:lnTo>
                      <a:lnTo>
                        <a:pt x="645" y="319"/>
                      </a:lnTo>
                      <a:lnTo>
                        <a:pt x="645" y="326"/>
                      </a:lnTo>
                      <a:lnTo>
                        <a:pt x="652" y="319"/>
                      </a:lnTo>
                      <a:lnTo>
                        <a:pt x="652" y="326"/>
                      </a:lnTo>
                      <a:lnTo>
                        <a:pt x="652" y="319"/>
                      </a:lnTo>
                      <a:lnTo>
                        <a:pt x="652" y="319"/>
                      </a:lnTo>
                      <a:lnTo>
                        <a:pt x="652" y="319"/>
                      </a:lnTo>
                      <a:lnTo>
                        <a:pt x="652" y="326"/>
                      </a:lnTo>
                      <a:lnTo>
                        <a:pt x="652" y="326"/>
                      </a:lnTo>
                      <a:lnTo>
                        <a:pt x="652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66" y="326"/>
                      </a:lnTo>
                      <a:lnTo>
                        <a:pt x="666" y="326"/>
                      </a:lnTo>
                      <a:lnTo>
                        <a:pt x="666" y="326"/>
                      </a:lnTo>
                      <a:lnTo>
                        <a:pt x="666" y="333"/>
                      </a:lnTo>
                      <a:lnTo>
                        <a:pt x="666" y="326"/>
                      </a:lnTo>
                      <a:lnTo>
                        <a:pt x="666" y="333"/>
                      </a:lnTo>
                      <a:lnTo>
                        <a:pt x="666" y="333"/>
                      </a:lnTo>
                      <a:lnTo>
                        <a:pt x="666" y="333"/>
                      </a:lnTo>
                      <a:lnTo>
                        <a:pt x="672" y="326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9" y="333"/>
                      </a:lnTo>
                      <a:lnTo>
                        <a:pt x="679" y="333"/>
                      </a:lnTo>
                      <a:lnTo>
                        <a:pt x="679" y="333"/>
                      </a:lnTo>
                      <a:lnTo>
                        <a:pt x="679" y="333"/>
                      </a:lnTo>
                      <a:lnTo>
                        <a:pt x="679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93" y="333"/>
                      </a:lnTo>
                      <a:lnTo>
                        <a:pt x="693" y="333"/>
                      </a:lnTo>
                      <a:lnTo>
                        <a:pt x="693" y="333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7"/>
                      </a:lnTo>
                      <a:lnTo>
                        <a:pt x="700" y="347"/>
                      </a:lnTo>
                      <a:lnTo>
                        <a:pt x="700" y="347"/>
                      </a:lnTo>
                      <a:lnTo>
                        <a:pt x="700" y="347"/>
                      </a:lnTo>
                      <a:lnTo>
                        <a:pt x="700" y="347"/>
                      </a:lnTo>
                      <a:lnTo>
                        <a:pt x="707" y="347"/>
                      </a:lnTo>
                      <a:lnTo>
                        <a:pt x="707" y="354"/>
                      </a:lnTo>
                      <a:lnTo>
                        <a:pt x="707" y="354"/>
                      </a:lnTo>
                      <a:lnTo>
                        <a:pt x="707" y="354"/>
                      </a:lnTo>
                      <a:lnTo>
                        <a:pt x="707" y="354"/>
                      </a:lnTo>
                      <a:lnTo>
                        <a:pt x="714" y="354"/>
                      </a:lnTo>
                      <a:lnTo>
                        <a:pt x="714" y="354"/>
                      </a:lnTo>
                      <a:lnTo>
                        <a:pt x="714" y="354"/>
                      </a:lnTo>
                      <a:lnTo>
                        <a:pt x="714" y="361"/>
                      </a:lnTo>
                      <a:lnTo>
                        <a:pt x="720" y="361"/>
                      </a:lnTo>
                      <a:lnTo>
                        <a:pt x="720" y="361"/>
                      </a:lnTo>
                      <a:lnTo>
                        <a:pt x="720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8"/>
                      </a:lnTo>
                      <a:lnTo>
                        <a:pt x="727" y="368"/>
                      </a:lnTo>
                      <a:lnTo>
                        <a:pt x="727" y="368"/>
                      </a:lnTo>
                      <a:lnTo>
                        <a:pt x="727" y="375"/>
                      </a:lnTo>
                      <a:lnTo>
                        <a:pt x="727" y="375"/>
                      </a:lnTo>
                      <a:lnTo>
                        <a:pt x="727" y="375"/>
                      </a:lnTo>
                      <a:lnTo>
                        <a:pt x="727" y="375"/>
                      </a:lnTo>
                      <a:lnTo>
                        <a:pt x="727" y="375"/>
                      </a:lnTo>
                      <a:lnTo>
                        <a:pt x="734" y="375"/>
                      </a:lnTo>
                      <a:lnTo>
                        <a:pt x="734" y="375"/>
                      </a:lnTo>
                      <a:lnTo>
                        <a:pt x="734" y="375"/>
                      </a:lnTo>
                      <a:lnTo>
                        <a:pt x="734" y="375"/>
                      </a:lnTo>
                      <a:lnTo>
                        <a:pt x="734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68"/>
                      </a:lnTo>
                      <a:lnTo>
                        <a:pt x="748" y="368"/>
                      </a:lnTo>
                      <a:lnTo>
                        <a:pt x="748" y="368"/>
                      </a:lnTo>
                      <a:lnTo>
                        <a:pt x="748" y="375"/>
                      </a:lnTo>
                      <a:lnTo>
                        <a:pt x="748" y="368"/>
                      </a:lnTo>
                      <a:lnTo>
                        <a:pt x="748" y="368"/>
                      </a:lnTo>
                      <a:lnTo>
                        <a:pt x="755" y="368"/>
                      </a:lnTo>
                      <a:lnTo>
                        <a:pt x="755" y="375"/>
                      </a:lnTo>
                      <a:lnTo>
                        <a:pt x="755" y="375"/>
                      </a:lnTo>
                      <a:lnTo>
                        <a:pt x="755" y="368"/>
                      </a:lnTo>
                      <a:lnTo>
                        <a:pt x="755" y="368"/>
                      </a:lnTo>
                      <a:lnTo>
                        <a:pt x="755" y="368"/>
                      </a:lnTo>
                      <a:lnTo>
                        <a:pt x="762" y="368"/>
                      </a:lnTo>
                      <a:lnTo>
                        <a:pt x="762" y="368"/>
                      </a:lnTo>
                      <a:lnTo>
                        <a:pt x="762" y="368"/>
                      </a:lnTo>
                      <a:lnTo>
                        <a:pt x="762" y="368"/>
                      </a:lnTo>
                      <a:lnTo>
                        <a:pt x="762" y="368"/>
                      </a:lnTo>
                      <a:lnTo>
                        <a:pt x="768" y="368"/>
                      </a:lnTo>
                      <a:lnTo>
                        <a:pt x="768" y="368"/>
                      </a:lnTo>
                      <a:lnTo>
                        <a:pt x="768" y="361"/>
                      </a:lnTo>
                      <a:lnTo>
                        <a:pt x="768" y="361"/>
                      </a:lnTo>
                      <a:lnTo>
                        <a:pt x="775" y="361"/>
                      </a:lnTo>
                      <a:lnTo>
                        <a:pt x="775" y="361"/>
                      </a:lnTo>
                      <a:lnTo>
                        <a:pt x="775" y="361"/>
                      </a:lnTo>
                      <a:lnTo>
                        <a:pt x="775" y="361"/>
                      </a:lnTo>
                      <a:lnTo>
                        <a:pt x="782" y="361"/>
                      </a:lnTo>
                      <a:lnTo>
                        <a:pt x="782" y="361"/>
                      </a:lnTo>
                      <a:lnTo>
                        <a:pt x="782" y="361"/>
                      </a:lnTo>
                      <a:lnTo>
                        <a:pt x="775" y="368"/>
                      </a:lnTo>
                      <a:lnTo>
                        <a:pt x="775" y="368"/>
                      </a:lnTo>
                      <a:lnTo>
                        <a:pt x="775" y="375"/>
                      </a:lnTo>
                      <a:lnTo>
                        <a:pt x="768" y="375"/>
                      </a:lnTo>
                      <a:lnTo>
                        <a:pt x="768" y="375"/>
                      </a:lnTo>
                      <a:lnTo>
                        <a:pt x="762" y="382"/>
                      </a:lnTo>
                      <a:lnTo>
                        <a:pt x="762" y="382"/>
                      </a:lnTo>
                      <a:lnTo>
                        <a:pt x="755" y="382"/>
                      </a:lnTo>
                      <a:lnTo>
                        <a:pt x="755" y="382"/>
                      </a:lnTo>
                      <a:lnTo>
                        <a:pt x="755" y="382"/>
                      </a:lnTo>
                      <a:lnTo>
                        <a:pt x="755" y="38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259360" y="3138840"/>
                  <a:ext cx="1851120" cy="741960"/>
                </a:xfrm>
                <a:custGeom>
                  <a:avLst/>
                  <a:gdLst/>
                  <a:ahLst/>
                  <a:rect l="l" t="t" r="r" b="b"/>
                  <a:pathLst>
                    <a:path w="1470" h="631">
                      <a:moveTo>
                        <a:pt x="1470" y="0"/>
                      </a:moveTo>
                      <a:lnTo>
                        <a:pt x="1470" y="0"/>
                      </a:lnTo>
                      <a:lnTo>
                        <a:pt x="1470" y="0"/>
                      </a:lnTo>
                      <a:lnTo>
                        <a:pt x="1463" y="7"/>
                      </a:lnTo>
                      <a:lnTo>
                        <a:pt x="1463" y="7"/>
                      </a:lnTo>
                      <a:lnTo>
                        <a:pt x="1470" y="7"/>
                      </a:lnTo>
                      <a:lnTo>
                        <a:pt x="1470" y="7"/>
                      </a:lnTo>
                      <a:lnTo>
                        <a:pt x="1470" y="7"/>
                      </a:lnTo>
                      <a:lnTo>
                        <a:pt x="1470" y="7"/>
                      </a:lnTo>
                      <a:lnTo>
                        <a:pt x="1470" y="13"/>
                      </a:lnTo>
                      <a:lnTo>
                        <a:pt x="1463" y="20"/>
                      </a:lnTo>
                      <a:lnTo>
                        <a:pt x="1456" y="34"/>
                      </a:lnTo>
                      <a:lnTo>
                        <a:pt x="1456" y="41"/>
                      </a:lnTo>
                      <a:lnTo>
                        <a:pt x="1449" y="55"/>
                      </a:lnTo>
                      <a:lnTo>
                        <a:pt x="1442" y="76"/>
                      </a:lnTo>
                      <a:lnTo>
                        <a:pt x="1442" y="76"/>
                      </a:lnTo>
                      <a:lnTo>
                        <a:pt x="1435" y="83"/>
                      </a:lnTo>
                      <a:lnTo>
                        <a:pt x="1429" y="97"/>
                      </a:lnTo>
                      <a:lnTo>
                        <a:pt x="1429" y="104"/>
                      </a:lnTo>
                      <a:lnTo>
                        <a:pt x="1422" y="111"/>
                      </a:lnTo>
                      <a:lnTo>
                        <a:pt x="1415" y="118"/>
                      </a:lnTo>
                      <a:lnTo>
                        <a:pt x="1401" y="166"/>
                      </a:lnTo>
                      <a:lnTo>
                        <a:pt x="1374" y="215"/>
                      </a:lnTo>
                      <a:lnTo>
                        <a:pt x="1367" y="229"/>
                      </a:lnTo>
                      <a:lnTo>
                        <a:pt x="1360" y="242"/>
                      </a:lnTo>
                      <a:lnTo>
                        <a:pt x="1346" y="270"/>
                      </a:lnTo>
                      <a:lnTo>
                        <a:pt x="1312" y="346"/>
                      </a:lnTo>
                      <a:lnTo>
                        <a:pt x="1312" y="346"/>
                      </a:lnTo>
                      <a:lnTo>
                        <a:pt x="1312" y="346"/>
                      </a:lnTo>
                      <a:lnTo>
                        <a:pt x="1312" y="346"/>
                      </a:lnTo>
                      <a:lnTo>
                        <a:pt x="1312" y="346"/>
                      </a:lnTo>
                      <a:lnTo>
                        <a:pt x="1305" y="346"/>
                      </a:lnTo>
                      <a:lnTo>
                        <a:pt x="1305" y="346"/>
                      </a:lnTo>
                      <a:lnTo>
                        <a:pt x="1305" y="353"/>
                      </a:lnTo>
                      <a:lnTo>
                        <a:pt x="1305" y="353"/>
                      </a:lnTo>
                      <a:lnTo>
                        <a:pt x="1305" y="353"/>
                      </a:lnTo>
                      <a:lnTo>
                        <a:pt x="1305" y="353"/>
                      </a:lnTo>
                      <a:lnTo>
                        <a:pt x="1298" y="360"/>
                      </a:lnTo>
                      <a:lnTo>
                        <a:pt x="1298" y="360"/>
                      </a:lnTo>
                      <a:lnTo>
                        <a:pt x="1298" y="367"/>
                      </a:lnTo>
                      <a:lnTo>
                        <a:pt x="1298" y="367"/>
                      </a:lnTo>
                      <a:lnTo>
                        <a:pt x="1291" y="374"/>
                      </a:lnTo>
                      <a:lnTo>
                        <a:pt x="1298" y="374"/>
                      </a:lnTo>
                      <a:lnTo>
                        <a:pt x="1298" y="381"/>
                      </a:lnTo>
                      <a:lnTo>
                        <a:pt x="1298" y="381"/>
                      </a:lnTo>
                      <a:lnTo>
                        <a:pt x="1298" y="388"/>
                      </a:lnTo>
                      <a:lnTo>
                        <a:pt x="1298" y="388"/>
                      </a:lnTo>
                      <a:lnTo>
                        <a:pt x="1305" y="388"/>
                      </a:lnTo>
                      <a:lnTo>
                        <a:pt x="1305" y="388"/>
                      </a:lnTo>
                      <a:lnTo>
                        <a:pt x="1305" y="388"/>
                      </a:lnTo>
                      <a:lnTo>
                        <a:pt x="1305" y="395"/>
                      </a:lnTo>
                      <a:lnTo>
                        <a:pt x="1312" y="395"/>
                      </a:lnTo>
                      <a:lnTo>
                        <a:pt x="1312" y="402"/>
                      </a:lnTo>
                      <a:lnTo>
                        <a:pt x="1312" y="402"/>
                      </a:lnTo>
                      <a:lnTo>
                        <a:pt x="1312" y="402"/>
                      </a:lnTo>
                      <a:lnTo>
                        <a:pt x="1319" y="402"/>
                      </a:lnTo>
                      <a:lnTo>
                        <a:pt x="1319" y="402"/>
                      </a:lnTo>
                      <a:lnTo>
                        <a:pt x="1319" y="402"/>
                      </a:lnTo>
                      <a:lnTo>
                        <a:pt x="1319" y="402"/>
                      </a:lnTo>
                      <a:lnTo>
                        <a:pt x="1319" y="409"/>
                      </a:lnTo>
                      <a:lnTo>
                        <a:pt x="1319" y="409"/>
                      </a:lnTo>
                      <a:lnTo>
                        <a:pt x="1319" y="416"/>
                      </a:lnTo>
                      <a:lnTo>
                        <a:pt x="1319" y="416"/>
                      </a:lnTo>
                      <a:lnTo>
                        <a:pt x="1319" y="416"/>
                      </a:lnTo>
                      <a:lnTo>
                        <a:pt x="1319" y="423"/>
                      </a:lnTo>
                      <a:lnTo>
                        <a:pt x="1326" y="423"/>
                      </a:lnTo>
                      <a:lnTo>
                        <a:pt x="1326" y="423"/>
                      </a:lnTo>
                      <a:lnTo>
                        <a:pt x="1319" y="423"/>
                      </a:lnTo>
                      <a:lnTo>
                        <a:pt x="1319" y="430"/>
                      </a:lnTo>
                      <a:lnTo>
                        <a:pt x="1319" y="437"/>
                      </a:lnTo>
                      <a:lnTo>
                        <a:pt x="1319" y="437"/>
                      </a:lnTo>
                      <a:lnTo>
                        <a:pt x="1319" y="437"/>
                      </a:lnTo>
                      <a:lnTo>
                        <a:pt x="1319" y="444"/>
                      </a:lnTo>
                      <a:lnTo>
                        <a:pt x="1319" y="444"/>
                      </a:lnTo>
                      <a:lnTo>
                        <a:pt x="1319" y="444"/>
                      </a:lnTo>
                      <a:lnTo>
                        <a:pt x="1312" y="444"/>
                      </a:lnTo>
                      <a:lnTo>
                        <a:pt x="1312" y="451"/>
                      </a:lnTo>
                      <a:lnTo>
                        <a:pt x="1312" y="451"/>
                      </a:lnTo>
                      <a:lnTo>
                        <a:pt x="1312" y="451"/>
                      </a:lnTo>
                      <a:lnTo>
                        <a:pt x="1312" y="457"/>
                      </a:lnTo>
                      <a:lnTo>
                        <a:pt x="1312" y="457"/>
                      </a:lnTo>
                      <a:lnTo>
                        <a:pt x="1312" y="457"/>
                      </a:lnTo>
                      <a:lnTo>
                        <a:pt x="1305" y="457"/>
                      </a:lnTo>
                      <a:lnTo>
                        <a:pt x="1305" y="464"/>
                      </a:lnTo>
                      <a:lnTo>
                        <a:pt x="1305" y="464"/>
                      </a:lnTo>
                      <a:lnTo>
                        <a:pt x="1305" y="464"/>
                      </a:lnTo>
                      <a:lnTo>
                        <a:pt x="1305" y="464"/>
                      </a:lnTo>
                      <a:lnTo>
                        <a:pt x="1305" y="464"/>
                      </a:lnTo>
                      <a:lnTo>
                        <a:pt x="1305" y="471"/>
                      </a:lnTo>
                      <a:lnTo>
                        <a:pt x="1305" y="471"/>
                      </a:lnTo>
                      <a:lnTo>
                        <a:pt x="1305" y="471"/>
                      </a:lnTo>
                      <a:lnTo>
                        <a:pt x="1305" y="478"/>
                      </a:lnTo>
                      <a:lnTo>
                        <a:pt x="1305" y="478"/>
                      </a:lnTo>
                      <a:lnTo>
                        <a:pt x="1305" y="478"/>
                      </a:lnTo>
                      <a:lnTo>
                        <a:pt x="1312" y="485"/>
                      </a:lnTo>
                      <a:lnTo>
                        <a:pt x="1312" y="485"/>
                      </a:lnTo>
                      <a:lnTo>
                        <a:pt x="1312" y="485"/>
                      </a:lnTo>
                      <a:lnTo>
                        <a:pt x="1312" y="485"/>
                      </a:lnTo>
                      <a:lnTo>
                        <a:pt x="1312" y="485"/>
                      </a:lnTo>
                      <a:lnTo>
                        <a:pt x="1305" y="492"/>
                      </a:lnTo>
                      <a:lnTo>
                        <a:pt x="1305" y="492"/>
                      </a:lnTo>
                      <a:lnTo>
                        <a:pt x="1305" y="492"/>
                      </a:lnTo>
                      <a:lnTo>
                        <a:pt x="1305" y="499"/>
                      </a:lnTo>
                      <a:lnTo>
                        <a:pt x="1305" y="499"/>
                      </a:lnTo>
                      <a:lnTo>
                        <a:pt x="1305" y="499"/>
                      </a:lnTo>
                      <a:lnTo>
                        <a:pt x="1305" y="499"/>
                      </a:lnTo>
                      <a:lnTo>
                        <a:pt x="1305" y="506"/>
                      </a:lnTo>
                      <a:lnTo>
                        <a:pt x="1305" y="506"/>
                      </a:lnTo>
                      <a:lnTo>
                        <a:pt x="1305" y="506"/>
                      </a:lnTo>
                      <a:lnTo>
                        <a:pt x="1305" y="506"/>
                      </a:lnTo>
                      <a:lnTo>
                        <a:pt x="1305" y="506"/>
                      </a:lnTo>
                      <a:lnTo>
                        <a:pt x="1305" y="513"/>
                      </a:lnTo>
                      <a:lnTo>
                        <a:pt x="1305" y="513"/>
                      </a:lnTo>
                      <a:lnTo>
                        <a:pt x="1305" y="513"/>
                      </a:lnTo>
                      <a:lnTo>
                        <a:pt x="1298" y="513"/>
                      </a:lnTo>
                      <a:lnTo>
                        <a:pt x="1298" y="513"/>
                      </a:lnTo>
                      <a:lnTo>
                        <a:pt x="1298" y="520"/>
                      </a:lnTo>
                      <a:lnTo>
                        <a:pt x="1298" y="520"/>
                      </a:lnTo>
                      <a:lnTo>
                        <a:pt x="1298" y="520"/>
                      </a:lnTo>
                      <a:lnTo>
                        <a:pt x="1298" y="527"/>
                      </a:lnTo>
                      <a:lnTo>
                        <a:pt x="1298" y="527"/>
                      </a:lnTo>
                      <a:lnTo>
                        <a:pt x="1298" y="527"/>
                      </a:lnTo>
                      <a:lnTo>
                        <a:pt x="1298" y="527"/>
                      </a:lnTo>
                      <a:lnTo>
                        <a:pt x="1298" y="534"/>
                      </a:lnTo>
                      <a:lnTo>
                        <a:pt x="1298" y="534"/>
                      </a:lnTo>
                      <a:lnTo>
                        <a:pt x="1298" y="534"/>
                      </a:lnTo>
                      <a:lnTo>
                        <a:pt x="1298" y="534"/>
                      </a:lnTo>
                      <a:lnTo>
                        <a:pt x="1298" y="541"/>
                      </a:lnTo>
                      <a:lnTo>
                        <a:pt x="1305" y="534"/>
                      </a:lnTo>
                      <a:lnTo>
                        <a:pt x="1305" y="534"/>
                      </a:lnTo>
                      <a:lnTo>
                        <a:pt x="1305" y="534"/>
                      </a:lnTo>
                      <a:lnTo>
                        <a:pt x="1305" y="534"/>
                      </a:lnTo>
                      <a:lnTo>
                        <a:pt x="1305" y="541"/>
                      </a:lnTo>
                      <a:lnTo>
                        <a:pt x="1305" y="541"/>
                      </a:lnTo>
                      <a:lnTo>
                        <a:pt x="1298" y="541"/>
                      </a:lnTo>
                      <a:lnTo>
                        <a:pt x="1298" y="541"/>
                      </a:lnTo>
                      <a:lnTo>
                        <a:pt x="1298" y="541"/>
                      </a:lnTo>
                      <a:lnTo>
                        <a:pt x="1298" y="541"/>
                      </a:lnTo>
                      <a:lnTo>
                        <a:pt x="1298" y="548"/>
                      </a:lnTo>
                      <a:lnTo>
                        <a:pt x="1291" y="548"/>
                      </a:lnTo>
                      <a:lnTo>
                        <a:pt x="1243" y="548"/>
                      </a:lnTo>
                      <a:lnTo>
                        <a:pt x="1243" y="548"/>
                      </a:lnTo>
                      <a:lnTo>
                        <a:pt x="1181" y="548"/>
                      </a:lnTo>
                      <a:lnTo>
                        <a:pt x="1133" y="548"/>
                      </a:lnTo>
                      <a:lnTo>
                        <a:pt x="1099" y="548"/>
                      </a:lnTo>
                      <a:lnTo>
                        <a:pt x="1099" y="548"/>
                      </a:lnTo>
                      <a:lnTo>
                        <a:pt x="1092" y="548"/>
                      </a:lnTo>
                      <a:lnTo>
                        <a:pt x="1030" y="548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23" y="541"/>
                      </a:lnTo>
                      <a:lnTo>
                        <a:pt x="1023" y="534"/>
                      </a:lnTo>
                      <a:lnTo>
                        <a:pt x="1023" y="534"/>
                      </a:lnTo>
                      <a:lnTo>
                        <a:pt x="1023" y="534"/>
                      </a:lnTo>
                      <a:lnTo>
                        <a:pt x="1023" y="534"/>
                      </a:lnTo>
                      <a:lnTo>
                        <a:pt x="1023" y="534"/>
                      </a:lnTo>
                      <a:lnTo>
                        <a:pt x="1017" y="534"/>
                      </a:lnTo>
                      <a:lnTo>
                        <a:pt x="1017" y="534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0" y="541"/>
                      </a:lnTo>
                      <a:lnTo>
                        <a:pt x="1010" y="541"/>
                      </a:lnTo>
                      <a:lnTo>
                        <a:pt x="1010" y="541"/>
                      </a:lnTo>
                      <a:lnTo>
                        <a:pt x="1010" y="541"/>
                      </a:lnTo>
                      <a:lnTo>
                        <a:pt x="1010" y="541"/>
                      </a:lnTo>
                      <a:lnTo>
                        <a:pt x="1010" y="548"/>
                      </a:lnTo>
                      <a:lnTo>
                        <a:pt x="1010" y="548"/>
                      </a:lnTo>
                      <a:lnTo>
                        <a:pt x="1010" y="548"/>
                      </a:lnTo>
                      <a:lnTo>
                        <a:pt x="1010" y="548"/>
                      </a:lnTo>
                      <a:lnTo>
                        <a:pt x="1010" y="548"/>
                      </a:lnTo>
                      <a:lnTo>
                        <a:pt x="1003" y="548"/>
                      </a:lnTo>
                      <a:lnTo>
                        <a:pt x="1003" y="548"/>
                      </a:lnTo>
                      <a:lnTo>
                        <a:pt x="1003" y="548"/>
                      </a:lnTo>
                      <a:lnTo>
                        <a:pt x="1003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89" y="548"/>
                      </a:lnTo>
                      <a:lnTo>
                        <a:pt x="989" y="548"/>
                      </a:lnTo>
                      <a:lnTo>
                        <a:pt x="989" y="548"/>
                      </a:lnTo>
                      <a:lnTo>
                        <a:pt x="982" y="541"/>
                      </a:lnTo>
                      <a:lnTo>
                        <a:pt x="982" y="541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27"/>
                      </a:lnTo>
                      <a:lnTo>
                        <a:pt x="982" y="527"/>
                      </a:lnTo>
                      <a:lnTo>
                        <a:pt x="982" y="527"/>
                      </a:lnTo>
                      <a:lnTo>
                        <a:pt x="982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34"/>
                      </a:lnTo>
                      <a:lnTo>
                        <a:pt x="975" y="534"/>
                      </a:lnTo>
                      <a:lnTo>
                        <a:pt x="969" y="527"/>
                      </a:lnTo>
                      <a:lnTo>
                        <a:pt x="969" y="527"/>
                      </a:lnTo>
                      <a:lnTo>
                        <a:pt x="969" y="527"/>
                      </a:lnTo>
                      <a:lnTo>
                        <a:pt x="969" y="527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13"/>
                      </a:lnTo>
                      <a:lnTo>
                        <a:pt x="969" y="513"/>
                      </a:lnTo>
                      <a:lnTo>
                        <a:pt x="969" y="513"/>
                      </a:lnTo>
                      <a:lnTo>
                        <a:pt x="969" y="513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48" y="506"/>
                      </a:lnTo>
                      <a:lnTo>
                        <a:pt x="948" y="506"/>
                      </a:lnTo>
                      <a:lnTo>
                        <a:pt x="948" y="506"/>
                      </a:lnTo>
                      <a:lnTo>
                        <a:pt x="948" y="506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1" y="499"/>
                      </a:lnTo>
                      <a:lnTo>
                        <a:pt x="941" y="499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85"/>
                      </a:lnTo>
                      <a:lnTo>
                        <a:pt x="941" y="485"/>
                      </a:lnTo>
                      <a:lnTo>
                        <a:pt x="941" y="485"/>
                      </a:lnTo>
                      <a:lnTo>
                        <a:pt x="941" y="485"/>
                      </a:lnTo>
                      <a:lnTo>
                        <a:pt x="934" y="485"/>
                      </a:lnTo>
                      <a:lnTo>
                        <a:pt x="934" y="485"/>
                      </a:lnTo>
                      <a:lnTo>
                        <a:pt x="934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1" y="471"/>
                      </a:lnTo>
                      <a:lnTo>
                        <a:pt x="886" y="478"/>
                      </a:lnTo>
                      <a:lnTo>
                        <a:pt x="872" y="478"/>
                      </a:lnTo>
                      <a:lnTo>
                        <a:pt x="866" y="471"/>
                      </a:lnTo>
                      <a:lnTo>
                        <a:pt x="859" y="471"/>
                      </a:lnTo>
                      <a:lnTo>
                        <a:pt x="859" y="478"/>
                      </a:lnTo>
                      <a:lnTo>
                        <a:pt x="859" y="478"/>
                      </a:lnTo>
                      <a:lnTo>
                        <a:pt x="859" y="478"/>
                      </a:lnTo>
                      <a:lnTo>
                        <a:pt x="859" y="478"/>
                      </a:lnTo>
                      <a:lnTo>
                        <a:pt x="859" y="485"/>
                      </a:lnTo>
                      <a:lnTo>
                        <a:pt x="859" y="485"/>
                      </a:lnTo>
                      <a:lnTo>
                        <a:pt x="859" y="485"/>
                      </a:lnTo>
                      <a:lnTo>
                        <a:pt x="859" y="485"/>
                      </a:lnTo>
                      <a:lnTo>
                        <a:pt x="859" y="485"/>
                      </a:lnTo>
                      <a:lnTo>
                        <a:pt x="852" y="492"/>
                      </a:lnTo>
                      <a:lnTo>
                        <a:pt x="852" y="492"/>
                      </a:lnTo>
                      <a:lnTo>
                        <a:pt x="852" y="492"/>
                      </a:lnTo>
                      <a:lnTo>
                        <a:pt x="852" y="492"/>
                      </a:lnTo>
                      <a:lnTo>
                        <a:pt x="852" y="499"/>
                      </a:lnTo>
                      <a:lnTo>
                        <a:pt x="852" y="499"/>
                      </a:lnTo>
                      <a:lnTo>
                        <a:pt x="845" y="499"/>
                      </a:lnTo>
                      <a:lnTo>
                        <a:pt x="845" y="499"/>
                      </a:lnTo>
                      <a:lnTo>
                        <a:pt x="845" y="506"/>
                      </a:lnTo>
                      <a:lnTo>
                        <a:pt x="845" y="506"/>
                      </a:lnTo>
                      <a:lnTo>
                        <a:pt x="845" y="506"/>
                      </a:lnTo>
                      <a:lnTo>
                        <a:pt x="845" y="499"/>
                      </a:lnTo>
                      <a:lnTo>
                        <a:pt x="838" y="499"/>
                      </a:lnTo>
                      <a:lnTo>
                        <a:pt x="838" y="499"/>
                      </a:lnTo>
                      <a:lnTo>
                        <a:pt x="838" y="499"/>
                      </a:lnTo>
                      <a:lnTo>
                        <a:pt x="838" y="499"/>
                      </a:lnTo>
                      <a:lnTo>
                        <a:pt x="838" y="506"/>
                      </a:lnTo>
                      <a:lnTo>
                        <a:pt x="838" y="506"/>
                      </a:lnTo>
                      <a:lnTo>
                        <a:pt x="831" y="506"/>
                      </a:lnTo>
                      <a:lnTo>
                        <a:pt x="831" y="506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20"/>
                      </a:lnTo>
                      <a:lnTo>
                        <a:pt x="831" y="520"/>
                      </a:lnTo>
                      <a:lnTo>
                        <a:pt x="831" y="520"/>
                      </a:lnTo>
                      <a:lnTo>
                        <a:pt x="831" y="520"/>
                      </a:lnTo>
                      <a:lnTo>
                        <a:pt x="831" y="527"/>
                      </a:lnTo>
                      <a:lnTo>
                        <a:pt x="838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24" y="527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18" y="541"/>
                      </a:lnTo>
                      <a:lnTo>
                        <a:pt x="818" y="541"/>
                      </a:lnTo>
                      <a:lnTo>
                        <a:pt x="818" y="534"/>
                      </a:lnTo>
                      <a:lnTo>
                        <a:pt x="818" y="541"/>
                      </a:lnTo>
                      <a:lnTo>
                        <a:pt x="818" y="541"/>
                      </a:lnTo>
                      <a:lnTo>
                        <a:pt x="818" y="541"/>
                      </a:lnTo>
                      <a:lnTo>
                        <a:pt x="818" y="548"/>
                      </a:lnTo>
                      <a:lnTo>
                        <a:pt x="818" y="548"/>
                      </a:lnTo>
                      <a:lnTo>
                        <a:pt x="818" y="548"/>
                      </a:lnTo>
                      <a:lnTo>
                        <a:pt x="818" y="548"/>
                      </a:lnTo>
                      <a:lnTo>
                        <a:pt x="818" y="548"/>
                      </a:lnTo>
                      <a:lnTo>
                        <a:pt x="818" y="555"/>
                      </a:lnTo>
                      <a:lnTo>
                        <a:pt x="818" y="555"/>
                      </a:lnTo>
                      <a:lnTo>
                        <a:pt x="818" y="555"/>
                      </a:lnTo>
                      <a:lnTo>
                        <a:pt x="811" y="555"/>
                      </a:lnTo>
                      <a:lnTo>
                        <a:pt x="811" y="562"/>
                      </a:lnTo>
                      <a:lnTo>
                        <a:pt x="804" y="562"/>
                      </a:lnTo>
                      <a:lnTo>
                        <a:pt x="804" y="562"/>
                      </a:lnTo>
                      <a:lnTo>
                        <a:pt x="804" y="562"/>
                      </a:lnTo>
                      <a:lnTo>
                        <a:pt x="804" y="562"/>
                      </a:lnTo>
                      <a:lnTo>
                        <a:pt x="804" y="562"/>
                      </a:lnTo>
                      <a:lnTo>
                        <a:pt x="804" y="555"/>
                      </a:lnTo>
                      <a:lnTo>
                        <a:pt x="804" y="555"/>
                      </a:lnTo>
                      <a:lnTo>
                        <a:pt x="804" y="555"/>
                      </a:lnTo>
                      <a:lnTo>
                        <a:pt x="797" y="555"/>
                      </a:lnTo>
                      <a:lnTo>
                        <a:pt x="797" y="555"/>
                      </a:lnTo>
                      <a:lnTo>
                        <a:pt x="790" y="562"/>
                      </a:lnTo>
                      <a:lnTo>
                        <a:pt x="790" y="562"/>
                      </a:lnTo>
                      <a:lnTo>
                        <a:pt x="790" y="562"/>
                      </a:lnTo>
                      <a:lnTo>
                        <a:pt x="790" y="562"/>
                      </a:lnTo>
                      <a:lnTo>
                        <a:pt x="783" y="562"/>
                      </a:lnTo>
                      <a:lnTo>
                        <a:pt x="783" y="562"/>
                      </a:lnTo>
                      <a:lnTo>
                        <a:pt x="783" y="562"/>
                      </a:lnTo>
                      <a:lnTo>
                        <a:pt x="783" y="562"/>
                      </a:lnTo>
                      <a:lnTo>
                        <a:pt x="783" y="562"/>
                      </a:lnTo>
                      <a:lnTo>
                        <a:pt x="776" y="562"/>
                      </a:lnTo>
                      <a:lnTo>
                        <a:pt x="776" y="562"/>
                      </a:lnTo>
                      <a:lnTo>
                        <a:pt x="776" y="562"/>
                      </a:lnTo>
                      <a:lnTo>
                        <a:pt x="776" y="562"/>
                      </a:lnTo>
                      <a:lnTo>
                        <a:pt x="776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56" y="562"/>
                      </a:lnTo>
                      <a:lnTo>
                        <a:pt x="756" y="562"/>
                      </a:lnTo>
                      <a:lnTo>
                        <a:pt x="756" y="562"/>
                      </a:lnTo>
                      <a:lnTo>
                        <a:pt x="756" y="568"/>
                      </a:lnTo>
                      <a:lnTo>
                        <a:pt x="749" y="568"/>
                      </a:lnTo>
                      <a:lnTo>
                        <a:pt x="749" y="568"/>
                      </a:lnTo>
                      <a:lnTo>
                        <a:pt x="749" y="568"/>
                      </a:lnTo>
                      <a:lnTo>
                        <a:pt x="749" y="568"/>
                      </a:lnTo>
                      <a:lnTo>
                        <a:pt x="749" y="568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82"/>
                      </a:lnTo>
                      <a:lnTo>
                        <a:pt x="749" y="582"/>
                      </a:lnTo>
                      <a:lnTo>
                        <a:pt x="749" y="582"/>
                      </a:lnTo>
                      <a:lnTo>
                        <a:pt x="749" y="582"/>
                      </a:lnTo>
                      <a:lnTo>
                        <a:pt x="749" y="582"/>
                      </a:lnTo>
                      <a:lnTo>
                        <a:pt x="749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96"/>
                      </a:lnTo>
                      <a:lnTo>
                        <a:pt x="742" y="596"/>
                      </a:lnTo>
                      <a:lnTo>
                        <a:pt x="742" y="596"/>
                      </a:lnTo>
                      <a:lnTo>
                        <a:pt x="735" y="596"/>
                      </a:lnTo>
                      <a:lnTo>
                        <a:pt x="735" y="596"/>
                      </a:lnTo>
                      <a:lnTo>
                        <a:pt x="735" y="596"/>
                      </a:lnTo>
                      <a:lnTo>
                        <a:pt x="735" y="596"/>
                      </a:lnTo>
                      <a:lnTo>
                        <a:pt x="735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89"/>
                      </a:lnTo>
                      <a:lnTo>
                        <a:pt x="728" y="589"/>
                      </a:lnTo>
                      <a:lnTo>
                        <a:pt x="728" y="589"/>
                      </a:lnTo>
                      <a:lnTo>
                        <a:pt x="728" y="589"/>
                      </a:lnTo>
                      <a:lnTo>
                        <a:pt x="728" y="589"/>
                      </a:lnTo>
                      <a:lnTo>
                        <a:pt x="728" y="582"/>
                      </a:lnTo>
                      <a:lnTo>
                        <a:pt x="721" y="582"/>
                      </a:lnTo>
                      <a:lnTo>
                        <a:pt x="721" y="582"/>
                      </a:lnTo>
                      <a:lnTo>
                        <a:pt x="721" y="582"/>
                      </a:lnTo>
                      <a:lnTo>
                        <a:pt x="721" y="589"/>
                      </a:lnTo>
                      <a:lnTo>
                        <a:pt x="715" y="589"/>
                      </a:lnTo>
                      <a:lnTo>
                        <a:pt x="715" y="589"/>
                      </a:lnTo>
                      <a:lnTo>
                        <a:pt x="715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96"/>
                      </a:lnTo>
                      <a:lnTo>
                        <a:pt x="708" y="596"/>
                      </a:lnTo>
                      <a:lnTo>
                        <a:pt x="708" y="603"/>
                      </a:lnTo>
                      <a:lnTo>
                        <a:pt x="708" y="603"/>
                      </a:lnTo>
                      <a:lnTo>
                        <a:pt x="708" y="603"/>
                      </a:lnTo>
                      <a:lnTo>
                        <a:pt x="708" y="603"/>
                      </a:lnTo>
                      <a:lnTo>
                        <a:pt x="701" y="603"/>
                      </a:lnTo>
                      <a:lnTo>
                        <a:pt x="701" y="603"/>
                      </a:lnTo>
                      <a:lnTo>
                        <a:pt x="701" y="603"/>
                      </a:lnTo>
                      <a:lnTo>
                        <a:pt x="701" y="603"/>
                      </a:lnTo>
                      <a:lnTo>
                        <a:pt x="701" y="603"/>
                      </a:lnTo>
                      <a:lnTo>
                        <a:pt x="701" y="596"/>
                      </a:lnTo>
                      <a:lnTo>
                        <a:pt x="701" y="603"/>
                      </a:lnTo>
                      <a:lnTo>
                        <a:pt x="701" y="596"/>
                      </a:lnTo>
                      <a:lnTo>
                        <a:pt x="694" y="596"/>
                      </a:lnTo>
                      <a:lnTo>
                        <a:pt x="694" y="596"/>
                      </a:lnTo>
                      <a:lnTo>
                        <a:pt x="694" y="596"/>
                      </a:lnTo>
                      <a:lnTo>
                        <a:pt x="694" y="596"/>
                      </a:lnTo>
                      <a:lnTo>
                        <a:pt x="694" y="596"/>
                      </a:lnTo>
                      <a:lnTo>
                        <a:pt x="687" y="596"/>
                      </a:lnTo>
                      <a:lnTo>
                        <a:pt x="687" y="596"/>
                      </a:lnTo>
                      <a:lnTo>
                        <a:pt x="687" y="596"/>
                      </a:lnTo>
                      <a:lnTo>
                        <a:pt x="687" y="603"/>
                      </a:lnTo>
                      <a:lnTo>
                        <a:pt x="687" y="596"/>
                      </a:lnTo>
                      <a:lnTo>
                        <a:pt x="687" y="603"/>
                      </a:lnTo>
                      <a:lnTo>
                        <a:pt x="687" y="603"/>
                      </a:lnTo>
                      <a:lnTo>
                        <a:pt x="687" y="603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73" y="610"/>
                      </a:lnTo>
                      <a:lnTo>
                        <a:pt x="673" y="610"/>
                      </a:lnTo>
                      <a:lnTo>
                        <a:pt x="673" y="610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66" y="603"/>
                      </a:lnTo>
                      <a:lnTo>
                        <a:pt x="666" y="603"/>
                      </a:lnTo>
                      <a:lnTo>
                        <a:pt x="666" y="603"/>
                      </a:lnTo>
                      <a:lnTo>
                        <a:pt x="666" y="603"/>
                      </a:lnTo>
                      <a:lnTo>
                        <a:pt x="666" y="596"/>
                      </a:lnTo>
                      <a:lnTo>
                        <a:pt x="660" y="596"/>
                      </a:lnTo>
                      <a:lnTo>
                        <a:pt x="660" y="596"/>
                      </a:lnTo>
                      <a:lnTo>
                        <a:pt x="660" y="596"/>
                      </a:lnTo>
                      <a:lnTo>
                        <a:pt x="660" y="596"/>
                      </a:lnTo>
                      <a:lnTo>
                        <a:pt x="660" y="596"/>
                      </a:lnTo>
                      <a:lnTo>
                        <a:pt x="653" y="596"/>
                      </a:lnTo>
                      <a:lnTo>
                        <a:pt x="653" y="596"/>
                      </a:lnTo>
                      <a:lnTo>
                        <a:pt x="653" y="596"/>
                      </a:lnTo>
                      <a:lnTo>
                        <a:pt x="646" y="596"/>
                      </a:lnTo>
                      <a:lnTo>
                        <a:pt x="646" y="596"/>
                      </a:lnTo>
                      <a:lnTo>
                        <a:pt x="646" y="596"/>
                      </a:lnTo>
                      <a:lnTo>
                        <a:pt x="646" y="596"/>
                      </a:lnTo>
                      <a:lnTo>
                        <a:pt x="646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25" y="596"/>
                      </a:lnTo>
                      <a:lnTo>
                        <a:pt x="625" y="596"/>
                      </a:lnTo>
                      <a:lnTo>
                        <a:pt x="625" y="596"/>
                      </a:lnTo>
                      <a:lnTo>
                        <a:pt x="625" y="596"/>
                      </a:lnTo>
                      <a:lnTo>
                        <a:pt x="625" y="596"/>
                      </a:lnTo>
                      <a:lnTo>
                        <a:pt x="625" y="603"/>
                      </a:lnTo>
                      <a:lnTo>
                        <a:pt x="625" y="603"/>
                      </a:lnTo>
                      <a:lnTo>
                        <a:pt x="625" y="603"/>
                      </a:lnTo>
                      <a:lnTo>
                        <a:pt x="618" y="610"/>
                      </a:lnTo>
                      <a:lnTo>
                        <a:pt x="618" y="610"/>
                      </a:lnTo>
                      <a:lnTo>
                        <a:pt x="618" y="610"/>
                      </a:lnTo>
                      <a:lnTo>
                        <a:pt x="618" y="610"/>
                      </a:lnTo>
                      <a:lnTo>
                        <a:pt x="618" y="617"/>
                      </a:lnTo>
                      <a:lnTo>
                        <a:pt x="618" y="617"/>
                      </a:lnTo>
                      <a:lnTo>
                        <a:pt x="612" y="617"/>
                      </a:lnTo>
                      <a:lnTo>
                        <a:pt x="612" y="617"/>
                      </a:lnTo>
                      <a:lnTo>
                        <a:pt x="612" y="617"/>
                      </a:lnTo>
                      <a:lnTo>
                        <a:pt x="605" y="617"/>
                      </a:lnTo>
                      <a:lnTo>
                        <a:pt x="605" y="617"/>
                      </a:lnTo>
                      <a:lnTo>
                        <a:pt x="598" y="624"/>
                      </a:lnTo>
                      <a:lnTo>
                        <a:pt x="598" y="624"/>
                      </a:lnTo>
                      <a:lnTo>
                        <a:pt x="598" y="624"/>
                      </a:lnTo>
                      <a:lnTo>
                        <a:pt x="598" y="624"/>
                      </a:lnTo>
                      <a:lnTo>
                        <a:pt x="598" y="624"/>
                      </a:lnTo>
                      <a:lnTo>
                        <a:pt x="591" y="624"/>
                      </a:lnTo>
                      <a:lnTo>
                        <a:pt x="591" y="624"/>
                      </a:lnTo>
                      <a:lnTo>
                        <a:pt x="591" y="624"/>
                      </a:lnTo>
                      <a:lnTo>
                        <a:pt x="591" y="631"/>
                      </a:lnTo>
                      <a:lnTo>
                        <a:pt x="591" y="631"/>
                      </a:lnTo>
                      <a:lnTo>
                        <a:pt x="570" y="624"/>
                      </a:lnTo>
                      <a:lnTo>
                        <a:pt x="563" y="617"/>
                      </a:lnTo>
                      <a:lnTo>
                        <a:pt x="563" y="617"/>
                      </a:lnTo>
                      <a:lnTo>
                        <a:pt x="563" y="617"/>
                      </a:lnTo>
                      <a:lnTo>
                        <a:pt x="550" y="610"/>
                      </a:lnTo>
                      <a:lnTo>
                        <a:pt x="495" y="589"/>
                      </a:lnTo>
                      <a:lnTo>
                        <a:pt x="474" y="582"/>
                      </a:lnTo>
                      <a:lnTo>
                        <a:pt x="440" y="568"/>
                      </a:lnTo>
                      <a:lnTo>
                        <a:pt x="426" y="562"/>
                      </a:lnTo>
                      <a:lnTo>
                        <a:pt x="426" y="562"/>
                      </a:lnTo>
                      <a:lnTo>
                        <a:pt x="426" y="562"/>
                      </a:lnTo>
                      <a:lnTo>
                        <a:pt x="406" y="548"/>
                      </a:lnTo>
                      <a:lnTo>
                        <a:pt x="392" y="541"/>
                      </a:lnTo>
                      <a:lnTo>
                        <a:pt x="371" y="534"/>
                      </a:lnTo>
                      <a:lnTo>
                        <a:pt x="358" y="527"/>
                      </a:lnTo>
                      <a:lnTo>
                        <a:pt x="344" y="513"/>
                      </a:lnTo>
                      <a:lnTo>
                        <a:pt x="309" y="499"/>
                      </a:lnTo>
                      <a:lnTo>
                        <a:pt x="296" y="492"/>
                      </a:lnTo>
                      <a:lnTo>
                        <a:pt x="289" y="485"/>
                      </a:lnTo>
                      <a:lnTo>
                        <a:pt x="282" y="485"/>
                      </a:lnTo>
                      <a:lnTo>
                        <a:pt x="275" y="485"/>
                      </a:lnTo>
                      <a:lnTo>
                        <a:pt x="241" y="478"/>
                      </a:lnTo>
                      <a:lnTo>
                        <a:pt x="213" y="471"/>
                      </a:lnTo>
                      <a:lnTo>
                        <a:pt x="193" y="464"/>
                      </a:lnTo>
                      <a:lnTo>
                        <a:pt x="186" y="464"/>
                      </a:lnTo>
                      <a:lnTo>
                        <a:pt x="152" y="457"/>
                      </a:lnTo>
                      <a:lnTo>
                        <a:pt x="152" y="457"/>
                      </a:lnTo>
                      <a:lnTo>
                        <a:pt x="152" y="457"/>
                      </a:lnTo>
                      <a:lnTo>
                        <a:pt x="138" y="451"/>
                      </a:lnTo>
                      <a:lnTo>
                        <a:pt x="138" y="451"/>
                      </a:lnTo>
                      <a:lnTo>
                        <a:pt x="97" y="444"/>
                      </a:lnTo>
                      <a:lnTo>
                        <a:pt x="97" y="444"/>
                      </a:lnTo>
                      <a:lnTo>
                        <a:pt x="76" y="437"/>
                      </a:lnTo>
                      <a:lnTo>
                        <a:pt x="42" y="423"/>
                      </a:lnTo>
                      <a:lnTo>
                        <a:pt x="7" y="402"/>
                      </a:lnTo>
                      <a:lnTo>
                        <a:pt x="0" y="402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211200" y="2378880"/>
                  <a:ext cx="639360" cy="677520"/>
                </a:xfrm>
                <a:custGeom>
                  <a:avLst/>
                  <a:gdLst/>
                  <a:ahLst/>
                  <a:rect l="l" t="t" r="r" b="b"/>
                  <a:pathLst>
                    <a:path w="508" h="576">
                      <a:moveTo>
                        <a:pt x="55" y="146"/>
                      </a:moveTo>
                      <a:lnTo>
                        <a:pt x="55" y="146"/>
                      </a:lnTo>
                      <a:lnTo>
                        <a:pt x="55" y="146"/>
                      </a:lnTo>
                      <a:lnTo>
                        <a:pt x="55" y="139"/>
                      </a:lnTo>
                      <a:lnTo>
                        <a:pt x="48" y="139"/>
                      </a:lnTo>
                      <a:lnTo>
                        <a:pt x="48" y="139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1" y="132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27" y="125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1"/>
                      </a:lnTo>
                      <a:lnTo>
                        <a:pt x="0" y="91"/>
                      </a:lnTo>
                      <a:lnTo>
                        <a:pt x="0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13" y="84"/>
                      </a:lnTo>
                      <a:lnTo>
                        <a:pt x="13" y="91"/>
                      </a:lnTo>
                      <a:lnTo>
                        <a:pt x="20" y="98"/>
                      </a:lnTo>
                      <a:lnTo>
                        <a:pt x="20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8" y="105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03" y="111"/>
                      </a:lnTo>
                      <a:lnTo>
                        <a:pt x="110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16" y="118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9"/>
                      </a:lnTo>
                      <a:lnTo>
                        <a:pt x="165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1" y="118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9" y="105"/>
                      </a:lnTo>
                      <a:lnTo>
                        <a:pt x="192" y="105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206" y="98"/>
                      </a:lnTo>
                      <a:lnTo>
                        <a:pt x="206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1"/>
                      </a:lnTo>
                      <a:lnTo>
                        <a:pt x="247" y="91"/>
                      </a:lnTo>
                      <a:lnTo>
                        <a:pt x="247" y="98"/>
                      </a:lnTo>
                      <a:lnTo>
                        <a:pt x="254" y="98"/>
                      </a:lnTo>
                      <a:lnTo>
                        <a:pt x="254" y="98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0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0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7"/>
                      </a:lnTo>
                      <a:lnTo>
                        <a:pt x="432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2" y="77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19" y="167"/>
                      </a:lnTo>
                      <a:lnTo>
                        <a:pt x="419" y="167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2" y="181"/>
                      </a:lnTo>
                      <a:lnTo>
                        <a:pt x="412" y="181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9"/>
                      </a:lnTo>
                      <a:lnTo>
                        <a:pt x="412" y="209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53" y="299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60" y="306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20"/>
                      </a:lnTo>
                      <a:lnTo>
                        <a:pt x="460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73" y="327"/>
                      </a:lnTo>
                      <a:lnTo>
                        <a:pt x="467" y="327"/>
                      </a:lnTo>
                      <a:lnTo>
                        <a:pt x="467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501" y="333"/>
                      </a:lnTo>
                      <a:lnTo>
                        <a:pt x="501" y="333"/>
                      </a:lnTo>
                      <a:lnTo>
                        <a:pt x="501" y="333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8" y="340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424"/>
                      </a:lnTo>
                      <a:lnTo>
                        <a:pt x="480" y="424"/>
                      </a:lnTo>
                      <a:lnTo>
                        <a:pt x="460" y="424"/>
                      </a:lnTo>
                      <a:lnTo>
                        <a:pt x="405" y="424"/>
                      </a:lnTo>
                      <a:lnTo>
                        <a:pt x="405" y="424"/>
                      </a:lnTo>
                      <a:lnTo>
                        <a:pt x="405" y="431"/>
                      </a:lnTo>
                      <a:lnTo>
                        <a:pt x="405" y="431"/>
                      </a:lnTo>
                      <a:lnTo>
                        <a:pt x="405" y="431"/>
                      </a:lnTo>
                      <a:lnTo>
                        <a:pt x="398" y="431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1" y="444"/>
                      </a:lnTo>
                      <a:lnTo>
                        <a:pt x="398" y="444"/>
                      </a:lnTo>
                      <a:lnTo>
                        <a:pt x="391" y="444"/>
                      </a:lnTo>
                      <a:lnTo>
                        <a:pt x="391" y="451"/>
                      </a:lnTo>
                      <a:lnTo>
                        <a:pt x="391" y="451"/>
                      </a:lnTo>
                      <a:lnTo>
                        <a:pt x="391" y="451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84" y="458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72"/>
                      </a:lnTo>
                      <a:lnTo>
                        <a:pt x="384" y="472"/>
                      </a:lnTo>
                      <a:lnTo>
                        <a:pt x="384" y="472"/>
                      </a:lnTo>
                      <a:lnTo>
                        <a:pt x="384" y="472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77" y="479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77" y="486"/>
                      </a:lnTo>
                      <a:lnTo>
                        <a:pt x="377" y="486"/>
                      </a:lnTo>
                      <a:lnTo>
                        <a:pt x="377" y="486"/>
                      </a:lnTo>
                      <a:lnTo>
                        <a:pt x="377" y="486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500"/>
                      </a:lnTo>
                      <a:lnTo>
                        <a:pt x="377" y="500"/>
                      </a:lnTo>
                      <a:lnTo>
                        <a:pt x="384" y="500"/>
                      </a:lnTo>
                      <a:lnTo>
                        <a:pt x="384" y="500"/>
                      </a:lnTo>
                      <a:lnTo>
                        <a:pt x="384" y="500"/>
                      </a:lnTo>
                      <a:lnTo>
                        <a:pt x="384" y="500"/>
                      </a:lnTo>
                      <a:lnTo>
                        <a:pt x="384" y="500"/>
                      </a:lnTo>
                      <a:lnTo>
                        <a:pt x="384" y="507"/>
                      </a:lnTo>
                      <a:lnTo>
                        <a:pt x="384" y="507"/>
                      </a:lnTo>
                      <a:lnTo>
                        <a:pt x="384" y="507"/>
                      </a:lnTo>
                      <a:lnTo>
                        <a:pt x="384" y="507"/>
                      </a:lnTo>
                      <a:lnTo>
                        <a:pt x="384" y="507"/>
                      </a:lnTo>
                      <a:lnTo>
                        <a:pt x="377" y="507"/>
                      </a:lnTo>
                      <a:lnTo>
                        <a:pt x="377" y="507"/>
                      </a:lnTo>
                      <a:lnTo>
                        <a:pt x="377" y="507"/>
                      </a:lnTo>
                      <a:lnTo>
                        <a:pt x="377" y="507"/>
                      </a:lnTo>
                      <a:lnTo>
                        <a:pt x="377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64" y="514"/>
                      </a:lnTo>
                      <a:lnTo>
                        <a:pt x="364" y="514"/>
                      </a:lnTo>
                      <a:lnTo>
                        <a:pt x="364" y="514"/>
                      </a:lnTo>
                      <a:lnTo>
                        <a:pt x="364" y="521"/>
                      </a:lnTo>
                      <a:lnTo>
                        <a:pt x="364" y="521"/>
                      </a:lnTo>
                      <a:lnTo>
                        <a:pt x="364" y="521"/>
                      </a:lnTo>
                      <a:lnTo>
                        <a:pt x="364" y="521"/>
                      </a:lnTo>
                      <a:lnTo>
                        <a:pt x="364" y="514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0" y="521"/>
                      </a:lnTo>
                      <a:lnTo>
                        <a:pt x="350" y="521"/>
                      </a:lnTo>
                      <a:lnTo>
                        <a:pt x="350" y="521"/>
                      </a:lnTo>
                      <a:lnTo>
                        <a:pt x="350" y="521"/>
                      </a:lnTo>
                      <a:lnTo>
                        <a:pt x="350" y="521"/>
                      </a:lnTo>
                      <a:lnTo>
                        <a:pt x="343" y="521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36" y="507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29" y="500"/>
                      </a:lnTo>
                      <a:lnTo>
                        <a:pt x="329" y="493"/>
                      </a:lnTo>
                      <a:lnTo>
                        <a:pt x="336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2" y="493"/>
                      </a:lnTo>
                      <a:lnTo>
                        <a:pt x="322" y="493"/>
                      </a:lnTo>
                      <a:lnTo>
                        <a:pt x="322" y="493"/>
                      </a:lnTo>
                      <a:lnTo>
                        <a:pt x="322" y="493"/>
                      </a:lnTo>
                      <a:lnTo>
                        <a:pt x="322" y="493"/>
                      </a:lnTo>
                      <a:lnTo>
                        <a:pt x="322" y="486"/>
                      </a:lnTo>
                      <a:lnTo>
                        <a:pt x="316" y="486"/>
                      </a:lnTo>
                      <a:lnTo>
                        <a:pt x="316" y="486"/>
                      </a:lnTo>
                      <a:lnTo>
                        <a:pt x="316" y="486"/>
                      </a:lnTo>
                      <a:lnTo>
                        <a:pt x="316" y="486"/>
                      </a:lnTo>
                      <a:lnTo>
                        <a:pt x="316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295" y="500"/>
                      </a:lnTo>
                      <a:lnTo>
                        <a:pt x="295" y="493"/>
                      </a:lnTo>
                      <a:lnTo>
                        <a:pt x="295" y="500"/>
                      </a:lnTo>
                      <a:lnTo>
                        <a:pt x="295" y="500"/>
                      </a:lnTo>
                      <a:lnTo>
                        <a:pt x="295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7"/>
                      </a:lnTo>
                      <a:lnTo>
                        <a:pt x="288" y="507"/>
                      </a:lnTo>
                      <a:lnTo>
                        <a:pt x="281" y="507"/>
                      </a:lnTo>
                      <a:lnTo>
                        <a:pt x="281" y="507"/>
                      </a:lnTo>
                      <a:lnTo>
                        <a:pt x="281" y="514"/>
                      </a:lnTo>
                      <a:lnTo>
                        <a:pt x="281" y="514"/>
                      </a:lnTo>
                      <a:lnTo>
                        <a:pt x="281" y="514"/>
                      </a:lnTo>
                      <a:lnTo>
                        <a:pt x="281" y="514"/>
                      </a:lnTo>
                      <a:lnTo>
                        <a:pt x="281" y="521"/>
                      </a:lnTo>
                      <a:lnTo>
                        <a:pt x="281" y="521"/>
                      </a:lnTo>
                      <a:lnTo>
                        <a:pt x="274" y="521"/>
                      </a:lnTo>
                      <a:lnTo>
                        <a:pt x="274" y="521"/>
                      </a:lnTo>
                      <a:lnTo>
                        <a:pt x="274" y="528"/>
                      </a:lnTo>
                      <a:lnTo>
                        <a:pt x="274" y="528"/>
                      </a:lnTo>
                      <a:lnTo>
                        <a:pt x="274" y="528"/>
                      </a:lnTo>
                      <a:lnTo>
                        <a:pt x="274" y="528"/>
                      </a:lnTo>
                      <a:lnTo>
                        <a:pt x="281" y="528"/>
                      </a:lnTo>
                      <a:lnTo>
                        <a:pt x="281" y="528"/>
                      </a:lnTo>
                      <a:lnTo>
                        <a:pt x="281" y="535"/>
                      </a:lnTo>
                      <a:lnTo>
                        <a:pt x="281" y="535"/>
                      </a:lnTo>
                      <a:lnTo>
                        <a:pt x="281" y="535"/>
                      </a:lnTo>
                      <a:lnTo>
                        <a:pt x="281" y="535"/>
                      </a:lnTo>
                      <a:lnTo>
                        <a:pt x="274" y="535"/>
                      </a:lnTo>
                      <a:lnTo>
                        <a:pt x="274" y="535"/>
                      </a:lnTo>
                      <a:lnTo>
                        <a:pt x="281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9"/>
                      </a:lnTo>
                      <a:lnTo>
                        <a:pt x="274" y="549"/>
                      </a:lnTo>
                      <a:lnTo>
                        <a:pt x="274" y="549"/>
                      </a:lnTo>
                      <a:lnTo>
                        <a:pt x="274" y="549"/>
                      </a:lnTo>
                      <a:lnTo>
                        <a:pt x="274" y="555"/>
                      </a:lnTo>
                      <a:lnTo>
                        <a:pt x="274" y="555"/>
                      </a:lnTo>
                      <a:lnTo>
                        <a:pt x="274" y="555"/>
                      </a:lnTo>
                      <a:lnTo>
                        <a:pt x="274" y="555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9"/>
                      </a:lnTo>
                      <a:lnTo>
                        <a:pt x="281" y="569"/>
                      </a:lnTo>
                      <a:lnTo>
                        <a:pt x="281" y="569"/>
                      </a:lnTo>
                      <a:lnTo>
                        <a:pt x="281" y="569"/>
                      </a:lnTo>
                      <a:lnTo>
                        <a:pt x="281" y="569"/>
                      </a:lnTo>
                      <a:lnTo>
                        <a:pt x="281" y="569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1" y="576"/>
                      </a:lnTo>
                      <a:lnTo>
                        <a:pt x="281" y="576"/>
                      </a:lnTo>
                      <a:lnTo>
                        <a:pt x="281" y="569"/>
                      </a:lnTo>
                      <a:lnTo>
                        <a:pt x="274" y="569"/>
                      </a:lnTo>
                      <a:lnTo>
                        <a:pt x="274" y="569"/>
                      </a:lnTo>
                      <a:lnTo>
                        <a:pt x="274" y="569"/>
                      </a:lnTo>
                      <a:lnTo>
                        <a:pt x="267" y="569"/>
                      </a:lnTo>
                      <a:lnTo>
                        <a:pt x="267" y="562"/>
                      </a:lnTo>
                      <a:lnTo>
                        <a:pt x="261" y="562"/>
                      </a:lnTo>
                      <a:lnTo>
                        <a:pt x="261" y="562"/>
                      </a:lnTo>
                      <a:lnTo>
                        <a:pt x="261" y="562"/>
                      </a:lnTo>
                      <a:lnTo>
                        <a:pt x="261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55"/>
                      </a:lnTo>
                      <a:lnTo>
                        <a:pt x="247" y="555"/>
                      </a:lnTo>
                      <a:lnTo>
                        <a:pt x="247" y="555"/>
                      </a:lnTo>
                      <a:lnTo>
                        <a:pt x="247" y="549"/>
                      </a:lnTo>
                      <a:lnTo>
                        <a:pt x="240" y="549"/>
                      </a:lnTo>
                      <a:lnTo>
                        <a:pt x="240" y="549"/>
                      </a:lnTo>
                      <a:lnTo>
                        <a:pt x="240" y="542"/>
                      </a:lnTo>
                      <a:lnTo>
                        <a:pt x="240" y="542"/>
                      </a:lnTo>
                      <a:lnTo>
                        <a:pt x="240" y="542"/>
                      </a:lnTo>
                      <a:lnTo>
                        <a:pt x="233" y="542"/>
                      </a:lnTo>
                      <a:lnTo>
                        <a:pt x="233" y="542"/>
                      </a:lnTo>
                      <a:lnTo>
                        <a:pt x="233" y="542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26" y="535"/>
                      </a:lnTo>
                      <a:lnTo>
                        <a:pt x="226" y="535"/>
                      </a:lnTo>
                      <a:lnTo>
                        <a:pt x="226" y="535"/>
                      </a:lnTo>
                      <a:lnTo>
                        <a:pt x="226" y="528"/>
                      </a:lnTo>
                      <a:lnTo>
                        <a:pt x="226" y="528"/>
                      </a:lnTo>
                      <a:lnTo>
                        <a:pt x="226" y="528"/>
                      </a:lnTo>
                      <a:lnTo>
                        <a:pt x="226" y="528"/>
                      </a:lnTo>
                      <a:lnTo>
                        <a:pt x="219" y="528"/>
                      </a:lnTo>
                      <a:lnTo>
                        <a:pt x="219" y="528"/>
                      </a:lnTo>
                      <a:lnTo>
                        <a:pt x="219" y="528"/>
                      </a:lnTo>
                      <a:lnTo>
                        <a:pt x="219" y="528"/>
                      </a:lnTo>
                      <a:lnTo>
                        <a:pt x="213" y="528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06" y="521"/>
                      </a:lnTo>
                      <a:lnTo>
                        <a:pt x="213" y="521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199" y="514"/>
                      </a:lnTo>
                      <a:lnTo>
                        <a:pt x="199" y="514"/>
                      </a:lnTo>
                      <a:lnTo>
                        <a:pt x="199" y="514"/>
                      </a:lnTo>
                      <a:lnTo>
                        <a:pt x="199" y="514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0"/>
                      </a:lnTo>
                      <a:lnTo>
                        <a:pt x="199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13" y="507"/>
                      </a:lnTo>
                      <a:lnTo>
                        <a:pt x="213" y="507"/>
                      </a:lnTo>
                      <a:lnTo>
                        <a:pt x="213" y="507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9" y="500"/>
                      </a:lnTo>
                      <a:lnTo>
                        <a:pt x="219" y="500"/>
                      </a:lnTo>
                      <a:lnTo>
                        <a:pt x="219" y="500"/>
                      </a:lnTo>
                      <a:lnTo>
                        <a:pt x="213" y="500"/>
                      </a:lnTo>
                      <a:lnTo>
                        <a:pt x="219" y="500"/>
                      </a:lnTo>
                      <a:lnTo>
                        <a:pt x="219" y="500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79"/>
                      </a:lnTo>
                      <a:lnTo>
                        <a:pt x="219" y="479"/>
                      </a:lnTo>
                      <a:lnTo>
                        <a:pt x="219" y="479"/>
                      </a:lnTo>
                      <a:lnTo>
                        <a:pt x="219" y="479"/>
                      </a:lnTo>
                      <a:lnTo>
                        <a:pt x="226" y="479"/>
                      </a:lnTo>
                      <a:lnTo>
                        <a:pt x="226" y="479"/>
                      </a:lnTo>
                      <a:lnTo>
                        <a:pt x="226" y="479"/>
                      </a:lnTo>
                      <a:lnTo>
                        <a:pt x="226" y="479"/>
                      </a:lnTo>
                      <a:lnTo>
                        <a:pt x="226" y="479"/>
                      </a:lnTo>
                      <a:lnTo>
                        <a:pt x="226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3" y="451"/>
                      </a:lnTo>
                      <a:lnTo>
                        <a:pt x="213" y="451"/>
                      </a:lnTo>
                      <a:lnTo>
                        <a:pt x="213" y="451"/>
                      </a:lnTo>
                      <a:lnTo>
                        <a:pt x="213" y="451"/>
                      </a:lnTo>
                      <a:lnTo>
                        <a:pt x="213" y="444"/>
                      </a:lnTo>
                      <a:lnTo>
                        <a:pt x="213" y="444"/>
                      </a:lnTo>
                      <a:lnTo>
                        <a:pt x="213" y="444"/>
                      </a:lnTo>
                      <a:lnTo>
                        <a:pt x="213" y="444"/>
                      </a:lnTo>
                      <a:lnTo>
                        <a:pt x="206" y="438"/>
                      </a:lnTo>
                      <a:lnTo>
                        <a:pt x="206" y="438"/>
                      </a:lnTo>
                      <a:lnTo>
                        <a:pt x="206" y="438"/>
                      </a:lnTo>
                      <a:lnTo>
                        <a:pt x="206" y="438"/>
                      </a:lnTo>
                      <a:lnTo>
                        <a:pt x="206" y="431"/>
                      </a:lnTo>
                      <a:lnTo>
                        <a:pt x="206" y="431"/>
                      </a:lnTo>
                      <a:lnTo>
                        <a:pt x="206" y="431"/>
                      </a:lnTo>
                      <a:lnTo>
                        <a:pt x="206" y="431"/>
                      </a:lnTo>
                      <a:lnTo>
                        <a:pt x="206" y="424"/>
                      </a:lnTo>
                      <a:lnTo>
                        <a:pt x="199" y="424"/>
                      </a:lnTo>
                      <a:lnTo>
                        <a:pt x="206" y="417"/>
                      </a:lnTo>
                      <a:lnTo>
                        <a:pt x="199" y="417"/>
                      </a:lnTo>
                      <a:lnTo>
                        <a:pt x="206" y="417"/>
                      </a:lnTo>
                      <a:lnTo>
                        <a:pt x="206" y="417"/>
                      </a:lnTo>
                      <a:lnTo>
                        <a:pt x="206" y="410"/>
                      </a:lnTo>
                      <a:lnTo>
                        <a:pt x="206" y="410"/>
                      </a:lnTo>
                      <a:lnTo>
                        <a:pt x="206" y="410"/>
                      </a:lnTo>
                      <a:lnTo>
                        <a:pt x="199" y="410"/>
                      </a:lnTo>
                      <a:lnTo>
                        <a:pt x="199" y="410"/>
                      </a:lnTo>
                      <a:lnTo>
                        <a:pt x="199" y="410"/>
                      </a:lnTo>
                      <a:lnTo>
                        <a:pt x="199" y="410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396"/>
                      </a:lnTo>
                      <a:lnTo>
                        <a:pt x="199" y="396"/>
                      </a:lnTo>
                      <a:lnTo>
                        <a:pt x="199" y="389"/>
                      </a:lnTo>
                      <a:lnTo>
                        <a:pt x="199" y="389"/>
                      </a:lnTo>
                      <a:lnTo>
                        <a:pt x="199" y="382"/>
                      </a:lnTo>
                      <a:lnTo>
                        <a:pt x="199" y="382"/>
                      </a:lnTo>
                      <a:lnTo>
                        <a:pt x="206" y="382"/>
                      </a:lnTo>
                      <a:lnTo>
                        <a:pt x="206" y="375"/>
                      </a:lnTo>
                      <a:lnTo>
                        <a:pt x="199" y="375"/>
                      </a:lnTo>
                      <a:lnTo>
                        <a:pt x="199" y="375"/>
                      </a:lnTo>
                      <a:lnTo>
                        <a:pt x="199" y="375"/>
                      </a:lnTo>
                      <a:lnTo>
                        <a:pt x="199" y="368"/>
                      </a:lnTo>
                      <a:lnTo>
                        <a:pt x="206" y="368"/>
                      </a:lnTo>
                      <a:lnTo>
                        <a:pt x="206" y="361"/>
                      </a:lnTo>
                      <a:lnTo>
                        <a:pt x="206" y="361"/>
                      </a:lnTo>
                      <a:lnTo>
                        <a:pt x="206" y="361"/>
                      </a:lnTo>
                      <a:lnTo>
                        <a:pt x="199" y="361"/>
                      </a:lnTo>
                      <a:lnTo>
                        <a:pt x="199" y="361"/>
                      </a:lnTo>
                      <a:lnTo>
                        <a:pt x="199" y="361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2" y="347"/>
                      </a:lnTo>
                      <a:lnTo>
                        <a:pt x="192" y="347"/>
                      </a:lnTo>
                      <a:lnTo>
                        <a:pt x="192" y="340"/>
                      </a:lnTo>
                      <a:lnTo>
                        <a:pt x="192" y="333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0"/>
                      </a:lnTo>
                      <a:lnTo>
                        <a:pt x="185" y="320"/>
                      </a:lnTo>
                      <a:lnTo>
                        <a:pt x="178" y="320"/>
                      </a:lnTo>
                      <a:lnTo>
                        <a:pt x="178" y="320"/>
                      </a:lnTo>
                      <a:lnTo>
                        <a:pt x="178" y="313"/>
                      </a:lnTo>
                      <a:lnTo>
                        <a:pt x="178" y="313"/>
                      </a:lnTo>
                      <a:lnTo>
                        <a:pt x="178" y="313"/>
                      </a:lnTo>
                      <a:lnTo>
                        <a:pt x="178" y="313"/>
                      </a:lnTo>
                      <a:lnTo>
                        <a:pt x="171" y="313"/>
                      </a:lnTo>
                      <a:lnTo>
                        <a:pt x="171" y="313"/>
                      </a:lnTo>
                      <a:lnTo>
                        <a:pt x="171" y="306"/>
                      </a:lnTo>
                      <a:lnTo>
                        <a:pt x="178" y="306"/>
                      </a:lnTo>
                      <a:lnTo>
                        <a:pt x="178" y="306"/>
                      </a:lnTo>
                      <a:lnTo>
                        <a:pt x="178" y="306"/>
                      </a:lnTo>
                      <a:lnTo>
                        <a:pt x="178" y="306"/>
                      </a:lnTo>
                      <a:lnTo>
                        <a:pt x="178" y="299"/>
                      </a:lnTo>
                      <a:lnTo>
                        <a:pt x="178" y="299"/>
                      </a:lnTo>
                      <a:lnTo>
                        <a:pt x="178" y="299"/>
                      </a:lnTo>
                      <a:lnTo>
                        <a:pt x="178" y="292"/>
                      </a:lnTo>
                      <a:lnTo>
                        <a:pt x="185" y="285"/>
                      </a:lnTo>
                      <a:lnTo>
                        <a:pt x="185" y="285"/>
                      </a:lnTo>
                      <a:lnTo>
                        <a:pt x="185" y="278"/>
                      </a:lnTo>
                      <a:lnTo>
                        <a:pt x="178" y="278"/>
                      </a:lnTo>
                      <a:lnTo>
                        <a:pt x="178" y="278"/>
                      </a:lnTo>
                      <a:lnTo>
                        <a:pt x="171" y="278"/>
                      </a:lnTo>
                      <a:lnTo>
                        <a:pt x="171" y="278"/>
                      </a:lnTo>
                      <a:lnTo>
                        <a:pt x="171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58" y="271"/>
                      </a:lnTo>
                      <a:lnTo>
                        <a:pt x="158" y="278"/>
                      </a:lnTo>
                      <a:lnTo>
                        <a:pt x="151" y="271"/>
                      </a:lnTo>
                      <a:lnTo>
                        <a:pt x="151" y="271"/>
                      </a:lnTo>
                      <a:lnTo>
                        <a:pt x="144" y="271"/>
                      </a:lnTo>
                      <a:lnTo>
                        <a:pt x="144" y="271"/>
                      </a:lnTo>
                      <a:lnTo>
                        <a:pt x="144" y="264"/>
                      </a:lnTo>
                      <a:lnTo>
                        <a:pt x="144" y="264"/>
                      </a:lnTo>
                      <a:lnTo>
                        <a:pt x="144" y="264"/>
                      </a:lnTo>
                      <a:lnTo>
                        <a:pt x="144" y="264"/>
                      </a:lnTo>
                      <a:lnTo>
                        <a:pt x="144" y="264"/>
                      </a:lnTo>
                      <a:lnTo>
                        <a:pt x="137" y="264"/>
                      </a:lnTo>
                      <a:lnTo>
                        <a:pt x="137" y="264"/>
                      </a:lnTo>
                      <a:lnTo>
                        <a:pt x="130" y="264"/>
                      </a:lnTo>
                      <a:lnTo>
                        <a:pt x="130" y="264"/>
                      </a:lnTo>
                      <a:lnTo>
                        <a:pt x="123" y="257"/>
                      </a:lnTo>
                      <a:lnTo>
                        <a:pt x="123" y="257"/>
                      </a:lnTo>
                      <a:lnTo>
                        <a:pt x="123" y="257"/>
                      </a:lnTo>
                      <a:lnTo>
                        <a:pt x="123" y="257"/>
                      </a:lnTo>
                      <a:lnTo>
                        <a:pt x="123" y="250"/>
                      </a:lnTo>
                      <a:lnTo>
                        <a:pt x="123" y="250"/>
                      </a:lnTo>
                      <a:lnTo>
                        <a:pt x="123" y="243"/>
                      </a:lnTo>
                      <a:lnTo>
                        <a:pt x="123" y="243"/>
                      </a:lnTo>
                      <a:lnTo>
                        <a:pt x="123" y="243"/>
                      </a:lnTo>
                      <a:lnTo>
                        <a:pt x="123" y="236"/>
                      </a:lnTo>
                      <a:lnTo>
                        <a:pt x="123" y="236"/>
                      </a:lnTo>
                      <a:lnTo>
                        <a:pt x="116" y="236"/>
                      </a:lnTo>
                      <a:lnTo>
                        <a:pt x="116" y="236"/>
                      </a:lnTo>
                      <a:lnTo>
                        <a:pt x="103" y="243"/>
                      </a:lnTo>
                      <a:lnTo>
                        <a:pt x="103" y="243"/>
                      </a:lnTo>
                      <a:lnTo>
                        <a:pt x="96" y="243"/>
                      </a:lnTo>
                      <a:lnTo>
                        <a:pt x="96" y="243"/>
                      </a:lnTo>
                      <a:lnTo>
                        <a:pt x="89" y="243"/>
                      </a:lnTo>
                      <a:lnTo>
                        <a:pt x="82" y="243"/>
                      </a:lnTo>
                      <a:lnTo>
                        <a:pt x="82" y="243"/>
                      </a:lnTo>
                      <a:lnTo>
                        <a:pt x="82" y="236"/>
                      </a:lnTo>
                      <a:lnTo>
                        <a:pt x="75" y="236"/>
                      </a:lnTo>
                      <a:lnTo>
                        <a:pt x="75" y="236"/>
                      </a:lnTo>
                      <a:lnTo>
                        <a:pt x="75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2"/>
                      </a:lnTo>
                      <a:lnTo>
                        <a:pt x="68" y="222"/>
                      </a:lnTo>
                      <a:lnTo>
                        <a:pt x="75" y="222"/>
                      </a:lnTo>
                      <a:lnTo>
                        <a:pt x="75" y="222"/>
                      </a:lnTo>
                      <a:lnTo>
                        <a:pt x="75" y="222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68" y="216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75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2"/>
                      </a:lnTo>
                      <a:lnTo>
                        <a:pt x="68" y="202"/>
                      </a:lnTo>
                      <a:lnTo>
                        <a:pt x="68" y="202"/>
                      </a:lnTo>
                      <a:lnTo>
                        <a:pt x="68" y="195"/>
                      </a:lnTo>
                      <a:lnTo>
                        <a:pt x="62" y="195"/>
                      </a:lnTo>
                      <a:lnTo>
                        <a:pt x="62" y="195"/>
                      </a:lnTo>
                      <a:lnTo>
                        <a:pt x="62" y="195"/>
                      </a:lnTo>
                      <a:lnTo>
                        <a:pt x="62" y="188"/>
                      </a:lnTo>
                      <a:lnTo>
                        <a:pt x="62" y="188"/>
                      </a:lnTo>
                      <a:lnTo>
                        <a:pt x="55" y="188"/>
                      </a:lnTo>
                      <a:lnTo>
                        <a:pt x="55" y="181"/>
                      </a:lnTo>
                      <a:lnTo>
                        <a:pt x="55" y="181"/>
                      </a:lnTo>
                      <a:lnTo>
                        <a:pt x="55" y="181"/>
                      </a:lnTo>
                      <a:lnTo>
                        <a:pt x="55" y="181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46"/>
                      </a:lnTo>
                      <a:close/>
                    </a:path>
                  </a:pathLst>
                </a:custGeom>
                <a:solidFill>
                  <a:srgbClr val="38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211200" y="2378880"/>
                  <a:ext cx="613080" cy="391680"/>
                </a:xfrm>
                <a:custGeom>
                  <a:avLst/>
                  <a:gdLst/>
                  <a:ahLst/>
                  <a:rect l="l" t="t" r="r" b="b"/>
                  <a:pathLst>
                    <a:path w="487" h="333">
                      <a:moveTo>
                        <a:pt x="55" y="146"/>
                      </a:moveTo>
                      <a:lnTo>
                        <a:pt x="55" y="146"/>
                      </a:lnTo>
                      <a:lnTo>
                        <a:pt x="55" y="146"/>
                      </a:lnTo>
                      <a:lnTo>
                        <a:pt x="55" y="139"/>
                      </a:lnTo>
                      <a:lnTo>
                        <a:pt x="48" y="139"/>
                      </a:lnTo>
                      <a:lnTo>
                        <a:pt x="48" y="139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1" y="132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27" y="125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1"/>
                      </a:lnTo>
                      <a:lnTo>
                        <a:pt x="0" y="91"/>
                      </a:lnTo>
                      <a:lnTo>
                        <a:pt x="0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13" y="84"/>
                      </a:lnTo>
                      <a:lnTo>
                        <a:pt x="13" y="91"/>
                      </a:lnTo>
                      <a:lnTo>
                        <a:pt x="20" y="98"/>
                      </a:lnTo>
                      <a:lnTo>
                        <a:pt x="20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8" y="105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03" y="111"/>
                      </a:lnTo>
                      <a:lnTo>
                        <a:pt x="110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16" y="118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9"/>
                      </a:lnTo>
                      <a:lnTo>
                        <a:pt x="165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1" y="118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9" y="105"/>
                      </a:lnTo>
                      <a:lnTo>
                        <a:pt x="192" y="105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206" y="98"/>
                      </a:lnTo>
                      <a:lnTo>
                        <a:pt x="206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1"/>
                      </a:lnTo>
                      <a:lnTo>
                        <a:pt x="247" y="91"/>
                      </a:lnTo>
                      <a:lnTo>
                        <a:pt x="247" y="98"/>
                      </a:lnTo>
                      <a:lnTo>
                        <a:pt x="254" y="98"/>
                      </a:lnTo>
                      <a:lnTo>
                        <a:pt x="254" y="98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0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0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7"/>
                      </a:lnTo>
                      <a:lnTo>
                        <a:pt x="432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2" y="77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19" y="167"/>
                      </a:lnTo>
                      <a:lnTo>
                        <a:pt x="419" y="167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2" y="181"/>
                      </a:lnTo>
                      <a:lnTo>
                        <a:pt x="412" y="181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9"/>
                      </a:lnTo>
                      <a:lnTo>
                        <a:pt x="412" y="209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53" y="299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60" y="306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20"/>
                      </a:lnTo>
                      <a:lnTo>
                        <a:pt x="460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73" y="327"/>
                      </a:lnTo>
                      <a:lnTo>
                        <a:pt x="467" y="327"/>
                      </a:lnTo>
                      <a:lnTo>
                        <a:pt x="467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7" y="333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271680" y="2550600"/>
                  <a:ext cx="578880" cy="505800"/>
                </a:xfrm>
                <a:custGeom>
                  <a:avLst/>
                  <a:gdLst/>
                  <a:ahLst/>
                  <a:rect l="l" t="t" r="r" b="b"/>
                  <a:pathLst>
                    <a:path w="460" h="430">
                      <a:moveTo>
                        <a:pt x="439" y="187"/>
                      </a:move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53" y="187"/>
                      </a:lnTo>
                      <a:lnTo>
                        <a:pt x="453" y="187"/>
                      </a:lnTo>
                      <a:lnTo>
                        <a:pt x="453" y="187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60" y="194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53" y="278"/>
                      </a:lnTo>
                      <a:lnTo>
                        <a:pt x="432" y="278"/>
                      </a:lnTo>
                      <a:lnTo>
                        <a:pt x="412" y="278"/>
                      </a:lnTo>
                      <a:lnTo>
                        <a:pt x="357" y="278"/>
                      </a:lnTo>
                      <a:lnTo>
                        <a:pt x="357" y="278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0" y="285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43" y="298"/>
                      </a:lnTo>
                      <a:lnTo>
                        <a:pt x="350" y="298"/>
                      </a:lnTo>
                      <a:lnTo>
                        <a:pt x="343" y="298"/>
                      </a:lnTo>
                      <a:lnTo>
                        <a:pt x="343" y="305"/>
                      </a:lnTo>
                      <a:lnTo>
                        <a:pt x="343" y="305"/>
                      </a:lnTo>
                      <a:lnTo>
                        <a:pt x="343" y="305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36" y="312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29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54"/>
                      </a:lnTo>
                      <a:lnTo>
                        <a:pt x="329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16" y="368"/>
                      </a:lnTo>
                      <a:lnTo>
                        <a:pt x="316" y="368"/>
                      </a:lnTo>
                      <a:lnTo>
                        <a:pt x="316" y="368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68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295" y="375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88" y="361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1" y="354"/>
                      </a:lnTo>
                      <a:lnTo>
                        <a:pt x="281" y="347"/>
                      </a:lnTo>
                      <a:lnTo>
                        <a:pt x="288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47" y="354"/>
                      </a:lnTo>
                      <a:lnTo>
                        <a:pt x="247" y="347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61"/>
                      </a:lnTo>
                      <a:lnTo>
                        <a:pt x="240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26" y="375"/>
                      </a:lnTo>
                      <a:lnTo>
                        <a:pt x="226" y="375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33" y="382"/>
                      </a:lnTo>
                      <a:lnTo>
                        <a:pt x="233" y="382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26" y="389"/>
                      </a:lnTo>
                      <a:lnTo>
                        <a:pt x="226" y="389"/>
                      </a:lnTo>
                      <a:lnTo>
                        <a:pt x="233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33" y="430"/>
                      </a:lnTo>
                      <a:lnTo>
                        <a:pt x="233" y="430"/>
                      </a:lnTo>
                      <a:lnTo>
                        <a:pt x="233" y="423"/>
                      </a:lnTo>
                      <a:lnTo>
                        <a:pt x="226" y="423"/>
                      </a:lnTo>
                      <a:lnTo>
                        <a:pt x="226" y="423"/>
                      </a:lnTo>
                      <a:lnTo>
                        <a:pt x="226" y="423"/>
                      </a:lnTo>
                      <a:lnTo>
                        <a:pt x="219" y="423"/>
                      </a:lnTo>
                      <a:lnTo>
                        <a:pt x="219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199" y="416"/>
                      </a:lnTo>
                      <a:lnTo>
                        <a:pt x="199" y="416"/>
                      </a:lnTo>
                      <a:lnTo>
                        <a:pt x="199" y="416"/>
                      </a:lnTo>
                      <a:lnTo>
                        <a:pt x="199" y="409"/>
                      </a:lnTo>
                      <a:lnTo>
                        <a:pt x="199" y="409"/>
                      </a:lnTo>
                      <a:lnTo>
                        <a:pt x="199" y="409"/>
                      </a:lnTo>
                      <a:lnTo>
                        <a:pt x="199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65" y="382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58" y="375"/>
                      </a:lnTo>
                      <a:lnTo>
                        <a:pt x="165" y="375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65" y="361"/>
                      </a:lnTo>
                      <a:lnTo>
                        <a:pt x="165" y="361"/>
                      </a:lnTo>
                      <a:lnTo>
                        <a:pt x="165" y="361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65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78"/>
                      </a:lnTo>
                      <a:lnTo>
                        <a:pt x="151" y="278"/>
                      </a:lnTo>
                      <a:lnTo>
                        <a:pt x="158" y="271"/>
                      </a:lnTo>
                      <a:lnTo>
                        <a:pt x="151" y="271"/>
                      </a:lnTo>
                      <a:lnTo>
                        <a:pt x="158" y="271"/>
                      </a:lnTo>
                      <a:lnTo>
                        <a:pt x="158" y="271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0"/>
                      </a:lnTo>
                      <a:lnTo>
                        <a:pt x="151" y="250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8" y="236"/>
                      </a:lnTo>
                      <a:lnTo>
                        <a:pt x="158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22"/>
                      </a:lnTo>
                      <a:lnTo>
                        <a:pt x="158" y="222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194"/>
                      </a:lnTo>
                      <a:lnTo>
                        <a:pt x="144" y="187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0" y="174"/>
                      </a:lnTo>
                      <a:lnTo>
                        <a:pt x="130" y="174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23" y="167"/>
                      </a:lnTo>
                      <a:lnTo>
                        <a:pt x="123" y="167"/>
                      </a:lnTo>
                      <a:lnTo>
                        <a:pt x="123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53"/>
                      </a:lnTo>
                      <a:lnTo>
                        <a:pt x="130" y="153"/>
                      </a:lnTo>
                      <a:lnTo>
                        <a:pt x="130" y="153"/>
                      </a:lnTo>
                      <a:lnTo>
                        <a:pt x="130" y="146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25"/>
                      </a:lnTo>
                      <a:lnTo>
                        <a:pt x="117" y="125"/>
                      </a:lnTo>
                      <a:lnTo>
                        <a:pt x="117" y="125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89" y="118"/>
                      </a:lnTo>
                      <a:lnTo>
                        <a:pt x="89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0"/>
                      </a:lnTo>
                      <a:lnTo>
                        <a:pt x="75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55" y="97"/>
                      </a:lnTo>
                      <a:lnTo>
                        <a:pt x="55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1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27" y="76"/>
                      </a:lnTo>
                      <a:lnTo>
                        <a:pt x="27" y="76"/>
                      </a:lnTo>
                      <a:lnTo>
                        <a:pt x="27" y="76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0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56"/>
                      </a:lnTo>
                      <a:lnTo>
                        <a:pt x="20" y="56"/>
                      </a:lnTo>
                      <a:lnTo>
                        <a:pt x="20" y="56"/>
                      </a:lnTo>
                      <a:lnTo>
                        <a:pt x="20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2"/>
                      </a:lnTo>
                      <a:lnTo>
                        <a:pt x="14" y="42"/>
                      </a:lnTo>
                      <a:lnTo>
                        <a:pt x="7" y="42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211200" y="2378880"/>
                  <a:ext cx="613080" cy="391680"/>
                </a:xfrm>
                <a:custGeom>
                  <a:avLst/>
                  <a:gdLst/>
                  <a:ahLst/>
                  <a:rect l="l" t="t" r="r" b="b"/>
                  <a:pathLst>
                    <a:path w="487" h="333">
                      <a:moveTo>
                        <a:pt x="55" y="146"/>
                      </a:moveTo>
                      <a:lnTo>
                        <a:pt x="55" y="146"/>
                      </a:lnTo>
                      <a:lnTo>
                        <a:pt x="55" y="146"/>
                      </a:lnTo>
                      <a:lnTo>
                        <a:pt x="55" y="139"/>
                      </a:lnTo>
                      <a:lnTo>
                        <a:pt x="48" y="139"/>
                      </a:lnTo>
                      <a:lnTo>
                        <a:pt x="48" y="139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1" y="132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27" y="125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1"/>
                      </a:lnTo>
                      <a:lnTo>
                        <a:pt x="0" y="91"/>
                      </a:lnTo>
                      <a:lnTo>
                        <a:pt x="0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13" y="84"/>
                      </a:lnTo>
                      <a:lnTo>
                        <a:pt x="13" y="91"/>
                      </a:lnTo>
                      <a:lnTo>
                        <a:pt x="20" y="98"/>
                      </a:lnTo>
                      <a:lnTo>
                        <a:pt x="20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8" y="105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03" y="111"/>
                      </a:lnTo>
                      <a:lnTo>
                        <a:pt x="110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16" y="118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9"/>
                      </a:lnTo>
                      <a:lnTo>
                        <a:pt x="165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1" y="118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9" y="105"/>
                      </a:lnTo>
                      <a:lnTo>
                        <a:pt x="192" y="105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206" y="98"/>
                      </a:lnTo>
                      <a:lnTo>
                        <a:pt x="206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1"/>
                      </a:lnTo>
                      <a:lnTo>
                        <a:pt x="247" y="91"/>
                      </a:lnTo>
                      <a:lnTo>
                        <a:pt x="247" y="98"/>
                      </a:lnTo>
                      <a:lnTo>
                        <a:pt x="254" y="98"/>
                      </a:lnTo>
                      <a:lnTo>
                        <a:pt x="254" y="98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0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0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7"/>
                      </a:lnTo>
                      <a:lnTo>
                        <a:pt x="432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2" y="77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19" y="167"/>
                      </a:lnTo>
                      <a:lnTo>
                        <a:pt x="419" y="167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2" y="181"/>
                      </a:lnTo>
                      <a:lnTo>
                        <a:pt x="412" y="181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9"/>
                      </a:lnTo>
                      <a:lnTo>
                        <a:pt x="412" y="209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53" y="299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60" y="306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20"/>
                      </a:lnTo>
                      <a:lnTo>
                        <a:pt x="460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73" y="327"/>
                      </a:lnTo>
                      <a:lnTo>
                        <a:pt x="467" y="327"/>
                      </a:lnTo>
                      <a:lnTo>
                        <a:pt x="467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7" y="333"/>
                      </a:lnTo>
                    </a:path>
                  </a:pathLst>
                </a:custGeom>
                <a:solidFill>
                  <a:srgbClr val="00cc99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271680" y="2550600"/>
                  <a:ext cx="578880" cy="505800"/>
                </a:xfrm>
                <a:custGeom>
                  <a:avLst/>
                  <a:gdLst/>
                  <a:ahLst/>
                  <a:rect l="l" t="t" r="r" b="b"/>
                  <a:pathLst>
                    <a:path w="460" h="430">
                      <a:moveTo>
                        <a:pt x="439" y="187"/>
                      </a:move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53" y="187"/>
                      </a:lnTo>
                      <a:lnTo>
                        <a:pt x="453" y="187"/>
                      </a:lnTo>
                      <a:lnTo>
                        <a:pt x="453" y="187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60" y="194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53" y="278"/>
                      </a:lnTo>
                      <a:lnTo>
                        <a:pt x="432" y="278"/>
                      </a:lnTo>
                      <a:lnTo>
                        <a:pt x="412" y="278"/>
                      </a:lnTo>
                      <a:lnTo>
                        <a:pt x="357" y="278"/>
                      </a:lnTo>
                      <a:lnTo>
                        <a:pt x="357" y="278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0" y="285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43" y="298"/>
                      </a:lnTo>
                      <a:lnTo>
                        <a:pt x="350" y="298"/>
                      </a:lnTo>
                      <a:lnTo>
                        <a:pt x="343" y="298"/>
                      </a:lnTo>
                      <a:lnTo>
                        <a:pt x="343" y="305"/>
                      </a:lnTo>
                      <a:lnTo>
                        <a:pt x="343" y="305"/>
                      </a:lnTo>
                      <a:lnTo>
                        <a:pt x="343" y="305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36" y="312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29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54"/>
                      </a:lnTo>
                      <a:lnTo>
                        <a:pt x="329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16" y="368"/>
                      </a:lnTo>
                      <a:lnTo>
                        <a:pt x="316" y="368"/>
                      </a:lnTo>
                      <a:lnTo>
                        <a:pt x="316" y="368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68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295" y="375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88" y="361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1" y="354"/>
                      </a:lnTo>
                      <a:lnTo>
                        <a:pt x="281" y="347"/>
                      </a:lnTo>
                      <a:lnTo>
                        <a:pt x="288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47" y="354"/>
                      </a:lnTo>
                      <a:lnTo>
                        <a:pt x="247" y="347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61"/>
                      </a:lnTo>
                      <a:lnTo>
                        <a:pt x="240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26" y="375"/>
                      </a:lnTo>
                      <a:lnTo>
                        <a:pt x="226" y="375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33" y="382"/>
                      </a:lnTo>
                      <a:lnTo>
                        <a:pt x="233" y="382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26" y="389"/>
                      </a:lnTo>
                      <a:lnTo>
                        <a:pt x="226" y="389"/>
                      </a:lnTo>
                      <a:lnTo>
                        <a:pt x="233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33" y="430"/>
                      </a:lnTo>
                      <a:lnTo>
                        <a:pt x="233" y="430"/>
                      </a:lnTo>
                      <a:lnTo>
                        <a:pt x="233" y="423"/>
                      </a:lnTo>
                      <a:lnTo>
                        <a:pt x="226" y="423"/>
                      </a:lnTo>
                      <a:lnTo>
                        <a:pt x="226" y="423"/>
                      </a:lnTo>
                      <a:lnTo>
                        <a:pt x="226" y="423"/>
                      </a:lnTo>
                      <a:lnTo>
                        <a:pt x="219" y="423"/>
                      </a:lnTo>
                      <a:lnTo>
                        <a:pt x="219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199" y="416"/>
                      </a:lnTo>
                      <a:lnTo>
                        <a:pt x="199" y="416"/>
                      </a:lnTo>
                      <a:lnTo>
                        <a:pt x="199" y="416"/>
                      </a:lnTo>
                      <a:lnTo>
                        <a:pt x="199" y="409"/>
                      </a:lnTo>
                      <a:lnTo>
                        <a:pt x="199" y="409"/>
                      </a:lnTo>
                      <a:lnTo>
                        <a:pt x="199" y="409"/>
                      </a:lnTo>
                      <a:lnTo>
                        <a:pt x="199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65" y="382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58" y="375"/>
                      </a:lnTo>
                      <a:lnTo>
                        <a:pt x="165" y="375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65" y="361"/>
                      </a:lnTo>
                      <a:lnTo>
                        <a:pt x="165" y="361"/>
                      </a:lnTo>
                      <a:lnTo>
                        <a:pt x="165" y="361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65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78"/>
                      </a:lnTo>
                      <a:lnTo>
                        <a:pt x="151" y="278"/>
                      </a:lnTo>
                      <a:lnTo>
                        <a:pt x="158" y="271"/>
                      </a:lnTo>
                      <a:lnTo>
                        <a:pt x="151" y="271"/>
                      </a:lnTo>
                      <a:lnTo>
                        <a:pt x="158" y="271"/>
                      </a:lnTo>
                      <a:lnTo>
                        <a:pt x="158" y="271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0"/>
                      </a:lnTo>
                      <a:lnTo>
                        <a:pt x="151" y="250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8" y="236"/>
                      </a:lnTo>
                      <a:lnTo>
                        <a:pt x="158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22"/>
                      </a:lnTo>
                      <a:lnTo>
                        <a:pt x="158" y="222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194"/>
                      </a:lnTo>
                      <a:lnTo>
                        <a:pt x="144" y="187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0" y="174"/>
                      </a:lnTo>
                      <a:lnTo>
                        <a:pt x="130" y="174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23" y="167"/>
                      </a:lnTo>
                      <a:lnTo>
                        <a:pt x="123" y="167"/>
                      </a:lnTo>
                      <a:lnTo>
                        <a:pt x="123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53"/>
                      </a:lnTo>
                      <a:lnTo>
                        <a:pt x="130" y="153"/>
                      </a:lnTo>
                      <a:lnTo>
                        <a:pt x="130" y="153"/>
                      </a:lnTo>
                      <a:lnTo>
                        <a:pt x="130" y="146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25"/>
                      </a:lnTo>
                      <a:lnTo>
                        <a:pt x="117" y="125"/>
                      </a:lnTo>
                      <a:lnTo>
                        <a:pt x="117" y="125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89" y="118"/>
                      </a:lnTo>
                      <a:lnTo>
                        <a:pt x="89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0"/>
                      </a:lnTo>
                      <a:lnTo>
                        <a:pt x="75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55" y="97"/>
                      </a:lnTo>
                      <a:lnTo>
                        <a:pt x="55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1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27" y="76"/>
                      </a:lnTo>
                      <a:lnTo>
                        <a:pt x="27" y="76"/>
                      </a:lnTo>
                      <a:lnTo>
                        <a:pt x="27" y="76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0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56"/>
                      </a:lnTo>
                      <a:lnTo>
                        <a:pt x="20" y="56"/>
                      </a:lnTo>
                      <a:lnTo>
                        <a:pt x="20" y="56"/>
                      </a:lnTo>
                      <a:lnTo>
                        <a:pt x="20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2"/>
                      </a:lnTo>
                      <a:lnTo>
                        <a:pt x="14" y="42"/>
                      </a:lnTo>
                      <a:lnTo>
                        <a:pt x="7" y="42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cc99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842280" y="2648160"/>
                  <a:ext cx="1366200" cy="1233000"/>
                </a:xfrm>
                <a:custGeom>
                  <a:avLst/>
                  <a:gdLst/>
                  <a:ahLst/>
                  <a:rect l="l" t="t" r="r" b="b"/>
                  <a:pathLst>
                    <a:path w="1085" h="1048">
                      <a:moveTo>
                        <a:pt x="0" y="111"/>
                      </a:move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1"/>
                      </a:lnTo>
                      <a:lnTo>
                        <a:pt x="34" y="91"/>
                      </a:lnTo>
                      <a:lnTo>
                        <a:pt x="34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8" y="91"/>
                      </a:lnTo>
                      <a:lnTo>
                        <a:pt x="48" y="91"/>
                      </a:lnTo>
                      <a:lnTo>
                        <a:pt x="48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8" y="91"/>
                      </a:lnTo>
                      <a:lnTo>
                        <a:pt x="41" y="91"/>
                      </a:lnTo>
                      <a:lnTo>
                        <a:pt x="41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82" y="84"/>
                      </a:lnTo>
                      <a:lnTo>
                        <a:pt x="75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75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96" y="77"/>
                      </a:lnTo>
                      <a:lnTo>
                        <a:pt x="96" y="77"/>
                      </a:lnTo>
                      <a:lnTo>
                        <a:pt x="96" y="77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7" y="70"/>
                      </a:lnTo>
                      <a:lnTo>
                        <a:pt x="117" y="77"/>
                      </a:lnTo>
                      <a:lnTo>
                        <a:pt x="117" y="70"/>
                      </a:lnTo>
                      <a:lnTo>
                        <a:pt x="117" y="77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24" y="70"/>
                      </a:lnTo>
                      <a:lnTo>
                        <a:pt x="124" y="70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56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49"/>
                      </a:lnTo>
                      <a:lnTo>
                        <a:pt x="192" y="49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20" y="49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40" y="56"/>
                      </a:lnTo>
                      <a:lnTo>
                        <a:pt x="240" y="63"/>
                      </a:lnTo>
                      <a:lnTo>
                        <a:pt x="240" y="56"/>
                      </a:lnTo>
                      <a:lnTo>
                        <a:pt x="240" y="63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7" y="63"/>
                      </a:lnTo>
                      <a:lnTo>
                        <a:pt x="247" y="56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0" y="35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33" y="28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7" y="21"/>
                      </a:lnTo>
                      <a:lnTo>
                        <a:pt x="247" y="21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81" y="14"/>
                      </a:lnTo>
                      <a:lnTo>
                        <a:pt x="281" y="14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14"/>
                      </a:lnTo>
                      <a:lnTo>
                        <a:pt x="281" y="7"/>
                      </a:lnTo>
                      <a:lnTo>
                        <a:pt x="288" y="7"/>
                      </a:lnTo>
                      <a:lnTo>
                        <a:pt x="288" y="7"/>
                      </a:lnTo>
                      <a:lnTo>
                        <a:pt x="288" y="7"/>
                      </a:lnTo>
                      <a:lnTo>
                        <a:pt x="295" y="7"/>
                      </a:lnTo>
                      <a:lnTo>
                        <a:pt x="302" y="14"/>
                      </a:lnTo>
                      <a:lnTo>
                        <a:pt x="302" y="7"/>
                      </a:lnTo>
                      <a:lnTo>
                        <a:pt x="302" y="7"/>
                      </a:lnTo>
                      <a:lnTo>
                        <a:pt x="302" y="0"/>
                      </a:lnTo>
                      <a:lnTo>
                        <a:pt x="309" y="7"/>
                      </a:lnTo>
                      <a:lnTo>
                        <a:pt x="309" y="7"/>
                      </a:lnTo>
                      <a:lnTo>
                        <a:pt x="316" y="0"/>
                      </a:lnTo>
                      <a:lnTo>
                        <a:pt x="316" y="0"/>
                      </a:lnTo>
                      <a:lnTo>
                        <a:pt x="323" y="0"/>
                      </a:lnTo>
                      <a:lnTo>
                        <a:pt x="323" y="0"/>
                      </a:lnTo>
                      <a:lnTo>
                        <a:pt x="329" y="0"/>
                      </a:lnTo>
                      <a:lnTo>
                        <a:pt x="329" y="0"/>
                      </a:lnTo>
                      <a:lnTo>
                        <a:pt x="336" y="0"/>
                      </a:lnTo>
                      <a:lnTo>
                        <a:pt x="336" y="0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7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57" y="63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64" y="70"/>
                      </a:lnTo>
                      <a:lnTo>
                        <a:pt x="364" y="70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71" y="63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12" y="91"/>
                      </a:lnTo>
                      <a:lnTo>
                        <a:pt x="405" y="91"/>
                      </a:lnTo>
                      <a:lnTo>
                        <a:pt x="412" y="91"/>
                      </a:lnTo>
                      <a:lnTo>
                        <a:pt x="405" y="91"/>
                      </a:lnTo>
                      <a:lnTo>
                        <a:pt x="405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26" y="91"/>
                      </a:lnTo>
                      <a:lnTo>
                        <a:pt x="426" y="91"/>
                      </a:lnTo>
                      <a:lnTo>
                        <a:pt x="426" y="98"/>
                      </a:lnTo>
                      <a:lnTo>
                        <a:pt x="419" y="98"/>
                      </a:lnTo>
                      <a:lnTo>
                        <a:pt x="419" y="98"/>
                      </a:lnTo>
                      <a:lnTo>
                        <a:pt x="426" y="98"/>
                      </a:lnTo>
                      <a:lnTo>
                        <a:pt x="426" y="91"/>
                      </a:lnTo>
                      <a:lnTo>
                        <a:pt x="426" y="91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32" y="98"/>
                      </a:lnTo>
                      <a:lnTo>
                        <a:pt x="426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60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0" y="118"/>
                      </a:lnTo>
                      <a:lnTo>
                        <a:pt x="460" y="118"/>
                      </a:lnTo>
                      <a:lnTo>
                        <a:pt x="460" y="125"/>
                      </a:lnTo>
                      <a:lnTo>
                        <a:pt x="460" y="125"/>
                      </a:lnTo>
                      <a:lnTo>
                        <a:pt x="467" y="125"/>
                      </a:lnTo>
                      <a:lnTo>
                        <a:pt x="467" y="125"/>
                      </a:lnTo>
                      <a:lnTo>
                        <a:pt x="467" y="125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9"/>
                      </a:lnTo>
                      <a:lnTo>
                        <a:pt x="467" y="139"/>
                      </a:lnTo>
                      <a:lnTo>
                        <a:pt x="467" y="139"/>
                      </a:lnTo>
                      <a:lnTo>
                        <a:pt x="474" y="139"/>
                      </a:lnTo>
                      <a:lnTo>
                        <a:pt x="474" y="146"/>
                      </a:lnTo>
                      <a:lnTo>
                        <a:pt x="474" y="146"/>
                      </a:lnTo>
                      <a:lnTo>
                        <a:pt x="481" y="146"/>
                      </a:lnTo>
                      <a:lnTo>
                        <a:pt x="481" y="146"/>
                      </a:lnTo>
                      <a:lnTo>
                        <a:pt x="481" y="153"/>
                      </a:lnTo>
                      <a:lnTo>
                        <a:pt x="481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60"/>
                      </a:lnTo>
                      <a:lnTo>
                        <a:pt x="487" y="160"/>
                      </a:lnTo>
                      <a:lnTo>
                        <a:pt x="487" y="160"/>
                      </a:lnTo>
                      <a:lnTo>
                        <a:pt x="494" y="160"/>
                      </a:lnTo>
                      <a:lnTo>
                        <a:pt x="494" y="160"/>
                      </a:lnTo>
                      <a:lnTo>
                        <a:pt x="494" y="160"/>
                      </a:lnTo>
                      <a:lnTo>
                        <a:pt x="487" y="160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95"/>
                      </a:lnTo>
                      <a:lnTo>
                        <a:pt x="494" y="195"/>
                      </a:lnTo>
                      <a:lnTo>
                        <a:pt x="494" y="195"/>
                      </a:lnTo>
                      <a:lnTo>
                        <a:pt x="494" y="195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9"/>
                      </a:lnTo>
                      <a:lnTo>
                        <a:pt x="501" y="209"/>
                      </a:lnTo>
                      <a:lnTo>
                        <a:pt x="501" y="209"/>
                      </a:lnTo>
                      <a:lnTo>
                        <a:pt x="501" y="209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22"/>
                      </a:lnTo>
                      <a:lnTo>
                        <a:pt x="501" y="222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22" y="236"/>
                      </a:lnTo>
                      <a:lnTo>
                        <a:pt x="522" y="236"/>
                      </a:lnTo>
                      <a:lnTo>
                        <a:pt x="522" y="236"/>
                      </a:lnTo>
                      <a:lnTo>
                        <a:pt x="522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2" y="257"/>
                      </a:lnTo>
                      <a:lnTo>
                        <a:pt x="529" y="257"/>
                      </a:lnTo>
                      <a:lnTo>
                        <a:pt x="529" y="257"/>
                      </a:lnTo>
                      <a:lnTo>
                        <a:pt x="529" y="257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92"/>
                      </a:lnTo>
                      <a:lnTo>
                        <a:pt x="542" y="292"/>
                      </a:lnTo>
                      <a:lnTo>
                        <a:pt x="542" y="292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9" y="285"/>
                      </a:lnTo>
                      <a:lnTo>
                        <a:pt x="549" y="285"/>
                      </a:lnTo>
                      <a:lnTo>
                        <a:pt x="549" y="285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56" y="306"/>
                      </a:lnTo>
                      <a:lnTo>
                        <a:pt x="556" y="306"/>
                      </a:lnTo>
                      <a:lnTo>
                        <a:pt x="556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70" y="313"/>
                      </a:lnTo>
                      <a:lnTo>
                        <a:pt x="570" y="313"/>
                      </a:lnTo>
                      <a:lnTo>
                        <a:pt x="570" y="313"/>
                      </a:lnTo>
                      <a:lnTo>
                        <a:pt x="577" y="313"/>
                      </a:lnTo>
                      <a:lnTo>
                        <a:pt x="577" y="313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84" y="320"/>
                      </a:lnTo>
                      <a:lnTo>
                        <a:pt x="584" y="320"/>
                      </a:lnTo>
                      <a:lnTo>
                        <a:pt x="584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84" y="320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7" y="313"/>
                      </a:lnTo>
                      <a:lnTo>
                        <a:pt x="604" y="313"/>
                      </a:lnTo>
                      <a:lnTo>
                        <a:pt x="604" y="313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299"/>
                      </a:lnTo>
                      <a:lnTo>
                        <a:pt x="611" y="292"/>
                      </a:lnTo>
                      <a:lnTo>
                        <a:pt x="611" y="292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78"/>
                      </a:lnTo>
                      <a:lnTo>
                        <a:pt x="618" y="271"/>
                      </a:lnTo>
                      <a:lnTo>
                        <a:pt x="625" y="271"/>
                      </a:lnTo>
                      <a:lnTo>
                        <a:pt x="625" y="264"/>
                      </a:lnTo>
                      <a:lnTo>
                        <a:pt x="625" y="264"/>
                      </a:lnTo>
                      <a:lnTo>
                        <a:pt x="625" y="264"/>
                      </a:lnTo>
                      <a:lnTo>
                        <a:pt x="632" y="257"/>
                      </a:lnTo>
                      <a:lnTo>
                        <a:pt x="632" y="257"/>
                      </a:lnTo>
                      <a:lnTo>
                        <a:pt x="632" y="250"/>
                      </a:lnTo>
                      <a:lnTo>
                        <a:pt x="638" y="250"/>
                      </a:lnTo>
                      <a:lnTo>
                        <a:pt x="638" y="250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29"/>
                      </a:lnTo>
                      <a:lnTo>
                        <a:pt x="652" y="229"/>
                      </a:lnTo>
                      <a:lnTo>
                        <a:pt x="652" y="222"/>
                      </a:lnTo>
                      <a:lnTo>
                        <a:pt x="659" y="222"/>
                      </a:lnTo>
                      <a:lnTo>
                        <a:pt x="659" y="222"/>
                      </a:lnTo>
                      <a:lnTo>
                        <a:pt x="659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15"/>
                      </a:lnTo>
                      <a:lnTo>
                        <a:pt x="666" y="215"/>
                      </a:lnTo>
                      <a:lnTo>
                        <a:pt x="673" y="215"/>
                      </a:lnTo>
                      <a:lnTo>
                        <a:pt x="673" y="215"/>
                      </a:lnTo>
                      <a:lnTo>
                        <a:pt x="673" y="209"/>
                      </a:lnTo>
                      <a:lnTo>
                        <a:pt x="680" y="209"/>
                      </a:lnTo>
                      <a:lnTo>
                        <a:pt x="680" y="209"/>
                      </a:lnTo>
                      <a:lnTo>
                        <a:pt x="686" y="209"/>
                      </a:lnTo>
                      <a:lnTo>
                        <a:pt x="686" y="209"/>
                      </a:lnTo>
                      <a:lnTo>
                        <a:pt x="693" y="209"/>
                      </a:lnTo>
                      <a:lnTo>
                        <a:pt x="700" y="202"/>
                      </a:lnTo>
                      <a:lnTo>
                        <a:pt x="700" y="202"/>
                      </a:lnTo>
                      <a:lnTo>
                        <a:pt x="700" y="195"/>
                      </a:lnTo>
                      <a:lnTo>
                        <a:pt x="707" y="195"/>
                      </a:lnTo>
                      <a:lnTo>
                        <a:pt x="707" y="195"/>
                      </a:lnTo>
                      <a:lnTo>
                        <a:pt x="707" y="188"/>
                      </a:lnTo>
                      <a:lnTo>
                        <a:pt x="707" y="188"/>
                      </a:lnTo>
                      <a:lnTo>
                        <a:pt x="707" y="188"/>
                      </a:lnTo>
                      <a:lnTo>
                        <a:pt x="714" y="181"/>
                      </a:lnTo>
                      <a:lnTo>
                        <a:pt x="714" y="181"/>
                      </a:lnTo>
                      <a:lnTo>
                        <a:pt x="714" y="174"/>
                      </a:lnTo>
                      <a:lnTo>
                        <a:pt x="714" y="174"/>
                      </a:lnTo>
                      <a:lnTo>
                        <a:pt x="714" y="167"/>
                      </a:lnTo>
                      <a:lnTo>
                        <a:pt x="714" y="167"/>
                      </a:lnTo>
                      <a:lnTo>
                        <a:pt x="721" y="167"/>
                      </a:lnTo>
                      <a:lnTo>
                        <a:pt x="721" y="167"/>
                      </a:lnTo>
                      <a:lnTo>
                        <a:pt x="721" y="160"/>
                      </a:lnTo>
                      <a:lnTo>
                        <a:pt x="728" y="160"/>
                      </a:lnTo>
                      <a:lnTo>
                        <a:pt x="728" y="160"/>
                      </a:lnTo>
                      <a:lnTo>
                        <a:pt x="735" y="160"/>
                      </a:lnTo>
                      <a:lnTo>
                        <a:pt x="735" y="160"/>
                      </a:lnTo>
                      <a:lnTo>
                        <a:pt x="735" y="160"/>
                      </a:lnTo>
                      <a:lnTo>
                        <a:pt x="741" y="160"/>
                      </a:lnTo>
                      <a:lnTo>
                        <a:pt x="748" y="160"/>
                      </a:lnTo>
                      <a:lnTo>
                        <a:pt x="748" y="160"/>
                      </a:lnTo>
                      <a:lnTo>
                        <a:pt x="748" y="167"/>
                      </a:lnTo>
                      <a:lnTo>
                        <a:pt x="748" y="167"/>
                      </a:lnTo>
                      <a:lnTo>
                        <a:pt x="748" y="174"/>
                      </a:lnTo>
                      <a:lnTo>
                        <a:pt x="748" y="174"/>
                      </a:lnTo>
                      <a:lnTo>
                        <a:pt x="748" y="181"/>
                      </a:lnTo>
                      <a:lnTo>
                        <a:pt x="748" y="188"/>
                      </a:lnTo>
                      <a:lnTo>
                        <a:pt x="748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9" y="195"/>
                      </a:lnTo>
                      <a:lnTo>
                        <a:pt x="789" y="195"/>
                      </a:lnTo>
                      <a:lnTo>
                        <a:pt x="789" y="202"/>
                      </a:lnTo>
                      <a:lnTo>
                        <a:pt x="796" y="202"/>
                      </a:lnTo>
                      <a:lnTo>
                        <a:pt x="796" y="209"/>
                      </a:lnTo>
                      <a:lnTo>
                        <a:pt x="796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10" y="215"/>
                      </a:lnTo>
                      <a:lnTo>
                        <a:pt x="838" y="229"/>
                      </a:lnTo>
                      <a:lnTo>
                        <a:pt x="838" y="229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51" y="236"/>
                      </a:lnTo>
                      <a:lnTo>
                        <a:pt x="851" y="236"/>
                      </a:lnTo>
                      <a:lnTo>
                        <a:pt x="851" y="236"/>
                      </a:lnTo>
                      <a:lnTo>
                        <a:pt x="851" y="236"/>
                      </a:lnTo>
                      <a:lnTo>
                        <a:pt x="858" y="236"/>
                      </a:lnTo>
                      <a:lnTo>
                        <a:pt x="858" y="236"/>
                      </a:lnTo>
                      <a:lnTo>
                        <a:pt x="858" y="236"/>
                      </a:lnTo>
                      <a:lnTo>
                        <a:pt x="858" y="236"/>
                      </a:lnTo>
                      <a:lnTo>
                        <a:pt x="858" y="236"/>
                      </a:lnTo>
                      <a:lnTo>
                        <a:pt x="865" y="236"/>
                      </a:lnTo>
                      <a:lnTo>
                        <a:pt x="865" y="236"/>
                      </a:lnTo>
                      <a:lnTo>
                        <a:pt x="865" y="236"/>
                      </a:lnTo>
                      <a:lnTo>
                        <a:pt x="865" y="236"/>
                      </a:lnTo>
                      <a:lnTo>
                        <a:pt x="865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9" y="236"/>
                      </a:lnTo>
                      <a:lnTo>
                        <a:pt x="879" y="236"/>
                      </a:lnTo>
                      <a:lnTo>
                        <a:pt x="879" y="236"/>
                      </a:lnTo>
                      <a:lnTo>
                        <a:pt x="879" y="236"/>
                      </a:lnTo>
                      <a:lnTo>
                        <a:pt x="879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92" y="236"/>
                      </a:lnTo>
                      <a:lnTo>
                        <a:pt x="892" y="243"/>
                      </a:lnTo>
                      <a:lnTo>
                        <a:pt x="892" y="250"/>
                      </a:lnTo>
                      <a:lnTo>
                        <a:pt x="892" y="250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906" y="264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8"/>
                      </a:lnTo>
                      <a:lnTo>
                        <a:pt x="927" y="278"/>
                      </a:lnTo>
                      <a:lnTo>
                        <a:pt x="927" y="278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34" y="271"/>
                      </a:lnTo>
                      <a:lnTo>
                        <a:pt x="927" y="271"/>
                      </a:lnTo>
                      <a:lnTo>
                        <a:pt x="934" y="271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7" y="271"/>
                      </a:lnTo>
                      <a:lnTo>
                        <a:pt x="947" y="271"/>
                      </a:lnTo>
                      <a:lnTo>
                        <a:pt x="947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71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54" y="264"/>
                      </a:lnTo>
                      <a:lnTo>
                        <a:pt x="954" y="264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8"/>
                      </a:lnTo>
                      <a:lnTo>
                        <a:pt x="954" y="278"/>
                      </a:lnTo>
                      <a:lnTo>
                        <a:pt x="954" y="278"/>
                      </a:lnTo>
                      <a:lnTo>
                        <a:pt x="954" y="278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64"/>
                      </a:lnTo>
                      <a:lnTo>
                        <a:pt x="961" y="264"/>
                      </a:lnTo>
                      <a:lnTo>
                        <a:pt x="961" y="264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85"/>
                      </a:lnTo>
                      <a:lnTo>
                        <a:pt x="968" y="278"/>
                      </a:lnTo>
                      <a:lnTo>
                        <a:pt x="968" y="285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68" y="264"/>
                      </a:lnTo>
                      <a:lnTo>
                        <a:pt x="968" y="264"/>
                      </a:lnTo>
                      <a:lnTo>
                        <a:pt x="975" y="264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64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95" y="271"/>
                      </a:lnTo>
                      <a:lnTo>
                        <a:pt x="989" y="271"/>
                      </a:lnTo>
                      <a:lnTo>
                        <a:pt x="995" y="271"/>
                      </a:lnTo>
                      <a:lnTo>
                        <a:pt x="995" y="271"/>
                      </a:lnTo>
                      <a:lnTo>
                        <a:pt x="995" y="271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85"/>
                      </a:lnTo>
                      <a:lnTo>
                        <a:pt x="995" y="285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85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1"/>
                      </a:lnTo>
                      <a:lnTo>
                        <a:pt x="995" y="278"/>
                      </a:lnTo>
                      <a:lnTo>
                        <a:pt x="995" y="271"/>
                      </a:lnTo>
                      <a:lnTo>
                        <a:pt x="995" y="271"/>
                      </a:lnTo>
                      <a:lnTo>
                        <a:pt x="995" y="271"/>
                      </a:lnTo>
                      <a:lnTo>
                        <a:pt x="1002" y="271"/>
                      </a:lnTo>
                      <a:lnTo>
                        <a:pt x="1002" y="271"/>
                      </a:lnTo>
                      <a:lnTo>
                        <a:pt x="1002" y="271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16" y="285"/>
                      </a:lnTo>
                      <a:lnTo>
                        <a:pt x="1016" y="292"/>
                      </a:lnTo>
                      <a:lnTo>
                        <a:pt x="1009" y="292"/>
                      </a:lnTo>
                      <a:lnTo>
                        <a:pt x="1009" y="292"/>
                      </a:lnTo>
                      <a:lnTo>
                        <a:pt x="1016" y="292"/>
                      </a:lnTo>
                      <a:lnTo>
                        <a:pt x="1016" y="292"/>
                      </a:lnTo>
                      <a:lnTo>
                        <a:pt x="1016" y="292"/>
                      </a:lnTo>
                      <a:lnTo>
                        <a:pt x="1016" y="292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78"/>
                      </a:lnTo>
                      <a:lnTo>
                        <a:pt x="1016" y="285"/>
                      </a:lnTo>
                      <a:lnTo>
                        <a:pt x="1023" y="285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16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7" y="285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92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44" y="285"/>
                      </a:lnTo>
                      <a:lnTo>
                        <a:pt x="1037" y="285"/>
                      </a:lnTo>
                      <a:lnTo>
                        <a:pt x="1044" y="285"/>
                      </a:lnTo>
                      <a:lnTo>
                        <a:pt x="1044" y="285"/>
                      </a:lnTo>
                      <a:lnTo>
                        <a:pt x="1037" y="292"/>
                      </a:lnTo>
                      <a:lnTo>
                        <a:pt x="1037" y="285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2"/>
                      </a:lnTo>
                      <a:lnTo>
                        <a:pt x="1044" y="292"/>
                      </a:lnTo>
                      <a:lnTo>
                        <a:pt x="1044" y="292"/>
                      </a:lnTo>
                      <a:lnTo>
                        <a:pt x="1044" y="292"/>
                      </a:lnTo>
                      <a:lnTo>
                        <a:pt x="1044" y="292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50" y="299"/>
                      </a:lnTo>
                      <a:lnTo>
                        <a:pt x="1044" y="299"/>
                      </a:lnTo>
                      <a:lnTo>
                        <a:pt x="1050" y="299"/>
                      </a:lnTo>
                      <a:lnTo>
                        <a:pt x="1044" y="299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9"/>
                      </a:lnTo>
                      <a:lnTo>
                        <a:pt x="1050" y="292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299"/>
                      </a:lnTo>
                      <a:lnTo>
                        <a:pt x="1057" y="299"/>
                      </a:lnTo>
                      <a:lnTo>
                        <a:pt x="1057" y="299"/>
                      </a:lnTo>
                      <a:lnTo>
                        <a:pt x="1057" y="299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64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299"/>
                      </a:lnTo>
                      <a:lnTo>
                        <a:pt x="1064" y="299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71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299"/>
                      </a:lnTo>
                      <a:lnTo>
                        <a:pt x="1064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64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9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8" y="292"/>
                      </a:lnTo>
                      <a:lnTo>
                        <a:pt x="1078" y="292"/>
                      </a:lnTo>
                      <a:lnTo>
                        <a:pt x="1078" y="299"/>
                      </a:lnTo>
                      <a:lnTo>
                        <a:pt x="1078" y="292"/>
                      </a:lnTo>
                      <a:lnTo>
                        <a:pt x="1071" y="292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8" y="299"/>
                      </a:lnTo>
                      <a:lnTo>
                        <a:pt x="1078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306"/>
                      </a:lnTo>
                      <a:lnTo>
                        <a:pt x="1071" y="306"/>
                      </a:lnTo>
                      <a:lnTo>
                        <a:pt x="1071" y="306"/>
                      </a:lnTo>
                      <a:lnTo>
                        <a:pt x="1078" y="306"/>
                      </a:lnTo>
                      <a:lnTo>
                        <a:pt x="1071" y="306"/>
                      </a:lnTo>
                      <a:lnTo>
                        <a:pt x="1071" y="306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299"/>
                      </a:lnTo>
                      <a:lnTo>
                        <a:pt x="1078" y="299"/>
                      </a:lnTo>
                      <a:lnTo>
                        <a:pt x="1078" y="299"/>
                      </a:lnTo>
                      <a:lnTo>
                        <a:pt x="1078" y="299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13"/>
                      </a:lnTo>
                      <a:lnTo>
                        <a:pt x="1085" y="313"/>
                      </a:lnTo>
                      <a:lnTo>
                        <a:pt x="1085" y="313"/>
                      </a:lnTo>
                      <a:lnTo>
                        <a:pt x="1085" y="320"/>
                      </a:lnTo>
                      <a:lnTo>
                        <a:pt x="1085" y="320"/>
                      </a:lnTo>
                      <a:lnTo>
                        <a:pt x="1085" y="320"/>
                      </a:lnTo>
                      <a:lnTo>
                        <a:pt x="1085" y="320"/>
                      </a:lnTo>
                      <a:lnTo>
                        <a:pt x="1085" y="320"/>
                      </a:lnTo>
                      <a:lnTo>
                        <a:pt x="1078" y="320"/>
                      </a:lnTo>
                      <a:lnTo>
                        <a:pt x="1078" y="320"/>
                      </a:lnTo>
                      <a:lnTo>
                        <a:pt x="1078" y="320"/>
                      </a:lnTo>
                      <a:lnTo>
                        <a:pt x="1078" y="326"/>
                      </a:lnTo>
                      <a:lnTo>
                        <a:pt x="1078" y="326"/>
                      </a:lnTo>
                      <a:lnTo>
                        <a:pt x="1078" y="326"/>
                      </a:lnTo>
                      <a:lnTo>
                        <a:pt x="1078" y="326"/>
                      </a:lnTo>
                      <a:lnTo>
                        <a:pt x="1085" y="326"/>
                      </a:lnTo>
                      <a:lnTo>
                        <a:pt x="1085" y="326"/>
                      </a:lnTo>
                      <a:lnTo>
                        <a:pt x="1085" y="326"/>
                      </a:lnTo>
                      <a:lnTo>
                        <a:pt x="1085" y="333"/>
                      </a:lnTo>
                      <a:lnTo>
                        <a:pt x="1085" y="333"/>
                      </a:lnTo>
                      <a:lnTo>
                        <a:pt x="1085" y="333"/>
                      </a:lnTo>
                      <a:lnTo>
                        <a:pt x="1078" y="333"/>
                      </a:lnTo>
                      <a:lnTo>
                        <a:pt x="1078" y="340"/>
                      </a:lnTo>
                      <a:lnTo>
                        <a:pt x="1078" y="340"/>
                      </a:lnTo>
                      <a:lnTo>
                        <a:pt x="1078" y="340"/>
                      </a:lnTo>
                      <a:lnTo>
                        <a:pt x="1078" y="340"/>
                      </a:lnTo>
                      <a:lnTo>
                        <a:pt x="1078" y="340"/>
                      </a:lnTo>
                      <a:lnTo>
                        <a:pt x="1078" y="347"/>
                      </a:lnTo>
                      <a:lnTo>
                        <a:pt x="1078" y="347"/>
                      </a:lnTo>
                      <a:lnTo>
                        <a:pt x="1078" y="347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1" y="361"/>
                      </a:lnTo>
                      <a:lnTo>
                        <a:pt x="1071" y="361"/>
                      </a:lnTo>
                      <a:lnTo>
                        <a:pt x="1071" y="361"/>
                      </a:lnTo>
                      <a:lnTo>
                        <a:pt x="1071" y="361"/>
                      </a:lnTo>
                      <a:lnTo>
                        <a:pt x="1071" y="361"/>
                      </a:lnTo>
                      <a:lnTo>
                        <a:pt x="1064" y="361"/>
                      </a:lnTo>
                      <a:lnTo>
                        <a:pt x="1064" y="361"/>
                      </a:lnTo>
                      <a:lnTo>
                        <a:pt x="1064" y="361"/>
                      </a:lnTo>
                      <a:lnTo>
                        <a:pt x="1064" y="361"/>
                      </a:lnTo>
                      <a:lnTo>
                        <a:pt x="1064" y="368"/>
                      </a:lnTo>
                      <a:lnTo>
                        <a:pt x="1064" y="368"/>
                      </a:lnTo>
                      <a:lnTo>
                        <a:pt x="1064" y="368"/>
                      </a:lnTo>
                      <a:lnTo>
                        <a:pt x="1064" y="368"/>
                      </a:lnTo>
                      <a:lnTo>
                        <a:pt x="1071" y="368"/>
                      </a:lnTo>
                      <a:lnTo>
                        <a:pt x="1071" y="368"/>
                      </a:lnTo>
                      <a:lnTo>
                        <a:pt x="1071" y="368"/>
                      </a:lnTo>
                      <a:lnTo>
                        <a:pt x="1071" y="368"/>
                      </a:lnTo>
                      <a:lnTo>
                        <a:pt x="1071" y="368"/>
                      </a:lnTo>
                      <a:lnTo>
                        <a:pt x="1071" y="375"/>
                      </a:lnTo>
                      <a:lnTo>
                        <a:pt x="1071" y="375"/>
                      </a:lnTo>
                      <a:lnTo>
                        <a:pt x="1071" y="375"/>
                      </a:lnTo>
                      <a:lnTo>
                        <a:pt x="1071" y="375"/>
                      </a:lnTo>
                      <a:lnTo>
                        <a:pt x="1071" y="375"/>
                      </a:lnTo>
                      <a:lnTo>
                        <a:pt x="1071" y="382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96"/>
                      </a:lnTo>
                      <a:lnTo>
                        <a:pt x="1071" y="396"/>
                      </a:lnTo>
                      <a:lnTo>
                        <a:pt x="1071" y="396"/>
                      </a:lnTo>
                      <a:lnTo>
                        <a:pt x="1064" y="396"/>
                      </a:lnTo>
                      <a:lnTo>
                        <a:pt x="1064" y="396"/>
                      </a:lnTo>
                      <a:lnTo>
                        <a:pt x="1071" y="396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03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0" y="417"/>
                      </a:lnTo>
                      <a:lnTo>
                        <a:pt x="1050" y="417"/>
                      </a:lnTo>
                      <a:lnTo>
                        <a:pt x="1050" y="417"/>
                      </a:lnTo>
                      <a:lnTo>
                        <a:pt x="1050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30"/>
                      </a:lnTo>
                      <a:lnTo>
                        <a:pt x="1057" y="430"/>
                      </a:lnTo>
                      <a:lnTo>
                        <a:pt x="1057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7"/>
                      </a:lnTo>
                      <a:lnTo>
                        <a:pt x="1050" y="437"/>
                      </a:lnTo>
                      <a:lnTo>
                        <a:pt x="1050" y="437"/>
                      </a:lnTo>
                      <a:lnTo>
                        <a:pt x="1044" y="437"/>
                      </a:lnTo>
                      <a:lnTo>
                        <a:pt x="1044" y="437"/>
                      </a:lnTo>
                      <a:lnTo>
                        <a:pt x="1044" y="437"/>
                      </a:lnTo>
                      <a:lnTo>
                        <a:pt x="1044" y="437"/>
                      </a:lnTo>
                      <a:lnTo>
                        <a:pt x="1044" y="444"/>
                      </a:lnTo>
                      <a:lnTo>
                        <a:pt x="1044" y="444"/>
                      </a:lnTo>
                      <a:lnTo>
                        <a:pt x="1044" y="437"/>
                      </a:lnTo>
                      <a:lnTo>
                        <a:pt x="1037" y="437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44" y="451"/>
                      </a:lnTo>
                      <a:lnTo>
                        <a:pt x="1044" y="451"/>
                      </a:lnTo>
                      <a:lnTo>
                        <a:pt x="1044" y="451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37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9"/>
                      </a:lnTo>
                      <a:lnTo>
                        <a:pt x="1037" y="479"/>
                      </a:lnTo>
                      <a:lnTo>
                        <a:pt x="1037" y="479"/>
                      </a:lnTo>
                      <a:lnTo>
                        <a:pt x="1037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23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23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23" y="486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500"/>
                      </a:lnTo>
                      <a:lnTo>
                        <a:pt x="1023" y="500"/>
                      </a:lnTo>
                      <a:lnTo>
                        <a:pt x="1023" y="500"/>
                      </a:lnTo>
                      <a:lnTo>
                        <a:pt x="1023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09" y="500"/>
                      </a:lnTo>
                      <a:lnTo>
                        <a:pt x="1016" y="500"/>
                      </a:lnTo>
                      <a:lnTo>
                        <a:pt x="1016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2" y="514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35"/>
                      </a:lnTo>
                      <a:lnTo>
                        <a:pt x="1002" y="535"/>
                      </a:lnTo>
                      <a:lnTo>
                        <a:pt x="1002" y="535"/>
                      </a:lnTo>
                      <a:lnTo>
                        <a:pt x="1002" y="535"/>
                      </a:lnTo>
                      <a:lnTo>
                        <a:pt x="1002" y="535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995" y="541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89" y="548"/>
                      </a:lnTo>
                      <a:lnTo>
                        <a:pt x="989" y="548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2" y="555"/>
                      </a:lnTo>
                      <a:lnTo>
                        <a:pt x="982" y="555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75" y="562"/>
                      </a:lnTo>
                      <a:lnTo>
                        <a:pt x="982" y="569"/>
                      </a:lnTo>
                      <a:lnTo>
                        <a:pt x="975" y="569"/>
                      </a:lnTo>
                      <a:lnTo>
                        <a:pt x="982" y="569"/>
                      </a:lnTo>
                      <a:lnTo>
                        <a:pt x="975" y="569"/>
                      </a:lnTo>
                      <a:lnTo>
                        <a:pt x="982" y="569"/>
                      </a:lnTo>
                      <a:lnTo>
                        <a:pt x="982" y="569"/>
                      </a:lnTo>
                      <a:lnTo>
                        <a:pt x="975" y="569"/>
                      </a:lnTo>
                      <a:lnTo>
                        <a:pt x="975" y="569"/>
                      </a:lnTo>
                      <a:lnTo>
                        <a:pt x="975" y="569"/>
                      </a:lnTo>
                      <a:lnTo>
                        <a:pt x="975" y="569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68" y="576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90"/>
                      </a:lnTo>
                      <a:lnTo>
                        <a:pt x="968" y="590"/>
                      </a:lnTo>
                      <a:lnTo>
                        <a:pt x="968" y="590"/>
                      </a:lnTo>
                      <a:lnTo>
                        <a:pt x="961" y="590"/>
                      </a:lnTo>
                      <a:lnTo>
                        <a:pt x="961" y="590"/>
                      </a:lnTo>
                      <a:lnTo>
                        <a:pt x="961" y="597"/>
                      </a:lnTo>
                      <a:lnTo>
                        <a:pt x="961" y="597"/>
                      </a:lnTo>
                      <a:lnTo>
                        <a:pt x="954" y="604"/>
                      </a:lnTo>
                      <a:lnTo>
                        <a:pt x="954" y="604"/>
                      </a:lnTo>
                      <a:lnTo>
                        <a:pt x="954" y="604"/>
                      </a:lnTo>
                      <a:lnTo>
                        <a:pt x="954" y="604"/>
                      </a:lnTo>
                      <a:lnTo>
                        <a:pt x="954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1" y="604"/>
                      </a:lnTo>
                      <a:lnTo>
                        <a:pt x="941" y="604"/>
                      </a:lnTo>
                      <a:lnTo>
                        <a:pt x="941" y="604"/>
                      </a:lnTo>
                      <a:lnTo>
                        <a:pt x="941" y="604"/>
                      </a:lnTo>
                      <a:lnTo>
                        <a:pt x="927" y="618"/>
                      </a:lnTo>
                      <a:lnTo>
                        <a:pt x="920" y="618"/>
                      </a:lnTo>
                      <a:lnTo>
                        <a:pt x="920" y="625"/>
                      </a:lnTo>
                      <a:lnTo>
                        <a:pt x="913" y="625"/>
                      </a:lnTo>
                      <a:lnTo>
                        <a:pt x="906" y="632"/>
                      </a:lnTo>
                      <a:lnTo>
                        <a:pt x="906" y="632"/>
                      </a:lnTo>
                      <a:lnTo>
                        <a:pt x="892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86" y="652"/>
                      </a:lnTo>
                      <a:lnTo>
                        <a:pt x="886" y="652"/>
                      </a:lnTo>
                      <a:lnTo>
                        <a:pt x="879" y="652"/>
                      </a:lnTo>
                      <a:lnTo>
                        <a:pt x="858" y="666"/>
                      </a:lnTo>
                      <a:lnTo>
                        <a:pt x="858" y="673"/>
                      </a:lnTo>
                      <a:lnTo>
                        <a:pt x="858" y="673"/>
                      </a:lnTo>
                      <a:lnTo>
                        <a:pt x="858" y="673"/>
                      </a:lnTo>
                      <a:lnTo>
                        <a:pt x="865" y="673"/>
                      </a:lnTo>
                      <a:lnTo>
                        <a:pt x="865" y="673"/>
                      </a:lnTo>
                      <a:lnTo>
                        <a:pt x="865" y="673"/>
                      </a:lnTo>
                      <a:lnTo>
                        <a:pt x="865" y="673"/>
                      </a:lnTo>
                      <a:lnTo>
                        <a:pt x="865" y="673"/>
                      </a:lnTo>
                      <a:lnTo>
                        <a:pt x="872" y="673"/>
                      </a:lnTo>
                      <a:lnTo>
                        <a:pt x="872" y="673"/>
                      </a:lnTo>
                      <a:lnTo>
                        <a:pt x="872" y="673"/>
                      </a:lnTo>
                      <a:lnTo>
                        <a:pt x="879" y="673"/>
                      </a:lnTo>
                      <a:lnTo>
                        <a:pt x="879" y="673"/>
                      </a:lnTo>
                      <a:lnTo>
                        <a:pt x="879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80"/>
                      </a:lnTo>
                      <a:lnTo>
                        <a:pt x="892" y="680"/>
                      </a:lnTo>
                      <a:lnTo>
                        <a:pt x="892" y="680"/>
                      </a:lnTo>
                      <a:lnTo>
                        <a:pt x="892" y="680"/>
                      </a:lnTo>
                      <a:lnTo>
                        <a:pt x="899" y="680"/>
                      </a:lnTo>
                      <a:lnTo>
                        <a:pt x="899" y="687"/>
                      </a:lnTo>
                      <a:lnTo>
                        <a:pt x="899" y="687"/>
                      </a:lnTo>
                      <a:lnTo>
                        <a:pt x="899" y="687"/>
                      </a:lnTo>
                      <a:lnTo>
                        <a:pt x="899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13" y="687"/>
                      </a:lnTo>
                      <a:lnTo>
                        <a:pt x="913" y="694"/>
                      </a:lnTo>
                      <a:lnTo>
                        <a:pt x="913" y="694"/>
                      </a:lnTo>
                      <a:lnTo>
                        <a:pt x="913" y="694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899" y="701"/>
                      </a:lnTo>
                      <a:lnTo>
                        <a:pt x="899" y="701"/>
                      </a:lnTo>
                      <a:lnTo>
                        <a:pt x="899" y="701"/>
                      </a:lnTo>
                      <a:lnTo>
                        <a:pt x="899" y="708"/>
                      </a:lnTo>
                      <a:lnTo>
                        <a:pt x="899" y="708"/>
                      </a:lnTo>
                      <a:lnTo>
                        <a:pt x="899" y="708"/>
                      </a:lnTo>
                      <a:lnTo>
                        <a:pt x="899" y="708"/>
                      </a:lnTo>
                      <a:lnTo>
                        <a:pt x="899" y="715"/>
                      </a:lnTo>
                      <a:lnTo>
                        <a:pt x="899" y="715"/>
                      </a:lnTo>
                      <a:lnTo>
                        <a:pt x="899" y="715"/>
                      </a:lnTo>
                      <a:lnTo>
                        <a:pt x="906" y="715"/>
                      </a:lnTo>
                      <a:lnTo>
                        <a:pt x="906" y="715"/>
                      </a:lnTo>
                      <a:lnTo>
                        <a:pt x="906" y="715"/>
                      </a:lnTo>
                      <a:lnTo>
                        <a:pt x="906" y="722"/>
                      </a:lnTo>
                      <a:lnTo>
                        <a:pt x="899" y="722"/>
                      </a:lnTo>
                      <a:lnTo>
                        <a:pt x="899" y="722"/>
                      </a:lnTo>
                      <a:lnTo>
                        <a:pt x="899" y="722"/>
                      </a:lnTo>
                      <a:lnTo>
                        <a:pt x="892" y="722"/>
                      </a:lnTo>
                      <a:lnTo>
                        <a:pt x="892" y="722"/>
                      </a:lnTo>
                      <a:lnTo>
                        <a:pt x="892" y="729"/>
                      </a:lnTo>
                      <a:lnTo>
                        <a:pt x="892" y="729"/>
                      </a:lnTo>
                      <a:lnTo>
                        <a:pt x="892" y="729"/>
                      </a:lnTo>
                      <a:lnTo>
                        <a:pt x="899" y="729"/>
                      </a:lnTo>
                      <a:lnTo>
                        <a:pt x="899" y="729"/>
                      </a:lnTo>
                      <a:lnTo>
                        <a:pt x="899" y="729"/>
                      </a:lnTo>
                      <a:lnTo>
                        <a:pt x="899" y="736"/>
                      </a:lnTo>
                      <a:lnTo>
                        <a:pt x="899" y="736"/>
                      </a:lnTo>
                      <a:lnTo>
                        <a:pt x="892" y="736"/>
                      </a:lnTo>
                      <a:lnTo>
                        <a:pt x="892" y="736"/>
                      </a:lnTo>
                      <a:lnTo>
                        <a:pt x="892" y="736"/>
                      </a:lnTo>
                      <a:lnTo>
                        <a:pt x="886" y="736"/>
                      </a:lnTo>
                      <a:lnTo>
                        <a:pt x="886" y="736"/>
                      </a:lnTo>
                      <a:lnTo>
                        <a:pt x="886" y="743"/>
                      </a:lnTo>
                      <a:lnTo>
                        <a:pt x="886" y="743"/>
                      </a:lnTo>
                      <a:lnTo>
                        <a:pt x="886" y="743"/>
                      </a:lnTo>
                      <a:lnTo>
                        <a:pt x="886" y="743"/>
                      </a:lnTo>
                      <a:lnTo>
                        <a:pt x="886" y="750"/>
                      </a:lnTo>
                      <a:lnTo>
                        <a:pt x="886" y="750"/>
                      </a:lnTo>
                      <a:lnTo>
                        <a:pt x="886" y="750"/>
                      </a:lnTo>
                      <a:lnTo>
                        <a:pt x="886" y="750"/>
                      </a:lnTo>
                      <a:lnTo>
                        <a:pt x="886" y="750"/>
                      </a:lnTo>
                      <a:lnTo>
                        <a:pt x="892" y="750"/>
                      </a:lnTo>
                      <a:lnTo>
                        <a:pt x="892" y="757"/>
                      </a:lnTo>
                      <a:lnTo>
                        <a:pt x="892" y="757"/>
                      </a:lnTo>
                      <a:lnTo>
                        <a:pt x="886" y="757"/>
                      </a:lnTo>
                      <a:lnTo>
                        <a:pt x="886" y="757"/>
                      </a:lnTo>
                      <a:lnTo>
                        <a:pt x="886" y="757"/>
                      </a:lnTo>
                      <a:lnTo>
                        <a:pt x="879" y="757"/>
                      </a:lnTo>
                      <a:lnTo>
                        <a:pt x="879" y="757"/>
                      </a:lnTo>
                      <a:lnTo>
                        <a:pt x="879" y="757"/>
                      </a:lnTo>
                      <a:lnTo>
                        <a:pt x="879" y="757"/>
                      </a:lnTo>
                      <a:lnTo>
                        <a:pt x="879" y="757"/>
                      </a:lnTo>
                      <a:lnTo>
                        <a:pt x="872" y="757"/>
                      </a:lnTo>
                      <a:lnTo>
                        <a:pt x="872" y="763"/>
                      </a:lnTo>
                      <a:lnTo>
                        <a:pt x="872" y="763"/>
                      </a:lnTo>
                      <a:lnTo>
                        <a:pt x="872" y="763"/>
                      </a:lnTo>
                      <a:lnTo>
                        <a:pt x="865" y="770"/>
                      </a:lnTo>
                      <a:lnTo>
                        <a:pt x="865" y="770"/>
                      </a:lnTo>
                      <a:lnTo>
                        <a:pt x="865" y="770"/>
                      </a:lnTo>
                      <a:lnTo>
                        <a:pt x="865" y="770"/>
                      </a:lnTo>
                      <a:lnTo>
                        <a:pt x="865" y="770"/>
                      </a:lnTo>
                      <a:lnTo>
                        <a:pt x="865" y="777"/>
                      </a:lnTo>
                      <a:lnTo>
                        <a:pt x="865" y="777"/>
                      </a:lnTo>
                      <a:lnTo>
                        <a:pt x="865" y="777"/>
                      </a:lnTo>
                      <a:lnTo>
                        <a:pt x="865" y="777"/>
                      </a:lnTo>
                      <a:lnTo>
                        <a:pt x="865" y="784"/>
                      </a:lnTo>
                      <a:lnTo>
                        <a:pt x="858" y="784"/>
                      </a:lnTo>
                      <a:lnTo>
                        <a:pt x="858" y="784"/>
                      </a:lnTo>
                      <a:lnTo>
                        <a:pt x="858" y="784"/>
                      </a:lnTo>
                      <a:lnTo>
                        <a:pt x="851" y="791"/>
                      </a:lnTo>
                      <a:lnTo>
                        <a:pt x="851" y="791"/>
                      </a:lnTo>
                      <a:lnTo>
                        <a:pt x="851" y="791"/>
                      </a:lnTo>
                      <a:lnTo>
                        <a:pt x="851" y="791"/>
                      </a:lnTo>
                      <a:lnTo>
                        <a:pt x="851" y="791"/>
                      </a:lnTo>
                      <a:lnTo>
                        <a:pt x="844" y="791"/>
                      </a:lnTo>
                      <a:lnTo>
                        <a:pt x="844" y="791"/>
                      </a:lnTo>
                      <a:lnTo>
                        <a:pt x="844" y="791"/>
                      </a:lnTo>
                      <a:lnTo>
                        <a:pt x="844" y="791"/>
                      </a:lnTo>
                      <a:lnTo>
                        <a:pt x="838" y="791"/>
                      </a:lnTo>
                      <a:lnTo>
                        <a:pt x="838" y="791"/>
                      </a:lnTo>
                      <a:lnTo>
                        <a:pt x="838" y="791"/>
                      </a:lnTo>
                      <a:lnTo>
                        <a:pt x="831" y="798"/>
                      </a:lnTo>
                      <a:lnTo>
                        <a:pt x="831" y="798"/>
                      </a:lnTo>
                      <a:lnTo>
                        <a:pt x="824" y="798"/>
                      </a:lnTo>
                      <a:lnTo>
                        <a:pt x="824" y="798"/>
                      </a:lnTo>
                      <a:lnTo>
                        <a:pt x="824" y="798"/>
                      </a:lnTo>
                      <a:lnTo>
                        <a:pt x="824" y="798"/>
                      </a:lnTo>
                      <a:lnTo>
                        <a:pt x="824" y="805"/>
                      </a:lnTo>
                      <a:lnTo>
                        <a:pt x="824" y="805"/>
                      </a:lnTo>
                      <a:lnTo>
                        <a:pt x="824" y="805"/>
                      </a:lnTo>
                      <a:lnTo>
                        <a:pt x="824" y="805"/>
                      </a:lnTo>
                      <a:lnTo>
                        <a:pt x="824" y="805"/>
                      </a:lnTo>
                      <a:lnTo>
                        <a:pt x="824" y="812"/>
                      </a:lnTo>
                      <a:lnTo>
                        <a:pt x="824" y="812"/>
                      </a:lnTo>
                      <a:lnTo>
                        <a:pt x="824" y="812"/>
                      </a:lnTo>
                      <a:lnTo>
                        <a:pt x="824" y="819"/>
                      </a:lnTo>
                      <a:lnTo>
                        <a:pt x="824" y="826"/>
                      </a:lnTo>
                      <a:lnTo>
                        <a:pt x="824" y="826"/>
                      </a:lnTo>
                      <a:lnTo>
                        <a:pt x="824" y="826"/>
                      </a:lnTo>
                      <a:lnTo>
                        <a:pt x="824" y="833"/>
                      </a:lnTo>
                      <a:lnTo>
                        <a:pt x="824" y="833"/>
                      </a:lnTo>
                      <a:lnTo>
                        <a:pt x="817" y="840"/>
                      </a:lnTo>
                      <a:lnTo>
                        <a:pt x="817" y="840"/>
                      </a:lnTo>
                      <a:lnTo>
                        <a:pt x="817" y="840"/>
                      </a:lnTo>
                      <a:lnTo>
                        <a:pt x="817" y="840"/>
                      </a:lnTo>
                      <a:lnTo>
                        <a:pt x="817" y="840"/>
                      </a:lnTo>
                      <a:lnTo>
                        <a:pt x="810" y="847"/>
                      </a:lnTo>
                      <a:lnTo>
                        <a:pt x="810" y="847"/>
                      </a:lnTo>
                      <a:lnTo>
                        <a:pt x="810" y="847"/>
                      </a:lnTo>
                      <a:lnTo>
                        <a:pt x="803" y="854"/>
                      </a:lnTo>
                      <a:lnTo>
                        <a:pt x="803" y="854"/>
                      </a:lnTo>
                      <a:lnTo>
                        <a:pt x="803" y="861"/>
                      </a:lnTo>
                      <a:lnTo>
                        <a:pt x="810" y="861"/>
                      </a:lnTo>
                      <a:lnTo>
                        <a:pt x="810" y="868"/>
                      </a:lnTo>
                      <a:lnTo>
                        <a:pt x="810" y="868"/>
                      </a:lnTo>
                      <a:lnTo>
                        <a:pt x="810" y="868"/>
                      </a:lnTo>
                      <a:lnTo>
                        <a:pt x="810" y="868"/>
                      </a:lnTo>
                      <a:lnTo>
                        <a:pt x="817" y="868"/>
                      </a:lnTo>
                      <a:lnTo>
                        <a:pt x="817" y="874"/>
                      </a:lnTo>
                      <a:lnTo>
                        <a:pt x="817" y="874"/>
                      </a:lnTo>
                      <a:lnTo>
                        <a:pt x="824" y="874"/>
                      </a:lnTo>
                      <a:lnTo>
                        <a:pt x="824" y="874"/>
                      </a:lnTo>
                      <a:lnTo>
                        <a:pt x="824" y="874"/>
                      </a:lnTo>
                      <a:lnTo>
                        <a:pt x="824" y="874"/>
                      </a:lnTo>
                      <a:lnTo>
                        <a:pt x="824" y="881"/>
                      </a:lnTo>
                      <a:lnTo>
                        <a:pt x="824" y="881"/>
                      </a:lnTo>
                      <a:lnTo>
                        <a:pt x="824" y="881"/>
                      </a:lnTo>
                      <a:lnTo>
                        <a:pt x="824" y="881"/>
                      </a:lnTo>
                      <a:lnTo>
                        <a:pt x="824" y="888"/>
                      </a:lnTo>
                      <a:lnTo>
                        <a:pt x="824" y="888"/>
                      </a:lnTo>
                      <a:lnTo>
                        <a:pt x="824" y="888"/>
                      </a:lnTo>
                      <a:lnTo>
                        <a:pt x="824" y="895"/>
                      </a:lnTo>
                      <a:lnTo>
                        <a:pt x="824" y="895"/>
                      </a:lnTo>
                      <a:lnTo>
                        <a:pt x="824" y="895"/>
                      </a:lnTo>
                      <a:lnTo>
                        <a:pt x="824" y="895"/>
                      </a:lnTo>
                      <a:lnTo>
                        <a:pt x="824" y="895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9"/>
                      </a:lnTo>
                      <a:lnTo>
                        <a:pt x="824" y="909"/>
                      </a:lnTo>
                      <a:lnTo>
                        <a:pt x="817" y="909"/>
                      </a:lnTo>
                      <a:lnTo>
                        <a:pt x="817" y="916"/>
                      </a:lnTo>
                      <a:lnTo>
                        <a:pt x="817" y="916"/>
                      </a:lnTo>
                      <a:lnTo>
                        <a:pt x="817" y="923"/>
                      </a:lnTo>
                      <a:lnTo>
                        <a:pt x="817" y="923"/>
                      </a:lnTo>
                      <a:lnTo>
                        <a:pt x="817" y="923"/>
                      </a:lnTo>
                      <a:lnTo>
                        <a:pt x="810" y="930"/>
                      </a:lnTo>
                      <a:lnTo>
                        <a:pt x="810" y="930"/>
                      </a:lnTo>
                      <a:lnTo>
                        <a:pt x="810" y="930"/>
                      </a:lnTo>
                      <a:lnTo>
                        <a:pt x="810" y="930"/>
                      </a:lnTo>
                      <a:lnTo>
                        <a:pt x="803" y="930"/>
                      </a:lnTo>
                      <a:lnTo>
                        <a:pt x="803" y="930"/>
                      </a:lnTo>
                      <a:lnTo>
                        <a:pt x="803" y="937"/>
                      </a:lnTo>
                      <a:lnTo>
                        <a:pt x="803" y="937"/>
                      </a:lnTo>
                      <a:lnTo>
                        <a:pt x="803" y="944"/>
                      </a:lnTo>
                      <a:lnTo>
                        <a:pt x="803" y="944"/>
                      </a:lnTo>
                      <a:lnTo>
                        <a:pt x="803" y="944"/>
                      </a:lnTo>
                      <a:lnTo>
                        <a:pt x="796" y="951"/>
                      </a:lnTo>
                      <a:lnTo>
                        <a:pt x="796" y="951"/>
                      </a:lnTo>
                      <a:lnTo>
                        <a:pt x="796" y="951"/>
                      </a:lnTo>
                      <a:lnTo>
                        <a:pt x="796" y="951"/>
                      </a:lnTo>
                      <a:lnTo>
                        <a:pt x="789" y="958"/>
                      </a:lnTo>
                      <a:lnTo>
                        <a:pt x="789" y="965"/>
                      </a:lnTo>
                      <a:lnTo>
                        <a:pt x="789" y="965"/>
                      </a:lnTo>
                      <a:lnTo>
                        <a:pt x="789" y="965"/>
                      </a:lnTo>
                      <a:lnTo>
                        <a:pt x="789" y="965"/>
                      </a:lnTo>
                      <a:lnTo>
                        <a:pt x="783" y="965"/>
                      </a:lnTo>
                      <a:lnTo>
                        <a:pt x="783" y="965"/>
                      </a:lnTo>
                      <a:lnTo>
                        <a:pt x="776" y="972"/>
                      </a:lnTo>
                      <a:lnTo>
                        <a:pt x="776" y="972"/>
                      </a:lnTo>
                      <a:lnTo>
                        <a:pt x="776" y="972"/>
                      </a:lnTo>
                      <a:lnTo>
                        <a:pt x="776" y="972"/>
                      </a:lnTo>
                      <a:lnTo>
                        <a:pt x="769" y="972"/>
                      </a:lnTo>
                      <a:lnTo>
                        <a:pt x="769" y="979"/>
                      </a:lnTo>
                      <a:lnTo>
                        <a:pt x="769" y="979"/>
                      </a:lnTo>
                      <a:lnTo>
                        <a:pt x="769" y="985"/>
                      </a:lnTo>
                      <a:lnTo>
                        <a:pt x="769" y="985"/>
                      </a:lnTo>
                      <a:lnTo>
                        <a:pt x="762" y="985"/>
                      </a:lnTo>
                      <a:lnTo>
                        <a:pt x="762" y="985"/>
                      </a:lnTo>
                      <a:lnTo>
                        <a:pt x="762" y="992"/>
                      </a:lnTo>
                      <a:lnTo>
                        <a:pt x="762" y="992"/>
                      </a:lnTo>
                      <a:lnTo>
                        <a:pt x="762" y="992"/>
                      </a:lnTo>
                      <a:lnTo>
                        <a:pt x="762" y="992"/>
                      </a:lnTo>
                      <a:lnTo>
                        <a:pt x="762" y="992"/>
                      </a:lnTo>
                      <a:lnTo>
                        <a:pt x="755" y="999"/>
                      </a:lnTo>
                      <a:lnTo>
                        <a:pt x="755" y="999"/>
                      </a:lnTo>
                      <a:lnTo>
                        <a:pt x="755" y="999"/>
                      </a:lnTo>
                      <a:lnTo>
                        <a:pt x="755" y="999"/>
                      </a:lnTo>
                      <a:lnTo>
                        <a:pt x="748" y="1006"/>
                      </a:lnTo>
                      <a:lnTo>
                        <a:pt x="748" y="1006"/>
                      </a:lnTo>
                      <a:lnTo>
                        <a:pt x="748" y="1006"/>
                      </a:lnTo>
                      <a:lnTo>
                        <a:pt x="748" y="1006"/>
                      </a:lnTo>
                      <a:lnTo>
                        <a:pt x="748" y="1013"/>
                      </a:lnTo>
                      <a:lnTo>
                        <a:pt x="748" y="1013"/>
                      </a:lnTo>
                      <a:lnTo>
                        <a:pt x="748" y="1013"/>
                      </a:lnTo>
                      <a:lnTo>
                        <a:pt x="748" y="1020"/>
                      </a:lnTo>
                      <a:lnTo>
                        <a:pt x="748" y="1020"/>
                      </a:lnTo>
                      <a:lnTo>
                        <a:pt x="748" y="1020"/>
                      </a:lnTo>
                      <a:lnTo>
                        <a:pt x="748" y="1020"/>
                      </a:lnTo>
                      <a:lnTo>
                        <a:pt x="748" y="1020"/>
                      </a:lnTo>
                      <a:lnTo>
                        <a:pt x="748" y="1027"/>
                      </a:lnTo>
                      <a:lnTo>
                        <a:pt x="748" y="1027"/>
                      </a:lnTo>
                      <a:lnTo>
                        <a:pt x="748" y="1027"/>
                      </a:lnTo>
                      <a:lnTo>
                        <a:pt x="748" y="1027"/>
                      </a:lnTo>
                      <a:lnTo>
                        <a:pt x="741" y="1027"/>
                      </a:lnTo>
                      <a:lnTo>
                        <a:pt x="741" y="1034"/>
                      </a:lnTo>
                      <a:lnTo>
                        <a:pt x="741" y="1034"/>
                      </a:lnTo>
                      <a:lnTo>
                        <a:pt x="741" y="1034"/>
                      </a:lnTo>
                      <a:lnTo>
                        <a:pt x="741" y="1034"/>
                      </a:lnTo>
                      <a:lnTo>
                        <a:pt x="741" y="1041"/>
                      </a:lnTo>
                      <a:lnTo>
                        <a:pt x="741" y="1041"/>
                      </a:lnTo>
                      <a:lnTo>
                        <a:pt x="741" y="1041"/>
                      </a:lnTo>
                      <a:lnTo>
                        <a:pt x="735" y="1041"/>
                      </a:lnTo>
                      <a:lnTo>
                        <a:pt x="735" y="1048"/>
                      </a:lnTo>
                      <a:lnTo>
                        <a:pt x="735" y="1048"/>
                      </a:lnTo>
                      <a:lnTo>
                        <a:pt x="735" y="1048"/>
                      </a:lnTo>
                      <a:lnTo>
                        <a:pt x="686" y="1048"/>
                      </a:lnTo>
                      <a:lnTo>
                        <a:pt x="666" y="1048"/>
                      </a:lnTo>
                      <a:lnTo>
                        <a:pt x="645" y="1041"/>
                      </a:lnTo>
                      <a:lnTo>
                        <a:pt x="632" y="1041"/>
                      </a:lnTo>
                      <a:lnTo>
                        <a:pt x="563" y="1041"/>
                      </a:lnTo>
                      <a:lnTo>
                        <a:pt x="535" y="1034"/>
                      </a:lnTo>
                      <a:lnTo>
                        <a:pt x="529" y="1034"/>
                      </a:lnTo>
                      <a:lnTo>
                        <a:pt x="487" y="1034"/>
                      </a:lnTo>
                      <a:lnTo>
                        <a:pt x="453" y="1027"/>
                      </a:lnTo>
                      <a:lnTo>
                        <a:pt x="405" y="1027"/>
                      </a:lnTo>
                      <a:lnTo>
                        <a:pt x="364" y="1020"/>
                      </a:lnTo>
                      <a:lnTo>
                        <a:pt x="357" y="1020"/>
                      </a:lnTo>
                      <a:lnTo>
                        <a:pt x="329" y="1020"/>
                      </a:lnTo>
                      <a:lnTo>
                        <a:pt x="268" y="1013"/>
                      </a:lnTo>
                      <a:lnTo>
                        <a:pt x="233" y="1013"/>
                      </a:lnTo>
                      <a:lnTo>
                        <a:pt x="226" y="1013"/>
                      </a:lnTo>
                      <a:lnTo>
                        <a:pt x="192" y="1006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78" y="1006"/>
                      </a:lnTo>
                      <a:lnTo>
                        <a:pt x="178" y="1006"/>
                      </a:lnTo>
                      <a:lnTo>
                        <a:pt x="178" y="1006"/>
                      </a:lnTo>
                      <a:lnTo>
                        <a:pt x="178" y="999"/>
                      </a:lnTo>
                      <a:lnTo>
                        <a:pt x="178" y="999"/>
                      </a:lnTo>
                      <a:lnTo>
                        <a:pt x="178" y="999"/>
                      </a:lnTo>
                      <a:lnTo>
                        <a:pt x="172" y="999"/>
                      </a:lnTo>
                      <a:lnTo>
                        <a:pt x="172" y="999"/>
                      </a:lnTo>
                      <a:lnTo>
                        <a:pt x="172" y="999"/>
                      </a:lnTo>
                      <a:lnTo>
                        <a:pt x="165" y="999"/>
                      </a:lnTo>
                      <a:lnTo>
                        <a:pt x="165" y="999"/>
                      </a:lnTo>
                      <a:lnTo>
                        <a:pt x="165" y="999"/>
                      </a:lnTo>
                      <a:lnTo>
                        <a:pt x="165" y="999"/>
                      </a:lnTo>
                      <a:lnTo>
                        <a:pt x="158" y="999"/>
                      </a:lnTo>
                      <a:lnTo>
                        <a:pt x="158" y="999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79"/>
                      </a:lnTo>
                      <a:lnTo>
                        <a:pt x="158" y="979"/>
                      </a:lnTo>
                      <a:lnTo>
                        <a:pt x="151" y="979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37" y="972"/>
                      </a:lnTo>
                      <a:lnTo>
                        <a:pt x="137" y="972"/>
                      </a:lnTo>
                      <a:lnTo>
                        <a:pt x="137" y="972"/>
                      </a:lnTo>
                      <a:lnTo>
                        <a:pt x="137" y="972"/>
                      </a:lnTo>
                      <a:lnTo>
                        <a:pt x="137" y="972"/>
                      </a:lnTo>
                      <a:lnTo>
                        <a:pt x="130" y="965"/>
                      </a:lnTo>
                      <a:lnTo>
                        <a:pt x="130" y="965"/>
                      </a:lnTo>
                      <a:lnTo>
                        <a:pt x="130" y="965"/>
                      </a:lnTo>
                      <a:lnTo>
                        <a:pt x="124" y="965"/>
                      </a:lnTo>
                      <a:lnTo>
                        <a:pt x="130" y="965"/>
                      </a:lnTo>
                      <a:lnTo>
                        <a:pt x="124" y="965"/>
                      </a:lnTo>
                      <a:lnTo>
                        <a:pt x="124" y="958"/>
                      </a:lnTo>
                      <a:lnTo>
                        <a:pt x="124" y="958"/>
                      </a:lnTo>
                      <a:lnTo>
                        <a:pt x="124" y="958"/>
                      </a:lnTo>
                      <a:lnTo>
                        <a:pt x="124" y="958"/>
                      </a:lnTo>
                      <a:lnTo>
                        <a:pt x="117" y="958"/>
                      </a:lnTo>
                      <a:lnTo>
                        <a:pt x="117" y="958"/>
                      </a:lnTo>
                      <a:lnTo>
                        <a:pt x="110" y="958"/>
                      </a:lnTo>
                      <a:lnTo>
                        <a:pt x="110" y="958"/>
                      </a:lnTo>
                      <a:lnTo>
                        <a:pt x="110" y="951"/>
                      </a:lnTo>
                      <a:lnTo>
                        <a:pt x="110" y="951"/>
                      </a:lnTo>
                      <a:lnTo>
                        <a:pt x="110" y="951"/>
                      </a:lnTo>
                      <a:lnTo>
                        <a:pt x="110" y="951"/>
                      </a:lnTo>
                      <a:lnTo>
                        <a:pt x="110" y="944"/>
                      </a:lnTo>
                      <a:lnTo>
                        <a:pt x="110" y="944"/>
                      </a:lnTo>
                      <a:lnTo>
                        <a:pt x="110" y="944"/>
                      </a:lnTo>
                      <a:lnTo>
                        <a:pt x="110" y="944"/>
                      </a:lnTo>
                      <a:lnTo>
                        <a:pt x="110" y="944"/>
                      </a:lnTo>
                      <a:lnTo>
                        <a:pt x="110" y="937"/>
                      </a:lnTo>
                      <a:lnTo>
                        <a:pt x="110" y="937"/>
                      </a:lnTo>
                      <a:lnTo>
                        <a:pt x="110" y="937"/>
                      </a:lnTo>
                      <a:lnTo>
                        <a:pt x="110" y="937"/>
                      </a:lnTo>
                      <a:lnTo>
                        <a:pt x="110" y="937"/>
                      </a:lnTo>
                      <a:lnTo>
                        <a:pt x="103" y="937"/>
                      </a:lnTo>
                      <a:lnTo>
                        <a:pt x="110" y="937"/>
                      </a:lnTo>
                      <a:lnTo>
                        <a:pt x="110" y="930"/>
                      </a:lnTo>
                      <a:lnTo>
                        <a:pt x="103" y="930"/>
                      </a:lnTo>
                      <a:lnTo>
                        <a:pt x="103" y="930"/>
                      </a:lnTo>
                      <a:lnTo>
                        <a:pt x="103" y="930"/>
                      </a:lnTo>
                      <a:lnTo>
                        <a:pt x="103" y="923"/>
                      </a:lnTo>
                      <a:lnTo>
                        <a:pt x="103" y="923"/>
                      </a:lnTo>
                      <a:lnTo>
                        <a:pt x="103" y="923"/>
                      </a:lnTo>
                      <a:lnTo>
                        <a:pt x="103" y="923"/>
                      </a:lnTo>
                      <a:lnTo>
                        <a:pt x="103" y="916"/>
                      </a:lnTo>
                      <a:lnTo>
                        <a:pt x="103" y="916"/>
                      </a:lnTo>
                      <a:lnTo>
                        <a:pt x="110" y="916"/>
                      </a:lnTo>
                      <a:lnTo>
                        <a:pt x="110" y="916"/>
                      </a:lnTo>
                      <a:lnTo>
                        <a:pt x="110" y="909"/>
                      </a:lnTo>
                      <a:lnTo>
                        <a:pt x="103" y="909"/>
                      </a:lnTo>
                      <a:lnTo>
                        <a:pt x="103" y="909"/>
                      </a:lnTo>
                      <a:lnTo>
                        <a:pt x="103" y="909"/>
                      </a:lnTo>
                      <a:lnTo>
                        <a:pt x="103" y="909"/>
                      </a:lnTo>
                      <a:lnTo>
                        <a:pt x="103" y="909"/>
                      </a:lnTo>
                      <a:lnTo>
                        <a:pt x="103" y="902"/>
                      </a:lnTo>
                      <a:lnTo>
                        <a:pt x="96" y="895"/>
                      </a:lnTo>
                      <a:lnTo>
                        <a:pt x="96" y="895"/>
                      </a:lnTo>
                      <a:lnTo>
                        <a:pt x="89" y="888"/>
                      </a:lnTo>
                      <a:lnTo>
                        <a:pt x="89" y="888"/>
                      </a:lnTo>
                      <a:lnTo>
                        <a:pt x="89" y="881"/>
                      </a:lnTo>
                      <a:lnTo>
                        <a:pt x="89" y="881"/>
                      </a:lnTo>
                      <a:lnTo>
                        <a:pt x="89" y="874"/>
                      </a:lnTo>
                      <a:lnTo>
                        <a:pt x="89" y="874"/>
                      </a:lnTo>
                      <a:lnTo>
                        <a:pt x="89" y="868"/>
                      </a:lnTo>
                      <a:lnTo>
                        <a:pt x="82" y="868"/>
                      </a:lnTo>
                      <a:lnTo>
                        <a:pt x="82" y="868"/>
                      </a:lnTo>
                      <a:lnTo>
                        <a:pt x="82" y="868"/>
                      </a:lnTo>
                      <a:lnTo>
                        <a:pt x="82" y="861"/>
                      </a:lnTo>
                      <a:lnTo>
                        <a:pt x="82" y="861"/>
                      </a:lnTo>
                      <a:lnTo>
                        <a:pt x="82" y="861"/>
                      </a:lnTo>
                      <a:lnTo>
                        <a:pt x="82" y="854"/>
                      </a:lnTo>
                      <a:lnTo>
                        <a:pt x="75" y="847"/>
                      </a:lnTo>
                      <a:lnTo>
                        <a:pt x="75" y="847"/>
                      </a:lnTo>
                      <a:lnTo>
                        <a:pt x="75" y="847"/>
                      </a:lnTo>
                      <a:lnTo>
                        <a:pt x="75" y="840"/>
                      </a:lnTo>
                      <a:lnTo>
                        <a:pt x="69" y="840"/>
                      </a:lnTo>
                      <a:lnTo>
                        <a:pt x="69" y="840"/>
                      </a:lnTo>
                      <a:lnTo>
                        <a:pt x="62" y="840"/>
                      </a:lnTo>
                      <a:lnTo>
                        <a:pt x="62" y="833"/>
                      </a:lnTo>
                      <a:lnTo>
                        <a:pt x="62" y="833"/>
                      </a:lnTo>
                      <a:lnTo>
                        <a:pt x="62" y="833"/>
                      </a:lnTo>
                      <a:lnTo>
                        <a:pt x="62" y="826"/>
                      </a:lnTo>
                      <a:lnTo>
                        <a:pt x="62" y="826"/>
                      </a:lnTo>
                      <a:lnTo>
                        <a:pt x="62" y="819"/>
                      </a:lnTo>
                      <a:lnTo>
                        <a:pt x="62" y="819"/>
                      </a:lnTo>
                      <a:lnTo>
                        <a:pt x="62" y="819"/>
                      </a:lnTo>
                      <a:lnTo>
                        <a:pt x="62" y="819"/>
                      </a:lnTo>
                      <a:lnTo>
                        <a:pt x="55" y="819"/>
                      </a:lnTo>
                      <a:lnTo>
                        <a:pt x="55" y="819"/>
                      </a:lnTo>
                      <a:lnTo>
                        <a:pt x="55" y="819"/>
                      </a:lnTo>
                      <a:lnTo>
                        <a:pt x="55" y="812"/>
                      </a:lnTo>
                      <a:lnTo>
                        <a:pt x="48" y="812"/>
                      </a:lnTo>
                      <a:lnTo>
                        <a:pt x="48" y="805"/>
                      </a:lnTo>
                      <a:lnTo>
                        <a:pt x="48" y="805"/>
                      </a:lnTo>
                      <a:lnTo>
                        <a:pt x="48" y="805"/>
                      </a:lnTo>
                      <a:lnTo>
                        <a:pt x="41" y="805"/>
                      </a:lnTo>
                      <a:lnTo>
                        <a:pt x="41" y="805"/>
                      </a:lnTo>
                      <a:lnTo>
                        <a:pt x="41" y="798"/>
                      </a:lnTo>
                      <a:lnTo>
                        <a:pt x="41" y="798"/>
                      </a:lnTo>
                      <a:lnTo>
                        <a:pt x="41" y="791"/>
                      </a:lnTo>
                      <a:lnTo>
                        <a:pt x="34" y="791"/>
                      </a:lnTo>
                      <a:lnTo>
                        <a:pt x="41" y="784"/>
                      </a:lnTo>
                      <a:lnTo>
                        <a:pt x="41" y="784"/>
                      </a:lnTo>
                      <a:lnTo>
                        <a:pt x="41" y="777"/>
                      </a:lnTo>
                      <a:lnTo>
                        <a:pt x="41" y="777"/>
                      </a:lnTo>
                      <a:lnTo>
                        <a:pt x="48" y="770"/>
                      </a:lnTo>
                      <a:lnTo>
                        <a:pt x="48" y="770"/>
                      </a:lnTo>
                      <a:lnTo>
                        <a:pt x="48" y="770"/>
                      </a:lnTo>
                      <a:lnTo>
                        <a:pt x="48" y="770"/>
                      </a:lnTo>
                      <a:lnTo>
                        <a:pt x="48" y="763"/>
                      </a:lnTo>
                      <a:lnTo>
                        <a:pt x="48" y="763"/>
                      </a:lnTo>
                      <a:lnTo>
                        <a:pt x="55" y="763"/>
                      </a:lnTo>
                      <a:lnTo>
                        <a:pt x="55" y="763"/>
                      </a:lnTo>
                      <a:lnTo>
                        <a:pt x="55" y="763"/>
                      </a:lnTo>
                      <a:lnTo>
                        <a:pt x="55" y="763"/>
                      </a:lnTo>
                      <a:lnTo>
                        <a:pt x="55" y="763"/>
                      </a:lnTo>
                      <a:lnTo>
                        <a:pt x="89" y="687"/>
                      </a:lnTo>
                      <a:lnTo>
                        <a:pt x="103" y="659"/>
                      </a:lnTo>
                      <a:lnTo>
                        <a:pt x="110" y="646"/>
                      </a:lnTo>
                      <a:lnTo>
                        <a:pt x="117" y="632"/>
                      </a:lnTo>
                      <a:lnTo>
                        <a:pt x="144" y="583"/>
                      </a:lnTo>
                      <a:lnTo>
                        <a:pt x="158" y="535"/>
                      </a:lnTo>
                      <a:lnTo>
                        <a:pt x="165" y="528"/>
                      </a:lnTo>
                      <a:lnTo>
                        <a:pt x="172" y="521"/>
                      </a:lnTo>
                      <a:lnTo>
                        <a:pt x="172" y="514"/>
                      </a:lnTo>
                      <a:lnTo>
                        <a:pt x="178" y="500"/>
                      </a:lnTo>
                      <a:lnTo>
                        <a:pt x="185" y="493"/>
                      </a:lnTo>
                      <a:lnTo>
                        <a:pt x="185" y="493"/>
                      </a:lnTo>
                      <a:lnTo>
                        <a:pt x="192" y="472"/>
                      </a:lnTo>
                      <a:lnTo>
                        <a:pt x="199" y="458"/>
                      </a:lnTo>
                      <a:lnTo>
                        <a:pt x="199" y="451"/>
                      </a:lnTo>
                      <a:lnTo>
                        <a:pt x="206" y="437"/>
                      </a:lnTo>
                      <a:lnTo>
                        <a:pt x="213" y="430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213" y="417"/>
                      </a:lnTo>
                      <a:lnTo>
                        <a:pt x="213" y="417"/>
                      </a:lnTo>
                      <a:lnTo>
                        <a:pt x="213" y="417"/>
                      </a:lnTo>
                      <a:lnTo>
                        <a:pt x="213" y="410"/>
                      </a:lnTo>
                      <a:lnTo>
                        <a:pt x="213" y="410"/>
                      </a:lnTo>
                      <a:lnTo>
                        <a:pt x="213" y="410"/>
                      </a:lnTo>
                      <a:lnTo>
                        <a:pt x="220" y="410"/>
                      </a:lnTo>
                      <a:lnTo>
                        <a:pt x="220" y="410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33" y="403"/>
                      </a:lnTo>
                      <a:lnTo>
                        <a:pt x="233" y="396"/>
                      </a:lnTo>
                      <a:lnTo>
                        <a:pt x="233" y="396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26" y="389"/>
                      </a:lnTo>
                      <a:lnTo>
                        <a:pt x="226" y="389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0" y="396"/>
                      </a:lnTo>
                      <a:lnTo>
                        <a:pt x="220" y="396"/>
                      </a:lnTo>
                      <a:lnTo>
                        <a:pt x="220" y="396"/>
                      </a:lnTo>
                      <a:lnTo>
                        <a:pt x="220" y="396"/>
                      </a:lnTo>
                      <a:lnTo>
                        <a:pt x="220" y="396"/>
                      </a:lnTo>
                      <a:lnTo>
                        <a:pt x="213" y="396"/>
                      </a:lnTo>
                      <a:lnTo>
                        <a:pt x="213" y="396"/>
                      </a:lnTo>
                      <a:lnTo>
                        <a:pt x="213" y="396"/>
                      </a:lnTo>
                      <a:lnTo>
                        <a:pt x="213" y="403"/>
                      </a:lnTo>
                      <a:lnTo>
                        <a:pt x="213" y="403"/>
                      </a:lnTo>
                      <a:lnTo>
                        <a:pt x="213" y="396"/>
                      </a:lnTo>
                      <a:lnTo>
                        <a:pt x="206" y="396"/>
                      </a:lnTo>
                      <a:lnTo>
                        <a:pt x="206" y="396"/>
                      </a:lnTo>
                      <a:lnTo>
                        <a:pt x="206" y="403"/>
                      </a:lnTo>
                      <a:lnTo>
                        <a:pt x="206" y="396"/>
                      </a:lnTo>
                      <a:lnTo>
                        <a:pt x="206" y="396"/>
                      </a:lnTo>
                      <a:lnTo>
                        <a:pt x="199" y="396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85" y="403"/>
                      </a:lnTo>
                      <a:lnTo>
                        <a:pt x="185" y="403"/>
                      </a:lnTo>
                      <a:lnTo>
                        <a:pt x="185" y="403"/>
                      </a:lnTo>
                      <a:lnTo>
                        <a:pt x="185" y="403"/>
                      </a:lnTo>
                      <a:lnTo>
                        <a:pt x="185" y="403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2" y="389"/>
                      </a:lnTo>
                      <a:lnTo>
                        <a:pt x="172" y="382"/>
                      </a:lnTo>
                      <a:lnTo>
                        <a:pt x="172" y="382"/>
                      </a:lnTo>
                      <a:lnTo>
                        <a:pt x="172" y="382"/>
                      </a:lnTo>
                      <a:lnTo>
                        <a:pt x="165" y="382"/>
                      </a:lnTo>
                      <a:lnTo>
                        <a:pt x="165" y="382"/>
                      </a:lnTo>
                      <a:lnTo>
                        <a:pt x="165" y="382"/>
                      </a:lnTo>
                      <a:lnTo>
                        <a:pt x="165" y="382"/>
                      </a:lnTo>
                      <a:lnTo>
                        <a:pt x="165" y="375"/>
                      </a:lnTo>
                      <a:lnTo>
                        <a:pt x="158" y="375"/>
                      </a:lnTo>
                      <a:lnTo>
                        <a:pt x="158" y="375"/>
                      </a:lnTo>
                      <a:lnTo>
                        <a:pt x="158" y="375"/>
                      </a:lnTo>
                      <a:lnTo>
                        <a:pt x="158" y="375"/>
                      </a:lnTo>
                      <a:lnTo>
                        <a:pt x="158" y="375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54"/>
                      </a:lnTo>
                      <a:lnTo>
                        <a:pt x="124" y="361"/>
                      </a:lnTo>
                      <a:lnTo>
                        <a:pt x="124" y="361"/>
                      </a:lnTo>
                      <a:lnTo>
                        <a:pt x="124" y="361"/>
                      </a:lnTo>
                      <a:lnTo>
                        <a:pt x="124" y="354"/>
                      </a:lnTo>
                      <a:lnTo>
                        <a:pt x="124" y="361"/>
                      </a:lnTo>
                      <a:lnTo>
                        <a:pt x="124" y="354"/>
                      </a:lnTo>
                      <a:lnTo>
                        <a:pt x="124" y="354"/>
                      </a:lnTo>
                      <a:lnTo>
                        <a:pt x="124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47"/>
                      </a:lnTo>
                      <a:lnTo>
                        <a:pt x="110" y="347"/>
                      </a:lnTo>
                      <a:lnTo>
                        <a:pt x="110" y="347"/>
                      </a:lnTo>
                      <a:lnTo>
                        <a:pt x="110" y="354"/>
                      </a:lnTo>
                      <a:lnTo>
                        <a:pt x="110" y="347"/>
                      </a:lnTo>
                      <a:lnTo>
                        <a:pt x="103" y="354"/>
                      </a:lnTo>
                      <a:lnTo>
                        <a:pt x="103" y="347"/>
                      </a:lnTo>
                      <a:lnTo>
                        <a:pt x="103" y="347"/>
                      </a:lnTo>
                      <a:lnTo>
                        <a:pt x="103" y="347"/>
                      </a:lnTo>
                      <a:lnTo>
                        <a:pt x="103" y="347"/>
                      </a:lnTo>
                      <a:lnTo>
                        <a:pt x="103" y="347"/>
                      </a:lnTo>
                      <a:lnTo>
                        <a:pt x="103" y="340"/>
                      </a:lnTo>
                      <a:lnTo>
                        <a:pt x="103" y="347"/>
                      </a:lnTo>
                      <a:lnTo>
                        <a:pt x="103" y="340"/>
                      </a:lnTo>
                      <a:lnTo>
                        <a:pt x="96" y="340"/>
                      </a:lnTo>
                      <a:lnTo>
                        <a:pt x="96" y="347"/>
                      </a:lnTo>
                      <a:lnTo>
                        <a:pt x="96" y="347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2" y="340"/>
                      </a:lnTo>
                      <a:lnTo>
                        <a:pt x="82" y="340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75" y="333"/>
                      </a:lnTo>
                      <a:lnTo>
                        <a:pt x="75" y="326"/>
                      </a:lnTo>
                      <a:lnTo>
                        <a:pt x="75" y="326"/>
                      </a:lnTo>
                      <a:lnTo>
                        <a:pt x="82" y="326"/>
                      </a:lnTo>
                      <a:lnTo>
                        <a:pt x="82" y="326"/>
                      </a:lnTo>
                      <a:lnTo>
                        <a:pt x="82" y="320"/>
                      </a:lnTo>
                      <a:lnTo>
                        <a:pt x="82" y="320"/>
                      </a:lnTo>
                      <a:lnTo>
                        <a:pt x="82" y="320"/>
                      </a:lnTo>
                      <a:lnTo>
                        <a:pt x="82" y="320"/>
                      </a:lnTo>
                      <a:lnTo>
                        <a:pt x="82" y="313"/>
                      </a:lnTo>
                      <a:lnTo>
                        <a:pt x="82" y="313"/>
                      </a:lnTo>
                      <a:lnTo>
                        <a:pt x="75" y="313"/>
                      </a:lnTo>
                      <a:lnTo>
                        <a:pt x="75" y="313"/>
                      </a:lnTo>
                      <a:lnTo>
                        <a:pt x="75" y="313"/>
                      </a:lnTo>
                      <a:lnTo>
                        <a:pt x="75" y="313"/>
                      </a:lnTo>
                      <a:lnTo>
                        <a:pt x="75" y="313"/>
                      </a:lnTo>
                      <a:lnTo>
                        <a:pt x="69" y="313"/>
                      </a:lnTo>
                      <a:lnTo>
                        <a:pt x="69" y="313"/>
                      </a:lnTo>
                      <a:lnTo>
                        <a:pt x="69" y="313"/>
                      </a:lnTo>
                      <a:lnTo>
                        <a:pt x="69" y="313"/>
                      </a:lnTo>
                      <a:lnTo>
                        <a:pt x="69" y="313"/>
                      </a:lnTo>
                      <a:lnTo>
                        <a:pt x="69" y="320"/>
                      </a:lnTo>
                      <a:lnTo>
                        <a:pt x="69" y="320"/>
                      </a:lnTo>
                      <a:lnTo>
                        <a:pt x="62" y="320"/>
                      </a:lnTo>
                      <a:lnTo>
                        <a:pt x="62" y="320"/>
                      </a:lnTo>
                      <a:lnTo>
                        <a:pt x="62" y="320"/>
                      </a:lnTo>
                      <a:lnTo>
                        <a:pt x="62" y="320"/>
                      </a:lnTo>
                      <a:lnTo>
                        <a:pt x="62" y="313"/>
                      </a:lnTo>
                      <a:lnTo>
                        <a:pt x="55" y="313"/>
                      </a:lnTo>
                      <a:lnTo>
                        <a:pt x="55" y="313"/>
                      </a:lnTo>
                      <a:lnTo>
                        <a:pt x="55" y="313"/>
                      </a:lnTo>
                      <a:lnTo>
                        <a:pt x="55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06"/>
                      </a:lnTo>
                      <a:lnTo>
                        <a:pt x="48" y="306"/>
                      </a:lnTo>
                      <a:lnTo>
                        <a:pt x="48" y="306"/>
                      </a:lnTo>
                      <a:lnTo>
                        <a:pt x="41" y="306"/>
                      </a:lnTo>
                      <a:lnTo>
                        <a:pt x="41" y="306"/>
                      </a:lnTo>
                      <a:lnTo>
                        <a:pt x="41" y="306"/>
                      </a:lnTo>
                      <a:lnTo>
                        <a:pt x="41" y="306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34" y="292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27" y="285"/>
                      </a:lnTo>
                      <a:lnTo>
                        <a:pt x="27" y="285"/>
                      </a:lnTo>
                      <a:lnTo>
                        <a:pt x="27" y="285"/>
                      </a:lnTo>
                      <a:lnTo>
                        <a:pt x="27" y="285"/>
                      </a:lnTo>
                      <a:lnTo>
                        <a:pt x="27" y="285"/>
                      </a:lnTo>
                      <a:lnTo>
                        <a:pt x="27" y="278"/>
                      </a:lnTo>
                      <a:lnTo>
                        <a:pt x="27" y="278"/>
                      </a:lnTo>
                      <a:lnTo>
                        <a:pt x="21" y="278"/>
                      </a:lnTo>
                      <a:lnTo>
                        <a:pt x="21" y="278"/>
                      </a:lnTo>
                      <a:lnTo>
                        <a:pt x="21" y="278"/>
                      </a:lnTo>
                      <a:lnTo>
                        <a:pt x="21" y="278"/>
                      </a:lnTo>
                      <a:lnTo>
                        <a:pt x="21" y="271"/>
                      </a:lnTo>
                      <a:lnTo>
                        <a:pt x="21" y="271"/>
                      </a:lnTo>
                      <a:lnTo>
                        <a:pt x="21" y="271"/>
                      </a:lnTo>
                      <a:lnTo>
                        <a:pt x="21" y="271"/>
                      </a:lnTo>
                      <a:lnTo>
                        <a:pt x="14" y="271"/>
                      </a:lnTo>
                      <a:lnTo>
                        <a:pt x="14" y="271"/>
                      </a:lnTo>
                      <a:lnTo>
                        <a:pt x="14" y="271"/>
                      </a:lnTo>
                      <a:lnTo>
                        <a:pt x="14" y="264"/>
                      </a:lnTo>
                      <a:lnTo>
                        <a:pt x="14" y="264"/>
                      </a:lnTo>
                      <a:lnTo>
                        <a:pt x="21" y="264"/>
                      </a:lnTo>
                      <a:lnTo>
                        <a:pt x="21" y="264"/>
                      </a:lnTo>
                      <a:lnTo>
                        <a:pt x="21" y="264"/>
                      </a:lnTo>
                      <a:lnTo>
                        <a:pt x="21" y="264"/>
                      </a:lnTo>
                      <a:lnTo>
                        <a:pt x="21" y="257"/>
                      </a:lnTo>
                      <a:lnTo>
                        <a:pt x="14" y="257"/>
                      </a:lnTo>
                      <a:lnTo>
                        <a:pt x="14" y="257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7" y="250"/>
                      </a:lnTo>
                      <a:lnTo>
                        <a:pt x="7" y="250"/>
                      </a:lnTo>
                      <a:lnTo>
                        <a:pt x="7" y="250"/>
                      </a:lnTo>
                      <a:lnTo>
                        <a:pt x="7" y="243"/>
                      </a:lnTo>
                      <a:lnTo>
                        <a:pt x="7" y="243"/>
                      </a:lnTo>
                      <a:lnTo>
                        <a:pt x="7" y="243"/>
                      </a:lnTo>
                      <a:lnTo>
                        <a:pt x="7" y="236"/>
                      </a:lnTo>
                      <a:lnTo>
                        <a:pt x="7" y="236"/>
                      </a:lnTo>
                      <a:lnTo>
                        <a:pt x="7" y="236"/>
                      </a:lnTo>
                      <a:lnTo>
                        <a:pt x="7" y="236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0" y="215"/>
                      </a:lnTo>
                      <a:lnTo>
                        <a:pt x="0" y="195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842280" y="2648160"/>
                  <a:ext cx="1062360" cy="376200"/>
                </a:xfrm>
                <a:custGeom>
                  <a:avLst/>
                  <a:gdLst/>
                  <a:ahLst/>
                  <a:rect l="l" t="t" r="r" b="b"/>
                  <a:pathLst>
                    <a:path w="844" h="320">
                      <a:moveTo>
                        <a:pt x="0" y="111"/>
                      </a:move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1"/>
                      </a:lnTo>
                      <a:lnTo>
                        <a:pt x="34" y="91"/>
                      </a:lnTo>
                      <a:lnTo>
                        <a:pt x="34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8" y="91"/>
                      </a:lnTo>
                      <a:lnTo>
                        <a:pt x="48" y="91"/>
                      </a:lnTo>
                      <a:lnTo>
                        <a:pt x="48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8" y="91"/>
                      </a:lnTo>
                      <a:lnTo>
                        <a:pt x="41" y="91"/>
                      </a:lnTo>
                      <a:lnTo>
                        <a:pt x="41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82" y="84"/>
                      </a:lnTo>
                      <a:lnTo>
                        <a:pt x="75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75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96" y="77"/>
                      </a:lnTo>
                      <a:lnTo>
                        <a:pt x="96" y="77"/>
                      </a:lnTo>
                      <a:lnTo>
                        <a:pt x="96" y="77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7" y="70"/>
                      </a:lnTo>
                      <a:lnTo>
                        <a:pt x="117" y="77"/>
                      </a:lnTo>
                      <a:lnTo>
                        <a:pt x="117" y="70"/>
                      </a:lnTo>
                      <a:lnTo>
                        <a:pt x="117" y="77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24" y="70"/>
                      </a:lnTo>
                      <a:lnTo>
                        <a:pt x="124" y="70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56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49"/>
                      </a:lnTo>
                      <a:lnTo>
                        <a:pt x="192" y="49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20" y="49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40" y="56"/>
                      </a:lnTo>
                      <a:lnTo>
                        <a:pt x="240" y="63"/>
                      </a:lnTo>
                      <a:lnTo>
                        <a:pt x="240" y="56"/>
                      </a:lnTo>
                      <a:lnTo>
                        <a:pt x="240" y="63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7" y="63"/>
                      </a:lnTo>
                      <a:lnTo>
                        <a:pt x="247" y="56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0" y="35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33" y="28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7" y="21"/>
                      </a:lnTo>
                      <a:lnTo>
                        <a:pt x="247" y="21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81" y="14"/>
                      </a:lnTo>
                      <a:lnTo>
                        <a:pt x="281" y="14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14"/>
                      </a:lnTo>
                      <a:lnTo>
                        <a:pt x="281" y="7"/>
                      </a:lnTo>
                      <a:lnTo>
                        <a:pt x="288" y="7"/>
                      </a:lnTo>
                      <a:lnTo>
                        <a:pt x="288" y="7"/>
                      </a:lnTo>
                      <a:lnTo>
                        <a:pt x="288" y="7"/>
                      </a:lnTo>
                      <a:lnTo>
                        <a:pt x="295" y="7"/>
                      </a:lnTo>
                      <a:lnTo>
                        <a:pt x="302" y="14"/>
                      </a:lnTo>
                      <a:lnTo>
                        <a:pt x="302" y="7"/>
                      </a:lnTo>
                      <a:lnTo>
                        <a:pt x="302" y="7"/>
                      </a:lnTo>
                      <a:lnTo>
                        <a:pt x="302" y="0"/>
                      </a:lnTo>
                      <a:lnTo>
                        <a:pt x="309" y="7"/>
                      </a:lnTo>
                      <a:lnTo>
                        <a:pt x="309" y="7"/>
                      </a:lnTo>
                      <a:lnTo>
                        <a:pt x="316" y="0"/>
                      </a:lnTo>
                      <a:lnTo>
                        <a:pt x="316" y="0"/>
                      </a:lnTo>
                      <a:lnTo>
                        <a:pt x="323" y="0"/>
                      </a:lnTo>
                      <a:lnTo>
                        <a:pt x="323" y="0"/>
                      </a:lnTo>
                      <a:lnTo>
                        <a:pt x="329" y="0"/>
                      </a:lnTo>
                      <a:lnTo>
                        <a:pt x="329" y="0"/>
                      </a:lnTo>
                      <a:lnTo>
                        <a:pt x="336" y="0"/>
                      </a:lnTo>
                      <a:lnTo>
                        <a:pt x="336" y="0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7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57" y="63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64" y="70"/>
                      </a:lnTo>
                      <a:lnTo>
                        <a:pt x="364" y="70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71" y="63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12" y="91"/>
                      </a:lnTo>
                      <a:lnTo>
                        <a:pt x="405" y="91"/>
                      </a:lnTo>
                      <a:lnTo>
                        <a:pt x="412" y="91"/>
                      </a:lnTo>
                      <a:lnTo>
                        <a:pt x="405" y="91"/>
                      </a:lnTo>
                      <a:lnTo>
                        <a:pt x="405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26" y="91"/>
                      </a:lnTo>
                      <a:lnTo>
                        <a:pt x="426" y="91"/>
                      </a:lnTo>
                      <a:lnTo>
                        <a:pt x="426" y="98"/>
                      </a:lnTo>
                      <a:lnTo>
                        <a:pt x="419" y="98"/>
                      </a:lnTo>
                      <a:lnTo>
                        <a:pt x="419" y="98"/>
                      </a:lnTo>
                      <a:lnTo>
                        <a:pt x="426" y="98"/>
                      </a:lnTo>
                      <a:lnTo>
                        <a:pt x="426" y="91"/>
                      </a:lnTo>
                      <a:lnTo>
                        <a:pt x="426" y="91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32" y="98"/>
                      </a:lnTo>
                      <a:lnTo>
                        <a:pt x="426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60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0" y="118"/>
                      </a:lnTo>
                      <a:lnTo>
                        <a:pt x="460" y="118"/>
                      </a:lnTo>
                      <a:lnTo>
                        <a:pt x="460" y="125"/>
                      </a:lnTo>
                      <a:lnTo>
                        <a:pt x="460" y="125"/>
                      </a:lnTo>
                      <a:lnTo>
                        <a:pt x="467" y="125"/>
                      </a:lnTo>
                      <a:lnTo>
                        <a:pt x="467" y="125"/>
                      </a:lnTo>
                      <a:lnTo>
                        <a:pt x="467" y="125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9"/>
                      </a:lnTo>
                      <a:lnTo>
                        <a:pt x="467" y="139"/>
                      </a:lnTo>
                      <a:lnTo>
                        <a:pt x="467" y="139"/>
                      </a:lnTo>
                      <a:lnTo>
                        <a:pt x="474" y="139"/>
                      </a:lnTo>
                      <a:lnTo>
                        <a:pt x="474" y="146"/>
                      </a:lnTo>
                      <a:lnTo>
                        <a:pt x="474" y="146"/>
                      </a:lnTo>
                      <a:lnTo>
                        <a:pt x="481" y="146"/>
                      </a:lnTo>
                      <a:lnTo>
                        <a:pt x="481" y="146"/>
                      </a:lnTo>
                      <a:lnTo>
                        <a:pt x="481" y="153"/>
                      </a:lnTo>
                      <a:lnTo>
                        <a:pt x="481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60"/>
                      </a:lnTo>
                      <a:lnTo>
                        <a:pt x="487" y="160"/>
                      </a:lnTo>
                      <a:lnTo>
                        <a:pt x="487" y="160"/>
                      </a:lnTo>
                      <a:lnTo>
                        <a:pt x="494" y="160"/>
                      </a:lnTo>
                      <a:lnTo>
                        <a:pt x="494" y="160"/>
                      </a:lnTo>
                      <a:lnTo>
                        <a:pt x="494" y="160"/>
                      </a:lnTo>
                      <a:lnTo>
                        <a:pt x="487" y="160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95"/>
                      </a:lnTo>
                      <a:lnTo>
                        <a:pt x="494" y="195"/>
                      </a:lnTo>
                      <a:lnTo>
                        <a:pt x="494" y="195"/>
                      </a:lnTo>
                      <a:lnTo>
                        <a:pt x="494" y="195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9"/>
                      </a:lnTo>
                      <a:lnTo>
                        <a:pt x="501" y="209"/>
                      </a:lnTo>
                      <a:lnTo>
                        <a:pt x="501" y="209"/>
                      </a:lnTo>
                      <a:lnTo>
                        <a:pt x="501" y="209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22"/>
                      </a:lnTo>
                      <a:lnTo>
                        <a:pt x="501" y="222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22" y="236"/>
                      </a:lnTo>
                      <a:lnTo>
                        <a:pt x="522" y="236"/>
                      </a:lnTo>
                      <a:lnTo>
                        <a:pt x="522" y="236"/>
                      </a:lnTo>
                      <a:lnTo>
                        <a:pt x="522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2" y="257"/>
                      </a:lnTo>
                      <a:lnTo>
                        <a:pt x="529" y="257"/>
                      </a:lnTo>
                      <a:lnTo>
                        <a:pt x="529" y="257"/>
                      </a:lnTo>
                      <a:lnTo>
                        <a:pt x="529" y="257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92"/>
                      </a:lnTo>
                      <a:lnTo>
                        <a:pt x="542" y="292"/>
                      </a:lnTo>
                      <a:lnTo>
                        <a:pt x="542" y="292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9" y="285"/>
                      </a:lnTo>
                      <a:lnTo>
                        <a:pt x="549" y="285"/>
                      </a:lnTo>
                      <a:lnTo>
                        <a:pt x="549" y="285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56" y="306"/>
                      </a:lnTo>
                      <a:lnTo>
                        <a:pt x="556" y="306"/>
                      </a:lnTo>
                      <a:lnTo>
                        <a:pt x="556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70" y="313"/>
                      </a:lnTo>
                      <a:lnTo>
                        <a:pt x="570" y="313"/>
                      </a:lnTo>
                      <a:lnTo>
                        <a:pt x="570" y="313"/>
                      </a:lnTo>
                      <a:lnTo>
                        <a:pt x="577" y="313"/>
                      </a:lnTo>
                      <a:lnTo>
                        <a:pt x="577" y="313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84" y="320"/>
                      </a:lnTo>
                      <a:lnTo>
                        <a:pt x="584" y="320"/>
                      </a:lnTo>
                      <a:lnTo>
                        <a:pt x="584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84" y="320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7" y="313"/>
                      </a:lnTo>
                      <a:lnTo>
                        <a:pt x="604" y="313"/>
                      </a:lnTo>
                      <a:lnTo>
                        <a:pt x="604" y="313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299"/>
                      </a:lnTo>
                      <a:lnTo>
                        <a:pt x="611" y="292"/>
                      </a:lnTo>
                      <a:lnTo>
                        <a:pt x="611" y="292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78"/>
                      </a:lnTo>
                      <a:lnTo>
                        <a:pt x="618" y="271"/>
                      </a:lnTo>
                      <a:lnTo>
                        <a:pt x="625" y="271"/>
                      </a:lnTo>
                      <a:lnTo>
                        <a:pt x="625" y="264"/>
                      </a:lnTo>
                      <a:lnTo>
                        <a:pt x="625" y="264"/>
                      </a:lnTo>
                      <a:lnTo>
                        <a:pt x="625" y="264"/>
                      </a:lnTo>
                      <a:lnTo>
                        <a:pt x="632" y="257"/>
                      </a:lnTo>
                      <a:lnTo>
                        <a:pt x="632" y="257"/>
                      </a:lnTo>
                      <a:lnTo>
                        <a:pt x="632" y="250"/>
                      </a:lnTo>
                      <a:lnTo>
                        <a:pt x="638" y="250"/>
                      </a:lnTo>
                      <a:lnTo>
                        <a:pt x="638" y="250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29"/>
                      </a:lnTo>
                      <a:lnTo>
                        <a:pt x="652" y="229"/>
                      </a:lnTo>
                      <a:lnTo>
                        <a:pt x="652" y="222"/>
                      </a:lnTo>
                      <a:lnTo>
                        <a:pt x="659" y="222"/>
                      </a:lnTo>
                      <a:lnTo>
                        <a:pt x="659" y="222"/>
                      </a:lnTo>
                      <a:lnTo>
                        <a:pt x="659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15"/>
                      </a:lnTo>
                      <a:lnTo>
                        <a:pt x="666" y="215"/>
                      </a:lnTo>
                      <a:lnTo>
                        <a:pt x="673" y="215"/>
                      </a:lnTo>
                      <a:lnTo>
                        <a:pt x="673" y="215"/>
                      </a:lnTo>
                      <a:lnTo>
                        <a:pt x="673" y="209"/>
                      </a:lnTo>
                      <a:lnTo>
                        <a:pt x="680" y="209"/>
                      </a:lnTo>
                      <a:lnTo>
                        <a:pt x="680" y="209"/>
                      </a:lnTo>
                      <a:lnTo>
                        <a:pt x="686" y="209"/>
                      </a:lnTo>
                      <a:lnTo>
                        <a:pt x="686" y="209"/>
                      </a:lnTo>
                      <a:lnTo>
                        <a:pt x="693" y="209"/>
                      </a:lnTo>
                      <a:lnTo>
                        <a:pt x="700" y="202"/>
                      </a:lnTo>
                      <a:lnTo>
                        <a:pt x="700" y="202"/>
                      </a:lnTo>
                      <a:lnTo>
                        <a:pt x="700" y="195"/>
                      </a:lnTo>
                      <a:lnTo>
                        <a:pt x="707" y="195"/>
                      </a:lnTo>
                      <a:lnTo>
                        <a:pt x="707" y="195"/>
                      </a:lnTo>
                      <a:lnTo>
                        <a:pt x="707" y="188"/>
                      </a:lnTo>
                      <a:lnTo>
                        <a:pt x="707" y="188"/>
                      </a:lnTo>
                      <a:lnTo>
                        <a:pt x="707" y="188"/>
                      </a:lnTo>
                      <a:lnTo>
                        <a:pt x="714" y="181"/>
                      </a:lnTo>
                      <a:lnTo>
                        <a:pt x="714" y="181"/>
                      </a:lnTo>
                      <a:lnTo>
                        <a:pt x="714" y="174"/>
                      </a:lnTo>
                      <a:lnTo>
                        <a:pt x="714" y="174"/>
                      </a:lnTo>
                      <a:lnTo>
                        <a:pt x="714" y="167"/>
                      </a:lnTo>
                      <a:lnTo>
                        <a:pt x="714" y="167"/>
                      </a:lnTo>
                      <a:lnTo>
                        <a:pt x="721" y="167"/>
                      </a:lnTo>
                      <a:lnTo>
                        <a:pt x="721" y="167"/>
                      </a:lnTo>
                      <a:lnTo>
                        <a:pt x="721" y="160"/>
                      </a:lnTo>
                      <a:lnTo>
                        <a:pt x="728" y="160"/>
                      </a:lnTo>
                      <a:lnTo>
                        <a:pt x="728" y="160"/>
                      </a:lnTo>
                      <a:lnTo>
                        <a:pt x="735" y="160"/>
                      </a:lnTo>
                      <a:lnTo>
                        <a:pt x="735" y="160"/>
                      </a:lnTo>
                      <a:lnTo>
                        <a:pt x="735" y="160"/>
                      </a:lnTo>
                      <a:lnTo>
                        <a:pt x="741" y="160"/>
                      </a:lnTo>
                      <a:lnTo>
                        <a:pt x="748" y="160"/>
                      </a:lnTo>
                      <a:lnTo>
                        <a:pt x="748" y="160"/>
                      </a:lnTo>
                      <a:lnTo>
                        <a:pt x="748" y="167"/>
                      </a:lnTo>
                      <a:lnTo>
                        <a:pt x="748" y="167"/>
                      </a:lnTo>
                      <a:lnTo>
                        <a:pt x="748" y="174"/>
                      </a:lnTo>
                      <a:lnTo>
                        <a:pt x="748" y="174"/>
                      </a:lnTo>
                      <a:lnTo>
                        <a:pt x="748" y="181"/>
                      </a:lnTo>
                      <a:lnTo>
                        <a:pt x="748" y="188"/>
                      </a:lnTo>
                      <a:lnTo>
                        <a:pt x="748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9" y="195"/>
                      </a:lnTo>
                      <a:lnTo>
                        <a:pt x="789" y="195"/>
                      </a:lnTo>
                      <a:lnTo>
                        <a:pt x="789" y="202"/>
                      </a:lnTo>
                      <a:lnTo>
                        <a:pt x="796" y="202"/>
                      </a:lnTo>
                      <a:lnTo>
                        <a:pt x="796" y="209"/>
                      </a:lnTo>
                      <a:lnTo>
                        <a:pt x="796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10" y="215"/>
                      </a:lnTo>
                      <a:lnTo>
                        <a:pt x="838" y="229"/>
                      </a:lnTo>
                      <a:lnTo>
                        <a:pt x="838" y="229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905000" y="2926080"/>
                  <a:ext cx="303480" cy="457560"/>
                </a:xfrm>
                <a:custGeom>
                  <a:avLst/>
                  <a:gdLst/>
                  <a:ahLst/>
                  <a:rect l="l" t="t" r="r" b="b"/>
                  <a:pathLst>
                    <a:path w="241" h="38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48" y="7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2" y="14"/>
                      </a:lnTo>
                      <a:lnTo>
                        <a:pt x="42" y="14"/>
                      </a:lnTo>
                      <a:lnTo>
                        <a:pt x="42" y="21"/>
                      </a:lnTo>
                      <a:lnTo>
                        <a:pt x="42" y="21"/>
                      </a:lnTo>
                      <a:lnTo>
                        <a:pt x="62" y="28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90" y="35"/>
                      </a:lnTo>
                      <a:lnTo>
                        <a:pt x="83" y="35"/>
                      </a:lnTo>
                      <a:lnTo>
                        <a:pt x="90" y="35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35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10" y="28"/>
                      </a:lnTo>
                      <a:lnTo>
                        <a:pt x="110" y="28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28"/>
                      </a:lnTo>
                      <a:lnTo>
                        <a:pt x="117" y="28"/>
                      </a:lnTo>
                      <a:lnTo>
                        <a:pt x="117" y="28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49"/>
                      </a:lnTo>
                      <a:lnTo>
                        <a:pt x="124" y="42"/>
                      </a:lnTo>
                      <a:lnTo>
                        <a:pt x="124" y="49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28"/>
                      </a:lnTo>
                      <a:lnTo>
                        <a:pt x="124" y="28"/>
                      </a:lnTo>
                      <a:lnTo>
                        <a:pt x="131" y="28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28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51" y="35"/>
                      </a:lnTo>
                      <a:lnTo>
                        <a:pt x="145" y="35"/>
                      </a:lnTo>
                      <a:lnTo>
                        <a:pt x="151" y="35"/>
                      </a:lnTo>
                      <a:lnTo>
                        <a:pt x="151" y="35"/>
                      </a:lnTo>
                      <a:lnTo>
                        <a:pt x="151" y="35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9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35"/>
                      </a:lnTo>
                      <a:lnTo>
                        <a:pt x="151" y="42"/>
                      </a:lnTo>
                      <a:lnTo>
                        <a:pt x="151" y="35"/>
                      </a:lnTo>
                      <a:lnTo>
                        <a:pt x="151" y="35"/>
                      </a:lnTo>
                      <a:lnTo>
                        <a:pt x="151" y="35"/>
                      </a:lnTo>
                      <a:lnTo>
                        <a:pt x="158" y="35"/>
                      </a:lnTo>
                      <a:lnTo>
                        <a:pt x="158" y="35"/>
                      </a:lnTo>
                      <a:lnTo>
                        <a:pt x="158" y="35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72" y="49"/>
                      </a:lnTo>
                      <a:lnTo>
                        <a:pt x="172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2"/>
                      </a:lnTo>
                      <a:lnTo>
                        <a:pt x="172" y="49"/>
                      </a:lnTo>
                      <a:lnTo>
                        <a:pt x="179" y="49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2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93" y="49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56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200" y="49"/>
                      </a:lnTo>
                      <a:lnTo>
                        <a:pt x="193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193" y="56"/>
                      </a:lnTo>
                      <a:lnTo>
                        <a:pt x="193" y="49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56"/>
                      </a:lnTo>
                      <a:lnTo>
                        <a:pt x="200" y="56"/>
                      </a:lnTo>
                      <a:lnTo>
                        <a:pt x="200" y="56"/>
                      </a:lnTo>
                      <a:lnTo>
                        <a:pt x="200" y="56"/>
                      </a:lnTo>
                      <a:lnTo>
                        <a:pt x="200" y="56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6" y="63"/>
                      </a:lnTo>
                      <a:lnTo>
                        <a:pt x="200" y="63"/>
                      </a:lnTo>
                      <a:lnTo>
                        <a:pt x="206" y="63"/>
                      </a:lnTo>
                      <a:lnTo>
                        <a:pt x="200" y="63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63"/>
                      </a:lnTo>
                      <a:lnTo>
                        <a:pt x="206" y="56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20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7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0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63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34" y="56"/>
                      </a:lnTo>
                      <a:lnTo>
                        <a:pt x="234" y="56"/>
                      </a:lnTo>
                      <a:lnTo>
                        <a:pt x="234" y="63"/>
                      </a:lnTo>
                      <a:lnTo>
                        <a:pt x="234" y="56"/>
                      </a:lnTo>
                      <a:lnTo>
                        <a:pt x="227" y="56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34" y="63"/>
                      </a:lnTo>
                      <a:lnTo>
                        <a:pt x="234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34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63"/>
                      </a:lnTo>
                      <a:lnTo>
                        <a:pt x="234" y="63"/>
                      </a:lnTo>
                      <a:lnTo>
                        <a:pt x="234" y="63"/>
                      </a:lnTo>
                      <a:lnTo>
                        <a:pt x="234" y="63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7"/>
                      </a:lnTo>
                      <a:lnTo>
                        <a:pt x="241" y="77"/>
                      </a:lnTo>
                      <a:lnTo>
                        <a:pt x="241" y="77"/>
                      </a:lnTo>
                      <a:lnTo>
                        <a:pt x="241" y="84"/>
                      </a:lnTo>
                      <a:lnTo>
                        <a:pt x="241" y="84"/>
                      </a:lnTo>
                      <a:lnTo>
                        <a:pt x="241" y="84"/>
                      </a:lnTo>
                      <a:lnTo>
                        <a:pt x="241" y="84"/>
                      </a:lnTo>
                      <a:lnTo>
                        <a:pt x="241" y="84"/>
                      </a:lnTo>
                      <a:lnTo>
                        <a:pt x="234" y="84"/>
                      </a:lnTo>
                      <a:lnTo>
                        <a:pt x="234" y="84"/>
                      </a:lnTo>
                      <a:lnTo>
                        <a:pt x="234" y="84"/>
                      </a:lnTo>
                      <a:lnTo>
                        <a:pt x="234" y="90"/>
                      </a:lnTo>
                      <a:lnTo>
                        <a:pt x="234" y="90"/>
                      </a:lnTo>
                      <a:lnTo>
                        <a:pt x="234" y="90"/>
                      </a:lnTo>
                      <a:lnTo>
                        <a:pt x="234" y="90"/>
                      </a:lnTo>
                      <a:lnTo>
                        <a:pt x="241" y="90"/>
                      </a:lnTo>
                      <a:lnTo>
                        <a:pt x="241" y="90"/>
                      </a:lnTo>
                      <a:lnTo>
                        <a:pt x="241" y="90"/>
                      </a:lnTo>
                      <a:lnTo>
                        <a:pt x="241" y="97"/>
                      </a:lnTo>
                      <a:lnTo>
                        <a:pt x="241" y="97"/>
                      </a:lnTo>
                      <a:lnTo>
                        <a:pt x="241" y="97"/>
                      </a:lnTo>
                      <a:lnTo>
                        <a:pt x="234" y="97"/>
                      </a:lnTo>
                      <a:lnTo>
                        <a:pt x="234" y="104"/>
                      </a:lnTo>
                      <a:lnTo>
                        <a:pt x="234" y="104"/>
                      </a:lnTo>
                      <a:lnTo>
                        <a:pt x="234" y="104"/>
                      </a:lnTo>
                      <a:lnTo>
                        <a:pt x="234" y="104"/>
                      </a:lnTo>
                      <a:lnTo>
                        <a:pt x="234" y="104"/>
                      </a:lnTo>
                      <a:lnTo>
                        <a:pt x="234" y="111"/>
                      </a:lnTo>
                      <a:lnTo>
                        <a:pt x="234" y="111"/>
                      </a:lnTo>
                      <a:lnTo>
                        <a:pt x="234" y="111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9"/>
                      </a:lnTo>
                      <a:lnTo>
                        <a:pt x="227" y="139"/>
                      </a:lnTo>
                      <a:lnTo>
                        <a:pt x="227" y="139"/>
                      </a:lnTo>
                      <a:lnTo>
                        <a:pt x="227" y="139"/>
                      </a:lnTo>
                      <a:lnTo>
                        <a:pt x="227" y="139"/>
                      </a:lnTo>
                      <a:lnTo>
                        <a:pt x="227" y="146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60"/>
                      </a:lnTo>
                      <a:lnTo>
                        <a:pt x="227" y="160"/>
                      </a:lnTo>
                      <a:lnTo>
                        <a:pt x="227" y="160"/>
                      </a:lnTo>
                      <a:lnTo>
                        <a:pt x="220" y="160"/>
                      </a:lnTo>
                      <a:lnTo>
                        <a:pt x="220" y="160"/>
                      </a:lnTo>
                      <a:lnTo>
                        <a:pt x="227" y="160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67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06" y="181"/>
                      </a:lnTo>
                      <a:lnTo>
                        <a:pt x="206" y="181"/>
                      </a:lnTo>
                      <a:lnTo>
                        <a:pt x="206" y="181"/>
                      </a:lnTo>
                      <a:lnTo>
                        <a:pt x="206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94"/>
                      </a:lnTo>
                      <a:lnTo>
                        <a:pt x="213" y="194"/>
                      </a:lnTo>
                      <a:lnTo>
                        <a:pt x="213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201"/>
                      </a:lnTo>
                      <a:lnTo>
                        <a:pt x="206" y="201"/>
                      </a:lnTo>
                      <a:lnTo>
                        <a:pt x="206" y="201"/>
                      </a:lnTo>
                      <a:lnTo>
                        <a:pt x="200" y="201"/>
                      </a:lnTo>
                      <a:lnTo>
                        <a:pt x="200" y="201"/>
                      </a:lnTo>
                      <a:lnTo>
                        <a:pt x="200" y="201"/>
                      </a:lnTo>
                      <a:lnTo>
                        <a:pt x="200" y="201"/>
                      </a:lnTo>
                      <a:lnTo>
                        <a:pt x="200" y="208"/>
                      </a:lnTo>
                      <a:lnTo>
                        <a:pt x="200" y="208"/>
                      </a:lnTo>
                      <a:lnTo>
                        <a:pt x="200" y="201"/>
                      </a:lnTo>
                      <a:lnTo>
                        <a:pt x="193" y="201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200" y="215"/>
                      </a:lnTo>
                      <a:lnTo>
                        <a:pt x="200" y="215"/>
                      </a:lnTo>
                      <a:lnTo>
                        <a:pt x="200" y="215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193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43"/>
                      </a:lnTo>
                      <a:lnTo>
                        <a:pt x="193" y="243"/>
                      </a:lnTo>
                      <a:lnTo>
                        <a:pt x="193" y="243"/>
                      </a:lnTo>
                      <a:lnTo>
                        <a:pt x="193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79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79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79" y="250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64"/>
                      </a:lnTo>
                      <a:lnTo>
                        <a:pt x="179" y="264"/>
                      </a:lnTo>
                      <a:lnTo>
                        <a:pt x="179" y="264"/>
                      </a:lnTo>
                      <a:lnTo>
                        <a:pt x="179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65" y="264"/>
                      </a:lnTo>
                      <a:lnTo>
                        <a:pt x="172" y="264"/>
                      </a:lnTo>
                      <a:lnTo>
                        <a:pt x="172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58" y="278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1" y="305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45" y="312"/>
                      </a:lnTo>
                      <a:lnTo>
                        <a:pt x="145" y="312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38" y="319"/>
                      </a:lnTo>
                      <a:lnTo>
                        <a:pt x="138" y="319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1" y="326"/>
                      </a:lnTo>
                      <a:lnTo>
                        <a:pt x="138" y="333"/>
                      </a:lnTo>
                      <a:lnTo>
                        <a:pt x="131" y="333"/>
                      </a:lnTo>
                      <a:lnTo>
                        <a:pt x="138" y="333"/>
                      </a:lnTo>
                      <a:lnTo>
                        <a:pt x="131" y="333"/>
                      </a:lnTo>
                      <a:lnTo>
                        <a:pt x="138" y="333"/>
                      </a:lnTo>
                      <a:lnTo>
                        <a:pt x="138" y="333"/>
                      </a:lnTo>
                      <a:lnTo>
                        <a:pt x="131" y="333"/>
                      </a:lnTo>
                      <a:lnTo>
                        <a:pt x="131" y="333"/>
                      </a:lnTo>
                      <a:lnTo>
                        <a:pt x="131" y="333"/>
                      </a:lnTo>
                      <a:lnTo>
                        <a:pt x="131" y="333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24" y="340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54"/>
                      </a:lnTo>
                      <a:lnTo>
                        <a:pt x="124" y="354"/>
                      </a:lnTo>
                      <a:lnTo>
                        <a:pt x="124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61"/>
                      </a:lnTo>
                      <a:lnTo>
                        <a:pt x="117" y="361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97" y="368"/>
                      </a:lnTo>
                      <a:lnTo>
                        <a:pt x="97" y="368"/>
                      </a:lnTo>
                      <a:lnTo>
                        <a:pt x="97" y="368"/>
                      </a:lnTo>
                      <a:lnTo>
                        <a:pt x="97" y="368"/>
                      </a:lnTo>
                      <a:lnTo>
                        <a:pt x="83" y="382"/>
                      </a:lnTo>
                      <a:lnTo>
                        <a:pt x="76" y="382"/>
                      </a:lnTo>
                      <a:lnTo>
                        <a:pt x="76" y="38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42280" y="2778840"/>
                  <a:ext cx="1158480" cy="1102320"/>
                </a:xfrm>
                <a:custGeom>
                  <a:avLst/>
                  <a:gdLst/>
                  <a:ahLst/>
                  <a:rect l="l" t="t" r="r" b="b"/>
                  <a:pathLst>
                    <a:path w="920" h="937">
                      <a:moveTo>
                        <a:pt x="920" y="514"/>
                      </a:moveTo>
                      <a:lnTo>
                        <a:pt x="913" y="514"/>
                      </a:lnTo>
                      <a:lnTo>
                        <a:pt x="906" y="521"/>
                      </a:lnTo>
                      <a:lnTo>
                        <a:pt x="906" y="521"/>
                      </a:lnTo>
                      <a:lnTo>
                        <a:pt x="892" y="535"/>
                      </a:lnTo>
                      <a:lnTo>
                        <a:pt x="886" y="535"/>
                      </a:lnTo>
                      <a:lnTo>
                        <a:pt x="886" y="535"/>
                      </a:lnTo>
                      <a:lnTo>
                        <a:pt x="886" y="535"/>
                      </a:lnTo>
                      <a:lnTo>
                        <a:pt x="886" y="535"/>
                      </a:lnTo>
                      <a:lnTo>
                        <a:pt x="886" y="541"/>
                      </a:lnTo>
                      <a:lnTo>
                        <a:pt x="886" y="541"/>
                      </a:lnTo>
                      <a:lnTo>
                        <a:pt x="879" y="541"/>
                      </a:lnTo>
                      <a:lnTo>
                        <a:pt x="858" y="555"/>
                      </a:lnTo>
                      <a:lnTo>
                        <a:pt x="858" y="562"/>
                      </a:lnTo>
                      <a:lnTo>
                        <a:pt x="858" y="562"/>
                      </a:lnTo>
                      <a:lnTo>
                        <a:pt x="858" y="562"/>
                      </a:lnTo>
                      <a:lnTo>
                        <a:pt x="865" y="562"/>
                      </a:lnTo>
                      <a:lnTo>
                        <a:pt x="865" y="562"/>
                      </a:lnTo>
                      <a:lnTo>
                        <a:pt x="865" y="562"/>
                      </a:lnTo>
                      <a:lnTo>
                        <a:pt x="865" y="562"/>
                      </a:lnTo>
                      <a:lnTo>
                        <a:pt x="865" y="562"/>
                      </a:lnTo>
                      <a:lnTo>
                        <a:pt x="872" y="562"/>
                      </a:lnTo>
                      <a:lnTo>
                        <a:pt x="872" y="562"/>
                      </a:lnTo>
                      <a:lnTo>
                        <a:pt x="872" y="562"/>
                      </a:lnTo>
                      <a:lnTo>
                        <a:pt x="879" y="562"/>
                      </a:lnTo>
                      <a:lnTo>
                        <a:pt x="879" y="562"/>
                      </a:lnTo>
                      <a:lnTo>
                        <a:pt x="879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9"/>
                      </a:lnTo>
                      <a:lnTo>
                        <a:pt x="892" y="569"/>
                      </a:lnTo>
                      <a:lnTo>
                        <a:pt x="892" y="569"/>
                      </a:lnTo>
                      <a:lnTo>
                        <a:pt x="892" y="569"/>
                      </a:lnTo>
                      <a:lnTo>
                        <a:pt x="899" y="569"/>
                      </a:lnTo>
                      <a:lnTo>
                        <a:pt x="899" y="576"/>
                      </a:lnTo>
                      <a:lnTo>
                        <a:pt x="899" y="576"/>
                      </a:lnTo>
                      <a:lnTo>
                        <a:pt x="899" y="576"/>
                      </a:lnTo>
                      <a:lnTo>
                        <a:pt x="899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13" y="576"/>
                      </a:lnTo>
                      <a:lnTo>
                        <a:pt x="913" y="583"/>
                      </a:lnTo>
                      <a:lnTo>
                        <a:pt x="913" y="583"/>
                      </a:lnTo>
                      <a:lnTo>
                        <a:pt x="913" y="583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899" y="590"/>
                      </a:lnTo>
                      <a:lnTo>
                        <a:pt x="899" y="590"/>
                      </a:lnTo>
                      <a:lnTo>
                        <a:pt x="899" y="590"/>
                      </a:lnTo>
                      <a:lnTo>
                        <a:pt x="899" y="597"/>
                      </a:lnTo>
                      <a:lnTo>
                        <a:pt x="899" y="597"/>
                      </a:lnTo>
                      <a:lnTo>
                        <a:pt x="899" y="597"/>
                      </a:lnTo>
                      <a:lnTo>
                        <a:pt x="899" y="597"/>
                      </a:lnTo>
                      <a:lnTo>
                        <a:pt x="899" y="604"/>
                      </a:lnTo>
                      <a:lnTo>
                        <a:pt x="899" y="604"/>
                      </a:lnTo>
                      <a:lnTo>
                        <a:pt x="899" y="604"/>
                      </a:lnTo>
                      <a:lnTo>
                        <a:pt x="906" y="604"/>
                      </a:lnTo>
                      <a:lnTo>
                        <a:pt x="906" y="604"/>
                      </a:lnTo>
                      <a:lnTo>
                        <a:pt x="906" y="604"/>
                      </a:lnTo>
                      <a:lnTo>
                        <a:pt x="906" y="611"/>
                      </a:lnTo>
                      <a:lnTo>
                        <a:pt x="899" y="611"/>
                      </a:lnTo>
                      <a:lnTo>
                        <a:pt x="899" y="611"/>
                      </a:lnTo>
                      <a:lnTo>
                        <a:pt x="899" y="611"/>
                      </a:lnTo>
                      <a:lnTo>
                        <a:pt x="892" y="611"/>
                      </a:lnTo>
                      <a:lnTo>
                        <a:pt x="892" y="611"/>
                      </a:lnTo>
                      <a:lnTo>
                        <a:pt x="892" y="618"/>
                      </a:lnTo>
                      <a:lnTo>
                        <a:pt x="892" y="618"/>
                      </a:lnTo>
                      <a:lnTo>
                        <a:pt x="892" y="618"/>
                      </a:lnTo>
                      <a:lnTo>
                        <a:pt x="899" y="618"/>
                      </a:lnTo>
                      <a:lnTo>
                        <a:pt x="899" y="618"/>
                      </a:lnTo>
                      <a:lnTo>
                        <a:pt x="899" y="618"/>
                      </a:lnTo>
                      <a:lnTo>
                        <a:pt x="899" y="625"/>
                      </a:lnTo>
                      <a:lnTo>
                        <a:pt x="899" y="625"/>
                      </a:lnTo>
                      <a:lnTo>
                        <a:pt x="892" y="625"/>
                      </a:lnTo>
                      <a:lnTo>
                        <a:pt x="892" y="625"/>
                      </a:lnTo>
                      <a:lnTo>
                        <a:pt x="892" y="625"/>
                      </a:lnTo>
                      <a:lnTo>
                        <a:pt x="886" y="625"/>
                      </a:lnTo>
                      <a:lnTo>
                        <a:pt x="886" y="625"/>
                      </a:lnTo>
                      <a:lnTo>
                        <a:pt x="886" y="632"/>
                      </a:lnTo>
                      <a:lnTo>
                        <a:pt x="886" y="632"/>
                      </a:lnTo>
                      <a:lnTo>
                        <a:pt x="886" y="632"/>
                      </a:lnTo>
                      <a:lnTo>
                        <a:pt x="886" y="632"/>
                      </a:lnTo>
                      <a:lnTo>
                        <a:pt x="886" y="639"/>
                      </a:lnTo>
                      <a:lnTo>
                        <a:pt x="886" y="639"/>
                      </a:lnTo>
                      <a:lnTo>
                        <a:pt x="886" y="639"/>
                      </a:lnTo>
                      <a:lnTo>
                        <a:pt x="886" y="639"/>
                      </a:lnTo>
                      <a:lnTo>
                        <a:pt x="886" y="639"/>
                      </a:lnTo>
                      <a:lnTo>
                        <a:pt x="892" y="639"/>
                      </a:lnTo>
                      <a:lnTo>
                        <a:pt x="892" y="646"/>
                      </a:lnTo>
                      <a:lnTo>
                        <a:pt x="892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79" y="646"/>
                      </a:lnTo>
                      <a:lnTo>
                        <a:pt x="879" y="646"/>
                      </a:lnTo>
                      <a:lnTo>
                        <a:pt x="879" y="646"/>
                      </a:lnTo>
                      <a:lnTo>
                        <a:pt x="879" y="646"/>
                      </a:lnTo>
                      <a:lnTo>
                        <a:pt x="879" y="646"/>
                      </a:lnTo>
                      <a:lnTo>
                        <a:pt x="872" y="646"/>
                      </a:lnTo>
                      <a:lnTo>
                        <a:pt x="872" y="652"/>
                      </a:lnTo>
                      <a:lnTo>
                        <a:pt x="872" y="652"/>
                      </a:lnTo>
                      <a:lnTo>
                        <a:pt x="872" y="652"/>
                      </a:lnTo>
                      <a:lnTo>
                        <a:pt x="865" y="659"/>
                      </a:lnTo>
                      <a:lnTo>
                        <a:pt x="865" y="659"/>
                      </a:lnTo>
                      <a:lnTo>
                        <a:pt x="865" y="659"/>
                      </a:lnTo>
                      <a:lnTo>
                        <a:pt x="865" y="659"/>
                      </a:lnTo>
                      <a:lnTo>
                        <a:pt x="865" y="659"/>
                      </a:lnTo>
                      <a:lnTo>
                        <a:pt x="865" y="666"/>
                      </a:lnTo>
                      <a:lnTo>
                        <a:pt x="865" y="666"/>
                      </a:lnTo>
                      <a:lnTo>
                        <a:pt x="865" y="666"/>
                      </a:lnTo>
                      <a:lnTo>
                        <a:pt x="865" y="666"/>
                      </a:lnTo>
                      <a:lnTo>
                        <a:pt x="865" y="673"/>
                      </a:lnTo>
                      <a:lnTo>
                        <a:pt x="858" y="673"/>
                      </a:lnTo>
                      <a:lnTo>
                        <a:pt x="858" y="673"/>
                      </a:lnTo>
                      <a:lnTo>
                        <a:pt x="858" y="673"/>
                      </a:lnTo>
                      <a:lnTo>
                        <a:pt x="851" y="680"/>
                      </a:lnTo>
                      <a:lnTo>
                        <a:pt x="851" y="680"/>
                      </a:lnTo>
                      <a:lnTo>
                        <a:pt x="851" y="680"/>
                      </a:lnTo>
                      <a:lnTo>
                        <a:pt x="851" y="680"/>
                      </a:lnTo>
                      <a:lnTo>
                        <a:pt x="851" y="680"/>
                      </a:lnTo>
                      <a:lnTo>
                        <a:pt x="844" y="680"/>
                      </a:lnTo>
                      <a:lnTo>
                        <a:pt x="844" y="680"/>
                      </a:lnTo>
                      <a:lnTo>
                        <a:pt x="844" y="680"/>
                      </a:lnTo>
                      <a:lnTo>
                        <a:pt x="844" y="680"/>
                      </a:lnTo>
                      <a:lnTo>
                        <a:pt x="838" y="680"/>
                      </a:lnTo>
                      <a:lnTo>
                        <a:pt x="838" y="680"/>
                      </a:lnTo>
                      <a:lnTo>
                        <a:pt x="838" y="680"/>
                      </a:lnTo>
                      <a:lnTo>
                        <a:pt x="831" y="687"/>
                      </a:lnTo>
                      <a:lnTo>
                        <a:pt x="831" y="687"/>
                      </a:lnTo>
                      <a:lnTo>
                        <a:pt x="824" y="687"/>
                      </a:lnTo>
                      <a:lnTo>
                        <a:pt x="824" y="687"/>
                      </a:lnTo>
                      <a:lnTo>
                        <a:pt x="824" y="687"/>
                      </a:lnTo>
                      <a:lnTo>
                        <a:pt x="824" y="687"/>
                      </a:lnTo>
                      <a:lnTo>
                        <a:pt x="824" y="694"/>
                      </a:lnTo>
                      <a:lnTo>
                        <a:pt x="824" y="694"/>
                      </a:lnTo>
                      <a:lnTo>
                        <a:pt x="824" y="694"/>
                      </a:lnTo>
                      <a:lnTo>
                        <a:pt x="824" y="694"/>
                      </a:lnTo>
                      <a:lnTo>
                        <a:pt x="824" y="694"/>
                      </a:lnTo>
                      <a:lnTo>
                        <a:pt x="824" y="701"/>
                      </a:lnTo>
                      <a:lnTo>
                        <a:pt x="824" y="701"/>
                      </a:lnTo>
                      <a:lnTo>
                        <a:pt x="824" y="701"/>
                      </a:lnTo>
                      <a:lnTo>
                        <a:pt x="824" y="708"/>
                      </a:lnTo>
                      <a:lnTo>
                        <a:pt x="824" y="715"/>
                      </a:lnTo>
                      <a:lnTo>
                        <a:pt x="824" y="715"/>
                      </a:lnTo>
                      <a:lnTo>
                        <a:pt x="824" y="715"/>
                      </a:lnTo>
                      <a:lnTo>
                        <a:pt x="824" y="722"/>
                      </a:lnTo>
                      <a:lnTo>
                        <a:pt x="824" y="722"/>
                      </a:lnTo>
                      <a:lnTo>
                        <a:pt x="817" y="729"/>
                      </a:lnTo>
                      <a:lnTo>
                        <a:pt x="817" y="729"/>
                      </a:lnTo>
                      <a:lnTo>
                        <a:pt x="817" y="729"/>
                      </a:lnTo>
                      <a:lnTo>
                        <a:pt x="817" y="729"/>
                      </a:lnTo>
                      <a:lnTo>
                        <a:pt x="817" y="729"/>
                      </a:lnTo>
                      <a:lnTo>
                        <a:pt x="810" y="736"/>
                      </a:lnTo>
                      <a:lnTo>
                        <a:pt x="810" y="736"/>
                      </a:lnTo>
                      <a:lnTo>
                        <a:pt x="810" y="736"/>
                      </a:lnTo>
                      <a:lnTo>
                        <a:pt x="803" y="743"/>
                      </a:lnTo>
                      <a:lnTo>
                        <a:pt x="803" y="743"/>
                      </a:lnTo>
                      <a:lnTo>
                        <a:pt x="803" y="750"/>
                      </a:lnTo>
                      <a:lnTo>
                        <a:pt x="810" y="750"/>
                      </a:lnTo>
                      <a:lnTo>
                        <a:pt x="810" y="757"/>
                      </a:lnTo>
                      <a:lnTo>
                        <a:pt x="810" y="757"/>
                      </a:lnTo>
                      <a:lnTo>
                        <a:pt x="810" y="757"/>
                      </a:lnTo>
                      <a:lnTo>
                        <a:pt x="810" y="757"/>
                      </a:lnTo>
                      <a:lnTo>
                        <a:pt x="817" y="757"/>
                      </a:lnTo>
                      <a:lnTo>
                        <a:pt x="817" y="763"/>
                      </a:lnTo>
                      <a:lnTo>
                        <a:pt x="817" y="763"/>
                      </a:lnTo>
                      <a:lnTo>
                        <a:pt x="824" y="763"/>
                      </a:lnTo>
                      <a:lnTo>
                        <a:pt x="824" y="763"/>
                      </a:lnTo>
                      <a:lnTo>
                        <a:pt x="824" y="763"/>
                      </a:lnTo>
                      <a:lnTo>
                        <a:pt x="824" y="763"/>
                      </a:lnTo>
                      <a:lnTo>
                        <a:pt x="824" y="770"/>
                      </a:lnTo>
                      <a:lnTo>
                        <a:pt x="824" y="770"/>
                      </a:lnTo>
                      <a:lnTo>
                        <a:pt x="824" y="770"/>
                      </a:lnTo>
                      <a:lnTo>
                        <a:pt x="824" y="770"/>
                      </a:lnTo>
                      <a:lnTo>
                        <a:pt x="824" y="777"/>
                      </a:lnTo>
                      <a:lnTo>
                        <a:pt x="824" y="777"/>
                      </a:lnTo>
                      <a:lnTo>
                        <a:pt x="824" y="777"/>
                      </a:lnTo>
                      <a:lnTo>
                        <a:pt x="824" y="784"/>
                      </a:lnTo>
                      <a:lnTo>
                        <a:pt x="824" y="784"/>
                      </a:lnTo>
                      <a:lnTo>
                        <a:pt x="824" y="784"/>
                      </a:lnTo>
                      <a:lnTo>
                        <a:pt x="824" y="784"/>
                      </a:lnTo>
                      <a:lnTo>
                        <a:pt x="824" y="784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8"/>
                      </a:lnTo>
                      <a:lnTo>
                        <a:pt x="824" y="798"/>
                      </a:lnTo>
                      <a:lnTo>
                        <a:pt x="817" y="798"/>
                      </a:lnTo>
                      <a:lnTo>
                        <a:pt x="817" y="805"/>
                      </a:lnTo>
                      <a:lnTo>
                        <a:pt x="817" y="805"/>
                      </a:lnTo>
                      <a:lnTo>
                        <a:pt x="817" y="812"/>
                      </a:lnTo>
                      <a:lnTo>
                        <a:pt x="817" y="812"/>
                      </a:lnTo>
                      <a:lnTo>
                        <a:pt x="817" y="812"/>
                      </a:lnTo>
                      <a:lnTo>
                        <a:pt x="810" y="819"/>
                      </a:lnTo>
                      <a:lnTo>
                        <a:pt x="810" y="819"/>
                      </a:lnTo>
                      <a:lnTo>
                        <a:pt x="810" y="819"/>
                      </a:lnTo>
                      <a:lnTo>
                        <a:pt x="810" y="819"/>
                      </a:lnTo>
                      <a:lnTo>
                        <a:pt x="803" y="819"/>
                      </a:lnTo>
                      <a:lnTo>
                        <a:pt x="803" y="819"/>
                      </a:lnTo>
                      <a:lnTo>
                        <a:pt x="803" y="826"/>
                      </a:lnTo>
                      <a:lnTo>
                        <a:pt x="803" y="826"/>
                      </a:lnTo>
                      <a:lnTo>
                        <a:pt x="803" y="833"/>
                      </a:lnTo>
                      <a:lnTo>
                        <a:pt x="803" y="833"/>
                      </a:lnTo>
                      <a:lnTo>
                        <a:pt x="803" y="833"/>
                      </a:lnTo>
                      <a:lnTo>
                        <a:pt x="796" y="840"/>
                      </a:lnTo>
                      <a:lnTo>
                        <a:pt x="796" y="840"/>
                      </a:lnTo>
                      <a:lnTo>
                        <a:pt x="796" y="840"/>
                      </a:lnTo>
                      <a:lnTo>
                        <a:pt x="796" y="840"/>
                      </a:lnTo>
                      <a:lnTo>
                        <a:pt x="789" y="847"/>
                      </a:lnTo>
                      <a:lnTo>
                        <a:pt x="789" y="854"/>
                      </a:lnTo>
                      <a:lnTo>
                        <a:pt x="789" y="854"/>
                      </a:lnTo>
                      <a:lnTo>
                        <a:pt x="789" y="854"/>
                      </a:lnTo>
                      <a:lnTo>
                        <a:pt x="789" y="854"/>
                      </a:lnTo>
                      <a:lnTo>
                        <a:pt x="783" y="854"/>
                      </a:lnTo>
                      <a:lnTo>
                        <a:pt x="783" y="854"/>
                      </a:lnTo>
                      <a:lnTo>
                        <a:pt x="776" y="861"/>
                      </a:lnTo>
                      <a:lnTo>
                        <a:pt x="776" y="861"/>
                      </a:lnTo>
                      <a:lnTo>
                        <a:pt x="776" y="861"/>
                      </a:lnTo>
                      <a:lnTo>
                        <a:pt x="776" y="861"/>
                      </a:lnTo>
                      <a:lnTo>
                        <a:pt x="769" y="861"/>
                      </a:lnTo>
                      <a:lnTo>
                        <a:pt x="769" y="868"/>
                      </a:lnTo>
                      <a:lnTo>
                        <a:pt x="769" y="868"/>
                      </a:lnTo>
                      <a:lnTo>
                        <a:pt x="769" y="874"/>
                      </a:lnTo>
                      <a:lnTo>
                        <a:pt x="769" y="874"/>
                      </a:lnTo>
                      <a:lnTo>
                        <a:pt x="762" y="874"/>
                      </a:lnTo>
                      <a:lnTo>
                        <a:pt x="762" y="874"/>
                      </a:lnTo>
                      <a:lnTo>
                        <a:pt x="762" y="881"/>
                      </a:lnTo>
                      <a:lnTo>
                        <a:pt x="762" y="881"/>
                      </a:lnTo>
                      <a:lnTo>
                        <a:pt x="762" y="881"/>
                      </a:lnTo>
                      <a:lnTo>
                        <a:pt x="762" y="881"/>
                      </a:lnTo>
                      <a:lnTo>
                        <a:pt x="762" y="881"/>
                      </a:lnTo>
                      <a:lnTo>
                        <a:pt x="755" y="888"/>
                      </a:lnTo>
                      <a:lnTo>
                        <a:pt x="755" y="888"/>
                      </a:lnTo>
                      <a:lnTo>
                        <a:pt x="755" y="888"/>
                      </a:lnTo>
                      <a:lnTo>
                        <a:pt x="755" y="888"/>
                      </a:lnTo>
                      <a:lnTo>
                        <a:pt x="748" y="895"/>
                      </a:lnTo>
                      <a:lnTo>
                        <a:pt x="748" y="895"/>
                      </a:lnTo>
                      <a:lnTo>
                        <a:pt x="748" y="895"/>
                      </a:lnTo>
                      <a:lnTo>
                        <a:pt x="748" y="895"/>
                      </a:lnTo>
                      <a:lnTo>
                        <a:pt x="748" y="902"/>
                      </a:lnTo>
                      <a:lnTo>
                        <a:pt x="748" y="902"/>
                      </a:lnTo>
                      <a:lnTo>
                        <a:pt x="748" y="902"/>
                      </a:lnTo>
                      <a:lnTo>
                        <a:pt x="748" y="909"/>
                      </a:lnTo>
                      <a:lnTo>
                        <a:pt x="748" y="909"/>
                      </a:lnTo>
                      <a:lnTo>
                        <a:pt x="748" y="909"/>
                      </a:lnTo>
                      <a:lnTo>
                        <a:pt x="748" y="909"/>
                      </a:lnTo>
                      <a:lnTo>
                        <a:pt x="748" y="909"/>
                      </a:lnTo>
                      <a:lnTo>
                        <a:pt x="748" y="916"/>
                      </a:lnTo>
                      <a:lnTo>
                        <a:pt x="748" y="916"/>
                      </a:lnTo>
                      <a:lnTo>
                        <a:pt x="748" y="916"/>
                      </a:lnTo>
                      <a:lnTo>
                        <a:pt x="748" y="916"/>
                      </a:lnTo>
                      <a:lnTo>
                        <a:pt x="741" y="916"/>
                      </a:lnTo>
                      <a:lnTo>
                        <a:pt x="741" y="923"/>
                      </a:lnTo>
                      <a:lnTo>
                        <a:pt x="741" y="923"/>
                      </a:lnTo>
                      <a:lnTo>
                        <a:pt x="741" y="923"/>
                      </a:lnTo>
                      <a:lnTo>
                        <a:pt x="741" y="923"/>
                      </a:lnTo>
                      <a:lnTo>
                        <a:pt x="741" y="930"/>
                      </a:lnTo>
                      <a:lnTo>
                        <a:pt x="741" y="930"/>
                      </a:lnTo>
                      <a:lnTo>
                        <a:pt x="741" y="930"/>
                      </a:lnTo>
                      <a:lnTo>
                        <a:pt x="735" y="930"/>
                      </a:lnTo>
                      <a:lnTo>
                        <a:pt x="735" y="937"/>
                      </a:lnTo>
                      <a:lnTo>
                        <a:pt x="735" y="937"/>
                      </a:lnTo>
                      <a:lnTo>
                        <a:pt x="735" y="937"/>
                      </a:lnTo>
                      <a:lnTo>
                        <a:pt x="686" y="937"/>
                      </a:lnTo>
                      <a:lnTo>
                        <a:pt x="666" y="937"/>
                      </a:lnTo>
                      <a:lnTo>
                        <a:pt x="645" y="930"/>
                      </a:lnTo>
                      <a:lnTo>
                        <a:pt x="632" y="930"/>
                      </a:lnTo>
                      <a:lnTo>
                        <a:pt x="563" y="930"/>
                      </a:lnTo>
                      <a:lnTo>
                        <a:pt x="535" y="923"/>
                      </a:lnTo>
                      <a:lnTo>
                        <a:pt x="529" y="923"/>
                      </a:lnTo>
                      <a:lnTo>
                        <a:pt x="487" y="923"/>
                      </a:lnTo>
                      <a:lnTo>
                        <a:pt x="453" y="916"/>
                      </a:lnTo>
                      <a:lnTo>
                        <a:pt x="405" y="916"/>
                      </a:lnTo>
                      <a:lnTo>
                        <a:pt x="364" y="909"/>
                      </a:lnTo>
                      <a:lnTo>
                        <a:pt x="357" y="909"/>
                      </a:lnTo>
                      <a:lnTo>
                        <a:pt x="329" y="909"/>
                      </a:lnTo>
                      <a:lnTo>
                        <a:pt x="268" y="902"/>
                      </a:lnTo>
                      <a:lnTo>
                        <a:pt x="233" y="902"/>
                      </a:lnTo>
                      <a:lnTo>
                        <a:pt x="226" y="902"/>
                      </a:lnTo>
                      <a:lnTo>
                        <a:pt x="192" y="895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78" y="895"/>
                      </a:lnTo>
                      <a:lnTo>
                        <a:pt x="178" y="895"/>
                      </a:lnTo>
                      <a:lnTo>
                        <a:pt x="178" y="895"/>
                      </a:lnTo>
                      <a:lnTo>
                        <a:pt x="178" y="888"/>
                      </a:lnTo>
                      <a:lnTo>
                        <a:pt x="178" y="888"/>
                      </a:lnTo>
                      <a:lnTo>
                        <a:pt x="178" y="888"/>
                      </a:lnTo>
                      <a:lnTo>
                        <a:pt x="172" y="888"/>
                      </a:lnTo>
                      <a:lnTo>
                        <a:pt x="172" y="888"/>
                      </a:lnTo>
                      <a:lnTo>
                        <a:pt x="172" y="888"/>
                      </a:lnTo>
                      <a:lnTo>
                        <a:pt x="165" y="888"/>
                      </a:lnTo>
                      <a:lnTo>
                        <a:pt x="165" y="888"/>
                      </a:lnTo>
                      <a:lnTo>
                        <a:pt x="165" y="888"/>
                      </a:lnTo>
                      <a:lnTo>
                        <a:pt x="165" y="888"/>
                      </a:lnTo>
                      <a:lnTo>
                        <a:pt x="158" y="888"/>
                      </a:lnTo>
                      <a:lnTo>
                        <a:pt x="158" y="888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68"/>
                      </a:lnTo>
                      <a:lnTo>
                        <a:pt x="158" y="868"/>
                      </a:lnTo>
                      <a:lnTo>
                        <a:pt x="151" y="868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37" y="861"/>
                      </a:lnTo>
                      <a:lnTo>
                        <a:pt x="137" y="861"/>
                      </a:lnTo>
                      <a:lnTo>
                        <a:pt x="137" y="861"/>
                      </a:lnTo>
                      <a:lnTo>
                        <a:pt x="137" y="861"/>
                      </a:lnTo>
                      <a:lnTo>
                        <a:pt x="137" y="861"/>
                      </a:lnTo>
                      <a:lnTo>
                        <a:pt x="130" y="854"/>
                      </a:lnTo>
                      <a:lnTo>
                        <a:pt x="130" y="854"/>
                      </a:lnTo>
                      <a:lnTo>
                        <a:pt x="130" y="854"/>
                      </a:lnTo>
                      <a:lnTo>
                        <a:pt x="124" y="854"/>
                      </a:lnTo>
                      <a:lnTo>
                        <a:pt x="130" y="854"/>
                      </a:lnTo>
                      <a:lnTo>
                        <a:pt x="124" y="854"/>
                      </a:lnTo>
                      <a:lnTo>
                        <a:pt x="124" y="847"/>
                      </a:lnTo>
                      <a:lnTo>
                        <a:pt x="124" y="847"/>
                      </a:lnTo>
                      <a:lnTo>
                        <a:pt x="124" y="847"/>
                      </a:lnTo>
                      <a:lnTo>
                        <a:pt x="124" y="847"/>
                      </a:lnTo>
                      <a:lnTo>
                        <a:pt x="117" y="847"/>
                      </a:lnTo>
                      <a:lnTo>
                        <a:pt x="117" y="847"/>
                      </a:lnTo>
                      <a:lnTo>
                        <a:pt x="110" y="847"/>
                      </a:lnTo>
                      <a:lnTo>
                        <a:pt x="110" y="847"/>
                      </a:lnTo>
                      <a:lnTo>
                        <a:pt x="110" y="840"/>
                      </a:lnTo>
                      <a:lnTo>
                        <a:pt x="110" y="840"/>
                      </a:lnTo>
                      <a:lnTo>
                        <a:pt x="110" y="840"/>
                      </a:lnTo>
                      <a:lnTo>
                        <a:pt x="110" y="840"/>
                      </a:lnTo>
                      <a:lnTo>
                        <a:pt x="110" y="833"/>
                      </a:lnTo>
                      <a:lnTo>
                        <a:pt x="110" y="833"/>
                      </a:lnTo>
                      <a:lnTo>
                        <a:pt x="110" y="833"/>
                      </a:lnTo>
                      <a:lnTo>
                        <a:pt x="110" y="833"/>
                      </a:lnTo>
                      <a:lnTo>
                        <a:pt x="110" y="833"/>
                      </a:lnTo>
                      <a:lnTo>
                        <a:pt x="110" y="826"/>
                      </a:lnTo>
                      <a:lnTo>
                        <a:pt x="110" y="826"/>
                      </a:lnTo>
                      <a:lnTo>
                        <a:pt x="110" y="826"/>
                      </a:lnTo>
                      <a:lnTo>
                        <a:pt x="110" y="826"/>
                      </a:lnTo>
                      <a:lnTo>
                        <a:pt x="110" y="826"/>
                      </a:lnTo>
                      <a:lnTo>
                        <a:pt x="103" y="826"/>
                      </a:lnTo>
                      <a:lnTo>
                        <a:pt x="110" y="826"/>
                      </a:lnTo>
                      <a:lnTo>
                        <a:pt x="110" y="819"/>
                      </a:lnTo>
                      <a:lnTo>
                        <a:pt x="103" y="819"/>
                      </a:lnTo>
                      <a:lnTo>
                        <a:pt x="103" y="819"/>
                      </a:lnTo>
                      <a:lnTo>
                        <a:pt x="103" y="819"/>
                      </a:lnTo>
                      <a:lnTo>
                        <a:pt x="103" y="812"/>
                      </a:lnTo>
                      <a:lnTo>
                        <a:pt x="103" y="812"/>
                      </a:lnTo>
                      <a:lnTo>
                        <a:pt x="103" y="812"/>
                      </a:lnTo>
                      <a:lnTo>
                        <a:pt x="103" y="812"/>
                      </a:lnTo>
                      <a:lnTo>
                        <a:pt x="103" y="805"/>
                      </a:lnTo>
                      <a:lnTo>
                        <a:pt x="103" y="805"/>
                      </a:lnTo>
                      <a:lnTo>
                        <a:pt x="110" y="805"/>
                      </a:lnTo>
                      <a:lnTo>
                        <a:pt x="110" y="805"/>
                      </a:lnTo>
                      <a:lnTo>
                        <a:pt x="110" y="798"/>
                      </a:lnTo>
                      <a:lnTo>
                        <a:pt x="103" y="798"/>
                      </a:lnTo>
                      <a:lnTo>
                        <a:pt x="103" y="798"/>
                      </a:lnTo>
                      <a:lnTo>
                        <a:pt x="103" y="798"/>
                      </a:lnTo>
                      <a:lnTo>
                        <a:pt x="103" y="798"/>
                      </a:lnTo>
                      <a:lnTo>
                        <a:pt x="103" y="798"/>
                      </a:lnTo>
                      <a:lnTo>
                        <a:pt x="103" y="791"/>
                      </a:lnTo>
                      <a:lnTo>
                        <a:pt x="96" y="784"/>
                      </a:lnTo>
                      <a:lnTo>
                        <a:pt x="96" y="784"/>
                      </a:lnTo>
                      <a:lnTo>
                        <a:pt x="89" y="777"/>
                      </a:lnTo>
                      <a:lnTo>
                        <a:pt x="89" y="777"/>
                      </a:lnTo>
                      <a:lnTo>
                        <a:pt x="89" y="770"/>
                      </a:lnTo>
                      <a:lnTo>
                        <a:pt x="89" y="770"/>
                      </a:lnTo>
                      <a:lnTo>
                        <a:pt x="89" y="763"/>
                      </a:lnTo>
                      <a:lnTo>
                        <a:pt x="89" y="763"/>
                      </a:lnTo>
                      <a:lnTo>
                        <a:pt x="89" y="757"/>
                      </a:lnTo>
                      <a:lnTo>
                        <a:pt x="82" y="757"/>
                      </a:lnTo>
                      <a:lnTo>
                        <a:pt x="82" y="757"/>
                      </a:lnTo>
                      <a:lnTo>
                        <a:pt x="82" y="757"/>
                      </a:lnTo>
                      <a:lnTo>
                        <a:pt x="82" y="750"/>
                      </a:lnTo>
                      <a:lnTo>
                        <a:pt x="82" y="750"/>
                      </a:lnTo>
                      <a:lnTo>
                        <a:pt x="82" y="750"/>
                      </a:lnTo>
                      <a:lnTo>
                        <a:pt x="82" y="743"/>
                      </a:lnTo>
                      <a:lnTo>
                        <a:pt x="75" y="736"/>
                      </a:lnTo>
                      <a:lnTo>
                        <a:pt x="75" y="736"/>
                      </a:lnTo>
                      <a:lnTo>
                        <a:pt x="75" y="736"/>
                      </a:lnTo>
                      <a:lnTo>
                        <a:pt x="75" y="729"/>
                      </a:lnTo>
                      <a:lnTo>
                        <a:pt x="69" y="729"/>
                      </a:lnTo>
                      <a:lnTo>
                        <a:pt x="69" y="729"/>
                      </a:lnTo>
                      <a:lnTo>
                        <a:pt x="62" y="729"/>
                      </a:lnTo>
                      <a:lnTo>
                        <a:pt x="62" y="722"/>
                      </a:lnTo>
                      <a:lnTo>
                        <a:pt x="62" y="722"/>
                      </a:lnTo>
                      <a:lnTo>
                        <a:pt x="62" y="722"/>
                      </a:lnTo>
                      <a:lnTo>
                        <a:pt x="62" y="715"/>
                      </a:lnTo>
                      <a:lnTo>
                        <a:pt x="62" y="715"/>
                      </a:lnTo>
                      <a:lnTo>
                        <a:pt x="62" y="708"/>
                      </a:lnTo>
                      <a:lnTo>
                        <a:pt x="62" y="708"/>
                      </a:lnTo>
                      <a:lnTo>
                        <a:pt x="62" y="708"/>
                      </a:lnTo>
                      <a:lnTo>
                        <a:pt x="62" y="708"/>
                      </a:lnTo>
                      <a:lnTo>
                        <a:pt x="55" y="708"/>
                      </a:lnTo>
                      <a:lnTo>
                        <a:pt x="55" y="708"/>
                      </a:lnTo>
                      <a:lnTo>
                        <a:pt x="55" y="708"/>
                      </a:lnTo>
                      <a:lnTo>
                        <a:pt x="55" y="701"/>
                      </a:lnTo>
                      <a:lnTo>
                        <a:pt x="48" y="701"/>
                      </a:lnTo>
                      <a:lnTo>
                        <a:pt x="48" y="694"/>
                      </a:lnTo>
                      <a:lnTo>
                        <a:pt x="48" y="694"/>
                      </a:lnTo>
                      <a:lnTo>
                        <a:pt x="48" y="694"/>
                      </a:lnTo>
                      <a:lnTo>
                        <a:pt x="41" y="694"/>
                      </a:lnTo>
                      <a:lnTo>
                        <a:pt x="41" y="694"/>
                      </a:lnTo>
                      <a:lnTo>
                        <a:pt x="41" y="687"/>
                      </a:lnTo>
                      <a:lnTo>
                        <a:pt x="41" y="687"/>
                      </a:lnTo>
                      <a:lnTo>
                        <a:pt x="41" y="680"/>
                      </a:lnTo>
                      <a:lnTo>
                        <a:pt x="34" y="680"/>
                      </a:lnTo>
                      <a:lnTo>
                        <a:pt x="41" y="673"/>
                      </a:lnTo>
                      <a:lnTo>
                        <a:pt x="41" y="673"/>
                      </a:lnTo>
                      <a:lnTo>
                        <a:pt x="41" y="666"/>
                      </a:lnTo>
                      <a:lnTo>
                        <a:pt x="41" y="666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2"/>
                      </a:lnTo>
                      <a:lnTo>
                        <a:pt x="48" y="652"/>
                      </a:lnTo>
                      <a:lnTo>
                        <a:pt x="55" y="652"/>
                      </a:lnTo>
                      <a:lnTo>
                        <a:pt x="55" y="652"/>
                      </a:lnTo>
                      <a:lnTo>
                        <a:pt x="55" y="652"/>
                      </a:lnTo>
                      <a:lnTo>
                        <a:pt x="55" y="652"/>
                      </a:lnTo>
                      <a:lnTo>
                        <a:pt x="55" y="652"/>
                      </a:lnTo>
                      <a:lnTo>
                        <a:pt x="89" y="576"/>
                      </a:lnTo>
                      <a:lnTo>
                        <a:pt x="103" y="548"/>
                      </a:lnTo>
                      <a:lnTo>
                        <a:pt x="110" y="535"/>
                      </a:lnTo>
                      <a:lnTo>
                        <a:pt x="117" y="521"/>
                      </a:lnTo>
                      <a:lnTo>
                        <a:pt x="144" y="472"/>
                      </a:lnTo>
                      <a:lnTo>
                        <a:pt x="158" y="424"/>
                      </a:lnTo>
                      <a:lnTo>
                        <a:pt x="165" y="417"/>
                      </a:lnTo>
                      <a:lnTo>
                        <a:pt x="172" y="410"/>
                      </a:lnTo>
                      <a:lnTo>
                        <a:pt x="172" y="403"/>
                      </a:lnTo>
                      <a:lnTo>
                        <a:pt x="178" y="389"/>
                      </a:lnTo>
                      <a:lnTo>
                        <a:pt x="185" y="382"/>
                      </a:lnTo>
                      <a:lnTo>
                        <a:pt x="185" y="382"/>
                      </a:lnTo>
                      <a:lnTo>
                        <a:pt x="192" y="361"/>
                      </a:lnTo>
                      <a:lnTo>
                        <a:pt x="199" y="347"/>
                      </a:lnTo>
                      <a:lnTo>
                        <a:pt x="199" y="340"/>
                      </a:lnTo>
                      <a:lnTo>
                        <a:pt x="206" y="326"/>
                      </a:lnTo>
                      <a:lnTo>
                        <a:pt x="213" y="319"/>
                      </a:lnTo>
                      <a:lnTo>
                        <a:pt x="213" y="313"/>
                      </a:lnTo>
                      <a:lnTo>
                        <a:pt x="213" y="313"/>
                      </a:lnTo>
                      <a:lnTo>
                        <a:pt x="213" y="313"/>
                      </a:lnTo>
                      <a:lnTo>
                        <a:pt x="213" y="313"/>
                      </a:lnTo>
                      <a:lnTo>
                        <a:pt x="206" y="313"/>
                      </a:lnTo>
                      <a:lnTo>
                        <a:pt x="206" y="313"/>
                      </a:lnTo>
                      <a:lnTo>
                        <a:pt x="213" y="306"/>
                      </a:lnTo>
                      <a:lnTo>
                        <a:pt x="213" y="306"/>
                      </a:lnTo>
                      <a:lnTo>
                        <a:pt x="213" y="306"/>
                      </a:lnTo>
                      <a:lnTo>
                        <a:pt x="213" y="299"/>
                      </a:lnTo>
                      <a:lnTo>
                        <a:pt x="213" y="299"/>
                      </a:lnTo>
                      <a:lnTo>
                        <a:pt x="213" y="299"/>
                      </a:lnTo>
                      <a:lnTo>
                        <a:pt x="220" y="299"/>
                      </a:lnTo>
                      <a:lnTo>
                        <a:pt x="220" y="299"/>
                      </a:lnTo>
                      <a:lnTo>
                        <a:pt x="226" y="292"/>
                      </a:lnTo>
                      <a:lnTo>
                        <a:pt x="226" y="292"/>
                      </a:lnTo>
                      <a:lnTo>
                        <a:pt x="233" y="292"/>
                      </a:lnTo>
                      <a:lnTo>
                        <a:pt x="233" y="285"/>
                      </a:lnTo>
                      <a:lnTo>
                        <a:pt x="233" y="285"/>
                      </a:lnTo>
                      <a:lnTo>
                        <a:pt x="240" y="278"/>
                      </a:lnTo>
                      <a:lnTo>
                        <a:pt x="240" y="278"/>
                      </a:lnTo>
                      <a:lnTo>
                        <a:pt x="240" y="278"/>
                      </a:lnTo>
                      <a:lnTo>
                        <a:pt x="233" y="278"/>
                      </a:lnTo>
                      <a:lnTo>
                        <a:pt x="233" y="278"/>
                      </a:lnTo>
                      <a:lnTo>
                        <a:pt x="233" y="278"/>
                      </a:lnTo>
                      <a:lnTo>
                        <a:pt x="233" y="278"/>
                      </a:lnTo>
                      <a:lnTo>
                        <a:pt x="226" y="278"/>
                      </a:lnTo>
                      <a:lnTo>
                        <a:pt x="226" y="278"/>
                      </a:lnTo>
                      <a:lnTo>
                        <a:pt x="226" y="285"/>
                      </a:lnTo>
                      <a:lnTo>
                        <a:pt x="226" y="285"/>
                      </a:lnTo>
                      <a:lnTo>
                        <a:pt x="220" y="285"/>
                      </a:lnTo>
                      <a:lnTo>
                        <a:pt x="220" y="285"/>
                      </a:lnTo>
                      <a:lnTo>
                        <a:pt x="220" y="285"/>
                      </a:lnTo>
                      <a:lnTo>
                        <a:pt x="220" y="285"/>
                      </a:lnTo>
                      <a:lnTo>
                        <a:pt x="220" y="285"/>
                      </a:lnTo>
                      <a:lnTo>
                        <a:pt x="213" y="285"/>
                      </a:lnTo>
                      <a:lnTo>
                        <a:pt x="213" y="285"/>
                      </a:lnTo>
                      <a:lnTo>
                        <a:pt x="213" y="285"/>
                      </a:lnTo>
                      <a:lnTo>
                        <a:pt x="213" y="292"/>
                      </a:lnTo>
                      <a:lnTo>
                        <a:pt x="213" y="292"/>
                      </a:lnTo>
                      <a:lnTo>
                        <a:pt x="213" y="285"/>
                      </a:lnTo>
                      <a:lnTo>
                        <a:pt x="206" y="285"/>
                      </a:lnTo>
                      <a:lnTo>
                        <a:pt x="206" y="285"/>
                      </a:lnTo>
                      <a:lnTo>
                        <a:pt x="206" y="292"/>
                      </a:lnTo>
                      <a:lnTo>
                        <a:pt x="206" y="285"/>
                      </a:lnTo>
                      <a:lnTo>
                        <a:pt x="206" y="285"/>
                      </a:lnTo>
                      <a:lnTo>
                        <a:pt x="199" y="285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2" y="292"/>
                      </a:lnTo>
                      <a:lnTo>
                        <a:pt x="192" y="292"/>
                      </a:lnTo>
                      <a:lnTo>
                        <a:pt x="192" y="292"/>
                      </a:lnTo>
                      <a:lnTo>
                        <a:pt x="192" y="292"/>
                      </a:lnTo>
                      <a:lnTo>
                        <a:pt x="192" y="292"/>
                      </a:lnTo>
                      <a:lnTo>
                        <a:pt x="185" y="292"/>
                      </a:lnTo>
                      <a:lnTo>
                        <a:pt x="185" y="292"/>
                      </a:lnTo>
                      <a:lnTo>
                        <a:pt x="185" y="292"/>
                      </a:lnTo>
                      <a:lnTo>
                        <a:pt x="185" y="292"/>
                      </a:lnTo>
                      <a:lnTo>
                        <a:pt x="185" y="292"/>
                      </a:lnTo>
                      <a:lnTo>
                        <a:pt x="185" y="285"/>
                      </a:lnTo>
                      <a:lnTo>
                        <a:pt x="185" y="285"/>
                      </a:lnTo>
                      <a:lnTo>
                        <a:pt x="185" y="285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78" y="278"/>
                      </a:lnTo>
                      <a:lnTo>
                        <a:pt x="178" y="278"/>
                      </a:lnTo>
                      <a:lnTo>
                        <a:pt x="178" y="278"/>
                      </a:lnTo>
                      <a:lnTo>
                        <a:pt x="172" y="278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0"/>
                      </a:lnTo>
                      <a:lnTo>
                        <a:pt x="151" y="250"/>
                      </a:lnTo>
                      <a:lnTo>
                        <a:pt x="151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37" y="250"/>
                      </a:lnTo>
                      <a:lnTo>
                        <a:pt x="137" y="250"/>
                      </a:lnTo>
                      <a:lnTo>
                        <a:pt x="137" y="250"/>
                      </a:lnTo>
                      <a:lnTo>
                        <a:pt x="137" y="250"/>
                      </a:lnTo>
                      <a:lnTo>
                        <a:pt x="137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43"/>
                      </a:lnTo>
                      <a:lnTo>
                        <a:pt x="124" y="250"/>
                      </a:lnTo>
                      <a:lnTo>
                        <a:pt x="124" y="250"/>
                      </a:lnTo>
                      <a:lnTo>
                        <a:pt x="124" y="250"/>
                      </a:lnTo>
                      <a:lnTo>
                        <a:pt x="124" y="243"/>
                      </a:lnTo>
                      <a:lnTo>
                        <a:pt x="124" y="250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43"/>
                      </a:lnTo>
                      <a:lnTo>
                        <a:pt x="110" y="236"/>
                      </a:lnTo>
                      <a:lnTo>
                        <a:pt x="103" y="243"/>
                      </a:lnTo>
                      <a:lnTo>
                        <a:pt x="103" y="236"/>
                      </a:lnTo>
                      <a:lnTo>
                        <a:pt x="103" y="236"/>
                      </a:lnTo>
                      <a:lnTo>
                        <a:pt x="103" y="236"/>
                      </a:lnTo>
                      <a:lnTo>
                        <a:pt x="103" y="236"/>
                      </a:lnTo>
                      <a:lnTo>
                        <a:pt x="103" y="236"/>
                      </a:lnTo>
                      <a:lnTo>
                        <a:pt x="103" y="229"/>
                      </a:lnTo>
                      <a:lnTo>
                        <a:pt x="103" y="236"/>
                      </a:lnTo>
                      <a:lnTo>
                        <a:pt x="103" y="229"/>
                      </a:lnTo>
                      <a:lnTo>
                        <a:pt x="96" y="229"/>
                      </a:lnTo>
                      <a:lnTo>
                        <a:pt x="96" y="236"/>
                      </a:lnTo>
                      <a:lnTo>
                        <a:pt x="96" y="236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89" y="229"/>
                      </a:lnTo>
                      <a:lnTo>
                        <a:pt x="89" y="229"/>
                      </a:lnTo>
                      <a:lnTo>
                        <a:pt x="89" y="229"/>
                      </a:lnTo>
                      <a:lnTo>
                        <a:pt x="89" y="229"/>
                      </a:lnTo>
                      <a:lnTo>
                        <a:pt x="89" y="229"/>
                      </a:lnTo>
                      <a:lnTo>
                        <a:pt x="82" y="229"/>
                      </a:lnTo>
                      <a:lnTo>
                        <a:pt x="82" y="229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75" y="222"/>
                      </a:lnTo>
                      <a:lnTo>
                        <a:pt x="75" y="215"/>
                      </a:lnTo>
                      <a:lnTo>
                        <a:pt x="75" y="215"/>
                      </a:lnTo>
                      <a:lnTo>
                        <a:pt x="82" y="215"/>
                      </a:lnTo>
                      <a:lnTo>
                        <a:pt x="82" y="215"/>
                      </a:lnTo>
                      <a:lnTo>
                        <a:pt x="82" y="209"/>
                      </a:lnTo>
                      <a:lnTo>
                        <a:pt x="82" y="209"/>
                      </a:lnTo>
                      <a:lnTo>
                        <a:pt x="82" y="209"/>
                      </a:lnTo>
                      <a:lnTo>
                        <a:pt x="82" y="209"/>
                      </a:lnTo>
                      <a:lnTo>
                        <a:pt x="82" y="202"/>
                      </a:lnTo>
                      <a:lnTo>
                        <a:pt x="82" y="202"/>
                      </a:lnTo>
                      <a:lnTo>
                        <a:pt x="75" y="202"/>
                      </a:lnTo>
                      <a:lnTo>
                        <a:pt x="75" y="202"/>
                      </a:lnTo>
                      <a:lnTo>
                        <a:pt x="75" y="202"/>
                      </a:lnTo>
                      <a:lnTo>
                        <a:pt x="75" y="202"/>
                      </a:lnTo>
                      <a:lnTo>
                        <a:pt x="75" y="202"/>
                      </a:lnTo>
                      <a:lnTo>
                        <a:pt x="69" y="202"/>
                      </a:lnTo>
                      <a:lnTo>
                        <a:pt x="69" y="202"/>
                      </a:lnTo>
                      <a:lnTo>
                        <a:pt x="69" y="202"/>
                      </a:lnTo>
                      <a:lnTo>
                        <a:pt x="69" y="202"/>
                      </a:lnTo>
                      <a:lnTo>
                        <a:pt x="69" y="202"/>
                      </a:lnTo>
                      <a:lnTo>
                        <a:pt x="69" y="209"/>
                      </a:lnTo>
                      <a:lnTo>
                        <a:pt x="69" y="209"/>
                      </a:lnTo>
                      <a:lnTo>
                        <a:pt x="62" y="209"/>
                      </a:lnTo>
                      <a:lnTo>
                        <a:pt x="62" y="209"/>
                      </a:lnTo>
                      <a:lnTo>
                        <a:pt x="62" y="209"/>
                      </a:lnTo>
                      <a:lnTo>
                        <a:pt x="62" y="209"/>
                      </a:lnTo>
                      <a:lnTo>
                        <a:pt x="62" y="202"/>
                      </a:lnTo>
                      <a:lnTo>
                        <a:pt x="55" y="202"/>
                      </a:lnTo>
                      <a:lnTo>
                        <a:pt x="55" y="202"/>
                      </a:lnTo>
                      <a:lnTo>
                        <a:pt x="55" y="202"/>
                      </a:lnTo>
                      <a:lnTo>
                        <a:pt x="55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195"/>
                      </a:lnTo>
                      <a:lnTo>
                        <a:pt x="48" y="195"/>
                      </a:lnTo>
                      <a:lnTo>
                        <a:pt x="48" y="195"/>
                      </a:lnTo>
                      <a:lnTo>
                        <a:pt x="41" y="195"/>
                      </a:lnTo>
                      <a:lnTo>
                        <a:pt x="41" y="195"/>
                      </a:lnTo>
                      <a:lnTo>
                        <a:pt x="41" y="195"/>
                      </a:lnTo>
                      <a:lnTo>
                        <a:pt x="41" y="195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34" y="181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14" y="160"/>
                      </a:lnTo>
                      <a:lnTo>
                        <a:pt x="14" y="160"/>
                      </a:lnTo>
                      <a:lnTo>
                        <a:pt x="14" y="160"/>
                      </a:lnTo>
                      <a:lnTo>
                        <a:pt x="14" y="153"/>
                      </a:lnTo>
                      <a:lnTo>
                        <a:pt x="14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46"/>
                      </a:lnTo>
                      <a:lnTo>
                        <a:pt x="14" y="146"/>
                      </a:lnTo>
                      <a:lnTo>
                        <a:pt x="14" y="146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0" y="104"/>
                      </a:lnTo>
                      <a:lnTo>
                        <a:pt x="0" y="8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018400" y="29671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104080" y="29754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104080" y="297540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104080" y="2975400"/>
                  <a:ext cx="1080" cy="720"/>
                </a:xfrm>
                <a:prstGeom prst="rect">
                  <a:avLst/>
                </a:prstGeom>
                <a:solidFill>
                  <a:srgbClr val="ffaa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157000" y="29836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157000" y="298368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64560" y="2999880"/>
                  <a:ext cx="1080" cy="1080"/>
                </a:xfrm>
                <a:prstGeom prst="rect">
                  <a:avLst/>
                </a:prstGeom>
                <a:solidFill>
                  <a:srgbClr val="ffaa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64560" y="299988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173560" y="29919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182200" y="299988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173560" y="299988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190840" y="299988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199840" y="299988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208480" y="30081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274280" y="2461320"/>
                  <a:ext cx="527400" cy="563400"/>
                </a:xfrm>
                <a:custGeom>
                  <a:avLst/>
                  <a:gdLst/>
                  <a:ahLst/>
                  <a:rect l="l" t="t" r="r" b="b"/>
                  <a:pathLst>
                    <a:path w="419" h="479">
                      <a:moveTo>
                        <a:pt x="0" y="166"/>
                      </a:moveTo>
                      <a:lnTo>
                        <a:pt x="7" y="166"/>
                      </a:lnTo>
                      <a:lnTo>
                        <a:pt x="7" y="166"/>
                      </a:lnTo>
                      <a:lnTo>
                        <a:pt x="14" y="166"/>
                      </a:lnTo>
                      <a:lnTo>
                        <a:pt x="14" y="173"/>
                      </a:lnTo>
                      <a:lnTo>
                        <a:pt x="14" y="180"/>
                      </a:lnTo>
                      <a:lnTo>
                        <a:pt x="21" y="180"/>
                      </a:lnTo>
                      <a:lnTo>
                        <a:pt x="35" y="187"/>
                      </a:lnTo>
                      <a:lnTo>
                        <a:pt x="55" y="194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0"/>
                      </a:lnTo>
                      <a:lnTo>
                        <a:pt x="76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10" y="180"/>
                      </a:lnTo>
                      <a:lnTo>
                        <a:pt x="110" y="180"/>
                      </a:lnTo>
                      <a:lnTo>
                        <a:pt x="110" y="180"/>
                      </a:lnTo>
                      <a:lnTo>
                        <a:pt x="110" y="180"/>
                      </a:lnTo>
                      <a:lnTo>
                        <a:pt x="110" y="187"/>
                      </a:lnTo>
                      <a:lnTo>
                        <a:pt x="110" y="187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7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73"/>
                      </a:lnTo>
                      <a:lnTo>
                        <a:pt x="131" y="173"/>
                      </a:lnTo>
                      <a:lnTo>
                        <a:pt x="131" y="173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1" y="187"/>
                      </a:lnTo>
                      <a:lnTo>
                        <a:pt x="138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65" y="194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86" y="173"/>
                      </a:lnTo>
                      <a:lnTo>
                        <a:pt x="186" y="173"/>
                      </a:lnTo>
                      <a:lnTo>
                        <a:pt x="186" y="173"/>
                      </a:lnTo>
                      <a:lnTo>
                        <a:pt x="186" y="173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9" y="159"/>
                      </a:lnTo>
                      <a:lnTo>
                        <a:pt x="199" y="159"/>
                      </a:lnTo>
                      <a:lnTo>
                        <a:pt x="199" y="159"/>
                      </a:lnTo>
                      <a:lnTo>
                        <a:pt x="199" y="152"/>
                      </a:lnTo>
                      <a:lnTo>
                        <a:pt x="192" y="152"/>
                      </a:lnTo>
                      <a:lnTo>
                        <a:pt x="199" y="152"/>
                      </a:lnTo>
                      <a:lnTo>
                        <a:pt x="192" y="152"/>
                      </a:lnTo>
                      <a:lnTo>
                        <a:pt x="192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46"/>
                      </a:lnTo>
                      <a:lnTo>
                        <a:pt x="199" y="146"/>
                      </a:lnTo>
                      <a:lnTo>
                        <a:pt x="199" y="146"/>
                      </a:lnTo>
                      <a:lnTo>
                        <a:pt x="199" y="146"/>
                      </a:lnTo>
                      <a:lnTo>
                        <a:pt x="199" y="146"/>
                      </a:lnTo>
                      <a:lnTo>
                        <a:pt x="199" y="139"/>
                      </a:lnTo>
                      <a:lnTo>
                        <a:pt x="199" y="139"/>
                      </a:lnTo>
                      <a:lnTo>
                        <a:pt x="199" y="139"/>
                      </a:lnTo>
                      <a:lnTo>
                        <a:pt x="206" y="139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25"/>
                      </a:lnTo>
                      <a:lnTo>
                        <a:pt x="206" y="125"/>
                      </a:lnTo>
                      <a:lnTo>
                        <a:pt x="206" y="125"/>
                      </a:lnTo>
                      <a:lnTo>
                        <a:pt x="206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04"/>
                      </a:lnTo>
                      <a:lnTo>
                        <a:pt x="213" y="104"/>
                      </a:lnTo>
                      <a:lnTo>
                        <a:pt x="213" y="104"/>
                      </a:lnTo>
                      <a:lnTo>
                        <a:pt x="213" y="104"/>
                      </a:lnTo>
                      <a:lnTo>
                        <a:pt x="220" y="104"/>
                      </a:lnTo>
                      <a:lnTo>
                        <a:pt x="220" y="104"/>
                      </a:lnTo>
                      <a:lnTo>
                        <a:pt x="220" y="104"/>
                      </a:lnTo>
                      <a:lnTo>
                        <a:pt x="220" y="104"/>
                      </a:lnTo>
                      <a:lnTo>
                        <a:pt x="220" y="97"/>
                      </a:lnTo>
                      <a:lnTo>
                        <a:pt x="220" y="97"/>
                      </a:lnTo>
                      <a:lnTo>
                        <a:pt x="220" y="104"/>
                      </a:lnTo>
                      <a:lnTo>
                        <a:pt x="220" y="104"/>
                      </a:lnTo>
                      <a:lnTo>
                        <a:pt x="220" y="97"/>
                      </a:lnTo>
                      <a:lnTo>
                        <a:pt x="227" y="97"/>
                      </a:lnTo>
                      <a:lnTo>
                        <a:pt x="227" y="97"/>
                      </a:lnTo>
                      <a:lnTo>
                        <a:pt x="227" y="97"/>
                      </a:lnTo>
                      <a:lnTo>
                        <a:pt x="227" y="90"/>
                      </a:lnTo>
                      <a:lnTo>
                        <a:pt x="227" y="90"/>
                      </a:lnTo>
                      <a:lnTo>
                        <a:pt x="234" y="83"/>
                      </a:lnTo>
                      <a:lnTo>
                        <a:pt x="234" y="83"/>
                      </a:lnTo>
                      <a:lnTo>
                        <a:pt x="234" y="76"/>
                      </a:lnTo>
                      <a:lnTo>
                        <a:pt x="234" y="76"/>
                      </a:lnTo>
                      <a:lnTo>
                        <a:pt x="234" y="76"/>
                      </a:lnTo>
                      <a:lnTo>
                        <a:pt x="234" y="76"/>
                      </a:lnTo>
                      <a:lnTo>
                        <a:pt x="234" y="76"/>
                      </a:lnTo>
                      <a:lnTo>
                        <a:pt x="241" y="69"/>
                      </a:lnTo>
                      <a:lnTo>
                        <a:pt x="241" y="69"/>
                      </a:lnTo>
                      <a:lnTo>
                        <a:pt x="241" y="69"/>
                      </a:lnTo>
                      <a:lnTo>
                        <a:pt x="241" y="62"/>
                      </a:lnTo>
                      <a:lnTo>
                        <a:pt x="241" y="62"/>
                      </a:lnTo>
                      <a:lnTo>
                        <a:pt x="241" y="62"/>
                      </a:lnTo>
                      <a:lnTo>
                        <a:pt x="241" y="62"/>
                      </a:lnTo>
                      <a:lnTo>
                        <a:pt x="247" y="62"/>
                      </a:lnTo>
                      <a:lnTo>
                        <a:pt x="247" y="62"/>
                      </a:lnTo>
                      <a:lnTo>
                        <a:pt x="247" y="55"/>
                      </a:lnTo>
                      <a:lnTo>
                        <a:pt x="247" y="55"/>
                      </a:lnTo>
                      <a:lnTo>
                        <a:pt x="247" y="55"/>
                      </a:lnTo>
                      <a:lnTo>
                        <a:pt x="247" y="55"/>
                      </a:lnTo>
                      <a:lnTo>
                        <a:pt x="254" y="55"/>
                      </a:lnTo>
                      <a:lnTo>
                        <a:pt x="254" y="55"/>
                      </a:lnTo>
                      <a:lnTo>
                        <a:pt x="254" y="48"/>
                      </a:lnTo>
                      <a:lnTo>
                        <a:pt x="254" y="48"/>
                      </a:lnTo>
                      <a:lnTo>
                        <a:pt x="254" y="48"/>
                      </a:lnTo>
                      <a:lnTo>
                        <a:pt x="254" y="48"/>
                      </a:lnTo>
                      <a:lnTo>
                        <a:pt x="261" y="48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35"/>
                      </a:lnTo>
                      <a:lnTo>
                        <a:pt x="268" y="35"/>
                      </a:lnTo>
                      <a:lnTo>
                        <a:pt x="268" y="35"/>
                      </a:lnTo>
                      <a:lnTo>
                        <a:pt x="268" y="35"/>
                      </a:lnTo>
                      <a:lnTo>
                        <a:pt x="268" y="35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28"/>
                      </a:lnTo>
                      <a:lnTo>
                        <a:pt x="275" y="28"/>
                      </a:lnTo>
                      <a:lnTo>
                        <a:pt x="275" y="28"/>
                      </a:lnTo>
                      <a:lnTo>
                        <a:pt x="275" y="21"/>
                      </a:lnTo>
                      <a:lnTo>
                        <a:pt x="275" y="21"/>
                      </a:lnTo>
                      <a:lnTo>
                        <a:pt x="275" y="21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82" y="7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9" y="7"/>
                      </a:lnTo>
                      <a:lnTo>
                        <a:pt x="289" y="7"/>
                      </a:lnTo>
                      <a:lnTo>
                        <a:pt x="295" y="14"/>
                      </a:lnTo>
                      <a:lnTo>
                        <a:pt x="302" y="21"/>
                      </a:lnTo>
                      <a:lnTo>
                        <a:pt x="309" y="21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16" y="41"/>
                      </a:lnTo>
                      <a:lnTo>
                        <a:pt x="316" y="41"/>
                      </a:lnTo>
                      <a:lnTo>
                        <a:pt x="323" y="41"/>
                      </a:lnTo>
                      <a:lnTo>
                        <a:pt x="323" y="48"/>
                      </a:lnTo>
                      <a:lnTo>
                        <a:pt x="323" y="48"/>
                      </a:lnTo>
                      <a:lnTo>
                        <a:pt x="323" y="48"/>
                      </a:lnTo>
                      <a:lnTo>
                        <a:pt x="323" y="55"/>
                      </a:lnTo>
                      <a:lnTo>
                        <a:pt x="323" y="55"/>
                      </a:lnTo>
                      <a:lnTo>
                        <a:pt x="323" y="55"/>
                      </a:lnTo>
                      <a:lnTo>
                        <a:pt x="323" y="55"/>
                      </a:lnTo>
                      <a:lnTo>
                        <a:pt x="323" y="62"/>
                      </a:lnTo>
                      <a:lnTo>
                        <a:pt x="316" y="62"/>
                      </a:lnTo>
                      <a:lnTo>
                        <a:pt x="316" y="62"/>
                      </a:lnTo>
                      <a:lnTo>
                        <a:pt x="316" y="62"/>
                      </a:lnTo>
                      <a:lnTo>
                        <a:pt x="323" y="69"/>
                      </a:lnTo>
                      <a:lnTo>
                        <a:pt x="323" y="76"/>
                      </a:lnTo>
                      <a:lnTo>
                        <a:pt x="323" y="83"/>
                      </a:lnTo>
                      <a:lnTo>
                        <a:pt x="316" y="83"/>
                      </a:lnTo>
                      <a:lnTo>
                        <a:pt x="316" y="83"/>
                      </a:lnTo>
                      <a:lnTo>
                        <a:pt x="323" y="90"/>
                      </a:lnTo>
                      <a:lnTo>
                        <a:pt x="323" y="90"/>
                      </a:lnTo>
                      <a:lnTo>
                        <a:pt x="323" y="104"/>
                      </a:lnTo>
                      <a:lnTo>
                        <a:pt x="323" y="104"/>
                      </a:lnTo>
                      <a:lnTo>
                        <a:pt x="323" y="104"/>
                      </a:lnTo>
                      <a:lnTo>
                        <a:pt x="323" y="111"/>
                      </a:lnTo>
                      <a:lnTo>
                        <a:pt x="323" y="111"/>
                      </a:lnTo>
                      <a:lnTo>
                        <a:pt x="323" y="111"/>
                      </a:lnTo>
                      <a:lnTo>
                        <a:pt x="323" y="111"/>
                      </a:lnTo>
                      <a:lnTo>
                        <a:pt x="323" y="111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30" y="118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32"/>
                      </a:lnTo>
                      <a:lnTo>
                        <a:pt x="330" y="132"/>
                      </a:lnTo>
                      <a:lnTo>
                        <a:pt x="330" y="132"/>
                      </a:lnTo>
                      <a:lnTo>
                        <a:pt x="330" y="132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46"/>
                      </a:lnTo>
                      <a:lnTo>
                        <a:pt x="337" y="146"/>
                      </a:lnTo>
                      <a:lnTo>
                        <a:pt x="337" y="146"/>
                      </a:lnTo>
                      <a:lnTo>
                        <a:pt x="337" y="146"/>
                      </a:lnTo>
                      <a:lnTo>
                        <a:pt x="337" y="146"/>
                      </a:lnTo>
                      <a:lnTo>
                        <a:pt x="337" y="152"/>
                      </a:lnTo>
                      <a:lnTo>
                        <a:pt x="337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37" y="152"/>
                      </a:lnTo>
                      <a:lnTo>
                        <a:pt x="343" y="152"/>
                      </a:lnTo>
                      <a:lnTo>
                        <a:pt x="343" y="159"/>
                      </a:lnTo>
                      <a:lnTo>
                        <a:pt x="343" y="159"/>
                      </a:lnTo>
                      <a:lnTo>
                        <a:pt x="343" y="159"/>
                      </a:lnTo>
                      <a:lnTo>
                        <a:pt x="343" y="166"/>
                      </a:lnTo>
                      <a:lnTo>
                        <a:pt x="337" y="166"/>
                      </a:lnTo>
                      <a:lnTo>
                        <a:pt x="337" y="166"/>
                      </a:lnTo>
                      <a:lnTo>
                        <a:pt x="337" y="166"/>
                      </a:lnTo>
                      <a:lnTo>
                        <a:pt x="337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73"/>
                      </a:lnTo>
                      <a:lnTo>
                        <a:pt x="343" y="173"/>
                      </a:lnTo>
                      <a:lnTo>
                        <a:pt x="343" y="173"/>
                      </a:lnTo>
                      <a:lnTo>
                        <a:pt x="343" y="173"/>
                      </a:lnTo>
                      <a:lnTo>
                        <a:pt x="350" y="173"/>
                      </a:lnTo>
                      <a:lnTo>
                        <a:pt x="350" y="180"/>
                      </a:lnTo>
                      <a:lnTo>
                        <a:pt x="350" y="180"/>
                      </a:lnTo>
                      <a:lnTo>
                        <a:pt x="350" y="180"/>
                      </a:lnTo>
                      <a:lnTo>
                        <a:pt x="350" y="180"/>
                      </a:lnTo>
                      <a:lnTo>
                        <a:pt x="350" y="187"/>
                      </a:lnTo>
                      <a:lnTo>
                        <a:pt x="350" y="187"/>
                      </a:lnTo>
                      <a:lnTo>
                        <a:pt x="350" y="187"/>
                      </a:lnTo>
                      <a:lnTo>
                        <a:pt x="350" y="187"/>
                      </a:lnTo>
                      <a:lnTo>
                        <a:pt x="350" y="187"/>
                      </a:lnTo>
                      <a:lnTo>
                        <a:pt x="350" y="194"/>
                      </a:lnTo>
                      <a:lnTo>
                        <a:pt x="350" y="194"/>
                      </a:lnTo>
                      <a:lnTo>
                        <a:pt x="350" y="194"/>
                      </a:lnTo>
                      <a:lnTo>
                        <a:pt x="350" y="194"/>
                      </a:lnTo>
                      <a:lnTo>
                        <a:pt x="357" y="194"/>
                      </a:lnTo>
                      <a:lnTo>
                        <a:pt x="357" y="194"/>
                      </a:lnTo>
                      <a:lnTo>
                        <a:pt x="364" y="187"/>
                      </a:lnTo>
                      <a:lnTo>
                        <a:pt x="364" y="187"/>
                      </a:lnTo>
                      <a:lnTo>
                        <a:pt x="371" y="187"/>
                      </a:lnTo>
                      <a:lnTo>
                        <a:pt x="371" y="187"/>
                      </a:lnTo>
                      <a:lnTo>
                        <a:pt x="371" y="187"/>
                      </a:lnTo>
                      <a:lnTo>
                        <a:pt x="371" y="187"/>
                      </a:lnTo>
                      <a:lnTo>
                        <a:pt x="378" y="194"/>
                      </a:lnTo>
                      <a:lnTo>
                        <a:pt x="378" y="194"/>
                      </a:lnTo>
                      <a:lnTo>
                        <a:pt x="378" y="194"/>
                      </a:lnTo>
                      <a:lnTo>
                        <a:pt x="378" y="194"/>
                      </a:lnTo>
                      <a:lnTo>
                        <a:pt x="378" y="201"/>
                      </a:lnTo>
                      <a:lnTo>
                        <a:pt x="378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8"/>
                      </a:lnTo>
                      <a:lnTo>
                        <a:pt x="385" y="208"/>
                      </a:lnTo>
                      <a:lnTo>
                        <a:pt x="385" y="208"/>
                      </a:lnTo>
                      <a:lnTo>
                        <a:pt x="385" y="208"/>
                      </a:lnTo>
                      <a:lnTo>
                        <a:pt x="385" y="215"/>
                      </a:lnTo>
                      <a:lnTo>
                        <a:pt x="392" y="222"/>
                      </a:lnTo>
                      <a:lnTo>
                        <a:pt x="398" y="222"/>
                      </a:lnTo>
                      <a:lnTo>
                        <a:pt x="405" y="222"/>
                      </a:lnTo>
                      <a:lnTo>
                        <a:pt x="405" y="222"/>
                      </a:lnTo>
                      <a:lnTo>
                        <a:pt x="405" y="222"/>
                      </a:lnTo>
                      <a:lnTo>
                        <a:pt x="405" y="229"/>
                      </a:lnTo>
                      <a:lnTo>
                        <a:pt x="412" y="229"/>
                      </a:lnTo>
                      <a:lnTo>
                        <a:pt x="419" y="229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43"/>
                      </a:lnTo>
                      <a:lnTo>
                        <a:pt x="419" y="250"/>
                      </a:lnTo>
                      <a:lnTo>
                        <a:pt x="419" y="250"/>
                      </a:lnTo>
                      <a:lnTo>
                        <a:pt x="419" y="257"/>
                      </a:lnTo>
                      <a:lnTo>
                        <a:pt x="419" y="257"/>
                      </a:lnTo>
                      <a:lnTo>
                        <a:pt x="419" y="257"/>
                      </a:lnTo>
                      <a:lnTo>
                        <a:pt x="419" y="263"/>
                      </a:lnTo>
                      <a:lnTo>
                        <a:pt x="419" y="263"/>
                      </a:lnTo>
                      <a:lnTo>
                        <a:pt x="419" y="270"/>
                      </a:lnTo>
                      <a:lnTo>
                        <a:pt x="419" y="270"/>
                      </a:lnTo>
                      <a:lnTo>
                        <a:pt x="419" y="270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84"/>
                      </a:lnTo>
                      <a:lnTo>
                        <a:pt x="419" y="284"/>
                      </a:lnTo>
                      <a:lnTo>
                        <a:pt x="412" y="291"/>
                      </a:lnTo>
                      <a:lnTo>
                        <a:pt x="419" y="291"/>
                      </a:lnTo>
                      <a:lnTo>
                        <a:pt x="419" y="291"/>
                      </a:lnTo>
                      <a:lnTo>
                        <a:pt x="419" y="291"/>
                      </a:lnTo>
                      <a:lnTo>
                        <a:pt x="419" y="291"/>
                      </a:lnTo>
                      <a:lnTo>
                        <a:pt x="412" y="291"/>
                      </a:lnTo>
                      <a:lnTo>
                        <a:pt x="412" y="291"/>
                      </a:lnTo>
                      <a:lnTo>
                        <a:pt x="412" y="298"/>
                      </a:lnTo>
                      <a:lnTo>
                        <a:pt x="412" y="298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9"/>
                      </a:lnTo>
                      <a:lnTo>
                        <a:pt x="398" y="319"/>
                      </a:lnTo>
                      <a:lnTo>
                        <a:pt x="392" y="319"/>
                      </a:lnTo>
                      <a:lnTo>
                        <a:pt x="392" y="319"/>
                      </a:lnTo>
                      <a:lnTo>
                        <a:pt x="392" y="319"/>
                      </a:lnTo>
                      <a:lnTo>
                        <a:pt x="385" y="319"/>
                      </a:lnTo>
                      <a:lnTo>
                        <a:pt x="385" y="319"/>
                      </a:lnTo>
                      <a:lnTo>
                        <a:pt x="378" y="319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33"/>
                      </a:lnTo>
                      <a:lnTo>
                        <a:pt x="371" y="333"/>
                      </a:lnTo>
                      <a:lnTo>
                        <a:pt x="371" y="340"/>
                      </a:lnTo>
                      <a:lnTo>
                        <a:pt x="371" y="340"/>
                      </a:lnTo>
                      <a:lnTo>
                        <a:pt x="364" y="347"/>
                      </a:lnTo>
                      <a:lnTo>
                        <a:pt x="364" y="347"/>
                      </a:lnTo>
                      <a:lnTo>
                        <a:pt x="364" y="347"/>
                      </a:lnTo>
                      <a:lnTo>
                        <a:pt x="364" y="354"/>
                      </a:lnTo>
                      <a:lnTo>
                        <a:pt x="364" y="354"/>
                      </a:lnTo>
                      <a:lnTo>
                        <a:pt x="357" y="354"/>
                      </a:lnTo>
                      <a:lnTo>
                        <a:pt x="357" y="361"/>
                      </a:lnTo>
                      <a:lnTo>
                        <a:pt x="357" y="361"/>
                      </a:lnTo>
                      <a:lnTo>
                        <a:pt x="350" y="368"/>
                      </a:lnTo>
                      <a:lnTo>
                        <a:pt x="343" y="368"/>
                      </a:lnTo>
                      <a:lnTo>
                        <a:pt x="343" y="368"/>
                      </a:lnTo>
                      <a:lnTo>
                        <a:pt x="337" y="368"/>
                      </a:lnTo>
                      <a:lnTo>
                        <a:pt x="337" y="368"/>
                      </a:lnTo>
                      <a:lnTo>
                        <a:pt x="330" y="368"/>
                      </a:lnTo>
                      <a:lnTo>
                        <a:pt x="330" y="374"/>
                      </a:lnTo>
                      <a:lnTo>
                        <a:pt x="330" y="374"/>
                      </a:lnTo>
                      <a:lnTo>
                        <a:pt x="323" y="374"/>
                      </a:lnTo>
                      <a:lnTo>
                        <a:pt x="323" y="374"/>
                      </a:lnTo>
                      <a:lnTo>
                        <a:pt x="323" y="381"/>
                      </a:lnTo>
                      <a:lnTo>
                        <a:pt x="323" y="381"/>
                      </a:lnTo>
                      <a:lnTo>
                        <a:pt x="323" y="381"/>
                      </a:lnTo>
                      <a:lnTo>
                        <a:pt x="323" y="381"/>
                      </a:lnTo>
                      <a:lnTo>
                        <a:pt x="316" y="381"/>
                      </a:lnTo>
                      <a:lnTo>
                        <a:pt x="316" y="381"/>
                      </a:lnTo>
                      <a:lnTo>
                        <a:pt x="316" y="381"/>
                      </a:lnTo>
                      <a:lnTo>
                        <a:pt x="309" y="381"/>
                      </a:lnTo>
                      <a:lnTo>
                        <a:pt x="309" y="388"/>
                      </a:lnTo>
                      <a:lnTo>
                        <a:pt x="302" y="388"/>
                      </a:lnTo>
                      <a:lnTo>
                        <a:pt x="302" y="395"/>
                      </a:lnTo>
                      <a:lnTo>
                        <a:pt x="302" y="395"/>
                      </a:lnTo>
                      <a:lnTo>
                        <a:pt x="302" y="395"/>
                      </a:lnTo>
                      <a:lnTo>
                        <a:pt x="302" y="395"/>
                      </a:lnTo>
                      <a:lnTo>
                        <a:pt x="295" y="402"/>
                      </a:lnTo>
                      <a:lnTo>
                        <a:pt x="295" y="402"/>
                      </a:lnTo>
                      <a:lnTo>
                        <a:pt x="295" y="402"/>
                      </a:lnTo>
                      <a:lnTo>
                        <a:pt x="295" y="402"/>
                      </a:lnTo>
                      <a:lnTo>
                        <a:pt x="295" y="409"/>
                      </a:lnTo>
                      <a:lnTo>
                        <a:pt x="295" y="409"/>
                      </a:lnTo>
                      <a:lnTo>
                        <a:pt x="289" y="409"/>
                      </a:lnTo>
                      <a:lnTo>
                        <a:pt x="289" y="416"/>
                      </a:lnTo>
                      <a:lnTo>
                        <a:pt x="289" y="416"/>
                      </a:lnTo>
                      <a:lnTo>
                        <a:pt x="282" y="423"/>
                      </a:lnTo>
                      <a:lnTo>
                        <a:pt x="282" y="423"/>
                      </a:lnTo>
                      <a:lnTo>
                        <a:pt x="282" y="423"/>
                      </a:lnTo>
                      <a:lnTo>
                        <a:pt x="282" y="430"/>
                      </a:lnTo>
                      <a:lnTo>
                        <a:pt x="275" y="430"/>
                      </a:lnTo>
                      <a:lnTo>
                        <a:pt x="268" y="437"/>
                      </a:lnTo>
                      <a:lnTo>
                        <a:pt x="268" y="444"/>
                      </a:lnTo>
                      <a:lnTo>
                        <a:pt x="268" y="444"/>
                      </a:lnTo>
                      <a:lnTo>
                        <a:pt x="268" y="444"/>
                      </a:lnTo>
                      <a:lnTo>
                        <a:pt x="268" y="444"/>
                      </a:lnTo>
                      <a:lnTo>
                        <a:pt x="268" y="451"/>
                      </a:lnTo>
                      <a:lnTo>
                        <a:pt x="268" y="451"/>
                      </a:lnTo>
                      <a:lnTo>
                        <a:pt x="268" y="458"/>
                      </a:lnTo>
                      <a:lnTo>
                        <a:pt x="268" y="465"/>
                      </a:lnTo>
                      <a:lnTo>
                        <a:pt x="268" y="465"/>
                      </a:lnTo>
                      <a:lnTo>
                        <a:pt x="268" y="465"/>
                      </a:lnTo>
                      <a:lnTo>
                        <a:pt x="268" y="465"/>
                      </a:lnTo>
                      <a:lnTo>
                        <a:pt x="261" y="472"/>
                      </a:lnTo>
                      <a:lnTo>
                        <a:pt x="261" y="472"/>
                      </a:lnTo>
                      <a:lnTo>
                        <a:pt x="254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41" y="479"/>
                      </a:lnTo>
                      <a:lnTo>
                        <a:pt x="241" y="479"/>
                      </a:lnTo>
                      <a:lnTo>
                        <a:pt x="241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34" y="472"/>
                      </a:lnTo>
                      <a:lnTo>
                        <a:pt x="234" y="472"/>
                      </a:lnTo>
                      <a:lnTo>
                        <a:pt x="227" y="472"/>
                      </a:lnTo>
                      <a:lnTo>
                        <a:pt x="227" y="472"/>
                      </a:lnTo>
                      <a:lnTo>
                        <a:pt x="227" y="472"/>
                      </a:lnTo>
                      <a:lnTo>
                        <a:pt x="220" y="472"/>
                      </a:lnTo>
                      <a:lnTo>
                        <a:pt x="220" y="472"/>
                      </a:lnTo>
                      <a:lnTo>
                        <a:pt x="220" y="472"/>
                      </a:lnTo>
                      <a:lnTo>
                        <a:pt x="220" y="472"/>
                      </a:lnTo>
                      <a:lnTo>
                        <a:pt x="213" y="472"/>
                      </a:lnTo>
                      <a:lnTo>
                        <a:pt x="213" y="465"/>
                      </a:lnTo>
                      <a:lnTo>
                        <a:pt x="213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44"/>
                      </a:lnTo>
                      <a:lnTo>
                        <a:pt x="206" y="444"/>
                      </a:lnTo>
                      <a:lnTo>
                        <a:pt x="206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37"/>
                      </a:lnTo>
                      <a:lnTo>
                        <a:pt x="199" y="437"/>
                      </a:lnTo>
                      <a:lnTo>
                        <a:pt x="199" y="437"/>
                      </a:lnTo>
                      <a:lnTo>
                        <a:pt x="199" y="437"/>
                      </a:lnTo>
                      <a:lnTo>
                        <a:pt x="199" y="437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23"/>
                      </a:lnTo>
                      <a:lnTo>
                        <a:pt x="199" y="423"/>
                      </a:lnTo>
                      <a:lnTo>
                        <a:pt x="192" y="423"/>
                      </a:lnTo>
                      <a:lnTo>
                        <a:pt x="192" y="423"/>
                      </a:lnTo>
                      <a:lnTo>
                        <a:pt x="192" y="423"/>
                      </a:lnTo>
                      <a:lnTo>
                        <a:pt x="186" y="423"/>
                      </a:lnTo>
                      <a:lnTo>
                        <a:pt x="186" y="423"/>
                      </a:lnTo>
                      <a:lnTo>
                        <a:pt x="186" y="423"/>
                      </a:lnTo>
                      <a:lnTo>
                        <a:pt x="186" y="423"/>
                      </a:lnTo>
                      <a:lnTo>
                        <a:pt x="186" y="416"/>
                      </a:lnTo>
                      <a:lnTo>
                        <a:pt x="186" y="416"/>
                      </a:lnTo>
                      <a:lnTo>
                        <a:pt x="186" y="416"/>
                      </a:lnTo>
                      <a:lnTo>
                        <a:pt x="179" y="416"/>
                      </a:lnTo>
                      <a:lnTo>
                        <a:pt x="186" y="409"/>
                      </a:lnTo>
                      <a:lnTo>
                        <a:pt x="186" y="409"/>
                      </a:lnTo>
                      <a:lnTo>
                        <a:pt x="186" y="409"/>
                      </a:lnTo>
                      <a:lnTo>
                        <a:pt x="186" y="409"/>
                      </a:lnTo>
                      <a:lnTo>
                        <a:pt x="186" y="402"/>
                      </a:lnTo>
                      <a:lnTo>
                        <a:pt x="186" y="402"/>
                      </a:lnTo>
                      <a:lnTo>
                        <a:pt x="186" y="402"/>
                      </a:lnTo>
                      <a:lnTo>
                        <a:pt x="186" y="402"/>
                      </a:lnTo>
                      <a:lnTo>
                        <a:pt x="179" y="402"/>
                      </a:lnTo>
                      <a:lnTo>
                        <a:pt x="179" y="395"/>
                      </a:lnTo>
                      <a:lnTo>
                        <a:pt x="179" y="395"/>
                      </a:lnTo>
                      <a:lnTo>
                        <a:pt x="179" y="395"/>
                      </a:lnTo>
                      <a:lnTo>
                        <a:pt x="172" y="388"/>
                      </a:lnTo>
                      <a:lnTo>
                        <a:pt x="172" y="388"/>
                      </a:lnTo>
                      <a:lnTo>
                        <a:pt x="172" y="388"/>
                      </a:lnTo>
                      <a:lnTo>
                        <a:pt x="165" y="388"/>
                      </a:lnTo>
                      <a:lnTo>
                        <a:pt x="165" y="388"/>
                      </a:lnTo>
                      <a:lnTo>
                        <a:pt x="165" y="388"/>
                      </a:lnTo>
                      <a:lnTo>
                        <a:pt x="165" y="388"/>
                      </a:lnTo>
                      <a:lnTo>
                        <a:pt x="158" y="381"/>
                      </a:lnTo>
                      <a:lnTo>
                        <a:pt x="158" y="381"/>
                      </a:lnTo>
                      <a:lnTo>
                        <a:pt x="158" y="374"/>
                      </a:lnTo>
                      <a:lnTo>
                        <a:pt x="158" y="374"/>
                      </a:lnTo>
                      <a:lnTo>
                        <a:pt x="158" y="374"/>
                      </a:lnTo>
                      <a:lnTo>
                        <a:pt x="158" y="374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44" y="354"/>
                      </a:lnTo>
                      <a:lnTo>
                        <a:pt x="144" y="347"/>
                      </a:lnTo>
                      <a:lnTo>
                        <a:pt x="144" y="347"/>
                      </a:lnTo>
                      <a:lnTo>
                        <a:pt x="144" y="347"/>
                      </a:lnTo>
                      <a:lnTo>
                        <a:pt x="144" y="347"/>
                      </a:lnTo>
                      <a:lnTo>
                        <a:pt x="144" y="340"/>
                      </a:lnTo>
                      <a:lnTo>
                        <a:pt x="144" y="340"/>
                      </a:lnTo>
                      <a:lnTo>
                        <a:pt x="144" y="340"/>
                      </a:lnTo>
                      <a:lnTo>
                        <a:pt x="144" y="340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26"/>
                      </a:lnTo>
                      <a:lnTo>
                        <a:pt x="144" y="326"/>
                      </a:lnTo>
                      <a:lnTo>
                        <a:pt x="144" y="326"/>
                      </a:lnTo>
                      <a:lnTo>
                        <a:pt x="144" y="326"/>
                      </a:lnTo>
                      <a:lnTo>
                        <a:pt x="144" y="319"/>
                      </a:lnTo>
                      <a:lnTo>
                        <a:pt x="151" y="319"/>
                      </a:lnTo>
                      <a:lnTo>
                        <a:pt x="151" y="319"/>
                      </a:lnTo>
                      <a:lnTo>
                        <a:pt x="151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2"/>
                      </a:lnTo>
                      <a:lnTo>
                        <a:pt x="144" y="312"/>
                      </a:lnTo>
                      <a:lnTo>
                        <a:pt x="144" y="312"/>
                      </a:lnTo>
                      <a:lnTo>
                        <a:pt x="144" y="312"/>
                      </a:lnTo>
                      <a:lnTo>
                        <a:pt x="138" y="312"/>
                      </a:lnTo>
                      <a:lnTo>
                        <a:pt x="138" y="312"/>
                      </a:lnTo>
                      <a:lnTo>
                        <a:pt x="138" y="305"/>
                      </a:lnTo>
                      <a:lnTo>
                        <a:pt x="138" y="305"/>
                      </a:lnTo>
                      <a:lnTo>
                        <a:pt x="131" y="305"/>
                      </a:lnTo>
                      <a:lnTo>
                        <a:pt x="131" y="305"/>
                      </a:lnTo>
                      <a:lnTo>
                        <a:pt x="131" y="298"/>
                      </a:lnTo>
                      <a:lnTo>
                        <a:pt x="124" y="298"/>
                      </a:lnTo>
                      <a:lnTo>
                        <a:pt x="124" y="298"/>
                      </a:lnTo>
                      <a:lnTo>
                        <a:pt x="124" y="298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84"/>
                      </a:lnTo>
                      <a:lnTo>
                        <a:pt x="124" y="284"/>
                      </a:lnTo>
                      <a:lnTo>
                        <a:pt x="124" y="284"/>
                      </a:lnTo>
                      <a:lnTo>
                        <a:pt x="117" y="284"/>
                      </a:lnTo>
                      <a:lnTo>
                        <a:pt x="117" y="284"/>
                      </a:lnTo>
                      <a:lnTo>
                        <a:pt x="117" y="277"/>
                      </a:lnTo>
                      <a:lnTo>
                        <a:pt x="117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0"/>
                      </a:lnTo>
                      <a:lnTo>
                        <a:pt x="124" y="270"/>
                      </a:lnTo>
                      <a:lnTo>
                        <a:pt x="124" y="270"/>
                      </a:lnTo>
                      <a:lnTo>
                        <a:pt x="124" y="270"/>
                      </a:lnTo>
                      <a:lnTo>
                        <a:pt x="124" y="270"/>
                      </a:lnTo>
                      <a:lnTo>
                        <a:pt x="117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03" y="263"/>
                      </a:lnTo>
                      <a:lnTo>
                        <a:pt x="103" y="263"/>
                      </a:lnTo>
                      <a:lnTo>
                        <a:pt x="103" y="263"/>
                      </a:lnTo>
                      <a:lnTo>
                        <a:pt x="103" y="263"/>
                      </a:lnTo>
                      <a:lnTo>
                        <a:pt x="103" y="263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3" y="257"/>
                      </a:lnTo>
                      <a:lnTo>
                        <a:pt x="89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0"/>
                      </a:lnTo>
                      <a:lnTo>
                        <a:pt x="83" y="250"/>
                      </a:lnTo>
                      <a:lnTo>
                        <a:pt x="83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83" y="257"/>
                      </a:lnTo>
                      <a:lnTo>
                        <a:pt x="83" y="250"/>
                      </a:lnTo>
                      <a:lnTo>
                        <a:pt x="83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2" y="250"/>
                      </a:lnTo>
                      <a:lnTo>
                        <a:pt x="62" y="250"/>
                      </a:lnTo>
                      <a:lnTo>
                        <a:pt x="69" y="250"/>
                      </a:lnTo>
                      <a:lnTo>
                        <a:pt x="62" y="250"/>
                      </a:lnTo>
                      <a:lnTo>
                        <a:pt x="69" y="250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35" y="229"/>
                      </a:lnTo>
                      <a:lnTo>
                        <a:pt x="35" y="229"/>
                      </a:lnTo>
                      <a:lnTo>
                        <a:pt x="35" y="229"/>
                      </a:lnTo>
                      <a:lnTo>
                        <a:pt x="35" y="229"/>
                      </a:lnTo>
                      <a:lnTo>
                        <a:pt x="35" y="229"/>
                      </a:lnTo>
                      <a:lnTo>
                        <a:pt x="28" y="229"/>
                      </a:lnTo>
                      <a:lnTo>
                        <a:pt x="28" y="229"/>
                      </a:lnTo>
                      <a:lnTo>
                        <a:pt x="28" y="229"/>
                      </a:lnTo>
                      <a:lnTo>
                        <a:pt x="28" y="229"/>
                      </a:lnTo>
                      <a:lnTo>
                        <a:pt x="28" y="229"/>
                      </a:lnTo>
                      <a:lnTo>
                        <a:pt x="28" y="222"/>
                      </a:lnTo>
                      <a:lnTo>
                        <a:pt x="21" y="222"/>
                      </a:lnTo>
                      <a:lnTo>
                        <a:pt x="21" y="222"/>
                      </a:lnTo>
                      <a:lnTo>
                        <a:pt x="21" y="222"/>
                      </a:lnTo>
                      <a:lnTo>
                        <a:pt x="21" y="222"/>
                      </a:lnTo>
                      <a:lnTo>
                        <a:pt x="21" y="229"/>
                      </a:lnTo>
                      <a:lnTo>
                        <a:pt x="21" y="229"/>
                      </a:lnTo>
                      <a:lnTo>
                        <a:pt x="14" y="229"/>
                      </a:lnTo>
                      <a:lnTo>
                        <a:pt x="14" y="229"/>
                      </a:lnTo>
                      <a:lnTo>
                        <a:pt x="14" y="229"/>
                      </a:lnTo>
                      <a:lnTo>
                        <a:pt x="14" y="222"/>
                      </a:lnTo>
                      <a:lnTo>
                        <a:pt x="14" y="229"/>
                      </a:lnTo>
                      <a:lnTo>
                        <a:pt x="14" y="229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14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714920" y="3415320"/>
                  <a:ext cx="536040" cy="824760"/>
                </a:xfrm>
                <a:custGeom>
                  <a:avLst/>
                  <a:gdLst/>
                  <a:ahLst/>
                  <a:rect l="l" t="t" r="r" b="b"/>
                  <a:pathLst>
                    <a:path w="426" h="701">
                      <a:moveTo>
                        <a:pt x="0" y="535"/>
                      </a:move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7" y="521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7" y="486"/>
                      </a:lnTo>
                      <a:lnTo>
                        <a:pt x="7" y="486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14" y="479"/>
                      </a:lnTo>
                      <a:lnTo>
                        <a:pt x="14" y="479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7" y="465"/>
                      </a:lnTo>
                      <a:lnTo>
                        <a:pt x="7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44"/>
                      </a:lnTo>
                      <a:lnTo>
                        <a:pt x="21" y="444"/>
                      </a:lnTo>
                      <a:lnTo>
                        <a:pt x="21" y="444"/>
                      </a:lnTo>
                      <a:lnTo>
                        <a:pt x="28" y="444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1"/>
                      </a:lnTo>
                      <a:lnTo>
                        <a:pt x="28" y="431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42" y="403"/>
                      </a:lnTo>
                      <a:lnTo>
                        <a:pt x="42" y="403"/>
                      </a:lnTo>
                      <a:lnTo>
                        <a:pt x="42" y="403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1"/>
                      </a:lnTo>
                      <a:lnTo>
                        <a:pt x="55" y="361"/>
                      </a:lnTo>
                      <a:lnTo>
                        <a:pt x="55" y="361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76" y="333"/>
                      </a:lnTo>
                      <a:lnTo>
                        <a:pt x="76" y="333"/>
                      </a:lnTo>
                      <a:lnTo>
                        <a:pt x="76" y="327"/>
                      </a:lnTo>
                      <a:lnTo>
                        <a:pt x="76" y="327"/>
                      </a:lnTo>
                      <a:lnTo>
                        <a:pt x="76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90" y="313"/>
                      </a:lnTo>
                      <a:lnTo>
                        <a:pt x="90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06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10" y="292"/>
                      </a:lnTo>
                      <a:lnTo>
                        <a:pt x="110" y="292"/>
                      </a:lnTo>
                      <a:lnTo>
                        <a:pt x="110" y="292"/>
                      </a:lnTo>
                      <a:lnTo>
                        <a:pt x="110" y="285"/>
                      </a:lnTo>
                      <a:lnTo>
                        <a:pt x="110" y="285"/>
                      </a:lnTo>
                      <a:lnTo>
                        <a:pt x="110" y="278"/>
                      </a:lnTo>
                      <a:lnTo>
                        <a:pt x="110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64"/>
                      </a:lnTo>
                      <a:lnTo>
                        <a:pt x="124" y="264"/>
                      </a:lnTo>
                      <a:lnTo>
                        <a:pt x="124" y="257"/>
                      </a:lnTo>
                      <a:lnTo>
                        <a:pt x="131" y="257"/>
                      </a:lnTo>
                      <a:lnTo>
                        <a:pt x="131" y="257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24" y="222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09"/>
                      </a:lnTo>
                      <a:lnTo>
                        <a:pt x="110" y="209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7" y="195"/>
                      </a:lnTo>
                      <a:lnTo>
                        <a:pt x="117" y="195"/>
                      </a:lnTo>
                      <a:lnTo>
                        <a:pt x="117" y="195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31" y="181"/>
                      </a:lnTo>
                      <a:lnTo>
                        <a:pt x="131" y="181"/>
                      </a:lnTo>
                      <a:lnTo>
                        <a:pt x="131" y="174"/>
                      </a:lnTo>
                      <a:lnTo>
                        <a:pt x="131" y="174"/>
                      </a:lnTo>
                      <a:lnTo>
                        <a:pt x="131" y="174"/>
                      </a:lnTo>
                      <a:lnTo>
                        <a:pt x="131" y="167"/>
                      </a:lnTo>
                      <a:lnTo>
                        <a:pt x="131" y="160"/>
                      </a:lnTo>
                      <a:lnTo>
                        <a:pt x="131" y="160"/>
                      </a:lnTo>
                      <a:lnTo>
                        <a:pt x="131" y="160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8" y="146"/>
                      </a:lnTo>
                      <a:lnTo>
                        <a:pt x="138" y="146"/>
                      </a:lnTo>
                      <a:lnTo>
                        <a:pt x="145" y="139"/>
                      </a:lnTo>
                      <a:lnTo>
                        <a:pt x="145" y="139"/>
                      </a:lnTo>
                      <a:lnTo>
                        <a:pt x="145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2" y="132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9" y="111"/>
                      </a:lnTo>
                      <a:lnTo>
                        <a:pt x="179" y="111"/>
                      </a:lnTo>
                      <a:lnTo>
                        <a:pt x="179" y="111"/>
                      </a:lnTo>
                      <a:lnTo>
                        <a:pt x="179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93" y="105"/>
                      </a:lnTo>
                      <a:lnTo>
                        <a:pt x="193" y="105"/>
                      </a:lnTo>
                      <a:lnTo>
                        <a:pt x="193" y="105"/>
                      </a:lnTo>
                      <a:lnTo>
                        <a:pt x="199" y="105"/>
                      </a:lnTo>
                      <a:lnTo>
                        <a:pt x="199" y="105"/>
                      </a:lnTo>
                      <a:lnTo>
                        <a:pt x="199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84"/>
                      </a:lnTo>
                      <a:lnTo>
                        <a:pt x="193" y="84"/>
                      </a:lnTo>
                      <a:lnTo>
                        <a:pt x="199" y="84"/>
                      </a:lnTo>
                      <a:lnTo>
                        <a:pt x="199" y="84"/>
                      </a:lnTo>
                      <a:lnTo>
                        <a:pt x="199" y="84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06" y="77"/>
                      </a:lnTo>
                      <a:lnTo>
                        <a:pt x="206" y="77"/>
                      </a:lnTo>
                      <a:lnTo>
                        <a:pt x="206" y="77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0"/>
                      </a:lnTo>
                      <a:lnTo>
                        <a:pt x="199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20" y="42"/>
                      </a:lnTo>
                      <a:lnTo>
                        <a:pt x="220" y="42"/>
                      </a:lnTo>
                      <a:lnTo>
                        <a:pt x="220" y="42"/>
                      </a:lnTo>
                      <a:lnTo>
                        <a:pt x="220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14"/>
                      </a:lnTo>
                      <a:lnTo>
                        <a:pt x="165" y="21"/>
                      </a:lnTo>
                      <a:lnTo>
                        <a:pt x="172" y="14"/>
                      </a:lnTo>
                      <a:lnTo>
                        <a:pt x="172" y="21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7"/>
                      </a:lnTo>
                      <a:lnTo>
                        <a:pt x="186" y="7"/>
                      </a:lnTo>
                      <a:lnTo>
                        <a:pt x="186" y="7"/>
                      </a:lnTo>
                      <a:lnTo>
                        <a:pt x="186" y="7"/>
                      </a:lnTo>
                      <a:lnTo>
                        <a:pt x="186" y="0"/>
                      </a:lnTo>
                      <a:lnTo>
                        <a:pt x="193" y="0"/>
                      </a:lnTo>
                      <a:lnTo>
                        <a:pt x="193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20" y="7"/>
                      </a:lnTo>
                      <a:lnTo>
                        <a:pt x="220" y="14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1" y="7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54" y="21"/>
                      </a:lnTo>
                      <a:lnTo>
                        <a:pt x="254" y="21"/>
                      </a:lnTo>
                      <a:lnTo>
                        <a:pt x="261" y="21"/>
                      </a:lnTo>
                      <a:lnTo>
                        <a:pt x="261" y="28"/>
                      </a:lnTo>
                      <a:lnTo>
                        <a:pt x="268" y="28"/>
                      </a:lnTo>
                      <a:lnTo>
                        <a:pt x="268" y="28"/>
                      </a:lnTo>
                      <a:lnTo>
                        <a:pt x="268" y="28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42"/>
                      </a:lnTo>
                      <a:lnTo>
                        <a:pt x="275" y="42"/>
                      </a:lnTo>
                      <a:lnTo>
                        <a:pt x="275" y="42"/>
                      </a:lnTo>
                      <a:lnTo>
                        <a:pt x="275" y="49"/>
                      </a:lnTo>
                      <a:lnTo>
                        <a:pt x="275" y="49"/>
                      </a:lnTo>
                      <a:lnTo>
                        <a:pt x="275" y="49"/>
                      </a:lnTo>
                      <a:lnTo>
                        <a:pt x="275" y="56"/>
                      </a:lnTo>
                      <a:lnTo>
                        <a:pt x="275" y="56"/>
                      </a:lnTo>
                      <a:lnTo>
                        <a:pt x="275" y="63"/>
                      </a:lnTo>
                      <a:lnTo>
                        <a:pt x="275" y="63"/>
                      </a:lnTo>
                      <a:lnTo>
                        <a:pt x="275" y="70"/>
                      </a:lnTo>
                      <a:lnTo>
                        <a:pt x="275" y="70"/>
                      </a:lnTo>
                      <a:lnTo>
                        <a:pt x="275" y="70"/>
                      </a:lnTo>
                      <a:lnTo>
                        <a:pt x="275" y="77"/>
                      </a:lnTo>
                      <a:lnTo>
                        <a:pt x="275" y="77"/>
                      </a:lnTo>
                      <a:lnTo>
                        <a:pt x="275" y="77"/>
                      </a:lnTo>
                      <a:lnTo>
                        <a:pt x="275" y="84"/>
                      </a:lnTo>
                      <a:lnTo>
                        <a:pt x="275" y="84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8"/>
                      </a:lnTo>
                      <a:lnTo>
                        <a:pt x="282" y="98"/>
                      </a:lnTo>
                      <a:lnTo>
                        <a:pt x="282" y="98"/>
                      </a:lnTo>
                      <a:lnTo>
                        <a:pt x="282" y="105"/>
                      </a:lnTo>
                      <a:lnTo>
                        <a:pt x="282" y="105"/>
                      </a:lnTo>
                      <a:lnTo>
                        <a:pt x="282" y="105"/>
                      </a:lnTo>
                      <a:lnTo>
                        <a:pt x="275" y="105"/>
                      </a:lnTo>
                      <a:lnTo>
                        <a:pt x="275" y="111"/>
                      </a:lnTo>
                      <a:lnTo>
                        <a:pt x="282" y="111"/>
                      </a:lnTo>
                      <a:lnTo>
                        <a:pt x="275" y="111"/>
                      </a:lnTo>
                      <a:lnTo>
                        <a:pt x="275" y="118"/>
                      </a:lnTo>
                      <a:lnTo>
                        <a:pt x="275" y="118"/>
                      </a:lnTo>
                      <a:lnTo>
                        <a:pt x="275" y="118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9"/>
                      </a:lnTo>
                      <a:lnTo>
                        <a:pt x="268" y="139"/>
                      </a:lnTo>
                      <a:lnTo>
                        <a:pt x="268" y="139"/>
                      </a:lnTo>
                      <a:lnTo>
                        <a:pt x="268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68" y="153"/>
                      </a:lnTo>
                      <a:lnTo>
                        <a:pt x="268" y="153"/>
                      </a:lnTo>
                      <a:lnTo>
                        <a:pt x="268" y="153"/>
                      </a:lnTo>
                      <a:lnTo>
                        <a:pt x="268" y="160"/>
                      </a:lnTo>
                      <a:lnTo>
                        <a:pt x="268" y="160"/>
                      </a:lnTo>
                      <a:lnTo>
                        <a:pt x="268" y="160"/>
                      </a:lnTo>
                      <a:lnTo>
                        <a:pt x="261" y="160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8" y="181"/>
                      </a:lnTo>
                      <a:lnTo>
                        <a:pt x="268" y="181"/>
                      </a:lnTo>
                      <a:lnTo>
                        <a:pt x="268" y="181"/>
                      </a:lnTo>
                      <a:lnTo>
                        <a:pt x="275" y="181"/>
                      </a:lnTo>
                      <a:lnTo>
                        <a:pt x="275" y="181"/>
                      </a:lnTo>
                      <a:lnTo>
                        <a:pt x="275" y="188"/>
                      </a:lnTo>
                      <a:lnTo>
                        <a:pt x="275" y="188"/>
                      </a:lnTo>
                      <a:lnTo>
                        <a:pt x="275" y="188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1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75" y="195"/>
                      </a:lnTo>
                      <a:lnTo>
                        <a:pt x="275" y="195"/>
                      </a:lnTo>
                      <a:lnTo>
                        <a:pt x="275" y="195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82" y="202"/>
                      </a:lnTo>
                      <a:lnTo>
                        <a:pt x="282" y="202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16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9" y="209"/>
                      </a:lnTo>
                      <a:lnTo>
                        <a:pt x="289" y="209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9" y="236"/>
                      </a:lnTo>
                      <a:lnTo>
                        <a:pt x="302" y="236"/>
                      </a:lnTo>
                      <a:lnTo>
                        <a:pt x="309" y="236"/>
                      </a:lnTo>
                      <a:lnTo>
                        <a:pt x="302" y="236"/>
                      </a:lnTo>
                      <a:lnTo>
                        <a:pt x="309" y="243"/>
                      </a:lnTo>
                      <a:lnTo>
                        <a:pt x="302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16" y="243"/>
                      </a:lnTo>
                      <a:lnTo>
                        <a:pt x="316" y="250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51" y="229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7" y="236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1" y="264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9" y="320"/>
                      </a:lnTo>
                      <a:lnTo>
                        <a:pt x="316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7" y="354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8"/>
                      </a:lnTo>
                      <a:lnTo>
                        <a:pt x="344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82"/>
                      </a:lnTo>
                      <a:lnTo>
                        <a:pt x="351" y="382"/>
                      </a:lnTo>
                      <a:lnTo>
                        <a:pt x="351" y="382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51" y="389"/>
                      </a:lnTo>
                      <a:lnTo>
                        <a:pt x="351" y="389"/>
                      </a:lnTo>
                      <a:lnTo>
                        <a:pt x="351" y="389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7"/>
                      </a:lnTo>
                      <a:lnTo>
                        <a:pt x="357" y="417"/>
                      </a:lnTo>
                      <a:lnTo>
                        <a:pt x="364" y="417"/>
                      </a:lnTo>
                      <a:lnTo>
                        <a:pt x="364" y="417"/>
                      </a:lnTo>
                      <a:lnTo>
                        <a:pt x="364" y="417"/>
                      </a:lnTo>
                      <a:lnTo>
                        <a:pt x="364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8" y="424"/>
                      </a:lnTo>
                      <a:lnTo>
                        <a:pt x="378" y="424"/>
                      </a:lnTo>
                      <a:lnTo>
                        <a:pt x="378" y="424"/>
                      </a:lnTo>
                      <a:lnTo>
                        <a:pt x="385" y="424"/>
                      </a:lnTo>
                      <a:lnTo>
                        <a:pt x="385" y="424"/>
                      </a:lnTo>
                      <a:lnTo>
                        <a:pt x="385" y="424"/>
                      </a:lnTo>
                      <a:lnTo>
                        <a:pt x="385" y="431"/>
                      </a:lnTo>
                      <a:lnTo>
                        <a:pt x="385" y="431"/>
                      </a:lnTo>
                      <a:lnTo>
                        <a:pt x="392" y="431"/>
                      </a:lnTo>
                      <a:lnTo>
                        <a:pt x="392" y="424"/>
                      </a:lnTo>
                      <a:lnTo>
                        <a:pt x="399" y="424"/>
                      </a:lnTo>
                      <a:lnTo>
                        <a:pt x="399" y="424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405" y="431"/>
                      </a:lnTo>
                      <a:lnTo>
                        <a:pt x="405" y="431"/>
                      </a:lnTo>
                      <a:lnTo>
                        <a:pt x="412" y="431"/>
                      </a:lnTo>
                      <a:lnTo>
                        <a:pt x="412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24"/>
                      </a:lnTo>
                      <a:lnTo>
                        <a:pt x="419" y="424"/>
                      </a:lnTo>
                      <a:lnTo>
                        <a:pt x="419" y="424"/>
                      </a:lnTo>
                      <a:lnTo>
                        <a:pt x="426" y="424"/>
                      </a:lnTo>
                      <a:lnTo>
                        <a:pt x="426" y="424"/>
                      </a:lnTo>
                      <a:lnTo>
                        <a:pt x="426" y="424"/>
                      </a:lnTo>
                      <a:lnTo>
                        <a:pt x="426" y="431"/>
                      </a:lnTo>
                      <a:lnTo>
                        <a:pt x="426" y="431"/>
                      </a:lnTo>
                      <a:lnTo>
                        <a:pt x="426" y="431"/>
                      </a:lnTo>
                      <a:lnTo>
                        <a:pt x="426" y="437"/>
                      </a:lnTo>
                      <a:lnTo>
                        <a:pt x="426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2" y="437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51"/>
                      </a:lnTo>
                      <a:lnTo>
                        <a:pt x="412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2" y="458"/>
                      </a:lnTo>
                      <a:lnTo>
                        <a:pt x="392" y="458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78" y="465"/>
                      </a:lnTo>
                      <a:lnTo>
                        <a:pt x="378" y="465"/>
                      </a:lnTo>
                      <a:lnTo>
                        <a:pt x="385" y="472"/>
                      </a:lnTo>
                      <a:lnTo>
                        <a:pt x="385" y="472"/>
                      </a:lnTo>
                      <a:lnTo>
                        <a:pt x="378" y="472"/>
                      </a:lnTo>
                      <a:lnTo>
                        <a:pt x="378" y="472"/>
                      </a:lnTo>
                      <a:lnTo>
                        <a:pt x="378" y="472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1" y="486"/>
                      </a:lnTo>
                      <a:lnTo>
                        <a:pt x="371" y="486"/>
                      </a:lnTo>
                      <a:lnTo>
                        <a:pt x="378" y="486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64" y="493"/>
                      </a:lnTo>
                      <a:lnTo>
                        <a:pt x="364" y="493"/>
                      </a:lnTo>
                      <a:lnTo>
                        <a:pt x="364" y="493"/>
                      </a:lnTo>
                      <a:lnTo>
                        <a:pt x="364" y="500"/>
                      </a:lnTo>
                      <a:lnTo>
                        <a:pt x="364" y="500"/>
                      </a:lnTo>
                      <a:lnTo>
                        <a:pt x="364" y="507"/>
                      </a:lnTo>
                      <a:lnTo>
                        <a:pt x="357" y="507"/>
                      </a:lnTo>
                      <a:lnTo>
                        <a:pt x="357" y="514"/>
                      </a:lnTo>
                      <a:lnTo>
                        <a:pt x="357" y="514"/>
                      </a:lnTo>
                      <a:lnTo>
                        <a:pt x="357" y="514"/>
                      </a:lnTo>
                      <a:lnTo>
                        <a:pt x="351" y="514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35"/>
                      </a:lnTo>
                      <a:lnTo>
                        <a:pt x="357" y="535"/>
                      </a:lnTo>
                      <a:lnTo>
                        <a:pt x="357" y="535"/>
                      </a:lnTo>
                      <a:lnTo>
                        <a:pt x="357" y="535"/>
                      </a:lnTo>
                      <a:lnTo>
                        <a:pt x="357" y="535"/>
                      </a:lnTo>
                      <a:lnTo>
                        <a:pt x="357" y="542"/>
                      </a:lnTo>
                      <a:lnTo>
                        <a:pt x="357" y="542"/>
                      </a:lnTo>
                      <a:lnTo>
                        <a:pt x="357" y="542"/>
                      </a:lnTo>
                      <a:lnTo>
                        <a:pt x="357" y="542"/>
                      </a:lnTo>
                      <a:lnTo>
                        <a:pt x="357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71" y="542"/>
                      </a:lnTo>
                      <a:lnTo>
                        <a:pt x="371" y="542"/>
                      </a:lnTo>
                      <a:lnTo>
                        <a:pt x="371" y="542"/>
                      </a:lnTo>
                      <a:lnTo>
                        <a:pt x="371" y="542"/>
                      </a:lnTo>
                      <a:lnTo>
                        <a:pt x="378" y="542"/>
                      </a:lnTo>
                      <a:lnTo>
                        <a:pt x="378" y="542"/>
                      </a:lnTo>
                      <a:lnTo>
                        <a:pt x="378" y="542"/>
                      </a:lnTo>
                      <a:lnTo>
                        <a:pt x="378" y="542"/>
                      </a:lnTo>
                      <a:lnTo>
                        <a:pt x="378" y="542"/>
                      </a:lnTo>
                      <a:lnTo>
                        <a:pt x="378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92" y="548"/>
                      </a:lnTo>
                      <a:lnTo>
                        <a:pt x="392" y="548"/>
                      </a:lnTo>
                      <a:lnTo>
                        <a:pt x="392" y="548"/>
                      </a:lnTo>
                      <a:lnTo>
                        <a:pt x="392" y="548"/>
                      </a:lnTo>
                      <a:lnTo>
                        <a:pt x="392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78" y="548"/>
                      </a:lnTo>
                      <a:lnTo>
                        <a:pt x="378" y="548"/>
                      </a:lnTo>
                      <a:lnTo>
                        <a:pt x="378" y="548"/>
                      </a:lnTo>
                      <a:lnTo>
                        <a:pt x="378" y="548"/>
                      </a:lnTo>
                      <a:lnTo>
                        <a:pt x="371" y="548"/>
                      </a:lnTo>
                      <a:lnTo>
                        <a:pt x="371" y="548"/>
                      </a:lnTo>
                      <a:lnTo>
                        <a:pt x="371" y="548"/>
                      </a:lnTo>
                      <a:lnTo>
                        <a:pt x="371" y="548"/>
                      </a:lnTo>
                      <a:lnTo>
                        <a:pt x="371" y="548"/>
                      </a:lnTo>
                      <a:lnTo>
                        <a:pt x="371" y="555"/>
                      </a:lnTo>
                      <a:lnTo>
                        <a:pt x="371" y="555"/>
                      </a:lnTo>
                      <a:lnTo>
                        <a:pt x="371" y="555"/>
                      </a:lnTo>
                      <a:lnTo>
                        <a:pt x="371" y="555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64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8" y="569"/>
                      </a:lnTo>
                      <a:lnTo>
                        <a:pt x="378" y="569"/>
                      </a:lnTo>
                      <a:lnTo>
                        <a:pt x="378" y="569"/>
                      </a:lnTo>
                      <a:lnTo>
                        <a:pt x="378" y="569"/>
                      </a:lnTo>
                      <a:lnTo>
                        <a:pt x="385" y="569"/>
                      </a:lnTo>
                      <a:lnTo>
                        <a:pt x="385" y="569"/>
                      </a:lnTo>
                      <a:lnTo>
                        <a:pt x="385" y="569"/>
                      </a:lnTo>
                      <a:lnTo>
                        <a:pt x="385" y="569"/>
                      </a:lnTo>
                      <a:lnTo>
                        <a:pt x="385" y="576"/>
                      </a:lnTo>
                      <a:lnTo>
                        <a:pt x="385" y="576"/>
                      </a:lnTo>
                      <a:lnTo>
                        <a:pt x="378" y="576"/>
                      </a:lnTo>
                      <a:lnTo>
                        <a:pt x="378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83"/>
                      </a:lnTo>
                      <a:lnTo>
                        <a:pt x="371" y="583"/>
                      </a:lnTo>
                      <a:lnTo>
                        <a:pt x="364" y="583"/>
                      </a:lnTo>
                      <a:lnTo>
                        <a:pt x="364" y="583"/>
                      </a:lnTo>
                      <a:lnTo>
                        <a:pt x="364" y="583"/>
                      </a:lnTo>
                      <a:lnTo>
                        <a:pt x="364" y="583"/>
                      </a:lnTo>
                      <a:lnTo>
                        <a:pt x="364" y="583"/>
                      </a:lnTo>
                      <a:lnTo>
                        <a:pt x="364" y="590"/>
                      </a:lnTo>
                      <a:lnTo>
                        <a:pt x="364" y="590"/>
                      </a:lnTo>
                      <a:lnTo>
                        <a:pt x="371" y="590"/>
                      </a:lnTo>
                      <a:lnTo>
                        <a:pt x="371" y="590"/>
                      </a:lnTo>
                      <a:lnTo>
                        <a:pt x="371" y="590"/>
                      </a:lnTo>
                      <a:lnTo>
                        <a:pt x="371" y="590"/>
                      </a:lnTo>
                      <a:lnTo>
                        <a:pt x="364" y="597"/>
                      </a:lnTo>
                      <a:lnTo>
                        <a:pt x="364" y="597"/>
                      </a:lnTo>
                      <a:lnTo>
                        <a:pt x="364" y="597"/>
                      </a:lnTo>
                      <a:lnTo>
                        <a:pt x="364" y="597"/>
                      </a:lnTo>
                      <a:lnTo>
                        <a:pt x="364" y="597"/>
                      </a:lnTo>
                      <a:lnTo>
                        <a:pt x="371" y="597"/>
                      </a:lnTo>
                      <a:lnTo>
                        <a:pt x="371" y="597"/>
                      </a:lnTo>
                      <a:lnTo>
                        <a:pt x="371" y="597"/>
                      </a:lnTo>
                      <a:lnTo>
                        <a:pt x="371" y="597"/>
                      </a:lnTo>
                      <a:lnTo>
                        <a:pt x="364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64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8"/>
                      </a:lnTo>
                      <a:lnTo>
                        <a:pt x="371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85" y="618"/>
                      </a:lnTo>
                      <a:lnTo>
                        <a:pt x="385" y="618"/>
                      </a:lnTo>
                      <a:lnTo>
                        <a:pt x="385" y="618"/>
                      </a:lnTo>
                      <a:lnTo>
                        <a:pt x="385" y="625"/>
                      </a:lnTo>
                      <a:lnTo>
                        <a:pt x="385" y="625"/>
                      </a:lnTo>
                      <a:lnTo>
                        <a:pt x="385" y="625"/>
                      </a:lnTo>
                      <a:lnTo>
                        <a:pt x="385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1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39"/>
                      </a:lnTo>
                      <a:lnTo>
                        <a:pt x="378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8" y="639"/>
                      </a:lnTo>
                      <a:lnTo>
                        <a:pt x="378" y="639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53"/>
                      </a:lnTo>
                      <a:lnTo>
                        <a:pt x="378" y="653"/>
                      </a:lnTo>
                      <a:lnTo>
                        <a:pt x="378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92" y="659"/>
                      </a:lnTo>
                      <a:lnTo>
                        <a:pt x="392" y="659"/>
                      </a:lnTo>
                      <a:lnTo>
                        <a:pt x="392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64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9"/>
                      </a:lnTo>
                      <a:lnTo>
                        <a:pt x="364" y="659"/>
                      </a:lnTo>
                      <a:lnTo>
                        <a:pt x="364" y="659"/>
                      </a:lnTo>
                      <a:lnTo>
                        <a:pt x="357" y="659"/>
                      </a:lnTo>
                      <a:lnTo>
                        <a:pt x="357" y="659"/>
                      </a:lnTo>
                      <a:lnTo>
                        <a:pt x="344" y="659"/>
                      </a:lnTo>
                      <a:lnTo>
                        <a:pt x="337" y="659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73"/>
                      </a:lnTo>
                      <a:lnTo>
                        <a:pt x="323" y="673"/>
                      </a:lnTo>
                      <a:lnTo>
                        <a:pt x="323" y="666"/>
                      </a:lnTo>
                      <a:lnTo>
                        <a:pt x="323" y="673"/>
                      </a:lnTo>
                      <a:lnTo>
                        <a:pt x="323" y="666"/>
                      </a:lnTo>
                      <a:lnTo>
                        <a:pt x="323" y="666"/>
                      </a:lnTo>
                      <a:lnTo>
                        <a:pt x="323" y="673"/>
                      </a:lnTo>
                      <a:lnTo>
                        <a:pt x="323" y="673"/>
                      </a:lnTo>
                      <a:lnTo>
                        <a:pt x="323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296" y="680"/>
                      </a:lnTo>
                      <a:lnTo>
                        <a:pt x="302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7"/>
                      </a:lnTo>
                      <a:lnTo>
                        <a:pt x="296" y="687"/>
                      </a:lnTo>
                      <a:lnTo>
                        <a:pt x="296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68" y="680"/>
                      </a:lnTo>
                      <a:lnTo>
                        <a:pt x="268" y="680"/>
                      </a:lnTo>
                      <a:lnTo>
                        <a:pt x="268" y="680"/>
                      </a:lnTo>
                      <a:lnTo>
                        <a:pt x="268" y="680"/>
                      </a:lnTo>
                      <a:lnTo>
                        <a:pt x="268" y="680"/>
                      </a:lnTo>
                      <a:lnTo>
                        <a:pt x="268" y="673"/>
                      </a:lnTo>
                      <a:lnTo>
                        <a:pt x="268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54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54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701"/>
                      </a:lnTo>
                      <a:lnTo>
                        <a:pt x="261" y="701"/>
                      </a:lnTo>
                      <a:lnTo>
                        <a:pt x="261" y="701"/>
                      </a:lnTo>
                      <a:lnTo>
                        <a:pt x="261" y="701"/>
                      </a:lnTo>
                      <a:lnTo>
                        <a:pt x="261" y="701"/>
                      </a:lnTo>
                      <a:lnTo>
                        <a:pt x="254" y="701"/>
                      </a:lnTo>
                      <a:lnTo>
                        <a:pt x="254" y="701"/>
                      </a:lnTo>
                      <a:lnTo>
                        <a:pt x="254" y="701"/>
                      </a:lnTo>
                      <a:lnTo>
                        <a:pt x="248" y="694"/>
                      </a:lnTo>
                      <a:lnTo>
                        <a:pt x="248" y="694"/>
                      </a:lnTo>
                      <a:lnTo>
                        <a:pt x="248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94"/>
                      </a:lnTo>
                      <a:lnTo>
                        <a:pt x="234" y="694"/>
                      </a:lnTo>
                      <a:lnTo>
                        <a:pt x="234" y="694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0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94"/>
                      </a:lnTo>
                      <a:lnTo>
                        <a:pt x="213" y="687"/>
                      </a:lnTo>
                      <a:lnTo>
                        <a:pt x="213" y="694"/>
                      </a:lnTo>
                      <a:lnTo>
                        <a:pt x="213" y="687"/>
                      </a:lnTo>
                      <a:lnTo>
                        <a:pt x="213" y="694"/>
                      </a:lnTo>
                      <a:lnTo>
                        <a:pt x="213" y="687"/>
                      </a:lnTo>
                      <a:lnTo>
                        <a:pt x="220" y="687"/>
                      </a:lnTo>
                      <a:lnTo>
                        <a:pt x="213" y="687"/>
                      </a:lnTo>
                      <a:lnTo>
                        <a:pt x="213" y="687"/>
                      </a:lnTo>
                      <a:lnTo>
                        <a:pt x="213" y="687"/>
                      </a:lnTo>
                      <a:lnTo>
                        <a:pt x="213" y="687"/>
                      </a:lnTo>
                      <a:lnTo>
                        <a:pt x="220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20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06" y="680"/>
                      </a:lnTo>
                      <a:lnTo>
                        <a:pt x="213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7"/>
                      </a:lnTo>
                      <a:lnTo>
                        <a:pt x="206" y="687"/>
                      </a:lnTo>
                      <a:lnTo>
                        <a:pt x="206" y="687"/>
                      </a:lnTo>
                      <a:lnTo>
                        <a:pt x="206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73"/>
                      </a:lnTo>
                      <a:lnTo>
                        <a:pt x="193" y="680"/>
                      </a:lnTo>
                      <a:lnTo>
                        <a:pt x="186" y="680"/>
                      </a:lnTo>
                      <a:lnTo>
                        <a:pt x="186" y="673"/>
                      </a:lnTo>
                      <a:lnTo>
                        <a:pt x="186" y="673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79" y="694"/>
                      </a:lnTo>
                      <a:lnTo>
                        <a:pt x="179" y="694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66"/>
                      </a:lnTo>
                      <a:lnTo>
                        <a:pt x="179" y="666"/>
                      </a:lnTo>
                      <a:lnTo>
                        <a:pt x="179" y="666"/>
                      </a:lnTo>
                      <a:lnTo>
                        <a:pt x="179" y="666"/>
                      </a:lnTo>
                      <a:lnTo>
                        <a:pt x="179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65" y="666"/>
                      </a:lnTo>
                      <a:lnTo>
                        <a:pt x="172" y="659"/>
                      </a:lnTo>
                      <a:lnTo>
                        <a:pt x="165" y="659"/>
                      </a:lnTo>
                      <a:lnTo>
                        <a:pt x="165" y="659"/>
                      </a:lnTo>
                      <a:lnTo>
                        <a:pt x="165" y="659"/>
                      </a:lnTo>
                      <a:lnTo>
                        <a:pt x="165" y="659"/>
                      </a:lnTo>
                      <a:lnTo>
                        <a:pt x="165" y="653"/>
                      </a:lnTo>
                      <a:lnTo>
                        <a:pt x="165" y="653"/>
                      </a:lnTo>
                      <a:lnTo>
                        <a:pt x="165" y="653"/>
                      </a:lnTo>
                      <a:lnTo>
                        <a:pt x="165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53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38" y="659"/>
                      </a:lnTo>
                      <a:lnTo>
                        <a:pt x="138" y="659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46"/>
                      </a:lnTo>
                      <a:lnTo>
                        <a:pt x="131" y="646"/>
                      </a:lnTo>
                      <a:lnTo>
                        <a:pt x="131" y="653"/>
                      </a:lnTo>
                      <a:lnTo>
                        <a:pt x="131" y="653"/>
                      </a:lnTo>
                      <a:lnTo>
                        <a:pt x="131" y="653"/>
                      </a:lnTo>
                      <a:lnTo>
                        <a:pt x="131" y="653"/>
                      </a:lnTo>
                      <a:lnTo>
                        <a:pt x="131" y="653"/>
                      </a:lnTo>
                      <a:lnTo>
                        <a:pt x="124" y="653"/>
                      </a:lnTo>
                      <a:lnTo>
                        <a:pt x="124" y="653"/>
                      </a:lnTo>
                      <a:lnTo>
                        <a:pt x="124" y="659"/>
                      </a:lnTo>
                      <a:lnTo>
                        <a:pt x="124" y="659"/>
                      </a:lnTo>
                      <a:lnTo>
                        <a:pt x="124" y="659"/>
                      </a:lnTo>
                      <a:lnTo>
                        <a:pt x="124" y="659"/>
                      </a:lnTo>
                      <a:lnTo>
                        <a:pt x="124" y="659"/>
                      </a:lnTo>
                      <a:lnTo>
                        <a:pt x="124" y="666"/>
                      </a:lnTo>
                      <a:lnTo>
                        <a:pt x="124" y="666"/>
                      </a:lnTo>
                      <a:lnTo>
                        <a:pt x="124" y="666"/>
                      </a:lnTo>
                      <a:lnTo>
                        <a:pt x="117" y="666"/>
                      </a:lnTo>
                      <a:lnTo>
                        <a:pt x="117" y="666"/>
                      </a:lnTo>
                      <a:lnTo>
                        <a:pt x="117" y="673"/>
                      </a:lnTo>
                      <a:lnTo>
                        <a:pt x="117" y="673"/>
                      </a:lnTo>
                      <a:lnTo>
                        <a:pt x="117" y="673"/>
                      </a:lnTo>
                      <a:lnTo>
                        <a:pt x="117" y="673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7"/>
                      </a:lnTo>
                      <a:lnTo>
                        <a:pt x="117" y="687"/>
                      </a:lnTo>
                      <a:lnTo>
                        <a:pt x="117" y="687"/>
                      </a:lnTo>
                      <a:lnTo>
                        <a:pt x="117" y="687"/>
                      </a:lnTo>
                      <a:lnTo>
                        <a:pt x="103" y="680"/>
                      </a:lnTo>
                      <a:lnTo>
                        <a:pt x="96" y="680"/>
                      </a:lnTo>
                      <a:lnTo>
                        <a:pt x="69" y="666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2" y="659"/>
                      </a:lnTo>
                      <a:lnTo>
                        <a:pt x="62" y="659"/>
                      </a:lnTo>
                      <a:lnTo>
                        <a:pt x="62" y="659"/>
                      </a:lnTo>
                      <a:lnTo>
                        <a:pt x="62" y="659"/>
                      </a:lnTo>
                      <a:lnTo>
                        <a:pt x="62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3"/>
                      </a:lnTo>
                      <a:lnTo>
                        <a:pt x="48" y="659"/>
                      </a:lnTo>
                      <a:lnTo>
                        <a:pt x="48" y="653"/>
                      </a:lnTo>
                      <a:lnTo>
                        <a:pt x="48" y="653"/>
                      </a:lnTo>
                      <a:lnTo>
                        <a:pt x="48" y="659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35" y="653"/>
                      </a:lnTo>
                      <a:lnTo>
                        <a:pt x="35" y="653"/>
                      </a:lnTo>
                      <a:lnTo>
                        <a:pt x="35" y="653"/>
                      </a:lnTo>
                      <a:lnTo>
                        <a:pt x="35" y="653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42" y="639"/>
                      </a:lnTo>
                      <a:lnTo>
                        <a:pt x="35" y="639"/>
                      </a:lnTo>
                      <a:lnTo>
                        <a:pt x="42" y="639"/>
                      </a:lnTo>
                      <a:lnTo>
                        <a:pt x="35" y="639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1"/>
                      </a:lnTo>
                      <a:lnTo>
                        <a:pt x="48" y="611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2" y="618"/>
                      </a:lnTo>
                      <a:lnTo>
                        <a:pt x="48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35" y="618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28" y="625"/>
                      </a:lnTo>
                      <a:lnTo>
                        <a:pt x="28" y="625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1" y="639"/>
                      </a:lnTo>
                      <a:lnTo>
                        <a:pt x="28" y="639"/>
                      </a:lnTo>
                      <a:lnTo>
                        <a:pt x="28" y="632"/>
                      </a:lnTo>
                      <a:lnTo>
                        <a:pt x="28" y="639"/>
                      </a:lnTo>
                      <a:lnTo>
                        <a:pt x="21" y="639"/>
                      </a:lnTo>
                      <a:lnTo>
                        <a:pt x="28" y="639"/>
                      </a:lnTo>
                      <a:lnTo>
                        <a:pt x="21" y="639"/>
                      </a:lnTo>
                      <a:lnTo>
                        <a:pt x="28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53"/>
                      </a:lnTo>
                      <a:lnTo>
                        <a:pt x="21" y="653"/>
                      </a:lnTo>
                      <a:lnTo>
                        <a:pt x="21" y="653"/>
                      </a:lnTo>
                      <a:lnTo>
                        <a:pt x="14" y="653"/>
                      </a:lnTo>
                      <a:lnTo>
                        <a:pt x="14" y="653"/>
                      </a:lnTo>
                      <a:lnTo>
                        <a:pt x="14" y="653"/>
                      </a:lnTo>
                      <a:lnTo>
                        <a:pt x="14" y="653"/>
                      </a:lnTo>
                      <a:lnTo>
                        <a:pt x="14" y="653"/>
                      </a:lnTo>
                      <a:lnTo>
                        <a:pt x="14" y="646"/>
                      </a:lnTo>
                      <a:lnTo>
                        <a:pt x="7" y="646"/>
                      </a:lnTo>
                      <a:lnTo>
                        <a:pt x="7" y="653"/>
                      </a:lnTo>
                      <a:lnTo>
                        <a:pt x="7" y="653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2"/>
                      </a:lnTo>
                      <a:lnTo>
                        <a:pt x="7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7" y="632"/>
                      </a:lnTo>
                      <a:lnTo>
                        <a:pt x="7" y="632"/>
                      </a:lnTo>
                      <a:lnTo>
                        <a:pt x="0" y="632"/>
                      </a:lnTo>
                      <a:lnTo>
                        <a:pt x="7" y="625"/>
                      </a:lnTo>
                      <a:lnTo>
                        <a:pt x="7" y="625"/>
                      </a:lnTo>
                      <a:lnTo>
                        <a:pt x="7" y="625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1"/>
                      </a:lnTo>
                      <a:lnTo>
                        <a:pt x="7" y="611"/>
                      </a:lnTo>
                      <a:lnTo>
                        <a:pt x="7" y="611"/>
                      </a:lnTo>
                      <a:lnTo>
                        <a:pt x="7" y="611"/>
                      </a:lnTo>
                      <a:lnTo>
                        <a:pt x="7" y="611"/>
                      </a:lnTo>
                      <a:lnTo>
                        <a:pt x="7" y="604"/>
                      </a:lnTo>
                      <a:lnTo>
                        <a:pt x="7" y="604"/>
                      </a:lnTo>
                      <a:lnTo>
                        <a:pt x="7" y="604"/>
                      </a:lnTo>
                      <a:lnTo>
                        <a:pt x="7" y="604"/>
                      </a:lnTo>
                      <a:lnTo>
                        <a:pt x="7" y="597"/>
                      </a:lnTo>
                      <a:lnTo>
                        <a:pt x="7" y="597"/>
                      </a:lnTo>
                      <a:lnTo>
                        <a:pt x="0" y="597"/>
                      </a:lnTo>
                      <a:lnTo>
                        <a:pt x="0" y="597"/>
                      </a:lnTo>
                      <a:lnTo>
                        <a:pt x="0" y="597"/>
                      </a:lnTo>
                      <a:lnTo>
                        <a:pt x="0" y="597"/>
                      </a:lnTo>
                      <a:lnTo>
                        <a:pt x="7" y="590"/>
                      </a:lnTo>
                      <a:lnTo>
                        <a:pt x="7" y="590"/>
                      </a:lnTo>
                      <a:lnTo>
                        <a:pt x="7" y="590"/>
                      </a:lnTo>
                      <a:lnTo>
                        <a:pt x="7" y="583"/>
                      </a:lnTo>
                      <a:lnTo>
                        <a:pt x="0" y="583"/>
                      </a:lnTo>
                      <a:lnTo>
                        <a:pt x="0" y="583"/>
                      </a:lnTo>
                      <a:lnTo>
                        <a:pt x="7" y="583"/>
                      </a:lnTo>
                      <a:lnTo>
                        <a:pt x="0" y="583"/>
                      </a:lnTo>
                      <a:lnTo>
                        <a:pt x="0" y="576"/>
                      </a:lnTo>
                      <a:lnTo>
                        <a:pt x="7" y="576"/>
                      </a:lnTo>
                      <a:lnTo>
                        <a:pt x="7" y="576"/>
                      </a:lnTo>
                      <a:lnTo>
                        <a:pt x="7" y="576"/>
                      </a:lnTo>
                      <a:lnTo>
                        <a:pt x="7" y="576"/>
                      </a:lnTo>
                      <a:lnTo>
                        <a:pt x="7" y="569"/>
                      </a:lnTo>
                      <a:lnTo>
                        <a:pt x="7" y="569"/>
                      </a:lnTo>
                      <a:lnTo>
                        <a:pt x="7" y="569"/>
                      </a:lnTo>
                      <a:lnTo>
                        <a:pt x="0" y="569"/>
                      </a:lnTo>
                      <a:lnTo>
                        <a:pt x="0" y="562"/>
                      </a:lnTo>
                      <a:lnTo>
                        <a:pt x="0" y="562"/>
                      </a:lnTo>
                      <a:lnTo>
                        <a:pt x="0" y="562"/>
                      </a:lnTo>
                      <a:lnTo>
                        <a:pt x="0" y="562"/>
                      </a:lnTo>
                      <a:lnTo>
                        <a:pt x="0" y="562"/>
                      </a:lnTo>
                      <a:lnTo>
                        <a:pt x="0" y="555"/>
                      </a:lnTo>
                      <a:lnTo>
                        <a:pt x="0" y="555"/>
                      </a:lnTo>
                      <a:lnTo>
                        <a:pt x="0" y="555"/>
                      </a:lnTo>
                      <a:lnTo>
                        <a:pt x="7" y="555"/>
                      </a:lnTo>
                      <a:lnTo>
                        <a:pt x="7" y="555"/>
                      </a:lnTo>
                      <a:lnTo>
                        <a:pt x="7" y="555"/>
                      </a:lnTo>
                      <a:lnTo>
                        <a:pt x="7" y="548"/>
                      </a:lnTo>
                      <a:lnTo>
                        <a:pt x="7" y="548"/>
                      </a:lnTo>
                      <a:lnTo>
                        <a:pt x="7" y="548"/>
                      </a:lnTo>
                      <a:lnTo>
                        <a:pt x="7" y="548"/>
                      </a:lnTo>
                      <a:lnTo>
                        <a:pt x="7" y="542"/>
                      </a:lnTo>
                      <a:lnTo>
                        <a:pt x="7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35"/>
                      </a:lnTo>
                      <a:lnTo>
                        <a:pt x="0" y="535"/>
                      </a:lnTo>
                      <a:lnTo>
                        <a:pt x="0" y="535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714920" y="3415320"/>
                  <a:ext cx="536040" cy="629280"/>
                </a:xfrm>
                <a:custGeom>
                  <a:avLst/>
                  <a:gdLst/>
                  <a:ahLst/>
                  <a:rect l="l" t="t" r="r" b="b"/>
                  <a:pathLst>
                    <a:path w="426" h="535">
                      <a:moveTo>
                        <a:pt x="0" y="535"/>
                      </a:move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7" y="521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7" y="486"/>
                      </a:lnTo>
                      <a:lnTo>
                        <a:pt x="7" y="486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14" y="479"/>
                      </a:lnTo>
                      <a:lnTo>
                        <a:pt x="14" y="479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7" y="465"/>
                      </a:lnTo>
                      <a:lnTo>
                        <a:pt x="7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44"/>
                      </a:lnTo>
                      <a:lnTo>
                        <a:pt x="21" y="444"/>
                      </a:lnTo>
                      <a:lnTo>
                        <a:pt x="21" y="444"/>
                      </a:lnTo>
                      <a:lnTo>
                        <a:pt x="28" y="444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1"/>
                      </a:lnTo>
                      <a:lnTo>
                        <a:pt x="28" y="431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42" y="403"/>
                      </a:lnTo>
                      <a:lnTo>
                        <a:pt x="42" y="403"/>
                      </a:lnTo>
                      <a:lnTo>
                        <a:pt x="42" y="403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1"/>
                      </a:lnTo>
                      <a:lnTo>
                        <a:pt x="55" y="361"/>
                      </a:lnTo>
                      <a:lnTo>
                        <a:pt x="55" y="361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76" y="333"/>
                      </a:lnTo>
                      <a:lnTo>
                        <a:pt x="76" y="333"/>
                      </a:lnTo>
                      <a:lnTo>
                        <a:pt x="76" y="327"/>
                      </a:lnTo>
                      <a:lnTo>
                        <a:pt x="76" y="327"/>
                      </a:lnTo>
                      <a:lnTo>
                        <a:pt x="76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90" y="313"/>
                      </a:lnTo>
                      <a:lnTo>
                        <a:pt x="90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06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10" y="292"/>
                      </a:lnTo>
                      <a:lnTo>
                        <a:pt x="110" y="292"/>
                      </a:lnTo>
                      <a:lnTo>
                        <a:pt x="110" y="292"/>
                      </a:lnTo>
                      <a:lnTo>
                        <a:pt x="110" y="285"/>
                      </a:lnTo>
                      <a:lnTo>
                        <a:pt x="110" y="285"/>
                      </a:lnTo>
                      <a:lnTo>
                        <a:pt x="110" y="278"/>
                      </a:lnTo>
                      <a:lnTo>
                        <a:pt x="110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64"/>
                      </a:lnTo>
                      <a:lnTo>
                        <a:pt x="124" y="264"/>
                      </a:lnTo>
                      <a:lnTo>
                        <a:pt x="124" y="257"/>
                      </a:lnTo>
                      <a:lnTo>
                        <a:pt x="131" y="257"/>
                      </a:lnTo>
                      <a:lnTo>
                        <a:pt x="131" y="257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24" y="222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09"/>
                      </a:lnTo>
                      <a:lnTo>
                        <a:pt x="110" y="209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7" y="195"/>
                      </a:lnTo>
                      <a:lnTo>
                        <a:pt x="117" y="195"/>
                      </a:lnTo>
                      <a:lnTo>
                        <a:pt x="117" y="195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31" y="181"/>
                      </a:lnTo>
                      <a:lnTo>
                        <a:pt x="131" y="181"/>
                      </a:lnTo>
                      <a:lnTo>
                        <a:pt x="131" y="174"/>
                      </a:lnTo>
                      <a:lnTo>
                        <a:pt x="131" y="174"/>
                      </a:lnTo>
                      <a:lnTo>
                        <a:pt x="131" y="174"/>
                      </a:lnTo>
                      <a:lnTo>
                        <a:pt x="131" y="167"/>
                      </a:lnTo>
                      <a:lnTo>
                        <a:pt x="131" y="160"/>
                      </a:lnTo>
                      <a:lnTo>
                        <a:pt x="131" y="160"/>
                      </a:lnTo>
                      <a:lnTo>
                        <a:pt x="131" y="160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8" y="146"/>
                      </a:lnTo>
                      <a:lnTo>
                        <a:pt x="138" y="146"/>
                      </a:lnTo>
                      <a:lnTo>
                        <a:pt x="145" y="139"/>
                      </a:lnTo>
                      <a:lnTo>
                        <a:pt x="145" y="139"/>
                      </a:lnTo>
                      <a:lnTo>
                        <a:pt x="145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2" y="132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9" y="111"/>
                      </a:lnTo>
                      <a:lnTo>
                        <a:pt x="179" y="111"/>
                      </a:lnTo>
                      <a:lnTo>
                        <a:pt x="179" y="111"/>
                      </a:lnTo>
                      <a:lnTo>
                        <a:pt x="179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93" y="105"/>
                      </a:lnTo>
                      <a:lnTo>
                        <a:pt x="193" y="105"/>
                      </a:lnTo>
                      <a:lnTo>
                        <a:pt x="193" y="105"/>
                      </a:lnTo>
                      <a:lnTo>
                        <a:pt x="199" y="105"/>
                      </a:lnTo>
                      <a:lnTo>
                        <a:pt x="199" y="105"/>
                      </a:lnTo>
                      <a:lnTo>
                        <a:pt x="199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84"/>
                      </a:lnTo>
                      <a:lnTo>
                        <a:pt x="193" y="84"/>
                      </a:lnTo>
                      <a:lnTo>
                        <a:pt x="199" y="84"/>
                      </a:lnTo>
                      <a:lnTo>
                        <a:pt x="199" y="84"/>
                      </a:lnTo>
                      <a:lnTo>
                        <a:pt x="199" y="84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06" y="77"/>
                      </a:lnTo>
                      <a:lnTo>
                        <a:pt x="206" y="77"/>
                      </a:lnTo>
                      <a:lnTo>
                        <a:pt x="206" y="77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0"/>
                      </a:lnTo>
                      <a:lnTo>
                        <a:pt x="199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20" y="42"/>
                      </a:lnTo>
                      <a:lnTo>
                        <a:pt x="220" y="42"/>
                      </a:lnTo>
                      <a:lnTo>
                        <a:pt x="220" y="42"/>
                      </a:lnTo>
                      <a:lnTo>
                        <a:pt x="220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14"/>
                      </a:lnTo>
                      <a:lnTo>
                        <a:pt x="165" y="21"/>
                      </a:lnTo>
                      <a:lnTo>
                        <a:pt x="172" y="14"/>
                      </a:lnTo>
                      <a:lnTo>
                        <a:pt x="172" y="21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7"/>
                      </a:lnTo>
                      <a:lnTo>
                        <a:pt x="186" y="7"/>
                      </a:lnTo>
                      <a:lnTo>
                        <a:pt x="186" y="7"/>
                      </a:lnTo>
                      <a:lnTo>
                        <a:pt x="186" y="7"/>
                      </a:lnTo>
                      <a:lnTo>
                        <a:pt x="186" y="0"/>
                      </a:lnTo>
                      <a:lnTo>
                        <a:pt x="193" y="0"/>
                      </a:lnTo>
                      <a:lnTo>
                        <a:pt x="193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20" y="7"/>
                      </a:lnTo>
                      <a:lnTo>
                        <a:pt x="220" y="14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1" y="7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54" y="21"/>
                      </a:lnTo>
                      <a:lnTo>
                        <a:pt x="254" y="21"/>
                      </a:lnTo>
                      <a:lnTo>
                        <a:pt x="261" y="21"/>
                      </a:lnTo>
                      <a:lnTo>
                        <a:pt x="261" y="28"/>
                      </a:lnTo>
                      <a:lnTo>
                        <a:pt x="268" y="28"/>
                      </a:lnTo>
                      <a:lnTo>
                        <a:pt x="268" y="28"/>
                      </a:lnTo>
                      <a:lnTo>
                        <a:pt x="268" y="28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42"/>
                      </a:lnTo>
                      <a:lnTo>
                        <a:pt x="275" y="42"/>
                      </a:lnTo>
                      <a:lnTo>
                        <a:pt x="275" y="42"/>
                      </a:lnTo>
                      <a:lnTo>
                        <a:pt x="275" y="49"/>
                      </a:lnTo>
                      <a:lnTo>
                        <a:pt x="275" y="49"/>
                      </a:lnTo>
                      <a:lnTo>
                        <a:pt x="275" y="49"/>
                      </a:lnTo>
                      <a:lnTo>
                        <a:pt x="275" y="56"/>
                      </a:lnTo>
                      <a:lnTo>
                        <a:pt x="275" y="56"/>
                      </a:lnTo>
                      <a:lnTo>
                        <a:pt x="275" y="63"/>
                      </a:lnTo>
                      <a:lnTo>
                        <a:pt x="275" y="63"/>
                      </a:lnTo>
                      <a:lnTo>
                        <a:pt x="275" y="70"/>
                      </a:lnTo>
                      <a:lnTo>
                        <a:pt x="275" y="70"/>
                      </a:lnTo>
                      <a:lnTo>
                        <a:pt x="275" y="70"/>
                      </a:lnTo>
                      <a:lnTo>
                        <a:pt x="275" y="77"/>
                      </a:lnTo>
                      <a:lnTo>
                        <a:pt x="275" y="77"/>
                      </a:lnTo>
                      <a:lnTo>
                        <a:pt x="275" y="77"/>
                      </a:lnTo>
                      <a:lnTo>
                        <a:pt x="275" y="84"/>
                      </a:lnTo>
                      <a:lnTo>
                        <a:pt x="275" y="84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8"/>
                      </a:lnTo>
                      <a:lnTo>
                        <a:pt x="282" y="98"/>
                      </a:lnTo>
                      <a:lnTo>
                        <a:pt x="282" y="98"/>
                      </a:lnTo>
                      <a:lnTo>
                        <a:pt x="282" y="105"/>
                      </a:lnTo>
                      <a:lnTo>
                        <a:pt x="282" y="105"/>
                      </a:lnTo>
                      <a:lnTo>
                        <a:pt x="282" y="105"/>
                      </a:lnTo>
                      <a:lnTo>
                        <a:pt x="275" y="105"/>
                      </a:lnTo>
                      <a:lnTo>
                        <a:pt x="275" y="111"/>
                      </a:lnTo>
                      <a:lnTo>
                        <a:pt x="282" y="111"/>
                      </a:lnTo>
                      <a:lnTo>
                        <a:pt x="275" y="111"/>
                      </a:lnTo>
                      <a:lnTo>
                        <a:pt x="275" y="118"/>
                      </a:lnTo>
                      <a:lnTo>
                        <a:pt x="275" y="118"/>
                      </a:lnTo>
                      <a:lnTo>
                        <a:pt x="275" y="118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9"/>
                      </a:lnTo>
                      <a:lnTo>
                        <a:pt x="268" y="139"/>
                      </a:lnTo>
                      <a:lnTo>
                        <a:pt x="268" y="139"/>
                      </a:lnTo>
                      <a:lnTo>
                        <a:pt x="268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68" y="153"/>
                      </a:lnTo>
                      <a:lnTo>
                        <a:pt x="268" y="153"/>
                      </a:lnTo>
                      <a:lnTo>
                        <a:pt x="268" y="153"/>
                      </a:lnTo>
                      <a:lnTo>
                        <a:pt x="268" y="160"/>
                      </a:lnTo>
                      <a:lnTo>
                        <a:pt x="268" y="160"/>
                      </a:lnTo>
                      <a:lnTo>
                        <a:pt x="268" y="160"/>
                      </a:lnTo>
                      <a:lnTo>
                        <a:pt x="261" y="160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8" y="181"/>
                      </a:lnTo>
                      <a:lnTo>
                        <a:pt x="268" y="181"/>
                      </a:lnTo>
                      <a:lnTo>
                        <a:pt x="268" y="181"/>
                      </a:lnTo>
                      <a:lnTo>
                        <a:pt x="275" y="181"/>
                      </a:lnTo>
                      <a:lnTo>
                        <a:pt x="275" y="181"/>
                      </a:lnTo>
                      <a:lnTo>
                        <a:pt x="275" y="188"/>
                      </a:lnTo>
                      <a:lnTo>
                        <a:pt x="275" y="188"/>
                      </a:lnTo>
                      <a:lnTo>
                        <a:pt x="275" y="188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1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75" y="195"/>
                      </a:lnTo>
                      <a:lnTo>
                        <a:pt x="275" y="195"/>
                      </a:lnTo>
                      <a:lnTo>
                        <a:pt x="275" y="195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82" y="202"/>
                      </a:lnTo>
                      <a:lnTo>
                        <a:pt x="282" y="202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16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9" y="209"/>
                      </a:lnTo>
                      <a:lnTo>
                        <a:pt x="289" y="209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9" y="236"/>
                      </a:lnTo>
                      <a:lnTo>
                        <a:pt x="302" y="236"/>
                      </a:lnTo>
                      <a:lnTo>
                        <a:pt x="309" y="236"/>
                      </a:lnTo>
                      <a:lnTo>
                        <a:pt x="302" y="236"/>
                      </a:lnTo>
                      <a:lnTo>
                        <a:pt x="309" y="243"/>
                      </a:lnTo>
                      <a:lnTo>
                        <a:pt x="302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16" y="243"/>
                      </a:lnTo>
                      <a:lnTo>
                        <a:pt x="316" y="250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51" y="229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7" y="236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1" y="264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9" y="320"/>
                      </a:lnTo>
                      <a:lnTo>
                        <a:pt x="316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7" y="354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8"/>
                      </a:lnTo>
                      <a:lnTo>
                        <a:pt x="344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82"/>
                      </a:lnTo>
                      <a:lnTo>
                        <a:pt x="351" y="382"/>
                      </a:lnTo>
                      <a:lnTo>
                        <a:pt x="351" y="382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51" y="389"/>
                      </a:lnTo>
                      <a:lnTo>
                        <a:pt x="351" y="389"/>
                      </a:lnTo>
                      <a:lnTo>
                        <a:pt x="351" y="389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7"/>
                      </a:lnTo>
                      <a:lnTo>
                        <a:pt x="357" y="417"/>
                      </a:lnTo>
                      <a:lnTo>
                        <a:pt x="364" y="417"/>
                      </a:lnTo>
                      <a:lnTo>
                        <a:pt x="364" y="417"/>
                      </a:lnTo>
                      <a:lnTo>
                        <a:pt x="364" y="417"/>
                      </a:lnTo>
                      <a:lnTo>
                        <a:pt x="364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8" y="424"/>
                      </a:lnTo>
                      <a:lnTo>
                        <a:pt x="378" y="424"/>
                      </a:lnTo>
                      <a:lnTo>
                        <a:pt x="378" y="424"/>
                      </a:lnTo>
                      <a:lnTo>
                        <a:pt x="385" y="424"/>
                      </a:lnTo>
                      <a:lnTo>
                        <a:pt x="385" y="424"/>
                      </a:lnTo>
                      <a:lnTo>
                        <a:pt x="385" y="424"/>
                      </a:lnTo>
                      <a:lnTo>
                        <a:pt x="385" y="431"/>
                      </a:lnTo>
                      <a:lnTo>
                        <a:pt x="385" y="431"/>
                      </a:lnTo>
                      <a:lnTo>
                        <a:pt x="392" y="431"/>
                      </a:lnTo>
                      <a:lnTo>
                        <a:pt x="392" y="424"/>
                      </a:lnTo>
                      <a:lnTo>
                        <a:pt x="399" y="424"/>
                      </a:lnTo>
                      <a:lnTo>
                        <a:pt x="399" y="424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405" y="431"/>
                      </a:lnTo>
                      <a:lnTo>
                        <a:pt x="405" y="431"/>
                      </a:lnTo>
                      <a:lnTo>
                        <a:pt x="412" y="431"/>
                      </a:lnTo>
                      <a:lnTo>
                        <a:pt x="412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24"/>
                      </a:lnTo>
                      <a:lnTo>
                        <a:pt x="419" y="424"/>
                      </a:lnTo>
                      <a:lnTo>
                        <a:pt x="419" y="424"/>
                      </a:lnTo>
                      <a:lnTo>
                        <a:pt x="426" y="424"/>
                      </a:lnTo>
                      <a:lnTo>
                        <a:pt x="426" y="424"/>
                      </a:lnTo>
                      <a:lnTo>
                        <a:pt x="426" y="424"/>
                      </a:lnTo>
                      <a:lnTo>
                        <a:pt x="426" y="431"/>
                      </a:lnTo>
                      <a:lnTo>
                        <a:pt x="426" y="431"/>
                      </a:lnTo>
                      <a:lnTo>
                        <a:pt x="426" y="431"/>
                      </a:lnTo>
                      <a:lnTo>
                        <a:pt x="426" y="437"/>
                      </a:lnTo>
                      <a:lnTo>
                        <a:pt x="426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2" y="437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51"/>
                      </a:lnTo>
                      <a:lnTo>
                        <a:pt x="412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2" y="458"/>
                      </a:lnTo>
                      <a:lnTo>
                        <a:pt x="392" y="458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78" y="465"/>
                      </a:lnTo>
                      <a:lnTo>
                        <a:pt x="378" y="465"/>
                      </a:lnTo>
                      <a:lnTo>
                        <a:pt x="385" y="472"/>
                      </a:lnTo>
                      <a:lnTo>
                        <a:pt x="385" y="472"/>
                      </a:lnTo>
                      <a:lnTo>
                        <a:pt x="378" y="472"/>
                      </a:lnTo>
                      <a:lnTo>
                        <a:pt x="378" y="472"/>
                      </a:lnTo>
                      <a:lnTo>
                        <a:pt x="378" y="472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1" y="486"/>
                      </a:lnTo>
                      <a:lnTo>
                        <a:pt x="371" y="486"/>
                      </a:lnTo>
                      <a:lnTo>
                        <a:pt x="378" y="486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64" y="493"/>
                      </a:lnTo>
                      <a:lnTo>
                        <a:pt x="364" y="493"/>
                      </a:lnTo>
                      <a:lnTo>
                        <a:pt x="364" y="493"/>
                      </a:lnTo>
                      <a:lnTo>
                        <a:pt x="364" y="500"/>
                      </a:lnTo>
                      <a:lnTo>
                        <a:pt x="364" y="500"/>
                      </a:lnTo>
                      <a:lnTo>
                        <a:pt x="364" y="507"/>
                      </a:lnTo>
                      <a:lnTo>
                        <a:pt x="357" y="507"/>
                      </a:lnTo>
                      <a:lnTo>
                        <a:pt x="357" y="514"/>
                      </a:lnTo>
                      <a:lnTo>
                        <a:pt x="357" y="514"/>
                      </a:lnTo>
                      <a:lnTo>
                        <a:pt x="357" y="514"/>
                      </a:lnTo>
                      <a:lnTo>
                        <a:pt x="351" y="514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714920" y="4028400"/>
                  <a:ext cx="493200" cy="211320"/>
                </a:xfrm>
                <a:custGeom>
                  <a:avLst/>
                  <a:gdLst/>
                  <a:ahLst/>
                  <a:rect l="l" t="t" r="r" b="b"/>
                  <a:pathLst>
                    <a:path w="392" h="180">
                      <a:moveTo>
                        <a:pt x="351" y="0"/>
                      </a:moveTo>
                      <a:lnTo>
                        <a:pt x="351" y="0"/>
                      </a:lnTo>
                      <a:lnTo>
                        <a:pt x="351" y="0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78" y="21"/>
                      </a:lnTo>
                      <a:lnTo>
                        <a:pt x="378" y="21"/>
                      </a:lnTo>
                      <a:lnTo>
                        <a:pt x="378" y="21"/>
                      </a:lnTo>
                      <a:lnTo>
                        <a:pt x="378" y="21"/>
                      </a:lnTo>
                      <a:lnTo>
                        <a:pt x="378" y="21"/>
                      </a:lnTo>
                      <a:lnTo>
                        <a:pt x="378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92" y="27"/>
                      </a:lnTo>
                      <a:lnTo>
                        <a:pt x="392" y="27"/>
                      </a:lnTo>
                      <a:lnTo>
                        <a:pt x="392" y="27"/>
                      </a:lnTo>
                      <a:lnTo>
                        <a:pt x="392" y="27"/>
                      </a:lnTo>
                      <a:lnTo>
                        <a:pt x="392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78" y="27"/>
                      </a:lnTo>
                      <a:lnTo>
                        <a:pt x="378" y="27"/>
                      </a:lnTo>
                      <a:lnTo>
                        <a:pt x="378" y="27"/>
                      </a:lnTo>
                      <a:lnTo>
                        <a:pt x="378" y="27"/>
                      </a:lnTo>
                      <a:lnTo>
                        <a:pt x="371" y="27"/>
                      </a:lnTo>
                      <a:lnTo>
                        <a:pt x="371" y="27"/>
                      </a:lnTo>
                      <a:lnTo>
                        <a:pt x="371" y="27"/>
                      </a:lnTo>
                      <a:lnTo>
                        <a:pt x="371" y="27"/>
                      </a:lnTo>
                      <a:lnTo>
                        <a:pt x="371" y="27"/>
                      </a:lnTo>
                      <a:lnTo>
                        <a:pt x="371" y="34"/>
                      </a:lnTo>
                      <a:lnTo>
                        <a:pt x="371" y="34"/>
                      </a:lnTo>
                      <a:lnTo>
                        <a:pt x="371" y="34"/>
                      </a:lnTo>
                      <a:lnTo>
                        <a:pt x="371" y="34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64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8" y="48"/>
                      </a:lnTo>
                      <a:lnTo>
                        <a:pt x="378" y="48"/>
                      </a:lnTo>
                      <a:lnTo>
                        <a:pt x="378" y="48"/>
                      </a:lnTo>
                      <a:lnTo>
                        <a:pt x="378" y="48"/>
                      </a:lnTo>
                      <a:lnTo>
                        <a:pt x="385" y="48"/>
                      </a:lnTo>
                      <a:lnTo>
                        <a:pt x="385" y="48"/>
                      </a:lnTo>
                      <a:lnTo>
                        <a:pt x="385" y="48"/>
                      </a:lnTo>
                      <a:lnTo>
                        <a:pt x="385" y="48"/>
                      </a:lnTo>
                      <a:lnTo>
                        <a:pt x="385" y="55"/>
                      </a:lnTo>
                      <a:lnTo>
                        <a:pt x="385" y="55"/>
                      </a:lnTo>
                      <a:lnTo>
                        <a:pt x="378" y="55"/>
                      </a:lnTo>
                      <a:lnTo>
                        <a:pt x="378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62"/>
                      </a:lnTo>
                      <a:lnTo>
                        <a:pt x="371" y="62"/>
                      </a:lnTo>
                      <a:lnTo>
                        <a:pt x="364" y="62"/>
                      </a:lnTo>
                      <a:lnTo>
                        <a:pt x="364" y="62"/>
                      </a:lnTo>
                      <a:lnTo>
                        <a:pt x="364" y="62"/>
                      </a:lnTo>
                      <a:lnTo>
                        <a:pt x="364" y="62"/>
                      </a:lnTo>
                      <a:lnTo>
                        <a:pt x="364" y="62"/>
                      </a:lnTo>
                      <a:lnTo>
                        <a:pt x="364" y="69"/>
                      </a:lnTo>
                      <a:lnTo>
                        <a:pt x="364" y="69"/>
                      </a:lnTo>
                      <a:lnTo>
                        <a:pt x="371" y="69"/>
                      </a:lnTo>
                      <a:lnTo>
                        <a:pt x="371" y="69"/>
                      </a:lnTo>
                      <a:lnTo>
                        <a:pt x="371" y="69"/>
                      </a:lnTo>
                      <a:lnTo>
                        <a:pt x="371" y="69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71" y="76"/>
                      </a:lnTo>
                      <a:lnTo>
                        <a:pt x="371" y="76"/>
                      </a:lnTo>
                      <a:lnTo>
                        <a:pt x="371" y="76"/>
                      </a:lnTo>
                      <a:lnTo>
                        <a:pt x="371" y="76"/>
                      </a:lnTo>
                      <a:lnTo>
                        <a:pt x="364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64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104"/>
                      </a:lnTo>
                      <a:lnTo>
                        <a:pt x="378" y="104"/>
                      </a:lnTo>
                      <a:lnTo>
                        <a:pt x="385" y="97"/>
                      </a:lnTo>
                      <a:lnTo>
                        <a:pt x="385" y="97"/>
                      </a:lnTo>
                      <a:lnTo>
                        <a:pt x="385" y="97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78" y="104"/>
                      </a:lnTo>
                      <a:lnTo>
                        <a:pt x="378" y="104"/>
                      </a:lnTo>
                      <a:lnTo>
                        <a:pt x="378" y="104"/>
                      </a:lnTo>
                      <a:lnTo>
                        <a:pt x="378" y="111"/>
                      </a:lnTo>
                      <a:lnTo>
                        <a:pt x="378" y="111"/>
                      </a:lnTo>
                      <a:lnTo>
                        <a:pt x="378" y="111"/>
                      </a:lnTo>
                      <a:lnTo>
                        <a:pt x="371" y="111"/>
                      </a:lnTo>
                      <a:lnTo>
                        <a:pt x="378" y="111"/>
                      </a:lnTo>
                      <a:lnTo>
                        <a:pt x="378" y="111"/>
                      </a:lnTo>
                      <a:lnTo>
                        <a:pt x="378" y="111"/>
                      </a:lnTo>
                      <a:lnTo>
                        <a:pt x="378" y="118"/>
                      </a:lnTo>
                      <a:lnTo>
                        <a:pt x="378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8" y="118"/>
                      </a:lnTo>
                      <a:lnTo>
                        <a:pt x="378" y="118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8" y="138"/>
                      </a:lnTo>
                      <a:lnTo>
                        <a:pt x="378" y="138"/>
                      </a:lnTo>
                      <a:lnTo>
                        <a:pt x="378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92" y="138"/>
                      </a:lnTo>
                      <a:lnTo>
                        <a:pt x="392" y="138"/>
                      </a:lnTo>
                      <a:lnTo>
                        <a:pt x="392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78" y="138"/>
                      </a:lnTo>
                      <a:lnTo>
                        <a:pt x="378" y="138"/>
                      </a:lnTo>
                      <a:lnTo>
                        <a:pt x="378" y="138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64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8"/>
                      </a:lnTo>
                      <a:lnTo>
                        <a:pt x="364" y="138"/>
                      </a:lnTo>
                      <a:lnTo>
                        <a:pt x="364" y="138"/>
                      </a:lnTo>
                      <a:lnTo>
                        <a:pt x="357" y="138"/>
                      </a:lnTo>
                      <a:lnTo>
                        <a:pt x="357" y="138"/>
                      </a:lnTo>
                      <a:lnTo>
                        <a:pt x="344" y="138"/>
                      </a:lnTo>
                      <a:lnTo>
                        <a:pt x="337" y="138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52"/>
                      </a:lnTo>
                      <a:lnTo>
                        <a:pt x="323" y="152"/>
                      </a:lnTo>
                      <a:lnTo>
                        <a:pt x="323" y="145"/>
                      </a:lnTo>
                      <a:lnTo>
                        <a:pt x="323" y="152"/>
                      </a:lnTo>
                      <a:lnTo>
                        <a:pt x="323" y="145"/>
                      </a:lnTo>
                      <a:lnTo>
                        <a:pt x="323" y="145"/>
                      </a:lnTo>
                      <a:lnTo>
                        <a:pt x="323" y="152"/>
                      </a:lnTo>
                      <a:lnTo>
                        <a:pt x="323" y="152"/>
                      </a:lnTo>
                      <a:lnTo>
                        <a:pt x="323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296" y="159"/>
                      </a:lnTo>
                      <a:lnTo>
                        <a:pt x="302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66"/>
                      </a:lnTo>
                      <a:lnTo>
                        <a:pt x="296" y="166"/>
                      </a:lnTo>
                      <a:lnTo>
                        <a:pt x="296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68" y="159"/>
                      </a:lnTo>
                      <a:lnTo>
                        <a:pt x="268" y="159"/>
                      </a:lnTo>
                      <a:lnTo>
                        <a:pt x="268" y="159"/>
                      </a:lnTo>
                      <a:lnTo>
                        <a:pt x="268" y="159"/>
                      </a:lnTo>
                      <a:lnTo>
                        <a:pt x="268" y="159"/>
                      </a:lnTo>
                      <a:lnTo>
                        <a:pt x="268" y="152"/>
                      </a:lnTo>
                      <a:lnTo>
                        <a:pt x="268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54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54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80"/>
                      </a:lnTo>
                      <a:lnTo>
                        <a:pt x="261" y="180"/>
                      </a:lnTo>
                      <a:lnTo>
                        <a:pt x="261" y="180"/>
                      </a:lnTo>
                      <a:lnTo>
                        <a:pt x="261" y="180"/>
                      </a:lnTo>
                      <a:lnTo>
                        <a:pt x="261" y="180"/>
                      </a:lnTo>
                      <a:lnTo>
                        <a:pt x="254" y="180"/>
                      </a:lnTo>
                      <a:lnTo>
                        <a:pt x="254" y="180"/>
                      </a:lnTo>
                      <a:lnTo>
                        <a:pt x="254" y="180"/>
                      </a:lnTo>
                      <a:lnTo>
                        <a:pt x="248" y="173"/>
                      </a:lnTo>
                      <a:lnTo>
                        <a:pt x="248" y="173"/>
                      </a:lnTo>
                      <a:lnTo>
                        <a:pt x="248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73"/>
                      </a:lnTo>
                      <a:lnTo>
                        <a:pt x="234" y="173"/>
                      </a:lnTo>
                      <a:lnTo>
                        <a:pt x="234" y="173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0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73"/>
                      </a:lnTo>
                      <a:lnTo>
                        <a:pt x="213" y="166"/>
                      </a:lnTo>
                      <a:lnTo>
                        <a:pt x="213" y="173"/>
                      </a:lnTo>
                      <a:lnTo>
                        <a:pt x="213" y="166"/>
                      </a:lnTo>
                      <a:lnTo>
                        <a:pt x="213" y="173"/>
                      </a:lnTo>
                      <a:lnTo>
                        <a:pt x="213" y="166"/>
                      </a:lnTo>
                      <a:lnTo>
                        <a:pt x="220" y="166"/>
                      </a:lnTo>
                      <a:lnTo>
                        <a:pt x="213" y="166"/>
                      </a:lnTo>
                      <a:lnTo>
                        <a:pt x="213" y="166"/>
                      </a:lnTo>
                      <a:lnTo>
                        <a:pt x="213" y="166"/>
                      </a:lnTo>
                      <a:lnTo>
                        <a:pt x="213" y="166"/>
                      </a:lnTo>
                      <a:lnTo>
                        <a:pt x="220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20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06" y="159"/>
                      </a:lnTo>
                      <a:lnTo>
                        <a:pt x="213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66"/>
                      </a:lnTo>
                      <a:lnTo>
                        <a:pt x="206" y="166"/>
                      </a:lnTo>
                      <a:lnTo>
                        <a:pt x="206" y="166"/>
                      </a:lnTo>
                      <a:lnTo>
                        <a:pt x="206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2"/>
                      </a:lnTo>
                      <a:lnTo>
                        <a:pt x="193" y="159"/>
                      </a:lnTo>
                      <a:lnTo>
                        <a:pt x="186" y="159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65" y="145"/>
                      </a:lnTo>
                      <a:lnTo>
                        <a:pt x="172" y="138"/>
                      </a:lnTo>
                      <a:lnTo>
                        <a:pt x="165" y="138"/>
                      </a:lnTo>
                      <a:lnTo>
                        <a:pt x="165" y="138"/>
                      </a:lnTo>
                      <a:lnTo>
                        <a:pt x="165" y="138"/>
                      </a:lnTo>
                      <a:lnTo>
                        <a:pt x="165" y="138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32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38" y="138"/>
                      </a:lnTo>
                      <a:lnTo>
                        <a:pt x="138" y="138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25"/>
                      </a:lnTo>
                      <a:lnTo>
                        <a:pt x="131" y="125"/>
                      </a:lnTo>
                      <a:lnTo>
                        <a:pt x="131" y="132"/>
                      </a:lnTo>
                      <a:lnTo>
                        <a:pt x="131" y="132"/>
                      </a:lnTo>
                      <a:lnTo>
                        <a:pt x="131" y="132"/>
                      </a:lnTo>
                      <a:lnTo>
                        <a:pt x="131" y="132"/>
                      </a:lnTo>
                      <a:lnTo>
                        <a:pt x="131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8"/>
                      </a:lnTo>
                      <a:lnTo>
                        <a:pt x="124" y="138"/>
                      </a:lnTo>
                      <a:lnTo>
                        <a:pt x="124" y="138"/>
                      </a:lnTo>
                      <a:lnTo>
                        <a:pt x="124" y="138"/>
                      </a:lnTo>
                      <a:lnTo>
                        <a:pt x="124" y="138"/>
                      </a:lnTo>
                      <a:lnTo>
                        <a:pt x="124" y="145"/>
                      </a:lnTo>
                      <a:lnTo>
                        <a:pt x="124" y="145"/>
                      </a:lnTo>
                      <a:lnTo>
                        <a:pt x="124" y="145"/>
                      </a:lnTo>
                      <a:lnTo>
                        <a:pt x="117" y="145"/>
                      </a:lnTo>
                      <a:lnTo>
                        <a:pt x="117" y="145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03" y="159"/>
                      </a:lnTo>
                      <a:lnTo>
                        <a:pt x="96" y="159"/>
                      </a:lnTo>
                      <a:lnTo>
                        <a:pt x="69" y="145"/>
                      </a:lnTo>
                      <a:lnTo>
                        <a:pt x="69" y="138"/>
                      </a:lnTo>
                      <a:lnTo>
                        <a:pt x="69" y="138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2"/>
                      </a:lnTo>
                      <a:lnTo>
                        <a:pt x="48" y="138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8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35" y="132"/>
                      </a:lnTo>
                      <a:lnTo>
                        <a:pt x="35" y="132"/>
                      </a:lnTo>
                      <a:lnTo>
                        <a:pt x="35" y="132"/>
                      </a:lnTo>
                      <a:lnTo>
                        <a:pt x="35" y="132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42" y="118"/>
                      </a:lnTo>
                      <a:lnTo>
                        <a:pt x="35" y="118"/>
                      </a:lnTo>
                      <a:lnTo>
                        <a:pt x="42" y="118"/>
                      </a:lnTo>
                      <a:lnTo>
                        <a:pt x="35" y="118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2" y="97"/>
                      </a:lnTo>
                      <a:lnTo>
                        <a:pt x="48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35" y="97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1" y="118"/>
                      </a:lnTo>
                      <a:lnTo>
                        <a:pt x="28" y="118"/>
                      </a:lnTo>
                      <a:lnTo>
                        <a:pt x="28" y="111"/>
                      </a:lnTo>
                      <a:lnTo>
                        <a:pt x="28" y="118"/>
                      </a:lnTo>
                      <a:lnTo>
                        <a:pt x="21" y="118"/>
                      </a:lnTo>
                      <a:lnTo>
                        <a:pt x="28" y="118"/>
                      </a:lnTo>
                      <a:lnTo>
                        <a:pt x="21" y="118"/>
                      </a:lnTo>
                      <a:lnTo>
                        <a:pt x="28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32"/>
                      </a:lnTo>
                      <a:lnTo>
                        <a:pt x="21" y="132"/>
                      </a:lnTo>
                      <a:lnTo>
                        <a:pt x="21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25"/>
                      </a:lnTo>
                      <a:lnTo>
                        <a:pt x="7" y="125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0" y="111"/>
                      </a:lnTo>
                      <a:lnTo>
                        <a:pt x="0" y="111"/>
                      </a:lnTo>
                      <a:lnTo>
                        <a:pt x="0" y="111"/>
                      </a:lnTo>
                      <a:lnTo>
                        <a:pt x="0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0" y="111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0"/>
                      </a:lnTo>
                      <a:lnTo>
                        <a:pt x="7" y="90"/>
                      </a:lnTo>
                      <a:lnTo>
                        <a:pt x="7" y="90"/>
                      </a:lnTo>
                      <a:lnTo>
                        <a:pt x="7" y="90"/>
                      </a:lnTo>
                      <a:lnTo>
                        <a:pt x="7" y="90"/>
                      </a:lnTo>
                      <a:lnTo>
                        <a:pt x="7" y="83"/>
                      </a:lnTo>
                      <a:lnTo>
                        <a:pt x="7" y="83"/>
                      </a:lnTo>
                      <a:lnTo>
                        <a:pt x="7" y="83"/>
                      </a:lnTo>
                      <a:lnTo>
                        <a:pt x="7" y="83"/>
                      </a:lnTo>
                      <a:lnTo>
                        <a:pt x="7" y="76"/>
                      </a:lnTo>
                      <a:lnTo>
                        <a:pt x="7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7" y="69"/>
                      </a:lnTo>
                      <a:lnTo>
                        <a:pt x="7" y="69"/>
                      </a:lnTo>
                      <a:lnTo>
                        <a:pt x="7" y="69"/>
                      </a:lnTo>
                      <a:lnTo>
                        <a:pt x="7" y="62"/>
                      </a:lnTo>
                      <a:lnTo>
                        <a:pt x="0" y="62"/>
                      </a:lnTo>
                      <a:lnTo>
                        <a:pt x="0" y="62"/>
                      </a:lnTo>
                      <a:lnTo>
                        <a:pt x="7" y="62"/>
                      </a:lnTo>
                      <a:lnTo>
                        <a:pt x="0" y="62"/>
                      </a:lnTo>
                      <a:lnTo>
                        <a:pt x="0" y="55"/>
                      </a:lnTo>
                      <a:lnTo>
                        <a:pt x="7" y="55"/>
                      </a:lnTo>
                      <a:lnTo>
                        <a:pt x="7" y="55"/>
                      </a:lnTo>
                      <a:lnTo>
                        <a:pt x="7" y="55"/>
                      </a:lnTo>
                      <a:lnTo>
                        <a:pt x="7" y="55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0" y="48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224680" y="30164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922640" y="3008160"/>
                  <a:ext cx="744120" cy="914400"/>
                </a:xfrm>
                <a:custGeom>
                  <a:avLst/>
                  <a:gdLst/>
                  <a:ahLst/>
                  <a:rect l="l" t="t" r="r" b="b"/>
                  <a:pathLst>
                    <a:path w="591" h="777">
                      <a:moveTo>
                        <a:pt x="0" y="360"/>
                      </a:moveTo>
                      <a:lnTo>
                        <a:pt x="21" y="346"/>
                      </a:lnTo>
                      <a:lnTo>
                        <a:pt x="28" y="346"/>
                      </a:lnTo>
                      <a:lnTo>
                        <a:pt x="28" y="346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34" y="340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55" y="319"/>
                      </a:lnTo>
                      <a:lnTo>
                        <a:pt x="62" y="319"/>
                      </a:lnTo>
                      <a:lnTo>
                        <a:pt x="62" y="312"/>
                      </a:lnTo>
                      <a:lnTo>
                        <a:pt x="69" y="312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103" y="291"/>
                      </a:lnTo>
                      <a:lnTo>
                        <a:pt x="103" y="291"/>
                      </a:lnTo>
                      <a:lnTo>
                        <a:pt x="103" y="284"/>
                      </a:lnTo>
                      <a:lnTo>
                        <a:pt x="103" y="284"/>
                      </a:lnTo>
                      <a:lnTo>
                        <a:pt x="110" y="284"/>
                      </a:lnTo>
                      <a:lnTo>
                        <a:pt x="110" y="284"/>
                      </a:lnTo>
                      <a:lnTo>
                        <a:pt x="110" y="284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24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17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49"/>
                      </a:lnTo>
                      <a:lnTo>
                        <a:pt x="124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2"/>
                      </a:lnTo>
                      <a:lnTo>
                        <a:pt x="131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8" y="201"/>
                      </a:lnTo>
                      <a:lnTo>
                        <a:pt x="158" y="194"/>
                      </a:lnTo>
                      <a:lnTo>
                        <a:pt x="151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79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1"/>
                      </a:lnTo>
                      <a:lnTo>
                        <a:pt x="186" y="131"/>
                      </a:lnTo>
                      <a:lnTo>
                        <a:pt x="186" y="138"/>
                      </a:lnTo>
                      <a:lnTo>
                        <a:pt x="186" y="138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92" y="131"/>
                      </a:lnTo>
                      <a:lnTo>
                        <a:pt x="192" y="131"/>
                      </a:lnTo>
                      <a:lnTo>
                        <a:pt x="192" y="131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9" y="124"/>
                      </a:lnTo>
                      <a:lnTo>
                        <a:pt x="199" y="124"/>
                      </a:lnTo>
                      <a:lnTo>
                        <a:pt x="199" y="124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97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13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13" y="90"/>
                      </a:lnTo>
                      <a:lnTo>
                        <a:pt x="213" y="90"/>
                      </a:lnTo>
                      <a:lnTo>
                        <a:pt x="213" y="90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76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1"/>
                      </a:lnTo>
                      <a:lnTo>
                        <a:pt x="220" y="41"/>
                      </a:lnTo>
                      <a:lnTo>
                        <a:pt x="220" y="41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27"/>
                      </a:lnTo>
                      <a:lnTo>
                        <a:pt x="227" y="27"/>
                      </a:lnTo>
                      <a:lnTo>
                        <a:pt x="227" y="27"/>
                      </a:lnTo>
                      <a:lnTo>
                        <a:pt x="227" y="27"/>
                      </a:lnTo>
                      <a:lnTo>
                        <a:pt x="227" y="20"/>
                      </a:lnTo>
                      <a:lnTo>
                        <a:pt x="227" y="20"/>
                      </a:lnTo>
                      <a:lnTo>
                        <a:pt x="227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14"/>
                      </a:lnTo>
                      <a:lnTo>
                        <a:pt x="220" y="14"/>
                      </a:lnTo>
                      <a:lnTo>
                        <a:pt x="220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40" y="0"/>
                      </a:lnTo>
                      <a:lnTo>
                        <a:pt x="240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14"/>
                      </a:lnTo>
                      <a:lnTo>
                        <a:pt x="240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54" y="14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7"/>
                      </a:lnTo>
                      <a:lnTo>
                        <a:pt x="247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14"/>
                      </a:lnTo>
                      <a:lnTo>
                        <a:pt x="261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61" y="14"/>
                      </a:lnTo>
                      <a:lnTo>
                        <a:pt x="261" y="14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54" y="20"/>
                      </a:lnTo>
                      <a:lnTo>
                        <a:pt x="254" y="27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54" y="34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14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75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75" y="27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7"/>
                      </a:lnTo>
                      <a:lnTo>
                        <a:pt x="275" y="20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82" y="27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0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75" y="27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75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75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27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27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95" y="20"/>
                      </a:lnTo>
                      <a:lnTo>
                        <a:pt x="288" y="20"/>
                      </a:lnTo>
                      <a:lnTo>
                        <a:pt x="295" y="27"/>
                      </a:lnTo>
                      <a:lnTo>
                        <a:pt x="295" y="20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88" y="27"/>
                      </a:lnTo>
                      <a:lnTo>
                        <a:pt x="295" y="27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2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34"/>
                      </a:lnTo>
                      <a:lnTo>
                        <a:pt x="302" y="34"/>
                      </a:lnTo>
                      <a:lnTo>
                        <a:pt x="302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09" y="41"/>
                      </a:lnTo>
                      <a:lnTo>
                        <a:pt x="316" y="41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41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41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41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30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27"/>
                      </a:lnTo>
                      <a:lnTo>
                        <a:pt x="330" y="34"/>
                      </a:lnTo>
                      <a:lnTo>
                        <a:pt x="330" y="27"/>
                      </a:lnTo>
                      <a:lnTo>
                        <a:pt x="330" y="27"/>
                      </a:lnTo>
                      <a:lnTo>
                        <a:pt x="337" y="27"/>
                      </a:lnTo>
                      <a:lnTo>
                        <a:pt x="337" y="34"/>
                      </a:lnTo>
                      <a:lnTo>
                        <a:pt x="337" y="34"/>
                      </a:lnTo>
                      <a:lnTo>
                        <a:pt x="337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1"/>
                      </a:lnTo>
                      <a:lnTo>
                        <a:pt x="337" y="41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1"/>
                      </a:lnTo>
                      <a:lnTo>
                        <a:pt x="337" y="41"/>
                      </a:lnTo>
                      <a:lnTo>
                        <a:pt x="337" y="41"/>
                      </a:lnTo>
                      <a:lnTo>
                        <a:pt x="337" y="41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43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50" y="41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48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62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0" y="62"/>
                      </a:lnTo>
                      <a:lnTo>
                        <a:pt x="330" y="69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37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2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2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90"/>
                      </a:lnTo>
                      <a:lnTo>
                        <a:pt x="364" y="90"/>
                      </a:lnTo>
                      <a:lnTo>
                        <a:pt x="364" y="90"/>
                      </a:lnTo>
                      <a:lnTo>
                        <a:pt x="364" y="90"/>
                      </a:lnTo>
                      <a:lnTo>
                        <a:pt x="364" y="90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8" y="124"/>
                      </a:lnTo>
                      <a:lnTo>
                        <a:pt x="378" y="124"/>
                      </a:lnTo>
                      <a:lnTo>
                        <a:pt x="378" y="118"/>
                      </a:lnTo>
                      <a:lnTo>
                        <a:pt x="378" y="118"/>
                      </a:lnTo>
                      <a:lnTo>
                        <a:pt x="378" y="118"/>
                      </a:lnTo>
                      <a:lnTo>
                        <a:pt x="385" y="118"/>
                      </a:lnTo>
                      <a:lnTo>
                        <a:pt x="385" y="118"/>
                      </a:lnTo>
                      <a:lnTo>
                        <a:pt x="385" y="118"/>
                      </a:lnTo>
                      <a:lnTo>
                        <a:pt x="385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1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1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405" y="118"/>
                      </a:lnTo>
                      <a:lnTo>
                        <a:pt x="405" y="118"/>
                      </a:lnTo>
                      <a:lnTo>
                        <a:pt x="405" y="124"/>
                      </a:lnTo>
                      <a:lnTo>
                        <a:pt x="405" y="131"/>
                      </a:lnTo>
                      <a:lnTo>
                        <a:pt x="405" y="131"/>
                      </a:lnTo>
                      <a:lnTo>
                        <a:pt x="405" y="124"/>
                      </a:lnTo>
                      <a:lnTo>
                        <a:pt x="412" y="124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1"/>
                      </a:lnTo>
                      <a:lnTo>
                        <a:pt x="419" y="111"/>
                      </a:lnTo>
                      <a:lnTo>
                        <a:pt x="419" y="111"/>
                      </a:lnTo>
                      <a:lnTo>
                        <a:pt x="419" y="111"/>
                      </a:lnTo>
                      <a:lnTo>
                        <a:pt x="426" y="111"/>
                      </a:lnTo>
                      <a:lnTo>
                        <a:pt x="426" y="111"/>
                      </a:lnTo>
                      <a:lnTo>
                        <a:pt x="426" y="111"/>
                      </a:lnTo>
                      <a:lnTo>
                        <a:pt x="426" y="111"/>
                      </a:lnTo>
                      <a:lnTo>
                        <a:pt x="426" y="104"/>
                      </a:lnTo>
                      <a:lnTo>
                        <a:pt x="426" y="104"/>
                      </a:lnTo>
                      <a:lnTo>
                        <a:pt x="433" y="104"/>
                      </a:lnTo>
                      <a:lnTo>
                        <a:pt x="433" y="97"/>
                      </a:lnTo>
                      <a:lnTo>
                        <a:pt x="433" y="97"/>
                      </a:lnTo>
                      <a:lnTo>
                        <a:pt x="440" y="97"/>
                      </a:lnTo>
                      <a:lnTo>
                        <a:pt x="440" y="104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11"/>
                      </a:lnTo>
                      <a:lnTo>
                        <a:pt x="460" y="111"/>
                      </a:lnTo>
                      <a:lnTo>
                        <a:pt x="460" y="111"/>
                      </a:lnTo>
                      <a:lnTo>
                        <a:pt x="460" y="111"/>
                      </a:lnTo>
                      <a:lnTo>
                        <a:pt x="474" y="111"/>
                      </a:lnTo>
                      <a:lnTo>
                        <a:pt x="474" y="111"/>
                      </a:lnTo>
                      <a:lnTo>
                        <a:pt x="481" y="118"/>
                      </a:lnTo>
                      <a:lnTo>
                        <a:pt x="488" y="118"/>
                      </a:lnTo>
                      <a:lnTo>
                        <a:pt x="488" y="118"/>
                      </a:lnTo>
                      <a:lnTo>
                        <a:pt x="488" y="118"/>
                      </a:lnTo>
                      <a:lnTo>
                        <a:pt x="494" y="118"/>
                      </a:lnTo>
                      <a:lnTo>
                        <a:pt x="501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31"/>
                      </a:lnTo>
                      <a:lnTo>
                        <a:pt x="508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8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08" y="131"/>
                      </a:lnTo>
                      <a:lnTo>
                        <a:pt x="508" y="131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15" y="131"/>
                      </a:lnTo>
                      <a:lnTo>
                        <a:pt x="522" y="138"/>
                      </a:lnTo>
                      <a:lnTo>
                        <a:pt x="522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36" y="138"/>
                      </a:lnTo>
                      <a:lnTo>
                        <a:pt x="543" y="138"/>
                      </a:lnTo>
                      <a:lnTo>
                        <a:pt x="543" y="138"/>
                      </a:lnTo>
                      <a:lnTo>
                        <a:pt x="543" y="138"/>
                      </a:lnTo>
                      <a:lnTo>
                        <a:pt x="549" y="138"/>
                      </a:lnTo>
                      <a:lnTo>
                        <a:pt x="549" y="138"/>
                      </a:lnTo>
                      <a:lnTo>
                        <a:pt x="549" y="138"/>
                      </a:lnTo>
                      <a:lnTo>
                        <a:pt x="549" y="138"/>
                      </a:lnTo>
                      <a:lnTo>
                        <a:pt x="549" y="138"/>
                      </a:lnTo>
                      <a:lnTo>
                        <a:pt x="556" y="138"/>
                      </a:lnTo>
                      <a:lnTo>
                        <a:pt x="549" y="138"/>
                      </a:lnTo>
                      <a:lnTo>
                        <a:pt x="556" y="138"/>
                      </a:lnTo>
                      <a:lnTo>
                        <a:pt x="556" y="138"/>
                      </a:lnTo>
                      <a:lnTo>
                        <a:pt x="556" y="138"/>
                      </a:lnTo>
                      <a:lnTo>
                        <a:pt x="556" y="138"/>
                      </a:lnTo>
                      <a:lnTo>
                        <a:pt x="563" y="138"/>
                      </a:lnTo>
                      <a:lnTo>
                        <a:pt x="563" y="138"/>
                      </a:lnTo>
                      <a:lnTo>
                        <a:pt x="570" y="138"/>
                      </a:lnTo>
                      <a:lnTo>
                        <a:pt x="570" y="138"/>
                      </a:lnTo>
                      <a:lnTo>
                        <a:pt x="570" y="138"/>
                      </a:lnTo>
                      <a:lnTo>
                        <a:pt x="570" y="138"/>
                      </a:lnTo>
                      <a:lnTo>
                        <a:pt x="570" y="145"/>
                      </a:lnTo>
                      <a:lnTo>
                        <a:pt x="570" y="145"/>
                      </a:lnTo>
                      <a:lnTo>
                        <a:pt x="570" y="145"/>
                      </a:lnTo>
                      <a:lnTo>
                        <a:pt x="570" y="138"/>
                      </a:lnTo>
                      <a:lnTo>
                        <a:pt x="570" y="138"/>
                      </a:lnTo>
                      <a:lnTo>
                        <a:pt x="577" y="138"/>
                      </a:lnTo>
                      <a:lnTo>
                        <a:pt x="577" y="138"/>
                      </a:lnTo>
                      <a:lnTo>
                        <a:pt x="577" y="138"/>
                      </a:lnTo>
                      <a:lnTo>
                        <a:pt x="584" y="138"/>
                      </a:lnTo>
                      <a:lnTo>
                        <a:pt x="584" y="138"/>
                      </a:lnTo>
                      <a:lnTo>
                        <a:pt x="591" y="138"/>
                      </a:lnTo>
                      <a:lnTo>
                        <a:pt x="591" y="138"/>
                      </a:lnTo>
                      <a:lnTo>
                        <a:pt x="584" y="138"/>
                      </a:lnTo>
                      <a:lnTo>
                        <a:pt x="591" y="145"/>
                      </a:lnTo>
                      <a:lnTo>
                        <a:pt x="591" y="145"/>
                      </a:lnTo>
                      <a:lnTo>
                        <a:pt x="584" y="145"/>
                      </a:lnTo>
                      <a:lnTo>
                        <a:pt x="584" y="145"/>
                      </a:lnTo>
                      <a:lnTo>
                        <a:pt x="584" y="152"/>
                      </a:lnTo>
                      <a:lnTo>
                        <a:pt x="584" y="152"/>
                      </a:lnTo>
                      <a:lnTo>
                        <a:pt x="584" y="152"/>
                      </a:lnTo>
                      <a:lnTo>
                        <a:pt x="584" y="152"/>
                      </a:lnTo>
                      <a:lnTo>
                        <a:pt x="584" y="152"/>
                      </a:lnTo>
                      <a:lnTo>
                        <a:pt x="584" y="159"/>
                      </a:lnTo>
                      <a:lnTo>
                        <a:pt x="584" y="159"/>
                      </a:lnTo>
                      <a:lnTo>
                        <a:pt x="591" y="159"/>
                      </a:lnTo>
                      <a:lnTo>
                        <a:pt x="591" y="159"/>
                      </a:lnTo>
                      <a:lnTo>
                        <a:pt x="591" y="159"/>
                      </a:lnTo>
                      <a:lnTo>
                        <a:pt x="591" y="166"/>
                      </a:lnTo>
                      <a:lnTo>
                        <a:pt x="591" y="166"/>
                      </a:lnTo>
                      <a:lnTo>
                        <a:pt x="591" y="166"/>
                      </a:lnTo>
                      <a:lnTo>
                        <a:pt x="584" y="166"/>
                      </a:lnTo>
                      <a:lnTo>
                        <a:pt x="584" y="166"/>
                      </a:lnTo>
                      <a:lnTo>
                        <a:pt x="584" y="173"/>
                      </a:lnTo>
                      <a:lnTo>
                        <a:pt x="584" y="173"/>
                      </a:lnTo>
                      <a:lnTo>
                        <a:pt x="584" y="173"/>
                      </a:lnTo>
                      <a:lnTo>
                        <a:pt x="577" y="173"/>
                      </a:lnTo>
                      <a:lnTo>
                        <a:pt x="577" y="173"/>
                      </a:lnTo>
                      <a:lnTo>
                        <a:pt x="577" y="173"/>
                      </a:lnTo>
                      <a:lnTo>
                        <a:pt x="577" y="173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0" y="180"/>
                      </a:lnTo>
                      <a:lnTo>
                        <a:pt x="570" y="187"/>
                      </a:lnTo>
                      <a:lnTo>
                        <a:pt x="570" y="187"/>
                      </a:lnTo>
                      <a:lnTo>
                        <a:pt x="570" y="187"/>
                      </a:lnTo>
                      <a:lnTo>
                        <a:pt x="570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56" y="194"/>
                      </a:lnTo>
                      <a:lnTo>
                        <a:pt x="556" y="201"/>
                      </a:lnTo>
                      <a:lnTo>
                        <a:pt x="556" y="201"/>
                      </a:lnTo>
                      <a:lnTo>
                        <a:pt x="556" y="201"/>
                      </a:lnTo>
                      <a:lnTo>
                        <a:pt x="556" y="201"/>
                      </a:lnTo>
                      <a:lnTo>
                        <a:pt x="549" y="201"/>
                      </a:lnTo>
                      <a:lnTo>
                        <a:pt x="549" y="201"/>
                      </a:lnTo>
                      <a:lnTo>
                        <a:pt x="549" y="201"/>
                      </a:lnTo>
                      <a:lnTo>
                        <a:pt x="543" y="201"/>
                      </a:lnTo>
                      <a:lnTo>
                        <a:pt x="543" y="201"/>
                      </a:lnTo>
                      <a:lnTo>
                        <a:pt x="543" y="201"/>
                      </a:lnTo>
                      <a:lnTo>
                        <a:pt x="543" y="201"/>
                      </a:lnTo>
                      <a:lnTo>
                        <a:pt x="536" y="201"/>
                      </a:lnTo>
                      <a:lnTo>
                        <a:pt x="536" y="201"/>
                      </a:lnTo>
                      <a:lnTo>
                        <a:pt x="536" y="208"/>
                      </a:lnTo>
                      <a:lnTo>
                        <a:pt x="536" y="208"/>
                      </a:lnTo>
                      <a:lnTo>
                        <a:pt x="536" y="208"/>
                      </a:lnTo>
                      <a:lnTo>
                        <a:pt x="536" y="201"/>
                      </a:lnTo>
                      <a:lnTo>
                        <a:pt x="536" y="201"/>
                      </a:lnTo>
                      <a:lnTo>
                        <a:pt x="536" y="208"/>
                      </a:lnTo>
                      <a:lnTo>
                        <a:pt x="536" y="208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2" y="208"/>
                      </a:lnTo>
                      <a:lnTo>
                        <a:pt x="522" y="215"/>
                      </a:lnTo>
                      <a:lnTo>
                        <a:pt x="522" y="215"/>
                      </a:lnTo>
                      <a:lnTo>
                        <a:pt x="522" y="215"/>
                      </a:lnTo>
                      <a:lnTo>
                        <a:pt x="522" y="215"/>
                      </a:lnTo>
                      <a:lnTo>
                        <a:pt x="522" y="215"/>
                      </a:lnTo>
                      <a:lnTo>
                        <a:pt x="515" y="215"/>
                      </a:lnTo>
                      <a:lnTo>
                        <a:pt x="515" y="222"/>
                      </a:lnTo>
                      <a:lnTo>
                        <a:pt x="515" y="222"/>
                      </a:lnTo>
                      <a:lnTo>
                        <a:pt x="515" y="222"/>
                      </a:lnTo>
                      <a:lnTo>
                        <a:pt x="515" y="222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35"/>
                      </a:lnTo>
                      <a:lnTo>
                        <a:pt x="515" y="235"/>
                      </a:lnTo>
                      <a:lnTo>
                        <a:pt x="508" y="235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9"/>
                      </a:lnTo>
                      <a:lnTo>
                        <a:pt x="508" y="249"/>
                      </a:lnTo>
                      <a:lnTo>
                        <a:pt x="501" y="249"/>
                      </a:lnTo>
                      <a:lnTo>
                        <a:pt x="501" y="249"/>
                      </a:lnTo>
                      <a:lnTo>
                        <a:pt x="501" y="249"/>
                      </a:lnTo>
                      <a:lnTo>
                        <a:pt x="501" y="249"/>
                      </a:lnTo>
                      <a:lnTo>
                        <a:pt x="501" y="249"/>
                      </a:lnTo>
                      <a:lnTo>
                        <a:pt x="501" y="256"/>
                      </a:lnTo>
                      <a:lnTo>
                        <a:pt x="501" y="256"/>
                      </a:lnTo>
                      <a:lnTo>
                        <a:pt x="494" y="256"/>
                      </a:lnTo>
                      <a:lnTo>
                        <a:pt x="494" y="256"/>
                      </a:lnTo>
                      <a:lnTo>
                        <a:pt x="494" y="263"/>
                      </a:lnTo>
                      <a:lnTo>
                        <a:pt x="494" y="263"/>
                      </a:lnTo>
                      <a:lnTo>
                        <a:pt x="494" y="263"/>
                      </a:lnTo>
                      <a:lnTo>
                        <a:pt x="494" y="263"/>
                      </a:lnTo>
                      <a:lnTo>
                        <a:pt x="494" y="263"/>
                      </a:lnTo>
                      <a:lnTo>
                        <a:pt x="488" y="270"/>
                      </a:lnTo>
                      <a:lnTo>
                        <a:pt x="488" y="270"/>
                      </a:lnTo>
                      <a:lnTo>
                        <a:pt x="488" y="270"/>
                      </a:lnTo>
                      <a:lnTo>
                        <a:pt x="488" y="277"/>
                      </a:lnTo>
                      <a:lnTo>
                        <a:pt x="488" y="277"/>
                      </a:lnTo>
                      <a:lnTo>
                        <a:pt x="488" y="277"/>
                      </a:lnTo>
                      <a:lnTo>
                        <a:pt x="488" y="277"/>
                      </a:lnTo>
                      <a:lnTo>
                        <a:pt x="488" y="277"/>
                      </a:lnTo>
                      <a:lnTo>
                        <a:pt x="488" y="284"/>
                      </a:lnTo>
                      <a:lnTo>
                        <a:pt x="494" y="284"/>
                      </a:lnTo>
                      <a:lnTo>
                        <a:pt x="494" y="284"/>
                      </a:lnTo>
                      <a:lnTo>
                        <a:pt x="494" y="284"/>
                      </a:lnTo>
                      <a:lnTo>
                        <a:pt x="494" y="284"/>
                      </a:lnTo>
                      <a:lnTo>
                        <a:pt x="501" y="284"/>
                      </a:lnTo>
                      <a:lnTo>
                        <a:pt x="494" y="284"/>
                      </a:lnTo>
                      <a:lnTo>
                        <a:pt x="501" y="291"/>
                      </a:lnTo>
                      <a:lnTo>
                        <a:pt x="501" y="291"/>
                      </a:lnTo>
                      <a:lnTo>
                        <a:pt x="501" y="291"/>
                      </a:lnTo>
                      <a:lnTo>
                        <a:pt x="501" y="291"/>
                      </a:lnTo>
                      <a:lnTo>
                        <a:pt x="501" y="291"/>
                      </a:lnTo>
                      <a:lnTo>
                        <a:pt x="501" y="298"/>
                      </a:lnTo>
                      <a:lnTo>
                        <a:pt x="501" y="298"/>
                      </a:lnTo>
                      <a:lnTo>
                        <a:pt x="501" y="298"/>
                      </a:lnTo>
                      <a:lnTo>
                        <a:pt x="501" y="298"/>
                      </a:lnTo>
                      <a:lnTo>
                        <a:pt x="494" y="298"/>
                      </a:lnTo>
                      <a:lnTo>
                        <a:pt x="494" y="305"/>
                      </a:lnTo>
                      <a:lnTo>
                        <a:pt x="494" y="305"/>
                      </a:lnTo>
                      <a:lnTo>
                        <a:pt x="494" y="305"/>
                      </a:lnTo>
                      <a:lnTo>
                        <a:pt x="494" y="305"/>
                      </a:lnTo>
                      <a:lnTo>
                        <a:pt x="488" y="305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26"/>
                      </a:lnTo>
                      <a:lnTo>
                        <a:pt x="494" y="326"/>
                      </a:lnTo>
                      <a:lnTo>
                        <a:pt x="501" y="326"/>
                      </a:lnTo>
                      <a:lnTo>
                        <a:pt x="501" y="326"/>
                      </a:lnTo>
                      <a:lnTo>
                        <a:pt x="501" y="326"/>
                      </a:lnTo>
                      <a:lnTo>
                        <a:pt x="501" y="333"/>
                      </a:lnTo>
                      <a:lnTo>
                        <a:pt x="501" y="333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346"/>
                      </a:lnTo>
                      <a:lnTo>
                        <a:pt x="501" y="346"/>
                      </a:lnTo>
                      <a:lnTo>
                        <a:pt x="508" y="346"/>
                      </a:lnTo>
                      <a:lnTo>
                        <a:pt x="501" y="353"/>
                      </a:lnTo>
                      <a:lnTo>
                        <a:pt x="501" y="353"/>
                      </a:lnTo>
                      <a:lnTo>
                        <a:pt x="501" y="353"/>
                      </a:lnTo>
                      <a:lnTo>
                        <a:pt x="501" y="360"/>
                      </a:lnTo>
                      <a:lnTo>
                        <a:pt x="501" y="360"/>
                      </a:lnTo>
                      <a:lnTo>
                        <a:pt x="501" y="360"/>
                      </a:lnTo>
                      <a:lnTo>
                        <a:pt x="501" y="360"/>
                      </a:lnTo>
                      <a:lnTo>
                        <a:pt x="501" y="360"/>
                      </a:lnTo>
                      <a:lnTo>
                        <a:pt x="501" y="367"/>
                      </a:lnTo>
                      <a:lnTo>
                        <a:pt x="501" y="367"/>
                      </a:lnTo>
                      <a:lnTo>
                        <a:pt x="501" y="367"/>
                      </a:lnTo>
                      <a:lnTo>
                        <a:pt x="494" y="367"/>
                      </a:lnTo>
                      <a:lnTo>
                        <a:pt x="494" y="367"/>
                      </a:lnTo>
                      <a:lnTo>
                        <a:pt x="494" y="367"/>
                      </a:lnTo>
                      <a:lnTo>
                        <a:pt x="494" y="367"/>
                      </a:lnTo>
                      <a:lnTo>
                        <a:pt x="488" y="374"/>
                      </a:lnTo>
                      <a:lnTo>
                        <a:pt x="488" y="374"/>
                      </a:lnTo>
                      <a:lnTo>
                        <a:pt x="488" y="374"/>
                      </a:lnTo>
                      <a:lnTo>
                        <a:pt x="488" y="374"/>
                      </a:lnTo>
                      <a:lnTo>
                        <a:pt x="488" y="374"/>
                      </a:lnTo>
                      <a:lnTo>
                        <a:pt x="488" y="381"/>
                      </a:lnTo>
                      <a:lnTo>
                        <a:pt x="488" y="381"/>
                      </a:lnTo>
                      <a:lnTo>
                        <a:pt x="488" y="381"/>
                      </a:lnTo>
                      <a:lnTo>
                        <a:pt x="488" y="381"/>
                      </a:lnTo>
                      <a:lnTo>
                        <a:pt x="481" y="381"/>
                      </a:lnTo>
                      <a:lnTo>
                        <a:pt x="481" y="381"/>
                      </a:lnTo>
                      <a:lnTo>
                        <a:pt x="481" y="388"/>
                      </a:lnTo>
                      <a:lnTo>
                        <a:pt x="481" y="388"/>
                      </a:lnTo>
                      <a:lnTo>
                        <a:pt x="481" y="388"/>
                      </a:lnTo>
                      <a:lnTo>
                        <a:pt x="481" y="388"/>
                      </a:lnTo>
                      <a:lnTo>
                        <a:pt x="481" y="388"/>
                      </a:lnTo>
                      <a:lnTo>
                        <a:pt x="481" y="395"/>
                      </a:lnTo>
                      <a:lnTo>
                        <a:pt x="481" y="395"/>
                      </a:lnTo>
                      <a:lnTo>
                        <a:pt x="481" y="395"/>
                      </a:lnTo>
                      <a:lnTo>
                        <a:pt x="481" y="395"/>
                      </a:lnTo>
                      <a:lnTo>
                        <a:pt x="481" y="402"/>
                      </a:lnTo>
                      <a:lnTo>
                        <a:pt x="481" y="402"/>
                      </a:lnTo>
                      <a:lnTo>
                        <a:pt x="481" y="402"/>
                      </a:lnTo>
                      <a:lnTo>
                        <a:pt x="481" y="402"/>
                      </a:lnTo>
                      <a:lnTo>
                        <a:pt x="481" y="409"/>
                      </a:lnTo>
                      <a:lnTo>
                        <a:pt x="481" y="409"/>
                      </a:lnTo>
                      <a:lnTo>
                        <a:pt x="481" y="409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30"/>
                      </a:lnTo>
                      <a:lnTo>
                        <a:pt x="488" y="430"/>
                      </a:lnTo>
                      <a:lnTo>
                        <a:pt x="488" y="430"/>
                      </a:lnTo>
                      <a:lnTo>
                        <a:pt x="488" y="430"/>
                      </a:lnTo>
                      <a:lnTo>
                        <a:pt x="488" y="430"/>
                      </a:lnTo>
                      <a:lnTo>
                        <a:pt x="488" y="430"/>
                      </a:lnTo>
                      <a:lnTo>
                        <a:pt x="488" y="437"/>
                      </a:lnTo>
                      <a:lnTo>
                        <a:pt x="494" y="437"/>
                      </a:lnTo>
                      <a:lnTo>
                        <a:pt x="494" y="437"/>
                      </a:lnTo>
                      <a:lnTo>
                        <a:pt x="494" y="437"/>
                      </a:lnTo>
                      <a:lnTo>
                        <a:pt x="494" y="437"/>
                      </a:lnTo>
                      <a:lnTo>
                        <a:pt x="501" y="437"/>
                      </a:lnTo>
                      <a:lnTo>
                        <a:pt x="501" y="437"/>
                      </a:lnTo>
                      <a:lnTo>
                        <a:pt x="501" y="437"/>
                      </a:lnTo>
                      <a:lnTo>
                        <a:pt x="501" y="444"/>
                      </a:lnTo>
                      <a:lnTo>
                        <a:pt x="501" y="444"/>
                      </a:lnTo>
                      <a:lnTo>
                        <a:pt x="501" y="444"/>
                      </a:lnTo>
                      <a:lnTo>
                        <a:pt x="501" y="444"/>
                      </a:lnTo>
                      <a:lnTo>
                        <a:pt x="501" y="444"/>
                      </a:lnTo>
                      <a:lnTo>
                        <a:pt x="501" y="451"/>
                      </a:lnTo>
                      <a:lnTo>
                        <a:pt x="501" y="451"/>
                      </a:lnTo>
                      <a:lnTo>
                        <a:pt x="501" y="451"/>
                      </a:lnTo>
                      <a:lnTo>
                        <a:pt x="501" y="451"/>
                      </a:lnTo>
                      <a:lnTo>
                        <a:pt x="494" y="451"/>
                      </a:lnTo>
                      <a:lnTo>
                        <a:pt x="494" y="457"/>
                      </a:lnTo>
                      <a:lnTo>
                        <a:pt x="501" y="457"/>
                      </a:lnTo>
                      <a:lnTo>
                        <a:pt x="501" y="457"/>
                      </a:lnTo>
                      <a:lnTo>
                        <a:pt x="501" y="457"/>
                      </a:lnTo>
                      <a:lnTo>
                        <a:pt x="494" y="457"/>
                      </a:lnTo>
                      <a:lnTo>
                        <a:pt x="494" y="464"/>
                      </a:lnTo>
                      <a:lnTo>
                        <a:pt x="501" y="464"/>
                      </a:lnTo>
                      <a:lnTo>
                        <a:pt x="494" y="464"/>
                      </a:lnTo>
                      <a:lnTo>
                        <a:pt x="494" y="464"/>
                      </a:lnTo>
                      <a:lnTo>
                        <a:pt x="494" y="464"/>
                      </a:lnTo>
                      <a:lnTo>
                        <a:pt x="494" y="471"/>
                      </a:lnTo>
                      <a:lnTo>
                        <a:pt x="494" y="471"/>
                      </a:lnTo>
                      <a:lnTo>
                        <a:pt x="494" y="471"/>
                      </a:lnTo>
                      <a:lnTo>
                        <a:pt x="494" y="478"/>
                      </a:lnTo>
                      <a:lnTo>
                        <a:pt x="494" y="478"/>
                      </a:lnTo>
                      <a:lnTo>
                        <a:pt x="488" y="478"/>
                      </a:lnTo>
                      <a:lnTo>
                        <a:pt x="488" y="478"/>
                      </a:lnTo>
                      <a:lnTo>
                        <a:pt x="488" y="485"/>
                      </a:lnTo>
                      <a:lnTo>
                        <a:pt x="488" y="485"/>
                      </a:lnTo>
                      <a:lnTo>
                        <a:pt x="488" y="485"/>
                      </a:lnTo>
                      <a:lnTo>
                        <a:pt x="481" y="485"/>
                      </a:lnTo>
                      <a:lnTo>
                        <a:pt x="481" y="485"/>
                      </a:lnTo>
                      <a:lnTo>
                        <a:pt x="481" y="485"/>
                      </a:lnTo>
                      <a:lnTo>
                        <a:pt x="481" y="485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67" y="485"/>
                      </a:lnTo>
                      <a:lnTo>
                        <a:pt x="467" y="485"/>
                      </a:lnTo>
                      <a:lnTo>
                        <a:pt x="467" y="485"/>
                      </a:lnTo>
                      <a:lnTo>
                        <a:pt x="467" y="485"/>
                      </a:lnTo>
                      <a:lnTo>
                        <a:pt x="467" y="485"/>
                      </a:lnTo>
                      <a:lnTo>
                        <a:pt x="460" y="485"/>
                      </a:lnTo>
                      <a:lnTo>
                        <a:pt x="460" y="485"/>
                      </a:lnTo>
                      <a:lnTo>
                        <a:pt x="453" y="485"/>
                      </a:lnTo>
                      <a:lnTo>
                        <a:pt x="453" y="485"/>
                      </a:lnTo>
                      <a:lnTo>
                        <a:pt x="453" y="485"/>
                      </a:lnTo>
                      <a:lnTo>
                        <a:pt x="453" y="492"/>
                      </a:lnTo>
                      <a:lnTo>
                        <a:pt x="453" y="492"/>
                      </a:lnTo>
                      <a:lnTo>
                        <a:pt x="446" y="492"/>
                      </a:lnTo>
                      <a:lnTo>
                        <a:pt x="446" y="492"/>
                      </a:lnTo>
                      <a:lnTo>
                        <a:pt x="446" y="485"/>
                      </a:lnTo>
                      <a:lnTo>
                        <a:pt x="446" y="485"/>
                      </a:lnTo>
                      <a:lnTo>
                        <a:pt x="446" y="485"/>
                      </a:lnTo>
                      <a:lnTo>
                        <a:pt x="446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78"/>
                      </a:lnTo>
                      <a:lnTo>
                        <a:pt x="433" y="478"/>
                      </a:lnTo>
                      <a:lnTo>
                        <a:pt x="433" y="478"/>
                      </a:lnTo>
                      <a:lnTo>
                        <a:pt x="433" y="478"/>
                      </a:lnTo>
                      <a:lnTo>
                        <a:pt x="433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19" y="478"/>
                      </a:lnTo>
                      <a:lnTo>
                        <a:pt x="419" y="478"/>
                      </a:lnTo>
                      <a:lnTo>
                        <a:pt x="419" y="478"/>
                      </a:lnTo>
                      <a:lnTo>
                        <a:pt x="419" y="478"/>
                      </a:lnTo>
                      <a:lnTo>
                        <a:pt x="419" y="478"/>
                      </a:lnTo>
                      <a:lnTo>
                        <a:pt x="412" y="478"/>
                      </a:lnTo>
                      <a:lnTo>
                        <a:pt x="412" y="485"/>
                      </a:lnTo>
                      <a:lnTo>
                        <a:pt x="412" y="485"/>
                      </a:lnTo>
                      <a:lnTo>
                        <a:pt x="412" y="485"/>
                      </a:lnTo>
                      <a:lnTo>
                        <a:pt x="405" y="485"/>
                      </a:lnTo>
                      <a:lnTo>
                        <a:pt x="405" y="485"/>
                      </a:lnTo>
                      <a:lnTo>
                        <a:pt x="405" y="485"/>
                      </a:lnTo>
                      <a:lnTo>
                        <a:pt x="405" y="478"/>
                      </a:lnTo>
                      <a:lnTo>
                        <a:pt x="405" y="478"/>
                      </a:lnTo>
                      <a:lnTo>
                        <a:pt x="405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1" y="485"/>
                      </a:lnTo>
                      <a:lnTo>
                        <a:pt x="391" y="485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91" y="485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85" y="492"/>
                      </a:lnTo>
                      <a:lnTo>
                        <a:pt x="385" y="499"/>
                      </a:lnTo>
                      <a:lnTo>
                        <a:pt x="385" y="499"/>
                      </a:lnTo>
                      <a:lnTo>
                        <a:pt x="385" y="499"/>
                      </a:lnTo>
                      <a:lnTo>
                        <a:pt x="385" y="499"/>
                      </a:lnTo>
                      <a:lnTo>
                        <a:pt x="385" y="499"/>
                      </a:lnTo>
                      <a:lnTo>
                        <a:pt x="385" y="506"/>
                      </a:lnTo>
                      <a:lnTo>
                        <a:pt x="385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13"/>
                      </a:lnTo>
                      <a:lnTo>
                        <a:pt x="378" y="513"/>
                      </a:lnTo>
                      <a:lnTo>
                        <a:pt x="378" y="513"/>
                      </a:lnTo>
                      <a:lnTo>
                        <a:pt x="378" y="513"/>
                      </a:lnTo>
                      <a:lnTo>
                        <a:pt x="371" y="513"/>
                      </a:lnTo>
                      <a:lnTo>
                        <a:pt x="371" y="513"/>
                      </a:lnTo>
                      <a:lnTo>
                        <a:pt x="371" y="513"/>
                      </a:lnTo>
                      <a:lnTo>
                        <a:pt x="371" y="513"/>
                      </a:lnTo>
                      <a:lnTo>
                        <a:pt x="364" y="513"/>
                      </a:lnTo>
                      <a:lnTo>
                        <a:pt x="364" y="520"/>
                      </a:lnTo>
                      <a:lnTo>
                        <a:pt x="364" y="520"/>
                      </a:lnTo>
                      <a:lnTo>
                        <a:pt x="364" y="520"/>
                      </a:lnTo>
                      <a:lnTo>
                        <a:pt x="357" y="520"/>
                      </a:lnTo>
                      <a:lnTo>
                        <a:pt x="357" y="520"/>
                      </a:lnTo>
                      <a:lnTo>
                        <a:pt x="357" y="520"/>
                      </a:lnTo>
                      <a:lnTo>
                        <a:pt x="357" y="527"/>
                      </a:lnTo>
                      <a:lnTo>
                        <a:pt x="350" y="527"/>
                      </a:lnTo>
                      <a:lnTo>
                        <a:pt x="350" y="527"/>
                      </a:lnTo>
                      <a:lnTo>
                        <a:pt x="350" y="527"/>
                      </a:lnTo>
                      <a:lnTo>
                        <a:pt x="350" y="527"/>
                      </a:lnTo>
                      <a:lnTo>
                        <a:pt x="350" y="534"/>
                      </a:lnTo>
                      <a:lnTo>
                        <a:pt x="350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37" y="534"/>
                      </a:lnTo>
                      <a:lnTo>
                        <a:pt x="337" y="534"/>
                      </a:lnTo>
                      <a:lnTo>
                        <a:pt x="337" y="534"/>
                      </a:lnTo>
                      <a:lnTo>
                        <a:pt x="337" y="534"/>
                      </a:lnTo>
                      <a:lnTo>
                        <a:pt x="330" y="534"/>
                      </a:lnTo>
                      <a:lnTo>
                        <a:pt x="330" y="534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16" y="548"/>
                      </a:lnTo>
                      <a:lnTo>
                        <a:pt x="316" y="548"/>
                      </a:lnTo>
                      <a:lnTo>
                        <a:pt x="316" y="548"/>
                      </a:lnTo>
                      <a:lnTo>
                        <a:pt x="316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2" y="548"/>
                      </a:lnTo>
                      <a:lnTo>
                        <a:pt x="302" y="548"/>
                      </a:lnTo>
                      <a:lnTo>
                        <a:pt x="302" y="548"/>
                      </a:lnTo>
                      <a:lnTo>
                        <a:pt x="302" y="555"/>
                      </a:lnTo>
                      <a:lnTo>
                        <a:pt x="302" y="555"/>
                      </a:lnTo>
                      <a:lnTo>
                        <a:pt x="302" y="548"/>
                      </a:lnTo>
                      <a:lnTo>
                        <a:pt x="302" y="548"/>
                      </a:lnTo>
                      <a:lnTo>
                        <a:pt x="295" y="548"/>
                      </a:lnTo>
                      <a:lnTo>
                        <a:pt x="295" y="548"/>
                      </a:lnTo>
                      <a:lnTo>
                        <a:pt x="295" y="555"/>
                      </a:lnTo>
                      <a:lnTo>
                        <a:pt x="295" y="555"/>
                      </a:lnTo>
                      <a:lnTo>
                        <a:pt x="295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2" y="555"/>
                      </a:lnTo>
                      <a:lnTo>
                        <a:pt x="282" y="555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75" y="562"/>
                      </a:lnTo>
                      <a:lnTo>
                        <a:pt x="275" y="562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68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68" y="582"/>
                      </a:lnTo>
                      <a:lnTo>
                        <a:pt x="268" y="589"/>
                      </a:lnTo>
                      <a:lnTo>
                        <a:pt x="275" y="589"/>
                      </a:lnTo>
                      <a:lnTo>
                        <a:pt x="275" y="589"/>
                      </a:lnTo>
                      <a:lnTo>
                        <a:pt x="268" y="589"/>
                      </a:lnTo>
                      <a:lnTo>
                        <a:pt x="268" y="589"/>
                      </a:lnTo>
                      <a:lnTo>
                        <a:pt x="268" y="589"/>
                      </a:lnTo>
                      <a:lnTo>
                        <a:pt x="268" y="589"/>
                      </a:lnTo>
                      <a:lnTo>
                        <a:pt x="268" y="596"/>
                      </a:lnTo>
                      <a:lnTo>
                        <a:pt x="268" y="596"/>
                      </a:lnTo>
                      <a:lnTo>
                        <a:pt x="268" y="596"/>
                      </a:lnTo>
                      <a:lnTo>
                        <a:pt x="268" y="596"/>
                      </a:lnTo>
                      <a:lnTo>
                        <a:pt x="268" y="596"/>
                      </a:lnTo>
                      <a:lnTo>
                        <a:pt x="268" y="603"/>
                      </a:lnTo>
                      <a:lnTo>
                        <a:pt x="268" y="603"/>
                      </a:lnTo>
                      <a:lnTo>
                        <a:pt x="268" y="603"/>
                      </a:lnTo>
                      <a:lnTo>
                        <a:pt x="268" y="603"/>
                      </a:lnTo>
                      <a:lnTo>
                        <a:pt x="268" y="603"/>
                      </a:lnTo>
                      <a:lnTo>
                        <a:pt x="261" y="610"/>
                      </a:lnTo>
                      <a:lnTo>
                        <a:pt x="261" y="610"/>
                      </a:lnTo>
                      <a:lnTo>
                        <a:pt x="261" y="610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24"/>
                      </a:lnTo>
                      <a:lnTo>
                        <a:pt x="261" y="624"/>
                      </a:lnTo>
                      <a:lnTo>
                        <a:pt x="254" y="624"/>
                      </a:lnTo>
                      <a:lnTo>
                        <a:pt x="261" y="624"/>
                      </a:lnTo>
                      <a:lnTo>
                        <a:pt x="254" y="624"/>
                      </a:lnTo>
                      <a:lnTo>
                        <a:pt x="254" y="624"/>
                      </a:lnTo>
                      <a:lnTo>
                        <a:pt x="254" y="624"/>
                      </a:lnTo>
                      <a:lnTo>
                        <a:pt x="254" y="624"/>
                      </a:lnTo>
                      <a:lnTo>
                        <a:pt x="254" y="624"/>
                      </a:lnTo>
                      <a:lnTo>
                        <a:pt x="254" y="631"/>
                      </a:lnTo>
                      <a:lnTo>
                        <a:pt x="254" y="631"/>
                      </a:lnTo>
                      <a:lnTo>
                        <a:pt x="254" y="631"/>
                      </a:lnTo>
                      <a:lnTo>
                        <a:pt x="254" y="631"/>
                      </a:lnTo>
                      <a:lnTo>
                        <a:pt x="254" y="631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47" y="638"/>
                      </a:lnTo>
                      <a:lnTo>
                        <a:pt x="247" y="638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52"/>
                      </a:lnTo>
                      <a:lnTo>
                        <a:pt x="247" y="652"/>
                      </a:lnTo>
                      <a:lnTo>
                        <a:pt x="240" y="652"/>
                      </a:lnTo>
                      <a:lnTo>
                        <a:pt x="240" y="652"/>
                      </a:lnTo>
                      <a:lnTo>
                        <a:pt x="240" y="652"/>
                      </a:lnTo>
                      <a:lnTo>
                        <a:pt x="240" y="652"/>
                      </a:lnTo>
                      <a:lnTo>
                        <a:pt x="240" y="652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34" y="659"/>
                      </a:lnTo>
                      <a:lnTo>
                        <a:pt x="234" y="659"/>
                      </a:lnTo>
                      <a:lnTo>
                        <a:pt x="234" y="659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73"/>
                      </a:lnTo>
                      <a:lnTo>
                        <a:pt x="234" y="673"/>
                      </a:lnTo>
                      <a:lnTo>
                        <a:pt x="240" y="673"/>
                      </a:lnTo>
                      <a:lnTo>
                        <a:pt x="240" y="673"/>
                      </a:lnTo>
                      <a:lnTo>
                        <a:pt x="240" y="673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7" y="700"/>
                      </a:lnTo>
                      <a:lnTo>
                        <a:pt x="247" y="700"/>
                      </a:lnTo>
                      <a:lnTo>
                        <a:pt x="247" y="700"/>
                      </a:lnTo>
                      <a:lnTo>
                        <a:pt x="247" y="700"/>
                      </a:lnTo>
                      <a:lnTo>
                        <a:pt x="247" y="700"/>
                      </a:lnTo>
                      <a:lnTo>
                        <a:pt x="247" y="707"/>
                      </a:lnTo>
                      <a:lnTo>
                        <a:pt x="247" y="707"/>
                      </a:lnTo>
                      <a:lnTo>
                        <a:pt x="247" y="707"/>
                      </a:lnTo>
                      <a:lnTo>
                        <a:pt x="247" y="707"/>
                      </a:lnTo>
                      <a:lnTo>
                        <a:pt x="254" y="707"/>
                      </a:lnTo>
                      <a:lnTo>
                        <a:pt x="247" y="707"/>
                      </a:lnTo>
                      <a:lnTo>
                        <a:pt x="254" y="707"/>
                      </a:lnTo>
                      <a:lnTo>
                        <a:pt x="254" y="714"/>
                      </a:lnTo>
                      <a:lnTo>
                        <a:pt x="254" y="714"/>
                      </a:lnTo>
                      <a:lnTo>
                        <a:pt x="254" y="714"/>
                      </a:lnTo>
                      <a:lnTo>
                        <a:pt x="254" y="714"/>
                      </a:lnTo>
                      <a:lnTo>
                        <a:pt x="247" y="714"/>
                      </a:lnTo>
                      <a:lnTo>
                        <a:pt x="247" y="714"/>
                      </a:lnTo>
                      <a:lnTo>
                        <a:pt x="247" y="714"/>
                      </a:lnTo>
                      <a:lnTo>
                        <a:pt x="247" y="714"/>
                      </a:lnTo>
                      <a:lnTo>
                        <a:pt x="247" y="714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8"/>
                      </a:lnTo>
                      <a:lnTo>
                        <a:pt x="247" y="728"/>
                      </a:lnTo>
                      <a:lnTo>
                        <a:pt x="247" y="728"/>
                      </a:lnTo>
                      <a:lnTo>
                        <a:pt x="247" y="728"/>
                      </a:lnTo>
                      <a:lnTo>
                        <a:pt x="247" y="728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42"/>
                      </a:lnTo>
                      <a:lnTo>
                        <a:pt x="247" y="742"/>
                      </a:lnTo>
                      <a:lnTo>
                        <a:pt x="247" y="742"/>
                      </a:lnTo>
                      <a:lnTo>
                        <a:pt x="247" y="742"/>
                      </a:lnTo>
                      <a:lnTo>
                        <a:pt x="247" y="742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63"/>
                      </a:lnTo>
                      <a:lnTo>
                        <a:pt x="247" y="763"/>
                      </a:lnTo>
                      <a:lnTo>
                        <a:pt x="247" y="763"/>
                      </a:lnTo>
                      <a:lnTo>
                        <a:pt x="247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7"/>
                      </a:lnTo>
                      <a:lnTo>
                        <a:pt x="240" y="777"/>
                      </a:lnTo>
                      <a:lnTo>
                        <a:pt x="240" y="777"/>
                      </a:lnTo>
                      <a:lnTo>
                        <a:pt x="240" y="777"/>
                      </a:lnTo>
                      <a:lnTo>
                        <a:pt x="234" y="777"/>
                      </a:lnTo>
                      <a:lnTo>
                        <a:pt x="234" y="777"/>
                      </a:lnTo>
                      <a:lnTo>
                        <a:pt x="234" y="777"/>
                      </a:lnTo>
                      <a:lnTo>
                        <a:pt x="234" y="777"/>
                      </a:lnTo>
                      <a:lnTo>
                        <a:pt x="234" y="770"/>
                      </a:lnTo>
                      <a:lnTo>
                        <a:pt x="234" y="770"/>
                      </a:lnTo>
                      <a:lnTo>
                        <a:pt x="227" y="770"/>
                      </a:lnTo>
                      <a:lnTo>
                        <a:pt x="227" y="777"/>
                      </a:lnTo>
                      <a:lnTo>
                        <a:pt x="220" y="777"/>
                      </a:lnTo>
                      <a:lnTo>
                        <a:pt x="220" y="777"/>
                      </a:lnTo>
                      <a:lnTo>
                        <a:pt x="220" y="770"/>
                      </a:lnTo>
                      <a:lnTo>
                        <a:pt x="220" y="770"/>
                      </a:lnTo>
                      <a:lnTo>
                        <a:pt x="220" y="770"/>
                      </a:lnTo>
                      <a:lnTo>
                        <a:pt x="213" y="770"/>
                      </a:lnTo>
                      <a:lnTo>
                        <a:pt x="213" y="770"/>
                      </a:lnTo>
                      <a:lnTo>
                        <a:pt x="213" y="770"/>
                      </a:lnTo>
                      <a:lnTo>
                        <a:pt x="206" y="770"/>
                      </a:lnTo>
                      <a:lnTo>
                        <a:pt x="206" y="770"/>
                      </a:lnTo>
                      <a:lnTo>
                        <a:pt x="206" y="770"/>
                      </a:lnTo>
                      <a:lnTo>
                        <a:pt x="206" y="770"/>
                      </a:lnTo>
                      <a:lnTo>
                        <a:pt x="206" y="770"/>
                      </a:lnTo>
                      <a:lnTo>
                        <a:pt x="199" y="770"/>
                      </a:lnTo>
                      <a:lnTo>
                        <a:pt x="199" y="763"/>
                      </a:lnTo>
                      <a:lnTo>
                        <a:pt x="199" y="763"/>
                      </a:lnTo>
                      <a:lnTo>
                        <a:pt x="199" y="763"/>
                      </a:lnTo>
                      <a:lnTo>
                        <a:pt x="192" y="763"/>
                      </a:lnTo>
                      <a:lnTo>
                        <a:pt x="192" y="763"/>
                      </a:lnTo>
                      <a:lnTo>
                        <a:pt x="192" y="756"/>
                      </a:lnTo>
                      <a:lnTo>
                        <a:pt x="192" y="756"/>
                      </a:lnTo>
                      <a:lnTo>
                        <a:pt x="192" y="756"/>
                      </a:lnTo>
                      <a:lnTo>
                        <a:pt x="192" y="756"/>
                      </a:lnTo>
                      <a:lnTo>
                        <a:pt x="192" y="749"/>
                      </a:lnTo>
                      <a:lnTo>
                        <a:pt x="192" y="749"/>
                      </a:lnTo>
                      <a:lnTo>
                        <a:pt x="192" y="749"/>
                      </a:lnTo>
                      <a:lnTo>
                        <a:pt x="192" y="749"/>
                      </a:lnTo>
                      <a:lnTo>
                        <a:pt x="192" y="749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86" y="742"/>
                      </a:lnTo>
                      <a:lnTo>
                        <a:pt x="186" y="742"/>
                      </a:lnTo>
                      <a:lnTo>
                        <a:pt x="186" y="742"/>
                      </a:lnTo>
                      <a:lnTo>
                        <a:pt x="186" y="742"/>
                      </a:lnTo>
                      <a:lnTo>
                        <a:pt x="186" y="735"/>
                      </a:lnTo>
                      <a:lnTo>
                        <a:pt x="186" y="735"/>
                      </a:lnTo>
                      <a:lnTo>
                        <a:pt x="186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86" y="728"/>
                      </a:lnTo>
                      <a:lnTo>
                        <a:pt x="186" y="728"/>
                      </a:lnTo>
                      <a:lnTo>
                        <a:pt x="186" y="728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79" y="714"/>
                      </a:lnTo>
                      <a:lnTo>
                        <a:pt x="179" y="714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86"/>
                      </a:lnTo>
                      <a:lnTo>
                        <a:pt x="165" y="686"/>
                      </a:lnTo>
                      <a:lnTo>
                        <a:pt x="165" y="686"/>
                      </a:lnTo>
                      <a:lnTo>
                        <a:pt x="165" y="686"/>
                      </a:lnTo>
                      <a:lnTo>
                        <a:pt x="165" y="686"/>
                      </a:lnTo>
                      <a:lnTo>
                        <a:pt x="158" y="686"/>
                      </a:lnTo>
                      <a:lnTo>
                        <a:pt x="158" y="686"/>
                      </a:lnTo>
                      <a:lnTo>
                        <a:pt x="158" y="686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86"/>
                      </a:lnTo>
                      <a:lnTo>
                        <a:pt x="158" y="686"/>
                      </a:lnTo>
                      <a:lnTo>
                        <a:pt x="158" y="686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51" y="673"/>
                      </a:lnTo>
                      <a:lnTo>
                        <a:pt x="144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59"/>
                      </a:lnTo>
                      <a:lnTo>
                        <a:pt x="151" y="659"/>
                      </a:lnTo>
                      <a:lnTo>
                        <a:pt x="151" y="659"/>
                      </a:lnTo>
                      <a:lnTo>
                        <a:pt x="151" y="659"/>
                      </a:lnTo>
                      <a:lnTo>
                        <a:pt x="151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17"/>
                      </a:lnTo>
                      <a:lnTo>
                        <a:pt x="165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9" y="617"/>
                      </a:lnTo>
                      <a:lnTo>
                        <a:pt x="179" y="617"/>
                      </a:lnTo>
                      <a:lnTo>
                        <a:pt x="179" y="617"/>
                      </a:lnTo>
                      <a:lnTo>
                        <a:pt x="179" y="617"/>
                      </a:lnTo>
                      <a:lnTo>
                        <a:pt x="186" y="617"/>
                      </a:lnTo>
                      <a:lnTo>
                        <a:pt x="186" y="617"/>
                      </a:lnTo>
                      <a:lnTo>
                        <a:pt x="186" y="617"/>
                      </a:lnTo>
                      <a:lnTo>
                        <a:pt x="186" y="617"/>
                      </a:lnTo>
                      <a:lnTo>
                        <a:pt x="186" y="610"/>
                      </a:lnTo>
                      <a:lnTo>
                        <a:pt x="192" y="610"/>
                      </a:lnTo>
                      <a:lnTo>
                        <a:pt x="192" y="610"/>
                      </a:lnTo>
                      <a:lnTo>
                        <a:pt x="192" y="610"/>
                      </a:lnTo>
                      <a:lnTo>
                        <a:pt x="192" y="610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596"/>
                      </a:lnTo>
                      <a:lnTo>
                        <a:pt x="192" y="596"/>
                      </a:lnTo>
                      <a:lnTo>
                        <a:pt x="192" y="596"/>
                      </a:lnTo>
                      <a:lnTo>
                        <a:pt x="192" y="596"/>
                      </a:lnTo>
                      <a:lnTo>
                        <a:pt x="192" y="596"/>
                      </a:lnTo>
                      <a:lnTo>
                        <a:pt x="192" y="589"/>
                      </a:lnTo>
                      <a:lnTo>
                        <a:pt x="192" y="589"/>
                      </a:lnTo>
                      <a:lnTo>
                        <a:pt x="192" y="589"/>
                      </a:lnTo>
                      <a:lnTo>
                        <a:pt x="192" y="589"/>
                      </a:lnTo>
                      <a:lnTo>
                        <a:pt x="192" y="589"/>
                      </a:lnTo>
                      <a:lnTo>
                        <a:pt x="192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75"/>
                      </a:lnTo>
                      <a:lnTo>
                        <a:pt x="179" y="575"/>
                      </a:lnTo>
                      <a:lnTo>
                        <a:pt x="179" y="575"/>
                      </a:lnTo>
                      <a:lnTo>
                        <a:pt x="179" y="582"/>
                      </a:lnTo>
                      <a:lnTo>
                        <a:pt x="179" y="582"/>
                      </a:lnTo>
                      <a:lnTo>
                        <a:pt x="179" y="582"/>
                      </a:lnTo>
                      <a:lnTo>
                        <a:pt x="179" y="582"/>
                      </a:lnTo>
                      <a:lnTo>
                        <a:pt x="179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58" y="582"/>
                      </a:lnTo>
                      <a:lnTo>
                        <a:pt x="158" y="582"/>
                      </a:lnTo>
                      <a:lnTo>
                        <a:pt x="158" y="582"/>
                      </a:lnTo>
                      <a:lnTo>
                        <a:pt x="158" y="582"/>
                      </a:lnTo>
                      <a:lnTo>
                        <a:pt x="158" y="589"/>
                      </a:lnTo>
                      <a:lnTo>
                        <a:pt x="158" y="589"/>
                      </a:lnTo>
                      <a:lnTo>
                        <a:pt x="158" y="589"/>
                      </a:lnTo>
                      <a:lnTo>
                        <a:pt x="158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96"/>
                      </a:lnTo>
                      <a:lnTo>
                        <a:pt x="151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37" y="589"/>
                      </a:lnTo>
                      <a:lnTo>
                        <a:pt x="144" y="589"/>
                      </a:lnTo>
                      <a:lnTo>
                        <a:pt x="137" y="582"/>
                      </a:lnTo>
                      <a:lnTo>
                        <a:pt x="144" y="582"/>
                      </a:lnTo>
                      <a:lnTo>
                        <a:pt x="137" y="582"/>
                      </a:lnTo>
                      <a:lnTo>
                        <a:pt x="144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75"/>
                      </a:lnTo>
                      <a:lnTo>
                        <a:pt x="137" y="575"/>
                      </a:lnTo>
                      <a:lnTo>
                        <a:pt x="137" y="575"/>
                      </a:lnTo>
                      <a:lnTo>
                        <a:pt x="137" y="575"/>
                      </a:lnTo>
                      <a:lnTo>
                        <a:pt x="137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24" y="568"/>
                      </a:lnTo>
                      <a:lnTo>
                        <a:pt x="124" y="562"/>
                      </a:lnTo>
                      <a:lnTo>
                        <a:pt x="124" y="568"/>
                      </a:lnTo>
                      <a:lnTo>
                        <a:pt x="124" y="562"/>
                      </a:lnTo>
                      <a:lnTo>
                        <a:pt x="124" y="568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55"/>
                      </a:lnTo>
                      <a:lnTo>
                        <a:pt x="124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62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48"/>
                      </a:lnTo>
                      <a:lnTo>
                        <a:pt x="117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1"/>
                      </a:lnTo>
                      <a:lnTo>
                        <a:pt x="110" y="541"/>
                      </a:lnTo>
                      <a:lnTo>
                        <a:pt x="110" y="541"/>
                      </a:lnTo>
                      <a:lnTo>
                        <a:pt x="103" y="541"/>
                      </a:lnTo>
                      <a:lnTo>
                        <a:pt x="103" y="541"/>
                      </a:lnTo>
                      <a:lnTo>
                        <a:pt x="103" y="541"/>
                      </a:lnTo>
                      <a:lnTo>
                        <a:pt x="103" y="541"/>
                      </a:lnTo>
                      <a:lnTo>
                        <a:pt x="96" y="541"/>
                      </a:lnTo>
                      <a:lnTo>
                        <a:pt x="103" y="541"/>
                      </a:lnTo>
                      <a:lnTo>
                        <a:pt x="103" y="541"/>
                      </a:lnTo>
                      <a:lnTo>
                        <a:pt x="110" y="534"/>
                      </a:lnTo>
                      <a:lnTo>
                        <a:pt x="110" y="534"/>
                      </a:lnTo>
                      <a:lnTo>
                        <a:pt x="110" y="534"/>
                      </a:lnTo>
                      <a:lnTo>
                        <a:pt x="110" y="527"/>
                      </a:lnTo>
                      <a:lnTo>
                        <a:pt x="110" y="527"/>
                      </a:lnTo>
                      <a:lnTo>
                        <a:pt x="103" y="527"/>
                      </a:lnTo>
                      <a:lnTo>
                        <a:pt x="103" y="527"/>
                      </a:lnTo>
                      <a:lnTo>
                        <a:pt x="103" y="527"/>
                      </a:lnTo>
                      <a:lnTo>
                        <a:pt x="96" y="527"/>
                      </a:lnTo>
                      <a:lnTo>
                        <a:pt x="96" y="527"/>
                      </a:lnTo>
                      <a:lnTo>
                        <a:pt x="96" y="527"/>
                      </a:lnTo>
                      <a:lnTo>
                        <a:pt x="96" y="527"/>
                      </a:lnTo>
                      <a:lnTo>
                        <a:pt x="96" y="527"/>
                      </a:lnTo>
                      <a:lnTo>
                        <a:pt x="89" y="527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13"/>
                      </a:lnTo>
                      <a:lnTo>
                        <a:pt x="89" y="513"/>
                      </a:lnTo>
                      <a:lnTo>
                        <a:pt x="89" y="513"/>
                      </a:lnTo>
                      <a:lnTo>
                        <a:pt x="96" y="513"/>
                      </a:lnTo>
                      <a:lnTo>
                        <a:pt x="96" y="513"/>
                      </a:lnTo>
                      <a:lnTo>
                        <a:pt x="96" y="513"/>
                      </a:lnTo>
                      <a:lnTo>
                        <a:pt x="96" y="513"/>
                      </a:lnTo>
                      <a:lnTo>
                        <a:pt x="96" y="506"/>
                      </a:lnTo>
                      <a:lnTo>
                        <a:pt x="103" y="506"/>
                      </a:lnTo>
                      <a:lnTo>
                        <a:pt x="103" y="506"/>
                      </a:lnTo>
                      <a:lnTo>
                        <a:pt x="103" y="506"/>
                      </a:lnTo>
                      <a:lnTo>
                        <a:pt x="103" y="499"/>
                      </a:lnTo>
                      <a:lnTo>
                        <a:pt x="103" y="499"/>
                      </a:lnTo>
                      <a:lnTo>
                        <a:pt x="103" y="499"/>
                      </a:lnTo>
                      <a:lnTo>
                        <a:pt x="110" y="492"/>
                      </a:lnTo>
                      <a:lnTo>
                        <a:pt x="110" y="492"/>
                      </a:lnTo>
                      <a:lnTo>
                        <a:pt x="110" y="492"/>
                      </a:lnTo>
                      <a:lnTo>
                        <a:pt x="103" y="492"/>
                      </a:lnTo>
                      <a:lnTo>
                        <a:pt x="103" y="485"/>
                      </a:lnTo>
                      <a:lnTo>
                        <a:pt x="103" y="485"/>
                      </a:lnTo>
                      <a:lnTo>
                        <a:pt x="110" y="485"/>
                      </a:lnTo>
                      <a:lnTo>
                        <a:pt x="110" y="478"/>
                      </a:lnTo>
                      <a:lnTo>
                        <a:pt x="110" y="478"/>
                      </a:lnTo>
                      <a:lnTo>
                        <a:pt x="110" y="478"/>
                      </a:lnTo>
                      <a:lnTo>
                        <a:pt x="110" y="478"/>
                      </a:lnTo>
                      <a:lnTo>
                        <a:pt x="110" y="471"/>
                      </a:lnTo>
                      <a:lnTo>
                        <a:pt x="110" y="471"/>
                      </a:lnTo>
                      <a:lnTo>
                        <a:pt x="110" y="471"/>
                      </a:lnTo>
                      <a:lnTo>
                        <a:pt x="110" y="471"/>
                      </a:lnTo>
                      <a:lnTo>
                        <a:pt x="110" y="464"/>
                      </a:lnTo>
                      <a:lnTo>
                        <a:pt x="110" y="464"/>
                      </a:lnTo>
                      <a:lnTo>
                        <a:pt x="110" y="464"/>
                      </a:lnTo>
                      <a:lnTo>
                        <a:pt x="110" y="457"/>
                      </a:lnTo>
                      <a:lnTo>
                        <a:pt x="117" y="457"/>
                      </a:lnTo>
                      <a:lnTo>
                        <a:pt x="110" y="457"/>
                      </a:lnTo>
                      <a:lnTo>
                        <a:pt x="110" y="451"/>
                      </a:lnTo>
                      <a:lnTo>
                        <a:pt x="117" y="451"/>
                      </a:lnTo>
                      <a:lnTo>
                        <a:pt x="117" y="451"/>
                      </a:lnTo>
                      <a:lnTo>
                        <a:pt x="117" y="451"/>
                      </a:lnTo>
                      <a:lnTo>
                        <a:pt x="117" y="444"/>
                      </a:lnTo>
                      <a:lnTo>
                        <a:pt x="117" y="444"/>
                      </a:lnTo>
                      <a:lnTo>
                        <a:pt x="117" y="444"/>
                      </a:lnTo>
                      <a:lnTo>
                        <a:pt x="117" y="437"/>
                      </a:lnTo>
                      <a:lnTo>
                        <a:pt x="117" y="437"/>
                      </a:lnTo>
                      <a:lnTo>
                        <a:pt x="117" y="437"/>
                      </a:lnTo>
                      <a:lnTo>
                        <a:pt x="117" y="437"/>
                      </a:lnTo>
                      <a:lnTo>
                        <a:pt x="110" y="430"/>
                      </a:lnTo>
                      <a:lnTo>
                        <a:pt x="110" y="430"/>
                      </a:lnTo>
                      <a:lnTo>
                        <a:pt x="110" y="423"/>
                      </a:lnTo>
                      <a:lnTo>
                        <a:pt x="110" y="423"/>
                      </a:lnTo>
                      <a:lnTo>
                        <a:pt x="110" y="423"/>
                      </a:lnTo>
                      <a:lnTo>
                        <a:pt x="110" y="416"/>
                      </a:lnTo>
                      <a:lnTo>
                        <a:pt x="110" y="416"/>
                      </a:lnTo>
                      <a:lnTo>
                        <a:pt x="110" y="416"/>
                      </a:lnTo>
                      <a:lnTo>
                        <a:pt x="110" y="409"/>
                      </a:lnTo>
                      <a:lnTo>
                        <a:pt x="110" y="409"/>
                      </a:lnTo>
                      <a:lnTo>
                        <a:pt x="110" y="402"/>
                      </a:lnTo>
                      <a:lnTo>
                        <a:pt x="110" y="402"/>
                      </a:lnTo>
                      <a:lnTo>
                        <a:pt x="110" y="395"/>
                      </a:lnTo>
                      <a:lnTo>
                        <a:pt x="110" y="395"/>
                      </a:lnTo>
                      <a:lnTo>
                        <a:pt x="110" y="395"/>
                      </a:lnTo>
                      <a:lnTo>
                        <a:pt x="110" y="388"/>
                      </a:lnTo>
                      <a:lnTo>
                        <a:pt x="110" y="388"/>
                      </a:lnTo>
                      <a:lnTo>
                        <a:pt x="110" y="388"/>
                      </a:lnTo>
                      <a:lnTo>
                        <a:pt x="110" y="381"/>
                      </a:lnTo>
                      <a:lnTo>
                        <a:pt x="110" y="381"/>
                      </a:lnTo>
                      <a:lnTo>
                        <a:pt x="110" y="381"/>
                      </a:lnTo>
                      <a:lnTo>
                        <a:pt x="103" y="374"/>
                      </a:lnTo>
                      <a:lnTo>
                        <a:pt x="103" y="374"/>
                      </a:lnTo>
                      <a:lnTo>
                        <a:pt x="103" y="374"/>
                      </a:lnTo>
                      <a:lnTo>
                        <a:pt x="96" y="374"/>
                      </a:lnTo>
                      <a:lnTo>
                        <a:pt x="96" y="367"/>
                      </a:lnTo>
                      <a:lnTo>
                        <a:pt x="89" y="367"/>
                      </a:lnTo>
                      <a:lnTo>
                        <a:pt x="89" y="367"/>
                      </a:lnTo>
                      <a:lnTo>
                        <a:pt x="83" y="367"/>
                      </a:lnTo>
                      <a:lnTo>
                        <a:pt x="83" y="367"/>
                      </a:lnTo>
                      <a:lnTo>
                        <a:pt x="83" y="367"/>
                      </a:lnTo>
                      <a:lnTo>
                        <a:pt x="76" y="367"/>
                      </a:lnTo>
                      <a:lnTo>
                        <a:pt x="76" y="360"/>
                      </a:lnTo>
                      <a:lnTo>
                        <a:pt x="76" y="360"/>
                      </a:lnTo>
                      <a:lnTo>
                        <a:pt x="76" y="360"/>
                      </a:lnTo>
                      <a:lnTo>
                        <a:pt x="76" y="360"/>
                      </a:lnTo>
                      <a:lnTo>
                        <a:pt x="76" y="353"/>
                      </a:lnTo>
                      <a:lnTo>
                        <a:pt x="69" y="353"/>
                      </a:lnTo>
                      <a:lnTo>
                        <a:pt x="69" y="353"/>
                      </a:lnTo>
                      <a:lnTo>
                        <a:pt x="69" y="353"/>
                      </a:lnTo>
                      <a:lnTo>
                        <a:pt x="69" y="353"/>
                      </a:lnTo>
                      <a:lnTo>
                        <a:pt x="62" y="353"/>
                      </a:lnTo>
                      <a:lnTo>
                        <a:pt x="62" y="353"/>
                      </a:lnTo>
                      <a:lnTo>
                        <a:pt x="62" y="353"/>
                      </a:lnTo>
                      <a:lnTo>
                        <a:pt x="62" y="353"/>
                      </a:lnTo>
                      <a:lnTo>
                        <a:pt x="55" y="360"/>
                      </a:lnTo>
                      <a:lnTo>
                        <a:pt x="55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1" y="353"/>
                      </a:lnTo>
                      <a:lnTo>
                        <a:pt x="41" y="353"/>
                      </a:lnTo>
                      <a:lnTo>
                        <a:pt x="34" y="353"/>
                      </a:lnTo>
                      <a:lnTo>
                        <a:pt x="34" y="346"/>
                      </a:lnTo>
                      <a:lnTo>
                        <a:pt x="34" y="346"/>
                      </a:lnTo>
                      <a:lnTo>
                        <a:pt x="28" y="346"/>
                      </a:lnTo>
                      <a:lnTo>
                        <a:pt x="28" y="346"/>
                      </a:lnTo>
                      <a:lnTo>
                        <a:pt x="21" y="346"/>
                      </a:lnTo>
                      <a:lnTo>
                        <a:pt x="21" y="353"/>
                      </a:lnTo>
                      <a:lnTo>
                        <a:pt x="21" y="353"/>
                      </a:lnTo>
                      <a:lnTo>
                        <a:pt x="21" y="353"/>
                      </a:lnTo>
                      <a:lnTo>
                        <a:pt x="14" y="353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7" y="360"/>
                      </a:lnTo>
                      <a:lnTo>
                        <a:pt x="7" y="360"/>
                      </a:lnTo>
                      <a:lnTo>
                        <a:pt x="7" y="360"/>
                      </a:lnTo>
                      <a:lnTo>
                        <a:pt x="7" y="360"/>
                      </a:lnTo>
                      <a:lnTo>
                        <a:pt x="7" y="360"/>
                      </a:lnTo>
                      <a:lnTo>
                        <a:pt x="7" y="367"/>
                      </a:lnTo>
                      <a:lnTo>
                        <a:pt x="7" y="360"/>
                      </a:lnTo>
                      <a:lnTo>
                        <a:pt x="0" y="367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922640" y="3008160"/>
                  <a:ext cx="406440" cy="423720"/>
                </a:xfrm>
                <a:custGeom>
                  <a:avLst/>
                  <a:gdLst/>
                  <a:ahLst/>
                  <a:rect l="l" t="t" r="r" b="b"/>
                  <a:pathLst>
                    <a:path w="323" h="360">
                      <a:moveTo>
                        <a:pt x="0" y="360"/>
                      </a:moveTo>
                      <a:lnTo>
                        <a:pt x="21" y="346"/>
                      </a:lnTo>
                      <a:lnTo>
                        <a:pt x="28" y="346"/>
                      </a:lnTo>
                      <a:lnTo>
                        <a:pt x="28" y="346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34" y="340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55" y="319"/>
                      </a:lnTo>
                      <a:lnTo>
                        <a:pt x="62" y="319"/>
                      </a:lnTo>
                      <a:lnTo>
                        <a:pt x="62" y="312"/>
                      </a:lnTo>
                      <a:lnTo>
                        <a:pt x="69" y="312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103" y="291"/>
                      </a:lnTo>
                      <a:lnTo>
                        <a:pt x="103" y="291"/>
                      </a:lnTo>
                      <a:lnTo>
                        <a:pt x="103" y="284"/>
                      </a:lnTo>
                      <a:lnTo>
                        <a:pt x="103" y="284"/>
                      </a:lnTo>
                      <a:lnTo>
                        <a:pt x="110" y="284"/>
                      </a:lnTo>
                      <a:lnTo>
                        <a:pt x="110" y="284"/>
                      </a:lnTo>
                      <a:lnTo>
                        <a:pt x="110" y="284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24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17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49"/>
                      </a:lnTo>
                      <a:lnTo>
                        <a:pt x="124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2"/>
                      </a:lnTo>
                      <a:lnTo>
                        <a:pt x="131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8" y="201"/>
                      </a:lnTo>
                      <a:lnTo>
                        <a:pt x="158" y="194"/>
                      </a:lnTo>
                      <a:lnTo>
                        <a:pt x="151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79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1"/>
                      </a:lnTo>
                      <a:lnTo>
                        <a:pt x="186" y="131"/>
                      </a:lnTo>
                      <a:lnTo>
                        <a:pt x="186" y="138"/>
                      </a:lnTo>
                      <a:lnTo>
                        <a:pt x="186" y="138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92" y="131"/>
                      </a:lnTo>
                      <a:lnTo>
                        <a:pt x="192" y="131"/>
                      </a:lnTo>
                      <a:lnTo>
                        <a:pt x="192" y="131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9" y="124"/>
                      </a:lnTo>
                      <a:lnTo>
                        <a:pt x="199" y="124"/>
                      </a:lnTo>
                      <a:lnTo>
                        <a:pt x="199" y="124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97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13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13" y="90"/>
                      </a:lnTo>
                      <a:lnTo>
                        <a:pt x="213" y="90"/>
                      </a:lnTo>
                      <a:lnTo>
                        <a:pt x="213" y="90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76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1"/>
                      </a:lnTo>
                      <a:lnTo>
                        <a:pt x="220" y="41"/>
                      </a:lnTo>
                      <a:lnTo>
                        <a:pt x="220" y="41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27"/>
                      </a:lnTo>
                      <a:lnTo>
                        <a:pt x="227" y="27"/>
                      </a:lnTo>
                      <a:lnTo>
                        <a:pt x="227" y="27"/>
                      </a:lnTo>
                      <a:lnTo>
                        <a:pt x="227" y="27"/>
                      </a:lnTo>
                      <a:lnTo>
                        <a:pt x="227" y="20"/>
                      </a:lnTo>
                      <a:lnTo>
                        <a:pt x="227" y="20"/>
                      </a:lnTo>
                      <a:lnTo>
                        <a:pt x="227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14"/>
                      </a:lnTo>
                      <a:lnTo>
                        <a:pt x="220" y="14"/>
                      </a:lnTo>
                      <a:lnTo>
                        <a:pt x="220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40" y="0"/>
                      </a:lnTo>
                      <a:lnTo>
                        <a:pt x="240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14"/>
                      </a:lnTo>
                      <a:lnTo>
                        <a:pt x="240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54" y="14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7"/>
                      </a:lnTo>
                      <a:lnTo>
                        <a:pt x="247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14"/>
                      </a:lnTo>
                      <a:lnTo>
                        <a:pt x="261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61" y="14"/>
                      </a:lnTo>
                      <a:lnTo>
                        <a:pt x="261" y="14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54" y="20"/>
                      </a:lnTo>
                      <a:lnTo>
                        <a:pt x="254" y="27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54" y="34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14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75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75" y="27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7"/>
                      </a:lnTo>
                      <a:lnTo>
                        <a:pt x="275" y="20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82" y="27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0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75" y="27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75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75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27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27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95" y="20"/>
                      </a:lnTo>
                      <a:lnTo>
                        <a:pt x="288" y="20"/>
                      </a:lnTo>
                      <a:lnTo>
                        <a:pt x="295" y="27"/>
                      </a:lnTo>
                      <a:lnTo>
                        <a:pt x="295" y="20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88" y="27"/>
                      </a:lnTo>
                      <a:lnTo>
                        <a:pt x="295" y="27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2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34"/>
                      </a:lnTo>
                      <a:lnTo>
                        <a:pt x="302" y="34"/>
                      </a:lnTo>
                      <a:lnTo>
                        <a:pt x="302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09" y="41"/>
                      </a:lnTo>
                      <a:lnTo>
                        <a:pt x="316" y="41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41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217480" y="3039840"/>
                  <a:ext cx="449280" cy="775080"/>
                </a:xfrm>
                <a:custGeom>
                  <a:avLst/>
                  <a:gdLst/>
                  <a:ahLst/>
                  <a:rect l="l" t="t" r="r" b="b"/>
                  <a:pathLst>
                    <a:path w="357" h="659">
                      <a:moveTo>
                        <a:pt x="89" y="7"/>
                      </a:move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14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14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0"/>
                      </a:lnTo>
                      <a:lnTo>
                        <a:pt x="96" y="7"/>
                      </a:lnTo>
                      <a:lnTo>
                        <a:pt x="96" y="0"/>
                      </a:lnTo>
                      <a:lnTo>
                        <a:pt x="96" y="0"/>
                      </a:lnTo>
                      <a:lnTo>
                        <a:pt x="103" y="0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14"/>
                      </a:lnTo>
                      <a:lnTo>
                        <a:pt x="103" y="14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9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16" y="14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1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35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96" y="35"/>
                      </a:lnTo>
                      <a:lnTo>
                        <a:pt x="96" y="42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3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35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35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9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23" y="49"/>
                      </a:lnTo>
                      <a:lnTo>
                        <a:pt x="123" y="49"/>
                      </a:lnTo>
                      <a:lnTo>
                        <a:pt x="123" y="49"/>
                      </a:lnTo>
                      <a:lnTo>
                        <a:pt x="123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44" y="97"/>
                      </a:lnTo>
                      <a:lnTo>
                        <a:pt x="144" y="97"/>
                      </a:lnTo>
                      <a:lnTo>
                        <a:pt x="144" y="91"/>
                      </a:lnTo>
                      <a:lnTo>
                        <a:pt x="144" y="91"/>
                      </a:lnTo>
                      <a:lnTo>
                        <a:pt x="144" y="91"/>
                      </a:lnTo>
                      <a:lnTo>
                        <a:pt x="151" y="91"/>
                      </a:lnTo>
                      <a:lnTo>
                        <a:pt x="151" y="91"/>
                      </a:lnTo>
                      <a:lnTo>
                        <a:pt x="151" y="91"/>
                      </a:lnTo>
                      <a:lnTo>
                        <a:pt x="151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57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84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71" y="91"/>
                      </a:lnTo>
                      <a:lnTo>
                        <a:pt x="171" y="91"/>
                      </a:lnTo>
                      <a:lnTo>
                        <a:pt x="171" y="97"/>
                      </a:lnTo>
                      <a:lnTo>
                        <a:pt x="171" y="104"/>
                      </a:lnTo>
                      <a:lnTo>
                        <a:pt x="171" y="104"/>
                      </a:lnTo>
                      <a:lnTo>
                        <a:pt x="171" y="97"/>
                      </a:lnTo>
                      <a:lnTo>
                        <a:pt x="178" y="97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84"/>
                      </a:lnTo>
                      <a:lnTo>
                        <a:pt x="185" y="84"/>
                      </a:lnTo>
                      <a:lnTo>
                        <a:pt x="185" y="84"/>
                      </a:lnTo>
                      <a:lnTo>
                        <a:pt x="185" y="84"/>
                      </a:lnTo>
                      <a:lnTo>
                        <a:pt x="192" y="84"/>
                      </a:lnTo>
                      <a:lnTo>
                        <a:pt x="192" y="84"/>
                      </a:lnTo>
                      <a:lnTo>
                        <a:pt x="192" y="84"/>
                      </a:lnTo>
                      <a:lnTo>
                        <a:pt x="192" y="84"/>
                      </a:lnTo>
                      <a:lnTo>
                        <a:pt x="192" y="77"/>
                      </a:lnTo>
                      <a:lnTo>
                        <a:pt x="192" y="77"/>
                      </a:lnTo>
                      <a:lnTo>
                        <a:pt x="199" y="77"/>
                      </a:lnTo>
                      <a:lnTo>
                        <a:pt x="199" y="70"/>
                      </a:lnTo>
                      <a:lnTo>
                        <a:pt x="199" y="70"/>
                      </a:lnTo>
                      <a:lnTo>
                        <a:pt x="206" y="70"/>
                      </a:lnTo>
                      <a:lnTo>
                        <a:pt x="206" y="77"/>
                      </a:lnTo>
                      <a:lnTo>
                        <a:pt x="212" y="84"/>
                      </a:lnTo>
                      <a:lnTo>
                        <a:pt x="212" y="84"/>
                      </a:lnTo>
                      <a:lnTo>
                        <a:pt x="212" y="84"/>
                      </a:lnTo>
                      <a:lnTo>
                        <a:pt x="212" y="84"/>
                      </a:lnTo>
                      <a:lnTo>
                        <a:pt x="219" y="84"/>
                      </a:lnTo>
                      <a:lnTo>
                        <a:pt x="219" y="84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84"/>
                      </a:lnTo>
                      <a:lnTo>
                        <a:pt x="226" y="84"/>
                      </a:lnTo>
                      <a:lnTo>
                        <a:pt x="226" y="84"/>
                      </a:lnTo>
                      <a:lnTo>
                        <a:pt x="226" y="84"/>
                      </a:lnTo>
                      <a:lnTo>
                        <a:pt x="240" y="84"/>
                      </a:lnTo>
                      <a:lnTo>
                        <a:pt x="240" y="84"/>
                      </a:lnTo>
                      <a:lnTo>
                        <a:pt x="247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60" y="91"/>
                      </a:lnTo>
                      <a:lnTo>
                        <a:pt x="267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104"/>
                      </a:lnTo>
                      <a:lnTo>
                        <a:pt x="274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11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74" y="104"/>
                      </a:lnTo>
                      <a:lnTo>
                        <a:pt x="274" y="104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81" y="104"/>
                      </a:lnTo>
                      <a:lnTo>
                        <a:pt x="288" y="111"/>
                      </a:lnTo>
                      <a:lnTo>
                        <a:pt x="288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302" y="111"/>
                      </a:lnTo>
                      <a:lnTo>
                        <a:pt x="309" y="111"/>
                      </a:lnTo>
                      <a:lnTo>
                        <a:pt x="309" y="111"/>
                      </a:lnTo>
                      <a:lnTo>
                        <a:pt x="309" y="111"/>
                      </a:lnTo>
                      <a:lnTo>
                        <a:pt x="315" y="111"/>
                      </a:lnTo>
                      <a:lnTo>
                        <a:pt x="315" y="111"/>
                      </a:lnTo>
                      <a:lnTo>
                        <a:pt x="315" y="111"/>
                      </a:lnTo>
                      <a:lnTo>
                        <a:pt x="315" y="111"/>
                      </a:lnTo>
                      <a:lnTo>
                        <a:pt x="315" y="111"/>
                      </a:lnTo>
                      <a:lnTo>
                        <a:pt x="322" y="111"/>
                      </a:lnTo>
                      <a:lnTo>
                        <a:pt x="315" y="111"/>
                      </a:lnTo>
                      <a:lnTo>
                        <a:pt x="322" y="111"/>
                      </a:lnTo>
                      <a:lnTo>
                        <a:pt x="322" y="111"/>
                      </a:lnTo>
                      <a:lnTo>
                        <a:pt x="322" y="111"/>
                      </a:lnTo>
                      <a:lnTo>
                        <a:pt x="322" y="111"/>
                      </a:lnTo>
                      <a:lnTo>
                        <a:pt x="329" y="111"/>
                      </a:lnTo>
                      <a:lnTo>
                        <a:pt x="329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43" y="111"/>
                      </a:lnTo>
                      <a:lnTo>
                        <a:pt x="343" y="111"/>
                      </a:lnTo>
                      <a:lnTo>
                        <a:pt x="343" y="111"/>
                      </a:lnTo>
                      <a:lnTo>
                        <a:pt x="350" y="111"/>
                      </a:lnTo>
                      <a:lnTo>
                        <a:pt x="350" y="111"/>
                      </a:lnTo>
                      <a:lnTo>
                        <a:pt x="357" y="111"/>
                      </a:lnTo>
                      <a:lnTo>
                        <a:pt x="357" y="111"/>
                      </a:lnTo>
                      <a:lnTo>
                        <a:pt x="350" y="111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0" y="118"/>
                      </a:lnTo>
                      <a:lnTo>
                        <a:pt x="350" y="118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0" y="139"/>
                      </a:lnTo>
                      <a:lnTo>
                        <a:pt x="350" y="139"/>
                      </a:lnTo>
                      <a:lnTo>
                        <a:pt x="350" y="146"/>
                      </a:lnTo>
                      <a:lnTo>
                        <a:pt x="350" y="146"/>
                      </a:lnTo>
                      <a:lnTo>
                        <a:pt x="350" y="146"/>
                      </a:lnTo>
                      <a:lnTo>
                        <a:pt x="343" y="146"/>
                      </a:lnTo>
                      <a:lnTo>
                        <a:pt x="343" y="146"/>
                      </a:lnTo>
                      <a:lnTo>
                        <a:pt x="343" y="146"/>
                      </a:lnTo>
                      <a:lnTo>
                        <a:pt x="343" y="146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36" y="153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2" y="167"/>
                      </a:lnTo>
                      <a:lnTo>
                        <a:pt x="322" y="174"/>
                      </a:lnTo>
                      <a:lnTo>
                        <a:pt x="322" y="174"/>
                      </a:lnTo>
                      <a:lnTo>
                        <a:pt x="322" y="174"/>
                      </a:lnTo>
                      <a:lnTo>
                        <a:pt x="322" y="174"/>
                      </a:lnTo>
                      <a:lnTo>
                        <a:pt x="315" y="174"/>
                      </a:lnTo>
                      <a:lnTo>
                        <a:pt x="315" y="174"/>
                      </a:lnTo>
                      <a:lnTo>
                        <a:pt x="315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95" y="174"/>
                      </a:lnTo>
                      <a:lnTo>
                        <a:pt x="295" y="174"/>
                      </a:lnTo>
                      <a:lnTo>
                        <a:pt x="295" y="174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88" y="181"/>
                      </a:lnTo>
                      <a:lnTo>
                        <a:pt x="288" y="188"/>
                      </a:lnTo>
                      <a:lnTo>
                        <a:pt x="288" y="188"/>
                      </a:lnTo>
                      <a:lnTo>
                        <a:pt x="288" y="188"/>
                      </a:lnTo>
                      <a:lnTo>
                        <a:pt x="288" y="188"/>
                      </a:lnTo>
                      <a:lnTo>
                        <a:pt x="288" y="188"/>
                      </a:lnTo>
                      <a:lnTo>
                        <a:pt x="281" y="188"/>
                      </a:lnTo>
                      <a:lnTo>
                        <a:pt x="281" y="195"/>
                      </a:lnTo>
                      <a:lnTo>
                        <a:pt x="281" y="195"/>
                      </a:lnTo>
                      <a:lnTo>
                        <a:pt x="281" y="195"/>
                      </a:lnTo>
                      <a:lnTo>
                        <a:pt x="281" y="195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74" y="208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22"/>
                      </a:lnTo>
                      <a:lnTo>
                        <a:pt x="274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9"/>
                      </a:lnTo>
                      <a:lnTo>
                        <a:pt x="267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36"/>
                      </a:lnTo>
                      <a:lnTo>
                        <a:pt x="260" y="236"/>
                      </a:lnTo>
                      <a:lnTo>
                        <a:pt x="260" y="236"/>
                      </a:lnTo>
                      <a:lnTo>
                        <a:pt x="260" y="236"/>
                      </a:lnTo>
                      <a:lnTo>
                        <a:pt x="260" y="236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7"/>
                      </a:lnTo>
                      <a:lnTo>
                        <a:pt x="260" y="257"/>
                      </a:lnTo>
                      <a:lnTo>
                        <a:pt x="260" y="257"/>
                      </a:lnTo>
                      <a:lnTo>
                        <a:pt x="260" y="257"/>
                      </a:lnTo>
                      <a:lnTo>
                        <a:pt x="260" y="257"/>
                      </a:lnTo>
                      <a:lnTo>
                        <a:pt x="267" y="257"/>
                      </a:lnTo>
                      <a:lnTo>
                        <a:pt x="260" y="257"/>
                      </a:lnTo>
                      <a:lnTo>
                        <a:pt x="267" y="264"/>
                      </a:lnTo>
                      <a:lnTo>
                        <a:pt x="267" y="264"/>
                      </a:lnTo>
                      <a:lnTo>
                        <a:pt x="267" y="264"/>
                      </a:lnTo>
                      <a:lnTo>
                        <a:pt x="267" y="264"/>
                      </a:lnTo>
                      <a:lnTo>
                        <a:pt x="267" y="264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0" y="271"/>
                      </a:lnTo>
                      <a:lnTo>
                        <a:pt x="260" y="278"/>
                      </a:lnTo>
                      <a:lnTo>
                        <a:pt x="260" y="278"/>
                      </a:lnTo>
                      <a:lnTo>
                        <a:pt x="260" y="278"/>
                      </a:lnTo>
                      <a:lnTo>
                        <a:pt x="260" y="278"/>
                      </a:lnTo>
                      <a:lnTo>
                        <a:pt x="254" y="278"/>
                      </a:lnTo>
                      <a:lnTo>
                        <a:pt x="260" y="285"/>
                      </a:lnTo>
                      <a:lnTo>
                        <a:pt x="260" y="285"/>
                      </a:lnTo>
                      <a:lnTo>
                        <a:pt x="260" y="285"/>
                      </a:lnTo>
                      <a:lnTo>
                        <a:pt x="260" y="285"/>
                      </a:lnTo>
                      <a:lnTo>
                        <a:pt x="260" y="285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9"/>
                      </a:lnTo>
                      <a:lnTo>
                        <a:pt x="260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13"/>
                      </a:lnTo>
                      <a:lnTo>
                        <a:pt x="267" y="313"/>
                      </a:lnTo>
                      <a:lnTo>
                        <a:pt x="267" y="313"/>
                      </a:lnTo>
                      <a:lnTo>
                        <a:pt x="267" y="313"/>
                      </a:lnTo>
                      <a:lnTo>
                        <a:pt x="267" y="319"/>
                      </a:lnTo>
                      <a:lnTo>
                        <a:pt x="267" y="319"/>
                      </a:lnTo>
                      <a:lnTo>
                        <a:pt x="274" y="319"/>
                      </a:lnTo>
                      <a:lnTo>
                        <a:pt x="267" y="326"/>
                      </a:lnTo>
                      <a:lnTo>
                        <a:pt x="267" y="326"/>
                      </a:lnTo>
                      <a:lnTo>
                        <a:pt x="267" y="326"/>
                      </a:lnTo>
                      <a:lnTo>
                        <a:pt x="267" y="333"/>
                      </a:lnTo>
                      <a:lnTo>
                        <a:pt x="267" y="333"/>
                      </a:lnTo>
                      <a:lnTo>
                        <a:pt x="267" y="333"/>
                      </a:lnTo>
                      <a:lnTo>
                        <a:pt x="267" y="333"/>
                      </a:lnTo>
                      <a:lnTo>
                        <a:pt x="267" y="333"/>
                      </a:lnTo>
                      <a:lnTo>
                        <a:pt x="267" y="340"/>
                      </a:lnTo>
                      <a:lnTo>
                        <a:pt x="267" y="340"/>
                      </a:lnTo>
                      <a:lnTo>
                        <a:pt x="267" y="340"/>
                      </a:lnTo>
                      <a:lnTo>
                        <a:pt x="260" y="340"/>
                      </a:lnTo>
                      <a:lnTo>
                        <a:pt x="260" y="340"/>
                      </a:lnTo>
                      <a:lnTo>
                        <a:pt x="260" y="340"/>
                      </a:lnTo>
                      <a:lnTo>
                        <a:pt x="260" y="340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403"/>
                      </a:lnTo>
                      <a:lnTo>
                        <a:pt x="254" y="403"/>
                      </a:lnTo>
                      <a:lnTo>
                        <a:pt x="254" y="403"/>
                      </a:lnTo>
                      <a:lnTo>
                        <a:pt x="254" y="403"/>
                      </a:lnTo>
                      <a:lnTo>
                        <a:pt x="254" y="403"/>
                      </a:lnTo>
                      <a:lnTo>
                        <a:pt x="254" y="403"/>
                      </a:lnTo>
                      <a:lnTo>
                        <a:pt x="254" y="410"/>
                      </a:lnTo>
                      <a:lnTo>
                        <a:pt x="260" y="410"/>
                      </a:lnTo>
                      <a:lnTo>
                        <a:pt x="260" y="410"/>
                      </a:lnTo>
                      <a:lnTo>
                        <a:pt x="260" y="410"/>
                      </a:lnTo>
                      <a:lnTo>
                        <a:pt x="260" y="410"/>
                      </a:lnTo>
                      <a:lnTo>
                        <a:pt x="267" y="410"/>
                      </a:lnTo>
                      <a:lnTo>
                        <a:pt x="267" y="410"/>
                      </a:lnTo>
                      <a:lnTo>
                        <a:pt x="267" y="410"/>
                      </a:lnTo>
                      <a:lnTo>
                        <a:pt x="267" y="417"/>
                      </a:lnTo>
                      <a:lnTo>
                        <a:pt x="267" y="417"/>
                      </a:lnTo>
                      <a:lnTo>
                        <a:pt x="267" y="417"/>
                      </a:lnTo>
                      <a:lnTo>
                        <a:pt x="267" y="417"/>
                      </a:lnTo>
                      <a:lnTo>
                        <a:pt x="267" y="417"/>
                      </a:lnTo>
                      <a:lnTo>
                        <a:pt x="267" y="424"/>
                      </a:lnTo>
                      <a:lnTo>
                        <a:pt x="267" y="424"/>
                      </a:lnTo>
                      <a:lnTo>
                        <a:pt x="267" y="424"/>
                      </a:lnTo>
                      <a:lnTo>
                        <a:pt x="267" y="424"/>
                      </a:lnTo>
                      <a:lnTo>
                        <a:pt x="260" y="424"/>
                      </a:lnTo>
                      <a:lnTo>
                        <a:pt x="260" y="430"/>
                      </a:lnTo>
                      <a:lnTo>
                        <a:pt x="267" y="430"/>
                      </a:lnTo>
                      <a:lnTo>
                        <a:pt x="267" y="430"/>
                      </a:lnTo>
                      <a:lnTo>
                        <a:pt x="267" y="430"/>
                      </a:lnTo>
                      <a:lnTo>
                        <a:pt x="260" y="430"/>
                      </a:lnTo>
                      <a:lnTo>
                        <a:pt x="260" y="437"/>
                      </a:lnTo>
                      <a:lnTo>
                        <a:pt x="267" y="437"/>
                      </a:lnTo>
                      <a:lnTo>
                        <a:pt x="260" y="437"/>
                      </a:lnTo>
                      <a:lnTo>
                        <a:pt x="260" y="437"/>
                      </a:lnTo>
                      <a:lnTo>
                        <a:pt x="260" y="437"/>
                      </a:lnTo>
                      <a:lnTo>
                        <a:pt x="260" y="444"/>
                      </a:lnTo>
                      <a:lnTo>
                        <a:pt x="260" y="444"/>
                      </a:lnTo>
                      <a:lnTo>
                        <a:pt x="260" y="444"/>
                      </a:lnTo>
                      <a:lnTo>
                        <a:pt x="260" y="451"/>
                      </a:lnTo>
                      <a:lnTo>
                        <a:pt x="260" y="451"/>
                      </a:lnTo>
                      <a:lnTo>
                        <a:pt x="254" y="451"/>
                      </a:lnTo>
                      <a:lnTo>
                        <a:pt x="254" y="451"/>
                      </a:lnTo>
                      <a:lnTo>
                        <a:pt x="254" y="458"/>
                      </a:lnTo>
                      <a:lnTo>
                        <a:pt x="254" y="458"/>
                      </a:lnTo>
                      <a:lnTo>
                        <a:pt x="254" y="458"/>
                      </a:lnTo>
                      <a:lnTo>
                        <a:pt x="247" y="458"/>
                      </a:lnTo>
                      <a:lnTo>
                        <a:pt x="247" y="458"/>
                      </a:lnTo>
                      <a:lnTo>
                        <a:pt x="247" y="458"/>
                      </a:lnTo>
                      <a:lnTo>
                        <a:pt x="247" y="458"/>
                      </a:lnTo>
                      <a:lnTo>
                        <a:pt x="240" y="458"/>
                      </a:lnTo>
                      <a:lnTo>
                        <a:pt x="240" y="458"/>
                      </a:lnTo>
                      <a:lnTo>
                        <a:pt x="240" y="458"/>
                      </a:lnTo>
                      <a:lnTo>
                        <a:pt x="233" y="458"/>
                      </a:lnTo>
                      <a:lnTo>
                        <a:pt x="233" y="458"/>
                      </a:lnTo>
                      <a:lnTo>
                        <a:pt x="233" y="458"/>
                      </a:lnTo>
                      <a:lnTo>
                        <a:pt x="233" y="458"/>
                      </a:lnTo>
                      <a:lnTo>
                        <a:pt x="233" y="458"/>
                      </a:lnTo>
                      <a:lnTo>
                        <a:pt x="226" y="458"/>
                      </a:lnTo>
                      <a:lnTo>
                        <a:pt x="226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2" y="465"/>
                      </a:lnTo>
                      <a:lnTo>
                        <a:pt x="212" y="465"/>
                      </a:lnTo>
                      <a:lnTo>
                        <a:pt x="212" y="458"/>
                      </a:lnTo>
                      <a:lnTo>
                        <a:pt x="212" y="458"/>
                      </a:lnTo>
                      <a:lnTo>
                        <a:pt x="212" y="458"/>
                      </a:lnTo>
                      <a:lnTo>
                        <a:pt x="212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1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85" y="451"/>
                      </a:lnTo>
                      <a:lnTo>
                        <a:pt x="185" y="451"/>
                      </a:lnTo>
                      <a:lnTo>
                        <a:pt x="185" y="451"/>
                      </a:lnTo>
                      <a:lnTo>
                        <a:pt x="185" y="451"/>
                      </a:lnTo>
                      <a:lnTo>
                        <a:pt x="185" y="451"/>
                      </a:lnTo>
                      <a:lnTo>
                        <a:pt x="178" y="451"/>
                      </a:lnTo>
                      <a:lnTo>
                        <a:pt x="178" y="458"/>
                      </a:lnTo>
                      <a:lnTo>
                        <a:pt x="178" y="458"/>
                      </a:lnTo>
                      <a:lnTo>
                        <a:pt x="178" y="458"/>
                      </a:lnTo>
                      <a:lnTo>
                        <a:pt x="171" y="458"/>
                      </a:lnTo>
                      <a:lnTo>
                        <a:pt x="171" y="458"/>
                      </a:lnTo>
                      <a:lnTo>
                        <a:pt x="171" y="458"/>
                      </a:lnTo>
                      <a:lnTo>
                        <a:pt x="171" y="451"/>
                      </a:lnTo>
                      <a:lnTo>
                        <a:pt x="171" y="451"/>
                      </a:lnTo>
                      <a:lnTo>
                        <a:pt x="171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57" y="458"/>
                      </a:lnTo>
                      <a:lnTo>
                        <a:pt x="157" y="458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7" y="458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1" y="465"/>
                      </a:lnTo>
                      <a:lnTo>
                        <a:pt x="151" y="472"/>
                      </a:lnTo>
                      <a:lnTo>
                        <a:pt x="151" y="472"/>
                      </a:lnTo>
                      <a:lnTo>
                        <a:pt x="151" y="472"/>
                      </a:lnTo>
                      <a:lnTo>
                        <a:pt x="151" y="472"/>
                      </a:lnTo>
                      <a:lnTo>
                        <a:pt x="151" y="472"/>
                      </a:lnTo>
                      <a:lnTo>
                        <a:pt x="151" y="479"/>
                      </a:lnTo>
                      <a:lnTo>
                        <a:pt x="151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37" y="486"/>
                      </a:lnTo>
                      <a:lnTo>
                        <a:pt x="137" y="486"/>
                      </a:lnTo>
                      <a:lnTo>
                        <a:pt x="137" y="486"/>
                      </a:lnTo>
                      <a:lnTo>
                        <a:pt x="137" y="486"/>
                      </a:lnTo>
                      <a:lnTo>
                        <a:pt x="130" y="486"/>
                      </a:lnTo>
                      <a:lnTo>
                        <a:pt x="130" y="493"/>
                      </a:lnTo>
                      <a:lnTo>
                        <a:pt x="130" y="493"/>
                      </a:lnTo>
                      <a:lnTo>
                        <a:pt x="130" y="493"/>
                      </a:lnTo>
                      <a:lnTo>
                        <a:pt x="123" y="493"/>
                      </a:lnTo>
                      <a:lnTo>
                        <a:pt x="123" y="493"/>
                      </a:lnTo>
                      <a:lnTo>
                        <a:pt x="123" y="493"/>
                      </a:lnTo>
                      <a:lnTo>
                        <a:pt x="123" y="500"/>
                      </a:lnTo>
                      <a:lnTo>
                        <a:pt x="116" y="500"/>
                      </a:lnTo>
                      <a:lnTo>
                        <a:pt x="116" y="500"/>
                      </a:lnTo>
                      <a:lnTo>
                        <a:pt x="116" y="500"/>
                      </a:lnTo>
                      <a:lnTo>
                        <a:pt x="116" y="500"/>
                      </a:lnTo>
                      <a:lnTo>
                        <a:pt x="116" y="507"/>
                      </a:lnTo>
                      <a:lnTo>
                        <a:pt x="116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3" y="507"/>
                      </a:lnTo>
                      <a:lnTo>
                        <a:pt x="103" y="507"/>
                      </a:lnTo>
                      <a:lnTo>
                        <a:pt x="103" y="507"/>
                      </a:lnTo>
                      <a:lnTo>
                        <a:pt x="103" y="507"/>
                      </a:lnTo>
                      <a:lnTo>
                        <a:pt x="96" y="507"/>
                      </a:lnTo>
                      <a:lnTo>
                        <a:pt x="96" y="507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2" y="521"/>
                      </a:lnTo>
                      <a:lnTo>
                        <a:pt x="82" y="521"/>
                      </a:lnTo>
                      <a:lnTo>
                        <a:pt x="82" y="521"/>
                      </a:lnTo>
                      <a:lnTo>
                        <a:pt x="82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68" y="521"/>
                      </a:lnTo>
                      <a:lnTo>
                        <a:pt x="68" y="521"/>
                      </a:lnTo>
                      <a:lnTo>
                        <a:pt x="68" y="521"/>
                      </a:lnTo>
                      <a:lnTo>
                        <a:pt x="68" y="528"/>
                      </a:lnTo>
                      <a:lnTo>
                        <a:pt x="68" y="528"/>
                      </a:lnTo>
                      <a:lnTo>
                        <a:pt x="68" y="521"/>
                      </a:lnTo>
                      <a:lnTo>
                        <a:pt x="68" y="521"/>
                      </a:lnTo>
                      <a:lnTo>
                        <a:pt x="61" y="521"/>
                      </a:lnTo>
                      <a:lnTo>
                        <a:pt x="61" y="521"/>
                      </a:lnTo>
                      <a:lnTo>
                        <a:pt x="61" y="528"/>
                      </a:lnTo>
                      <a:lnTo>
                        <a:pt x="61" y="528"/>
                      </a:lnTo>
                      <a:lnTo>
                        <a:pt x="61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48" y="528"/>
                      </a:lnTo>
                      <a:lnTo>
                        <a:pt x="48" y="528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1" y="535"/>
                      </a:lnTo>
                      <a:lnTo>
                        <a:pt x="41" y="535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34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34" y="555"/>
                      </a:lnTo>
                      <a:lnTo>
                        <a:pt x="34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34" y="562"/>
                      </a:lnTo>
                      <a:lnTo>
                        <a:pt x="34" y="562"/>
                      </a:lnTo>
                      <a:lnTo>
                        <a:pt x="34" y="562"/>
                      </a:lnTo>
                      <a:lnTo>
                        <a:pt x="34" y="562"/>
                      </a:lnTo>
                      <a:lnTo>
                        <a:pt x="34" y="569"/>
                      </a:lnTo>
                      <a:lnTo>
                        <a:pt x="34" y="569"/>
                      </a:lnTo>
                      <a:lnTo>
                        <a:pt x="34" y="569"/>
                      </a:lnTo>
                      <a:lnTo>
                        <a:pt x="34" y="569"/>
                      </a:lnTo>
                      <a:lnTo>
                        <a:pt x="34" y="569"/>
                      </a:lnTo>
                      <a:lnTo>
                        <a:pt x="34" y="576"/>
                      </a:lnTo>
                      <a:lnTo>
                        <a:pt x="34" y="576"/>
                      </a:lnTo>
                      <a:lnTo>
                        <a:pt x="34" y="576"/>
                      </a:lnTo>
                      <a:lnTo>
                        <a:pt x="34" y="576"/>
                      </a:lnTo>
                      <a:lnTo>
                        <a:pt x="34" y="576"/>
                      </a:lnTo>
                      <a:lnTo>
                        <a:pt x="27" y="583"/>
                      </a:lnTo>
                      <a:lnTo>
                        <a:pt x="27" y="583"/>
                      </a:lnTo>
                      <a:lnTo>
                        <a:pt x="27" y="583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7"/>
                      </a:lnTo>
                      <a:lnTo>
                        <a:pt x="27" y="597"/>
                      </a:lnTo>
                      <a:lnTo>
                        <a:pt x="20" y="597"/>
                      </a:lnTo>
                      <a:lnTo>
                        <a:pt x="27" y="597"/>
                      </a:lnTo>
                      <a:lnTo>
                        <a:pt x="20" y="597"/>
                      </a:lnTo>
                      <a:lnTo>
                        <a:pt x="20" y="597"/>
                      </a:lnTo>
                      <a:lnTo>
                        <a:pt x="20" y="597"/>
                      </a:lnTo>
                      <a:lnTo>
                        <a:pt x="20" y="597"/>
                      </a:lnTo>
                      <a:lnTo>
                        <a:pt x="20" y="597"/>
                      </a:lnTo>
                      <a:lnTo>
                        <a:pt x="20" y="604"/>
                      </a:lnTo>
                      <a:lnTo>
                        <a:pt x="20" y="604"/>
                      </a:lnTo>
                      <a:lnTo>
                        <a:pt x="20" y="604"/>
                      </a:lnTo>
                      <a:lnTo>
                        <a:pt x="20" y="604"/>
                      </a:lnTo>
                      <a:lnTo>
                        <a:pt x="20" y="604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25"/>
                      </a:lnTo>
                      <a:lnTo>
                        <a:pt x="13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46"/>
                      </a:lnTo>
                      <a:lnTo>
                        <a:pt x="0" y="646"/>
                      </a:lnTo>
                      <a:lnTo>
                        <a:pt x="6" y="646"/>
                      </a:lnTo>
                      <a:lnTo>
                        <a:pt x="6" y="646"/>
                      </a:lnTo>
                      <a:lnTo>
                        <a:pt x="6" y="646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9"/>
                      </a:lnTo>
                      <a:lnTo>
                        <a:pt x="6" y="659"/>
                      </a:lnTo>
                      <a:lnTo>
                        <a:pt x="6" y="65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922640" y="3415320"/>
                  <a:ext cx="319680" cy="507240"/>
                </a:xfrm>
                <a:custGeom>
                  <a:avLst/>
                  <a:gdLst/>
                  <a:ahLst/>
                  <a:rect l="l" t="t" r="r" b="b"/>
                  <a:pathLst>
                    <a:path w="254" h="431">
                      <a:moveTo>
                        <a:pt x="240" y="340"/>
                      </a:move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54" y="361"/>
                      </a:lnTo>
                      <a:lnTo>
                        <a:pt x="247" y="361"/>
                      </a:lnTo>
                      <a:lnTo>
                        <a:pt x="254" y="361"/>
                      </a:lnTo>
                      <a:lnTo>
                        <a:pt x="254" y="368"/>
                      </a:lnTo>
                      <a:lnTo>
                        <a:pt x="254" y="368"/>
                      </a:lnTo>
                      <a:lnTo>
                        <a:pt x="254" y="368"/>
                      </a:lnTo>
                      <a:lnTo>
                        <a:pt x="254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7"/>
                      </a:lnTo>
                      <a:lnTo>
                        <a:pt x="247" y="417"/>
                      </a:lnTo>
                      <a:lnTo>
                        <a:pt x="247" y="417"/>
                      </a:lnTo>
                      <a:lnTo>
                        <a:pt x="247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31"/>
                      </a:lnTo>
                      <a:lnTo>
                        <a:pt x="240" y="431"/>
                      </a:lnTo>
                      <a:lnTo>
                        <a:pt x="240" y="431"/>
                      </a:lnTo>
                      <a:lnTo>
                        <a:pt x="240" y="431"/>
                      </a:lnTo>
                      <a:lnTo>
                        <a:pt x="234" y="431"/>
                      </a:lnTo>
                      <a:lnTo>
                        <a:pt x="234" y="431"/>
                      </a:lnTo>
                      <a:lnTo>
                        <a:pt x="234" y="431"/>
                      </a:lnTo>
                      <a:lnTo>
                        <a:pt x="234" y="431"/>
                      </a:lnTo>
                      <a:lnTo>
                        <a:pt x="234" y="424"/>
                      </a:lnTo>
                      <a:lnTo>
                        <a:pt x="234" y="424"/>
                      </a:lnTo>
                      <a:lnTo>
                        <a:pt x="227" y="424"/>
                      </a:lnTo>
                      <a:lnTo>
                        <a:pt x="227" y="431"/>
                      </a:lnTo>
                      <a:lnTo>
                        <a:pt x="220" y="431"/>
                      </a:lnTo>
                      <a:lnTo>
                        <a:pt x="220" y="431"/>
                      </a:lnTo>
                      <a:lnTo>
                        <a:pt x="220" y="424"/>
                      </a:lnTo>
                      <a:lnTo>
                        <a:pt x="220" y="424"/>
                      </a:lnTo>
                      <a:lnTo>
                        <a:pt x="220" y="424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199" y="424"/>
                      </a:lnTo>
                      <a:lnTo>
                        <a:pt x="199" y="417"/>
                      </a:lnTo>
                      <a:lnTo>
                        <a:pt x="199" y="417"/>
                      </a:lnTo>
                      <a:lnTo>
                        <a:pt x="199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92" y="410"/>
                      </a:lnTo>
                      <a:lnTo>
                        <a:pt x="192" y="410"/>
                      </a:lnTo>
                      <a:lnTo>
                        <a:pt x="192" y="410"/>
                      </a:lnTo>
                      <a:lnTo>
                        <a:pt x="192" y="410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86" y="396"/>
                      </a:lnTo>
                      <a:lnTo>
                        <a:pt x="186" y="396"/>
                      </a:lnTo>
                      <a:lnTo>
                        <a:pt x="186" y="396"/>
                      </a:lnTo>
                      <a:lnTo>
                        <a:pt x="186" y="396"/>
                      </a:lnTo>
                      <a:lnTo>
                        <a:pt x="186" y="389"/>
                      </a:lnTo>
                      <a:lnTo>
                        <a:pt x="186" y="389"/>
                      </a:lnTo>
                      <a:lnTo>
                        <a:pt x="186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86" y="382"/>
                      </a:lnTo>
                      <a:lnTo>
                        <a:pt x="186" y="382"/>
                      </a:lnTo>
                      <a:lnTo>
                        <a:pt x="186" y="382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79" y="368"/>
                      </a:lnTo>
                      <a:lnTo>
                        <a:pt x="179" y="368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51" y="327"/>
                      </a:lnTo>
                      <a:lnTo>
                        <a:pt x="144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13"/>
                      </a:lnTo>
                      <a:lnTo>
                        <a:pt x="151" y="313"/>
                      </a:lnTo>
                      <a:lnTo>
                        <a:pt x="151" y="313"/>
                      </a:lnTo>
                      <a:lnTo>
                        <a:pt x="151" y="313"/>
                      </a:lnTo>
                      <a:lnTo>
                        <a:pt x="151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9" y="271"/>
                      </a:lnTo>
                      <a:lnTo>
                        <a:pt x="179" y="271"/>
                      </a:lnTo>
                      <a:lnTo>
                        <a:pt x="179" y="271"/>
                      </a:lnTo>
                      <a:lnTo>
                        <a:pt x="179" y="271"/>
                      </a:lnTo>
                      <a:lnTo>
                        <a:pt x="186" y="271"/>
                      </a:lnTo>
                      <a:lnTo>
                        <a:pt x="186" y="271"/>
                      </a:lnTo>
                      <a:lnTo>
                        <a:pt x="186" y="271"/>
                      </a:lnTo>
                      <a:lnTo>
                        <a:pt x="186" y="271"/>
                      </a:lnTo>
                      <a:lnTo>
                        <a:pt x="186" y="264"/>
                      </a:lnTo>
                      <a:lnTo>
                        <a:pt x="192" y="264"/>
                      </a:lnTo>
                      <a:lnTo>
                        <a:pt x="192" y="264"/>
                      </a:lnTo>
                      <a:lnTo>
                        <a:pt x="192" y="264"/>
                      </a:lnTo>
                      <a:lnTo>
                        <a:pt x="192" y="264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0"/>
                      </a:lnTo>
                      <a:lnTo>
                        <a:pt x="192" y="250"/>
                      </a:lnTo>
                      <a:lnTo>
                        <a:pt x="192" y="250"/>
                      </a:lnTo>
                      <a:lnTo>
                        <a:pt x="192" y="250"/>
                      </a:lnTo>
                      <a:lnTo>
                        <a:pt x="192" y="250"/>
                      </a:lnTo>
                      <a:lnTo>
                        <a:pt x="192" y="243"/>
                      </a:lnTo>
                      <a:lnTo>
                        <a:pt x="192" y="243"/>
                      </a:lnTo>
                      <a:lnTo>
                        <a:pt x="192" y="243"/>
                      </a:lnTo>
                      <a:lnTo>
                        <a:pt x="192" y="243"/>
                      </a:lnTo>
                      <a:lnTo>
                        <a:pt x="192" y="243"/>
                      </a:lnTo>
                      <a:lnTo>
                        <a:pt x="192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29"/>
                      </a:lnTo>
                      <a:lnTo>
                        <a:pt x="179" y="229"/>
                      </a:lnTo>
                      <a:lnTo>
                        <a:pt x="179" y="229"/>
                      </a:lnTo>
                      <a:lnTo>
                        <a:pt x="179" y="236"/>
                      </a:lnTo>
                      <a:lnTo>
                        <a:pt x="179" y="236"/>
                      </a:lnTo>
                      <a:lnTo>
                        <a:pt x="179" y="236"/>
                      </a:lnTo>
                      <a:lnTo>
                        <a:pt x="179" y="236"/>
                      </a:lnTo>
                      <a:lnTo>
                        <a:pt x="179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50"/>
                      </a:lnTo>
                      <a:lnTo>
                        <a:pt x="151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37" y="243"/>
                      </a:lnTo>
                      <a:lnTo>
                        <a:pt x="144" y="243"/>
                      </a:lnTo>
                      <a:lnTo>
                        <a:pt x="137" y="236"/>
                      </a:lnTo>
                      <a:lnTo>
                        <a:pt x="144" y="236"/>
                      </a:lnTo>
                      <a:lnTo>
                        <a:pt x="137" y="236"/>
                      </a:lnTo>
                      <a:lnTo>
                        <a:pt x="144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29"/>
                      </a:lnTo>
                      <a:lnTo>
                        <a:pt x="137" y="229"/>
                      </a:lnTo>
                      <a:lnTo>
                        <a:pt x="137" y="229"/>
                      </a:lnTo>
                      <a:lnTo>
                        <a:pt x="137" y="229"/>
                      </a:lnTo>
                      <a:lnTo>
                        <a:pt x="137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09"/>
                      </a:lnTo>
                      <a:lnTo>
                        <a:pt x="124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16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2"/>
                      </a:lnTo>
                      <a:lnTo>
                        <a:pt x="117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03" y="195"/>
                      </a:lnTo>
                      <a:lnTo>
                        <a:pt x="103" y="195"/>
                      </a:lnTo>
                      <a:lnTo>
                        <a:pt x="103" y="195"/>
                      </a:lnTo>
                      <a:lnTo>
                        <a:pt x="103" y="195"/>
                      </a:lnTo>
                      <a:lnTo>
                        <a:pt x="96" y="195"/>
                      </a:lnTo>
                      <a:lnTo>
                        <a:pt x="103" y="195"/>
                      </a:lnTo>
                      <a:lnTo>
                        <a:pt x="103" y="195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1"/>
                      </a:lnTo>
                      <a:lnTo>
                        <a:pt x="110" y="181"/>
                      </a:lnTo>
                      <a:lnTo>
                        <a:pt x="103" y="181"/>
                      </a:lnTo>
                      <a:lnTo>
                        <a:pt x="103" y="181"/>
                      </a:lnTo>
                      <a:lnTo>
                        <a:pt x="103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89" y="181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67"/>
                      </a:lnTo>
                      <a:lnTo>
                        <a:pt x="89" y="167"/>
                      </a:lnTo>
                      <a:lnTo>
                        <a:pt x="89" y="167"/>
                      </a:lnTo>
                      <a:lnTo>
                        <a:pt x="96" y="167"/>
                      </a:lnTo>
                      <a:lnTo>
                        <a:pt x="96" y="167"/>
                      </a:lnTo>
                      <a:lnTo>
                        <a:pt x="96" y="167"/>
                      </a:lnTo>
                      <a:lnTo>
                        <a:pt x="96" y="167"/>
                      </a:lnTo>
                      <a:lnTo>
                        <a:pt x="96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53"/>
                      </a:lnTo>
                      <a:lnTo>
                        <a:pt x="103" y="153"/>
                      </a:lnTo>
                      <a:lnTo>
                        <a:pt x="103" y="153"/>
                      </a:lnTo>
                      <a:lnTo>
                        <a:pt x="110" y="146"/>
                      </a:lnTo>
                      <a:lnTo>
                        <a:pt x="110" y="146"/>
                      </a:lnTo>
                      <a:lnTo>
                        <a:pt x="110" y="146"/>
                      </a:lnTo>
                      <a:lnTo>
                        <a:pt x="103" y="146"/>
                      </a:lnTo>
                      <a:lnTo>
                        <a:pt x="103" y="139"/>
                      </a:lnTo>
                      <a:lnTo>
                        <a:pt x="103" y="139"/>
                      </a:lnTo>
                      <a:lnTo>
                        <a:pt x="110" y="139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1"/>
                      </a:lnTo>
                      <a:lnTo>
                        <a:pt x="117" y="111"/>
                      </a:lnTo>
                      <a:lnTo>
                        <a:pt x="110" y="111"/>
                      </a:lnTo>
                      <a:lnTo>
                        <a:pt x="110" y="105"/>
                      </a:lnTo>
                      <a:lnTo>
                        <a:pt x="117" y="105"/>
                      </a:lnTo>
                      <a:lnTo>
                        <a:pt x="117" y="105"/>
                      </a:lnTo>
                      <a:lnTo>
                        <a:pt x="117" y="105"/>
                      </a:lnTo>
                      <a:lnTo>
                        <a:pt x="117" y="98"/>
                      </a:lnTo>
                      <a:lnTo>
                        <a:pt x="117" y="98"/>
                      </a:lnTo>
                      <a:lnTo>
                        <a:pt x="117" y="98"/>
                      </a:lnTo>
                      <a:lnTo>
                        <a:pt x="117" y="91"/>
                      </a:lnTo>
                      <a:lnTo>
                        <a:pt x="117" y="91"/>
                      </a:lnTo>
                      <a:lnTo>
                        <a:pt x="117" y="91"/>
                      </a:lnTo>
                      <a:lnTo>
                        <a:pt x="117" y="91"/>
                      </a:lnTo>
                      <a:lnTo>
                        <a:pt x="110" y="84"/>
                      </a:lnTo>
                      <a:lnTo>
                        <a:pt x="110" y="84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0" y="63"/>
                      </a:lnTo>
                      <a:lnTo>
                        <a:pt x="110" y="63"/>
                      </a:lnTo>
                      <a:lnTo>
                        <a:pt x="110" y="56"/>
                      </a:lnTo>
                      <a:lnTo>
                        <a:pt x="110" y="56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96" y="28"/>
                      </a:lnTo>
                      <a:lnTo>
                        <a:pt x="96" y="21"/>
                      </a:lnTo>
                      <a:lnTo>
                        <a:pt x="89" y="21"/>
                      </a:lnTo>
                      <a:lnTo>
                        <a:pt x="89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76" y="21"/>
                      </a:lnTo>
                      <a:lnTo>
                        <a:pt x="76" y="14"/>
                      </a:lnTo>
                      <a:lnTo>
                        <a:pt x="76" y="14"/>
                      </a:lnTo>
                      <a:lnTo>
                        <a:pt x="76" y="14"/>
                      </a:lnTo>
                      <a:lnTo>
                        <a:pt x="76" y="14"/>
                      </a:lnTo>
                      <a:lnTo>
                        <a:pt x="76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55" y="14"/>
                      </a:lnTo>
                      <a:lnTo>
                        <a:pt x="55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34" y="7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1" y="0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21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423760" y="313884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380920" y="311400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380920" y="3114000"/>
                  <a:ext cx="1080" cy="108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380920" y="3105720"/>
                  <a:ext cx="1080" cy="1080"/>
                </a:xfrm>
                <a:prstGeom prst="rect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380920" y="3105720"/>
                  <a:ext cx="1080" cy="1080"/>
                </a:xfrm>
                <a:prstGeom prst="rect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372280" y="308952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363640" y="30812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363640" y="3089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363640" y="308124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363640" y="3081240"/>
                  <a:ext cx="828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363640" y="3081240"/>
                  <a:ext cx="1080" cy="720"/>
                </a:xfrm>
                <a:prstGeom prst="rect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363640" y="3081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363640" y="30729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354640" y="30729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347080" y="3072960"/>
                  <a:ext cx="7560" cy="79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347080" y="3072960"/>
                  <a:ext cx="7560" cy="72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354640" y="307296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354640" y="306468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354640" y="30646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347080" y="3056400"/>
                  <a:ext cx="7560" cy="72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347080" y="30564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347080" y="30646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347080" y="3048120"/>
                  <a:ext cx="7560" cy="79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338080" y="304812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338080" y="305640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329440" y="30315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329440" y="30315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329440" y="30315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320800" y="30315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320800" y="3039840"/>
                  <a:ext cx="8280" cy="108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320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320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320800" y="30315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311800" y="303984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31180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31180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347080" y="30564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338080" y="30315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320800" y="3039840"/>
                  <a:ext cx="1080" cy="108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311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311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311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31180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31180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29416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277960" y="3039840"/>
                  <a:ext cx="7200" cy="79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28552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268960" y="30315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26896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26896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26896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260320" y="3031560"/>
                  <a:ext cx="8640" cy="108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260320" y="3024720"/>
                  <a:ext cx="1080" cy="6840"/>
                </a:xfrm>
                <a:custGeom>
                  <a:avLst/>
                  <a:gdLst/>
                  <a:ahLst/>
                  <a:rect l="l" t="t" r="r" b="b"/>
                  <a:pathLst>
                    <a:path w="0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26032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26032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251320" y="3039840"/>
                  <a:ext cx="8640" cy="108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25132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260320" y="30247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251320" y="30247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251320" y="3016440"/>
                  <a:ext cx="8640" cy="23400"/>
                </a:xfrm>
                <a:custGeom>
                  <a:avLst/>
                  <a:gdLst/>
                  <a:ahLst/>
                  <a:rect l="l" t="t" r="r" b="b"/>
                  <a:pathLst>
                    <a:path w="7" h="20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20"/>
                      </a:lnTo>
                      <a:lnTo>
                        <a:pt x="7" y="20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7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7" y="13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25132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251320" y="30247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42680" y="30247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233680" y="30247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233680" y="30247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233680" y="30247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233680" y="30247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233680" y="3016440"/>
                  <a:ext cx="8640" cy="108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233680" y="30164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233680" y="3016440"/>
                  <a:ext cx="1080" cy="108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217480" y="3178800"/>
                  <a:ext cx="595440" cy="816480"/>
                </a:xfrm>
                <a:custGeom>
                  <a:avLst/>
                  <a:gdLst/>
                  <a:ahLst/>
                  <a:rect l="l" t="t" r="r" b="b"/>
                  <a:pathLst>
                    <a:path w="473" h="694">
                      <a:moveTo>
                        <a:pt x="6" y="632"/>
                      </a:move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13" y="625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2"/>
                      </a:lnTo>
                      <a:lnTo>
                        <a:pt x="13" y="562"/>
                      </a:lnTo>
                      <a:lnTo>
                        <a:pt x="20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28"/>
                      </a:lnTo>
                      <a:lnTo>
                        <a:pt x="6" y="528"/>
                      </a:lnTo>
                      <a:lnTo>
                        <a:pt x="6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14"/>
                      </a:lnTo>
                      <a:lnTo>
                        <a:pt x="0" y="514"/>
                      </a:lnTo>
                      <a:lnTo>
                        <a:pt x="0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13" y="507"/>
                      </a:lnTo>
                      <a:lnTo>
                        <a:pt x="13" y="507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493"/>
                      </a:lnTo>
                      <a:lnTo>
                        <a:pt x="13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7" y="479"/>
                      </a:lnTo>
                      <a:lnTo>
                        <a:pt x="20" y="479"/>
                      </a:lnTo>
                      <a:lnTo>
                        <a:pt x="27" y="479"/>
                      </a:lnTo>
                      <a:lnTo>
                        <a:pt x="27" y="479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41" y="444"/>
                      </a:lnTo>
                      <a:lnTo>
                        <a:pt x="41" y="444"/>
                      </a:lnTo>
                      <a:lnTo>
                        <a:pt x="34" y="444"/>
                      </a:lnTo>
                      <a:lnTo>
                        <a:pt x="34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34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17"/>
                      </a:lnTo>
                      <a:lnTo>
                        <a:pt x="41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0"/>
                      </a:lnTo>
                      <a:lnTo>
                        <a:pt x="48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61" y="410"/>
                      </a:lnTo>
                      <a:lnTo>
                        <a:pt x="61" y="410"/>
                      </a:lnTo>
                      <a:lnTo>
                        <a:pt x="61" y="410"/>
                      </a:lnTo>
                      <a:lnTo>
                        <a:pt x="61" y="403"/>
                      </a:lnTo>
                      <a:lnTo>
                        <a:pt x="61" y="403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68" y="410"/>
                      </a:lnTo>
                      <a:lnTo>
                        <a:pt x="68" y="410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89"/>
                      </a:lnTo>
                      <a:lnTo>
                        <a:pt x="96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16" y="389"/>
                      </a:lnTo>
                      <a:lnTo>
                        <a:pt x="116" y="389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23" y="382"/>
                      </a:lnTo>
                      <a:lnTo>
                        <a:pt x="123" y="375"/>
                      </a:lnTo>
                      <a:lnTo>
                        <a:pt x="123" y="375"/>
                      </a:lnTo>
                      <a:lnTo>
                        <a:pt x="123" y="375"/>
                      </a:lnTo>
                      <a:lnTo>
                        <a:pt x="130" y="375"/>
                      </a:lnTo>
                      <a:lnTo>
                        <a:pt x="130" y="375"/>
                      </a:lnTo>
                      <a:lnTo>
                        <a:pt x="130" y="375"/>
                      </a:lnTo>
                      <a:lnTo>
                        <a:pt x="130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0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0"/>
                      </a:lnTo>
                      <a:lnTo>
                        <a:pt x="157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71" y="340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8" y="340"/>
                      </a:lnTo>
                      <a:lnTo>
                        <a:pt x="178" y="340"/>
                      </a:lnTo>
                      <a:lnTo>
                        <a:pt x="178" y="340"/>
                      </a:lnTo>
                      <a:lnTo>
                        <a:pt x="178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206" y="333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7"/>
                      </a:lnTo>
                      <a:lnTo>
                        <a:pt x="212" y="347"/>
                      </a:lnTo>
                      <a:lnTo>
                        <a:pt x="219" y="347"/>
                      </a:lnTo>
                      <a:lnTo>
                        <a:pt x="219" y="347"/>
                      </a:lnTo>
                      <a:lnTo>
                        <a:pt x="219" y="340"/>
                      </a:lnTo>
                      <a:lnTo>
                        <a:pt x="219" y="340"/>
                      </a:lnTo>
                      <a:lnTo>
                        <a:pt x="219" y="340"/>
                      </a:lnTo>
                      <a:lnTo>
                        <a:pt x="226" y="340"/>
                      </a:lnTo>
                      <a:lnTo>
                        <a:pt x="226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33"/>
                      </a:lnTo>
                      <a:lnTo>
                        <a:pt x="254" y="333"/>
                      </a:lnTo>
                      <a:lnTo>
                        <a:pt x="260" y="333"/>
                      </a:lnTo>
                      <a:lnTo>
                        <a:pt x="260" y="333"/>
                      </a:lnTo>
                      <a:lnTo>
                        <a:pt x="260" y="326"/>
                      </a:lnTo>
                      <a:lnTo>
                        <a:pt x="260" y="326"/>
                      </a:lnTo>
                      <a:lnTo>
                        <a:pt x="260" y="326"/>
                      </a:lnTo>
                      <a:lnTo>
                        <a:pt x="260" y="319"/>
                      </a:lnTo>
                      <a:lnTo>
                        <a:pt x="260" y="319"/>
                      </a:lnTo>
                      <a:lnTo>
                        <a:pt x="260" y="319"/>
                      </a:lnTo>
                      <a:lnTo>
                        <a:pt x="267" y="319"/>
                      </a:lnTo>
                      <a:lnTo>
                        <a:pt x="260" y="319"/>
                      </a:lnTo>
                      <a:lnTo>
                        <a:pt x="260" y="312"/>
                      </a:lnTo>
                      <a:lnTo>
                        <a:pt x="267" y="312"/>
                      </a:lnTo>
                      <a:lnTo>
                        <a:pt x="267" y="312"/>
                      </a:lnTo>
                      <a:lnTo>
                        <a:pt x="267" y="312"/>
                      </a:lnTo>
                      <a:lnTo>
                        <a:pt x="260" y="312"/>
                      </a:lnTo>
                      <a:lnTo>
                        <a:pt x="260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2"/>
                      </a:lnTo>
                      <a:lnTo>
                        <a:pt x="267" y="292"/>
                      </a:lnTo>
                      <a:lnTo>
                        <a:pt x="267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54" y="292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47" y="285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64"/>
                      </a:lnTo>
                      <a:lnTo>
                        <a:pt x="247" y="264"/>
                      </a:lnTo>
                      <a:lnTo>
                        <a:pt x="247" y="264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08"/>
                      </a:lnTo>
                      <a:lnTo>
                        <a:pt x="267" y="208"/>
                      </a:lnTo>
                      <a:lnTo>
                        <a:pt x="267" y="208"/>
                      </a:lnTo>
                      <a:lnTo>
                        <a:pt x="274" y="201"/>
                      </a:lnTo>
                      <a:lnTo>
                        <a:pt x="267" y="201"/>
                      </a:lnTo>
                      <a:lnTo>
                        <a:pt x="267" y="201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88"/>
                      </a:lnTo>
                      <a:lnTo>
                        <a:pt x="267" y="188"/>
                      </a:lnTo>
                      <a:lnTo>
                        <a:pt x="267" y="181"/>
                      </a:lnTo>
                      <a:lnTo>
                        <a:pt x="267" y="181"/>
                      </a:lnTo>
                      <a:lnTo>
                        <a:pt x="267" y="181"/>
                      </a:lnTo>
                      <a:lnTo>
                        <a:pt x="260" y="181"/>
                      </a:lnTo>
                      <a:lnTo>
                        <a:pt x="260" y="181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54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0" y="139"/>
                      </a:lnTo>
                      <a:lnTo>
                        <a:pt x="267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54" y="139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25"/>
                      </a:lnTo>
                      <a:lnTo>
                        <a:pt x="254" y="125"/>
                      </a:lnTo>
                      <a:lnTo>
                        <a:pt x="254" y="125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1"/>
                      </a:lnTo>
                      <a:lnTo>
                        <a:pt x="260" y="111"/>
                      </a:lnTo>
                      <a:lnTo>
                        <a:pt x="267" y="111"/>
                      </a:lnTo>
                      <a:lnTo>
                        <a:pt x="267" y="111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74" y="104"/>
                      </a:lnTo>
                      <a:lnTo>
                        <a:pt x="274" y="104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0"/>
                      </a:lnTo>
                      <a:lnTo>
                        <a:pt x="281" y="90"/>
                      </a:lnTo>
                      <a:lnTo>
                        <a:pt x="281" y="90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56"/>
                      </a:lnTo>
                      <a:lnTo>
                        <a:pt x="295" y="56"/>
                      </a:lnTo>
                      <a:lnTo>
                        <a:pt x="295" y="56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56"/>
                      </a:lnTo>
                      <a:lnTo>
                        <a:pt x="302" y="56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56"/>
                      </a:lnTo>
                      <a:lnTo>
                        <a:pt x="302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15" y="56"/>
                      </a:lnTo>
                      <a:lnTo>
                        <a:pt x="315" y="56"/>
                      </a:lnTo>
                      <a:lnTo>
                        <a:pt x="315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63" y="0"/>
                      </a:lnTo>
                      <a:lnTo>
                        <a:pt x="363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14"/>
                      </a:lnTo>
                      <a:lnTo>
                        <a:pt x="377" y="14"/>
                      </a:lnTo>
                      <a:lnTo>
                        <a:pt x="377" y="7"/>
                      </a:lnTo>
                      <a:lnTo>
                        <a:pt x="377" y="14"/>
                      </a:lnTo>
                      <a:lnTo>
                        <a:pt x="377" y="14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14"/>
                      </a:lnTo>
                      <a:lnTo>
                        <a:pt x="384" y="14"/>
                      </a:lnTo>
                      <a:lnTo>
                        <a:pt x="384" y="14"/>
                      </a:lnTo>
                      <a:lnTo>
                        <a:pt x="391" y="14"/>
                      </a:lnTo>
                      <a:lnTo>
                        <a:pt x="391" y="14"/>
                      </a:lnTo>
                      <a:lnTo>
                        <a:pt x="391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35"/>
                      </a:lnTo>
                      <a:lnTo>
                        <a:pt x="391" y="35"/>
                      </a:lnTo>
                      <a:lnTo>
                        <a:pt x="398" y="35"/>
                      </a:lnTo>
                      <a:lnTo>
                        <a:pt x="391" y="42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84" y="49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1" y="63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398" y="104"/>
                      </a:lnTo>
                      <a:lnTo>
                        <a:pt x="398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25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9"/>
                      </a:lnTo>
                      <a:lnTo>
                        <a:pt x="412" y="139"/>
                      </a:lnTo>
                      <a:lnTo>
                        <a:pt x="405" y="139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398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8"/>
                      </a:lnTo>
                      <a:lnTo>
                        <a:pt x="405" y="181"/>
                      </a:lnTo>
                      <a:lnTo>
                        <a:pt x="405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201"/>
                      </a:lnTo>
                      <a:lnTo>
                        <a:pt x="418" y="195"/>
                      </a:lnTo>
                      <a:lnTo>
                        <a:pt x="418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32" y="201"/>
                      </a:lnTo>
                      <a:lnTo>
                        <a:pt x="425" y="208"/>
                      </a:lnTo>
                      <a:lnTo>
                        <a:pt x="432" y="208"/>
                      </a:lnTo>
                      <a:lnTo>
                        <a:pt x="425" y="208"/>
                      </a:lnTo>
                      <a:lnTo>
                        <a:pt x="432" y="208"/>
                      </a:lnTo>
                      <a:lnTo>
                        <a:pt x="432" y="208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25" y="215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25" y="229"/>
                      </a:lnTo>
                      <a:lnTo>
                        <a:pt x="432" y="229"/>
                      </a:lnTo>
                      <a:lnTo>
                        <a:pt x="432" y="236"/>
                      </a:lnTo>
                      <a:lnTo>
                        <a:pt x="425" y="236"/>
                      </a:lnTo>
                      <a:lnTo>
                        <a:pt x="425" y="236"/>
                      </a:lnTo>
                      <a:lnTo>
                        <a:pt x="425" y="236"/>
                      </a:lnTo>
                      <a:lnTo>
                        <a:pt x="432" y="236"/>
                      </a:lnTo>
                      <a:lnTo>
                        <a:pt x="432" y="236"/>
                      </a:lnTo>
                      <a:lnTo>
                        <a:pt x="432" y="236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25" y="243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92"/>
                      </a:lnTo>
                      <a:lnTo>
                        <a:pt x="432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9"/>
                      </a:lnTo>
                      <a:lnTo>
                        <a:pt x="439" y="319"/>
                      </a:lnTo>
                      <a:lnTo>
                        <a:pt x="446" y="319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60" y="333"/>
                      </a:lnTo>
                      <a:lnTo>
                        <a:pt x="466" y="333"/>
                      </a:lnTo>
                      <a:lnTo>
                        <a:pt x="466" y="333"/>
                      </a:lnTo>
                      <a:lnTo>
                        <a:pt x="466" y="333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54"/>
                      </a:lnTo>
                      <a:lnTo>
                        <a:pt x="473" y="354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66" y="361"/>
                      </a:lnTo>
                      <a:lnTo>
                        <a:pt x="466" y="361"/>
                      </a:lnTo>
                      <a:lnTo>
                        <a:pt x="466" y="361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75"/>
                      </a:lnTo>
                      <a:lnTo>
                        <a:pt x="466" y="375"/>
                      </a:lnTo>
                      <a:lnTo>
                        <a:pt x="466" y="375"/>
                      </a:lnTo>
                      <a:lnTo>
                        <a:pt x="466" y="382"/>
                      </a:lnTo>
                      <a:lnTo>
                        <a:pt x="466" y="382"/>
                      </a:lnTo>
                      <a:lnTo>
                        <a:pt x="466" y="382"/>
                      </a:lnTo>
                      <a:lnTo>
                        <a:pt x="460" y="389"/>
                      </a:lnTo>
                      <a:lnTo>
                        <a:pt x="460" y="389"/>
                      </a:lnTo>
                      <a:lnTo>
                        <a:pt x="460" y="389"/>
                      </a:lnTo>
                      <a:lnTo>
                        <a:pt x="453" y="396"/>
                      </a:lnTo>
                      <a:lnTo>
                        <a:pt x="453" y="396"/>
                      </a:lnTo>
                      <a:lnTo>
                        <a:pt x="453" y="396"/>
                      </a:lnTo>
                      <a:lnTo>
                        <a:pt x="446" y="396"/>
                      </a:lnTo>
                      <a:lnTo>
                        <a:pt x="446" y="396"/>
                      </a:lnTo>
                      <a:lnTo>
                        <a:pt x="446" y="396"/>
                      </a:lnTo>
                      <a:lnTo>
                        <a:pt x="446" y="403"/>
                      </a:lnTo>
                      <a:lnTo>
                        <a:pt x="446" y="403"/>
                      </a:lnTo>
                      <a:lnTo>
                        <a:pt x="446" y="403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7"/>
                      </a:lnTo>
                      <a:lnTo>
                        <a:pt x="453" y="417"/>
                      </a:lnTo>
                      <a:lnTo>
                        <a:pt x="453" y="423"/>
                      </a:lnTo>
                      <a:lnTo>
                        <a:pt x="453" y="423"/>
                      </a:lnTo>
                      <a:lnTo>
                        <a:pt x="453" y="423"/>
                      </a:lnTo>
                      <a:lnTo>
                        <a:pt x="460" y="423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7"/>
                      </a:lnTo>
                      <a:lnTo>
                        <a:pt x="460" y="437"/>
                      </a:lnTo>
                      <a:lnTo>
                        <a:pt x="460" y="437"/>
                      </a:lnTo>
                      <a:lnTo>
                        <a:pt x="460" y="444"/>
                      </a:lnTo>
                      <a:lnTo>
                        <a:pt x="460" y="444"/>
                      </a:lnTo>
                      <a:lnTo>
                        <a:pt x="453" y="451"/>
                      </a:lnTo>
                      <a:lnTo>
                        <a:pt x="453" y="451"/>
                      </a:lnTo>
                      <a:lnTo>
                        <a:pt x="453" y="451"/>
                      </a:lnTo>
                      <a:lnTo>
                        <a:pt x="460" y="451"/>
                      </a:lnTo>
                      <a:lnTo>
                        <a:pt x="460" y="451"/>
                      </a:lnTo>
                      <a:lnTo>
                        <a:pt x="453" y="458"/>
                      </a:lnTo>
                      <a:lnTo>
                        <a:pt x="453" y="451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46" y="458"/>
                      </a:lnTo>
                      <a:lnTo>
                        <a:pt x="446" y="458"/>
                      </a:lnTo>
                      <a:lnTo>
                        <a:pt x="446" y="465"/>
                      </a:lnTo>
                      <a:lnTo>
                        <a:pt x="446" y="465"/>
                      </a:lnTo>
                      <a:lnTo>
                        <a:pt x="446" y="465"/>
                      </a:lnTo>
                      <a:lnTo>
                        <a:pt x="439" y="465"/>
                      </a:lnTo>
                      <a:lnTo>
                        <a:pt x="439" y="465"/>
                      </a:lnTo>
                      <a:lnTo>
                        <a:pt x="439" y="465"/>
                      </a:lnTo>
                      <a:lnTo>
                        <a:pt x="439" y="465"/>
                      </a:lnTo>
                      <a:lnTo>
                        <a:pt x="439" y="465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25" y="479"/>
                      </a:lnTo>
                      <a:lnTo>
                        <a:pt x="425" y="479"/>
                      </a:lnTo>
                      <a:lnTo>
                        <a:pt x="425" y="479"/>
                      </a:lnTo>
                      <a:lnTo>
                        <a:pt x="425" y="479"/>
                      </a:lnTo>
                      <a:lnTo>
                        <a:pt x="425" y="479"/>
                      </a:lnTo>
                      <a:lnTo>
                        <a:pt x="418" y="479"/>
                      </a:lnTo>
                      <a:lnTo>
                        <a:pt x="418" y="479"/>
                      </a:lnTo>
                      <a:lnTo>
                        <a:pt x="418" y="479"/>
                      </a:lnTo>
                      <a:lnTo>
                        <a:pt x="418" y="486"/>
                      </a:lnTo>
                      <a:lnTo>
                        <a:pt x="418" y="479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93"/>
                      </a:lnTo>
                      <a:lnTo>
                        <a:pt x="412" y="493"/>
                      </a:lnTo>
                      <a:lnTo>
                        <a:pt x="405" y="493"/>
                      </a:lnTo>
                      <a:lnTo>
                        <a:pt x="405" y="493"/>
                      </a:lnTo>
                      <a:lnTo>
                        <a:pt x="405" y="493"/>
                      </a:lnTo>
                      <a:lnTo>
                        <a:pt x="405" y="493"/>
                      </a:lnTo>
                      <a:lnTo>
                        <a:pt x="405" y="493"/>
                      </a:lnTo>
                      <a:lnTo>
                        <a:pt x="405" y="500"/>
                      </a:lnTo>
                      <a:lnTo>
                        <a:pt x="405" y="500"/>
                      </a:lnTo>
                      <a:lnTo>
                        <a:pt x="405" y="500"/>
                      </a:lnTo>
                      <a:lnTo>
                        <a:pt x="405" y="500"/>
                      </a:lnTo>
                      <a:lnTo>
                        <a:pt x="398" y="500"/>
                      </a:lnTo>
                      <a:lnTo>
                        <a:pt x="398" y="500"/>
                      </a:lnTo>
                      <a:lnTo>
                        <a:pt x="398" y="500"/>
                      </a:lnTo>
                      <a:lnTo>
                        <a:pt x="391" y="500"/>
                      </a:lnTo>
                      <a:lnTo>
                        <a:pt x="391" y="500"/>
                      </a:lnTo>
                      <a:lnTo>
                        <a:pt x="391" y="500"/>
                      </a:lnTo>
                      <a:lnTo>
                        <a:pt x="391" y="500"/>
                      </a:lnTo>
                      <a:lnTo>
                        <a:pt x="391" y="507"/>
                      </a:lnTo>
                      <a:lnTo>
                        <a:pt x="391" y="507"/>
                      </a:lnTo>
                      <a:lnTo>
                        <a:pt x="391" y="507"/>
                      </a:lnTo>
                      <a:lnTo>
                        <a:pt x="384" y="514"/>
                      </a:lnTo>
                      <a:lnTo>
                        <a:pt x="384" y="514"/>
                      </a:lnTo>
                      <a:lnTo>
                        <a:pt x="384" y="514"/>
                      </a:lnTo>
                      <a:lnTo>
                        <a:pt x="384" y="514"/>
                      </a:lnTo>
                      <a:lnTo>
                        <a:pt x="384" y="514"/>
                      </a:lnTo>
                      <a:lnTo>
                        <a:pt x="377" y="514"/>
                      </a:lnTo>
                      <a:lnTo>
                        <a:pt x="377" y="514"/>
                      </a:lnTo>
                      <a:lnTo>
                        <a:pt x="377" y="521"/>
                      </a:lnTo>
                      <a:lnTo>
                        <a:pt x="377" y="521"/>
                      </a:lnTo>
                      <a:lnTo>
                        <a:pt x="377" y="521"/>
                      </a:lnTo>
                      <a:lnTo>
                        <a:pt x="377" y="521"/>
                      </a:lnTo>
                      <a:lnTo>
                        <a:pt x="377" y="521"/>
                      </a:lnTo>
                      <a:lnTo>
                        <a:pt x="377" y="528"/>
                      </a:lnTo>
                      <a:lnTo>
                        <a:pt x="377" y="521"/>
                      </a:lnTo>
                      <a:lnTo>
                        <a:pt x="370" y="521"/>
                      </a:lnTo>
                      <a:lnTo>
                        <a:pt x="370" y="521"/>
                      </a:lnTo>
                      <a:lnTo>
                        <a:pt x="370" y="528"/>
                      </a:lnTo>
                      <a:lnTo>
                        <a:pt x="370" y="528"/>
                      </a:lnTo>
                      <a:lnTo>
                        <a:pt x="363" y="528"/>
                      </a:lnTo>
                      <a:lnTo>
                        <a:pt x="363" y="528"/>
                      </a:lnTo>
                      <a:lnTo>
                        <a:pt x="363" y="528"/>
                      </a:lnTo>
                      <a:lnTo>
                        <a:pt x="363" y="528"/>
                      </a:lnTo>
                      <a:lnTo>
                        <a:pt x="363" y="528"/>
                      </a:lnTo>
                      <a:lnTo>
                        <a:pt x="363" y="534"/>
                      </a:lnTo>
                      <a:lnTo>
                        <a:pt x="363" y="534"/>
                      </a:lnTo>
                      <a:lnTo>
                        <a:pt x="363" y="534"/>
                      </a:lnTo>
                      <a:lnTo>
                        <a:pt x="357" y="534"/>
                      </a:lnTo>
                      <a:lnTo>
                        <a:pt x="357" y="534"/>
                      </a:lnTo>
                      <a:lnTo>
                        <a:pt x="357" y="541"/>
                      </a:lnTo>
                      <a:lnTo>
                        <a:pt x="357" y="541"/>
                      </a:lnTo>
                      <a:lnTo>
                        <a:pt x="357" y="541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36" y="548"/>
                      </a:lnTo>
                      <a:lnTo>
                        <a:pt x="336" y="548"/>
                      </a:lnTo>
                      <a:lnTo>
                        <a:pt x="336" y="548"/>
                      </a:lnTo>
                      <a:lnTo>
                        <a:pt x="336" y="548"/>
                      </a:lnTo>
                      <a:lnTo>
                        <a:pt x="336" y="548"/>
                      </a:lnTo>
                      <a:lnTo>
                        <a:pt x="329" y="548"/>
                      </a:lnTo>
                      <a:lnTo>
                        <a:pt x="329" y="555"/>
                      </a:lnTo>
                      <a:lnTo>
                        <a:pt x="329" y="555"/>
                      </a:lnTo>
                      <a:lnTo>
                        <a:pt x="322" y="555"/>
                      </a:lnTo>
                      <a:lnTo>
                        <a:pt x="322" y="555"/>
                      </a:lnTo>
                      <a:lnTo>
                        <a:pt x="322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62"/>
                      </a:lnTo>
                      <a:lnTo>
                        <a:pt x="309" y="562"/>
                      </a:lnTo>
                      <a:lnTo>
                        <a:pt x="302" y="562"/>
                      </a:lnTo>
                      <a:lnTo>
                        <a:pt x="302" y="562"/>
                      </a:lnTo>
                      <a:lnTo>
                        <a:pt x="302" y="562"/>
                      </a:lnTo>
                      <a:lnTo>
                        <a:pt x="302" y="569"/>
                      </a:lnTo>
                      <a:lnTo>
                        <a:pt x="302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88" y="569"/>
                      </a:lnTo>
                      <a:lnTo>
                        <a:pt x="288" y="569"/>
                      </a:lnTo>
                      <a:lnTo>
                        <a:pt x="288" y="569"/>
                      </a:lnTo>
                      <a:lnTo>
                        <a:pt x="288" y="569"/>
                      </a:lnTo>
                      <a:lnTo>
                        <a:pt x="288" y="576"/>
                      </a:lnTo>
                      <a:lnTo>
                        <a:pt x="288" y="569"/>
                      </a:lnTo>
                      <a:lnTo>
                        <a:pt x="281" y="576"/>
                      </a:lnTo>
                      <a:lnTo>
                        <a:pt x="281" y="576"/>
                      </a:lnTo>
                      <a:lnTo>
                        <a:pt x="281" y="576"/>
                      </a:lnTo>
                      <a:lnTo>
                        <a:pt x="281" y="576"/>
                      </a:lnTo>
                      <a:lnTo>
                        <a:pt x="281" y="569"/>
                      </a:lnTo>
                      <a:lnTo>
                        <a:pt x="274" y="569"/>
                      </a:lnTo>
                      <a:lnTo>
                        <a:pt x="274" y="576"/>
                      </a:lnTo>
                      <a:lnTo>
                        <a:pt x="274" y="576"/>
                      </a:lnTo>
                      <a:lnTo>
                        <a:pt x="274" y="576"/>
                      </a:lnTo>
                      <a:lnTo>
                        <a:pt x="274" y="576"/>
                      </a:lnTo>
                      <a:lnTo>
                        <a:pt x="274" y="576"/>
                      </a:lnTo>
                      <a:lnTo>
                        <a:pt x="274" y="583"/>
                      </a:lnTo>
                      <a:lnTo>
                        <a:pt x="267" y="583"/>
                      </a:lnTo>
                      <a:lnTo>
                        <a:pt x="267" y="583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54" y="569"/>
                      </a:lnTo>
                      <a:lnTo>
                        <a:pt x="254" y="569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26" y="562"/>
                      </a:lnTo>
                      <a:lnTo>
                        <a:pt x="226" y="562"/>
                      </a:lnTo>
                      <a:lnTo>
                        <a:pt x="226" y="562"/>
                      </a:lnTo>
                      <a:lnTo>
                        <a:pt x="226" y="562"/>
                      </a:lnTo>
                      <a:lnTo>
                        <a:pt x="226" y="555"/>
                      </a:lnTo>
                      <a:lnTo>
                        <a:pt x="226" y="555"/>
                      </a:lnTo>
                      <a:lnTo>
                        <a:pt x="219" y="555"/>
                      </a:lnTo>
                      <a:lnTo>
                        <a:pt x="219" y="555"/>
                      </a:lnTo>
                      <a:lnTo>
                        <a:pt x="219" y="555"/>
                      </a:lnTo>
                      <a:lnTo>
                        <a:pt x="219" y="548"/>
                      </a:lnTo>
                      <a:lnTo>
                        <a:pt x="212" y="548"/>
                      </a:lnTo>
                      <a:lnTo>
                        <a:pt x="212" y="548"/>
                      </a:lnTo>
                      <a:lnTo>
                        <a:pt x="212" y="548"/>
                      </a:lnTo>
                      <a:lnTo>
                        <a:pt x="212" y="548"/>
                      </a:lnTo>
                      <a:lnTo>
                        <a:pt x="212" y="555"/>
                      </a:lnTo>
                      <a:lnTo>
                        <a:pt x="206" y="555"/>
                      </a:lnTo>
                      <a:lnTo>
                        <a:pt x="206" y="555"/>
                      </a:lnTo>
                      <a:lnTo>
                        <a:pt x="206" y="555"/>
                      </a:lnTo>
                      <a:lnTo>
                        <a:pt x="206" y="555"/>
                      </a:lnTo>
                      <a:lnTo>
                        <a:pt x="199" y="555"/>
                      </a:lnTo>
                      <a:lnTo>
                        <a:pt x="199" y="562"/>
                      </a:lnTo>
                      <a:lnTo>
                        <a:pt x="199" y="562"/>
                      </a:lnTo>
                      <a:lnTo>
                        <a:pt x="192" y="562"/>
                      </a:lnTo>
                      <a:lnTo>
                        <a:pt x="192" y="562"/>
                      </a:lnTo>
                      <a:lnTo>
                        <a:pt x="192" y="562"/>
                      </a:lnTo>
                      <a:lnTo>
                        <a:pt x="185" y="569"/>
                      </a:lnTo>
                      <a:lnTo>
                        <a:pt x="185" y="569"/>
                      </a:lnTo>
                      <a:lnTo>
                        <a:pt x="185" y="569"/>
                      </a:lnTo>
                      <a:lnTo>
                        <a:pt x="185" y="576"/>
                      </a:lnTo>
                      <a:lnTo>
                        <a:pt x="178" y="576"/>
                      </a:lnTo>
                      <a:lnTo>
                        <a:pt x="185" y="576"/>
                      </a:lnTo>
                      <a:lnTo>
                        <a:pt x="185" y="576"/>
                      </a:lnTo>
                      <a:lnTo>
                        <a:pt x="185" y="583"/>
                      </a:lnTo>
                      <a:lnTo>
                        <a:pt x="185" y="583"/>
                      </a:lnTo>
                      <a:lnTo>
                        <a:pt x="185" y="583"/>
                      </a:lnTo>
                      <a:lnTo>
                        <a:pt x="185" y="583"/>
                      </a:lnTo>
                      <a:lnTo>
                        <a:pt x="185" y="590"/>
                      </a:lnTo>
                      <a:lnTo>
                        <a:pt x="185" y="590"/>
                      </a:lnTo>
                      <a:lnTo>
                        <a:pt x="185" y="590"/>
                      </a:lnTo>
                      <a:lnTo>
                        <a:pt x="185" y="590"/>
                      </a:lnTo>
                      <a:lnTo>
                        <a:pt x="192" y="590"/>
                      </a:lnTo>
                      <a:lnTo>
                        <a:pt x="192" y="597"/>
                      </a:lnTo>
                      <a:lnTo>
                        <a:pt x="192" y="597"/>
                      </a:lnTo>
                      <a:lnTo>
                        <a:pt x="192" y="597"/>
                      </a:lnTo>
                      <a:lnTo>
                        <a:pt x="192" y="597"/>
                      </a:lnTo>
                      <a:lnTo>
                        <a:pt x="199" y="597"/>
                      </a:lnTo>
                      <a:lnTo>
                        <a:pt x="199" y="597"/>
                      </a:lnTo>
                      <a:lnTo>
                        <a:pt x="199" y="597"/>
                      </a:lnTo>
                      <a:lnTo>
                        <a:pt x="199" y="597"/>
                      </a:lnTo>
                      <a:lnTo>
                        <a:pt x="199" y="604"/>
                      </a:lnTo>
                      <a:lnTo>
                        <a:pt x="199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11"/>
                      </a:lnTo>
                      <a:lnTo>
                        <a:pt x="192" y="611"/>
                      </a:lnTo>
                      <a:lnTo>
                        <a:pt x="199" y="611"/>
                      </a:lnTo>
                      <a:lnTo>
                        <a:pt x="199" y="611"/>
                      </a:lnTo>
                      <a:lnTo>
                        <a:pt x="199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25"/>
                      </a:lnTo>
                      <a:lnTo>
                        <a:pt x="192" y="625"/>
                      </a:lnTo>
                      <a:lnTo>
                        <a:pt x="185" y="625"/>
                      </a:lnTo>
                      <a:lnTo>
                        <a:pt x="185" y="632"/>
                      </a:lnTo>
                      <a:lnTo>
                        <a:pt x="185" y="632"/>
                      </a:lnTo>
                      <a:lnTo>
                        <a:pt x="185" y="632"/>
                      </a:lnTo>
                      <a:lnTo>
                        <a:pt x="185" y="638"/>
                      </a:lnTo>
                      <a:lnTo>
                        <a:pt x="185" y="638"/>
                      </a:lnTo>
                      <a:lnTo>
                        <a:pt x="185" y="638"/>
                      </a:lnTo>
                      <a:lnTo>
                        <a:pt x="178" y="638"/>
                      </a:lnTo>
                      <a:lnTo>
                        <a:pt x="178" y="638"/>
                      </a:lnTo>
                      <a:lnTo>
                        <a:pt x="178" y="638"/>
                      </a:lnTo>
                      <a:lnTo>
                        <a:pt x="178" y="645"/>
                      </a:lnTo>
                      <a:lnTo>
                        <a:pt x="178" y="645"/>
                      </a:lnTo>
                      <a:lnTo>
                        <a:pt x="178" y="645"/>
                      </a:lnTo>
                      <a:lnTo>
                        <a:pt x="178" y="645"/>
                      </a:lnTo>
                      <a:lnTo>
                        <a:pt x="171" y="645"/>
                      </a:lnTo>
                      <a:lnTo>
                        <a:pt x="171" y="645"/>
                      </a:lnTo>
                      <a:lnTo>
                        <a:pt x="171" y="645"/>
                      </a:lnTo>
                      <a:lnTo>
                        <a:pt x="171" y="645"/>
                      </a:lnTo>
                      <a:lnTo>
                        <a:pt x="164" y="645"/>
                      </a:lnTo>
                      <a:lnTo>
                        <a:pt x="164" y="645"/>
                      </a:lnTo>
                      <a:lnTo>
                        <a:pt x="164" y="645"/>
                      </a:lnTo>
                      <a:lnTo>
                        <a:pt x="164" y="652"/>
                      </a:lnTo>
                      <a:lnTo>
                        <a:pt x="164" y="652"/>
                      </a:lnTo>
                      <a:lnTo>
                        <a:pt x="164" y="652"/>
                      </a:lnTo>
                      <a:lnTo>
                        <a:pt x="164" y="652"/>
                      </a:lnTo>
                      <a:lnTo>
                        <a:pt x="164" y="652"/>
                      </a:lnTo>
                      <a:lnTo>
                        <a:pt x="164" y="659"/>
                      </a:lnTo>
                      <a:lnTo>
                        <a:pt x="164" y="659"/>
                      </a:lnTo>
                      <a:lnTo>
                        <a:pt x="164" y="659"/>
                      </a:lnTo>
                      <a:lnTo>
                        <a:pt x="157" y="659"/>
                      </a:lnTo>
                      <a:lnTo>
                        <a:pt x="157" y="659"/>
                      </a:lnTo>
                      <a:lnTo>
                        <a:pt x="157" y="666"/>
                      </a:lnTo>
                      <a:lnTo>
                        <a:pt x="157" y="666"/>
                      </a:lnTo>
                      <a:lnTo>
                        <a:pt x="157" y="666"/>
                      </a:lnTo>
                      <a:lnTo>
                        <a:pt x="157" y="666"/>
                      </a:lnTo>
                      <a:lnTo>
                        <a:pt x="157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44" y="666"/>
                      </a:lnTo>
                      <a:lnTo>
                        <a:pt x="144" y="666"/>
                      </a:lnTo>
                      <a:lnTo>
                        <a:pt x="144" y="659"/>
                      </a:lnTo>
                      <a:lnTo>
                        <a:pt x="144" y="659"/>
                      </a:lnTo>
                      <a:lnTo>
                        <a:pt x="144" y="659"/>
                      </a:lnTo>
                      <a:lnTo>
                        <a:pt x="137" y="659"/>
                      </a:lnTo>
                      <a:lnTo>
                        <a:pt x="137" y="659"/>
                      </a:lnTo>
                      <a:lnTo>
                        <a:pt x="137" y="666"/>
                      </a:lnTo>
                      <a:lnTo>
                        <a:pt x="137" y="666"/>
                      </a:lnTo>
                      <a:lnTo>
                        <a:pt x="137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23" y="666"/>
                      </a:lnTo>
                      <a:lnTo>
                        <a:pt x="123" y="666"/>
                      </a:lnTo>
                      <a:lnTo>
                        <a:pt x="123" y="666"/>
                      </a:lnTo>
                      <a:lnTo>
                        <a:pt x="123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73"/>
                      </a:lnTo>
                      <a:lnTo>
                        <a:pt x="116" y="673"/>
                      </a:lnTo>
                      <a:lnTo>
                        <a:pt x="116" y="673"/>
                      </a:lnTo>
                      <a:lnTo>
                        <a:pt x="116" y="673"/>
                      </a:lnTo>
                      <a:lnTo>
                        <a:pt x="116" y="673"/>
                      </a:lnTo>
                      <a:lnTo>
                        <a:pt x="109" y="680"/>
                      </a:lnTo>
                      <a:lnTo>
                        <a:pt x="109" y="673"/>
                      </a:lnTo>
                      <a:lnTo>
                        <a:pt x="109" y="673"/>
                      </a:lnTo>
                      <a:lnTo>
                        <a:pt x="109" y="680"/>
                      </a:lnTo>
                      <a:lnTo>
                        <a:pt x="103" y="680"/>
                      </a:lnTo>
                      <a:lnTo>
                        <a:pt x="103" y="680"/>
                      </a:lnTo>
                      <a:lnTo>
                        <a:pt x="103" y="680"/>
                      </a:lnTo>
                      <a:lnTo>
                        <a:pt x="103" y="680"/>
                      </a:lnTo>
                      <a:lnTo>
                        <a:pt x="103" y="687"/>
                      </a:lnTo>
                      <a:lnTo>
                        <a:pt x="103" y="687"/>
                      </a:lnTo>
                      <a:lnTo>
                        <a:pt x="103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89" y="694"/>
                      </a:lnTo>
                      <a:lnTo>
                        <a:pt x="89" y="687"/>
                      </a:lnTo>
                      <a:lnTo>
                        <a:pt x="89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75" y="680"/>
                      </a:lnTo>
                      <a:lnTo>
                        <a:pt x="75" y="680"/>
                      </a:lnTo>
                      <a:lnTo>
                        <a:pt x="75" y="687"/>
                      </a:lnTo>
                      <a:lnTo>
                        <a:pt x="75" y="680"/>
                      </a:lnTo>
                      <a:lnTo>
                        <a:pt x="75" y="680"/>
                      </a:lnTo>
                      <a:lnTo>
                        <a:pt x="75" y="680"/>
                      </a:lnTo>
                      <a:lnTo>
                        <a:pt x="68" y="680"/>
                      </a:lnTo>
                      <a:lnTo>
                        <a:pt x="68" y="680"/>
                      </a:lnTo>
                      <a:lnTo>
                        <a:pt x="61" y="680"/>
                      </a:lnTo>
                      <a:lnTo>
                        <a:pt x="61" y="680"/>
                      </a:lnTo>
                      <a:lnTo>
                        <a:pt x="61" y="680"/>
                      </a:lnTo>
                      <a:lnTo>
                        <a:pt x="61" y="673"/>
                      </a:lnTo>
                      <a:lnTo>
                        <a:pt x="54" y="673"/>
                      </a:lnTo>
                      <a:lnTo>
                        <a:pt x="54" y="673"/>
                      </a:lnTo>
                      <a:lnTo>
                        <a:pt x="54" y="666"/>
                      </a:lnTo>
                      <a:lnTo>
                        <a:pt x="54" y="666"/>
                      </a:lnTo>
                      <a:lnTo>
                        <a:pt x="54" y="666"/>
                      </a:lnTo>
                      <a:lnTo>
                        <a:pt x="54" y="666"/>
                      </a:lnTo>
                      <a:lnTo>
                        <a:pt x="48" y="666"/>
                      </a:lnTo>
                      <a:lnTo>
                        <a:pt x="48" y="666"/>
                      </a:lnTo>
                      <a:lnTo>
                        <a:pt x="48" y="666"/>
                      </a:lnTo>
                      <a:lnTo>
                        <a:pt x="48" y="666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2"/>
                      </a:lnTo>
                      <a:lnTo>
                        <a:pt x="48" y="652"/>
                      </a:lnTo>
                      <a:lnTo>
                        <a:pt x="48" y="652"/>
                      </a:lnTo>
                      <a:lnTo>
                        <a:pt x="54" y="652"/>
                      </a:lnTo>
                      <a:lnTo>
                        <a:pt x="54" y="652"/>
                      </a:lnTo>
                      <a:lnTo>
                        <a:pt x="48" y="652"/>
                      </a:lnTo>
                      <a:lnTo>
                        <a:pt x="48" y="645"/>
                      </a:lnTo>
                      <a:lnTo>
                        <a:pt x="48" y="645"/>
                      </a:lnTo>
                      <a:lnTo>
                        <a:pt x="48" y="645"/>
                      </a:lnTo>
                      <a:lnTo>
                        <a:pt x="48" y="645"/>
                      </a:lnTo>
                      <a:lnTo>
                        <a:pt x="48" y="638"/>
                      </a:lnTo>
                      <a:lnTo>
                        <a:pt x="48" y="638"/>
                      </a:lnTo>
                      <a:lnTo>
                        <a:pt x="41" y="638"/>
                      </a:lnTo>
                      <a:lnTo>
                        <a:pt x="41" y="638"/>
                      </a:lnTo>
                      <a:lnTo>
                        <a:pt x="41" y="638"/>
                      </a:lnTo>
                      <a:lnTo>
                        <a:pt x="41" y="638"/>
                      </a:lnTo>
                      <a:lnTo>
                        <a:pt x="41" y="632"/>
                      </a:lnTo>
                      <a:lnTo>
                        <a:pt x="41" y="632"/>
                      </a:lnTo>
                      <a:lnTo>
                        <a:pt x="34" y="632"/>
                      </a:lnTo>
                      <a:lnTo>
                        <a:pt x="34" y="632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27" y="625"/>
                      </a:lnTo>
                      <a:lnTo>
                        <a:pt x="27" y="625"/>
                      </a:lnTo>
                      <a:lnTo>
                        <a:pt x="27" y="625"/>
                      </a:lnTo>
                      <a:lnTo>
                        <a:pt x="27" y="625"/>
                      </a:lnTo>
                      <a:lnTo>
                        <a:pt x="27" y="625"/>
                      </a:lnTo>
                      <a:lnTo>
                        <a:pt x="20" y="625"/>
                      </a:lnTo>
                      <a:lnTo>
                        <a:pt x="20" y="625"/>
                      </a:lnTo>
                      <a:lnTo>
                        <a:pt x="20" y="625"/>
                      </a:lnTo>
                      <a:lnTo>
                        <a:pt x="20" y="632"/>
                      </a:lnTo>
                      <a:lnTo>
                        <a:pt x="20" y="632"/>
                      </a:lnTo>
                      <a:lnTo>
                        <a:pt x="20" y="632"/>
                      </a:lnTo>
                      <a:lnTo>
                        <a:pt x="20" y="632"/>
                      </a:lnTo>
                      <a:lnTo>
                        <a:pt x="13" y="632"/>
                      </a:lnTo>
                      <a:lnTo>
                        <a:pt x="13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17480" y="3178800"/>
                  <a:ext cx="595440" cy="743400"/>
                </a:xfrm>
                <a:custGeom>
                  <a:avLst/>
                  <a:gdLst/>
                  <a:ahLst/>
                  <a:rect l="l" t="t" r="r" b="b"/>
                  <a:pathLst>
                    <a:path w="473" h="632">
                      <a:moveTo>
                        <a:pt x="6" y="632"/>
                      </a:move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13" y="625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2"/>
                      </a:lnTo>
                      <a:lnTo>
                        <a:pt x="13" y="562"/>
                      </a:lnTo>
                      <a:lnTo>
                        <a:pt x="20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28"/>
                      </a:lnTo>
                      <a:lnTo>
                        <a:pt x="6" y="528"/>
                      </a:lnTo>
                      <a:lnTo>
                        <a:pt x="6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14"/>
                      </a:lnTo>
                      <a:lnTo>
                        <a:pt x="0" y="514"/>
                      </a:lnTo>
                      <a:lnTo>
                        <a:pt x="0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13" y="507"/>
                      </a:lnTo>
                      <a:lnTo>
                        <a:pt x="13" y="507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493"/>
                      </a:lnTo>
                      <a:lnTo>
                        <a:pt x="13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7" y="479"/>
                      </a:lnTo>
                      <a:lnTo>
                        <a:pt x="20" y="479"/>
                      </a:lnTo>
                      <a:lnTo>
                        <a:pt x="27" y="479"/>
                      </a:lnTo>
                      <a:lnTo>
                        <a:pt x="27" y="479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41" y="444"/>
                      </a:lnTo>
                      <a:lnTo>
                        <a:pt x="41" y="444"/>
                      </a:lnTo>
                      <a:lnTo>
                        <a:pt x="34" y="444"/>
                      </a:lnTo>
                      <a:lnTo>
                        <a:pt x="34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34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17"/>
                      </a:lnTo>
                      <a:lnTo>
                        <a:pt x="41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0"/>
                      </a:lnTo>
                      <a:lnTo>
                        <a:pt x="48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61" y="410"/>
                      </a:lnTo>
                      <a:lnTo>
                        <a:pt x="61" y="410"/>
                      </a:lnTo>
                      <a:lnTo>
                        <a:pt x="61" y="410"/>
                      </a:lnTo>
                      <a:lnTo>
                        <a:pt x="61" y="403"/>
                      </a:lnTo>
                      <a:lnTo>
                        <a:pt x="61" y="403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68" y="410"/>
                      </a:lnTo>
                      <a:lnTo>
                        <a:pt x="68" y="410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89"/>
                      </a:lnTo>
                      <a:lnTo>
                        <a:pt x="96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16" y="389"/>
                      </a:lnTo>
                      <a:lnTo>
                        <a:pt x="116" y="389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23" y="382"/>
                      </a:lnTo>
                      <a:lnTo>
                        <a:pt x="123" y="375"/>
                      </a:lnTo>
                      <a:lnTo>
                        <a:pt x="123" y="375"/>
                      </a:lnTo>
                      <a:lnTo>
                        <a:pt x="123" y="375"/>
                      </a:lnTo>
                      <a:lnTo>
                        <a:pt x="130" y="375"/>
                      </a:lnTo>
                      <a:lnTo>
                        <a:pt x="130" y="375"/>
                      </a:lnTo>
                      <a:lnTo>
                        <a:pt x="130" y="375"/>
                      </a:lnTo>
                      <a:lnTo>
                        <a:pt x="130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0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0"/>
                      </a:lnTo>
                      <a:lnTo>
                        <a:pt x="157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71" y="340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8" y="340"/>
                      </a:lnTo>
                      <a:lnTo>
                        <a:pt x="178" y="340"/>
                      </a:lnTo>
                      <a:lnTo>
                        <a:pt x="178" y="340"/>
                      </a:lnTo>
                      <a:lnTo>
                        <a:pt x="178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206" y="333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7"/>
                      </a:lnTo>
                      <a:lnTo>
                        <a:pt x="212" y="347"/>
                      </a:lnTo>
                      <a:lnTo>
                        <a:pt x="219" y="347"/>
                      </a:lnTo>
                      <a:lnTo>
                        <a:pt x="219" y="347"/>
                      </a:lnTo>
                      <a:lnTo>
                        <a:pt x="219" y="340"/>
                      </a:lnTo>
                      <a:lnTo>
                        <a:pt x="219" y="340"/>
                      </a:lnTo>
                      <a:lnTo>
                        <a:pt x="219" y="340"/>
                      </a:lnTo>
                      <a:lnTo>
                        <a:pt x="226" y="340"/>
                      </a:lnTo>
                      <a:lnTo>
                        <a:pt x="226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33"/>
                      </a:lnTo>
                      <a:lnTo>
                        <a:pt x="254" y="333"/>
                      </a:lnTo>
                      <a:lnTo>
                        <a:pt x="260" y="333"/>
                      </a:lnTo>
                      <a:lnTo>
                        <a:pt x="260" y="333"/>
                      </a:lnTo>
                      <a:lnTo>
                        <a:pt x="260" y="326"/>
                      </a:lnTo>
                      <a:lnTo>
                        <a:pt x="260" y="326"/>
                      </a:lnTo>
                      <a:lnTo>
                        <a:pt x="260" y="326"/>
                      </a:lnTo>
                      <a:lnTo>
                        <a:pt x="260" y="319"/>
                      </a:lnTo>
                      <a:lnTo>
                        <a:pt x="260" y="319"/>
                      </a:lnTo>
                      <a:lnTo>
                        <a:pt x="260" y="319"/>
                      </a:lnTo>
                      <a:lnTo>
                        <a:pt x="267" y="319"/>
                      </a:lnTo>
                      <a:lnTo>
                        <a:pt x="260" y="319"/>
                      </a:lnTo>
                      <a:lnTo>
                        <a:pt x="260" y="312"/>
                      </a:lnTo>
                      <a:lnTo>
                        <a:pt x="267" y="312"/>
                      </a:lnTo>
                      <a:lnTo>
                        <a:pt x="267" y="312"/>
                      </a:lnTo>
                      <a:lnTo>
                        <a:pt x="267" y="312"/>
                      </a:lnTo>
                      <a:lnTo>
                        <a:pt x="260" y="312"/>
                      </a:lnTo>
                      <a:lnTo>
                        <a:pt x="260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2"/>
                      </a:lnTo>
                      <a:lnTo>
                        <a:pt x="267" y="292"/>
                      </a:lnTo>
                      <a:lnTo>
                        <a:pt x="267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54" y="292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47" y="285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64"/>
                      </a:lnTo>
                      <a:lnTo>
                        <a:pt x="247" y="264"/>
                      </a:lnTo>
                      <a:lnTo>
                        <a:pt x="247" y="264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08"/>
                      </a:lnTo>
                      <a:lnTo>
                        <a:pt x="267" y="208"/>
                      </a:lnTo>
                      <a:lnTo>
                        <a:pt x="267" y="208"/>
                      </a:lnTo>
                      <a:lnTo>
                        <a:pt x="274" y="201"/>
                      </a:lnTo>
                      <a:lnTo>
                        <a:pt x="267" y="201"/>
                      </a:lnTo>
                      <a:lnTo>
                        <a:pt x="267" y="201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88"/>
                      </a:lnTo>
                      <a:lnTo>
                        <a:pt x="267" y="188"/>
                      </a:lnTo>
                      <a:lnTo>
                        <a:pt x="267" y="181"/>
                      </a:lnTo>
                      <a:lnTo>
                        <a:pt x="267" y="181"/>
                      </a:lnTo>
                      <a:lnTo>
                        <a:pt x="267" y="181"/>
                      </a:lnTo>
                      <a:lnTo>
                        <a:pt x="260" y="181"/>
                      </a:lnTo>
                      <a:lnTo>
                        <a:pt x="260" y="181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54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0" y="139"/>
                      </a:lnTo>
                      <a:lnTo>
                        <a:pt x="267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54" y="139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25"/>
                      </a:lnTo>
                      <a:lnTo>
                        <a:pt x="254" y="125"/>
                      </a:lnTo>
                      <a:lnTo>
                        <a:pt x="254" y="125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1"/>
                      </a:lnTo>
                      <a:lnTo>
                        <a:pt x="260" y="111"/>
                      </a:lnTo>
                      <a:lnTo>
                        <a:pt x="267" y="111"/>
                      </a:lnTo>
                      <a:lnTo>
                        <a:pt x="267" y="111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74" y="104"/>
                      </a:lnTo>
                      <a:lnTo>
                        <a:pt x="274" y="104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0"/>
                      </a:lnTo>
                      <a:lnTo>
                        <a:pt x="281" y="90"/>
                      </a:lnTo>
                      <a:lnTo>
                        <a:pt x="281" y="90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56"/>
                      </a:lnTo>
                      <a:lnTo>
                        <a:pt x="295" y="56"/>
                      </a:lnTo>
                      <a:lnTo>
                        <a:pt x="295" y="56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56"/>
                      </a:lnTo>
                      <a:lnTo>
                        <a:pt x="302" y="56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56"/>
                      </a:lnTo>
                      <a:lnTo>
                        <a:pt x="302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15" y="56"/>
                      </a:lnTo>
                      <a:lnTo>
                        <a:pt x="315" y="56"/>
                      </a:lnTo>
                      <a:lnTo>
                        <a:pt x="315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63" y="0"/>
                      </a:lnTo>
                      <a:lnTo>
                        <a:pt x="363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14"/>
                      </a:lnTo>
                      <a:lnTo>
                        <a:pt x="377" y="14"/>
                      </a:lnTo>
                      <a:lnTo>
                        <a:pt x="377" y="7"/>
                      </a:lnTo>
                      <a:lnTo>
                        <a:pt x="377" y="14"/>
                      </a:lnTo>
                      <a:lnTo>
                        <a:pt x="377" y="14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14"/>
                      </a:lnTo>
                      <a:lnTo>
                        <a:pt x="384" y="14"/>
                      </a:lnTo>
                      <a:lnTo>
                        <a:pt x="384" y="14"/>
                      </a:lnTo>
                      <a:lnTo>
                        <a:pt x="391" y="14"/>
                      </a:lnTo>
                      <a:lnTo>
                        <a:pt x="391" y="14"/>
                      </a:lnTo>
                      <a:lnTo>
                        <a:pt x="391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35"/>
                      </a:lnTo>
                      <a:lnTo>
                        <a:pt x="391" y="35"/>
                      </a:lnTo>
                      <a:lnTo>
                        <a:pt x="398" y="35"/>
                      </a:lnTo>
                      <a:lnTo>
                        <a:pt x="391" y="42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84" y="49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1" y="63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398" y="104"/>
                      </a:lnTo>
                      <a:lnTo>
                        <a:pt x="398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25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9"/>
                      </a:lnTo>
                      <a:lnTo>
                        <a:pt x="412" y="139"/>
                      </a:lnTo>
                      <a:lnTo>
                        <a:pt x="405" y="139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398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8"/>
                      </a:lnTo>
                      <a:lnTo>
                        <a:pt x="405" y="181"/>
                      </a:lnTo>
                      <a:lnTo>
                        <a:pt x="405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201"/>
                      </a:lnTo>
                      <a:lnTo>
                        <a:pt x="418" y="195"/>
                      </a:lnTo>
                      <a:lnTo>
                        <a:pt x="418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32" y="201"/>
                      </a:lnTo>
                      <a:lnTo>
                        <a:pt x="425" y="208"/>
                      </a:lnTo>
                      <a:lnTo>
                        <a:pt x="432" y="208"/>
                      </a:lnTo>
                      <a:lnTo>
                        <a:pt x="425" y="208"/>
                      </a:lnTo>
                      <a:lnTo>
                        <a:pt x="432" y="208"/>
                      </a:lnTo>
                      <a:lnTo>
                        <a:pt x="432" y="208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25" y="215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25" y="229"/>
                      </a:lnTo>
                      <a:lnTo>
                        <a:pt x="432" y="229"/>
                      </a:lnTo>
                      <a:lnTo>
                        <a:pt x="432" y="236"/>
                      </a:lnTo>
                      <a:lnTo>
                        <a:pt x="425" y="236"/>
                      </a:lnTo>
                      <a:lnTo>
                        <a:pt x="425" y="236"/>
                      </a:lnTo>
                      <a:lnTo>
                        <a:pt x="425" y="236"/>
                      </a:lnTo>
                      <a:lnTo>
                        <a:pt x="432" y="236"/>
                      </a:lnTo>
                      <a:lnTo>
                        <a:pt x="432" y="236"/>
                      </a:lnTo>
                      <a:lnTo>
                        <a:pt x="432" y="236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25" y="243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92"/>
                      </a:lnTo>
                      <a:lnTo>
                        <a:pt x="432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9"/>
                      </a:lnTo>
                      <a:lnTo>
                        <a:pt x="439" y="319"/>
                      </a:lnTo>
                      <a:lnTo>
                        <a:pt x="446" y="319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60" y="333"/>
                      </a:lnTo>
                      <a:lnTo>
                        <a:pt x="466" y="333"/>
                      </a:lnTo>
                      <a:lnTo>
                        <a:pt x="466" y="333"/>
                      </a:lnTo>
                      <a:lnTo>
                        <a:pt x="466" y="333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54"/>
                      </a:lnTo>
                      <a:lnTo>
                        <a:pt x="473" y="354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66" y="361"/>
                      </a:lnTo>
                      <a:lnTo>
                        <a:pt x="466" y="361"/>
                      </a:lnTo>
                      <a:lnTo>
                        <a:pt x="466" y="361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75"/>
                      </a:lnTo>
                      <a:lnTo>
                        <a:pt x="466" y="375"/>
                      </a:lnTo>
                      <a:lnTo>
                        <a:pt x="466" y="375"/>
                      </a:lnTo>
                      <a:lnTo>
                        <a:pt x="466" y="382"/>
                      </a:lnTo>
                      <a:lnTo>
                        <a:pt x="466" y="382"/>
                      </a:lnTo>
                      <a:lnTo>
                        <a:pt x="466" y="382"/>
                      </a:lnTo>
                      <a:lnTo>
                        <a:pt x="460" y="389"/>
                      </a:lnTo>
                      <a:lnTo>
                        <a:pt x="460" y="389"/>
                      </a:lnTo>
                      <a:lnTo>
                        <a:pt x="460" y="389"/>
                      </a:lnTo>
                      <a:lnTo>
                        <a:pt x="453" y="396"/>
                      </a:lnTo>
                      <a:lnTo>
                        <a:pt x="453" y="396"/>
                      </a:lnTo>
                      <a:lnTo>
                        <a:pt x="453" y="396"/>
                      </a:lnTo>
                      <a:lnTo>
                        <a:pt x="446" y="396"/>
                      </a:lnTo>
                      <a:lnTo>
                        <a:pt x="446" y="396"/>
                      </a:lnTo>
                      <a:lnTo>
                        <a:pt x="446" y="396"/>
                      </a:lnTo>
                      <a:lnTo>
                        <a:pt x="446" y="403"/>
                      </a:lnTo>
                      <a:lnTo>
                        <a:pt x="446" y="403"/>
                      </a:lnTo>
                      <a:lnTo>
                        <a:pt x="446" y="403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7"/>
                      </a:lnTo>
                      <a:lnTo>
                        <a:pt x="453" y="417"/>
                      </a:lnTo>
                      <a:lnTo>
                        <a:pt x="453" y="423"/>
                      </a:lnTo>
                      <a:lnTo>
                        <a:pt x="453" y="423"/>
                      </a:lnTo>
                      <a:lnTo>
                        <a:pt x="453" y="423"/>
                      </a:lnTo>
                      <a:lnTo>
                        <a:pt x="460" y="423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224680" y="3684960"/>
                  <a:ext cx="571680" cy="310320"/>
                </a:xfrm>
                <a:custGeom>
                  <a:avLst/>
                  <a:gdLst/>
                  <a:ahLst/>
                  <a:rect l="l" t="t" r="r" b="b"/>
                  <a:pathLst>
                    <a:path w="454" h="264">
                      <a:moveTo>
                        <a:pt x="454" y="0"/>
                      </a:moveTo>
                      <a:lnTo>
                        <a:pt x="454" y="0"/>
                      </a:lnTo>
                      <a:lnTo>
                        <a:pt x="454" y="0"/>
                      </a:lnTo>
                      <a:lnTo>
                        <a:pt x="454" y="0"/>
                      </a:lnTo>
                      <a:lnTo>
                        <a:pt x="454" y="7"/>
                      </a:lnTo>
                      <a:lnTo>
                        <a:pt x="454" y="7"/>
                      </a:lnTo>
                      <a:lnTo>
                        <a:pt x="454" y="7"/>
                      </a:lnTo>
                      <a:lnTo>
                        <a:pt x="454" y="14"/>
                      </a:lnTo>
                      <a:lnTo>
                        <a:pt x="454" y="14"/>
                      </a:lnTo>
                      <a:lnTo>
                        <a:pt x="447" y="21"/>
                      </a:lnTo>
                      <a:lnTo>
                        <a:pt x="447" y="21"/>
                      </a:lnTo>
                      <a:lnTo>
                        <a:pt x="447" y="21"/>
                      </a:lnTo>
                      <a:lnTo>
                        <a:pt x="454" y="21"/>
                      </a:lnTo>
                      <a:lnTo>
                        <a:pt x="454" y="21"/>
                      </a:lnTo>
                      <a:lnTo>
                        <a:pt x="447" y="28"/>
                      </a:lnTo>
                      <a:lnTo>
                        <a:pt x="447" y="21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0" y="28"/>
                      </a:lnTo>
                      <a:lnTo>
                        <a:pt x="440" y="28"/>
                      </a:lnTo>
                      <a:lnTo>
                        <a:pt x="440" y="35"/>
                      </a:lnTo>
                      <a:lnTo>
                        <a:pt x="440" y="35"/>
                      </a:lnTo>
                      <a:lnTo>
                        <a:pt x="440" y="35"/>
                      </a:lnTo>
                      <a:lnTo>
                        <a:pt x="433" y="35"/>
                      </a:lnTo>
                      <a:lnTo>
                        <a:pt x="433" y="35"/>
                      </a:lnTo>
                      <a:lnTo>
                        <a:pt x="433" y="35"/>
                      </a:lnTo>
                      <a:lnTo>
                        <a:pt x="433" y="35"/>
                      </a:lnTo>
                      <a:lnTo>
                        <a:pt x="433" y="35"/>
                      </a:lnTo>
                      <a:lnTo>
                        <a:pt x="433" y="42"/>
                      </a:lnTo>
                      <a:lnTo>
                        <a:pt x="433" y="42"/>
                      </a:lnTo>
                      <a:lnTo>
                        <a:pt x="433" y="42"/>
                      </a:lnTo>
                      <a:lnTo>
                        <a:pt x="433" y="42"/>
                      </a:lnTo>
                      <a:lnTo>
                        <a:pt x="433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19" y="49"/>
                      </a:lnTo>
                      <a:lnTo>
                        <a:pt x="419" y="49"/>
                      </a:lnTo>
                      <a:lnTo>
                        <a:pt x="419" y="49"/>
                      </a:lnTo>
                      <a:lnTo>
                        <a:pt x="419" y="49"/>
                      </a:lnTo>
                      <a:lnTo>
                        <a:pt x="419" y="49"/>
                      </a:lnTo>
                      <a:lnTo>
                        <a:pt x="412" y="49"/>
                      </a:lnTo>
                      <a:lnTo>
                        <a:pt x="412" y="49"/>
                      </a:lnTo>
                      <a:lnTo>
                        <a:pt x="412" y="49"/>
                      </a:lnTo>
                      <a:lnTo>
                        <a:pt x="412" y="56"/>
                      </a:lnTo>
                      <a:lnTo>
                        <a:pt x="412" y="49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63"/>
                      </a:lnTo>
                      <a:lnTo>
                        <a:pt x="406" y="63"/>
                      </a:lnTo>
                      <a:lnTo>
                        <a:pt x="399" y="63"/>
                      </a:lnTo>
                      <a:lnTo>
                        <a:pt x="399" y="63"/>
                      </a:lnTo>
                      <a:lnTo>
                        <a:pt x="399" y="63"/>
                      </a:lnTo>
                      <a:lnTo>
                        <a:pt x="399" y="63"/>
                      </a:lnTo>
                      <a:lnTo>
                        <a:pt x="399" y="63"/>
                      </a:lnTo>
                      <a:lnTo>
                        <a:pt x="399" y="70"/>
                      </a:lnTo>
                      <a:lnTo>
                        <a:pt x="399" y="70"/>
                      </a:lnTo>
                      <a:lnTo>
                        <a:pt x="399" y="70"/>
                      </a:lnTo>
                      <a:lnTo>
                        <a:pt x="399" y="70"/>
                      </a:lnTo>
                      <a:lnTo>
                        <a:pt x="392" y="70"/>
                      </a:lnTo>
                      <a:lnTo>
                        <a:pt x="392" y="70"/>
                      </a:lnTo>
                      <a:lnTo>
                        <a:pt x="392" y="70"/>
                      </a:lnTo>
                      <a:lnTo>
                        <a:pt x="385" y="70"/>
                      </a:lnTo>
                      <a:lnTo>
                        <a:pt x="385" y="70"/>
                      </a:lnTo>
                      <a:lnTo>
                        <a:pt x="385" y="70"/>
                      </a:lnTo>
                      <a:lnTo>
                        <a:pt x="385" y="70"/>
                      </a:lnTo>
                      <a:lnTo>
                        <a:pt x="385" y="77"/>
                      </a:lnTo>
                      <a:lnTo>
                        <a:pt x="385" y="77"/>
                      </a:lnTo>
                      <a:lnTo>
                        <a:pt x="385" y="77"/>
                      </a:lnTo>
                      <a:lnTo>
                        <a:pt x="378" y="84"/>
                      </a:lnTo>
                      <a:lnTo>
                        <a:pt x="378" y="84"/>
                      </a:lnTo>
                      <a:lnTo>
                        <a:pt x="378" y="84"/>
                      </a:lnTo>
                      <a:lnTo>
                        <a:pt x="378" y="84"/>
                      </a:lnTo>
                      <a:lnTo>
                        <a:pt x="378" y="84"/>
                      </a:lnTo>
                      <a:lnTo>
                        <a:pt x="371" y="84"/>
                      </a:lnTo>
                      <a:lnTo>
                        <a:pt x="371" y="84"/>
                      </a:lnTo>
                      <a:lnTo>
                        <a:pt x="371" y="91"/>
                      </a:lnTo>
                      <a:lnTo>
                        <a:pt x="371" y="91"/>
                      </a:lnTo>
                      <a:lnTo>
                        <a:pt x="371" y="91"/>
                      </a:lnTo>
                      <a:lnTo>
                        <a:pt x="371" y="91"/>
                      </a:lnTo>
                      <a:lnTo>
                        <a:pt x="371" y="91"/>
                      </a:lnTo>
                      <a:lnTo>
                        <a:pt x="371" y="98"/>
                      </a:lnTo>
                      <a:lnTo>
                        <a:pt x="371" y="91"/>
                      </a:lnTo>
                      <a:lnTo>
                        <a:pt x="364" y="91"/>
                      </a:lnTo>
                      <a:lnTo>
                        <a:pt x="364" y="91"/>
                      </a:lnTo>
                      <a:lnTo>
                        <a:pt x="364" y="98"/>
                      </a:lnTo>
                      <a:lnTo>
                        <a:pt x="364" y="98"/>
                      </a:lnTo>
                      <a:lnTo>
                        <a:pt x="357" y="98"/>
                      </a:lnTo>
                      <a:lnTo>
                        <a:pt x="357" y="98"/>
                      </a:lnTo>
                      <a:lnTo>
                        <a:pt x="357" y="98"/>
                      </a:lnTo>
                      <a:lnTo>
                        <a:pt x="357" y="98"/>
                      </a:lnTo>
                      <a:lnTo>
                        <a:pt x="357" y="98"/>
                      </a:lnTo>
                      <a:lnTo>
                        <a:pt x="357" y="104"/>
                      </a:lnTo>
                      <a:lnTo>
                        <a:pt x="357" y="104"/>
                      </a:lnTo>
                      <a:lnTo>
                        <a:pt x="357" y="104"/>
                      </a:lnTo>
                      <a:lnTo>
                        <a:pt x="351" y="104"/>
                      </a:lnTo>
                      <a:lnTo>
                        <a:pt x="351" y="104"/>
                      </a:lnTo>
                      <a:lnTo>
                        <a:pt x="351" y="111"/>
                      </a:lnTo>
                      <a:lnTo>
                        <a:pt x="351" y="111"/>
                      </a:lnTo>
                      <a:lnTo>
                        <a:pt x="351" y="111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23" y="118"/>
                      </a:lnTo>
                      <a:lnTo>
                        <a:pt x="323" y="125"/>
                      </a:lnTo>
                      <a:lnTo>
                        <a:pt x="323" y="125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3" y="125"/>
                      </a:lnTo>
                      <a:lnTo>
                        <a:pt x="303" y="125"/>
                      </a:lnTo>
                      <a:lnTo>
                        <a:pt x="303" y="125"/>
                      </a:lnTo>
                      <a:lnTo>
                        <a:pt x="303" y="132"/>
                      </a:lnTo>
                      <a:lnTo>
                        <a:pt x="303" y="132"/>
                      </a:lnTo>
                      <a:lnTo>
                        <a:pt x="296" y="132"/>
                      </a:lnTo>
                      <a:lnTo>
                        <a:pt x="296" y="132"/>
                      </a:lnTo>
                      <a:lnTo>
                        <a:pt x="296" y="132"/>
                      </a:lnTo>
                      <a:lnTo>
                        <a:pt x="296" y="139"/>
                      </a:lnTo>
                      <a:lnTo>
                        <a:pt x="296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2" y="139"/>
                      </a:lnTo>
                      <a:lnTo>
                        <a:pt x="282" y="139"/>
                      </a:lnTo>
                      <a:lnTo>
                        <a:pt x="282" y="139"/>
                      </a:lnTo>
                      <a:lnTo>
                        <a:pt x="282" y="139"/>
                      </a:lnTo>
                      <a:lnTo>
                        <a:pt x="282" y="146"/>
                      </a:lnTo>
                      <a:lnTo>
                        <a:pt x="282" y="139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39"/>
                      </a:lnTo>
                      <a:lnTo>
                        <a:pt x="268" y="139"/>
                      </a:lnTo>
                      <a:lnTo>
                        <a:pt x="268" y="146"/>
                      </a:lnTo>
                      <a:lnTo>
                        <a:pt x="268" y="146"/>
                      </a:lnTo>
                      <a:lnTo>
                        <a:pt x="268" y="146"/>
                      </a:lnTo>
                      <a:lnTo>
                        <a:pt x="268" y="146"/>
                      </a:lnTo>
                      <a:lnTo>
                        <a:pt x="268" y="146"/>
                      </a:lnTo>
                      <a:lnTo>
                        <a:pt x="268" y="153"/>
                      </a:lnTo>
                      <a:lnTo>
                        <a:pt x="261" y="153"/>
                      </a:lnTo>
                      <a:lnTo>
                        <a:pt x="261" y="153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48" y="139"/>
                      </a:lnTo>
                      <a:lnTo>
                        <a:pt x="248" y="139"/>
                      </a:lnTo>
                      <a:lnTo>
                        <a:pt x="248" y="132"/>
                      </a:lnTo>
                      <a:lnTo>
                        <a:pt x="248" y="132"/>
                      </a:lnTo>
                      <a:lnTo>
                        <a:pt x="248" y="132"/>
                      </a:lnTo>
                      <a:lnTo>
                        <a:pt x="248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13" y="118"/>
                      </a:lnTo>
                      <a:lnTo>
                        <a:pt x="206" y="118"/>
                      </a:lnTo>
                      <a:lnTo>
                        <a:pt x="206" y="118"/>
                      </a:lnTo>
                      <a:lnTo>
                        <a:pt x="206" y="118"/>
                      </a:lnTo>
                      <a:lnTo>
                        <a:pt x="206" y="118"/>
                      </a:lnTo>
                      <a:lnTo>
                        <a:pt x="206" y="125"/>
                      </a:lnTo>
                      <a:lnTo>
                        <a:pt x="200" y="125"/>
                      </a:lnTo>
                      <a:lnTo>
                        <a:pt x="200" y="125"/>
                      </a:lnTo>
                      <a:lnTo>
                        <a:pt x="200" y="125"/>
                      </a:lnTo>
                      <a:lnTo>
                        <a:pt x="200" y="125"/>
                      </a:lnTo>
                      <a:lnTo>
                        <a:pt x="193" y="125"/>
                      </a:lnTo>
                      <a:lnTo>
                        <a:pt x="193" y="132"/>
                      </a:lnTo>
                      <a:lnTo>
                        <a:pt x="193" y="132"/>
                      </a:lnTo>
                      <a:lnTo>
                        <a:pt x="186" y="132"/>
                      </a:lnTo>
                      <a:lnTo>
                        <a:pt x="186" y="132"/>
                      </a:lnTo>
                      <a:lnTo>
                        <a:pt x="186" y="132"/>
                      </a:lnTo>
                      <a:lnTo>
                        <a:pt x="179" y="139"/>
                      </a:lnTo>
                      <a:lnTo>
                        <a:pt x="179" y="139"/>
                      </a:lnTo>
                      <a:lnTo>
                        <a:pt x="179" y="139"/>
                      </a:lnTo>
                      <a:lnTo>
                        <a:pt x="179" y="146"/>
                      </a:lnTo>
                      <a:lnTo>
                        <a:pt x="172" y="146"/>
                      </a:lnTo>
                      <a:lnTo>
                        <a:pt x="179" y="146"/>
                      </a:lnTo>
                      <a:lnTo>
                        <a:pt x="179" y="146"/>
                      </a:lnTo>
                      <a:lnTo>
                        <a:pt x="179" y="153"/>
                      </a:lnTo>
                      <a:lnTo>
                        <a:pt x="179" y="153"/>
                      </a:lnTo>
                      <a:lnTo>
                        <a:pt x="179" y="153"/>
                      </a:lnTo>
                      <a:lnTo>
                        <a:pt x="179" y="153"/>
                      </a:lnTo>
                      <a:lnTo>
                        <a:pt x="179" y="160"/>
                      </a:lnTo>
                      <a:lnTo>
                        <a:pt x="179" y="160"/>
                      </a:lnTo>
                      <a:lnTo>
                        <a:pt x="179" y="160"/>
                      </a:lnTo>
                      <a:lnTo>
                        <a:pt x="179" y="160"/>
                      </a:lnTo>
                      <a:lnTo>
                        <a:pt x="186" y="160"/>
                      </a:lnTo>
                      <a:lnTo>
                        <a:pt x="186" y="167"/>
                      </a:lnTo>
                      <a:lnTo>
                        <a:pt x="186" y="167"/>
                      </a:lnTo>
                      <a:lnTo>
                        <a:pt x="186" y="167"/>
                      </a:lnTo>
                      <a:lnTo>
                        <a:pt x="186" y="167"/>
                      </a:lnTo>
                      <a:lnTo>
                        <a:pt x="193" y="167"/>
                      </a:lnTo>
                      <a:lnTo>
                        <a:pt x="193" y="167"/>
                      </a:lnTo>
                      <a:lnTo>
                        <a:pt x="193" y="167"/>
                      </a:lnTo>
                      <a:lnTo>
                        <a:pt x="193" y="167"/>
                      </a:lnTo>
                      <a:lnTo>
                        <a:pt x="193" y="174"/>
                      </a:lnTo>
                      <a:lnTo>
                        <a:pt x="193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81"/>
                      </a:lnTo>
                      <a:lnTo>
                        <a:pt x="186" y="181"/>
                      </a:lnTo>
                      <a:lnTo>
                        <a:pt x="193" y="181"/>
                      </a:lnTo>
                      <a:lnTo>
                        <a:pt x="193" y="181"/>
                      </a:lnTo>
                      <a:lnTo>
                        <a:pt x="193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95"/>
                      </a:lnTo>
                      <a:lnTo>
                        <a:pt x="186" y="195"/>
                      </a:lnTo>
                      <a:lnTo>
                        <a:pt x="179" y="195"/>
                      </a:lnTo>
                      <a:lnTo>
                        <a:pt x="179" y="202"/>
                      </a:lnTo>
                      <a:lnTo>
                        <a:pt x="179" y="202"/>
                      </a:lnTo>
                      <a:lnTo>
                        <a:pt x="179" y="202"/>
                      </a:lnTo>
                      <a:lnTo>
                        <a:pt x="179" y="208"/>
                      </a:lnTo>
                      <a:lnTo>
                        <a:pt x="179" y="208"/>
                      </a:lnTo>
                      <a:lnTo>
                        <a:pt x="179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65" y="215"/>
                      </a:lnTo>
                      <a:lnTo>
                        <a:pt x="165" y="215"/>
                      </a:lnTo>
                      <a:lnTo>
                        <a:pt x="165" y="215"/>
                      </a:lnTo>
                      <a:lnTo>
                        <a:pt x="165" y="215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8" y="222"/>
                      </a:lnTo>
                      <a:lnTo>
                        <a:pt x="158" y="222"/>
                      </a:lnTo>
                      <a:lnTo>
                        <a:pt x="158" y="222"/>
                      </a:lnTo>
                      <a:lnTo>
                        <a:pt x="158" y="222"/>
                      </a:lnTo>
                      <a:lnTo>
                        <a:pt x="158" y="222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45" y="236"/>
                      </a:lnTo>
                      <a:lnTo>
                        <a:pt x="145" y="236"/>
                      </a:lnTo>
                      <a:lnTo>
                        <a:pt x="145" y="236"/>
                      </a:lnTo>
                      <a:lnTo>
                        <a:pt x="145" y="236"/>
                      </a:lnTo>
                      <a:lnTo>
                        <a:pt x="145" y="236"/>
                      </a:lnTo>
                      <a:lnTo>
                        <a:pt x="138" y="236"/>
                      </a:lnTo>
                      <a:lnTo>
                        <a:pt x="138" y="236"/>
                      </a:lnTo>
                      <a:lnTo>
                        <a:pt x="138" y="229"/>
                      </a:lnTo>
                      <a:lnTo>
                        <a:pt x="138" y="229"/>
                      </a:lnTo>
                      <a:lnTo>
                        <a:pt x="138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17" y="236"/>
                      </a:lnTo>
                      <a:lnTo>
                        <a:pt x="117" y="236"/>
                      </a:lnTo>
                      <a:lnTo>
                        <a:pt x="117" y="236"/>
                      </a:lnTo>
                      <a:lnTo>
                        <a:pt x="117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03" y="250"/>
                      </a:lnTo>
                      <a:lnTo>
                        <a:pt x="103" y="243"/>
                      </a:lnTo>
                      <a:lnTo>
                        <a:pt x="103" y="243"/>
                      </a:lnTo>
                      <a:lnTo>
                        <a:pt x="103" y="250"/>
                      </a:lnTo>
                      <a:lnTo>
                        <a:pt x="97" y="250"/>
                      </a:lnTo>
                      <a:lnTo>
                        <a:pt x="97" y="250"/>
                      </a:lnTo>
                      <a:lnTo>
                        <a:pt x="97" y="250"/>
                      </a:lnTo>
                      <a:lnTo>
                        <a:pt x="97" y="250"/>
                      </a:lnTo>
                      <a:lnTo>
                        <a:pt x="97" y="257"/>
                      </a:lnTo>
                      <a:lnTo>
                        <a:pt x="97" y="257"/>
                      </a:lnTo>
                      <a:lnTo>
                        <a:pt x="97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83" y="264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7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2" y="250"/>
                      </a:lnTo>
                      <a:lnTo>
                        <a:pt x="62" y="250"/>
                      </a:lnTo>
                      <a:lnTo>
                        <a:pt x="55" y="250"/>
                      </a:lnTo>
                      <a:lnTo>
                        <a:pt x="55" y="250"/>
                      </a:lnTo>
                      <a:lnTo>
                        <a:pt x="55" y="250"/>
                      </a:lnTo>
                      <a:lnTo>
                        <a:pt x="55" y="243"/>
                      </a:lnTo>
                      <a:lnTo>
                        <a:pt x="48" y="243"/>
                      </a:lnTo>
                      <a:lnTo>
                        <a:pt x="48" y="243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2" y="236"/>
                      </a:lnTo>
                      <a:lnTo>
                        <a:pt x="42" y="236"/>
                      </a:lnTo>
                      <a:lnTo>
                        <a:pt x="42" y="236"/>
                      </a:lnTo>
                      <a:lnTo>
                        <a:pt x="42" y="236"/>
                      </a:lnTo>
                      <a:lnTo>
                        <a:pt x="42" y="229"/>
                      </a:lnTo>
                      <a:lnTo>
                        <a:pt x="42" y="229"/>
                      </a:lnTo>
                      <a:lnTo>
                        <a:pt x="42" y="229"/>
                      </a:lnTo>
                      <a:lnTo>
                        <a:pt x="42" y="229"/>
                      </a:lnTo>
                      <a:lnTo>
                        <a:pt x="42" y="222"/>
                      </a:lnTo>
                      <a:lnTo>
                        <a:pt x="42" y="222"/>
                      </a:lnTo>
                      <a:lnTo>
                        <a:pt x="42" y="222"/>
                      </a:lnTo>
                      <a:lnTo>
                        <a:pt x="48" y="222"/>
                      </a:lnTo>
                      <a:lnTo>
                        <a:pt x="48" y="222"/>
                      </a:lnTo>
                      <a:lnTo>
                        <a:pt x="42" y="222"/>
                      </a:lnTo>
                      <a:lnTo>
                        <a:pt x="42" y="215"/>
                      </a:lnTo>
                      <a:lnTo>
                        <a:pt x="42" y="215"/>
                      </a:lnTo>
                      <a:lnTo>
                        <a:pt x="42" y="215"/>
                      </a:lnTo>
                      <a:lnTo>
                        <a:pt x="42" y="215"/>
                      </a:lnTo>
                      <a:lnTo>
                        <a:pt x="42" y="208"/>
                      </a:lnTo>
                      <a:lnTo>
                        <a:pt x="42" y="208"/>
                      </a:lnTo>
                      <a:lnTo>
                        <a:pt x="35" y="208"/>
                      </a:lnTo>
                      <a:lnTo>
                        <a:pt x="35" y="208"/>
                      </a:lnTo>
                      <a:lnTo>
                        <a:pt x="35" y="208"/>
                      </a:lnTo>
                      <a:lnTo>
                        <a:pt x="35" y="208"/>
                      </a:lnTo>
                      <a:lnTo>
                        <a:pt x="35" y="202"/>
                      </a:lnTo>
                      <a:lnTo>
                        <a:pt x="35" y="202"/>
                      </a:lnTo>
                      <a:lnTo>
                        <a:pt x="28" y="202"/>
                      </a:lnTo>
                      <a:lnTo>
                        <a:pt x="28" y="202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1" y="195"/>
                      </a:lnTo>
                      <a:lnTo>
                        <a:pt x="21" y="195"/>
                      </a:lnTo>
                      <a:lnTo>
                        <a:pt x="21" y="195"/>
                      </a:lnTo>
                      <a:lnTo>
                        <a:pt x="21" y="195"/>
                      </a:lnTo>
                      <a:lnTo>
                        <a:pt x="21" y="195"/>
                      </a:lnTo>
                      <a:lnTo>
                        <a:pt x="14" y="195"/>
                      </a:lnTo>
                      <a:lnTo>
                        <a:pt x="14" y="195"/>
                      </a:lnTo>
                      <a:lnTo>
                        <a:pt x="14" y="195"/>
                      </a:lnTo>
                      <a:lnTo>
                        <a:pt x="14" y="202"/>
                      </a:lnTo>
                      <a:lnTo>
                        <a:pt x="14" y="202"/>
                      </a:lnTo>
                      <a:lnTo>
                        <a:pt x="14" y="202"/>
                      </a:lnTo>
                      <a:lnTo>
                        <a:pt x="14" y="202"/>
                      </a:lnTo>
                      <a:lnTo>
                        <a:pt x="7" y="202"/>
                      </a:lnTo>
                      <a:lnTo>
                        <a:pt x="7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700960" y="3178800"/>
                  <a:ext cx="449640" cy="505800"/>
                </a:xfrm>
                <a:custGeom>
                  <a:avLst/>
                  <a:gdLst/>
                  <a:ahLst/>
                  <a:rect l="l" t="t" r="r" b="b"/>
                  <a:pathLst>
                    <a:path w="357" h="430">
                      <a:moveTo>
                        <a:pt x="7" y="49"/>
                      </a:moveTo>
                      <a:lnTo>
                        <a:pt x="7" y="49"/>
                      </a:lnTo>
                      <a:lnTo>
                        <a:pt x="7" y="49"/>
                      </a:lnTo>
                      <a:lnTo>
                        <a:pt x="7" y="42"/>
                      </a:lnTo>
                      <a:lnTo>
                        <a:pt x="14" y="35"/>
                      </a:lnTo>
                      <a:lnTo>
                        <a:pt x="7" y="35"/>
                      </a:lnTo>
                      <a:lnTo>
                        <a:pt x="14" y="35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76" y="7"/>
                      </a:lnTo>
                      <a:lnTo>
                        <a:pt x="76" y="7"/>
                      </a:lnTo>
                      <a:lnTo>
                        <a:pt x="76" y="7"/>
                      </a:lnTo>
                      <a:lnTo>
                        <a:pt x="76" y="7"/>
                      </a:lnTo>
                      <a:lnTo>
                        <a:pt x="76" y="0"/>
                      </a:lnTo>
                      <a:lnTo>
                        <a:pt x="76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9" y="0"/>
                      </a:lnTo>
                      <a:lnTo>
                        <a:pt x="89" y="7"/>
                      </a:lnTo>
                      <a:lnTo>
                        <a:pt x="89" y="0"/>
                      </a:lnTo>
                      <a:lnTo>
                        <a:pt x="96" y="0"/>
                      </a:lnTo>
                      <a:lnTo>
                        <a:pt x="96" y="0"/>
                      </a:lnTo>
                      <a:lnTo>
                        <a:pt x="103" y="0"/>
                      </a:lnTo>
                      <a:lnTo>
                        <a:pt x="103" y="7"/>
                      </a:lnTo>
                      <a:lnTo>
                        <a:pt x="110" y="7"/>
                      </a:lnTo>
                      <a:lnTo>
                        <a:pt x="110" y="0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30" y="7"/>
                      </a:lnTo>
                      <a:lnTo>
                        <a:pt x="124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7" y="7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44" y="14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51" y="21"/>
                      </a:lnTo>
                      <a:lnTo>
                        <a:pt x="151" y="21"/>
                      </a:lnTo>
                      <a:lnTo>
                        <a:pt x="151" y="21"/>
                      </a:lnTo>
                      <a:lnTo>
                        <a:pt x="151" y="21"/>
                      </a:lnTo>
                      <a:lnTo>
                        <a:pt x="151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8"/>
                      </a:lnTo>
                      <a:lnTo>
                        <a:pt x="158" y="28"/>
                      </a:lnTo>
                      <a:lnTo>
                        <a:pt x="158" y="28"/>
                      </a:lnTo>
                      <a:lnTo>
                        <a:pt x="158" y="28"/>
                      </a:lnTo>
                      <a:lnTo>
                        <a:pt x="165" y="28"/>
                      </a:lnTo>
                      <a:lnTo>
                        <a:pt x="165" y="28"/>
                      </a:lnTo>
                      <a:lnTo>
                        <a:pt x="172" y="28"/>
                      </a:lnTo>
                      <a:lnTo>
                        <a:pt x="172" y="35"/>
                      </a:lnTo>
                      <a:lnTo>
                        <a:pt x="172" y="35"/>
                      </a:lnTo>
                      <a:lnTo>
                        <a:pt x="172" y="35"/>
                      </a:lnTo>
                      <a:lnTo>
                        <a:pt x="172" y="35"/>
                      </a:lnTo>
                      <a:lnTo>
                        <a:pt x="179" y="35"/>
                      </a:lnTo>
                      <a:lnTo>
                        <a:pt x="179" y="35"/>
                      </a:lnTo>
                      <a:lnTo>
                        <a:pt x="179" y="35"/>
                      </a:lnTo>
                      <a:lnTo>
                        <a:pt x="179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42"/>
                      </a:lnTo>
                      <a:lnTo>
                        <a:pt x="185" y="42"/>
                      </a:lnTo>
                      <a:lnTo>
                        <a:pt x="192" y="42"/>
                      </a:lnTo>
                      <a:lnTo>
                        <a:pt x="192" y="49"/>
                      </a:lnTo>
                      <a:lnTo>
                        <a:pt x="192" y="49"/>
                      </a:lnTo>
                      <a:lnTo>
                        <a:pt x="192" y="49"/>
                      </a:lnTo>
                      <a:lnTo>
                        <a:pt x="199" y="49"/>
                      </a:lnTo>
                      <a:lnTo>
                        <a:pt x="199" y="49"/>
                      </a:lnTo>
                      <a:lnTo>
                        <a:pt x="199" y="49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33" y="70"/>
                      </a:lnTo>
                      <a:lnTo>
                        <a:pt x="233" y="77"/>
                      </a:lnTo>
                      <a:lnTo>
                        <a:pt x="233" y="77"/>
                      </a:lnTo>
                      <a:lnTo>
                        <a:pt x="233" y="77"/>
                      </a:lnTo>
                      <a:lnTo>
                        <a:pt x="240" y="77"/>
                      </a:lnTo>
                      <a:lnTo>
                        <a:pt x="240" y="77"/>
                      </a:lnTo>
                      <a:lnTo>
                        <a:pt x="240" y="77"/>
                      </a:lnTo>
                      <a:lnTo>
                        <a:pt x="240" y="77"/>
                      </a:lnTo>
                      <a:lnTo>
                        <a:pt x="247" y="77"/>
                      </a:lnTo>
                      <a:lnTo>
                        <a:pt x="247" y="77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54" y="84"/>
                      </a:lnTo>
                      <a:lnTo>
                        <a:pt x="254" y="77"/>
                      </a:lnTo>
                      <a:lnTo>
                        <a:pt x="254" y="84"/>
                      </a:lnTo>
                      <a:lnTo>
                        <a:pt x="254" y="84"/>
                      </a:lnTo>
                      <a:lnTo>
                        <a:pt x="254" y="84"/>
                      </a:lnTo>
                      <a:lnTo>
                        <a:pt x="261" y="90"/>
                      </a:lnTo>
                      <a:lnTo>
                        <a:pt x="261" y="97"/>
                      </a:lnTo>
                      <a:lnTo>
                        <a:pt x="261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75" y="104"/>
                      </a:lnTo>
                      <a:lnTo>
                        <a:pt x="275" y="104"/>
                      </a:lnTo>
                      <a:lnTo>
                        <a:pt x="275" y="104"/>
                      </a:lnTo>
                      <a:lnTo>
                        <a:pt x="275" y="104"/>
                      </a:lnTo>
                      <a:lnTo>
                        <a:pt x="275" y="104"/>
                      </a:lnTo>
                      <a:lnTo>
                        <a:pt x="275" y="111"/>
                      </a:lnTo>
                      <a:lnTo>
                        <a:pt x="282" y="111"/>
                      </a:lnTo>
                      <a:lnTo>
                        <a:pt x="282" y="111"/>
                      </a:lnTo>
                      <a:lnTo>
                        <a:pt x="282" y="118"/>
                      </a:lnTo>
                      <a:lnTo>
                        <a:pt x="282" y="118"/>
                      </a:lnTo>
                      <a:lnTo>
                        <a:pt x="288" y="125"/>
                      </a:lnTo>
                      <a:lnTo>
                        <a:pt x="288" y="125"/>
                      </a:lnTo>
                      <a:lnTo>
                        <a:pt x="288" y="125"/>
                      </a:lnTo>
                      <a:lnTo>
                        <a:pt x="288" y="125"/>
                      </a:lnTo>
                      <a:lnTo>
                        <a:pt x="295" y="125"/>
                      </a:lnTo>
                      <a:lnTo>
                        <a:pt x="295" y="125"/>
                      </a:lnTo>
                      <a:lnTo>
                        <a:pt x="295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16" y="139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30" y="160"/>
                      </a:lnTo>
                      <a:lnTo>
                        <a:pt x="330" y="160"/>
                      </a:lnTo>
                      <a:lnTo>
                        <a:pt x="330" y="160"/>
                      </a:lnTo>
                      <a:lnTo>
                        <a:pt x="330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43" y="160"/>
                      </a:lnTo>
                      <a:lnTo>
                        <a:pt x="343" y="160"/>
                      </a:lnTo>
                      <a:lnTo>
                        <a:pt x="343" y="160"/>
                      </a:lnTo>
                      <a:lnTo>
                        <a:pt x="350" y="160"/>
                      </a:lnTo>
                      <a:lnTo>
                        <a:pt x="350" y="160"/>
                      </a:lnTo>
                      <a:lnTo>
                        <a:pt x="350" y="167"/>
                      </a:lnTo>
                      <a:lnTo>
                        <a:pt x="350" y="167"/>
                      </a:lnTo>
                      <a:lnTo>
                        <a:pt x="350" y="167"/>
                      </a:lnTo>
                      <a:lnTo>
                        <a:pt x="350" y="167"/>
                      </a:lnTo>
                      <a:lnTo>
                        <a:pt x="350" y="174"/>
                      </a:lnTo>
                      <a:lnTo>
                        <a:pt x="357" y="174"/>
                      </a:lnTo>
                      <a:lnTo>
                        <a:pt x="357" y="174"/>
                      </a:lnTo>
                      <a:lnTo>
                        <a:pt x="343" y="174"/>
                      </a:lnTo>
                      <a:lnTo>
                        <a:pt x="336" y="181"/>
                      </a:lnTo>
                      <a:lnTo>
                        <a:pt x="336" y="181"/>
                      </a:lnTo>
                      <a:lnTo>
                        <a:pt x="323" y="181"/>
                      </a:lnTo>
                      <a:lnTo>
                        <a:pt x="323" y="188"/>
                      </a:lnTo>
                      <a:lnTo>
                        <a:pt x="323" y="188"/>
                      </a:lnTo>
                      <a:lnTo>
                        <a:pt x="316" y="195"/>
                      </a:lnTo>
                      <a:lnTo>
                        <a:pt x="316" y="195"/>
                      </a:lnTo>
                      <a:lnTo>
                        <a:pt x="316" y="195"/>
                      </a:lnTo>
                      <a:lnTo>
                        <a:pt x="316" y="195"/>
                      </a:lnTo>
                      <a:lnTo>
                        <a:pt x="316" y="195"/>
                      </a:lnTo>
                      <a:lnTo>
                        <a:pt x="309" y="201"/>
                      </a:lnTo>
                      <a:lnTo>
                        <a:pt x="309" y="201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15"/>
                      </a:lnTo>
                      <a:lnTo>
                        <a:pt x="309" y="215"/>
                      </a:lnTo>
                      <a:lnTo>
                        <a:pt x="309" y="215"/>
                      </a:lnTo>
                      <a:lnTo>
                        <a:pt x="309" y="215"/>
                      </a:lnTo>
                      <a:lnTo>
                        <a:pt x="302" y="215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295" y="229"/>
                      </a:lnTo>
                      <a:lnTo>
                        <a:pt x="295" y="236"/>
                      </a:lnTo>
                      <a:lnTo>
                        <a:pt x="295" y="236"/>
                      </a:lnTo>
                      <a:lnTo>
                        <a:pt x="288" y="236"/>
                      </a:lnTo>
                      <a:lnTo>
                        <a:pt x="288" y="236"/>
                      </a:lnTo>
                      <a:lnTo>
                        <a:pt x="288" y="236"/>
                      </a:lnTo>
                      <a:lnTo>
                        <a:pt x="288" y="243"/>
                      </a:lnTo>
                      <a:lnTo>
                        <a:pt x="288" y="243"/>
                      </a:lnTo>
                      <a:lnTo>
                        <a:pt x="288" y="243"/>
                      </a:lnTo>
                      <a:lnTo>
                        <a:pt x="288" y="243"/>
                      </a:lnTo>
                      <a:lnTo>
                        <a:pt x="288" y="250"/>
                      </a:lnTo>
                      <a:lnTo>
                        <a:pt x="282" y="250"/>
                      </a:lnTo>
                      <a:lnTo>
                        <a:pt x="282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7"/>
                      </a:lnTo>
                      <a:lnTo>
                        <a:pt x="282" y="257"/>
                      </a:lnTo>
                      <a:lnTo>
                        <a:pt x="282" y="257"/>
                      </a:lnTo>
                      <a:lnTo>
                        <a:pt x="282" y="257"/>
                      </a:lnTo>
                      <a:lnTo>
                        <a:pt x="282" y="264"/>
                      </a:lnTo>
                      <a:lnTo>
                        <a:pt x="282" y="264"/>
                      </a:lnTo>
                      <a:lnTo>
                        <a:pt x="282" y="264"/>
                      </a:lnTo>
                      <a:lnTo>
                        <a:pt x="282" y="264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68" y="271"/>
                      </a:lnTo>
                      <a:lnTo>
                        <a:pt x="268" y="271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54" y="278"/>
                      </a:lnTo>
                      <a:lnTo>
                        <a:pt x="254" y="278"/>
                      </a:lnTo>
                      <a:lnTo>
                        <a:pt x="254" y="278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9"/>
                      </a:lnTo>
                      <a:lnTo>
                        <a:pt x="247" y="299"/>
                      </a:lnTo>
                      <a:lnTo>
                        <a:pt x="240" y="299"/>
                      </a:lnTo>
                      <a:lnTo>
                        <a:pt x="247" y="299"/>
                      </a:lnTo>
                      <a:lnTo>
                        <a:pt x="247" y="299"/>
                      </a:lnTo>
                      <a:lnTo>
                        <a:pt x="247" y="299"/>
                      </a:lnTo>
                      <a:lnTo>
                        <a:pt x="240" y="299"/>
                      </a:lnTo>
                      <a:lnTo>
                        <a:pt x="240" y="299"/>
                      </a:lnTo>
                      <a:lnTo>
                        <a:pt x="240" y="306"/>
                      </a:lnTo>
                      <a:lnTo>
                        <a:pt x="247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7" y="306"/>
                      </a:lnTo>
                      <a:lnTo>
                        <a:pt x="247" y="306"/>
                      </a:lnTo>
                      <a:lnTo>
                        <a:pt x="247" y="306"/>
                      </a:lnTo>
                      <a:lnTo>
                        <a:pt x="247" y="306"/>
                      </a:lnTo>
                      <a:lnTo>
                        <a:pt x="247" y="306"/>
                      </a:lnTo>
                      <a:lnTo>
                        <a:pt x="247" y="312"/>
                      </a:lnTo>
                      <a:lnTo>
                        <a:pt x="247" y="312"/>
                      </a:lnTo>
                      <a:lnTo>
                        <a:pt x="247" y="312"/>
                      </a:lnTo>
                      <a:lnTo>
                        <a:pt x="247" y="312"/>
                      </a:lnTo>
                      <a:lnTo>
                        <a:pt x="240" y="312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33" y="326"/>
                      </a:lnTo>
                      <a:lnTo>
                        <a:pt x="233" y="326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27" y="347"/>
                      </a:lnTo>
                      <a:lnTo>
                        <a:pt x="227" y="347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61"/>
                      </a:lnTo>
                      <a:lnTo>
                        <a:pt x="227" y="361"/>
                      </a:lnTo>
                      <a:lnTo>
                        <a:pt x="227" y="361"/>
                      </a:lnTo>
                      <a:lnTo>
                        <a:pt x="227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82"/>
                      </a:lnTo>
                      <a:lnTo>
                        <a:pt x="240" y="382"/>
                      </a:lnTo>
                      <a:lnTo>
                        <a:pt x="247" y="375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403"/>
                      </a:lnTo>
                      <a:lnTo>
                        <a:pt x="240" y="403"/>
                      </a:lnTo>
                      <a:lnTo>
                        <a:pt x="240" y="403"/>
                      </a:lnTo>
                      <a:lnTo>
                        <a:pt x="233" y="403"/>
                      </a:lnTo>
                      <a:lnTo>
                        <a:pt x="233" y="403"/>
                      </a:lnTo>
                      <a:lnTo>
                        <a:pt x="233" y="403"/>
                      </a:lnTo>
                      <a:lnTo>
                        <a:pt x="233" y="403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27" y="410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30"/>
                      </a:lnTo>
                      <a:lnTo>
                        <a:pt x="213" y="430"/>
                      </a:lnTo>
                      <a:lnTo>
                        <a:pt x="213" y="430"/>
                      </a:lnTo>
                      <a:lnTo>
                        <a:pt x="213" y="430"/>
                      </a:lnTo>
                      <a:lnTo>
                        <a:pt x="206" y="430"/>
                      </a:lnTo>
                      <a:lnTo>
                        <a:pt x="206" y="430"/>
                      </a:lnTo>
                      <a:lnTo>
                        <a:pt x="206" y="430"/>
                      </a:lnTo>
                      <a:lnTo>
                        <a:pt x="206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23"/>
                      </a:lnTo>
                      <a:lnTo>
                        <a:pt x="199" y="423"/>
                      </a:lnTo>
                      <a:lnTo>
                        <a:pt x="199" y="423"/>
                      </a:lnTo>
                      <a:lnTo>
                        <a:pt x="199" y="423"/>
                      </a:lnTo>
                      <a:lnTo>
                        <a:pt x="199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79" y="417"/>
                      </a:lnTo>
                      <a:lnTo>
                        <a:pt x="179" y="410"/>
                      </a:lnTo>
                      <a:lnTo>
                        <a:pt x="179" y="410"/>
                      </a:lnTo>
                      <a:lnTo>
                        <a:pt x="185" y="410"/>
                      </a:lnTo>
                      <a:lnTo>
                        <a:pt x="185" y="410"/>
                      </a:lnTo>
                      <a:lnTo>
                        <a:pt x="185" y="410"/>
                      </a:lnTo>
                      <a:lnTo>
                        <a:pt x="185" y="410"/>
                      </a:lnTo>
                      <a:lnTo>
                        <a:pt x="179" y="410"/>
                      </a:lnTo>
                      <a:lnTo>
                        <a:pt x="179" y="403"/>
                      </a:lnTo>
                      <a:lnTo>
                        <a:pt x="179" y="403"/>
                      </a:lnTo>
                      <a:lnTo>
                        <a:pt x="179" y="403"/>
                      </a:lnTo>
                      <a:lnTo>
                        <a:pt x="179" y="403"/>
                      </a:lnTo>
                      <a:lnTo>
                        <a:pt x="172" y="396"/>
                      </a:lnTo>
                      <a:lnTo>
                        <a:pt x="172" y="396"/>
                      </a:lnTo>
                      <a:lnTo>
                        <a:pt x="172" y="396"/>
                      </a:lnTo>
                      <a:lnTo>
                        <a:pt x="165" y="396"/>
                      </a:lnTo>
                      <a:lnTo>
                        <a:pt x="165" y="396"/>
                      </a:lnTo>
                      <a:lnTo>
                        <a:pt x="165" y="396"/>
                      </a:lnTo>
                      <a:lnTo>
                        <a:pt x="165" y="396"/>
                      </a:lnTo>
                      <a:lnTo>
                        <a:pt x="165" y="389"/>
                      </a:lnTo>
                      <a:lnTo>
                        <a:pt x="158" y="389"/>
                      </a:lnTo>
                      <a:lnTo>
                        <a:pt x="158" y="389"/>
                      </a:lnTo>
                      <a:lnTo>
                        <a:pt x="158" y="389"/>
                      </a:lnTo>
                      <a:lnTo>
                        <a:pt x="151" y="389"/>
                      </a:lnTo>
                      <a:lnTo>
                        <a:pt x="151" y="389"/>
                      </a:lnTo>
                      <a:lnTo>
                        <a:pt x="151" y="382"/>
                      </a:lnTo>
                      <a:lnTo>
                        <a:pt x="151" y="382"/>
                      </a:lnTo>
                      <a:lnTo>
                        <a:pt x="151" y="382"/>
                      </a:lnTo>
                      <a:lnTo>
                        <a:pt x="151" y="382"/>
                      </a:lnTo>
                      <a:lnTo>
                        <a:pt x="144" y="382"/>
                      </a:lnTo>
                      <a:lnTo>
                        <a:pt x="144" y="389"/>
                      </a:lnTo>
                      <a:lnTo>
                        <a:pt x="137" y="389"/>
                      </a:lnTo>
                      <a:lnTo>
                        <a:pt x="137" y="389"/>
                      </a:lnTo>
                      <a:lnTo>
                        <a:pt x="137" y="389"/>
                      </a:lnTo>
                      <a:lnTo>
                        <a:pt x="137" y="389"/>
                      </a:lnTo>
                      <a:lnTo>
                        <a:pt x="137" y="389"/>
                      </a:lnTo>
                      <a:lnTo>
                        <a:pt x="130" y="389"/>
                      </a:lnTo>
                      <a:lnTo>
                        <a:pt x="130" y="389"/>
                      </a:lnTo>
                      <a:lnTo>
                        <a:pt x="130" y="389"/>
                      </a:lnTo>
                      <a:lnTo>
                        <a:pt x="124" y="389"/>
                      </a:lnTo>
                      <a:lnTo>
                        <a:pt x="124" y="389"/>
                      </a:lnTo>
                      <a:lnTo>
                        <a:pt x="124" y="389"/>
                      </a:lnTo>
                      <a:lnTo>
                        <a:pt x="124" y="389"/>
                      </a:lnTo>
                      <a:lnTo>
                        <a:pt x="117" y="396"/>
                      </a:lnTo>
                      <a:lnTo>
                        <a:pt x="110" y="396"/>
                      </a:lnTo>
                      <a:lnTo>
                        <a:pt x="103" y="396"/>
                      </a:lnTo>
                      <a:lnTo>
                        <a:pt x="103" y="389"/>
                      </a:lnTo>
                      <a:lnTo>
                        <a:pt x="96" y="389"/>
                      </a:lnTo>
                      <a:lnTo>
                        <a:pt x="96" y="389"/>
                      </a:lnTo>
                      <a:lnTo>
                        <a:pt x="96" y="389"/>
                      </a:lnTo>
                      <a:lnTo>
                        <a:pt x="89" y="389"/>
                      </a:lnTo>
                      <a:lnTo>
                        <a:pt x="89" y="389"/>
                      </a:lnTo>
                      <a:lnTo>
                        <a:pt x="82" y="389"/>
                      </a:lnTo>
                      <a:lnTo>
                        <a:pt x="76" y="389"/>
                      </a:lnTo>
                      <a:lnTo>
                        <a:pt x="76" y="389"/>
                      </a:lnTo>
                      <a:lnTo>
                        <a:pt x="76" y="389"/>
                      </a:lnTo>
                      <a:lnTo>
                        <a:pt x="82" y="382"/>
                      </a:lnTo>
                      <a:lnTo>
                        <a:pt x="82" y="382"/>
                      </a:lnTo>
                      <a:lnTo>
                        <a:pt x="82" y="382"/>
                      </a:lnTo>
                      <a:lnTo>
                        <a:pt x="82" y="375"/>
                      </a:lnTo>
                      <a:lnTo>
                        <a:pt x="82" y="375"/>
                      </a:lnTo>
                      <a:lnTo>
                        <a:pt x="82" y="375"/>
                      </a:lnTo>
                      <a:lnTo>
                        <a:pt x="82" y="368"/>
                      </a:lnTo>
                      <a:lnTo>
                        <a:pt x="82" y="368"/>
                      </a:lnTo>
                      <a:lnTo>
                        <a:pt x="82" y="368"/>
                      </a:lnTo>
                      <a:lnTo>
                        <a:pt x="82" y="368"/>
                      </a:lnTo>
                      <a:lnTo>
                        <a:pt x="82" y="361"/>
                      </a:lnTo>
                      <a:lnTo>
                        <a:pt x="82" y="361"/>
                      </a:lnTo>
                      <a:lnTo>
                        <a:pt x="82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54"/>
                      </a:lnTo>
                      <a:lnTo>
                        <a:pt x="89" y="354"/>
                      </a:lnTo>
                      <a:lnTo>
                        <a:pt x="89" y="347"/>
                      </a:lnTo>
                      <a:lnTo>
                        <a:pt x="89" y="347"/>
                      </a:lnTo>
                      <a:lnTo>
                        <a:pt x="89" y="347"/>
                      </a:lnTo>
                      <a:lnTo>
                        <a:pt x="89" y="347"/>
                      </a:lnTo>
                      <a:lnTo>
                        <a:pt x="89" y="347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2" y="340"/>
                      </a:lnTo>
                      <a:lnTo>
                        <a:pt x="82" y="340"/>
                      </a:lnTo>
                      <a:lnTo>
                        <a:pt x="82" y="340"/>
                      </a:lnTo>
                      <a:lnTo>
                        <a:pt x="82" y="340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76" y="333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62" y="333"/>
                      </a:lnTo>
                      <a:lnTo>
                        <a:pt x="62" y="326"/>
                      </a:lnTo>
                      <a:lnTo>
                        <a:pt x="62" y="326"/>
                      </a:lnTo>
                      <a:lnTo>
                        <a:pt x="62" y="326"/>
                      </a:lnTo>
                      <a:lnTo>
                        <a:pt x="62" y="326"/>
                      </a:lnTo>
                      <a:lnTo>
                        <a:pt x="62" y="326"/>
                      </a:lnTo>
                      <a:lnTo>
                        <a:pt x="62" y="319"/>
                      </a:lnTo>
                      <a:lnTo>
                        <a:pt x="55" y="319"/>
                      </a:lnTo>
                      <a:lnTo>
                        <a:pt x="55" y="319"/>
                      </a:lnTo>
                      <a:lnTo>
                        <a:pt x="55" y="312"/>
                      </a:lnTo>
                      <a:lnTo>
                        <a:pt x="55" y="312"/>
                      </a:lnTo>
                      <a:lnTo>
                        <a:pt x="55" y="312"/>
                      </a:lnTo>
                      <a:lnTo>
                        <a:pt x="55" y="312"/>
                      </a:lnTo>
                      <a:lnTo>
                        <a:pt x="55" y="306"/>
                      </a:lnTo>
                      <a:lnTo>
                        <a:pt x="55" y="306"/>
                      </a:lnTo>
                      <a:lnTo>
                        <a:pt x="55" y="306"/>
                      </a:lnTo>
                      <a:lnTo>
                        <a:pt x="55" y="306"/>
                      </a:lnTo>
                      <a:lnTo>
                        <a:pt x="55" y="299"/>
                      </a:lnTo>
                      <a:lnTo>
                        <a:pt x="55" y="299"/>
                      </a:lnTo>
                      <a:lnTo>
                        <a:pt x="55" y="299"/>
                      </a:lnTo>
                      <a:lnTo>
                        <a:pt x="55" y="292"/>
                      </a:lnTo>
                      <a:lnTo>
                        <a:pt x="48" y="292"/>
                      </a:lnTo>
                      <a:lnTo>
                        <a:pt x="48" y="292"/>
                      </a:lnTo>
                      <a:lnTo>
                        <a:pt x="48" y="292"/>
                      </a:lnTo>
                      <a:lnTo>
                        <a:pt x="48" y="285"/>
                      </a:lnTo>
                      <a:lnTo>
                        <a:pt x="48" y="285"/>
                      </a:lnTo>
                      <a:lnTo>
                        <a:pt x="48" y="285"/>
                      </a:lnTo>
                      <a:lnTo>
                        <a:pt x="48" y="285"/>
                      </a:lnTo>
                      <a:lnTo>
                        <a:pt x="48" y="278"/>
                      </a:lnTo>
                      <a:lnTo>
                        <a:pt x="48" y="278"/>
                      </a:lnTo>
                      <a:lnTo>
                        <a:pt x="48" y="278"/>
                      </a:lnTo>
                      <a:lnTo>
                        <a:pt x="48" y="278"/>
                      </a:lnTo>
                      <a:lnTo>
                        <a:pt x="48" y="278"/>
                      </a:lnTo>
                      <a:lnTo>
                        <a:pt x="48" y="271"/>
                      </a:lnTo>
                      <a:lnTo>
                        <a:pt x="48" y="271"/>
                      </a:lnTo>
                      <a:lnTo>
                        <a:pt x="48" y="271"/>
                      </a:lnTo>
                      <a:lnTo>
                        <a:pt x="48" y="271"/>
                      </a:lnTo>
                      <a:lnTo>
                        <a:pt x="48" y="264"/>
                      </a:lnTo>
                      <a:lnTo>
                        <a:pt x="48" y="264"/>
                      </a:lnTo>
                      <a:lnTo>
                        <a:pt x="48" y="264"/>
                      </a:lnTo>
                      <a:lnTo>
                        <a:pt x="48" y="257"/>
                      </a:lnTo>
                      <a:lnTo>
                        <a:pt x="48" y="257"/>
                      </a:lnTo>
                      <a:lnTo>
                        <a:pt x="48" y="257"/>
                      </a:lnTo>
                      <a:lnTo>
                        <a:pt x="48" y="257"/>
                      </a:lnTo>
                      <a:lnTo>
                        <a:pt x="48" y="250"/>
                      </a:lnTo>
                      <a:lnTo>
                        <a:pt x="48" y="250"/>
                      </a:lnTo>
                      <a:lnTo>
                        <a:pt x="48" y="250"/>
                      </a:lnTo>
                      <a:lnTo>
                        <a:pt x="48" y="250"/>
                      </a:lnTo>
                      <a:lnTo>
                        <a:pt x="41" y="250"/>
                      </a:lnTo>
                      <a:lnTo>
                        <a:pt x="41" y="243"/>
                      </a:lnTo>
                      <a:lnTo>
                        <a:pt x="48" y="243"/>
                      </a:lnTo>
                      <a:lnTo>
                        <a:pt x="48" y="243"/>
                      </a:lnTo>
                      <a:lnTo>
                        <a:pt x="48" y="243"/>
                      </a:lnTo>
                      <a:lnTo>
                        <a:pt x="48" y="243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1" y="236"/>
                      </a:lnTo>
                      <a:lnTo>
                        <a:pt x="41" y="236"/>
                      </a:lnTo>
                      <a:lnTo>
                        <a:pt x="41" y="236"/>
                      </a:lnTo>
                      <a:lnTo>
                        <a:pt x="48" y="236"/>
                      </a:lnTo>
                      <a:lnTo>
                        <a:pt x="48" y="229"/>
                      </a:lnTo>
                      <a:lnTo>
                        <a:pt x="41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1" y="229"/>
                      </a:lnTo>
                      <a:lnTo>
                        <a:pt x="41" y="222"/>
                      </a:lnTo>
                      <a:lnTo>
                        <a:pt x="41" y="222"/>
                      </a:lnTo>
                      <a:lnTo>
                        <a:pt x="41" y="222"/>
                      </a:lnTo>
                      <a:lnTo>
                        <a:pt x="41" y="222"/>
                      </a:lnTo>
                      <a:lnTo>
                        <a:pt x="48" y="222"/>
                      </a:lnTo>
                      <a:lnTo>
                        <a:pt x="48" y="222"/>
                      </a:lnTo>
                      <a:lnTo>
                        <a:pt x="48" y="222"/>
                      </a:lnTo>
                      <a:lnTo>
                        <a:pt x="48" y="222"/>
                      </a:lnTo>
                      <a:lnTo>
                        <a:pt x="41" y="222"/>
                      </a:lnTo>
                      <a:lnTo>
                        <a:pt x="41" y="222"/>
                      </a:lnTo>
                      <a:lnTo>
                        <a:pt x="41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08"/>
                      </a:lnTo>
                      <a:lnTo>
                        <a:pt x="48" y="208"/>
                      </a:lnTo>
                      <a:lnTo>
                        <a:pt x="41" y="208"/>
                      </a:lnTo>
                      <a:lnTo>
                        <a:pt x="48" y="208"/>
                      </a:lnTo>
                      <a:lnTo>
                        <a:pt x="41" y="208"/>
                      </a:lnTo>
                      <a:lnTo>
                        <a:pt x="48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34" y="201"/>
                      </a:lnTo>
                      <a:lnTo>
                        <a:pt x="34" y="195"/>
                      </a:lnTo>
                      <a:lnTo>
                        <a:pt x="34" y="201"/>
                      </a:lnTo>
                      <a:lnTo>
                        <a:pt x="34" y="195"/>
                      </a:lnTo>
                      <a:lnTo>
                        <a:pt x="34" y="195"/>
                      </a:lnTo>
                      <a:lnTo>
                        <a:pt x="34" y="195"/>
                      </a:lnTo>
                      <a:lnTo>
                        <a:pt x="34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1" y="188"/>
                      </a:lnTo>
                      <a:lnTo>
                        <a:pt x="21" y="181"/>
                      </a:lnTo>
                      <a:lnTo>
                        <a:pt x="21" y="188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74"/>
                      </a:lnTo>
                      <a:lnTo>
                        <a:pt x="21" y="174"/>
                      </a:lnTo>
                      <a:lnTo>
                        <a:pt x="21" y="174"/>
                      </a:lnTo>
                      <a:lnTo>
                        <a:pt x="21" y="174"/>
                      </a:lnTo>
                      <a:lnTo>
                        <a:pt x="21" y="174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14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39"/>
                      </a:lnTo>
                      <a:lnTo>
                        <a:pt x="28" y="139"/>
                      </a:lnTo>
                      <a:lnTo>
                        <a:pt x="28" y="139"/>
                      </a:lnTo>
                      <a:lnTo>
                        <a:pt x="28" y="132"/>
                      </a:lnTo>
                      <a:lnTo>
                        <a:pt x="28" y="132"/>
                      </a:lnTo>
                      <a:lnTo>
                        <a:pt x="28" y="132"/>
                      </a:lnTo>
                      <a:lnTo>
                        <a:pt x="28" y="132"/>
                      </a:lnTo>
                      <a:lnTo>
                        <a:pt x="28" y="125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97"/>
                      </a:lnTo>
                      <a:lnTo>
                        <a:pt x="21" y="97"/>
                      </a:lnTo>
                      <a:lnTo>
                        <a:pt x="21" y="97"/>
                      </a:lnTo>
                      <a:lnTo>
                        <a:pt x="21" y="97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84"/>
                      </a:lnTo>
                      <a:lnTo>
                        <a:pt x="14" y="84"/>
                      </a:lnTo>
                      <a:lnTo>
                        <a:pt x="14" y="84"/>
                      </a:lnTo>
                      <a:lnTo>
                        <a:pt x="14" y="84"/>
                      </a:lnTo>
                      <a:lnTo>
                        <a:pt x="21" y="84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7" y="77"/>
                      </a:lnTo>
                      <a:lnTo>
                        <a:pt x="7" y="77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63"/>
                      </a:lnTo>
                      <a:lnTo>
                        <a:pt x="14" y="63"/>
                      </a:lnTo>
                      <a:lnTo>
                        <a:pt x="14" y="63"/>
                      </a:lnTo>
                      <a:lnTo>
                        <a:pt x="14" y="63"/>
                      </a:lnTo>
                      <a:lnTo>
                        <a:pt x="14" y="63"/>
                      </a:lnTo>
                      <a:lnTo>
                        <a:pt x="14" y="63"/>
                      </a:lnTo>
                      <a:lnTo>
                        <a:pt x="7" y="63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49"/>
                      </a:lnTo>
                      <a:lnTo>
                        <a:pt x="7" y="49"/>
                      </a:lnTo>
                      <a:lnTo>
                        <a:pt x="0" y="49"/>
                      </a:lnTo>
                      <a:lnTo>
                        <a:pt x="7" y="49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003360" y="3383640"/>
                  <a:ext cx="388800" cy="211680"/>
                </a:xfrm>
                <a:custGeom>
                  <a:avLst/>
                  <a:gdLst/>
                  <a:ahLst/>
                  <a:rect l="l" t="t" r="r" b="b"/>
                  <a:pathLst>
                    <a:path w="309" h="180">
                      <a:moveTo>
                        <a:pt x="0" y="125"/>
                      </a:move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97"/>
                      </a:lnTo>
                      <a:lnTo>
                        <a:pt x="28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42" y="90"/>
                      </a:lnTo>
                      <a:lnTo>
                        <a:pt x="42" y="90"/>
                      </a:lnTo>
                      <a:lnTo>
                        <a:pt x="42" y="90"/>
                      </a:lnTo>
                      <a:lnTo>
                        <a:pt x="42" y="90"/>
                      </a:lnTo>
                      <a:lnTo>
                        <a:pt x="42" y="83"/>
                      </a:lnTo>
                      <a:lnTo>
                        <a:pt x="42" y="83"/>
                      </a:lnTo>
                      <a:lnTo>
                        <a:pt x="42" y="83"/>
                      </a:lnTo>
                      <a:lnTo>
                        <a:pt x="48" y="83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2" y="76"/>
                      </a:lnTo>
                      <a:lnTo>
                        <a:pt x="42" y="76"/>
                      </a:lnTo>
                      <a:lnTo>
                        <a:pt x="48" y="76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2"/>
                      </a:lnTo>
                      <a:lnTo>
                        <a:pt x="48" y="62"/>
                      </a:lnTo>
                      <a:lnTo>
                        <a:pt x="48" y="62"/>
                      </a:lnTo>
                      <a:lnTo>
                        <a:pt x="55" y="62"/>
                      </a:lnTo>
                      <a:lnTo>
                        <a:pt x="55" y="62"/>
                      </a:lnTo>
                      <a:lnTo>
                        <a:pt x="55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1"/>
                      </a:lnTo>
                      <a:lnTo>
                        <a:pt x="69" y="41"/>
                      </a:lnTo>
                      <a:lnTo>
                        <a:pt x="69" y="41"/>
                      </a:lnTo>
                      <a:lnTo>
                        <a:pt x="69" y="41"/>
                      </a:lnTo>
                      <a:lnTo>
                        <a:pt x="69" y="41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27"/>
                      </a:lnTo>
                      <a:lnTo>
                        <a:pt x="69" y="27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83" y="14"/>
                      </a:lnTo>
                      <a:lnTo>
                        <a:pt x="83" y="14"/>
                      </a:lnTo>
                      <a:lnTo>
                        <a:pt x="83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103" y="0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31" y="7"/>
                      </a:lnTo>
                      <a:lnTo>
                        <a:pt x="131" y="7"/>
                      </a:lnTo>
                      <a:lnTo>
                        <a:pt x="131" y="7"/>
                      </a:lnTo>
                      <a:lnTo>
                        <a:pt x="131" y="14"/>
                      </a:lnTo>
                      <a:lnTo>
                        <a:pt x="131" y="14"/>
                      </a:lnTo>
                      <a:lnTo>
                        <a:pt x="131" y="14"/>
                      </a:lnTo>
                      <a:lnTo>
                        <a:pt x="138" y="7"/>
                      </a:lnTo>
                      <a:lnTo>
                        <a:pt x="138" y="7"/>
                      </a:lnTo>
                      <a:lnTo>
                        <a:pt x="138" y="7"/>
                      </a:lnTo>
                      <a:lnTo>
                        <a:pt x="138" y="7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51" y="14"/>
                      </a:lnTo>
                      <a:lnTo>
                        <a:pt x="151" y="14"/>
                      </a:lnTo>
                      <a:lnTo>
                        <a:pt x="151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206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27" y="21"/>
                      </a:lnTo>
                      <a:lnTo>
                        <a:pt x="227" y="21"/>
                      </a:lnTo>
                      <a:lnTo>
                        <a:pt x="234" y="21"/>
                      </a:lnTo>
                      <a:lnTo>
                        <a:pt x="234" y="21"/>
                      </a:lnTo>
                      <a:lnTo>
                        <a:pt x="234" y="21"/>
                      </a:lnTo>
                      <a:lnTo>
                        <a:pt x="241" y="21"/>
                      </a:lnTo>
                      <a:lnTo>
                        <a:pt x="241" y="21"/>
                      </a:lnTo>
                      <a:lnTo>
                        <a:pt x="241" y="21"/>
                      </a:lnTo>
                      <a:lnTo>
                        <a:pt x="241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48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8" y="27"/>
                      </a:lnTo>
                      <a:lnTo>
                        <a:pt x="268" y="34"/>
                      </a:lnTo>
                      <a:lnTo>
                        <a:pt x="268" y="34"/>
                      </a:lnTo>
                      <a:lnTo>
                        <a:pt x="268" y="34"/>
                      </a:lnTo>
                      <a:lnTo>
                        <a:pt x="275" y="34"/>
                      </a:lnTo>
                      <a:lnTo>
                        <a:pt x="275" y="34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8"/>
                      </a:lnTo>
                      <a:lnTo>
                        <a:pt x="275" y="48"/>
                      </a:lnTo>
                      <a:lnTo>
                        <a:pt x="275" y="48"/>
                      </a:lnTo>
                      <a:lnTo>
                        <a:pt x="282" y="48"/>
                      </a:lnTo>
                      <a:lnTo>
                        <a:pt x="282" y="48"/>
                      </a:lnTo>
                      <a:lnTo>
                        <a:pt x="282" y="48"/>
                      </a:lnTo>
                      <a:lnTo>
                        <a:pt x="282" y="48"/>
                      </a:lnTo>
                      <a:lnTo>
                        <a:pt x="282" y="55"/>
                      </a:lnTo>
                      <a:lnTo>
                        <a:pt x="282" y="55"/>
                      </a:lnTo>
                      <a:lnTo>
                        <a:pt x="282" y="55"/>
                      </a:lnTo>
                      <a:lnTo>
                        <a:pt x="282" y="55"/>
                      </a:lnTo>
                      <a:lnTo>
                        <a:pt x="282" y="55"/>
                      </a:lnTo>
                      <a:lnTo>
                        <a:pt x="282" y="62"/>
                      </a:lnTo>
                      <a:lnTo>
                        <a:pt x="282" y="62"/>
                      </a:lnTo>
                      <a:lnTo>
                        <a:pt x="282" y="62"/>
                      </a:lnTo>
                      <a:lnTo>
                        <a:pt x="289" y="62"/>
                      </a:lnTo>
                      <a:lnTo>
                        <a:pt x="289" y="62"/>
                      </a:lnTo>
                      <a:lnTo>
                        <a:pt x="289" y="62"/>
                      </a:lnTo>
                      <a:lnTo>
                        <a:pt x="289" y="69"/>
                      </a:lnTo>
                      <a:lnTo>
                        <a:pt x="289" y="69"/>
                      </a:lnTo>
                      <a:lnTo>
                        <a:pt x="289" y="69"/>
                      </a:lnTo>
                      <a:lnTo>
                        <a:pt x="289" y="69"/>
                      </a:lnTo>
                      <a:lnTo>
                        <a:pt x="289" y="76"/>
                      </a:lnTo>
                      <a:lnTo>
                        <a:pt x="289" y="76"/>
                      </a:lnTo>
                      <a:lnTo>
                        <a:pt x="289" y="76"/>
                      </a:lnTo>
                      <a:lnTo>
                        <a:pt x="289" y="76"/>
                      </a:lnTo>
                      <a:lnTo>
                        <a:pt x="289" y="76"/>
                      </a:lnTo>
                      <a:lnTo>
                        <a:pt x="289" y="83"/>
                      </a:lnTo>
                      <a:lnTo>
                        <a:pt x="289" y="83"/>
                      </a:lnTo>
                      <a:lnTo>
                        <a:pt x="289" y="83"/>
                      </a:lnTo>
                      <a:lnTo>
                        <a:pt x="289" y="90"/>
                      </a:lnTo>
                      <a:lnTo>
                        <a:pt x="289" y="90"/>
                      </a:lnTo>
                      <a:lnTo>
                        <a:pt x="289" y="90"/>
                      </a:lnTo>
                      <a:lnTo>
                        <a:pt x="289" y="90"/>
                      </a:lnTo>
                      <a:lnTo>
                        <a:pt x="289" y="90"/>
                      </a:lnTo>
                      <a:lnTo>
                        <a:pt x="289" y="97"/>
                      </a:lnTo>
                      <a:lnTo>
                        <a:pt x="289" y="97"/>
                      </a:lnTo>
                      <a:lnTo>
                        <a:pt x="296" y="97"/>
                      </a:lnTo>
                      <a:lnTo>
                        <a:pt x="296" y="97"/>
                      </a:lnTo>
                      <a:lnTo>
                        <a:pt x="296" y="97"/>
                      </a:lnTo>
                      <a:lnTo>
                        <a:pt x="296" y="97"/>
                      </a:lnTo>
                      <a:lnTo>
                        <a:pt x="296" y="97"/>
                      </a:lnTo>
                      <a:lnTo>
                        <a:pt x="296" y="104"/>
                      </a:lnTo>
                      <a:lnTo>
                        <a:pt x="296" y="104"/>
                      </a:lnTo>
                      <a:lnTo>
                        <a:pt x="296" y="104"/>
                      </a:lnTo>
                      <a:lnTo>
                        <a:pt x="296" y="104"/>
                      </a:lnTo>
                      <a:lnTo>
                        <a:pt x="296" y="104"/>
                      </a:lnTo>
                      <a:lnTo>
                        <a:pt x="296" y="111"/>
                      </a:lnTo>
                      <a:lnTo>
                        <a:pt x="296" y="111"/>
                      </a:lnTo>
                      <a:lnTo>
                        <a:pt x="296" y="118"/>
                      </a:lnTo>
                      <a:lnTo>
                        <a:pt x="296" y="118"/>
                      </a:lnTo>
                      <a:lnTo>
                        <a:pt x="296" y="118"/>
                      </a:lnTo>
                      <a:lnTo>
                        <a:pt x="296" y="118"/>
                      </a:lnTo>
                      <a:lnTo>
                        <a:pt x="302" y="118"/>
                      </a:lnTo>
                      <a:lnTo>
                        <a:pt x="302" y="118"/>
                      </a:lnTo>
                      <a:lnTo>
                        <a:pt x="302" y="118"/>
                      </a:lnTo>
                      <a:lnTo>
                        <a:pt x="302" y="118"/>
                      </a:lnTo>
                      <a:lnTo>
                        <a:pt x="302" y="118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9" y="132"/>
                      </a:lnTo>
                      <a:lnTo>
                        <a:pt x="309" y="132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296" y="138"/>
                      </a:lnTo>
                      <a:lnTo>
                        <a:pt x="296" y="138"/>
                      </a:lnTo>
                      <a:lnTo>
                        <a:pt x="296" y="145"/>
                      </a:lnTo>
                      <a:lnTo>
                        <a:pt x="296" y="145"/>
                      </a:lnTo>
                      <a:lnTo>
                        <a:pt x="296" y="145"/>
                      </a:lnTo>
                      <a:lnTo>
                        <a:pt x="296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2" y="145"/>
                      </a:lnTo>
                      <a:lnTo>
                        <a:pt x="282" y="145"/>
                      </a:lnTo>
                      <a:lnTo>
                        <a:pt x="275" y="145"/>
                      </a:lnTo>
                      <a:lnTo>
                        <a:pt x="275" y="145"/>
                      </a:lnTo>
                      <a:lnTo>
                        <a:pt x="275" y="145"/>
                      </a:lnTo>
                      <a:lnTo>
                        <a:pt x="275" y="145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1" y="138"/>
                      </a:lnTo>
                      <a:lnTo>
                        <a:pt x="241" y="138"/>
                      </a:lnTo>
                      <a:lnTo>
                        <a:pt x="234" y="138"/>
                      </a:lnTo>
                      <a:lnTo>
                        <a:pt x="227" y="138"/>
                      </a:lnTo>
                      <a:lnTo>
                        <a:pt x="227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13" y="138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8"/>
                      </a:lnTo>
                      <a:lnTo>
                        <a:pt x="213" y="132"/>
                      </a:lnTo>
                      <a:lnTo>
                        <a:pt x="213" y="138"/>
                      </a:lnTo>
                      <a:lnTo>
                        <a:pt x="206" y="132"/>
                      </a:lnTo>
                      <a:lnTo>
                        <a:pt x="206" y="138"/>
                      </a:lnTo>
                      <a:lnTo>
                        <a:pt x="206" y="138"/>
                      </a:lnTo>
                      <a:lnTo>
                        <a:pt x="199" y="138"/>
                      </a:lnTo>
                      <a:lnTo>
                        <a:pt x="199" y="138"/>
                      </a:lnTo>
                      <a:lnTo>
                        <a:pt x="199" y="132"/>
                      </a:lnTo>
                      <a:lnTo>
                        <a:pt x="199" y="132"/>
                      </a:lnTo>
                      <a:lnTo>
                        <a:pt x="199" y="132"/>
                      </a:lnTo>
                      <a:lnTo>
                        <a:pt x="193" y="132"/>
                      </a:lnTo>
                      <a:lnTo>
                        <a:pt x="193" y="132"/>
                      </a:lnTo>
                      <a:lnTo>
                        <a:pt x="193" y="132"/>
                      </a:lnTo>
                      <a:lnTo>
                        <a:pt x="199" y="132"/>
                      </a:lnTo>
                      <a:lnTo>
                        <a:pt x="199" y="132"/>
                      </a:lnTo>
                      <a:lnTo>
                        <a:pt x="199" y="125"/>
                      </a:lnTo>
                      <a:lnTo>
                        <a:pt x="199" y="125"/>
                      </a:lnTo>
                      <a:lnTo>
                        <a:pt x="193" y="125"/>
                      </a:lnTo>
                      <a:lnTo>
                        <a:pt x="193" y="125"/>
                      </a:lnTo>
                      <a:lnTo>
                        <a:pt x="193" y="125"/>
                      </a:lnTo>
                      <a:lnTo>
                        <a:pt x="193" y="125"/>
                      </a:lnTo>
                      <a:lnTo>
                        <a:pt x="193" y="125"/>
                      </a:lnTo>
                      <a:lnTo>
                        <a:pt x="186" y="125"/>
                      </a:lnTo>
                      <a:lnTo>
                        <a:pt x="186" y="132"/>
                      </a:lnTo>
                      <a:lnTo>
                        <a:pt x="179" y="132"/>
                      </a:lnTo>
                      <a:lnTo>
                        <a:pt x="179" y="132"/>
                      </a:lnTo>
                      <a:lnTo>
                        <a:pt x="179" y="132"/>
                      </a:lnTo>
                      <a:lnTo>
                        <a:pt x="179" y="132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2" y="152"/>
                      </a:lnTo>
                      <a:lnTo>
                        <a:pt x="172" y="159"/>
                      </a:lnTo>
                      <a:lnTo>
                        <a:pt x="172" y="159"/>
                      </a:lnTo>
                      <a:lnTo>
                        <a:pt x="172" y="159"/>
                      </a:lnTo>
                      <a:lnTo>
                        <a:pt x="172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73"/>
                      </a:lnTo>
                      <a:lnTo>
                        <a:pt x="158" y="173"/>
                      </a:lnTo>
                      <a:lnTo>
                        <a:pt x="158" y="173"/>
                      </a:lnTo>
                      <a:lnTo>
                        <a:pt x="158" y="173"/>
                      </a:lnTo>
                      <a:lnTo>
                        <a:pt x="158" y="166"/>
                      </a:lnTo>
                      <a:lnTo>
                        <a:pt x="151" y="159"/>
                      </a:lnTo>
                      <a:lnTo>
                        <a:pt x="145" y="159"/>
                      </a:lnTo>
                      <a:lnTo>
                        <a:pt x="145" y="166"/>
                      </a:lnTo>
                      <a:lnTo>
                        <a:pt x="145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59"/>
                      </a:lnTo>
                      <a:lnTo>
                        <a:pt x="138" y="159"/>
                      </a:lnTo>
                      <a:lnTo>
                        <a:pt x="138" y="159"/>
                      </a:lnTo>
                      <a:lnTo>
                        <a:pt x="138" y="159"/>
                      </a:lnTo>
                      <a:lnTo>
                        <a:pt x="131" y="159"/>
                      </a:lnTo>
                      <a:lnTo>
                        <a:pt x="131" y="159"/>
                      </a:lnTo>
                      <a:lnTo>
                        <a:pt x="131" y="166"/>
                      </a:lnTo>
                      <a:lnTo>
                        <a:pt x="131" y="166"/>
                      </a:lnTo>
                      <a:lnTo>
                        <a:pt x="124" y="166"/>
                      </a:lnTo>
                      <a:lnTo>
                        <a:pt x="124" y="166"/>
                      </a:lnTo>
                      <a:lnTo>
                        <a:pt x="124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0" y="166"/>
                      </a:lnTo>
                      <a:lnTo>
                        <a:pt x="117" y="159"/>
                      </a:lnTo>
                      <a:lnTo>
                        <a:pt x="110" y="159"/>
                      </a:lnTo>
                      <a:lnTo>
                        <a:pt x="110" y="159"/>
                      </a:lnTo>
                      <a:lnTo>
                        <a:pt x="110" y="159"/>
                      </a:lnTo>
                      <a:lnTo>
                        <a:pt x="110" y="159"/>
                      </a:lnTo>
                      <a:lnTo>
                        <a:pt x="110" y="159"/>
                      </a:lnTo>
                      <a:lnTo>
                        <a:pt x="103" y="159"/>
                      </a:lnTo>
                      <a:lnTo>
                        <a:pt x="103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38"/>
                      </a:lnTo>
                      <a:lnTo>
                        <a:pt x="103" y="138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24" y="118"/>
                      </a:lnTo>
                      <a:lnTo>
                        <a:pt x="124" y="111"/>
                      </a:lnTo>
                      <a:lnTo>
                        <a:pt x="124" y="111"/>
                      </a:lnTo>
                      <a:lnTo>
                        <a:pt x="124" y="111"/>
                      </a:lnTo>
                      <a:lnTo>
                        <a:pt x="124" y="111"/>
                      </a:lnTo>
                      <a:lnTo>
                        <a:pt x="124" y="111"/>
                      </a:lnTo>
                      <a:lnTo>
                        <a:pt x="124" y="104"/>
                      </a:lnTo>
                      <a:lnTo>
                        <a:pt x="124" y="104"/>
                      </a:lnTo>
                      <a:lnTo>
                        <a:pt x="124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03" y="104"/>
                      </a:lnTo>
                      <a:lnTo>
                        <a:pt x="103" y="104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83" y="118"/>
                      </a:lnTo>
                      <a:lnTo>
                        <a:pt x="83" y="118"/>
                      </a:lnTo>
                      <a:lnTo>
                        <a:pt x="83" y="118"/>
                      </a:lnTo>
                      <a:lnTo>
                        <a:pt x="83" y="118"/>
                      </a:lnTo>
                      <a:lnTo>
                        <a:pt x="76" y="118"/>
                      </a:lnTo>
                      <a:lnTo>
                        <a:pt x="76" y="118"/>
                      </a:lnTo>
                      <a:lnTo>
                        <a:pt x="76" y="118"/>
                      </a:lnTo>
                      <a:lnTo>
                        <a:pt x="76" y="118"/>
                      </a:lnTo>
                      <a:lnTo>
                        <a:pt x="76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2" y="125"/>
                      </a:lnTo>
                      <a:lnTo>
                        <a:pt x="69" y="132"/>
                      </a:lnTo>
                      <a:lnTo>
                        <a:pt x="62" y="132"/>
                      </a:lnTo>
                      <a:lnTo>
                        <a:pt x="69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2" y="138"/>
                      </a:lnTo>
                      <a:lnTo>
                        <a:pt x="42" y="145"/>
                      </a:lnTo>
                      <a:lnTo>
                        <a:pt x="42" y="145"/>
                      </a:lnTo>
                      <a:lnTo>
                        <a:pt x="42" y="145"/>
                      </a:lnTo>
                      <a:lnTo>
                        <a:pt x="42" y="138"/>
                      </a:lnTo>
                      <a:lnTo>
                        <a:pt x="42" y="138"/>
                      </a:lnTo>
                      <a:lnTo>
                        <a:pt x="35" y="138"/>
                      </a:lnTo>
                      <a:lnTo>
                        <a:pt x="35" y="138"/>
                      </a:lnTo>
                      <a:lnTo>
                        <a:pt x="35" y="138"/>
                      </a:lnTo>
                      <a:lnTo>
                        <a:pt x="35" y="138"/>
                      </a:lnTo>
                      <a:lnTo>
                        <a:pt x="28" y="138"/>
                      </a:lnTo>
                      <a:lnTo>
                        <a:pt x="28" y="138"/>
                      </a:lnTo>
                      <a:lnTo>
                        <a:pt x="28" y="145"/>
                      </a:lnTo>
                      <a:lnTo>
                        <a:pt x="28" y="138"/>
                      </a:lnTo>
                      <a:lnTo>
                        <a:pt x="28" y="138"/>
                      </a:lnTo>
                      <a:lnTo>
                        <a:pt x="28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2"/>
                      </a:lnTo>
                      <a:lnTo>
                        <a:pt x="21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14" y="132"/>
                      </a:lnTo>
                      <a:lnTo>
                        <a:pt x="14" y="125"/>
                      </a:lnTo>
                      <a:lnTo>
                        <a:pt x="14" y="125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0" y="132"/>
                      </a:lnTo>
                      <a:lnTo>
                        <a:pt x="0" y="125"/>
                      </a:lnTo>
                      <a:lnTo>
                        <a:pt x="0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0" y="125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986800" y="3506040"/>
                  <a:ext cx="423000" cy="219600"/>
                </a:xfrm>
                <a:custGeom>
                  <a:avLst/>
                  <a:gdLst/>
                  <a:ahLst/>
                  <a:rect l="l" t="t" r="r" b="b"/>
                  <a:pathLst>
                    <a:path w="336" h="187">
                      <a:moveTo>
                        <a:pt x="0" y="69"/>
                      </a:moveTo>
                      <a:lnTo>
                        <a:pt x="0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1" y="41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55" y="34"/>
                      </a:lnTo>
                      <a:lnTo>
                        <a:pt x="55" y="34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55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8" y="34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75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16" y="7"/>
                      </a:lnTo>
                      <a:lnTo>
                        <a:pt x="116" y="7"/>
                      </a:lnTo>
                      <a:lnTo>
                        <a:pt x="116" y="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23" y="14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34"/>
                      </a:lnTo>
                      <a:lnTo>
                        <a:pt x="116" y="34"/>
                      </a:lnTo>
                      <a:lnTo>
                        <a:pt x="116" y="41"/>
                      </a:lnTo>
                      <a:lnTo>
                        <a:pt x="116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55"/>
                      </a:lnTo>
                      <a:lnTo>
                        <a:pt x="109" y="55"/>
                      </a:lnTo>
                      <a:lnTo>
                        <a:pt x="116" y="55"/>
                      </a:lnTo>
                      <a:lnTo>
                        <a:pt x="116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30" y="55"/>
                      </a:lnTo>
                      <a:lnTo>
                        <a:pt x="123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7" y="62"/>
                      </a:lnTo>
                      <a:lnTo>
                        <a:pt x="137" y="62"/>
                      </a:lnTo>
                      <a:lnTo>
                        <a:pt x="137" y="62"/>
                      </a:lnTo>
                      <a:lnTo>
                        <a:pt x="144" y="62"/>
                      </a:lnTo>
                      <a:lnTo>
                        <a:pt x="144" y="62"/>
                      </a:lnTo>
                      <a:lnTo>
                        <a:pt x="144" y="55"/>
                      </a:lnTo>
                      <a:lnTo>
                        <a:pt x="144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8" y="62"/>
                      </a:lnTo>
                      <a:lnTo>
                        <a:pt x="158" y="62"/>
                      </a:lnTo>
                      <a:lnTo>
                        <a:pt x="158" y="55"/>
                      </a:lnTo>
                      <a:lnTo>
                        <a:pt x="164" y="55"/>
                      </a:lnTo>
                      <a:lnTo>
                        <a:pt x="171" y="62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85" y="76"/>
                      </a:lnTo>
                      <a:lnTo>
                        <a:pt x="185" y="76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55"/>
                      </a:lnTo>
                      <a:lnTo>
                        <a:pt x="192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1"/>
                      </a:lnTo>
                      <a:lnTo>
                        <a:pt x="199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9" y="28"/>
                      </a:lnTo>
                      <a:lnTo>
                        <a:pt x="199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12" y="21"/>
                      </a:lnTo>
                      <a:lnTo>
                        <a:pt x="212" y="21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12" y="34"/>
                      </a:lnTo>
                      <a:lnTo>
                        <a:pt x="212" y="34"/>
                      </a:lnTo>
                      <a:lnTo>
                        <a:pt x="219" y="34"/>
                      </a:lnTo>
                      <a:lnTo>
                        <a:pt x="219" y="34"/>
                      </a:lnTo>
                      <a:lnTo>
                        <a:pt x="219" y="28"/>
                      </a:lnTo>
                      <a:lnTo>
                        <a:pt x="226" y="34"/>
                      </a:lnTo>
                      <a:lnTo>
                        <a:pt x="226" y="28"/>
                      </a:lnTo>
                      <a:lnTo>
                        <a:pt x="226" y="34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7" y="34"/>
                      </a:lnTo>
                      <a:lnTo>
                        <a:pt x="254" y="34"/>
                      </a:lnTo>
                      <a:lnTo>
                        <a:pt x="254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48"/>
                      </a:lnTo>
                      <a:lnTo>
                        <a:pt x="322" y="48"/>
                      </a:lnTo>
                      <a:lnTo>
                        <a:pt x="322" y="48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36" y="76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36" y="83"/>
                      </a:lnTo>
                      <a:lnTo>
                        <a:pt x="329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7"/>
                      </a:lnTo>
                      <a:lnTo>
                        <a:pt x="336" y="97"/>
                      </a:lnTo>
                      <a:lnTo>
                        <a:pt x="336" y="97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25"/>
                      </a:lnTo>
                      <a:lnTo>
                        <a:pt x="336" y="125"/>
                      </a:lnTo>
                      <a:lnTo>
                        <a:pt x="336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18"/>
                      </a:lnTo>
                      <a:lnTo>
                        <a:pt x="322" y="118"/>
                      </a:lnTo>
                      <a:lnTo>
                        <a:pt x="322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1"/>
                      </a:lnTo>
                      <a:lnTo>
                        <a:pt x="309" y="111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74" y="118"/>
                      </a:lnTo>
                      <a:lnTo>
                        <a:pt x="274" y="118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9"/>
                      </a:lnTo>
                      <a:lnTo>
                        <a:pt x="267" y="132"/>
                      </a:lnTo>
                      <a:lnTo>
                        <a:pt x="267" y="132"/>
                      </a:lnTo>
                      <a:lnTo>
                        <a:pt x="267" y="132"/>
                      </a:lnTo>
                      <a:lnTo>
                        <a:pt x="267" y="139"/>
                      </a:lnTo>
                      <a:lnTo>
                        <a:pt x="267" y="139"/>
                      </a:lnTo>
                      <a:lnTo>
                        <a:pt x="267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33" y="145"/>
                      </a:lnTo>
                      <a:lnTo>
                        <a:pt x="233" y="145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45"/>
                      </a:lnTo>
                      <a:lnTo>
                        <a:pt x="233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2" y="145"/>
                      </a:lnTo>
                      <a:lnTo>
                        <a:pt x="212" y="145"/>
                      </a:lnTo>
                      <a:lnTo>
                        <a:pt x="212" y="145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06" y="152"/>
                      </a:lnTo>
                      <a:lnTo>
                        <a:pt x="206" y="145"/>
                      </a:lnTo>
                      <a:lnTo>
                        <a:pt x="206" y="145"/>
                      </a:lnTo>
                      <a:lnTo>
                        <a:pt x="206" y="145"/>
                      </a:lnTo>
                      <a:lnTo>
                        <a:pt x="206" y="152"/>
                      </a:lnTo>
                      <a:lnTo>
                        <a:pt x="199" y="145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9"/>
                      </a:lnTo>
                      <a:lnTo>
                        <a:pt x="199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85" y="159"/>
                      </a:lnTo>
                      <a:lnTo>
                        <a:pt x="185" y="152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66"/>
                      </a:lnTo>
                      <a:lnTo>
                        <a:pt x="178" y="166"/>
                      </a:lnTo>
                      <a:lnTo>
                        <a:pt x="178" y="166"/>
                      </a:lnTo>
                      <a:lnTo>
                        <a:pt x="178" y="166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0" y="166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66"/>
                      </a:lnTo>
                      <a:lnTo>
                        <a:pt x="123" y="159"/>
                      </a:lnTo>
                      <a:lnTo>
                        <a:pt x="116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51" y="118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16" y="104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8"/>
                      </a:lnTo>
                      <a:lnTo>
                        <a:pt x="109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68" y="139"/>
                      </a:lnTo>
                      <a:lnTo>
                        <a:pt x="68" y="139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52"/>
                      </a:lnTo>
                      <a:lnTo>
                        <a:pt x="61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6" y="139"/>
                      </a:lnTo>
                      <a:lnTo>
                        <a:pt x="6" y="139"/>
                      </a:lnTo>
                      <a:lnTo>
                        <a:pt x="6" y="139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13" y="125"/>
                      </a:lnTo>
                      <a:lnTo>
                        <a:pt x="13" y="125"/>
                      </a:lnTo>
                      <a:lnTo>
                        <a:pt x="13" y="125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97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69"/>
                      </a:lnTo>
                      <a:close/>
                      <a:moveTo>
                        <a:pt x="329" y="83"/>
                      </a:move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986800" y="3506040"/>
                  <a:ext cx="423000" cy="219600"/>
                </a:xfrm>
                <a:custGeom>
                  <a:avLst/>
                  <a:gdLst/>
                  <a:ahLst/>
                  <a:rect l="l" t="t" r="r" b="b"/>
                  <a:pathLst>
                    <a:path w="336" h="187">
                      <a:moveTo>
                        <a:pt x="0" y="69"/>
                      </a:moveTo>
                      <a:lnTo>
                        <a:pt x="0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1" y="41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55" y="34"/>
                      </a:lnTo>
                      <a:lnTo>
                        <a:pt x="55" y="34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55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8" y="34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75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16" y="7"/>
                      </a:lnTo>
                      <a:lnTo>
                        <a:pt x="116" y="7"/>
                      </a:lnTo>
                      <a:lnTo>
                        <a:pt x="116" y="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23" y="14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34"/>
                      </a:lnTo>
                      <a:lnTo>
                        <a:pt x="116" y="34"/>
                      </a:lnTo>
                      <a:lnTo>
                        <a:pt x="116" y="41"/>
                      </a:lnTo>
                      <a:lnTo>
                        <a:pt x="116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55"/>
                      </a:lnTo>
                      <a:lnTo>
                        <a:pt x="109" y="55"/>
                      </a:lnTo>
                      <a:lnTo>
                        <a:pt x="116" y="55"/>
                      </a:lnTo>
                      <a:lnTo>
                        <a:pt x="116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30" y="55"/>
                      </a:lnTo>
                      <a:lnTo>
                        <a:pt x="123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7" y="62"/>
                      </a:lnTo>
                      <a:lnTo>
                        <a:pt x="137" y="62"/>
                      </a:lnTo>
                      <a:lnTo>
                        <a:pt x="137" y="62"/>
                      </a:lnTo>
                      <a:lnTo>
                        <a:pt x="144" y="62"/>
                      </a:lnTo>
                      <a:lnTo>
                        <a:pt x="144" y="62"/>
                      </a:lnTo>
                      <a:lnTo>
                        <a:pt x="144" y="55"/>
                      </a:lnTo>
                      <a:lnTo>
                        <a:pt x="144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8" y="62"/>
                      </a:lnTo>
                      <a:lnTo>
                        <a:pt x="158" y="62"/>
                      </a:lnTo>
                      <a:lnTo>
                        <a:pt x="158" y="55"/>
                      </a:lnTo>
                      <a:lnTo>
                        <a:pt x="164" y="55"/>
                      </a:lnTo>
                      <a:lnTo>
                        <a:pt x="171" y="62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85" y="76"/>
                      </a:lnTo>
                      <a:lnTo>
                        <a:pt x="185" y="76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55"/>
                      </a:lnTo>
                      <a:lnTo>
                        <a:pt x="192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1"/>
                      </a:lnTo>
                      <a:lnTo>
                        <a:pt x="199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9" y="28"/>
                      </a:lnTo>
                      <a:lnTo>
                        <a:pt x="199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12" y="21"/>
                      </a:lnTo>
                      <a:lnTo>
                        <a:pt x="212" y="21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12" y="34"/>
                      </a:lnTo>
                      <a:lnTo>
                        <a:pt x="212" y="34"/>
                      </a:lnTo>
                      <a:lnTo>
                        <a:pt x="219" y="34"/>
                      </a:lnTo>
                      <a:lnTo>
                        <a:pt x="219" y="34"/>
                      </a:lnTo>
                      <a:lnTo>
                        <a:pt x="219" y="28"/>
                      </a:lnTo>
                      <a:lnTo>
                        <a:pt x="226" y="34"/>
                      </a:lnTo>
                      <a:lnTo>
                        <a:pt x="226" y="28"/>
                      </a:lnTo>
                      <a:lnTo>
                        <a:pt x="226" y="34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7" y="34"/>
                      </a:lnTo>
                      <a:lnTo>
                        <a:pt x="254" y="34"/>
                      </a:lnTo>
                      <a:lnTo>
                        <a:pt x="254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48"/>
                      </a:lnTo>
                      <a:lnTo>
                        <a:pt x="322" y="48"/>
                      </a:lnTo>
                      <a:lnTo>
                        <a:pt x="322" y="48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36" y="76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36" y="83"/>
                      </a:lnTo>
                      <a:lnTo>
                        <a:pt x="329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7"/>
                      </a:lnTo>
                      <a:lnTo>
                        <a:pt x="336" y="97"/>
                      </a:lnTo>
                      <a:lnTo>
                        <a:pt x="336" y="97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25"/>
                      </a:lnTo>
                      <a:lnTo>
                        <a:pt x="336" y="125"/>
                      </a:lnTo>
                      <a:lnTo>
                        <a:pt x="336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18"/>
                      </a:lnTo>
                      <a:lnTo>
                        <a:pt x="322" y="118"/>
                      </a:lnTo>
                      <a:lnTo>
                        <a:pt x="322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1"/>
                      </a:lnTo>
                      <a:lnTo>
                        <a:pt x="309" y="111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74" y="118"/>
                      </a:lnTo>
                      <a:lnTo>
                        <a:pt x="274" y="118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9"/>
                      </a:lnTo>
                      <a:lnTo>
                        <a:pt x="267" y="132"/>
                      </a:lnTo>
                      <a:lnTo>
                        <a:pt x="267" y="132"/>
                      </a:lnTo>
                      <a:lnTo>
                        <a:pt x="267" y="132"/>
                      </a:lnTo>
                      <a:lnTo>
                        <a:pt x="267" y="139"/>
                      </a:lnTo>
                      <a:lnTo>
                        <a:pt x="267" y="139"/>
                      </a:lnTo>
                      <a:lnTo>
                        <a:pt x="267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33" y="145"/>
                      </a:lnTo>
                      <a:lnTo>
                        <a:pt x="233" y="145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45"/>
                      </a:lnTo>
                      <a:lnTo>
                        <a:pt x="233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2" y="145"/>
                      </a:lnTo>
                      <a:lnTo>
                        <a:pt x="212" y="145"/>
                      </a:lnTo>
                      <a:lnTo>
                        <a:pt x="212" y="145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06" y="152"/>
                      </a:lnTo>
                      <a:lnTo>
                        <a:pt x="206" y="145"/>
                      </a:lnTo>
                      <a:lnTo>
                        <a:pt x="206" y="145"/>
                      </a:lnTo>
                      <a:lnTo>
                        <a:pt x="206" y="145"/>
                      </a:lnTo>
                      <a:lnTo>
                        <a:pt x="206" y="152"/>
                      </a:lnTo>
                      <a:lnTo>
                        <a:pt x="199" y="145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9"/>
                      </a:lnTo>
                      <a:lnTo>
                        <a:pt x="199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85" y="159"/>
                      </a:lnTo>
                      <a:lnTo>
                        <a:pt x="185" y="152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66"/>
                      </a:lnTo>
                      <a:lnTo>
                        <a:pt x="178" y="166"/>
                      </a:lnTo>
                      <a:lnTo>
                        <a:pt x="178" y="166"/>
                      </a:lnTo>
                      <a:lnTo>
                        <a:pt x="178" y="166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0" y="166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66"/>
                      </a:lnTo>
                      <a:lnTo>
                        <a:pt x="123" y="159"/>
                      </a:lnTo>
                      <a:lnTo>
                        <a:pt x="116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51" y="118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16" y="104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8"/>
                      </a:lnTo>
                      <a:lnTo>
                        <a:pt x="109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68" y="139"/>
                      </a:lnTo>
                      <a:lnTo>
                        <a:pt x="68" y="139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52"/>
                      </a:lnTo>
                      <a:lnTo>
                        <a:pt x="61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6" y="139"/>
                      </a:lnTo>
                      <a:lnTo>
                        <a:pt x="6" y="139"/>
                      </a:lnTo>
                      <a:lnTo>
                        <a:pt x="6" y="139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13" y="125"/>
                      </a:lnTo>
                      <a:lnTo>
                        <a:pt x="13" y="125"/>
                      </a:lnTo>
                      <a:lnTo>
                        <a:pt x="13" y="125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97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8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986800" y="3587040"/>
                  <a:ext cx="7560" cy="16200"/>
                </a:xfrm>
                <a:custGeom>
                  <a:avLst/>
                  <a:gdLst/>
                  <a:ahLst/>
                  <a:rect l="l" t="t" r="r" b="b"/>
                  <a:pathLst>
                    <a:path w="6" h="14">
                      <a:moveTo>
                        <a:pt x="6" y="14"/>
                      </a:move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401160" y="359532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709600" y="3628440"/>
                  <a:ext cx="700200" cy="219960"/>
                </a:xfrm>
                <a:custGeom>
                  <a:avLst/>
                  <a:gdLst/>
                  <a:ahLst/>
                  <a:rect l="l" t="t" r="r" b="b"/>
                  <a:pathLst>
                    <a:path w="556" h="187">
                      <a:moveTo>
                        <a:pt x="0" y="118"/>
                      </a:moveTo>
                      <a:lnTo>
                        <a:pt x="0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7" y="97"/>
                      </a:lnTo>
                      <a:lnTo>
                        <a:pt x="27" y="104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69"/>
                      </a:lnTo>
                      <a:lnTo>
                        <a:pt x="62" y="76"/>
                      </a:lnTo>
                      <a:lnTo>
                        <a:pt x="69" y="69"/>
                      </a:lnTo>
                      <a:lnTo>
                        <a:pt x="69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9" y="62"/>
                      </a:lnTo>
                      <a:lnTo>
                        <a:pt x="69" y="62"/>
                      </a:lnTo>
                      <a:lnTo>
                        <a:pt x="69" y="55"/>
                      </a:lnTo>
                      <a:lnTo>
                        <a:pt x="69" y="55"/>
                      </a:lnTo>
                      <a:lnTo>
                        <a:pt x="69" y="55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55" y="21"/>
                      </a:lnTo>
                      <a:lnTo>
                        <a:pt x="55" y="21"/>
                      </a:lnTo>
                      <a:lnTo>
                        <a:pt x="55" y="21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9" y="7"/>
                      </a:lnTo>
                      <a:lnTo>
                        <a:pt x="75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14"/>
                      </a:lnTo>
                      <a:lnTo>
                        <a:pt x="103" y="14"/>
                      </a:lnTo>
                      <a:lnTo>
                        <a:pt x="110" y="14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23" y="7"/>
                      </a:lnTo>
                      <a:lnTo>
                        <a:pt x="123" y="7"/>
                      </a:lnTo>
                      <a:lnTo>
                        <a:pt x="123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7" y="7"/>
                      </a:lnTo>
                      <a:lnTo>
                        <a:pt x="137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7"/>
                      </a:lnTo>
                      <a:lnTo>
                        <a:pt x="144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8" y="7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2" y="28"/>
                      </a:lnTo>
                      <a:lnTo>
                        <a:pt x="172" y="28"/>
                      </a:lnTo>
                      <a:lnTo>
                        <a:pt x="172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92" y="35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13" y="41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8" y="48"/>
                      </a:lnTo>
                      <a:lnTo>
                        <a:pt x="268" y="48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8"/>
                      </a:lnTo>
                      <a:lnTo>
                        <a:pt x="275" y="48"/>
                      </a:lnTo>
                      <a:lnTo>
                        <a:pt x="281" y="48"/>
                      </a:lnTo>
                      <a:lnTo>
                        <a:pt x="281" y="48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28"/>
                      </a:lnTo>
                      <a:lnTo>
                        <a:pt x="295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23" y="21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9" y="14"/>
                      </a:lnTo>
                      <a:lnTo>
                        <a:pt x="329" y="14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36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1" y="14"/>
                      </a:lnTo>
                      <a:lnTo>
                        <a:pt x="364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64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36" y="55"/>
                      </a:lnTo>
                      <a:lnTo>
                        <a:pt x="343" y="55"/>
                      </a:lnTo>
                      <a:lnTo>
                        <a:pt x="343" y="62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84" y="83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8" y="76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405" y="62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48"/>
                      </a:lnTo>
                      <a:lnTo>
                        <a:pt x="405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9" y="55"/>
                      </a:lnTo>
                      <a:lnTo>
                        <a:pt x="419" y="55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1"/>
                      </a:lnTo>
                      <a:lnTo>
                        <a:pt x="426" y="48"/>
                      </a:lnTo>
                      <a:lnTo>
                        <a:pt x="426" y="41"/>
                      </a:lnTo>
                      <a:lnTo>
                        <a:pt x="426" y="41"/>
                      </a:lnTo>
                      <a:lnTo>
                        <a:pt x="426" y="41"/>
                      </a:lnTo>
                      <a:lnTo>
                        <a:pt x="426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1"/>
                      </a:lnTo>
                      <a:lnTo>
                        <a:pt x="432" y="41"/>
                      </a:lnTo>
                      <a:lnTo>
                        <a:pt x="432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53" y="41"/>
                      </a:lnTo>
                      <a:lnTo>
                        <a:pt x="453" y="41"/>
                      </a:lnTo>
                      <a:lnTo>
                        <a:pt x="453" y="48"/>
                      </a:lnTo>
                      <a:lnTo>
                        <a:pt x="453" y="48"/>
                      </a:lnTo>
                      <a:lnTo>
                        <a:pt x="453" y="41"/>
                      </a:lnTo>
                      <a:lnTo>
                        <a:pt x="453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74" y="41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28"/>
                      </a:lnTo>
                      <a:lnTo>
                        <a:pt x="487" y="28"/>
                      </a:lnTo>
                      <a:lnTo>
                        <a:pt x="487" y="28"/>
                      </a:lnTo>
                      <a:lnTo>
                        <a:pt x="494" y="35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14"/>
                      </a:lnTo>
                      <a:lnTo>
                        <a:pt x="494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15" y="14"/>
                      </a:lnTo>
                      <a:lnTo>
                        <a:pt x="515" y="7"/>
                      </a:lnTo>
                      <a:lnTo>
                        <a:pt x="515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9" y="7"/>
                      </a:lnTo>
                      <a:lnTo>
                        <a:pt x="529" y="14"/>
                      </a:lnTo>
                      <a:lnTo>
                        <a:pt x="529" y="14"/>
                      </a:lnTo>
                      <a:lnTo>
                        <a:pt x="529" y="7"/>
                      </a:lnTo>
                      <a:lnTo>
                        <a:pt x="535" y="7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56" y="21"/>
                      </a:lnTo>
                      <a:lnTo>
                        <a:pt x="549" y="21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49" y="35"/>
                      </a:lnTo>
                      <a:lnTo>
                        <a:pt x="549" y="35"/>
                      </a:lnTo>
                      <a:lnTo>
                        <a:pt x="549" y="35"/>
                      </a:lnTo>
                      <a:lnTo>
                        <a:pt x="556" y="35"/>
                      </a:lnTo>
                      <a:lnTo>
                        <a:pt x="549" y="35"/>
                      </a:lnTo>
                      <a:lnTo>
                        <a:pt x="556" y="35"/>
                      </a:lnTo>
                      <a:lnTo>
                        <a:pt x="556" y="41"/>
                      </a:lnTo>
                      <a:lnTo>
                        <a:pt x="549" y="41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56" y="48"/>
                      </a:lnTo>
                      <a:lnTo>
                        <a:pt x="556" y="55"/>
                      </a:lnTo>
                      <a:lnTo>
                        <a:pt x="556" y="55"/>
                      </a:lnTo>
                      <a:lnTo>
                        <a:pt x="556" y="55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9"/>
                      </a:lnTo>
                      <a:lnTo>
                        <a:pt x="542" y="76"/>
                      </a:lnTo>
                      <a:lnTo>
                        <a:pt x="542" y="76"/>
                      </a:lnTo>
                      <a:lnTo>
                        <a:pt x="542" y="76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7"/>
                      </a:lnTo>
                      <a:lnTo>
                        <a:pt x="542" y="97"/>
                      </a:lnTo>
                      <a:lnTo>
                        <a:pt x="542" y="97"/>
                      </a:lnTo>
                      <a:lnTo>
                        <a:pt x="542" y="104"/>
                      </a:lnTo>
                      <a:lnTo>
                        <a:pt x="535" y="104"/>
                      </a:lnTo>
                      <a:lnTo>
                        <a:pt x="542" y="104"/>
                      </a:lnTo>
                      <a:lnTo>
                        <a:pt x="535" y="104"/>
                      </a:lnTo>
                      <a:lnTo>
                        <a:pt x="535" y="104"/>
                      </a:lnTo>
                      <a:lnTo>
                        <a:pt x="535" y="104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8"/>
                      </a:lnTo>
                      <a:lnTo>
                        <a:pt x="535" y="118"/>
                      </a:lnTo>
                      <a:lnTo>
                        <a:pt x="535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2"/>
                      </a:lnTo>
                      <a:lnTo>
                        <a:pt x="515" y="139"/>
                      </a:lnTo>
                      <a:lnTo>
                        <a:pt x="515" y="132"/>
                      </a:lnTo>
                      <a:lnTo>
                        <a:pt x="515" y="132"/>
                      </a:lnTo>
                      <a:lnTo>
                        <a:pt x="515" y="132"/>
                      </a:lnTo>
                      <a:lnTo>
                        <a:pt x="508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1" y="132"/>
                      </a:lnTo>
                      <a:lnTo>
                        <a:pt x="481" y="132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39" y="146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66"/>
                      </a:lnTo>
                      <a:lnTo>
                        <a:pt x="426" y="159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66"/>
                      </a:lnTo>
                      <a:lnTo>
                        <a:pt x="391" y="166"/>
                      </a:lnTo>
                      <a:lnTo>
                        <a:pt x="384" y="173"/>
                      </a:lnTo>
                      <a:lnTo>
                        <a:pt x="384" y="173"/>
                      </a:lnTo>
                      <a:lnTo>
                        <a:pt x="384" y="166"/>
                      </a:lnTo>
                      <a:lnTo>
                        <a:pt x="378" y="166"/>
                      </a:lnTo>
                      <a:lnTo>
                        <a:pt x="378" y="166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80"/>
                      </a:lnTo>
                      <a:lnTo>
                        <a:pt x="371" y="180"/>
                      </a:lnTo>
                      <a:lnTo>
                        <a:pt x="371" y="173"/>
                      </a:lnTo>
                      <a:lnTo>
                        <a:pt x="371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43" y="159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36" y="152"/>
                      </a:lnTo>
                      <a:lnTo>
                        <a:pt x="336" y="152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39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2"/>
                      </a:lnTo>
                      <a:lnTo>
                        <a:pt x="309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9"/>
                      </a:lnTo>
                      <a:lnTo>
                        <a:pt x="302" y="139"/>
                      </a:lnTo>
                      <a:lnTo>
                        <a:pt x="302" y="139"/>
                      </a:lnTo>
                      <a:lnTo>
                        <a:pt x="302" y="139"/>
                      </a:lnTo>
                      <a:lnTo>
                        <a:pt x="302" y="139"/>
                      </a:lnTo>
                      <a:lnTo>
                        <a:pt x="302" y="146"/>
                      </a:lnTo>
                      <a:lnTo>
                        <a:pt x="295" y="146"/>
                      </a:lnTo>
                      <a:lnTo>
                        <a:pt x="295" y="146"/>
                      </a:lnTo>
                      <a:lnTo>
                        <a:pt x="295" y="146"/>
                      </a:lnTo>
                      <a:lnTo>
                        <a:pt x="295" y="146"/>
                      </a:lnTo>
                      <a:lnTo>
                        <a:pt x="295" y="152"/>
                      </a:lnTo>
                      <a:lnTo>
                        <a:pt x="295" y="146"/>
                      </a:lnTo>
                      <a:lnTo>
                        <a:pt x="295" y="152"/>
                      </a:lnTo>
                      <a:lnTo>
                        <a:pt x="295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9"/>
                      </a:lnTo>
                      <a:lnTo>
                        <a:pt x="288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68" y="173"/>
                      </a:lnTo>
                      <a:lnTo>
                        <a:pt x="268" y="173"/>
                      </a:lnTo>
                      <a:lnTo>
                        <a:pt x="268" y="173"/>
                      </a:lnTo>
                      <a:lnTo>
                        <a:pt x="261" y="173"/>
                      </a:lnTo>
                      <a:lnTo>
                        <a:pt x="261" y="166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0" y="146"/>
                      </a:lnTo>
                      <a:lnTo>
                        <a:pt x="240" y="146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7" y="139"/>
                      </a:lnTo>
                      <a:lnTo>
                        <a:pt x="247" y="139"/>
                      </a:lnTo>
                      <a:lnTo>
                        <a:pt x="247" y="132"/>
                      </a:lnTo>
                      <a:lnTo>
                        <a:pt x="247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33" y="132"/>
                      </a:lnTo>
                      <a:lnTo>
                        <a:pt x="233" y="139"/>
                      </a:lnTo>
                      <a:lnTo>
                        <a:pt x="233" y="139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26" y="146"/>
                      </a:lnTo>
                      <a:lnTo>
                        <a:pt x="226" y="146"/>
                      </a:lnTo>
                      <a:lnTo>
                        <a:pt x="226" y="139"/>
                      </a:lnTo>
                      <a:lnTo>
                        <a:pt x="226" y="139"/>
                      </a:lnTo>
                      <a:lnTo>
                        <a:pt x="226" y="139"/>
                      </a:lnTo>
                      <a:lnTo>
                        <a:pt x="226" y="139"/>
                      </a:lnTo>
                      <a:lnTo>
                        <a:pt x="226" y="139"/>
                      </a:lnTo>
                      <a:lnTo>
                        <a:pt x="226" y="132"/>
                      </a:lnTo>
                      <a:lnTo>
                        <a:pt x="226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06" y="125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25"/>
                      </a:lnTo>
                      <a:lnTo>
                        <a:pt x="206" y="125"/>
                      </a:lnTo>
                      <a:lnTo>
                        <a:pt x="199" y="125"/>
                      </a:lnTo>
                      <a:lnTo>
                        <a:pt x="199" y="125"/>
                      </a:lnTo>
                      <a:lnTo>
                        <a:pt x="199" y="125"/>
                      </a:lnTo>
                      <a:lnTo>
                        <a:pt x="199" y="125"/>
                      </a:lnTo>
                      <a:lnTo>
                        <a:pt x="192" y="125"/>
                      </a:lnTo>
                      <a:lnTo>
                        <a:pt x="192" y="125"/>
                      </a:lnTo>
                      <a:lnTo>
                        <a:pt x="192" y="118"/>
                      </a:lnTo>
                      <a:lnTo>
                        <a:pt x="185" y="118"/>
                      </a:lnTo>
                      <a:lnTo>
                        <a:pt x="185" y="118"/>
                      </a:lnTo>
                      <a:lnTo>
                        <a:pt x="185" y="118"/>
                      </a:lnTo>
                      <a:lnTo>
                        <a:pt x="185" y="118"/>
                      </a:lnTo>
                      <a:lnTo>
                        <a:pt x="185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2" y="111"/>
                      </a:lnTo>
                      <a:lnTo>
                        <a:pt x="172" y="111"/>
                      </a:lnTo>
                      <a:lnTo>
                        <a:pt x="172" y="111"/>
                      </a:lnTo>
                      <a:lnTo>
                        <a:pt x="172" y="104"/>
                      </a:lnTo>
                      <a:lnTo>
                        <a:pt x="172" y="104"/>
                      </a:lnTo>
                      <a:lnTo>
                        <a:pt x="172" y="104"/>
                      </a:lnTo>
                      <a:lnTo>
                        <a:pt x="165" y="104"/>
                      </a:lnTo>
                      <a:lnTo>
                        <a:pt x="165" y="104"/>
                      </a:lnTo>
                      <a:lnTo>
                        <a:pt x="165" y="104"/>
                      </a:lnTo>
                      <a:lnTo>
                        <a:pt x="165" y="111"/>
                      </a:lnTo>
                      <a:lnTo>
                        <a:pt x="165" y="111"/>
                      </a:lnTo>
                      <a:lnTo>
                        <a:pt x="165" y="111"/>
                      </a:lnTo>
                      <a:lnTo>
                        <a:pt x="165" y="111"/>
                      </a:lnTo>
                      <a:lnTo>
                        <a:pt x="165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1" y="111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32"/>
                      </a:lnTo>
                      <a:lnTo>
                        <a:pt x="144" y="132"/>
                      </a:lnTo>
                      <a:lnTo>
                        <a:pt x="137" y="125"/>
                      </a:lnTo>
                      <a:lnTo>
                        <a:pt x="137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9"/>
                      </a:lnTo>
                      <a:lnTo>
                        <a:pt x="123" y="139"/>
                      </a:lnTo>
                      <a:lnTo>
                        <a:pt x="123" y="146"/>
                      </a:lnTo>
                      <a:lnTo>
                        <a:pt x="123" y="146"/>
                      </a:lnTo>
                      <a:lnTo>
                        <a:pt x="123" y="146"/>
                      </a:lnTo>
                      <a:lnTo>
                        <a:pt x="123" y="146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0" y="152"/>
                      </a:lnTo>
                      <a:lnTo>
                        <a:pt x="110" y="152"/>
                      </a:lnTo>
                      <a:lnTo>
                        <a:pt x="110" y="152"/>
                      </a:lnTo>
                      <a:lnTo>
                        <a:pt x="110" y="152"/>
                      </a:lnTo>
                      <a:lnTo>
                        <a:pt x="103" y="152"/>
                      </a:lnTo>
                      <a:lnTo>
                        <a:pt x="103" y="152"/>
                      </a:lnTo>
                      <a:lnTo>
                        <a:pt x="103" y="152"/>
                      </a:lnTo>
                      <a:lnTo>
                        <a:pt x="103" y="152"/>
                      </a:lnTo>
                      <a:lnTo>
                        <a:pt x="103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89" y="152"/>
                      </a:lnTo>
                      <a:lnTo>
                        <a:pt x="89" y="159"/>
                      </a:lnTo>
                      <a:lnTo>
                        <a:pt x="89" y="159"/>
                      </a:lnTo>
                      <a:lnTo>
                        <a:pt x="89" y="159"/>
                      </a:lnTo>
                      <a:lnTo>
                        <a:pt x="89" y="166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73"/>
                      </a:lnTo>
                      <a:lnTo>
                        <a:pt x="82" y="173"/>
                      </a:lnTo>
                      <a:lnTo>
                        <a:pt x="82" y="173"/>
                      </a:lnTo>
                      <a:lnTo>
                        <a:pt x="82" y="173"/>
                      </a:lnTo>
                      <a:lnTo>
                        <a:pt x="75" y="180"/>
                      </a:lnTo>
                      <a:lnTo>
                        <a:pt x="75" y="180"/>
                      </a:lnTo>
                      <a:lnTo>
                        <a:pt x="75" y="180"/>
                      </a:lnTo>
                      <a:lnTo>
                        <a:pt x="75" y="180"/>
                      </a:lnTo>
                      <a:lnTo>
                        <a:pt x="75" y="180"/>
                      </a:lnTo>
                      <a:lnTo>
                        <a:pt x="69" y="180"/>
                      </a:lnTo>
                      <a:lnTo>
                        <a:pt x="69" y="180"/>
                      </a:lnTo>
                      <a:lnTo>
                        <a:pt x="69" y="180"/>
                      </a:lnTo>
                      <a:lnTo>
                        <a:pt x="69" y="187"/>
                      </a:lnTo>
                      <a:lnTo>
                        <a:pt x="69" y="187"/>
                      </a:lnTo>
                      <a:lnTo>
                        <a:pt x="69" y="187"/>
                      </a:lnTo>
                      <a:lnTo>
                        <a:pt x="69" y="187"/>
                      </a:lnTo>
                      <a:lnTo>
                        <a:pt x="62" y="187"/>
                      </a:lnTo>
                      <a:lnTo>
                        <a:pt x="62" y="187"/>
                      </a:lnTo>
                      <a:lnTo>
                        <a:pt x="62" y="187"/>
                      </a:lnTo>
                      <a:lnTo>
                        <a:pt x="55" y="187"/>
                      </a:lnTo>
                      <a:lnTo>
                        <a:pt x="55" y="180"/>
                      </a:lnTo>
                      <a:lnTo>
                        <a:pt x="55" y="180"/>
                      </a:lnTo>
                      <a:lnTo>
                        <a:pt x="48" y="187"/>
                      </a:lnTo>
                      <a:lnTo>
                        <a:pt x="48" y="180"/>
                      </a:lnTo>
                      <a:lnTo>
                        <a:pt x="55" y="180"/>
                      </a:lnTo>
                      <a:lnTo>
                        <a:pt x="48" y="180"/>
                      </a:lnTo>
                      <a:lnTo>
                        <a:pt x="55" y="180"/>
                      </a:lnTo>
                      <a:lnTo>
                        <a:pt x="55" y="180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66"/>
                      </a:lnTo>
                      <a:lnTo>
                        <a:pt x="62" y="166"/>
                      </a:lnTo>
                      <a:lnTo>
                        <a:pt x="62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62" y="166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46"/>
                      </a:lnTo>
                      <a:lnTo>
                        <a:pt x="48" y="146"/>
                      </a:lnTo>
                      <a:lnTo>
                        <a:pt x="48" y="146"/>
                      </a:lnTo>
                      <a:lnTo>
                        <a:pt x="41" y="146"/>
                      </a:lnTo>
                      <a:lnTo>
                        <a:pt x="41" y="146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2"/>
                      </a:lnTo>
                      <a:lnTo>
                        <a:pt x="41" y="132"/>
                      </a:lnTo>
                      <a:lnTo>
                        <a:pt x="41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0" y="125"/>
                      </a:lnTo>
                      <a:lnTo>
                        <a:pt x="0" y="118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709600" y="3628440"/>
                  <a:ext cx="700200" cy="211680"/>
                </a:xfrm>
                <a:custGeom>
                  <a:avLst/>
                  <a:gdLst/>
                  <a:ahLst/>
                  <a:rect l="l" t="t" r="r" b="b"/>
                  <a:pathLst>
                    <a:path w="556" h="180">
                      <a:moveTo>
                        <a:pt x="0" y="118"/>
                      </a:moveTo>
                      <a:lnTo>
                        <a:pt x="0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7" y="97"/>
                      </a:lnTo>
                      <a:lnTo>
                        <a:pt x="27" y="104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69"/>
                      </a:lnTo>
                      <a:lnTo>
                        <a:pt x="62" y="76"/>
                      </a:lnTo>
                      <a:lnTo>
                        <a:pt x="69" y="69"/>
                      </a:lnTo>
                      <a:lnTo>
                        <a:pt x="69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9" y="62"/>
                      </a:lnTo>
                      <a:lnTo>
                        <a:pt x="69" y="62"/>
                      </a:lnTo>
                      <a:lnTo>
                        <a:pt x="69" y="55"/>
                      </a:lnTo>
                      <a:lnTo>
                        <a:pt x="69" y="55"/>
                      </a:lnTo>
                      <a:lnTo>
                        <a:pt x="69" y="55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55" y="21"/>
                      </a:lnTo>
                      <a:lnTo>
                        <a:pt x="55" y="21"/>
                      </a:lnTo>
                      <a:lnTo>
                        <a:pt x="55" y="21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9" y="7"/>
                      </a:lnTo>
                      <a:lnTo>
                        <a:pt x="75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14"/>
                      </a:lnTo>
                      <a:lnTo>
                        <a:pt x="103" y="14"/>
                      </a:lnTo>
                      <a:lnTo>
                        <a:pt x="110" y="14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23" y="7"/>
                      </a:lnTo>
                      <a:lnTo>
                        <a:pt x="123" y="7"/>
                      </a:lnTo>
                      <a:lnTo>
                        <a:pt x="123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7" y="7"/>
                      </a:lnTo>
                      <a:lnTo>
                        <a:pt x="137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7"/>
                      </a:lnTo>
                      <a:lnTo>
                        <a:pt x="144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8" y="7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2" y="28"/>
                      </a:lnTo>
                      <a:lnTo>
                        <a:pt x="172" y="28"/>
                      </a:lnTo>
                      <a:lnTo>
                        <a:pt x="172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92" y="35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13" y="41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8" y="48"/>
                      </a:lnTo>
                      <a:lnTo>
                        <a:pt x="268" y="48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8"/>
                      </a:lnTo>
                      <a:lnTo>
                        <a:pt x="275" y="48"/>
                      </a:lnTo>
                      <a:lnTo>
                        <a:pt x="281" y="48"/>
                      </a:lnTo>
                      <a:lnTo>
                        <a:pt x="281" y="48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28"/>
                      </a:lnTo>
                      <a:lnTo>
                        <a:pt x="295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23" y="21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9" y="14"/>
                      </a:lnTo>
                      <a:lnTo>
                        <a:pt x="329" y="14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36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1" y="14"/>
                      </a:lnTo>
                      <a:lnTo>
                        <a:pt x="364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64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36" y="55"/>
                      </a:lnTo>
                      <a:lnTo>
                        <a:pt x="343" y="55"/>
                      </a:lnTo>
                      <a:lnTo>
                        <a:pt x="343" y="62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84" y="83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8" y="76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405" y="62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48"/>
                      </a:lnTo>
                      <a:lnTo>
                        <a:pt x="405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9" y="55"/>
                      </a:lnTo>
                      <a:lnTo>
                        <a:pt x="419" y="55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1"/>
                      </a:lnTo>
                      <a:lnTo>
                        <a:pt x="426" y="48"/>
                      </a:lnTo>
                      <a:lnTo>
                        <a:pt x="426" y="41"/>
                      </a:lnTo>
                      <a:lnTo>
                        <a:pt x="426" y="41"/>
                      </a:lnTo>
                      <a:lnTo>
                        <a:pt x="426" y="41"/>
                      </a:lnTo>
                      <a:lnTo>
                        <a:pt x="426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1"/>
                      </a:lnTo>
                      <a:lnTo>
                        <a:pt x="432" y="41"/>
                      </a:lnTo>
                      <a:lnTo>
                        <a:pt x="432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53" y="41"/>
                      </a:lnTo>
                      <a:lnTo>
                        <a:pt x="453" y="41"/>
                      </a:lnTo>
                      <a:lnTo>
                        <a:pt x="453" y="48"/>
                      </a:lnTo>
                      <a:lnTo>
                        <a:pt x="453" y="48"/>
                      </a:lnTo>
                      <a:lnTo>
                        <a:pt x="453" y="41"/>
                      </a:lnTo>
                      <a:lnTo>
                        <a:pt x="453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74" y="41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28"/>
                      </a:lnTo>
                      <a:lnTo>
                        <a:pt x="487" y="28"/>
                      </a:lnTo>
                      <a:lnTo>
                        <a:pt x="487" y="28"/>
                      </a:lnTo>
                      <a:lnTo>
                        <a:pt x="494" y="35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14"/>
                      </a:lnTo>
                      <a:lnTo>
                        <a:pt x="494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15" y="14"/>
                      </a:lnTo>
                      <a:lnTo>
                        <a:pt x="515" y="7"/>
                      </a:lnTo>
                      <a:lnTo>
                        <a:pt x="515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9" y="7"/>
                      </a:lnTo>
                      <a:lnTo>
                        <a:pt x="529" y="14"/>
                      </a:lnTo>
                      <a:lnTo>
                        <a:pt x="529" y="14"/>
                      </a:lnTo>
                      <a:lnTo>
                        <a:pt x="529" y="7"/>
                      </a:lnTo>
                      <a:lnTo>
                        <a:pt x="535" y="7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56" y="21"/>
                      </a:lnTo>
                      <a:lnTo>
                        <a:pt x="549" y="21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49" y="35"/>
                      </a:lnTo>
                      <a:lnTo>
                        <a:pt x="549" y="35"/>
                      </a:lnTo>
                      <a:lnTo>
                        <a:pt x="549" y="35"/>
                      </a:lnTo>
                      <a:lnTo>
                        <a:pt x="556" y="35"/>
                      </a:lnTo>
                      <a:lnTo>
                        <a:pt x="549" y="35"/>
                      </a:lnTo>
                      <a:lnTo>
                        <a:pt x="556" y="35"/>
                      </a:lnTo>
                      <a:lnTo>
                        <a:pt x="556" y="41"/>
                      </a:lnTo>
                      <a:lnTo>
                        <a:pt x="549" y="41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56" y="48"/>
                      </a:lnTo>
                      <a:lnTo>
                        <a:pt x="556" y="55"/>
                      </a:lnTo>
                      <a:lnTo>
                        <a:pt x="556" y="55"/>
                      </a:lnTo>
                      <a:lnTo>
                        <a:pt x="556" y="55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9"/>
                      </a:lnTo>
                      <a:lnTo>
                        <a:pt x="542" y="76"/>
                      </a:lnTo>
                      <a:lnTo>
                        <a:pt x="542" y="76"/>
                      </a:lnTo>
                      <a:lnTo>
                        <a:pt x="542" y="76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7"/>
                      </a:lnTo>
                      <a:lnTo>
                        <a:pt x="542" y="97"/>
                      </a:lnTo>
                      <a:lnTo>
                        <a:pt x="542" y="97"/>
                      </a:lnTo>
                      <a:lnTo>
                        <a:pt x="542" y="104"/>
                      </a:lnTo>
                      <a:lnTo>
                        <a:pt x="535" y="104"/>
                      </a:lnTo>
                      <a:lnTo>
                        <a:pt x="542" y="104"/>
                      </a:lnTo>
                      <a:lnTo>
                        <a:pt x="535" y="104"/>
                      </a:lnTo>
                      <a:lnTo>
                        <a:pt x="535" y="104"/>
                      </a:lnTo>
                      <a:lnTo>
                        <a:pt x="535" y="104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8"/>
                      </a:lnTo>
                      <a:lnTo>
                        <a:pt x="535" y="118"/>
                      </a:lnTo>
                      <a:lnTo>
                        <a:pt x="535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2"/>
                      </a:lnTo>
                      <a:lnTo>
                        <a:pt x="515" y="139"/>
                      </a:lnTo>
                      <a:lnTo>
                        <a:pt x="515" y="132"/>
                      </a:lnTo>
                      <a:lnTo>
                        <a:pt x="515" y="132"/>
                      </a:lnTo>
                      <a:lnTo>
                        <a:pt x="515" y="132"/>
                      </a:lnTo>
                      <a:lnTo>
                        <a:pt x="508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1" y="132"/>
                      </a:lnTo>
                      <a:lnTo>
                        <a:pt x="481" y="132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39" y="146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66"/>
                      </a:lnTo>
                      <a:lnTo>
                        <a:pt x="426" y="159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66"/>
                      </a:lnTo>
                      <a:lnTo>
                        <a:pt x="391" y="166"/>
                      </a:lnTo>
                      <a:lnTo>
                        <a:pt x="384" y="173"/>
                      </a:lnTo>
                      <a:lnTo>
                        <a:pt x="384" y="173"/>
                      </a:lnTo>
                      <a:lnTo>
                        <a:pt x="384" y="166"/>
                      </a:lnTo>
                      <a:lnTo>
                        <a:pt x="378" y="166"/>
                      </a:lnTo>
                      <a:lnTo>
                        <a:pt x="378" y="166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80"/>
                      </a:lnTo>
                      <a:lnTo>
                        <a:pt x="371" y="180"/>
                      </a:lnTo>
                      <a:lnTo>
                        <a:pt x="371" y="173"/>
                      </a:lnTo>
                      <a:lnTo>
                        <a:pt x="371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43" y="159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36" y="152"/>
                      </a:lnTo>
                      <a:lnTo>
                        <a:pt x="336" y="152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39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2"/>
                      </a:lnTo>
                      <a:lnTo>
                        <a:pt x="309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709600" y="3750840"/>
                  <a:ext cx="380160" cy="97560"/>
                </a:xfrm>
                <a:custGeom>
                  <a:avLst/>
                  <a:gdLst/>
                  <a:ahLst/>
                  <a:rect l="l" t="t" r="r" b="b"/>
                  <a:pathLst>
                    <a:path w="302" h="83">
                      <a:moveTo>
                        <a:pt x="302" y="35"/>
                      </a:move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42"/>
                      </a:lnTo>
                      <a:lnTo>
                        <a:pt x="295" y="42"/>
                      </a:lnTo>
                      <a:lnTo>
                        <a:pt x="295" y="42"/>
                      </a:lnTo>
                      <a:lnTo>
                        <a:pt x="295" y="42"/>
                      </a:lnTo>
                      <a:lnTo>
                        <a:pt x="295" y="42"/>
                      </a:lnTo>
                      <a:lnTo>
                        <a:pt x="295" y="48"/>
                      </a:lnTo>
                      <a:lnTo>
                        <a:pt x="295" y="42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75" y="55"/>
                      </a:lnTo>
                      <a:lnTo>
                        <a:pt x="275" y="55"/>
                      </a:lnTo>
                      <a:lnTo>
                        <a:pt x="275" y="55"/>
                      </a:lnTo>
                      <a:lnTo>
                        <a:pt x="275" y="62"/>
                      </a:lnTo>
                      <a:lnTo>
                        <a:pt x="275" y="62"/>
                      </a:lnTo>
                      <a:lnTo>
                        <a:pt x="275" y="62"/>
                      </a:lnTo>
                      <a:lnTo>
                        <a:pt x="275" y="62"/>
                      </a:lnTo>
                      <a:lnTo>
                        <a:pt x="268" y="69"/>
                      </a:lnTo>
                      <a:lnTo>
                        <a:pt x="268" y="69"/>
                      </a:lnTo>
                      <a:lnTo>
                        <a:pt x="268" y="69"/>
                      </a:lnTo>
                      <a:lnTo>
                        <a:pt x="261" y="69"/>
                      </a:lnTo>
                      <a:lnTo>
                        <a:pt x="261" y="62"/>
                      </a:lnTo>
                      <a:lnTo>
                        <a:pt x="261" y="55"/>
                      </a:lnTo>
                      <a:lnTo>
                        <a:pt x="261" y="55"/>
                      </a:lnTo>
                      <a:lnTo>
                        <a:pt x="261" y="55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2"/>
                      </a:lnTo>
                      <a:lnTo>
                        <a:pt x="261" y="42"/>
                      </a:lnTo>
                      <a:lnTo>
                        <a:pt x="261" y="42"/>
                      </a:lnTo>
                      <a:lnTo>
                        <a:pt x="261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35"/>
                      </a:lnTo>
                      <a:lnTo>
                        <a:pt x="240" y="35"/>
                      </a:lnTo>
                      <a:lnTo>
                        <a:pt x="240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33" y="28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42"/>
                      </a:lnTo>
                      <a:lnTo>
                        <a:pt x="233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0" y="28"/>
                      </a:lnTo>
                      <a:lnTo>
                        <a:pt x="220" y="28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06" y="21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2" y="21"/>
                      </a:lnTo>
                      <a:lnTo>
                        <a:pt x="192" y="21"/>
                      </a:lnTo>
                      <a:lnTo>
                        <a:pt x="192" y="14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72" y="0"/>
                      </a:lnTo>
                      <a:lnTo>
                        <a:pt x="172" y="0"/>
                      </a:lnTo>
                      <a:lnTo>
                        <a:pt x="172" y="0"/>
                      </a:lnTo>
                      <a:lnTo>
                        <a:pt x="165" y="0"/>
                      </a:lnTo>
                      <a:lnTo>
                        <a:pt x="165" y="0"/>
                      </a:lnTo>
                      <a:lnTo>
                        <a:pt x="165" y="0"/>
                      </a:lnTo>
                      <a:lnTo>
                        <a:pt x="165" y="7"/>
                      </a:lnTo>
                      <a:lnTo>
                        <a:pt x="165" y="7"/>
                      </a:lnTo>
                      <a:lnTo>
                        <a:pt x="165" y="7"/>
                      </a:lnTo>
                      <a:lnTo>
                        <a:pt x="165" y="7"/>
                      </a:lnTo>
                      <a:lnTo>
                        <a:pt x="165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1" y="7"/>
                      </a:lnTo>
                      <a:lnTo>
                        <a:pt x="151" y="14"/>
                      </a:lnTo>
                      <a:lnTo>
                        <a:pt x="151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8"/>
                      </a:lnTo>
                      <a:lnTo>
                        <a:pt x="144" y="28"/>
                      </a:lnTo>
                      <a:lnTo>
                        <a:pt x="137" y="21"/>
                      </a:lnTo>
                      <a:lnTo>
                        <a:pt x="137" y="28"/>
                      </a:lnTo>
                      <a:lnTo>
                        <a:pt x="130" y="28"/>
                      </a:lnTo>
                      <a:lnTo>
                        <a:pt x="130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35"/>
                      </a:lnTo>
                      <a:lnTo>
                        <a:pt x="123" y="35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17" y="48"/>
                      </a:lnTo>
                      <a:lnTo>
                        <a:pt x="117" y="48"/>
                      </a:lnTo>
                      <a:lnTo>
                        <a:pt x="117" y="48"/>
                      </a:lnTo>
                      <a:lnTo>
                        <a:pt x="117" y="48"/>
                      </a:lnTo>
                      <a:lnTo>
                        <a:pt x="110" y="48"/>
                      </a:lnTo>
                      <a:lnTo>
                        <a:pt x="110" y="48"/>
                      </a:lnTo>
                      <a:lnTo>
                        <a:pt x="110" y="48"/>
                      </a:lnTo>
                      <a:lnTo>
                        <a:pt x="110" y="48"/>
                      </a:lnTo>
                      <a:lnTo>
                        <a:pt x="103" y="48"/>
                      </a:lnTo>
                      <a:lnTo>
                        <a:pt x="103" y="48"/>
                      </a:lnTo>
                      <a:lnTo>
                        <a:pt x="103" y="48"/>
                      </a:lnTo>
                      <a:lnTo>
                        <a:pt x="103" y="48"/>
                      </a:lnTo>
                      <a:lnTo>
                        <a:pt x="103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89" y="48"/>
                      </a:lnTo>
                      <a:lnTo>
                        <a:pt x="89" y="55"/>
                      </a:lnTo>
                      <a:lnTo>
                        <a:pt x="89" y="55"/>
                      </a:lnTo>
                      <a:lnTo>
                        <a:pt x="89" y="55"/>
                      </a:lnTo>
                      <a:lnTo>
                        <a:pt x="89" y="62"/>
                      </a:lnTo>
                      <a:lnTo>
                        <a:pt x="89" y="69"/>
                      </a:lnTo>
                      <a:lnTo>
                        <a:pt x="89" y="69"/>
                      </a:lnTo>
                      <a:lnTo>
                        <a:pt x="89" y="69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2" y="69"/>
                      </a:lnTo>
                      <a:lnTo>
                        <a:pt x="82" y="69"/>
                      </a:lnTo>
                      <a:lnTo>
                        <a:pt x="82" y="69"/>
                      </a:lnTo>
                      <a:lnTo>
                        <a:pt x="82" y="69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69" y="76"/>
                      </a:lnTo>
                      <a:lnTo>
                        <a:pt x="69" y="76"/>
                      </a:lnTo>
                      <a:lnTo>
                        <a:pt x="69" y="76"/>
                      </a:lnTo>
                      <a:lnTo>
                        <a:pt x="69" y="83"/>
                      </a:lnTo>
                      <a:lnTo>
                        <a:pt x="69" y="83"/>
                      </a:lnTo>
                      <a:lnTo>
                        <a:pt x="69" y="83"/>
                      </a:lnTo>
                      <a:lnTo>
                        <a:pt x="69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55" y="83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48" y="83"/>
                      </a:lnTo>
                      <a:lnTo>
                        <a:pt x="48" y="76"/>
                      </a:lnTo>
                      <a:lnTo>
                        <a:pt x="55" y="76"/>
                      </a:lnTo>
                      <a:lnTo>
                        <a:pt x="48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2"/>
                      </a:lnTo>
                      <a:lnTo>
                        <a:pt x="62" y="62"/>
                      </a:lnTo>
                      <a:lnTo>
                        <a:pt x="62" y="62"/>
                      </a:lnTo>
                      <a:lnTo>
                        <a:pt x="55" y="62"/>
                      </a:lnTo>
                      <a:lnTo>
                        <a:pt x="55" y="62"/>
                      </a:lnTo>
                      <a:lnTo>
                        <a:pt x="62" y="62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55" y="55"/>
                      </a:lnTo>
                      <a:lnTo>
                        <a:pt x="55" y="55"/>
                      </a:lnTo>
                      <a:lnTo>
                        <a:pt x="55" y="48"/>
                      </a:lnTo>
                      <a:lnTo>
                        <a:pt x="55" y="48"/>
                      </a:lnTo>
                      <a:lnTo>
                        <a:pt x="55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2"/>
                      </a:lnTo>
                      <a:lnTo>
                        <a:pt x="48" y="42"/>
                      </a:lnTo>
                      <a:lnTo>
                        <a:pt x="48" y="42"/>
                      </a:lnTo>
                      <a:lnTo>
                        <a:pt x="41" y="42"/>
                      </a:lnTo>
                      <a:lnTo>
                        <a:pt x="41" y="42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0" y="21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651720" y="3285000"/>
                  <a:ext cx="17280" cy="792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7" y="7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0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047280" y="3783600"/>
                  <a:ext cx="319680" cy="162360"/>
                </a:xfrm>
                <a:custGeom>
                  <a:avLst/>
                  <a:gdLst/>
                  <a:ahLst/>
                  <a:rect l="l" t="t" r="r" b="b"/>
                  <a:pathLst>
                    <a:path w="254" h="138">
                      <a:moveTo>
                        <a:pt x="0" y="41"/>
                      </a:move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7" y="20"/>
                      </a:lnTo>
                      <a:lnTo>
                        <a:pt x="27" y="20"/>
                      </a:lnTo>
                      <a:lnTo>
                        <a:pt x="27" y="14"/>
                      </a:lnTo>
                      <a:lnTo>
                        <a:pt x="27" y="20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34" y="14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7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7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34"/>
                      </a:lnTo>
                      <a:lnTo>
                        <a:pt x="82" y="34"/>
                      </a:lnTo>
                      <a:lnTo>
                        <a:pt x="82" y="34"/>
                      </a:lnTo>
                      <a:lnTo>
                        <a:pt x="82" y="34"/>
                      </a:lnTo>
                      <a:lnTo>
                        <a:pt x="82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96" y="34"/>
                      </a:lnTo>
                      <a:lnTo>
                        <a:pt x="96" y="34"/>
                      </a:lnTo>
                      <a:lnTo>
                        <a:pt x="96" y="34"/>
                      </a:lnTo>
                      <a:lnTo>
                        <a:pt x="96" y="34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103" y="41"/>
                      </a:lnTo>
                      <a:lnTo>
                        <a:pt x="103" y="41"/>
                      </a:lnTo>
                      <a:lnTo>
                        <a:pt x="103" y="48"/>
                      </a:lnTo>
                      <a:lnTo>
                        <a:pt x="110" y="48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34"/>
                      </a:lnTo>
                      <a:lnTo>
                        <a:pt x="110" y="34"/>
                      </a:lnTo>
                      <a:lnTo>
                        <a:pt x="116" y="34"/>
                      </a:lnTo>
                      <a:lnTo>
                        <a:pt x="116" y="41"/>
                      </a:lnTo>
                      <a:lnTo>
                        <a:pt x="116" y="41"/>
                      </a:lnTo>
                      <a:lnTo>
                        <a:pt x="123" y="34"/>
                      </a:lnTo>
                      <a:lnTo>
                        <a:pt x="130" y="34"/>
                      </a:lnTo>
                      <a:lnTo>
                        <a:pt x="130" y="41"/>
                      </a:lnTo>
                      <a:lnTo>
                        <a:pt x="130" y="41"/>
                      </a:lnTo>
                      <a:lnTo>
                        <a:pt x="130" y="41"/>
                      </a:lnTo>
                      <a:lnTo>
                        <a:pt x="130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8" y="34"/>
                      </a:lnTo>
                      <a:lnTo>
                        <a:pt x="158" y="34"/>
                      </a:lnTo>
                      <a:lnTo>
                        <a:pt x="158" y="34"/>
                      </a:lnTo>
                      <a:lnTo>
                        <a:pt x="158" y="34"/>
                      </a:lnTo>
                      <a:lnTo>
                        <a:pt x="158" y="34"/>
                      </a:lnTo>
                      <a:lnTo>
                        <a:pt x="158" y="27"/>
                      </a:lnTo>
                      <a:lnTo>
                        <a:pt x="158" y="34"/>
                      </a:lnTo>
                      <a:lnTo>
                        <a:pt x="158" y="27"/>
                      </a:lnTo>
                      <a:lnTo>
                        <a:pt x="158" y="27"/>
                      </a:lnTo>
                      <a:lnTo>
                        <a:pt x="158" y="27"/>
                      </a:lnTo>
                      <a:lnTo>
                        <a:pt x="158" y="27"/>
                      </a:lnTo>
                      <a:lnTo>
                        <a:pt x="158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92" y="7"/>
                      </a:lnTo>
                      <a:lnTo>
                        <a:pt x="192" y="7"/>
                      </a:lnTo>
                      <a:lnTo>
                        <a:pt x="192" y="7"/>
                      </a:lnTo>
                      <a:lnTo>
                        <a:pt x="192" y="7"/>
                      </a:lnTo>
                      <a:lnTo>
                        <a:pt x="192" y="0"/>
                      </a:lnTo>
                      <a:lnTo>
                        <a:pt x="192" y="0"/>
                      </a:lnTo>
                      <a:lnTo>
                        <a:pt x="192" y="0"/>
                      </a:lnTo>
                      <a:lnTo>
                        <a:pt x="192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0"/>
                      </a:lnTo>
                      <a:lnTo>
                        <a:pt x="213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40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54" y="0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7"/>
                      </a:lnTo>
                      <a:lnTo>
                        <a:pt x="247" y="27"/>
                      </a:lnTo>
                      <a:lnTo>
                        <a:pt x="247" y="27"/>
                      </a:lnTo>
                      <a:lnTo>
                        <a:pt x="247" y="27"/>
                      </a:lnTo>
                      <a:lnTo>
                        <a:pt x="247" y="27"/>
                      </a:lnTo>
                      <a:lnTo>
                        <a:pt x="240" y="27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26" y="48"/>
                      </a:lnTo>
                      <a:lnTo>
                        <a:pt x="226" y="48"/>
                      </a:lnTo>
                      <a:lnTo>
                        <a:pt x="226" y="48"/>
                      </a:lnTo>
                      <a:lnTo>
                        <a:pt x="226" y="48"/>
                      </a:lnTo>
                      <a:lnTo>
                        <a:pt x="226" y="48"/>
                      </a:lnTo>
                      <a:lnTo>
                        <a:pt x="226" y="55"/>
                      </a:lnTo>
                      <a:lnTo>
                        <a:pt x="226" y="55"/>
                      </a:lnTo>
                      <a:lnTo>
                        <a:pt x="226" y="55"/>
                      </a:lnTo>
                      <a:lnTo>
                        <a:pt x="219" y="55"/>
                      </a:lnTo>
                      <a:lnTo>
                        <a:pt x="219" y="55"/>
                      </a:lnTo>
                      <a:lnTo>
                        <a:pt x="219" y="55"/>
                      </a:lnTo>
                      <a:lnTo>
                        <a:pt x="219" y="62"/>
                      </a:lnTo>
                      <a:lnTo>
                        <a:pt x="219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06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06" y="76"/>
                      </a:lnTo>
                      <a:lnTo>
                        <a:pt x="206" y="76"/>
                      </a:lnTo>
                      <a:lnTo>
                        <a:pt x="199" y="76"/>
                      </a:lnTo>
                      <a:lnTo>
                        <a:pt x="199" y="76"/>
                      </a:lnTo>
                      <a:lnTo>
                        <a:pt x="199" y="76"/>
                      </a:lnTo>
                      <a:lnTo>
                        <a:pt x="199" y="83"/>
                      </a:lnTo>
                      <a:lnTo>
                        <a:pt x="199" y="83"/>
                      </a:lnTo>
                      <a:lnTo>
                        <a:pt x="199" y="83"/>
                      </a:lnTo>
                      <a:lnTo>
                        <a:pt x="192" y="90"/>
                      </a:lnTo>
                      <a:lnTo>
                        <a:pt x="192" y="90"/>
                      </a:lnTo>
                      <a:lnTo>
                        <a:pt x="192" y="90"/>
                      </a:lnTo>
                      <a:lnTo>
                        <a:pt x="185" y="97"/>
                      </a:lnTo>
                      <a:lnTo>
                        <a:pt x="185" y="97"/>
                      </a:lnTo>
                      <a:lnTo>
                        <a:pt x="185" y="104"/>
                      </a:lnTo>
                      <a:lnTo>
                        <a:pt x="185" y="104"/>
                      </a:lnTo>
                      <a:lnTo>
                        <a:pt x="178" y="104"/>
                      </a:lnTo>
                      <a:lnTo>
                        <a:pt x="178" y="104"/>
                      </a:lnTo>
                      <a:lnTo>
                        <a:pt x="178" y="104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1" y="111"/>
                      </a:lnTo>
                      <a:lnTo>
                        <a:pt x="171" y="111"/>
                      </a:lnTo>
                      <a:lnTo>
                        <a:pt x="171" y="111"/>
                      </a:lnTo>
                      <a:lnTo>
                        <a:pt x="171" y="118"/>
                      </a:lnTo>
                      <a:lnTo>
                        <a:pt x="171" y="118"/>
                      </a:lnTo>
                      <a:lnTo>
                        <a:pt x="164" y="118"/>
                      </a:lnTo>
                      <a:lnTo>
                        <a:pt x="164" y="124"/>
                      </a:lnTo>
                      <a:lnTo>
                        <a:pt x="164" y="124"/>
                      </a:lnTo>
                      <a:lnTo>
                        <a:pt x="158" y="124"/>
                      </a:lnTo>
                      <a:lnTo>
                        <a:pt x="158" y="124"/>
                      </a:lnTo>
                      <a:lnTo>
                        <a:pt x="158" y="124"/>
                      </a:lnTo>
                      <a:lnTo>
                        <a:pt x="158" y="124"/>
                      </a:lnTo>
                      <a:lnTo>
                        <a:pt x="158" y="131"/>
                      </a:lnTo>
                      <a:lnTo>
                        <a:pt x="158" y="131"/>
                      </a:lnTo>
                      <a:lnTo>
                        <a:pt x="158" y="131"/>
                      </a:lnTo>
                      <a:lnTo>
                        <a:pt x="158" y="138"/>
                      </a:lnTo>
                      <a:lnTo>
                        <a:pt x="151" y="138"/>
                      </a:lnTo>
                      <a:lnTo>
                        <a:pt x="151" y="138"/>
                      </a:lnTo>
                      <a:lnTo>
                        <a:pt x="151" y="138"/>
                      </a:lnTo>
                      <a:lnTo>
                        <a:pt x="151" y="138"/>
                      </a:lnTo>
                      <a:lnTo>
                        <a:pt x="151" y="138"/>
                      </a:lnTo>
                      <a:lnTo>
                        <a:pt x="151" y="131"/>
                      </a:lnTo>
                      <a:lnTo>
                        <a:pt x="151" y="131"/>
                      </a:lnTo>
                      <a:lnTo>
                        <a:pt x="151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37" y="131"/>
                      </a:lnTo>
                      <a:lnTo>
                        <a:pt x="137" y="131"/>
                      </a:lnTo>
                      <a:lnTo>
                        <a:pt x="137" y="131"/>
                      </a:lnTo>
                      <a:lnTo>
                        <a:pt x="137" y="131"/>
                      </a:lnTo>
                      <a:lnTo>
                        <a:pt x="137" y="131"/>
                      </a:lnTo>
                      <a:lnTo>
                        <a:pt x="137" y="124"/>
                      </a:lnTo>
                      <a:lnTo>
                        <a:pt x="137" y="124"/>
                      </a:lnTo>
                      <a:lnTo>
                        <a:pt x="137" y="124"/>
                      </a:lnTo>
                      <a:lnTo>
                        <a:pt x="137" y="124"/>
                      </a:lnTo>
                      <a:lnTo>
                        <a:pt x="137" y="124"/>
                      </a:lnTo>
                      <a:lnTo>
                        <a:pt x="137" y="118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24"/>
                      </a:lnTo>
                      <a:lnTo>
                        <a:pt x="130" y="124"/>
                      </a:lnTo>
                      <a:lnTo>
                        <a:pt x="130" y="124"/>
                      </a:lnTo>
                      <a:lnTo>
                        <a:pt x="123" y="124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04"/>
                      </a:lnTo>
                      <a:lnTo>
                        <a:pt x="103" y="104"/>
                      </a:lnTo>
                      <a:lnTo>
                        <a:pt x="103" y="104"/>
                      </a:lnTo>
                      <a:lnTo>
                        <a:pt x="103" y="104"/>
                      </a:lnTo>
                      <a:lnTo>
                        <a:pt x="103" y="104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96" y="97"/>
                      </a:lnTo>
                      <a:lnTo>
                        <a:pt x="96" y="97"/>
                      </a:lnTo>
                      <a:lnTo>
                        <a:pt x="96" y="97"/>
                      </a:lnTo>
                      <a:lnTo>
                        <a:pt x="96" y="97"/>
                      </a:lnTo>
                      <a:lnTo>
                        <a:pt x="89" y="90"/>
                      </a:lnTo>
                      <a:lnTo>
                        <a:pt x="89" y="90"/>
                      </a:lnTo>
                      <a:lnTo>
                        <a:pt x="82" y="90"/>
                      </a:lnTo>
                      <a:lnTo>
                        <a:pt x="82" y="90"/>
                      </a:lnTo>
                      <a:lnTo>
                        <a:pt x="82" y="90"/>
                      </a:lnTo>
                      <a:lnTo>
                        <a:pt x="82" y="90"/>
                      </a:lnTo>
                      <a:lnTo>
                        <a:pt x="82" y="90"/>
                      </a:lnTo>
                      <a:lnTo>
                        <a:pt x="82" y="83"/>
                      </a:lnTo>
                      <a:lnTo>
                        <a:pt x="75" y="83"/>
                      </a:lnTo>
                      <a:lnTo>
                        <a:pt x="75" y="83"/>
                      </a:lnTo>
                      <a:lnTo>
                        <a:pt x="75" y="83"/>
                      </a:lnTo>
                      <a:lnTo>
                        <a:pt x="75" y="83"/>
                      </a:lnTo>
                      <a:lnTo>
                        <a:pt x="75" y="83"/>
                      </a:lnTo>
                      <a:lnTo>
                        <a:pt x="68" y="83"/>
                      </a:lnTo>
                      <a:lnTo>
                        <a:pt x="68" y="83"/>
                      </a:lnTo>
                      <a:lnTo>
                        <a:pt x="68" y="76"/>
                      </a:lnTo>
                      <a:lnTo>
                        <a:pt x="68" y="76"/>
                      </a:lnTo>
                      <a:lnTo>
                        <a:pt x="68" y="76"/>
                      </a:lnTo>
                      <a:lnTo>
                        <a:pt x="61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1" y="69"/>
                      </a:lnTo>
                      <a:lnTo>
                        <a:pt x="41" y="69"/>
                      </a:lnTo>
                      <a:lnTo>
                        <a:pt x="41" y="69"/>
                      </a:lnTo>
                      <a:lnTo>
                        <a:pt x="34" y="69"/>
                      </a:lnTo>
                      <a:lnTo>
                        <a:pt x="34" y="69"/>
                      </a:lnTo>
                      <a:lnTo>
                        <a:pt x="34" y="62"/>
                      </a:lnTo>
                      <a:lnTo>
                        <a:pt x="34" y="62"/>
                      </a:lnTo>
                      <a:lnTo>
                        <a:pt x="34" y="62"/>
                      </a:lnTo>
                      <a:lnTo>
                        <a:pt x="34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038280" y="3848400"/>
                  <a:ext cx="198720" cy="204480"/>
                </a:xfrm>
                <a:custGeom>
                  <a:avLst/>
                  <a:gdLst/>
                  <a:ahLst/>
                  <a:rect l="l" t="t" r="r" b="b"/>
                  <a:pathLst>
                    <a:path w="158" h="174">
                      <a:moveTo>
                        <a:pt x="7" y="111"/>
                      </a:moveTo>
                      <a:lnTo>
                        <a:pt x="7" y="111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41" y="104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41" y="76"/>
                      </a:lnTo>
                      <a:lnTo>
                        <a:pt x="34" y="76"/>
                      </a:lnTo>
                      <a:lnTo>
                        <a:pt x="41" y="76"/>
                      </a:lnTo>
                      <a:lnTo>
                        <a:pt x="41" y="76"/>
                      </a:lnTo>
                      <a:lnTo>
                        <a:pt x="41" y="76"/>
                      </a:lnTo>
                      <a:lnTo>
                        <a:pt x="41" y="76"/>
                      </a:lnTo>
                      <a:lnTo>
                        <a:pt x="41" y="69"/>
                      </a:lnTo>
                      <a:lnTo>
                        <a:pt x="41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1" y="63"/>
                      </a:lnTo>
                      <a:lnTo>
                        <a:pt x="41" y="56"/>
                      </a:lnTo>
                      <a:lnTo>
                        <a:pt x="41" y="56"/>
                      </a:lnTo>
                      <a:lnTo>
                        <a:pt x="41" y="56"/>
                      </a:lnTo>
                      <a:lnTo>
                        <a:pt x="41" y="56"/>
                      </a:lnTo>
                      <a:lnTo>
                        <a:pt x="41" y="49"/>
                      </a:lnTo>
                      <a:lnTo>
                        <a:pt x="41" y="49"/>
                      </a:lnTo>
                      <a:lnTo>
                        <a:pt x="41" y="42"/>
                      </a:lnTo>
                      <a:lnTo>
                        <a:pt x="41" y="42"/>
                      </a:lnTo>
                      <a:lnTo>
                        <a:pt x="41" y="42"/>
                      </a:lnTo>
                      <a:lnTo>
                        <a:pt x="34" y="42"/>
                      </a:lnTo>
                      <a:lnTo>
                        <a:pt x="34" y="42"/>
                      </a:lnTo>
                      <a:lnTo>
                        <a:pt x="34" y="42"/>
                      </a:lnTo>
                      <a:lnTo>
                        <a:pt x="34" y="42"/>
                      </a:lnTo>
                      <a:lnTo>
                        <a:pt x="27" y="42"/>
                      </a:lnTo>
                      <a:lnTo>
                        <a:pt x="27" y="42"/>
                      </a:lnTo>
                      <a:lnTo>
                        <a:pt x="27" y="42"/>
                      </a:lnTo>
                      <a:lnTo>
                        <a:pt x="27" y="42"/>
                      </a:lnTo>
                      <a:lnTo>
                        <a:pt x="27" y="35"/>
                      </a:lnTo>
                      <a:lnTo>
                        <a:pt x="20" y="35"/>
                      </a:lnTo>
                      <a:lnTo>
                        <a:pt x="27" y="35"/>
                      </a:lnTo>
                      <a:lnTo>
                        <a:pt x="27" y="35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7" y="0"/>
                      </a:lnTo>
                      <a:lnTo>
                        <a:pt x="27" y="0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62" y="21"/>
                      </a:lnTo>
                      <a:lnTo>
                        <a:pt x="62" y="21"/>
                      </a:lnTo>
                      <a:lnTo>
                        <a:pt x="62" y="21"/>
                      </a:lnTo>
                      <a:lnTo>
                        <a:pt x="68" y="21"/>
                      </a:lnTo>
                      <a:lnTo>
                        <a:pt x="75" y="21"/>
                      </a:lnTo>
                      <a:lnTo>
                        <a:pt x="75" y="21"/>
                      </a:lnTo>
                      <a:lnTo>
                        <a:pt x="75" y="21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9" y="28"/>
                      </a:lnTo>
                      <a:lnTo>
                        <a:pt x="89" y="35"/>
                      </a:lnTo>
                      <a:lnTo>
                        <a:pt x="89" y="35"/>
                      </a:lnTo>
                      <a:lnTo>
                        <a:pt x="89" y="35"/>
                      </a:lnTo>
                      <a:lnTo>
                        <a:pt x="89" y="35"/>
                      </a:lnTo>
                      <a:lnTo>
                        <a:pt x="89" y="35"/>
                      </a:lnTo>
                      <a:lnTo>
                        <a:pt x="96" y="35"/>
                      </a:lnTo>
                      <a:lnTo>
                        <a:pt x="96" y="35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7" y="49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23" y="56"/>
                      </a:lnTo>
                      <a:lnTo>
                        <a:pt x="123" y="56"/>
                      </a:lnTo>
                      <a:lnTo>
                        <a:pt x="123" y="56"/>
                      </a:lnTo>
                      <a:lnTo>
                        <a:pt x="123" y="56"/>
                      </a:lnTo>
                      <a:lnTo>
                        <a:pt x="123" y="63"/>
                      </a:lnTo>
                      <a:lnTo>
                        <a:pt x="123" y="63"/>
                      </a:lnTo>
                      <a:lnTo>
                        <a:pt x="123" y="63"/>
                      </a:lnTo>
                      <a:lnTo>
                        <a:pt x="123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9"/>
                      </a:lnTo>
                      <a:lnTo>
                        <a:pt x="137" y="69"/>
                      </a:lnTo>
                      <a:lnTo>
                        <a:pt x="137" y="69"/>
                      </a:lnTo>
                      <a:lnTo>
                        <a:pt x="137" y="69"/>
                      </a:lnTo>
                      <a:lnTo>
                        <a:pt x="137" y="63"/>
                      </a:lnTo>
                      <a:lnTo>
                        <a:pt x="137" y="63"/>
                      </a:lnTo>
                      <a:lnTo>
                        <a:pt x="137" y="63"/>
                      </a:lnTo>
                      <a:lnTo>
                        <a:pt x="144" y="63"/>
                      </a:lnTo>
                      <a:lnTo>
                        <a:pt x="144" y="69"/>
                      </a:lnTo>
                      <a:lnTo>
                        <a:pt x="144" y="69"/>
                      </a:lnTo>
                      <a:lnTo>
                        <a:pt x="144" y="69"/>
                      </a:lnTo>
                      <a:lnTo>
                        <a:pt x="144" y="69"/>
                      </a:lnTo>
                      <a:lnTo>
                        <a:pt x="144" y="69"/>
                      </a:lnTo>
                      <a:lnTo>
                        <a:pt x="144" y="76"/>
                      </a:lnTo>
                      <a:lnTo>
                        <a:pt x="144" y="76"/>
                      </a:lnTo>
                      <a:lnTo>
                        <a:pt x="144" y="76"/>
                      </a:lnTo>
                      <a:lnTo>
                        <a:pt x="144" y="76"/>
                      </a:lnTo>
                      <a:lnTo>
                        <a:pt x="144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8" y="76"/>
                      </a:lnTo>
                      <a:lnTo>
                        <a:pt x="158" y="76"/>
                      </a:lnTo>
                      <a:lnTo>
                        <a:pt x="158" y="76"/>
                      </a:lnTo>
                      <a:lnTo>
                        <a:pt x="158" y="83"/>
                      </a:lnTo>
                      <a:lnTo>
                        <a:pt x="158" y="83"/>
                      </a:lnTo>
                      <a:lnTo>
                        <a:pt x="158" y="83"/>
                      </a:lnTo>
                      <a:lnTo>
                        <a:pt x="158" y="83"/>
                      </a:lnTo>
                      <a:lnTo>
                        <a:pt x="158" y="83"/>
                      </a:lnTo>
                      <a:lnTo>
                        <a:pt x="158" y="90"/>
                      </a:lnTo>
                      <a:lnTo>
                        <a:pt x="158" y="90"/>
                      </a:lnTo>
                      <a:lnTo>
                        <a:pt x="151" y="90"/>
                      </a:lnTo>
                      <a:lnTo>
                        <a:pt x="144" y="90"/>
                      </a:lnTo>
                      <a:lnTo>
                        <a:pt x="144" y="90"/>
                      </a:lnTo>
                      <a:lnTo>
                        <a:pt x="137" y="97"/>
                      </a:lnTo>
                      <a:lnTo>
                        <a:pt x="137" y="97"/>
                      </a:lnTo>
                      <a:lnTo>
                        <a:pt x="130" y="97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17" y="111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96" y="139"/>
                      </a:lnTo>
                      <a:lnTo>
                        <a:pt x="96" y="139"/>
                      </a:lnTo>
                      <a:lnTo>
                        <a:pt x="89" y="146"/>
                      </a:lnTo>
                      <a:lnTo>
                        <a:pt x="89" y="153"/>
                      </a:lnTo>
                      <a:lnTo>
                        <a:pt x="82" y="160"/>
                      </a:lnTo>
                      <a:lnTo>
                        <a:pt x="82" y="167"/>
                      </a:lnTo>
                      <a:lnTo>
                        <a:pt x="82" y="167"/>
                      </a:lnTo>
                      <a:lnTo>
                        <a:pt x="82" y="167"/>
                      </a:lnTo>
                      <a:lnTo>
                        <a:pt x="75" y="167"/>
                      </a:lnTo>
                      <a:lnTo>
                        <a:pt x="75" y="167"/>
                      </a:lnTo>
                      <a:lnTo>
                        <a:pt x="75" y="167"/>
                      </a:lnTo>
                      <a:lnTo>
                        <a:pt x="75" y="167"/>
                      </a:lnTo>
                      <a:lnTo>
                        <a:pt x="68" y="174"/>
                      </a:lnTo>
                      <a:lnTo>
                        <a:pt x="68" y="174"/>
                      </a:lnTo>
                      <a:lnTo>
                        <a:pt x="68" y="174"/>
                      </a:lnTo>
                      <a:lnTo>
                        <a:pt x="68" y="174"/>
                      </a:lnTo>
                      <a:lnTo>
                        <a:pt x="68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67"/>
                      </a:lnTo>
                      <a:lnTo>
                        <a:pt x="41" y="167"/>
                      </a:lnTo>
                      <a:lnTo>
                        <a:pt x="41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0"/>
                      </a:lnTo>
                      <a:lnTo>
                        <a:pt x="34" y="160"/>
                      </a:lnTo>
                      <a:lnTo>
                        <a:pt x="34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7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0" y="160"/>
                      </a:lnTo>
                      <a:lnTo>
                        <a:pt x="27" y="153"/>
                      </a:lnTo>
                      <a:lnTo>
                        <a:pt x="20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39"/>
                      </a:lnTo>
                      <a:lnTo>
                        <a:pt x="20" y="146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25"/>
                      </a:lnTo>
                      <a:lnTo>
                        <a:pt x="14" y="125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0" y="118"/>
                      </a:lnTo>
                      <a:lnTo>
                        <a:pt x="0" y="118"/>
                      </a:lnTo>
                      <a:lnTo>
                        <a:pt x="0" y="118"/>
                      </a:lnTo>
                      <a:lnTo>
                        <a:pt x="7" y="118"/>
                      </a:lnTo>
                      <a:lnTo>
                        <a:pt x="0" y="111"/>
                      </a:lnTo>
                      <a:lnTo>
                        <a:pt x="7" y="111"/>
                      </a:lnTo>
                      <a:lnTo>
                        <a:pt x="0" y="111"/>
                      </a:lnTo>
                      <a:lnTo>
                        <a:pt x="7" y="111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157000" y="3750840"/>
                  <a:ext cx="984960" cy="978840"/>
                </a:xfrm>
                <a:custGeom>
                  <a:avLst/>
                  <a:gdLst/>
                  <a:ahLst/>
                  <a:rect l="l" t="t" r="r" b="b"/>
                  <a:pathLst>
                    <a:path w="782" h="832">
                      <a:moveTo>
                        <a:pt x="0" y="236"/>
                      </a:move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29"/>
                      </a:lnTo>
                      <a:lnTo>
                        <a:pt x="6" y="229"/>
                      </a:lnTo>
                      <a:lnTo>
                        <a:pt x="6" y="229"/>
                      </a:lnTo>
                      <a:lnTo>
                        <a:pt x="6" y="229"/>
                      </a:lnTo>
                      <a:lnTo>
                        <a:pt x="6" y="222"/>
                      </a:lnTo>
                      <a:lnTo>
                        <a:pt x="13" y="222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08"/>
                      </a:lnTo>
                      <a:lnTo>
                        <a:pt x="13" y="208"/>
                      </a:lnTo>
                      <a:lnTo>
                        <a:pt x="13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7" y="201"/>
                      </a:lnTo>
                      <a:lnTo>
                        <a:pt x="20" y="201"/>
                      </a:lnTo>
                      <a:lnTo>
                        <a:pt x="20" y="201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34" y="187"/>
                      </a:lnTo>
                      <a:lnTo>
                        <a:pt x="34" y="187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61" y="166"/>
                      </a:lnTo>
                      <a:lnTo>
                        <a:pt x="61" y="166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75" y="152"/>
                      </a:lnTo>
                      <a:lnTo>
                        <a:pt x="75" y="152"/>
                      </a:lnTo>
                      <a:lnTo>
                        <a:pt x="75" y="146"/>
                      </a:lnTo>
                      <a:lnTo>
                        <a:pt x="75" y="146"/>
                      </a:lnTo>
                      <a:lnTo>
                        <a:pt x="75" y="146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68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9" y="146"/>
                      </a:lnTo>
                      <a:lnTo>
                        <a:pt x="89" y="146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66"/>
                      </a:lnTo>
                      <a:lnTo>
                        <a:pt x="102" y="166"/>
                      </a:lnTo>
                      <a:lnTo>
                        <a:pt x="102" y="166"/>
                      </a:lnTo>
                      <a:lnTo>
                        <a:pt x="96" y="166"/>
                      </a:lnTo>
                      <a:lnTo>
                        <a:pt x="96" y="166"/>
                      </a:lnTo>
                      <a:lnTo>
                        <a:pt x="96" y="166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7"/>
                      </a:lnTo>
                      <a:lnTo>
                        <a:pt x="102" y="187"/>
                      </a:lnTo>
                      <a:lnTo>
                        <a:pt x="109" y="187"/>
                      </a:lnTo>
                      <a:lnTo>
                        <a:pt x="109" y="194"/>
                      </a:lnTo>
                      <a:lnTo>
                        <a:pt x="109" y="194"/>
                      </a:lnTo>
                      <a:lnTo>
                        <a:pt x="109" y="194"/>
                      </a:lnTo>
                      <a:lnTo>
                        <a:pt x="116" y="194"/>
                      </a:lnTo>
                      <a:lnTo>
                        <a:pt x="116" y="194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23" y="201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8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7" y="194"/>
                      </a:lnTo>
                      <a:lnTo>
                        <a:pt x="157" y="187"/>
                      </a:lnTo>
                      <a:lnTo>
                        <a:pt x="157" y="187"/>
                      </a:lnTo>
                      <a:lnTo>
                        <a:pt x="157" y="194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85" y="180"/>
                      </a:lnTo>
                      <a:lnTo>
                        <a:pt x="185" y="180"/>
                      </a:lnTo>
                      <a:lnTo>
                        <a:pt x="185" y="180"/>
                      </a:lnTo>
                      <a:lnTo>
                        <a:pt x="185" y="173"/>
                      </a:lnTo>
                      <a:lnTo>
                        <a:pt x="185" y="173"/>
                      </a:lnTo>
                      <a:lnTo>
                        <a:pt x="192" y="173"/>
                      </a:lnTo>
                      <a:lnTo>
                        <a:pt x="192" y="173"/>
                      </a:lnTo>
                      <a:lnTo>
                        <a:pt x="192" y="173"/>
                      </a:lnTo>
                      <a:lnTo>
                        <a:pt x="192" y="180"/>
                      </a:lnTo>
                      <a:lnTo>
                        <a:pt x="192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73"/>
                      </a:lnTo>
                      <a:lnTo>
                        <a:pt x="205" y="173"/>
                      </a:lnTo>
                      <a:lnTo>
                        <a:pt x="212" y="173"/>
                      </a:lnTo>
                      <a:lnTo>
                        <a:pt x="212" y="173"/>
                      </a:lnTo>
                      <a:lnTo>
                        <a:pt x="212" y="173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59"/>
                      </a:lnTo>
                      <a:lnTo>
                        <a:pt x="212" y="159"/>
                      </a:lnTo>
                      <a:lnTo>
                        <a:pt x="212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2"/>
                      </a:lnTo>
                      <a:lnTo>
                        <a:pt x="226" y="152"/>
                      </a:lnTo>
                      <a:lnTo>
                        <a:pt x="226" y="152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33" y="139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7" y="132"/>
                      </a:lnTo>
                      <a:lnTo>
                        <a:pt x="247" y="125"/>
                      </a:lnTo>
                      <a:lnTo>
                        <a:pt x="247" y="125"/>
                      </a:lnTo>
                      <a:lnTo>
                        <a:pt x="240" y="125"/>
                      </a:lnTo>
                      <a:lnTo>
                        <a:pt x="240" y="125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7" y="118"/>
                      </a:lnTo>
                      <a:lnTo>
                        <a:pt x="247" y="118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0"/>
                      </a:lnTo>
                      <a:lnTo>
                        <a:pt x="233" y="90"/>
                      </a:lnTo>
                      <a:lnTo>
                        <a:pt x="226" y="90"/>
                      </a:lnTo>
                      <a:lnTo>
                        <a:pt x="233" y="90"/>
                      </a:lnTo>
                      <a:lnTo>
                        <a:pt x="233" y="83"/>
                      </a:lnTo>
                      <a:lnTo>
                        <a:pt x="233" y="83"/>
                      </a:lnTo>
                      <a:lnTo>
                        <a:pt x="233" y="83"/>
                      </a:lnTo>
                      <a:lnTo>
                        <a:pt x="240" y="76"/>
                      </a:lnTo>
                      <a:lnTo>
                        <a:pt x="240" y="76"/>
                      </a:lnTo>
                      <a:lnTo>
                        <a:pt x="240" y="76"/>
                      </a:lnTo>
                      <a:lnTo>
                        <a:pt x="247" y="76"/>
                      </a:lnTo>
                      <a:lnTo>
                        <a:pt x="247" y="76"/>
                      </a:lnTo>
                      <a:lnTo>
                        <a:pt x="247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60" y="69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7" y="62"/>
                      </a:lnTo>
                      <a:lnTo>
                        <a:pt x="267" y="69"/>
                      </a:lnTo>
                      <a:lnTo>
                        <a:pt x="267" y="69"/>
                      </a:lnTo>
                      <a:lnTo>
                        <a:pt x="267" y="69"/>
                      </a:lnTo>
                      <a:lnTo>
                        <a:pt x="274" y="69"/>
                      </a:lnTo>
                      <a:lnTo>
                        <a:pt x="274" y="69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83"/>
                      </a:lnTo>
                      <a:lnTo>
                        <a:pt x="302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7"/>
                      </a:lnTo>
                      <a:lnTo>
                        <a:pt x="315" y="97"/>
                      </a:lnTo>
                      <a:lnTo>
                        <a:pt x="322" y="97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83"/>
                      </a:lnTo>
                      <a:lnTo>
                        <a:pt x="329" y="83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36" y="83"/>
                      </a:lnTo>
                      <a:lnTo>
                        <a:pt x="336" y="90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50" y="83"/>
                      </a:lnTo>
                      <a:lnTo>
                        <a:pt x="350" y="83"/>
                      </a:lnTo>
                      <a:lnTo>
                        <a:pt x="350" y="76"/>
                      </a:lnTo>
                      <a:lnTo>
                        <a:pt x="350" y="76"/>
                      </a:lnTo>
                      <a:lnTo>
                        <a:pt x="350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70" y="69"/>
                      </a:lnTo>
                      <a:lnTo>
                        <a:pt x="370" y="69"/>
                      </a:lnTo>
                      <a:lnTo>
                        <a:pt x="370" y="69"/>
                      </a:lnTo>
                      <a:lnTo>
                        <a:pt x="377" y="69"/>
                      </a:lnTo>
                      <a:lnTo>
                        <a:pt x="377" y="69"/>
                      </a:lnTo>
                      <a:lnTo>
                        <a:pt x="377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48"/>
                      </a:lnTo>
                      <a:lnTo>
                        <a:pt x="405" y="48"/>
                      </a:lnTo>
                      <a:lnTo>
                        <a:pt x="411" y="48"/>
                      </a:lnTo>
                      <a:lnTo>
                        <a:pt x="411" y="48"/>
                      </a:lnTo>
                      <a:lnTo>
                        <a:pt x="411" y="48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8" y="42"/>
                      </a:lnTo>
                      <a:lnTo>
                        <a:pt x="418" y="42"/>
                      </a:lnTo>
                      <a:lnTo>
                        <a:pt x="418" y="35"/>
                      </a:lnTo>
                      <a:lnTo>
                        <a:pt x="418" y="35"/>
                      </a:lnTo>
                      <a:lnTo>
                        <a:pt x="425" y="35"/>
                      </a:lnTo>
                      <a:lnTo>
                        <a:pt x="425" y="42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28"/>
                      </a:lnTo>
                      <a:lnTo>
                        <a:pt x="425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9" y="21"/>
                      </a:lnTo>
                      <a:lnTo>
                        <a:pt x="439" y="21"/>
                      </a:lnTo>
                      <a:lnTo>
                        <a:pt x="439" y="21"/>
                      </a:lnTo>
                      <a:lnTo>
                        <a:pt x="439" y="14"/>
                      </a:lnTo>
                      <a:lnTo>
                        <a:pt x="439" y="14"/>
                      </a:lnTo>
                      <a:lnTo>
                        <a:pt x="439" y="14"/>
                      </a:lnTo>
                      <a:lnTo>
                        <a:pt x="439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53" y="21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8"/>
                      </a:lnTo>
                      <a:lnTo>
                        <a:pt x="466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80" y="28"/>
                      </a:lnTo>
                      <a:lnTo>
                        <a:pt x="480" y="28"/>
                      </a:lnTo>
                      <a:lnTo>
                        <a:pt x="480" y="28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7" y="42"/>
                      </a:lnTo>
                      <a:lnTo>
                        <a:pt x="487" y="42"/>
                      </a:lnTo>
                      <a:lnTo>
                        <a:pt x="487" y="42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94" y="48"/>
                      </a:lnTo>
                      <a:lnTo>
                        <a:pt x="494" y="48"/>
                      </a:lnTo>
                      <a:lnTo>
                        <a:pt x="494" y="48"/>
                      </a:lnTo>
                      <a:lnTo>
                        <a:pt x="494" y="55"/>
                      </a:lnTo>
                      <a:lnTo>
                        <a:pt x="494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62"/>
                      </a:lnTo>
                      <a:lnTo>
                        <a:pt x="494" y="62"/>
                      </a:lnTo>
                      <a:lnTo>
                        <a:pt x="494" y="62"/>
                      </a:lnTo>
                      <a:lnTo>
                        <a:pt x="501" y="62"/>
                      </a:lnTo>
                      <a:lnTo>
                        <a:pt x="501" y="62"/>
                      </a:lnTo>
                      <a:lnTo>
                        <a:pt x="494" y="62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76"/>
                      </a:lnTo>
                      <a:lnTo>
                        <a:pt x="494" y="76"/>
                      </a:lnTo>
                      <a:lnTo>
                        <a:pt x="487" y="76"/>
                      </a:lnTo>
                      <a:lnTo>
                        <a:pt x="494" y="76"/>
                      </a:lnTo>
                      <a:lnTo>
                        <a:pt x="487" y="76"/>
                      </a:lnTo>
                      <a:lnTo>
                        <a:pt x="487" y="83"/>
                      </a:lnTo>
                      <a:lnTo>
                        <a:pt x="494" y="76"/>
                      </a:lnTo>
                      <a:lnTo>
                        <a:pt x="494" y="76"/>
                      </a:lnTo>
                      <a:lnTo>
                        <a:pt x="494" y="83"/>
                      </a:lnTo>
                      <a:lnTo>
                        <a:pt x="501" y="83"/>
                      </a:lnTo>
                      <a:lnTo>
                        <a:pt x="501" y="83"/>
                      </a:lnTo>
                      <a:lnTo>
                        <a:pt x="501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76"/>
                      </a:lnTo>
                      <a:lnTo>
                        <a:pt x="508" y="76"/>
                      </a:lnTo>
                      <a:lnTo>
                        <a:pt x="508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76"/>
                      </a:lnTo>
                      <a:lnTo>
                        <a:pt x="521" y="76"/>
                      </a:lnTo>
                      <a:lnTo>
                        <a:pt x="528" y="69"/>
                      </a:lnTo>
                      <a:lnTo>
                        <a:pt x="528" y="69"/>
                      </a:lnTo>
                      <a:lnTo>
                        <a:pt x="528" y="69"/>
                      </a:lnTo>
                      <a:lnTo>
                        <a:pt x="528" y="62"/>
                      </a:lnTo>
                      <a:lnTo>
                        <a:pt x="528" y="55"/>
                      </a:lnTo>
                      <a:lnTo>
                        <a:pt x="528" y="55"/>
                      </a:lnTo>
                      <a:lnTo>
                        <a:pt x="528" y="55"/>
                      </a:lnTo>
                      <a:lnTo>
                        <a:pt x="528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35"/>
                      </a:lnTo>
                      <a:lnTo>
                        <a:pt x="562" y="35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9" y="28"/>
                      </a:lnTo>
                      <a:lnTo>
                        <a:pt x="569" y="28"/>
                      </a:lnTo>
                      <a:lnTo>
                        <a:pt x="576" y="28"/>
                      </a:lnTo>
                      <a:lnTo>
                        <a:pt x="576" y="21"/>
                      </a:lnTo>
                      <a:lnTo>
                        <a:pt x="583" y="28"/>
                      </a:lnTo>
                      <a:lnTo>
                        <a:pt x="583" y="28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90" y="14"/>
                      </a:lnTo>
                      <a:lnTo>
                        <a:pt x="590" y="14"/>
                      </a:lnTo>
                      <a:lnTo>
                        <a:pt x="590" y="7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0"/>
                      </a:lnTo>
                      <a:lnTo>
                        <a:pt x="604" y="0"/>
                      </a:lnTo>
                      <a:lnTo>
                        <a:pt x="604" y="0"/>
                      </a:lnTo>
                      <a:lnTo>
                        <a:pt x="611" y="0"/>
                      </a:lnTo>
                      <a:lnTo>
                        <a:pt x="611" y="0"/>
                      </a:lnTo>
                      <a:lnTo>
                        <a:pt x="611" y="0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31" y="14"/>
                      </a:lnTo>
                      <a:lnTo>
                        <a:pt x="631" y="21"/>
                      </a:lnTo>
                      <a:lnTo>
                        <a:pt x="631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45" y="21"/>
                      </a:lnTo>
                      <a:lnTo>
                        <a:pt x="645" y="21"/>
                      </a:lnTo>
                      <a:lnTo>
                        <a:pt x="645" y="28"/>
                      </a:lnTo>
                      <a:lnTo>
                        <a:pt x="645" y="28"/>
                      </a:lnTo>
                      <a:lnTo>
                        <a:pt x="645" y="21"/>
                      </a:lnTo>
                      <a:lnTo>
                        <a:pt x="652" y="21"/>
                      </a:lnTo>
                      <a:lnTo>
                        <a:pt x="652" y="21"/>
                      </a:lnTo>
                      <a:lnTo>
                        <a:pt x="652" y="21"/>
                      </a:lnTo>
                      <a:lnTo>
                        <a:pt x="659" y="21"/>
                      </a:lnTo>
                      <a:lnTo>
                        <a:pt x="659" y="21"/>
                      </a:lnTo>
                      <a:lnTo>
                        <a:pt x="659" y="28"/>
                      </a:lnTo>
                      <a:lnTo>
                        <a:pt x="659" y="28"/>
                      </a:lnTo>
                      <a:lnTo>
                        <a:pt x="665" y="28"/>
                      </a:lnTo>
                      <a:lnTo>
                        <a:pt x="665" y="28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42"/>
                      </a:lnTo>
                      <a:lnTo>
                        <a:pt x="665" y="42"/>
                      </a:lnTo>
                      <a:lnTo>
                        <a:pt x="672" y="42"/>
                      </a:lnTo>
                      <a:lnTo>
                        <a:pt x="672" y="42"/>
                      </a:lnTo>
                      <a:lnTo>
                        <a:pt x="672" y="35"/>
                      </a:lnTo>
                      <a:lnTo>
                        <a:pt x="672" y="35"/>
                      </a:lnTo>
                      <a:lnTo>
                        <a:pt x="672" y="28"/>
                      </a:lnTo>
                      <a:lnTo>
                        <a:pt x="679" y="28"/>
                      </a:lnTo>
                      <a:lnTo>
                        <a:pt x="679" y="28"/>
                      </a:lnTo>
                      <a:lnTo>
                        <a:pt x="679" y="28"/>
                      </a:lnTo>
                      <a:lnTo>
                        <a:pt x="686" y="28"/>
                      </a:lnTo>
                      <a:lnTo>
                        <a:pt x="686" y="28"/>
                      </a:lnTo>
                      <a:lnTo>
                        <a:pt x="686" y="35"/>
                      </a:lnTo>
                      <a:lnTo>
                        <a:pt x="686" y="35"/>
                      </a:lnTo>
                      <a:lnTo>
                        <a:pt x="679" y="35"/>
                      </a:lnTo>
                      <a:lnTo>
                        <a:pt x="679" y="35"/>
                      </a:lnTo>
                      <a:lnTo>
                        <a:pt x="679" y="35"/>
                      </a:lnTo>
                      <a:lnTo>
                        <a:pt x="679" y="42"/>
                      </a:lnTo>
                      <a:lnTo>
                        <a:pt x="679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55"/>
                      </a:lnTo>
                      <a:lnTo>
                        <a:pt x="700" y="55"/>
                      </a:lnTo>
                      <a:lnTo>
                        <a:pt x="700" y="55"/>
                      </a:lnTo>
                      <a:lnTo>
                        <a:pt x="700" y="62"/>
                      </a:lnTo>
                      <a:lnTo>
                        <a:pt x="700" y="69"/>
                      </a:lnTo>
                      <a:lnTo>
                        <a:pt x="707" y="69"/>
                      </a:lnTo>
                      <a:lnTo>
                        <a:pt x="707" y="69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20" y="76"/>
                      </a:lnTo>
                      <a:lnTo>
                        <a:pt x="720" y="76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7" y="97"/>
                      </a:lnTo>
                      <a:lnTo>
                        <a:pt x="727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11"/>
                      </a:lnTo>
                      <a:lnTo>
                        <a:pt x="720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8"/>
                      </a:lnTo>
                      <a:lnTo>
                        <a:pt x="727" y="118"/>
                      </a:lnTo>
                      <a:lnTo>
                        <a:pt x="720" y="118"/>
                      </a:lnTo>
                      <a:lnTo>
                        <a:pt x="727" y="118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41" y="125"/>
                      </a:lnTo>
                      <a:lnTo>
                        <a:pt x="741" y="125"/>
                      </a:lnTo>
                      <a:lnTo>
                        <a:pt x="741" y="125"/>
                      </a:lnTo>
                      <a:lnTo>
                        <a:pt x="741" y="132"/>
                      </a:lnTo>
                      <a:lnTo>
                        <a:pt x="741" y="132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46"/>
                      </a:lnTo>
                      <a:lnTo>
                        <a:pt x="748" y="152"/>
                      </a:lnTo>
                      <a:lnTo>
                        <a:pt x="748" y="152"/>
                      </a:lnTo>
                      <a:lnTo>
                        <a:pt x="748" y="152"/>
                      </a:lnTo>
                      <a:lnTo>
                        <a:pt x="741" y="152"/>
                      </a:lnTo>
                      <a:lnTo>
                        <a:pt x="741" y="152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34" y="159"/>
                      </a:lnTo>
                      <a:lnTo>
                        <a:pt x="741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41" y="166"/>
                      </a:lnTo>
                      <a:lnTo>
                        <a:pt x="741" y="166"/>
                      </a:lnTo>
                      <a:lnTo>
                        <a:pt x="741" y="166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87"/>
                      </a:lnTo>
                      <a:lnTo>
                        <a:pt x="727" y="187"/>
                      </a:lnTo>
                      <a:lnTo>
                        <a:pt x="727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94"/>
                      </a:lnTo>
                      <a:lnTo>
                        <a:pt x="707" y="194"/>
                      </a:lnTo>
                      <a:lnTo>
                        <a:pt x="700" y="194"/>
                      </a:lnTo>
                      <a:lnTo>
                        <a:pt x="707" y="194"/>
                      </a:lnTo>
                      <a:lnTo>
                        <a:pt x="700" y="194"/>
                      </a:lnTo>
                      <a:lnTo>
                        <a:pt x="707" y="201"/>
                      </a:lnTo>
                      <a:lnTo>
                        <a:pt x="700" y="201"/>
                      </a:lnTo>
                      <a:lnTo>
                        <a:pt x="700" y="201"/>
                      </a:lnTo>
                      <a:lnTo>
                        <a:pt x="700" y="201"/>
                      </a:lnTo>
                      <a:lnTo>
                        <a:pt x="707" y="201"/>
                      </a:lnTo>
                      <a:lnTo>
                        <a:pt x="707" y="201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14" y="208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08"/>
                      </a:lnTo>
                      <a:lnTo>
                        <a:pt x="714" y="208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20" y="215"/>
                      </a:lnTo>
                      <a:lnTo>
                        <a:pt x="720" y="215"/>
                      </a:lnTo>
                      <a:lnTo>
                        <a:pt x="714" y="222"/>
                      </a:lnTo>
                      <a:lnTo>
                        <a:pt x="714" y="222"/>
                      </a:lnTo>
                      <a:lnTo>
                        <a:pt x="714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9"/>
                      </a:lnTo>
                      <a:lnTo>
                        <a:pt x="720" y="222"/>
                      </a:lnTo>
                      <a:lnTo>
                        <a:pt x="720" y="229"/>
                      </a:lnTo>
                      <a:lnTo>
                        <a:pt x="720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36"/>
                      </a:lnTo>
                      <a:lnTo>
                        <a:pt x="727" y="236"/>
                      </a:lnTo>
                      <a:lnTo>
                        <a:pt x="720" y="236"/>
                      </a:lnTo>
                      <a:lnTo>
                        <a:pt x="720" y="236"/>
                      </a:lnTo>
                      <a:lnTo>
                        <a:pt x="727" y="236"/>
                      </a:lnTo>
                      <a:lnTo>
                        <a:pt x="727" y="236"/>
                      </a:lnTo>
                      <a:lnTo>
                        <a:pt x="720" y="236"/>
                      </a:lnTo>
                      <a:lnTo>
                        <a:pt x="727" y="236"/>
                      </a:lnTo>
                      <a:lnTo>
                        <a:pt x="720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50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34" y="243"/>
                      </a:lnTo>
                      <a:lnTo>
                        <a:pt x="734" y="243"/>
                      </a:lnTo>
                      <a:lnTo>
                        <a:pt x="734" y="243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41" y="250"/>
                      </a:lnTo>
                      <a:lnTo>
                        <a:pt x="741" y="250"/>
                      </a:lnTo>
                      <a:lnTo>
                        <a:pt x="741" y="250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82" y="250"/>
                      </a:lnTo>
                      <a:lnTo>
                        <a:pt x="782" y="250"/>
                      </a:lnTo>
                      <a:lnTo>
                        <a:pt x="782" y="250"/>
                      </a:lnTo>
                      <a:lnTo>
                        <a:pt x="775" y="257"/>
                      </a:lnTo>
                      <a:lnTo>
                        <a:pt x="775" y="257"/>
                      </a:lnTo>
                      <a:lnTo>
                        <a:pt x="768" y="270"/>
                      </a:lnTo>
                      <a:lnTo>
                        <a:pt x="762" y="270"/>
                      </a:lnTo>
                      <a:lnTo>
                        <a:pt x="762" y="284"/>
                      </a:lnTo>
                      <a:lnTo>
                        <a:pt x="755" y="291"/>
                      </a:lnTo>
                      <a:lnTo>
                        <a:pt x="755" y="291"/>
                      </a:lnTo>
                      <a:lnTo>
                        <a:pt x="755" y="298"/>
                      </a:lnTo>
                      <a:lnTo>
                        <a:pt x="755" y="298"/>
                      </a:lnTo>
                      <a:lnTo>
                        <a:pt x="748" y="305"/>
                      </a:lnTo>
                      <a:lnTo>
                        <a:pt x="748" y="305"/>
                      </a:lnTo>
                      <a:lnTo>
                        <a:pt x="748" y="305"/>
                      </a:lnTo>
                      <a:lnTo>
                        <a:pt x="741" y="312"/>
                      </a:lnTo>
                      <a:lnTo>
                        <a:pt x="741" y="319"/>
                      </a:lnTo>
                      <a:lnTo>
                        <a:pt x="741" y="326"/>
                      </a:lnTo>
                      <a:lnTo>
                        <a:pt x="734" y="326"/>
                      </a:lnTo>
                      <a:lnTo>
                        <a:pt x="734" y="326"/>
                      </a:lnTo>
                      <a:lnTo>
                        <a:pt x="734" y="326"/>
                      </a:lnTo>
                      <a:lnTo>
                        <a:pt x="734" y="333"/>
                      </a:lnTo>
                      <a:lnTo>
                        <a:pt x="734" y="333"/>
                      </a:lnTo>
                      <a:lnTo>
                        <a:pt x="727" y="333"/>
                      </a:lnTo>
                      <a:lnTo>
                        <a:pt x="727" y="340"/>
                      </a:lnTo>
                      <a:lnTo>
                        <a:pt x="727" y="340"/>
                      </a:lnTo>
                      <a:lnTo>
                        <a:pt x="727" y="340"/>
                      </a:lnTo>
                      <a:lnTo>
                        <a:pt x="727" y="340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54"/>
                      </a:lnTo>
                      <a:lnTo>
                        <a:pt x="714" y="354"/>
                      </a:lnTo>
                      <a:lnTo>
                        <a:pt x="714" y="354"/>
                      </a:lnTo>
                      <a:lnTo>
                        <a:pt x="707" y="361"/>
                      </a:lnTo>
                      <a:lnTo>
                        <a:pt x="707" y="361"/>
                      </a:lnTo>
                      <a:lnTo>
                        <a:pt x="707" y="361"/>
                      </a:lnTo>
                      <a:lnTo>
                        <a:pt x="707" y="368"/>
                      </a:lnTo>
                      <a:lnTo>
                        <a:pt x="700" y="368"/>
                      </a:lnTo>
                      <a:lnTo>
                        <a:pt x="700" y="368"/>
                      </a:lnTo>
                      <a:lnTo>
                        <a:pt x="700" y="368"/>
                      </a:lnTo>
                      <a:lnTo>
                        <a:pt x="700" y="374"/>
                      </a:lnTo>
                      <a:lnTo>
                        <a:pt x="700" y="374"/>
                      </a:lnTo>
                      <a:lnTo>
                        <a:pt x="693" y="374"/>
                      </a:lnTo>
                      <a:lnTo>
                        <a:pt x="693" y="374"/>
                      </a:lnTo>
                      <a:lnTo>
                        <a:pt x="693" y="374"/>
                      </a:lnTo>
                      <a:lnTo>
                        <a:pt x="693" y="374"/>
                      </a:lnTo>
                      <a:lnTo>
                        <a:pt x="693" y="374"/>
                      </a:lnTo>
                      <a:lnTo>
                        <a:pt x="686" y="381"/>
                      </a:lnTo>
                      <a:lnTo>
                        <a:pt x="686" y="381"/>
                      </a:lnTo>
                      <a:lnTo>
                        <a:pt x="686" y="381"/>
                      </a:lnTo>
                      <a:lnTo>
                        <a:pt x="679" y="381"/>
                      </a:lnTo>
                      <a:lnTo>
                        <a:pt x="679" y="381"/>
                      </a:lnTo>
                      <a:lnTo>
                        <a:pt x="679" y="381"/>
                      </a:lnTo>
                      <a:lnTo>
                        <a:pt x="672" y="381"/>
                      </a:lnTo>
                      <a:lnTo>
                        <a:pt x="679" y="374"/>
                      </a:lnTo>
                      <a:lnTo>
                        <a:pt x="679" y="374"/>
                      </a:lnTo>
                      <a:lnTo>
                        <a:pt x="679" y="374"/>
                      </a:lnTo>
                      <a:lnTo>
                        <a:pt x="672" y="374"/>
                      </a:lnTo>
                      <a:lnTo>
                        <a:pt x="672" y="374"/>
                      </a:lnTo>
                      <a:lnTo>
                        <a:pt x="672" y="381"/>
                      </a:lnTo>
                      <a:lnTo>
                        <a:pt x="672" y="381"/>
                      </a:lnTo>
                      <a:lnTo>
                        <a:pt x="672" y="381"/>
                      </a:lnTo>
                      <a:lnTo>
                        <a:pt x="665" y="381"/>
                      </a:lnTo>
                      <a:lnTo>
                        <a:pt x="665" y="381"/>
                      </a:lnTo>
                      <a:lnTo>
                        <a:pt x="665" y="381"/>
                      </a:lnTo>
                      <a:lnTo>
                        <a:pt x="665" y="381"/>
                      </a:lnTo>
                      <a:lnTo>
                        <a:pt x="665" y="388"/>
                      </a:lnTo>
                      <a:lnTo>
                        <a:pt x="665" y="388"/>
                      </a:lnTo>
                      <a:lnTo>
                        <a:pt x="665" y="388"/>
                      </a:lnTo>
                      <a:lnTo>
                        <a:pt x="659" y="388"/>
                      </a:lnTo>
                      <a:lnTo>
                        <a:pt x="659" y="388"/>
                      </a:lnTo>
                      <a:lnTo>
                        <a:pt x="659" y="388"/>
                      </a:lnTo>
                      <a:lnTo>
                        <a:pt x="659" y="388"/>
                      </a:lnTo>
                      <a:lnTo>
                        <a:pt x="659" y="388"/>
                      </a:lnTo>
                      <a:lnTo>
                        <a:pt x="659" y="395"/>
                      </a:lnTo>
                      <a:lnTo>
                        <a:pt x="652" y="395"/>
                      </a:lnTo>
                      <a:lnTo>
                        <a:pt x="652" y="395"/>
                      </a:lnTo>
                      <a:lnTo>
                        <a:pt x="652" y="395"/>
                      </a:lnTo>
                      <a:lnTo>
                        <a:pt x="652" y="395"/>
                      </a:lnTo>
                      <a:lnTo>
                        <a:pt x="652" y="395"/>
                      </a:lnTo>
                      <a:lnTo>
                        <a:pt x="645" y="395"/>
                      </a:lnTo>
                      <a:lnTo>
                        <a:pt x="645" y="395"/>
                      </a:lnTo>
                      <a:lnTo>
                        <a:pt x="645" y="395"/>
                      </a:lnTo>
                      <a:lnTo>
                        <a:pt x="645" y="402"/>
                      </a:lnTo>
                      <a:lnTo>
                        <a:pt x="645" y="402"/>
                      </a:lnTo>
                      <a:lnTo>
                        <a:pt x="645" y="409"/>
                      </a:lnTo>
                      <a:lnTo>
                        <a:pt x="645" y="409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45" y="409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52" y="416"/>
                      </a:lnTo>
                      <a:lnTo>
                        <a:pt x="652" y="416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52" y="430"/>
                      </a:lnTo>
                      <a:lnTo>
                        <a:pt x="652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38" y="444"/>
                      </a:lnTo>
                      <a:lnTo>
                        <a:pt x="638" y="444"/>
                      </a:lnTo>
                      <a:lnTo>
                        <a:pt x="638" y="444"/>
                      </a:lnTo>
                      <a:lnTo>
                        <a:pt x="638" y="451"/>
                      </a:lnTo>
                      <a:lnTo>
                        <a:pt x="645" y="451"/>
                      </a:lnTo>
                      <a:lnTo>
                        <a:pt x="645" y="451"/>
                      </a:lnTo>
                      <a:lnTo>
                        <a:pt x="645" y="458"/>
                      </a:lnTo>
                      <a:lnTo>
                        <a:pt x="645" y="458"/>
                      </a:lnTo>
                      <a:lnTo>
                        <a:pt x="645" y="458"/>
                      </a:lnTo>
                      <a:lnTo>
                        <a:pt x="645" y="458"/>
                      </a:lnTo>
                      <a:lnTo>
                        <a:pt x="645" y="465"/>
                      </a:lnTo>
                      <a:lnTo>
                        <a:pt x="645" y="465"/>
                      </a:lnTo>
                      <a:lnTo>
                        <a:pt x="645" y="465"/>
                      </a:lnTo>
                      <a:lnTo>
                        <a:pt x="645" y="472"/>
                      </a:lnTo>
                      <a:lnTo>
                        <a:pt x="645" y="472"/>
                      </a:lnTo>
                      <a:lnTo>
                        <a:pt x="645" y="479"/>
                      </a:lnTo>
                      <a:lnTo>
                        <a:pt x="645" y="479"/>
                      </a:lnTo>
                      <a:lnTo>
                        <a:pt x="638" y="479"/>
                      </a:lnTo>
                      <a:lnTo>
                        <a:pt x="638" y="485"/>
                      </a:lnTo>
                      <a:lnTo>
                        <a:pt x="638" y="485"/>
                      </a:lnTo>
                      <a:lnTo>
                        <a:pt x="638" y="485"/>
                      </a:lnTo>
                      <a:lnTo>
                        <a:pt x="638" y="485"/>
                      </a:lnTo>
                      <a:lnTo>
                        <a:pt x="638" y="485"/>
                      </a:lnTo>
                      <a:lnTo>
                        <a:pt x="645" y="492"/>
                      </a:lnTo>
                      <a:lnTo>
                        <a:pt x="638" y="492"/>
                      </a:lnTo>
                      <a:lnTo>
                        <a:pt x="638" y="492"/>
                      </a:lnTo>
                      <a:lnTo>
                        <a:pt x="638" y="492"/>
                      </a:lnTo>
                      <a:lnTo>
                        <a:pt x="638" y="499"/>
                      </a:lnTo>
                      <a:lnTo>
                        <a:pt x="638" y="506"/>
                      </a:lnTo>
                      <a:lnTo>
                        <a:pt x="638" y="506"/>
                      </a:lnTo>
                      <a:lnTo>
                        <a:pt x="638" y="506"/>
                      </a:lnTo>
                      <a:lnTo>
                        <a:pt x="638" y="513"/>
                      </a:lnTo>
                      <a:lnTo>
                        <a:pt x="638" y="513"/>
                      </a:lnTo>
                      <a:lnTo>
                        <a:pt x="638" y="513"/>
                      </a:lnTo>
                      <a:lnTo>
                        <a:pt x="638" y="513"/>
                      </a:lnTo>
                      <a:lnTo>
                        <a:pt x="631" y="520"/>
                      </a:lnTo>
                      <a:lnTo>
                        <a:pt x="631" y="520"/>
                      </a:lnTo>
                      <a:lnTo>
                        <a:pt x="631" y="527"/>
                      </a:lnTo>
                      <a:lnTo>
                        <a:pt x="631" y="527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27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41"/>
                      </a:lnTo>
                      <a:lnTo>
                        <a:pt x="638" y="541"/>
                      </a:lnTo>
                      <a:lnTo>
                        <a:pt x="638" y="541"/>
                      </a:lnTo>
                      <a:lnTo>
                        <a:pt x="638" y="541"/>
                      </a:lnTo>
                      <a:lnTo>
                        <a:pt x="638" y="548"/>
                      </a:lnTo>
                      <a:lnTo>
                        <a:pt x="638" y="548"/>
                      </a:lnTo>
                      <a:lnTo>
                        <a:pt x="638" y="555"/>
                      </a:lnTo>
                      <a:lnTo>
                        <a:pt x="638" y="569"/>
                      </a:lnTo>
                      <a:lnTo>
                        <a:pt x="638" y="569"/>
                      </a:lnTo>
                      <a:lnTo>
                        <a:pt x="638" y="569"/>
                      </a:lnTo>
                      <a:lnTo>
                        <a:pt x="638" y="576"/>
                      </a:lnTo>
                      <a:lnTo>
                        <a:pt x="638" y="576"/>
                      </a:lnTo>
                      <a:lnTo>
                        <a:pt x="645" y="583"/>
                      </a:lnTo>
                      <a:lnTo>
                        <a:pt x="645" y="590"/>
                      </a:lnTo>
                      <a:lnTo>
                        <a:pt x="645" y="590"/>
                      </a:lnTo>
                      <a:lnTo>
                        <a:pt x="645" y="596"/>
                      </a:lnTo>
                      <a:lnTo>
                        <a:pt x="645" y="596"/>
                      </a:lnTo>
                      <a:lnTo>
                        <a:pt x="645" y="603"/>
                      </a:lnTo>
                      <a:lnTo>
                        <a:pt x="645" y="610"/>
                      </a:lnTo>
                      <a:lnTo>
                        <a:pt x="645" y="610"/>
                      </a:lnTo>
                      <a:lnTo>
                        <a:pt x="645" y="610"/>
                      </a:lnTo>
                      <a:lnTo>
                        <a:pt x="645" y="617"/>
                      </a:lnTo>
                      <a:lnTo>
                        <a:pt x="652" y="617"/>
                      </a:lnTo>
                      <a:lnTo>
                        <a:pt x="652" y="617"/>
                      </a:lnTo>
                      <a:lnTo>
                        <a:pt x="652" y="624"/>
                      </a:lnTo>
                      <a:lnTo>
                        <a:pt x="652" y="624"/>
                      </a:lnTo>
                      <a:lnTo>
                        <a:pt x="652" y="624"/>
                      </a:lnTo>
                      <a:lnTo>
                        <a:pt x="652" y="624"/>
                      </a:lnTo>
                      <a:lnTo>
                        <a:pt x="652" y="624"/>
                      </a:lnTo>
                      <a:lnTo>
                        <a:pt x="645" y="631"/>
                      </a:lnTo>
                      <a:lnTo>
                        <a:pt x="645" y="638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52"/>
                      </a:lnTo>
                      <a:lnTo>
                        <a:pt x="645" y="652"/>
                      </a:lnTo>
                      <a:lnTo>
                        <a:pt x="645" y="652"/>
                      </a:lnTo>
                      <a:lnTo>
                        <a:pt x="638" y="652"/>
                      </a:lnTo>
                      <a:lnTo>
                        <a:pt x="638" y="652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73"/>
                      </a:lnTo>
                      <a:lnTo>
                        <a:pt x="631" y="673"/>
                      </a:lnTo>
                      <a:lnTo>
                        <a:pt x="631" y="673"/>
                      </a:lnTo>
                      <a:lnTo>
                        <a:pt x="638" y="673"/>
                      </a:lnTo>
                      <a:lnTo>
                        <a:pt x="631" y="673"/>
                      </a:lnTo>
                      <a:lnTo>
                        <a:pt x="631" y="673"/>
                      </a:lnTo>
                      <a:lnTo>
                        <a:pt x="631" y="673"/>
                      </a:lnTo>
                      <a:lnTo>
                        <a:pt x="631" y="680"/>
                      </a:lnTo>
                      <a:lnTo>
                        <a:pt x="631" y="680"/>
                      </a:lnTo>
                      <a:lnTo>
                        <a:pt x="631" y="687"/>
                      </a:lnTo>
                      <a:lnTo>
                        <a:pt x="631" y="687"/>
                      </a:lnTo>
                      <a:lnTo>
                        <a:pt x="631" y="687"/>
                      </a:lnTo>
                      <a:lnTo>
                        <a:pt x="631" y="687"/>
                      </a:lnTo>
                      <a:lnTo>
                        <a:pt x="631" y="687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701"/>
                      </a:lnTo>
                      <a:lnTo>
                        <a:pt x="624" y="694"/>
                      </a:lnTo>
                      <a:lnTo>
                        <a:pt x="624" y="701"/>
                      </a:lnTo>
                      <a:lnTo>
                        <a:pt x="624" y="701"/>
                      </a:lnTo>
                      <a:lnTo>
                        <a:pt x="624" y="707"/>
                      </a:lnTo>
                      <a:lnTo>
                        <a:pt x="631" y="707"/>
                      </a:lnTo>
                      <a:lnTo>
                        <a:pt x="631" y="707"/>
                      </a:lnTo>
                      <a:lnTo>
                        <a:pt x="631" y="707"/>
                      </a:lnTo>
                      <a:lnTo>
                        <a:pt x="624" y="714"/>
                      </a:lnTo>
                      <a:lnTo>
                        <a:pt x="624" y="714"/>
                      </a:lnTo>
                      <a:lnTo>
                        <a:pt x="624" y="721"/>
                      </a:lnTo>
                      <a:lnTo>
                        <a:pt x="624" y="721"/>
                      </a:lnTo>
                      <a:lnTo>
                        <a:pt x="624" y="721"/>
                      </a:lnTo>
                      <a:lnTo>
                        <a:pt x="624" y="721"/>
                      </a:lnTo>
                      <a:lnTo>
                        <a:pt x="624" y="728"/>
                      </a:lnTo>
                      <a:lnTo>
                        <a:pt x="624" y="728"/>
                      </a:lnTo>
                      <a:lnTo>
                        <a:pt x="624" y="728"/>
                      </a:lnTo>
                      <a:lnTo>
                        <a:pt x="624" y="728"/>
                      </a:lnTo>
                      <a:lnTo>
                        <a:pt x="624" y="728"/>
                      </a:lnTo>
                      <a:lnTo>
                        <a:pt x="624" y="735"/>
                      </a:lnTo>
                      <a:lnTo>
                        <a:pt x="624" y="742"/>
                      </a:lnTo>
                      <a:lnTo>
                        <a:pt x="624" y="742"/>
                      </a:lnTo>
                      <a:lnTo>
                        <a:pt x="624" y="742"/>
                      </a:lnTo>
                      <a:lnTo>
                        <a:pt x="624" y="749"/>
                      </a:lnTo>
                      <a:lnTo>
                        <a:pt x="624" y="749"/>
                      </a:lnTo>
                      <a:lnTo>
                        <a:pt x="624" y="756"/>
                      </a:lnTo>
                      <a:lnTo>
                        <a:pt x="624" y="756"/>
                      </a:lnTo>
                      <a:lnTo>
                        <a:pt x="624" y="763"/>
                      </a:lnTo>
                      <a:lnTo>
                        <a:pt x="624" y="763"/>
                      </a:lnTo>
                      <a:lnTo>
                        <a:pt x="624" y="770"/>
                      </a:lnTo>
                      <a:lnTo>
                        <a:pt x="624" y="770"/>
                      </a:lnTo>
                      <a:lnTo>
                        <a:pt x="624" y="777"/>
                      </a:lnTo>
                      <a:lnTo>
                        <a:pt x="631" y="777"/>
                      </a:lnTo>
                      <a:lnTo>
                        <a:pt x="624" y="777"/>
                      </a:lnTo>
                      <a:lnTo>
                        <a:pt x="624" y="784"/>
                      </a:lnTo>
                      <a:lnTo>
                        <a:pt x="624" y="784"/>
                      </a:lnTo>
                      <a:lnTo>
                        <a:pt x="624" y="784"/>
                      </a:lnTo>
                      <a:lnTo>
                        <a:pt x="624" y="784"/>
                      </a:lnTo>
                      <a:lnTo>
                        <a:pt x="617" y="791"/>
                      </a:lnTo>
                      <a:lnTo>
                        <a:pt x="617" y="791"/>
                      </a:lnTo>
                      <a:lnTo>
                        <a:pt x="617" y="791"/>
                      </a:lnTo>
                      <a:lnTo>
                        <a:pt x="617" y="791"/>
                      </a:lnTo>
                      <a:lnTo>
                        <a:pt x="617" y="791"/>
                      </a:lnTo>
                      <a:lnTo>
                        <a:pt x="611" y="798"/>
                      </a:lnTo>
                      <a:lnTo>
                        <a:pt x="611" y="798"/>
                      </a:lnTo>
                      <a:lnTo>
                        <a:pt x="611" y="798"/>
                      </a:lnTo>
                      <a:lnTo>
                        <a:pt x="611" y="798"/>
                      </a:lnTo>
                      <a:lnTo>
                        <a:pt x="611" y="798"/>
                      </a:lnTo>
                      <a:lnTo>
                        <a:pt x="604" y="798"/>
                      </a:lnTo>
                      <a:lnTo>
                        <a:pt x="604" y="798"/>
                      </a:lnTo>
                      <a:lnTo>
                        <a:pt x="604" y="798"/>
                      </a:lnTo>
                      <a:lnTo>
                        <a:pt x="597" y="798"/>
                      </a:lnTo>
                      <a:lnTo>
                        <a:pt x="597" y="805"/>
                      </a:lnTo>
                      <a:lnTo>
                        <a:pt x="597" y="805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8"/>
                      </a:lnTo>
                      <a:lnTo>
                        <a:pt x="583" y="825"/>
                      </a:lnTo>
                      <a:lnTo>
                        <a:pt x="583" y="825"/>
                      </a:lnTo>
                      <a:lnTo>
                        <a:pt x="583" y="825"/>
                      </a:lnTo>
                      <a:lnTo>
                        <a:pt x="583" y="825"/>
                      </a:lnTo>
                      <a:lnTo>
                        <a:pt x="583" y="832"/>
                      </a:lnTo>
                      <a:lnTo>
                        <a:pt x="583" y="832"/>
                      </a:lnTo>
                      <a:lnTo>
                        <a:pt x="583" y="832"/>
                      </a:lnTo>
                      <a:lnTo>
                        <a:pt x="583" y="832"/>
                      </a:lnTo>
                      <a:lnTo>
                        <a:pt x="583" y="832"/>
                      </a:lnTo>
                      <a:lnTo>
                        <a:pt x="562" y="818"/>
                      </a:lnTo>
                      <a:lnTo>
                        <a:pt x="562" y="818"/>
                      </a:lnTo>
                      <a:lnTo>
                        <a:pt x="562" y="818"/>
                      </a:lnTo>
                      <a:lnTo>
                        <a:pt x="549" y="812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42" y="791"/>
                      </a:lnTo>
                      <a:lnTo>
                        <a:pt x="542" y="791"/>
                      </a:lnTo>
                      <a:lnTo>
                        <a:pt x="542" y="791"/>
                      </a:lnTo>
                      <a:lnTo>
                        <a:pt x="542" y="791"/>
                      </a:lnTo>
                      <a:lnTo>
                        <a:pt x="535" y="791"/>
                      </a:lnTo>
                      <a:lnTo>
                        <a:pt x="535" y="791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77"/>
                      </a:lnTo>
                      <a:lnTo>
                        <a:pt x="535" y="784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0"/>
                      </a:lnTo>
                      <a:lnTo>
                        <a:pt x="528" y="770"/>
                      </a:lnTo>
                      <a:lnTo>
                        <a:pt x="528" y="770"/>
                      </a:lnTo>
                      <a:lnTo>
                        <a:pt x="528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63"/>
                      </a:lnTo>
                      <a:lnTo>
                        <a:pt x="521" y="763"/>
                      </a:lnTo>
                      <a:lnTo>
                        <a:pt x="514" y="770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1" y="756"/>
                      </a:lnTo>
                      <a:lnTo>
                        <a:pt x="501" y="756"/>
                      </a:lnTo>
                      <a:lnTo>
                        <a:pt x="501" y="749"/>
                      </a:lnTo>
                      <a:lnTo>
                        <a:pt x="501" y="749"/>
                      </a:lnTo>
                      <a:lnTo>
                        <a:pt x="501" y="749"/>
                      </a:lnTo>
                      <a:lnTo>
                        <a:pt x="508" y="749"/>
                      </a:lnTo>
                      <a:lnTo>
                        <a:pt x="501" y="749"/>
                      </a:lnTo>
                      <a:lnTo>
                        <a:pt x="501" y="749"/>
                      </a:lnTo>
                      <a:lnTo>
                        <a:pt x="508" y="749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35"/>
                      </a:lnTo>
                      <a:lnTo>
                        <a:pt x="508" y="735"/>
                      </a:lnTo>
                      <a:lnTo>
                        <a:pt x="508" y="735"/>
                      </a:lnTo>
                      <a:lnTo>
                        <a:pt x="508" y="735"/>
                      </a:lnTo>
                      <a:lnTo>
                        <a:pt x="508" y="735"/>
                      </a:lnTo>
                      <a:lnTo>
                        <a:pt x="508" y="728"/>
                      </a:lnTo>
                      <a:lnTo>
                        <a:pt x="508" y="728"/>
                      </a:lnTo>
                      <a:lnTo>
                        <a:pt x="508" y="728"/>
                      </a:lnTo>
                      <a:lnTo>
                        <a:pt x="508" y="728"/>
                      </a:lnTo>
                      <a:lnTo>
                        <a:pt x="508" y="728"/>
                      </a:lnTo>
                      <a:lnTo>
                        <a:pt x="508" y="721"/>
                      </a:lnTo>
                      <a:lnTo>
                        <a:pt x="508" y="721"/>
                      </a:lnTo>
                      <a:lnTo>
                        <a:pt x="508" y="714"/>
                      </a:lnTo>
                      <a:lnTo>
                        <a:pt x="508" y="714"/>
                      </a:lnTo>
                      <a:lnTo>
                        <a:pt x="514" y="714"/>
                      </a:lnTo>
                      <a:lnTo>
                        <a:pt x="514" y="714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8" y="707"/>
                      </a:lnTo>
                      <a:lnTo>
                        <a:pt x="528" y="707"/>
                      </a:lnTo>
                      <a:lnTo>
                        <a:pt x="528" y="707"/>
                      </a:lnTo>
                      <a:lnTo>
                        <a:pt x="528" y="714"/>
                      </a:lnTo>
                      <a:lnTo>
                        <a:pt x="528" y="707"/>
                      </a:lnTo>
                      <a:lnTo>
                        <a:pt x="528" y="714"/>
                      </a:lnTo>
                      <a:lnTo>
                        <a:pt x="528" y="707"/>
                      </a:lnTo>
                      <a:lnTo>
                        <a:pt x="528" y="707"/>
                      </a:lnTo>
                      <a:lnTo>
                        <a:pt x="528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1"/>
                      </a:lnTo>
                      <a:lnTo>
                        <a:pt x="535" y="701"/>
                      </a:lnTo>
                      <a:lnTo>
                        <a:pt x="535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87"/>
                      </a:lnTo>
                      <a:lnTo>
                        <a:pt x="528" y="687"/>
                      </a:lnTo>
                      <a:lnTo>
                        <a:pt x="528" y="687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73"/>
                      </a:lnTo>
                      <a:lnTo>
                        <a:pt x="542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66"/>
                      </a:lnTo>
                      <a:lnTo>
                        <a:pt x="556" y="666"/>
                      </a:lnTo>
                      <a:lnTo>
                        <a:pt x="556" y="666"/>
                      </a:lnTo>
                      <a:lnTo>
                        <a:pt x="556" y="666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62" y="659"/>
                      </a:lnTo>
                      <a:lnTo>
                        <a:pt x="562" y="659"/>
                      </a:lnTo>
                      <a:lnTo>
                        <a:pt x="562" y="659"/>
                      </a:lnTo>
                      <a:lnTo>
                        <a:pt x="562" y="659"/>
                      </a:lnTo>
                      <a:lnTo>
                        <a:pt x="562" y="659"/>
                      </a:lnTo>
                      <a:lnTo>
                        <a:pt x="562" y="652"/>
                      </a:lnTo>
                      <a:lnTo>
                        <a:pt x="562" y="652"/>
                      </a:lnTo>
                      <a:lnTo>
                        <a:pt x="562" y="652"/>
                      </a:lnTo>
                      <a:lnTo>
                        <a:pt x="562" y="652"/>
                      </a:lnTo>
                      <a:lnTo>
                        <a:pt x="562" y="652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9" y="645"/>
                      </a:lnTo>
                      <a:lnTo>
                        <a:pt x="569" y="645"/>
                      </a:lnTo>
                      <a:lnTo>
                        <a:pt x="569" y="645"/>
                      </a:lnTo>
                      <a:lnTo>
                        <a:pt x="562" y="645"/>
                      </a:lnTo>
                      <a:lnTo>
                        <a:pt x="562" y="638"/>
                      </a:lnTo>
                      <a:lnTo>
                        <a:pt x="562" y="638"/>
                      </a:lnTo>
                      <a:lnTo>
                        <a:pt x="562" y="638"/>
                      </a:lnTo>
                      <a:lnTo>
                        <a:pt x="562" y="638"/>
                      </a:lnTo>
                      <a:lnTo>
                        <a:pt x="562" y="638"/>
                      </a:lnTo>
                      <a:lnTo>
                        <a:pt x="562" y="631"/>
                      </a:lnTo>
                      <a:lnTo>
                        <a:pt x="562" y="631"/>
                      </a:lnTo>
                      <a:lnTo>
                        <a:pt x="562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35" y="624"/>
                      </a:lnTo>
                      <a:lnTo>
                        <a:pt x="542" y="624"/>
                      </a:lnTo>
                      <a:lnTo>
                        <a:pt x="535" y="624"/>
                      </a:lnTo>
                      <a:lnTo>
                        <a:pt x="535" y="624"/>
                      </a:lnTo>
                      <a:lnTo>
                        <a:pt x="535" y="624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14" y="610"/>
                      </a:lnTo>
                      <a:lnTo>
                        <a:pt x="514" y="610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494" y="603"/>
                      </a:lnTo>
                      <a:lnTo>
                        <a:pt x="494" y="603"/>
                      </a:lnTo>
                      <a:lnTo>
                        <a:pt x="494" y="603"/>
                      </a:lnTo>
                      <a:lnTo>
                        <a:pt x="494" y="603"/>
                      </a:lnTo>
                      <a:lnTo>
                        <a:pt x="494" y="610"/>
                      </a:lnTo>
                      <a:lnTo>
                        <a:pt x="494" y="610"/>
                      </a:lnTo>
                      <a:lnTo>
                        <a:pt x="494" y="610"/>
                      </a:lnTo>
                      <a:lnTo>
                        <a:pt x="487" y="610"/>
                      </a:lnTo>
                      <a:lnTo>
                        <a:pt x="487" y="610"/>
                      </a:lnTo>
                      <a:lnTo>
                        <a:pt x="487" y="610"/>
                      </a:lnTo>
                      <a:lnTo>
                        <a:pt x="487" y="610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10"/>
                      </a:lnTo>
                      <a:lnTo>
                        <a:pt x="480" y="610"/>
                      </a:lnTo>
                      <a:lnTo>
                        <a:pt x="480" y="610"/>
                      </a:lnTo>
                      <a:lnTo>
                        <a:pt x="480" y="610"/>
                      </a:lnTo>
                      <a:lnTo>
                        <a:pt x="480" y="610"/>
                      </a:lnTo>
                      <a:lnTo>
                        <a:pt x="480" y="603"/>
                      </a:lnTo>
                      <a:lnTo>
                        <a:pt x="480" y="603"/>
                      </a:lnTo>
                      <a:lnTo>
                        <a:pt x="473" y="603"/>
                      </a:lnTo>
                      <a:lnTo>
                        <a:pt x="473" y="603"/>
                      </a:lnTo>
                      <a:lnTo>
                        <a:pt x="473" y="603"/>
                      </a:lnTo>
                      <a:lnTo>
                        <a:pt x="473" y="603"/>
                      </a:lnTo>
                      <a:lnTo>
                        <a:pt x="473" y="603"/>
                      </a:lnTo>
                      <a:lnTo>
                        <a:pt x="473" y="610"/>
                      </a:lnTo>
                      <a:lnTo>
                        <a:pt x="473" y="610"/>
                      </a:lnTo>
                      <a:lnTo>
                        <a:pt x="473" y="610"/>
                      </a:lnTo>
                      <a:lnTo>
                        <a:pt x="466" y="610"/>
                      </a:lnTo>
                      <a:lnTo>
                        <a:pt x="466" y="610"/>
                      </a:lnTo>
                      <a:lnTo>
                        <a:pt x="466" y="610"/>
                      </a:lnTo>
                      <a:lnTo>
                        <a:pt x="466" y="610"/>
                      </a:lnTo>
                      <a:lnTo>
                        <a:pt x="460" y="610"/>
                      </a:lnTo>
                      <a:lnTo>
                        <a:pt x="460" y="610"/>
                      </a:lnTo>
                      <a:lnTo>
                        <a:pt x="460" y="610"/>
                      </a:lnTo>
                      <a:lnTo>
                        <a:pt x="460" y="617"/>
                      </a:lnTo>
                      <a:lnTo>
                        <a:pt x="460" y="610"/>
                      </a:lnTo>
                      <a:lnTo>
                        <a:pt x="460" y="610"/>
                      </a:lnTo>
                      <a:lnTo>
                        <a:pt x="453" y="610"/>
                      </a:lnTo>
                      <a:lnTo>
                        <a:pt x="453" y="610"/>
                      </a:lnTo>
                      <a:lnTo>
                        <a:pt x="453" y="610"/>
                      </a:lnTo>
                      <a:lnTo>
                        <a:pt x="453" y="610"/>
                      </a:lnTo>
                      <a:lnTo>
                        <a:pt x="446" y="610"/>
                      </a:lnTo>
                      <a:lnTo>
                        <a:pt x="446" y="610"/>
                      </a:lnTo>
                      <a:lnTo>
                        <a:pt x="446" y="610"/>
                      </a:lnTo>
                      <a:lnTo>
                        <a:pt x="446" y="610"/>
                      </a:lnTo>
                      <a:lnTo>
                        <a:pt x="446" y="610"/>
                      </a:lnTo>
                      <a:lnTo>
                        <a:pt x="439" y="610"/>
                      </a:lnTo>
                      <a:lnTo>
                        <a:pt x="439" y="603"/>
                      </a:lnTo>
                      <a:lnTo>
                        <a:pt x="439" y="590"/>
                      </a:lnTo>
                      <a:lnTo>
                        <a:pt x="439" y="590"/>
                      </a:lnTo>
                      <a:lnTo>
                        <a:pt x="439" y="590"/>
                      </a:lnTo>
                      <a:lnTo>
                        <a:pt x="432" y="583"/>
                      </a:lnTo>
                      <a:lnTo>
                        <a:pt x="425" y="576"/>
                      </a:lnTo>
                      <a:lnTo>
                        <a:pt x="405" y="555"/>
                      </a:lnTo>
                      <a:lnTo>
                        <a:pt x="405" y="555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1" y="562"/>
                      </a:lnTo>
                      <a:lnTo>
                        <a:pt x="391" y="562"/>
                      </a:lnTo>
                      <a:lnTo>
                        <a:pt x="391" y="562"/>
                      </a:lnTo>
                      <a:lnTo>
                        <a:pt x="391" y="562"/>
                      </a:lnTo>
                      <a:lnTo>
                        <a:pt x="391" y="562"/>
                      </a:lnTo>
                      <a:lnTo>
                        <a:pt x="384" y="562"/>
                      </a:lnTo>
                      <a:lnTo>
                        <a:pt x="384" y="562"/>
                      </a:lnTo>
                      <a:lnTo>
                        <a:pt x="384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0" y="562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63" y="555"/>
                      </a:lnTo>
                      <a:lnTo>
                        <a:pt x="363" y="555"/>
                      </a:lnTo>
                      <a:lnTo>
                        <a:pt x="363" y="562"/>
                      </a:lnTo>
                      <a:lnTo>
                        <a:pt x="363" y="562"/>
                      </a:lnTo>
                      <a:lnTo>
                        <a:pt x="363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0" y="555"/>
                      </a:lnTo>
                      <a:lnTo>
                        <a:pt x="350" y="555"/>
                      </a:lnTo>
                      <a:lnTo>
                        <a:pt x="350" y="555"/>
                      </a:lnTo>
                      <a:lnTo>
                        <a:pt x="350" y="555"/>
                      </a:lnTo>
                      <a:lnTo>
                        <a:pt x="350" y="555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36" y="548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8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34"/>
                      </a:lnTo>
                      <a:lnTo>
                        <a:pt x="322" y="534"/>
                      </a:lnTo>
                      <a:lnTo>
                        <a:pt x="315" y="534"/>
                      </a:lnTo>
                      <a:lnTo>
                        <a:pt x="315" y="534"/>
                      </a:lnTo>
                      <a:lnTo>
                        <a:pt x="315" y="534"/>
                      </a:lnTo>
                      <a:lnTo>
                        <a:pt x="315" y="534"/>
                      </a:lnTo>
                      <a:lnTo>
                        <a:pt x="315" y="527"/>
                      </a:lnTo>
                      <a:lnTo>
                        <a:pt x="315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2" y="520"/>
                      </a:lnTo>
                      <a:lnTo>
                        <a:pt x="302" y="527"/>
                      </a:lnTo>
                      <a:lnTo>
                        <a:pt x="302" y="520"/>
                      </a:lnTo>
                      <a:lnTo>
                        <a:pt x="302" y="527"/>
                      </a:lnTo>
                      <a:lnTo>
                        <a:pt x="302" y="520"/>
                      </a:lnTo>
                      <a:lnTo>
                        <a:pt x="302" y="520"/>
                      </a:lnTo>
                      <a:lnTo>
                        <a:pt x="302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88" y="520"/>
                      </a:lnTo>
                      <a:lnTo>
                        <a:pt x="288" y="520"/>
                      </a:lnTo>
                      <a:lnTo>
                        <a:pt x="288" y="520"/>
                      </a:lnTo>
                      <a:lnTo>
                        <a:pt x="288" y="520"/>
                      </a:lnTo>
                      <a:lnTo>
                        <a:pt x="281" y="520"/>
                      </a:lnTo>
                      <a:lnTo>
                        <a:pt x="281" y="520"/>
                      </a:lnTo>
                      <a:lnTo>
                        <a:pt x="281" y="520"/>
                      </a:lnTo>
                      <a:lnTo>
                        <a:pt x="281" y="520"/>
                      </a:lnTo>
                      <a:lnTo>
                        <a:pt x="274" y="520"/>
                      </a:lnTo>
                      <a:lnTo>
                        <a:pt x="274" y="520"/>
                      </a:lnTo>
                      <a:lnTo>
                        <a:pt x="274" y="520"/>
                      </a:lnTo>
                      <a:lnTo>
                        <a:pt x="274" y="520"/>
                      </a:lnTo>
                      <a:lnTo>
                        <a:pt x="274" y="520"/>
                      </a:lnTo>
                      <a:lnTo>
                        <a:pt x="267" y="520"/>
                      </a:lnTo>
                      <a:lnTo>
                        <a:pt x="267" y="527"/>
                      </a:lnTo>
                      <a:lnTo>
                        <a:pt x="267" y="527"/>
                      </a:lnTo>
                      <a:lnTo>
                        <a:pt x="267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54" y="534"/>
                      </a:lnTo>
                      <a:lnTo>
                        <a:pt x="254" y="534"/>
                      </a:lnTo>
                      <a:lnTo>
                        <a:pt x="254" y="527"/>
                      </a:lnTo>
                      <a:lnTo>
                        <a:pt x="254" y="527"/>
                      </a:lnTo>
                      <a:lnTo>
                        <a:pt x="254" y="527"/>
                      </a:lnTo>
                      <a:lnTo>
                        <a:pt x="254" y="527"/>
                      </a:lnTo>
                      <a:lnTo>
                        <a:pt x="247" y="527"/>
                      </a:lnTo>
                      <a:lnTo>
                        <a:pt x="247" y="527"/>
                      </a:lnTo>
                      <a:lnTo>
                        <a:pt x="247" y="527"/>
                      </a:lnTo>
                      <a:lnTo>
                        <a:pt x="247" y="527"/>
                      </a:lnTo>
                      <a:lnTo>
                        <a:pt x="247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0"/>
                      </a:lnTo>
                      <a:lnTo>
                        <a:pt x="240" y="520"/>
                      </a:lnTo>
                      <a:lnTo>
                        <a:pt x="240" y="520"/>
                      </a:lnTo>
                      <a:lnTo>
                        <a:pt x="233" y="520"/>
                      </a:lnTo>
                      <a:lnTo>
                        <a:pt x="233" y="520"/>
                      </a:lnTo>
                      <a:lnTo>
                        <a:pt x="233" y="520"/>
                      </a:lnTo>
                      <a:lnTo>
                        <a:pt x="233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13"/>
                      </a:lnTo>
                      <a:lnTo>
                        <a:pt x="226" y="513"/>
                      </a:lnTo>
                      <a:lnTo>
                        <a:pt x="226" y="513"/>
                      </a:lnTo>
                      <a:lnTo>
                        <a:pt x="226" y="513"/>
                      </a:lnTo>
                      <a:lnTo>
                        <a:pt x="226" y="513"/>
                      </a:lnTo>
                      <a:lnTo>
                        <a:pt x="226" y="506"/>
                      </a:lnTo>
                      <a:lnTo>
                        <a:pt x="233" y="506"/>
                      </a:lnTo>
                      <a:lnTo>
                        <a:pt x="233" y="506"/>
                      </a:lnTo>
                      <a:lnTo>
                        <a:pt x="233" y="499"/>
                      </a:lnTo>
                      <a:lnTo>
                        <a:pt x="233" y="499"/>
                      </a:lnTo>
                      <a:lnTo>
                        <a:pt x="233" y="499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19" y="492"/>
                      </a:lnTo>
                      <a:lnTo>
                        <a:pt x="219" y="492"/>
                      </a:lnTo>
                      <a:lnTo>
                        <a:pt x="219" y="485"/>
                      </a:lnTo>
                      <a:lnTo>
                        <a:pt x="219" y="492"/>
                      </a:lnTo>
                      <a:lnTo>
                        <a:pt x="219" y="485"/>
                      </a:lnTo>
                      <a:lnTo>
                        <a:pt x="219" y="485"/>
                      </a:lnTo>
                      <a:lnTo>
                        <a:pt x="219" y="485"/>
                      </a:lnTo>
                      <a:lnTo>
                        <a:pt x="219" y="485"/>
                      </a:lnTo>
                      <a:lnTo>
                        <a:pt x="219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2" y="485"/>
                      </a:lnTo>
                      <a:lnTo>
                        <a:pt x="192" y="485"/>
                      </a:lnTo>
                      <a:lnTo>
                        <a:pt x="192" y="485"/>
                      </a:lnTo>
                      <a:lnTo>
                        <a:pt x="192" y="485"/>
                      </a:lnTo>
                      <a:lnTo>
                        <a:pt x="192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78" y="485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64" y="492"/>
                      </a:lnTo>
                      <a:lnTo>
                        <a:pt x="164" y="492"/>
                      </a:lnTo>
                      <a:lnTo>
                        <a:pt x="164" y="492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57" y="499"/>
                      </a:lnTo>
                      <a:lnTo>
                        <a:pt x="157" y="499"/>
                      </a:lnTo>
                      <a:lnTo>
                        <a:pt x="157" y="499"/>
                      </a:lnTo>
                      <a:lnTo>
                        <a:pt x="157" y="499"/>
                      </a:lnTo>
                      <a:lnTo>
                        <a:pt x="157" y="499"/>
                      </a:lnTo>
                      <a:lnTo>
                        <a:pt x="157" y="506"/>
                      </a:lnTo>
                      <a:lnTo>
                        <a:pt x="157" y="506"/>
                      </a:lnTo>
                      <a:lnTo>
                        <a:pt x="157" y="499"/>
                      </a:lnTo>
                      <a:lnTo>
                        <a:pt x="157" y="506"/>
                      </a:lnTo>
                      <a:lnTo>
                        <a:pt x="157" y="506"/>
                      </a:lnTo>
                      <a:lnTo>
                        <a:pt x="157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44" y="506"/>
                      </a:lnTo>
                      <a:lnTo>
                        <a:pt x="151" y="506"/>
                      </a:lnTo>
                      <a:lnTo>
                        <a:pt x="144" y="506"/>
                      </a:lnTo>
                      <a:lnTo>
                        <a:pt x="144" y="506"/>
                      </a:lnTo>
                      <a:lnTo>
                        <a:pt x="144" y="513"/>
                      </a:lnTo>
                      <a:lnTo>
                        <a:pt x="144" y="506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0" y="520"/>
                      </a:lnTo>
                      <a:lnTo>
                        <a:pt x="130" y="520"/>
                      </a:lnTo>
                      <a:lnTo>
                        <a:pt x="130" y="520"/>
                      </a:lnTo>
                      <a:lnTo>
                        <a:pt x="130" y="520"/>
                      </a:lnTo>
                      <a:lnTo>
                        <a:pt x="130" y="520"/>
                      </a:lnTo>
                      <a:lnTo>
                        <a:pt x="130" y="527"/>
                      </a:lnTo>
                      <a:lnTo>
                        <a:pt x="123" y="527"/>
                      </a:lnTo>
                      <a:lnTo>
                        <a:pt x="123" y="527"/>
                      </a:lnTo>
                      <a:lnTo>
                        <a:pt x="123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2" y="534"/>
                      </a:lnTo>
                      <a:lnTo>
                        <a:pt x="102" y="534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96" y="541"/>
                      </a:lnTo>
                      <a:lnTo>
                        <a:pt x="96" y="541"/>
                      </a:lnTo>
                      <a:lnTo>
                        <a:pt x="96" y="541"/>
                      </a:lnTo>
                      <a:lnTo>
                        <a:pt x="96" y="548"/>
                      </a:lnTo>
                      <a:lnTo>
                        <a:pt x="96" y="548"/>
                      </a:lnTo>
                      <a:lnTo>
                        <a:pt x="89" y="548"/>
                      </a:lnTo>
                      <a:lnTo>
                        <a:pt x="89" y="548"/>
                      </a:lnTo>
                      <a:lnTo>
                        <a:pt x="89" y="548"/>
                      </a:lnTo>
                      <a:lnTo>
                        <a:pt x="89" y="548"/>
                      </a:lnTo>
                      <a:lnTo>
                        <a:pt x="89" y="541"/>
                      </a:lnTo>
                      <a:lnTo>
                        <a:pt x="89" y="541"/>
                      </a:lnTo>
                      <a:lnTo>
                        <a:pt x="89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55"/>
                      </a:lnTo>
                      <a:lnTo>
                        <a:pt x="82" y="548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68" y="555"/>
                      </a:lnTo>
                      <a:lnTo>
                        <a:pt x="68" y="562"/>
                      </a:lnTo>
                      <a:lnTo>
                        <a:pt x="68" y="562"/>
                      </a:lnTo>
                      <a:lnTo>
                        <a:pt x="68" y="562"/>
                      </a:lnTo>
                      <a:lnTo>
                        <a:pt x="68" y="562"/>
                      </a:lnTo>
                      <a:lnTo>
                        <a:pt x="68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54" y="562"/>
                      </a:lnTo>
                      <a:lnTo>
                        <a:pt x="54" y="562"/>
                      </a:lnTo>
                      <a:lnTo>
                        <a:pt x="48" y="562"/>
                      </a:lnTo>
                      <a:lnTo>
                        <a:pt x="48" y="562"/>
                      </a:lnTo>
                      <a:lnTo>
                        <a:pt x="48" y="562"/>
                      </a:lnTo>
                      <a:lnTo>
                        <a:pt x="48" y="562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8" y="562"/>
                      </a:lnTo>
                      <a:lnTo>
                        <a:pt x="48" y="555"/>
                      </a:lnTo>
                      <a:lnTo>
                        <a:pt x="48" y="555"/>
                      </a:lnTo>
                      <a:lnTo>
                        <a:pt x="48" y="555"/>
                      </a:lnTo>
                      <a:lnTo>
                        <a:pt x="48" y="555"/>
                      </a:lnTo>
                      <a:lnTo>
                        <a:pt x="48" y="555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1" y="534"/>
                      </a:lnTo>
                      <a:lnTo>
                        <a:pt x="48" y="534"/>
                      </a:lnTo>
                      <a:lnTo>
                        <a:pt x="48" y="534"/>
                      </a:lnTo>
                      <a:lnTo>
                        <a:pt x="48" y="534"/>
                      </a:lnTo>
                      <a:lnTo>
                        <a:pt x="48" y="534"/>
                      </a:lnTo>
                      <a:lnTo>
                        <a:pt x="48" y="534"/>
                      </a:lnTo>
                      <a:lnTo>
                        <a:pt x="48" y="527"/>
                      </a:lnTo>
                      <a:lnTo>
                        <a:pt x="48" y="527"/>
                      </a:lnTo>
                      <a:lnTo>
                        <a:pt x="48" y="527"/>
                      </a:lnTo>
                      <a:lnTo>
                        <a:pt x="48" y="527"/>
                      </a:lnTo>
                      <a:lnTo>
                        <a:pt x="48" y="527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1" y="485"/>
                      </a:lnTo>
                      <a:lnTo>
                        <a:pt x="41" y="485"/>
                      </a:lnTo>
                      <a:lnTo>
                        <a:pt x="41" y="485"/>
                      </a:lnTo>
                      <a:lnTo>
                        <a:pt x="41" y="479"/>
                      </a:lnTo>
                      <a:lnTo>
                        <a:pt x="41" y="479"/>
                      </a:lnTo>
                      <a:lnTo>
                        <a:pt x="41" y="485"/>
                      </a:lnTo>
                      <a:lnTo>
                        <a:pt x="41" y="485"/>
                      </a:lnTo>
                      <a:lnTo>
                        <a:pt x="41" y="479"/>
                      </a:lnTo>
                      <a:lnTo>
                        <a:pt x="41" y="479"/>
                      </a:lnTo>
                      <a:lnTo>
                        <a:pt x="41" y="479"/>
                      </a:lnTo>
                      <a:lnTo>
                        <a:pt x="41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58"/>
                      </a:lnTo>
                      <a:lnTo>
                        <a:pt x="27" y="458"/>
                      </a:lnTo>
                      <a:lnTo>
                        <a:pt x="27" y="458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0"/>
                      </a:lnTo>
                      <a:lnTo>
                        <a:pt x="34" y="430"/>
                      </a:lnTo>
                      <a:lnTo>
                        <a:pt x="34" y="430"/>
                      </a:lnTo>
                      <a:lnTo>
                        <a:pt x="34" y="430"/>
                      </a:lnTo>
                      <a:lnTo>
                        <a:pt x="34" y="430"/>
                      </a:lnTo>
                      <a:lnTo>
                        <a:pt x="27" y="430"/>
                      </a:lnTo>
                      <a:lnTo>
                        <a:pt x="27" y="430"/>
                      </a:lnTo>
                      <a:lnTo>
                        <a:pt x="27" y="430"/>
                      </a:lnTo>
                      <a:lnTo>
                        <a:pt x="27" y="430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34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34" y="416"/>
                      </a:lnTo>
                      <a:lnTo>
                        <a:pt x="34" y="416"/>
                      </a:lnTo>
                      <a:lnTo>
                        <a:pt x="34" y="416"/>
                      </a:lnTo>
                      <a:lnTo>
                        <a:pt x="34" y="409"/>
                      </a:lnTo>
                      <a:lnTo>
                        <a:pt x="41" y="409"/>
                      </a:lnTo>
                      <a:lnTo>
                        <a:pt x="41" y="409"/>
                      </a:lnTo>
                      <a:lnTo>
                        <a:pt x="41" y="409"/>
                      </a:lnTo>
                      <a:lnTo>
                        <a:pt x="41" y="409"/>
                      </a:lnTo>
                      <a:lnTo>
                        <a:pt x="41" y="409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34" y="409"/>
                      </a:lnTo>
                      <a:lnTo>
                        <a:pt x="34" y="409"/>
                      </a:lnTo>
                      <a:lnTo>
                        <a:pt x="27" y="409"/>
                      </a:lnTo>
                      <a:lnTo>
                        <a:pt x="27" y="409"/>
                      </a:lnTo>
                      <a:lnTo>
                        <a:pt x="27" y="409"/>
                      </a:lnTo>
                      <a:lnTo>
                        <a:pt x="27" y="409"/>
                      </a:lnTo>
                      <a:lnTo>
                        <a:pt x="20" y="409"/>
                      </a:lnTo>
                      <a:lnTo>
                        <a:pt x="20" y="409"/>
                      </a:lnTo>
                      <a:lnTo>
                        <a:pt x="20" y="409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34" y="381"/>
                      </a:lnTo>
                      <a:lnTo>
                        <a:pt x="34" y="381"/>
                      </a:lnTo>
                      <a:lnTo>
                        <a:pt x="34" y="381"/>
                      </a:lnTo>
                      <a:lnTo>
                        <a:pt x="34" y="381"/>
                      </a:lnTo>
                      <a:lnTo>
                        <a:pt x="34" y="381"/>
                      </a:lnTo>
                      <a:lnTo>
                        <a:pt x="34" y="374"/>
                      </a:lnTo>
                      <a:lnTo>
                        <a:pt x="41" y="374"/>
                      </a:lnTo>
                      <a:lnTo>
                        <a:pt x="41" y="374"/>
                      </a:lnTo>
                      <a:lnTo>
                        <a:pt x="41" y="374"/>
                      </a:lnTo>
                      <a:lnTo>
                        <a:pt x="41" y="374"/>
                      </a:lnTo>
                      <a:lnTo>
                        <a:pt x="34" y="374"/>
                      </a:lnTo>
                      <a:lnTo>
                        <a:pt x="34" y="374"/>
                      </a:lnTo>
                      <a:lnTo>
                        <a:pt x="34" y="374"/>
                      </a:lnTo>
                      <a:lnTo>
                        <a:pt x="27" y="374"/>
                      </a:lnTo>
                      <a:lnTo>
                        <a:pt x="27" y="374"/>
                      </a:lnTo>
                      <a:lnTo>
                        <a:pt x="27" y="374"/>
                      </a:lnTo>
                      <a:lnTo>
                        <a:pt x="20" y="374"/>
                      </a:lnTo>
                      <a:lnTo>
                        <a:pt x="20" y="374"/>
                      </a:lnTo>
                      <a:lnTo>
                        <a:pt x="20" y="374"/>
                      </a:lnTo>
                      <a:lnTo>
                        <a:pt x="20" y="374"/>
                      </a:lnTo>
                      <a:lnTo>
                        <a:pt x="20" y="368"/>
                      </a:lnTo>
                      <a:lnTo>
                        <a:pt x="20" y="368"/>
                      </a:lnTo>
                      <a:lnTo>
                        <a:pt x="27" y="368"/>
                      </a:lnTo>
                      <a:lnTo>
                        <a:pt x="27" y="368"/>
                      </a:lnTo>
                      <a:lnTo>
                        <a:pt x="27" y="368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54"/>
                      </a:lnTo>
                      <a:lnTo>
                        <a:pt x="27" y="354"/>
                      </a:lnTo>
                      <a:lnTo>
                        <a:pt x="20" y="354"/>
                      </a:lnTo>
                      <a:lnTo>
                        <a:pt x="20" y="354"/>
                      </a:lnTo>
                      <a:lnTo>
                        <a:pt x="20" y="354"/>
                      </a:lnTo>
                      <a:lnTo>
                        <a:pt x="27" y="354"/>
                      </a:lnTo>
                      <a:lnTo>
                        <a:pt x="27" y="354"/>
                      </a:lnTo>
                      <a:lnTo>
                        <a:pt x="27" y="347"/>
                      </a:lnTo>
                      <a:lnTo>
                        <a:pt x="27" y="347"/>
                      </a:lnTo>
                      <a:lnTo>
                        <a:pt x="27" y="347"/>
                      </a:lnTo>
                      <a:lnTo>
                        <a:pt x="20" y="347"/>
                      </a:lnTo>
                      <a:lnTo>
                        <a:pt x="27" y="347"/>
                      </a:lnTo>
                      <a:lnTo>
                        <a:pt x="27" y="347"/>
                      </a:lnTo>
                      <a:lnTo>
                        <a:pt x="27" y="347"/>
                      </a:lnTo>
                      <a:lnTo>
                        <a:pt x="27" y="340"/>
                      </a:lnTo>
                      <a:lnTo>
                        <a:pt x="27" y="340"/>
                      </a:lnTo>
                      <a:lnTo>
                        <a:pt x="27" y="340"/>
                      </a:lnTo>
                      <a:lnTo>
                        <a:pt x="34" y="340"/>
                      </a:lnTo>
                      <a:lnTo>
                        <a:pt x="34" y="340"/>
                      </a:lnTo>
                      <a:lnTo>
                        <a:pt x="34" y="340"/>
                      </a:lnTo>
                      <a:lnTo>
                        <a:pt x="34" y="340"/>
                      </a:lnTo>
                      <a:lnTo>
                        <a:pt x="34" y="333"/>
                      </a:lnTo>
                      <a:lnTo>
                        <a:pt x="34" y="333"/>
                      </a:lnTo>
                      <a:lnTo>
                        <a:pt x="34" y="333"/>
                      </a:lnTo>
                      <a:lnTo>
                        <a:pt x="27" y="340"/>
                      </a:lnTo>
                      <a:lnTo>
                        <a:pt x="27" y="340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0" y="333"/>
                      </a:lnTo>
                      <a:lnTo>
                        <a:pt x="20" y="333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19"/>
                      </a:lnTo>
                      <a:lnTo>
                        <a:pt x="20" y="319"/>
                      </a:lnTo>
                      <a:lnTo>
                        <a:pt x="20" y="319"/>
                      </a:lnTo>
                      <a:lnTo>
                        <a:pt x="20" y="319"/>
                      </a:lnTo>
                      <a:lnTo>
                        <a:pt x="13" y="319"/>
                      </a:lnTo>
                      <a:lnTo>
                        <a:pt x="20" y="319"/>
                      </a:lnTo>
                      <a:lnTo>
                        <a:pt x="20" y="319"/>
                      </a:lnTo>
                      <a:lnTo>
                        <a:pt x="13" y="319"/>
                      </a:lnTo>
                      <a:lnTo>
                        <a:pt x="20" y="312"/>
                      </a:lnTo>
                      <a:lnTo>
                        <a:pt x="20" y="312"/>
                      </a:lnTo>
                      <a:lnTo>
                        <a:pt x="20" y="312"/>
                      </a:lnTo>
                      <a:lnTo>
                        <a:pt x="20" y="312"/>
                      </a:lnTo>
                      <a:lnTo>
                        <a:pt x="13" y="312"/>
                      </a:lnTo>
                      <a:lnTo>
                        <a:pt x="13" y="312"/>
                      </a:lnTo>
                      <a:lnTo>
                        <a:pt x="13" y="312"/>
                      </a:lnTo>
                      <a:lnTo>
                        <a:pt x="13" y="312"/>
                      </a:lnTo>
                      <a:lnTo>
                        <a:pt x="13" y="312"/>
                      </a:lnTo>
                      <a:lnTo>
                        <a:pt x="20" y="305"/>
                      </a:lnTo>
                      <a:lnTo>
                        <a:pt x="20" y="305"/>
                      </a:lnTo>
                      <a:lnTo>
                        <a:pt x="20" y="305"/>
                      </a:lnTo>
                      <a:lnTo>
                        <a:pt x="20" y="305"/>
                      </a:lnTo>
                      <a:lnTo>
                        <a:pt x="13" y="305"/>
                      </a:lnTo>
                      <a:lnTo>
                        <a:pt x="13" y="305"/>
                      </a:lnTo>
                      <a:lnTo>
                        <a:pt x="13" y="298"/>
                      </a:lnTo>
                      <a:lnTo>
                        <a:pt x="13" y="298"/>
                      </a:lnTo>
                      <a:lnTo>
                        <a:pt x="13" y="298"/>
                      </a:lnTo>
                      <a:lnTo>
                        <a:pt x="13" y="298"/>
                      </a:lnTo>
                      <a:lnTo>
                        <a:pt x="13" y="298"/>
                      </a:lnTo>
                      <a:lnTo>
                        <a:pt x="20" y="298"/>
                      </a:lnTo>
                      <a:lnTo>
                        <a:pt x="20" y="298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7" y="291"/>
                      </a:lnTo>
                      <a:lnTo>
                        <a:pt x="27" y="291"/>
                      </a:lnTo>
                      <a:lnTo>
                        <a:pt x="34" y="291"/>
                      </a:lnTo>
                      <a:lnTo>
                        <a:pt x="34" y="291"/>
                      </a:lnTo>
                      <a:lnTo>
                        <a:pt x="34" y="284"/>
                      </a:lnTo>
                      <a:lnTo>
                        <a:pt x="34" y="284"/>
                      </a:lnTo>
                      <a:lnTo>
                        <a:pt x="34" y="284"/>
                      </a:lnTo>
                      <a:lnTo>
                        <a:pt x="34" y="284"/>
                      </a:lnTo>
                      <a:lnTo>
                        <a:pt x="27" y="284"/>
                      </a:lnTo>
                      <a:lnTo>
                        <a:pt x="27" y="284"/>
                      </a:lnTo>
                      <a:lnTo>
                        <a:pt x="27" y="284"/>
                      </a:lnTo>
                      <a:lnTo>
                        <a:pt x="27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13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63"/>
                      </a:lnTo>
                      <a:lnTo>
                        <a:pt x="20" y="263"/>
                      </a:lnTo>
                      <a:lnTo>
                        <a:pt x="20" y="263"/>
                      </a:lnTo>
                      <a:lnTo>
                        <a:pt x="20" y="263"/>
                      </a:lnTo>
                      <a:lnTo>
                        <a:pt x="20" y="263"/>
                      </a:lnTo>
                      <a:lnTo>
                        <a:pt x="27" y="263"/>
                      </a:lnTo>
                      <a:lnTo>
                        <a:pt x="27" y="263"/>
                      </a:lnTo>
                      <a:lnTo>
                        <a:pt x="27" y="263"/>
                      </a:lnTo>
                      <a:lnTo>
                        <a:pt x="27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41" y="263"/>
                      </a:lnTo>
                      <a:lnTo>
                        <a:pt x="41" y="263"/>
                      </a:lnTo>
                      <a:lnTo>
                        <a:pt x="41" y="263"/>
                      </a:lnTo>
                      <a:lnTo>
                        <a:pt x="41" y="263"/>
                      </a:lnTo>
                      <a:lnTo>
                        <a:pt x="41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27" y="263"/>
                      </a:lnTo>
                      <a:lnTo>
                        <a:pt x="27" y="257"/>
                      </a:lnTo>
                      <a:lnTo>
                        <a:pt x="27" y="257"/>
                      </a:lnTo>
                      <a:lnTo>
                        <a:pt x="27" y="257"/>
                      </a:lnTo>
                      <a:lnTo>
                        <a:pt x="27" y="257"/>
                      </a:lnTo>
                      <a:lnTo>
                        <a:pt x="27" y="257"/>
                      </a:lnTo>
                      <a:lnTo>
                        <a:pt x="20" y="257"/>
                      </a:lnTo>
                      <a:lnTo>
                        <a:pt x="20" y="257"/>
                      </a:lnTo>
                      <a:lnTo>
                        <a:pt x="20" y="257"/>
                      </a:lnTo>
                      <a:lnTo>
                        <a:pt x="20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6" y="257"/>
                      </a:lnTo>
                      <a:lnTo>
                        <a:pt x="6" y="257"/>
                      </a:lnTo>
                      <a:lnTo>
                        <a:pt x="6" y="257"/>
                      </a:lnTo>
                      <a:lnTo>
                        <a:pt x="6" y="257"/>
                      </a:lnTo>
                      <a:lnTo>
                        <a:pt x="6" y="257"/>
                      </a:lnTo>
                      <a:lnTo>
                        <a:pt x="6" y="250"/>
                      </a:lnTo>
                      <a:lnTo>
                        <a:pt x="6" y="250"/>
                      </a:lnTo>
                      <a:lnTo>
                        <a:pt x="6" y="250"/>
                      </a:lnTo>
                      <a:lnTo>
                        <a:pt x="6" y="250"/>
                      </a:lnTo>
                      <a:lnTo>
                        <a:pt x="0" y="250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36"/>
                      </a:lnTo>
                      <a:lnTo>
                        <a:pt x="0" y="236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157000" y="3750840"/>
                  <a:ext cx="984960" cy="399960"/>
                </a:xfrm>
                <a:custGeom>
                  <a:avLst/>
                  <a:gdLst/>
                  <a:ahLst/>
                  <a:rect l="l" t="t" r="r" b="b"/>
                  <a:pathLst>
                    <a:path w="782" h="340">
                      <a:moveTo>
                        <a:pt x="0" y="236"/>
                      </a:move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29"/>
                      </a:lnTo>
                      <a:lnTo>
                        <a:pt x="6" y="229"/>
                      </a:lnTo>
                      <a:lnTo>
                        <a:pt x="6" y="229"/>
                      </a:lnTo>
                      <a:lnTo>
                        <a:pt x="6" y="229"/>
                      </a:lnTo>
                      <a:lnTo>
                        <a:pt x="6" y="222"/>
                      </a:lnTo>
                      <a:lnTo>
                        <a:pt x="13" y="222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08"/>
                      </a:lnTo>
                      <a:lnTo>
                        <a:pt x="13" y="208"/>
                      </a:lnTo>
                      <a:lnTo>
                        <a:pt x="13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7" y="201"/>
                      </a:lnTo>
                      <a:lnTo>
                        <a:pt x="20" y="201"/>
                      </a:lnTo>
                      <a:lnTo>
                        <a:pt x="20" y="201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34" y="187"/>
                      </a:lnTo>
                      <a:lnTo>
                        <a:pt x="34" y="187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61" y="166"/>
                      </a:lnTo>
                      <a:lnTo>
                        <a:pt x="61" y="166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75" y="152"/>
                      </a:lnTo>
                      <a:lnTo>
                        <a:pt x="75" y="152"/>
                      </a:lnTo>
                      <a:lnTo>
                        <a:pt x="75" y="146"/>
                      </a:lnTo>
                      <a:lnTo>
                        <a:pt x="75" y="146"/>
                      </a:lnTo>
                      <a:lnTo>
                        <a:pt x="75" y="146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68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9" y="146"/>
                      </a:lnTo>
                      <a:lnTo>
                        <a:pt x="89" y="146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66"/>
                      </a:lnTo>
                      <a:lnTo>
                        <a:pt x="102" y="166"/>
                      </a:lnTo>
                      <a:lnTo>
                        <a:pt x="102" y="166"/>
                      </a:lnTo>
                      <a:lnTo>
                        <a:pt x="96" y="166"/>
                      </a:lnTo>
                      <a:lnTo>
                        <a:pt x="96" y="166"/>
                      </a:lnTo>
                      <a:lnTo>
                        <a:pt x="96" y="166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7"/>
                      </a:lnTo>
                      <a:lnTo>
                        <a:pt x="102" y="187"/>
                      </a:lnTo>
                      <a:lnTo>
                        <a:pt x="109" y="187"/>
                      </a:lnTo>
                      <a:lnTo>
                        <a:pt x="109" y="194"/>
                      </a:lnTo>
                      <a:lnTo>
                        <a:pt x="109" y="194"/>
                      </a:lnTo>
                      <a:lnTo>
                        <a:pt x="109" y="194"/>
                      </a:lnTo>
                      <a:lnTo>
                        <a:pt x="116" y="194"/>
                      </a:lnTo>
                      <a:lnTo>
                        <a:pt x="116" y="194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23" y="201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8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7" y="194"/>
                      </a:lnTo>
                      <a:lnTo>
                        <a:pt x="157" y="187"/>
                      </a:lnTo>
                      <a:lnTo>
                        <a:pt x="157" y="187"/>
                      </a:lnTo>
                      <a:lnTo>
                        <a:pt x="157" y="194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85" y="180"/>
                      </a:lnTo>
                      <a:lnTo>
                        <a:pt x="185" y="180"/>
                      </a:lnTo>
                      <a:lnTo>
                        <a:pt x="185" y="180"/>
                      </a:lnTo>
                      <a:lnTo>
                        <a:pt x="185" y="173"/>
                      </a:lnTo>
                      <a:lnTo>
                        <a:pt x="185" y="173"/>
                      </a:lnTo>
                      <a:lnTo>
                        <a:pt x="192" y="173"/>
                      </a:lnTo>
                      <a:lnTo>
                        <a:pt x="192" y="173"/>
                      </a:lnTo>
                      <a:lnTo>
                        <a:pt x="192" y="173"/>
                      </a:lnTo>
                      <a:lnTo>
                        <a:pt x="192" y="180"/>
                      </a:lnTo>
                      <a:lnTo>
                        <a:pt x="192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73"/>
                      </a:lnTo>
                      <a:lnTo>
                        <a:pt x="205" y="173"/>
                      </a:lnTo>
                      <a:lnTo>
                        <a:pt x="212" y="173"/>
                      </a:lnTo>
                      <a:lnTo>
                        <a:pt x="212" y="173"/>
                      </a:lnTo>
                      <a:lnTo>
                        <a:pt x="212" y="173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59"/>
                      </a:lnTo>
                      <a:lnTo>
                        <a:pt x="212" y="159"/>
                      </a:lnTo>
                      <a:lnTo>
                        <a:pt x="212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2"/>
                      </a:lnTo>
                      <a:lnTo>
                        <a:pt x="226" y="152"/>
                      </a:lnTo>
                      <a:lnTo>
                        <a:pt x="226" y="152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33" y="139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7" y="132"/>
                      </a:lnTo>
                      <a:lnTo>
                        <a:pt x="247" y="125"/>
                      </a:lnTo>
                      <a:lnTo>
                        <a:pt x="247" y="125"/>
                      </a:lnTo>
                      <a:lnTo>
                        <a:pt x="240" y="125"/>
                      </a:lnTo>
                      <a:lnTo>
                        <a:pt x="240" y="125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7" y="118"/>
                      </a:lnTo>
                      <a:lnTo>
                        <a:pt x="247" y="118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0"/>
                      </a:lnTo>
                      <a:lnTo>
                        <a:pt x="233" y="90"/>
                      </a:lnTo>
                      <a:lnTo>
                        <a:pt x="226" y="90"/>
                      </a:lnTo>
                      <a:lnTo>
                        <a:pt x="233" y="90"/>
                      </a:lnTo>
                      <a:lnTo>
                        <a:pt x="233" y="83"/>
                      </a:lnTo>
                      <a:lnTo>
                        <a:pt x="233" y="83"/>
                      </a:lnTo>
                      <a:lnTo>
                        <a:pt x="233" y="83"/>
                      </a:lnTo>
                      <a:lnTo>
                        <a:pt x="240" y="76"/>
                      </a:lnTo>
                      <a:lnTo>
                        <a:pt x="240" y="76"/>
                      </a:lnTo>
                      <a:lnTo>
                        <a:pt x="240" y="76"/>
                      </a:lnTo>
                      <a:lnTo>
                        <a:pt x="247" y="76"/>
                      </a:lnTo>
                      <a:lnTo>
                        <a:pt x="247" y="76"/>
                      </a:lnTo>
                      <a:lnTo>
                        <a:pt x="247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60" y="69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7" y="62"/>
                      </a:lnTo>
                      <a:lnTo>
                        <a:pt x="267" y="69"/>
                      </a:lnTo>
                      <a:lnTo>
                        <a:pt x="267" y="69"/>
                      </a:lnTo>
                      <a:lnTo>
                        <a:pt x="267" y="69"/>
                      </a:lnTo>
                      <a:lnTo>
                        <a:pt x="274" y="69"/>
                      </a:lnTo>
                      <a:lnTo>
                        <a:pt x="274" y="69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83"/>
                      </a:lnTo>
                      <a:lnTo>
                        <a:pt x="302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7"/>
                      </a:lnTo>
                      <a:lnTo>
                        <a:pt x="315" y="97"/>
                      </a:lnTo>
                      <a:lnTo>
                        <a:pt x="322" y="97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83"/>
                      </a:lnTo>
                      <a:lnTo>
                        <a:pt x="329" y="83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36" y="83"/>
                      </a:lnTo>
                      <a:lnTo>
                        <a:pt x="336" y="90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50" y="83"/>
                      </a:lnTo>
                      <a:lnTo>
                        <a:pt x="350" y="83"/>
                      </a:lnTo>
                      <a:lnTo>
                        <a:pt x="350" y="76"/>
                      </a:lnTo>
                      <a:lnTo>
                        <a:pt x="350" y="76"/>
                      </a:lnTo>
                      <a:lnTo>
                        <a:pt x="350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70" y="69"/>
                      </a:lnTo>
                      <a:lnTo>
                        <a:pt x="370" y="69"/>
                      </a:lnTo>
                      <a:lnTo>
                        <a:pt x="370" y="69"/>
                      </a:lnTo>
                      <a:lnTo>
                        <a:pt x="377" y="69"/>
                      </a:lnTo>
                      <a:lnTo>
                        <a:pt x="377" y="69"/>
                      </a:lnTo>
                      <a:lnTo>
                        <a:pt x="377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48"/>
                      </a:lnTo>
                      <a:lnTo>
                        <a:pt x="405" y="48"/>
                      </a:lnTo>
                      <a:lnTo>
                        <a:pt x="411" y="48"/>
                      </a:lnTo>
                      <a:lnTo>
                        <a:pt x="411" y="48"/>
                      </a:lnTo>
                      <a:lnTo>
                        <a:pt x="411" y="48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8" y="42"/>
                      </a:lnTo>
                      <a:lnTo>
                        <a:pt x="418" y="42"/>
                      </a:lnTo>
                      <a:lnTo>
                        <a:pt x="418" y="35"/>
                      </a:lnTo>
                      <a:lnTo>
                        <a:pt x="418" y="35"/>
                      </a:lnTo>
                      <a:lnTo>
                        <a:pt x="425" y="35"/>
                      </a:lnTo>
                      <a:lnTo>
                        <a:pt x="425" y="42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28"/>
                      </a:lnTo>
                      <a:lnTo>
                        <a:pt x="425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9" y="21"/>
                      </a:lnTo>
                      <a:lnTo>
                        <a:pt x="439" y="21"/>
                      </a:lnTo>
                      <a:lnTo>
                        <a:pt x="439" y="21"/>
                      </a:lnTo>
                      <a:lnTo>
                        <a:pt x="439" y="14"/>
                      </a:lnTo>
                      <a:lnTo>
                        <a:pt x="439" y="14"/>
                      </a:lnTo>
                      <a:lnTo>
                        <a:pt x="439" y="14"/>
                      </a:lnTo>
                      <a:lnTo>
                        <a:pt x="439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53" y="21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8"/>
                      </a:lnTo>
                      <a:lnTo>
                        <a:pt x="466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80" y="28"/>
                      </a:lnTo>
                      <a:lnTo>
                        <a:pt x="480" y="28"/>
                      </a:lnTo>
                      <a:lnTo>
                        <a:pt x="480" y="28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7" y="42"/>
                      </a:lnTo>
                      <a:lnTo>
                        <a:pt x="487" y="42"/>
                      </a:lnTo>
                      <a:lnTo>
                        <a:pt x="487" y="42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94" y="48"/>
                      </a:lnTo>
                      <a:lnTo>
                        <a:pt x="494" y="48"/>
                      </a:lnTo>
                      <a:lnTo>
                        <a:pt x="494" y="48"/>
                      </a:lnTo>
                      <a:lnTo>
                        <a:pt x="494" y="55"/>
                      </a:lnTo>
                      <a:lnTo>
                        <a:pt x="494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62"/>
                      </a:lnTo>
                      <a:lnTo>
                        <a:pt x="494" y="62"/>
                      </a:lnTo>
                      <a:lnTo>
                        <a:pt x="494" y="62"/>
                      </a:lnTo>
                      <a:lnTo>
                        <a:pt x="501" y="62"/>
                      </a:lnTo>
                      <a:lnTo>
                        <a:pt x="501" y="62"/>
                      </a:lnTo>
                      <a:lnTo>
                        <a:pt x="494" y="62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76"/>
                      </a:lnTo>
                      <a:lnTo>
                        <a:pt x="494" y="76"/>
                      </a:lnTo>
                      <a:lnTo>
                        <a:pt x="487" y="76"/>
                      </a:lnTo>
                      <a:lnTo>
                        <a:pt x="494" y="76"/>
                      </a:lnTo>
                      <a:lnTo>
                        <a:pt x="487" y="76"/>
                      </a:lnTo>
                      <a:lnTo>
                        <a:pt x="487" y="83"/>
                      </a:lnTo>
                      <a:lnTo>
                        <a:pt x="494" y="76"/>
                      </a:lnTo>
                      <a:lnTo>
                        <a:pt x="494" y="76"/>
                      </a:lnTo>
                      <a:lnTo>
                        <a:pt x="494" y="83"/>
                      </a:lnTo>
                      <a:lnTo>
                        <a:pt x="501" y="83"/>
                      </a:lnTo>
                      <a:lnTo>
                        <a:pt x="501" y="83"/>
                      </a:lnTo>
                      <a:lnTo>
                        <a:pt x="501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76"/>
                      </a:lnTo>
                      <a:lnTo>
                        <a:pt x="508" y="76"/>
                      </a:lnTo>
                      <a:lnTo>
                        <a:pt x="508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76"/>
                      </a:lnTo>
                      <a:lnTo>
                        <a:pt x="521" y="76"/>
                      </a:lnTo>
                      <a:lnTo>
                        <a:pt x="528" y="69"/>
                      </a:lnTo>
                      <a:lnTo>
                        <a:pt x="528" y="69"/>
                      </a:lnTo>
                      <a:lnTo>
                        <a:pt x="528" y="69"/>
                      </a:lnTo>
                      <a:lnTo>
                        <a:pt x="528" y="62"/>
                      </a:lnTo>
                      <a:lnTo>
                        <a:pt x="528" y="55"/>
                      </a:lnTo>
                      <a:lnTo>
                        <a:pt x="528" y="55"/>
                      </a:lnTo>
                      <a:lnTo>
                        <a:pt x="528" y="55"/>
                      </a:lnTo>
                      <a:lnTo>
                        <a:pt x="528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35"/>
                      </a:lnTo>
                      <a:lnTo>
                        <a:pt x="562" y="35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9" y="28"/>
                      </a:lnTo>
                      <a:lnTo>
                        <a:pt x="569" y="28"/>
                      </a:lnTo>
                      <a:lnTo>
                        <a:pt x="576" y="28"/>
                      </a:lnTo>
                      <a:lnTo>
                        <a:pt x="576" y="21"/>
                      </a:lnTo>
                      <a:lnTo>
                        <a:pt x="583" y="28"/>
                      </a:lnTo>
                      <a:lnTo>
                        <a:pt x="583" y="28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90" y="14"/>
                      </a:lnTo>
                      <a:lnTo>
                        <a:pt x="590" y="14"/>
                      </a:lnTo>
                      <a:lnTo>
                        <a:pt x="590" y="7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0"/>
                      </a:lnTo>
                      <a:lnTo>
                        <a:pt x="604" y="0"/>
                      </a:lnTo>
                      <a:lnTo>
                        <a:pt x="604" y="0"/>
                      </a:lnTo>
                      <a:lnTo>
                        <a:pt x="611" y="0"/>
                      </a:lnTo>
                      <a:lnTo>
                        <a:pt x="611" y="0"/>
                      </a:lnTo>
                      <a:lnTo>
                        <a:pt x="611" y="0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31" y="14"/>
                      </a:lnTo>
                      <a:lnTo>
                        <a:pt x="631" y="21"/>
                      </a:lnTo>
                      <a:lnTo>
                        <a:pt x="631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45" y="21"/>
                      </a:lnTo>
                      <a:lnTo>
                        <a:pt x="645" y="21"/>
                      </a:lnTo>
                      <a:lnTo>
                        <a:pt x="645" y="28"/>
                      </a:lnTo>
                      <a:lnTo>
                        <a:pt x="645" y="28"/>
                      </a:lnTo>
                      <a:lnTo>
                        <a:pt x="645" y="21"/>
                      </a:lnTo>
                      <a:lnTo>
                        <a:pt x="652" y="21"/>
                      </a:lnTo>
                      <a:lnTo>
                        <a:pt x="652" y="21"/>
                      </a:lnTo>
                      <a:lnTo>
                        <a:pt x="652" y="21"/>
                      </a:lnTo>
                      <a:lnTo>
                        <a:pt x="659" y="21"/>
                      </a:lnTo>
                      <a:lnTo>
                        <a:pt x="659" y="21"/>
                      </a:lnTo>
                      <a:lnTo>
                        <a:pt x="659" y="28"/>
                      </a:lnTo>
                      <a:lnTo>
                        <a:pt x="659" y="28"/>
                      </a:lnTo>
                      <a:lnTo>
                        <a:pt x="665" y="28"/>
                      </a:lnTo>
                      <a:lnTo>
                        <a:pt x="665" y="28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42"/>
                      </a:lnTo>
                      <a:lnTo>
                        <a:pt x="665" y="42"/>
                      </a:lnTo>
                      <a:lnTo>
                        <a:pt x="672" y="42"/>
                      </a:lnTo>
                      <a:lnTo>
                        <a:pt x="672" y="42"/>
                      </a:lnTo>
                      <a:lnTo>
                        <a:pt x="672" y="35"/>
                      </a:lnTo>
                      <a:lnTo>
                        <a:pt x="672" y="35"/>
                      </a:lnTo>
                      <a:lnTo>
                        <a:pt x="672" y="28"/>
                      </a:lnTo>
                      <a:lnTo>
                        <a:pt x="679" y="28"/>
                      </a:lnTo>
                      <a:lnTo>
                        <a:pt x="679" y="28"/>
                      </a:lnTo>
                      <a:lnTo>
                        <a:pt x="679" y="28"/>
                      </a:lnTo>
                      <a:lnTo>
                        <a:pt x="686" y="28"/>
                      </a:lnTo>
                      <a:lnTo>
                        <a:pt x="686" y="28"/>
                      </a:lnTo>
                      <a:lnTo>
                        <a:pt x="686" y="35"/>
                      </a:lnTo>
                      <a:lnTo>
                        <a:pt x="686" y="35"/>
                      </a:lnTo>
                      <a:lnTo>
                        <a:pt x="679" y="35"/>
                      </a:lnTo>
                      <a:lnTo>
                        <a:pt x="679" y="35"/>
                      </a:lnTo>
                      <a:lnTo>
                        <a:pt x="679" y="35"/>
                      </a:lnTo>
                      <a:lnTo>
                        <a:pt x="679" y="42"/>
                      </a:lnTo>
                      <a:lnTo>
                        <a:pt x="679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55"/>
                      </a:lnTo>
                      <a:lnTo>
                        <a:pt x="700" y="55"/>
                      </a:lnTo>
                      <a:lnTo>
                        <a:pt x="700" y="55"/>
                      </a:lnTo>
                      <a:lnTo>
                        <a:pt x="700" y="62"/>
                      </a:lnTo>
                      <a:lnTo>
                        <a:pt x="700" y="69"/>
                      </a:lnTo>
                      <a:lnTo>
                        <a:pt x="707" y="69"/>
                      </a:lnTo>
                      <a:lnTo>
                        <a:pt x="707" y="69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20" y="76"/>
                      </a:lnTo>
                      <a:lnTo>
                        <a:pt x="720" y="76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7" y="97"/>
                      </a:lnTo>
                      <a:lnTo>
                        <a:pt x="727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11"/>
                      </a:lnTo>
                      <a:lnTo>
                        <a:pt x="720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8"/>
                      </a:lnTo>
                      <a:lnTo>
                        <a:pt x="727" y="118"/>
                      </a:lnTo>
                      <a:lnTo>
                        <a:pt x="720" y="118"/>
                      </a:lnTo>
                      <a:lnTo>
                        <a:pt x="727" y="118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41" y="125"/>
                      </a:lnTo>
                      <a:lnTo>
                        <a:pt x="741" y="125"/>
                      </a:lnTo>
                      <a:lnTo>
                        <a:pt x="741" y="125"/>
                      </a:lnTo>
                      <a:lnTo>
                        <a:pt x="741" y="132"/>
                      </a:lnTo>
                      <a:lnTo>
                        <a:pt x="741" y="132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46"/>
                      </a:lnTo>
                      <a:lnTo>
                        <a:pt x="748" y="152"/>
                      </a:lnTo>
                      <a:lnTo>
                        <a:pt x="748" y="152"/>
                      </a:lnTo>
                      <a:lnTo>
                        <a:pt x="748" y="152"/>
                      </a:lnTo>
                      <a:lnTo>
                        <a:pt x="741" y="152"/>
                      </a:lnTo>
                      <a:lnTo>
                        <a:pt x="741" y="152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34" y="159"/>
                      </a:lnTo>
                      <a:lnTo>
                        <a:pt x="741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41" y="166"/>
                      </a:lnTo>
                      <a:lnTo>
                        <a:pt x="741" y="166"/>
                      </a:lnTo>
                      <a:lnTo>
                        <a:pt x="741" y="166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87"/>
                      </a:lnTo>
                      <a:lnTo>
                        <a:pt x="727" y="187"/>
                      </a:lnTo>
                      <a:lnTo>
                        <a:pt x="727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94"/>
                      </a:lnTo>
                      <a:lnTo>
                        <a:pt x="707" y="194"/>
                      </a:lnTo>
                      <a:lnTo>
                        <a:pt x="700" y="194"/>
                      </a:lnTo>
                      <a:lnTo>
                        <a:pt x="707" y="194"/>
                      </a:lnTo>
                      <a:lnTo>
                        <a:pt x="700" y="194"/>
                      </a:lnTo>
                      <a:lnTo>
                        <a:pt x="707" y="201"/>
                      </a:lnTo>
                      <a:lnTo>
                        <a:pt x="700" y="201"/>
                      </a:lnTo>
                      <a:lnTo>
                        <a:pt x="700" y="201"/>
                      </a:lnTo>
                      <a:lnTo>
                        <a:pt x="700" y="201"/>
                      </a:lnTo>
                      <a:lnTo>
                        <a:pt x="707" y="201"/>
                      </a:lnTo>
                      <a:lnTo>
                        <a:pt x="707" y="201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14" y="208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08"/>
                      </a:lnTo>
                      <a:lnTo>
                        <a:pt x="714" y="208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20" y="215"/>
                      </a:lnTo>
                      <a:lnTo>
                        <a:pt x="720" y="215"/>
                      </a:lnTo>
                      <a:lnTo>
                        <a:pt x="714" y="222"/>
                      </a:lnTo>
                      <a:lnTo>
                        <a:pt x="714" y="222"/>
                      </a:lnTo>
                      <a:lnTo>
                        <a:pt x="714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9"/>
                      </a:lnTo>
                      <a:lnTo>
                        <a:pt x="720" y="222"/>
                      </a:lnTo>
                      <a:lnTo>
                        <a:pt x="720" y="229"/>
                      </a:lnTo>
                      <a:lnTo>
                        <a:pt x="720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36"/>
                      </a:lnTo>
                      <a:lnTo>
                        <a:pt x="727" y="236"/>
                      </a:lnTo>
                      <a:lnTo>
                        <a:pt x="720" y="236"/>
                      </a:lnTo>
                      <a:lnTo>
                        <a:pt x="720" y="236"/>
                      </a:lnTo>
                      <a:lnTo>
                        <a:pt x="727" y="236"/>
                      </a:lnTo>
                      <a:lnTo>
                        <a:pt x="727" y="236"/>
                      </a:lnTo>
                      <a:lnTo>
                        <a:pt x="720" y="236"/>
                      </a:lnTo>
                      <a:lnTo>
                        <a:pt x="727" y="236"/>
                      </a:lnTo>
                      <a:lnTo>
                        <a:pt x="720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50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34" y="243"/>
                      </a:lnTo>
                      <a:lnTo>
                        <a:pt x="734" y="243"/>
                      </a:lnTo>
                      <a:lnTo>
                        <a:pt x="734" y="243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41" y="250"/>
                      </a:lnTo>
                      <a:lnTo>
                        <a:pt x="741" y="250"/>
                      </a:lnTo>
                      <a:lnTo>
                        <a:pt x="741" y="250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82" y="250"/>
                      </a:lnTo>
                      <a:lnTo>
                        <a:pt x="782" y="250"/>
                      </a:lnTo>
                      <a:lnTo>
                        <a:pt x="782" y="250"/>
                      </a:lnTo>
                      <a:lnTo>
                        <a:pt x="775" y="257"/>
                      </a:lnTo>
                      <a:lnTo>
                        <a:pt x="775" y="257"/>
                      </a:lnTo>
                      <a:lnTo>
                        <a:pt x="768" y="270"/>
                      </a:lnTo>
                      <a:lnTo>
                        <a:pt x="762" y="270"/>
                      </a:lnTo>
                      <a:lnTo>
                        <a:pt x="762" y="284"/>
                      </a:lnTo>
                      <a:lnTo>
                        <a:pt x="755" y="291"/>
                      </a:lnTo>
                      <a:lnTo>
                        <a:pt x="755" y="291"/>
                      </a:lnTo>
                      <a:lnTo>
                        <a:pt x="755" y="298"/>
                      </a:lnTo>
                      <a:lnTo>
                        <a:pt x="755" y="298"/>
                      </a:lnTo>
                      <a:lnTo>
                        <a:pt x="748" y="305"/>
                      </a:lnTo>
                      <a:lnTo>
                        <a:pt x="748" y="305"/>
                      </a:lnTo>
                      <a:lnTo>
                        <a:pt x="748" y="305"/>
                      </a:lnTo>
                      <a:lnTo>
                        <a:pt x="741" y="312"/>
                      </a:lnTo>
                      <a:lnTo>
                        <a:pt x="741" y="319"/>
                      </a:lnTo>
                      <a:lnTo>
                        <a:pt x="741" y="326"/>
                      </a:lnTo>
                      <a:lnTo>
                        <a:pt x="734" y="326"/>
                      </a:lnTo>
                      <a:lnTo>
                        <a:pt x="734" y="326"/>
                      </a:lnTo>
                      <a:lnTo>
                        <a:pt x="734" y="326"/>
                      </a:lnTo>
                      <a:lnTo>
                        <a:pt x="734" y="333"/>
                      </a:lnTo>
                      <a:lnTo>
                        <a:pt x="734" y="333"/>
                      </a:lnTo>
                      <a:lnTo>
                        <a:pt x="727" y="333"/>
                      </a:lnTo>
                      <a:lnTo>
                        <a:pt x="727" y="34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294160" y="4150800"/>
                  <a:ext cx="777960" cy="578880"/>
                </a:xfrm>
                <a:custGeom>
                  <a:avLst/>
                  <a:gdLst/>
                  <a:ahLst/>
                  <a:rect l="l" t="t" r="r" b="b"/>
                  <a:pathLst>
                    <a:path w="618" h="492">
                      <a:moveTo>
                        <a:pt x="618" y="0"/>
                      </a:moveTo>
                      <a:lnTo>
                        <a:pt x="618" y="0"/>
                      </a:lnTo>
                      <a:lnTo>
                        <a:pt x="618" y="0"/>
                      </a:lnTo>
                      <a:lnTo>
                        <a:pt x="618" y="0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14"/>
                      </a:lnTo>
                      <a:lnTo>
                        <a:pt x="605" y="14"/>
                      </a:lnTo>
                      <a:lnTo>
                        <a:pt x="605" y="14"/>
                      </a:lnTo>
                      <a:lnTo>
                        <a:pt x="598" y="21"/>
                      </a:lnTo>
                      <a:lnTo>
                        <a:pt x="598" y="21"/>
                      </a:lnTo>
                      <a:lnTo>
                        <a:pt x="598" y="21"/>
                      </a:lnTo>
                      <a:lnTo>
                        <a:pt x="598" y="28"/>
                      </a:lnTo>
                      <a:lnTo>
                        <a:pt x="591" y="28"/>
                      </a:lnTo>
                      <a:lnTo>
                        <a:pt x="591" y="28"/>
                      </a:lnTo>
                      <a:lnTo>
                        <a:pt x="591" y="28"/>
                      </a:lnTo>
                      <a:lnTo>
                        <a:pt x="591" y="34"/>
                      </a:lnTo>
                      <a:lnTo>
                        <a:pt x="591" y="34"/>
                      </a:lnTo>
                      <a:lnTo>
                        <a:pt x="584" y="34"/>
                      </a:lnTo>
                      <a:lnTo>
                        <a:pt x="584" y="34"/>
                      </a:lnTo>
                      <a:lnTo>
                        <a:pt x="584" y="34"/>
                      </a:lnTo>
                      <a:lnTo>
                        <a:pt x="584" y="34"/>
                      </a:lnTo>
                      <a:lnTo>
                        <a:pt x="584" y="34"/>
                      </a:lnTo>
                      <a:lnTo>
                        <a:pt x="577" y="41"/>
                      </a:lnTo>
                      <a:lnTo>
                        <a:pt x="577" y="41"/>
                      </a:lnTo>
                      <a:lnTo>
                        <a:pt x="577" y="41"/>
                      </a:lnTo>
                      <a:lnTo>
                        <a:pt x="570" y="41"/>
                      </a:lnTo>
                      <a:lnTo>
                        <a:pt x="570" y="41"/>
                      </a:lnTo>
                      <a:lnTo>
                        <a:pt x="570" y="41"/>
                      </a:lnTo>
                      <a:lnTo>
                        <a:pt x="563" y="41"/>
                      </a:lnTo>
                      <a:lnTo>
                        <a:pt x="570" y="34"/>
                      </a:lnTo>
                      <a:lnTo>
                        <a:pt x="570" y="34"/>
                      </a:lnTo>
                      <a:lnTo>
                        <a:pt x="570" y="34"/>
                      </a:lnTo>
                      <a:lnTo>
                        <a:pt x="563" y="34"/>
                      </a:lnTo>
                      <a:lnTo>
                        <a:pt x="563" y="34"/>
                      </a:lnTo>
                      <a:lnTo>
                        <a:pt x="563" y="41"/>
                      </a:lnTo>
                      <a:lnTo>
                        <a:pt x="563" y="41"/>
                      </a:lnTo>
                      <a:lnTo>
                        <a:pt x="563" y="41"/>
                      </a:lnTo>
                      <a:lnTo>
                        <a:pt x="556" y="41"/>
                      </a:lnTo>
                      <a:lnTo>
                        <a:pt x="556" y="41"/>
                      </a:lnTo>
                      <a:lnTo>
                        <a:pt x="556" y="41"/>
                      </a:lnTo>
                      <a:lnTo>
                        <a:pt x="556" y="41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0" y="48"/>
                      </a:lnTo>
                      <a:lnTo>
                        <a:pt x="550" y="48"/>
                      </a:lnTo>
                      <a:lnTo>
                        <a:pt x="550" y="48"/>
                      </a:lnTo>
                      <a:lnTo>
                        <a:pt x="550" y="48"/>
                      </a:lnTo>
                      <a:lnTo>
                        <a:pt x="550" y="48"/>
                      </a:lnTo>
                      <a:lnTo>
                        <a:pt x="550" y="55"/>
                      </a:lnTo>
                      <a:lnTo>
                        <a:pt x="543" y="55"/>
                      </a:lnTo>
                      <a:lnTo>
                        <a:pt x="543" y="55"/>
                      </a:lnTo>
                      <a:lnTo>
                        <a:pt x="543" y="55"/>
                      </a:lnTo>
                      <a:lnTo>
                        <a:pt x="543" y="55"/>
                      </a:lnTo>
                      <a:lnTo>
                        <a:pt x="543" y="55"/>
                      </a:lnTo>
                      <a:lnTo>
                        <a:pt x="536" y="55"/>
                      </a:lnTo>
                      <a:lnTo>
                        <a:pt x="536" y="55"/>
                      </a:lnTo>
                      <a:lnTo>
                        <a:pt x="536" y="55"/>
                      </a:lnTo>
                      <a:lnTo>
                        <a:pt x="536" y="62"/>
                      </a:lnTo>
                      <a:lnTo>
                        <a:pt x="536" y="62"/>
                      </a:lnTo>
                      <a:lnTo>
                        <a:pt x="536" y="69"/>
                      </a:lnTo>
                      <a:lnTo>
                        <a:pt x="536" y="69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36" y="69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43" y="76"/>
                      </a:lnTo>
                      <a:lnTo>
                        <a:pt x="543" y="76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43" y="90"/>
                      </a:lnTo>
                      <a:lnTo>
                        <a:pt x="543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29" y="104"/>
                      </a:lnTo>
                      <a:lnTo>
                        <a:pt x="529" y="104"/>
                      </a:lnTo>
                      <a:lnTo>
                        <a:pt x="529" y="104"/>
                      </a:lnTo>
                      <a:lnTo>
                        <a:pt x="529" y="111"/>
                      </a:lnTo>
                      <a:lnTo>
                        <a:pt x="536" y="111"/>
                      </a:lnTo>
                      <a:lnTo>
                        <a:pt x="536" y="111"/>
                      </a:lnTo>
                      <a:lnTo>
                        <a:pt x="536" y="118"/>
                      </a:lnTo>
                      <a:lnTo>
                        <a:pt x="536" y="118"/>
                      </a:lnTo>
                      <a:lnTo>
                        <a:pt x="536" y="118"/>
                      </a:lnTo>
                      <a:lnTo>
                        <a:pt x="536" y="118"/>
                      </a:lnTo>
                      <a:lnTo>
                        <a:pt x="536" y="125"/>
                      </a:lnTo>
                      <a:lnTo>
                        <a:pt x="536" y="125"/>
                      </a:lnTo>
                      <a:lnTo>
                        <a:pt x="536" y="125"/>
                      </a:lnTo>
                      <a:lnTo>
                        <a:pt x="536" y="132"/>
                      </a:lnTo>
                      <a:lnTo>
                        <a:pt x="536" y="132"/>
                      </a:lnTo>
                      <a:lnTo>
                        <a:pt x="536" y="139"/>
                      </a:lnTo>
                      <a:lnTo>
                        <a:pt x="536" y="139"/>
                      </a:lnTo>
                      <a:lnTo>
                        <a:pt x="529" y="139"/>
                      </a:lnTo>
                      <a:lnTo>
                        <a:pt x="529" y="145"/>
                      </a:lnTo>
                      <a:lnTo>
                        <a:pt x="529" y="145"/>
                      </a:lnTo>
                      <a:lnTo>
                        <a:pt x="529" y="145"/>
                      </a:lnTo>
                      <a:lnTo>
                        <a:pt x="529" y="145"/>
                      </a:lnTo>
                      <a:lnTo>
                        <a:pt x="529" y="145"/>
                      </a:lnTo>
                      <a:lnTo>
                        <a:pt x="536" y="152"/>
                      </a:lnTo>
                      <a:lnTo>
                        <a:pt x="529" y="152"/>
                      </a:lnTo>
                      <a:lnTo>
                        <a:pt x="529" y="152"/>
                      </a:lnTo>
                      <a:lnTo>
                        <a:pt x="529" y="152"/>
                      </a:lnTo>
                      <a:lnTo>
                        <a:pt x="529" y="159"/>
                      </a:lnTo>
                      <a:lnTo>
                        <a:pt x="529" y="166"/>
                      </a:lnTo>
                      <a:lnTo>
                        <a:pt x="529" y="166"/>
                      </a:lnTo>
                      <a:lnTo>
                        <a:pt x="529" y="166"/>
                      </a:lnTo>
                      <a:lnTo>
                        <a:pt x="529" y="173"/>
                      </a:lnTo>
                      <a:lnTo>
                        <a:pt x="529" y="173"/>
                      </a:lnTo>
                      <a:lnTo>
                        <a:pt x="529" y="173"/>
                      </a:lnTo>
                      <a:lnTo>
                        <a:pt x="529" y="173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22" y="187"/>
                      </a:lnTo>
                      <a:lnTo>
                        <a:pt x="522" y="187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87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15"/>
                      </a:lnTo>
                      <a:lnTo>
                        <a:pt x="529" y="229"/>
                      </a:lnTo>
                      <a:lnTo>
                        <a:pt x="529" y="229"/>
                      </a:lnTo>
                      <a:lnTo>
                        <a:pt x="529" y="229"/>
                      </a:lnTo>
                      <a:lnTo>
                        <a:pt x="529" y="236"/>
                      </a:lnTo>
                      <a:lnTo>
                        <a:pt x="529" y="236"/>
                      </a:lnTo>
                      <a:lnTo>
                        <a:pt x="536" y="243"/>
                      </a:lnTo>
                      <a:lnTo>
                        <a:pt x="536" y="250"/>
                      </a:lnTo>
                      <a:lnTo>
                        <a:pt x="536" y="250"/>
                      </a:lnTo>
                      <a:lnTo>
                        <a:pt x="536" y="256"/>
                      </a:lnTo>
                      <a:lnTo>
                        <a:pt x="536" y="256"/>
                      </a:lnTo>
                      <a:lnTo>
                        <a:pt x="536" y="263"/>
                      </a:lnTo>
                      <a:lnTo>
                        <a:pt x="536" y="270"/>
                      </a:lnTo>
                      <a:lnTo>
                        <a:pt x="536" y="270"/>
                      </a:lnTo>
                      <a:lnTo>
                        <a:pt x="536" y="270"/>
                      </a:lnTo>
                      <a:lnTo>
                        <a:pt x="536" y="277"/>
                      </a:lnTo>
                      <a:lnTo>
                        <a:pt x="543" y="277"/>
                      </a:lnTo>
                      <a:lnTo>
                        <a:pt x="543" y="277"/>
                      </a:lnTo>
                      <a:lnTo>
                        <a:pt x="543" y="284"/>
                      </a:lnTo>
                      <a:lnTo>
                        <a:pt x="543" y="284"/>
                      </a:lnTo>
                      <a:lnTo>
                        <a:pt x="543" y="284"/>
                      </a:lnTo>
                      <a:lnTo>
                        <a:pt x="543" y="284"/>
                      </a:lnTo>
                      <a:lnTo>
                        <a:pt x="543" y="284"/>
                      </a:lnTo>
                      <a:lnTo>
                        <a:pt x="536" y="291"/>
                      </a:lnTo>
                      <a:lnTo>
                        <a:pt x="536" y="298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12"/>
                      </a:lnTo>
                      <a:lnTo>
                        <a:pt x="536" y="312"/>
                      </a:lnTo>
                      <a:lnTo>
                        <a:pt x="536" y="312"/>
                      </a:lnTo>
                      <a:lnTo>
                        <a:pt x="529" y="312"/>
                      </a:lnTo>
                      <a:lnTo>
                        <a:pt x="529" y="312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26"/>
                      </a:lnTo>
                      <a:lnTo>
                        <a:pt x="529" y="326"/>
                      </a:lnTo>
                      <a:lnTo>
                        <a:pt x="529" y="326"/>
                      </a:lnTo>
                      <a:lnTo>
                        <a:pt x="529" y="326"/>
                      </a:lnTo>
                      <a:lnTo>
                        <a:pt x="529" y="333"/>
                      </a:lnTo>
                      <a:lnTo>
                        <a:pt x="522" y="333"/>
                      </a:lnTo>
                      <a:lnTo>
                        <a:pt x="522" y="333"/>
                      </a:lnTo>
                      <a:lnTo>
                        <a:pt x="529" y="333"/>
                      </a:lnTo>
                      <a:lnTo>
                        <a:pt x="522" y="333"/>
                      </a:lnTo>
                      <a:lnTo>
                        <a:pt x="522" y="333"/>
                      </a:lnTo>
                      <a:lnTo>
                        <a:pt x="522" y="333"/>
                      </a:lnTo>
                      <a:lnTo>
                        <a:pt x="522" y="340"/>
                      </a:lnTo>
                      <a:lnTo>
                        <a:pt x="522" y="340"/>
                      </a:lnTo>
                      <a:lnTo>
                        <a:pt x="522" y="347"/>
                      </a:lnTo>
                      <a:lnTo>
                        <a:pt x="522" y="347"/>
                      </a:lnTo>
                      <a:lnTo>
                        <a:pt x="522" y="347"/>
                      </a:lnTo>
                      <a:lnTo>
                        <a:pt x="522" y="347"/>
                      </a:lnTo>
                      <a:lnTo>
                        <a:pt x="522" y="347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61"/>
                      </a:lnTo>
                      <a:lnTo>
                        <a:pt x="515" y="354"/>
                      </a:lnTo>
                      <a:lnTo>
                        <a:pt x="515" y="361"/>
                      </a:lnTo>
                      <a:lnTo>
                        <a:pt x="515" y="361"/>
                      </a:lnTo>
                      <a:lnTo>
                        <a:pt x="515" y="367"/>
                      </a:lnTo>
                      <a:lnTo>
                        <a:pt x="522" y="367"/>
                      </a:lnTo>
                      <a:lnTo>
                        <a:pt x="522" y="367"/>
                      </a:lnTo>
                      <a:lnTo>
                        <a:pt x="522" y="367"/>
                      </a:lnTo>
                      <a:lnTo>
                        <a:pt x="515" y="374"/>
                      </a:lnTo>
                      <a:lnTo>
                        <a:pt x="515" y="374"/>
                      </a:lnTo>
                      <a:lnTo>
                        <a:pt x="515" y="381"/>
                      </a:lnTo>
                      <a:lnTo>
                        <a:pt x="515" y="381"/>
                      </a:lnTo>
                      <a:lnTo>
                        <a:pt x="515" y="381"/>
                      </a:lnTo>
                      <a:lnTo>
                        <a:pt x="515" y="381"/>
                      </a:lnTo>
                      <a:lnTo>
                        <a:pt x="515" y="388"/>
                      </a:lnTo>
                      <a:lnTo>
                        <a:pt x="515" y="388"/>
                      </a:lnTo>
                      <a:lnTo>
                        <a:pt x="515" y="388"/>
                      </a:lnTo>
                      <a:lnTo>
                        <a:pt x="515" y="388"/>
                      </a:lnTo>
                      <a:lnTo>
                        <a:pt x="515" y="388"/>
                      </a:lnTo>
                      <a:lnTo>
                        <a:pt x="515" y="395"/>
                      </a:lnTo>
                      <a:lnTo>
                        <a:pt x="515" y="402"/>
                      </a:lnTo>
                      <a:lnTo>
                        <a:pt x="515" y="402"/>
                      </a:lnTo>
                      <a:lnTo>
                        <a:pt x="515" y="402"/>
                      </a:lnTo>
                      <a:lnTo>
                        <a:pt x="515" y="409"/>
                      </a:lnTo>
                      <a:lnTo>
                        <a:pt x="515" y="409"/>
                      </a:lnTo>
                      <a:lnTo>
                        <a:pt x="515" y="416"/>
                      </a:lnTo>
                      <a:lnTo>
                        <a:pt x="515" y="416"/>
                      </a:lnTo>
                      <a:lnTo>
                        <a:pt x="515" y="423"/>
                      </a:lnTo>
                      <a:lnTo>
                        <a:pt x="515" y="423"/>
                      </a:lnTo>
                      <a:lnTo>
                        <a:pt x="515" y="430"/>
                      </a:lnTo>
                      <a:lnTo>
                        <a:pt x="515" y="430"/>
                      </a:lnTo>
                      <a:lnTo>
                        <a:pt x="515" y="437"/>
                      </a:lnTo>
                      <a:lnTo>
                        <a:pt x="522" y="437"/>
                      </a:lnTo>
                      <a:lnTo>
                        <a:pt x="515" y="437"/>
                      </a:lnTo>
                      <a:lnTo>
                        <a:pt x="515" y="444"/>
                      </a:lnTo>
                      <a:lnTo>
                        <a:pt x="515" y="444"/>
                      </a:lnTo>
                      <a:lnTo>
                        <a:pt x="515" y="444"/>
                      </a:lnTo>
                      <a:lnTo>
                        <a:pt x="515" y="444"/>
                      </a:lnTo>
                      <a:lnTo>
                        <a:pt x="508" y="451"/>
                      </a:lnTo>
                      <a:lnTo>
                        <a:pt x="508" y="451"/>
                      </a:lnTo>
                      <a:lnTo>
                        <a:pt x="508" y="451"/>
                      </a:lnTo>
                      <a:lnTo>
                        <a:pt x="508" y="451"/>
                      </a:lnTo>
                      <a:lnTo>
                        <a:pt x="508" y="451"/>
                      </a:lnTo>
                      <a:lnTo>
                        <a:pt x="502" y="458"/>
                      </a:lnTo>
                      <a:lnTo>
                        <a:pt x="502" y="458"/>
                      </a:lnTo>
                      <a:lnTo>
                        <a:pt x="502" y="458"/>
                      </a:lnTo>
                      <a:lnTo>
                        <a:pt x="502" y="458"/>
                      </a:lnTo>
                      <a:lnTo>
                        <a:pt x="502" y="458"/>
                      </a:lnTo>
                      <a:lnTo>
                        <a:pt x="495" y="458"/>
                      </a:lnTo>
                      <a:lnTo>
                        <a:pt x="495" y="458"/>
                      </a:lnTo>
                      <a:lnTo>
                        <a:pt x="495" y="458"/>
                      </a:lnTo>
                      <a:lnTo>
                        <a:pt x="488" y="458"/>
                      </a:lnTo>
                      <a:lnTo>
                        <a:pt x="488" y="465"/>
                      </a:lnTo>
                      <a:lnTo>
                        <a:pt x="488" y="465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8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74" y="492"/>
                      </a:lnTo>
                      <a:lnTo>
                        <a:pt x="474" y="492"/>
                      </a:lnTo>
                      <a:lnTo>
                        <a:pt x="474" y="492"/>
                      </a:lnTo>
                      <a:lnTo>
                        <a:pt x="474" y="492"/>
                      </a:lnTo>
                      <a:lnTo>
                        <a:pt x="474" y="492"/>
                      </a:lnTo>
                      <a:lnTo>
                        <a:pt x="453" y="478"/>
                      </a:lnTo>
                      <a:lnTo>
                        <a:pt x="453" y="478"/>
                      </a:lnTo>
                      <a:lnTo>
                        <a:pt x="453" y="478"/>
                      </a:lnTo>
                      <a:lnTo>
                        <a:pt x="440" y="472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33" y="451"/>
                      </a:lnTo>
                      <a:lnTo>
                        <a:pt x="433" y="451"/>
                      </a:lnTo>
                      <a:lnTo>
                        <a:pt x="433" y="451"/>
                      </a:lnTo>
                      <a:lnTo>
                        <a:pt x="433" y="451"/>
                      </a:lnTo>
                      <a:lnTo>
                        <a:pt x="426" y="451"/>
                      </a:lnTo>
                      <a:lnTo>
                        <a:pt x="426" y="451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37"/>
                      </a:lnTo>
                      <a:lnTo>
                        <a:pt x="426" y="444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0"/>
                      </a:lnTo>
                      <a:lnTo>
                        <a:pt x="419" y="430"/>
                      </a:lnTo>
                      <a:lnTo>
                        <a:pt x="419" y="430"/>
                      </a:lnTo>
                      <a:lnTo>
                        <a:pt x="419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23"/>
                      </a:lnTo>
                      <a:lnTo>
                        <a:pt x="412" y="423"/>
                      </a:lnTo>
                      <a:lnTo>
                        <a:pt x="405" y="430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2" y="416"/>
                      </a:lnTo>
                      <a:lnTo>
                        <a:pt x="392" y="416"/>
                      </a:lnTo>
                      <a:lnTo>
                        <a:pt x="392" y="409"/>
                      </a:lnTo>
                      <a:lnTo>
                        <a:pt x="392" y="409"/>
                      </a:lnTo>
                      <a:lnTo>
                        <a:pt x="392" y="409"/>
                      </a:lnTo>
                      <a:lnTo>
                        <a:pt x="399" y="409"/>
                      </a:lnTo>
                      <a:lnTo>
                        <a:pt x="392" y="409"/>
                      </a:lnTo>
                      <a:lnTo>
                        <a:pt x="392" y="409"/>
                      </a:lnTo>
                      <a:lnTo>
                        <a:pt x="399" y="409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395"/>
                      </a:lnTo>
                      <a:lnTo>
                        <a:pt x="399" y="395"/>
                      </a:lnTo>
                      <a:lnTo>
                        <a:pt x="399" y="395"/>
                      </a:lnTo>
                      <a:lnTo>
                        <a:pt x="399" y="395"/>
                      </a:lnTo>
                      <a:lnTo>
                        <a:pt x="399" y="395"/>
                      </a:lnTo>
                      <a:lnTo>
                        <a:pt x="399" y="388"/>
                      </a:lnTo>
                      <a:lnTo>
                        <a:pt x="399" y="388"/>
                      </a:lnTo>
                      <a:lnTo>
                        <a:pt x="399" y="388"/>
                      </a:lnTo>
                      <a:lnTo>
                        <a:pt x="399" y="388"/>
                      </a:lnTo>
                      <a:lnTo>
                        <a:pt x="399" y="388"/>
                      </a:lnTo>
                      <a:lnTo>
                        <a:pt x="399" y="381"/>
                      </a:lnTo>
                      <a:lnTo>
                        <a:pt x="399" y="381"/>
                      </a:lnTo>
                      <a:lnTo>
                        <a:pt x="399" y="374"/>
                      </a:lnTo>
                      <a:lnTo>
                        <a:pt x="399" y="374"/>
                      </a:lnTo>
                      <a:lnTo>
                        <a:pt x="405" y="374"/>
                      </a:lnTo>
                      <a:lnTo>
                        <a:pt x="405" y="374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9" y="367"/>
                      </a:lnTo>
                      <a:lnTo>
                        <a:pt x="419" y="367"/>
                      </a:lnTo>
                      <a:lnTo>
                        <a:pt x="419" y="367"/>
                      </a:lnTo>
                      <a:lnTo>
                        <a:pt x="419" y="374"/>
                      </a:lnTo>
                      <a:lnTo>
                        <a:pt x="419" y="367"/>
                      </a:lnTo>
                      <a:lnTo>
                        <a:pt x="419" y="374"/>
                      </a:lnTo>
                      <a:lnTo>
                        <a:pt x="419" y="367"/>
                      </a:lnTo>
                      <a:lnTo>
                        <a:pt x="419" y="367"/>
                      </a:lnTo>
                      <a:lnTo>
                        <a:pt x="419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1"/>
                      </a:lnTo>
                      <a:lnTo>
                        <a:pt x="426" y="361"/>
                      </a:lnTo>
                      <a:lnTo>
                        <a:pt x="426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47"/>
                      </a:lnTo>
                      <a:lnTo>
                        <a:pt x="419" y="347"/>
                      </a:lnTo>
                      <a:lnTo>
                        <a:pt x="419" y="347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33"/>
                      </a:lnTo>
                      <a:lnTo>
                        <a:pt x="433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26"/>
                      </a:lnTo>
                      <a:lnTo>
                        <a:pt x="447" y="326"/>
                      </a:lnTo>
                      <a:lnTo>
                        <a:pt x="447" y="326"/>
                      </a:lnTo>
                      <a:lnTo>
                        <a:pt x="447" y="326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53" y="319"/>
                      </a:lnTo>
                      <a:lnTo>
                        <a:pt x="453" y="319"/>
                      </a:lnTo>
                      <a:lnTo>
                        <a:pt x="453" y="319"/>
                      </a:lnTo>
                      <a:lnTo>
                        <a:pt x="453" y="319"/>
                      </a:lnTo>
                      <a:lnTo>
                        <a:pt x="453" y="319"/>
                      </a:lnTo>
                      <a:lnTo>
                        <a:pt x="453" y="312"/>
                      </a:lnTo>
                      <a:lnTo>
                        <a:pt x="453" y="312"/>
                      </a:lnTo>
                      <a:lnTo>
                        <a:pt x="453" y="312"/>
                      </a:lnTo>
                      <a:lnTo>
                        <a:pt x="453" y="312"/>
                      </a:lnTo>
                      <a:lnTo>
                        <a:pt x="453" y="312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60" y="305"/>
                      </a:lnTo>
                      <a:lnTo>
                        <a:pt x="460" y="305"/>
                      </a:lnTo>
                      <a:lnTo>
                        <a:pt x="460" y="305"/>
                      </a:lnTo>
                      <a:lnTo>
                        <a:pt x="453" y="305"/>
                      </a:lnTo>
                      <a:lnTo>
                        <a:pt x="453" y="298"/>
                      </a:lnTo>
                      <a:lnTo>
                        <a:pt x="453" y="298"/>
                      </a:lnTo>
                      <a:lnTo>
                        <a:pt x="453" y="298"/>
                      </a:lnTo>
                      <a:lnTo>
                        <a:pt x="453" y="298"/>
                      </a:lnTo>
                      <a:lnTo>
                        <a:pt x="453" y="298"/>
                      </a:lnTo>
                      <a:lnTo>
                        <a:pt x="453" y="291"/>
                      </a:lnTo>
                      <a:lnTo>
                        <a:pt x="453" y="291"/>
                      </a:lnTo>
                      <a:lnTo>
                        <a:pt x="453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26" y="284"/>
                      </a:lnTo>
                      <a:lnTo>
                        <a:pt x="433" y="284"/>
                      </a:lnTo>
                      <a:lnTo>
                        <a:pt x="426" y="284"/>
                      </a:lnTo>
                      <a:lnTo>
                        <a:pt x="426" y="284"/>
                      </a:lnTo>
                      <a:lnTo>
                        <a:pt x="426" y="284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05" y="270"/>
                      </a:lnTo>
                      <a:lnTo>
                        <a:pt x="405" y="270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85" y="263"/>
                      </a:lnTo>
                      <a:lnTo>
                        <a:pt x="385" y="263"/>
                      </a:lnTo>
                      <a:lnTo>
                        <a:pt x="385" y="263"/>
                      </a:lnTo>
                      <a:lnTo>
                        <a:pt x="385" y="263"/>
                      </a:lnTo>
                      <a:lnTo>
                        <a:pt x="385" y="270"/>
                      </a:lnTo>
                      <a:lnTo>
                        <a:pt x="385" y="270"/>
                      </a:lnTo>
                      <a:lnTo>
                        <a:pt x="385" y="270"/>
                      </a:lnTo>
                      <a:lnTo>
                        <a:pt x="378" y="270"/>
                      </a:lnTo>
                      <a:lnTo>
                        <a:pt x="378" y="270"/>
                      </a:lnTo>
                      <a:lnTo>
                        <a:pt x="378" y="270"/>
                      </a:lnTo>
                      <a:lnTo>
                        <a:pt x="378" y="270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70"/>
                      </a:lnTo>
                      <a:lnTo>
                        <a:pt x="371" y="270"/>
                      </a:lnTo>
                      <a:lnTo>
                        <a:pt x="371" y="270"/>
                      </a:lnTo>
                      <a:lnTo>
                        <a:pt x="371" y="270"/>
                      </a:lnTo>
                      <a:lnTo>
                        <a:pt x="371" y="270"/>
                      </a:lnTo>
                      <a:lnTo>
                        <a:pt x="371" y="263"/>
                      </a:lnTo>
                      <a:lnTo>
                        <a:pt x="371" y="263"/>
                      </a:lnTo>
                      <a:lnTo>
                        <a:pt x="364" y="263"/>
                      </a:lnTo>
                      <a:lnTo>
                        <a:pt x="364" y="263"/>
                      </a:lnTo>
                      <a:lnTo>
                        <a:pt x="364" y="263"/>
                      </a:lnTo>
                      <a:lnTo>
                        <a:pt x="364" y="263"/>
                      </a:lnTo>
                      <a:lnTo>
                        <a:pt x="364" y="263"/>
                      </a:lnTo>
                      <a:lnTo>
                        <a:pt x="364" y="270"/>
                      </a:lnTo>
                      <a:lnTo>
                        <a:pt x="364" y="270"/>
                      </a:lnTo>
                      <a:lnTo>
                        <a:pt x="364" y="270"/>
                      </a:lnTo>
                      <a:lnTo>
                        <a:pt x="357" y="270"/>
                      </a:lnTo>
                      <a:lnTo>
                        <a:pt x="357" y="270"/>
                      </a:lnTo>
                      <a:lnTo>
                        <a:pt x="357" y="270"/>
                      </a:lnTo>
                      <a:lnTo>
                        <a:pt x="357" y="270"/>
                      </a:lnTo>
                      <a:lnTo>
                        <a:pt x="351" y="270"/>
                      </a:lnTo>
                      <a:lnTo>
                        <a:pt x="351" y="270"/>
                      </a:lnTo>
                      <a:lnTo>
                        <a:pt x="351" y="270"/>
                      </a:lnTo>
                      <a:lnTo>
                        <a:pt x="351" y="277"/>
                      </a:lnTo>
                      <a:lnTo>
                        <a:pt x="351" y="270"/>
                      </a:lnTo>
                      <a:lnTo>
                        <a:pt x="351" y="270"/>
                      </a:lnTo>
                      <a:lnTo>
                        <a:pt x="344" y="270"/>
                      </a:lnTo>
                      <a:lnTo>
                        <a:pt x="344" y="270"/>
                      </a:lnTo>
                      <a:lnTo>
                        <a:pt x="344" y="270"/>
                      </a:lnTo>
                      <a:lnTo>
                        <a:pt x="344" y="270"/>
                      </a:lnTo>
                      <a:lnTo>
                        <a:pt x="337" y="270"/>
                      </a:lnTo>
                      <a:lnTo>
                        <a:pt x="337" y="270"/>
                      </a:lnTo>
                      <a:lnTo>
                        <a:pt x="337" y="270"/>
                      </a:lnTo>
                      <a:lnTo>
                        <a:pt x="337" y="270"/>
                      </a:lnTo>
                      <a:lnTo>
                        <a:pt x="337" y="270"/>
                      </a:lnTo>
                      <a:lnTo>
                        <a:pt x="330" y="270"/>
                      </a:lnTo>
                      <a:lnTo>
                        <a:pt x="330" y="263"/>
                      </a:lnTo>
                      <a:lnTo>
                        <a:pt x="330" y="250"/>
                      </a:lnTo>
                      <a:lnTo>
                        <a:pt x="330" y="250"/>
                      </a:lnTo>
                      <a:lnTo>
                        <a:pt x="330" y="250"/>
                      </a:lnTo>
                      <a:lnTo>
                        <a:pt x="323" y="243"/>
                      </a:lnTo>
                      <a:lnTo>
                        <a:pt x="316" y="236"/>
                      </a:lnTo>
                      <a:lnTo>
                        <a:pt x="296" y="215"/>
                      </a:lnTo>
                      <a:lnTo>
                        <a:pt x="296" y="215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2" y="222"/>
                      </a:lnTo>
                      <a:lnTo>
                        <a:pt x="282" y="222"/>
                      </a:lnTo>
                      <a:lnTo>
                        <a:pt x="282" y="222"/>
                      </a:lnTo>
                      <a:lnTo>
                        <a:pt x="282" y="222"/>
                      </a:lnTo>
                      <a:lnTo>
                        <a:pt x="282" y="222"/>
                      </a:lnTo>
                      <a:lnTo>
                        <a:pt x="275" y="222"/>
                      </a:lnTo>
                      <a:lnTo>
                        <a:pt x="275" y="222"/>
                      </a:lnTo>
                      <a:lnTo>
                        <a:pt x="275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1" y="222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54" y="215"/>
                      </a:lnTo>
                      <a:lnTo>
                        <a:pt x="254" y="215"/>
                      </a:lnTo>
                      <a:lnTo>
                        <a:pt x="254" y="222"/>
                      </a:lnTo>
                      <a:lnTo>
                        <a:pt x="254" y="222"/>
                      </a:lnTo>
                      <a:lnTo>
                        <a:pt x="254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1" y="215"/>
                      </a:lnTo>
                      <a:lnTo>
                        <a:pt x="241" y="215"/>
                      </a:lnTo>
                      <a:lnTo>
                        <a:pt x="241" y="215"/>
                      </a:lnTo>
                      <a:lnTo>
                        <a:pt x="241" y="215"/>
                      </a:lnTo>
                      <a:lnTo>
                        <a:pt x="241" y="215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27" y="208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8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194"/>
                      </a:lnTo>
                      <a:lnTo>
                        <a:pt x="213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87"/>
                      </a:lnTo>
                      <a:lnTo>
                        <a:pt x="206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3" y="180"/>
                      </a:lnTo>
                      <a:lnTo>
                        <a:pt x="193" y="187"/>
                      </a:lnTo>
                      <a:lnTo>
                        <a:pt x="193" y="180"/>
                      </a:lnTo>
                      <a:lnTo>
                        <a:pt x="193" y="187"/>
                      </a:lnTo>
                      <a:lnTo>
                        <a:pt x="193" y="180"/>
                      </a:lnTo>
                      <a:lnTo>
                        <a:pt x="193" y="180"/>
                      </a:lnTo>
                      <a:lnTo>
                        <a:pt x="193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58" y="180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45" y="194"/>
                      </a:lnTo>
                      <a:lnTo>
                        <a:pt x="145" y="194"/>
                      </a:lnTo>
                      <a:lnTo>
                        <a:pt x="145" y="187"/>
                      </a:lnTo>
                      <a:lnTo>
                        <a:pt x="145" y="187"/>
                      </a:lnTo>
                      <a:lnTo>
                        <a:pt x="145" y="187"/>
                      </a:lnTo>
                      <a:lnTo>
                        <a:pt x="145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73"/>
                      </a:lnTo>
                      <a:lnTo>
                        <a:pt x="117" y="173"/>
                      </a:lnTo>
                      <a:lnTo>
                        <a:pt x="117" y="173"/>
                      </a:lnTo>
                      <a:lnTo>
                        <a:pt x="117" y="173"/>
                      </a:lnTo>
                      <a:lnTo>
                        <a:pt x="117" y="173"/>
                      </a:lnTo>
                      <a:lnTo>
                        <a:pt x="117" y="166"/>
                      </a:lnTo>
                      <a:lnTo>
                        <a:pt x="124" y="166"/>
                      </a:lnTo>
                      <a:lnTo>
                        <a:pt x="124" y="166"/>
                      </a:lnTo>
                      <a:lnTo>
                        <a:pt x="124" y="159"/>
                      </a:lnTo>
                      <a:lnTo>
                        <a:pt x="124" y="159"/>
                      </a:lnTo>
                      <a:lnTo>
                        <a:pt x="124" y="159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0" y="152"/>
                      </a:lnTo>
                      <a:lnTo>
                        <a:pt x="110" y="152"/>
                      </a:lnTo>
                      <a:lnTo>
                        <a:pt x="110" y="145"/>
                      </a:lnTo>
                      <a:lnTo>
                        <a:pt x="110" y="152"/>
                      </a:lnTo>
                      <a:lnTo>
                        <a:pt x="110" y="145"/>
                      </a:lnTo>
                      <a:lnTo>
                        <a:pt x="110" y="145"/>
                      </a:lnTo>
                      <a:lnTo>
                        <a:pt x="110" y="145"/>
                      </a:lnTo>
                      <a:lnTo>
                        <a:pt x="110" y="145"/>
                      </a:lnTo>
                      <a:lnTo>
                        <a:pt x="110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83" y="145"/>
                      </a:lnTo>
                      <a:lnTo>
                        <a:pt x="83" y="145"/>
                      </a:lnTo>
                      <a:lnTo>
                        <a:pt x="83" y="145"/>
                      </a:lnTo>
                      <a:lnTo>
                        <a:pt x="83" y="145"/>
                      </a:lnTo>
                      <a:lnTo>
                        <a:pt x="83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69" y="145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48" y="159"/>
                      </a:lnTo>
                      <a:lnTo>
                        <a:pt x="48" y="159"/>
                      </a:lnTo>
                      <a:lnTo>
                        <a:pt x="48" y="159"/>
                      </a:lnTo>
                      <a:lnTo>
                        <a:pt x="48" y="159"/>
                      </a:lnTo>
                      <a:lnTo>
                        <a:pt x="48" y="159"/>
                      </a:lnTo>
                      <a:lnTo>
                        <a:pt x="48" y="166"/>
                      </a:lnTo>
                      <a:lnTo>
                        <a:pt x="48" y="166"/>
                      </a:lnTo>
                      <a:lnTo>
                        <a:pt x="48" y="159"/>
                      </a:lnTo>
                      <a:lnTo>
                        <a:pt x="48" y="166"/>
                      </a:lnTo>
                      <a:lnTo>
                        <a:pt x="48" y="166"/>
                      </a:lnTo>
                      <a:lnTo>
                        <a:pt x="48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35" y="166"/>
                      </a:lnTo>
                      <a:lnTo>
                        <a:pt x="42" y="166"/>
                      </a:lnTo>
                      <a:lnTo>
                        <a:pt x="35" y="166"/>
                      </a:lnTo>
                      <a:lnTo>
                        <a:pt x="35" y="166"/>
                      </a:lnTo>
                      <a:lnTo>
                        <a:pt x="35" y="173"/>
                      </a:lnTo>
                      <a:lnTo>
                        <a:pt x="35" y="166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1" y="180"/>
                      </a:lnTo>
                      <a:lnTo>
                        <a:pt x="21" y="180"/>
                      </a:lnTo>
                      <a:lnTo>
                        <a:pt x="21" y="180"/>
                      </a:lnTo>
                      <a:lnTo>
                        <a:pt x="21" y="180"/>
                      </a:lnTo>
                      <a:lnTo>
                        <a:pt x="21" y="180"/>
                      </a:lnTo>
                      <a:lnTo>
                        <a:pt x="21" y="187"/>
                      </a:lnTo>
                      <a:lnTo>
                        <a:pt x="14" y="187"/>
                      </a:lnTo>
                      <a:lnTo>
                        <a:pt x="14" y="187"/>
                      </a:lnTo>
                      <a:lnTo>
                        <a:pt x="14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157000" y="4028400"/>
                  <a:ext cx="137160" cy="391680"/>
                </a:xfrm>
                <a:custGeom>
                  <a:avLst/>
                  <a:gdLst/>
                  <a:ahLst/>
                  <a:rect l="l" t="t" r="r" b="b"/>
                  <a:pathLst>
                    <a:path w="109" h="333">
                      <a:moveTo>
                        <a:pt x="109" y="298"/>
                      </a:move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2" y="298"/>
                      </a:lnTo>
                      <a:lnTo>
                        <a:pt x="102" y="298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96" y="305"/>
                      </a:lnTo>
                      <a:lnTo>
                        <a:pt x="96" y="305"/>
                      </a:lnTo>
                      <a:lnTo>
                        <a:pt x="96" y="305"/>
                      </a:lnTo>
                      <a:lnTo>
                        <a:pt x="96" y="312"/>
                      </a:lnTo>
                      <a:lnTo>
                        <a:pt x="96" y="312"/>
                      </a:lnTo>
                      <a:lnTo>
                        <a:pt x="89" y="312"/>
                      </a:lnTo>
                      <a:lnTo>
                        <a:pt x="89" y="312"/>
                      </a:lnTo>
                      <a:lnTo>
                        <a:pt x="89" y="312"/>
                      </a:lnTo>
                      <a:lnTo>
                        <a:pt x="89" y="312"/>
                      </a:lnTo>
                      <a:lnTo>
                        <a:pt x="89" y="305"/>
                      </a:lnTo>
                      <a:lnTo>
                        <a:pt x="89" y="305"/>
                      </a:lnTo>
                      <a:lnTo>
                        <a:pt x="89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9"/>
                      </a:lnTo>
                      <a:lnTo>
                        <a:pt x="82" y="312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68" y="319"/>
                      </a:lnTo>
                      <a:lnTo>
                        <a:pt x="68" y="326"/>
                      </a:lnTo>
                      <a:lnTo>
                        <a:pt x="68" y="326"/>
                      </a:lnTo>
                      <a:lnTo>
                        <a:pt x="68" y="326"/>
                      </a:lnTo>
                      <a:lnTo>
                        <a:pt x="68" y="326"/>
                      </a:lnTo>
                      <a:lnTo>
                        <a:pt x="68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54" y="326"/>
                      </a:lnTo>
                      <a:lnTo>
                        <a:pt x="54" y="326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8" y="326"/>
                      </a:lnTo>
                      <a:lnTo>
                        <a:pt x="48" y="319"/>
                      </a:lnTo>
                      <a:lnTo>
                        <a:pt x="48" y="319"/>
                      </a:lnTo>
                      <a:lnTo>
                        <a:pt x="48" y="319"/>
                      </a:lnTo>
                      <a:lnTo>
                        <a:pt x="48" y="319"/>
                      </a:lnTo>
                      <a:lnTo>
                        <a:pt x="48" y="319"/>
                      </a:lnTo>
                      <a:lnTo>
                        <a:pt x="48" y="312"/>
                      </a:lnTo>
                      <a:lnTo>
                        <a:pt x="48" y="312"/>
                      </a:lnTo>
                      <a:lnTo>
                        <a:pt x="48" y="312"/>
                      </a:lnTo>
                      <a:lnTo>
                        <a:pt x="48" y="312"/>
                      </a:lnTo>
                      <a:lnTo>
                        <a:pt x="48" y="312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1" y="298"/>
                      </a:lnTo>
                      <a:lnTo>
                        <a:pt x="48" y="298"/>
                      </a:lnTo>
                      <a:lnTo>
                        <a:pt x="48" y="298"/>
                      </a:lnTo>
                      <a:lnTo>
                        <a:pt x="48" y="298"/>
                      </a:lnTo>
                      <a:lnTo>
                        <a:pt x="48" y="298"/>
                      </a:lnTo>
                      <a:lnTo>
                        <a:pt x="48" y="298"/>
                      </a:lnTo>
                      <a:lnTo>
                        <a:pt x="48" y="291"/>
                      </a:lnTo>
                      <a:lnTo>
                        <a:pt x="48" y="291"/>
                      </a:lnTo>
                      <a:lnTo>
                        <a:pt x="48" y="291"/>
                      </a:lnTo>
                      <a:lnTo>
                        <a:pt x="48" y="291"/>
                      </a:lnTo>
                      <a:lnTo>
                        <a:pt x="48" y="291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1" y="249"/>
                      </a:lnTo>
                      <a:lnTo>
                        <a:pt x="41" y="249"/>
                      </a:lnTo>
                      <a:lnTo>
                        <a:pt x="41" y="249"/>
                      </a:lnTo>
                      <a:lnTo>
                        <a:pt x="41" y="243"/>
                      </a:lnTo>
                      <a:lnTo>
                        <a:pt x="41" y="243"/>
                      </a:lnTo>
                      <a:lnTo>
                        <a:pt x="41" y="249"/>
                      </a:lnTo>
                      <a:lnTo>
                        <a:pt x="41" y="249"/>
                      </a:lnTo>
                      <a:lnTo>
                        <a:pt x="41" y="243"/>
                      </a:lnTo>
                      <a:lnTo>
                        <a:pt x="41" y="243"/>
                      </a:lnTo>
                      <a:lnTo>
                        <a:pt x="41" y="243"/>
                      </a:lnTo>
                      <a:lnTo>
                        <a:pt x="41" y="243"/>
                      </a:lnTo>
                      <a:lnTo>
                        <a:pt x="34" y="243"/>
                      </a:lnTo>
                      <a:lnTo>
                        <a:pt x="34" y="243"/>
                      </a:lnTo>
                      <a:lnTo>
                        <a:pt x="34" y="243"/>
                      </a:lnTo>
                      <a:lnTo>
                        <a:pt x="34" y="243"/>
                      </a:lnTo>
                      <a:lnTo>
                        <a:pt x="34" y="243"/>
                      </a:lnTo>
                      <a:lnTo>
                        <a:pt x="34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2"/>
                      </a:lnTo>
                      <a:lnTo>
                        <a:pt x="27" y="222"/>
                      </a:lnTo>
                      <a:lnTo>
                        <a:pt x="27" y="222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194"/>
                      </a:lnTo>
                      <a:lnTo>
                        <a:pt x="34" y="194"/>
                      </a:lnTo>
                      <a:lnTo>
                        <a:pt x="34" y="194"/>
                      </a:lnTo>
                      <a:lnTo>
                        <a:pt x="34" y="194"/>
                      </a:lnTo>
                      <a:lnTo>
                        <a:pt x="34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34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73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34" y="173"/>
                      </a:lnTo>
                      <a:lnTo>
                        <a:pt x="34" y="173"/>
                      </a:lnTo>
                      <a:lnTo>
                        <a:pt x="27" y="173"/>
                      </a:lnTo>
                      <a:lnTo>
                        <a:pt x="27" y="173"/>
                      </a:lnTo>
                      <a:lnTo>
                        <a:pt x="27" y="173"/>
                      </a:lnTo>
                      <a:lnTo>
                        <a:pt x="27" y="173"/>
                      </a:lnTo>
                      <a:lnTo>
                        <a:pt x="20" y="173"/>
                      </a:lnTo>
                      <a:lnTo>
                        <a:pt x="20" y="173"/>
                      </a:lnTo>
                      <a:lnTo>
                        <a:pt x="20" y="173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34" y="145"/>
                      </a:lnTo>
                      <a:lnTo>
                        <a:pt x="34" y="145"/>
                      </a:lnTo>
                      <a:lnTo>
                        <a:pt x="34" y="145"/>
                      </a:lnTo>
                      <a:lnTo>
                        <a:pt x="34" y="145"/>
                      </a:lnTo>
                      <a:lnTo>
                        <a:pt x="34" y="145"/>
                      </a:lnTo>
                      <a:lnTo>
                        <a:pt x="34" y="138"/>
                      </a:lnTo>
                      <a:lnTo>
                        <a:pt x="41" y="138"/>
                      </a:lnTo>
                      <a:lnTo>
                        <a:pt x="41" y="138"/>
                      </a:lnTo>
                      <a:lnTo>
                        <a:pt x="41" y="138"/>
                      </a:lnTo>
                      <a:lnTo>
                        <a:pt x="41" y="138"/>
                      </a:lnTo>
                      <a:lnTo>
                        <a:pt x="34" y="138"/>
                      </a:lnTo>
                      <a:lnTo>
                        <a:pt x="34" y="138"/>
                      </a:lnTo>
                      <a:lnTo>
                        <a:pt x="34" y="138"/>
                      </a:lnTo>
                      <a:lnTo>
                        <a:pt x="27" y="138"/>
                      </a:lnTo>
                      <a:lnTo>
                        <a:pt x="27" y="138"/>
                      </a:lnTo>
                      <a:lnTo>
                        <a:pt x="27" y="138"/>
                      </a:lnTo>
                      <a:lnTo>
                        <a:pt x="20" y="138"/>
                      </a:lnTo>
                      <a:lnTo>
                        <a:pt x="20" y="138"/>
                      </a:lnTo>
                      <a:lnTo>
                        <a:pt x="20" y="138"/>
                      </a:lnTo>
                      <a:lnTo>
                        <a:pt x="20" y="138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0" y="118"/>
                      </a:lnTo>
                      <a:lnTo>
                        <a:pt x="20" y="118"/>
                      </a:lnTo>
                      <a:lnTo>
                        <a:pt x="20" y="118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0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0" y="97"/>
                      </a:lnTo>
                      <a:lnTo>
                        <a:pt x="20" y="97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13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13" y="83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13" y="76"/>
                      </a:lnTo>
                      <a:lnTo>
                        <a:pt x="13" y="76"/>
                      </a:lnTo>
                      <a:lnTo>
                        <a:pt x="13" y="76"/>
                      </a:lnTo>
                      <a:lnTo>
                        <a:pt x="13" y="76"/>
                      </a:lnTo>
                      <a:lnTo>
                        <a:pt x="13" y="76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13" y="69"/>
                      </a:lnTo>
                      <a:lnTo>
                        <a:pt x="13" y="69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34" y="55"/>
                      </a:lnTo>
                      <a:lnTo>
                        <a:pt x="34" y="55"/>
                      </a:lnTo>
                      <a:lnTo>
                        <a:pt x="34" y="48"/>
                      </a:lnTo>
                      <a:lnTo>
                        <a:pt x="34" y="48"/>
                      </a:lnTo>
                      <a:lnTo>
                        <a:pt x="34" y="48"/>
                      </a:lnTo>
                      <a:lnTo>
                        <a:pt x="34" y="48"/>
                      </a:lnTo>
                      <a:lnTo>
                        <a:pt x="27" y="48"/>
                      </a:lnTo>
                      <a:lnTo>
                        <a:pt x="27" y="48"/>
                      </a:lnTo>
                      <a:lnTo>
                        <a:pt x="27" y="48"/>
                      </a:lnTo>
                      <a:lnTo>
                        <a:pt x="27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13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7" y="27"/>
                      </a:lnTo>
                      <a:lnTo>
                        <a:pt x="27" y="27"/>
                      </a:lnTo>
                      <a:lnTo>
                        <a:pt x="27" y="27"/>
                      </a:lnTo>
                      <a:lnTo>
                        <a:pt x="27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41" y="27"/>
                      </a:lnTo>
                      <a:lnTo>
                        <a:pt x="41" y="27"/>
                      </a:lnTo>
                      <a:lnTo>
                        <a:pt x="41" y="27"/>
                      </a:lnTo>
                      <a:lnTo>
                        <a:pt x="41" y="27"/>
                      </a:lnTo>
                      <a:lnTo>
                        <a:pt x="41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27" y="27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680720" y="4321440"/>
                  <a:ext cx="1192320" cy="865800"/>
                </a:xfrm>
                <a:custGeom>
                  <a:avLst/>
                  <a:gdLst/>
                  <a:ahLst/>
                  <a:rect l="l" t="t" r="r" b="b"/>
                  <a:pathLst>
                    <a:path w="947" h="736">
                      <a:moveTo>
                        <a:pt x="0" y="472"/>
                      </a:moveTo>
                      <a:lnTo>
                        <a:pt x="0" y="472"/>
                      </a:lnTo>
                      <a:lnTo>
                        <a:pt x="0" y="465"/>
                      </a:lnTo>
                      <a:lnTo>
                        <a:pt x="0" y="465"/>
                      </a:lnTo>
                      <a:lnTo>
                        <a:pt x="0" y="465"/>
                      </a:lnTo>
                      <a:lnTo>
                        <a:pt x="0" y="465"/>
                      </a:lnTo>
                      <a:lnTo>
                        <a:pt x="0" y="458"/>
                      </a:lnTo>
                      <a:lnTo>
                        <a:pt x="0" y="458"/>
                      </a:lnTo>
                      <a:lnTo>
                        <a:pt x="0" y="458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44"/>
                      </a:lnTo>
                      <a:lnTo>
                        <a:pt x="7" y="444"/>
                      </a:lnTo>
                      <a:lnTo>
                        <a:pt x="7" y="444"/>
                      </a:lnTo>
                      <a:lnTo>
                        <a:pt x="7" y="444"/>
                      </a:lnTo>
                      <a:lnTo>
                        <a:pt x="14" y="444"/>
                      </a:lnTo>
                      <a:lnTo>
                        <a:pt x="20" y="444"/>
                      </a:lnTo>
                      <a:lnTo>
                        <a:pt x="20" y="444"/>
                      </a:lnTo>
                      <a:lnTo>
                        <a:pt x="20" y="444"/>
                      </a:lnTo>
                      <a:lnTo>
                        <a:pt x="20" y="444"/>
                      </a:lnTo>
                      <a:lnTo>
                        <a:pt x="14" y="437"/>
                      </a:lnTo>
                      <a:lnTo>
                        <a:pt x="14" y="437"/>
                      </a:lnTo>
                      <a:lnTo>
                        <a:pt x="14" y="437"/>
                      </a:lnTo>
                      <a:lnTo>
                        <a:pt x="14" y="437"/>
                      </a:lnTo>
                      <a:lnTo>
                        <a:pt x="14" y="437"/>
                      </a:lnTo>
                      <a:lnTo>
                        <a:pt x="20" y="431"/>
                      </a:lnTo>
                      <a:lnTo>
                        <a:pt x="20" y="431"/>
                      </a:lnTo>
                      <a:lnTo>
                        <a:pt x="20" y="431"/>
                      </a:lnTo>
                      <a:lnTo>
                        <a:pt x="20" y="431"/>
                      </a:lnTo>
                      <a:lnTo>
                        <a:pt x="20" y="424"/>
                      </a:lnTo>
                      <a:lnTo>
                        <a:pt x="20" y="424"/>
                      </a:lnTo>
                      <a:lnTo>
                        <a:pt x="27" y="424"/>
                      </a:lnTo>
                      <a:lnTo>
                        <a:pt x="27" y="424"/>
                      </a:lnTo>
                      <a:lnTo>
                        <a:pt x="27" y="417"/>
                      </a:lnTo>
                      <a:lnTo>
                        <a:pt x="27" y="417"/>
                      </a:lnTo>
                      <a:lnTo>
                        <a:pt x="27" y="417"/>
                      </a:lnTo>
                      <a:lnTo>
                        <a:pt x="34" y="417"/>
                      </a:lnTo>
                      <a:lnTo>
                        <a:pt x="34" y="417"/>
                      </a:lnTo>
                      <a:lnTo>
                        <a:pt x="34" y="417"/>
                      </a:lnTo>
                      <a:lnTo>
                        <a:pt x="34" y="417"/>
                      </a:lnTo>
                      <a:lnTo>
                        <a:pt x="41" y="417"/>
                      </a:lnTo>
                      <a:lnTo>
                        <a:pt x="41" y="417"/>
                      </a:lnTo>
                      <a:lnTo>
                        <a:pt x="41" y="410"/>
                      </a:lnTo>
                      <a:lnTo>
                        <a:pt x="41" y="410"/>
                      </a:lnTo>
                      <a:lnTo>
                        <a:pt x="48" y="403"/>
                      </a:lnTo>
                      <a:lnTo>
                        <a:pt x="48" y="403"/>
                      </a:lnTo>
                      <a:lnTo>
                        <a:pt x="48" y="403"/>
                      </a:lnTo>
                      <a:lnTo>
                        <a:pt x="48" y="403"/>
                      </a:lnTo>
                      <a:lnTo>
                        <a:pt x="41" y="396"/>
                      </a:lnTo>
                      <a:lnTo>
                        <a:pt x="48" y="396"/>
                      </a:lnTo>
                      <a:lnTo>
                        <a:pt x="48" y="396"/>
                      </a:lnTo>
                      <a:lnTo>
                        <a:pt x="48" y="396"/>
                      </a:lnTo>
                      <a:lnTo>
                        <a:pt x="48" y="396"/>
                      </a:lnTo>
                      <a:lnTo>
                        <a:pt x="55" y="389"/>
                      </a:lnTo>
                      <a:lnTo>
                        <a:pt x="55" y="389"/>
                      </a:lnTo>
                      <a:lnTo>
                        <a:pt x="55" y="389"/>
                      </a:lnTo>
                      <a:lnTo>
                        <a:pt x="55" y="389"/>
                      </a:lnTo>
                      <a:lnTo>
                        <a:pt x="55" y="389"/>
                      </a:lnTo>
                      <a:lnTo>
                        <a:pt x="62" y="382"/>
                      </a:lnTo>
                      <a:lnTo>
                        <a:pt x="62" y="382"/>
                      </a:lnTo>
                      <a:lnTo>
                        <a:pt x="62" y="375"/>
                      </a:lnTo>
                      <a:lnTo>
                        <a:pt x="62" y="375"/>
                      </a:lnTo>
                      <a:lnTo>
                        <a:pt x="62" y="375"/>
                      </a:lnTo>
                      <a:lnTo>
                        <a:pt x="62" y="375"/>
                      </a:lnTo>
                      <a:lnTo>
                        <a:pt x="69" y="375"/>
                      </a:lnTo>
                      <a:lnTo>
                        <a:pt x="69" y="375"/>
                      </a:lnTo>
                      <a:lnTo>
                        <a:pt x="69" y="375"/>
                      </a:lnTo>
                      <a:lnTo>
                        <a:pt x="75" y="375"/>
                      </a:lnTo>
                      <a:lnTo>
                        <a:pt x="82" y="375"/>
                      </a:lnTo>
                      <a:lnTo>
                        <a:pt x="82" y="375"/>
                      </a:lnTo>
                      <a:lnTo>
                        <a:pt x="82" y="375"/>
                      </a:lnTo>
                      <a:lnTo>
                        <a:pt x="82" y="368"/>
                      </a:lnTo>
                      <a:lnTo>
                        <a:pt x="82" y="368"/>
                      </a:lnTo>
                      <a:lnTo>
                        <a:pt x="89" y="368"/>
                      </a:lnTo>
                      <a:lnTo>
                        <a:pt x="89" y="368"/>
                      </a:lnTo>
                      <a:lnTo>
                        <a:pt x="89" y="368"/>
                      </a:lnTo>
                      <a:lnTo>
                        <a:pt x="96" y="368"/>
                      </a:lnTo>
                      <a:lnTo>
                        <a:pt x="96" y="368"/>
                      </a:lnTo>
                      <a:lnTo>
                        <a:pt x="96" y="368"/>
                      </a:lnTo>
                      <a:lnTo>
                        <a:pt x="96" y="368"/>
                      </a:lnTo>
                      <a:lnTo>
                        <a:pt x="96" y="368"/>
                      </a:lnTo>
                      <a:lnTo>
                        <a:pt x="103" y="368"/>
                      </a:lnTo>
                      <a:lnTo>
                        <a:pt x="103" y="375"/>
                      </a:lnTo>
                      <a:lnTo>
                        <a:pt x="103" y="368"/>
                      </a:lnTo>
                      <a:lnTo>
                        <a:pt x="103" y="375"/>
                      </a:lnTo>
                      <a:lnTo>
                        <a:pt x="103" y="375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23" y="361"/>
                      </a:lnTo>
                      <a:lnTo>
                        <a:pt x="123" y="368"/>
                      </a:lnTo>
                      <a:lnTo>
                        <a:pt x="123" y="361"/>
                      </a:lnTo>
                      <a:lnTo>
                        <a:pt x="123" y="361"/>
                      </a:lnTo>
                      <a:lnTo>
                        <a:pt x="123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8"/>
                      </a:lnTo>
                      <a:lnTo>
                        <a:pt x="130" y="368"/>
                      </a:lnTo>
                      <a:lnTo>
                        <a:pt x="137" y="368"/>
                      </a:lnTo>
                      <a:lnTo>
                        <a:pt x="137" y="375"/>
                      </a:lnTo>
                      <a:lnTo>
                        <a:pt x="137" y="375"/>
                      </a:lnTo>
                      <a:lnTo>
                        <a:pt x="137" y="375"/>
                      </a:lnTo>
                      <a:lnTo>
                        <a:pt x="137" y="375"/>
                      </a:lnTo>
                      <a:lnTo>
                        <a:pt x="137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72" y="354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8" y="347"/>
                      </a:lnTo>
                      <a:lnTo>
                        <a:pt x="178" y="347"/>
                      </a:lnTo>
                      <a:lnTo>
                        <a:pt x="178" y="347"/>
                      </a:lnTo>
                      <a:lnTo>
                        <a:pt x="178" y="347"/>
                      </a:lnTo>
                      <a:lnTo>
                        <a:pt x="178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92" y="347"/>
                      </a:lnTo>
                      <a:lnTo>
                        <a:pt x="192" y="347"/>
                      </a:lnTo>
                      <a:lnTo>
                        <a:pt x="192" y="347"/>
                      </a:lnTo>
                      <a:lnTo>
                        <a:pt x="192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206" y="347"/>
                      </a:lnTo>
                      <a:lnTo>
                        <a:pt x="199" y="347"/>
                      </a:lnTo>
                      <a:lnTo>
                        <a:pt x="206" y="347"/>
                      </a:lnTo>
                      <a:lnTo>
                        <a:pt x="206" y="347"/>
                      </a:lnTo>
                      <a:lnTo>
                        <a:pt x="206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6" y="347"/>
                      </a:lnTo>
                      <a:lnTo>
                        <a:pt x="226" y="347"/>
                      </a:lnTo>
                      <a:lnTo>
                        <a:pt x="226" y="347"/>
                      </a:lnTo>
                      <a:lnTo>
                        <a:pt x="226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61" y="354"/>
                      </a:lnTo>
                      <a:lnTo>
                        <a:pt x="261" y="354"/>
                      </a:lnTo>
                      <a:lnTo>
                        <a:pt x="261" y="354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54"/>
                      </a:lnTo>
                      <a:lnTo>
                        <a:pt x="268" y="361"/>
                      </a:lnTo>
                      <a:lnTo>
                        <a:pt x="268" y="361"/>
                      </a:lnTo>
                      <a:lnTo>
                        <a:pt x="268" y="361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75" y="354"/>
                      </a:lnTo>
                      <a:lnTo>
                        <a:pt x="268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81" y="354"/>
                      </a:lnTo>
                      <a:lnTo>
                        <a:pt x="281" y="354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95" y="340"/>
                      </a:lnTo>
                      <a:lnTo>
                        <a:pt x="295" y="340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40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09" y="313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299"/>
                      </a:lnTo>
                      <a:lnTo>
                        <a:pt x="309" y="299"/>
                      </a:lnTo>
                      <a:lnTo>
                        <a:pt x="309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2"/>
                      </a:lnTo>
                      <a:lnTo>
                        <a:pt x="316" y="292"/>
                      </a:lnTo>
                      <a:lnTo>
                        <a:pt x="316" y="292"/>
                      </a:lnTo>
                      <a:lnTo>
                        <a:pt x="316" y="292"/>
                      </a:lnTo>
                      <a:lnTo>
                        <a:pt x="323" y="292"/>
                      </a:lnTo>
                      <a:lnTo>
                        <a:pt x="316" y="292"/>
                      </a:lnTo>
                      <a:lnTo>
                        <a:pt x="316" y="292"/>
                      </a:lnTo>
                      <a:lnTo>
                        <a:pt x="316" y="285"/>
                      </a:lnTo>
                      <a:lnTo>
                        <a:pt x="323" y="285"/>
                      </a:lnTo>
                      <a:lnTo>
                        <a:pt x="323" y="285"/>
                      </a:lnTo>
                      <a:lnTo>
                        <a:pt x="323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09" y="278"/>
                      </a:lnTo>
                      <a:lnTo>
                        <a:pt x="309" y="278"/>
                      </a:lnTo>
                      <a:lnTo>
                        <a:pt x="309" y="278"/>
                      </a:lnTo>
                      <a:lnTo>
                        <a:pt x="309" y="278"/>
                      </a:lnTo>
                      <a:lnTo>
                        <a:pt x="309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9" y="264"/>
                      </a:lnTo>
                      <a:lnTo>
                        <a:pt x="302" y="257"/>
                      </a:lnTo>
                      <a:lnTo>
                        <a:pt x="309" y="257"/>
                      </a:lnTo>
                      <a:lnTo>
                        <a:pt x="302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16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16" y="250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9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3" y="222"/>
                      </a:lnTo>
                      <a:lnTo>
                        <a:pt x="323" y="229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16"/>
                      </a:lnTo>
                      <a:lnTo>
                        <a:pt x="323" y="222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2"/>
                      </a:lnTo>
                      <a:lnTo>
                        <a:pt x="323" y="209"/>
                      </a:lnTo>
                      <a:lnTo>
                        <a:pt x="323" y="202"/>
                      </a:lnTo>
                      <a:lnTo>
                        <a:pt x="316" y="209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09" y="202"/>
                      </a:lnTo>
                      <a:lnTo>
                        <a:pt x="309" y="202"/>
                      </a:lnTo>
                      <a:lnTo>
                        <a:pt x="309" y="202"/>
                      </a:lnTo>
                      <a:lnTo>
                        <a:pt x="309" y="202"/>
                      </a:lnTo>
                      <a:lnTo>
                        <a:pt x="309" y="202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202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88"/>
                      </a:lnTo>
                      <a:lnTo>
                        <a:pt x="302" y="188"/>
                      </a:lnTo>
                      <a:lnTo>
                        <a:pt x="302" y="188"/>
                      </a:lnTo>
                      <a:lnTo>
                        <a:pt x="302" y="188"/>
                      </a:lnTo>
                      <a:lnTo>
                        <a:pt x="302" y="188"/>
                      </a:lnTo>
                      <a:lnTo>
                        <a:pt x="309" y="188"/>
                      </a:lnTo>
                      <a:lnTo>
                        <a:pt x="302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16" y="174"/>
                      </a:lnTo>
                      <a:lnTo>
                        <a:pt x="316" y="174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09" y="160"/>
                      </a:lnTo>
                      <a:lnTo>
                        <a:pt x="316" y="160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46"/>
                      </a:lnTo>
                      <a:lnTo>
                        <a:pt x="316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39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36" y="146"/>
                      </a:lnTo>
                      <a:lnTo>
                        <a:pt x="336" y="146"/>
                      </a:lnTo>
                      <a:lnTo>
                        <a:pt x="336" y="146"/>
                      </a:lnTo>
                      <a:lnTo>
                        <a:pt x="343" y="139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0" y="118"/>
                      </a:lnTo>
                      <a:lnTo>
                        <a:pt x="350" y="118"/>
                      </a:lnTo>
                      <a:lnTo>
                        <a:pt x="350" y="111"/>
                      </a:lnTo>
                      <a:lnTo>
                        <a:pt x="350" y="111"/>
                      </a:lnTo>
                      <a:lnTo>
                        <a:pt x="343" y="111"/>
                      </a:lnTo>
                      <a:lnTo>
                        <a:pt x="343" y="111"/>
                      </a:lnTo>
                      <a:lnTo>
                        <a:pt x="343" y="105"/>
                      </a:lnTo>
                      <a:lnTo>
                        <a:pt x="350" y="105"/>
                      </a:lnTo>
                      <a:lnTo>
                        <a:pt x="350" y="105"/>
                      </a:lnTo>
                      <a:lnTo>
                        <a:pt x="350" y="98"/>
                      </a:lnTo>
                      <a:lnTo>
                        <a:pt x="350" y="98"/>
                      </a:lnTo>
                      <a:lnTo>
                        <a:pt x="350" y="98"/>
                      </a:lnTo>
                      <a:lnTo>
                        <a:pt x="350" y="98"/>
                      </a:lnTo>
                      <a:lnTo>
                        <a:pt x="357" y="98"/>
                      </a:lnTo>
                      <a:lnTo>
                        <a:pt x="350" y="98"/>
                      </a:lnTo>
                      <a:lnTo>
                        <a:pt x="350" y="91"/>
                      </a:lnTo>
                      <a:lnTo>
                        <a:pt x="357" y="91"/>
                      </a:lnTo>
                      <a:lnTo>
                        <a:pt x="357" y="91"/>
                      </a:lnTo>
                      <a:lnTo>
                        <a:pt x="350" y="91"/>
                      </a:lnTo>
                      <a:lnTo>
                        <a:pt x="350" y="91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43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77"/>
                      </a:lnTo>
                      <a:lnTo>
                        <a:pt x="350" y="77"/>
                      </a:lnTo>
                      <a:lnTo>
                        <a:pt x="350" y="77"/>
                      </a:lnTo>
                      <a:lnTo>
                        <a:pt x="350" y="77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63"/>
                      </a:lnTo>
                      <a:lnTo>
                        <a:pt x="357" y="63"/>
                      </a:lnTo>
                      <a:lnTo>
                        <a:pt x="357" y="63"/>
                      </a:lnTo>
                      <a:lnTo>
                        <a:pt x="357" y="63"/>
                      </a:lnTo>
                      <a:lnTo>
                        <a:pt x="364" y="70"/>
                      </a:lnTo>
                      <a:lnTo>
                        <a:pt x="364" y="70"/>
                      </a:lnTo>
                      <a:lnTo>
                        <a:pt x="364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63"/>
                      </a:lnTo>
                      <a:lnTo>
                        <a:pt x="378" y="63"/>
                      </a:lnTo>
                      <a:lnTo>
                        <a:pt x="384" y="63"/>
                      </a:lnTo>
                      <a:lnTo>
                        <a:pt x="384" y="63"/>
                      </a:lnTo>
                      <a:lnTo>
                        <a:pt x="384" y="63"/>
                      </a:lnTo>
                      <a:lnTo>
                        <a:pt x="378" y="63"/>
                      </a:lnTo>
                      <a:lnTo>
                        <a:pt x="378" y="63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84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91" y="42"/>
                      </a:lnTo>
                      <a:lnTo>
                        <a:pt x="391" y="42"/>
                      </a:lnTo>
                      <a:lnTo>
                        <a:pt x="391" y="42"/>
                      </a:lnTo>
                      <a:lnTo>
                        <a:pt x="391" y="42"/>
                      </a:lnTo>
                      <a:lnTo>
                        <a:pt x="391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12" y="56"/>
                      </a:lnTo>
                      <a:lnTo>
                        <a:pt x="412" y="63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77"/>
                      </a:lnTo>
                      <a:lnTo>
                        <a:pt x="426" y="77"/>
                      </a:lnTo>
                      <a:lnTo>
                        <a:pt x="426" y="77"/>
                      </a:lnTo>
                      <a:lnTo>
                        <a:pt x="426" y="77"/>
                      </a:lnTo>
                      <a:lnTo>
                        <a:pt x="432" y="77"/>
                      </a:lnTo>
                      <a:lnTo>
                        <a:pt x="432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60" y="63"/>
                      </a:lnTo>
                      <a:lnTo>
                        <a:pt x="460" y="70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7" y="63"/>
                      </a:lnTo>
                      <a:lnTo>
                        <a:pt x="467" y="56"/>
                      </a:lnTo>
                      <a:lnTo>
                        <a:pt x="467" y="56"/>
                      </a:lnTo>
                      <a:lnTo>
                        <a:pt x="467" y="63"/>
                      </a:lnTo>
                      <a:lnTo>
                        <a:pt x="467" y="63"/>
                      </a:lnTo>
                      <a:lnTo>
                        <a:pt x="467" y="63"/>
                      </a:lnTo>
                      <a:lnTo>
                        <a:pt x="467" y="63"/>
                      </a:lnTo>
                      <a:lnTo>
                        <a:pt x="474" y="63"/>
                      </a:lnTo>
                      <a:lnTo>
                        <a:pt x="474" y="63"/>
                      </a:lnTo>
                      <a:lnTo>
                        <a:pt x="474" y="56"/>
                      </a:lnTo>
                      <a:lnTo>
                        <a:pt x="474" y="56"/>
                      </a:lnTo>
                      <a:lnTo>
                        <a:pt x="474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49"/>
                      </a:lnTo>
                      <a:lnTo>
                        <a:pt x="480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501" y="42"/>
                      </a:lnTo>
                      <a:lnTo>
                        <a:pt x="501" y="42"/>
                      </a:lnTo>
                      <a:lnTo>
                        <a:pt x="501" y="42"/>
                      </a:lnTo>
                      <a:lnTo>
                        <a:pt x="508" y="42"/>
                      </a:lnTo>
                      <a:lnTo>
                        <a:pt x="508" y="35"/>
                      </a:lnTo>
                      <a:lnTo>
                        <a:pt x="508" y="35"/>
                      </a:lnTo>
                      <a:lnTo>
                        <a:pt x="508" y="35"/>
                      </a:lnTo>
                      <a:lnTo>
                        <a:pt x="508" y="35"/>
                      </a:lnTo>
                      <a:lnTo>
                        <a:pt x="508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22" y="35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1"/>
                      </a:lnTo>
                      <a:lnTo>
                        <a:pt x="522" y="28"/>
                      </a:lnTo>
                      <a:lnTo>
                        <a:pt x="522" y="21"/>
                      </a:lnTo>
                      <a:lnTo>
                        <a:pt x="522" y="21"/>
                      </a:lnTo>
                      <a:lnTo>
                        <a:pt x="529" y="21"/>
                      </a:lnTo>
                      <a:lnTo>
                        <a:pt x="522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35" y="21"/>
                      </a:lnTo>
                      <a:lnTo>
                        <a:pt x="535" y="21"/>
                      </a:lnTo>
                      <a:lnTo>
                        <a:pt x="535" y="21"/>
                      </a:lnTo>
                      <a:lnTo>
                        <a:pt x="535" y="14"/>
                      </a:lnTo>
                      <a:lnTo>
                        <a:pt x="535" y="21"/>
                      </a:lnTo>
                      <a:lnTo>
                        <a:pt x="535" y="21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7"/>
                      </a:lnTo>
                      <a:lnTo>
                        <a:pt x="542" y="7"/>
                      </a:lnTo>
                      <a:lnTo>
                        <a:pt x="542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70" y="0"/>
                      </a:lnTo>
                      <a:lnTo>
                        <a:pt x="570" y="0"/>
                      </a:lnTo>
                      <a:lnTo>
                        <a:pt x="570" y="0"/>
                      </a:lnTo>
                      <a:lnTo>
                        <a:pt x="570" y="0"/>
                      </a:lnTo>
                      <a:lnTo>
                        <a:pt x="570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7" y="0"/>
                      </a:lnTo>
                      <a:lnTo>
                        <a:pt x="597" y="0"/>
                      </a:lnTo>
                      <a:lnTo>
                        <a:pt x="597" y="0"/>
                      </a:lnTo>
                      <a:lnTo>
                        <a:pt x="597" y="0"/>
                      </a:lnTo>
                      <a:lnTo>
                        <a:pt x="597" y="0"/>
                      </a:lnTo>
                      <a:lnTo>
                        <a:pt x="597" y="7"/>
                      </a:lnTo>
                      <a:lnTo>
                        <a:pt x="597" y="0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14"/>
                      </a:lnTo>
                      <a:lnTo>
                        <a:pt x="611" y="14"/>
                      </a:lnTo>
                      <a:lnTo>
                        <a:pt x="611" y="14"/>
                      </a:lnTo>
                      <a:lnTo>
                        <a:pt x="611" y="21"/>
                      </a:lnTo>
                      <a:lnTo>
                        <a:pt x="611" y="21"/>
                      </a:lnTo>
                      <a:lnTo>
                        <a:pt x="604" y="21"/>
                      </a:lnTo>
                      <a:lnTo>
                        <a:pt x="604" y="28"/>
                      </a:lnTo>
                      <a:lnTo>
                        <a:pt x="604" y="28"/>
                      </a:lnTo>
                      <a:lnTo>
                        <a:pt x="604" y="28"/>
                      </a:lnTo>
                      <a:lnTo>
                        <a:pt x="604" y="28"/>
                      </a:lnTo>
                      <a:lnTo>
                        <a:pt x="604" y="28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11" y="35"/>
                      </a:lnTo>
                      <a:lnTo>
                        <a:pt x="611" y="35"/>
                      </a:lnTo>
                      <a:lnTo>
                        <a:pt x="611" y="35"/>
                      </a:lnTo>
                      <a:lnTo>
                        <a:pt x="611" y="35"/>
                      </a:lnTo>
                      <a:lnTo>
                        <a:pt x="618" y="35"/>
                      </a:lnTo>
                      <a:lnTo>
                        <a:pt x="618" y="35"/>
                      </a:lnTo>
                      <a:lnTo>
                        <a:pt x="618" y="35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25" y="42"/>
                      </a:lnTo>
                      <a:lnTo>
                        <a:pt x="625" y="42"/>
                      </a:lnTo>
                      <a:lnTo>
                        <a:pt x="625" y="42"/>
                      </a:lnTo>
                      <a:lnTo>
                        <a:pt x="625" y="42"/>
                      </a:lnTo>
                      <a:lnTo>
                        <a:pt x="625" y="42"/>
                      </a:lnTo>
                      <a:lnTo>
                        <a:pt x="632" y="42"/>
                      </a:lnTo>
                      <a:lnTo>
                        <a:pt x="632" y="42"/>
                      </a:lnTo>
                      <a:lnTo>
                        <a:pt x="632" y="42"/>
                      </a:lnTo>
                      <a:lnTo>
                        <a:pt x="632" y="42"/>
                      </a:lnTo>
                      <a:lnTo>
                        <a:pt x="632" y="49"/>
                      </a:lnTo>
                      <a:lnTo>
                        <a:pt x="632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45" y="42"/>
                      </a:lnTo>
                      <a:lnTo>
                        <a:pt x="645" y="42"/>
                      </a:lnTo>
                      <a:lnTo>
                        <a:pt x="645" y="42"/>
                      </a:lnTo>
                      <a:lnTo>
                        <a:pt x="645" y="35"/>
                      </a:lnTo>
                      <a:lnTo>
                        <a:pt x="652" y="35"/>
                      </a:lnTo>
                      <a:lnTo>
                        <a:pt x="652" y="35"/>
                      </a:lnTo>
                      <a:lnTo>
                        <a:pt x="652" y="35"/>
                      </a:lnTo>
                      <a:lnTo>
                        <a:pt x="652" y="35"/>
                      </a:lnTo>
                      <a:lnTo>
                        <a:pt x="652" y="35"/>
                      </a:lnTo>
                      <a:lnTo>
                        <a:pt x="659" y="35"/>
                      </a:lnTo>
                      <a:lnTo>
                        <a:pt x="659" y="35"/>
                      </a:lnTo>
                      <a:lnTo>
                        <a:pt x="659" y="35"/>
                      </a:lnTo>
                      <a:lnTo>
                        <a:pt x="659" y="35"/>
                      </a:lnTo>
                      <a:lnTo>
                        <a:pt x="666" y="35"/>
                      </a:lnTo>
                      <a:lnTo>
                        <a:pt x="666" y="35"/>
                      </a:lnTo>
                      <a:lnTo>
                        <a:pt x="666" y="35"/>
                      </a:lnTo>
                      <a:lnTo>
                        <a:pt x="666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80" y="35"/>
                      </a:lnTo>
                      <a:lnTo>
                        <a:pt x="680" y="35"/>
                      </a:lnTo>
                      <a:lnTo>
                        <a:pt x="680" y="35"/>
                      </a:lnTo>
                      <a:lnTo>
                        <a:pt x="680" y="42"/>
                      </a:lnTo>
                      <a:lnTo>
                        <a:pt x="680" y="35"/>
                      </a:lnTo>
                      <a:lnTo>
                        <a:pt x="680" y="42"/>
                      </a:lnTo>
                      <a:lnTo>
                        <a:pt x="680" y="35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9"/>
                      </a:lnTo>
                      <a:lnTo>
                        <a:pt x="693" y="49"/>
                      </a:lnTo>
                      <a:lnTo>
                        <a:pt x="693" y="49"/>
                      </a:lnTo>
                      <a:lnTo>
                        <a:pt x="693" y="49"/>
                      </a:lnTo>
                      <a:lnTo>
                        <a:pt x="700" y="49"/>
                      </a:lnTo>
                      <a:lnTo>
                        <a:pt x="700" y="49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14" y="63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8" y="70"/>
                      </a:lnTo>
                      <a:lnTo>
                        <a:pt x="728" y="70"/>
                      </a:lnTo>
                      <a:lnTo>
                        <a:pt x="728" y="70"/>
                      </a:lnTo>
                      <a:lnTo>
                        <a:pt x="728" y="70"/>
                      </a:lnTo>
                      <a:lnTo>
                        <a:pt x="728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41" y="70"/>
                      </a:lnTo>
                      <a:lnTo>
                        <a:pt x="741" y="77"/>
                      </a:lnTo>
                      <a:lnTo>
                        <a:pt x="741" y="77"/>
                      </a:lnTo>
                      <a:lnTo>
                        <a:pt x="741" y="70"/>
                      </a:lnTo>
                      <a:lnTo>
                        <a:pt x="741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62" y="77"/>
                      </a:lnTo>
                      <a:lnTo>
                        <a:pt x="762" y="77"/>
                      </a:lnTo>
                      <a:lnTo>
                        <a:pt x="762" y="77"/>
                      </a:lnTo>
                      <a:lnTo>
                        <a:pt x="769" y="77"/>
                      </a:lnTo>
                      <a:lnTo>
                        <a:pt x="769" y="77"/>
                      </a:lnTo>
                      <a:lnTo>
                        <a:pt x="769" y="77"/>
                      </a:lnTo>
                      <a:lnTo>
                        <a:pt x="769" y="77"/>
                      </a:lnTo>
                      <a:lnTo>
                        <a:pt x="769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803" y="91"/>
                      </a:lnTo>
                      <a:lnTo>
                        <a:pt x="810" y="98"/>
                      </a:lnTo>
                      <a:lnTo>
                        <a:pt x="817" y="105"/>
                      </a:lnTo>
                      <a:lnTo>
                        <a:pt x="817" y="105"/>
                      </a:lnTo>
                      <a:lnTo>
                        <a:pt x="817" y="105"/>
                      </a:lnTo>
                      <a:lnTo>
                        <a:pt x="817" y="118"/>
                      </a:lnTo>
                      <a:lnTo>
                        <a:pt x="817" y="125"/>
                      </a:lnTo>
                      <a:lnTo>
                        <a:pt x="824" y="125"/>
                      </a:lnTo>
                      <a:lnTo>
                        <a:pt x="824" y="125"/>
                      </a:lnTo>
                      <a:lnTo>
                        <a:pt x="824" y="125"/>
                      </a:lnTo>
                      <a:lnTo>
                        <a:pt x="824" y="125"/>
                      </a:lnTo>
                      <a:lnTo>
                        <a:pt x="824" y="125"/>
                      </a:lnTo>
                      <a:lnTo>
                        <a:pt x="831" y="125"/>
                      </a:lnTo>
                      <a:lnTo>
                        <a:pt x="831" y="125"/>
                      </a:lnTo>
                      <a:lnTo>
                        <a:pt x="831" y="125"/>
                      </a:lnTo>
                      <a:lnTo>
                        <a:pt x="831" y="125"/>
                      </a:lnTo>
                      <a:lnTo>
                        <a:pt x="838" y="125"/>
                      </a:lnTo>
                      <a:lnTo>
                        <a:pt x="838" y="125"/>
                      </a:lnTo>
                      <a:lnTo>
                        <a:pt x="838" y="132"/>
                      </a:lnTo>
                      <a:lnTo>
                        <a:pt x="838" y="125"/>
                      </a:lnTo>
                      <a:lnTo>
                        <a:pt x="838" y="125"/>
                      </a:lnTo>
                      <a:lnTo>
                        <a:pt x="838" y="125"/>
                      </a:lnTo>
                      <a:lnTo>
                        <a:pt x="844" y="125"/>
                      </a:lnTo>
                      <a:lnTo>
                        <a:pt x="844" y="125"/>
                      </a:lnTo>
                      <a:lnTo>
                        <a:pt x="844" y="125"/>
                      </a:lnTo>
                      <a:lnTo>
                        <a:pt x="844" y="125"/>
                      </a:lnTo>
                      <a:lnTo>
                        <a:pt x="851" y="125"/>
                      </a:lnTo>
                      <a:lnTo>
                        <a:pt x="851" y="125"/>
                      </a:lnTo>
                      <a:lnTo>
                        <a:pt x="851" y="125"/>
                      </a:lnTo>
                      <a:lnTo>
                        <a:pt x="851" y="118"/>
                      </a:lnTo>
                      <a:lnTo>
                        <a:pt x="851" y="118"/>
                      </a:lnTo>
                      <a:lnTo>
                        <a:pt x="851" y="118"/>
                      </a:lnTo>
                      <a:lnTo>
                        <a:pt x="851" y="118"/>
                      </a:lnTo>
                      <a:lnTo>
                        <a:pt x="851" y="118"/>
                      </a:lnTo>
                      <a:lnTo>
                        <a:pt x="858" y="118"/>
                      </a:lnTo>
                      <a:lnTo>
                        <a:pt x="858" y="118"/>
                      </a:lnTo>
                      <a:lnTo>
                        <a:pt x="858" y="125"/>
                      </a:lnTo>
                      <a:lnTo>
                        <a:pt x="858" y="125"/>
                      </a:lnTo>
                      <a:lnTo>
                        <a:pt x="858" y="125"/>
                      </a:lnTo>
                      <a:lnTo>
                        <a:pt x="858" y="125"/>
                      </a:lnTo>
                      <a:lnTo>
                        <a:pt x="865" y="125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25"/>
                      </a:lnTo>
                      <a:lnTo>
                        <a:pt x="865" y="125"/>
                      </a:lnTo>
                      <a:lnTo>
                        <a:pt x="865" y="125"/>
                      </a:lnTo>
                      <a:lnTo>
                        <a:pt x="865" y="125"/>
                      </a:lnTo>
                      <a:lnTo>
                        <a:pt x="872" y="125"/>
                      </a:lnTo>
                      <a:lnTo>
                        <a:pt x="872" y="125"/>
                      </a:lnTo>
                      <a:lnTo>
                        <a:pt x="872" y="125"/>
                      </a:lnTo>
                      <a:lnTo>
                        <a:pt x="872" y="118"/>
                      </a:lnTo>
                      <a:lnTo>
                        <a:pt x="872" y="118"/>
                      </a:lnTo>
                      <a:lnTo>
                        <a:pt x="872" y="118"/>
                      </a:lnTo>
                      <a:lnTo>
                        <a:pt x="872" y="118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86" y="125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25"/>
                      </a:lnTo>
                      <a:lnTo>
                        <a:pt x="892" y="125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9"/>
                      </a:lnTo>
                      <a:lnTo>
                        <a:pt x="913" y="139"/>
                      </a:lnTo>
                      <a:lnTo>
                        <a:pt x="913" y="139"/>
                      </a:lnTo>
                      <a:lnTo>
                        <a:pt x="920" y="139"/>
                      </a:lnTo>
                      <a:lnTo>
                        <a:pt x="913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40" y="146"/>
                      </a:lnTo>
                      <a:lnTo>
                        <a:pt x="940" y="146"/>
                      </a:lnTo>
                      <a:lnTo>
                        <a:pt x="940" y="146"/>
                      </a:lnTo>
                      <a:lnTo>
                        <a:pt x="940" y="153"/>
                      </a:lnTo>
                      <a:lnTo>
                        <a:pt x="940" y="153"/>
                      </a:lnTo>
                      <a:lnTo>
                        <a:pt x="940" y="153"/>
                      </a:lnTo>
                      <a:lnTo>
                        <a:pt x="940" y="153"/>
                      </a:lnTo>
                      <a:lnTo>
                        <a:pt x="940" y="153"/>
                      </a:lnTo>
                      <a:lnTo>
                        <a:pt x="940" y="160"/>
                      </a:lnTo>
                      <a:lnTo>
                        <a:pt x="947" y="160"/>
                      </a:lnTo>
                      <a:lnTo>
                        <a:pt x="947" y="160"/>
                      </a:lnTo>
                      <a:lnTo>
                        <a:pt x="947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7"/>
                      </a:lnTo>
                      <a:lnTo>
                        <a:pt x="940" y="167"/>
                      </a:lnTo>
                      <a:lnTo>
                        <a:pt x="940" y="167"/>
                      </a:lnTo>
                      <a:lnTo>
                        <a:pt x="940" y="167"/>
                      </a:lnTo>
                      <a:lnTo>
                        <a:pt x="940" y="167"/>
                      </a:lnTo>
                      <a:lnTo>
                        <a:pt x="940" y="174"/>
                      </a:lnTo>
                      <a:lnTo>
                        <a:pt x="940" y="174"/>
                      </a:lnTo>
                      <a:lnTo>
                        <a:pt x="940" y="174"/>
                      </a:lnTo>
                      <a:lnTo>
                        <a:pt x="940" y="174"/>
                      </a:lnTo>
                      <a:lnTo>
                        <a:pt x="940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81"/>
                      </a:lnTo>
                      <a:lnTo>
                        <a:pt x="934" y="181"/>
                      </a:lnTo>
                      <a:lnTo>
                        <a:pt x="934" y="181"/>
                      </a:lnTo>
                      <a:lnTo>
                        <a:pt x="927" y="181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0" y="188"/>
                      </a:lnTo>
                      <a:lnTo>
                        <a:pt x="920" y="188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06" y="202"/>
                      </a:lnTo>
                      <a:lnTo>
                        <a:pt x="906" y="202"/>
                      </a:lnTo>
                      <a:lnTo>
                        <a:pt x="906" y="202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13" y="216"/>
                      </a:lnTo>
                      <a:lnTo>
                        <a:pt x="913" y="216"/>
                      </a:lnTo>
                      <a:lnTo>
                        <a:pt x="913" y="216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06" y="222"/>
                      </a:lnTo>
                      <a:lnTo>
                        <a:pt x="906" y="222"/>
                      </a:lnTo>
                      <a:lnTo>
                        <a:pt x="906" y="222"/>
                      </a:lnTo>
                      <a:lnTo>
                        <a:pt x="906" y="229"/>
                      </a:lnTo>
                      <a:lnTo>
                        <a:pt x="906" y="222"/>
                      </a:lnTo>
                      <a:lnTo>
                        <a:pt x="906" y="229"/>
                      </a:lnTo>
                      <a:lnTo>
                        <a:pt x="906" y="222"/>
                      </a:lnTo>
                      <a:lnTo>
                        <a:pt x="906" y="222"/>
                      </a:lnTo>
                      <a:lnTo>
                        <a:pt x="906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9"/>
                      </a:lnTo>
                      <a:lnTo>
                        <a:pt x="892" y="229"/>
                      </a:lnTo>
                      <a:lnTo>
                        <a:pt x="886" y="229"/>
                      </a:lnTo>
                      <a:lnTo>
                        <a:pt x="886" y="229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43"/>
                      </a:lnTo>
                      <a:lnTo>
                        <a:pt x="886" y="243"/>
                      </a:lnTo>
                      <a:lnTo>
                        <a:pt x="886" y="243"/>
                      </a:lnTo>
                      <a:lnTo>
                        <a:pt x="886" y="243"/>
                      </a:lnTo>
                      <a:lnTo>
                        <a:pt x="886" y="243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64"/>
                      </a:lnTo>
                      <a:lnTo>
                        <a:pt x="879" y="264"/>
                      </a:lnTo>
                      <a:lnTo>
                        <a:pt x="879" y="264"/>
                      </a:lnTo>
                      <a:lnTo>
                        <a:pt x="886" y="264"/>
                      </a:lnTo>
                      <a:lnTo>
                        <a:pt x="879" y="264"/>
                      </a:lnTo>
                      <a:lnTo>
                        <a:pt x="879" y="264"/>
                      </a:lnTo>
                      <a:lnTo>
                        <a:pt x="879" y="264"/>
                      </a:lnTo>
                      <a:lnTo>
                        <a:pt x="879" y="271"/>
                      </a:lnTo>
                      <a:lnTo>
                        <a:pt x="879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92" y="271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85"/>
                      </a:lnTo>
                      <a:lnTo>
                        <a:pt x="899" y="278"/>
                      </a:lnTo>
                      <a:lnTo>
                        <a:pt x="899" y="278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906" y="285"/>
                      </a:lnTo>
                      <a:lnTo>
                        <a:pt x="906" y="285"/>
                      </a:lnTo>
                      <a:lnTo>
                        <a:pt x="906" y="285"/>
                      </a:lnTo>
                      <a:lnTo>
                        <a:pt x="906" y="285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13" y="299"/>
                      </a:lnTo>
                      <a:lnTo>
                        <a:pt x="913" y="292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306"/>
                      </a:lnTo>
                      <a:lnTo>
                        <a:pt x="913" y="306"/>
                      </a:lnTo>
                      <a:lnTo>
                        <a:pt x="920" y="306"/>
                      </a:lnTo>
                      <a:lnTo>
                        <a:pt x="920" y="306"/>
                      </a:lnTo>
                      <a:lnTo>
                        <a:pt x="920" y="306"/>
                      </a:lnTo>
                      <a:lnTo>
                        <a:pt x="920" y="306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2" y="313"/>
                      </a:lnTo>
                      <a:lnTo>
                        <a:pt x="892" y="313"/>
                      </a:lnTo>
                      <a:lnTo>
                        <a:pt x="892" y="313"/>
                      </a:lnTo>
                      <a:lnTo>
                        <a:pt x="892" y="313"/>
                      </a:lnTo>
                      <a:lnTo>
                        <a:pt x="892" y="313"/>
                      </a:lnTo>
                      <a:lnTo>
                        <a:pt x="886" y="313"/>
                      </a:lnTo>
                      <a:lnTo>
                        <a:pt x="886" y="313"/>
                      </a:lnTo>
                      <a:lnTo>
                        <a:pt x="886" y="313"/>
                      </a:lnTo>
                      <a:lnTo>
                        <a:pt x="886" y="313"/>
                      </a:lnTo>
                      <a:lnTo>
                        <a:pt x="886" y="313"/>
                      </a:lnTo>
                      <a:lnTo>
                        <a:pt x="879" y="313"/>
                      </a:lnTo>
                      <a:lnTo>
                        <a:pt x="879" y="313"/>
                      </a:lnTo>
                      <a:lnTo>
                        <a:pt x="879" y="313"/>
                      </a:lnTo>
                      <a:lnTo>
                        <a:pt x="879" y="313"/>
                      </a:lnTo>
                      <a:lnTo>
                        <a:pt x="879" y="313"/>
                      </a:lnTo>
                      <a:lnTo>
                        <a:pt x="879" y="320"/>
                      </a:lnTo>
                      <a:lnTo>
                        <a:pt x="879" y="320"/>
                      </a:lnTo>
                      <a:lnTo>
                        <a:pt x="879" y="320"/>
                      </a:lnTo>
                      <a:lnTo>
                        <a:pt x="879" y="320"/>
                      </a:lnTo>
                      <a:lnTo>
                        <a:pt x="879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65" y="320"/>
                      </a:lnTo>
                      <a:lnTo>
                        <a:pt x="865" y="320"/>
                      </a:lnTo>
                      <a:lnTo>
                        <a:pt x="865" y="320"/>
                      </a:lnTo>
                      <a:lnTo>
                        <a:pt x="865" y="313"/>
                      </a:lnTo>
                      <a:lnTo>
                        <a:pt x="865" y="320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58" y="320"/>
                      </a:lnTo>
                      <a:lnTo>
                        <a:pt x="858" y="320"/>
                      </a:lnTo>
                      <a:lnTo>
                        <a:pt x="858" y="313"/>
                      </a:lnTo>
                      <a:lnTo>
                        <a:pt x="858" y="320"/>
                      </a:lnTo>
                      <a:lnTo>
                        <a:pt x="865" y="327"/>
                      </a:lnTo>
                      <a:lnTo>
                        <a:pt x="865" y="333"/>
                      </a:lnTo>
                      <a:lnTo>
                        <a:pt x="865" y="333"/>
                      </a:lnTo>
                      <a:lnTo>
                        <a:pt x="865" y="333"/>
                      </a:lnTo>
                      <a:lnTo>
                        <a:pt x="865" y="333"/>
                      </a:lnTo>
                      <a:lnTo>
                        <a:pt x="865" y="333"/>
                      </a:lnTo>
                      <a:lnTo>
                        <a:pt x="858" y="333"/>
                      </a:lnTo>
                      <a:lnTo>
                        <a:pt x="858" y="333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1" y="333"/>
                      </a:lnTo>
                      <a:lnTo>
                        <a:pt x="851" y="327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38" y="333"/>
                      </a:lnTo>
                      <a:lnTo>
                        <a:pt x="838" y="333"/>
                      </a:lnTo>
                      <a:lnTo>
                        <a:pt x="838" y="333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7"/>
                      </a:lnTo>
                      <a:lnTo>
                        <a:pt x="838" y="347"/>
                      </a:lnTo>
                      <a:lnTo>
                        <a:pt x="838" y="347"/>
                      </a:lnTo>
                      <a:lnTo>
                        <a:pt x="838" y="347"/>
                      </a:lnTo>
                      <a:lnTo>
                        <a:pt x="838" y="347"/>
                      </a:lnTo>
                      <a:lnTo>
                        <a:pt x="838" y="354"/>
                      </a:lnTo>
                      <a:lnTo>
                        <a:pt x="838" y="354"/>
                      </a:lnTo>
                      <a:lnTo>
                        <a:pt x="838" y="354"/>
                      </a:lnTo>
                      <a:lnTo>
                        <a:pt x="838" y="354"/>
                      </a:lnTo>
                      <a:lnTo>
                        <a:pt x="831" y="354"/>
                      </a:lnTo>
                      <a:lnTo>
                        <a:pt x="831" y="354"/>
                      </a:lnTo>
                      <a:lnTo>
                        <a:pt x="838" y="354"/>
                      </a:lnTo>
                      <a:lnTo>
                        <a:pt x="844" y="354"/>
                      </a:lnTo>
                      <a:lnTo>
                        <a:pt x="844" y="354"/>
                      </a:lnTo>
                      <a:lnTo>
                        <a:pt x="844" y="361"/>
                      </a:lnTo>
                      <a:lnTo>
                        <a:pt x="844" y="361"/>
                      </a:lnTo>
                      <a:lnTo>
                        <a:pt x="844" y="368"/>
                      </a:lnTo>
                      <a:lnTo>
                        <a:pt x="844" y="368"/>
                      </a:lnTo>
                      <a:lnTo>
                        <a:pt x="844" y="368"/>
                      </a:lnTo>
                      <a:lnTo>
                        <a:pt x="844" y="368"/>
                      </a:lnTo>
                      <a:lnTo>
                        <a:pt x="844" y="368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51" y="375"/>
                      </a:lnTo>
                      <a:lnTo>
                        <a:pt x="851" y="375"/>
                      </a:lnTo>
                      <a:lnTo>
                        <a:pt x="851" y="375"/>
                      </a:lnTo>
                      <a:lnTo>
                        <a:pt x="851" y="375"/>
                      </a:lnTo>
                      <a:lnTo>
                        <a:pt x="851" y="382"/>
                      </a:lnTo>
                      <a:lnTo>
                        <a:pt x="851" y="382"/>
                      </a:lnTo>
                      <a:lnTo>
                        <a:pt x="858" y="382"/>
                      </a:lnTo>
                      <a:lnTo>
                        <a:pt x="858" y="389"/>
                      </a:lnTo>
                      <a:lnTo>
                        <a:pt x="858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44" y="389"/>
                      </a:lnTo>
                      <a:lnTo>
                        <a:pt x="844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2"/>
                      </a:lnTo>
                      <a:lnTo>
                        <a:pt x="838" y="382"/>
                      </a:lnTo>
                      <a:lnTo>
                        <a:pt x="838" y="382"/>
                      </a:lnTo>
                      <a:lnTo>
                        <a:pt x="831" y="382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96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44" y="396"/>
                      </a:lnTo>
                      <a:lnTo>
                        <a:pt x="844" y="396"/>
                      </a:lnTo>
                      <a:lnTo>
                        <a:pt x="844" y="396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51" y="410"/>
                      </a:lnTo>
                      <a:lnTo>
                        <a:pt x="844" y="410"/>
                      </a:lnTo>
                      <a:lnTo>
                        <a:pt x="851" y="410"/>
                      </a:lnTo>
                      <a:lnTo>
                        <a:pt x="851" y="410"/>
                      </a:lnTo>
                      <a:lnTo>
                        <a:pt x="851" y="410"/>
                      </a:lnTo>
                      <a:lnTo>
                        <a:pt x="851" y="410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8" y="417"/>
                      </a:lnTo>
                      <a:lnTo>
                        <a:pt x="851" y="417"/>
                      </a:lnTo>
                      <a:lnTo>
                        <a:pt x="858" y="417"/>
                      </a:lnTo>
                      <a:lnTo>
                        <a:pt x="858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8" y="424"/>
                      </a:lnTo>
                      <a:lnTo>
                        <a:pt x="858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8" y="424"/>
                      </a:lnTo>
                      <a:lnTo>
                        <a:pt x="851" y="431"/>
                      </a:lnTo>
                      <a:lnTo>
                        <a:pt x="858" y="431"/>
                      </a:lnTo>
                      <a:lnTo>
                        <a:pt x="858" y="431"/>
                      </a:lnTo>
                      <a:lnTo>
                        <a:pt x="858" y="431"/>
                      </a:lnTo>
                      <a:lnTo>
                        <a:pt x="858" y="431"/>
                      </a:lnTo>
                      <a:lnTo>
                        <a:pt x="858" y="431"/>
                      </a:lnTo>
                      <a:lnTo>
                        <a:pt x="851" y="431"/>
                      </a:lnTo>
                      <a:lnTo>
                        <a:pt x="851" y="431"/>
                      </a:lnTo>
                      <a:lnTo>
                        <a:pt x="858" y="437"/>
                      </a:lnTo>
                      <a:lnTo>
                        <a:pt x="851" y="437"/>
                      </a:lnTo>
                      <a:lnTo>
                        <a:pt x="858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44"/>
                      </a:lnTo>
                      <a:lnTo>
                        <a:pt x="851" y="444"/>
                      </a:lnTo>
                      <a:lnTo>
                        <a:pt x="851" y="444"/>
                      </a:lnTo>
                      <a:lnTo>
                        <a:pt x="851" y="444"/>
                      </a:lnTo>
                      <a:lnTo>
                        <a:pt x="844" y="444"/>
                      </a:lnTo>
                      <a:lnTo>
                        <a:pt x="844" y="444"/>
                      </a:lnTo>
                      <a:lnTo>
                        <a:pt x="844" y="444"/>
                      </a:lnTo>
                      <a:lnTo>
                        <a:pt x="844" y="444"/>
                      </a:lnTo>
                      <a:lnTo>
                        <a:pt x="844" y="444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38" y="451"/>
                      </a:lnTo>
                      <a:lnTo>
                        <a:pt x="838" y="451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1" y="458"/>
                      </a:lnTo>
                      <a:lnTo>
                        <a:pt x="838" y="458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8" y="472"/>
                      </a:lnTo>
                      <a:lnTo>
                        <a:pt x="831" y="472"/>
                      </a:lnTo>
                      <a:lnTo>
                        <a:pt x="838" y="472"/>
                      </a:lnTo>
                      <a:lnTo>
                        <a:pt x="838" y="472"/>
                      </a:lnTo>
                      <a:lnTo>
                        <a:pt x="831" y="472"/>
                      </a:lnTo>
                      <a:lnTo>
                        <a:pt x="831" y="472"/>
                      </a:lnTo>
                      <a:lnTo>
                        <a:pt x="831" y="472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24" y="479"/>
                      </a:lnTo>
                      <a:lnTo>
                        <a:pt x="824" y="486"/>
                      </a:lnTo>
                      <a:lnTo>
                        <a:pt x="824" y="479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93"/>
                      </a:lnTo>
                      <a:lnTo>
                        <a:pt x="824" y="493"/>
                      </a:lnTo>
                      <a:lnTo>
                        <a:pt x="824" y="493"/>
                      </a:lnTo>
                      <a:lnTo>
                        <a:pt x="817" y="493"/>
                      </a:lnTo>
                      <a:lnTo>
                        <a:pt x="817" y="493"/>
                      </a:lnTo>
                      <a:lnTo>
                        <a:pt x="817" y="493"/>
                      </a:lnTo>
                      <a:lnTo>
                        <a:pt x="817" y="493"/>
                      </a:lnTo>
                      <a:lnTo>
                        <a:pt x="817" y="500"/>
                      </a:lnTo>
                      <a:lnTo>
                        <a:pt x="817" y="500"/>
                      </a:lnTo>
                      <a:lnTo>
                        <a:pt x="817" y="500"/>
                      </a:lnTo>
                      <a:lnTo>
                        <a:pt x="817" y="500"/>
                      </a:lnTo>
                      <a:lnTo>
                        <a:pt x="817" y="500"/>
                      </a:lnTo>
                      <a:lnTo>
                        <a:pt x="817" y="507"/>
                      </a:lnTo>
                      <a:lnTo>
                        <a:pt x="817" y="507"/>
                      </a:lnTo>
                      <a:lnTo>
                        <a:pt x="817" y="507"/>
                      </a:lnTo>
                      <a:lnTo>
                        <a:pt x="810" y="507"/>
                      </a:lnTo>
                      <a:lnTo>
                        <a:pt x="789" y="507"/>
                      </a:lnTo>
                      <a:lnTo>
                        <a:pt x="783" y="507"/>
                      </a:lnTo>
                      <a:lnTo>
                        <a:pt x="783" y="507"/>
                      </a:lnTo>
                      <a:lnTo>
                        <a:pt x="783" y="507"/>
                      </a:lnTo>
                      <a:lnTo>
                        <a:pt x="783" y="507"/>
                      </a:lnTo>
                      <a:lnTo>
                        <a:pt x="783" y="507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76" y="514"/>
                      </a:lnTo>
                      <a:lnTo>
                        <a:pt x="776" y="514"/>
                      </a:lnTo>
                      <a:lnTo>
                        <a:pt x="776" y="514"/>
                      </a:lnTo>
                      <a:lnTo>
                        <a:pt x="776" y="514"/>
                      </a:lnTo>
                      <a:lnTo>
                        <a:pt x="776" y="521"/>
                      </a:lnTo>
                      <a:lnTo>
                        <a:pt x="776" y="521"/>
                      </a:lnTo>
                      <a:lnTo>
                        <a:pt x="776" y="521"/>
                      </a:lnTo>
                      <a:lnTo>
                        <a:pt x="776" y="521"/>
                      </a:lnTo>
                      <a:lnTo>
                        <a:pt x="776" y="521"/>
                      </a:lnTo>
                      <a:lnTo>
                        <a:pt x="783" y="521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35"/>
                      </a:lnTo>
                      <a:lnTo>
                        <a:pt x="783" y="535"/>
                      </a:lnTo>
                      <a:lnTo>
                        <a:pt x="783" y="535"/>
                      </a:lnTo>
                      <a:lnTo>
                        <a:pt x="783" y="535"/>
                      </a:lnTo>
                      <a:lnTo>
                        <a:pt x="776" y="535"/>
                      </a:lnTo>
                      <a:lnTo>
                        <a:pt x="776" y="535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76" y="542"/>
                      </a:lnTo>
                      <a:lnTo>
                        <a:pt x="783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55"/>
                      </a:lnTo>
                      <a:lnTo>
                        <a:pt x="776" y="555"/>
                      </a:lnTo>
                      <a:lnTo>
                        <a:pt x="776" y="555"/>
                      </a:lnTo>
                      <a:lnTo>
                        <a:pt x="776" y="555"/>
                      </a:lnTo>
                      <a:lnTo>
                        <a:pt x="769" y="555"/>
                      </a:lnTo>
                      <a:lnTo>
                        <a:pt x="769" y="555"/>
                      </a:lnTo>
                      <a:lnTo>
                        <a:pt x="769" y="555"/>
                      </a:lnTo>
                      <a:lnTo>
                        <a:pt x="769" y="555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9"/>
                      </a:lnTo>
                      <a:lnTo>
                        <a:pt x="762" y="562"/>
                      </a:lnTo>
                      <a:lnTo>
                        <a:pt x="762" y="569"/>
                      </a:lnTo>
                      <a:lnTo>
                        <a:pt x="762" y="562"/>
                      </a:lnTo>
                      <a:lnTo>
                        <a:pt x="762" y="569"/>
                      </a:lnTo>
                      <a:lnTo>
                        <a:pt x="762" y="569"/>
                      </a:lnTo>
                      <a:lnTo>
                        <a:pt x="762" y="569"/>
                      </a:lnTo>
                      <a:lnTo>
                        <a:pt x="762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48" y="569"/>
                      </a:lnTo>
                      <a:lnTo>
                        <a:pt x="748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7"/>
                      </a:lnTo>
                      <a:lnTo>
                        <a:pt x="748" y="597"/>
                      </a:lnTo>
                      <a:lnTo>
                        <a:pt x="748" y="597"/>
                      </a:lnTo>
                      <a:lnTo>
                        <a:pt x="748" y="597"/>
                      </a:lnTo>
                      <a:lnTo>
                        <a:pt x="741" y="597"/>
                      </a:lnTo>
                      <a:lnTo>
                        <a:pt x="741" y="597"/>
                      </a:lnTo>
                      <a:lnTo>
                        <a:pt x="741" y="597"/>
                      </a:lnTo>
                      <a:lnTo>
                        <a:pt x="741" y="597"/>
                      </a:lnTo>
                      <a:lnTo>
                        <a:pt x="741" y="597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8"/>
                      </a:lnTo>
                      <a:lnTo>
                        <a:pt x="741" y="618"/>
                      </a:lnTo>
                      <a:lnTo>
                        <a:pt x="741" y="618"/>
                      </a:lnTo>
                      <a:lnTo>
                        <a:pt x="741" y="618"/>
                      </a:lnTo>
                      <a:lnTo>
                        <a:pt x="741" y="618"/>
                      </a:lnTo>
                      <a:lnTo>
                        <a:pt x="735" y="618"/>
                      </a:lnTo>
                      <a:lnTo>
                        <a:pt x="735" y="618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32"/>
                      </a:lnTo>
                      <a:lnTo>
                        <a:pt x="735" y="632"/>
                      </a:lnTo>
                      <a:lnTo>
                        <a:pt x="735" y="625"/>
                      </a:lnTo>
                      <a:lnTo>
                        <a:pt x="735" y="632"/>
                      </a:lnTo>
                      <a:lnTo>
                        <a:pt x="735" y="625"/>
                      </a:lnTo>
                      <a:lnTo>
                        <a:pt x="741" y="632"/>
                      </a:lnTo>
                      <a:lnTo>
                        <a:pt x="741" y="625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35" y="632"/>
                      </a:lnTo>
                      <a:lnTo>
                        <a:pt x="735" y="632"/>
                      </a:lnTo>
                      <a:lnTo>
                        <a:pt x="735" y="639"/>
                      </a:lnTo>
                      <a:lnTo>
                        <a:pt x="735" y="639"/>
                      </a:lnTo>
                      <a:lnTo>
                        <a:pt x="728" y="639"/>
                      </a:lnTo>
                      <a:lnTo>
                        <a:pt x="728" y="639"/>
                      </a:lnTo>
                      <a:lnTo>
                        <a:pt x="721" y="639"/>
                      </a:lnTo>
                      <a:lnTo>
                        <a:pt x="714" y="646"/>
                      </a:lnTo>
                      <a:lnTo>
                        <a:pt x="714" y="646"/>
                      </a:lnTo>
                      <a:lnTo>
                        <a:pt x="714" y="646"/>
                      </a:lnTo>
                      <a:lnTo>
                        <a:pt x="714" y="646"/>
                      </a:lnTo>
                      <a:lnTo>
                        <a:pt x="714" y="646"/>
                      </a:lnTo>
                      <a:lnTo>
                        <a:pt x="707" y="646"/>
                      </a:lnTo>
                      <a:lnTo>
                        <a:pt x="707" y="646"/>
                      </a:lnTo>
                      <a:lnTo>
                        <a:pt x="707" y="646"/>
                      </a:lnTo>
                      <a:lnTo>
                        <a:pt x="700" y="646"/>
                      </a:lnTo>
                      <a:lnTo>
                        <a:pt x="700" y="653"/>
                      </a:lnTo>
                      <a:lnTo>
                        <a:pt x="700" y="653"/>
                      </a:lnTo>
                      <a:lnTo>
                        <a:pt x="700" y="653"/>
                      </a:lnTo>
                      <a:lnTo>
                        <a:pt x="693" y="653"/>
                      </a:lnTo>
                      <a:lnTo>
                        <a:pt x="686" y="653"/>
                      </a:lnTo>
                      <a:lnTo>
                        <a:pt x="686" y="653"/>
                      </a:lnTo>
                      <a:lnTo>
                        <a:pt x="686" y="659"/>
                      </a:lnTo>
                      <a:lnTo>
                        <a:pt x="686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73" y="666"/>
                      </a:lnTo>
                      <a:lnTo>
                        <a:pt x="673" y="666"/>
                      </a:lnTo>
                      <a:lnTo>
                        <a:pt x="673" y="666"/>
                      </a:lnTo>
                      <a:lnTo>
                        <a:pt x="673" y="666"/>
                      </a:lnTo>
                      <a:lnTo>
                        <a:pt x="673" y="666"/>
                      </a:lnTo>
                      <a:lnTo>
                        <a:pt x="666" y="666"/>
                      </a:lnTo>
                      <a:lnTo>
                        <a:pt x="666" y="666"/>
                      </a:lnTo>
                      <a:lnTo>
                        <a:pt x="666" y="666"/>
                      </a:lnTo>
                      <a:lnTo>
                        <a:pt x="666" y="666"/>
                      </a:lnTo>
                      <a:lnTo>
                        <a:pt x="666" y="666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45" y="659"/>
                      </a:lnTo>
                      <a:lnTo>
                        <a:pt x="645" y="659"/>
                      </a:lnTo>
                      <a:lnTo>
                        <a:pt x="645" y="659"/>
                      </a:lnTo>
                      <a:lnTo>
                        <a:pt x="645" y="659"/>
                      </a:lnTo>
                      <a:lnTo>
                        <a:pt x="645" y="659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66"/>
                      </a:lnTo>
                      <a:lnTo>
                        <a:pt x="632" y="666"/>
                      </a:lnTo>
                      <a:lnTo>
                        <a:pt x="632" y="666"/>
                      </a:lnTo>
                      <a:lnTo>
                        <a:pt x="632" y="666"/>
                      </a:lnTo>
                      <a:lnTo>
                        <a:pt x="632" y="659"/>
                      </a:lnTo>
                      <a:lnTo>
                        <a:pt x="632" y="659"/>
                      </a:lnTo>
                      <a:lnTo>
                        <a:pt x="632" y="659"/>
                      </a:lnTo>
                      <a:lnTo>
                        <a:pt x="632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59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59"/>
                      </a:lnTo>
                      <a:lnTo>
                        <a:pt x="618" y="666"/>
                      </a:lnTo>
                      <a:lnTo>
                        <a:pt x="611" y="659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597" y="666"/>
                      </a:lnTo>
                      <a:lnTo>
                        <a:pt x="597" y="666"/>
                      </a:lnTo>
                      <a:lnTo>
                        <a:pt x="597" y="666"/>
                      </a:lnTo>
                      <a:lnTo>
                        <a:pt x="597" y="666"/>
                      </a:lnTo>
                      <a:lnTo>
                        <a:pt x="597" y="666"/>
                      </a:lnTo>
                      <a:lnTo>
                        <a:pt x="597" y="673"/>
                      </a:lnTo>
                      <a:lnTo>
                        <a:pt x="597" y="666"/>
                      </a:lnTo>
                      <a:lnTo>
                        <a:pt x="597" y="673"/>
                      </a:lnTo>
                      <a:lnTo>
                        <a:pt x="590" y="666"/>
                      </a:lnTo>
                      <a:lnTo>
                        <a:pt x="590" y="666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77" y="673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49" y="680"/>
                      </a:lnTo>
                      <a:lnTo>
                        <a:pt x="549" y="680"/>
                      </a:lnTo>
                      <a:lnTo>
                        <a:pt x="549" y="687"/>
                      </a:lnTo>
                      <a:lnTo>
                        <a:pt x="549" y="687"/>
                      </a:lnTo>
                      <a:lnTo>
                        <a:pt x="549" y="687"/>
                      </a:lnTo>
                      <a:lnTo>
                        <a:pt x="549" y="687"/>
                      </a:lnTo>
                      <a:lnTo>
                        <a:pt x="542" y="687"/>
                      </a:lnTo>
                      <a:lnTo>
                        <a:pt x="542" y="680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35" y="687"/>
                      </a:lnTo>
                      <a:lnTo>
                        <a:pt x="535" y="687"/>
                      </a:lnTo>
                      <a:lnTo>
                        <a:pt x="535" y="687"/>
                      </a:lnTo>
                      <a:lnTo>
                        <a:pt x="535" y="687"/>
                      </a:lnTo>
                      <a:lnTo>
                        <a:pt x="535" y="687"/>
                      </a:lnTo>
                      <a:lnTo>
                        <a:pt x="529" y="687"/>
                      </a:lnTo>
                      <a:lnTo>
                        <a:pt x="529" y="687"/>
                      </a:lnTo>
                      <a:lnTo>
                        <a:pt x="529" y="687"/>
                      </a:lnTo>
                      <a:lnTo>
                        <a:pt x="529" y="687"/>
                      </a:lnTo>
                      <a:lnTo>
                        <a:pt x="529" y="687"/>
                      </a:lnTo>
                      <a:lnTo>
                        <a:pt x="529" y="694"/>
                      </a:lnTo>
                      <a:lnTo>
                        <a:pt x="529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15" y="694"/>
                      </a:lnTo>
                      <a:lnTo>
                        <a:pt x="515" y="694"/>
                      </a:lnTo>
                      <a:lnTo>
                        <a:pt x="515" y="694"/>
                      </a:lnTo>
                      <a:lnTo>
                        <a:pt x="515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0" y="708"/>
                      </a:lnTo>
                      <a:lnTo>
                        <a:pt x="480" y="708"/>
                      </a:lnTo>
                      <a:lnTo>
                        <a:pt x="480" y="708"/>
                      </a:lnTo>
                      <a:lnTo>
                        <a:pt x="480" y="708"/>
                      </a:lnTo>
                      <a:lnTo>
                        <a:pt x="480" y="708"/>
                      </a:lnTo>
                      <a:lnTo>
                        <a:pt x="480" y="715"/>
                      </a:lnTo>
                      <a:lnTo>
                        <a:pt x="474" y="715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67" y="708"/>
                      </a:lnTo>
                      <a:lnTo>
                        <a:pt x="474" y="708"/>
                      </a:lnTo>
                      <a:lnTo>
                        <a:pt x="467" y="708"/>
                      </a:lnTo>
                      <a:lnTo>
                        <a:pt x="467" y="708"/>
                      </a:lnTo>
                      <a:lnTo>
                        <a:pt x="467" y="715"/>
                      </a:lnTo>
                      <a:lnTo>
                        <a:pt x="467" y="715"/>
                      </a:lnTo>
                      <a:lnTo>
                        <a:pt x="467" y="715"/>
                      </a:lnTo>
                      <a:lnTo>
                        <a:pt x="460" y="715"/>
                      </a:lnTo>
                      <a:lnTo>
                        <a:pt x="460" y="715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53" y="715"/>
                      </a:lnTo>
                      <a:lnTo>
                        <a:pt x="453" y="715"/>
                      </a:lnTo>
                      <a:lnTo>
                        <a:pt x="453" y="715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15"/>
                      </a:lnTo>
                      <a:lnTo>
                        <a:pt x="453" y="715"/>
                      </a:lnTo>
                      <a:lnTo>
                        <a:pt x="453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39" y="715"/>
                      </a:lnTo>
                      <a:lnTo>
                        <a:pt x="439" y="715"/>
                      </a:lnTo>
                      <a:lnTo>
                        <a:pt x="439" y="722"/>
                      </a:lnTo>
                      <a:lnTo>
                        <a:pt x="446" y="722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53" y="722"/>
                      </a:lnTo>
                      <a:lnTo>
                        <a:pt x="453" y="722"/>
                      </a:lnTo>
                      <a:lnTo>
                        <a:pt x="453" y="722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53" y="722"/>
                      </a:lnTo>
                      <a:lnTo>
                        <a:pt x="453" y="729"/>
                      </a:lnTo>
                      <a:lnTo>
                        <a:pt x="446" y="729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46" y="729"/>
                      </a:lnTo>
                      <a:lnTo>
                        <a:pt x="446" y="729"/>
                      </a:lnTo>
                      <a:lnTo>
                        <a:pt x="446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26" y="729"/>
                      </a:lnTo>
                      <a:lnTo>
                        <a:pt x="426" y="729"/>
                      </a:lnTo>
                      <a:lnTo>
                        <a:pt x="426" y="729"/>
                      </a:lnTo>
                      <a:lnTo>
                        <a:pt x="426" y="729"/>
                      </a:lnTo>
                      <a:lnTo>
                        <a:pt x="426" y="736"/>
                      </a:lnTo>
                      <a:lnTo>
                        <a:pt x="426" y="729"/>
                      </a:lnTo>
                      <a:lnTo>
                        <a:pt x="419" y="736"/>
                      </a:lnTo>
                      <a:lnTo>
                        <a:pt x="419" y="736"/>
                      </a:lnTo>
                      <a:lnTo>
                        <a:pt x="419" y="736"/>
                      </a:lnTo>
                      <a:lnTo>
                        <a:pt x="419" y="736"/>
                      </a:lnTo>
                      <a:lnTo>
                        <a:pt x="419" y="736"/>
                      </a:lnTo>
                      <a:lnTo>
                        <a:pt x="412" y="736"/>
                      </a:lnTo>
                      <a:lnTo>
                        <a:pt x="412" y="736"/>
                      </a:lnTo>
                      <a:lnTo>
                        <a:pt x="412" y="736"/>
                      </a:lnTo>
                      <a:lnTo>
                        <a:pt x="412" y="729"/>
                      </a:lnTo>
                      <a:lnTo>
                        <a:pt x="412" y="729"/>
                      </a:lnTo>
                      <a:lnTo>
                        <a:pt x="412" y="729"/>
                      </a:lnTo>
                      <a:lnTo>
                        <a:pt x="412" y="729"/>
                      </a:lnTo>
                      <a:lnTo>
                        <a:pt x="412" y="729"/>
                      </a:lnTo>
                      <a:lnTo>
                        <a:pt x="405" y="729"/>
                      </a:lnTo>
                      <a:lnTo>
                        <a:pt x="405" y="736"/>
                      </a:lnTo>
                      <a:lnTo>
                        <a:pt x="405" y="736"/>
                      </a:lnTo>
                      <a:lnTo>
                        <a:pt x="405" y="736"/>
                      </a:lnTo>
                      <a:lnTo>
                        <a:pt x="405" y="729"/>
                      </a:lnTo>
                      <a:lnTo>
                        <a:pt x="405" y="729"/>
                      </a:lnTo>
                      <a:lnTo>
                        <a:pt x="398" y="736"/>
                      </a:lnTo>
                      <a:lnTo>
                        <a:pt x="398" y="736"/>
                      </a:lnTo>
                      <a:lnTo>
                        <a:pt x="398" y="736"/>
                      </a:lnTo>
                      <a:lnTo>
                        <a:pt x="398" y="736"/>
                      </a:lnTo>
                      <a:lnTo>
                        <a:pt x="398" y="736"/>
                      </a:lnTo>
                      <a:lnTo>
                        <a:pt x="398" y="729"/>
                      </a:lnTo>
                      <a:lnTo>
                        <a:pt x="391" y="729"/>
                      </a:lnTo>
                      <a:lnTo>
                        <a:pt x="391" y="729"/>
                      </a:lnTo>
                      <a:lnTo>
                        <a:pt x="398" y="729"/>
                      </a:lnTo>
                      <a:lnTo>
                        <a:pt x="391" y="729"/>
                      </a:lnTo>
                      <a:lnTo>
                        <a:pt x="398" y="729"/>
                      </a:lnTo>
                      <a:lnTo>
                        <a:pt x="391" y="729"/>
                      </a:lnTo>
                      <a:lnTo>
                        <a:pt x="391" y="729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1" y="722"/>
                      </a:lnTo>
                      <a:lnTo>
                        <a:pt x="391" y="722"/>
                      </a:lnTo>
                      <a:lnTo>
                        <a:pt x="391" y="722"/>
                      </a:lnTo>
                      <a:lnTo>
                        <a:pt x="391" y="715"/>
                      </a:lnTo>
                      <a:lnTo>
                        <a:pt x="391" y="722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1"/>
                      </a:lnTo>
                      <a:lnTo>
                        <a:pt x="391" y="701"/>
                      </a:lnTo>
                      <a:lnTo>
                        <a:pt x="391" y="701"/>
                      </a:lnTo>
                      <a:lnTo>
                        <a:pt x="391" y="701"/>
                      </a:lnTo>
                      <a:lnTo>
                        <a:pt x="391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78" y="701"/>
                      </a:lnTo>
                      <a:lnTo>
                        <a:pt x="378" y="701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64" y="687"/>
                      </a:lnTo>
                      <a:lnTo>
                        <a:pt x="371" y="687"/>
                      </a:lnTo>
                      <a:lnTo>
                        <a:pt x="364" y="687"/>
                      </a:lnTo>
                      <a:lnTo>
                        <a:pt x="364" y="687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71" y="680"/>
                      </a:lnTo>
                      <a:lnTo>
                        <a:pt x="371" y="680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8" y="666"/>
                      </a:lnTo>
                      <a:lnTo>
                        <a:pt x="378" y="666"/>
                      </a:lnTo>
                      <a:lnTo>
                        <a:pt x="378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71" y="659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84" y="625"/>
                      </a:lnTo>
                      <a:lnTo>
                        <a:pt x="384" y="625"/>
                      </a:lnTo>
                      <a:lnTo>
                        <a:pt x="384" y="625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1"/>
                      </a:lnTo>
                      <a:lnTo>
                        <a:pt x="384" y="611"/>
                      </a:lnTo>
                      <a:lnTo>
                        <a:pt x="384" y="611"/>
                      </a:lnTo>
                      <a:lnTo>
                        <a:pt x="384" y="611"/>
                      </a:lnTo>
                      <a:lnTo>
                        <a:pt x="384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1" y="611"/>
                      </a:lnTo>
                      <a:lnTo>
                        <a:pt x="378" y="611"/>
                      </a:lnTo>
                      <a:lnTo>
                        <a:pt x="371" y="611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0" y="604"/>
                      </a:lnTo>
                      <a:lnTo>
                        <a:pt x="350" y="604"/>
                      </a:lnTo>
                      <a:lnTo>
                        <a:pt x="350" y="604"/>
                      </a:lnTo>
                      <a:lnTo>
                        <a:pt x="350" y="611"/>
                      </a:lnTo>
                      <a:lnTo>
                        <a:pt x="350" y="604"/>
                      </a:lnTo>
                      <a:lnTo>
                        <a:pt x="350" y="611"/>
                      </a:lnTo>
                      <a:lnTo>
                        <a:pt x="350" y="611"/>
                      </a:lnTo>
                      <a:lnTo>
                        <a:pt x="350" y="611"/>
                      </a:lnTo>
                      <a:lnTo>
                        <a:pt x="350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04"/>
                      </a:lnTo>
                      <a:lnTo>
                        <a:pt x="336" y="604"/>
                      </a:lnTo>
                      <a:lnTo>
                        <a:pt x="343" y="604"/>
                      </a:lnTo>
                      <a:lnTo>
                        <a:pt x="343" y="604"/>
                      </a:lnTo>
                      <a:lnTo>
                        <a:pt x="343" y="604"/>
                      </a:lnTo>
                      <a:lnTo>
                        <a:pt x="343" y="604"/>
                      </a:lnTo>
                      <a:lnTo>
                        <a:pt x="343" y="604"/>
                      </a:lnTo>
                      <a:lnTo>
                        <a:pt x="336" y="604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29" y="590"/>
                      </a:lnTo>
                      <a:lnTo>
                        <a:pt x="329" y="590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69"/>
                      </a:lnTo>
                      <a:lnTo>
                        <a:pt x="329" y="569"/>
                      </a:lnTo>
                      <a:lnTo>
                        <a:pt x="329" y="569"/>
                      </a:lnTo>
                      <a:lnTo>
                        <a:pt x="329" y="569"/>
                      </a:lnTo>
                      <a:lnTo>
                        <a:pt x="329" y="569"/>
                      </a:lnTo>
                      <a:lnTo>
                        <a:pt x="323" y="569"/>
                      </a:lnTo>
                      <a:lnTo>
                        <a:pt x="323" y="569"/>
                      </a:lnTo>
                      <a:lnTo>
                        <a:pt x="323" y="569"/>
                      </a:lnTo>
                      <a:lnTo>
                        <a:pt x="323" y="562"/>
                      </a:lnTo>
                      <a:lnTo>
                        <a:pt x="323" y="562"/>
                      </a:lnTo>
                      <a:lnTo>
                        <a:pt x="323" y="562"/>
                      </a:lnTo>
                      <a:lnTo>
                        <a:pt x="323" y="562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48"/>
                      </a:lnTo>
                      <a:lnTo>
                        <a:pt x="329" y="548"/>
                      </a:lnTo>
                      <a:lnTo>
                        <a:pt x="323" y="548"/>
                      </a:lnTo>
                      <a:lnTo>
                        <a:pt x="329" y="548"/>
                      </a:lnTo>
                      <a:lnTo>
                        <a:pt x="329" y="548"/>
                      </a:lnTo>
                      <a:lnTo>
                        <a:pt x="329" y="548"/>
                      </a:lnTo>
                      <a:lnTo>
                        <a:pt x="329" y="548"/>
                      </a:lnTo>
                      <a:lnTo>
                        <a:pt x="329" y="548"/>
                      </a:lnTo>
                      <a:lnTo>
                        <a:pt x="336" y="542"/>
                      </a:lnTo>
                      <a:lnTo>
                        <a:pt x="336" y="542"/>
                      </a:lnTo>
                      <a:lnTo>
                        <a:pt x="336" y="542"/>
                      </a:lnTo>
                      <a:lnTo>
                        <a:pt x="336" y="542"/>
                      </a:lnTo>
                      <a:lnTo>
                        <a:pt x="329" y="542"/>
                      </a:lnTo>
                      <a:lnTo>
                        <a:pt x="329" y="542"/>
                      </a:lnTo>
                      <a:lnTo>
                        <a:pt x="329" y="542"/>
                      </a:lnTo>
                      <a:lnTo>
                        <a:pt x="329" y="542"/>
                      </a:lnTo>
                      <a:lnTo>
                        <a:pt x="329" y="542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16" y="528"/>
                      </a:lnTo>
                      <a:lnTo>
                        <a:pt x="316" y="528"/>
                      </a:lnTo>
                      <a:lnTo>
                        <a:pt x="316" y="521"/>
                      </a:lnTo>
                      <a:lnTo>
                        <a:pt x="316" y="521"/>
                      </a:lnTo>
                      <a:lnTo>
                        <a:pt x="316" y="521"/>
                      </a:lnTo>
                      <a:lnTo>
                        <a:pt x="316" y="521"/>
                      </a:lnTo>
                      <a:lnTo>
                        <a:pt x="316" y="521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3" y="514"/>
                      </a:lnTo>
                      <a:lnTo>
                        <a:pt x="323" y="507"/>
                      </a:lnTo>
                      <a:lnTo>
                        <a:pt x="323" y="507"/>
                      </a:lnTo>
                      <a:lnTo>
                        <a:pt x="323" y="507"/>
                      </a:lnTo>
                      <a:lnTo>
                        <a:pt x="323" y="507"/>
                      </a:lnTo>
                      <a:lnTo>
                        <a:pt x="323" y="507"/>
                      </a:lnTo>
                      <a:lnTo>
                        <a:pt x="323" y="500"/>
                      </a:lnTo>
                      <a:lnTo>
                        <a:pt x="323" y="500"/>
                      </a:lnTo>
                      <a:lnTo>
                        <a:pt x="316" y="500"/>
                      </a:lnTo>
                      <a:lnTo>
                        <a:pt x="316" y="500"/>
                      </a:lnTo>
                      <a:lnTo>
                        <a:pt x="316" y="500"/>
                      </a:lnTo>
                      <a:lnTo>
                        <a:pt x="316" y="500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295" y="486"/>
                      </a:lnTo>
                      <a:lnTo>
                        <a:pt x="295" y="486"/>
                      </a:lnTo>
                      <a:lnTo>
                        <a:pt x="295" y="486"/>
                      </a:lnTo>
                      <a:lnTo>
                        <a:pt x="295" y="486"/>
                      </a:lnTo>
                      <a:lnTo>
                        <a:pt x="288" y="486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1" y="493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75" y="486"/>
                      </a:lnTo>
                      <a:lnTo>
                        <a:pt x="275" y="486"/>
                      </a:lnTo>
                      <a:lnTo>
                        <a:pt x="268" y="486"/>
                      </a:lnTo>
                      <a:lnTo>
                        <a:pt x="268" y="486"/>
                      </a:lnTo>
                      <a:lnTo>
                        <a:pt x="268" y="486"/>
                      </a:lnTo>
                      <a:lnTo>
                        <a:pt x="268" y="486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500"/>
                      </a:lnTo>
                      <a:lnTo>
                        <a:pt x="268" y="500"/>
                      </a:lnTo>
                      <a:lnTo>
                        <a:pt x="261" y="500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54" y="493"/>
                      </a:lnTo>
                      <a:lnTo>
                        <a:pt x="254" y="500"/>
                      </a:lnTo>
                      <a:lnTo>
                        <a:pt x="254" y="500"/>
                      </a:lnTo>
                      <a:lnTo>
                        <a:pt x="254" y="500"/>
                      </a:lnTo>
                      <a:lnTo>
                        <a:pt x="254" y="500"/>
                      </a:lnTo>
                      <a:lnTo>
                        <a:pt x="247" y="500"/>
                      </a:lnTo>
                      <a:lnTo>
                        <a:pt x="247" y="500"/>
                      </a:lnTo>
                      <a:lnTo>
                        <a:pt x="247" y="500"/>
                      </a:lnTo>
                      <a:lnTo>
                        <a:pt x="247" y="500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33" y="493"/>
                      </a:lnTo>
                      <a:lnTo>
                        <a:pt x="233" y="493"/>
                      </a:lnTo>
                      <a:lnTo>
                        <a:pt x="233" y="493"/>
                      </a:lnTo>
                      <a:lnTo>
                        <a:pt x="233" y="493"/>
                      </a:lnTo>
                      <a:lnTo>
                        <a:pt x="240" y="500"/>
                      </a:lnTo>
                      <a:lnTo>
                        <a:pt x="240" y="500"/>
                      </a:lnTo>
                      <a:lnTo>
                        <a:pt x="240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26" y="500"/>
                      </a:lnTo>
                      <a:lnTo>
                        <a:pt x="226" y="500"/>
                      </a:lnTo>
                      <a:lnTo>
                        <a:pt x="226" y="500"/>
                      </a:lnTo>
                      <a:lnTo>
                        <a:pt x="226" y="500"/>
                      </a:lnTo>
                      <a:lnTo>
                        <a:pt x="220" y="500"/>
                      </a:lnTo>
                      <a:lnTo>
                        <a:pt x="220" y="500"/>
                      </a:lnTo>
                      <a:lnTo>
                        <a:pt x="220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06" y="500"/>
                      </a:lnTo>
                      <a:lnTo>
                        <a:pt x="206" y="500"/>
                      </a:lnTo>
                      <a:lnTo>
                        <a:pt x="206" y="500"/>
                      </a:lnTo>
                      <a:lnTo>
                        <a:pt x="206" y="500"/>
                      </a:lnTo>
                      <a:lnTo>
                        <a:pt x="199" y="500"/>
                      </a:lnTo>
                      <a:lnTo>
                        <a:pt x="199" y="500"/>
                      </a:lnTo>
                      <a:lnTo>
                        <a:pt x="199" y="500"/>
                      </a:lnTo>
                      <a:lnTo>
                        <a:pt x="199" y="500"/>
                      </a:lnTo>
                      <a:lnTo>
                        <a:pt x="199" y="500"/>
                      </a:lnTo>
                      <a:lnTo>
                        <a:pt x="192" y="500"/>
                      </a:lnTo>
                      <a:lnTo>
                        <a:pt x="192" y="500"/>
                      </a:lnTo>
                      <a:lnTo>
                        <a:pt x="185" y="500"/>
                      </a:lnTo>
                      <a:lnTo>
                        <a:pt x="185" y="500"/>
                      </a:lnTo>
                      <a:lnTo>
                        <a:pt x="185" y="500"/>
                      </a:lnTo>
                      <a:lnTo>
                        <a:pt x="185" y="507"/>
                      </a:lnTo>
                      <a:lnTo>
                        <a:pt x="185" y="507"/>
                      </a:lnTo>
                      <a:lnTo>
                        <a:pt x="185" y="507"/>
                      </a:lnTo>
                      <a:lnTo>
                        <a:pt x="185" y="507"/>
                      </a:lnTo>
                      <a:lnTo>
                        <a:pt x="178" y="507"/>
                      </a:lnTo>
                      <a:lnTo>
                        <a:pt x="178" y="514"/>
                      </a:lnTo>
                      <a:lnTo>
                        <a:pt x="185" y="514"/>
                      </a:lnTo>
                      <a:lnTo>
                        <a:pt x="185" y="514"/>
                      </a:lnTo>
                      <a:lnTo>
                        <a:pt x="185" y="521"/>
                      </a:lnTo>
                      <a:lnTo>
                        <a:pt x="185" y="521"/>
                      </a:lnTo>
                      <a:lnTo>
                        <a:pt x="185" y="521"/>
                      </a:lnTo>
                      <a:lnTo>
                        <a:pt x="185" y="528"/>
                      </a:lnTo>
                      <a:lnTo>
                        <a:pt x="178" y="528"/>
                      </a:lnTo>
                      <a:lnTo>
                        <a:pt x="178" y="528"/>
                      </a:lnTo>
                      <a:lnTo>
                        <a:pt x="178" y="521"/>
                      </a:lnTo>
                      <a:lnTo>
                        <a:pt x="178" y="521"/>
                      </a:lnTo>
                      <a:lnTo>
                        <a:pt x="178" y="514"/>
                      </a:lnTo>
                      <a:lnTo>
                        <a:pt x="178" y="507"/>
                      </a:lnTo>
                      <a:lnTo>
                        <a:pt x="178" y="507"/>
                      </a:lnTo>
                      <a:lnTo>
                        <a:pt x="172" y="500"/>
                      </a:lnTo>
                      <a:lnTo>
                        <a:pt x="172" y="500"/>
                      </a:lnTo>
                      <a:lnTo>
                        <a:pt x="172" y="500"/>
                      </a:lnTo>
                      <a:lnTo>
                        <a:pt x="172" y="500"/>
                      </a:lnTo>
                      <a:lnTo>
                        <a:pt x="165" y="500"/>
                      </a:lnTo>
                      <a:lnTo>
                        <a:pt x="165" y="500"/>
                      </a:lnTo>
                      <a:lnTo>
                        <a:pt x="165" y="507"/>
                      </a:lnTo>
                      <a:lnTo>
                        <a:pt x="165" y="507"/>
                      </a:lnTo>
                      <a:lnTo>
                        <a:pt x="158" y="514"/>
                      </a:lnTo>
                      <a:lnTo>
                        <a:pt x="158" y="514"/>
                      </a:lnTo>
                      <a:lnTo>
                        <a:pt x="158" y="514"/>
                      </a:lnTo>
                      <a:lnTo>
                        <a:pt x="158" y="514"/>
                      </a:lnTo>
                      <a:lnTo>
                        <a:pt x="151" y="514"/>
                      </a:lnTo>
                      <a:lnTo>
                        <a:pt x="151" y="514"/>
                      </a:lnTo>
                      <a:lnTo>
                        <a:pt x="151" y="507"/>
                      </a:lnTo>
                      <a:lnTo>
                        <a:pt x="151" y="507"/>
                      </a:lnTo>
                      <a:lnTo>
                        <a:pt x="144" y="500"/>
                      </a:lnTo>
                      <a:lnTo>
                        <a:pt x="144" y="500"/>
                      </a:lnTo>
                      <a:lnTo>
                        <a:pt x="144" y="493"/>
                      </a:lnTo>
                      <a:lnTo>
                        <a:pt x="144" y="493"/>
                      </a:lnTo>
                      <a:lnTo>
                        <a:pt x="144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37" y="486"/>
                      </a:lnTo>
                      <a:lnTo>
                        <a:pt x="137" y="486"/>
                      </a:lnTo>
                      <a:lnTo>
                        <a:pt x="130" y="486"/>
                      </a:lnTo>
                      <a:lnTo>
                        <a:pt x="130" y="486"/>
                      </a:lnTo>
                      <a:lnTo>
                        <a:pt x="130" y="479"/>
                      </a:lnTo>
                      <a:lnTo>
                        <a:pt x="130" y="479"/>
                      </a:lnTo>
                      <a:lnTo>
                        <a:pt x="123" y="479"/>
                      </a:lnTo>
                      <a:lnTo>
                        <a:pt x="123" y="479"/>
                      </a:lnTo>
                      <a:lnTo>
                        <a:pt x="123" y="479"/>
                      </a:lnTo>
                      <a:lnTo>
                        <a:pt x="117" y="479"/>
                      </a:lnTo>
                      <a:lnTo>
                        <a:pt x="117" y="479"/>
                      </a:lnTo>
                      <a:lnTo>
                        <a:pt x="117" y="479"/>
                      </a:lnTo>
                      <a:lnTo>
                        <a:pt x="110" y="479"/>
                      </a:lnTo>
                      <a:lnTo>
                        <a:pt x="110" y="479"/>
                      </a:lnTo>
                      <a:lnTo>
                        <a:pt x="103" y="479"/>
                      </a:lnTo>
                      <a:lnTo>
                        <a:pt x="103" y="479"/>
                      </a:lnTo>
                      <a:lnTo>
                        <a:pt x="103" y="479"/>
                      </a:lnTo>
                      <a:lnTo>
                        <a:pt x="103" y="486"/>
                      </a:lnTo>
                      <a:lnTo>
                        <a:pt x="96" y="486"/>
                      </a:lnTo>
                      <a:lnTo>
                        <a:pt x="96" y="486"/>
                      </a:lnTo>
                      <a:lnTo>
                        <a:pt x="96" y="479"/>
                      </a:lnTo>
                      <a:lnTo>
                        <a:pt x="89" y="479"/>
                      </a:lnTo>
                      <a:lnTo>
                        <a:pt x="89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75" y="479"/>
                      </a:lnTo>
                      <a:lnTo>
                        <a:pt x="75" y="479"/>
                      </a:lnTo>
                      <a:lnTo>
                        <a:pt x="75" y="479"/>
                      </a:lnTo>
                      <a:lnTo>
                        <a:pt x="69" y="479"/>
                      </a:lnTo>
                      <a:lnTo>
                        <a:pt x="69" y="479"/>
                      </a:lnTo>
                      <a:lnTo>
                        <a:pt x="69" y="479"/>
                      </a:lnTo>
                      <a:lnTo>
                        <a:pt x="62" y="479"/>
                      </a:lnTo>
                      <a:lnTo>
                        <a:pt x="62" y="479"/>
                      </a:lnTo>
                      <a:lnTo>
                        <a:pt x="62" y="479"/>
                      </a:lnTo>
                      <a:lnTo>
                        <a:pt x="62" y="479"/>
                      </a:lnTo>
                      <a:lnTo>
                        <a:pt x="62" y="479"/>
                      </a:lnTo>
                      <a:lnTo>
                        <a:pt x="62" y="472"/>
                      </a:lnTo>
                      <a:lnTo>
                        <a:pt x="55" y="472"/>
                      </a:lnTo>
                      <a:lnTo>
                        <a:pt x="55" y="472"/>
                      </a:lnTo>
                      <a:lnTo>
                        <a:pt x="48" y="472"/>
                      </a:lnTo>
                      <a:lnTo>
                        <a:pt x="48" y="472"/>
                      </a:lnTo>
                      <a:lnTo>
                        <a:pt x="48" y="472"/>
                      </a:lnTo>
                      <a:lnTo>
                        <a:pt x="48" y="472"/>
                      </a:lnTo>
                      <a:lnTo>
                        <a:pt x="48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34" y="472"/>
                      </a:lnTo>
                      <a:lnTo>
                        <a:pt x="34" y="472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27" y="479"/>
                      </a:lnTo>
                      <a:lnTo>
                        <a:pt x="27" y="479"/>
                      </a:lnTo>
                      <a:lnTo>
                        <a:pt x="20" y="479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7" y="486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0" y="493"/>
                      </a:lnTo>
                      <a:lnTo>
                        <a:pt x="0" y="493"/>
                      </a:lnTo>
                      <a:lnTo>
                        <a:pt x="0" y="493"/>
                      </a:lnTo>
                      <a:lnTo>
                        <a:pt x="0" y="493"/>
                      </a:lnTo>
                      <a:lnTo>
                        <a:pt x="0" y="493"/>
                      </a:lnTo>
                      <a:lnTo>
                        <a:pt x="0" y="486"/>
                      </a:lnTo>
                      <a:lnTo>
                        <a:pt x="0" y="486"/>
                      </a:lnTo>
                      <a:lnTo>
                        <a:pt x="0" y="486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2"/>
                      </a:lnTo>
                      <a:lnTo>
                        <a:pt x="0" y="472"/>
                      </a:lnTo>
                      <a:lnTo>
                        <a:pt x="0" y="472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680720" y="4337640"/>
                  <a:ext cx="682560" cy="538920"/>
                </a:xfrm>
                <a:custGeom>
                  <a:avLst/>
                  <a:gdLst/>
                  <a:ahLst/>
                  <a:rect l="l" t="t" r="r" b="b"/>
                  <a:pathLst>
                    <a:path w="542" h="458">
                      <a:moveTo>
                        <a:pt x="0" y="458"/>
                      </a:moveTo>
                      <a:lnTo>
                        <a:pt x="0" y="458"/>
                      </a:lnTo>
                      <a:lnTo>
                        <a:pt x="0" y="451"/>
                      </a:lnTo>
                      <a:lnTo>
                        <a:pt x="0" y="451"/>
                      </a:lnTo>
                      <a:lnTo>
                        <a:pt x="0" y="451"/>
                      </a:lnTo>
                      <a:lnTo>
                        <a:pt x="0" y="451"/>
                      </a:lnTo>
                      <a:lnTo>
                        <a:pt x="0" y="444"/>
                      </a:lnTo>
                      <a:lnTo>
                        <a:pt x="0" y="444"/>
                      </a:lnTo>
                      <a:lnTo>
                        <a:pt x="0" y="444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0"/>
                      </a:lnTo>
                      <a:lnTo>
                        <a:pt x="7" y="430"/>
                      </a:lnTo>
                      <a:lnTo>
                        <a:pt x="7" y="430"/>
                      </a:lnTo>
                      <a:lnTo>
                        <a:pt x="7" y="430"/>
                      </a:lnTo>
                      <a:lnTo>
                        <a:pt x="14" y="430"/>
                      </a:lnTo>
                      <a:lnTo>
                        <a:pt x="20" y="430"/>
                      </a:lnTo>
                      <a:lnTo>
                        <a:pt x="20" y="430"/>
                      </a:lnTo>
                      <a:lnTo>
                        <a:pt x="20" y="430"/>
                      </a:lnTo>
                      <a:lnTo>
                        <a:pt x="20" y="430"/>
                      </a:lnTo>
                      <a:lnTo>
                        <a:pt x="14" y="423"/>
                      </a:lnTo>
                      <a:lnTo>
                        <a:pt x="14" y="423"/>
                      </a:lnTo>
                      <a:lnTo>
                        <a:pt x="14" y="423"/>
                      </a:lnTo>
                      <a:lnTo>
                        <a:pt x="14" y="423"/>
                      </a:lnTo>
                      <a:lnTo>
                        <a:pt x="14" y="423"/>
                      </a:lnTo>
                      <a:lnTo>
                        <a:pt x="20" y="417"/>
                      </a:lnTo>
                      <a:lnTo>
                        <a:pt x="20" y="417"/>
                      </a:lnTo>
                      <a:lnTo>
                        <a:pt x="20" y="417"/>
                      </a:lnTo>
                      <a:lnTo>
                        <a:pt x="20" y="417"/>
                      </a:lnTo>
                      <a:lnTo>
                        <a:pt x="20" y="410"/>
                      </a:lnTo>
                      <a:lnTo>
                        <a:pt x="20" y="410"/>
                      </a:lnTo>
                      <a:lnTo>
                        <a:pt x="27" y="410"/>
                      </a:lnTo>
                      <a:lnTo>
                        <a:pt x="27" y="410"/>
                      </a:lnTo>
                      <a:lnTo>
                        <a:pt x="27" y="403"/>
                      </a:lnTo>
                      <a:lnTo>
                        <a:pt x="27" y="403"/>
                      </a:lnTo>
                      <a:lnTo>
                        <a:pt x="27" y="403"/>
                      </a:lnTo>
                      <a:lnTo>
                        <a:pt x="34" y="403"/>
                      </a:lnTo>
                      <a:lnTo>
                        <a:pt x="34" y="403"/>
                      </a:lnTo>
                      <a:lnTo>
                        <a:pt x="34" y="403"/>
                      </a:lnTo>
                      <a:lnTo>
                        <a:pt x="34" y="403"/>
                      </a:lnTo>
                      <a:lnTo>
                        <a:pt x="41" y="403"/>
                      </a:lnTo>
                      <a:lnTo>
                        <a:pt x="41" y="403"/>
                      </a:lnTo>
                      <a:lnTo>
                        <a:pt x="41" y="396"/>
                      </a:lnTo>
                      <a:lnTo>
                        <a:pt x="41" y="396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1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62" y="368"/>
                      </a:lnTo>
                      <a:lnTo>
                        <a:pt x="62" y="368"/>
                      </a:lnTo>
                      <a:lnTo>
                        <a:pt x="62" y="361"/>
                      </a:lnTo>
                      <a:lnTo>
                        <a:pt x="62" y="361"/>
                      </a:lnTo>
                      <a:lnTo>
                        <a:pt x="62" y="361"/>
                      </a:lnTo>
                      <a:lnTo>
                        <a:pt x="62" y="361"/>
                      </a:lnTo>
                      <a:lnTo>
                        <a:pt x="69" y="361"/>
                      </a:lnTo>
                      <a:lnTo>
                        <a:pt x="69" y="361"/>
                      </a:lnTo>
                      <a:lnTo>
                        <a:pt x="69" y="361"/>
                      </a:lnTo>
                      <a:lnTo>
                        <a:pt x="75" y="361"/>
                      </a:lnTo>
                      <a:lnTo>
                        <a:pt x="82" y="361"/>
                      </a:lnTo>
                      <a:lnTo>
                        <a:pt x="82" y="361"/>
                      </a:lnTo>
                      <a:lnTo>
                        <a:pt x="82" y="361"/>
                      </a:lnTo>
                      <a:lnTo>
                        <a:pt x="82" y="354"/>
                      </a:lnTo>
                      <a:lnTo>
                        <a:pt x="82" y="354"/>
                      </a:lnTo>
                      <a:lnTo>
                        <a:pt x="89" y="354"/>
                      </a:lnTo>
                      <a:lnTo>
                        <a:pt x="89" y="354"/>
                      </a:lnTo>
                      <a:lnTo>
                        <a:pt x="89" y="354"/>
                      </a:lnTo>
                      <a:lnTo>
                        <a:pt x="96" y="354"/>
                      </a:lnTo>
                      <a:lnTo>
                        <a:pt x="96" y="354"/>
                      </a:lnTo>
                      <a:lnTo>
                        <a:pt x="96" y="354"/>
                      </a:lnTo>
                      <a:lnTo>
                        <a:pt x="96" y="354"/>
                      </a:lnTo>
                      <a:lnTo>
                        <a:pt x="96" y="354"/>
                      </a:lnTo>
                      <a:lnTo>
                        <a:pt x="103" y="354"/>
                      </a:lnTo>
                      <a:lnTo>
                        <a:pt x="103" y="361"/>
                      </a:lnTo>
                      <a:lnTo>
                        <a:pt x="103" y="354"/>
                      </a:lnTo>
                      <a:lnTo>
                        <a:pt x="103" y="361"/>
                      </a:lnTo>
                      <a:lnTo>
                        <a:pt x="103" y="361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23" y="347"/>
                      </a:lnTo>
                      <a:lnTo>
                        <a:pt x="123" y="354"/>
                      </a:lnTo>
                      <a:lnTo>
                        <a:pt x="123" y="347"/>
                      </a:lnTo>
                      <a:lnTo>
                        <a:pt x="123" y="347"/>
                      </a:lnTo>
                      <a:lnTo>
                        <a:pt x="123" y="347"/>
                      </a:lnTo>
                      <a:lnTo>
                        <a:pt x="130" y="347"/>
                      </a:lnTo>
                      <a:lnTo>
                        <a:pt x="130" y="347"/>
                      </a:lnTo>
                      <a:lnTo>
                        <a:pt x="130" y="347"/>
                      </a:lnTo>
                      <a:lnTo>
                        <a:pt x="130" y="347"/>
                      </a:lnTo>
                      <a:lnTo>
                        <a:pt x="130" y="347"/>
                      </a:lnTo>
                      <a:lnTo>
                        <a:pt x="130" y="354"/>
                      </a:lnTo>
                      <a:lnTo>
                        <a:pt x="130" y="354"/>
                      </a:lnTo>
                      <a:lnTo>
                        <a:pt x="137" y="354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54"/>
                      </a:lnTo>
                      <a:lnTo>
                        <a:pt x="144" y="354"/>
                      </a:lnTo>
                      <a:lnTo>
                        <a:pt x="144" y="354"/>
                      </a:lnTo>
                      <a:lnTo>
                        <a:pt x="144" y="354"/>
                      </a:lnTo>
                      <a:lnTo>
                        <a:pt x="144" y="354"/>
                      </a:lnTo>
                      <a:lnTo>
                        <a:pt x="151" y="354"/>
                      </a:lnTo>
                      <a:lnTo>
                        <a:pt x="151" y="347"/>
                      </a:lnTo>
                      <a:lnTo>
                        <a:pt x="151" y="347"/>
                      </a:lnTo>
                      <a:lnTo>
                        <a:pt x="151" y="347"/>
                      </a:lnTo>
                      <a:lnTo>
                        <a:pt x="151" y="347"/>
                      </a:lnTo>
                      <a:lnTo>
                        <a:pt x="151" y="347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65" y="333"/>
                      </a:lnTo>
                      <a:lnTo>
                        <a:pt x="165" y="333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72" y="340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206" y="333"/>
                      </a:lnTo>
                      <a:lnTo>
                        <a:pt x="199" y="333"/>
                      </a:lnTo>
                      <a:lnTo>
                        <a:pt x="206" y="333"/>
                      </a:lnTo>
                      <a:lnTo>
                        <a:pt x="206" y="333"/>
                      </a:lnTo>
                      <a:lnTo>
                        <a:pt x="206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6" y="333"/>
                      </a:lnTo>
                      <a:lnTo>
                        <a:pt x="226" y="333"/>
                      </a:lnTo>
                      <a:lnTo>
                        <a:pt x="226" y="333"/>
                      </a:lnTo>
                      <a:lnTo>
                        <a:pt x="226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0"/>
                      </a:lnTo>
                      <a:lnTo>
                        <a:pt x="268" y="347"/>
                      </a:lnTo>
                      <a:lnTo>
                        <a:pt x="268" y="347"/>
                      </a:lnTo>
                      <a:lnTo>
                        <a:pt x="268" y="347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75" y="340"/>
                      </a:lnTo>
                      <a:lnTo>
                        <a:pt x="268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81" y="340"/>
                      </a:lnTo>
                      <a:lnTo>
                        <a:pt x="281" y="340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95" y="326"/>
                      </a:lnTo>
                      <a:lnTo>
                        <a:pt x="295" y="326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26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9" y="319"/>
                      </a:lnTo>
                      <a:lnTo>
                        <a:pt x="309" y="319"/>
                      </a:lnTo>
                      <a:lnTo>
                        <a:pt x="309" y="319"/>
                      </a:lnTo>
                      <a:lnTo>
                        <a:pt x="309" y="319"/>
                      </a:lnTo>
                      <a:lnTo>
                        <a:pt x="309" y="319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09" y="299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85"/>
                      </a:lnTo>
                      <a:lnTo>
                        <a:pt x="309" y="285"/>
                      </a:lnTo>
                      <a:lnTo>
                        <a:pt x="309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23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16" y="271"/>
                      </a:lnTo>
                      <a:lnTo>
                        <a:pt x="316" y="271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09" y="264"/>
                      </a:lnTo>
                      <a:lnTo>
                        <a:pt x="309" y="264"/>
                      </a:lnTo>
                      <a:lnTo>
                        <a:pt x="309" y="264"/>
                      </a:lnTo>
                      <a:lnTo>
                        <a:pt x="309" y="264"/>
                      </a:lnTo>
                      <a:lnTo>
                        <a:pt x="309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9" y="250"/>
                      </a:lnTo>
                      <a:lnTo>
                        <a:pt x="302" y="243"/>
                      </a:lnTo>
                      <a:lnTo>
                        <a:pt x="309" y="243"/>
                      </a:lnTo>
                      <a:lnTo>
                        <a:pt x="302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16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16" y="236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9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9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3" y="208"/>
                      </a:lnTo>
                      <a:lnTo>
                        <a:pt x="323" y="215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2"/>
                      </a:lnTo>
                      <a:lnTo>
                        <a:pt x="323" y="208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88"/>
                      </a:lnTo>
                      <a:lnTo>
                        <a:pt x="323" y="195"/>
                      </a:lnTo>
                      <a:lnTo>
                        <a:pt x="323" y="188"/>
                      </a:lnTo>
                      <a:lnTo>
                        <a:pt x="316" y="195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09" y="188"/>
                      </a:lnTo>
                      <a:lnTo>
                        <a:pt x="309" y="188"/>
                      </a:lnTo>
                      <a:lnTo>
                        <a:pt x="309" y="188"/>
                      </a:lnTo>
                      <a:lnTo>
                        <a:pt x="309" y="188"/>
                      </a:lnTo>
                      <a:lnTo>
                        <a:pt x="309" y="188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8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9" y="174"/>
                      </a:lnTo>
                      <a:lnTo>
                        <a:pt x="302" y="167"/>
                      </a:lnTo>
                      <a:lnTo>
                        <a:pt x="309" y="167"/>
                      </a:lnTo>
                      <a:lnTo>
                        <a:pt x="309" y="167"/>
                      </a:lnTo>
                      <a:lnTo>
                        <a:pt x="309" y="167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09" y="146"/>
                      </a:lnTo>
                      <a:lnTo>
                        <a:pt x="316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2"/>
                      </a:lnTo>
                      <a:lnTo>
                        <a:pt x="316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25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36" y="132"/>
                      </a:lnTo>
                      <a:lnTo>
                        <a:pt x="336" y="132"/>
                      </a:lnTo>
                      <a:lnTo>
                        <a:pt x="336" y="132"/>
                      </a:lnTo>
                      <a:lnTo>
                        <a:pt x="343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7" y="111"/>
                      </a:lnTo>
                      <a:lnTo>
                        <a:pt x="357" y="111"/>
                      </a:lnTo>
                      <a:lnTo>
                        <a:pt x="357" y="111"/>
                      </a:lnTo>
                      <a:lnTo>
                        <a:pt x="357" y="111"/>
                      </a:lnTo>
                      <a:lnTo>
                        <a:pt x="357" y="104"/>
                      </a:lnTo>
                      <a:lnTo>
                        <a:pt x="357" y="104"/>
                      </a:lnTo>
                      <a:lnTo>
                        <a:pt x="357" y="104"/>
                      </a:lnTo>
                      <a:lnTo>
                        <a:pt x="350" y="104"/>
                      </a:lnTo>
                      <a:lnTo>
                        <a:pt x="350" y="104"/>
                      </a:lnTo>
                      <a:lnTo>
                        <a:pt x="350" y="97"/>
                      </a:lnTo>
                      <a:lnTo>
                        <a:pt x="350" y="97"/>
                      </a:lnTo>
                      <a:lnTo>
                        <a:pt x="343" y="97"/>
                      </a:lnTo>
                      <a:lnTo>
                        <a:pt x="343" y="97"/>
                      </a:lnTo>
                      <a:lnTo>
                        <a:pt x="343" y="91"/>
                      </a:lnTo>
                      <a:lnTo>
                        <a:pt x="350" y="91"/>
                      </a:lnTo>
                      <a:lnTo>
                        <a:pt x="350" y="91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7" y="84"/>
                      </a:lnTo>
                      <a:lnTo>
                        <a:pt x="350" y="84"/>
                      </a:lnTo>
                      <a:lnTo>
                        <a:pt x="350" y="77"/>
                      </a:lnTo>
                      <a:lnTo>
                        <a:pt x="357" y="77"/>
                      </a:lnTo>
                      <a:lnTo>
                        <a:pt x="357" y="77"/>
                      </a:lnTo>
                      <a:lnTo>
                        <a:pt x="350" y="77"/>
                      </a:lnTo>
                      <a:lnTo>
                        <a:pt x="350" y="77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43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49"/>
                      </a:lnTo>
                      <a:lnTo>
                        <a:pt x="357" y="49"/>
                      </a:lnTo>
                      <a:lnTo>
                        <a:pt x="357" y="49"/>
                      </a:lnTo>
                      <a:lnTo>
                        <a:pt x="357" y="49"/>
                      </a:lnTo>
                      <a:lnTo>
                        <a:pt x="364" y="56"/>
                      </a:lnTo>
                      <a:lnTo>
                        <a:pt x="364" y="56"/>
                      </a:lnTo>
                      <a:lnTo>
                        <a:pt x="364" y="56"/>
                      </a:lnTo>
                      <a:lnTo>
                        <a:pt x="371" y="56"/>
                      </a:lnTo>
                      <a:lnTo>
                        <a:pt x="371" y="56"/>
                      </a:lnTo>
                      <a:lnTo>
                        <a:pt x="371" y="56"/>
                      </a:lnTo>
                      <a:lnTo>
                        <a:pt x="371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49"/>
                      </a:lnTo>
                      <a:lnTo>
                        <a:pt x="378" y="49"/>
                      </a:lnTo>
                      <a:lnTo>
                        <a:pt x="384" y="49"/>
                      </a:lnTo>
                      <a:lnTo>
                        <a:pt x="384" y="49"/>
                      </a:lnTo>
                      <a:lnTo>
                        <a:pt x="384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84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28"/>
                      </a:lnTo>
                      <a:lnTo>
                        <a:pt x="378" y="28"/>
                      </a:lnTo>
                      <a:lnTo>
                        <a:pt x="378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91" y="28"/>
                      </a:lnTo>
                      <a:lnTo>
                        <a:pt x="391" y="28"/>
                      </a:lnTo>
                      <a:lnTo>
                        <a:pt x="391" y="28"/>
                      </a:lnTo>
                      <a:lnTo>
                        <a:pt x="391" y="28"/>
                      </a:lnTo>
                      <a:lnTo>
                        <a:pt x="391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12" y="42"/>
                      </a:lnTo>
                      <a:lnTo>
                        <a:pt x="412" y="49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46" y="63"/>
                      </a:lnTo>
                      <a:lnTo>
                        <a:pt x="446" y="63"/>
                      </a:lnTo>
                      <a:lnTo>
                        <a:pt x="446" y="63"/>
                      </a:lnTo>
                      <a:lnTo>
                        <a:pt x="446" y="63"/>
                      </a:lnTo>
                      <a:lnTo>
                        <a:pt x="446" y="63"/>
                      </a:lnTo>
                      <a:lnTo>
                        <a:pt x="446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60" y="49"/>
                      </a:lnTo>
                      <a:lnTo>
                        <a:pt x="460" y="56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7" y="49"/>
                      </a:lnTo>
                      <a:lnTo>
                        <a:pt x="467" y="42"/>
                      </a:lnTo>
                      <a:lnTo>
                        <a:pt x="467" y="42"/>
                      </a:lnTo>
                      <a:lnTo>
                        <a:pt x="467" y="49"/>
                      </a:lnTo>
                      <a:lnTo>
                        <a:pt x="467" y="49"/>
                      </a:lnTo>
                      <a:lnTo>
                        <a:pt x="467" y="49"/>
                      </a:lnTo>
                      <a:lnTo>
                        <a:pt x="467" y="49"/>
                      </a:lnTo>
                      <a:lnTo>
                        <a:pt x="474" y="49"/>
                      </a:lnTo>
                      <a:lnTo>
                        <a:pt x="474" y="49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501" y="28"/>
                      </a:lnTo>
                      <a:lnTo>
                        <a:pt x="501" y="28"/>
                      </a:lnTo>
                      <a:lnTo>
                        <a:pt x="501" y="28"/>
                      </a:lnTo>
                      <a:lnTo>
                        <a:pt x="508" y="28"/>
                      </a:lnTo>
                      <a:lnTo>
                        <a:pt x="508" y="21"/>
                      </a:lnTo>
                      <a:lnTo>
                        <a:pt x="508" y="21"/>
                      </a:lnTo>
                      <a:lnTo>
                        <a:pt x="508" y="21"/>
                      </a:lnTo>
                      <a:lnTo>
                        <a:pt x="508" y="21"/>
                      </a:lnTo>
                      <a:lnTo>
                        <a:pt x="508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22" y="21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7"/>
                      </a:lnTo>
                      <a:lnTo>
                        <a:pt x="522" y="14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9" y="7"/>
                      </a:lnTo>
                      <a:lnTo>
                        <a:pt x="522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35" y="7"/>
                      </a:lnTo>
                      <a:lnTo>
                        <a:pt x="535" y="7"/>
                      </a:lnTo>
                      <a:lnTo>
                        <a:pt x="535" y="7"/>
                      </a:lnTo>
                      <a:lnTo>
                        <a:pt x="535" y="0"/>
                      </a:lnTo>
                      <a:lnTo>
                        <a:pt x="535" y="7"/>
                      </a:lnTo>
                      <a:lnTo>
                        <a:pt x="535" y="7"/>
                      </a:lnTo>
                      <a:lnTo>
                        <a:pt x="535" y="0"/>
                      </a:lnTo>
                      <a:lnTo>
                        <a:pt x="535" y="0"/>
                      </a:lnTo>
                      <a:lnTo>
                        <a:pt x="535" y="0"/>
                      </a:lnTo>
                      <a:lnTo>
                        <a:pt x="535" y="0"/>
                      </a:lnTo>
                      <a:lnTo>
                        <a:pt x="535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363640" y="4321440"/>
                  <a:ext cx="509400" cy="652680"/>
                </a:xfrm>
                <a:custGeom>
                  <a:avLst/>
                  <a:gdLst/>
                  <a:ahLst/>
                  <a:rect l="l" t="t" r="r" b="b"/>
                  <a:pathLst>
                    <a:path w="405" h="555"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55" y="7"/>
                      </a:lnTo>
                      <a:lnTo>
                        <a:pt x="55" y="0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21"/>
                      </a:lnTo>
                      <a:lnTo>
                        <a:pt x="69" y="21"/>
                      </a:lnTo>
                      <a:lnTo>
                        <a:pt x="62" y="21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9" y="35"/>
                      </a:lnTo>
                      <a:lnTo>
                        <a:pt x="69" y="35"/>
                      </a:lnTo>
                      <a:lnTo>
                        <a:pt x="69" y="35"/>
                      </a:lnTo>
                      <a:lnTo>
                        <a:pt x="69" y="35"/>
                      </a:lnTo>
                      <a:lnTo>
                        <a:pt x="76" y="35"/>
                      </a:lnTo>
                      <a:lnTo>
                        <a:pt x="76" y="35"/>
                      </a:lnTo>
                      <a:lnTo>
                        <a:pt x="76" y="35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90" y="42"/>
                      </a:lnTo>
                      <a:lnTo>
                        <a:pt x="90" y="42"/>
                      </a:lnTo>
                      <a:lnTo>
                        <a:pt x="90" y="42"/>
                      </a:lnTo>
                      <a:lnTo>
                        <a:pt x="90" y="42"/>
                      </a:lnTo>
                      <a:lnTo>
                        <a:pt x="90" y="49"/>
                      </a:lnTo>
                      <a:lnTo>
                        <a:pt x="90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03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42"/>
                      </a:lnTo>
                      <a:lnTo>
                        <a:pt x="138" y="35"/>
                      </a:lnTo>
                      <a:lnTo>
                        <a:pt x="138" y="42"/>
                      </a:lnTo>
                      <a:lnTo>
                        <a:pt x="138" y="35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72" y="63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86" y="70"/>
                      </a:lnTo>
                      <a:lnTo>
                        <a:pt x="186" y="70"/>
                      </a:lnTo>
                      <a:lnTo>
                        <a:pt x="186" y="70"/>
                      </a:lnTo>
                      <a:lnTo>
                        <a:pt x="186" y="70"/>
                      </a:lnTo>
                      <a:lnTo>
                        <a:pt x="186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9" y="70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0"/>
                      </a:lnTo>
                      <a:lnTo>
                        <a:pt x="199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20" y="77"/>
                      </a:lnTo>
                      <a:lnTo>
                        <a:pt x="220" y="77"/>
                      </a:lnTo>
                      <a:lnTo>
                        <a:pt x="220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61" y="91"/>
                      </a:lnTo>
                      <a:lnTo>
                        <a:pt x="268" y="98"/>
                      </a:lnTo>
                      <a:lnTo>
                        <a:pt x="275" y="105"/>
                      </a:lnTo>
                      <a:lnTo>
                        <a:pt x="275" y="105"/>
                      </a:lnTo>
                      <a:lnTo>
                        <a:pt x="275" y="105"/>
                      </a:lnTo>
                      <a:lnTo>
                        <a:pt x="275" y="118"/>
                      </a:lnTo>
                      <a:lnTo>
                        <a:pt x="275" y="125"/>
                      </a:lnTo>
                      <a:lnTo>
                        <a:pt x="282" y="125"/>
                      </a:lnTo>
                      <a:lnTo>
                        <a:pt x="282" y="125"/>
                      </a:lnTo>
                      <a:lnTo>
                        <a:pt x="282" y="125"/>
                      </a:lnTo>
                      <a:lnTo>
                        <a:pt x="282" y="125"/>
                      </a:lnTo>
                      <a:lnTo>
                        <a:pt x="282" y="125"/>
                      </a:lnTo>
                      <a:lnTo>
                        <a:pt x="289" y="125"/>
                      </a:lnTo>
                      <a:lnTo>
                        <a:pt x="289" y="125"/>
                      </a:lnTo>
                      <a:lnTo>
                        <a:pt x="289" y="125"/>
                      </a:lnTo>
                      <a:lnTo>
                        <a:pt x="289" y="125"/>
                      </a:lnTo>
                      <a:lnTo>
                        <a:pt x="296" y="125"/>
                      </a:lnTo>
                      <a:lnTo>
                        <a:pt x="296" y="125"/>
                      </a:lnTo>
                      <a:lnTo>
                        <a:pt x="296" y="132"/>
                      </a:lnTo>
                      <a:lnTo>
                        <a:pt x="296" y="125"/>
                      </a:lnTo>
                      <a:lnTo>
                        <a:pt x="296" y="125"/>
                      </a:lnTo>
                      <a:lnTo>
                        <a:pt x="296" y="125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16" y="118"/>
                      </a:lnTo>
                      <a:lnTo>
                        <a:pt x="316" y="118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23" y="125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25"/>
                      </a:lnTo>
                      <a:lnTo>
                        <a:pt x="323" y="125"/>
                      </a:lnTo>
                      <a:lnTo>
                        <a:pt x="323" y="125"/>
                      </a:lnTo>
                      <a:lnTo>
                        <a:pt x="323" y="125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44" y="125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9"/>
                      </a:lnTo>
                      <a:lnTo>
                        <a:pt x="371" y="139"/>
                      </a:lnTo>
                      <a:lnTo>
                        <a:pt x="371" y="139"/>
                      </a:lnTo>
                      <a:lnTo>
                        <a:pt x="378" y="139"/>
                      </a:lnTo>
                      <a:lnTo>
                        <a:pt x="371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8" y="146"/>
                      </a:lnTo>
                      <a:lnTo>
                        <a:pt x="398" y="146"/>
                      </a:lnTo>
                      <a:lnTo>
                        <a:pt x="398" y="146"/>
                      </a:lnTo>
                      <a:lnTo>
                        <a:pt x="398" y="153"/>
                      </a:lnTo>
                      <a:lnTo>
                        <a:pt x="398" y="153"/>
                      </a:lnTo>
                      <a:lnTo>
                        <a:pt x="398" y="153"/>
                      </a:lnTo>
                      <a:lnTo>
                        <a:pt x="398" y="153"/>
                      </a:lnTo>
                      <a:lnTo>
                        <a:pt x="398" y="153"/>
                      </a:lnTo>
                      <a:lnTo>
                        <a:pt x="398" y="160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7"/>
                      </a:lnTo>
                      <a:lnTo>
                        <a:pt x="398" y="167"/>
                      </a:lnTo>
                      <a:lnTo>
                        <a:pt x="398" y="167"/>
                      </a:lnTo>
                      <a:lnTo>
                        <a:pt x="398" y="167"/>
                      </a:lnTo>
                      <a:lnTo>
                        <a:pt x="398" y="167"/>
                      </a:lnTo>
                      <a:lnTo>
                        <a:pt x="398" y="174"/>
                      </a:lnTo>
                      <a:lnTo>
                        <a:pt x="398" y="174"/>
                      </a:lnTo>
                      <a:lnTo>
                        <a:pt x="398" y="174"/>
                      </a:lnTo>
                      <a:lnTo>
                        <a:pt x="398" y="174"/>
                      </a:lnTo>
                      <a:lnTo>
                        <a:pt x="398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81"/>
                      </a:lnTo>
                      <a:lnTo>
                        <a:pt x="392" y="181"/>
                      </a:lnTo>
                      <a:lnTo>
                        <a:pt x="392" y="181"/>
                      </a:lnTo>
                      <a:lnTo>
                        <a:pt x="385" y="181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78" y="188"/>
                      </a:lnTo>
                      <a:lnTo>
                        <a:pt x="378" y="188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64" y="202"/>
                      </a:lnTo>
                      <a:lnTo>
                        <a:pt x="364" y="202"/>
                      </a:lnTo>
                      <a:lnTo>
                        <a:pt x="364" y="202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71" y="216"/>
                      </a:lnTo>
                      <a:lnTo>
                        <a:pt x="371" y="216"/>
                      </a:lnTo>
                      <a:lnTo>
                        <a:pt x="371" y="216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64" y="222"/>
                      </a:lnTo>
                      <a:lnTo>
                        <a:pt x="364" y="222"/>
                      </a:lnTo>
                      <a:lnTo>
                        <a:pt x="364" y="222"/>
                      </a:lnTo>
                      <a:lnTo>
                        <a:pt x="364" y="229"/>
                      </a:lnTo>
                      <a:lnTo>
                        <a:pt x="364" y="222"/>
                      </a:lnTo>
                      <a:lnTo>
                        <a:pt x="364" y="229"/>
                      </a:lnTo>
                      <a:lnTo>
                        <a:pt x="364" y="222"/>
                      </a:lnTo>
                      <a:lnTo>
                        <a:pt x="364" y="222"/>
                      </a:lnTo>
                      <a:lnTo>
                        <a:pt x="364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43"/>
                      </a:lnTo>
                      <a:lnTo>
                        <a:pt x="344" y="243"/>
                      </a:lnTo>
                      <a:lnTo>
                        <a:pt x="344" y="243"/>
                      </a:lnTo>
                      <a:lnTo>
                        <a:pt x="344" y="243"/>
                      </a:lnTo>
                      <a:lnTo>
                        <a:pt x="344" y="243"/>
                      </a:lnTo>
                      <a:lnTo>
                        <a:pt x="344" y="250"/>
                      </a:lnTo>
                      <a:lnTo>
                        <a:pt x="344" y="250"/>
                      </a:lnTo>
                      <a:lnTo>
                        <a:pt x="344" y="250"/>
                      </a:lnTo>
                      <a:lnTo>
                        <a:pt x="344" y="250"/>
                      </a:lnTo>
                      <a:lnTo>
                        <a:pt x="344" y="250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64"/>
                      </a:lnTo>
                      <a:lnTo>
                        <a:pt x="337" y="264"/>
                      </a:lnTo>
                      <a:lnTo>
                        <a:pt x="337" y="264"/>
                      </a:lnTo>
                      <a:lnTo>
                        <a:pt x="344" y="264"/>
                      </a:lnTo>
                      <a:lnTo>
                        <a:pt x="337" y="264"/>
                      </a:lnTo>
                      <a:lnTo>
                        <a:pt x="337" y="264"/>
                      </a:lnTo>
                      <a:lnTo>
                        <a:pt x="337" y="264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50" y="271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85"/>
                      </a:lnTo>
                      <a:lnTo>
                        <a:pt x="357" y="278"/>
                      </a:lnTo>
                      <a:lnTo>
                        <a:pt x="357" y="278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64" y="285"/>
                      </a:lnTo>
                      <a:lnTo>
                        <a:pt x="364" y="285"/>
                      </a:lnTo>
                      <a:lnTo>
                        <a:pt x="364" y="285"/>
                      </a:lnTo>
                      <a:lnTo>
                        <a:pt x="364" y="285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71" y="299"/>
                      </a:lnTo>
                      <a:lnTo>
                        <a:pt x="371" y="292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306"/>
                      </a:lnTo>
                      <a:lnTo>
                        <a:pt x="371" y="306"/>
                      </a:lnTo>
                      <a:lnTo>
                        <a:pt x="378" y="306"/>
                      </a:lnTo>
                      <a:lnTo>
                        <a:pt x="378" y="306"/>
                      </a:lnTo>
                      <a:lnTo>
                        <a:pt x="378" y="306"/>
                      </a:lnTo>
                      <a:lnTo>
                        <a:pt x="378" y="306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0" y="313"/>
                      </a:lnTo>
                      <a:lnTo>
                        <a:pt x="350" y="313"/>
                      </a:lnTo>
                      <a:lnTo>
                        <a:pt x="350" y="313"/>
                      </a:lnTo>
                      <a:lnTo>
                        <a:pt x="350" y="313"/>
                      </a:lnTo>
                      <a:lnTo>
                        <a:pt x="350" y="313"/>
                      </a:lnTo>
                      <a:lnTo>
                        <a:pt x="344" y="313"/>
                      </a:lnTo>
                      <a:lnTo>
                        <a:pt x="344" y="313"/>
                      </a:lnTo>
                      <a:lnTo>
                        <a:pt x="344" y="313"/>
                      </a:lnTo>
                      <a:lnTo>
                        <a:pt x="344" y="313"/>
                      </a:lnTo>
                      <a:lnTo>
                        <a:pt x="344" y="313"/>
                      </a:lnTo>
                      <a:lnTo>
                        <a:pt x="337" y="313"/>
                      </a:lnTo>
                      <a:lnTo>
                        <a:pt x="337" y="313"/>
                      </a:lnTo>
                      <a:lnTo>
                        <a:pt x="337" y="313"/>
                      </a:lnTo>
                      <a:lnTo>
                        <a:pt x="337" y="313"/>
                      </a:lnTo>
                      <a:lnTo>
                        <a:pt x="337" y="313"/>
                      </a:lnTo>
                      <a:lnTo>
                        <a:pt x="337" y="320"/>
                      </a:lnTo>
                      <a:lnTo>
                        <a:pt x="337" y="320"/>
                      </a:lnTo>
                      <a:lnTo>
                        <a:pt x="337" y="320"/>
                      </a:lnTo>
                      <a:lnTo>
                        <a:pt x="337" y="320"/>
                      </a:lnTo>
                      <a:lnTo>
                        <a:pt x="337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23" y="320"/>
                      </a:lnTo>
                      <a:lnTo>
                        <a:pt x="323" y="320"/>
                      </a:lnTo>
                      <a:lnTo>
                        <a:pt x="323" y="320"/>
                      </a:lnTo>
                      <a:lnTo>
                        <a:pt x="323" y="313"/>
                      </a:lnTo>
                      <a:lnTo>
                        <a:pt x="323" y="320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13"/>
                      </a:lnTo>
                      <a:lnTo>
                        <a:pt x="316" y="320"/>
                      </a:lnTo>
                      <a:lnTo>
                        <a:pt x="323" y="327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09" y="333"/>
                      </a:lnTo>
                      <a:lnTo>
                        <a:pt x="309" y="327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296" y="333"/>
                      </a:lnTo>
                      <a:lnTo>
                        <a:pt x="296" y="333"/>
                      </a:lnTo>
                      <a:lnTo>
                        <a:pt x="296" y="333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7"/>
                      </a:lnTo>
                      <a:lnTo>
                        <a:pt x="296" y="347"/>
                      </a:lnTo>
                      <a:lnTo>
                        <a:pt x="296" y="347"/>
                      </a:lnTo>
                      <a:lnTo>
                        <a:pt x="296" y="347"/>
                      </a:lnTo>
                      <a:lnTo>
                        <a:pt x="296" y="347"/>
                      </a:lnTo>
                      <a:lnTo>
                        <a:pt x="296" y="354"/>
                      </a:lnTo>
                      <a:lnTo>
                        <a:pt x="296" y="354"/>
                      </a:lnTo>
                      <a:lnTo>
                        <a:pt x="296" y="354"/>
                      </a:lnTo>
                      <a:lnTo>
                        <a:pt x="296" y="354"/>
                      </a:lnTo>
                      <a:lnTo>
                        <a:pt x="289" y="354"/>
                      </a:lnTo>
                      <a:lnTo>
                        <a:pt x="289" y="354"/>
                      </a:lnTo>
                      <a:lnTo>
                        <a:pt x="296" y="354"/>
                      </a:lnTo>
                      <a:lnTo>
                        <a:pt x="302" y="354"/>
                      </a:lnTo>
                      <a:lnTo>
                        <a:pt x="302" y="354"/>
                      </a:lnTo>
                      <a:lnTo>
                        <a:pt x="302" y="361"/>
                      </a:lnTo>
                      <a:lnTo>
                        <a:pt x="302" y="361"/>
                      </a:lnTo>
                      <a:lnTo>
                        <a:pt x="302" y="368"/>
                      </a:lnTo>
                      <a:lnTo>
                        <a:pt x="302" y="368"/>
                      </a:lnTo>
                      <a:lnTo>
                        <a:pt x="302" y="368"/>
                      </a:lnTo>
                      <a:lnTo>
                        <a:pt x="302" y="368"/>
                      </a:lnTo>
                      <a:lnTo>
                        <a:pt x="302" y="368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82"/>
                      </a:lnTo>
                      <a:lnTo>
                        <a:pt x="309" y="382"/>
                      </a:lnTo>
                      <a:lnTo>
                        <a:pt x="316" y="382"/>
                      </a:lnTo>
                      <a:lnTo>
                        <a:pt x="316" y="389"/>
                      </a:lnTo>
                      <a:lnTo>
                        <a:pt x="316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2" y="389"/>
                      </a:lnTo>
                      <a:lnTo>
                        <a:pt x="302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2"/>
                      </a:lnTo>
                      <a:lnTo>
                        <a:pt x="296" y="382"/>
                      </a:lnTo>
                      <a:lnTo>
                        <a:pt x="296" y="382"/>
                      </a:lnTo>
                      <a:lnTo>
                        <a:pt x="289" y="382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96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302" y="396"/>
                      </a:lnTo>
                      <a:lnTo>
                        <a:pt x="302" y="396"/>
                      </a:lnTo>
                      <a:lnTo>
                        <a:pt x="302" y="396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9" y="410"/>
                      </a:lnTo>
                      <a:lnTo>
                        <a:pt x="302" y="410"/>
                      </a:lnTo>
                      <a:lnTo>
                        <a:pt x="309" y="410"/>
                      </a:lnTo>
                      <a:lnTo>
                        <a:pt x="309" y="410"/>
                      </a:lnTo>
                      <a:lnTo>
                        <a:pt x="309" y="410"/>
                      </a:lnTo>
                      <a:lnTo>
                        <a:pt x="309" y="410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16" y="417"/>
                      </a:lnTo>
                      <a:lnTo>
                        <a:pt x="309" y="417"/>
                      </a:lnTo>
                      <a:lnTo>
                        <a:pt x="316" y="417"/>
                      </a:lnTo>
                      <a:lnTo>
                        <a:pt x="316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16" y="424"/>
                      </a:lnTo>
                      <a:lnTo>
                        <a:pt x="316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16" y="424"/>
                      </a:lnTo>
                      <a:lnTo>
                        <a:pt x="309" y="431"/>
                      </a:lnTo>
                      <a:lnTo>
                        <a:pt x="316" y="431"/>
                      </a:lnTo>
                      <a:lnTo>
                        <a:pt x="316" y="431"/>
                      </a:lnTo>
                      <a:lnTo>
                        <a:pt x="316" y="431"/>
                      </a:lnTo>
                      <a:lnTo>
                        <a:pt x="316" y="431"/>
                      </a:lnTo>
                      <a:lnTo>
                        <a:pt x="316" y="431"/>
                      </a:lnTo>
                      <a:lnTo>
                        <a:pt x="309" y="431"/>
                      </a:lnTo>
                      <a:lnTo>
                        <a:pt x="309" y="431"/>
                      </a:lnTo>
                      <a:lnTo>
                        <a:pt x="316" y="437"/>
                      </a:lnTo>
                      <a:lnTo>
                        <a:pt x="309" y="437"/>
                      </a:lnTo>
                      <a:lnTo>
                        <a:pt x="316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44"/>
                      </a:lnTo>
                      <a:lnTo>
                        <a:pt x="309" y="444"/>
                      </a:lnTo>
                      <a:lnTo>
                        <a:pt x="309" y="444"/>
                      </a:lnTo>
                      <a:lnTo>
                        <a:pt x="309" y="444"/>
                      </a:lnTo>
                      <a:lnTo>
                        <a:pt x="302" y="444"/>
                      </a:lnTo>
                      <a:lnTo>
                        <a:pt x="302" y="444"/>
                      </a:lnTo>
                      <a:lnTo>
                        <a:pt x="302" y="444"/>
                      </a:lnTo>
                      <a:lnTo>
                        <a:pt x="302" y="444"/>
                      </a:lnTo>
                      <a:lnTo>
                        <a:pt x="302" y="444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296" y="451"/>
                      </a:lnTo>
                      <a:lnTo>
                        <a:pt x="296" y="451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89" y="458"/>
                      </a:lnTo>
                      <a:lnTo>
                        <a:pt x="296" y="458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96" y="472"/>
                      </a:lnTo>
                      <a:lnTo>
                        <a:pt x="289" y="472"/>
                      </a:lnTo>
                      <a:lnTo>
                        <a:pt x="296" y="472"/>
                      </a:lnTo>
                      <a:lnTo>
                        <a:pt x="296" y="472"/>
                      </a:lnTo>
                      <a:lnTo>
                        <a:pt x="289" y="472"/>
                      </a:lnTo>
                      <a:lnTo>
                        <a:pt x="289" y="472"/>
                      </a:lnTo>
                      <a:lnTo>
                        <a:pt x="289" y="472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2" y="479"/>
                      </a:lnTo>
                      <a:lnTo>
                        <a:pt x="282" y="486"/>
                      </a:lnTo>
                      <a:lnTo>
                        <a:pt x="282" y="479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93"/>
                      </a:lnTo>
                      <a:lnTo>
                        <a:pt x="282" y="493"/>
                      </a:lnTo>
                      <a:lnTo>
                        <a:pt x="282" y="493"/>
                      </a:lnTo>
                      <a:lnTo>
                        <a:pt x="275" y="493"/>
                      </a:lnTo>
                      <a:lnTo>
                        <a:pt x="275" y="493"/>
                      </a:lnTo>
                      <a:lnTo>
                        <a:pt x="275" y="493"/>
                      </a:lnTo>
                      <a:lnTo>
                        <a:pt x="275" y="493"/>
                      </a:lnTo>
                      <a:lnTo>
                        <a:pt x="275" y="500"/>
                      </a:lnTo>
                      <a:lnTo>
                        <a:pt x="275" y="500"/>
                      </a:lnTo>
                      <a:lnTo>
                        <a:pt x="275" y="500"/>
                      </a:lnTo>
                      <a:lnTo>
                        <a:pt x="275" y="500"/>
                      </a:lnTo>
                      <a:lnTo>
                        <a:pt x="275" y="500"/>
                      </a:lnTo>
                      <a:lnTo>
                        <a:pt x="275" y="507"/>
                      </a:lnTo>
                      <a:lnTo>
                        <a:pt x="275" y="507"/>
                      </a:lnTo>
                      <a:lnTo>
                        <a:pt x="275" y="507"/>
                      </a:lnTo>
                      <a:lnTo>
                        <a:pt x="268" y="507"/>
                      </a:lnTo>
                      <a:lnTo>
                        <a:pt x="247" y="507"/>
                      </a:lnTo>
                      <a:lnTo>
                        <a:pt x="241" y="507"/>
                      </a:lnTo>
                      <a:lnTo>
                        <a:pt x="241" y="507"/>
                      </a:lnTo>
                      <a:lnTo>
                        <a:pt x="241" y="507"/>
                      </a:lnTo>
                      <a:lnTo>
                        <a:pt x="241" y="507"/>
                      </a:lnTo>
                      <a:lnTo>
                        <a:pt x="241" y="507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34" y="514"/>
                      </a:lnTo>
                      <a:lnTo>
                        <a:pt x="234" y="514"/>
                      </a:lnTo>
                      <a:lnTo>
                        <a:pt x="234" y="514"/>
                      </a:lnTo>
                      <a:lnTo>
                        <a:pt x="234" y="514"/>
                      </a:lnTo>
                      <a:lnTo>
                        <a:pt x="234" y="521"/>
                      </a:lnTo>
                      <a:lnTo>
                        <a:pt x="234" y="521"/>
                      </a:lnTo>
                      <a:lnTo>
                        <a:pt x="234" y="521"/>
                      </a:lnTo>
                      <a:lnTo>
                        <a:pt x="234" y="521"/>
                      </a:lnTo>
                      <a:lnTo>
                        <a:pt x="234" y="521"/>
                      </a:lnTo>
                      <a:lnTo>
                        <a:pt x="241" y="521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35"/>
                      </a:lnTo>
                      <a:lnTo>
                        <a:pt x="241" y="535"/>
                      </a:lnTo>
                      <a:lnTo>
                        <a:pt x="241" y="535"/>
                      </a:lnTo>
                      <a:lnTo>
                        <a:pt x="241" y="535"/>
                      </a:lnTo>
                      <a:lnTo>
                        <a:pt x="234" y="535"/>
                      </a:lnTo>
                      <a:lnTo>
                        <a:pt x="234" y="535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34" y="542"/>
                      </a:lnTo>
                      <a:lnTo>
                        <a:pt x="241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27" y="555"/>
                      </a:lnTo>
                      <a:lnTo>
                        <a:pt x="227" y="555"/>
                      </a:lnTo>
                      <a:lnTo>
                        <a:pt x="227" y="555"/>
                      </a:lnTo>
                      <a:lnTo>
                        <a:pt x="227" y="555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835880" y="4885200"/>
                  <a:ext cx="813600" cy="302040"/>
                </a:xfrm>
                <a:custGeom>
                  <a:avLst/>
                  <a:gdLst/>
                  <a:ahLst/>
                  <a:rect l="l" t="t" r="r" b="b"/>
                  <a:pathLst>
                    <a:path w="646" h="257">
                      <a:moveTo>
                        <a:pt x="646" y="76"/>
                      </a:move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90"/>
                      </a:lnTo>
                      <a:lnTo>
                        <a:pt x="639" y="83"/>
                      </a:lnTo>
                      <a:lnTo>
                        <a:pt x="639" y="90"/>
                      </a:lnTo>
                      <a:lnTo>
                        <a:pt x="639" y="83"/>
                      </a:lnTo>
                      <a:lnTo>
                        <a:pt x="639" y="90"/>
                      </a:lnTo>
                      <a:lnTo>
                        <a:pt x="639" y="90"/>
                      </a:lnTo>
                      <a:lnTo>
                        <a:pt x="639" y="90"/>
                      </a:lnTo>
                      <a:lnTo>
                        <a:pt x="639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25" y="90"/>
                      </a:lnTo>
                      <a:lnTo>
                        <a:pt x="625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8"/>
                      </a:lnTo>
                      <a:lnTo>
                        <a:pt x="625" y="118"/>
                      </a:lnTo>
                      <a:lnTo>
                        <a:pt x="625" y="118"/>
                      </a:lnTo>
                      <a:lnTo>
                        <a:pt x="625" y="118"/>
                      </a:lnTo>
                      <a:lnTo>
                        <a:pt x="618" y="118"/>
                      </a:lnTo>
                      <a:lnTo>
                        <a:pt x="618" y="118"/>
                      </a:lnTo>
                      <a:lnTo>
                        <a:pt x="618" y="118"/>
                      </a:lnTo>
                      <a:lnTo>
                        <a:pt x="618" y="118"/>
                      </a:lnTo>
                      <a:lnTo>
                        <a:pt x="618" y="118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9"/>
                      </a:lnTo>
                      <a:lnTo>
                        <a:pt x="618" y="139"/>
                      </a:lnTo>
                      <a:lnTo>
                        <a:pt x="618" y="139"/>
                      </a:lnTo>
                      <a:lnTo>
                        <a:pt x="618" y="139"/>
                      </a:lnTo>
                      <a:lnTo>
                        <a:pt x="618" y="139"/>
                      </a:lnTo>
                      <a:lnTo>
                        <a:pt x="612" y="139"/>
                      </a:lnTo>
                      <a:lnTo>
                        <a:pt x="612" y="139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53"/>
                      </a:lnTo>
                      <a:lnTo>
                        <a:pt x="612" y="153"/>
                      </a:lnTo>
                      <a:lnTo>
                        <a:pt x="612" y="146"/>
                      </a:lnTo>
                      <a:lnTo>
                        <a:pt x="612" y="153"/>
                      </a:lnTo>
                      <a:lnTo>
                        <a:pt x="612" y="146"/>
                      </a:lnTo>
                      <a:lnTo>
                        <a:pt x="618" y="153"/>
                      </a:lnTo>
                      <a:lnTo>
                        <a:pt x="618" y="146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2" y="153"/>
                      </a:lnTo>
                      <a:lnTo>
                        <a:pt x="612" y="153"/>
                      </a:lnTo>
                      <a:lnTo>
                        <a:pt x="612" y="160"/>
                      </a:lnTo>
                      <a:lnTo>
                        <a:pt x="612" y="160"/>
                      </a:lnTo>
                      <a:lnTo>
                        <a:pt x="605" y="160"/>
                      </a:lnTo>
                      <a:lnTo>
                        <a:pt x="605" y="160"/>
                      </a:lnTo>
                      <a:lnTo>
                        <a:pt x="598" y="160"/>
                      </a:lnTo>
                      <a:lnTo>
                        <a:pt x="591" y="167"/>
                      </a:lnTo>
                      <a:lnTo>
                        <a:pt x="591" y="167"/>
                      </a:lnTo>
                      <a:lnTo>
                        <a:pt x="591" y="167"/>
                      </a:lnTo>
                      <a:lnTo>
                        <a:pt x="591" y="167"/>
                      </a:lnTo>
                      <a:lnTo>
                        <a:pt x="591" y="167"/>
                      </a:lnTo>
                      <a:lnTo>
                        <a:pt x="584" y="167"/>
                      </a:lnTo>
                      <a:lnTo>
                        <a:pt x="584" y="167"/>
                      </a:lnTo>
                      <a:lnTo>
                        <a:pt x="584" y="167"/>
                      </a:lnTo>
                      <a:lnTo>
                        <a:pt x="577" y="167"/>
                      </a:lnTo>
                      <a:lnTo>
                        <a:pt x="577" y="174"/>
                      </a:lnTo>
                      <a:lnTo>
                        <a:pt x="577" y="174"/>
                      </a:lnTo>
                      <a:lnTo>
                        <a:pt x="577" y="174"/>
                      </a:lnTo>
                      <a:lnTo>
                        <a:pt x="570" y="174"/>
                      </a:lnTo>
                      <a:lnTo>
                        <a:pt x="563" y="174"/>
                      </a:lnTo>
                      <a:lnTo>
                        <a:pt x="563" y="174"/>
                      </a:lnTo>
                      <a:lnTo>
                        <a:pt x="563" y="180"/>
                      </a:lnTo>
                      <a:lnTo>
                        <a:pt x="563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0" y="187"/>
                      </a:lnTo>
                      <a:lnTo>
                        <a:pt x="550" y="187"/>
                      </a:lnTo>
                      <a:lnTo>
                        <a:pt x="550" y="187"/>
                      </a:lnTo>
                      <a:lnTo>
                        <a:pt x="550" y="187"/>
                      </a:lnTo>
                      <a:lnTo>
                        <a:pt x="550" y="187"/>
                      </a:lnTo>
                      <a:lnTo>
                        <a:pt x="543" y="187"/>
                      </a:lnTo>
                      <a:lnTo>
                        <a:pt x="543" y="187"/>
                      </a:lnTo>
                      <a:lnTo>
                        <a:pt x="543" y="187"/>
                      </a:lnTo>
                      <a:lnTo>
                        <a:pt x="543" y="187"/>
                      </a:lnTo>
                      <a:lnTo>
                        <a:pt x="543" y="187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15" y="187"/>
                      </a:lnTo>
                      <a:lnTo>
                        <a:pt x="515" y="187"/>
                      </a:lnTo>
                      <a:lnTo>
                        <a:pt x="515" y="187"/>
                      </a:lnTo>
                      <a:lnTo>
                        <a:pt x="515" y="187"/>
                      </a:lnTo>
                      <a:lnTo>
                        <a:pt x="515" y="187"/>
                      </a:lnTo>
                      <a:lnTo>
                        <a:pt x="515" y="180"/>
                      </a:lnTo>
                      <a:lnTo>
                        <a:pt x="515" y="180"/>
                      </a:lnTo>
                      <a:lnTo>
                        <a:pt x="515" y="187"/>
                      </a:lnTo>
                      <a:lnTo>
                        <a:pt x="509" y="187"/>
                      </a:lnTo>
                      <a:lnTo>
                        <a:pt x="509" y="187"/>
                      </a:lnTo>
                      <a:lnTo>
                        <a:pt x="509" y="187"/>
                      </a:lnTo>
                      <a:lnTo>
                        <a:pt x="509" y="180"/>
                      </a:lnTo>
                      <a:lnTo>
                        <a:pt x="509" y="180"/>
                      </a:lnTo>
                      <a:lnTo>
                        <a:pt x="509" y="180"/>
                      </a:lnTo>
                      <a:lnTo>
                        <a:pt x="509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0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0"/>
                      </a:lnTo>
                      <a:lnTo>
                        <a:pt x="495" y="187"/>
                      </a:lnTo>
                      <a:lnTo>
                        <a:pt x="488" y="180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74" y="187"/>
                      </a:lnTo>
                      <a:lnTo>
                        <a:pt x="474" y="187"/>
                      </a:lnTo>
                      <a:lnTo>
                        <a:pt x="474" y="187"/>
                      </a:lnTo>
                      <a:lnTo>
                        <a:pt x="474" y="187"/>
                      </a:lnTo>
                      <a:lnTo>
                        <a:pt x="474" y="187"/>
                      </a:lnTo>
                      <a:lnTo>
                        <a:pt x="474" y="194"/>
                      </a:lnTo>
                      <a:lnTo>
                        <a:pt x="474" y="187"/>
                      </a:lnTo>
                      <a:lnTo>
                        <a:pt x="474" y="194"/>
                      </a:lnTo>
                      <a:lnTo>
                        <a:pt x="467" y="187"/>
                      </a:lnTo>
                      <a:lnTo>
                        <a:pt x="467" y="187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54" y="194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26" y="201"/>
                      </a:lnTo>
                      <a:lnTo>
                        <a:pt x="426" y="201"/>
                      </a:lnTo>
                      <a:lnTo>
                        <a:pt x="426" y="208"/>
                      </a:lnTo>
                      <a:lnTo>
                        <a:pt x="426" y="208"/>
                      </a:lnTo>
                      <a:lnTo>
                        <a:pt x="426" y="208"/>
                      </a:lnTo>
                      <a:lnTo>
                        <a:pt x="426" y="208"/>
                      </a:lnTo>
                      <a:lnTo>
                        <a:pt x="419" y="208"/>
                      </a:lnTo>
                      <a:lnTo>
                        <a:pt x="419" y="201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2" y="208"/>
                      </a:lnTo>
                      <a:lnTo>
                        <a:pt x="412" y="208"/>
                      </a:lnTo>
                      <a:lnTo>
                        <a:pt x="412" y="208"/>
                      </a:lnTo>
                      <a:lnTo>
                        <a:pt x="412" y="208"/>
                      </a:lnTo>
                      <a:lnTo>
                        <a:pt x="412" y="208"/>
                      </a:lnTo>
                      <a:lnTo>
                        <a:pt x="406" y="208"/>
                      </a:lnTo>
                      <a:lnTo>
                        <a:pt x="406" y="208"/>
                      </a:lnTo>
                      <a:lnTo>
                        <a:pt x="406" y="208"/>
                      </a:lnTo>
                      <a:lnTo>
                        <a:pt x="406" y="208"/>
                      </a:lnTo>
                      <a:lnTo>
                        <a:pt x="406" y="208"/>
                      </a:lnTo>
                      <a:lnTo>
                        <a:pt x="406" y="215"/>
                      </a:lnTo>
                      <a:lnTo>
                        <a:pt x="406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2" y="215"/>
                      </a:lnTo>
                      <a:lnTo>
                        <a:pt x="392" y="215"/>
                      </a:lnTo>
                      <a:lnTo>
                        <a:pt x="392" y="215"/>
                      </a:lnTo>
                      <a:lnTo>
                        <a:pt x="392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36"/>
                      </a:lnTo>
                      <a:lnTo>
                        <a:pt x="351" y="236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44" y="229"/>
                      </a:lnTo>
                      <a:lnTo>
                        <a:pt x="351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16" y="236"/>
                      </a:lnTo>
                      <a:lnTo>
                        <a:pt x="316" y="236"/>
                      </a:lnTo>
                      <a:lnTo>
                        <a:pt x="316" y="243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30" y="243"/>
                      </a:lnTo>
                      <a:lnTo>
                        <a:pt x="330" y="243"/>
                      </a:lnTo>
                      <a:lnTo>
                        <a:pt x="330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30" y="243"/>
                      </a:lnTo>
                      <a:lnTo>
                        <a:pt x="330" y="250"/>
                      </a:lnTo>
                      <a:lnTo>
                        <a:pt x="323" y="250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50"/>
                      </a:lnTo>
                      <a:lnTo>
                        <a:pt x="323" y="250"/>
                      </a:lnTo>
                      <a:lnTo>
                        <a:pt x="323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3" y="250"/>
                      </a:lnTo>
                      <a:lnTo>
                        <a:pt x="303" y="250"/>
                      </a:lnTo>
                      <a:lnTo>
                        <a:pt x="303" y="250"/>
                      </a:lnTo>
                      <a:lnTo>
                        <a:pt x="303" y="250"/>
                      </a:lnTo>
                      <a:lnTo>
                        <a:pt x="303" y="257"/>
                      </a:lnTo>
                      <a:lnTo>
                        <a:pt x="303" y="250"/>
                      </a:lnTo>
                      <a:lnTo>
                        <a:pt x="296" y="257"/>
                      </a:lnTo>
                      <a:lnTo>
                        <a:pt x="296" y="257"/>
                      </a:lnTo>
                      <a:lnTo>
                        <a:pt x="296" y="257"/>
                      </a:lnTo>
                      <a:lnTo>
                        <a:pt x="296" y="257"/>
                      </a:lnTo>
                      <a:lnTo>
                        <a:pt x="296" y="257"/>
                      </a:lnTo>
                      <a:lnTo>
                        <a:pt x="289" y="257"/>
                      </a:lnTo>
                      <a:lnTo>
                        <a:pt x="289" y="257"/>
                      </a:lnTo>
                      <a:lnTo>
                        <a:pt x="289" y="257"/>
                      </a:lnTo>
                      <a:lnTo>
                        <a:pt x="289" y="250"/>
                      </a:lnTo>
                      <a:lnTo>
                        <a:pt x="289" y="250"/>
                      </a:lnTo>
                      <a:lnTo>
                        <a:pt x="289" y="250"/>
                      </a:lnTo>
                      <a:lnTo>
                        <a:pt x="289" y="250"/>
                      </a:lnTo>
                      <a:lnTo>
                        <a:pt x="289" y="250"/>
                      </a:lnTo>
                      <a:lnTo>
                        <a:pt x="282" y="250"/>
                      </a:lnTo>
                      <a:lnTo>
                        <a:pt x="282" y="257"/>
                      </a:lnTo>
                      <a:lnTo>
                        <a:pt x="282" y="257"/>
                      </a:lnTo>
                      <a:lnTo>
                        <a:pt x="282" y="257"/>
                      </a:lnTo>
                      <a:lnTo>
                        <a:pt x="282" y="250"/>
                      </a:lnTo>
                      <a:lnTo>
                        <a:pt x="282" y="250"/>
                      </a:lnTo>
                      <a:lnTo>
                        <a:pt x="275" y="257"/>
                      </a:lnTo>
                      <a:lnTo>
                        <a:pt x="275" y="257"/>
                      </a:lnTo>
                      <a:lnTo>
                        <a:pt x="275" y="257"/>
                      </a:lnTo>
                      <a:lnTo>
                        <a:pt x="275" y="257"/>
                      </a:lnTo>
                      <a:lnTo>
                        <a:pt x="275" y="257"/>
                      </a:lnTo>
                      <a:lnTo>
                        <a:pt x="275" y="250"/>
                      </a:lnTo>
                      <a:lnTo>
                        <a:pt x="268" y="250"/>
                      </a:lnTo>
                      <a:lnTo>
                        <a:pt x="268" y="250"/>
                      </a:lnTo>
                      <a:lnTo>
                        <a:pt x="275" y="250"/>
                      </a:lnTo>
                      <a:lnTo>
                        <a:pt x="268" y="250"/>
                      </a:lnTo>
                      <a:lnTo>
                        <a:pt x="275" y="250"/>
                      </a:lnTo>
                      <a:lnTo>
                        <a:pt x="268" y="250"/>
                      </a:lnTo>
                      <a:lnTo>
                        <a:pt x="268" y="250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68" y="243"/>
                      </a:lnTo>
                      <a:lnTo>
                        <a:pt x="268" y="243"/>
                      </a:lnTo>
                      <a:lnTo>
                        <a:pt x="268" y="243"/>
                      </a:lnTo>
                      <a:lnTo>
                        <a:pt x="268" y="236"/>
                      </a:lnTo>
                      <a:lnTo>
                        <a:pt x="268" y="243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55" y="222"/>
                      </a:lnTo>
                      <a:lnTo>
                        <a:pt x="255" y="222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1" y="208"/>
                      </a:lnTo>
                      <a:lnTo>
                        <a:pt x="248" y="208"/>
                      </a:lnTo>
                      <a:lnTo>
                        <a:pt x="241" y="208"/>
                      </a:lnTo>
                      <a:lnTo>
                        <a:pt x="241" y="208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8" y="201"/>
                      </a:lnTo>
                      <a:lnTo>
                        <a:pt x="248" y="201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55" y="187"/>
                      </a:lnTo>
                      <a:lnTo>
                        <a:pt x="255" y="187"/>
                      </a:lnTo>
                      <a:lnTo>
                        <a:pt x="255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55" y="180"/>
                      </a:lnTo>
                      <a:lnTo>
                        <a:pt x="255" y="180"/>
                      </a:lnTo>
                      <a:lnTo>
                        <a:pt x="248" y="180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55" y="153"/>
                      </a:lnTo>
                      <a:lnTo>
                        <a:pt x="255" y="153"/>
                      </a:lnTo>
                      <a:lnTo>
                        <a:pt x="255" y="153"/>
                      </a:lnTo>
                      <a:lnTo>
                        <a:pt x="255" y="146"/>
                      </a:lnTo>
                      <a:lnTo>
                        <a:pt x="255" y="146"/>
                      </a:lnTo>
                      <a:lnTo>
                        <a:pt x="255" y="146"/>
                      </a:lnTo>
                      <a:lnTo>
                        <a:pt x="255" y="146"/>
                      </a:lnTo>
                      <a:lnTo>
                        <a:pt x="255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48" y="132"/>
                      </a:lnTo>
                      <a:lnTo>
                        <a:pt x="255" y="132"/>
                      </a:lnTo>
                      <a:lnTo>
                        <a:pt x="248" y="132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32"/>
                      </a:lnTo>
                      <a:lnTo>
                        <a:pt x="227" y="125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25"/>
                      </a:lnTo>
                      <a:lnTo>
                        <a:pt x="213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13" y="125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06" y="111"/>
                      </a:lnTo>
                      <a:lnTo>
                        <a:pt x="206" y="111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00" y="90"/>
                      </a:lnTo>
                      <a:lnTo>
                        <a:pt x="200" y="90"/>
                      </a:lnTo>
                      <a:lnTo>
                        <a:pt x="200" y="90"/>
                      </a:lnTo>
                      <a:lnTo>
                        <a:pt x="200" y="83"/>
                      </a:lnTo>
                      <a:lnTo>
                        <a:pt x="200" y="83"/>
                      </a:lnTo>
                      <a:lnTo>
                        <a:pt x="200" y="83"/>
                      </a:lnTo>
                      <a:lnTo>
                        <a:pt x="200" y="83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69"/>
                      </a:lnTo>
                      <a:lnTo>
                        <a:pt x="206" y="69"/>
                      </a:lnTo>
                      <a:lnTo>
                        <a:pt x="200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2"/>
                      </a:lnTo>
                      <a:lnTo>
                        <a:pt x="193" y="42"/>
                      </a:lnTo>
                      <a:lnTo>
                        <a:pt x="193" y="42"/>
                      </a:lnTo>
                      <a:lnTo>
                        <a:pt x="193" y="42"/>
                      </a:lnTo>
                      <a:lnTo>
                        <a:pt x="193" y="42"/>
                      </a:lnTo>
                      <a:lnTo>
                        <a:pt x="193" y="35"/>
                      </a:lnTo>
                      <a:lnTo>
                        <a:pt x="193" y="35"/>
                      </a:lnTo>
                      <a:lnTo>
                        <a:pt x="193" y="35"/>
                      </a:lnTo>
                      <a:lnTo>
                        <a:pt x="193" y="35"/>
                      </a:lnTo>
                      <a:lnTo>
                        <a:pt x="193" y="35"/>
                      </a:lnTo>
                      <a:lnTo>
                        <a:pt x="200" y="35"/>
                      </a:lnTo>
                      <a:lnTo>
                        <a:pt x="200" y="28"/>
                      </a:lnTo>
                      <a:lnTo>
                        <a:pt x="200" y="28"/>
                      </a:lnTo>
                      <a:lnTo>
                        <a:pt x="200" y="28"/>
                      </a:lnTo>
                      <a:lnTo>
                        <a:pt x="200" y="28"/>
                      </a:lnTo>
                      <a:lnTo>
                        <a:pt x="200" y="28"/>
                      </a:lnTo>
                      <a:lnTo>
                        <a:pt x="200" y="21"/>
                      </a:lnTo>
                      <a:lnTo>
                        <a:pt x="200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86" y="14"/>
                      </a:lnTo>
                      <a:lnTo>
                        <a:pt x="186" y="14"/>
                      </a:lnTo>
                      <a:lnTo>
                        <a:pt x="186" y="14"/>
                      </a:lnTo>
                      <a:lnTo>
                        <a:pt x="186" y="14"/>
                      </a:lnTo>
                      <a:lnTo>
                        <a:pt x="186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65" y="7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58" y="14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2" y="7"/>
                      </a:lnTo>
                      <a:lnTo>
                        <a:pt x="152" y="7"/>
                      </a:lnTo>
                      <a:lnTo>
                        <a:pt x="145" y="7"/>
                      </a:lnTo>
                      <a:lnTo>
                        <a:pt x="145" y="7"/>
                      </a:lnTo>
                      <a:lnTo>
                        <a:pt x="145" y="7"/>
                      </a:lnTo>
                      <a:lnTo>
                        <a:pt x="145" y="7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21"/>
                      </a:lnTo>
                      <a:lnTo>
                        <a:pt x="145" y="21"/>
                      </a:lnTo>
                      <a:lnTo>
                        <a:pt x="138" y="21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1" y="14"/>
                      </a:lnTo>
                      <a:lnTo>
                        <a:pt x="131" y="21"/>
                      </a:lnTo>
                      <a:lnTo>
                        <a:pt x="131" y="21"/>
                      </a:lnTo>
                      <a:lnTo>
                        <a:pt x="131" y="21"/>
                      </a:lnTo>
                      <a:lnTo>
                        <a:pt x="131" y="21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0" y="14"/>
                      </a:lnTo>
                      <a:lnTo>
                        <a:pt x="110" y="14"/>
                      </a:lnTo>
                      <a:lnTo>
                        <a:pt x="110" y="14"/>
                      </a:lnTo>
                      <a:lnTo>
                        <a:pt x="110" y="14"/>
                      </a:lnTo>
                      <a:lnTo>
                        <a:pt x="117" y="21"/>
                      </a:lnTo>
                      <a:lnTo>
                        <a:pt x="117" y="21"/>
                      </a:lnTo>
                      <a:lnTo>
                        <a:pt x="117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97" y="21"/>
                      </a:lnTo>
                      <a:lnTo>
                        <a:pt x="97" y="21"/>
                      </a:lnTo>
                      <a:lnTo>
                        <a:pt x="97" y="21"/>
                      </a:lnTo>
                      <a:lnTo>
                        <a:pt x="90" y="21"/>
                      </a:lnTo>
                      <a:lnTo>
                        <a:pt x="90" y="21"/>
                      </a:lnTo>
                      <a:lnTo>
                        <a:pt x="90" y="21"/>
                      </a:lnTo>
                      <a:lnTo>
                        <a:pt x="90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69" y="21"/>
                      </a:lnTo>
                      <a:lnTo>
                        <a:pt x="69" y="21"/>
                      </a:lnTo>
                      <a:lnTo>
                        <a:pt x="62" y="21"/>
                      </a:lnTo>
                      <a:lnTo>
                        <a:pt x="62" y="21"/>
                      </a:lnTo>
                      <a:lnTo>
                        <a:pt x="62" y="21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55" y="28"/>
                      </a:lnTo>
                      <a:lnTo>
                        <a:pt x="55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42"/>
                      </a:lnTo>
                      <a:lnTo>
                        <a:pt x="62" y="42"/>
                      </a:lnTo>
                      <a:lnTo>
                        <a:pt x="62" y="42"/>
                      </a:lnTo>
                      <a:lnTo>
                        <a:pt x="62" y="49"/>
                      </a:lnTo>
                      <a:lnTo>
                        <a:pt x="55" y="49"/>
                      </a:lnTo>
                      <a:lnTo>
                        <a:pt x="55" y="49"/>
                      </a:lnTo>
                      <a:lnTo>
                        <a:pt x="55" y="42"/>
                      </a:lnTo>
                      <a:lnTo>
                        <a:pt x="55" y="42"/>
                      </a:lnTo>
                      <a:lnTo>
                        <a:pt x="55" y="35"/>
                      </a:lnTo>
                      <a:lnTo>
                        <a:pt x="55" y="28"/>
                      </a:lnTo>
                      <a:lnTo>
                        <a:pt x="55" y="28"/>
                      </a:lnTo>
                      <a:lnTo>
                        <a:pt x="49" y="21"/>
                      </a:lnTo>
                      <a:lnTo>
                        <a:pt x="49" y="21"/>
                      </a:lnTo>
                      <a:lnTo>
                        <a:pt x="49" y="21"/>
                      </a:lnTo>
                      <a:lnTo>
                        <a:pt x="49" y="21"/>
                      </a:lnTo>
                      <a:lnTo>
                        <a:pt x="42" y="21"/>
                      </a:lnTo>
                      <a:lnTo>
                        <a:pt x="42" y="21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35" y="35"/>
                      </a:lnTo>
                      <a:lnTo>
                        <a:pt x="35" y="35"/>
                      </a:lnTo>
                      <a:lnTo>
                        <a:pt x="35" y="35"/>
                      </a:lnTo>
                      <a:lnTo>
                        <a:pt x="35" y="35"/>
                      </a:lnTo>
                      <a:lnTo>
                        <a:pt x="28" y="35"/>
                      </a:lnTo>
                      <a:lnTo>
                        <a:pt x="28" y="35"/>
                      </a:lnTo>
                      <a:lnTo>
                        <a:pt x="28" y="28"/>
                      </a:lnTo>
                      <a:lnTo>
                        <a:pt x="28" y="28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680720" y="4876920"/>
                  <a:ext cx="154800" cy="24480"/>
                </a:xfrm>
                <a:custGeom>
                  <a:avLst/>
                  <a:gdLst/>
                  <a:ahLst/>
                  <a:rect l="l" t="t" r="r" b="b"/>
                  <a:pathLst>
                    <a:path w="123" h="21">
                      <a:moveTo>
                        <a:pt x="123" y="7"/>
                      </a:moveTo>
                      <a:lnTo>
                        <a:pt x="123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0" y="7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658120" y="4689720"/>
                  <a:ext cx="232920" cy="333720"/>
                </a:xfrm>
                <a:custGeom>
                  <a:avLst/>
                  <a:gdLst/>
                  <a:ahLst/>
                  <a:rect l="l" t="t" r="r" b="b"/>
                  <a:pathLst>
                    <a:path w="185" h="284">
                      <a:moveTo>
                        <a:pt x="0" y="242"/>
                      </a:moveTo>
                      <a:lnTo>
                        <a:pt x="0" y="242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7" y="229"/>
                      </a:lnTo>
                      <a:lnTo>
                        <a:pt x="0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2"/>
                      </a:lnTo>
                      <a:lnTo>
                        <a:pt x="0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08"/>
                      </a:lnTo>
                      <a:lnTo>
                        <a:pt x="0" y="208"/>
                      </a:lnTo>
                      <a:lnTo>
                        <a:pt x="0" y="208"/>
                      </a:lnTo>
                      <a:lnTo>
                        <a:pt x="0" y="208"/>
                      </a:lnTo>
                      <a:lnTo>
                        <a:pt x="0" y="208"/>
                      </a:lnTo>
                      <a:lnTo>
                        <a:pt x="0" y="208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13" y="194"/>
                      </a:lnTo>
                      <a:lnTo>
                        <a:pt x="34" y="194"/>
                      </a:lnTo>
                      <a:lnTo>
                        <a:pt x="41" y="194"/>
                      </a:lnTo>
                      <a:lnTo>
                        <a:pt x="41" y="194"/>
                      </a:lnTo>
                      <a:lnTo>
                        <a:pt x="41" y="194"/>
                      </a:lnTo>
                      <a:lnTo>
                        <a:pt x="41" y="187"/>
                      </a:lnTo>
                      <a:lnTo>
                        <a:pt x="41" y="187"/>
                      </a:lnTo>
                      <a:lnTo>
                        <a:pt x="41" y="187"/>
                      </a:lnTo>
                      <a:lnTo>
                        <a:pt x="41" y="187"/>
                      </a:lnTo>
                      <a:lnTo>
                        <a:pt x="41" y="187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8" y="180"/>
                      </a:lnTo>
                      <a:lnTo>
                        <a:pt x="48" y="180"/>
                      </a:lnTo>
                      <a:lnTo>
                        <a:pt x="48" y="180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66"/>
                      </a:lnTo>
                      <a:lnTo>
                        <a:pt x="48" y="173"/>
                      </a:lnTo>
                      <a:lnTo>
                        <a:pt x="48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55" y="159"/>
                      </a:lnTo>
                      <a:lnTo>
                        <a:pt x="62" y="159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62" y="145"/>
                      </a:lnTo>
                      <a:lnTo>
                        <a:pt x="55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1"/>
                      </a:lnTo>
                      <a:lnTo>
                        <a:pt x="68" y="131"/>
                      </a:lnTo>
                      <a:lnTo>
                        <a:pt x="68" y="131"/>
                      </a:lnTo>
                      <a:lnTo>
                        <a:pt x="68" y="131"/>
                      </a:lnTo>
                      <a:lnTo>
                        <a:pt x="68" y="131"/>
                      </a:lnTo>
                      <a:lnTo>
                        <a:pt x="75" y="131"/>
                      </a:lnTo>
                      <a:lnTo>
                        <a:pt x="75" y="131"/>
                      </a:lnTo>
                      <a:lnTo>
                        <a:pt x="75" y="131"/>
                      </a:lnTo>
                      <a:lnTo>
                        <a:pt x="75" y="131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82" y="124"/>
                      </a:lnTo>
                      <a:lnTo>
                        <a:pt x="75" y="124"/>
                      </a:lnTo>
                      <a:lnTo>
                        <a:pt x="82" y="124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75" y="118"/>
                      </a:lnTo>
                      <a:lnTo>
                        <a:pt x="82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04"/>
                      </a:lnTo>
                      <a:lnTo>
                        <a:pt x="75" y="104"/>
                      </a:lnTo>
                      <a:lnTo>
                        <a:pt x="82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68" y="97"/>
                      </a:lnTo>
                      <a:lnTo>
                        <a:pt x="75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83"/>
                      </a:lnTo>
                      <a:lnTo>
                        <a:pt x="68" y="83"/>
                      </a:lnTo>
                      <a:lnTo>
                        <a:pt x="68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83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8" y="76"/>
                      </a:lnTo>
                      <a:lnTo>
                        <a:pt x="68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2" y="69"/>
                      </a:lnTo>
                      <a:lnTo>
                        <a:pt x="75" y="69"/>
                      </a:lnTo>
                      <a:lnTo>
                        <a:pt x="75" y="69"/>
                      </a:lnTo>
                      <a:lnTo>
                        <a:pt x="75" y="62"/>
                      </a:lnTo>
                      <a:lnTo>
                        <a:pt x="75" y="62"/>
                      </a:lnTo>
                      <a:lnTo>
                        <a:pt x="75" y="62"/>
                      </a:lnTo>
                      <a:lnTo>
                        <a:pt x="75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55"/>
                      </a:lnTo>
                      <a:lnTo>
                        <a:pt x="68" y="55"/>
                      </a:lnTo>
                      <a:lnTo>
                        <a:pt x="68" y="55"/>
                      </a:lnTo>
                      <a:lnTo>
                        <a:pt x="68" y="55"/>
                      </a:lnTo>
                      <a:lnTo>
                        <a:pt x="68" y="55"/>
                      </a:lnTo>
                      <a:lnTo>
                        <a:pt x="68" y="48"/>
                      </a:lnTo>
                      <a:lnTo>
                        <a:pt x="68" y="48"/>
                      </a:lnTo>
                      <a:lnTo>
                        <a:pt x="68" y="41"/>
                      </a:lnTo>
                      <a:lnTo>
                        <a:pt x="68" y="41"/>
                      </a:lnTo>
                      <a:lnTo>
                        <a:pt x="62" y="41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34"/>
                      </a:lnTo>
                      <a:lnTo>
                        <a:pt x="62" y="34"/>
                      </a:lnTo>
                      <a:lnTo>
                        <a:pt x="62" y="34"/>
                      </a:lnTo>
                      <a:lnTo>
                        <a:pt x="62" y="34"/>
                      </a:lnTo>
                      <a:lnTo>
                        <a:pt x="62" y="34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0"/>
                      </a:lnTo>
                      <a:lnTo>
                        <a:pt x="62" y="20"/>
                      </a:lnTo>
                      <a:lnTo>
                        <a:pt x="62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14"/>
                      </a:lnTo>
                      <a:lnTo>
                        <a:pt x="75" y="20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20"/>
                      </a:lnTo>
                      <a:lnTo>
                        <a:pt x="82" y="20"/>
                      </a:lnTo>
                      <a:lnTo>
                        <a:pt x="89" y="20"/>
                      </a:lnTo>
                      <a:lnTo>
                        <a:pt x="89" y="20"/>
                      </a:lnTo>
                      <a:lnTo>
                        <a:pt x="89" y="20"/>
                      </a:lnTo>
                      <a:lnTo>
                        <a:pt x="89" y="20"/>
                      </a:lnTo>
                      <a:lnTo>
                        <a:pt x="89" y="20"/>
                      </a:lnTo>
                      <a:lnTo>
                        <a:pt x="89" y="14"/>
                      </a:lnTo>
                      <a:lnTo>
                        <a:pt x="82" y="7"/>
                      </a:lnTo>
                      <a:lnTo>
                        <a:pt x="82" y="0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7"/>
                      </a:lnTo>
                      <a:lnTo>
                        <a:pt x="89" y="0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0"/>
                      </a:lnTo>
                      <a:lnTo>
                        <a:pt x="103" y="0"/>
                      </a:lnTo>
                      <a:lnTo>
                        <a:pt x="103" y="0"/>
                      </a:lnTo>
                      <a:lnTo>
                        <a:pt x="103" y="0"/>
                      </a:lnTo>
                      <a:lnTo>
                        <a:pt x="103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51" y="14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85" y="34"/>
                      </a:lnTo>
                      <a:lnTo>
                        <a:pt x="185" y="34"/>
                      </a:lnTo>
                      <a:lnTo>
                        <a:pt x="185" y="34"/>
                      </a:lnTo>
                      <a:lnTo>
                        <a:pt x="185" y="34"/>
                      </a:lnTo>
                      <a:lnTo>
                        <a:pt x="185" y="41"/>
                      </a:lnTo>
                      <a:lnTo>
                        <a:pt x="185" y="41"/>
                      </a:lnTo>
                      <a:lnTo>
                        <a:pt x="178" y="48"/>
                      </a:lnTo>
                      <a:lnTo>
                        <a:pt x="178" y="48"/>
                      </a:lnTo>
                      <a:lnTo>
                        <a:pt x="178" y="55"/>
                      </a:lnTo>
                      <a:lnTo>
                        <a:pt x="178" y="55"/>
                      </a:lnTo>
                      <a:lnTo>
                        <a:pt x="178" y="55"/>
                      </a:lnTo>
                      <a:lnTo>
                        <a:pt x="178" y="55"/>
                      </a:lnTo>
                      <a:lnTo>
                        <a:pt x="178" y="62"/>
                      </a:lnTo>
                      <a:lnTo>
                        <a:pt x="178" y="62"/>
                      </a:lnTo>
                      <a:lnTo>
                        <a:pt x="178" y="69"/>
                      </a:lnTo>
                      <a:lnTo>
                        <a:pt x="178" y="76"/>
                      </a:lnTo>
                      <a:lnTo>
                        <a:pt x="178" y="83"/>
                      </a:lnTo>
                      <a:lnTo>
                        <a:pt x="178" y="97"/>
                      </a:lnTo>
                      <a:lnTo>
                        <a:pt x="185" y="104"/>
                      </a:lnTo>
                      <a:lnTo>
                        <a:pt x="185" y="111"/>
                      </a:lnTo>
                      <a:lnTo>
                        <a:pt x="185" y="118"/>
                      </a:lnTo>
                      <a:lnTo>
                        <a:pt x="185" y="124"/>
                      </a:lnTo>
                      <a:lnTo>
                        <a:pt x="178" y="131"/>
                      </a:lnTo>
                      <a:lnTo>
                        <a:pt x="178" y="138"/>
                      </a:lnTo>
                      <a:lnTo>
                        <a:pt x="171" y="145"/>
                      </a:lnTo>
                      <a:lnTo>
                        <a:pt x="171" y="145"/>
                      </a:lnTo>
                      <a:lnTo>
                        <a:pt x="171" y="145"/>
                      </a:lnTo>
                      <a:lnTo>
                        <a:pt x="171" y="145"/>
                      </a:lnTo>
                      <a:lnTo>
                        <a:pt x="164" y="145"/>
                      </a:lnTo>
                      <a:lnTo>
                        <a:pt x="164" y="145"/>
                      </a:lnTo>
                      <a:lnTo>
                        <a:pt x="164" y="152"/>
                      </a:lnTo>
                      <a:lnTo>
                        <a:pt x="158" y="152"/>
                      </a:lnTo>
                      <a:lnTo>
                        <a:pt x="158" y="159"/>
                      </a:lnTo>
                      <a:lnTo>
                        <a:pt x="151" y="159"/>
                      </a:lnTo>
                      <a:lnTo>
                        <a:pt x="151" y="159"/>
                      </a:lnTo>
                      <a:lnTo>
                        <a:pt x="151" y="159"/>
                      </a:lnTo>
                      <a:lnTo>
                        <a:pt x="151" y="159"/>
                      </a:lnTo>
                      <a:lnTo>
                        <a:pt x="151" y="166"/>
                      </a:lnTo>
                      <a:lnTo>
                        <a:pt x="151" y="166"/>
                      </a:lnTo>
                      <a:lnTo>
                        <a:pt x="151" y="166"/>
                      </a:lnTo>
                      <a:lnTo>
                        <a:pt x="151" y="166"/>
                      </a:lnTo>
                      <a:lnTo>
                        <a:pt x="151" y="166"/>
                      </a:lnTo>
                      <a:lnTo>
                        <a:pt x="144" y="166"/>
                      </a:lnTo>
                      <a:lnTo>
                        <a:pt x="144" y="166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80"/>
                      </a:lnTo>
                      <a:lnTo>
                        <a:pt x="144" y="180"/>
                      </a:lnTo>
                      <a:lnTo>
                        <a:pt x="144" y="180"/>
                      </a:lnTo>
                      <a:lnTo>
                        <a:pt x="144" y="180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94"/>
                      </a:lnTo>
                      <a:lnTo>
                        <a:pt x="144" y="194"/>
                      </a:lnTo>
                      <a:lnTo>
                        <a:pt x="144" y="194"/>
                      </a:lnTo>
                      <a:lnTo>
                        <a:pt x="137" y="194"/>
                      </a:lnTo>
                      <a:lnTo>
                        <a:pt x="137" y="194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194"/>
                      </a:lnTo>
                      <a:lnTo>
                        <a:pt x="137" y="194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7" y="201"/>
                      </a:lnTo>
                      <a:lnTo>
                        <a:pt x="130" y="201"/>
                      </a:lnTo>
                      <a:lnTo>
                        <a:pt x="130" y="208"/>
                      </a:lnTo>
                      <a:lnTo>
                        <a:pt x="130" y="208"/>
                      </a:lnTo>
                      <a:lnTo>
                        <a:pt x="130" y="208"/>
                      </a:lnTo>
                      <a:lnTo>
                        <a:pt x="130" y="208"/>
                      </a:lnTo>
                      <a:lnTo>
                        <a:pt x="130" y="215"/>
                      </a:lnTo>
                      <a:lnTo>
                        <a:pt x="123" y="215"/>
                      </a:lnTo>
                      <a:lnTo>
                        <a:pt x="123" y="222"/>
                      </a:lnTo>
                      <a:lnTo>
                        <a:pt x="123" y="222"/>
                      </a:lnTo>
                      <a:lnTo>
                        <a:pt x="123" y="222"/>
                      </a:lnTo>
                      <a:lnTo>
                        <a:pt x="123" y="222"/>
                      </a:lnTo>
                      <a:lnTo>
                        <a:pt x="123" y="229"/>
                      </a:lnTo>
                      <a:lnTo>
                        <a:pt x="123" y="229"/>
                      </a:lnTo>
                      <a:lnTo>
                        <a:pt x="123" y="229"/>
                      </a:lnTo>
                      <a:lnTo>
                        <a:pt x="123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0" y="229"/>
                      </a:lnTo>
                      <a:lnTo>
                        <a:pt x="110" y="229"/>
                      </a:lnTo>
                      <a:lnTo>
                        <a:pt x="110" y="229"/>
                      </a:lnTo>
                      <a:lnTo>
                        <a:pt x="110" y="229"/>
                      </a:lnTo>
                      <a:lnTo>
                        <a:pt x="110" y="235"/>
                      </a:lnTo>
                      <a:lnTo>
                        <a:pt x="110" y="235"/>
                      </a:lnTo>
                      <a:lnTo>
                        <a:pt x="116" y="235"/>
                      </a:lnTo>
                      <a:lnTo>
                        <a:pt x="110" y="235"/>
                      </a:lnTo>
                      <a:lnTo>
                        <a:pt x="110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35"/>
                      </a:lnTo>
                      <a:lnTo>
                        <a:pt x="110" y="235"/>
                      </a:lnTo>
                      <a:lnTo>
                        <a:pt x="110" y="235"/>
                      </a:lnTo>
                      <a:lnTo>
                        <a:pt x="110" y="235"/>
                      </a:lnTo>
                      <a:lnTo>
                        <a:pt x="110" y="242"/>
                      </a:lnTo>
                      <a:lnTo>
                        <a:pt x="110" y="242"/>
                      </a:lnTo>
                      <a:lnTo>
                        <a:pt x="110" y="242"/>
                      </a:lnTo>
                      <a:lnTo>
                        <a:pt x="110" y="242"/>
                      </a:lnTo>
                      <a:lnTo>
                        <a:pt x="110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9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96" y="242"/>
                      </a:lnTo>
                      <a:lnTo>
                        <a:pt x="96" y="242"/>
                      </a:lnTo>
                      <a:lnTo>
                        <a:pt x="96" y="249"/>
                      </a:lnTo>
                      <a:lnTo>
                        <a:pt x="96" y="242"/>
                      </a:lnTo>
                      <a:lnTo>
                        <a:pt x="96" y="242"/>
                      </a:lnTo>
                      <a:lnTo>
                        <a:pt x="96" y="249"/>
                      </a:lnTo>
                      <a:lnTo>
                        <a:pt x="96" y="242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89" y="249"/>
                      </a:lnTo>
                      <a:lnTo>
                        <a:pt x="89" y="249"/>
                      </a:lnTo>
                      <a:lnTo>
                        <a:pt x="89" y="249"/>
                      </a:lnTo>
                      <a:lnTo>
                        <a:pt x="89" y="256"/>
                      </a:lnTo>
                      <a:lnTo>
                        <a:pt x="89" y="256"/>
                      </a:lnTo>
                      <a:lnTo>
                        <a:pt x="89" y="256"/>
                      </a:lnTo>
                      <a:lnTo>
                        <a:pt x="89" y="263"/>
                      </a:lnTo>
                      <a:lnTo>
                        <a:pt x="89" y="263"/>
                      </a:lnTo>
                      <a:lnTo>
                        <a:pt x="89" y="263"/>
                      </a:lnTo>
                      <a:lnTo>
                        <a:pt x="89" y="263"/>
                      </a:lnTo>
                      <a:lnTo>
                        <a:pt x="89" y="263"/>
                      </a:lnTo>
                      <a:lnTo>
                        <a:pt x="82" y="270"/>
                      </a:lnTo>
                      <a:lnTo>
                        <a:pt x="82" y="270"/>
                      </a:lnTo>
                      <a:lnTo>
                        <a:pt x="82" y="270"/>
                      </a:lnTo>
                      <a:lnTo>
                        <a:pt x="82" y="270"/>
                      </a:lnTo>
                      <a:lnTo>
                        <a:pt x="82" y="277"/>
                      </a:lnTo>
                      <a:lnTo>
                        <a:pt x="75" y="277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68" y="284"/>
                      </a:lnTo>
                      <a:lnTo>
                        <a:pt x="68" y="277"/>
                      </a:lnTo>
                      <a:lnTo>
                        <a:pt x="68" y="284"/>
                      </a:lnTo>
                      <a:lnTo>
                        <a:pt x="68" y="277"/>
                      </a:lnTo>
                      <a:lnTo>
                        <a:pt x="68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84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7" y="256"/>
                      </a:lnTo>
                      <a:lnTo>
                        <a:pt x="13" y="256"/>
                      </a:lnTo>
                      <a:lnTo>
                        <a:pt x="13" y="249"/>
                      </a:lnTo>
                      <a:lnTo>
                        <a:pt x="13" y="249"/>
                      </a:lnTo>
                      <a:lnTo>
                        <a:pt x="13" y="249"/>
                      </a:lnTo>
                      <a:lnTo>
                        <a:pt x="13" y="249"/>
                      </a:lnTo>
                      <a:lnTo>
                        <a:pt x="13" y="249"/>
                      </a:lnTo>
                      <a:lnTo>
                        <a:pt x="7" y="249"/>
                      </a:lnTo>
                      <a:lnTo>
                        <a:pt x="7" y="249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0" y="242"/>
                      </a:lnTo>
                      <a:lnTo>
                        <a:pt x="7" y="242"/>
                      </a:lnTo>
                      <a:lnTo>
                        <a:pt x="0" y="242"/>
                      </a:lnTo>
                      <a:lnTo>
                        <a:pt x="0" y="242"/>
                      </a:lnTo>
                      <a:lnTo>
                        <a:pt x="0" y="242"/>
                      </a:lnTo>
                      <a:lnTo>
                        <a:pt x="0" y="242"/>
                      </a:lnTo>
                      <a:close/>
                      <a:moveTo>
                        <a:pt x="123" y="229"/>
                      </a:moveTo>
                      <a:lnTo>
                        <a:pt x="123" y="229"/>
                      </a:lnTo>
                      <a:lnTo>
                        <a:pt x="123" y="229"/>
                      </a:lnTo>
                      <a:close/>
                      <a:moveTo>
                        <a:pt x="130" y="208"/>
                      </a:moveTo>
                      <a:lnTo>
                        <a:pt x="130" y="208"/>
                      </a:lnTo>
                      <a:lnTo>
                        <a:pt x="130" y="208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338080" y="4974480"/>
                  <a:ext cx="414360" cy="252720"/>
                </a:xfrm>
                <a:custGeom>
                  <a:avLst/>
                  <a:gdLst/>
                  <a:ahLst/>
                  <a:rect l="l" t="t" r="r" b="b"/>
                  <a:pathLst>
                    <a:path w="329" h="215">
                      <a:moveTo>
                        <a:pt x="0" y="202"/>
                      </a:move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1"/>
                      </a:lnTo>
                      <a:lnTo>
                        <a:pt x="7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74"/>
                      </a:lnTo>
                      <a:lnTo>
                        <a:pt x="20" y="181"/>
                      </a:lnTo>
                      <a:lnTo>
                        <a:pt x="27" y="174"/>
                      </a:lnTo>
                      <a:lnTo>
                        <a:pt x="27" y="181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61" y="160"/>
                      </a:lnTo>
                      <a:lnTo>
                        <a:pt x="61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25"/>
                      </a:lnTo>
                      <a:lnTo>
                        <a:pt x="20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04"/>
                      </a:lnTo>
                      <a:lnTo>
                        <a:pt x="96" y="111"/>
                      </a:lnTo>
                      <a:lnTo>
                        <a:pt x="96" y="104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04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6" y="111"/>
                      </a:lnTo>
                      <a:lnTo>
                        <a:pt x="116" y="104"/>
                      </a:lnTo>
                      <a:lnTo>
                        <a:pt x="116" y="104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64" y="104"/>
                      </a:lnTo>
                      <a:lnTo>
                        <a:pt x="164" y="104"/>
                      </a:lnTo>
                      <a:lnTo>
                        <a:pt x="164" y="98"/>
                      </a:lnTo>
                      <a:lnTo>
                        <a:pt x="164" y="98"/>
                      </a:lnTo>
                      <a:lnTo>
                        <a:pt x="171" y="98"/>
                      </a:lnTo>
                      <a:lnTo>
                        <a:pt x="178" y="98"/>
                      </a:lnTo>
                      <a:lnTo>
                        <a:pt x="178" y="98"/>
                      </a:lnTo>
                      <a:lnTo>
                        <a:pt x="178" y="98"/>
                      </a:lnTo>
                      <a:lnTo>
                        <a:pt x="178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9" y="84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0"/>
                      </a:lnTo>
                      <a:lnTo>
                        <a:pt x="219" y="77"/>
                      </a:lnTo>
                      <a:lnTo>
                        <a:pt x="213" y="70"/>
                      </a:lnTo>
                      <a:lnTo>
                        <a:pt x="213" y="77"/>
                      </a:lnTo>
                      <a:lnTo>
                        <a:pt x="213" y="70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33" y="28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26" y="14"/>
                      </a:lnTo>
                      <a:lnTo>
                        <a:pt x="226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61" y="0"/>
                      </a:lnTo>
                      <a:lnTo>
                        <a:pt x="254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14"/>
                      </a:lnTo>
                      <a:lnTo>
                        <a:pt x="261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81" y="28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42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22" y="35"/>
                      </a:lnTo>
                      <a:lnTo>
                        <a:pt x="322" y="35"/>
                      </a:lnTo>
                      <a:lnTo>
                        <a:pt x="322" y="42"/>
                      </a:lnTo>
                      <a:lnTo>
                        <a:pt x="322" y="35"/>
                      </a:lnTo>
                      <a:lnTo>
                        <a:pt x="322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7"/>
                      </a:lnTo>
                      <a:lnTo>
                        <a:pt x="322" y="77"/>
                      </a:lnTo>
                      <a:lnTo>
                        <a:pt x="322" y="84"/>
                      </a:lnTo>
                      <a:lnTo>
                        <a:pt x="329" y="98"/>
                      </a:lnTo>
                      <a:lnTo>
                        <a:pt x="329" y="98"/>
                      </a:lnTo>
                      <a:lnTo>
                        <a:pt x="329" y="98"/>
                      </a:lnTo>
                      <a:lnTo>
                        <a:pt x="329" y="104"/>
                      </a:lnTo>
                      <a:lnTo>
                        <a:pt x="329" y="104"/>
                      </a:lnTo>
                      <a:lnTo>
                        <a:pt x="322" y="104"/>
                      </a:lnTo>
                      <a:lnTo>
                        <a:pt x="322" y="104"/>
                      </a:lnTo>
                      <a:lnTo>
                        <a:pt x="322" y="104"/>
                      </a:lnTo>
                      <a:lnTo>
                        <a:pt x="316" y="111"/>
                      </a:lnTo>
                      <a:lnTo>
                        <a:pt x="316" y="111"/>
                      </a:lnTo>
                      <a:lnTo>
                        <a:pt x="309" y="111"/>
                      </a:lnTo>
                      <a:lnTo>
                        <a:pt x="309" y="111"/>
                      </a:lnTo>
                      <a:lnTo>
                        <a:pt x="302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1" y="118"/>
                      </a:lnTo>
                      <a:lnTo>
                        <a:pt x="281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67" y="125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60"/>
                      </a:lnTo>
                      <a:lnTo>
                        <a:pt x="240" y="160"/>
                      </a:lnTo>
                      <a:lnTo>
                        <a:pt x="240" y="160"/>
                      </a:lnTo>
                      <a:lnTo>
                        <a:pt x="247" y="160"/>
                      </a:lnTo>
                      <a:lnTo>
                        <a:pt x="247" y="160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7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81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1"/>
                      </a:lnTo>
                      <a:lnTo>
                        <a:pt x="233" y="181"/>
                      </a:lnTo>
                      <a:lnTo>
                        <a:pt x="219" y="181"/>
                      </a:lnTo>
                      <a:lnTo>
                        <a:pt x="213" y="181"/>
                      </a:lnTo>
                      <a:lnTo>
                        <a:pt x="206" y="181"/>
                      </a:lnTo>
                      <a:lnTo>
                        <a:pt x="199" y="181"/>
                      </a:lnTo>
                      <a:lnTo>
                        <a:pt x="199" y="181"/>
                      </a:lnTo>
                      <a:lnTo>
                        <a:pt x="199" y="181"/>
                      </a:lnTo>
                      <a:lnTo>
                        <a:pt x="192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78" y="181"/>
                      </a:lnTo>
                      <a:lnTo>
                        <a:pt x="171" y="181"/>
                      </a:lnTo>
                      <a:lnTo>
                        <a:pt x="171" y="181"/>
                      </a:lnTo>
                      <a:lnTo>
                        <a:pt x="164" y="181"/>
                      </a:lnTo>
                      <a:lnTo>
                        <a:pt x="158" y="181"/>
                      </a:lnTo>
                      <a:lnTo>
                        <a:pt x="158" y="181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1" y="188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74"/>
                      </a:lnTo>
                      <a:lnTo>
                        <a:pt x="144" y="174"/>
                      </a:lnTo>
                      <a:lnTo>
                        <a:pt x="144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8" y="167"/>
                      </a:lnTo>
                      <a:lnTo>
                        <a:pt x="158" y="167"/>
                      </a:lnTo>
                      <a:lnTo>
                        <a:pt x="158" y="167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37" y="160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0" y="167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37" y="188"/>
                      </a:lnTo>
                      <a:lnTo>
                        <a:pt x="137" y="188"/>
                      </a:lnTo>
                      <a:lnTo>
                        <a:pt x="137" y="188"/>
                      </a:lnTo>
                      <a:lnTo>
                        <a:pt x="130" y="188"/>
                      </a:lnTo>
                      <a:lnTo>
                        <a:pt x="137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23" y="181"/>
                      </a:lnTo>
                      <a:lnTo>
                        <a:pt x="123" y="181"/>
                      </a:lnTo>
                      <a:lnTo>
                        <a:pt x="123" y="188"/>
                      </a:lnTo>
                      <a:lnTo>
                        <a:pt x="123" y="181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03" y="195"/>
                      </a:lnTo>
                      <a:lnTo>
                        <a:pt x="89" y="195"/>
                      </a:lnTo>
                      <a:lnTo>
                        <a:pt x="82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88"/>
                      </a:lnTo>
                      <a:lnTo>
                        <a:pt x="75" y="188"/>
                      </a:lnTo>
                      <a:lnTo>
                        <a:pt x="75" y="188"/>
                      </a:lnTo>
                      <a:lnTo>
                        <a:pt x="75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9" y="195"/>
                      </a:lnTo>
                      <a:lnTo>
                        <a:pt x="89" y="195"/>
                      </a:lnTo>
                      <a:lnTo>
                        <a:pt x="96" y="195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2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8"/>
                      </a:lnTo>
                      <a:lnTo>
                        <a:pt x="68" y="188"/>
                      </a:lnTo>
                      <a:lnTo>
                        <a:pt x="68" y="188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95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95"/>
                      </a:lnTo>
                      <a:lnTo>
                        <a:pt x="55" y="195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1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34" y="181"/>
                      </a:lnTo>
                      <a:lnTo>
                        <a:pt x="34" y="181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41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95"/>
                      </a:lnTo>
                      <a:lnTo>
                        <a:pt x="20" y="195"/>
                      </a:lnTo>
                      <a:lnTo>
                        <a:pt x="20" y="195"/>
                      </a:lnTo>
                      <a:lnTo>
                        <a:pt x="20" y="188"/>
                      </a:lnTo>
                      <a:lnTo>
                        <a:pt x="20" y="188"/>
                      </a:lnTo>
                      <a:lnTo>
                        <a:pt x="20" y="188"/>
                      </a:lnTo>
                      <a:lnTo>
                        <a:pt x="20" y="188"/>
                      </a:lnTo>
                      <a:lnTo>
                        <a:pt x="20" y="188"/>
                      </a:lnTo>
                      <a:lnTo>
                        <a:pt x="20" y="195"/>
                      </a:lnTo>
                      <a:lnTo>
                        <a:pt x="20" y="188"/>
                      </a:lnTo>
                      <a:lnTo>
                        <a:pt x="20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2"/>
                      </a:lnTo>
                      <a:lnTo>
                        <a:pt x="20" y="209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15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0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34" y="215"/>
                      </a:lnTo>
                      <a:lnTo>
                        <a:pt x="27" y="215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09"/>
                      </a:lnTo>
                      <a:lnTo>
                        <a:pt x="7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2"/>
                      </a:lnTo>
                      <a:lnTo>
                        <a:pt x="0" y="202"/>
                      </a:lnTo>
                      <a:close/>
                      <a:moveTo>
                        <a:pt x="27" y="215"/>
                      </a:moveTo>
                      <a:lnTo>
                        <a:pt x="27" y="215"/>
                      </a:lnTo>
                      <a:lnTo>
                        <a:pt x="27" y="215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338080" y="4974480"/>
                  <a:ext cx="414360" cy="237600"/>
                </a:xfrm>
                <a:custGeom>
                  <a:avLst/>
                  <a:gdLst/>
                  <a:ahLst/>
                  <a:rect l="l" t="t" r="r" b="b"/>
                  <a:pathLst>
                    <a:path w="329" h="202">
                      <a:moveTo>
                        <a:pt x="0" y="202"/>
                      </a:move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1"/>
                      </a:lnTo>
                      <a:lnTo>
                        <a:pt x="7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74"/>
                      </a:lnTo>
                      <a:lnTo>
                        <a:pt x="20" y="181"/>
                      </a:lnTo>
                      <a:lnTo>
                        <a:pt x="27" y="174"/>
                      </a:lnTo>
                      <a:lnTo>
                        <a:pt x="27" y="181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61" y="160"/>
                      </a:lnTo>
                      <a:lnTo>
                        <a:pt x="61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25"/>
                      </a:lnTo>
                      <a:lnTo>
                        <a:pt x="20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04"/>
                      </a:lnTo>
                      <a:lnTo>
                        <a:pt x="96" y="111"/>
                      </a:lnTo>
                      <a:lnTo>
                        <a:pt x="96" y="104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04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6" y="111"/>
                      </a:lnTo>
                      <a:lnTo>
                        <a:pt x="116" y="104"/>
                      </a:lnTo>
                      <a:lnTo>
                        <a:pt x="116" y="104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64" y="104"/>
                      </a:lnTo>
                      <a:lnTo>
                        <a:pt x="164" y="104"/>
                      </a:lnTo>
                      <a:lnTo>
                        <a:pt x="164" y="98"/>
                      </a:lnTo>
                      <a:lnTo>
                        <a:pt x="164" y="98"/>
                      </a:lnTo>
                      <a:lnTo>
                        <a:pt x="171" y="98"/>
                      </a:lnTo>
                      <a:lnTo>
                        <a:pt x="178" y="98"/>
                      </a:lnTo>
                      <a:lnTo>
                        <a:pt x="178" y="98"/>
                      </a:lnTo>
                      <a:lnTo>
                        <a:pt x="178" y="98"/>
                      </a:lnTo>
                      <a:lnTo>
                        <a:pt x="178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9" y="84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0"/>
                      </a:lnTo>
                      <a:lnTo>
                        <a:pt x="219" y="77"/>
                      </a:lnTo>
                      <a:lnTo>
                        <a:pt x="213" y="70"/>
                      </a:lnTo>
                      <a:lnTo>
                        <a:pt x="213" y="77"/>
                      </a:lnTo>
                      <a:lnTo>
                        <a:pt x="213" y="70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33" y="28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26" y="14"/>
                      </a:lnTo>
                      <a:lnTo>
                        <a:pt x="226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61" y="0"/>
                      </a:lnTo>
                      <a:lnTo>
                        <a:pt x="254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14"/>
                      </a:lnTo>
                      <a:lnTo>
                        <a:pt x="261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81" y="28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42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22" y="35"/>
                      </a:lnTo>
                      <a:lnTo>
                        <a:pt x="322" y="35"/>
                      </a:lnTo>
                      <a:lnTo>
                        <a:pt x="322" y="42"/>
                      </a:lnTo>
                      <a:lnTo>
                        <a:pt x="322" y="35"/>
                      </a:lnTo>
                      <a:lnTo>
                        <a:pt x="322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7"/>
                      </a:lnTo>
                      <a:lnTo>
                        <a:pt x="322" y="77"/>
                      </a:lnTo>
                      <a:lnTo>
                        <a:pt x="322" y="84"/>
                      </a:lnTo>
                      <a:lnTo>
                        <a:pt x="329" y="98"/>
                      </a:lnTo>
                      <a:lnTo>
                        <a:pt x="329" y="98"/>
                      </a:lnTo>
                      <a:lnTo>
                        <a:pt x="329" y="98"/>
                      </a:lnTo>
                      <a:lnTo>
                        <a:pt x="329" y="104"/>
                      </a:lnTo>
                      <a:lnTo>
                        <a:pt x="329" y="104"/>
                      </a:lnTo>
                      <a:lnTo>
                        <a:pt x="322" y="104"/>
                      </a:lnTo>
                      <a:lnTo>
                        <a:pt x="322" y="104"/>
                      </a:lnTo>
                      <a:lnTo>
                        <a:pt x="322" y="104"/>
                      </a:lnTo>
                      <a:lnTo>
                        <a:pt x="316" y="111"/>
                      </a:lnTo>
                      <a:lnTo>
                        <a:pt x="316" y="111"/>
                      </a:lnTo>
                      <a:lnTo>
                        <a:pt x="309" y="111"/>
                      </a:lnTo>
                      <a:lnTo>
                        <a:pt x="309" y="111"/>
                      </a:lnTo>
                      <a:lnTo>
                        <a:pt x="302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1" y="118"/>
                      </a:lnTo>
                      <a:lnTo>
                        <a:pt x="281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67" y="125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60"/>
                      </a:lnTo>
                      <a:lnTo>
                        <a:pt x="240" y="160"/>
                      </a:lnTo>
                      <a:lnTo>
                        <a:pt x="240" y="160"/>
                      </a:lnTo>
                      <a:lnTo>
                        <a:pt x="247" y="160"/>
                      </a:lnTo>
                      <a:lnTo>
                        <a:pt x="247" y="160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7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81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1"/>
                      </a:lnTo>
                      <a:lnTo>
                        <a:pt x="233" y="181"/>
                      </a:lnTo>
                      <a:lnTo>
                        <a:pt x="219" y="181"/>
                      </a:lnTo>
                      <a:lnTo>
                        <a:pt x="213" y="181"/>
                      </a:lnTo>
                      <a:lnTo>
                        <a:pt x="206" y="181"/>
                      </a:lnTo>
                      <a:lnTo>
                        <a:pt x="199" y="181"/>
                      </a:lnTo>
                      <a:lnTo>
                        <a:pt x="199" y="181"/>
                      </a:lnTo>
                      <a:lnTo>
                        <a:pt x="199" y="181"/>
                      </a:lnTo>
                      <a:lnTo>
                        <a:pt x="192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78" y="181"/>
                      </a:lnTo>
                      <a:lnTo>
                        <a:pt x="171" y="181"/>
                      </a:lnTo>
                      <a:lnTo>
                        <a:pt x="171" y="181"/>
                      </a:lnTo>
                      <a:lnTo>
                        <a:pt x="164" y="181"/>
                      </a:lnTo>
                      <a:lnTo>
                        <a:pt x="158" y="181"/>
                      </a:lnTo>
                      <a:lnTo>
                        <a:pt x="158" y="181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1" y="188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74"/>
                      </a:lnTo>
                      <a:lnTo>
                        <a:pt x="144" y="174"/>
                      </a:lnTo>
                      <a:lnTo>
                        <a:pt x="144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8" y="167"/>
                      </a:lnTo>
                      <a:lnTo>
                        <a:pt x="158" y="167"/>
                      </a:lnTo>
                      <a:lnTo>
                        <a:pt x="158" y="167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37" y="160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0" y="167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37" y="188"/>
                      </a:lnTo>
                      <a:lnTo>
                        <a:pt x="137" y="188"/>
                      </a:lnTo>
                      <a:lnTo>
                        <a:pt x="137" y="188"/>
                      </a:lnTo>
                      <a:lnTo>
                        <a:pt x="130" y="188"/>
                      </a:lnTo>
                      <a:lnTo>
                        <a:pt x="137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23" y="181"/>
                      </a:lnTo>
                      <a:lnTo>
                        <a:pt x="123" y="181"/>
                      </a:lnTo>
                      <a:lnTo>
                        <a:pt x="123" y="188"/>
                      </a:lnTo>
                      <a:lnTo>
                        <a:pt x="123" y="181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03" y="195"/>
                      </a:lnTo>
                      <a:lnTo>
                        <a:pt x="89" y="195"/>
                      </a:lnTo>
                      <a:lnTo>
                        <a:pt x="82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88"/>
                      </a:lnTo>
                      <a:lnTo>
                        <a:pt x="75" y="188"/>
                      </a:lnTo>
                      <a:lnTo>
                        <a:pt x="75" y="188"/>
                      </a:lnTo>
                      <a:lnTo>
                        <a:pt x="75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9" y="195"/>
                      </a:lnTo>
                      <a:lnTo>
                        <a:pt x="89" y="195"/>
                      </a:lnTo>
                      <a:lnTo>
                        <a:pt x="96" y="195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2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8"/>
                      </a:lnTo>
                      <a:lnTo>
                        <a:pt x="68" y="188"/>
                      </a:lnTo>
                      <a:lnTo>
                        <a:pt x="68" y="188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8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338080" y="5187240"/>
                  <a:ext cx="85320" cy="39960"/>
                </a:xfrm>
                <a:custGeom>
                  <a:avLst/>
                  <a:gdLst/>
                  <a:ahLst/>
                  <a:rect l="l" t="t" r="r" b="b"/>
                  <a:pathLst>
                    <a:path w="68" h="34">
                      <a:moveTo>
                        <a:pt x="68" y="7"/>
                      </a:move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14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1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41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14"/>
                      </a:lnTo>
                      <a:lnTo>
                        <a:pt x="20" y="7"/>
                      </a:lnTo>
                      <a:lnTo>
                        <a:pt x="20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1"/>
                      </a:lnTo>
                      <a:lnTo>
                        <a:pt x="20" y="28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34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0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34" y="34"/>
                      </a:lnTo>
                      <a:lnTo>
                        <a:pt x="27" y="34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34"/>
                      </a:lnTo>
                      <a:lnTo>
                        <a:pt x="27" y="34"/>
                      </a:lnTo>
                      <a:lnTo>
                        <a:pt x="27" y="34"/>
                      </a:lnTo>
                      <a:lnTo>
                        <a:pt x="27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1"/>
                      </a:lnTo>
                      <a:lnTo>
                        <a:pt x="0" y="21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372280" y="52272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674680" y="512964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674680" y="51379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37228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363640" y="5212080"/>
                  <a:ext cx="828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363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372280" y="522036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372280" y="522036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363640" y="521208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363640" y="522036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354640" y="522036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354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354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363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354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363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354640" y="520380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37228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372280" y="519552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37228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389920" y="5203800"/>
                  <a:ext cx="33840" cy="16200"/>
                </a:xfrm>
                <a:custGeom>
                  <a:avLst/>
                  <a:gdLst/>
                  <a:ahLst/>
                  <a:rect l="l" t="t" r="r" b="b"/>
                  <a:pathLst>
                    <a:path w="27" h="14">
                      <a:moveTo>
                        <a:pt x="14" y="7"/>
                      </a:move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7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41512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41512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41512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423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423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41512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44140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432760" y="51955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43276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43276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43276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44140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44140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44140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441400" y="5195520"/>
                  <a:ext cx="1080" cy="72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432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432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432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432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47668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4842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5484600" y="519588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519520" y="5204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510880" y="520416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510880" y="5204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1952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51952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51088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51088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510880" y="5195880"/>
                <a:ext cx="1080" cy="720"/>
              </a:xfrm>
              <a:prstGeom prst="ellipse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50224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50224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28520" y="5171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10880" y="51710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510880" y="51793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113080" y="53262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121720" y="5334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121720" y="5334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2174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426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2426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242680" y="5276880"/>
                <a:ext cx="1080" cy="1080"/>
              </a:xfrm>
              <a:prstGeom prst="rect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2426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242680" y="5276880"/>
                <a:ext cx="864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251320" y="5268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25132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2426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26896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27796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28552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277960" y="5268600"/>
                <a:ext cx="24840" cy="244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6" y="7"/>
                    </a:move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29416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294160" y="5285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294160" y="5285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285520" y="5285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316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3160" y="5276880"/>
                <a:ext cx="864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3160" y="52686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20800" y="5268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20800" y="5268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285520" y="52524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294160" y="5252400"/>
                <a:ext cx="1080" cy="720"/>
              </a:xfrm>
              <a:prstGeom prst="rect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30316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30316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303160" y="525240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311800" y="524412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320800" y="5244120"/>
                <a:ext cx="1080" cy="720"/>
              </a:xfrm>
              <a:prstGeom prst="rect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32080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329440" y="522756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329440" y="5235840"/>
                <a:ext cx="1080" cy="720"/>
              </a:xfrm>
              <a:prstGeom prst="rect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338080" y="52275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338080" y="52275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338080" y="5235840"/>
                <a:ext cx="1080" cy="720"/>
              </a:xfrm>
              <a:prstGeom prst="ellipse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338080" y="52358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338080" y="52358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338080" y="52358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285520" y="525240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32080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32080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338080" y="52275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338080" y="52358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464360" y="4876920"/>
                <a:ext cx="950400" cy="546840"/>
              </a:xfrm>
              <a:custGeom>
                <a:avLst/>
                <a:gdLst/>
                <a:ahLst/>
                <a:rect l="l" t="t" r="r" b="b"/>
                <a:pathLst>
                  <a:path w="755" h="465">
                    <a:moveTo>
                      <a:pt x="0" y="236"/>
                    </a:move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7" y="229"/>
                    </a:lnTo>
                    <a:lnTo>
                      <a:pt x="7" y="229"/>
                    </a:lnTo>
                    <a:lnTo>
                      <a:pt x="7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1" y="215"/>
                    </a:lnTo>
                    <a:lnTo>
                      <a:pt x="21" y="215"/>
                    </a:lnTo>
                    <a:lnTo>
                      <a:pt x="28" y="215"/>
                    </a:lnTo>
                    <a:lnTo>
                      <a:pt x="28" y="215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55" y="201"/>
                    </a:lnTo>
                    <a:lnTo>
                      <a:pt x="55" y="201"/>
                    </a:lnTo>
                    <a:lnTo>
                      <a:pt x="55" y="194"/>
                    </a:lnTo>
                    <a:lnTo>
                      <a:pt x="55" y="194"/>
                    </a:lnTo>
                    <a:lnTo>
                      <a:pt x="55" y="194"/>
                    </a:lnTo>
                    <a:lnTo>
                      <a:pt x="62" y="194"/>
                    </a:lnTo>
                    <a:lnTo>
                      <a:pt x="62" y="187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9" y="181"/>
                    </a:lnTo>
                    <a:lnTo>
                      <a:pt x="69" y="174"/>
                    </a:lnTo>
                    <a:lnTo>
                      <a:pt x="69" y="174"/>
                    </a:lnTo>
                    <a:lnTo>
                      <a:pt x="69" y="174"/>
                    </a:lnTo>
                    <a:lnTo>
                      <a:pt x="76" y="174"/>
                    </a:lnTo>
                    <a:lnTo>
                      <a:pt x="76" y="174"/>
                    </a:lnTo>
                    <a:lnTo>
                      <a:pt x="76" y="167"/>
                    </a:lnTo>
                    <a:lnTo>
                      <a:pt x="76" y="167"/>
                    </a:lnTo>
                    <a:lnTo>
                      <a:pt x="76" y="167"/>
                    </a:lnTo>
                    <a:lnTo>
                      <a:pt x="83" y="160"/>
                    </a:lnTo>
                    <a:lnTo>
                      <a:pt x="83" y="160"/>
                    </a:lnTo>
                    <a:lnTo>
                      <a:pt x="83" y="160"/>
                    </a:lnTo>
                    <a:lnTo>
                      <a:pt x="90" y="160"/>
                    </a:lnTo>
                    <a:lnTo>
                      <a:pt x="90" y="153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90" y="146"/>
                    </a:lnTo>
                    <a:lnTo>
                      <a:pt x="90" y="146"/>
                    </a:lnTo>
                    <a:lnTo>
                      <a:pt x="90" y="146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2"/>
                    </a:lnTo>
                    <a:lnTo>
                      <a:pt x="96" y="132"/>
                    </a:lnTo>
                    <a:lnTo>
                      <a:pt x="103" y="132"/>
                    </a:lnTo>
                    <a:lnTo>
                      <a:pt x="103" y="132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7" y="97"/>
                    </a:lnTo>
                    <a:lnTo>
                      <a:pt x="117" y="97"/>
                    </a:lnTo>
                    <a:lnTo>
                      <a:pt x="117" y="97"/>
                    </a:lnTo>
                    <a:lnTo>
                      <a:pt x="124" y="97"/>
                    </a:lnTo>
                    <a:lnTo>
                      <a:pt x="124" y="97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76"/>
                    </a:lnTo>
                    <a:lnTo>
                      <a:pt x="124" y="76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31" y="70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44" y="56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51" y="42"/>
                    </a:lnTo>
                    <a:lnTo>
                      <a:pt x="151" y="42"/>
                    </a:lnTo>
                    <a:lnTo>
                      <a:pt x="158" y="42"/>
                    </a:lnTo>
                    <a:lnTo>
                      <a:pt x="158" y="42"/>
                    </a:lnTo>
                    <a:lnTo>
                      <a:pt x="158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72" y="35"/>
                    </a:lnTo>
                    <a:lnTo>
                      <a:pt x="172" y="35"/>
                    </a:lnTo>
                    <a:lnTo>
                      <a:pt x="172" y="35"/>
                    </a:lnTo>
                    <a:lnTo>
                      <a:pt x="172" y="28"/>
                    </a:lnTo>
                    <a:lnTo>
                      <a:pt x="172" y="21"/>
                    </a:lnTo>
                    <a:lnTo>
                      <a:pt x="172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92" y="14"/>
                    </a:lnTo>
                    <a:lnTo>
                      <a:pt x="192" y="14"/>
                    </a:lnTo>
                    <a:lnTo>
                      <a:pt x="192" y="14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0"/>
                    </a:lnTo>
                    <a:lnTo>
                      <a:pt x="206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7" y="0"/>
                    </a:lnTo>
                    <a:lnTo>
                      <a:pt x="227" y="0"/>
                    </a:lnTo>
                    <a:lnTo>
                      <a:pt x="234" y="0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41" y="7"/>
                    </a:lnTo>
                    <a:lnTo>
                      <a:pt x="241" y="7"/>
                    </a:lnTo>
                    <a:lnTo>
                      <a:pt x="241" y="7"/>
                    </a:lnTo>
                    <a:lnTo>
                      <a:pt x="247" y="7"/>
                    </a:lnTo>
                    <a:lnTo>
                      <a:pt x="247" y="7"/>
                    </a:lnTo>
                    <a:lnTo>
                      <a:pt x="247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61" y="7"/>
                    </a:lnTo>
                    <a:lnTo>
                      <a:pt x="261" y="7"/>
                    </a:lnTo>
                    <a:lnTo>
                      <a:pt x="268" y="7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75" y="14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95" y="7"/>
                    </a:lnTo>
                    <a:lnTo>
                      <a:pt x="295" y="7"/>
                    </a:lnTo>
                    <a:lnTo>
                      <a:pt x="295" y="7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2" y="14"/>
                    </a:lnTo>
                    <a:lnTo>
                      <a:pt x="302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16" y="14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42"/>
                    </a:lnTo>
                    <a:lnTo>
                      <a:pt x="323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42"/>
                    </a:lnTo>
                    <a:lnTo>
                      <a:pt x="350" y="49"/>
                    </a:lnTo>
                    <a:lnTo>
                      <a:pt x="350" y="49"/>
                    </a:lnTo>
                    <a:lnTo>
                      <a:pt x="350" y="56"/>
                    </a:lnTo>
                    <a:lnTo>
                      <a:pt x="350" y="56"/>
                    </a:lnTo>
                    <a:lnTo>
                      <a:pt x="357" y="56"/>
                    </a:lnTo>
                    <a:lnTo>
                      <a:pt x="357" y="49"/>
                    </a:lnTo>
                    <a:lnTo>
                      <a:pt x="357" y="49"/>
                    </a:lnTo>
                    <a:lnTo>
                      <a:pt x="357" y="49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0" y="42"/>
                    </a:lnTo>
                    <a:lnTo>
                      <a:pt x="350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28"/>
                    </a:lnTo>
                    <a:lnTo>
                      <a:pt x="357" y="28"/>
                    </a:lnTo>
                    <a:lnTo>
                      <a:pt x="357" y="28"/>
                    </a:lnTo>
                    <a:lnTo>
                      <a:pt x="364" y="28"/>
                    </a:lnTo>
                    <a:lnTo>
                      <a:pt x="364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92" y="28"/>
                    </a:lnTo>
                    <a:lnTo>
                      <a:pt x="392" y="28"/>
                    </a:lnTo>
                    <a:lnTo>
                      <a:pt x="392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12" y="28"/>
                    </a:lnTo>
                    <a:lnTo>
                      <a:pt x="412" y="28"/>
                    </a:lnTo>
                    <a:lnTo>
                      <a:pt x="412" y="28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7" y="14"/>
                    </a:lnTo>
                    <a:lnTo>
                      <a:pt x="447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95" y="28"/>
                    </a:lnTo>
                    <a:lnTo>
                      <a:pt x="495" y="28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56"/>
                    </a:lnTo>
                    <a:lnTo>
                      <a:pt x="488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495" y="76"/>
                    </a:lnTo>
                    <a:lnTo>
                      <a:pt x="501" y="76"/>
                    </a:lnTo>
                    <a:lnTo>
                      <a:pt x="495" y="76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7"/>
                    </a:lnTo>
                    <a:lnTo>
                      <a:pt x="495" y="97"/>
                    </a:lnTo>
                    <a:lnTo>
                      <a:pt x="495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8"/>
                    </a:lnTo>
                    <a:lnTo>
                      <a:pt x="501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08" y="132"/>
                    </a:lnTo>
                    <a:lnTo>
                      <a:pt x="515" y="132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2"/>
                    </a:lnTo>
                    <a:lnTo>
                      <a:pt x="522" y="139"/>
                    </a:lnTo>
                    <a:lnTo>
                      <a:pt x="522" y="132"/>
                    </a:lnTo>
                    <a:lnTo>
                      <a:pt x="522" y="132"/>
                    </a:lnTo>
                    <a:lnTo>
                      <a:pt x="522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9"/>
                    </a:lnTo>
                    <a:lnTo>
                      <a:pt x="550" y="139"/>
                    </a:lnTo>
                    <a:lnTo>
                      <a:pt x="543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53"/>
                    </a:lnTo>
                    <a:lnTo>
                      <a:pt x="556" y="153"/>
                    </a:lnTo>
                    <a:lnTo>
                      <a:pt x="556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60"/>
                    </a:lnTo>
                    <a:lnTo>
                      <a:pt x="550" y="160"/>
                    </a:lnTo>
                    <a:lnTo>
                      <a:pt x="550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7"/>
                    </a:lnTo>
                    <a:lnTo>
                      <a:pt x="550" y="187"/>
                    </a:lnTo>
                    <a:lnTo>
                      <a:pt x="550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50" y="194"/>
                    </a:lnTo>
                    <a:lnTo>
                      <a:pt x="550" y="194"/>
                    </a:lnTo>
                    <a:lnTo>
                      <a:pt x="550" y="194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8"/>
                    </a:lnTo>
                    <a:lnTo>
                      <a:pt x="543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15"/>
                    </a:lnTo>
                    <a:lnTo>
                      <a:pt x="536" y="215"/>
                    </a:lnTo>
                    <a:lnTo>
                      <a:pt x="543" y="215"/>
                    </a:lnTo>
                    <a:lnTo>
                      <a:pt x="536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9"/>
                    </a:lnTo>
                    <a:lnTo>
                      <a:pt x="550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50"/>
                    </a:lnTo>
                    <a:lnTo>
                      <a:pt x="563" y="243"/>
                    </a:lnTo>
                    <a:lnTo>
                      <a:pt x="563" y="250"/>
                    </a:lnTo>
                    <a:lnTo>
                      <a:pt x="563" y="250"/>
                    </a:lnTo>
                    <a:lnTo>
                      <a:pt x="563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63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63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7" y="257"/>
                    </a:lnTo>
                    <a:lnTo>
                      <a:pt x="577" y="257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8" y="257"/>
                    </a:lnTo>
                    <a:lnTo>
                      <a:pt x="598" y="264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8" y="257"/>
                    </a:lnTo>
                    <a:lnTo>
                      <a:pt x="618" y="257"/>
                    </a:lnTo>
                    <a:lnTo>
                      <a:pt x="618" y="257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7"/>
                    </a:lnTo>
                    <a:lnTo>
                      <a:pt x="625" y="257"/>
                    </a:lnTo>
                    <a:lnTo>
                      <a:pt x="625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25" y="250"/>
                    </a:lnTo>
                    <a:lnTo>
                      <a:pt x="625" y="250"/>
                    </a:lnTo>
                    <a:lnTo>
                      <a:pt x="625" y="250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50"/>
                    </a:lnTo>
                    <a:lnTo>
                      <a:pt x="611" y="250"/>
                    </a:lnTo>
                    <a:lnTo>
                      <a:pt x="611" y="243"/>
                    </a:lnTo>
                    <a:lnTo>
                      <a:pt x="611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43"/>
                    </a:lnTo>
                    <a:lnTo>
                      <a:pt x="632" y="243"/>
                    </a:lnTo>
                    <a:lnTo>
                      <a:pt x="639" y="243"/>
                    </a:lnTo>
                    <a:lnTo>
                      <a:pt x="639" y="243"/>
                    </a:lnTo>
                    <a:lnTo>
                      <a:pt x="639" y="243"/>
                    </a:lnTo>
                    <a:lnTo>
                      <a:pt x="639" y="236"/>
                    </a:lnTo>
                    <a:lnTo>
                      <a:pt x="639" y="236"/>
                    </a:lnTo>
                    <a:lnTo>
                      <a:pt x="646" y="236"/>
                    </a:lnTo>
                    <a:lnTo>
                      <a:pt x="639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43"/>
                    </a:lnTo>
                    <a:lnTo>
                      <a:pt x="652" y="243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66" y="236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55" y="243"/>
                    </a:lnTo>
                    <a:lnTo>
                      <a:pt x="755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2" y="250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1" y="257"/>
                    </a:lnTo>
                    <a:lnTo>
                      <a:pt x="721" y="257"/>
                    </a:lnTo>
                    <a:lnTo>
                      <a:pt x="721" y="257"/>
                    </a:lnTo>
                    <a:lnTo>
                      <a:pt x="721" y="257"/>
                    </a:lnTo>
                    <a:lnTo>
                      <a:pt x="721" y="264"/>
                    </a:lnTo>
                    <a:lnTo>
                      <a:pt x="721" y="257"/>
                    </a:lnTo>
                    <a:lnTo>
                      <a:pt x="714" y="264"/>
                    </a:lnTo>
                    <a:lnTo>
                      <a:pt x="714" y="257"/>
                    </a:lnTo>
                    <a:lnTo>
                      <a:pt x="714" y="264"/>
                    </a:lnTo>
                    <a:lnTo>
                      <a:pt x="714" y="264"/>
                    </a:lnTo>
                    <a:lnTo>
                      <a:pt x="714" y="264"/>
                    </a:lnTo>
                    <a:lnTo>
                      <a:pt x="714" y="264"/>
                    </a:lnTo>
                    <a:lnTo>
                      <a:pt x="707" y="264"/>
                    </a:lnTo>
                    <a:lnTo>
                      <a:pt x="707" y="264"/>
                    </a:lnTo>
                    <a:lnTo>
                      <a:pt x="707" y="264"/>
                    </a:lnTo>
                    <a:lnTo>
                      <a:pt x="707" y="264"/>
                    </a:lnTo>
                    <a:lnTo>
                      <a:pt x="707" y="264"/>
                    </a:lnTo>
                    <a:lnTo>
                      <a:pt x="701" y="264"/>
                    </a:lnTo>
                    <a:lnTo>
                      <a:pt x="701" y="264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701" y="292"/>
                    </a:lnTo>
                    <a:lnTo>
                      <a:pt x="701" y="292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7" y="298"/>
                    </a:lnTo>
                    <a:lnTo>
                      <a:pt x="707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694" y="305"/>
                    </a:lnTo>
                    <a:lnTo>
                      <a:pt x="694" y="298"/>
                    </a:lnTo>
                    <a:lnTo>
                      <a:pt x="694" y="305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305"/>
                    </a:lnTo>
                    <a:lnTo>
                      <a:pt x="687" y="305"/>
                    </a:lnTo>
                    <a:lnTo>
                      <a:pt x="687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73" y="305"/>
                    </a:lnTo>
                    <a:lnTo>
                      <a:pt x="673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12"/>
                    </a:lnTo>
                    <a:lnTo>
                      <a:pt x="680" y="305"/>
                    </a:lnTo>
                    <a:lnTo>
                      <a:pt x="680" y="312"/>
                    </a:lnTo>
                    <a:lnTo>
                      <a:pt x="680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9"/>
                    </a:lnTo>
                    <a:lnTo>
                      <a:pt x="666" y="319"/>
                    </a:lnTo>
                    <a:lnTo>
                      <a:pt x="666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2" y="319"/>
                    </a:lnTo>
                    <a:lnTo>
                      <a:pt x="652" y="319"/>
                    </a:lnTo>
                    <a:lnTo>
                      <a:pt x="652" y="319"/>
                    </a:lnTo>
                    <a:lnTo>
                      <a:pt x="652" y="326"/>
                    </a:lnTo>
                    <a:lnTo>
                      <a:pt x="652" y="319"/>
                    </a:lnTo>
                    <a:lnTo>
                      <a:pt x="652" y="326"/>
                    </a:lnTo>
                    <a:lnTo>
                      <a:pt x="652" y="319"/>
                    </a:lnTo>
                    <a:lnTo>
                      <a:pt x="646" y="319"/>
                    </a:lnTo>
                    <a:lnTo>
                      <a:pt x="646" y="326"/>
                    </a:lnTo>
                    <a:lnTo>
                      <a:pt x="646" y="326"/>
                    </a:lnTo>
                    <a:lnTo>
                      <a:pt x="646" y="326"/>
                    </a:lnTo>
                    <a:lnTo>
                      <a:pt x="646" y="333"/>
                    </a:lnTo>
                    <a:lnTo>
                      <a:pt x="646" y="333"/>
                    </a:lnTo>
                    <a:lnTo>
                      <a:pt x="646" y="333"/>
                    </a:lnTo>
                    <a:lnTo>
                      <a:pt x="652" y="333"/>
                    </a:lnTo>
                    <a:lnTo>
                      <a:pt x="652" y="333"/>
                    </a:lnTo>
                    <a:lnTo>
                      <a:pt x="646" y="333"/>
                    </a:lnTo>
                    <a:lnTo>
                      <a:pt x="646" y="333"/>
                    </a:lnTo>
                    <a:lnTo>
                      <a:pt x="652" y="333"/>
                    </a:lnTo>
                    <a:lnTo>
                      <a:pt x="652" y="333"/>
                    </a:lnTo>
                    <a:lnTo>
                      <a:pt x="652" y="340"/>
                    </a:lnTo>
                    <a:lnTo>
                      <a:pt x="652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2" y="340"/>
                    </a:lnTo>
                    <a:lnTo>
                      <a:pt x="632" y="340"/>
                    </a:lnTo>
                    <a:lnTo>
                      <a:pt x="632" y="333"/>
                    </a:lnTo>
                    <a:lnTo>
                      <a:pt x="632" y="333"/>
                    </a:lnTo>
                    <a:lnTo>
                      <a:pt x="632" y="340"/>
                    </a:lnTo>
                    <a:lnTo>
                      <a:pt x="632" y="340"/>
                    </a:lnTo>
                    <a:lnTo>
                      <a:pt x="632" y="333"/>
                    </a:lnTo>
                    <a:lnTo>
                      <a:pt x="632" y="333"/>
                    </a:lnTo>
                    <a:lnTo>
                      <a:pt x="632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18" y="333"/>
                    </a:lnTo>
                    <a:lnTo>
                      <a:pt x="618" y="333"/>
                    </a:lnTo>
                    <a:lnTo>
                      <a:pt x="618" y="333"/>
                    </a:lnTo>
                    <a:lnTo>
                      <a:pt x="611" y="333"/>
                    </a:lnTo>
                    <a:lnTo>
                      <a:pt x="611" y="333"/>
                    </a:lnTo>
                    <a:lnTo>
                      <a:pt x="611" y="333"/>
                    </a:lnTo>
                    <a:lnTo>
                      <a:pt x="604" y="333"/>
                    </a:lnTo>
                    <a:lnTo>
                      <a:pt x="598" y="333"/>
                    </a:lnTo>
                    <a:lnTo>
                      <a:pt x="598" y="340"/>
                    </a:lnTo>
                    <a:lnTo>
                      <a:pt x="598" y="340"/>
                    </a:lnTo>
                    <a:lnTo>
                      <a:pt x="598" y="340"/>
                    </a:lnTo>
                    <a:lnTo>
                      <a:pt x="591" y="340"/>
                    </a:lnTo>
                    <a:lnTo>
                      <a:pt x="591" y="340"/>
                    </a:lnTo>
                    <a:lnTo>
                      <a:pt x="591" y="340"/>
                    </a:lnTo>
                    <a:lnTo>
                      <a:pt x="591" y="340"/>
                    </a:lnTo>
                    <a:lnTo>
                      <a:pt x="591" y="340"/>
                    </a:lnTo>
                    <a:lnTo>
                      <a:pt x="584" y="340"/>
                    </a:lnTo>
                    <a:lnTo>
                      <a:pt x="584" y="340"/>
                    </a:lnTo>
                    <a:lnTo>
                      <a:pt x="584" y="340"/>
                    </a:lnTo>
                    <a:lnTo>
                      <a:pt x="591" y="340"/>
                    </a:lnTo>
                    <a:lnTo>
                      <a:pt x="584" y="340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54"/>
                    </a:lnTo>
                    <a:lnTo>
                      <a:pt x="584" y="354"/>
                    </a:lnTo>
                    <a:lnTo>
                      <a:pt x="584" y="354"/>
                    </a:lnTo>
                    <a:lnTo>
                      <a:pt x="584" y="354"/>
                    </a:lnTo>
                    <a:lnTo>
                      <a:pt x="577" y="354"/>
                    </a:lnTo>
                    <a:lnTo>
                      <a:pt x="584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0" y="361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56" y="354"/>
                    </a:lnTo>
                    <a:lnTo>
                      <a:pt x="556" y="361"/>
                    </a:lnTo>
                    <a:lnTo>
                      <a:pt x="550" y="361"/>
                    </a:lnTo>
                    <a:lnTo>
                      <a:pt x="536" y="368"/>
                    </a:lnTo>
                    <a:lnTo>
                      <a:pt x="529" y="368"/>
                    </a:lnTo>
                    <a:lnTo>
                      <a:pt x="529" y="368"/>
                    </a:lnTo>
                    <a:lnTo>
                      <a:pt x="529" y="368"/>
                    </a:lnTo>
                    <a:lnTo>
                      <a:pt x="522" y="375"/>
                    </a:lnTo>
                    <a:lnTo>
                      <a:pt x="515" y="375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15" y="389"/>
                    </a:lnTo>
                    <a:lnTo>
                      <a:pt x="515" y="389"/>
                    </a:lnTo>
                    <a:lnTo>
                      <a:pt x="515" y="389"/>
                    </a:lnTo>
                    <a:lnTo>
                      <a:pt x="515" y="389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96"/>
                    </a:lnTo>
                    <a:lnTo>
                      <a:pt x="501" y="396"/>
                    </a:lnTo>
                    <a:lnTo>
                      <a:pt x="501" y="396"/>
                    </a:lnTo>
                    <a:lnTo>
                      <a:pt x="495" y="396"/>
                    </a:lnTo>
                    <a:lnTo>
                      <a:pt x="495" y="403"/>
                    </a:lnTo>
                    <a:lnTo>
                      <a:pt x="495" y="403"/>
                    </a:lnTo>
                    <a:lnTo>
                      <a:pt x="495" y="403"/>
                    </a:lnTo>
                    <a:lnTo>
                      <a:pt x="495" y="403"/>
                    </a:lnTo>
                    <a:lnTo>
                      <a:pt x="495" y="403"/>
                    </a:lnTo>
                    <a:lnTo>
                      <a:pt x="481" y="409"/>
                    </a:lnTo>
                    <a:lnTo>
                      <a:pt x="481" y="409"/>
                    </a:lnTo>
                    <a:lnTo>
                      <a:pt x="481" y="409"/>
                    </a:lnTo>
                    <a:lnTo>
                      <a:pt x="474" y="409"/>
                    </a:lnTo>
                    <a:lnTo>
                      <a:pt x="474" y="416"/>
                    </a:lnTo>
                    <a:lnTo>
                      <a:pt x="474" y="416"/>
                    </a:lnTo>
                    <a:lnTo>
                      <a:pt x="467" y="416"/>
                    </a:lnTo>
                    <a:lnTo>
                      <a:pt x="460" y="423"/>
                    </a:lnTo>
                    <a:lnTo>
                      <a:pt x="460" y="423"/>
                    </a:lnTo>
                    <a:lnTo>
                      <a:pt x="447" y="430"/>
                    </a:lnTo>
                    <a:lnTo>
                      <a:pt x="440" y="437"/>
                    </a:lnTo>
                    <a:lnTo>
                      <a:pt x="440" y="437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51"/>
                    </a:lnTo>
                    <a:lnTo>
                      <a:pt x="440" y="451"/>
                    </a:lnTo>
                    <a:lnTo>
                      <a:pt x="433" y="451"/>
                    </a:lnTo>
                    <a:lnTo>
                      <a:pt x="433" y="451"/>
                    </a:lnTo>
                    <a:lnTo>
                      <a:pt x="440" y="451"/>
                    </a:lnTo>
                    <a:lnTo>
                      <a:pt x="433" y="451"/>
                    </a:lnTo>
                    <a:lnTo>
                      <a:pt x="433" y="451"/>
                    </a:lnTo>
                    <a:lnTo>
                      <a:pt x="433" y="451"/>
                    </a:lnTo>
                    <a:lnTo>
                      <a:pt x="433" y="451"/>
                    </a:lnTo>
                    <a:lnTo>
                      <a:pt x="433" y="458"/>
                    </a:lnTo>
                    <a:lnTo>
                      <a:pt x="426" y="458"/>
                    </a:lnTo>
                    <a:lnTo>
                      <a:pt x="419" y="465"/>
                    </a:lnTo>
                    <a:lnTo>
                      <a:pt x="419" y="465"/>
                    </a:lnTo>
                    <a:lnTo>
                      <a:pt x="419" y="465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19" y="458"/>
                    </a:lnTo>
                    <a:lnTo>
                      <a:pt x="419" y="458"/>
                    </a:lnTo>
                    <a:lnTo>
                      <a:pt x="419" y="458"/>
                    </a:lnTo>
                    <a:lnTo>
                      <a:pt x="419" y="458"/>
                    </a:lnTo>
                    <a:lnTo>
                      <a:pt x="419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1"/>
                    </a:lnTo>
                    <a:lnTo>
                      <a:pt x="412" y="451"/>
                    </a:lnTo>
                    <a:lnTo>
                      <a:pt x="412" y="451"/>
                    </a:lnTo>
                    <a:lnTo>
                      <a:pt x="412" y="451"/>
                    </a:lnTo>
                    <a:lnTo>
                      <a:pt x="412" y="451"/>
                    </a:lnTo>
                    <a:lnTo>
                      <a:pt x="412" y="444"/>
                    </a:lnTo>
                    <a:lnTo>
                      <a:pt x="412" y="444"/>
                    </a:lnTo>
                    <a:lnTo>
                      <a:pt x="412" y="444"/>
                    </a:lnTo>
                    <a:lnTo>
                      <a:pt x="412" y="444"/>
                    </a:lnTo>
                    <a:lnTo>
                      <a:pt x="412" y="444"/>
                    </a:lnTo>
                    <a:lnTo>
                      <a:pt x="412" y="437"/>
                    </a:lnTo>
                    <a:lnTo>
                      <a:pt x="412" y="437"/>
                    </a:lnTo>
                    <a:lnTo>
                      <a:pt x="412" y="437"/>
                    </a:lnTo>
                    <a:lnTo>
                      <a:pt x="412" y="437"/>
                    </a:lnTo>
                    <a:lnTo>
                      <a:pt x="412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44"/>
                    </a:lnTo>
                    <a:lnTo>
                      <a:pt x="405" y="444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44"/>
                    </a:lnTo>
                    <a:lnTo>
                      <a:pt x="405" y="444"/>
                    </a:lnTo>
                    <a:lnTo>
                      <a:pt x="405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37"/>
                    </a:lnTo>
                    <a:lnTo>
                      <a:pt x="398" y="437"/>
                    </a:lnTo>
                    <a:lnTo>
                      <a:pt x="398" y="437"/>
                    </a:lnTo>
                    <a:lnTo>
                      <a:pt x="398" y="437"/>
                    </a:lnTo>
                    <a:lnTo>
                      <a:pt x="392" y="437"/>
                    </a:lnTo>
                    <a:lnTo>
                      <a:pt x="392" y="437"/>
                    </a:lnTo>
                    <a:lnTo>
                      <a:pt x="392" y="437"/>
                    </a:lnTo>
                    <a:lnTo>
                      <a:pt x="392" y="437"/>
                    </a:lnTo>
                    <a:lnTo>
                      <a:pt x="392" y="444"/>
                    </a:lnTo>
                    <a:lnTo>
                      <a:pt x="392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78" y="444"/>
                    </a:lnTo>
                    <a:lnTo>
                      <a:pt x="378" y="444"/>
                    </a:lnTo>
                    <a:lnTo>
                      <a:pt x="378" y="444"/>
                    </a:lnTo>
                    <a:lnTo>
                      <a:pt x="378" y="444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85" y="437"/>
                    </a:lnTo>
                    <a:lnTo>
                      <a:pt x="378" y="437"/>
                    </a:lnTo>
                    <a:lnTo>
                      <a:pt x="385" y="437"/>
                    </a:lnTo>
                    <a:lnTo>
                      <a:pt x="378" y="430"/>
                    </a:lnTo>
                    <a:lnTo>
                      <a:pt x="378" y="430"/>
                    </a:lnTo>
                    <a:lnTo>
                      <a:pt x="378" y="430"/>
                    </a:lnTo>
                    <a:lnTo>
                      <a:pt x="378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78" y="430"/>
                    </a:lnTo>
                    <a:lnTo>
                      <a:pt x="378" y="423"/>
                    </a:lnTo>
                    <a:lnTo>
                      <a:pt x="385" y="423"/>
                    </a:lnTo>
                    <a:lnTo>
                      <a:pt x="385" y="423"/>
                    </a:lnTo>
                    <a:lnTo>
                      <a:pt x="385" y="423"/>
                    </a:lnTo>
                    <a:lnTo>
                      <a:pt x="385" y="423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78" y="416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16"/>
                    </a:lnTo>
                    <a:lnTo>
                      <a:pt x="371" y="416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16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64" y="409"/>
                    </a:lnTo>
                    <a:lnTo>
                      <a:pt x="364" y="416"/>
                    </a:lnTo>
                    <a:lnTo>
                      <a:pt x="364" y="409"/>
                    </a:lnTo>
                    <a:lnTo>
                      <a:pt x="364" y="409"/>
                    </a:lnTo>
                    <a:lnTo>
                      <a:pt x="364" y="416"/>
                    </a:lnTo>
                    <a:lnTo>
                      <a:pt x="364" y="416"/>
                    </a:lnTo>
                    <a:lnTo>
                      <a:pt x="364" y="409"/>
                    </a:lnTo>
                    <a:lnTo>
                      <a:pt x="364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16"/>
                    </a:lnTo>
                    <a:lnTo>
                      <a:pt x="323" y="416"/>
                    </a:lnTo>
                    <a:lnTo>
                      <a:pt x="323" y="416"/>
                    </a:lnTo>
                    <a:lnTo>
                      <a:pt x="323" y="409"/>
                    </a:lnTo>
                    <a:lnTo>
                      <a:pt x="323" y="416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23" y="403"/>
                    </a:lnTo>
                    <a:lnTo>
                      <a:pt x="323" y="403"/>
                    </a:lnTo>
                    <a:lnTo>
                      <a:pt x="323" y="403"/>
                    </a:lnTo>
                    <a:lnTo>
                      <a:pt x="323" y="403"/>
                    </a:lnTo>
                    <a:lnTo>
                      <a:pt x="323" y="403"/>
                    </a:lnTo>
                    <a:lnTo>
                      <a:pt x="323" y="396"/>
                    </a:lnTo>
                    <a:lnTo>
                      <a:pt x="316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2"/>
                    </a:lnTo>
                    <a:lnTo>
                      <a:pt x="330" y="382"/>
                    </a:lnTo>
                    <a:lnTo>
                      <a:pt x="330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16" y="382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1"/>
                    </a:lnTo>
                    <a:lnTo>
                      <a:pt x="309" y="368"/>
                    </a:lnTo>
                    <a:lnTo>
                      <a:pt x="309" y="361"/>
                    </a:lnTo>
                    <a:lnTo>
                      <a:pt x="309" y="368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89" y="326"/>
                    </a:lnTo>
                    <a:lnTo>
                      <a:pt x="295" y="326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89" y="319"/>
                    </a:lnTo>
                    <a:lnTo>
                      <a:pt x="289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2"/>
                    </a:lnTo>
                    <a:lnTo>
                      <a:pt x="295" y="312"/>
                    </a:lnTo>
                    <a:lnTo>
                      <a:pt x="295" y="312"/>
                    </a:lnTo>
                    <a:lnTo>
                      <a:pt x="289" y="312"/>
                    </a:lnTo>
                    <a:lnTo>
                      <a:pt x="289" y="312"/>
                    </a:lnTo>
                    <a:lnTo>
                      <a:pt x="289" y="312"/>
                    </a:lnTo>
                    <a:lnTo>
                      <a:pt x="295" y="312"/>
                    </a:lnTo>
                    <a:lnTo>
                      <a:pt x="289" y="312"/>
                    </a:lnTo>
                    <a:lnTo>
                      <a:pt x="295" y="312"/>
                    </a:lnTo>
                    <a:lnTo>
                      <a:pt x="289" y="312"/>
                    </a:lnTo>
                    <a:lnTo>
                      <a:pt x="295" y="312"/>
                    </a:lnTo>
                    <a:lnTo>
                      <a:pt x="295" y="312"/>
                    </a:lnTo>
                    <a:lnTo>
                      <a:pt x="295" y="312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89" y="305"/>
                    </a:lnTo>
                    <a:lnTo>
                      <a:pt x="295" y="298"/>
                    </a:lnTo>
                    <a:lnTo>
                      <a:pt x="295" y="305"/>
                    </a:lnTo>
                    <a:lnTo>
                      <a:pt x="295" y="298"/>
                    </a:lnTo>
                    <a:lnTo>
                      <a:pt x="295" y="298"/>
                    </a:lnTo>
                    <a:lnTo>
                      <a:pt x="295" y="298"/>
                    </a:lnTo>
                    <a:lnTo>
                      <a:pt x="289" y="298"/>
                    </a:lnTo>
                    <a:lnTo>
                      <a:pt x="289" y="298"/>
                    </a:lnTo>
                    <a:lnTo>
                      <a:pt x="289" y="298"/>
                    </a:lnTo>
                    <a:lnTo>
                      <a:pt x="289" y="298"/>
                    </a:lnTo>
                    <a:lnTo>
                      <a:pt x="289" y="298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2" y="285"/>
                    </a:lnTo>
                    <a:lnTo>
                      <a:pt x="282" y="285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68" y="278"/>
                    </a:lnTo>
                    <a:lnTo>
                      <a:pt x="268" y="278"/>
                    </a:lnTo>
                    <a:lnTo>
                      <a:pt x="268" y="278"/>
                    </a:lnTo>
                    <a:lnTo>
                      <a:pt x="268" y="278"/>
                    </a:lnTo>
                    <a:lnTo>
                      <a:pt x="268" y="278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1" y="271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47" y="264"/>
                    </a:lnTo>
                    <a:lnTo>
                      <a:pt x="247" y="264"/>
                    </a:lnTo>
                    <a:lnTo>
                      <a:pt x="247" y="264"/>
                    </a:lnTo>
                    <a:lnTo>
                      <a:pt x="247" y="264"/>
                    </a:lnTo>
                    <a:lnTo>
                      <a:pt x="247" y="264"/>
                    </a:lnTo>
                    <a:lnTo>
                      <a:pt x="241" y="264"/>
                    </a:lnTo>
                    <a:lnTo>
                      <a:pt x="241" y="264"/>
                    </a:lnTo>
                    <a:lnTo>
                      <a:pt x="241" y="264"/>
                    </a:lnTo>
                    <a:lnTo>
                      <a:pt x="241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0" y="264"/>
                    </a:lnTo>
                    <a:lnTo>
                      <a:pt x="220" y="264"/>
                    </a:lnTo>
                    <a:lnTo>
                      <a:pt x="220" y="264"/>
                    </a:lnTo>
                    <a:lnTo>
                      <a:pt x="220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57"/>
                    </a:lnTo>
                    <a:lnTo>
                      <a:pt x="192" y="257"/>
                    </a:lnTo>
                    <a:lnTo>
                      <a:pt x="192" y="257"/>
                    </a:lnTo>
                    <a:lnTo>
                      <a:pt x="192" y="257"/>
                    </a:lnTo>
                    <a:lnTo>
                      <a:pt x="186" y="250"/>
                    </a:lnTo>
                    <a:lnTo>
                      <a:pt x="186" y="250"/>
                    </a:lnTo>
                    <a:lnTo>
                      <a:pt x="186" y="250"/>
                    </a:lnTo>
                    <a:lnTo>
                      <a:pt x="179" y="250"/>
                    </a:lnTo>
                    <a:lnTo>
                      <a:pt x="179" y="250"/>
                    </a:lnTo>
                    <a:lnTo>
                      <a:pt x="179" y="250"/>
                    </a:lnTo>
                    <a:lnTo>
                      <a:pt x="179" y="250"/>
                    </a:lnTo>
                    <a:lnTo>
                      <a:pt x="179" y="250"/>
                    </a:lnTo>
                    <a:lnTo>
                      <a:pt x="172" y="250"/>
                    </a:lnTo>
                    <a:lnTo>
                      <a:pt x="172" y="250"/>
                    </a:lnTo>
                    <a:lnTo>
                      <a:pt x="165" y="250"/>
                    </a:lnTo>
                    <a:lnTo>
                      <a:pt x="165" y="250"/>
                    </a:lnTo>
                    <a:lnTo>
                      <a:pt x="158" y="250"/>
                    </a:lnTo>
                    <a:lnTo>
                      <a:pt x="158" y="243"/>
                    </a:lnTo>
                    <a:lnTo>
                      <a:pt x="158" y="243"/>
                    </a:lnTo>
                    <a:lnTo>
                      <a:pt x="158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38" y="243"/>
                    </a:lnTo>
                    <a:lnTo>
                      <a:pt x="138" y="243"/>
                    </a:lnTo>
                    <a:lnTo>
                      <a:pt x="138" y="243"/>
                    </a:lnTo>
                    <a:lnTo>
                      <a:pt x="138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24" y="243"/>
                    </a:lnTo>
                    <a:lnTo>
                      <a:pt x="124" y="243"/>
                    </a:lnTo>
                    <a:lnTo>
                      <a:pt x="124" y="243"/>
                    </a:lnTo>
                    <a:lnTo>
                      <a:pt x="117" y="243"/>
                    </a:lnTo>
                    <a:lnTo>
                      <a:pt x="117" y="243"/>
                    </a:lnTo>
                    <a:lnTo>
                      <a:pt x="117" y="243"/>
                    </a:lnTo>
                    <a:lnTo>
                      <a:pt x="117" y="243"/>
                    </a:lnTo>
                    <a:lnTo>
                      <a:pt x="110" y="236"/>
                    </a:lnTo>
                    <a:lnTo>
                      <a:pt x="110" y="236"/>
                    </a:lnTo>
                    <a:lnTo>
                      <a:pt x="110" y="236"/>
                    </a:lnTo>
                    <a:lnTo>
                      <a:pt x="110" y="236"/>
                    </a:lnTo>
                    <a:lnTo>
                      <a:pt x="110" y="236"/>
                    </a:lnTo>
                    <a:lnTo>
                      <a:pt x="103" y="236"/>
                    </a:lnTo>
                    <a:lnTo>
                      <a:pt x="103" y="236"/>
                    </a:lnTo>
                    <a:lnTo>
                      <a:pt x="103" y="236"/>
                    </a:lnTo>
                    <a:lnTo>
                      <a:pt x="96" y="236"/>
                    </a:lnTo>
                    <a:lnTo>
                      <a:pt x="96" y="236"/>
                    </a:lnTo>
                    <a:lnTo>
                      <a:pt x="96" y="236"/>
                    </a:lnTo>
                    <a:lnTo>
                      <a:pt x="96" y="229"/>
                    </a:lnTo>
                    <a:lnTo>
                      <a:pt x="90" y="229"/>
                    </a:lnTo>
                    <a:lnTo>
                      <a:pt x="90" y="229"/>
                    </a:lnTo>
                    <a:lnTo>
                      <a:pt x="90" y="229"/>
                    </a:lnTo>
                    <a:lnTo>
                      <a:pt x="83" y="229"/>
                    </a:lnTo>
                    <a:lnTo>
                      <a:pt x="83" y="229"/>
                    </a:lnTo>
                    <a:lnTo>
                      <a:pt x="83" y="229"/>
                    </a:lnTo>
                    <a:lnTo>
                      <a:pt x="83" y="229"/>
                    </a:lnTo>
                    <a:lnTo>
                      <a:pt x="83" y="229"/>
                    </a:lnTo>
                    <a:lnTo>
                      <a:pt x="76" y="229"/>
                    </a:lnTo>
                    <a:lnTo>
                      <a:pt x="76" y="236"/>
                    </a:lnTo>
                    <a:lnTo>
                      <a:pt x="76" y="236"/>
                    </a:lnTo>
                    <a:lnTo>
                      <a:pt x="76" y="236"/>
                    </a:lnTo>
                    <a:lnTo>
                      <a:pt x="76" y="243"/>
                    </a:lnTo>
                    <a:lnTo>
                      <a:pt x="76" y="243"/>
                    </a:lnTo>
                    <a:lnTo>
                      <a:pt x="76" y="243"/>
                    </a:lnTo>
                    <a:lnTo>
                      <a:pt x="69" y="243"/>
                    </a:lnTo>
                    <a:lnTo>
                      <a:pt x="69" y="243"/>
                    </a:lnTo>
                    <a:lnTo>
                      <a:pt x="69" y="236"/>
                    </a:lnTo>
                    <a:lnTo>
                      <a:pt x="69" y="236"/>
                    </a:lnTo>
                    <a:lnTo>
                      <a:pt x="69" y="236"/>
                    </a:lnTo>
                    <a:lnTo>
                      <a:pt x="69" y="236"/>
                    </a:lnTo>
                    <a:lnTo>
                      <a:pt x="69" y="236"/>
                    </a:lnTo>
                    <a:lnTo>
                      <a:pt x="62" y="236"/>
                    </a:lnTo>
                    <a:lnTo>
                      <a:pt x="62" y="236"/>
                    </a:lnTo>
                    <a:lnTo>
                      <a:pt x="62" y="236"/>
                    </a:lnTo>
                    <a:lnTo>
                      <a:pt x="55" y="236"/>
                    </a:lnTo>
                    <a:lnTo>
                      <a:pt x="55" y="236"/>
                    </a:lnTo>
                    <a:lnTo>
                      <a:pt x="55" y="236"/>
                    </a:lnTo>
                    <a:lnTo>
                      <a:pt x="55" y="236"/>
                    </a:lnTo>
                    <a:lnTo>
                      <a:pt x="48" y="236"/>
                    </a:lnTo>
                    <a:lnTo>
                      <a:pt x="48" y="236"/>
                    </a:lnTo>
                    <a:lnTo>
                      <a:pt x="48" y="236"/>
                    </a:lnTo>
                    <a:lnTo>
                      <a:pt x="48" y="236"/>
                    </a:lnTo>
                    <a:lnTo>
                      <a:pt x="48" y="236"/>
                    </a:lnTo>
                    <a:lnTo>
                      <a:pt x="41" y="236"/>
                    </a:lnTo>
                    <a:lnTo>
                      <a:pt x="41" y="236"/>
                    </a:lnTo>
                    <a:lnTo>
                      <a:pt x="41" y="229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35" y="236"/>
                    </a:lnTo>
                    <a:lnTo>
                      <a:pt x="28" y="236"/>
                    </a:lnTo>
                    <a:lnTo>
                      <a:pt x="28" y="236"/>
                    </a:lnTo>
                    <a:lnTo>
                      <a:pt x="2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14" y="236"/>
                    </a:lnTo>
                    <a:lnTo>
                      <a:pt x="14" y="229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43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464360" y="4876920"/>
                <a:ext cx="950400" cy="310320"/>
              </a:xfrm>
              <a:custGeom>
                <a:avLst/>
                <a:gdLst/>
                <a:ahLst/>
                <a:rect l="l" t="t" r="r" b="b"/>
                <a:pathLst>
                  <a:path w="755" h="264">
                    <a:moveTo>
                      <a:pt x="0" y="236"/>
                    </a:move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7" y="229"/>
                    </a:lnTo>
                    <a:lnTo>
                      <a:pt x="7" y="229"/>
                    </a:lnTo>
                    <a:lnTo>
                      <a:pt x="7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1" y="215"/>
                    </a:lnTo>
                    <a:lnTo>
                      <a:pt x="21" y="215"/>
                    </a:lnTo>
                    <a:lnTo>
                      <a:pt x="28" y="215"/>
                    </a:lnTo>
                    <a:lnTo>
                      <a:pt x="28" y="215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55" y="201"/>
                    </a:lnTo>
                    <a:lnTo>
                      <a:pt x="55" y="201"/>
                    </a:lnTo>
                    <a:lnTo>
                      <a:pt x="55" y="194"/>
                    </a:lnTo>
                    <a:lnTo>
                      <a:pt x="55" y="194"/>
                    </a:lnTo>
                    <a:lnTo>
                      <a:pt x="55" y="194"/>
                    </a:lnTo>
                    <a:lnTo>
                      <a:pt x="62" y="194"/>
                    </a:lnTo>
                    <a:lnTo>
                      <a:pt x="62" y="187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9" y="181"/>
                    </a:lnTo>
                    <a:lnTo>
                      <a:pt x="69" y="174"/>
                    </a:lnTo>
                    <a:lnTo>
                      <a:pt x="69" y="174"/>
                    </a:lnTo>
                    <a:lnTo>
                      <a:pt x="69" y="174"/>
                    </a:lnTo>
                    <a:lnTo>
                      <a:pt x="76" y="174"/>
                    </a:lnTo>
                    <a:lnTo>
                      <a:pt x="76" y="174"/>
                    </a:lnTo>
                    <a:lnTo>
                      <a:pt x="76" y="167"/>
                    </a:lnTo>
                    <a:lnTo>
                      <a:pt x="76" y="167"/>
                    </a:lnTo>
                    <a:lnTo>
                      <a:pt x="76" y="167"/>
                    </a:lnTo>
                    <a:lnTo>
                      <a:pt x="83" y="160"/>
                    </a:lnTo>
                    <a:lnTo>
                      <a:pt x="83" y="160"/>
                    </a:lnTo>
                    <a:lnTo>
                      <a:pt x="83" y="160"/>
                    </a:lnTo>
                    <a:lnTo>
                      <a:pt x="90" y="160"/>
                    </a:lnTo>
                    <a:lnTo>
                      <a:pt x="90" y="153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90" y="146"/>
                    </a:lnTo>
                    <a:lnTo>
                      <a:pt x="90" y="146"/>
                    </a:lnTo>
                    <a:lnTo>
                      <a:pt x="90" y="146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2"/>
                    </a:lnTo>
                    <a:lnTo>
                      <a:pt x="96" y="132"/>
                    </a:lnTo>
                    <a:lnTo>
                      <a:pt x="103" y="132"/>
                    </a:lnTo>
                    <a:lnTo>
                      <a:pt x="103" y="132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7" y="97"/>
                    </a:lnTo>
                    <a:lnTo>
                      <a:pt x="117" y="97"/>
                    </a:lnTo>
                    <a:lnTo>
                      <a:pt x="117" y="97"/>
                    </a:lnTo>
                    <a:lnTo>
                      <a:pt x="124" y="97"/>
                    </a:lnTo>
                    <a:lnTo>
                      <a:pt x="124" y="97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76"/>
                    </a:lnTo>
                    <a:lnTo>
                      <a:pt x="124" y="76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31" y="70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44" y="56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51" y="42"/>
                    </a:lnTo>
                    <a:lnTo>
                      <a:pt x="151" y="42"/>
                    </a:lnTo>
                    <a:lnTo>
                      <a:pt x="158" y="42"/>
                    </a:lnTo>
                    <a:lnTo>
                      <a:pt x="158" y="42"/>
                    </a:lnTo>
                    <a:lnTo>
                      <a:pt x="158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72" y="35"/>
                    </a:lnTo>
                    <a:lnTo>
                      <a:pt x="172" y="35"/>
                    </a:lnTo>
                    <a:lnTo>
                      <a:pt x="172" y="35"/>
                    </a:lnTo>
                    <a:lnTo>
                      <a:pt x="172" y="28"/>
                    </a:lnTo>
                    <a:lnTo>
                      <a:pt x="172" y="21"/>
                    </a:lnTo>
                    <a:lnTo>
                      <a:pt x="172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92" y="14"/>
                    </a:lnTo>
                    <a:lnTo>
                      <a:pt x="192" y="14"/>
                    </a:lnTo>
                    <a:lnTo>
                      <a:pt x="192" y="14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0"/>
                    </a:lnTo>
                    <a:lnTo>
                      <a:pt x="206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7" y="0"/>
                    </a:lnTo>
                    <a:lnTo>
                      <a:pt x="227" y="0"/>
                    </a:lnTo>
                    <a:lnTo>
                      <a:pt x="234" y="0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41" y="7"/>
                    </a:lnTo>
                    <a:lnTo>
                      <a:pt x="241" y="7"/>
                    </a:lnTo>
                    <a:lnTo>
                      <a:pt x="241" y="7"/>
                    </a:lnTo>
                    <a:lnTo>
                      <a:pt x="247" y="7"/>
                    </a:lnTo>
                    <a:lnTo>
                      <a:pt x="247" y="7"/>
                    </a:lnTo>
                    <a:lnTo>
                      <a:pt x="247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61" y="7"/>
                    </a:lnTo>
                    <a:lnTo>
                      <a:pt x="261" y="7"/>
                    </a:lnTo>
                    <a:lnTo>
                      <a:pt x="268" y="7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75" y="14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95" y="7"/>
                    </a:lnTo>
                    <a:lnTo>
                      <a:pt x="295" y="7"/>
                    </a:lnTo>
                    <a:lnTo>
                      <a:pt x="295" y="7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2" y="14"/>
                    </a:lnTo>
                    <a:lnTo>
                      <a:pt x="302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16" y="14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42"/>
                    </a:lnTo>
                    <a:lnTo>
                      <a:pt x="323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42"/>
                    </a:lnTo>
                    <a:lnTo>
                      <a:pt x="350" y="49"/>
                    </a:lnTo>
                    <a:lnTo>
                      <a:pt x="350" y="49"/>
                    </a:lnTo>
                    <a:lnTo>
                      <a:pt x="350" y="56"/>
                    </a:lnTo>
                    <a:lnTo>
                      <a:pt x="350" y="56"/>
                    </a:lnTo>
                    <a:lnTo>
                      <a:pt x="357" y="56"/>
                    </a:lnTo>
                    <a:lnTo>
                      <a:pt x="357" y="49"/>
                    </a:lnTo>
                    <a:lnTo>
                      <a:pt x="357" y="49"/>
                    </a:lnTo>
                    <a:lnTo>
                      <a:pt x="357" y="49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0" y="42"/>
                    </a:lnTo>
                    <a:lnTo>
                      <a:pt x="350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28"/>
                    </a:lnTo>
                    <a:lnTo>
                      <a:pt x="357" y="28"/>
                    </a:lnTo>
                    <a:lnTo>
                      <a:pt x="357" y="28"/>
                    </a:lnTo>
                    <a:lnTo>
                      <a:pt x="364" y="28"/>
                    </a:lnTo>
                    <a:lnTo>
                      <a:pt x="364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92" y="28"/>
                    </a:lnTo>
                    <a:lnTo>
                      <a:pt x="392" y="28"/>
                    </a:lnTo>
                    <a:lnTo>
                      <a:pt x="392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12" y="28"/>
                    </a:lnTo>
                    <a:lnTo>
                      <a:pt x="412" y="28"/>
                    </a:lnTo>
                    <a:lnTo>
                      <a:pt x="412" y="28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7" y="14"/>
                    </a:lnTo>
                    <a:lnTo>
                      <a:pt x="447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95" y="28"/>
                    </a:lnTo>
                    <a:lnTo>
                      <a:pt x="495" y="28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56"/>
                    </a:lnTo>
                    <a:lnTo>
                      <a:pt x="488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495" y="76"/>
                    </a:lnTo>
                    <a:lnTo>
                      <a:pt x="501" y="76"/>
                    </a:lnTo>
                    <a:lnTo>
                      <a:pt x="495" y="76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7"/>
                    </a:lnTo>
                    <a:lnTo>
                      <a:pt x="495" y="97"/>
                    </a:lnTo>
                    <a:lnTo>
                      <a:pt x="495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8"/>
                    </a:lnTo>
                    <a:lnTo>
                      <a:pt x="501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08" y="132"/>
                    </a:lnTo>
                    <a:lnTo>
                      <a:pt x="515" y="132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2"/>
                    </a:lnTo>
                    <a:lnTo>
                      <a:pt x="522" y="139"/>
                    </a:lnTo>
                    <a:lnTo>
                      <a:pt x="522" y="132"/>
                    </a:lnTo>
                    <a:lnTo>
                      <a:pt x="522" y="132"/>
                    </a:lnTo>
                    <a:lnTo>
                      <a:pt x="522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9"/>
                    </a:lnTo>
                    <a:lnTo>
                      <a:pt x="550" y="139"/>
                    </a:lnTo>
                    <a:lnTo>
                      <a:pt x="543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53"/>
                    </a:lnTo>
                    <a:lnTo>
                      <a:pt x="556" y="153"/>
                    </a:lnTo>
                    <a:lnTo>
                      <a:pt x="556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60"/>
                    </a:lnTo>
                    <a:lnTo>
                      <a:pt x="550" y="160"/>
                    </a:lnTo>
                    <a:lnTo>
                      <a:pt x="550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7"/>
                    </a:lnTo>
                    <a:lnTo>
                      <a:pt x="550" y="187"/>
                    </a:lnTo>
                    <a:lnTo>
                      <a:pt x="550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50" y="194"/>
                    </a:lnTo>
                    <a:lnTo>
                      <a:pt x="550" y="194"/>
                    </a:lnTo>
                    <a:lnTo>
                      <a:pt x="550" y="194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8"/>
                    </a:lnTo>
                    <a:lnTo>
                      <a:pt x="543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15"/>
                    </a:lnTo>
                    <a:lnTo>
                      <a:pt x="536" y="215"/>
                    </a:lnTo>
                    <a:lnTo>
                      <a:pt x="543" y="215"/>
                    </a:lnTo>
                    <a:lnTo>
                      <a:pt x="536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9"/>
                    </a:lnTo>
                    <a:lnTo>
                      <a:pt x="550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50"/>
                    </a:lnTo>
                    <a:lnTo>
                      <a:pt x="563" y="243"/>
                    </a:lnTo>
                    <a:lnTo>
                      <a:pt x="563" y="250"/>
                    </a:lnTo>
                    <a:lnTo>
                      <a:pt x="563" y="250"/>
                    </a:lnTo>
                    <a:lnTo>
                      <a:pt x="563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63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63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7" y="257"/>
                    </a:lnTo>
                    <a:lnTo>
                      <a:pt x="577" y="257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8" y="257"/>
                    </a:lnTo>
                    <a:lnTo>
                      <a:pt x="598" y="264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8" y="257"/>
                    </a:lnTo>
                    <a:lnTo>
                      <a:pt x="618" y="257"/>
                    </a:lnTo>
                    <a:lnTo>
                      <a:pt x="618" y="257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7"/>
                    </a:lnTo>
                    <a:lnTo>
                      <a:pt x="625" y="257"/>
                    </a:lnTo>
                    <a:lnTo>
                      <a:pt x="625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25" y="250"/>
                    </a:lnTo>
                    <a:lnTo>
                      <a:pt x="625" y="250"/>
                    </a:lnTo>
                    <a:lnTo>
                      <a:pt x="625" y="250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50"/>
                    </a:lnTo>
                    <a:lnTo>
                      <a:pt x="611" y="250"/>
                    </a:lnTo>
                    <a:lnTo>
                      <a:pt x="611" y="243"/>
                    </a:lnTo>
                    <a:lnTo>
                      <a:pt x="611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43"/>
                    </a:lnTo>
                    <a:lnTo>
                      <a:pt x="632" y="243"/>
                    </a:lnTo>
                    <a:lnTo>
                      <a:pt x="639" y="243"/>
                    </a:lnTo>
                    <a:lnTo>
                      <a:pt x="639" y="243"/>
                    </a:lnTo>
                    <a:lnTo>
                      <a:pt x="639" y="243"/>
                    </a:lnTo>
                    <a:lnTo>
                      <a:pt x="639" y="236"/>
                    </a:lnTo>
                    <a:lnTo>
                      <a:pt x="639" y="236"/>
                    </a:lnTo>
                    <a:lnTo>
                      <a:pt x="646" y="236"/>
                    </a:lnTo>
                    <a:lnTo>
                      <a:pt x="639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43"/>
                    </a:lnTo>
                    <a:lnTo>
                      <a:pt x="652" y="243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66" y="236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55" y="243"/>
                    </a:lnTo>
                    <a:lnTo>
                      <a:pt x="755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2" y="250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464360" y="5146560"/>
                <a:ext cx="925560" cy="277200"/>
              </a:xfrm>
              <a:custGeom>
                <a:avLst/>
                <a:gdLst/>
                <a:ahLst/>
                <a:rect l="l" t="t" r="r" b="b"/>
                <a:pathLst>
                  <a:path w="735" h="236">
                    <a:moveTo>
                      <a:pt x="735" y="28"/>
                    </a:moveTo>
                    <a:lnTo>
                      <a:pt x="735" y="28"/>
                    </a:lnTo>
                    <a:lnTo>
                      <a:pt x="735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1" y="28"/>
                    </a:lnTo>
                    <a:lnTo>
                      <a:pt x="721" y="28"/>
                    </a:lnTo>
                    <a:lnTo>
                      <a:pt x="721" y="28"/>
                    </a:lnTo>
                    <a:lnTo>
                      <a:pt x="721" y="28"/>
                    </a:lnTo>
                    <a:lnTo>
                      <a:pt x="721" y="35"/>
                    </a:lnTo>
                    <a:lnTo>
                      <a:pt x="721" y="28"/>
                    </a:lnTo>
                    <a:lnTo>
                      <a:pt x="714" y="35"/>
                    </a:lnTo>
                    <a:lnTo>
                      <a:pt x="714" y="28"/>
                    </a:lnTo>
                    <a:lnTo>
                      <a:pt x="714" y="35"/>
                    </a:lnTo>
                    <a:lnTo>
                      <a:pt x="714" y="35"/>
                    </a:lnTo>
                    <a:lnTo>
                      <a:pt x="714" y="35"/>
                    </a:lnTo>
                    <a:lnTo>
                      <a:pt x="714" y="35"/>
                    </a:lnTo>
                    <a:lnTo>
                      <a:pt x="707" y="35"/>
                    </a:lnTo>
                    <a:lnTo>
                      <a:pt x="707" y="35"/>
                    </a:lnTo>
                    <a:lnTo>
                      <a:pt x="707" y="35"/>
                    </a:lnTo>
                    <a:lnTo>
                      <a:pt x="707" y="35"/>
                    </a:lnTo>
                    <a:lnTo>
                      <a:pt x="707" y="35"/>
                    </a:lnTo>
                    <a:lnTo>
                      <a:pt x="701" y="35"/>
                    </a:lnTo>
                    <a:lnTo>
                      <a:pt x="701" y="35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701" y="63"/>
                    </a:lnTo>
                    <a:lnTo>
                      <a:pt x="701" y="63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7" y="69"/>
                    </a:lnTo>
                    <a:lnTo>
                      <a:pt x="707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694" y="76"/>
                    </a:lnTo>
                    <a:lnTo>
                      <a:pt x="694" y="69"/>
                    </a:lnTo>
                    <a:lnTo>
                      <a:pt x="694" y="76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76"/>
                    </a:lnTo>
                    <a:lnTo>
                      <a:pt x="687" y="76"/>
                    </a:lnTo>
                    <a:lnTo>
                      <a:pt x="687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73" y="76"/>
                    </a:lnTo>
                    <a:lnTo>
                      <a:pt x="673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83"/>
                    </a:lnTo>
                    <a:lnTo>
                      <a:pt x="680" y="76"/>
                    </a:lnTo>
                    <a:lnTo>
                      <a:pt x="680" y="83"/>
                    </a:lnTo>
                    <a:lnTo>
                      <a:pt x="680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90"/>
                    </a:lnTo>
                    <a:lnTo>
                      <a:pt x="666" y="90"/>
                    </a:lnTo>
                    <a:lnTo>
                      <a:pt x="666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2" y="90"/>
                    </a:lnTo>
                    <a:lnTo>
                      <a:pt x="652" y="90"/>
                    </a:lnTo>
                    <a:lnTo>
                      <a:pt x="652" y="90"/>
                    </a:lnTo>
                    <a:lnTo>
                      <a:pt x="652" y="97"/>
                    </a:lnTo>
                    <a:lnTo>
                      <a:pt x="652" y="90"/>
                    </a:lnTo>
                    <a:lnTo>
                      <a:pt x="652" y="97"/>
                    </a:lnTo>
                    <a:lnTo>
                      <a:pt x="652" y="90"/>
                    </a:lnTo>
                    <a:lnTo>
                      <a:pt x="646" y="90"/>
                    </a:lnTo>
                    <a:lnTo>
                      <a:pt x="646" y="97"/>
                    </a:lnTo>
                    <a:lnTo>
                      <a:pt x="646" y="97"/>
                    </a:lnTo>
                    <a:lnTo>
                      <a:pt x="646" y="97"/>
                    </a:lnTo>
                    <a:lnTo>
                      <a:pt x="646" y="104"/>
                    </a:lnTo>
                    <a:lnTo>
                      <a:pt x="646" y="104"/>
                    </a:lnTo>
                    <a:lnTo>
                      <a:pt x="646" y="104"/>
                    </a:lnTo>
                    <a:lnTo>
                      <a:pt x="652" y="104"/>
                    </a:lnTo>
                    <a:lnTo>
                      <a:pt x="652" y="104"/>
                    </a:lnTo>
                    <a:lnTo>
                      <a:pt x="646" y="104"/>
                    </a:lnTo>
                    <a:lnTo>
                      <a:pt x="646" y="104"/>
                    </a:lnTo>
                    <a:lnTo>
                      <a:pt x="652" y="104"/>
                    </a:lnTo>
                    <a:lnTo>
                      <a:pt x="652" y="104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2" y="111"/>
                    </a:lnTo>
                    <a:lnTo>
                      <a:pt x="632" y="111"/>
                    </a:lnTo>
                    <a:lnTo>
                      <a:pt x="632" y="104"/>
                    </a:lnTo>
                    <a:lnTo>
                      <a:pt x="632" y="104"/>
                    </a:lnTo>
                    <a:lnTo>
                      <a:pt x="632" y="111"/>
                    </a:lnTo>
                    <a:lnTo>
                      <a:pt x="632" y="111"/>
                    </a:lnTo>
                    <a:lnTo>
                      <a:pt x="632" y="104"/>
                    </a:lnTo>
                    <a:lnTo>
                      <a:pt x="632" y="104"/>
                    </a:lnTo>
                    <a:lnTo>
                      <a:pt x="632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18" y="104"/>
                    </a:lnTo>
                    <a:lnTo>
                      <a:pt x="618" y="104"/>
                    </a:lnTo>
                    <a:lnTo>
                      <a:pt x="618" y="104"/>
                    </a:lnTo>
                    <a:lnTo>
                      <a:pt x="611" y="104"/>
                    </a:lnTo>
                    <a:lnTo>
                      <a:pt x="611" y="104"/>
                    </a:lnTo>
                    <a:lnTo>
                      <a:pt x="611" y="104"/>
                    </a:lnTo>
                    <a:lnTo>
                      <a:pt x="604" y="104"/>
                    </a:lnTo>
                    <a:lnTo>
                      <a:pt x="598" y="104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91" y="111"/>
                    </a:lnTo>
                    <a:lnTo>
                      <a:pt x="584" y="111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25"/>
                    </a:lnTo>
                    <a:lnTo>
                      <a:pt x="584" y="125"/>
                    </a:lnTo>
                    <a:lnTo>
                      <a:pt x="584" y="125"/>
                    </a:lnTo>
                    <a:lnTo>
                      <a:pt x="584" y="125"/>
                    </a:lnTo>
                    <a:lnTo>
                      <a:pt x="577" y="125"/>
                    </a:lnTo>
                    <a:lnTo>
                      <a:pt x="584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0" y="132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56" y="125"/>
                    </a:lnTo>
                    <a:lnTo>
                      <a:pt x="556" y="132"/>
                    </a:lnTo>
                    <a:lnTo>
                      <a:pt x="550" y="132"/>
                    </a:lnTo>
                    <a:lnTo>
                      <a:pt x="536" y="139"/>
                    </a:lnTo>
                    <a:lnTo>
                      <a:pt x="529" y="139"/>
                    </a:lnTo>
                    <a:lnTo>
                      <a:pt x="529" y="139"/>
                    </a:lnTo>
                    <a:lnTo>
                      <a:pt x="529" y="139"/>
                    </a:lnTo>
                    <a:lnTo>
                      <a:pt x="522" y="146"/>
                    </a:lnTo>
                    <a:lnTo>
                      <a:pt x="515" y="146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08" y="160"/>
                    </a:lnTo>
                    <a:lnTo>
                      <a:pt x="508" y="160"/>
                    </a:lnTo>
                    <a:lnTo>
                      <a:pt x="515" y="160"/>
                    </a:lnTo>
                    <a:lnTo>
                      <a:pt x="515" y="160"/>
                    </a:lnTo>
                    <a:lnTo>
                      <a:pt x="515" y="160"/>
                    </a:lnTo>
                    <a:lnTo>
                      <a:pt x="515" y="160"/>
                    </a:lnTo>
                    <a:lnTo>
                      <a:pt x="508" y="160"/>
                    </a:lnTo>
                    <a:lnTo>
                      <a:pt x="508" y="160"/>
                    </a:lnTo>
                    <a:lnTo>
                      <a:pt x="508" y="160"/>
                    </a:lnTo>
                    <a:lnTo>
                      <a:pt x="508" y="160"/>
                    </a:lnTo>
                    <a:lnTo>
                      <a:pt x="508" y="167"/>
                    </a:lnTo>
                    <a:lnTo>
                      <a:pt x="501" y="167"/>
                    </a:lnTo>
                    <a:lnTo>
                      <a:pt x="501" y="167"/>
                    </a:lnTo>
                    <a:lnTo>
                      <a:pt x="495" y="167"/>
                    </a:lnTo>
                    <a:lnTo>
                      <a:pt x="495" y="174"/>
                    </a:lnTo>
                    <a:lnTo>
                      <a:pt x="495" y="174"/>
                    </a:lnTo>
                    <a:lnTo>
                      <a:pt x="495" y="174"/>
                    </a:lnTo>
                    <a:lnTo>
                      <a:pt x="495" y="174"/>
                    </a:lnTo>
                    <a:lnTo>
                      <a:pt x="495" y="174"/>
                    </a:lnTo>
                    <a:lnTo>
                      <a:pt x="481" y="180"/>
                    </a:lnTo>
                    <a:lnTo>
                      <a:pt x="481" y="180"/>
                    </a:lnTo>
                    <a:lnTo>
                      <a:pt x="481" y="180"/>
                    </a:lnTo>
                    <a:lnTo>
                      <a:pt x="474" y="180"/>
                    </a:lnTo>
                    <a:lnTo>
                      <a:pt x="474" y="187"/>
                    </a:lnTo>
                    <a:lnTo>
                      <a:pt x="474" y="187"/>
                    </a:lnTo>
                    <a:lnTo>
                      <a:pt x="467" y="187"/>
                    </a:lnTo>
                    <a:lnTo>
                      <a:pt x="460" y="194"/>
                    </a:lnTo>
                    <a:lnTo>
                      <a:pt x="460" y="194"/>
                    </a:lnTo>
                    <a:lnTo>
                      <a:pt x="447" y="201"/>
                    </a:lnTo>
                    <a:lnTo>
                      <a:pt x="440" y="208"/>
                    </a:lnTo>
                    <a:lnTo>
                      <a:pt x="440" y="208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22"/>
                    </a:lnTo>
                    <a:lnTo>
                      <a:pt x="440" y="222"/>
                    </a:lnTo>
                    <a:lnTo>
                      <a:pt x="433" y="222"/>
                    </a:lnTo>
                    <a:lnTo>
                      <a:pt x="433" y="222"/>
                    </a:lnTo>
                    <a:lnTo>
                      <a:pt x="440" y="222"/>
                    </a:lnTo>
                    <a:lnTo>
                      <a:pt x="433" y="222"/>
                    </a:lnTo>
                    <a:lnTo>
                      <a:pt x="433" y="222"/>
                    </a:lnTo>
                    <a:lnTo>
                      <a:pt x="433" y="222"/>
                    </a:lnTo>
                    <a:lnTo>
                      <a:pt x="433" y="222"/>
                    </a:lnTo>
                    <a:lnTo>
                      <a:pt x="433" y="229"/>
                    </a:lnTo>
                    <a:lnTo>
                      <a:pt x="426" y="229"/>
                    </a:lnTo>
                    <a:lnTo>
                      <a:pt x="419" y="236"/>
                    </a:lnTo>
                    <a:lnTo>
                      <a:pt x="419" y="236"/>
                    </a:lnTo>
                    <a:lnTo>
                      <a:pt x="419" y="236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19" y="229"/>
                    </a:lnTo>
                    <a:lnTo>
                      <a:pt x="419" y="229"/>
                    </a:lnTo>
                    <a:lnTo>
                      <a:pt x="419" y="229"/>
                    </a:lnTo>
                    <a:lnTo>
                      <a:pt x="419" y="229"/>
                    </a:lnTo>
                    <a:lnTo>
                      <a:pt x="419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2"/>
                    </a:lnTo>
                    <a:lnTo>
                      <a:pt x="412" y="222"/>
                    </a:lnTo>
                    <a:lnTo>
                      <a:pt x="412" y="222"/>
                    </a:lnTo>
                    <a:lnTo>
                      <a:pt x="412" y="222"/>
                    </a:lnTo>
                    <a:lnTo>
                      <a:pt x="412" y="222"/>
                    </a:lnTo>
                    <a:lnTo>
                      <a:pt x="412" y="215"/>
                    </a:lnTo>
                    <a:lnTo>
                      <a:pt x="412" y="215"/>
                    </a:lnTo>
                    <a:lnTo>
                      <a:pt x="412" y="215"/>
                    </a:lnTo>
                    <a:lnTo>
                      <a:pt x="412" y="215"/>
                    </a:lnTo>
                    <a:lnTo>
                      <a:pt x="412" y="215"/>
                    </a:lnTo>
                    <a:lnTo>
                      <a:pt x="412" y="208"/>
                    </a:lnTo>
                    <a:lnTo>
                      <a:pt x="412" y="208"/>
                    </a:lnTo>
                    <a:lnTo>
                      <a:pt x="412" y="208"/>
                    </a:lnTo>
                    <a:lnTo>
                      <a:pt x="412" y="208"/>
                    </a:lnTo>
                    <a:lnTo>
                      <a:pt x="412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15"/>
                    </a:lnTo>
                    <a:lnTo>
                      <a:pt x="405" y="215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15"/>
                    </a:lnTo>
                    <a:lnTo>
                      <a:pt x="405" y="215"/>
                    </a:lnTo>
                    <a:lnTo>
                      <a:pt x="405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08"/>
                    </a:lnTo>
                    <a:lnTo>
                      <a:pt x="398" y="208"/>
                    </a:lnTo>
                    <a:lnTo>
                      <a:pt x="398" y="208"/>
                    </a:lnTo>
                    <a:lnTo>
                      <a:pt x="398" y="208"/>
                    </a:lnTo>
                    <a:lnTo>
                      <a:pt x="392" y="208"/>
                    </a:lnTo>
                    <a:lnTo>
                      <a:pt x="392" y="208"/>
                    </a:lnTo>
                    <a:lnTo>
                      <a:pt x="392" y="208"/>
                    </a:lnTo>
                    <a:lnTo>
                      <a:pt x="392" y="208"/>
                    </a:lnTo>
                    <a:lnTo>
                      <a:pt x="392" y="215"/>
                    </a:lnTo>
                    <a:lnTo>
                      <a:pt x="392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78" y="215"/>
                    </a:lnTo>
                    <a:lnTo>
                      <a:pt x="378" y="215"/>
                    </a:lnTo>
                    <a:lnTo>
                      <a:pt x="378" y="215"/>
                    </a:lnTo>
                    <a:lnTo>
                      <a:pt x="378" y="215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85" y="208"/>
                    </a:lnTo>
                    <a:lnTo>
                      <a:pt x="378" y="208"/>
                    </a:lnTo>
                    <a:lnTo>
                      <a:pt x="385" y="208"/>
                    </a:lnTo>
                    <a:lnTo>
                      <a:pt x="378" y="201"/>
                    </a:lnTo>
                    <a:lnTo>
                      <a:pt x="378" y="201"/>
                    </a:lnTo>
                    <a:lnTo>
                      <a:pt x="378" y="201"/>
                    </a:lnTo>
                    <a:lnTo>
                      <a:pt x="378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78" y="201"/>
                    </a:lnTo>
                    <a:lnTo>
                      <a:pt x="378" y="194"/>
                    </a:lnTo>
                    <a:lnTo>
                      <a:pt x="385" y="194"/>
                    </a:lnTo>
                    <a:lnTo>
                      <a:pt x="385" y="194"/>
                    </a:lnTo>
                    <a:lnTo>
                      <a:pt x="385" y="194"/>
                    </a:lnTo>
                    <a:lnTo>
                      <a:pt x="385" y="194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78" y="187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7"/>
                    </a:lnTo>
                    <a:lnTo>
                      <a:pt x="371" y="187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7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64" y="180"/>
                    </a:lnTo>
                    <a:lnTo>
                      <a:pt x="364" y="187"/>
                    </a:lnTo>
                    <a:lnTo>
                      <a:pt x="364" y="180"/>
                    </a:lnTo>
                    <a:lnTo>
                      <a:pt x="364" y="180"/>
                    </a:lnTo>
                    <a:lnTo>
                      <a:pt x="364" y="187"/>
                    </a:lnTo>
                    <a:lnTo>
                      <a:pt x="364" y="187"/>
                    </a:lnTo>
                    <a:lnTo>
                      <a:pt x="364" y="180"/>
                    </a:lnTo>
                    <a:lnTo>
                      <a:pt x="364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7"/>
                    </a:lnTo>
                    <a:lnTo>
                      <a:pt x="323" y="187"/>
                    </a:lnTo>
                    <a:lnTo>
                      <a:pt x="323" y="187"/>
                    </a:lnTo>
                    <a:lnTo>
                      <a:pt x="323" y="180"/>
                    </a:lnTo>
                    <a:lnTo>
                      <a:pt x="323" y="187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23" y="174"/>
                    </a:lnTo>
                    <a:lnTo>
                      <a:pt x="323" y="174"/>
                    </a:lnTo>
                    <a:lnTo>
                      <a:pt x="323" y="174"/>
                    </a:lnTo>
                    <a:lnTo>
                      <a:pt x="323" y="174"/>
                    </a:lnTo>
                    <a:lnTo>
                      <a:pt x="323" y="174"/>
                    </a:lnTo>
                    <a:lnTo>
                      <a:pt x="323" y="167"/>
                    </a:lnTo>
                    <a:lnTo>
                      <a:pt x="316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53"/>
                    </a:lnTo>
                    <a:lnTo>
                      <a:pt x="330" y="153"/>
                    </a:lnTo>
                    <a:lnTo>
                      <a:pt x="330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16" y="153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2"/>
                    </a:lnTo>
                    <a:lnTo>
                      <a:pt x="309" y="139"/>
                    </a:lnTo>
                    <a:lnTo>
                      <a:pt x="309" y="132"/>
                    </a:lnTo>
                    <a:lnTo>
                      <a:pt x="309" y="139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89" y="97"/>
                    </a:lnTo>
                    <a:lnTo>
                      <a:pt x="295" y="97"/>
                    </a:lnTo>
                    <a:lnTo>
                      <a:pt x="295" y="90"/>
                    </a:lnTo>
                    <a:lnTo>
                      <a:pt x="295" y="90"/>
                    </a:lnTo>
                    <a:lnTo>
                      <a:pt x="289" y="90"/>
                    </a:lnTo>
                    <a:lnTo>
                      <a:pt x="289" y="90"/>
                    </a:lnTo>
                    <a:lnTo>
                      <a:pt x="295" y="90"/>
                    </a:lnTo>
                    <a:lnTo>
                      <a:pt x="295" y="90"/>
                    </a:lnTo>
                    <a:lnTo>
                      <a:pt x="295" y="90"/>
                    </a:lnTo>
                    <a:lnTo>
                      <a:pt x="295" y="90"/>
                    </a:lnTo>
                    <a:lnTo>
                      <a:pt x="295" y="83"/>
                    </a:lnTo>
                    <a:lnTo>
                      <a:pt x="295" y="83"/>
                    </a:lnTo>
                    <a:lnTo>
                      <a:pt x="295" y="83"/>
                    </a:lnTo>
                    <a:lnTo>
                      <a:pt x="289" y="83"/>
                    </a:lnTo>
                    <a:lnTo>
                      <a:pt x="289" y="83"/>
                    </a:lnTo>
                    <a:lnTo>
                      <a:pt x="289" y="83"/>
                    </a:lnTo>
                    <a:lnTo>
                      <a:pt x="295" y="83"/>
                    </a:lnTo>
                    <a:lnTo>
                      <a:pt x="289" y="83"/>
                    </a:lnTo>
                    <a:lnTo>
                      <a:pt x="295" y="83"/>
                    </a:lnTo>
                    <a:lnTo>
                      <a:pt x="289" y="83"/>
                    </a:lnTo>
                    <a:lnTo>
                      <a:pt x="295" y="83"/>
                    </a:lnTo>
                    <a:lnTo>
                      <a:pt x="295" y="83"/>
                    </a:lnTo>
                    <a:lnTo>
                      <a:pt x="295" y="83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89" y="76"/>
                    </a:lnTo>
                    <a:lnTo>
                      <a:pt x="295" y="69"/>
                    </a:lnTo>
                    <a:lnTo>
                      <a:pt x="295" y="76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89" y="69"/>
                    </a:lnTo>
                    <a:lnTo>
                      <a:pt x="289" y="69"/>
                    </a:lnTo>
                    <a:lnTo>
                      <a:pt x="289" y="69"/>
                    </a:lnTo>
                    <a:lnTo>
                      <a:pt x="289" y="69"/>
                    </a:lnTo>
                    <a:lnTo>
                      <a:pt x="289" y="69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2" y="56"/>
                    </a:lnTo>
                    <a:lnTo>
                      <a:pt x="282" y="56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68" y="49"/>
                    </a:lnTo>
                    <a:lnTo>
                      <a:pt x="268" y="49"/>
                    </a:lnTo>
                    <a:lnTo>
                      <a:pt x="268" y="49"/>
                    </a:lnTo>
                    <a:lnTo>
                      <a:pt x="268" y="49"/>
                    </a:lnTo>
                    <a:lnTo>
                      <a:pt x="268" y="49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1" y="42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0" y="35"/>
                    </a:lnTo>
                    <a:lnTo>
                      <a:pt x="220" y="35"/>
                    </a:lnTo>
                    <a:lnTo>
                      <a:pt x="220" y="35"/>
                    </a:lnTo>
                    <a:lnTo>
                      <a:pt x="220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199" y="35"/>
                    </a:lnTo>
                    <a:lnTo>
                      <a:pt x="199" y="35"/>
                    </a:lnTo>
                    <a:lnTo>
                      <a:pt x="199" y="35"/>
                    </a:lnTo>
                    <a:lnTo>
                      <a:pt x="199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28"/>
                    </a:lnTo>
                    <a:lnTo>
                      <a:pt x="192" y="28"/>
                    </a:lnTo>
                    <a:lnTo>
                      <a:pt x="192" y="28"/>
                    </a:lnTo>
                    <a:lnTo>
                      <a:pt x="192" y="28"/>
                    </a:lnTo>
                    <a:lnTo>
                      <a:pt x="186" y="21"/>
                    </a:lnTo>
                    <a:lnTo>
                      <a:pt x="186" y="21"/>
                    </a:lnTo>
                    <a:lnTo>
                      <a:pt x="186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2" y="21"/>
                    </a:lnTo>
                    <a:lnTo>
                      <a:pt x="172" y="21"/>
                    </a:lnTo>
                    <a:lnTo>
                      <a:pt x="165" y="21"/>
                    </a:lnTo>
                    <a:lnTo>
                      <a:pt x="165" y="21"/>
                    </a:lnTo>
                    <a:lnTo>
                      <a:pt x="158" y="21"/>
                    </a:lnTo>
                    <a:lnTo>
                      <a:pt x="158" y="14"/>
                    </a:lnTo>
                    <a:lnTo>
                      <a:pt x="158" y="14"/>
                    </a:lnTo>
                    <a:lnTo>
                      <a:pt x="158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38" y="14"/>
                    </a:lnTo>
                    <a:lnTo>
                      <a:pt x="138" y="14"/>
                    </a:lnTo>
                    <a:lnTo>
                      <a:pt x="138" y="14"/>
                    </a:lnTo>
                    <a:lnTo>
                      <a:pt x="138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03" y="7"/>
                    </a:lnTo>
                    <a:lnTo>
                      <a:pt x="103" y="7"/>
                    </a:lnTo>
                    <a:lnTo>
                      <a:pt x="103" y="7"/>
                    </a:lnTo>
                    <a:lnTo>
                      <a:pt x="96" y="7"/>
                    </a:lnTo>
                    <a:lnTo>
                      <a:pt x="96" y="7"/>
                    </a:lnTo>
                    <a:lnTo>
                      <a:pt x="96" y="7"/>
                    </a:lnTo>
                    <a:lnTo>
                      <a:pt x="96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76" y="0"/>
                    </a:lnTo>
                    <a:lnTo>
                      <a:pt x="76" y="7"/>
                    </a:lnTo>
                    <a:lnTo>
                      <a:pt x="76" y="7"/>
                    </a:lnTo>
                    <a:lnTo>
                      <a:pt x="76" y="7"/>
                    </a:lnTo>
                    <a:lnTo>
                      <a:pt x="76" y="14"/>
                    </a:lnTo>
                    <a:lnTo>
                      <a:pt x="76" y="14"/>
                    </a:lnTo>
                    <a:lnTo>
                      <a:pt x="76" y="14"/>
                    </a:lnTo>
                    <a:lnTo>
                      <a:pt x="69" y="14"/>
                    </a:lnTo>
                    <a:lnTo>
                      <a:pt x="69" y="14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300560" y="5146560"/>
                <a:ext cx="700200" cy="416160"/>
              </a:xfrm>
              <a:custGeom>
                <a:avLst/>
                <a:gdLst/>
                <a:ahLst/>
                <a:rect l="l" t="t" r="r" b="b"/>
                <a:pathLst>
                  <a:path w="556" h="354">
                    <a:moveTo>
                      <a:pt x="0" y="250"/>
                    </a:move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243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14" y="236"/>
                    </a:lnTo>
                    <a:lnTo>
                      <a:pt x="14" y="229"/>
                    </a:lnTo>
                    <a:lnTo>
                      <a:pt x="14" y="229"/>
                    </a:lnTo>
                    <a:lnTo>
                      <a:pt x="14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08"/>
                    </a:lnTo>
                    <a:lnTo>
                      <a:pt x="14" y="208"/>
                    </a:lnTo>
                    <a:lnTo>
                      <a:pt x="14" y="201"/>
                    </a:lnTo>
                    <a:lnTo>
                      <a:pt x="20" y="201"/>
                    </a:lnTo>
                    <a:lnTo>
                      <a:pt x="20" y="194"/>
                    </a:lnTo>
                    <a:lnTo>
                      <a:pt x="20" y="194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0"/>
                    </a:lnTo>
                    <a:lnTo>
                      <a:pt x="27" y="180"/>
                    </a:lnTo>
                    <a:lnTo>
                      <a:pt x="27" y="174"/>
                    </a:lnTo>
                    <a:lnTo>
                      <a:pt x="27" y="174"/>
                    </a:lnTo>
                    <a:lnTo>
                      <a:pt x="20" y="174"/>
                    </a:lnTo>
                    <a:lnTo>
                      <a:pt x="20" y="167"/>
                    </a:lnTo>
                    <a:lnTo>
                      <a:pt x="27" y="167"/>
                    </a:lnTo>
                    <a:lnTo>
                      <a:pt x="27" y="160"/>
                    </a:lnTo>
                    <a:lnTo>
                      <a:pt x="27" y="160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39"/>
                    </a:lnTo>
                    <a:lnTo>
                      <a:pt x="20" y="139"/>
                    </a:lnTo>
                    <a:lnTo>
                      <a:pt x="20" y="139"/>
                    </a:lnTo>
                    <a:lnTo>
                      <a:pt x="20" y="139"/>
                    </a:lnTo>
                    <a:lnTo>
                      <a:pt x="20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34" y="132"/>
                    </a:lnTo>
                    <a:lnTo>
                      <a:pt x="34" y="132"/>
                    </a:lnTo>
                    <a:lnTo>
                      <a:pt x="41" y="125"/>
                    </a:lnTo>
                    <a:lnTo>
                      <a:pt x="41" y="125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8" y="118"/>
                    </a:lnTo>
                    <a:lnTo>
                      <a:pt x="48" y="111"/>
                    </a:lnTo>
                    <a:lnTo>
                      <a:pt x="41" y="111"/>
                    </a:lnTo>
                    <a:lnTo>
                      <a:pt x="48" y="111"/>
                    </a:lnTo>
                    <a:lnTo>
                      <a:pt x="41" y="111"/>
                    </a:lnTo>
                    <a:lnTo>
                      <a:pt x="48" y="111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0"/>
                    </a:lnTo>
                    <a:lnTo>
                      <a:pt x="48" y="90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62" y="76"/>
                    </a:lnTo>
                    <a:lnTo>
                      <a:pt x="68" y="69"/>
                    </a:lnTo>
                    <a:lnTo>
                      <a:pt x="68" y="69"/>
                    </a:lnTo>
                    <a:lnTo>
                      <a:pt x="75" y="69"/>
                    </a:lnTo>
                    <a:lnTo>
                      <a:pt x="75" y="69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49"/>
                    </a:lnTo>
                    <a:lnTo>
                      <a:pt x="82" y="42"/>
                    </a:lnTo>
                    <a:lnTo>
                      <a:pt x="82" y="42"/>
                    </a:lnTo>
                    <a:lnTo>
                      <a:pt x="82" y="35"/>
                    </a:lnTo>
                    <a:lnTo>
                      <a:pt x="82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28"/>
                    </a:lnTo>
                    <a:lnTo>
                      <a:pt x="96" y="28"/>
                    </a:lnTo>
                    <a:lnTo>
                      <a:pt x="96" y="28"/>
                    </a:lnTo>
                    <a:lnTo>
                      <a:pt x="96" y="28"/>
                    </a:lnTo>
                    <a:lnTo>
                      <a:pt x="103" y="28"/>
                    </a:lnTo>
                    <a:lnTo>
                      <a:pt x="103" y="2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7" y="21"/>
                    </a:lnTo>
                    <a:lnTo>
                      <a:pt x="117" y="21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0" y="14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44" y="0"/>
                    </a:lnTo>
                    <a:lnTo>
                      <a:pt x="144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65" y="7"/>
                    </a:lnTo>
                    <a:lnTo>
                      <a:pt x="165" y="7"/>
                    </a:lnTo>
                    <a:lnTo>
                      <a:pt x="171" y="7"/>
                    </a:lnTo>
                    <a:lnTo>
                      <a:pt x="171" y="0"/>
                    </a:lnTo>
                    <a:lnTo>
                      <a:pt x="171" y="7"/>
                    </a:lnTo>
                    <a:lnTo>
                      <a:pt x="171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14"/>
                    </a:lnTo>
                    <a:lnTo>
                      <a:pt x="199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6" y="0"/>
                    </a:lnTo>
                    <a:lnTo>
                      <a:pt x="226" y="7"/>
                    </a:lnTo>
                    <a:lnTo>
                      <a:pt x="226" y="7"/>
                    </a:lnTo>
                    <a:lnTo>
                      <a:pt x="226" y="7"/>
                    </a:lnTo>
                    <a:lnTo>
                      <a:pt x="233" y="7"/>
                    </a:lnTo>
                    <a:lnTo>
                      <a:pt x="233" y="7"/>
                    </a:lnTo>
                    <a:lnTo>
                      <a:pt x="233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56"/>
                    </a:lnTo>
                    <a:lnTo>
                      <a:pt x="412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76"/>
                    </a:lnTo>
                    <a:lnTo>
                      <a:pt x="425" y="69"/>
                    </a:lnTo>
                    <a:lnTo>
                      <a:pt x="419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19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19" y="90"/>
                    </a:lnTo>
                    <a:lnTo>
                      <a:pt x="419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7"/>
                    </a:lnTo>
                    <a:lnTo>
                      <a:pt x="419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9"/>
                    </a:lnTo>
                    <a:lnTo>
                      <a:pt x="439" y="132"/>
                    </a:lnTo>
                    <a:lnTo>
                      <a:pt x="439" y="139"/>
                    </a:lnTo>
                    <a:lnTo>
                      <a:pt x="446" y="132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60" y="153"/>
                    </a:lnTo>
                    <a:lnTo>
                      <a:pt x="460" y="153"/>
                    </a:lnTo>
                    <a:lnTo>
                      <a:pt x="453" y="153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46" y="167"/>
                    </a:lnTo>
                    <a:lnTo>
                      <a:pt x="453" y="167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53" y="187"/>
                    </a:lnTo>
                    <a:lnTo>
                      <a:pt x="453" y="180"/>
                    </a:lnTo>
                    <a:lnTo>
                      <a:pt x="453" y="187"/>
                    </a:lnTo>
                    <a:lnTo>
                      <a:pt x="453" y="187"/>
                    </a:lnTo>
                    <a:lnTo>
                      <a:pt x="460" y="187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94" y="180"/>
                    </a:lnTo>
                    <a:lnTo>
                      <a:pt x="494" y="180"/>
                    </a:lnTo>
                    <a:lnTo>
                      <a:pt x="494" y="187"/>
                    </a:lnTo>
                    <a:lnTo>
                      <a:pt x="494" y="187"/>
                    </a:lnTo>
                    <a:lnTo>
                      <a:pt x="494" y="180"/>
                    </a:lnTo>
                    <a:lnTo>
                      <a:pt x="494" y="180"/>
                    </a:lnTo>
                    <a:lnTo>
                      <a:pt x="494" y="187"/>
                    </a:lnTo>
                    <a:lnTo>
                      <a:pt x="494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7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7"/>
                    </a:lnTo>
                    <a:lnTo>
                      <a:pt x="501" y="187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08" y="194"/>
                    </a:lnTo>
                    <a:lnTo>
                      <a:pt x="508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15" y="208"/>
                    </a:lnTo>
                    <a:lnTo>
                      <a:pt x="508" y="208"/>
                    </a:lnTo>
                    <a:lnTo>
                      <a:pt x="515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22" y="215"/>
                    </a:lnTo>
                    <a:lnTo>
                      <a:pt x="522" y="215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43"/>
                    </a:lnTo>
                    <a:lnTo>
                      <a:pt x="542" y="243"/>
                    </a:lnTo>
                    <a:lnTo>
                      <a:pt x="542" y="243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28" y="257"/>
                    </a:lnTo>
                    <a:lnTo>
                      <a:pt x="528" y="264"/>
                    </a:lnTo>
                    <a:lnTo>
                      <a:pt x="522" y="264"/>
                    </a:lnTo>
                    <a:lnTo>
                      <a:pt x="522" y="264"/>
                    </a:lnTo>
                    <a:lnTo>
                      <a:pt x="522" y="271"/>
                    </a:lnTo>
                    <a:lnTo>
                      <a:pt x="515" y="278"/>
                    </a:lnTo>
                    <a:lnTo>
                      <a:pt x="515" y="278"/>
                    </a:lnTo>
                    <a:lnTo>
                      <a:pt x="515" y="285"/>
                    </a:lnTo>
                    <a:lnTo>
                      <a:pt x="515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487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74" y="291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1"/>
                    </a:lnTo>
                    <a:lnTo>
                      <a:pt x="467" y="298"/>
                    </a:lnTo>
                    <a:lnTo>
                      <a:pt x="467" y="291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46" y="298"/>
                    </a:lnTo>
                    <a:lnTo>
                      <a:pt x="446" y="305"/>
                    </a:lnTo>
                    <a:lnTo>
                      <a:pt x="453" y="305"/>
                    </a:lnTo>
                    <a:lnTo>
                      <a:pt x="446" y="305"/>
                    </a:lnTo>
                    <a:lnTo>
                      <a:pt x="453" y="305"/>
                    </a:lnTo>
                    <a:lnTo>
                      <a:pt x="453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39" y="305"/>
                    </a:lnTo>
                    <a:lnTo>
                      <a:pt x="446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32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05"/>
                    </a:lnTo>
                    <a:lnTo>
                      <a:pt x="412" y="305"/>
                    </a:lnTo>
                    <a:lnTo>
                      <a:pt x="412" y="312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298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57" y="305"/>
                    </a:lnTo>
                    <a:lnTo>
                      <a:pt x="357" y="305"/>
                    </a:lnTo>
                    <a:lnTo>
                      <a:pt x="357" y="305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36" y="298"/>
                    </a:lnTo>
                    <a:lnTo>
                      <a:pt x="336" y="298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29" y="305"/>
                    </a:lnTo>
                    <a:lnTo>
                      <a:pt x="329" y="305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2" y="312"/>
                    </a:lnTo>
                    <a:lnTo>
                      <a:pt x="322" y="312"/>
                    </a:lnTo>
                    <a:lnTo>
                      <a:pt x="322" y="312"/>
                    </a:lnTo>
                    <a:lnTo>
                      <a:pt x="322" y="312"/>
                    </a:lnTo>
                    <a:lnTo>
                      <a:pt x="322" y="312"/>
                    </a:lnTo>
                    <a:lnTo>
                      <a:pt x="322" y="319"/>
                    </a:lnTo>
                    <a:lnTo>
                      <a:pt x="322" y="319"/>
                    </a:lnTo>
                    <a:lnTo>
                      <a:pt x="316" y="319"/>
                    </a:lnTo>
                    <a:lnTo>
                      <a:pt x="316" y="312"/>
                    </a:lnTo>
                    <a:lnTo>
                      <a:pt x="316" y="319"/>
                    </a:lnTo>
                    <a:lnTo>
                      <a:pt x="316" y="319"/>
                    </a:lnTo>
                    <a:lnTo>
                      <a:pt x="316" y="319"/>
                    </a:lnTo>
                    <a:lnTo>
                      <a:pt x="316" y="319"/>
                    </a:lnTo>
                    <a:lnTo>
                      <a:pt x="316" y="319"/>
                    </a:lnTo>
                    <a:lnTo>
                      <a:pt x="316" y="312"/>
                    </a:lnTo>
                    <a:lnTo>
                      <a:pt x="309" y="312"/>
                    </a:lnTo>
                    <a:lnTo>
                      <a:pt x="309" y="319"/>
                    </a:lnTo>
                    <a:lnTo>
                      <a:pt x="309" y="319"/>
                    </a:lnTo>
                    <a:lnTo>
                      <a:pt x="309" y="319"/>
                    </a:lnTo>
                    <a:lnTo>
                      <a:pt x="309" y="319"/>
                    </a:lnTo>
                    <a:lnTo>
                      <a:pt x="309" y="319"/>
                    </a:lnTo>
                    <a:lnTo>
                      <a:pt x="309" y="312"/>
                    </a:lnTo>
                    <a:lnTo>
                      <a:pt x="309" y="312"/>
                    </a:lnTo>
                    <a:lnTo>
                      <a:pt x="302" y="312"/>
                    </a:lnTo>
                    <a:lnTo>
                      <a:pt x="302" y="312"/>
                    </a:lnTo>
                    <a:lnTo>
                      <a:pt x="302" y="312"/>
                    </a:lnTo>
                    <a:lnTo>
                      <a:pt x="302" y="312"/>
                    </a:lnTo>
                    <a:lnTo>
                      <a:pt x="295" y="312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1" y="319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40"/>
                    </a:lnTo>
                    <a:lnTo>
                      <a:pt x="281" y="340"/>
                    </a:lnTo>
                    <a:lnTo>
                      <a:pt x="281" y="340"/>
                    </a:lnTo>
                    <a:lnTo>
                      <a:pt x="281" y="340"/>
                    </a:lnTo>
                    <a:lnTo>
                      <a:pt x="281" y="340"/>
                    </a:lnTo>
                    <a:lnTo>
                      <a:pt x="288" y="340"/>
                    </a:lnTo>
                    <a:lnTo>
                      <a:pt x="288" y="340"/>
                    </a:lnTo>
                    <a:lnTo>
                      <a:pt x="288" y="340"/>
                    </a:lnTo>
                    <a:lnTo>
                      <a:pt x="288" y="340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74" y="347"/>
                    </a:lnTo>
                    <a:lnTo>
                      <a:pt x="274" y="347"/>
                    </a:lnTo>
                    <a:lnTo>
                      <a:pt x="274" y="347"/>
                    </a:lnTo>
                    <a:lnTo>
                      <a:pt x="274" y="347"/>
                    </a:lnTo>
                    <a:lnTo>
                      <a:pt x="274" y="347"/>
                    </a:lnTo>
                    <a:lnTo>
                      <a:pt x="274" y="354"/>
                    </a:lnTo>
                    <a:lnTo>
                      <a:pt x="274" y="354"/>
                    </a:lnTo>
                    <a:lnTo>
                      <a:pt x="274" y="354"/>
                    </a:lnTo>
                    <a:lnTo>
                      <a:pt x="274" y="354"/>
                    </a:lnTo>
                    <a:lnTo>
                      <a:pt x="268" y="354"/>
                    </a:lnTo>
                    <a:lnTo>
                      <a:pt x="274" y="354"/>
                    </a:lnTo>
                    <a:lnTo>
                      <a:pt x="268" y="354"/>
                    </a:lnTo>
                    <a:lnTo>
                      <a:pt x="268" y="354"/>
                    </a:lnTo>
                    <a:lnTo>
                      <a:pt x="268" y="347"/>
                    </a:lnTo>
                    <a:lnTo>
                      <a:pt x="268" y="347"/>
                    </a:lnTo>
                    <a:lnTo>
                      <a:pt x="268" y="347"/>
                    </a:lnTo>
                    <a:lnTo>
                      <a:pt x="268" y="347"/>
                    </a:lnTo>
                    <a:lnTo>
                      <a:pt x="261" y="347"/>
                    </a:lnTo>
                    <a:lnTo>
                      <a:pt x="268" y="347"/>
                    </a:lnTo>
                    <a:lnTo>
                      <a:pt x="261" y="347"/>
                    </a:lnTo>
                    <a:lnTo>
                      <a:pt x="261" y="347"/>
                    </a:lnTo>
                    <a:lnTo>
                      <a:pt x="261" y="347"/>
                    </a:lnTo>
                    <a:lnTo>
                      <a:pt x="261" y="347"/>
                    </a:lnTo>
                    <a:lnTo>
                      <a:pt x="254" y="347"/>
                    </a:lnTo>
                    <a:lnTo>
                      <a:pt x="254" y="347"/>
                    </a:lnTo>
                    <a:lnTo>
                      <a:pt x="254" y="347"/>
                    </a:lnTo>
                    <a:lnTo>
                      <a:pt x="254" y="347"/>
                    </a:lnTo>
                    <a:lnTo>
                      <a:pt x="254" y="340"/>
                    </a:lnTo>
                    <a:lnTo>
                      <a:pt x="247" y="340"/>
                    </a:lnTo>
                    <a:lnTo>
                      <a:pt x="247" y="347"/>
                    </a:lnTo>
                    <a:lnTo>
                      <a:pt x="247" y="347"/>
                    </a:lnTo>
                    <a:lnTo>
                      <a:pt x="240" y="340"/>
                    </a:lnTo>
                    <a:lnTo>
                      <a:pt x="240" y="347"/>
                    </a:lnTo>
                    <a:lnTo>
                      <a:pt x="240" y="347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13" y="340"/>
                    </a:lnTo>
                    <a:lnTo>
                      <a:pt x="213" y="340"/>
                    </a:lnTo>
                    <a:lnTo>
                      <a:pt x="213" y="340"/>
                    </a:lnTo>
                    <a:lnTo>
                      <a:pt x="213" y="340"/>
                    </a:lnTo>
                    <a:lnTo>
                      <a:pt x="213" y="340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78" y="333"/>
                    </a:lnTo>
                    <a:lnTo>
                      <a:pt x="178" y="333"/>
                    </a:lnTo>
                    <a:lnTo>
                      <a:pt x="178" y="333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1" y="333"/>
                    </a:lnTo>
                    <a:lnTo>
                      <a:pt x="171" y="326"/>
                    </a:lnTo>
                    <a:lnTo>
                      <a:pt x="171" y="333"/>
                    </a:lnTo>
                    <a:lnTo>
                      <a:pt x="171" y="326"/>
                    </a:lnTo>
                    <a:lnTo>
                      <a:pt x="171" y="333"/>
                    </a:lnTo>
                    <a:lnTo>
                      <a:pt x="171" y="333"/>
                    </a:lnTo>
                    <a:lnTo>
                      <a:pt x="171" y="333"/>
                    </a:lnTo>
                    <a:lnTo>
                      <a:pt x="171" y="326"/>
                    </a:lnTo>
                    <a:lnTo>
                      <a:pt x="171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0" y="319"/>
                    </a:lnTo>
                    <a:lnTo>
                      <a:pt x="110" y="312"/>
                    </a:lnTo>
                    <a:lnTo>
                      <a:pt x="110" y="319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9"/>
                    </a:lnTo>
                    <a:lnTo>
                      <a:pt x="103" y="319"/>
                    </a:lnTo>
                    <a:lnTo>
                      <a:pt x="96" y="319"/>
                    </a:lnTo>
                    <a:lnTo>
                      <a:pt x="96" y="319"/>
                    </a:lnTo>
                    <a:lnTo>
                      <a:pt x="96" y="319"/>
                    </a:lnTo>
                    <a:lnTo>
                      <a:pt x="89" y="319"/>
                    </a:lnTo>
                    <a:lnTo>
                      <a:pt x="89" y="319"/>
                    </a:lnTo>
                    <a:lnTo>
                      <a:pt x="89" y="319"/>
                    </a:lnTo>
                    <a:lnTo>
                      <a:pt x="89" y="319"/>
                    </a:lnTo>
                    <a:lnTo>
                      <a:pt x="89" y="319"/>
                    </a:lnTo>
                    <a:lnTo>
                      <a:pt x="82" y="319"/>
                    </a:lnTo>
                    <a:lnTo>
                      <a:pt x="82" y="319"/>
                    </a:lnTo>
                    <a:lnTo>
                      <a:pt x="82" y="319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1"/>
                    </a:lnTo>
                    <a:lnTo>
                      <a:pt x="68" y="298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2" y="291"/>
                    </a:lnTo>
                    <a:lnTo>
                      <a:pt x="68" y="291"/>
                    </a:lnTo>
                    <a:lnTo>
                      <a:pt x="68" y="285"/>
                    </a:lnTo>
                    <a:lnTo>
                      <a:pt x="68" y="291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2" y="285"/>
                    </a:lnTo>
                    <a:lnTo>
                      <a:pt x="62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2" y="285"/>
                    </a:lnTo>
                    <a:lnTo>
                      <a:pt x="68" y="285"/>
                    </a:lnTo>
                    <a:lnTo>
                      <a:pt x="62" y="278"/>
                    </a:lnTo>
                    <a:lnTo>
                      <a:pt x="62" y="278"/>
                    </a:lnTo>
                    <a:lnTo>
                      <a:pt x="68" y="278"/>
                    </a:lnTo>
                    <a:lnTo>
                      <a:pt x="68" y="278"/>
                    </a:lnTo>
                    <a:lnTo>
                      <a:pt x="68" y="278"/>
                    </a:lnTo>
                    <a:lnTo>
                      <a:pt x="68" y="278"/>
                    </a:lnTo>
                    <a:lnTo>
                      <a:pt x="68" y="278"/>
                    </a:lnTo>
                    <a:lnTo>
                      <a:pt x="62" y="278"/>
                    </a:lnTo>
                    <a:lnTo>
                      <a:pt x="68" y="278"/>
                    </a:lnTo>
                    <a:lnTo>
                      <a:pt x="62" y="278"/>
                    </a:lnTo>
                    <a:lnTo>
                      <a:pt x="62" y="278"/>
                    </a:lnTo>
                    <a:lnTo>
                      <a:pt x="62" y="278"/>
                    </a:lnTo>
                    <a:lnTo>
                      <a:pt x="68" y="278"/>
                    </a:lnTo>
                    <a:lnTo>
                      <a:pt x="68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57"/>
                    </a:lnTo>
                    <a:lnTo>
                      <a:pt x="55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1" y="257"/>
                    </a:lnTo>
                    <a:lnTo>
                      <a:pt x="41" y="264"/>
                    </a:lnTo>
                    <a:lnTo>
                      <a:pt x="41" y="264"/>
                    </a:lnTo>
                    <a:lnTo>
                      <a:pt x="41" y="264"/>
                    </a:lnTo>
                    <a:lnTo>
                      <a:pt x="41" y="264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41" y="250"/>
                    </a:lnTo>
                    <a:lnTo>
                      <a:pt x="41" y="250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64"/>
                    </a:lnTo>
                    <a:lnTo>
                      <a:pt x="34" y="264"/>
                    </a:lnTo>
                    <a:lnTo>
                      <a:pt x="27" y="257"/>
                    </a:lnTo>
                    <a:lnTo>
                      <a:pt x="27" y="257"/>
                    </a:lnTo>
                    <a:lnTo>
                      <a:pt x="27" y="257"/>
                    </a:lnTo>
                    <a:lnTo>
                      <a:pt x="27" y="257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14" y="264"/>
                    </a:lnTo>
                    <a:lnTo>
                      <a:pt x="14" y="271"/>
                    </a:lnTo>
                    <a:lnTo>
                      <a:pt x="14" y="271"/>
                    </a:lnTo>
                    <a:lnTo>
                      <a:pt x="14" y="271"/>
                    </a:lnTo>
                    <a:lnTo>
                      <a:pt x="14" y="264"/>
                    </a:lnTo>
                    <a:lnTo>
                      <a:pt x="14" y="264"/>
                    </a:lnTo>
                    <a:lnTo>
                      <a:pt x="14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57"/>
                    </a:lnTo>
                    <a:lnTo>
                      <a:pt x="7" y="264"/>
                    </a:lnTo>
                    <a:lnTo>
                      <a:pt x="0" y="264"/>
                    </a:lnTo>
                    <a:lnTo>
                      <a:pt x="0" y="257"/>
                    </a:lnTo>
                    <a:lnTo>
                      <a:pt x="0" y="257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0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300560" y="5146560"/>
                <a:ext cx="700200" cy="366840"/>
              </a:xfrm>
              <a:custGeom>
                <a:avLst/>
                <a:gdLst/>
                <a:ahLst/>
                <a:rect l="l" t="t" r="r" b="b"/>
                <a:pathLst>
                  <a:path w="556" h="312">
                    <a:moveTo>
                      <a:pt x="0" y="250"/>
                    </a:move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243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14" y="236"/>
                    </a:lnTo>
                    <a:lnTo>
                      <a:pt x="14" y="229"/>
                    </a:lnTo>
                    <a:lnTo>
                      <a:pt x="14" y="229"/>
                    </a:lnTo>
                    <a:lnTo>
                      <a:pt x="14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08"/>
                    </a:lnTo>
                    <a:lnTo>
                      <a:pt x="14" y="208"/>
                    </a:lnTo>
                    <a:lnTo>
                      <a:pt x="14" y="201"/>
                    </a:lnTo>
                    <a:lnTo>
                      <a:pt x="20" y="201"/>
                    </a:lnTo>
                    <a:lnTo>
                      <a:pt x="20" y="194"/>
                    </a:lnTo>
                    <a:lnTo>
                      <a:pt x="20" y="194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0"/>
                    </a:lnTo>
                    <a:lnTo>
                      <a:pt x="27" y="180"/>
                    </a:lnTo>
                    <a:lnTo>
                      <a:pt x="27" y="174"/>
                    </a:lnTo>
                    <a:lnTo>
                      <a:pt x="27" y="174"/>
                    </a:lnTo>
                    <a:lnTo>
                      <a:pt x="20" y="174"/>
                    </a:lnTo>
                    <a:lnTo>
                      <a:pt x="20" y="167"/>
                    </a:lnTo>
                    <a:lnTo>
                      <a:pt x="27" y="167"/>
                    </a:lnTo>
                    <a:lnTo>
                      <a:pt x="27" y="160"/>
                    </a:lnTo>
                    <a:lnTo>
                      <a:pt x="27" y="160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39"/>
                    </a:lnTo>
                    <a:lnTo>
                      <a:pt x="20" y="139"/>
                    </a:lnTo>
                    <a:lnTo>
                      <a:pt x="20" y="139"/>
                    </a:lnTo>
                    <a:lnTo>
                      <a:pt x="20" y="139"/>
                    </a:lnTo>
                    <a:lnTo>
                      <a:pt x="20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34" y="132"/>
                    </a:lnTo>
                    <a:lnTo>
                      <a:pt x="34" y="132"/>
                    </a:lnTo>
                    <a:lnTo>
                      <a:pt x="41" y="125"/>
                    </a:lnTo>
                    <a:lnTo>
                      <a:pt x="41" y="125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8" y="118"/>
                    </a:lnTo>
                    <a:lnTo>
                      <a:pt x="48" y="111"/>
                    </a:lnTo>
                    <a:lnTo>
                      <a:pt x="41" y="111"/>
                    </a:lnTo>
                    <a:lnTo>
                      <a:pt x="48" y="111"/>
                    </a:lnTo>
                    <a:lnTo>
                      <a:pt x="41" y="111"/>
                    </a:lnTo>
                    <a:lnTo>
                      <a:pt x="48" y="111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0"/>
                    </a:lnTo>
                    <a:lnTo>
                      <a:pt x="48" y="90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62" y="76"/>
                    </a:lnTo>
                    <a:lnTo>
                      <a:pt x="68" y="69"/>
                    </a:lnTo>
                    <a:lnTo>
                      <a:pt x="68" y="69"/>
                    </a:lnTo>
                    <a:lnTo>
                      <a:pt x="75" y="69"/>
                    </a:lnTo>
                    <a:lnTo>
                      <a:pt x="75" y="69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49"/>
                    </a:lnTo>
                    <a:lnTo>
                      <a:pt x="82" y="42"/>
                    </a:lnTo>
                    <a:lnTo>
                      <a:pt x="82" y="42"/>
                    </a:lnTo>
                    <a:lnTo>
                      <a:pt x="82" y="35"/>
                    </a:lnTo>
                    <a:lnTo>
                      <a:pt x="82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28"/>
                    </a:lnTo>
                    <a:lnTo>
                      <a:pt x="96" y="28"/>
                    </a:lnTo>
                    <a:lnTo>
                      <a:pt x="96" y="28"/>
                    </a:lnTo>
                    <a:lnTo>
                      <a:pt x="96" y="28"/>
                    </a:lnTo>
                    <a:lnTo>
                      <a:pt x="103" y="28"/>
                    </a:lnTo>
                    <a:lnTo>
                      <a:pt x="103" y="2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7" y="21"/>
                    </a:lnTo>
                    <a:lnTo>
                      <a:pt x="117" y="21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0" y="14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44" y="0"/>
                    </a:lnTo>
                    <a:lnTo>
                      <a:pt x="144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65" y="7"/>
                    </a:lnTo>
                    <a:lnTo>
                      <a:pt x="165" y="7"/>
                    </a:lnTo>
                    <a:lnTo>
                      <a:pt x="171" y="7"/>
                    </a:lnTo>
                    <a:lnTo>
                      <a:pt x="171" y="0"/>
                    </a:lnTo>
                    <a:lnTo>
                      <a:pt x="171" y="7"/>
                    </a:lnTo>
                    <a:lnTo>
                      <a:pt x="171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14"/>
                    </a:lnTo>
                    <a:lnTo>
                      <a:pt x="199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6" y="0"/>
                    </a:lnTo>
                    <a:lnTo>
                      <a:pt x="226" y="7"/>
                    </a:lnTo>
                    <a:lnTo>
                      <a:pt x="226" y="7"/>
                    </a:lnTo>
                    <a:lnTo>
                      <a:pt x="226" y="7"/>
                    </a:lnTo>
                    <a:lnTo>
                      <a:pt x="233" y="7"/>
                    </a:lnTo>
                    <a:lnTo>
                      <a:pt x="233" y="7"/>
                    </a:lnTo>
                    <a:lnTo>
                      <a:pt x="233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56"/>
                    </a:lnTo>
                    <a:lnTo>
                      <a:pt x="412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76"/>
                    </a:lnTo>
                    <a:lnTo>
                      <a:pt x="425" y="69"/>
                    </a:lnTo>
                    <a:lnTo>
                      <a:pt x="419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19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19" y="90"/>
                    </a:lnTo>
                    <a:lnTo>
                      <a:pt x="419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7"/>
                    </a:lnTo>
                    <a:lnTo>
                      <a:pt x="419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9"/>
                    </a:lnTo>
                    <a:lnTo>
                      <a:pt x="439" y="132"/>
                    </a:lnTo>
                    <a:lnTo>
                      <a:pt x="439" y="139"/>
                    </a:lnTo>
                    <a:lnTo>
                      <a:pt x="446" y="132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60" y="153"/>
                    </a:lnTo>
                    <a:lnTo>
                      <a:pt x="460" y="153"/>
                    </a:lnTo>
                    <a:lnTo>
                      <a:pt x="453" y="153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46" y="167"/>
                    </a:lnTo>
                    <a:lnTo>
                      <a:pt x="453" y="167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53" y="187"/>
                    </a:lnTo>
                    <a:lnTo>
                      <a:pt x="453" y="180"/>
                    </a:lnTo>
                    <a:lnTo>
                      <a:pt x="453" y="187"/>
                    </a:lnTo>
                    <a:lnTo>
                      <a:pt x="453" y="187"/>
                    </a:lnTo>
                    <a:lnTo>
                      <a:pt x="460" y="187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94" y="180"/>
                    </a:lnTo>
                    <a:lnTo>
                      <a:pt x="494" y="180"/>
                    </a:lnTo>
                    <a:lnTo>
                      <a:pt x="494" y="187"/>
                    </a:lnTo>
                    <a:lnTo>
                      <a:pt x="494" y="187"/>
                    </a:lnTo>
                    <a:lnTo>
                      <a:pt x="494" y="180"/>
                    </a:lnTo>
                    <a:lnTo>
                      <a:pt x="494" y="180"/>
                    </a:lnTo>
                    <a:lnTo>
                      <a:pt x="494" y="187"/>
                    </a:lnTo>
                    <a:lnTo>
                      <a:pt x="494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7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7"/>
                    </a:lnTo>
                    <a:lnTo>
                      <a:pt x="501" y="187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08" y="194"/>
                    </a:lnTo>
                    <a:lnTo>
                      <a:pt x="508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15" y="208"/>
                    </a:lnTo>
                    <a:lnTo>
                      <a:pt x="508" y="208"/>
                    </a:lnTo>
                    <a:lnTo>
                      <a:pt x="515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22" y="215"/>
                    </a:lnTo>
                    <a:lnTo>
                      <a:pt x="522" y="215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43"/>
                    </a:lnTo>
                    <a:lnTo>
                      <a:pt x="542" y="243"/>
                    </a:lnTo>
                    <a:lnTo>
                      <a:pt x="542" y="243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28" y="257"/>
                    </a:lnTo>
                    <a:lnTo>
                      <a:pt x="528" y="264"/>
                    </a:lnTo>
                    <a:lnTo>
                      <a:pt x="522" y="264"/>
                    </a:lnTo>
                    <a:lnTo>
                      <a:pt x="522" y="264"/>
                    </a:lnTo>
                    <a:lnTo>
                      <a:pt x="522" y="271"/>
                    </a:lnTo>
                    <a:lnTo>
                      <a:pt x="515" y="278"/>
                    </a:lnTo>
                    <a:lnTo>
                      <a:pt x="515" y="278"/>
                    </a:lnTo>
                    <a:lnTo>
                      <a:pt x="515" y="285"/>
                    </a:lnTo>
                    <a:lnTo>
                      <a:pt x="515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487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74" y="291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1"/>
                    </a:lnTo>
                    <a:lnTo>
                      <a:pt x="467" y="298"/>
                    </a:lnTo>
                    <a:lnTo>
                      <a:pt x="467" y="291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46" y="298"/>
                    </a:lnTo>
                    <a:lnTo>
                      <a:pt x="446" y="305"/>
                    </a:lnTo>
                    <a:lnTo>
                      <a:pt x="453" y="305"/>
                    </a:lnTo>
                    <a:lnTo>
                      <a:pt x="446" y="305"/>
                    </a:lnTo>
                    <a:lnTo>
                      <a:pt x="453" y="305"/>
                    </a:lnTo>
                    <a:lnTo>
                      <a:pt x="453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39" y="305"/>
                    </a:lnTo>
                    <a:lnTo>
                      <a:pt x="446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32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05"/>
                    </a:lnTo>
                    <a:lnTo>
                      <a:pt x="412" y="305"/>
                    </a:lnTo>
                    <a:lnTo>
                      <a:pt x="412" y="312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298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57" y="305"/>
                    </a:lnTo>
                    <a:lnTo>
                      <a:pt x="357" y="305"/>
                    </a:lnTo>
                    <a:lnTo>
                      <a:pt x="357" y="305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300560" y="5440680"/>
                <a:ext cx="431640" cy="122400"/>
              </a:xfrm>
              <a:custGeom>
                <a:avLst/>
                <a:gdLst/>
                <a:ahLst/>
                <a:rect l="l" t="t" r="r" b="b"/>
                <a:pathLst>
                  <a:path w="343" h="104">
                    <a:moveTo>
                      <a:pt x="343" y="48"/>
                    </a:moveTo>
                    <a:lnTo>
                      <a:pt x="343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29" y="55"/>
                    </a:lnTo>
                    <a:lnTo>
                      <a:pt x="329" y="55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2" y="62"/>
                    </a:lnTo>
                    <a:lnTo>
                      <a:pt x="322" y="62"/>
                    </a:lnTo>
                    <a:lnTo>
                      <a:pt x="322" y="62"/>
                    </a:lnTo>
                    <a:lnTo>
                      <a:pt x="322" y="62"/>
                    </a:lnTo>
                    <a:lnTo>
                      <a:pt x="322" y="62"/>
                    </a:lnTo>
                    <a:lnTo>
                      <a:pt x="322" y="69"/>
                    </a:lnTo>
                    <a:lnTo>
                      <a:pt x="322" y="69"/>
                    </a:lnTo>
                    <a:lnTo>
                      <a:pt x="316" y="69"/>
                    </a:lnTo>
                    <a:lnTo>
                      <a:pt x="316" y="62"/>
                    </a:lnTo>
                    <a:lnTo>
                      <a:pt x="316" y="69"/>
                    </a:lnTo>
                    <a:lnTo>
                      <a:pt x="316" y="69"/>
                    </a:lnTo>
                    <a:lnTo>
                      <a:pt x="316" y="69"/>
                    </a:lnTo>
                    <a:lnTo>
                      <a:pt x="316" y="69"/>
                    </a:lnTo>
                    <a:lnTo>
                      <a:pt x="316" y="69"/>
                    </a:lnTo>
                    <a:lnTo>
                      <a:pt x="316" y="62"/>
                    </a:lnTo>
                    <a:lnTo>
                      <a:pt x="309" y="62"/>
                    </a:lnTo>
                    <a:lnTo>
                      <a:pt x="309" y="69"/>
                    </a:lnTo>
                    <a:lnTo>
                      <a:pt x="309" y="69"/>
                    </a:lnTo>
                    <a:lnTo>
                      <a:pt x="309" y="69"/>
                    </a:lnTo>
                    <a:lnTo>
                      <a:pt x="309" y="69"/>
                    </a:lnTo>
                    <a:lnTo>
                      <a:pt x="309" y="69"/>
                    </a:lnTo>
                    <a:lnTo>
                      <a:pt x="309" y="62"/>
                    </a:lnTo>
                    <a:lnTo>
                      <a:pt x="309" y="62"/>
                    </a:lnTo>
                    <a:lnTo>
                      <a:pt x="302" y="62"/>
                    </a:lnTo>
                    <a:lnTo>
                      <a:pt x="302" y="62"/>
                    </a:lnTo>
                    <a:lnTo>
                      <a:pt x="302" y="62"/>
                    </a:lnTo>
                    <a:lnTo>
                      <a:pt x="302" y="62"/>
                    </a:lnTo>
                    <a:lnTo>
                      <a:pt x="295" y="62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1" y="69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8" y="90"/>
                    </a:lnTo>
                    <a:lnTo>
                      <a:pt x="288" y="90"/>
                    </a:lnTo>
                    <a:lnTo>
                      <a:pt x="288" y="90"/>
                    </a:lnTo>
                    <a:lnTo>
                      <a:pt x="288" y="90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74" y="97"/>
                    </a:lnTo>
                    <a:lnTo>
                      <a:pt x="274" y="97"/>
                    </a:lnTo>
                    <a:lnTo>
                      <a:pt x="274" y="97"/>
                    </a:lnTo>
                    <a:lnTo>
                      <a:pt x="274" y="97"/>
                    </a:lnTo>
                    <a:lnTo>
                      <a:pt x="274" y="97"/>
                    </a:lnTo>
                    <a:lnTo>
                      <a:pt x="274" y="104"/>
                    </a:lnTo>
                    <a:lnTo>
                      <a:pt x="274" y="104"/>
                    </a:lnTo>
                    <a:lnTo>
                      <a:pt x="274" y="104"/>
                    </a:lnTo>
                    <a:lnTo>
                      <a:pt x="274" y="104"/>
                    </a:lnTo>
                    <a:lnTo>
                      <a:pt x="268" y="104"/>
                    </a:lnTo>
                    <a:lnTo>
                      <a:pt x="274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1" y="97"/>
                    </a:lnTo>
                    <a:lnTo>
                      <a:pt x="268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54" y="90"/>
                    </a:lnTo>
                    <a:lnTo>
                      <a:pt x="247" y="90"/>
                    </a:lnTo>
                    <a:lnTo>
                      <a:pt x="247" y="97"/>
                    </a:lnTo>
                    <a:lnTo>
                      <a:pt x="247" y="97"/>
                    </a:lnTo>
                    <a:lnTo>
                      <a:pt x="240" y="90"/>
                    </a:lnTo>
                    <a:lnTo>
                      <a:pt x="240" y="97"/>
                    </a:lnTo>
                    <a:lnTo>
                      <a:pt x="240" y="97"/>
                    </a:lnTo>
                    <a:lnTo>
                      <a:pt x="233" y="97"/>
                    </a:lnTo>
                    <a:lnTo>
                      <a:pt x="233" y="97"/>
                    </a:lnTo>
                    <a:lnTo>
                      <a:pt x="233" y="97"/>
                    </a:lnTo>
                    <a:lnTo>
                      <a:pt x="233" y="97"/>
                    </a:lnTo>
                    <a:lnTo>
                      <a:pt x="226" y="97"/>
                    </a:lnTo>
                    <a:lnTo>
                      <a:pt x="226" y="97"/>
                    </a:lnTo>
                    <a:lnTo>
                      <a:pt x="226" y="90"/>
                    </a:lnTo>
                    <a:lnTo>
                      <a:pt x="226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13" y="90"/>
                    </a:lnTo>
                    <a:lnTo>
                      <a:pt x="213" y="90"/>
                    </a:lnTo>
                    <a:lnTo>
                      <a:pt x="213" y="90"/>
                    </a:lnTo>
                    <a:lnTo>
                      <a:pt x="213" y="90"/>
                    </a:lnTo>
                    <a:lnTo>
                      <a:pt x="213" y="90"/>
                    </a:lnTo>
                    <a:lnTo>
                      <a:pt x="213" y="83"/>
                    </a:lnTo>
                    <a:lnTo>
                      <a:pt x="213" y="83"/>
                    </a:lnTo>
                    <a:lnTo>
                      <a:pt x="213" y="83"/>
                    </a:lnTo>
                    <a:lnTo>
                      <a:pt x="213" y="83"/>
                    </a:lnTo>
                    <a:lnTo>
                      <a:pt x="206" y="83"/>
                    </a:lnTo>
                    <a:lnTo>
                      <a:pt x="206" y="83"/>
                    </a:lnTo>
                    <a:lnTo>
                      <a:pt x="206" y="83"/>
                    </a:lnTo>
                    <a:lnTo>
                      <a:pt x="206" y="83"/>
                    </a:lnTo>
                    <a:lnTo>
                      <a:pt x="206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78" y="76"/>
                    </a:lnTo>
                    <a:lnTo>
                      <a:pt x="178" y="76"/>
                    </a:lnTo>
                    <a:lnTo>
                      <a:pt x="171" y="83"/>
                    </a:lnTo>
                    <a:lnTo>
                      <a:pt x="171" y="76"/>
                    </a:lnTo>
                    <a:lnTo>
                      <a:pt x="171" y="83"/>
                    </a:lnTo>
                    <a:lnTo>
                      <a:pt x="171" y="76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76"/>
                    </a:lnTo>
                    <a:lnTo>
                      <a:pt x="171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37" y="76"/>
                    </a:lnTo>
                    <a:lnTo>
                      <a:pt x="137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0" y="69"/>
                    </a:lnTo>
                    <a:lnTo>
                      <a:pt x="110" y="62"/>
                    </a:lnTo>
                    <a:lnTo>
                      <a:pt x="110" y="69"/>
                    </a:lnTo>
                    <a:lnTo>
                      <a:pt x="110" y="62"/>
                    </a:lnTo>
                    <a:lnTo>
                      <a:pt x="110" y="62"/>
                    </a:lnTo>
                    <a:lnTo>
                      <a:pt x="110" y="62"/>
                    </a:lnTo>
                    <a:lnTo>
                      <a:pt x="103" y="62"/>
                    </a:lnTo>
                    <a:lnTo>
                      <a:pt x="103" y="62"/>
                    </a:lnTo>
                    <a:lnTo>
                      <a:pt x="103" y="62"/>
                    </a:lnTo>
                    <a:lnTo>
                      <a:pt x="103" y="62"/>
                    </a:lnTo>
                    <a:lnTo>
                      <a:pt x="103" y="69"/>
                    </a:lnTo>
                    <a:lnTo>
                      <a:pt x="103" y="69"/>
                    </a:lnTo>
                    <a:lnTo>
                      <a:pt x="96" y="69"/>
                    </a:lnTo>
                    <a:lnTo>
                      <a:pt x="96" y="69"/>
                    </a:lnTo>
                    <a:lnTo>
                      <a:pt x="96" y="69"/>
                    </a:lnTo>
                    <a:lnTo>
                      <a:pt x="89" y="69"/>
                    </a:lnTo>
                    <a:lnTo>
                      <a:pt x="89" y="69"/>
                    </a:lnTo>
                    <a:lnTo>
                      <a:pt x="89" y="69"/>
                    </a:lnTo>
                    <a:lnTo>
                      <a:pt x="89" y="69"/>
                    </a:lnTo>
                    <a:lnTo>
                      <a:pt x="89" y="69"/>
                    </a:lnTo>
                    <a:lnTo>
                      <a:pt x="82" y="69"/>
                    </a:lnTo>
                    <a:lnTo>
                      <a:pt x="82" y="69"/>
                    </a:lnTo>
                    <a:lnTo>
                      <a:pt x="82" y="69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1"/>
                    </a:lnTo>
                    <a:lnTo>
                      <a:pt x="68" y="48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2" y="41"/>
                    </a:lnTo>
                    <a:lnTo>
                      <a:pt x="68" y="41"/>
                    </a:lnTo>
                    <a:lnTo>
                      <a:pt x="68" y="35"/>
                    </a:lnTo>
                    <a:lnTo>
                      <a:pt x="68" y="41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2" y="35"/>
                    </a:lnTo>
                    <a:lnTo>
                      <a:pt x="68" y="35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8" y="28"/>
                    </a:lnTo>
                    <a:lnTo>
                      <a:pt x="68" y="28"/>
                    </a:lnTo>
                    <a:lnTo>
                      <a:pt x="68" y="28"/>
                    </a:lnTo>
                    <a:lnTo>
                      <a:pt x="68" y="28"/>
                    </a:lnTo>
                    <a:lnTo>
                      <a:pt x="68" y="28"/>
                    </a:lnTo>
                    <a:lnTo>
                      <a:pt x="62" y="28"/>
                    </a:lnTo>
                    <a:lnTo>
                      <a:pt x="68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8" y="28"/>
                    </a:lnTo>
                    <a:lnTo>
                      <a:pt x="68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1" y="7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980880" y="5604120"/>
                <a:ext cx="847080" cy="659880"/>
              </a:xfrm>
              <a:custGeom>
                <a:avLst/>
                <a:gdLst/>
                <a:ahLst/>
                <a:rect l="l" t="t" r="r" b="b"/>
                <a:pathLst>
                  <a:path w="673" h="561">
                    <a:moveTo>
                      <a:pt x="27" y="242"/>
                    </a:moveTo>
                    <a:lnTo>
                      <a:pt x="27" y="235"/>
                    </a:lnTo>
                    <a:lnTo>
                      <a:pt x="27" y="235"/>
                    </a:lnTo>
                    <a:lnTo>
                      <a:pt x="27" y="235"/>
                    </a:lnTo>
                    <a:lnTo>
                      <a:pt x="27" y="228"/>
                    </a:lnTo>
                    <a:lnTo>
                      <a:pt x="34" y="228"/>
                    </a:lnTo>
                    <a:lnTo>
                      <a:pt x="34" y="228"/>
                    </a:lnTo>
                    <a:lnTo>
                      <a:pt x="41" y="228"/>
                    </a:lnTo>
                    <a:lnTo>
                      <a:pt x="41" y="222"/>
                    </a:lnTo>
                    <a:lnTo>
                      <a:pt x="41" y="222"/>
                    </a:lnTo>
                    <a:lnTo>
                      <a:pt x="48" y="222"/>
                    </a:lnTo>
                    <a:lnTo>
                      <a:pt x="48" y="222"/>
                    </a:lnTo>
                    <a:lnTo>
                      <a:pt x="55" y="215"/>
                    </a:lnTo>
                    <a:lnTo>
                      <a:pt x="55" y="208"/>
                    </a:lnTo>
                    <a:lnTo>
                      <a:pt x="55" y="208"/>
                    </a:lnTo>
                    <a:lnTo>
                      <a:pt x="62" y="201"/>
                    </a:lnTo>
                    <a:lnTo>
                      <a:pt x="62" y="201"/>
                    </a:lnTo>
                    <a:lnTo>
                      <a:pt x="68" y="201"/>
                    </a:lnTo>
                    <a:lnTo>
                      <a:pt x="68" y="201"/>
                    </a:lnTo>
                    <a:lnTo>
                      <a:pt x="68" y="201"/>
                    </a:lnTo>
                    <a:lnTo>
                      <a:pt x="68" y="194"/>
                    </a:lnTo>
                    <a:lnTo>
                      <a:pt x="68" y="194"/>
                    </a:lnTo>
                    <a:lnTo>
                      <a:pt x="75" y="194"/>
                    </a:lnTo>
                    <a:lnTo>
                      <a:pt x="75" y="194"/>
                    </a:lnTo>
                    <a:lnTo>
                      <a:pt x="75" y="194"/>
                    </a:lnTo>
                    <a:lnTo>
                      <a:pt x="75" y="187"/>
                    </a:lnTo>
                    <a:lnTo>
                      <a:pt x="82" y="180"/>
                    </a:lnTo>
                    <a:lnTo>
                      <a:pt x="82" y="180"/>
                    </a:lnTo>
                    <a:lnTo>
                      <a:pt x="82" y="180"/>
                    </a:lnTo>
                    <a:lnTo>
                      <a:pt x="82" y="173"/>
                    </a:lnTo>
                    <a:lnTo>
                      <a:pt x="89" y="173"/>
                    </a:lnTo>
                    <a:lnTo>
                      <a:pt x="89" y="166"/>
                    </a:lnTo>
                    <a:lnTo>
                      <a:pt x="89" y="166"/>
                    </a:lnTo>
                    <a:lnTo>
                      <a:pt x="89" y="166"/>
                    </a:lnTo>
                    <a:lnTo>
                      <a:pt x="96" y="166"/>
                    </a:lnTo>
                    <a:lnTo>
                      <a:pt x="96" y="166"/>
                    </a:lnTo>
                    <a:lnTo>
                      <a:pt x="103" y="166"/>
                    </a:lnTo>
                    <a:lnTo>
                      <a:pt x="103" y="166"/>
                    </a:lnTo>
                    <a:lnTo>
                      <a:pt x="103" y="166"/>
                    </a:lnTo>
                    <a:lnTo>
                      <a:pt x="103" y="159"/>
                    </a:lnTo>
                    <a:lnTo>
                      <a:pt x="103" y="159"/>
                    </a:lnTo>
                    <a:lnTo>
                      <a:pt x="103" y="159"/>
                    </a:lnTo>
                    <a:lnTo>
                      <a:pt x="103" y="152"/>
                    </a:lnTo>
                    <a:lnTo>
                      <a:pt x="103" y="152"/>
                    </a:lnTo>
                    <a:lnTo>
                      <a:pt x="110" y="152"/>
                    </a:lnTo>
                    <a:lnTo>
                      <a:pt x="110" y="152"/>
                    </a:lnTo>
                    <a:lnTo>
                      <a:pt x="110" y="152"/>
                    </a:lnTo>
                    <a:lnTo>
                      <a:pt x="110" y="152"/>
                    </a:lnTo>
                    <a:lnTo>
                      <a:pt x="110" y="145"/>
                    </a:lnTo>
                    <a:lnTo>
                      <a:pt x="110" y="145"/>
                    </a:lnTo>
                    <a:lnTo>
                      <a:pt x="110" y="145"/>
                    </a:lnTo>
                    <a:lnTo>
                      <a:pt x="116" y="138"/>
                    </a:lnTo>
                    <a:lnTo>
                      <a:pt x="116" y="138"/>
                    </a:lnTo>
                    <a:lnTo>
                      <a:pt x="123" y="138"/>
                    </a:lnTo>
                    <a:lnTo>
                      <a:pt x="123" y="138"/>
                    </a:lnTo>
                    <a:lnTo>
                      <a:pt x="123" y="131"/>
                    </a:lnTo>
                    <a:lnTo>
                      <a:pt x="123" y="131"/>
                    </a:lnTo>
                    <a:lnTo>
                      <a:pt x="130" y="124"/>
                    </a:lnTo>
                    <a:lnTo>
                      <a:pt x="137" y="124"/>
                    </a:lnTo>
                    <a:lnTo>
                      <a:pt x="137" y="124"/>
                    </a:lnTo>
                    <a:lnTo>
                      <a:pt x="137" y="124"/>
                    </a:lnTo>
                    <a:lnTo>
                      <a:pt x="137" y="124"/>
                    </a:lnTo>
                    <a:lnTo>
                      <a:pt x="137" y="124"/>
                    </a:lnTo>
                    <a:lnTo>
                      <a:pt x="137" y="117"/>
                    </a:lnTo>
                    <a:lnTo>
                      <a:pt x="137" y="117"/>
                    </a:lnTo>
                    <a:lnTo>
                      <a:pt x="137" y="117"/>
                    </a:lnTo>
                    <a:lnTo>
                      <a:pt x="137" y="117"/>
                    </a:lnTo>
                    <a:lnTo>
                      <a:pt x="144" y="117"/>
                    </a:lnTo>
                    <a:lnTo>
                      <a:pt x="144" y="117"/>
                    </a:lnTo>
                    <a:lnTo>
                      <a:pt x="144" y="117"/>
                    </a:lnTo>
                    <a:lnTo>
                      <a:pt x="144" y="117"/>
                    </a:lnTo>
                    <a:lnTo>
                      <a:pt x="144" y="111"/>
                    </a:lnTo>
                    <a:lnTo>
                      <a:pt x="144" y="111"/>
                    </a:lnTo>
                    <a:lnTo>
                      <a:pt x="151" y="104"/>
                    </a:lnTo>
                    <a:lnTo>
                      <a:pt x="151" y="104"/>
                    </a:lnTo>
                    <a:lnTo>
                      <a:pt x="151" y="104"/>
                    </a:lnTo>
                    <a:lnTo>
                      <a:pt x="158" y="104"/>
                    </a:lnTo>
                    <a:lnTo>
                      <a:pt x="158" y="104"/>
                    </a:lnTo>
                    <a:lnTo>
                      <a:pt x="158" y="104"/>
                    </a:lnTo>
                    <a:lnTo>
                      <a:pt x="158" y="111"/>
                    </a:lnTo>
                    <a:lnTo>
                      <a:pt x="158" y="111"/>
                    </a:lnTo>
                    <a:lnTo>
                      <a:pt x="165" y="111"/>
                    </a:lnTo>
                    <a:lnTo>
                      <a:pt x="165" y="111"/>
                    </a:lnTo>
                    <a:lnTo>
                      <a:pt x="165" y="111"/>
                    </a:lnTo>
                    <a:lnTo>
                      <a:pt x="165" y="111"/>
                    </a:lnTo>
                    <a:lnTo>
                      <a:pt x="165" y="104"/>
                    </a:lnTo>
                    <a:lnTo>
                      <a:pt x="165" y="104"/>
                    </a:lnTo>
                    <a:lnTo>
                      <a:pt x="165" y="104"/>
                    </a:lnTo>
                    <a:lnTo>
                      <a:pt x="158" y="97"/>
                    </a:lnTo>
                    <a:lnTo>
                      <a:pt x="158" y="97"/>
                    </a:lnTo>
                    <a:lnTo>
                      <a:pt x="158" y="97"/>
                    </a:lnTo>
                    <a:lnTo>
                      <a:pt x="158" y="97"/>
                    </a:lnTo>
                    <a:lnTo>
                      <a:pt x="158" y="97"/>
                    </a:lnTo>
                    <a:lnTo>
                      <a:pt x="165" y="97"/>
                    </a:lnTo>
                    <a:lnTo>
                      <a:pt x="165" y="90"/>
                    </a:lnTo>
                    <a:lnTo>
                      <a:pt x="165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69"/>
                    </a:lnTo>
                    <a:lnTo>
                      <a:pt x="192" y="69"/>
                    </a:lnTo>
                    <a:lnTo>
                      <a:pt x="192" y="69"/>
                    </a:lnTo>
                    <a:lnTo>
                      <a:pt x="192" y="69"/>
                    </a:lnTo>
                    <a:lnTo>
                      <a:pt x="199" y="69"/>
                    </a:lnTo>
                    <a:lnTo>
                      <a:pt x="199" y="69"/>
                    </a:lnTo>
                    <a:lnTo>
                      <a:pt x="199" y="69"/>
                    </a:lnTo>
                    <a:lnTo>
                      <a:pt x="199" y="62"/>
                    </a:lnTo>
                    <a:lnTo>
                      <a:pt x="206" y="62"/>
                    </a:lnTo>
                    <a:lnTo>
                      <a:pt x="206" y="62"/>
                    </a:lnTo>
                    <a:lnTo>
                      <a:pt x="206" y="62"/>
                    </a:lnTo>
                    <a:lnTo>
                      <a:pt x="206" y="62"/>
                    </a:lnTo>
                    <a:lnTo>
                      <a:pt x="213" y="69"/>
                    </a:lnTo>
                    <a:lnTo>
                      <a:pt x="213" y="69"/>
                    </a:lnTo>
                    <a:lnTo>
                      <a:pt x="213" y="62"/>
                    </a:lnTo>
                    <a:lnTo>
                      <a:pt x="213" y="62"/>
                    </a:lnTo>
                    <a:lnTo>
                      <a:pt x="213" y="62"/>
                    </a:lnTo>
                    <a:lnTo>
                      <a:pt x="213" y="62"/>
                    </a:lnTo>
                    <a:lnTo>
                      <a:pt x="213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9" y="55"/>
                    </a:lnTo>
                    <a:lnTo>
                      <a:pt x="219" y="55"/>
                    </a:lnTo>
                    <a:lnTo>
                      <a:pt x="219" y="55"/>
                    </a:lnTo>
                    <a:lnTo>
                      <a:pt x="219" y="55"/>
                    </a:lnTo>
                    <a:lnTo>
                      <a:pt x="219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33" y="48"/>
                    </a:lnTo>
                    <a:lnTo>
                      <a:pt x="233" y="48"/>
                    </a:lnTo>
                    <a:lnTo>
                      <a:pt x="233" y="48"/>
                    </a:lnTo>
                    <a:lnTo>
                      <a:pt x="226" y="48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40" y="34"/>
                    </a:lnTo>
                    <a:lnTo>
                      <a:pt x="240" y="34"/>
                    </a:lnTo>
                    <a:lnTo>
                      <a:pt x="240" y="41"/>
                    </a:lnTo>
                    <a:lnTo>
                      <a:pt x="240" y="41"/>
                    </a:lnTo>
                    <a:lnTo>
                      <a:pt x="240" y="41"/>
                    </a:lnTo>
                    <a:lnTo>
                      <a:pt x="240" y="41"/>
                    </a:lnTo>
                    <a:lnTo>
                      <a:pt x="240" y="34"/>
                    </a:lnTo>
                    <a:lnTo>
                      <a:pt x="247" y="41"/>
                    </a:lnTo>
                    <a:lnTo>
                      <a:pt x="247" y="41"/>
                    </a:lnTo>
                    <a:lnTo>
                      <a:pt x="247" y="41"/>
                    </a:lnTo>
                    <a:lnTo>
                      <a:pt x="247" y="34"/>
                    </a:lnTo>
                    <a:lnTo>
                      <a:pt x="247" y="34"/>
                    </a:lnTo>
                    <a:lnTo>
                      <a:pt x="247" y="34"/>
                    </a:lnTo>
                    <a:lnTo>
                      <a:pt x="247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61" y="27"/>
                    </a:lnTo>
                    <a:lnTo>
                      <a:pt x="261" y="27"/>
                    </a:lnTo>
                    <a:lnTo>
                      <a:pt x="261" y="34"/>
                    </a:lnTo>
                    <a:lnTo>
                      <a:pt x="261" y="34"/>
                    </a:lnTo>
                    <a:lnTo>
                      <a:pt x="261" y="34"/>
                    </a:lnTo>
                    <a:lnTo>
                      <a:pt x="261" y="34"/>
                    </a:lnTo>
                    <a:lnTo>
                      <a:pt x="261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13"/>
                    </a:lnTo>
                    <a:lnTo>
                      <a:pt x="288" y="13"/>
                    </a:lnTo>
                    <a:lnTo>
                      <a:pt x="288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302" y="13"/>
                    </a:lnTo>
                    <a:lnTo>
                      <a:pt x="302" y="13"/>
                    </a:lnTo>
                    <a:lnTo>
                      <a:pt x="302" y="13"/>
                    </a:lnTo>
                    <a:lnTo>
                      <a:pt x="302" y="13"/>
                    </a:lnTo>
                    <a:lnTo>
                      <a:pt x="302" y="13"/>
                    </a:lnTo>
                    <a:lnTo>
                      <a:pt x="302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0"/>
                    </a:lnTo>
                    <a:lnTo>
                      <a:pt x="316" y="0"/>
                    </a:lnTo>
                    <a:lnTo>
                      <a:pt x="316" y="0"/>
                    </a:lnTo>
                    <a:lnTo>
                      <a:pt x="316" y="6"/>
                    </a:lnTo>
                    <a:lnTo>
                      <a:pt x="322" y="6"/>
                    </a:lnTo>
                    <a:lnTo>
                      <a:pt x="322" y="6"/>
                    </a:lnTo>
                    <a:lnTo>
                      <a:pt x="322" y="6"/>
                    </a:lnTo>
                    <a:lnTo>
                      <a:pt x="322" y="6"/>
                    </a:lnTo>
                    <a:lnTo>
                      <a:pt x="322" y="0"/>
                    </a:lnTo>
                    <a:lnTo>
                      <a:pt x="322" y="0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43" y="6"/>
                    </a:lnTo>
                    <a:lnTo>
                      <a:pt x="343" y="6"/>
                    </a:lnTo>
                    <a:lnTo>
                      <a:pt x="343" y="6"/>
                    </a:lnTo>
                    <a:lnTo>
                      <a:pt x="343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6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7" y="6"/>
                    </a:lnTo>
                    <a:lnTo>
                      <a:pt x="377" y="6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6"/>
                    </a:lnTo>
                    <a:lnTo>
                      <a:pt x="377" y="6"/>
                    </a:lnTo>
                    <a:lnTo>
                      <a:pt x="377" y="6"/>
                    </a:lnTo>
                    <a:lnTo>
                      <a:pt x="377" y="6"/>
                    </a:lnTo>
                    <a:lnTo>
                      <a:pt x="384" y="6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6"/>
                    </a:lnTo>
                    <a:lnTo>
                      <a:pt x="391" y="6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25" y="13"/>
                    </a:lnTo>
                    <a:lnTo>
                      <a:pt x="425" y="13"/>
                    </a:lnTo>
                    <a:lnTo>
                      <a:pt x="425" y="13"/>
                    </a:lnTo>
                    <a:lnTo>
                      <a:pt x="425" y="13"/>
                    </a:lnTo>
                    <a:lnTo>
                      <a:pt x="425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9" y="6"/>
                    </a:lnTo>
                    <a:lnTo>
                      <a:pt x="439" y="6"/>
                    </a:lnTo>
                    <a:lnTo>
                      <a:pt x="439" y="6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46" y="13"/>
                    </a:lnTo>
                    <a:lnTo>
                      <a:pt x="439" y="13"/>
                    </a:lnTo>
                    <a:lnTo>
                      <a:pt x="446" y="13"/>
                    </a:lnTo>
                    <a:lnTo>
                      <a:pt x="446" y="13"/>
                    </a:lnTo>
                    <a:lnTo>
                      <a:pt x="446" y="13"/>
                    </a:lnTo>
                    <a:lnTo>
                      <a:pt x="446" y="13"/>
                    </a:lnTo>
                    <a:lnTo>
                      <a:pt x="446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20"/>
                    </a:lnTo>
                    <a:lnTo>
                      <a:pt x="460" y="20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7" y="13"/>
                    </a:lnTo>
                    <a:lnTo>
                      <a:pt x="467" y="13"/>
                    </a:lnTo>
                    <a:lnTo>
                      <a:pt x="467" y="13"/>
                    </a:lnTo>
                    <a:lnTo>
                      <a:pt x="467" y="20"/>
                    </a:lnTo>
                    <a:lnTo>
                      <a:pt x="467" y="20"/>
                    </a:lnTo>
                    <a:lnTo>
                      <a:pt x="467" y="20"/>
                    </a:lnTo>
                    <a:lnTo>
                      <a:pt x="467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80" y="20"/>
                    </a:lnTo>
                    <a:lnTo>
                      <a:pt x="480" y="20"/>
                    </a:lnTo>
                    <a:lnTo>
                      <a:pt x="480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7"/>
                    </a:lnTo>
                    <a:lnTo>
                      <a:pt x="474" y="27"/>
                    </a:lnTo>
                    <a:lnTo>
                      <a:pt x="474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27"/>
                    </a:lnTo>
                    <a:lnTo>
                      <a:pt x="487" y="27"/>
                    </a:lnTo>
                    <a:lnTo>
                      <a:pt x="487" y="27"/>
                    </a:lnTo>
                    <a:lnTo>
                      <a:pt x="487" y="27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1" y="27"/>
                    </a:lnTo>
                    <a:lnTo>
                      <a:pt x="501" y="27"/>
                    </a:lnTo>
                    <a:lnTo>
                      <a:pt x="501" y="27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41"/>
                    </a:lnTo>
                    <a:lnTo>
                      <a:pt x="508" y="41"/>
                    </a:lnTo>
                    <a:lnTo>
                      <a:pt x="515" y="41"/>
                    </a:lnTo>
                    <a:lnTo>
                      <a:pt x="515" y="41"/>
                    </a:lnTo>
                    <a:lnTo>
                      <a:pt x="515" y="41"/>
                    </a:lnTo>
                    <a:lnTo>
                      <a:pt x="515" y="34"/>
                    </a:lnTo>
                    <a:lnTo>
                      <a:pt x="515" y="34"/>
                    </a:lnTo>
                    <a:lnTo>
                      <a:pt x="515" y="41"/>
                    </a:lnTo>
                    <a:lnTo>
                      <a:pt x="515" y="34"/>
                    </a:lnTo>
                    <a:lnTo>
                      <a:pt x="515" y="34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8"/>
                    </a:lnTo>
                    <a:lnTo>
                      <a:pt x="522" y="48"/>
                    </a:lnTo>
                    <a:lnTo>
                      <a:pt x="522" y="48"/>
                    </a:lnTo>
                    <a:lnTo>
                      <a:pt x="522" y="48"/>
                    </a:lnTo>
                    <a:lnTo>
                      <a:pt x="522" y="48"/>
                    </a:lnTo>
                    <a:lnTo>
                      <a:pt x="528" y="41"/>
                    </a:lnTo>
                    <a:lnTo>
                      <a:pt x="528" y="41"/>
                    </a:lnTo>
                    <a:lnTo>
                      <a:pt x="528" y="41"/>
                    </a:lnTo>
                    <a:lnTo>
                      <a:pt x="528" y="48"/>
                    </a:lnTo>
                    <a:lnTo>
                      <a:pt x="528" y="48"/>
                    </a:lnTo>
                    <a:lnTo>
                      <a:pt x="528" y="48"/>
                    </a:lnTo>
                    <a:lnTo>
                      <a:pt x="528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9" y="55"/>
                    </a:lnTo>
                    <a:lnTo>
                      <a:pt x="549" y="55"/>
                    </a:lnTo>
                    <a:lnTo>
                      <a:pt x="549" y="62"/>
                    </a:lnTo>
                    <a:lnTo>
                      <a:pt x="549" y="62"/>
                    </a:lnTo>
                    <a:lnTo>
                      <a:pt x="549" y="62"/>
                    </a:lnTo>
                    <a:lnTo>
                      <a:pt x="549" y="62"/>
                    </a:lnTo>
                    <a:lnTo>
                      <a:pt x="549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76"/>
                    </a:lnTo>
                    <a:lnTo>
                      <a:pt x="563" y="76"/>
                    </a:lnTo>
                    <a:lnTo>
                      <a:pt x="570" y="76"/>
                    </a:lnTo>
                    <a:lnTo>
                      <a:pt x="563" y="76"/>
                    </a:lnTo>
                    <a:lnTo>
                      <a:pt x="570" y="76"/>
                    </a:lnTo>
                    <a:lnTo>
                      <a:pt x="570" y="76"/>
                    </a:lnTo>
                    <a:lnTo>
                      <a:pt x="570" y="76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90"/>
                    </a:lnTo>
                    <a:lnTo>
                      <a:pt x="570" y="83"/>
                    </a:lnTo>
                    <a:lnTo>
                      <a:pt x="576" y="83"/>
                    </a:lnTo>
                    <a:lnTo>
                      <a:pt x="576" y="83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90" y="97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7" y="104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7"/>
                    </a:lnTo>
                    <a:lnTo>
                      <a:pt x="618" y="117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25" y="111"/>
                    </a:lnTo>
                    <a:lnTo>
                      <a:pt x="631" y="111"/>
                    </a:lnTo>
                    <a:lnTo>
                      <a:pt x="631" y="111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1"/>
                    </a:lnTo>
                    <a:lnTo>
                      <a:pt x="631" y="117"/>
                    </a:lnTo>
                    <a:lnTo>
                      <a:pt x="631" y="111"/>
                    </a:lnTo>
                    <a:lnTo>
                      <a:pt x="631" y="111"/>
                    </a:lnTo>
                    <a:lnTo>
                      <a:pt x="631" y="111"/>
                    </a:lnTo>
                    <a:lnTo>
                      <a:pt x="631" y="111"/>
                    </a:lnTo>
                    <a:lnTo>
                      <a:pt x="638" y="111"/>
                    </a:lnTo>
                    <a:lnTo>
                      <a:pt x="631" y="111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7"/>
                    </a:lnTo>
                    <a:lnTo>
                      <a:pt x="652" y="117"/>
                    </a:lnTo>
                    <a:lnTo>
                      <a:pt x="652" y="117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2" y="117"/>
                    </a:lnTo>
                    <a:lnTo>
                      <a:pt x="652" y="117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9" y="111"/>
                    </a:lnTo>
                    <a:lnTo>
                      <a:pt x="659" y="111"/>
                    </a:lnTo>
                    <a:lnTo>
                      <a:pt x="652" y="111"/>
                    </a:lnTo>
                    <a:lnTo>
                      <a:pt x="652" y="117"/>
                    </a:lnTo>
                    <a:lnTo>
                      <a:pt x="652" y="117"/>
                    </a:lnTo>
                    <a:lnTo>
                      <a:pt x="652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66" y="117"/>
                    </a:lnTo>
                    <a:lnTo>
                      <a:pt x="659" y="117"/>
                    </a:lnTo>
                    <a:lnTo>
                      <a:pt x="666" y="117"/>
                    </a:lnTo>
                    <a:lnTo>
                      <a:pt x="659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73" y="124"/>
                    </a:lnTo>
                    <a:lnTo>
                      <a:pt x="673" y="124"/>
                    </a:lnTo>
                    <a:lnTo>
                      <a:pt x="666" y="131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31"/>
                    </a:lnTo>
                    <a:lnTo>
                      <a:pt x="666" y="124"/>
                    </a:lnTo>
                    <a:lnTo>
                      <a:pt x="666" y="131"/>
                    </a:lnTo>
                    <a:lnTo>
                      <a:pt x="659" y="124"/>
                    </a:lnTo>
                    <a:lnTo>
                      <a:pt x="659" y="124"/>
                    </a:lnTo>
                    <a:lnTo>
                      <a:pt x="659" y="124"/>
                    </a:lnTo>
                    <a:lnTo>
                      <a:pt x="659" y="124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2" y="131"/>
                    </a:lnTo>
                    <a:lnTo>
                      <a:pt x="652" y="131"/>
                    </a:lnTo>
                    <a:lnTo>
                      <a:pt x="652" y="131"/>
                    </a:lnTo>
                    <a:lnTo>
                      <a:pt x="652" y="131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1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45" y="138"/>
                    </a:lnTo>
                    <a:lnTo>
                      <a:pt x="645" y="138"/>
                    </a:lnTo>
                    <a:lnTo>
                      <a:pt x="645" y="138"/>
                    </a:lnTo>
                    <a:lnTo>
                      <a:pt x="645" y="145"/>
                    </a:lnTo>
                    <a:lnTo>
                      <a:pt x="652" y="145"/>
                    </a:lnTo>
                    <a:lnTo>
                      <a:pt x="652" y="145"/>
                    </a:lnTo>
                    <a:lnTo>
                      <a:pt x="645" y="145"/>
                    </a:lnTo>
                    <a:lnTo>
                      <a:pt x="645" y="145"/>
                    </a:lnTo>
                    <a:lnTo>
                      <a:pt x="645" y="145"/>
                    </a:lnTo>
                    <a:lnTo>
                      <a:pt x="645" y="145"/>
                    </a:lnTo>
                    <a:lnTo>
                      <a:pt x="652" y="145"/>
                    </a:lnTo>
                    <a:lnTo>
                      <a:pt x="645" y="145"/>
                    </a:lnTo>
                    <a:lnTo>
                      <a:pt x="645" y="145"/>
                    </a:lnTo>
                    <a:lnTo>
                      <a:pt x="645" y="152"/>
                    </a:lnTo>
                    <a:lnTo>
                      <a:pt x="645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45" y="152"/>
                    </a:lnTo>
                    <a:lnTo>
                      <a:pt x="645" y="152"/>
                    </a:lnTo>
                    <a:lnTo>
                      <a:pt x="645" y="152"/>
                    </a:lnTo>
                    <a:lnTo>
                      <a:pt x="645" y="152"/>
                    </a:lnTo>
                    <a:lnTo>
                      <a:pt x="652" y="152"/>
                    </a:lnTo>
                    <a:lnTo>
                      <a:pt x="645" y="152"/>
                    </a:lnTo>
                    <a:lnTo>
                      <a:pt x="652" y="152"/>
                    </a:lnTo>
                    <a:lnTo>
                      <a:pt x="645" y="152"/>
                    </a:lnTo>
                    <a:lnTo>
                      <a:pt x="645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45" y="159"/>
                    </a:lnTo>
                    <a:lnTo>
                      <a:pt x="645" y="159"/>
                    </a:lnTo>
                    <a:lnTo>
                      <a:pt x="645" y="159"/>
                    </a:lnTo>
                    <a:lnTo>
                      <a:pt x="645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45" y="159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52" y="166"/>
                    </a:lnTo>
                    <a:lnTo>
                      <a:pt x="652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38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1" y="180"/>
                    </a:lnTo>
                    <a:lnTo>
                      <a:pt x="631" y="173"/>
                    </a:lnTo>
                    <a:lnTo>
                      <a:pt x="631" y="173"/>
                    </a:lnTo>
                    <a:lnTo>
                      <a:pt x="631" y="173"/>
                    </a:lnTo>
                    <a:lnTo>
                      <a:pt x="631" y="173"/>
                    </a:lnTo>
                    <a:lnTo>
                      <a:pt x="631" y="180"/>
                    </a:lnTo>
                    <a:lnTo>
                      <a:pt x="631" y="173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1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45" y="180"/>
                    </a:lnTo>
                    <a:lnTo>
                      <a:pt x="645" y="180"/>
                    </a:lnTo>
                    <a:lnTo>
                      <a:pt x="645" y="180"/>
                    </a:lnTo>
                    <a:lnTo>
                      <a:pt x="645" y="180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52" y="173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7"/>
                    </a:lnTo>
                    <a:lnTo>
                      <a:pt x="659" y="187"/>
                    </a:lnTo>
                    <a:lnTo>
                      <a:pt x="659" y="187"/>
                    </a:lnTo>
                    <a:lnTo>
                      <a:pt x="659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94"/>
                    </a:lnTo>
                    <a:lnTo>
                      <a:pt x="659" y="194"/>
                    </a:lnTo>
                    <a:lnTo>
                      <a:pt x="652" y="208"/>
                    </a:lnTo>
                    <a:lnTo>
                      <a:pt x="652" y="215"/>
                    </a:lnTo>
                    <a:lnTo>
                      <a:pt x="652" y="215"/>
                    </a:lnTo>
                    <a:lnTo>
                      <a:pt x="645" y="215"/>
                    </a:lnTo>
                    <a:lnTo>
                      <a:pt x="645" y="215"/>
                    </a:lnTo>
                    <a:lnTo>
                      <a:pt x="645" y="222"/>
                    </a:lnTo>
                    <a:lnTo>
                      <a:pt x="645" y="222"/>
                    </a:lnTo>
                    <a:lnTo>
                      <a:pt x="638" y="228"/>
                    </a:lnTo>
                    <a:lnTo>
                      <a:pt x="638" y="235"/>
                    </a:lnTo>
                    <a:lnTo>
                      <a:pt x="638" y="235"/>
                    </a:lnTo>
                    <a:lnTo>
                      <a:pt x="631" y="242"/>
                    </a:lnTo>
                    <a:lnTo>
                      <a:pt x="631" y="249"/>
                    </a:lnTo>
                    <a:lnTo>
                      <a:pt x="631" y="249"/>
                    </a:lnTo>
                    <a:lnTo>
                      <a:pt x="631" y="249"/>
                    </a:lnTo>
                    <a:lnTo>
                      <a:pt x="625" y="263"/>
                    </a:lnTo>
                    <a:lnTo>
                      <a:pt x="625" y="263"/>
                    </a:lnTo>
                    <a:lnTo>
                      <a:pt x="625" y="270"/>
                    </a:lnTo>
                    <a:lnTo>
                      <a:pt x="625" y="270"/>
                    </a:lnTo>
                    <a:lnTo>
                      <a:pt x="625" y="270"/>
                    </a:lnTo>
                    <a:lnTo>
                      <a:pt x="625" y="270"/>
                    </a:lnTo>
                    <a:lnTo>
                      <a:pt x="618" y="277"/>
                    </a:lnTo>
                    <a:lnTo>
                      <a:pt x="618" y="284"/>
                    </a:lnTo>
                    <a:lnTo>
                      <a:pt x="618" y="284"/>
                    </a:lnTo>
                    <a:lnTo>
                      <a:pt x="611" y="291"/>
                    </a:lnTo>
                    <a:lnTo>
                      <a:pt x="604" y="298"/>
                    </a:lnTo>
                    <a:lnTo>
                      <a:pt x="604" y="305"/>
                    </a:lnTo>
                    <a:lnTo>
                      <a:pt x="597" y="312"/>
                    </a:lnTo>
                    <a:lnTo>
                      <a:pt x="590" y="326"/>
                    </a:lnTo>
                    <a:lnTo>
                      <a:pt x="583" y="326"/>
                    </a:lnTo>
                    <a:lnTo>
                      <a:pt x="583" y="333"/>
                    </a:lnTo>
                    <a:lnTo>
                      <a:pt x="576" y="339"/>
                    </a:lnTo>
                    <a:lnTo>
                      <a:pt x="576" y="339"/>
                    </a:lnTo>
                    <a:lnTo>
                      <a:pt x="570" y="346"/>
                    </a:lnTo>
                    <a:lnTo>
                      <a:pt x="570" y="346"/>
                    </a:lnTo>
                    <a:lnTo>
                      <a:pt x="563" y="353"/>
                    </a:lnTo>
                    <a:lnTo>
                      <a:pt x="563" y="353"/>
                    </a:lnTo>
                    <a:lnTo>
                      <a:pt x="556" y="360"/>
                    </a:lnTo>
                    <a:lnTo>
                      <a:pt x="549" y="367"/>
                    </a:lnTo>
                    <a:lnTo>
                      <a:pt x="542" y="367"/>
                    </a:lnTo>
                    <a:lnTo>
                      <a:pt x="542" y="374"/>
                    </a:lnTo>
                    <a:lnTo>
                      <a:pt x="542" y="374"/>
                    </a:lnTo>
                    <a:lnTo>
                      <a:pt x="535" y="374"/>
                    </a:lnTo>
                    <a:lnTo>
                      <a:pt x="535" y="381"/>
                    </a:lnTo>
                    <a:lnTo>
                      <a:pt x="528" y="388"/>
                    </a:lnTo>
                    <a:lnTo>
                      <a:pt x="522" y="388"/>
                    </a:lnTo>
                    <a:lnTo>
                      <a:pt x="515" y="395"/>
                    </a:lnTo>
                    <a:lnTo>
                      <a:pt x="508" y="395"/>
                    </a:lnTo>
                    <a:lnTo>
                      <a:pt x="501" y="402"/>
                    </a:lnTo>
                    <a:lnTo>
                      <a:pt x="494" y="409"/>
                    </a:lnTo>
                    <a:lnTo>
                      <a:pt x="487" y="409"/>
                    </a:lnTo>
                    <a:lnTo>
                      <a:pt x="480" y="416"/>
                    </a:lnTo>
                    <a:lnTo>
                      <a:pt x="474" y="416"/>
                    </a:lnTo>
                    <a:lnTo>
                      <a:pt x="467" y="423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0" y="430"/>
                    </a:lnTo>
                    <a:lnTo>
                      <a:pt x="460" y="430"/>
                    </a:lnTo>
                    <a:lnTo>
                      <a:pt x="453" y="437"/>
                    </a:lnTo>
                    <a:lnTo>
                      <a:pt x="453" y="437"/>
                    </a:lnTo>
                    <a:lnTo>
                      <a:pt x="446" y="444"/>
                    </a:lnTo>
                    <a:lnTo>
                      <a:pt x="446" y="450"/>
                    </a:lnTo>
                    <a:lnTo>
                      <a:pt x="446" y="457"/>
                    </a:lnTo>
                    <a:lnTo>
                      <a:pt x="439" y="464"/>
                    </a:lnTo>
                    <a:lnTo>
                      <a:pt x="439" y="464"/>
                    </a:lnTo>
                    <a:lnTo>
                      <a:pt x="439" y="478"/>
                    </a:lnTo>
                    <a:lnTo>
                      <a:pt x="432" y="478"/>
                    </a:lnTo>
                    <a:lnTo>
                      <a:pt x="432" y="492"/>
                    </a:lnTo>
                    <a:lnTo>
                      <a:pt x="425" y="499"/>
                    </a:lnTo>
                    <a:lnTo>
                      <a:pt x="425" y="506"/>
                    </a:lnTo>
                    <a:lnTo>
                      <a:pt x="419" y="506"/>
                    </a:lnTo>
                    <a:lnTo>
                      <a:pt x="419" y="513"/>
                    </a:lnTo>
                    <a:lnTo>
                      <a:pt x="412" y="520"/>
                    </a:lnTo>
                    <a:lnTo>
                      <a:pt x="405" y="527"/>
                    </a:lnTo>
                    <a:lnTo>
                      <a:pt x="384" y="541"/>
                    </a:lnTo>
                    <a:lnTo>
                      <a:pt x="377" y="548"/>
                    </a:lnTo>
                    <a:lnTo>
                      <a:pt x="371" y="555"/>
                    </a:lnTo>
                    <a:lnTo>
                      <a:pt x="371" y="555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55"/>
                    </a:lnTo>
                    <a:lnTo>
                      <a:pt x="357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48"/>
                    </a:lnTo>
                    <a:lnTo>
                      <a:pt x="343" y="548"/>
                    </a:lnTo>
                    <a:lnTo>
                      <a:pt x="343" y="548"/>
                    </a:lnTo>
                    <a:lnTo>
                      <a:pt x="343" y="541"/>
                    </a:lnTo>
                    <a:lnTo>
                      <a:pt x="350" y="534"/>
                    </a:lnTo>
                    <a:lnTo>
                      <a:pt x="350" y="527"/>
                    </a:lnTo>
                    <a:lnTo>
                      <a:pt x="343" y="520"/>
                    </a:lnTo>
                    <a:lnTo>
                      <a:pt x="343" y="513"/>
                    </a:lnTo>
                    <a:lnTo>
                      <a:pt x="350" y="499"/>
                    </a:lnTo>
                    <a:lnTo>
                      <a:pt x="357" y="499"/>
                    </a:lnTo>
                    <a:lnTo>
                      <a:pt x="364" y="499"/>
                    </a:lnTo>
                    <a:lnTo>
                      <a:pt x="371" y="492"/>
                    </a:lnTo>
                    <a:lnTo>
                      <a:pt x="364" y="492"/>
                    </a:lnTo>
                    <a:lnTo>
                      <a:pt x="364" y="492"/>
                    </a:lnTo>
                    <a:lnTo>
                      <a:pt x="364" y="492"/>
                    </a:lnTo>
                    <a:lnTo>
                      <a:pt x="371" y="492"/>
                    </a:lnTo>
                    <a:lnTo>
                      <a:pt x="364" y="492"/>
                    </a:lnTo>
                    <a:lnTo>
                      <a:pt x="377" y="485"/>
                    </a:lnTo>
                    <a:lnTo>
                      <a:pt x="377" y="485"/>
                    </a:lnTo>
                    <a:lnTo>
                      <a:pt x="377" y="485"/>
                    </a:lnTo>
                    <a:lnTo>
                      <a:pt x="377" y="478"/>
                    </a:lnTo>
                    <a:lnTo>
                      <a:pt x="384" y="478"/>
                    </a:lnTo>
                    <a:lnTo>
                      <a:pt x="384" y="478"/>
                    </a:lnTo>
                    <a:lnTo>
                      <a:pt x="377" y="471"/>
                    </a:lnTo>
                    <a:lnTo>
                      <a:pt x="377" y="471"/>
                    </a:lnTo>
                    <a:lnTo>
                      <a:pt x="377" y="464"/>
                    </a:lnTo>
                    <a:lnTo>
                      <a:pt x="371" y="464"/>
                    </a:lnTo>
                    <a:lnTo>
                      <a:pt x="371" y="464"/>
                    </a:lnTo>
                    <a:lnTo>
                      <a:pt x="371" y="464"/>
                    </a:lnTo>
                    <a:lnTo>
                      <a:pt x="371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57"/>
                    </a:lnTo>
                    <a:lnTo>
                      <a:pt x="350" y="457"/>
                    </a:lnTo>
                    <a:lnTo>
                      <a:pt x="350" y="457"/>
                    </a:lnTo>
                    <a:lnTo>
                      <a:pt x="350" y="457"/>
                    </a:lnTo>
                    <a:lnTo>
                      <a:pt x="350" y="457"/>
                    </a:lnTo>
                    <a:lnTo>
                      <a:pt x="350" y="450"/>
                    </a:lnTo>
                    <a:lnTo>
                      <a:pt x="350" y="457"/>
                    </a:lnTo>
                    <a:lnTo>
                      <a:pt x="350" y="450"/>
                    </a:lnTo>
                    <a:lnTo>
                      <a:pt x="350" y="457"/>
                    </a:lnTo>
                    <a:lnTo>
                      <a:pt x="350" y="450"/>
                    </a:lnTo>
                    <a:lnTo>
                      <a:pt x="343" y="457"/>
                    </a:lnTo>
                    <a:lnTo>
                      <a:pt x="343" y="450"/>
                    </a:lnTo>
                    <a:lnTo>
                      <a:pt x="343" y="450"/>
                    </a:lnTo>
                    <a:lnTo>
                      <a:pt x="343" y="450"/>
                    </a:lnTo>
                    <a:lnTo>
                      <a:pt x="343" y="450"/>
                    </a:lnTo>
                    <a:lnTo>
                      <a:pt x="343" y="450"/>
                    </a:lnTo>
                    <a:lnTo>
                      <a:pt x="336" y="450"/>
                    </a:lnTo>
                    <a:lnTo>
                      <a:pt x="336" y="450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0"/>
                    </a:lnTo>
                    <a:lnTo>
                      <a:pt x="336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2" y="423"/>
                    </a:lnTo>
                    <a:lnTo>
                      <a:pt x="322" y="416"/>
                    </a:lnTo>
                    <a:lnTo>
                      <a:pt x="322" y="423"/>
                    </a:lnTo>
                    <a:lnTo>
                      <a:pt x="322" y="416"/>
                    </a:lnTo>
                    <a:lnTo>
                      <a:pt x="322" y="416"/>
                    </a:lnTo>
                    <a:lnTo>
                      <a:pt x="322" y="416"/>
                    </a:lnTo>
                    <a:lnTo>
                      <a:pt x="322" y="416"/>
                    </a:lnTo>
                    <a:lnTo>
                      <a:pt x="322" y="416"/>
                    </a:lnTo>
                    <a:lnTo>
                      <a:pt x="316" y="416"/>
                    </a:lnTo>
                    <a:lnTo>
                      <a:pt x="322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2" y="409"/>
                    </a:lnTo>
                    <a:lnTo>
                      <a:pt x="302" y="402"/>
                    </a:lnTo>
                    <a:lnTo>
                      <a:pt x="302" y="402"/>
                    </a:lnTo>
                    <a:lnTo>
                      <a:pt x="302" y="402"/>
                    </a:lnTo>
                    <a:lnTo>
                      <a:pt x="302" y="409"/>
                    </a:lnTo>
                    <a:lnTo>
                      <a:pt x="302" y="409"/>
                    </a:lnTo>
                    <a:lnTo>
                      <a:pt x="302" y="409"/>
                    </a:lnTo>
                    <a:lnTo>
                      <a:pt x="295" y="409"/>
                    </a:lnTo>
                    <a:lnTo>
                      <a:pt x="295" y="409"/>
                    </a:lnTo>
                    <a:lnTo>
                      <a:pt x="295" y="409"/>
                    </a:lnTo>
                    <a:lnTo>
                      <a:pt x="295" y="402"/>
                    </a:lnTo>
                    <a:lnTo>
                      <a:pt x="295" y="402"/>
                    </a:lnTo>
                    <a:lnTo>
                      <a:pt x="295" y="402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74"/>
                    </a:lnTo>
                    <a:lnTo>
                      <a:pt x="268" y="374"/>
                    </a:lnTo>
                    <a:lnTo>
                      <a:pt x="268" y="374"/>
                    </a:lnTo>
                    <a:lnTo>
                      <a:pt x="261" y="374"/>
                    </a:lnTo>
                    <a:lnTo>
                      <a:pt x="261" y="374"/>
                    </a:lnTo>
                    <a:lnTo>
                      <a:pt x="261" y="374"/>
                    </a:lnTo>
                    <a:lnTo>
                      <a:pt x="261" y="374"/>
                    </a:lnTo>
                    <a:lnTo>
                      <a:pt x="261" y="367"/>
                    </a:lnTo>
                    <a:lnTo>
                      <a:pt x="261" y="367"/>
                    </a:lnTo>
                    <a:lnTo>
                      <a:pt x="254" y="367"/>
                    </a:lnTo>
                    <a:lnTo>
                      <a:pt x="254" y="367"/>
                    </a:lnTo>
                    <a:lnTo>
                      <a:pt x="254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0" y="367"/>
                    </a:lnTo>
                    <a:lnTo>
                      <a:pt x="240" y="367"/>
                    </a:lnTo>
                    <a:lnTo>
                      <a:pt x="240" y="367"/>
                    </a:lnTo>
                    <a:lnTo>
                      <a:pt x="240" y="367"/>
                    </a:lnTo>
                    <a:lnTo>
                      <a:pt x="233" y="367"/>
                    </a:lnTo>
                    <a:lnTo>
                      <a:pt x="233" y="367"/>
                    </a:lnTo>
                    <a:lnTo>
                      <a:pt x="233" y="367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53"/>
                    </a:lnTo>
                    <a:lnTo>
                      <a:pt x="226" y="353"/>
                    </a:lnTo>
                    <a:lnTo>
                      <a:pt x="219" y="353"/>
                    </a:lnTo>
                    <a:lnTo>
                      <a:pt x="226" y="353"/>
                    </a:lnTo>
                    <a:lnTo>
                      <a:pt x="226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3" y="353"/>
                    </a:lnTo>
                    <a:lnTo>
                      <a:pt x="219" y="353"/>
                    </a:lnTo>
                    <a:lnTo>
                      <a:pt x="213" y="353"/>
                    </a:lnTo>
                    <a:lnTo>
                      <a:pt x="219" y="360"/>
                    </a:lnTo>
                    <a:lnTo>
                      <a:pt x="213" y="360"/>
                    </a:lnTo>
                    <a:lnTo>
                      <a:pt x="213" y="353"/>
                    </a:lnTo>
                    <a:lnTo>
                      <a:pt x="213" y="353"/>
                    </a:lnTo>
                    <a:lnTo>
                      <a:pt x="213" y="353"/>
                    </a:lnTo>
                    <a:lnTo>
                      <a:pt x="213" y="353"/>
                    </a:lnTo>
                    <a:lnTo>
                      <a:pt x="213" y="353"/>
                    </a:lnTo>
                    <a:lnTo>
                      <a:pt x="206" y="353"/>
                    </a:lnTo>
                    <a:lnTo>
                      <a:pt x="206" y="353"/>
                    </a:lnTo>
                    <a:lnTo>
                      <a:pt x="206" y="353"/>
                    </a:lnTo>
                    <a:lnTo>
                      <a:pt x="206" y="353"/>
                    </a:lnTo>
                    <a:lnTo>
                      <a:pt x="206" y="353"/>
                    </a:lnTo>
                    <a:lnTo>
                      <a:pt x="199" y="353"/>
                    </a:lnTo>
                    <a:lnTo>
                      <a:pt x="199" y="353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39"/>
                    </a:lnTo>
                    <a:lnTo>
                      <a:pt x="199" y="339"/>
                    </a:lnTo>
                    <a:lnTo>
                      <a:pt x="199" y="339"/>
                    </a:lnTo>
                    <a:lnTo>
                      <a:pt x="199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8" y="319"/>
                    </a:lnTo>
                    <a:lnTo>
                      <a:pt x="178" y="319"/>
                    </a:lnTo>
                    <a:lnTo>
                      <a:pt x="178" y="319"/>
                    </a:lnTo>
                    <a:lnTo>
                      <a:pt x="178" y="319"/>
                    </a:lnTo>
                    <a:lnTo>
                      <a:pt x="178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2"/>
                    </a:lnTo>
                    <a:lnTo>
                      <a:pt x="171" y="312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33"/>
                    </a:lnTo>
                    <a:lnTo>
                      <a:pt x="158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44" y="333"/>
                    </a:lnTo>
                    <a:lnTo>
                      <a:pt x="144" y="333"/>
                    </a:lnTo>
                    <a:lnTo>
                      <a:pt x="144" y="333"/>
                    </a:lnTo>
                    <a:lnTo>
                      <a:pt x="144" y="333"/>
                    </a:lnTo>
                    <a:lnTo>
                      <a:pt x="144" y="339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19"/>
                    </a:lnTo>
                    <a:lnTo>
                      <a:pt x="137" y="319"/>
                    </a:lnTo>
                    <a:lnTo>
                      <a:pt x="137" y="319"/>
                    </a:lnTo>
                    <a:lnTo>
                      <a:pt x="137" y="319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0" y="312"/>
                    </a:lnTo>
                    <a:lnTo>
                      <a:pt x="130" y="312"/>
                    </a:lnTo>
                    <a:lnTo>
                      <a:pt x="130" y="312"/>
                    </a:lnTo>
                    <a:lnTo>
                      <a:pt x="130" y="305"/>
                    </a:lnTo>
                    <a:lnTo>
                      <a:pt x="130" y="305"/>
                    </a:lnTo>
                    <a:lnTo>
                      <a:pt x="130" y="312"/>
                    </a:lnTo>
                    <a:lnTo>
                      <a:pt x="130" y="305"/>
                    </a:lnTo>
                    <a:lnTo>
                      <a:pt x="130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16" y="298"/>
                    </a:lnTo>
                    <a:lnTo>
                      <a:pt x="116" y="298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6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0" y="284"/>
                    </a:lnTo>
                    <a:lnTo>
                      <a:pt x="110" y="284"/>
                    </a:lnTo>
                    <a:lnTo>
                      <a:pt x="110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77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89" y="277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2" y="270"/>
                    </a:lnTo>
                    <a:lnTo>
                      <a:pt x="89" y="270"/>
                    </a:lnTo>
                    <a:lnTo>
                      <a:pt x="82" y="263"/>
                    </a:lnTo>
                    <a:lnTo>
                      <a:pt x="82" y="270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75" y="263"/>
                    </a:lnTo>
                    <a:lnTo>
                      <a:pt x="75" y="263"/>
                    </a:lnTo>
                    <a:lnTo>
                      <a:pt x="75" y="256"/>
                    </a:lnTo>
                    <a:lnTo>
                      <a:pt x="75" y="256"/>
                    </a:lnTo>
                    <a:lnTo>
                      <a:pt x="75" y="256"/>
                    </a:lnTo>
                    <a:lnTo>
                      <a:pt x="75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49"/>
                    </a:lnTo>
                    <a:lnTo>
                      <a:pt x="68" y="249"/>
                    </a:lnTo>
                    <a:lnTo>
                      <a:pt x="62" y="249"/>
                    </a:lnTo>
                    <a:lnTo>
                      <a:pt x="62" y="249"/>
                    </a:lnTo>
                    <a:lnTo>
                      <a:pt x="62" y="249"/>
                    </a:lnTo>
                    <a:lnTo>
                      <a:pt x="62" y="256"/>
                    </a:lnTo>
                    <a:lnTo>
                      <a:pt x="62" y="256"/>
                    </a:lnTo>
                    <a:lnTo>
                      <a:pt x="62" y="249"/>
                    </a:lnTo>
                    <a:lnTo>
                      <a:pt x="55" y="249"/>
                    </a:lnTo>
                    <a:lnTo>
                      <a:pt x="55" y="256"/>
                    </a:lnTo>
                    <a:lnTo>
                      <a:pt x="55" y="249"/>
                    </a:lnTo>
                    <a:lnTo>
                      <a:pt x="55" y="249"/>
                    </a:lnTo>
                    <a:lnTo>
                      <a:pt x="48" y="249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49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63"/>
                    </a:lnTo>
                    <a:lnTo>
                      <a:pt x="41" y="263"/>
                    </a:lnTo>
                    <a:lnTo>
                      <a:pt x="41" y="263"/>
                    </a:lnTo>
                    <a:lnTo>
                      <a:pt x="41" y="263"/>
                    </a:lnTo>
                    <a:lnTo>
                      <a:pt x="41" y="263"/>
                    </a:lnTo>
                    <a:lnTo>
                      <a:pt x="34" y="263"/>
                    </a:lnTo>
                    <a:lnTo>
                      <a:pt x="34" y="263"/>
                    </a:lnTo>
                    <a:lnTo>
                      <a:pt x="34" y="270"/>
                    </a:lnTo>
                    <a:lnTo>
                      <a:pt x="34" y="270"/>
                    </a:lnTo>
                    <a:lnTo>
                      <a:pt x="34" y="270"/>
                    </a:lnTo>
                    <a:lnTo>
                      <a:pt x="34" y="270"/>
                    </a:lnTo>
                    <a:lnTo>
                      <a:pt x="34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63"/>
                    </a:lnTo>
                    <a:lnTo>
                      <a:pt x="27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14" y="270"/>
                    </a:lnTo>
                    <a:lnTo>
                      <a:pt x="20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7" y="270"/>
                    </a:lnTo>
                    <a:lnTo>
                      <a:pt x="7" y="270"/>
                    </a:lnTo>
                    <a:lnTo>
                      <a:pt x="7" y="263"/>
                    </a:lnTo>
                    <a:lnTo>
                      <a:pt x="7" y="263"/>
                    </a:lnTo>
                    <a:lnTo>
                      <a:pt x="7" y="263"/>
                    </a:lnTo>
                    <a:lnTo>
                      <a:pt x="7" y="263"/>
                    </a:lnTo>
                    <a:lnTo>
                      <a:pt x="0" y="263"/>
                    </a:lnTo>
                    <a:lnTo>
                      <a:pt x="0" y="256"/>
                    </a:lnTo>
                    <a:lnTo>
                      <a:pt x="0" y="263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7" y="256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14" y="249"/>
                    </a:lnTo>
                    <a:lnTo>
                      <a:pt x="14" y="249"/>
                    </a:lnTo>
                    <a:lnTo>
                      <a:pt x="20" y="249"/>
                    </a:lnTo>
                    <a:lnTo>
                      <a:pt x="20" y="242"/>
                    </a:lnTo>
                    <a:lnTo>
                      <a:pt x="27" y="242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014720" y="5604120"/>
                <a:ext cx="813240" cy="317520"/>
              </a:xfrm>
              <a:custGeom>
                <a:avLst/>
                <a:gdLst/>
                <a:ahLst/>
                <a:rect l="l" t="t" r="r" b="b"/>
                <a:pathLst>
                  <a:path w="646" h="270">
                    <a:moveTo>
                      <a:pt x="0" y="242"/>
                    </a:moveTo>
                    <a:lnTo>
                      <a:pt x="0" y="235"/>
                    </a:lnTo>
                    <a:lnTo>
                      <a:pt x="0" y="235"/>
                    </a:lnTo>
                    <a:lnTo>
                      <a:pt x="0" y="235"/>
                    </a:lnTo>
                    <a:lnTo>
                      <a:pt x="0" y="228"/>
                    </a:lnTo>
                    <a:lnTo>
                      <a:pt x="7" y="228"/>
                    </a:lnTo>
                    <a:lnTo>
                      <a:pt x="7" y="228"/>
                    </a:lnTo>
                    <a:lnTo>
                      <a:pt x="14" y="228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8" y="215"/>
                    </a:lnTo>
                    <a:lnTo>
                      <a:pt x="28" y="208"/>
                    </a:lnTo>
                    <a:lnTo>
                      <a:pt x="28" y="208"/>
                    </a:lnTo>
                    <a:lnTo>
                      <a:pt x="35" y="201"/>
                    </a:lnTo>
                    <a:lnTo>
                      <a:pt x="35" y="201"/>
                    </a:lnTo>
                    <a:lnTo>
                      <a:pt x="41" y="201"/>
                    </a:lnTo>
                    <a:lnTo>
                      <a:pt x="41" y="201"/>
                    </a:lnTo>
                    <a:lnTo>
                      <a:pt x="41" y="201"/>
                    </a:lnTo>
                    <a:lnTo>
                      <a:pt x="41" y="194"/>
                    </a:lnTo>
                    <a:lnTo>
                      <a:pt x="41" y="194"/>
                    </a:lnTo>
                    <a:lnTo>
                      <a:pt x="48" y="194"/>
                    </a:lnTo>
                    <a:lnTo>
                      <a:pt x="48" y="194"/>
                    </a:lnTo>
                    <a:lnTo>
                      <a:pt x="48" y="194"/>
                    </a:lnTo>
                    <a:lnTo>
                      <a:pt x="48" y="187"/>
                    </a:lnTo>
                    <a:lnTo>
                      <a:pt x="55" y="180"/>
                    </a:lnTo>
                    <a:lnTo>
                      <a:pt x="55" y="180"/>
                    </a:lnTo>
                    <a:lnTo>
                      <a:pt x="55" y="180"/>
                    </a:lnTo>
                    <a:lnTo>
                      <a:pt x="55" y="173"/>
                    </a:lnTo>
                    <a:lnTo>
                      <a:pt x="62" y="173"/>
                    </a:lnTo>
                    <a:lnTo>
                      <a:pt x="62" y="166"/>
                    </a:lnTo>
                    <a:lnTo>
                      <a:pt x="62" y="166"/>
                    </a:lnTo>
                    <a:lnTo>
                      <a:pt x="62" y="166"/>
                    </a:lnTo>
                    <a:lnTo>
                      <a:pt x="69" y="166"/>
                    </a:lnTo>
                    <a:lnTo>
                      <a:pt x="69" y="166"/>
                    </a:lnTo>
                    <a:lnTo>
                      <a:pt x="76" y="166"/>
                    </a:lnTo>
                    <a:lnTo>
                      <a:pt x="76" y="166"/>
                    </a:lnTo>
                    <a:lnTo>
                      <a:pt x="76" y="166"/>
                    </a:lnTo>
                    <a:lnTo>
                      <a:pt x="76" y="159"/>
                    </a:lnTo>
                    <a:lnTo>
                      <a:pt x="76" y="159"/>
                    </a:lnTo>
                    <a:lnTo>
                      <a:pt x="76" y="159"/>
                    </a:lnTo>
                    <a:lnTo>
                      <a:pt x="76" y="152"/>
                    </a:lnTo>
                    <a:lnTo>
                      <a:pt x="76" y="152"/>
                    </a:lnTo>
                    <a:lnTo>
                      <a:pt x="83" y="152"/>
                    </a:lnTo>
                    <a:lnTo>
                      <a:pt x="83" y="152"/>
                    </a:lnTo>
                    <a:lnTo>
                      <a:pt x="83" y="152"/>
                    </a:lnTo>
                    <a:lnTo>
                      <a:pt x="83" y="152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9" y="138"/>
                    </a:lnTo>
                    <a:lnTo>
                      <a:pt x="89" y="138"/>
                    </a:lnTo>
                    <a:lnTo>
                      <a:pt x="96" y="138"/>
                    </a:lnTo>
                    <a:lnTo>
                      <a:pt x="96" y="138"/>
                    </a:lnTo>
                    <a:lnTo>
                      <a:pt x="96" y="131"/>
                    </a:lnTo>
                    <a:lnTo>
                      <a:pt x="96" y="131"/>
                    </a:lnTo>
                    <a:lnTo>
                      <a:pt x="103" y="124"/>
                    </a:lnTo>
                    <a:lnTo>
                      <a:pt x="110" y="124"/>
                    </a:lnTo>
                    <a:lnTo>
                      <a:pt x="110" y="124"/>
                    </a:lnTo>
                    <a:lnTo>
                      <a:pt x="110" y="124"/>
                    </a:lnTo>
                    <a:lnTo>
                      <a:pt x="110" y="124"/>
                    </a:lnTo>
                    <a:lnTo>
                      <a:pt x="110" y="124"/>
                    </a:lnTo>
                    <a:lnTo>
                      <a:pt x="110" y="117"/>
                    </a:lnTo>
                    <a:lnTo>
                      <a:pt x="110" y="117"/>
                    </a:lnTo>
                    <a:lnTo>
                      <a:pt x="110" y="117"/>
                    </a:lnTo>
                    <a:lnTo>
                      <a:pt x="110" y="117"/>
                    </a:lnTo>
                    <a:lnTo>
                      <a:pt x="117" y="117"/>
                    </a:lnTo>
                    <a:lnTo>
                      <a:pt x="117" y="117"/>
                    </a:lnTo>
                    <a:lnTo>
                      <a:pt x="117" y="117"/>
                    </a:lnTo>
                    <a:lnTo>
                      <a:pt x="117" y="117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24" y="104"/>
                    </a:lnTo>
                    <a:lnTo>
                      <a:pt x="124" y="104"/>
                    </a:lnTo>
                    <a:lnTo>
                      <a:pt x="124" y="104"/>
                    </a:lnTo>
                    <a:lnTo>
                      <a:pt x="131" y="104"/>
                    </a:lnTo>
                    <a:lnTo>
                      <a:pt x="131" y="104"/>
                    </a:lnTo>
                    <a:lnTo>
                      <a:pt x="131" y="104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04"/>
                    </a:lnTo>
                    <a:lnTo>
                      <a:pt x="138" y="104"/>
                    </a:lnTo>
                    <a:lnTo>
                      <a:pt x="138" y="104"/>
                    </a:lnTo>
                    <a:lnTo>
                      <a:pt x="131" y="97"/>
                    </a:lnTo>
                    <a:lnTo>
                      <a:pt x="131" y="97"/>
                    </a:lnTo>
                    <a:lnTo>
                      <a:pt x="131" y="97"/>
                    </a:lnTo>
                    <a:lnTo>
                      <a:pt x="131" y="97"/>
                    </a:lnTo>
                    <a:lnTo>
                      <a:pt x="131" y="97"/>
                    </a:lnTo>
                    <a:lnTo>
                      <a:pt x="138" y="97"/>
                    </a:lnTo>
                    <a:lnTo>
                      <a:pt x="138" y="90"/>
                    </a:lnTo>
                    <a:lnTo>
                      <a:pt x="138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8" y="83"/>
                    </a:lnTo>
                    <a:lnTo>
                      <a:pt x="158" y="83"/>
                    </a:lnTo>
                    <a:lnTo>
                      <a:pt x="158" y="83"/>
                    </a:lnTo>
                    <a:lnTo>
                      <a:pt x="158" y="83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69"/>
                    </a:lnTo>
                    <a:lnTo>
                      <a:pt x="165" y="69"/>
                    </a:lnTo>
                    <a:lnTo>
                      <a:pt x="165" y="69"/>
                    </a:lnTo>
                    <a:lnTo>
                      <a:pt x="165" y="69"/>
                    </a:lnTo>
                    <a:lnTo>
                      <a:pt x="172" y="69"/>
                    </a:lnTo>
                    <a:lnTo>
                      <a:pt x="172" y="69"/>
                    </a:lnTo>
                    <a:lnTo>
                      <a:pt x="172" y="69"/>
                    </a:lnTo>
                    <a:lnTo>
                      <a:pt x="172" y="62"/>
                    </a:lnTo>
                    <a:lnTo>
                      <a:pt x="179" y="62"/>
                    </a:lnTo>
                    <a:lnTo>
                      <a:pt x="179" y="62"/>
                    </a:lnTo>
                    <a:lnTo>
                      <a:pt x="179" y="62"/>
                    </a:lnTo>
                    <a:lnTo>
                      <a:pt x="179" y="62"/>
                    </a:lnTo>
                    <a:lnTo>
                      <a:pt x="186" y="69"/>
                    </a:lnTo>
                    <a:lnTo>
                      <a:pt x="186" y="69"/>
                    </a:lnTo>
                    <a:lnTo>
                      <a:pt x="186" y="62"/>
                    </a:lnTo>
                    <a:lnTo>
                      <a:pt x="186" y="62"/>
                    </a:lnTo>
                    <a:lnTo>
                      <a:pt x="186" y="62"/>
                    </a:lnTo>
                    <a:lnTo>
                      <a:pt x="186" y="62"/>
                    </a:lnTo>
                    <a:lnTo>
                      <a:pt x="186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186" y="55"/>
                    </a:lnTo>
                    <a:lnTo>
                      <a:pt x="186" y="55"/>
                    </a:lnTo>
                    <a:lnTo>
                      <a:pt x="186" y="55"/>
                    </a:lnTo>
                    <a:lnTo>
                      <a:pt x="192" y="55"/>
                    </a:lnTo>
                    <a:lnTo>
                      <a:pt x="192" y="55"/>
                    </a:lnTo>
                    <a:lnTo>
                      <a:pt x="192" y="55"/>
                    </a:lnTo>
                    <a:lnTo>
                      <a:pt x="192" y="55"/>
                    </a:lnTo>
                    <a:lnTo>
                      <a:pt x="192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199" y="48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13" y="34"/>
                    </a:lnTo>
                    <a:lnTo>
                      <a:pt x="213" y="34"/>
                    </a:lnTo>
                    <a:lnTo>
                      <a:pt x="213" y="41"/>
                    </a:lnTo>
                    <a:lnTo>
                      <a:pt x="213" y="41"/>
                    </a:lnTo>
                    <a:lnTo>
                      <a:pt x="213" y="41"/>
                    </a:lnTo>
                    <a:lnTo>
                      <a:pt x="213" y="41"/>
                    </a:lnTo>
                    <a:lnTo>
                      <a:pt x="213" y="34"/>
                    </a:lnTo>
                    <a:lnTo>
                      <a:pt x="220" y="41"/>
                    </a:lnTo>
                    <a:lnTo>
                      <a:pt x="220" y="41"/>
                    </a:lnTo>
                    <a:lnTo>
                      <a:pt x="220" y="41"/>
                    </a:lnTo>
                    <a:lnTo>
                      <a:pt x="220" y="34"/>
                    </a:lnTo>
                    <a:lnTo>
                      <a:pt x="220" y="34"/>
                    </a:lnTo>
                    <a:lnTo>
                      <a:pt x="220" y="34"/>
                    </a:lnTo>
                    <a:lnTo>
                      <a:pt x="220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27"/>
                    </a:lnTo>
                    <a:lnTo>
                      <a:pt x="227" y="27"/>
                    </a:lnTo>
                    <a:lnTo>
                      <a:pt x="227" y="27"/>
                    </a:lnTo>
                    <a:lnTo>
                      <a:pt x="227" y="27"/>
                    </a:lnTo>
                    <a:lnTo>
                      <a:pt x="234" y="27"/>
                    </a:lnTo>
                    <a:lnTo>
                      <a:pt x="234" y="27"/>
                    </a:lnTo>
                    <a:lnTo>
                      <a:pt x="234" y="34"/>
                    </a:lnTo>
                    <a:lnTo>
                      <a:pt x="234" y="34"/>
                    </a:lnTo>
                    <a:lnTo>
                      <a:pt x="234" y="34"/>
                    </a:lnTo>
                    <a:lnTo>
                      <a:pt x="234" y="34"/>
                    </a:lnTo>
                    <a:lnTo>
                      <a:pt x="234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13"/>
                    </a:lnTo>
                    <a:lnTo>
                      <a:pt x="261" y="13"/>
                    </a:lnTo>
                    <a:lnTo>
                      <a:pt x="261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75" y="13"/>
                    </a:lnTo>
                    <a:lnTo>
                      <a:pt x="275" y="13"/>
                    </a:lnTo>
                    <a:lnTo>
                      <a:pt x="275" y="13"/>
                    </a:lnTo>
                    <a:lnTo>
                      <a:pt x="275" y="13"/>
                    </a:lnTo>
                    <a:lnTo>
                      <a:pt x="275" y="13"/>
                    </a:lnTo>
                    <a:lnTo>
                      <a:pt x="275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9" y="6"/>
                    </a:lnTo>
                    <a:lnTo>
                      <a:pt x="289" y="6"/>
                    </a:lnTo>
                    <a:lnTo>
                      <a:pt x="289" y="6"/>
                    </a:lnTo>
                    <a:lnTo>
                      <a:pt x="289" y="6"/>
                    </a:lnTo>
                    <a:lnTo>
                      <a:pt x="289" y="0"/>
                    </a:lnTo>
                    <a:lnTo>
                      <a:pt x="289" y="0"/>
                    </a:lnTo>
                    <a:lnTo>
                      <a:pt x="289" y="0"/>
                    </a:lnTo>
                    <a:lnTo>
                      <a:pt x="289" y="6"/>
                    </a:lnTo>
                    <a:lnTo>
                      <a:pt x="295" y="6"/>
                    </a:lnTo>
                    <a:lnTo>
                      <a:pt x="295" y="6"/>
                    </a:lnTo>
                    <a:lnTo>
                      <a:pt x="295" y="6"/>
                    </a:lnTo>
                    <a:lnTo>
                      <a:pt x="295" y="6"/>
                    </a:lnTo>
                    <a:lnTo>
                      <a:pt x="295" y="0"/>
                    </a:lnTo>
                    <a:lnTo>
                      <a:pt x="295" y="0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323" y="6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6"/>
                    </a:lnTo>
                    <a:lnTo>
                      <a:pt x="337" y="6"/>
                    </a:lnTo>
                    <a:lnTo>
                      <a:pt x="337" y="6"/>
                    </a:lnTo>
                    <a:lnTo>
                      <a:pt x="337" y="6"/>
                    </a:lnTo>
                    <a:lnTo>
                      <a:pt x="337" y="6"/>
                    </a:lnTo>
                    <a:lnTo>
                      <a:pt x="344" y="6"/>
                    </a:lnTo>
                    <a:lnTo>
                      <a:pt x="344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7" y="6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6"/>
                    </a:lnTo>
                    <a:lnTo>
                      <a:pt x="364" y="6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85" y="6"/>
                    </a:lnTo>
                    <a:lnTo>
                      <a:pt x="385" y="6"/>
                    </a:lnTo>
                    <a:lnTo>
                      <a:pt x="385" y="6"/>
                    </a:lnTo>
                    <a:lnTo>
                      <a:pt x="385" y="6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8" y="13"/>
                    </a:lnTo>
                    <a:lnTo>
                      <a:pt x="398" y="13"/>
                    </a:lnTo>
                    <a:lnTo>
                      <a:pt x="398" y="13"/>
                    </a:lnTo>
                    <a:lnTo>
                      <a:pt x="398" y="13"/>
                    </a:lnTo>
                    <a:lnTo>
                      <a:pt x="398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9" y="13"/>
                    </a:lnTo>
                    <a:lnTo>
                      <a:pt x="412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20"/>
                    </a:lnTo>
                    <a:lnTo>
                      <a:pt x="433" y="20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40" y="13"/>
                    </a:lnTo>
                    <a:lnTo>
                      <a:pt x="440" y="13"/>
                    </a:lnTo>
                    <a:lnTo>
                      <a:pt x="440" y="13"/>
                    </a:lnTo>
                    <a:lnTo>
                      <a:pt x="440" y="20"/>
                    </a:lnTo>
                    <a:lnTo>
                      <a:pt x="440" y="20"/>
                    </a:lnTo>
                    <a:lnTo>
                      <a:pt x="440" y="20"/>
                    </a:lnTo>
                    <a:lnTo>
                      <a:pt x="440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53" y="20"/>
                    </a:lnTo>
                    <a:lnTo>
                      <a:pt x="453" y="20"/>
                    </a:lnTo>
                    <a:lnTo>
                      <a:pt x="453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7"/>
                    </a:lnTo>
                    <a:lnTo>
                      <a:pt x="447" y="27"/>
                    </a:lnTo>
                    <a:lnTo>
                      <a:pt x="447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27"/>
                    </a:lnTo>
                    <a:lnTo>
                      <a:pt x="460" y="27"/>
                    </a:lnTo>
                    <a:lnTo>
                      <a:pt x="460" y="27"/>
                    </a:lnTo>
                    <a:lnTo>
                      <a:pt x="460" y="27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74" y="27"/>
                    </a:lnTo>
                    <a:lnTo>
                      <a:pt x="474" y="27"/>
                    </a:lnTo>
                    <a:lnTo>
                      <a:pt x="474" y="27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41"/>
                    </a:lnTo>
                    <a:lnTo>
                      <a:pt x="481" y="41"/>
                    </a:lnTo>
                    <a:lnTo>
                      <a:pt x="488" y="41"/>
                    </a:lnTo>
                    <a:lnTo>
                      <a:pt x="488" y="41"/>
                    </a:lnTo>
                    <a:lnTo>
                      <a:pt x="488" y="41"/>
                    </a:lnTo>
                    <a:lnTo>
                      <a:pt x="488" y="34"/>
                    </a:lnTo>
                    <a:lnTo>
                      <a:pt x="488" y="34"/>
                    </a:lnTo>
                    <a:lnTo>
                      <a:pt x="488" y="41"/>
                    </a:lnTo>
                    <a:lnTo>
                      <a:pt x="488" y="34"/>
                    </a:lnTo>
                    <a:lnTo>
                      <a:pt x="488" y="34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8"/>
                    </a:lnTo>
                    <a:lnTo>
                      <a:pt x="495" y="48"/>
                    </a:lnTo>
                    <a:lnTo>
                      <a:pt x="495" y="48"/>
                    </a:lnTo>
                    <a:lnTo>
                      <a:pt x="495" y="48"/>
                    </a:lnTo>
                    <a:lnTo>
                      <a:pt x="495" y="48"/>
                    </a:lnTo>
                    <a:lnTo>
                      <a:pt x="501" y="41"/>
                    </a:lnTo>
                    <a:lnTo>
                      <a:pt x="501" y="41"/>
                    </a:lnTo>
                    <a:lnTo>
                      <a:pt x="501" y="41"/>
                    </a:lnTo>
                    <a:lnTo>
                      <a:pt x="501" y="48"/>
                    </a:lnTo>
                    <a:lnTo>
                      <a:pt x="501" y="48"/>
                    </a:lnTo>
                    <a:lnTo>
                      <a:pt x="501" y="48"/>
                    </a:lnTo>
                    <a:lnTo>
                      <a:pt x="501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55"/>
                    </a:lnTo>
                    <a:lnTo>
                      <a:pt x="508" y="55"/>
                    </a:lnTo>
                    <a:lnTo>
                      <a:pt x="508" y="55"/>
                    </a:lnTo>
                    <a:lnTo>
                      <a:pt x="508" y="55"/>
                    </a:lnTo>
                    <a:lnTo>
                      <a:pt x="515" y="55"/>
                    </a:lnTo>
                    <a:lnTo>
                      <a:pt x="515" y="55"/>
                    </a:lnTo>
                    <a:lnTo>
                      <a:pt x="515" y="55"/>
                    </a:lnTo>
                    <a:lnTo>
                      <a:pt x="515" y="55"/>
                    </a:lnTo>
                    <a:lnTo>
                      <a:pt x="515" y="55"/>
                    </a:lnTo>
                    <a:lnTo>
                      <a:pt x="522" y="55"/>
                    </a:lnTo>
                    <a:lnTo>
                      <a:pt x="522" y="55"/>
                    </a:lnTo>
                    <a:lnTo>
                      <a:pt x="522" y="62"/>
                    </a:lnTo>
                    <a:lnTo>
                      <a:pt x="522" y="62"/>
                    </a:lnTo>
                    <a:lnTo>
                      <a:pt x="522" y="62"/>
                    </a:lnTo>
                    <a:lnTo>
                      <a:pt x="522" y="62"/>
                    </a:lnTo>
                    <a:lnTo>
                      <a:pt x="522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76"/>
                    </a:lnTo>
                    <a:lnTo>
                      <a:pt x="536" y="76"/>
                    </a:lnTo>
                    <a:lnTo>
                      <a:pt x="543" y="76"/>
                    </a:lnTo>
                    <a:lnTo>
                      <a:pt x="536" y="76"/>
                    </a:lnTo>
                    <a:lnTo>
                      <a:pt x="543" y="76"/>
                    </a:lnTo>
                    <a:lnTo>
                      <a:pt x="543" y="76"/>
                    </a:lnTo>
                    <a:lnTo>
                      <a:pt x="543" y="76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90"/>
                    </a:lnTo>
                    <a:lnTo>
                      <a:pt x="543" y="83"/>
                    </a:lnTo>
                    <a:lnTo>
                      <a:pt x="549" y="83"/>
                    </a:lnTo>
                    <a:lnTo>
                      <a:pt x="549" y="83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63" y="97"/>
                    </a:lnTo>
                    <a:lnTo>
                      <a:pt x="563" y="104"/>
                    </a:lnTo>
                    <a:lnTo>
                      <a:pt x="563" y="104"/>
                    </a:lnTo>
                    <a:lnTo>
                      <a:pt x="563" y="104"/>
                    </a:lnTo>
                    <a:lnTo>
                      <a:pt x="563" y="104"/>
                    </a:lnTo>
                    <a:lnTo>
                      <a:pt x="563" y="104"/>
                    </a:lnTo>
                    <a:lnTo>
                      <a:pt x="563" y="111"/>
                    </a:lnTo>
                    <a:lnTo>
                      <a:pt x="563" y="111"/>
                    </a:lnTo>
                    <a:lnTo>
                      <a:pt x="570" y="104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7" y="111"/>
                    </a:lnTo>
                    <a:lnTo>
                      <a:pt x="577" y="111"/>
                    </a:lnTo>
                    <a:lnTo>
                      <a:pt x="577" y="111"/>
                    </a:lnTo>
                    <a:lnTo>
                      <a:pt x="577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7"/>
                    </a:lnTo>
                    <a:lnTo>
                      <a:pt x="591" y="117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7"/>
                    </a:lnTo>
                    <a:lnTo>
                      <a:pt x="598" y="117"/>
                    </a:lnTo>
                    <a:lnTo>
                      <a:pt x="598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1"/>
                    </a:lnTo>
                    <a:lnTo>
                      <a:pt x="604" y="117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11" y="111"/>
                    </a:lnTo>
                    <a:lnTo>
                      <a:pt x="604" y="111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7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32" y="111"/>
                    </a:lnTo>
                    <a:lnTo>
                      <a:pt x="632" y="111"/>
                    </a:lnTo>
                    <a:lnTo>
                      <a:pt x="625" y="111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9" y="117"/>
                    </a:lnTo>
                    <a:lnTo>
                      <a:pt x="632" y="117"/>
                    </a:lnTo>
                    <a:lnTo>
                      <a:pt x="639" y="117"/>
                    </a:lnTo>
                    <a:lnTo>
                      <a:pt x="632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46" y="124"/>
                    </a:lnTo>
                    <a:lnTo>
                      <a:pt x="646" y="124"/>
                    </a:lnTo>
                    <a:lnTo>
                      <a:pt x="639" y="131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31"/>
                    </a:lnTo>
                    <a:lnTo>
                      <a:pt x="639" y="124"/>
                    </a:lnTo>
                    <a:lnTo>
                      <a:pt x="639" y="131"/>
                    </a:lnTo>
                    <a:lnTo>
                      <a:pt x="632" y="124"/>
                    </a:lnTo>
                    <a:lnTo>
                      <a:pt x="632" y="124"/>
                    </a:lnTo>
                    <a:lnTo>
                      <a:pt x="632" y="124"/>
                    </a:lnTo>
                    <a:lnTo>
                      <a:pt x="632" y="124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25" y="131"/>
                    </a:lnTo>
                    <a:lnTo>
                      <a:pt x="625" y="131"/>
                    </a:lnTo>
                    <a:lnTo>
                      <a:pt x="625" y="131"/>
                    </a:lnTo>
                    <a:lnTo>
                      <a:pt x="625" y="131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1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18" y="138"/>
                    </a:lnTo>
                    <a:lnTo>
                      <a:pt x="618" y="138"/>
                    </a:lnTo>
                    <a:lnTo>
                      <a:pt x="618" y="138"/>
                    </a:lnTo>
                    <a:lnTo>
                      <a:pt x="618" y="145"/>
                    </a:lnTo>
                    <a:lnTo>
                      <a:pt x="625" y="145"/>
                    </a:lnTo>
                    <a:lnTo>
                      <a:pt x="625" y="145"/>
                    </a:lnTo>
                    <a:lnTo>
                      <a:pt x="618" y="145"/>
                    </a:lnTo>
                    <a:lnTo>
                      <a:pt x="618" y="145"/>
                    </a:lnTo>
                    <a:lnTo>
                      <a:pt x="618" y="145"/>
                    </a:lnTo>
                    <a:lnTo>
                      <a:pt x="618" y="145"/>
                    </a:lnTo>
                    <a:lnTo>
                      <a:pt x="625" y="145"/>
                    </a:lnTo>
                    <a:lnTo>
                      <a:pt x="618" y="145"/>
                    </a:lnTo>
                    <a:lnTo>
                      <a:pt x="618" y="145"/>
                    </a:lnTo>
                    <a:lnTo>
                      <a:pt x="618" y="152"/>
                    </a:lnTo>
                    <a:lnTo>
                      <a:pt x="618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18" y="152"/>
                    </a:lnTo>
                    <a:lnTo>
                      <a:pt x="618" y="152"/>
                    </a:lnTo>
                    <a:lnTo>
                      <a:pt x="618" y="152"/>
                    </a:lnTo>
                    <a:lnTo>
                      <a:pt x="618" y="152"/>
                    </a:lnTo>
                    <a:lnTo>
                      <a:pt x="625" y="152"/>
                    </a:lnTo>
                    <a:lnTo>
                      <a:pt x="618" y="152"/>
                    </a:lnTo>
                    <a:lnTo>
                      <a:pt x="625" y="152"/>
                    </a:lnTo>
                    <a:lnTo>
                      <a:pt x="618" y="152"/>
                    </a:lnTo>
                    <a:lnTo>
                      <a:pt x="618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18" y="159"/>
                    </a:lnTo>
                    <a:lnTo>
                      <a:pt x="618" y="159"/>
                    </a:lnTo>
                    <a:lnTo>
                      <a:pt x="618" y="159"/>
                    </a:lnTo>
                    <a:lnTo>
                      <a:pt x="618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18" y="159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25" y="166"/>
                    </a:lnTo>
                    <a:lnTo>
                      <a:pt x="625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1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04" y="180"/>
                    </a:lnTo>
                    <a:lnTo>
                      <a:pt x="604" y="173"/>
                    </a:lnTo>
                    <a:lnTo>
                      <a:pt x="604" y="173"/>
                    </a:lnTo>
                    <a:lnTo>
                      <a:pt x="604" y="173"/>
                    </a:lnTo>
                    <a:lnTo>
                      <a:pt x="604" y="173"/>
                    </a:lnTo>
                    <a:lnTo>
                      <a:pt x="604" y="180"/>
                    </a:lnTo>
                    <a:lnTo>
                      <a:pt x="604" y="173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04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8" y="180"/>
                    </a:lnTo>
                    <a:lnTo>
                      <a:pt x="618" y="180"/>
                    </a:lnTo>
                    <a:lnTo>
                      <a:pt x="618" y="180"/>
                    </a:lnTo>
                    <a:lnTo>
                      <a:pt x="618" y="180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25" y="173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7"/>
                    </a:lnTo>
                    <a:lnTo>
                      <a:pt x="632" y="187"/>
                    </a:lnTo>
                    <a:lnTo>
                      <a:pt x="632" y="187"/>
                    </a:lnTo>
                    <a:lnTo>
                      <a:pt x="632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94"/>
                    </a:lnTo>
                    <a:lnTo>
                      <a:pt x="632" y="194"/>
                    </a:lnTo>
                    <a:lnTo>
                      <a:pt x="625" y="208"/>
                    </a:lnTo>
                    <a:lnTo>
                      <a:pt x="625" y="215"/>
                    </a:lnTo>
                    <a:lnTo>
                      <a:pt x="625" y="215"/>
                    </a:lnTo>
                    <a:lnTo>
                      <a:pt x="618" y="215"/>
                    </a:lnTo>
                    <a:lnTo>
                      <a:pt x="618" y="215"/>
                    </a:lnTo>
                    <a:lnTo>
                      <a:pt x="618" y="222"/>
                    </a:lnTo>
                    <a:lnTo>
                      <a:pt x="618" y="222"/>
                    </a:lnTo>
                    <a:lnTo>
                      <a:pt x="611" y="228"/>
                    </a:lnTo>
                    <a:lnTo>
                      <a:pt x="611" y="235"/>
                    </a:lnTo>
                    <a:lnTo>
                      <a:pt x="611" y="235"/>
                    </a:lnTo>
                    <a:lnTo>
                      <a:pt x="604" y="242"/>
                    </a:lnTo>
                    <a:lnTo>
                      <a:pt x="604" y="249"/>
                    </a:lnTo>
                    <a:lnTo>
                      <a:pt x="604" y="249"/>
                    </a:lnTo>
                    <a:lnTo>
                      <a:pt x="604" y="249"/>
                    </a:lnTo>
                    <a:lnTo>
                      <a:pt x="598" y="263"/>
                    </a:lnTo>
                    <a:lnTo>
                      <a:pt x="598" y="263"/>
                    </a:lnTo>
                    <a:lnTo>
                      <a:pt x="598" y="270"/>
                    </a:lnTo>
                    <a:lnTo>
                      <a:pt x="598" y="270"/>
                    </a:lnTo>
                    <a:lnTo>
                      <a:pt x="598" y="270"/>
                    </a:lnTo>
                    <a:lnTo>
                      <a:pt x="598" y="2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980880" y="5888880"/>
                <a:ext cx="786960" cy="375120"/>
              </a:xfrm>
              <a:custGeom>
                <a:avLst/>
                <a:gdLst/>
                <a:ahLst/>
                <a:rect l="l" t="t" r="r" b="b"/>
                <a:pathLst>
                  <a:path w="625" h="319">
                    <a:moveTo>
                      <a:pt x="625" y="28"/>
                    </a:moveTo>
                    <a:lnTo>
                      <a:pt x="618" y="35"/>
                    </a:lnTo>
                    <a:lnTo>
                      <a:pt x="618" y="42"/>
                    </a:lnTo>
                    <a:lnTo>
                      <a:pt x="618" y="42"/>
                    </a:lnTo>
                    <a:lnTo>
                      <a:pt x="611" y="49"/>
                    </a:lnTo>
                    <a:lnTo>
                      <a:pt x="604" y="56"/>
                    </a:lnTo>
                    <a:lnTo>
                      <a:pt x="604" y="63"/>
                    </a:lnTo>
                    <a:lnTo>
                      <a:pt x="597" y="70"/>
                    </a:lnTo>
                    <a:lnTo>
                      <a:pt x="590" y="84"/>
                    </a:lnTo>
                    <a:lnTo>
                      <a:pt x="583" y="84"/>
                    </a:lnTo>
                    <a:lnTo>
                      <a:pt x="583" y="91"/>
                    </a:lnTo>
                    <a:lnTo>
                      <a:pt x="576" y="97"/>
                    </a:lnTo>
                    <a:lnTo>
                      <a:pt x="576" y="97"/>
                    </a:lnTo>
                    <a:lnTo>
                      <a:pt x="570" y="104"/>
                    </a:lnTo>
                    <a:lnTo>
                      <a:pt x="570" y="104"/>
                    </a:lnTo>
                    <a:lnTo>
                      <a:pt x="563" y="111"/>
                    </a:lnTo>
                    <a:lnTo>
                      <a:pt x="563" y="111"/>
                    </a:lnTo>
                    <a:lnTo>
                      <a:pt x="556" y="118"/>
                    </a:lnTo>
                    <a:lnTo>
                      <a:pt x="549" y="125"/>
                    </a:lnTo>
                    <a:lnTo>
                      <a:pt x="542" y="125"/>
                    </a:lnTo>
                    <a:lnTo>
                      <a:pt x="542" y="132"/>
                    </a:lnTo>
                    <a:lnTo>
                      <a:pt x="542" y="132"/>
                    </a:lnTo>
                    <a:lnTo>
                      <a:pt x="535" y="132"/>
                    </a:lnTo>
                    <a:lnTo>
                      <a:pt x="535" y="139"/>
                    </a:lnTo>
                    <a:lnTo>
                      <a:pt x="528" y="146"/>
                    </a:lnTo>
                    <a:lnTo>
                      <a:pt x="522" y="146"/>
                    </a:lnTo>
                    <a:lnTo>
                      <a:pt x="515" y="153"/>
                    </a:lnTo>
                    <a:lnTo>
                      <a:pt x="508" y="153"/>
                    </a:lnTo>
                    <a:lnTo>
                      <a:pt x="501" y="160"/>
                    </a:lnTo>
                    <a:lnTo>
                      <a:pt x="494" y="167"/>
                    </a:lnTo>
                    <a:lnTo>
                      <a:pt x="487" y="167"/>
                    </a:lnTo>
                    <a:lnTo>
                      <a:pt x="480" y="174"/>
                    </a:lnTo>
                    <a:lnTo>
                      <a:pt x="474" y="174"/>
                    </a:lnTo>
                    <a:lnTo>
                      <a:pt x="467" y="181"/>
                    </a:lnTo>
                    <a:lnTo>
                      <a:pt x="467" y="188"/>
                    </a:lnTo>
                    <a:lnTo>
                      <a:pt x="467" y="188"/>
                    </a:lnTo>
                    <a:lnTo>
                      <a:pt x="467" y="188"/>
                    </a:lnTo>
                    <a:lnTo>
                      <a:pt x="467" y="188"/>
                    </a:lnTo>
                    <a:lnTo>
                      <a:pt x="460" y="188"/>
                    </a:lnTo>
                    <a:lnTo>
                      <a:pt x="460" y="188"/>
                    </a:lnTo>
                    <a:lnTo>
                      <a:pt x="453" y="195"/>
                    </a:lnTo>
                    <a:lnTo>
                      <a:pt x="453" y="195"/>
                    </a:lnTo>
                    <a:lnTo>
                      <a:pt x="446" y="202"/>
                    </a:lnTo>
                    <a:lnTo>
                      <a:pt x="446" y="208"/>
                    </a:lnTo>
                    <a:lnTo>
                      <a:pt x="446" y="215"/>
                    </a:lnTo>
                    <a:lnTo>
                      <a:pt x="439" y="222"/>
                    </a:lnTo>
                    <a:lnTo>
                      <a:pt x="439" y="222"/>
                    </a:lnTo>
                    <a:lnTo>
                      <a:pt x="439" y="236"/>
                    </a:lnTo>
                    <a:lnTo>
                      <a:pt x="432" y="236"/>
                    </a:lnTo>
                    <a:lnTo>
                      <a:pt x="432" y="250"/>
                    </a:lnTo>
                    <a:lnTo>
                      <a:pt x="425" y="257"/>
                    </a:lnTo>
                    <a:lnTo>
                      <a:pt x="425" y="264"/>
                    </a:lnTo>
                    <a:lnTo>
                      <a:pt x="419" y="264"/>
                    </a:lnTo>
                    <a:lnTo>
                      <a:pt x="419" y="271"/>
                    </a:lnTo>
                    <a:lnTo>
                      <a:pt x="412" y="278"/>
                    </a:lnTo>
                    <a:lnTo>
                      <a:pt x="405" y="285"/>
                    </a:lnTo>
                    <a:lnTo>
                      <a:pt x="384" y="299"/>
                    </a:lnTo>
                    <a:lnTo>
                      <a:pt x="377" y="306"/>
                    </a:lnTo>
                    <a:lnTo>
                      <a:pt x="371" y="313"/>
                    </a:lnTo>
                    <a:lnTo>
                      <a:pt x="371" y="313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3"/>
                    </a:lnTo>
                    <a:lnTo>
                      <a:pt x="357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06"/>
                    </a:lnTo>
                    <a:lnTo>
                      <a:pt x="343" y="306"/>
                    </a:lnTo>
                    <a:lnTo>
                      <a:pt x="343" y="306"/>
                    </a:lnTo>
                    <a:lnTo>
                      <a:pt x="343" y="299"/>
                    </a:lnTo>
                    <a:lnTo>
                      <a:pt x="350" y="292"/>
                    </a:lnTo>
                    <a:lnTo>
                      <a:pt x="350" y="285"/>
                    </a:lnTo>
                    <a:lnTo>
                      <a:pt x="343" y="278"/>
                    </a:lnTo>
                    <a:lnTo>
                      <a:pt x="343" y="271"/>
                    </a:lnTo>
                    <a:lnTo>
                      <a:pt x="350" y="257"/>
                    </a:lnTo>
                    <a:lnTo>
                      <a:pt x="357" y="257"/>
                    </a:lnTo>
                    <a:lnTo>
                      <a:pt x="364" y="257"/>
                    </a:lnTo>
                    <a:lnTo>
                      <a:pt x="371" y="250"/>
                    </a:lnTo>
                    <a:lnTo>
                      <a:pt x="364" y="250"/>
                    </a:lnTo>
                    <a:lnTo>
                      <a:pt x="364" y="250"/>
                    </a:lnTo>
                    <a:lnTo>
                      <a:pt x="364" y="250"/>
                    </a:lnTo>
                    <a:lnTo>
                      <a:pt x="371" y="250"/>
                    </a:lnTo>
                    <a:lnTo>
                      <a:pt x="364" y="250"/>
                    </a:lnTo>
                    <a:lnTo>
                      <a:pt x="377" y="243"/>
                    </a:lnTo>
                    <a:lnTo>
                      <a:pt x="377" y="243"/>
                    </a:lnTo>
                    <a:lnTo>
                      <a:pt x="377" y="243"/>
                    </a:lnTo>
                    <a:lnTo>
                      <a:pt x="377" y="236"/>
                    </a:lnTo>
                    <a:lnTo>
                      <a:pt x="384" y="236"/>
                    </a:lnTo>
                    <a:lnTo>
                      <a:pt x="384" y="236"/>
                    </a:lnTo>
                    <a:lnTo>
                      <a:pt x="377" y="229"/>
                    </a:lnTo>
                    <a:lnTo>
                      <a:pt x="377" y="229"/>
                    </a:lnTo>
                    <a:lnTo>
                      <a:pt x="377" y="222"/>
                    </a:lnTo>
                    <a:lnTo>
                      <a:pt x="371" y="222"/>
                    </a:lnTo>
                    <a:lnTo>
                      <a:pt x="371" y="222"/>
                    </a:lnTo>
                    <a:lnTo>
                      <a:pt x="371" y="222"/>
                    </a:lnTo>
                    <a:lnTo>
                      <a:pt x="371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15"/>
                    </a:lnTo>
                    <a:lnTo>
                      <a:pt x="350" y="215"/>
                    </a:lnTo>
                    <a:lnTo>
                      <a:pt x="350" y="215"/>
                    </a:lnTo>
                    <a:lnTo>
                      <a:pt x="350" y="215"/>
                    </a:lnTo>
                    <a:lnTo>
                      <a:pt x="350" y="215"/>
                    </a:lnTo>
                    <a:lnTo>
                      <a:pt x="350" y="208"/>
                    </a:lnTo>
                    <a:lnTo>
                      <a:pt x="350" y="215"/>
                    </a:lnTo>
                    <a:lnTo>
                      <a:pt x="350" y="208"/>
                    </a:lnTo>
                    <a:lnTo>
                      <a:pt x="350" y="215"/>
                    </a:lnTo>
                    <a:lnTo>
                      <a:pt x="350" y="208"/>
                    </a:lnTo>
                    <a:lnTo>
                      <a:pt x="343" y="215"/>
                    </a:lnTo>
                    <a:lnTo>
                      <a:pt x="343" y="208"/>
                    </a:lnTo>
                    <a:lnTo>
                      <a:pt x="343" y="208"/>
                    </a:lnTo>
                    <a:lnTo>
                      <a:pt x="343" y="208"/>
                    </a:lnTo>
                    <a:lnTo>
                      <a:pt x="343" y="208"/>
                    </a:lnTo>
                    <a:lnTo>
                      <a:pt x="343" y="208"/>
                    </a:lnTo>
                    <a:lnTo>
                      <a:pt x="336" y="208"/>
                    </a:lnTo>
                    <a:lnTo>
                      <a:pt x="336" y="208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88"/>
                    </a:lnTo>
                    <a:lnTo>
                      <a:pt x="336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2" y="181"/>
                    </a:lnTo>
                    <a:lnTo>
                      <a:pt x="322" y="174"/>
                    </a:lnTo>
                    <a:lnTo>
                      <a:pt x="322" y="181"/>
                    </a:lnTo>
                    <a:lnTo>
                      <a:pt x="322" y="174"/>
                    </a:lnTo>
                    <a:lnTo>
                      <a:pt x="322" y="174"/>
                    </a:lnTo>
                    <a:lnTo>
                      <a:pt x="322" y="174"/>
                    </a:lnTo>
                    <a:lnTo>
                      <a:pt x="322" y="174"/>
                    </a:lnTo>
                    <a:lnTo>
                      <a:pt x="322" y="174"/>
                    </a:lnTo>
                    <a:lnTo>
                      <a:pt x="316" y="174"/>
                    </a:lnTo>
                    <a:lnTo>
                      <a:pt x="322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67"/>
                    </a:lnTo>
                    <a:lnTo>
                      <a:pt x="316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2" y="167"/>
                    </a:lnTo>
                    <a:lnTo>
                      <a:pt x="302" y="160"/>
                    </a:lnTo>
                    <a:lnTo>
                      <a:pt x="302" y="160"/>
                    </a:lnTo>
                    <a:lnTo>
                      <a:pt x="302" y="160"/>
                    </a:lnTo>
                    <a:lnTo>
                      <a:pt x="302" y="167"/>
                    </a:lnTo>
                    <a:lnTo>
                      <a:pt x="302" y="167"/>
                    </a:lnTo>
                    <a:lnTo>
                      <a:pt x="302" y="167"/>
                    </a:lnTo>
                    <a:lnTo>
                      <a:pt x="295" y="167"/>
                    </a:lnTo>
                    <a:lnTo>
                      <a:pt x="295" y="167"/>
                    </a:lnTo>
                    <a:lnTo>
                      <a:pt x="295" y="167"/>
                    </a:lnTo>
                    <a:lnTo>
                      <a:pt x="295" y="160"/>
                    </a:lnTo>
                    <a:lnTo>
                      <a:pt x="295" y="160"/>
                    </a:lnTo>
                    <a:lnTo>
                      <a:pt x="295" y="160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2"/>
                    </a:lnTo>
                    <a:lnTo>
                      <a:pt x="268" y="132"/>
                    </a:lnTo>
                    <a:lnTo>
                      <a:pt x="268" y="132"/>
                    </a:lnTo>
                    <a:lnTo>
                      <a:pt x="261" y="132"/>
                    </a:lnTo>
                    <a:lnTo>
                      <a:pt x="261" y="132"/>
                    </a:lnTo>
                    <a:lnTo>
                      <a:pt x="261" y="132"/>
                    </a:lnTo>
                    <a:lnTo>
                      <a:pt x="261" y="132"/>
                    </a:lnTo>
                    <a:lnTo>
                      <a:pt x="261" y="125"/>
                    </a:lnTo>
                    <a:lnTo>
                      <a:pt x="261" y="125"/>
                    </a:lnTo>
                    <a:lnTo>
                      <a:pt x="254" y="125"/>
                    </a:lnTo>
                    <a:lnTo>
                      <a:pt x="254" y="125"/>
                    </a:lnTo>
                    <a:lnTo>
                      <a:pt x="254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0" y="125"/>
                    </a:lnTo>
                    <a:lnTo>
                      <a:pt x="240" y="125"/>
                    </a:lnTo>
                    <a:lnTo>
                      <a:pt x="240" y="125"/>
                    </a:lnTo>
                    <a:lnTo>
                      <a:pt x="240" y="125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1"/>
                    </a:lnTo>
                    <a:lnTo>
                      <a:pt x="226" y="111"/>
                    </a:lnTo>
                    <a:lnTo>
                      <a:pt x="219" y="111"/>
                    </a:lnTo>
                    <a:lnTo>
                      <a:pt x="226" y="111"/>
                    </a:lnTo>
                    <a:lnTo>
                      <a:pt x="226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3" y="111"/>
                    </a:lnTo>
                    <a:lnTo>
                      <a:pt x="219" y="111"/>
                    </a:lnTo>
                    <a:lnTo>
                      <a:pt x="213" y="111"/>
                    </a:lnTo>
                    <a:lnTo>
                      <a:pt x="219" y="118"/>
                    </a:lnTo>
                    <a:lnTo>
                      <a:pt x="213" y="118"/>
                    </a:lnTo>
                    <a:lnTo>
                      <a:pt x="213" y="111"/>
                    </a:lnTo>
                    <a:lnTo>
                      <a:pt x="213" y="111"/>
                    </a:lnTo>
                    <a:lnTo>
                      <a:pt x="213" y="111"/>
                    </a:lnTo>
                    <a:lnTo>
                      <a:pt x="213" y="111"/>
                    </a:lnTo>
                    <a:lnTo>
                      <a:pt x="213" y="111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199" y="111"/>
                    </a:lnTo>
                    <a:lnTo>
                      <a:pt x="199" y="111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97"/>
                    </a:lnTo>
                    <a:lnTo>
                      <a:pt x="199" y="97"/>
                    </a:lnTo>
                    <a:lnTo>
                      <a:pt x="199" y="97"/>
                    </a:lnTo>
                    <a:lnTo>
                      <a:pt x="199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85" y="91"/>
                    </a:lnTo>
                    <a:lnTo>
                      <a:pt x="185" y="91"/>
                    </a:lnTo>
                    <a:lnTo>
                      <a:pt x="185" y="91"/>
                    </a:lnTo>
                    <a:lnTo>
                      <a:pt x="185" y="91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78" y="84"/>
                    </a:lnTo>
                    <a:lnTo>
                      <a:pt x="178" y="84"/>
                    </a:lnTo>
                    <a:lnTo>
                      <a:pt x="178" y="84"/>
                    </a:lnTo>
                    <a:lnTo>
                      <a:pt x="178" y="84"/>
                    </a:lnTo>
                    <a:lnTo>
                      <a:pt x="178" y="84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0"/>
                    </a:lnTo>
                    <a:lnTo>
                      <a:pt x="171" y="70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91"/>
                    </a:lnTo>
                    <a:lnTo>
                      <a:pt x="158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44" y="91"/>
                    </a:lnTo>
                    <a:lnTo>
                      <a:pt x="144" y="91"/>
                    </a:lnTo>
                    <a:lnTo>
                      <a:pt x="144" y="91"/>
                    </a:lnTo>
                    <a:lnTo>
                      <a:pt x="144" y="91"/>
                    </a:lnTo>
                    <a:lnTo>
                      <a:pt x="144" y="97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77"/>
                    </a:lnTo>
                    <a:lnTo>
                      <a:pt x="137" y="77"/>
                    </a:lnTo>
                    <a:lnTo>
                      <a:pt x="137" y="77"/>
                    </a:lnTo>
                    <a:lnTo>
                      <a:pt x="137" y="77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30" y="70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16" y="56"/>
                    </a:lnTo>
                    <a:lnTo>
                      <a:pt x="116" y="56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6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89" y="35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2" y="28"/>
                    </a:lnTo>
                    <a:lnTo>
                      <a:pt x="89" y="28"/>
                    </a:lnTo>
                    <a:lnTo>
                      <a:pt x="82" y="21"/>
                    </a:lnTo>
                    <a:lnTo>
                      <a:pt x="82" y="28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75" y="21"/>
                    </a:lnTo>
                    <a:lnTo>
                      <a:pt x="75" y="21"/>
                    </a:lnTo>
                    <a:lnTo>
                      <a:pt x="75" y="14"/>
                    </a:lnTo>
                    <a:lnTo>
                      <a:pt x="75" y="14"/>
                    </a:lnTo>
                    <a:lnTo>
                      <a:pt x="75" y="14"/>
                    </a:lnTo>
                    <a:lnTo>
                      <a:pt x="75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7"/>
                    </a:lnTo>
                    <a:lnTo>
                      <a:pt x="68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7"/>
                    </a:lnTo>
                    <a:lnTo>
                      <a:pt x="55" y="7"/>
                    </a:lnTo>
                    <a:lnTo>
                      <a:pt x="55" y="14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48" y="7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7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27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14" y="28"/>
                    </a:lnTo>
                    <a:lnTo>
                      <a:pt x="20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920400" y="4615920"/>
                <a:ext cx="769320" cy="685800"/>
              </a:xfrm>
              <a:custGeom>
                <a:avLst/>
                <a:gdLst/>
                <a:ahLst/>
                <a:rect l="l" t="t" r="r" b="b"/>
                <a:pathLst>
                  <a:path w="611" h="583">
                    <a:moveTo>
                      <a:pt x="13" y="201"/>
                    </a:moveTo>
                    <a:lnTo>
                      <a:pt x="27" y="174"/>
                    </a:lnTo>
                    <a:lnTo>
                      <a:pt x="34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46"/>
                    </a:lnTo>
                    <a:lnTo>
                      <a:pt x="34" y="146"/>
                    </a:lnTo>
                    <a:lnTo>
                      <a:pt x="55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48" y="70"/>
                    </a:lnTo>
                    <a:lnTo>
                      <a:pt x="41" y="56"/>
                    </a:lnTo>
                    <a:lnTo>
                      <a:pt x="41" y="56"/>
                    </a:lnTo>
                    <a:lnTo>
                      <a:pt x="41" y="49"/>
                    </a:lnTo>
                    <a:lnTo>
                      <a:pt x="41" y="49"/>
                    </a:lnTo>
                    <a:lnTo>
                      <a:pt x="41" y="49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9"/>
                    </a:lnTo>
                    <a:lnTo>
                      <a:pt x="48" y="42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55" y="49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63"/>
                    </a:lnTo>
                    <a:lnTo>
                      <a:pt x="62" y="63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75" y="56"/>
                    </a:lnTo>
                    <a:lnTo>
                      <a:pt x="75" y="56"/>
                    </a:lnTo>
                    <a:lnTo>
                      <a:pt x="75" y="56"/>
                    </a:lnTo>
                    <a:lnTo>
                      <a:pt x="75" y="49"/>
                    </a:lnTo>
                    <a:lnTo>
                      <a:pt x="75" y="56"/>
                    </a:lnTo>
                    <a:lnTo>
                      <a:pt x="75" y="49"/>
                    </a:lnTo>
                    <a:lnTo>
                      <a:pt x="75" y="56"/>
                    </a:lnTo>
                    <a:lnTo>
                      <a:pt x="75" y="56"/>
                    </a:lnTo>
                    <a:lnTo>
                      <a:pt x="75" y="49"/>
                    </a:lnTo>
                    <a:lnTo>
                      <a:pt x="75" y="56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6" y="42"/>
                    </a:lnTo>
                    <a:lnTo>
                      <a:pt x="96" y="42"/>
                    </a:lnTo>
                    <a:lnTo>
                      <a:pt x="96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28"/>
                    </a:lnTo>
                    <a:lnTo>
                      <a:pt x="103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6" y="28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7"/>
                    </a:lnTo>
                    <a:lnTo>
                      <a:pt x="123" y="7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7" y="14"/>
                    </a:lnTo>
                    <a:lnTo>
                      <a:pt x="137" y="14"/>
                    </a:lnTo>
                    <a:lnTo>
                      <a:pt x="137" y="14"/>
                    </a:lnTo>
                    <a:lnTo>
                      <a:pt x="137" y="14"/>
                    </a:lnTo>
                    <a:lnTo>
                      <a:pt x="137" y="14"/>
                    </a:lnTo>
                    <a:lnTo>
                      <a:pt x="137" y="7"/>
                    </a:lnTo>
                    <a:lnTo>
                      <a:pt x="144" y="14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14"/>
                    </a:lnTo>
                    <a:lnTo>
                      <a:pt x="144" y="7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51" y="14"/>
                    </a:lnTo>
                    <a:lnTo>
                      <a:pt x="151" y="7"/>
                    </a:lnTo>
                    <a:lnTo>
                      <a:pt x="151" y="14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64" y="7"/>
                    </a:lnTo>
                    <a:lnTo>
                      <a:pt x="164" y="7"/>
                    </a:lnTo>
                    <a:lnTo>
                      <a:pt x="164" y="7"/>
                    </a:lnTo>
                    <a:lnTo>
                      <a:pt x="164" y="7"/>
                    </a:lnTo>
                    <a:lnTo>
                      <a:pt x="164" y="7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7"/>
                    </a:lnTo>
                    <a:lnTo>
                      <a:pt x="185" y="0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92" y="7"/>
                    </a:lnTo>
                    <a:lnTo>
                      <a:pt x="185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26" y="21"/>
                    </a:lnTo>
                    <a:lnTo>
                      <a:pt x="226" y="21"/>
                    </a:lnTo>
                    <a:lnTo>
                      <a:pt x="226" y="21"/>
                    </a:lnTo>
                    <a:lnTo>
                      <a:pt x="226" y="21"/>
                    </a:lnTo>
                    <a:lnTo>
                      <a:pt x="226" y="28"/>
                    </a:lnTo>
                    <a:lnTo>
                      <a:pt x="226" y="28"/>
                    </a:lnTo>
                    <a:lnTo>
                      <a:pt x="226" y="21"/>
                    </a:lnTo>
                    <a:lnTo>
                      <a:pt x="226" y="28"/>
                    </a:lnTo>
                    <a:lnTo>
                      <a:pt x="226" y="28"/>
                    </a:lnTo>
                    <a:lnTo>
                      <a:pt x="226" y="21"/>
                    </a:lnTo>
                    <a:lnTo>
                      <a:pt x="226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47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61" y="35"/>
                    </a:lnTo>
                    <a:lnTo>
                      <a:pt x="261" y="42"/>
                    </a:lnTo>
                    <a:lnTo>
                      <a:pt x="261" y="42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8" y="35"/>
                    </a:lnTo>
                    <a:lnTo>
                      <a:pt x="288" y="35"/>
                    </a:lnTo>
                    <a:lnTo>
                      <a:pt x="288" y="35"/>
                    </a:lnTo>
                    <a:lnTo>
                      <a:pt x="288" y="28"/>
                    </a:lnTo>
                    <a:lnTo>
                      <a:pt x="288" y="28"/>
                    </a:lnTo>
                    <a:lnTo>
                      <a:pt x="288" y="28"/>
                    </a:lnTo>
                    <a:lnTo>
                      <a:pt x="288" y="28"/>
                    </a:lnTo>
                    <a:lnTo>
                      <a:pt x="288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302" y="28"/>
                    </a:lnTo>
                    <a:lnTo>
                      <a:pt x="302" y="28"/>
                    </a:lnTo>
                    <a:lnTo>
                      <a:pt x="302" y="28"/>
                    </a:lnTo>
                    <a:lnTo>
                      <a:pt x="302" y="28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1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42"/>
                    </a:lnTo>
                    <a:lnTo>
                      <a:pt x="322" y="42"/>
                    </a:lnTo>
                    <a:lnTo>
                      <a:pt x="322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14"/>
                    </a:lnTo>
                    <a:lnTo>
                      <a:pt x="364" y="14"/>
                    </a:lnTo>
                    <a:lnTo>
                      <a:pt x="370" y="14"/>
                    </a:lnTo>
                    <a:lnTo>
                      <a:pt x="370" y="14"/>
                    </a:lnTo>
                    <a:lnTo>
                      <a:pt x="370" y="14"/>
                    </a:lnTo>
                    <a:lnTo>
                      <a:pt x="370" y="7"/>
                    </a:lnTo>
                    <a:lnTo>
                      <a:pt x="370" y="7"/>
                    </a:lnTo>
                    <a:lnTo>
                      <a:pt x="370" y="7"/>
                    </a:lnTo>
                    <a:lnTo>
                      <a:pt x="370" y="7"/>
                    </a:lnTo>
                    <a:lnTo>
                      <a:pt x="370" y="7"/>
                    </a:lnTo>
                    <a:lnTo>
                      <a:pt x="377" y="7"/>
                    </a:lnTo>
                    <a:lnTo>
                      <a:pt x="377" y="7"/>
                    </a:lnTo>
                    <a:lnTo>
                      <a:pt x="377" y="7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7"/>
                    </a:lnTo>
                    <a:lnTo>
                      <a:pt x="384" y="7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57" y="56"/>
                    </a:lnTo>
                    <a:lnTo>
                      <a:pt x="357" y="56"/>
                    </a:lnTo>
                    <a:lnTo>
                      <a:pt x="357" y="56"/>
                    </a:lnTo>
                    <a:lnTo>
                      <a:pt x="357" y="56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70"/>
                    </a:lnTo>
                    <a:lnTo>
                      <a:pt x="370" y="70"/>
                    </a:lnTo>
                    <a:lnTo>
                      <a:pt x="370" y="70"/>
                    </a:lnTo>
                    <a:lnTo>
                      <a:pt x="370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84" y="70"/>
                    </a:lnTo>
                    <a:lnTo>
                      <a:pt x="384" y="70"/>
                    </a:lnTo>
                    <a:lnTo>
                      <a:pt x="384" y="70"/>
                    </a:lnTo>
                    <a:lnTo>
                      <a:pt x="384" y="70"/>
                    </a:lnTo>
                    <a:lnTo>
                      <a:pt x="384" y="63"/>
                    </a:lnTo>
                    <a:lnTo>
                      <a:pt x="384" y="63"/>
                    </a:lnTo>
                    <a:lnTo>
                      <a:pt x="384" y="63"/>
                    </a:lnTo>
                    <a:lnTo>
                      <a:pt x="384" y="70"/>
                    </a:lnTo>
                    <a:lnTo>
                      <a:pt x="384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25" y="70"/>
                    </a:lnTo>
                    <a:lnTo>
                      <a:pt x="425" y="70"/>
                    </a:lnTo>
                    <a:lnTo>
                      <a:pt x="425" y="70"/>
                    </a:lnTo>
                    <a:lnTo>
                      <a:pt x="432" y="70"/>
                    </a:lnTo>
                    <a:lnTo>
                      <a:pt x="432" y="70"/>
                    </a:lnTo>
                    <a:lnTo>
                      <a:pt x="432" y="70"/>
                    </a:lnTo>
                    <a:lnTo>
                      <a:pt x="425" y="77"/>
                    </a:lnTo>
                    <a:lnTo>
                      <a:pt x="425" y="77"/>
                    </a:lnTo>
                    <a:lnTo>
                      <a:pt x="425" y="77"/>
                    </a:lnTo>
                    <a:lnTo>
                      <a:pt x="425" y="77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32" y="83"/>
                    </a:lnTo>
                    <a:lnTo>
                      <a:pt x="432" y="90"/>
                    </a:lnTo>
                    <a:lnTo>
                      <a:pt x="432" y="90"/>
                    </a:lnTo>
                    <a:lnTo>
                      <a:pt x="432" y="97"/>
                    </a:lnTo>
                    <a:lnTo>
                      <a:pt x="432" y="97"/>
                    </a:lnTo>
                    <a:lnTo>
                      <a:pt x="432" y="97"/>
                    </a:lnTo>
                    <a:lnTo>
                      <a:pt x="439" y="97"/>
                    </a:lnTo>
                    <a:lnTo>
                      <a:pt x="439" y="97"/>
                    </a:lnTo>
                    <a:lnTo>
                      <a:pt x="439" y="97"/>
                    </a:lnTo>
                    <a:lnTo>
                      <a:pt x="446" y="90"/>
                    </a:lnTo>
                    <a:lnTo>
                      <a:pt x="446" y="90"/>
                    </a:lnTo>
                    <a:lnTo>
                      <a:pt x="446" y="90"/>
                    </a:lnTo>
                    <a:lnTo>
                      <a:pt x="446" y="97"/>
                    </a:lnTo>
                    <a:lnTo>
                      <a:pt x="453" y="97"/>
                    </a:lnTo>
                    <a:lnTo>
                      <a:pt x="453" y="97"/>
                    </a:lnTo>
                    <a:lnTo>
                      <a:pt x="453" y="97"/>
                    </a:lnTo>
                    <a:lnTo>
                      <a:pt x="460" y="97"/>
                    </a:lnTo>
                    <a:lnTo>
                      <a:pt x="460" y="97"/>
                    </a:lnTo>
                    <a:lnTo>
                      <a:pt x="460" y="97"/>
                    </a:lnTo>
                    <a:lnTo>
                      <a:pt x="460" y="97"/>
                    </a:lnTo>
                    <a:lnTo>
                      <a:pt x="460" y="97"/>
                    </a:lnTo>
                    <a:lnTo>
                      <a:pt x="453" y="104"/>
                    </a:lnTo>
                    <a:lnTo>
                      <a:pt x="453" y="104"/>
                    </a:lnTo>
                    <a:lnTo>
                      <a:pt x="453" y="104"/>
                    </a:lnTo>
                    <a:lnTo>
                      <a:pt x="446" y="104"/>
                    </a:lnTo>
                    <a:lnTo>
                      <a:pt x="446" y="104"/>
                    </a:lnTo>
                    <a:lnTo>
                      <a:pt x="446" y="104"/>
                    </a:lnTo>
                    <a:lnTo>
                      <a:pt x="446" y="111"/>
                    </a:lnTo>
                    <a:lnTo>
                      <a:pt x="446" y="111"/>
                    </a:lnTo>
                    <a:lnTo>
                      <a:pt x="446" y="111"/>
                    </a:lnTo>
                    <a:lnTo>
                      <a:pt x="446" y="111"/>
                    </a:lnTo>
                    <a:lnTo>
                      <a:pt x="439" y="111"/>
                    </a:lnTo>
                    <a:lnTo>
                      <a:pt x="439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25"/>
                    </a:lnTo>
                    <a:lnTo>
                      <a:pt x="446" y="125"/>
                    </a:lnTo>
                    <a:lnTo>
                      <a:pt x="453" y="125"/>
                    </a:lnTo>
                    <a:lnTo>
                      <a:pt x="453" y="125"/>
                    </a:lnTo>
                    <a:lnTo>
                      <a:pt x="453" y="125"/>
                    </a:lnTo>
                    <a:lnTo>
                      <a:pt x="453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80" y="125"/>
                    </a:lnTo>
                    <a:lnTo>
                      <a:pt x="480" y="125"/>
                    </a:lnTo>
                    <a:lnTo>
                      <a:pt x="480" y="125"/>
                    </a:lnTo>
                    <a:lnTo>
                      <a:pt x="480" y="125"/>
                    </a:lnTo>
                    <a:lnTo>
                      <a:pt x="480" y="125"/>
                    </a:lnTo>
                    <a:lnTo>
                      <a:pt x="487" y="125"/>
                    </a:lnTo>
                    <a:lnTo>
                      <a:pt x="487" y="132"/>
                    </a:lnTo>
                    <a:lnTo>
                      <a:pt x="487" y="132"/>
                    </a:lnTo>
                    <a:lnTo>
                      <a:pt x="487" y="132"/>
                    </a:lnTo>
                    <a:lnTo>
                      <a:pt x="487" y="132"/>
                    </a:lnTo>
                    <a:lnTo>
                      <a:pt x="487" y="132"/>
                    </a:lnTo>
                    <a:lnTo>
                      <a:pt x="494" y="132"/>
                    </a:lnTo>
                    <a:lnTo>
                      <a:pt x="494" y="132"/>
                    </a:lnTo>
                    <a:lnTo>
                      <a:pt x="494" y="132"/>
                    </a:lnTo>
                    <a:lnTo>
                      <a:pt x="494" y="132"/>
                    </a:lnTo>
                    <a:lnTo>
                      <a:pt x="494" y="132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501" y="139"/>
                    </a:lnTo>
                    <a:lnTo>
                      <a:pt x="501" y="139"/>
                    </a:lnTo>
                    <a:lnTo>
                      <a:pt x="501" y="139"/>
                    </a:lnTo>
                    <a:lnTo>
                      <a:pt x="501" y="139"/>
                    </a:lnTo>
                    <a:lnTo>
                      <a:pt x="501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46"/>
                    </a:lnTo>
                    <a:lnTo>
                      <a:pt x="508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22" y="146"/>
                    </a:lnTo>
                    <a:lnTo>
                      <a:pt x="522" y="146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35" y="153"/>
                    </a:lnTo>
                    <a:lnTo>
                      <a:pt x="535" y="153"/>
                    </a:lnTo>
                    <a:lnTo>
                      <a:pt x="535" y="153"/>
                    </a:lnTo>
                    <a:lnTo>
                      <a:pt x="535" y="153"/>
                    </a:lnTo>
                    <a:lnTo>
                      <a:pt x="535" y="160"/>
                    </a:lnTo>
                    <a:lnTo>
                      <a:pt x="535" y="153"/>
                    </a:lnTo>
                    <a:lnTo>
                      <a:pt x="535" y="160"/>
                    </a:lnTo>
                    <a:lnTo>
                      <a:pt x="535" y="160"/>
                    </a:lnTo>
                    <a:lnTo>
                      <a:pt x="535" y="160"/>
                    </a:lnTo>
                    <a:lnTo>
                      <a:pt x="535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9" y="160"/>
                    </a:lnTo>
                    <a:lnTo>
                      <a:pt x="549" y="160"/>
                    </a:lnTo>
                    <a:lnTo>
                      <a:pt x="549" y="160"/>
                    </a:lnTo>
                    <a:lnTo>
                      <a:pt x="549" y="160"/>
                    </a:lnTo>
                    <a:lnTo>
                      <a:pt x="549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6" y="167"/>
                    </a:lnTo>
                    <a:lnTo>
                      <a:pt x="570" y="167"/>
                    </a:lnTo>
                    <a:lnTo>
                      <a:pt x="576" y="167"/>
                    </a:lnTo>
                    <a:lnTo>
                      <a:pt x="576" y="167"/>
                    </a:lnTo>
                    <a:lnTo>
                      <a:pt x="576" y="167"/>
                    </a:lnTo>
                    <a:lnTo>
                      <a:pt x="576" y="167"/>
                    </a:lnTo>
                    <a:lnTo>
                      <a:pt x="576" y="174"/>
                    </a:lnTo>
                    <a:lnTo>
                      <a:pt x="576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81"/>
                    </a:lnTo>
                    <a:lnTo>
                      <a:pt x="597" y="174"/>
                    </a:lnTo>
                    <a:lnTo>
                      <a:pt x="597" y="181"/>
                    </a:lnTo>
                    <a:lnTo>
                      <a:pt x="597" y="181"/>
                    </a:lnTo>
                    <a:lnTo>
                      <a:pt x="597" y="181"/>
                    </a:lnTo>
                    <a:lnTo>
                      <a:pt x="597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04" y="208"/>
                    </a:lnTo>
                    <a:lnTo>
                      <a:pt x="604" y="208"/>
                    </a:lnTo>
                    <a:lnTo>
                      <a:pt x="604" y="208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22"/>
                    </a:lnTo>
                    <a:lnTo>
                      <a:pt x="604" y="222"/>
                    </a:lnTo>
                    <a:lnTo>
                      <a:pt x="604" y="222"/>
                    </a:lnTo>
                    <a:lnTo>
                      <a:pt x="604" y="222"/>
                    </a:lnTo>
                    <a:lnTo>
                      <a:pt x="604" y="229"/>
                    </a:lnTo>
                    <a:lnTo>
                      <a:pt x="604" y="229"/>
                    </a:lnTo>
                    <a:lnTo>
                      <a:pt x="604" y="229"/>
                    </a:lnTo>
                    <a:lnTo>
                      <a:pt x="604" y="229"/>
                    </a:lnTo>
                    <a:lnTo>
                      <a:pt x="604" y="229"/>
                    </a:lnTo>
                    <a:lnTo>
                      <a:pt x="604" y="236"/>
                    </a:lnTo>
                    <a:lnTo>
                      <a:pt x="604" y="236"/>
                    </a:lnTo>
                    <a:lnTo>
                      <a:pt x="604" y="236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50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597" y="264"/>
                    </a:lnTo>
                    <a:lnTo>
                      <a:pt x="597" y="264"/>
                    </a:lnTo>
                    <a:lnTo>
                      <a:pt x="597" y="264"/>
                    </a:lnTo>
                    <a:lnTo>
                      <a:pt x="597" y="264"/>
                    </a:lnTo>
                    <a:lnTo>
                      <a:pt x="597" y="264"/>
                    </a:lnTo>
                    <a:lnTo>
                      <a:pt x="590" y="264"/>
                    </a:lnTo>
                    <a:lnTo>
                      <a:pt x="590" y="264"/>
                    </a:lnTo>
                    <a:lnTo>
                      <a:pt x="590" y="264"/>
                    </a:lnTo>
                    <a:lnTo>
                      <a:pt x="583" y="264"/>
                    </a:lnTo>
                    <a:lnTo>
                      <a:pt x="583" y="264"/>
                    </a:lnTo>
                    <a:lnTo>
                      <a:pt x="576" y="271"/>
                    </a:lnTo>
                    <a:lnTo>
                      <a:pt x="576" y="271"/>
                    </a:lnTo>
                    <a:lnTo>
                      <a:pt x="576" y="271"/>
                    </a:lnTo>
                    <a:lnTo>
                      <a:pt x="576" y="271"/>
                    </a:lnTo>
                    <a:lnTo>
                      <a:pt x="576" y="278"/>
                    </a:lnTo>
                    <a:lnTo>
                      <a:pt x="570" y="278"/>
                    </a:lnTo>
                    <a:lnTo>
                      <a:pt x="570" y="278"/>
                    </a:lnTo>
                    <a:lnTo>
                      <a:pt x="570" y="278"/>
                    </a:lnTo>
                    <a:lnTo>
                      <a:pt x="570" y="278"/>
                    </a:lnTo>
                    <a:lnTo>
                      <a:pt x="563" y="285"/>
                    </a:lnTo>
                    <a:lnTo>
                      <a:pt x="563" y="285"/>
                    </a:lnTo>
                    <a:lnTo>
                      <a:pt x="563" y="285"/>
                    </a:lnTo>
                    <a:lnTo>
                      <a:pt x="563" y="292"/>
                    </a:lnTo>
                    <a:lnTo>
                      <a:pt x="556" y="292"/>
                    </a:lnTo>
                    <a:lnTo>
                      <a:pt x="556" y="292"/>
                    </a:lnTo>
                    <a:lnTo>
                      <a:pt x="556" y="292"/>
                    </a:lnTo>
                    <a:lnTo>
                      <a:pt x="556" y="292"/>
                    </a:lnTo>
                    <a:lnTo>
                      <a:pt x="556" y="298"/>
                    </a:lnTo>
                    <a:lnTo>
                      <a:pt x="556" y="298"/>
                    </a:lnTo>
                    <a:lnTo>
                      <a:pt x="556" y="305"/>
                    </a:lnTo>
                    <a:lnTo>
                      <a:pt x="556" y="305"/>
                    </a:lnTo>
                    <a:lnTo>
                      <a:pt x="556" y="305"/>
                    </a:lnTo>
                    <a:lnTo>
                      <a:pt x="556" y="305"/>
                    </a:lnTo>
                    <a:lnTo>
                      <a:pt x="556" y="312"/>
                    </a:lnTo>
                    <a:lnTo>
                      <a:pt x="556" y="312"/>
                    </a:lnTo>
                    <a:lnTo>
                      <a:pt x="556" y="312"/>
                    </a:lnTo>
                    <a:lnTo>
                      <a:pt x="556" y="312"/>
                    </a:lnTo>
                    <a:lnTo>
                      <a:pt x="556" y="319"/>
                    </a:lnTo>
                    <a:lnTo>
                      <a:pt x="556" y="319"/>
                    </a:lnTo>
                    <a:lnTo>
                      <a:pt x="549" y="319"/>
                    </a:lnTo>
                    <a:lnTo>
                      <a:pt x="549" y="319"/>
                    </a:lnTo>
                    <a:lnTo>
                      <a:pt x="549" y="319"/>
                    </a:lnTo>
                    <a:lnTo>
                      <a:pt x="542" y="326"/>
                    </a:lnTo>
                    <a:lnTo>
                      <a:pt x="542" y="326"/>
                    </a:lnTo>
                    <a:lnTo>
                      <a:pt x="542" y="326"/>
                    </a:lnTo>
                    <a:lnTo>
                      <a:pt x="542" y="326"/>
                    </a:lnTo>
                    <a:lnTo>
                      <a:pt x="542" y="333"/>
                    </a:lnTo>
                    <a:lnTo>
                      <a:pt x="542" y="333"/>
                    </a:lnTo>
                    <a:lnTo>
                      <a:pt x="542" y="333"/>
                    </a:lnTo>
                    <a:lnTo>
                      <a:pt x="535" y="333"/>
                    </a:lnTo>
                    <a:lnTo>
                      <a:pt x="535" y="333"/>
                    </a:lnTo>
                    <a:lnTo>
                      <a:pt x="535" y="333"/>
                    </a:lnTo>
                    <a:lnTo>
                      <a:pt x="535" y="333"/>
                    </a:lnTo>
                    <a:lnTo>
                      <a:pt x="535" y="333"/>
                    </a:lnTo>
                    <a:lnTo>
                      <a:pt x="535" y="340"/>
                    </a:lnTo>
                    <a:lnTo>
                      <a:pt x="535" y="340"/>
                    </a:lnTo>
                    <a:lnTo>
                      <a:pt x="535" y="340"/>
                    </a:lnTo>
                    <a:lnTo>
                      <a:pt x="535" y="347"/>
                    </a:lnTo>
                    <a:lnTo>
                      <a:pt x="535" y="347"/>
                    </a:lnTo>
                    <a:lnTo>
                      <a:pt x="535" y="347"/>
                    </a:lnTo>
                    <a:lnTo>
                      <a:pt x="535" y="354"/>
                    </a:lnTo>
                    <a:lnTo>
                      <a:pt x="535" y="354"/>
                    </a:lnTo>
                    <a:lnTo>
                      <a:pt x="528" y="354"/>
                    </a:lnTo>
                    <a:lnTo>
                      <a:pt x="528" y="354"/>
                    </a:lnTo>
                    <a:lnTo>
                      <a:pt x="528" y="361"/>
                    </a:lnTo>
                    <a:lnTo>
                      <a:pt x="528" y="361"/>
                    </a:lnTo>
                    <a:lnTo>
                      <a:pt x="528" y="361"/>
                    </a:lnTo>
                    <a:lnTo>
                      <a:pt x="528" y="361"/>
                    </a:lnTo>
                    <a:lnTo>
                      <a:pt x="522" y="368"/>
                    </a:lnTo>
                    <a:lnTo>
                      <a:pt x="522" y="368"/>
                    </a:lnTo>
                    <a:lnTo>
                      <a:pt x="522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75"/>
                    </a:lnTo>
                    <a:lnTo>
                      <a:pt x="515" y="375"/>
                    </a:lnTo>
                    <a:lnTo>
                      <a:pt x="522" y="375"/>
                    </a:lnTo>
                    <a:lnTo>
                      <a:pt x="522" y="382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96"/>
                    </a:lnTo>
                    <a:lnTo>
                      <a:pt x="508" y="396"/>
                    </a:lnTo>
                    <a:lnTo>
                      <a:pt x="501" y="396"/>
                    </a:lnTo>
                    <a:lnTo>
                      <a:pt x="501" y="396"/>
                    </a:lnTo>
                    <a:lnTo>
                      <a:pt x="501" y="396"/>
                    </a:lnTo>
                    <a:lnTo>
                      <a:pt x="501" y="403"/>
                    </a:lnTo>
                    <a:lnTo>
                      <a:pt x="494" y="403"/>
                    </a:lnTo>
                    <a:lnTo>
                      <a:pt x="494" y="403"/>
                    </a:lnTo>
                    <a:lnTo>
                      <a:pt x="494" y="409"/>
                    </a:lnTo>
                    <a:lnTo>
                      <a:pt x="494" y="416"/>
                    </a:lnTo>
                    <a:lnTo>
                      <a:pt x="487" y="416"/>
                    </a:lnTo>
                    <a:lnTo>
                      <a:pt x="487" y="416"/>
                    </a:lnTo>
                    <a:lnTo>
                      <a:pt x="487" y="416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73" y="430"/>
                    </a:lnTo>
                    <a:lnTo>
                      <a:pt x="473" y="430"/>
                    </a:lnTo>
                    <a:lnTo>
                      <a:pt x="473" y="430"/>
                    </a:lnTo>
                    <a:lnTo>
                      <a:pt x="473" y="430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0" y="437"/>
                    </a:lnTo>
                    <a:lnTo>
                      <a:pt x="460" y="437"/>
                    </a:lnTo>
                    <a:lnTo>
                      <a:pt x="453" y="437"/>
                    </a:lnTo>
                    <a:lnTo>
                      <a:pt x="453" y="437"/>
                    </a:lnTo>
                    <a:lnTo>
                      <a:pt x="453" y="444"/>
                    </a:lnTo>
                    <a:lnTo>
                      <a:pt x="453" y="444"/>
                    </a:lnTo>
                    <a:lnTo>
                      <a:pt x="453" y="444"/>
                    </a:lnTo>
                    <a:lnTo>
                      <a:pt x="446" y="444"/>
                    </a:lnTo>
                    <a:lnTo>
                      <a:pt x="446" y="444"/>
                    </a:lnTo>
                    <a:lnTo>
                      <a:pt x="446" y="444"/>
                    </a:lnTo>
                    <a:lnTo>
                      <a:pt x="439" y="451"/>
                    </a:lnTo>
                    <a:lnTo>
                      <a:pt x="439" y="451"/>
                    </a:lnTo>
                    <a:lnTo>
                      <a:pt x="439" y="451"/>
                    </a:lnTo>
                    <a:lnTo>
                      <a:pt x="432" y="451"/>
                    </a:lnTo>
                    <a:lnTo>
                      <a:pt x="432" y="451"/>
                    </a:lnTo>
                    <a:lnTo>
                      <a:pt x="432" y="451"/>
                    </a:lnTo>
                    <a:lnTo>
                      <a:pt x="432" y="458"/>
                    </a:lnTo>
                    <a:lnTo>
                      <a:pt x="432" y="458"/>
                    </a:lnTo>
                    <a:lnTo>
                      <a:pt x="432" y="458"/>
                    </a:lnTo>
                    <a:lnTo>
                      <a:pt x="432" y="458"/>
                    </a:lnTo>
                    <a:lnTo>
                      <a:pt x="425" y="465"/>
                    </a:lnTo>
                    <a:lnTo>
                      <a:pt x="425" y="465"/>
                    </a:lnTo>
                    <a:lnTo>
                      <a:pt x="425" y="465"/>
                    </a:lnTo>
                    <a:lnTo>
                      <a:pt x="419" y="465"/>
                    </a:lnTo>
                    <a:lnTo>
                      <a:pt x="419" y="465"/>
                    </a:lnTo>
                    <a:lnTo>
                      <a:pt x="419" y="472"/>
                    </a:lnTo>
                    <a:lnTo>
                      <a:pt x="419" y="472"/>
                    </a:lnTo>
                    <a:lnTo>
                      <a:pt x="412" y="472"/>
                    </a:lnTo>
                    <a:lnTo>
                      <a:pt x="412" y="472"/>
                    </a:lnTo>
                    <a:lnTo>
                      <a:pt x="412" y="472"/>
                    </a:lnTo>
                    <a:lnTo>
                      <a:pt x="412" y="472"/>
                    </a:lnTo>
                    <a:lnTo>
                      <a:pt x="405" y="472"/>
                    </a:lnTo>
                    <a:lnTo>
                      <a:pt x="405" y="472"/>
                    </a:lnTo>
                    <a:lnTo>
                      <a:pt x="405" y="472"/>
                    </a:lnTo>
                    <a:lnTo>
                      <a:pt x="405" y="479"/>
                    </a:lnTo>
                    <a:lnTo>
                      <a:pt x="405" y="479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391" y="479"/>
                    </a:lnTo>
                    <a:lnTo>
                      <a:pt x="391" y="486"/>
                    </a:lnTo>
                    <a:lnTo>
                      <a:pt x="391" y="486"/>
                    </a:lnTo>
                    <a:lnTo>
                      <a:pt x="391" y="486"/>
                    </a:lnTo>
                    <a:lnTo>
                      <a:pt x="391" y="486"/>
                    </a:lnTo>
                    <a:lnTo>
                      <a:pt x="391" y="486"/>
                    </a:lnTo>
                    <a:lnTo>
                      <a:pt x="384" y="486"/>
                    </a:lnTo>
                    <a:lnTo>
                      <a:pt x="384" y="486"/>
                    </a:lnTo>
                    <a:lnTo>
                      <a:pt x="384" y="493"/>
                    </a:lnTo>
                    <a:lnTo>
                      <a:pt x="384" y="493"/>
                    </a:lnTo>
                    <a:lnTo>
                      <a:pt x="384" y="500"/>
                    </a:lnTo>
                    <a:lnTo>
                      <a:pt x="384" y="507"/>
                    </a:lnTo>
                    <a:lnTo>
                      <a:pt x="384" y="507"/>
                    </a:lnTo>
                    <a:lnTo>
                      <a:pt x="384" y="507"/>
                    </a:lnTo>
                    <a:lnTo>
                      <a:pt x="377" y="514"/>
                    </a:lnTo>
                    <a:lnTo>
                      <a:pt x="377" y="514"/>
                    </a:lnTo>
                    <a:lnTo>
                      <a:pt x="377" y="514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0" y="520"/>
                    </a:lnTo>
                    <a:lnTo>
                      <a:pt x="370" y="520"/>
                    </a:lnTo>
                    <a:lnTo>
                      <a:pt x="364" y="527"/>
                    </a:lnTo>
                    <a:lnTo>
                      <a:pt x="357" y="527"/>
                    </a:lnTo>
                    <a:lnTo>
                      <a:pt x="357" y="527"/>
                    </a:lnTo>
                    <a:lnTo>
                      <a:pt x="357" y="527"/>
                    </a:lnTo>
                    <a:lnTo>
                      <a:pt x="357" y="534"/>
                    </a:lnTo>
                    <a:lnTo>
                      <a:pt x="357" y="534"/>
                    </a:lnTo>
                    <a:lnTo>
                      <a:pt x="350" y="541"/>
                    </a:lnTo>
                    <a:lnTo>
                      <a:pt x="350" y="541"/>
                    </a:lnTo>
                    <a:lnTo>
                      <a:pt x="350" y="548"/>
                    </a:lnTo>
                    <a:lnTo>
                      <a:pt x="350" y="548"/>
                    </a:lnTo>
                    <a:lnTo>
                      <a:pt x="350" y="548"/>
                    </a:lnTo>
                    <a:lnTo>
                      <a:pt x="350" y="555"/>
                    </a:lnTo>
                    <a:lnTo>
                      <a:pt x="350" y="555"/>
                    </a:lnTo>
                    <a:lnTo>
                      <a:pt x="350" y="555"/>
                    </a:lnTo>
                    <a:lnTo>
                      <a:pt x="350" y="562"/>
                    </a:lnTo>
                    <a:lnTo>
                      <a:pt x="343" y="562"/>
                    </a:lnTo>
                    <a:lnTo>
                      <a:pt x="350" y="562"/>
                    </a:lnTo>
                    <a:lnTo>
                      <a:pt x="343" y="562"/>
                    </a:lnTo>
                    <a:lnTo>
                      <a:pt x="350" y="562"/>
                    </a:lnTo>
                    <a:lnTo>
                      <a:pt x="350" y="569"/>
                    </a:lnTo>
                    <a:lnTo>
                      <a:pt x="343" y="569"/>
                    </a:lnTo>
                    <a:lnTo>
                      <a:pt x="343" y="569"/>
                    </a:lnTo>
                    <a:lnTo>
                      <a:pt x="343" y="576"/>
                    </a:lnTo>
                    <a:lnTo>
                      <a:pt x="343" y="576"/>
                    </a:lnTo>
                    <a:lnTo>
                      <a:pt x="336" y="583"/>
                    </a:lnTo>
                    <a:lnTo>
                      <a:pt x="336" y="583"/>
                    </a:lnTo>
                    <a:lnTo>
                      <a:pt x="329" y="583"/>
                    </a:lnTo>
                    <a:lnTo>
                      <a:pt x="329" y="583"/>
                    </a:lnTo>
                    <a:lnTo>
                      <a:pt x="329" y="583"/>
                    </a:lnTo>
                    <a:lnTo>
                      <a:pt x="329" y="583"/>
                    </a:lnTo>
                    <a:lnTo>
                      <a:pt x="329" y="576"/>
                    </a:lnTo>
                    <a:lnTo>
                      <a:pt x="329" y="576"/>
                    </a:lnTo>
                    <a:lnTo>
                      <a:pt x="329" y="576"/>
                    </a:lnTo>
                    <a:lnTo>
                      <a:pt x="322" y="576"/>
                    </a:lnTo>
                    <a:lnTo>
                      <a:pt x="322" y="576"/>
                    </a:lnTo>
                    <a:lnTo>
                      <a:pt x="322" y="576"/>
                    </a:lnTo>
                    <a:lnTo>
                      <a:pt x="322" y="576"/>
                    </a:lnTo>
                    <a:lnTo>
                      <a:pt x="322" y="569"/>
                    </a:lnTo>
                    <a:lnTo>
                      <a:pt x="316" y="569"/>
                    </a:lnTo>
                    <a:lnTo>
                      <a:pt x="316" y="569"/>
                    </a:lnTo>
                    <a:lnTo>
                      <a:pt x="316" y="569"/>
                    </a:lnTo>
                    <a:lnTo>
                      <a:pt x="316" y="569"/>
                    </a:lnTo>
                    <a:lnTo>
                      <a:pt x="316" y="569"/>
                    </a:lnTo>
                    <a:lnTo>
                      <a:pt x="309" y="569"/>
                    </a:lnTo>
                    <a:lnTo>
                      <a:pt x="309" y="569"/>
                    </a:lnTo>
                    <a:lnTo>
                      <a:pt x="309" y="569"/>
                    </a:lnTo>
                    <a:lnTo>
                      <a:pt x="309" y="569"/>
                    </a:lnTo>
                    <a:lnTo>
                      <a:pt x="309" y="569"/>
                    </a:lnTo>
                    <a:lnTo>
                      <a:pt x="309" y="562"/>
                    </a:lnTo>
                    <a:lnTo>
                      <a:pt x="309" y="569"/>
                    </a:lnTo>
                    <a:lnTo>
                      <a:pt x="302" y="562"/>
                    </a:lnTo>
                    <a:lnTo>
                      <a:pt x="309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76"/>
                    </a:lnTo>
                    <a:lnTo>
                      <a:pt x="274" y="569"/>
                    </a:lnTo>
                    <a:lnTo>
                      <a:pt x="274" y="576"/>
                    </a:lnTo>
                    <a:lnTo>
                      <a:pt x="274" y="569"/>
                    </a:lnTo>
                    <a:lnTo>
                      <a:pt x="267" y="569"/>
                    </a:lnTo>
                    <a:lnTo>
                      <a:pt x="267" y="569"/>
                    </a:lnTo>
                    <a:lnTo>
                      <a:pt x="267" y="576"/>
                    </a:lnTo>
                    <a:lnTo>
                      <a:pt x="267" y="576"/>
                    </a:lnTo>
                    <a:lnTo>
                      <a:pt x="267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69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0" y="576"/>
                    </a:lnTo>
                    <a:lnTo>
                      <a:pt x="240" y="569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33" y="576"/>
                    </a:lnTo>
                    <a:lnTo>
                      <a:pt x="233" y="576"/>
                    </a:lnTo>
                    <a:lnTo>
                      <a:pt x="233" y="576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48"/>
                    </a:lnTo>
                    <a:lnTo>
                      <a:pt x="233" y="548"/>
                    </a:lnTo>
                    <a:lnTo>
                      <a:pt x="233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1"/>
                    </a:lnTo>
                    <a:lnTo>
                      <a:pt x="226" y="548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34"/>
                    </a:lnTo>
                    <a:lnTo>
                      <a:pt x="226" y="534"/>
                    </a:lnTo>
                    <a:lnTo>
                      <a:pt x="226" y="534"/>
                    </a:lnTo>
                    <a:lnTo>
                      <a:pt x="219" y="534"/>
                    </a:lnTo>
                    <a:lnTo>
                      <a:pt x="219" y="534"/>
                    </a:lnTo>
                    <a:lnTo>
                      <a:pt x="219" y="534"/>
                    </a:lnTo>
                    <a:lnTo>
                      <a:pt x="219" y="534"/>
                    </a:lnTo>
                    <a:lnTo>
                      <a:pt x="226" y="527"/>
                    </a:lnTo>
                    <a:lnTo>
                      <a:pt x="219" y="527"/>
                    </a:lnTo>
                    <a:lnTo>
                      <a:pt x="226" y="527"/>
                    </a:lnTo>
                    <a:lnTo>
                      <a:pt x="226" y="520"/>
                    </a:lnTo>
                    <a:lnTo>
                      <a:pt x="226" y="520"/>
                    </a:lnTo>
                    <a:lnTo>
                      <a:pt x="226" y="520"/>
                    </a:lnTo>
                    <a:lnTo>
                      <a:pt x="226" y="520"/>
                    </a:lnTo>
                    <a:lnTo>
                      <a:pt x="226" y="520"/>
                    </a:lnTo>
                    <a:lnTo>
                      <a:pt x="219" y="520"/>
                    </a:lnTo>
                    <a:lnTo>
                      <a:pt x="219" y="520"/>
                    </a:lnTo>
                    <a:lnTo>
                      <a:pt x="219" y="514"/>
                    </a:lnTo>
                    <a:lnTo>
                      <a:pt x="226" y="514"/>
                    </a:lnTo>
                    <a:lnTo>
                      <a:pt x="226" y="514"/>
                    </a:lnTo>
                    <a:lnTo>
                      <a:pt x="226" y="514"/>
                    </a:lnTo>
                    <a:lnTo>
                      <a:pt x="226" y="514"/>
                    </a:lnTo>
                    <a:lnTo>
                      <a:pt x="226" y="514"/>
                    </a:lnTo>
                    <a:lnTo>
                      <a:pt x="219" y="507"/>
                    </a:lnTo>
                    <a:lnTo>
                      <a:pt x="226" y="507"/>
                    </a:lnTo>
                    <a:lnTo>
                      <a:pt x="226" y="507"/>
                    </a:lnTo>
                    <a:lnTo>
                      <a:pt x="226" y="507"/>
                    </a:lnTo>
                    <a:lnTo>
                      <a:pt x="226" y="507"/>
                    </a:lnTo>
                    <a:lnTo>
                      <a:pt x="226" y="507"/>
                    </a:lnTo>
                    <a:lnTo>
                      <a:pt x="219" y="507"/>
                    </a:lnTo>
                    <a:lnTo>
                      <a:pt x="219" y="507"/>
                    </a:lnTo>
                    <a:lnTo>
                      <a:pt x="219" y="507"/>
                    </a:lnTo>
                    <a:lnTo>
                      <a:pt x="219" y="507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493"/>
                    </a:lnTo>
                    <a:lnTo>
                      <a:pt x="219" y="493"/>
                    </a:lnTo>
                    <a:lnTo>
                      <a:pt x="213" y="493"/>
                    </a:lnTo>
                    <a:lnTo>
                      <a:pt x="219" y="493"/>
                    </a:lnTo>
                    <a:lnTo>
                      <a:pt x="219" y="493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2"/>
                    </a:lnTo>
                    <a:lnTo>
                      <a:pt x="213" y="472"/>
                    </a:lnTo>
                    <a:lnTo>
                      <a:pt x="213" y="472"/>
                    </a:lnTo>
                    <a:lnTo>
                      <a:pt x="219" y="472"/>
                    </a:lnTo>
                    <a:lnTo>
                      <a:pt x="219" y="472"/>
                    </a:lnTo>
                    <a:lnTo>
                      <a:pt x="219" y="472"/>
                    </a:lnTo>
                    <a:lnTo>
                      <a:pt x="219" y="472"/>
                    </a:lnTo>
                    <a:lnTo>
                      <a:pt x="219" y="472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58"/>
                    </a:lnTo>
                    <a:lnTo>
                      <a:pt x="213" y="458"/>
                    </a:lnTo>
                    <a:lnTo>
                      <a:pt x="213" y="458"/>
                    </a:lnTo>
                    <a:lnTo>
                      <a:pt x="213" y="458"/>
                    </a:lnTo>
                    <a:lnTo>
                      <a:pt x="213" y="458"/>
                    </a:lnTo>
                    <a:lnTo>
                      <a:pt x="213" y="451"/>
                    </a:lnTo>
                    <a:lnTo>
                      <a:pt x="206" y="451"/>
                    </a:lnTo>
                    <a:lnTo>
                      <a:pt x="206" y="451"/>
                    </a:lnTo>
                    <a:lnTo>
                      <a:pt x="206" y="451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199" y="437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0"/>
                    </a:lnTo>
                    <a:lnTo>
                      <a:pt x="199" y="430"/>
                    </a:lnTo>
                    <a:lnTo>
                      <a:pt x="192" y="430"/>
                    </a:lnTo>
                    <a:lnTo>
                      <a:pt x="192" y="430"/>
                    </a:lnTo>
                    <a:lnTo>
                      <a:pt x="192" y="430"/>
                    </a:lnTo>
                    <a:lnTo>
                      <a:pt x="192" y="430"/>
                    </a:lnTo>
                    <a:lnTo>
                      <a:pt x="192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64" y="430"/>
                    </a:lnTo>
                    <a:lnTo>
                      <a:pt x="164" y="430"/>
                    </a:lnTo>
                    <a:lnTo>
                      <a:pt x="164" y="430"/>
                    </a:lnTo>
                    <a:lnTo>
                      <a:pt x="164" y="430"/>
                    </a:lnTo>
                    <a:lnTo>
                      <a:pt x="164" y="430"/>
                    </a:lnTo>
                    <a:lnTo>
                      <a:pt x="164" y="423"/>
                    </a:lnTo>
                    <a:lnTo>
                      <a:pt x="164" y="430"/>
                    </a:lnTo>
                    <a:lnTo>
                      <a:pt x="164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37" y="416"/>
                    </a:lnTo>
                    <a:lnTo>
                      <a:pt x="137" y="423"/>
                    </a:lnTo>
                    <a:lnTo>
                      <a:pt x="137" y="416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0" y="423"/>
                    </a:lnTo>
                    <a:lnTo>
                      <a:pt x="137" y="423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23"/>
                    </a:lnTo>
                    <a:lnTo>
                      <a:pt x="130" y="423"/>
                    </a:lnTo>
                    <a:lnTo>
                      <a:pt x="123" y="423"/>
                    </a:lnTo>
                    <a:lnTo>
                      <a:pt x="123" y="423"/>
                    </a:lnTo>
                    <a:lnTo>
                      <a:pt x="123" y="423"/>
                    </a:lnTo>
                    <a:lnTo>
                      <a:pt x="123" y="423"/>
                    </a:lnTo>
                    <a:lnTo>
                      <a:pt x="123" y="423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03" y="430"/>
                    </a:lnTo>
                    <a:lnTo>
                      <a:pt x="103" y="430"/>
                    </a:lnTo>
                    <a:lnTo>
                      <a:pt x="103" y="430"/>
                    </a:lnTo>
                    <a:lnTo>
                      <a:pt x="103" y="430"/>
                    </a:lnTo>
                    <a:lnTo>
                      <a:pt x="103" y="430"/>
                    </a:lnTo>
                    <a:lnTo>
                      <a:pt x="103" y="423"/>
                    </a:lnTo>
                    <a:lnTo>
                      <a:pt x="103" y="423"/>
                    </a:lnTo>
                    <a:lnTo>
                      <a:pt x="103" y="430"/>
                    </a:lnTo>
                    <a:lnTo>
                      <a:pt x="103" y="423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23"/>
                    </a:lnTo>
                    <a:lnTo>
                      <a:pt x="96" y="423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89" y="430"/>
                    </a:lnTo>
                    <a:lnTo>
                      <a:pt x="89" y="430"/>
                    </a:lnTo>
                    <a:lnTo>
                      <a:pt x="89" y="423"/>
                    </a:lnTo>
                    <a:lnTo>
                      <a:pt x="89" y="423"/>
                    </a:lnTo>
                    <a:lnTo>
                      <a:pt x="89" y="423"/>
                    </a:lnTo>
                    <a:lnTo>
                      <a:pt x="89" y="430"/>
                    </a:lnTo>
                    <a:lnTo>
                      <a:pt x="89" y="423"/>
                    </a:lnTo>
                    <a:lnTo>
                      <a:pt x="89" y="423"/>
                    </a:lnTo>
                    <a:lnTo>
                      <a:pt x="82" y="423"/>
                    </a:lnTo>
                    <a:lnTo>
                      <a:pt x="82" y="430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30"/>
                    </a:lnTo>
                    <a:lnTo>
                      <a:pt x="82" y="430"/>
                    </a:lnTo>
                    <a:lnTo>
                      <a:pt x="82" y="430"/>
                    </a:lnTo>
                    <a:lnTo>
                      <a:pt x="75" y="430"/>
                    </a:lnTo>
                    <a:lnTo>
                      <a:pt x="75" y="423"/>
                    </a:lnTo>
                    <a:lnTo>
                      <a:pt x="75" y="430"/>
                    </a:lnTo>
                    <a:lnTo>
                      <a:pt x="75" y="423"/>
                    </a:lnTo>
                    <a:lnTo>
                      <a:pt x="75" y="423"/>
                    </a:lnTo>
                    <a:lnTo>
                      <a:pt x="75" y="423"/>
                    </a:lnTo>
                    <a:lnTo>
                      <a:pt x="75" y="423"/>
                    </a:lnTo>
                    <a:lnTo>
                      <a:pt x="75" y="430"/>
                    </a:lnTo>
                    <a:lnTo>
                      <a:pt x="75" y="430"/>
                    </a:lnTo>
                    <a:lnTo>
                      <a:pt x="75" y="423"/>
                    </a:lnTo>
                    <a:lnTo>
                      <a:pt x="68" y="430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48" y="423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09"/>
                    </a:lnTo>
                    <a:lnTo>
                      <a:pt x="13" y="409"/>
                    </a:lnTo>
                    <a:lnTo>
                      <a:pt x="13" y="409"/>
                    </a:lnTo>
                    <a:lnTo>
                      <a:pt x="13" y="409"/>
                    </a:lnTo>
                    <a:lnTo>
                      <a:pt x="13" y="409"/>
                    </a:lnTo>
                    <a:lnTo>
                      <a:pt x="20" y="409"/>
                    </a:lnTo>
                    <a:lnTo>
                      <a:pt x="20" y="409"/>
                    </a:lnTo>
                    <a:lnTo>
                      <a:pt x="20" y="403"/>
                    </a:lnTo>
                    <a:lnTo>
                      <a:pt x="20" y="403"/>
                    </a:lnTo>
                    <a:lnTo>
                      <a:pt x="20" y="403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89"/>
                    </a:lnTo>
                    <a:lnTo>
                      <a:pt x="20" y="389"/>
                    </a:lnTo>
                    <a:lnTo>
                      <a:pt x="20" y="389"/>
                    </a:lnTo>
                    <a:lnTo>
                      <a:pt x="20" y="389"/>
                    </a:lnTo>
                    <a:lnTo>
                      <a:pt x="20" y="389"/>
                    </a:lnTo>
                    <a:lnTo>
                      <a:pt x="20" y="382"/>
                    </a:lnTo>
                    <a:lnTo>
                      <a:pt x="20" y="382"/>
                    </a:lnTo>
                    <a:lnTo>
                      <a:pt x="27" y="382"/>
                    </a:lnTo>
                    <a:lnTo>
                      <a:pt x="27" y="382"/>
                    </a:lnTo>
                    <a:lnTo>
                      <a:pt x="27" y="382"/>
                    </a:lnTo>
                    <a:lnTo>
                      <a:pt x="20" y="382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68"/>
                    </a:lnTo>
                    <a:lnTo>
                      <a:pt x="20" y="368"/>
                    </a:lnTo>
                    <a:lnTo>
                      <a:pt x="20" y="368"/>
                    </a:lnTo>
                    <a:lnTo>
                      <a:pt x="20" y="368"/>
                    </a:lnTo>
                    <a:lnTo>
                      <a:pt x="20" y="361"/>
                    </a:lnTo>
                    <a:lnTo>
                      <a:pt x="20" y="361"/>
                    </a:lnTo>
                    <a:lnTo>
                      <a:pt x="20" y="361"/>
                    </a:lnTo>
                    <a:lnTo>
                      <a:pt x="20" y="361"/>
                    </a:lnTo>
                    <a:lnTo>
                      <a:pt x="20" y="361"/>
                    </a:lnTo>
                    <a:lnTo>
                      <a:pt x="20" y="354"/>
                    </a:lnTo>
                    <a:lnTo>
                      <a:pt x="27" y="354"/>
                    </a:lnTo>
                    <a:lnTo>
                      <a:pt x="27" y="354"/>
                    </a:lnTo>
                    <a:lnTo>
                      <a:pt x="27" y="347"/>
                    </a:lnTo>
                    <a:lnTo>
                      <a:pt x="27" y="347"/>
                    </a:lnTo>
                    <a:lnTo>
                      <a:pt x="27" y="347"/>
                    </a:lnTo>
                    <a:lnTo>
                      <a:pt x="20" y="347"/>
                    </a:lnTo>
                    <a:lnTo>
                      <a:pt x="20" y="347"/>
                    </a:lnTo>
                    <a:lnTo>
                      <a:pt x="27" y="340"/>
                    </a:lnTo>
                    <a:lnTo>
                      <a:pt x="27" y="340"/>
                    </a:lnTo>
                    <a:lnTo>
                      <a:pt x="27" y="340"/>
                    </a:lnTo>
                    <a:lnTo>
                      <a:pt x="27" y="333"/>
                    </a:lnTo>
                    <a:lnTo>
                      <a:pt x="27" y="333"/>
                    </a:lnTo>
                    <a:lnTo>
                      <a:pt x="27" y="333"/>
                    </a:lnTo>
                    <a:lnTo>
                      <a:pt x="27" y="326"/>
                    </a:lnTo>
                    <a:lnTo>
                      <a:pt x="27" y="326"/>
                    </a:lnTo>
                    <a:lnTo>
                      <a:pt x="27" y="326"/>
                    </a:lnTo>
                    <a:lnTo>
                      <a:pt x="27" y="319"/>
                    </a:lnTo>
                    <a:lnTo>
                      <a:pt x="34" y="319"/>
                    </a:lnTo>
                    <a:lnTo>
                      <a:pt x="34" y="319"/>
                    </a:lnTo>
                    <a:lnTo>
                      <a:pt x="34" y="319"/>
                    </a:lnTo>
                    <a:lnTo>
                      <a:pt x="34" y="319"/>
                    </a:lnTo>
                    <a:lnTo>
                      <a:pt x="27" y="319"/>
                    </a:lnTo>
                    <a:lnTo>
                      <a:pt x="27" y="319"/>
                    </a:lnTo>
                    <a:lnTo>
                      <a:pt x="27" y="319"/>
                    </a:lnTo>
                    <a:lnTo>
                      <a:pt x="27" y="319"/>
                    </a:lnTo>
                    <a:lnTo>
                      <a:pt x="27" y="312"/>
                    </a:lnTo>
                    <a:lnTo>
                      <a:pt x="27" y="312"/>
                    </a:lnTo>
                    <a:lnTo>
                      <a:pt x="20" y="312"/>
                    </a:lnTo>
                    <a:lnTo>
                      <a:pt x="20" y="312"/>
                    </a:lnTo>
                    <a:lnTo>
                      <a:pt x="20" y="312"/>
                    </a:lnTo>
                    <a:lnTo>
                      <a:pt x="20" y="312"/>
                    </a:lnTo>
                    <a:lnTo>
                      <a:pt x="27" y="312"/>
                    </a:lnTo>
                    <a:lnTo>
                      <a:pt x="27" y="312"/>
                    </a:lnTo>
                    <a:lnTo>
                      <a:pt x="27" y="305"/>
                    </a:lnTo>
                    <a:lnTo>
                      <a:pt x="27" y="305"/>
                    </a:lnTo>
                    <a:lnTo>
                      <a:pt x="27" y="305"/>
                    </a:lnTo>
                    <a:lnTo>
                      <a:pt x="20" y="305"/>
                    </a:lnTo>
                    <a:lnTo>
                      <a:pt x="20" y="305"/>
                    </a:lnTo>
                    <a:lnTo>
                      <a:pt x="20" y="305"/>
                    </a:lnTo>
                    <a:lnTo>
                      <a:pt x="20" y="305"/>
                    </a:lnTo>
                    <a:lnTo>
                      <a:pt x="20" y="298"/>
                    </a:lnTo>
                    <a:lnTo>
                      <a:pt x="20" y="298"/>
                    </a:lnTo>
                    <a:lnTo>
                      <a:pt x="20" y="298"/>
                    </a:lnTo>
                    <a:lnTo>
                      <a:pt x="27" y="298"/>
                    </a:lnTo>
                    <a:lnTo>
                      <a:pt x="27" y="298"/>
                    </a:lnTo>
                    <a:lnTo>
                      <a:pt x="27" y="298"/>
                    </a:lnTo>
                    <a:lnTo>
                      <a:pt x="27" y="298"/>
                    </a:lnTo>
                    <a:lnTo>
                      <a:pt x="20" y="298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20" y="298"/>
                    </a:lnTo>
                    <a:lnTo>
                      <a:pt x="20" y="298"/>
                    </a:lnTo>
                    <a:lnTo>
                      <a:pt x="20" y="298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13" y="292"/>
                    </a:lnTo>
                    <a:lnTo>
                      <a:pt x="13" y="285"/>
                    </a:lnTo>
                    <a:lnTo>
                      <a:pt x="13" y="285"/>
                    </a:lnTo>
                    <a:lnTo>
                      <a:pt x="13" y="278"/>
                    </a:lnTo>
                    <a:lnTo>
                      <a:pt x="13" y="278"/>
                    </a:lnTo>
                    <a:lnTo>
                      <a:pt x="13" y="278"/>
                    </a:lnTo>
                    <a:lnTo>
                      <a:pt x="13" y="278"/>
                    </a:lnTo>
                    <a:lnTo>
                      <a:pt x="13" y="271"/>
                    </a:lnTo>
                    <a:lnTo>
                      <a:pt x="13" y="271"/>
                    </a:lnTo>
                    <a:lnTo>
                      <a:pt x="7" y="271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0" y="257"/>
                    </a:lnTo>
                    <a:lnTo>
                      <a:pt x="0" y="257"/>
                    </a:lnTo>
                    <a:lnTo>
                      <a:pt x="0" y="257"/>
                    </a:lnTo>
                    <a:lnTo>
                      <a:pt x="0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0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7" y="250"/>
                    </a:lnTo>
                    <a:lnTo>
                      <a:pt x="7" y="250"/>
                    </a:lnTo>
                    <a:lnTo>
                      <a:pt x="7" y="250"/>
                    </a:lnTo>
                    <a:lnTo>
                      <a:pt x="7" y="250"/>
                    </a:lnTo>
                    <a:lnTo>
                      <a:pt x="13" y="243"/>
                    </a:lnTo>
                    <a:lnTo>
                      <a:pt x="13" y="243"/>
                    </a:lnTo>
                    <a:lnTo>
                      <a:pt x="13" y="243"/>
                    </a:lnTo>
                    <a:lnTo>
                      <a:pt x="13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7" y="243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7" y="215"/>
                    </a:lnTo>
                    <a:lnTo>
                      <a:pt x="13" y="201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36600" y="4615920"/>
                <a:ext cx="752760" cy="449280"/>
              </a:xfrm>
              <a:custGeom>
                <a:avLst/>
                <a:gdLst/>
                <a:ahLst/>
                <a:rect l="l" t="t" r="r" b="b"/>
                <a:pathLst>
                  <a:path w="598" h="382">
                    <a:moveTo>
                      <a:pt x="0" y="201"/>
                    </a:moveTo>
                    <a:lnTo>
                      <a:pt x="14" y="174"/>
                    </a:lnTo>
                    <a:lnTo>
                      <a:pt x="21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46"/>
                    </a:lnTo>
                    <a:lnTo>
                      <a:pt x="21" y="146"/>
                    </a:lnTo>
                    <a:lnTo>
                      <a:pt x="42" y="90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2" y="77"/>
                    </a:lnTo>
                    <a:lnTo>
                      <a:pt x="42" y="77"/>
                    </a:lnTo>
                    <a:lnTo>
                      <a:pt x="35" y="70"/>
                    </a:lnTo>
                    <a:lnTo>
                      <a:pt x="28" y="56"/>
                    </a:lnTo>
                    <a:lnTo>
                      <a:pt x="28" y="56"/>
                    </a:lnTo>
                    <a:lnTo>
                      <a:pt x="28" y="49"/>
                    </a:lnTo>
                    <a:lnTo>
                      <a:pt x="28" y="49"/>
                    </a:lnTo>
                    <a:lnTo>
                      <a:pt x="28" y="49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9"/>
                    </a:lnTo>
                    <a:lnTo>
                      <a:pt x="35" y="42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42" y="49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49"/>
                    </a:lnTo>
                    <a:lnTo>
                      <a:pt x="62" y="56"/>
                    </a:lnTo>
                    <a:lnTo>
                      <a:pt x="62" y="49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49"/>
                    </a:lnTo>
                    <a:lnTo>
                      <a:pt x="62" y="56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83" y="49"/>
                    </a:lnTo>
                    <a:lnTo>
                      <a:pt x="83" y="49"/>
                    </a:lnTo>
                    <a:lnTo>
                      <a:pt x="83" y="49"/>
                    </a:lnTo>
                    <a:lnTo>
                      <a:pt x="83" y="49"/>
                    </a:lnTo>
                    <a:lnTo>
                      <a:pt x="83" y="49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28"/>
                    </a:lnTo>
                    <a:lnTo>
                      <a:pt x="90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103" y="2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7"/>
                    </a:lnTo>
                    <a:lnTo>
                      <a:pt x="131" y="14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14"/>
                    </a:lnTo>
                    <a:lnTo>
                      <a:pt x="131" y="7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8" y="14"/>
                    </a:lnTo>
                    <a:lnTo>
                      <a:pt x="138" y="7"/>
                    </a:lnTo>
                    <a:lnTo>
                      <a:pt x="138" y="14"/>
                    </a:lnTo>
                    <a:lnTo>
                      <a:pt x="138" y="7"/>
                    </a:lnTo>
                    <a:lnTo>
                      <a:pt x="138" y="7"/>
                    </a:lnTo>
                    <a:lnTo>
                      <a:pt x="138" y="7"/>
                    </a:lnTo>
                    <a:lnTo>
                      <a:pt x="138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7"/>
                    </a:lnTo>
                    <a:lnTo>
                      <a:pt x="172" y="0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9" y="7"/>
                    </a:lnTo>
                    <a:lnTo>
                      <a:pt x="172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86" y="7"/>
                    </a:lnTo>
                    <a:lnTo>
                      <a:pt x="179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13" y="21"/>
                    </a:lnTo>
                    <a:lnTo>
                      <a:pt x="213" y="21"/>
                    </a:lnTo>
                    <a:lnTo>
                      <a:pt x="213" y="21"/>
                    </a:lnTo>
                    <a:lnTo>
                      <a:pt x="213" y="21"/>
                    </a:lnTo>
                    <a:lnTo>
                      <a:pt x="213" y="28"/>
                    </a:lnTo>
                    <a:lnTo>
                      <a:pt x="213" y="28"/>
                    </a:lnTo>
                    <a:lnTo>
                      <a:pt x="213" y="21"/>
                    </a:lnTo>
                    <a:lnTo>
                      <a:pt x="213" y="28"/>
                    </a:lnTo>
                    <a:lnTo>
                      <a:pt x="213" y="28"/>
                    </a:lnTo>
                    <a:lnTo>
                      <a:pt x="213" y="21"/>
                    </a:lnTo>
                    <a:lnTo>
                      <a:pt x="213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34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8" y="35"/>
                    </a:lnTo>
                    <a:lnTo>
                      <a:pt x="248" y="42"/>
                    </a:lnTo>
                    <a:lnTo>
                      <a:pt x="248" y="42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75" y="35"/>
                    </a:lnTo>
                    <a:lnTo>
                      <a:pt x="275" y="35"/>
                    </a:lnTo>
                    <a:lnTo>
                      <a:pt x="275" y="35"/>
                    </a:lnTo>
                    <a:lnTo>
                      <a:pt x="275" y="28"/>
                    </a:lnTo>
                    <a:lnTo>
                      <a:pt x="275" y="28"/>
                    </a:lnTo>
                    <a:lnTo>
                      <a:pt x="275" y="28"/>
                    </a:lnTo>
                    <a:lnTo>
                      <a:pt x="275" y="28"/>
                    </a:lnTo>
                    <a:lnTo>
                      <a:pt x="275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9" y="28"/>
                    </a:lnTo>
                    <a:lnTo>
                      <a:pt x="289" y="28"/>
                    </a:lnTo>
                    <a:lnTo>
                      <a:pt x="289" y="28"/>
                    </a:lnTo>
                    <a:lnTo>
                      <a:pt x="289" y="28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96" y="21"/>
                    </a:lnTo>
                    <a:lnTo>
                      <a:pt x="296" y="28"/>
                    </a:lnTo>
                    <a:lnTo>
                      <a:pt x="296" y="21"/>
                    </a:lnTo>
                    <a:lnTo>
                      <a:pt x="296" y="28"/>
                    </a:lnTo>
                    <a:lnTo>
                      <a:pt x="296" y="21"/>
                    </a:lnTo>
                    <a:lnTo>
                      <a:pt x="296" y="21"/>
                    </a:lnTo>
                    <a:lnTo>
                      <a:pt x="296" y="28"/>
                    </a:lnTo>
                    <a:lnTo>
                      <a:pt x="296" y="21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42"/>
                    </a:lnTo>
                    <a:lnTo>
                      <a:pt x="309" y="42"/>
                    </a:lnTo>
                    <a:lnTo>
                      <a:pt x="309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14"/>
                    </a:lnTo>
                    <a:lnTo>
                      <a:pt x="351" y="14"/>
                    </a:lnTo>
                    <a:lnTo>
                      <a:pt x="357" y="14"/>
                    </a:lnTo>
                    <a:lnTo>
                      <a:pt x="357" y="14"/>
                    </a:lnTo>
                    <a:lnTo>
                      <a:pt x="357" y="14"/>
                    </a:lnTo>
                    <a:lnTo>
                      <a:pt x="357" y="7"/>
                    </a:lnTo>
                    <a:lnTo>
                      <a:pt x="357" y="7"/>
                    </a:lnTo>
                    <a:lnTo>
                      <a:pt x="357" y="7"/>
                    </a:lnTo>
                    <a:lnTo>
                      <a:pt x="357" y="7"/>
                    </a:lnTo>
                    <a:lnTo>
                      <a:pt x="357" y="7"/>
                    </a:lnTo>
                    <a:lnTo>
                      <a:pt x="364" y="7"/>
                    </a:lnTo>
                    <a:lnTo>
                      <a:pt x="364" y="7"/>
                    </a:lnTo>
                    <a:lnTo>
                      <a:pt x="364" y="7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7"/>
                    </a:lnTo>
                    <a:lnTo>
                      <a:pt x="371" y="7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1" y="42"/>
                    </a:lnTo>
                    <a:lnTo>
                      <a:pt x="351" y="42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44" y="56"/>
                    </a:lnTo>
                    <a:lnTo>
                      <a:pt x="344" y="56"/>
                    </a:lnTo>
                    <a:lnTo>
                      <a:pt x="344" y="56"/>
                    </a:lnTo>
                    <a:lnTo>
                      <a:pt x="344" y="56"/>
                    </a:lnTo>
                    <a:lnTo>
                      <a:pt x="344" y="63"/>
                    </a:lnTo>
                    <a:lnTo>
                      <a:pt x="344" y="63"/>
                    </a:lnTo>
                    <a:lnTo>
                      <a:pt x="344" y="63"/>
                    </a:lnTo>
                    <a:lnTo>
                      <a:pt x="344" y="63"/>
                    </a:lnTo>
                    <a:lnTo>
                      <a:pt x="344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70"/>
                    </a:lnTo>
                    <a:lnTo>
                      <a:pt x="357" y="70"/>
                    </a:lnTo>
                    <a:lnTo>
                      <a:pt x="357" y="70"/>
                    </a:lnTo>
                    <a:lnTo>
                      <a:pt x="357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71" y="70"/>
                    </a:lnTo>
                    <a:lnTo>
                      <a:pt x="371" y="70"/>
                    </a:lnTo>
                    <a:lnTo>
                      <a:pt x="371" y="70"/>
                    </a:lnTo>
                    <a:lnTo>
                      <a:pt x="371" y="70"/>
                    </a:lnTo>
                    <a:lnTo>
                      <a:pt x="371" y="63"/>
                    </a:lnTo>
                    <a:lnTo>
                      <a:pt x="371" y="63"/>
                    </a:lnTo>
                    <a:lnTo>
                      <a:pt x="371" y="63"/>
                    </a:lnTo>
                    <a:lnTo>
                      <a:pt x="371" y="70"/>
                    </a:lnTo>
                    <a:lnTo>
                      <a:pt x="371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9" y="70"/>
                    </a:lnTo>
                    <a:lnTo>
                      <a:pt x="399" y="70"/>
                    </a:lnTo>
                    <a:lnTo>
                      <a:pt x="399" y="70"/>
                    </a:lnTo>
                    <a:lnTo>
                      <a:pt x="399" y="70"/>
                    </a:lnTo>
                    <a:lnTo>
                      <a:pt x="406" y="70"/>
                    </a:lnTo>
                    <a:lnTo>
                      <a:pt x="406" y="70"/>
                    </a:lnTo>
                    <a:lnTo>
                      <a:pt x="406" y="70"/>
                    </a:lnTo>
                    <a:lnTo>
                      <a:pt x="406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12" y="77"/>
                    </a:lnTo>
                    <a:lnTo>
                      <a:pt x="412" y="77"/>
                    </a:lnTo>
                    <a:lnTo>
                      <a:pt x="412" y="77"/>
                    </a:lnTo>
                    <a:lnTo>
                      <a:pt x="412" y="77"/>
                    </a:lnTo>
                    <a:lnTo>
                      <a:pt x="412" y="83"/>
                    </a:lnTo>
                    <a:lnTo>
                      <a:pt x="412" y="83"/>
                    </a:lnTo>
                    <a:lnTo>
                      <a:pt x="419" y="83"/>
                    </a:lnTo>
                    <a:lnTo>
                      <a:pt x="419" y="90"/>
                    </a:lnTo>
                    <a:lnTo>
                      <a:pt x="419" y="90"/>
                    </a:lnTo>
                    <a:lnTo>
                      <a:pt x="419" y="97"/>
                    </a:lnTo>
                    <a:lnTo>
                      <a:pt x="419" y="97"/>
                    </a:lnTo>
                    <a:lnTo>
                      <a:pt x="419" y="97"/>
                    </a:lnTo>
                    <a:lnTo>
                      <a:pt x="426" y="97"/>
                    </a:lnTo>
                    <a:lnTo>
                      <a:pt x="426" y="97"/>
                    </a:lnTo>
                    <a:lnTo>
                      <a:pt x="426" y="97"/>
                    </a:lnTo>
                    <a:lnTo>
                      <a:pt x="433" y="90"/>
                    </a:lnTo>
                    <a:lnTo>
                      <a:pt x="433" y="90"/>
                    </a:lnTo>
                    <a:lnTo>
                      <a:pt x="433" y="90"/>
                    </a:lnTo>
                    <a:lnTo>
                      <a:pt x="433" y="97"/>
                    </a:lnTo>
                    <a:lnTo>
                      <a:pt x="440" y="97"/>
                    </a:lnTo>
                    <a:lnTo>
                      <a:pt x="440" y="97"/>
                    </a:lnTo>
                    <a:lnTo>
                      <a:pt x="440" y="97"/>
                    </a:lnTo>
                    <a:lnTo>
                      <a:pt x="447" y="97"/>
                    </a:lnTo>
                    <a:lnTo>
                      <a:pt x="447" y="97"/>
                    </a:lnTo>
                    <a:lnTo>
                      <a:pt x="447" y="97"/>
                    </a:lnTo>
                    <a:lnTo>
                      <a:pt x="447" y="97"/>
                    </a:lnTo>
                    <a:lnTo>
                      <a:pt x="447" y="97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33" y="104"/>
                    </a:lnTo>
                    <a:lnTo>
                      <a:pt x="433" y="104"/>
                    </a:lnTo>
                    <a:lnTo>
                      <a:pt x="433" y="104"/>
                    </a:lnTo>
                    <a:lnTo>
                      <a:pt x="433" y="111"/>
                    </a:lnTo>
                    <a:lnTo>
                      <a:pt x="433" y="111"/>
                    </a:lnTo>
                    <a:lnTo>
                      <a:pt x="433" y="111"/>
                    </a:lnTo>
                    <a:lnTo>
                      <a:pt x="433" y="111"/>
                    </a:lnTo>
                    <a:lnTo>
                      <a:pt x="426" y="111"/>
                    </a:lnTo>
                    <a:lnTo>
                      <a:pt x="426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25"/>
                    </a:lnTo>
                    <a:lnTo>
                      <a:pt x="433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7" y="125"/>
                    </a:lnTo>
                    <a:lnTo>
                      <a:pt x="447" y="125"/>
                    </a:lnTo>
                    <a:lnTo>
                      <a:pt x="447" y="125"/>
                    </a:lnTo>
                    <a:lnTo>
                      <a:pt x="447" y="125"/>
                    </a:lnTo>
                    <a:lnTo>
                      <a:pt x="447" y="125"/>
                    </a:lnTo>
                    <a:lnTo>
                      <a:pt x="454" y="125"/>
                    </a:lnTo>
                    <a:lnTo>
                      <a:pt x="454" y="125"/>
                    </a:lnTo>
                    <a:lnTo>
                      <a:pt x="454" y="125"/>
                    </a:lnTo>
                    <a:lnTo>
                      <a:pt x="454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74" y="125"/>
                    </a:lnTo>
                    <a:lnTo>
                      <a:pt x="474" y="132"/>
                    </a:lnTo>
                    <a:lnTo>
                      <a:pt x="474" y="132"/>
                    </a:lnTo>
                    <a:lnTo>
                      <a:pt x="474" y="132"/>
                    </a:lnTo>
                    <a:lnTo>
                      <a:pt x="474" y="132"/>
                    </a:lnTo>
                    <a:lnTo>
                      <a:pt x="474" y="132"/>
                    </a:lnTo>
                    <a:lnTo>
                      <a:pt x="481" y="132"/>
                    </a:lnTo>
                    <a:lnTo>
                      <a:pt x="481" y="132"/>
                    </a:lnTo>
                    <a:lnTo>
                      <a:pt x="481" y="132"/>
                    </a:lnTo>
                    <a:lnTo>
                      <a:pt x="481" y="132"/>
                    </a:lnTo>
                    <a:lnTo>
                      <a:pt x="481" y="132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8" y="139"/>
                    </a:lnTo>
                    <a:lnTo>
                      <a:pt x="488" y="139"/>
                    </a:lnTo>
                    <a:lnTo>
                      <a:pt x="488" y="139"/>
                    </a:lnTo>
                    <a:lnTo>
                      <a:pt x="488" y="139"/>
                    </a:lnTo>
                    <a:lnTo>
                      <a:pt x="488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46"/>
                    </a:lnTo>
                    <a:lnTo>
                      <a:pt x="495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9" y="146"/>
                    </a:lnTo>
                    <a:lnTo>
                      <a:pt x="509" y="146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60"/>
                    </a:lnTo>
                    <a:lnTo>
                      <a:pt x="522" y="153"/>
                    </a:lnTo>
                    <a:lnTo>
                      <a:pt x="522" y="160"/>
                    </a:lnTo>
                    <a:lnTo>
                      <a:pt x="522" y="160"/>
                    </a:lnTo>
                    <a:lnTo>
                      <a:pt x="522" y="160"/>
                    </a:lnTo>
                    <a:lnTo>
                      <a:pt x="522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36" y="160"/>
                    </a:lnTo>
                    <a:lnTo>
                      <a:pt x="536" y="160"/>
                    </a:lnTo>
                    <a:lnTo>
                      <a:pt x="536" y="160"/>
                    </a:lnTo>
                    <a:lnTo>
                      <a:pt x="536" y="160"/>
                    </a:lnTo>
                    <a:lnTo>
                      <a:pt x="536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63" y="167"/>
                    </a:lnTo>
                    <a:lnTo>
                      <a:pt x="557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74"/>
                    </a:lnTo>
                    <a:lnTo>
                      <a:pt x="563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81"/>
                    </a:lnTo>
                    <a:lnTo>
                      <a:pt x="584" y="174"/>
                    </a:lnTo>
                    <a:lnTo>
                      <a:pt x="584" y="181"/>
                    </a:lnTo>
                    <a:lnTo>
                      <a:pt x="584" y="181"/>
                    </a:lnTo>
                    <a:lnTo>
                      <a:pt x="584" y="181"/>
                    </a:lnTo>
                    <a:lnTo>
                      <a:pt x="584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8" y="187"/>
                    </a:lnTo>
                    <a:lnTo>
                      <a:pt x="598" y="187"/>
                    </a:lnTo>
                    <a:lnTo>
                      <a:pt x="598" y="187"/>
                    </a:lnTo>
                    <a:lnTo>
                      <a:pt x="598" y="187"/>
                    </a:lnTo>
                    <a:lnTo>
                      <a:pt x="598" y="187"/>
                    </a:lnTo>
                    <a:lnTo>
                      <a:pt x="598" y="194"/>
                    </a:lnTo>
                    <a:lnTo>
                      <a:pt x="598" y="194"/>
                    </a:lnTo>
                    <a:lnTo>
                      <a:pt x="598" y="194"/>
                    </a:lnTo>
                    <a:lnTo>
                      <a:pt x="598" y="194"/>
                    </a:lnTo>
                    <a:lnTo>
                      <a:pt x="598" y="194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1" y="208"/>
                    </a:lnTo>
                    <a:lnTo>
                      <a:pt x="591" y="208"/>
                    </a:lnTo>
                    <a:lnTo>
                      <a:pt x="591" y="208"/>
                    </a:lnTo>
                    <a:lnTo>
                      <a:pt x="591" y="215"/>
                    </a:lnTo>
                    <a:lnTo>
                      <a:pt x="591" y="215"/>
                    </a:lnTo>
                    <a:lnTo>
                      <a:pt x="591" y="215"/>
                    </a:lnTo>
                    <a:lnTo>
                      <a:pt x="591" y="215"/>
                    </a:lnTo>
                    <a:lnTo>
                      <a:pt x="591" y="222"/>
                    </a:lnTo>
                    <a:lnTo>
                      <a:pt x="591" y="222"/>
                    </a:lnTo>
                    <a:lnTo>
                      <a:pt x="591" y="222"/>
                    </a:lnTo>
                    <a:lnTo>
                      <a:pt x="591" y="222"/>
                    </a:lnTo>
                    <a:lnTo>
                      <a:pt x="591" y="229"/>
                    </a:lnTo>
                    <a:lnTo>
                      <a:pt x="591" y="229"/>
                    </a:lnTo>
                    <a:lnTo>
                      <a:pt x="591" y="229"/>
                    </a:lnTo>
                    <a:lnTo>
                      <a:pt x="591" y="229"/>
                    </a:lnTo>
                    <a:lnTo>
                      <a:pt x="591" y="229"/>
                    </a:lnTo>
                    <a:lnTo>
                      <a:pt x="591" y="236"/>
                    </a:lnTo>
                    <a:lnTo>
                      <a:pt x="591" y="236"/>
                    </a:lnTo>
                    <a:lnTo>
                      <a:pt x="591" y="236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50"/>
                    </a:lnTo>
                    <a:lnTo>
                      <a:pt x="591" y="257"/>
                    </a:lnTo>
                    <a:lnTo>
                      <a:pt x="591" y="257"/>
                    </a:lnTo>
                    <a:lnTo>
                      <a:pt x="591" y="257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63" y="271"/>
                    </a:lnTo>
                    <a:lnTo>
                      <a:pt x="563" y="271"/>
                    </a:lnTo>
                    <a:lnTo>
                      <a:pt x="563" y="271"/>
                    </a:lnTo>
                    <a:lnTo>
                      <a:pt x="563" y="271"/>
                    </a:lnTo>
                    <a:lnTo>
                      <a:pt x="563" y="278"/>
                    </a:lnTo>
                    <a:lnTo>
                      <a:pt x="557" y="278"/>
                    </a:lnTo>
                    <a:lnTo>
                      <a:pt x="557" y="278"/>
                    </a:lnTo>
                    <a:lnTo>
                      <a:pt x="557" y="278"/>
                    </a:lnTo>
                    <a:lnTo>
                      <a:pt x="557" y="278"/>
                    </a:lnTo>
                    <a:lnTo>
                      <a:pt x="550" y="285"/>
                    </a:lnTo>
                    <a:lnTo>
                      <a:pt x="550" y="285"/>
                    </a:lnTo>
                    <a:lnTo>
                      <a:pt x="550" y="285"/>
                    </a:lnTo>
                    <a:lnTo>
                      <a:pt x="550" y="292"/>
                    </a:lnTo>
                    <a:lnTo>
                      <a:pt x="543" y="292"/>
                    </a:lnTo>
                    <a:lnTo>
                      <a:pt x="543" y="292"/>
                    </a:lnTo>
                    <a:lnTo>
                      <a:pt x="543" y="292"/>
                    </a:lnTo>
                    <a:lnTo>
                      <a:pt x="543" y="292"/>
                    </a:lnTo>
                    <a:lnTo>
                      <a:pt x="543" y="298"/>
                    </a:lnTo>
                    <a:lnTo>
                      <a:pt x="543" y="298"/>
                    </a:lnTo>
                    <a:lnTo>
                      <a:pt x="543" y="305"/>
                    </a:lnTo>
                    <a:lnTo>
                      <a:pt x="543" y="305"/>
                    </a:lnTo>
                    <a:lnTo>
                      <a:pt x="543" y="305"/>
                    </a:lnTo>
                    <a:lnTo>
                      <a:pt x="543" y="305"/>
                    </a:lnTo>
                    <a:lnTo>
                      <a:pt x="543" y="312"/>
                    </a:lnTo>
                    <a:lnTo>
                      <a:pt x="543" y="312"/>
                    </a:lnTo>
                    <a:lnTo>
                      <a:pt x="543" y="312"/>
                    </a:lnTo>
                    <a:lnTo>
                      <a:pt x="543" y="312"/>
                    </a:lnTo>
                    <a:lnTo>
                      <a:pt x="543" y="319"/>
                    </a:lnTo>
                    <a:lnTo>
                      <a:pt x="543" y="319"/>
                    </a:lnTo>
                    <a:lnTo>
                      <a:pt x="536" y="319"/>
                    </a:lnTo>
                    <a:lnTo>
                      <a:pt x="536" y="319"/>
                    </a:lnTo>
                    <a:lnTo>
                      <a:pt x="536" y="319"/>
                    </a:lnTo>
                    <a:lnTo>
                      <a:pt x="529" y="326"/>
                    </a:lnTo>
                    <a:lnTo>
                      <a:pt x="529" y="326"/>
                    </a:lnTo>
                    <a:lnTo>
                      <a:pt x="529" y="326"/>
                    </a:lnTo>
                    <a:lnTo>
                      <a:pt x="529" y="326"/>
                    </a:lnTo>
                    <a:lnTo>
                      <a:pt x="529" y="333"/>
                    </a:lnTo>
                    <a:lnTo>
                      <a:pt x="529" y="333"/>
                    </a:lnTo>
                    <a:lnTo>
                      <a:pt x="529" y="333"/>
                    </a:lnTo>
                    <a:lnTo>
                      <a:pt x="522" y="333"/>
                    </a:lnTo>
                    <a:lnTo>
                      <a:pt x="522" y="333"/>
                    </a:lnTo>
                    <a:lnTo>
                      <a:pt x="522" y="333"/>
                    </a:lnTo>
                    <a:lnTo>
                      <a:pt x="522" y="333"/>
                    </a:lnTo>
                    <a:lnTo>
                      <a:pt x="522" y="333"/>
                    </a:lnTo>
                    <a:lnTo>
                      <a:pt x="522" y="340"/>
                    </a:lnTo>
                    <a:lnTo>
                      <a:pt x="522" y="340"/>
                    </a:lnTo>
                    <a:lnTo>
                      <a:pt x="522" y="340"/>
                    </a:lnTo>
                    <a:lnTo>
                      <a:pt x="522" y="347"/>
                    </a:lnTo>
                    <a:lnTo>
                      <a:pt x="522" y="347"/>
                    </a:lnTo>
                    <a:lnTo>
                      <a:pt x="522" y="347"/>
                    </a:lnTo>
                    <a:lnTo>
                      <a:pt x="522" y="354"/>
                    </a:lnTo>
                    <a:lnTo>
                      <a:pt x="522" y="354"/>
                    </a:lnTo>
                    <a:lnTo>
                      <a:pt x="515" y="354"/>
                    </a:lnTo>
                    <a:lnTo>
                      <a:pt x="515" y="354"/>
                    </a:lnTo>
                    <a:lnTo>
                      <a:pt x="515" y="361"/>
                    </a:lnTo>
                    <a:lnTo>
                      <a:pt x="515" y="361"/>
                    </a:lnTo>
                    <a:lnTo>
                      <a:pt x="515" y="361"/>
                    </a:lnTo>
                    <a:lnTo>
                      <a:pt x="515" y="361"/>
                    </a:lnTo>
                    <a:lnTo>
                      <a:pt x="509" y="368"/>
                    </a:lnTo>
                    <a:lnTo>
                      <a:pt x="509" y="368"/>
                    </a:lnTo>
                    <a:lnTo>
                      <a:pt x="509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75"/>
                    </a:lnTo>
                    <a:lnTo>
                      <a:pt x="502" y="375"/>
                    </a:lnTo>
                    <a:lnTo>
                      <a:pt x="509" y="375"/>
                    </a:lnTo>
                    <a:lnTo>
                      <a:pt x="509" y="3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920400" y="4852080"/>
                <a:ext cx="657360" cy="449280"/>
              </a:xfrm>
              <a:custGeom>
                <a:avLst/>
                <a:gdLst/>
                <a:ahLst/>
                <a:rect l="l" t="t" r="r" b="b"/>
                <a:pathLst>
                  <a:path w="522" h="382">
                    <a:moveTo>
                      <a:pt x="522" y="181"/>
                    </a:moveTo>
                    <a:lnTo>
                      <a:pt x="515" y="181"/>
                    </a:lnTo>
                    <a:lnTo>
                      <a:pt x="515" y="181"/>
                    </a:lnTo>
                    <a:lnTo>
                      <a:pt x="515" y="181"/>
                    </a:lnTo>
                    <a:lnTo>
                      <a:pt x="508" y="188"/>
                    </a:lnTo>
                    <a:lnTo>
                      <a:pt x="508" y="188"/>
                    </a:lnTo>
                    <a:lnTo>
                      <a:pt x="508" y="188"/>
                    </a:lnTo>
                    <a:lnTo>
                      <a:pt x="508" y="195"/>
                    </a:lnTo>
                    <a:lnTo>
                      <a:pt x="508" y="195"/>
                    </a:lnTo>
                    <a:lnTo>
                      <a:pt x="501" y="195"/>
                    </a:lnTo>
                    <a:lnTo>
                      <a:pt x="501" y="195"/>
                    </a:lnTo>
                    <a:lnTo>
                      <a:pt x="501" y="195"/>
                    </a:lnTo>
                    <a:lnTo>
                      <a:pt x="501" y="202"/>
                    </a:lnTo>
                    <a:lnTo>
                      <a:pt x="494" y="202"/>
                    </a:lnTo>
                    <a:lnTo>
                      <a:pt x="494" y="202"/>
                    </a:lnTo>
                    <a:lnTo>
                      <a:pt x="494" y="208"/>
                    </a:lnTo>
                    <a:lnTo>
                      <a:pt x="494" y="215"/>
                    </a:lnTo>
                    <a:lnTo>
                      <a:pt x="487" y="215"/>
                    </a:lnTo>
                    <a:lnTo>
                      <a:pt x="487" y="215"/>
                    </a:lnTo>
                    <a:lnTo>
                      <a:pt x="487" y="215"/>
                    </a:lnTo>
                    <a:lnTo>
                      <a:pt x="487" y="222"/>
                    </a:lnTo>
                    <a:lnTo>
                      <a:pt x="487" y="222"/>
                    </a:lnTo>
                    <a:lnTo>
                      <a:pt x="480" y="222"/>
                    </a:lnTo>
                    <a:lnTo>
                      <a:pt x="480" y="222"/>
                    </a:lnTo>
                    <a:lnTo>
                      <a:pt x="480" y="222"/>
                    </a:lnTo>
                    <a:lnTo>
                      <a:pt x="480" y="222"/>
                    </a:lnTo>
                    <a:lnTo>
                      <a:pt x="473" y="229"/>
                    </a:lnTo>
                    <a:lnTo>
                      <a:pt x="473" y="229"/>
                    </a:lnTo>
                    <a:lnTo>
                      <a:pt x="473" y="229"/>
                    </a:lnTo>
                    <a:lnTo>
                      <a:pt x="473" y="229"/>
                    </a:lnTo>
                    <a:lnTo>
                      <a:pt x="467" y="229"/>
                    </a:lnTo>
                    <a:lnTo>
                      <a:pt x="467" y="229"/>
                    </a:lnTo>
                    <a:lnTo>
                      <a:pt x="467" y="229"/>
                    </a:lnTo>
                    <a:lnTo>
                      <a:pt x="460" y="236"/>
                    </a:lnTo>
                    <a:lnTo>
                      <a:pt x="460" y="236"/>
                    </a:lnTo>
                    <a:lnTo>
                      <a:pt x="453" y="236"/>
                    </a:lnTo>
                    <a:lnTo>
                      <a:pt x="453" y="236"/>
                    </a:lnTo>
                    <a:lnTo>
                      <a:pt x="453" y="243"/>
                    </a:lnTo>
                    <a:lnTo>
                      <a:pt x="453" y="243"/>
                    </a:lnTo>
                    <a:lnTo>
                      <a:pt x="453" y="243"/>
                    </a:lnTo>
                    <a:lnTo>
                      <a:pt x="446" y="243"/>
                    </a:lnTo>
                    <a:lnTo>
                      <a:pt x="446" y="243"/>
                    </a:lnTo>
                    <a:lnTo>
                      <a:pt x="446" y="243"/>
                    </a:lnTo>
                    <a:lnTo>
                      <a:pt x="439" y="250"/>
                    </a:lnTo>
                    <a:lnTo>
                      <a:pt x="439" y="250"/>
                    </a:lnTo>
                    <a:lnTo>
                      <a:pt x="439" y="250"/>
                    </a:lnTo>
                    <a:lnTo>
                      <a:pt x="432" y="250"/>
                    </a:lnTo>
                    <a:lnTo>
                      <a:pt x="432" y="250"/>
                    </a:lnTo>
                    <a:lnTo>
                      <a:pt x="432" y="250"/>
                    </a:lnTo>
                    <a:lnTo>
                      <a:pt x="432" y="257"/>
                    </a:lnTo>
                    <a:lnTo>
                      <a:pt x="432" y="257"/>
                    </a:lnTo>
                    <a:lnTo>
                      <a:pt x="432" y="257"/>
                    </a:lnTo>
                    <a:lnTo>
                      <a:pt x="432" y="257"/>
                    </a:lnTo>
                    <a:lnTo>
                      <a:pt x="425" y="264"/>
                    </a:lnTo>
                    <a:lnTo>
                      <a:pt x="425" y="264"/>
                    </a:lnTo>
                    <a:lnTo>
                      <a:pt x="425" y="264"/>
                    </a:lnTo>
                    <a:lnTo>
                      <a:pt x="419" y="264"/>
                    </a:lnTo>
                    <a:lnTo>
                      <a:pt x="419" y="264"/>
                    </a:lnTo>
                    <a:lnTo>
                      <a:pt x="419" y="271"/>
                    </a:lnTo>
                    <a:lnTo>
                      <a:pt x="419" y="271"/>
                    </a:lnTo>
                    <a:lnTo>
                      <a:pt x="412" y="271"/>
                    </a:lnTo>
                    <a:lnTo>
                      <a:pt x="412" y="271"/>
                    </a:lnTo>
                    <a:lnTo>
                      <a:pt x="412" y="271"/>
                    </a:lnTo>
                    <a:lnTo>
                      <a:pt x="412" y="271"/>
                    </a:lnTo>
                    <a:lnTo>
                      <a:pt x="405" y="271"/>
                    </a:lnTo>
                    <a:lnTo>
                      <a:pt x="405" y="271"/>
                    </a:lnTo>
                    <a:lnTo>
                      <a:pt x="405" y="271"/>
                    </a:lnTo>
                    <a:lnTo>
                      <a:pt x="405" y="278"/>
                    </a:lnTo>
                    <a:lnTo>
                      <a:pt x="405" y="278"/>
                    </a:lnTo>
                    <a:lnTo>
                      <a:pt x="398" y="278"/>
                    </a:lnTo>
                    <a:lnTo>
                      <a:pt x="398" y="278"/>
                    </a:lnTo>
                    <a:lnTo>
                      <a:pt x="398" y="278"/>
                    </a:lnTo>
                    <a:lnTo>
                      <a:pt x="391" y="278"/>
                    </a:lnTo>
                    <a:lnTo>
                      <a:pt x="391" y="285"/>
                    </a:lnTo>
                    <a:lnTo>
                      <a:pt x="391" y="285"/>
                    </a:lnTo>
                    <a:lnTo>
                      <a:pt x="391" y="285"/>
                    </a:lnTo>
                    <a:lnTo>
                      <a:pt x="391" y="285"/>
                    </a:lnTo>
                    <a:lnTo>
                      <a:pt x="391" y="285"/>
                    </a:lnTo>
                    <a:lnTo>
                      <a:pt x="384" y="285"/>
                    </a:lnTo>
                    <a:lnTo>
                      <a:pt x="384" y="285"/>
                    </a:lnTo>
                    <a:lnTo>
                      <a:pt x="384" y="292"/>
                    </a:lnTo>
                    <a:lnTo>
                      <a:pt x="384" y="292"/>
                    </a:lnTo>
                    <a:lnTo>
                      <a:pt x="384" y="299"/>
                    </a:lnTo>
                    <a:lnTo>
                      <a:pt x="384" y="306"/>
                    </a:lnTo>
                    <a:lnTo>
                      <a:pt x="384" y="306"/>
                    </a:lnTo>
                    <a:lnTo>
                      <a:pt x="384" y="306"/>
                    </a:lnTo>
                    <a:lnTo>
                      <a:pt x="377" y="313"/>
                    </a:lnTo>
                    <a:lnTo>
                      <a:pt x="377" y="313"/>
                    </a:lnTo>
                    <a:lnTo>
                      <a:pt x="377" y="313"/>
                    </a:lnTo>
                    <a:lnTo>
                      <a:pt x="377" y="319"/>
                    </a:lnTo>
                    <a:lnTo>
                      <a:pt x="377" y="319"/>
                    </a:lnTo>
                    <a:lnTo>
                      <a:pt x="370" y="319"/>
                    </a:lnTo>
                    <a:lnTo>
                      <a:pt x="370" y="319"/>
                    </a:lnTo>
                    <a:lnTo>
                      <a:pt x="364" y="326"/>
                    </a:lnTo>
                    <a:lnTo>
                      <a:pt x="357" y="326"/>
                    </a:lnTo>
                    <a:lnTo>
                      <a:pt x="357" y="326"/>
                    </a:lnTo>
                    <a:lnTo>
                      <a:pt x="357" y="326"/>
                    </a:lnTo>
                    <a:lnTo>
                      <a:pt x="357" y="333"/>
                    </a:lnTo>
                    <a:lnTo>
                      <a:pt x="357" y="333"/>
                    </a:lnTo>
                    <a:lnTo>
                      <a:pt x="350" y="340"/>
                    </a:lnTo>
                    <a:lnTo>
                      <a:pt x="350" y="340"/>
                    </a:lnTo>
                    <a:lnTo>
                      <a:pt x="350" y="347"/>
                    </a:lnTo>
                    <a:lnTo>
                      <a:pt x="350" y="347"/>
                    </a:lnTo>
                    <a:lnTo>
                      <a:pt x="350" y="347"/>
                    </a:lnTo>
                    <a:lnTo>
                      <a:pt x="350" y="354"/>
                    </a:lnTo>
                    <a:lnTo>
                      <a:pt x="350" y="354"/>
                    </a:lnTo>
                    <a:lnTo>
                      <a:pt x="350" y="354"/>
                    </a:lnTo>
                    <a:lnTo>
                      <a:pt x="350" y="361"/>
                    </a:lnTo>
                    <a:lnTo>
                      <a:pt x="343" y="361"/>
                    </a:lnTo>
                    <a:lnTo>
                      <a:pt x="350" y="361"/>
                    </a:lnTo>
                    <a:lnTo>
                      <a:pt x="343" y="361"/>
                    </a:lnTo>
                    <a:lnTo>
                      <a:pt x="350" y="361"/>
                    </a:lnTo>
                    <a:lnTo>
                      <a:pt x="350" y="368"/>
                    </a:lnTo>
                    <a:lnTo>
                      <a:pt x="343" y="368"/>
                    </a:lnTo>
                    <a:lnTo>
                      <a:pt x="343" y="368"/>
                    </a:lnTo>
                    <a:lnTo>
                      <a:pt x="343" y="375"/>
                    </a:lnTo>
                    <a:lnTo>
                      <a:pt x="343" y="375"/>
                    </a:lnTo>
                    <a:lnTo>
                      <a:pt x="336" y="382"/>
                    </a:lnTo>
                    <a:lnTo>
                      <a:pt x="336" y="382"/>
                    </a:lnTo>
                    <a:lnTo>
                      <a:pt x="329" y="382"/>
                    </a:lnTo>
                    <a:lnTo>
                      <a:pt x="329" y="382"/>
                    </a:lnTo>
                    <a:lnTo>
                      <a:pt x="329" y="382"/>
                    </a:lnTo>
                    <a:lnTo>
                      <a:pt x="329" y="382"/>
                    </a:lnTo>
                    <a:lnTo>
                      <a:pt x="329" y="375"/>
                    </a:lnTo>
                    <a:lnTo>
                      <a:pt x="329" y="375"/>
                    </a:lnTo>
                    <a:lnTo>
                      <a:pt x="329" y="375"/>
                    </a:lnTo>
                    <a:lnTo>
                      <a:pt x="322" y="375"/>
                    </a:lnTo>
                    <a:lnTo>
                      <a:pt x="322" y="375"/>
                    </a:lnTo>
                    <a:lnTo>
                      <a:pt x="322" y="375"/>
                    </a:lnTo>
                    <a:lnTo>
                      <a:pt x="322" y="375"/>
                    </a:lnTo>
                    <a:lnTo>
                      <a:pt x="322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09" y="368"/>
                    </a:lnTo>
                    <a:lnTo>
                      <a:pt x="309" y="368"/>
                    </a:lnTo>
                    <a:lnTo>
                      <a:pt x="309" y="368"/>
                    </a:lnTo>
                    <a:lnTo>
                      <a:pt x="309" y="368"/>
                    </a:lnTo>
                    <a:lnTo>
                      <a:pt x="309" y="368"/>
                    </a:lnTo>
                    <a:lnTo>
                      <a:pt x="309" y="361"/>
                    </a:lnTo>
                    <a:lnTo>
                      <a:pt x="309" y="368"/>
                    </a:lnTo>
                    <a:lnTo>
                      <a:pt x="302" y="361"/>
                    </a:lnTo>
                    <a:lnTo>
                      <a:pt x="309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295" y="361"/>
                    </a:lnTo>
                    <a:lnTo>
                      <a:pt x="295" y="361"/>
                    </a:lnTo>
                    <a:lnTo>
                      <a:pt x="295" y="361"/>
                    </a:lnTo>
                    <a:lnTo>
                      <a:pt x="295" y="361"/>
                    </a:lnTo>
                    <a:lnTo>
                      <a:pt x="295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8"/>
                    </a:lnTo>
                    <a:lnTo>
                      <a:pt x="288" y="368"/>
                    </a:lnTo>
                    <a:lnTo>
                      <a:pt x="288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75"/>
                    </a:lnTo>
                    <a:lnTo>
                      <a:pt x="274" y="368"/>
                    </a:lnTo>
                    <a:lnTo>
                      <a:pt x="274" y="375"/>
                    </a:lnTo>
                    <a:lnTo>
                      <a:pt x="274" y="368"/>
                    </a:lnTo>
                    <a:lnTo>
                      <a:pt x="267" y="368"/>
                    </a:lnTo>
                    <a:lnTo>
                      <a:pt x="267" y="368"/>
                    </a:lnTo>
                    <a:lnTo>
                      <a:pt x="267" y="375"/>
                    </a:lnTo>
                    <a:lnTo>
                      <a:pt x="267" y="375"/>
                    </a:lnTo>
                    <a:lnTo>
                      <a:pt x="267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68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0" y="375"/>
                    </a:lnTo>
                    <a:lnTo>
                      <a:pt x="240" y="368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33" y="375"/>
                    </a:lnTo>
                    <a:lnTo>
                      <a:pt x="233" y="375"/>
                    </a:lnTo>
                    <a:lnTo>
                      <a:pt x="233" y="375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1"/>
                    </a:lnTo>
                    <a:lnTo>
                      <a:pt x="233" y="361"/>
                    </a:lnTo>
                    <a:lnTo>
                      <a:pt x="233" y="361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0"/>
                    </a:lnTo>
                    <a:lnTo>
                      <a:pt x="226" y="347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6" y="333"/>
                    </a:lnTo>
                    <a:lnTo>
                      <a:pt x="226" y="333"/>
                    </a:lnTo>
                    <a:lnTo>
                      <a:pt x="226" y="333"/>
                    </a:lnTo>
                    <a:lnTo>
                      <a:pt x="219" y="333"/>
                    </a:lnTo>
                    <a:lnTo>
                      <a:pt x="219" y="333"/>
                    </a:lnTo>
                    <a:lnTo>
                      <a:pt x="219" y="333"/>
                    </a:lnTo>
                    <a:lnTo>
                      <a:pt x="219" y="333"/>
                    </a:lnTo>
                    <a:lnTo>
                      <a:pt x="226" y="326"/>
                    </a:lnTo>
                    <a:lnTo>
                      <a:pt x="219" y="326"/>
                    </a:lnTo>
                    <a:lnTo>
                      <a:pt x="226" y="326"/>
                    </a:lnTo>
                    <a:lnTo>
                      <a:pt x="226" y="319"/>
                    </a:lnTo>
                    <a:lnTo>
                      <a:pt x="226" y="319"/>
                    </a:lnTo>
                    <a:lnTo>
                      <a:pt x="226" y="319"/>
                    </a:lnTo>
                    <a:lnTo>
                      <a:pt x="226" y="319"/>
                    </a:lnTo>
                    <a:lnTo>
                      <a:pt x="226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3"/>
                    </a:lnTo>
                    <a:lnTo>
                      <a:pt x="226" y="313"/>
                    </a:lnTo>
                    <a:lnTo>
                      <a:pt x="226" y="313"/>
                    </a:lnTo>
                    <a:lnTo>
                      <a:pt x="226" y="313"/>
                    </a:lnTo>
                    <a:lnTo>
                      <a:pt x="226" y="313"/>
                    </a:lnTo>
                    <a:lnTo>
                      <a:pt x="226" y="313"/>
                    </a:lnTo>
                    <a:lnTo>
                      <a:pt x="219" y="306"/>
                    </a:lnTo>
                    <a:lnTo>
                      <a:pt x="226" y="306"/>
                    </a:lnTo>
                    <a:lnTo>
                      <a:pt x="226" y="306"/>
                    </a:lnTo>
                    <a:lnTo>
                      <a:pt x="226" y="306"/>
                    </a:lnTo>
                    <a:lnTo>
                      <a:pt x="226" y="306"/>
                    </a:lnTo>
                    <a:lnTo>
                      <a:pt x="226" y="306"/>
                    </a:lnTo>
                    <a:lnTo>
                      <a:pt x="219" y="306"/>
                    </a:lnTo>
                    <a:lnTo>
                      <a:pt x="219" y="306"/>
                    </a:lnTo>
                    <a:lnTo>
                      <a:pt x="219" y="306"/>
                    </a:lnTo>
                    <a:lnTo>
                      <a:pt x="219" y="306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2"/>
                    </a:lnTo>
                    <a:lnTo>
                      <a:pt x="219" y="292"/>
                    </a:lnTo>
                    <a:lnTo>
                      <a:pt x="213" y="292"/>
                    </a:lnTo>
                    <a:lnTo>
                      <a:pt x="219" y="292"/>
                    </a:lnTo>
                    <a:lnTo>
                      <a:pt x="219" y="292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1"/>
                    </a:lnTo>
                    <a:lnTo>
                      <a:pt x="213" y="271"/>
                    </a:lnTo>
                    <a:lnTo>
                      <a:pt x="213" y="271"/>
                    </a:lnTo>
                    <a:lnTo>
                      <a:pt x="219" y="271"/>
                    </a:lnTo>
                    <a:lnTo>
                      <a:pt x="219" y="271"/>
                    </a:lnTo>
                    <a:lnTo>
                      <a:pt x="219" y="271"/>
                    </a:lnTo>
                    <a:lnTo>
                      <a:pt x="219" y="271"/>
                    </a:lnTo>
                    <a:lnTo>
                      <a:pt x="219" y="271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57"/>
                    </a:lnTo>
                    <a:lnTo>
                      <a:pt x="213" y="257"/>
                    </a:lnTo>
                    <a:lnTo>
                      <a:pt x="213" y="257"/>
                    </a:lnTo>
                    <a:lnTo>
                      <a:pt x="213" y="257"/>
                    </a:lnTo>
                    <a:lnTo>
                      <a:pt x="213" y="257"/>
                    </a:lnTo>
                    <a:lnTo>
                      <a:pt x="213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199" y="236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2" y="229"/>
                    </a:lnTo>
                    <a:lnTo>
                      <a:pt x="192" y="229"/>
                    </a:lnTo>
                    <a:lnTo>
                      <a:pt x="192" y="229"/>
                    </a:lnTo>
                    <a:lnTo>
                      <a:pt x="192" y="229"/>
                    </a:lnTo>
                    <a:lnTo>
                      <a:pt x="192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2"/>
                    </a:lnTo>
                    <a:lnTo>
                      <a:pt x="164" y="229"/>
                    </a:lnTo>
                    <a:lnTo>
                      <a:pt x="164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37" y="215"/>
                    </a:lnTo>
                    <a:lnTo>
                      <a:pt x="137" y="222"/>
                    </a:lnTo>
                    <a:lnTo>
                      <a:pt x="137" y="215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0" y="222"/>
                    </a:lnTo>
                    <a:lnTo>
                      <a:pt x="137" y="222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2"/>
                    </a:lnTo>
                    <a:lnTo>
                      <a:pt x="130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03" y="229"/>
                    </a:lnTo>
                    <a:lnTo>
                      <a:pt x="103" y="229"/>
                    </a:lnTo>
                    <a:lnTo>
                      <a:pt x="103" y="229"/>
                    </a:lnTo>
                    <a:lnTo>
                      <a:pt x="103" y="229"/>
                    </a:lnTo>
                    <a:lnTo>
                      <a:pt x="103" y="229"/>
                    </a:lnTo>
                    <a:lnTo>
                      <a:pt x="103" y="222"/>
                    </a:lnTo>
                    <a:lnTo>
                      <a:pt x="103" y="222"/>
                    </a:lnTo>
                    <a:lnTo>
                      <a:pt x="103" y="229"/>
                    </a:lnTo>
                    <a:lnTo>
                      <a:pt x="103" y="222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2"/>
                    </a:lnTo>
                    <a:lnTo>
                      <a:pt x="96" y="222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89" y="229"/>
                    </a:lnTo>
                    <a:lnTo>
                      <a:pt x="89" y="229"/>
                    </a:lnTo>
                    <a:lnTo>
                      <a:pt x="89" y="222"/>
                    </a:lnTo>
                    <a:lnTo>
                      <a:pt x="89" y="222"/>
                    </a:lnTo>
                    <a:lnTo>
                      <a:pt x="89" y="222"/>
                    </a:lnTo>
                    <a:lnTo>
                      <a:pt x="89" y="229"/>
                    </a:lnTo>
                    <a:lnTo>
                      <a:pt x="89" y="222"/>
                    </a:lnTo>
                    <a:lnTo>
                      <a:pt x="89" y="222"/>
                    </a:lnTo>
                    <a:lnTo>
                      <a:pt x="82" y="222"/>
                    </a:lnTo>
                    <a:lnTo>
                      <a:pt x="82" y="229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9"/>
                    </a:lnTo>
                    <a:lnTo>
                      <a:pt x="82" y="229"/>
                    </a:lnTo>
                    <a:lnTo>
                      <a:pt x="82" y="229"/>
                    </a:lnTo>
                    <a:lnTo>
                      <a:pt x="75" y="229"/>
                    </a:lnTo>
                    <a:lnTo>
                      <a:pt x="75" y="222"/>
                    </a:lnTo>
                    <a:lnTo>
                      <a:pt x="75" y="229"/>
                    </a:lnTo>
                    <a:lnTo>
                      <a:pt x="75" y="222"/>
                    </a:lnTo>
                    <a:lnTo>
                      <a:pt x="75" y="222"/>
                    </a:lnTo>
                    <a:lnTo>
                      <a:pt x="75" y="222"/>
                    </a:lnTo>
                    <a:lnTo>
                      <a:pt x="75" y="222"/>
                    </a:lnTo>
                    <a:lnTo>
                      <a:pt x="75" y="229"/>
                    </a:lnTo>
                    <a:lnTo>
                      <a:pt x="75" y="229"/>
                    </a:lnTo>
                    <a:lnTo>
                      <a:pt x="75" y="222"/>
                    </a:lnTo>
                    <a:lnTo>
                      <a:pt x="68" y="229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48" y="222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08"/>
                    </a:lnTo>
                    <a:lnTo>
                      <a:pt x="13" y="208"/>
                    </a:lnTo>
                    <a:lnTo>
                      <a:pt x="13" y="208"/>
                    </a:lnTo>
                    <a:lnTo>
                      <a:pt x="13" y="208"/>
                    </a:lnTo>
                    <a:lnTo>
                      <a:pt x="13" y="208"/>
                    </a:lnTo>
                    <a:lnTo>
                      <a:pt x="20" y="208"/>
                    </a:lnTo>
                    <a:lnTo>
                      <a:pt x="20" y="208"/>
                    </a:lnTo>
                    <a:lnTo>
                      <a:pt x="20" y="202"/>
                    </a:lnTo>
                    <a:lnTo>
                      <a:pt x="20" y="202"/>
                    </a:lnTo>
                    <a:lnTo>
                      <a:pt x="20" y="202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88"/>
                    </a:lnTo>
                    <a:lnTo>
                      <a:pt x="20" y="188"/>
                    </a:lnTo>
                    <a:lnTo>
                      <a:pt x="20" y="188"/>
                    </a:lnTo>
                    <a:lnTo>
                      <a:pt x="20" y="188"/>
                    </a:lnTo>
                    <a:lnTo>
                      <a:pt x="20" y="188"/>
                    </a:lnTo>
                    <a:lnTo>
                      <a:pt x="20" y="181"/>
                    </a:lnTo>
                    <a:lnTo>
                      <a:pt x="20" y="181"/>
                    </a:lnTo>
                    <a:lnTo>
                      <a:pt x="27" y="181"/>
                    </a:lnTo>
                    <a:lnTo>
                      <a:pt x="27" y="181"/>
                    </a:lnTo>
                    <a:lnTo>
                      <a:pt x="27" y="181"/>
                    </a:lnTo>
                    <a:lnTo>
                      <a:pt x="20" y="181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67"/>
                    </a:lnTo>
                    <a:lnTo>
                      <a:pt x="20" y="167"/>
                    </a:lnTo>
                    <a:lnTo>
                      <a:pt x="20" y="167"/>
                    </a:lnTo>
                    <a:lnTo>
                      <a:pt x="20" y="167"/>
                    </a:lnTo>
                    <a:lnTo>
                      <a:pt x="20" y="160"/>
                    </a:lnTo>
                    <a:lnTo>
                      <a:pt x="20" y="160"/>
                    </a:lnTo>
                    <a:lnTo>
                      <a:pt x="20" y="160"/>
                    </a:lnTo>
                    <a:lnTo>
                      <a:pt x="20" y="160"/>
                    </a:lnTo>
                    <a:lnTo>
                      <a:pt x="20" y="160"/>
                    </a:lnTo>
                    <a:lnTo>
                      <a:pt x="20" y="153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0" y="146"/>
                    </a:lnTo>
                    <a:lnTo>
                      <a:pt x="20" y="146"/>
                    </a:lnTo>
                    <a:lnTo>
                      <a:pt x="27" y="139"/>
                    </a:lnTo>
                    <a:lnTo>
                      <a:pt x="27" y="139"/>
                    </a:lnTo>
                    <a:lnTo>
                      <a:pt x="27" y="139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25"/>
                    </a:lnTo>
                    <a:lnTo>
                      <a:pt x="27" y="125"/>
                    </a:lnTo>
                    <a:lnTo>
                      <a:pt x="27" y="125"/>
                    </a:lnTo>
                    <a:lnTo>
                      <a:pt x="27" y="118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27" y="118"/>
                    </a:lnTo>
                    <a:lnTo>
                      <a:pt x="27" y="118"/>
                    </a:lnTo>
                    <a:lnTo>
                      <a:pt x="27" y="118"/>
                    </a:lnTo>
                    <a:lnTo>
                      <a:pt x="27" y="118"/>
                    </a:lnTo>
                    <a:lnTo>
                      <a:pt x="27" y="111"/>
                    </a:lnTo>
                    <a:lnTo>
                      <a:pt x="27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7" y="111"/>
                    </a:lnTo>
                    <a:lnTo>
                      <a:pt x="27" y="111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97"/>
                    </a:lnTo>
                    <a:lnTo>
                      <a:pt x="20" y="97"/>
                    </a:lnTo>
                    <a:lnTo>
                      <a:pt x="20" y="97"/>
                    </a:lnTo>
                    <a:lnTo>
                      <a:pt x="27" y="97"/>
                    </a:lnTo>
                    <a:lnTo>
                      <a:pt x="27" y="97"/>
                    </a:lnTo>
                    <a:lnTo>
                      <a:pt x="27" y="97"/>
                    </a:lnTo>
                    <a:lnTo>
                      <a:pt x="27" y="97"/>
                    </a:lnTo>
                    <a:lnTo>
                      <a:pt x="20" y="97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0" y="97"/>
                    </a:lnTo>
                    <a:lnTo>
                      <a:pt x="20" y="97"/>
                    </a:lnTo>
                    <a:lnTo>
                      <a:pt x="20" y="97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13" y="91"/>
                    </a:lnTo>
                    <a:lnTo>
                      <a:pt x="13" y="84"/>
                    </a:lnTo>
                    <a:lnTo>
                      <a:pt x="13" y="84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7" y="70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7" y="42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7" y="14"/>
                    </a:lnTo>
                    <a:lnTo>
                      <a:pt x="1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556440" y="3636720"/>
                <a:ext cx="1211400" cy="1061280"/>
              </a:xfrm>
              <a:custGeom>
                <a:avLst/>
                <a:gdLst/>
                <a:ahLst/>
                <a:rect l="l" t="t" r="r" b="b"/>
                <a:pathLst>
                  <a:path w="962" h="902">
                    <a:moveTo>
                      <a:pt x="0" y="159"/>
                    </a:move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14" y="132"/>
                    </a:lnTo>
                    <a:lnTo>
                      <a:pt x="14" y="132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0" y="125"/>
                    </a:lnTo>
                    <a:lnTo>
                      <a:pt x="0" y="125"/>
                    </a:lnTo>
                    <a:lnTo>
                      <a:pt x="62" y="125"/>
                    </a:lnTo>
                    <a:lnTo>
                      <a:pt x="69" y="125"/>
                    </a:lnTo>
                    <a:lnTo>
                      <a:pt x="69" y="125"/>
                    </a:lnTo>
                    <a:lnTo>
                      <a:pt x="103" y="125"/>
                    </a:lnTo>
                    <a:lnTo>
                      <a:pt x="151" y="125"/>
                    </a:lnTo>
                    <a:lnTo>
                      <a:pt x="213" y="125"/>
                    </a:lnTo>
                    <a:lnTo>
                      <a:pt x="213" y="125"/>
                    </a:lnTo>
                    <a:lnTo>
                      <a:pt x="261" y="125"/>
                    </a:lnTo>
                    <a:lnTo>
                      <a:pt x="268" y="125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75" y="118"/>
                    </a:lnTo>
                    <a:lnTo>
                      <a:pt x="275" y="118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68" y="118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0"/>
                    </a:lnTo>
                    <a:lnTo>
                      <a:pt x="268" y="90"/>
                    </a:lnTo>
                    <a:lnTo>
                      <a:pt x="275" y="90"/>
                    </a:lnTo>
                    <a:lnTo>
                      <a:pt x="275" y="90"/>
                    </a:lnTo>
                    <a:lnTo>
                      <a:pt x="275" y="90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69"/>
                    </a:lnTo>
                    <a:lnTo>
                      <a:pt x="275" y="69"/>
                    </a:lnTo>
                    <a:lnTo>
                      <a:pt x="275" y="69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75" y="55"/>
                    </a:lnTo>
                    <a:lnTo>
                      <a:pt x="275" y="55"/>
                    </a:lnTo>
                    <a:lnTo>
                      <a:pt x="275" y="55"/>
                    </a:lnTo>
                    <a:lnTo>
                      <a:pt x="275" y="48"/>
                    </a:lnTo>
                    <a:lnTo>
                      <a:pt x="275" y="48"/>
                    </a:lnTo>
                    <a:lnTo>
                      <a:pt x="275" y="48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34"/>
                    </a:lnTo>
                    <a:lnTo>
                      <a:pt x="282" y="34"/>
                    </a:lnTo>
                    <a:lnTo>
                      <a:pt x="282" y="34"/>
                    </a:lnTo>
                    <a:lnTo>
                      <a:pt x="282" y="34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7"/>
                    </a:lnTo>
                    <a:lnTo>
                      <a:pt x="289" y="0"/>
                    </a:lnTo>
                    <a:lnTo>
                      <a:pt x="296" y="0"/>
                    </a:lnTo>
                    <a:lnTo>
                      <a:pt x="296" y="0"/>
                    </a:lnTo>
                    <a:lnTo>
                      <a:pt x="296" y="0"/>
                    </a:lnTo>
                    <a:lnTo>
                      <a:pt x="302" y="0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9" y="14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16" y="28"/>
                    </a:lnTo>
                    <a:lnTo>
                      <a:pt x="316" y="34"/>
                    </a:lnTo>
                    <a:lnTo>
                      <a:pt x="316" y="34"/>
                    </a:lnTo>
                    <a:lnTo>
                      <a:pt x="316" y="41"/>
                    </a:lnTo>
                    <a:lnTo>
                      <a:pt x="316" y="41"/>
                    </a:lnTo>
                    <a:lnTo>
                      <a:pt x="316" y="48"/>
                    </a:lnTo>
                    <a:lnTo>
                      <a:pt x="316" y="48"/>
                    </a:lnTo>
                    <a:lnTo>
                      <a:pt x="323" y="55"/>
                    </a:lnTo>
                    <a:lnTo>
                      <a:pt x="323" y="55"/>
                    </a:lnTo>
                    <a:lnTo>
                      <a:pt x="330" y="62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7" y="69"/>
                    </a:lnTo>
                    <a:lnTo>
                      <a:pt x="337" y="76"/>
                    </a:lnTo>
                    <a:lnTo>
                      <a:pt x="337" y="76"/>
                    </a:lnTo>
                    <a:lnTo>
                      <a:pt x="330" y="76"/>
                    </a:lnTo>
                    <a:lnTo>
                      <a:pt x="330" y="76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90"/>
                    </a:lnTo>
                    <a:lnTo>
                      <a:pt x="330" y="90"/>
                    </a:lnTo>
                    <a:lnTo>
                      <a:pt x="330" y="90"/>
                    </a:lnTo>
                    <a:lnTo>
                      <a:pt x="337" y="90"/>
                    </a:lnTo>
                    <a:lnTo>
                      <a:pt x="337" y="97"/>
                    </a:lnTo>
                    <a:lnTo>
                      <a:pt x="330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8"/>
                    </a:lnTo>
                    <a:lnTo>
                      <a:pt x="337" y="118"/>
                    </a:lnTo>
                    <a:lnTo>
                      <a:pt x="344" y="118"/>
                    </a:lnTo>
                    <a:lnTo>
                      <a:pt x="344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25"/>
                    </a:lnTo>
                    <a:lnTo>
                      <a:pt x="357" y="125"/>
                    </a:lnTo>
                    <a:lnTo>
                      <a:pt x="351" y="125"/>
                    </a:lnTo>
                    <a:lnTo>
                      <a:pt x="357" y="125"/>
                    </a:lnTo>
                    <a:lnTo>
                      <a:pt x="357" y="125"/>
                    </a:lnTo>
                    <a:lnTo>
                      <a:pt x="357" y="125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8" y="139"/>
                    </a:lnTo>
                    <a:lnTo>
                      <a:pt x="385" y="139"/>
                    </a:lnTo>
                    <a:lnTo>
                      <a:pt x="385" y="139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9"/>
                    </a:lnTo>
                    <a:lnTo>
                      <a:pt x="385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9" y="159"/>
                    </a:lnTo>
                    <a:lnTo>
                      <a:pt x="399" y="159"/>
                    </a:lnTo>
                    <a:lnTo>
                      <a:pt x="399" y="159"/>
                    </a:lnTo>
                    <a:lnTo>
                      <a:pt x="405" y="159"/>
                    </a:lnTo>
                    <a:lnTo>
                      <a:pt x="405" y="159"/>
                    </a:lnTo>
                    <a:lnTo>
                      <a:pt x="405" y="159"/>
                    </a:lnTo>
                    <a:lnTo>
                      <a:pt x="405" y="166"/>
                    </a:lnTo>
                    <a:lnTo>
                      <a:pt x="405" y="166"/>
                    </a:lnTo>
                    <a:lnTo>
                      <a:pt x="405" y="166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9" y="166"/>
                    </a:lnTo>
                    <a:lnTo>
                      <a:pt x="453" y="173"/>
                    </a:lnTo>
                    <a:lnTo>
                      <a:pt x="460" y="173"/>
                    </a:lnTo>
                    <a:lnTo>
                      <a:pt x="495" y="173"/>
                    </a:lnTo>
                    <a:lnTo>
                      <a:pt x="556" y="180"/>
                    </a:lnTo>
                    <a:lnTo>
                      <a:pt x="584" y="180"/>
                    </a:lnTo>
                    <a:lnTo>
                      <a:pt x="591" y="180"/>
                    </a:lnTo>
                    <a:lnTo>
                      <a:pt x="632" y="187"/>
                    </a:lnTo>
                    <a:lnTo>
                      <a:pt x="680" y="187"/>
                    </a:lnTo>
                    <a:lnTo>
                      <a:pt x="714" y="194"/>
                    </a:lnTo>
                    <a:lnTo>
                      <a:pt x="756" y="194"/>
                    </a:lnTo>
                    <a:lnTo>
                      <a:pt x="762" y="194"/>
                    </a:lnTo>
                    <a:lnTo>
                      <a:pt x="790" y="201"/>
                    </a:lnTo>
                    <a:lnTo>
                      <a:pt x="859" y="201"/>
                    </a:lnTo>
                    <a:lnTo>
                      <a:pt x="872" y="201"/>
                    </a:lnTo>
                    <a:lnTo>
                      <a:pt x="893" y="208"/>
                    </a:lnTo>
                    <a:lnTo>
                      <a:pt x="913" y="208"/>
                    </a:lnTo>
                    <a:lnTo>
                      <a:pt x="962" y="208"/>
                    </a:lnTo>
                    <a:lnTo>
                      <a:pt x="962" y="208"/>
                    </a:lnTo>
                    <a:lnTo>
                      <a:pt x="962" y="215"/>
                    </a:lnTo>
                    <a:lnTo>
                      <a:pt x="962" y="215"/>
                    </a:lnTo>
                    <a:lnTo>
                      <a:pt x="962" y="215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48" y="229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43"/>
                    </a:lnTo>
                    <a:lnTo>
                      <a:pt x="948" y="243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56"/>
                    </a:lnTo>
                    <a:lnTo>
                      <a:pt x="941" y="256"/>
                    </a:lnTo>
                    <a:lnTo>
                      <a:pt x="941" y="256"/>
                    </a:lnTo>
                    <a:lnTo>
                      <a:pt x="941" y="256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34" y="263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27" y="277"/>
                    </a:lnTo>
                    <a:lnTo>
                      <a:pt x="927" y="277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91"/>
                    </a:lnTo>
                    <a:lnTo>
                      <a:pt x="934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8"/>
                    </a:lnTo>
                    <a:lnTo>
                      <a:pt x="927" y="298"/>
                    </a:lnTo>
                    <a:lnTo>
                      <a:pt x="934" y="298"/>
                    </a:lnTo>
                    <a:lnTo>
                      <a:pt x="934" y="298"/>
                    </a:lnTo>
                    <a:lnTo>
                      <a:pt x="927" y="298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7"/>
                    </a:lnTo>
                    <a:lnTo>
                      <a:pt x="920" y="347"/>
                    </a:lnTo>
                    <a:lnTo>
                      <a:pt x="920" y="347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7" y="354"/>
                    </a:lnTo>
                    <a:lnTo>
                      <a:pt x="927" y="354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7"/>
                    </a:lnTo>
                    <a:lnTo>
                      <a:pt x="927" y="367"/>
                    </a:lnTo>
                    <a:lnTo>
                      <a:pt x="927" y="367"/>
                    </a:lnTo>
                    <a:lnTo>
                      <a:pt x="920" y="367"/>
                    </a:lnTo>
                    <a:lnTo>
                      <a:pt x="920" y="367"/>
                    </a:lnTo>
                    <a:lnTo>
                      <a:pt x="920" y="367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81"/>
                    </a:lnTo>
                    <a:lnTo>
                      <a:pt x="927" y="381"/>
                    </a:lnTo>
                    <a:lnTo>
                      <a:pt x="927" y="381"/>
                    </a:lnTo>
                    <a:lnTo>
                      <a:pt x="927" y="381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0" y="388"/>
                    </a:lnTo>
                    <a:lnTo>
                      <a:pt x="920" y="395"/>
                    </a:lnTo>
                    <a:lnTo>
                      <a:pt x="927" y="395"/>
                    </a:lnTo>
                    <a:lnTo>
                      <a:pt x="920" y="395"/>
                    </a:lnTo>
                    <a:lnTo>
                      <a:pt x="920" y="395"/>
                    </a:lnTo>
                    <a:lnTo>
                      <a:pt x="927" y="395"/>
                    </a:lnTo>
                    <a:lnTo>
                      <a:pt x="927" y="402"/>
                    </a:lnTo>
                    <a:lnTo>
                      <a:pt x="927" y="402"/>
                    </a:lnTo>
                    <a:lnTo>
                      <a:pt x="927" y="402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7" y="409"/>
                    </a:lnTo>
                    <a:lnTo>
                      <a:pt x="927" y="409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7"/>
                    </a:lnTo>
                    <a:lnTo>
                      <a:pt x="927" y="437"/>
                    </a:lnTo>
                    <a:lnTo>
                      <a:pt x="927" y="437"/>
                    </a:lnTo>
                    <a:lnTo>
                      <a:pt x="920" y="444"/>
                    </a:lnTo>
                    <a:lnTo>
                      <a:pt x="927" y="444"/>
                    </a:lnTo>
                    <a:lnTo>
                      <a:pt x="927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7" y="444"/>
                    </a:lnTo>
                    <a:lnTo>
                      <a:pt x="927" y="444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65"/>
                    </a:lnTo>
                    <a:lnTo>
                      <a:pt x="927" y="465"/>
                    </a:lnTo>
                    <a:lnTo>
                      <a:pt x="927" y="458"/>
                    </a:lnTo>
                    <a:lnTo>
                      <a:pt x="934" y="458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41" y="465"/>
                    </a:lnTo>
                    <a:lnTo>
                      <a:pt x="941" y="465"/>
                    </a:lnTo>
                    <a:lnTo>
                      <a:pt x="941" y="465"/>
                    </a:lnTo>
                    <a:lnTo>
                      <a:pt x="934" y="471"/>
                    </a:lnTo>
                    <a:lnTo>
                      <a:pt x="934" y="471"/>
                    </a:lnTo>
                    <a:lnTo>
                      <a:pt x="934" y="471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27" y="478"/>
                    </a:lnTo>
                    <a:lnTo>
                      <a:pt x="927" y="485"/>
                    </a:lnTo>
                    <a:lnTo>
                      <a:pt x="927" y="485"/>
                    </a:lnTo>
                    <a:lnTo>
                      <a:pt x="934" y="485"/>
                    </a:lnTo>
                    <a:lnTo>
                      <a:pt x="934" y="485"/>
                    </a:lnTo>
                    <a:lnTo>
                      <a:pt x="934" y="492"/>
                    </a:lnTo>
                    <a:lnTo>
                      <a:pt x="934" y="492"/>
                    </a:lnTo>
                    <a:lnTo>
                      <a:pt x="927" y="492"/>
                    </a:lnTo>
                    <a:lnTo>
                      <a:pt x="927" y="492"/>
                    </a:lnTo>
                    <a:lnTo>
                      <a:pt x="934" y="492"/>
                    </a:lnTo>
                    <a:lnTo>
                      <a:pt x="934" y="492"/>
                    </a:lnTo>
                    <a:lnTo>
                      <a:pt x="934" y="499"/>
                    </a:lnTo>
                    <a:lnTo>
                      <a:pt x="927" y="499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13"/>
                    </a:lnTo>
                    <a:lnTo>
                      <a:pt x="927" y="513"/>
                    </a:lnTo>
                    <a:lnTo>
                      <a:pt x="927" y="513"/>
                    </a:lnTo>
                    <a:lnTo>
                      <a:pt x="920" y="513"/>
                    </a:lnTo>
                    <a:lnTo>
                      <a:pt x="920" y="520"/>
                    </a:lnTo>
                    <a:lnTo>
                      <a:pt x="920" y="520"/>
                    </a:lnTo>
                    <a:lnTo>
                      <a:pt x="920" y="520"/>
                    </a:lnTo>
                    <a:lnTo>
                      <a:pt x="913" y="520"/>
                    </a:lnTo>
                    <a:lnTo>
                      <a:pt x="913" y="527"/>
                    </a:lnTo>
                    <a:lnTo>
                      <a:pt x="913" y="527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07" y="534"/>
                    </a:lnTo>
                    <a:lnTo>
                      <a:pt x="907" y="541"/>
                    </a:lnTo>
                    <a:lnTo>
                      <a:pt x="907" y="541"/>
                    </a:lnTo>
                    <a:lnTo>
                      <a:pt x="907" y="541"/>
                    </a:lnTo>
                    <a:lnTo>
                      <a:pt x="907" y="548"/>
                    </a:lnTo>
                    <a:lnTo>
                      <a:pt x="907" y="548"/>
                    </a:lnTo>
                    <a:lnTo>
                      <a:pt x="907" y="548"/>
                    </a:lnTo>
                    <a:lnTo>
                      <a:pt x="913" y="548"/>
                    </a:lnTo>
                    <a:lnTo>
                      <a:pt x="913" y="555"/>
                    </a:lnTo>
                    <a:lnTo>
                      <a:pt x="907" y="555"/>
                    </a:lnTo>
                    <a:lnTo>
                      <a:pt x="913" y="555"/>
                    </a:lnTo>
                    <a:lnTo>
                      <a:pt x="907" y="555"/>
                    </a:lnTo>
                    <a:lnTo>
                      <a:pt x="907" y="555"/>
                    </a:lnTo>
                    <a:lnTo>
                      <a:pt x="907" y="562"/>
                    </a:lnTo>
                    <a:lnTo>
                      <a:pt x="907" y="562"/>
                    </a:lnTo>
                    <a:lnTo>
                      <a:pt x="907" y="562"/>
                    </a:lnTo>
                    <a:lnTo>
                      <a:pt x="913" y="569"/>
                    </a:lnTo>
                    <a:lnTo>
                      <a:pt x="913" y="569"/>
                    </a:lnTo>
                    <a:lnTo>
                      <a:pt x="913" y="569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7" y="569"/>
                    </a:lnTo>
                    <a:lnTo>
                      <a:pt x="907" y="569"/>
                    </a:lnTo>
                    <a:lnTo>
                      <a:pt x="907" y="569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0" y="576"/>
                    </a:lnTo>
                    <a:lnTo>
                      <a:pt x="900" y="582"/>
                    </a:lnTo>
                    <a:lnTo>
                      <a:pt x="900" y="582"/>
                    </a:lnTo>
                    <a:lnTo>
                      <a:pt x="900" y="582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96"/>
                    </a:lnTo>
                    <a:lnTo>
                      <a:pt x="900" y="596"/>
                    </a:lnTo>
                    <a:lnTo>
                      <a:pt x="893" y="596"/>
                    </a:lnTo>
                    <a:lnTo>
                      <a:pt x="900" y="596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10"/>
                    </a:lnTo>
                    <a:lnTo>
                      <a:pt x="900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31"/>
                    </a:lnTo>
                    <a:lnTo>
                      <a:pt x="893" y="631"/>
                    </a:lnTo>
                    <a:lnTo>
                      <a:pt x="893" y="631"/>
                    </a:lnTo>
                    <a:lnTo>
                      <a:pt x="886" y="631"/>
                    </a:lnTo>
                    <a:lnTo>
                      <a:pt x="893" y="638"/>
                    </a:lnTo>
                    <a:lnTo>
                      <a:pt x="886" y="638"/>
                    </a:lnTo>
                    <a:lnTo>
                      <a:pt x="886" y="638"/>
                    </a:lnTo>
                    <a:lnTo>
                      <a:pt x="893" y="638"/>
                    </a:lnTo>
                    <a:lnTo>
                      <a:pt x="893" y="638"/>
                    </a:lnTo>
                    <a:lnTo>
                      <a:pt x="886" y="638"/>
                    </a:lnTo>
                    <a:lnTo>
                      <a:pt x="886" y="645"/>
                    </a:lnTo>
                    <a:lnTo>
                      <a:pt x="886" y="645"/>
                    </a:lnTo>
                    <a:lnTo>
                      <a:pt x="879" y="645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45"/>
                    </a:lnTo>
                    <a:lnTo>
                      <a:pt x="872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59" y="645"/>
                    </a:lnTo>
                    <a:lnTo>
                      <a:pt x="859" y="645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2" y="652"/>
                    </a:lnTo>
                    <a:lnTo>
                      <a:pt x="852" y="652"/>
                    </a:lnTo>
                    <a:lnTo>
                      <a:pt x="852" y="652"/>
                    </a:lnTo>
                    <a:lnTo>
                      <a:pt x="852" y="659"/>
                    </a:lnTo>
                    <a:lnTo>
                      <a:pt x="845" y="659"/>
                    </a:lnTo>
                    <a:lnTo>
                      <a:pt x="845" y="659"/>
                    </a:lnTo>
                    <a:lnTo>
                      <a:pt x="845" y="659"/>
                    </a:lnTo>
                    <a:lnTo>
                      <a:pt x="838" y="659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45" y="666"/>
                    </a:lnTo>
                    <a:lnTo>
                      <a:pt x="845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1" y="687"/>
                    </a:lnTo>
                    <a:lnTo>
                      <a:pt x="831" y="693"/>
                    </a:lnTo>
                    <a:lnTo>
                      <a:pt x="838" y="693"/>
                    </a:lnTo>
                    <a:lnTo>
                      <a:pt x="838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7"/>
                    </a:lnTo>
                    <a:lnTo>
                      <a:pt x="831" y="707"/>
                    </a:lnTo>
                    <a:lnTo>
                      <a:pt x="824" y="707"/>
                    </a:lnTo>
                    <a:lnTo>
                      <a:pt x="824" y="707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1" y="714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797" y="721"/>
                    </a:lnTo>
                    <a:lnTo>
                      <a:pt x="797" y="721"/>
                    </a:lnTo>
                    <a:lnTo>
                      <a:pt x="790" y="721"/>
                    </a:lnTo>
                    <a:lnTo>
                      <a:pt x="790" y="721"/>
                    </a:lnTo>
                    <a:lnTo>
                      <a:pt x="790" y="721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83" y="728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42"/>
                    </a:lnTo>
                    <a:lnTo>
                      <a:pt x="783" y="742"/>
                    </a:lnTo>
                    <a:lnTo>
                      <a:pt x="776" y="742"/>
                    </a:lnTo>
                    <a:lnTo>
                      <a:pt x="776" y="742"/>
                    </a:lnTo>
                    <a:lnTo>
                      <a:pt x="776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2" y="742"/>
                    </a:lnTo>
                    <a:lnTo>
                      <a:pt x="769" y="749"/>
                    </a:lnTo>
                    <a:lnTo>
                      <a:pt x="762" y="749"/>
                    </a:lnTo>
                    <a:lnTo>
                      <a:pt x="769" y="749"/>
                    </a:lnTo>
                    <a:lnTo>
                      <a:pt x="762" y="749"/>
                    </a:lnTo>
                    <a:lnTo>
                      <a:pt x="762" y="749"/>
                    </a:lnTo>
                    <a:lnTo>
                      <a:pt x="762" y="749"/>
                    </a:lnTo>
                    <a:lnTo>
                      <a:pt x="769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49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70"/>
                    </a:lnTo>
                    <a:lnTo>
                      <a:pt x="756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84"/>
                    </a:lnTo>
                    <a:lnTo>
                      <a:pt x="756" y="777"/>
                    </a:lnTo>
                    <a:lnTo>
                      <a:pt x="749" y="777"/>
                    </a:lnTo>
                    <a:lnTo>
                      <a:pt x="749" y="777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2" y="791"/>
                    </a:lnTo>
                    <a:lnTo>
                      <a:pt x="742" y="791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1" y="811"/>
                    </a:lnTo>
                    <a:lnTo>
                      <a:pt x="721" y="811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95"/>
                    </a:lnTo>
                    <a:lnTo>
                      <a:pt x="714" y="895"/>
                    </a:lnTo>
                    <a:lnTo>
                      <a:pt x="721" y="895"/>
                    </a:lnTo>
                    <a:lnTo>
                      <a:pt x="721" y="895"/>
                    </a:lnTo>
                    <a:lnTo>
                      <a:pt x="721" y="895"/>
                    </a:lnTo>
                    <a:lnTo>
                      <a:pt x="721" y="902"/>
                    </a:lnTo>
                    <a:lnTo>
                      <a:pt x="721" y="902"/>
                    </a:lnTo>
                    <a:lnTo>
                      <a:pt x="714" y="902"/>
                    </a:lnTo>
                    <a:lnTo>
                      <a:pt x="714" y="902"/>
                    </a:lnTo>
                    <a:lnTo>
                      <a:pt x="714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895"/>
                    </a:lnTo>
                    <a:lnTo>
                      <a:pt x="673" y="895"/>
                    </a:lnTo>
                    <a:lnTo>
                      <a:pt x="673" y="895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74"/>
                    </a:lnTo>
                    <a:lnTo>
                      <a:pt x="653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73" y="839"/>
                    </a:lnTo>
                    <a:lnTo>
                      <a:pt x="666" y="839"/>
                    </a:lnTo>
                    <a:lnTo>
                      <a:pt x="666" y="832"/>
                    </a:lnTo>
                    <a:lnTo>
                      <a:pt x="666" y="832"/>
                    </a:lnTo>
                    <a:lnTo>
                      <a:pt x="666" y="832"/>
                    </a:lnTo>
                    <a:lnTo>
                      <a:pt x="666" y="839"/>
                    </a:lnTo>
                    <a:lnTo>
                      <a:pt x="666" y="839"/>
                    </a:lnTo>
                    <a:lnTo>
                      <a:pt x="666" y="839"/>
                    </a:lnTo>
                    <a:lnTo>
                      <a:pt x="659" y="839"/>
                    </a:lnTo>
                    <a:lnTo>
                      <a:pt x="659" y="839"/>
                    </a:lnTo>
                    <a:lnTo>
                      <a:pt x="659" y="839"/>
                    </a:lnTo>
                    <a:lnTo>
                      <a:pt x="659" y="839"/>
                    </a:lnTo>
                    <a:lnTo>
                      <a:pt x="659" y="839"/>
                    </a:lnTo>
                    <a:lnTo>
                      <a:pt x="659" y="846"/>
                    </a:lnTo>
                    <a:lnTo>
                      <a:pt x="659" y="846"/>
                    </a:lnTo>
                    <a:lnTo>
                      <a:pt x="659" y="846"/>
                    </a:lnTo>
                    <a:lnTo>
                      <a:pt x="653" y="846"/>
                    </a:lnTo>
                    <a:lnTo>
                      <a:pt x="653" y="846"/>
                    </a:lnTo>
                    <a:lnTo>
                      <a:pt x="653" y="853"/>
                    </a:lnTo>
                    <a:lnTo>
                      <a:pt x="653" y="853"/>
                    </a:lnTo>
                    <a:lnTo>
                      <a:pt x="653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39" y="853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7"/>
                    </a:lnTo>
                    <a:lnTo>
                      <a:pt x="639" y="867"/>
                    </a:lnTo>
                    <a:lnTo>
                      <a:pt x="639" y="867"/>
                    </a:lnTo>
                    <a:lnTo>
                      <a:pt x="639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1" y="874"/>
                    </a:lnTo>
                    <a:lnTo>
                      <a:pt x="611" y="874"/>
                    </a:lnTo>
                    <a:lnTo>
                      <a:pt x="611" y="874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0"/>
                    </a:lnTo>
                    <a:lnTo>
                      <a:pt x="611" y="860"/>
                    </a:lnTo>
                    <a:lnTo>
                      <a:pt x="611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598" y="853"/>
                    </a:lnTo>
                    <a:lnTo>
                      <a:pt x="598" y="860"/>
                    </a:lnTo>
                    <a:lnTo>
                      <a:pt x="598" y="853"/>
                    </a:lnTo>
                    <a:lnTo>
                      <a:pt x="598" y="853"/>
                    </a:lnTo>
                    <a:lnTo>
                      <a:pt x="598" y="860"/>
                    </a:lnTo>
                    <a:lnTo>
                      <a:pt x="598" y="853"/>
                    </a:lnTo>
                    <a:lnTo>
                      <a:pt x="598" y="860"/>
                    </a:lnTo>
                    <a:lnTo>
                      <a:pt x="598" y="853"/>
                    </a:lnTo>
                    <a:lnTo>
                      <a:pt x="591" y="853"/>
                    </a:lnTo>
                    <a:lnTo>
                      <a:pt x="591" y="853"/>
                    </a:lnTo>
                    <a:lnTo>
                      <a:pt x="591" y="853"/>
                    </a:lnTo>
                    <a:lnTo>
                      <a:pt x="591" y="860"/>
                    </a:lnTo>
                    <a:lnTo>
                      <a:pt x="591" y="860"/>
                    </a:lnTo>
                    <a:lnTo>
                      <a:pt x="591" y="860"/>
                    </a:lnTo>
                    <a:lnTo>
                      <a:pt x="591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77" y="860"/>
                    </a:lnTo>
                    <a:lnTo>
                      <a:pt x="577" y="860"/>
                    </a:lnTo>
                    <a:lnTo>
                      <a:pt x="577" y="860"/>
                    </a:lnTo>
                    <a:lnTo>
                      <a:pt x="577" y="860"/>
                    </a:lnTo>
                    <a:lnTo>
                      <a:pt x="577" y="860"/>
                    </a:lnTo>
                    <a:lnTo>
                      <a:pt x="577" y="867"/>
                    </a:lnTo>
                    <a:lnTo>
                      <a:pt x="577" y="867"/>
                    </a:lnTo>
                    <a:lnTo>
                      <a:pt x="577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74"/>
                    </a:lnTo>
                    <a:lnTo>
                      <a:pt x="550" y="874"/>
                    </a:lnTo>
                    <a:lnTo>
                      <a:pt x="550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36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15" y="860"/>
                    </a:lnTo>
                    <a:lnTo>
                      <a:pt x="515" y="853"/>
                    </a:lnTo>
                    <a:lnTo>
                      <a:pt x="515" y="860"/>
                    </a:lnTo>
                    <a:lnTo>
                      <a:pt x="515" y="860"/>
                    </a:lnTo>
                    <a:lnTo>
                      <a:pt x="515" y="853"/>
                    </a:lnTo>
                    <a:lnTo>
                      <a:pt x="515" y="860"/>
                    </a:lnTo>
                    <a:lnTo>
                      <a:pt x="515" y="860"/>
                    </a:lnTo>
                    <a:lnTo>
                      <a:pt x="515" y="853"/>
                    </a:lnTo>
                    <a:lnTo>
                      <a:pt x="515" y="853"/>
                    </a:lnTo>
                    <a:lnTo>
                      <a:pt x="515" y="853"/>
                    </a:lnTo>
                    <a:lnTo>
                      <a:pt x="515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1" y="839"/>
                    </a:lnTo>
                    <a:lnTo>
                      <a:pt x="488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74" y="839"/>
                    </a:lnTo>
                    <a:lnTo>
                      <a:pt x="481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2"/>
                    </a:lnTo>
                    <a:lnTo>
                      <a:pt x="474" y="839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9"/>
                    </a:lnTo>
                    <a:lnTo>
                      <a:pt x="453" y="839"/>
                    </a:lnTo>
                    <a:lnTo>
                      <a:pt x="453" y="839"/>
                    </a:lnTo>
                    <a:lnTo>
                      <a:pt x="453" y="839"/>
                    </a:lnTo>
                    <a:lnTo>
                      <a:pt x="453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0" y="839"/>
                    </a:lnTo>
                    <a:lnTo>
                      <a:pt x="440" y="839"/>
                    </a:lnTo>
                    <a:lnTo>
                      <a:pt x="440" y="839"/>
                    </a:lnTo>
                    <a:lnTo>
                      <a:pt x="440" y="839"/>
                    </a:lnTo>
                    <a:lnTo>
                      <a:pt x="440" y="846"/>
                    </a:lnTo>
                    <a:lnTo>
                      <a:pt x="440" y="839"/>
                    </a:lnTo>
                    <a:lnTo>
                      <a:pt x="440" y="846"/>
                    </a:lnTo>
                    <a:lnTo>
                      <a:pt x="433" y="846"/>
                    </a:lnTo>
                    <a:lnTo>
                      <a:pt x="433" y="846"/>
                    </a:lnTo>
                    <a:lnTo>
                      <a:pt x="433" y="839"/>
                    </a:lnTo>
                    <a:lnTo>
                      <a:pt x="433" y="846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46"/>
                    </a:lnTo>
                    <a:lnTo>
                      <a:pt x="426" y="839"/>
                    </a:lnTo>
                    <a:lnTo>
                      <a:pt x="426" y="846"/>
                    </a:lnTo>
                    <a:lnTo>
                      <a:pt x="426" y="846"/>
                    </a:lnTo>
                    <a:lnTo>
                      <a:pt x="426" y="846"/>
                    </a:lnTo>
                    <a:lnTo>
                      <a:pt x="426" y="846"/>
                    </a:lnTo>
                    <a:lnTo>
                      <a:pt x="426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39"/>
                    </a:lnTo>
                    <a:lnTo>
                      <a:pt x="412" y="839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2" y="860"/>
                    </a:lnTo>
                    <a:lnTo>
                      <a:pt x="392" y="860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74"/>
                    </a:lnTo>
                    <a:lnTo>
                      <a:pt x="392" y="874"/>
                    </a:lnTo>
                    <a:lnTo>
                      <a:pt x="392" y="874"/>
                    </a:lnTo>
                    <a:lnTo>
                      <a:pt x="392" y="874"/>
                    </a:lnTo>
                    <a:lnTo>
                      <a:pt x="385" y="874"/>
                    </a:lnTo>
                    <a:lnTo>
                      <a:pt x="385" y="874"/>
                    </a:lnTo>
                    <a:lnTo>
                      <a:pt x="385" y="874"/>
                    </a:lnTo>
                    <a:lnTo>
                      <a:pt x="385" y="881"/>
                    </a:lnTo>
                    <a:lnTo>
                      <a:pt x="385" y="881"/>
                    </a:lnTo>
                    <a:lnTo>
                      <a:pt x="385" y="881"/>
                    </a:lnTo>
                    <a:lnTo>
                      <a:pt x="385" y="881"/>
                    </a:lnTo>
                    <a:lnTo>
                      <a:pt x="385" y="881"/>
                    </a:lnTo>
                    <a:lnTo>
                      <a:pt x="378" y="881"/>
                    </a:lnTo>
                    <a:lnTo>
                      <a:pt x="378" y="881"/>
                    </a:lnTo>
                    <a:lnTo>
                      <a:pt x="378" y="881"/>
                    </a:lnTo>
                    <a:lnTo>
                      <a:pt x="378" y="881"/>
                    </a:lnTo>
                    <a:lnTo>
                      <a:pt x="378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64" y="888"/>
                    </a:lnTo>
                    <a:lnTo>
                      <a:pt x="364" y="881"/>
                    </a:lnTo>
                    <a:lnTo>
                      <a:pt x="364" y="888"/>
                    </a:lnTo>
                    <a:lnTo>
                      <a:pt x="364" y="888"/>
                    </a:lnTo>
                    <a:lnTo>
                      <a:pt x="364" y="881"/>
                    </a:lnTo>
                    <a:lnTo>
                      <a:pt x="364" y="888"/>
                    </a:lnTo>
                    <a:lnTo>
                      <a:pt x="364" y="881"/>
                    </a:lnTo>
                    <a:lnTo>
                      <a:pt x="364" y="888"/>
                    </a:lnTo>
                    <a:lnTo>
                      <a:pt x="364" y="888"/>
                    </a:lnTo>
                    <a:lnTo>
                      <a:pt x="364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1" y="888"/>
                    </a:lnTo>
                    <a:lnTo>
                      <a:pt x="351" y="888"/>
                    </a:lnTo>
                    <a:lnTo>
                      <a:pt x="351" y="888"/>
                    </a:lnTo>
                    <a:lnTo>
                      <a:pt x="351" y="895"/>
                    </a:lnTo>
                    <a:lnTo>
                      <a:pt x="351" y="895"/>
                    </a:lnTo>
                    <a:lnTo>
                      <a:pt x="351" y="888"/>
                    </a:lnTo>
                    <a:lnTo>
                      <a:pt x="351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74"/>
                    </a:lnTo>
                    <a:lnTo>
                      <a:pt x="330" y="881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0"/>
                    </a:lnTo>
                    <a:lnTo>
                      <a:pt x="330" y="860"/>
                    </a:lnTo>
                    <a:lnTo>
                      <a:pt x="330" y="860"/>
                    </a:lnTo>
                    <a:lnTo>
                      <a:pt x="330" y="860"/>
                    </a:lnTo>
                    <a:lnTo>
                      <a:pt x="323" y="860"/>
                    </a:lnTo>
                    <a:lnTo>
                      <a:pt x="316" y="853"/>
                    </a:lnTo>
                    <a:lnTo>
                      <a:pt x="309" y="860"/>
                    </a:lnTo>
                    <a:lnTo>
                      <a:pt x="302" y="860"/>
                    </a:lnTo>
                    <a:lnTo>
                      <a:pt x="302" y="860"/>
                    </a:lnTo>
                    <a:lnTo>
                      <a:pt x="302" y="860"/>
                    </a:lnTo>
                    <a:lnTo>
                      <a:pt x="302" y="860"/>
                    </a:lnTo>
                    <a:lnTo>
                      <a:pt x="302" y="860"/>
                    </a:lnTo>
                    <a:lnTo>
                      <a:pt x="302" y="853"/>
                    </a:lnTo>
                    <a:lnTo>
                      <a:pt x="302" y="853"/>
                    </a:lnTo>
                    <a:lnTo>
                      <a:pt x="296" y="853"/>
                    </a:lnTo>
                    <a:lnTo>
                      <a:pt x="296" y="853"/>
                    </a:lnTo>
                    <a:lnTo>
                      <a:pt x="296" y="853"/>
                    </a:lnTo>
                    <a:lnTo>
                      <a:pt x="296" y="853"/>
                    </a:lnTo>
                    <a:lnTo>
                      <a:pt x="296" y="853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75" y="839"/>
                    </a:lnTo>
                    <a:lnTo>
                      <a:pt x="275" y="839"/>
                    </a:lnTo>
                    <a:lnTo>
                      <a:pt x="275" y="839"/>
                    </a:lnTo>
                    <a:lnTo>
                      <a:pt x="275" y="832"/>
                    </a:lnTo>
                    <a:lnTo>
                      <a:pt x="275" y="832"/>
                    </a:lnTo>
                    <a:lnTo>
                      <a:pt x="275" y="832"/>
                    </a:lnTo>
                    <a:lnTo>
                      <a:pt x="275" y="832"/>
                    </a:lnTo>
                    <a:lnTo>
                      <a:pt x="268" y="832"/>
                    </a:lnTo>
                    <a:lnTo>
                      <a:pt x="268" y="825"/>
                    </a:lnTo>
                    <a:lnTo>
                      <a:pt x="275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798"/>
                    </a:lnTo>
                    <a:lnTo>
                      <a:pt x="268" y="798"/>
                    </a:lnTo>
                    <a:lnTo>
                      <a:pt x="268" y="798"/>
                    </a:lnTo>
                    <a:lnTo>
                      <a:pt x="268" y="798"/>
                    </a:lnTo>
                    <a:lnTo>
                      <a:pt x="268" y="798"/>
                    </a:lnTo>
                    <a:lnTo>
                      <a:pt x="268" y="791"/>
                    </a:lnTo>
                    <a:lnTo>
                      <a:pt x="268" y="791"/>
                    </a:lnTo>
                    <a:lnTo>
                      <a:pt x="268" y="791"/>
                    </a:lnTo>
                    <a:lnTo>
                      <a:pt x="268" y="791"/>
                    </a:lnTo>
                    <a:lnTo>
                      <a:pt x="268" y="784"/>
                    </a:lnTo>
                    <a:lnTo>
                      <a:pt x="268" y="784"/>
                    </a:lnTo>
                    <a:lnTo>
                      <a:pt x="268" y="777"/>
                    </a:lnTo>
                    <a:lnTo>
                      <a:pt x="268" y="777"/>
                    </a:lnTo>
                    <a:lnTo>
                      <a:pt x="275" y="777"/>
                    </a:lnTo>
                    <a:lnTo>
                      <a:pt x="275" y="777"/>
                    </a:lnTo>
                    <a:lnTo>
                      <a:pt x="275" y="777"/>
                    </a:lnTo>
                    <a:lnTo>
                      <a:pt x="275" y="770"/>
                    </a:lnTo>
                    <a:lnTo>
                      <a:pt x="275" y="770"/>
                    </a:lnTo>
                    <a:lnTo>
                      <a:pt x="275" y="770"/>
                    </a:lnTo>
                    <a:lnTo>
                      <a:pt x="275" y="770"/>
                    </a:lnTo>
                    <a:lnTo>
                      <a:pt x="275" y="763"/>
                    </a:lnTo>
                    <a:lnTo>
                      <a:pt x="275" y="763"/>
                    </a:lnTo>
                    <a:lnTo>
                      <a:pt x="275" y="763"/>
                    </a:lnTo>
                    <a:lnTo>
                      <a:pt x="282" y="763"/>
                    </a:lnTo>
                    <a:lnTo>
                      <a:pt x="282" y="763"/>
                    </a:lnTo>
                    <a:lnTo>
                      <a:pt x="282" y="756"/>
                    </a:lnTo>
                    <a:lnTo>
                      <a:pt x="282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68" y="756"/>
                    </a:lnTo>
                    <a:lnTo>
                      <a:pt x="268" y="756"/>
                    </a:lnTo>
                    <a:lnTo>
                      <a:pt x="268" y="756"/>
                    </a:lnTo>
                    <a:lnTo>
                      <a:pt x="241" y="756"/>
                    </a:lnTo>
                    <a:lnTo>
                      <a:pt x="179" y="756"/>
                    </a:lnTo>
                    <a:lnTo>
                      <a:pt x="124" y="756"/>
                    </a:lnTo>
                    <a:lnTo>
                      <a:pt x="117" y="721"/>
                    </a:lnTo>
                    <a:lnTo>
                      <a:pt x="117" y="687"/>
                    </a:lnTo>
                    <a:lnTo>
                      <a:pt x="90" y="652"/>
                    </a:lnTo>
                    <a:lnTo>
                      <a:pt x="96" y="652"/>
                    </a:lnTo>
                    <a:lnTo>
                      <a:pt x="117" y="652"/>
                    </a:lnTo>
                    <a:lnTo>
                      <a:pt x="110" y="617"/>
                    </a:lnTo>
                    <a:lnTo>
                      <a:pt x="110" y="617"/>
                    </a:lnTo>
                    <a:lnTo>
                      <a:pt x="110" y="610"/>
                    </a:lnTo>
                    <a:lnTo>
                      <a:pt x="110" y="610"/>
                    </a:lnTo>
                    <a:lnTo>
                      <a:pt x="110" y="610"/>
                    </a:lnTo>
                    <a:lnTo>
                      <a:pt x="110" y="610"/>
                    </a:lnTo>
                    <a:lnTo>
                      <a:pt x="110" y="610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103" y="596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96" y="589"/>
                    </a:lnTo>
                    <a:lnTo>
                      <a:pt x="103" y="589"/>
                    </a:lnTo>
                    <a:lnTo>
                      <a:pt x="96" y="589"/>
                    </a:lnTo>
                    <a:lnTo>
                      <a:pt x="96" y="589"/>
                    </a:lnTo>
                    <a:lnTo>
                      <a:pt x="96" y="589"/>
                    </a:lnTo>
                    <a:lnTo>
                      <a:pt x="96" y="589"/>
                    </a:lnTo>
                    <a:lnTo>
                      <a:pt x="96" y="589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103" y="569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96" y="562"/>
                    </a:lnTo>
                    <a:lnTo>
                      <a:pt x="103" y="562"/>
                    </a:lnTo>
                    <a:lnTo>
                      <a:pt x="103" y="555"/>
                    </a:lnTo>
                    <a:lnTo>
                      <a:pt x="103" y="555"/>
                    </a:lnTo>
                    <a:lnTo>
                      <a:pt x="103" y="555"/>
                    </a:lnTo>
                    <a:lnTo>
                      <a:pt x="103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48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1"/>
                    </a:lnTo>
                    <a:lnTo>
                      <a:pt x="90" y="548"/>
                    </a:lnTo>
                    <a:lnTo>
                      <a:pt x="90" y="541"/>
                    </a:lnTo>
                    <a:lnTo>
                      <a:pt x="90" y="548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76" y="541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41"/>
                    </a:lnTo>
                    <a:lnTo>
                      <a:pt x="76" y="541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27"/>
                    </a:lnTo>
                    <a:lnTo>
                      <a:pt x="76" y="527"/>
                    </a:lnTo>
                    <a:lnTo>
                      <a:pt x="76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90" y="527"/>
                    </a:lnTo>
                    <a:lnTo>
                      <a:pt x="90" y="527"/>
                    </a:lnTo>
                    <a:lnTo>
                      <a:pt x="90" y="527"/>
                    </a:lnTo>
                    <a:lnTo>
                      <a:pt x="90" y="520"/>
                    </a:lnTo>
                    <a:lnTo>
                      <a:pt x="90" y="527"/>
                    </a:lnTo>
                    <a:lnTo>
                      <a:pt x="90" y="520"/>
                    </a:lnTo>
                    <a:lnTo>
                      <a:pt x="90" y="520"/>
                    </a:lnTo>
                    <a:lnTo>
                      <a:pt x="90" y="520"/>
                    </a:lnTo>
                    <a:lnTo>
                      <a:pt x="90" y="520"/>
                    </a:lnTo>
                    <a:lnTo>
                      <a:pt x="96" y="520"/>
                    </a:lnTo>
                    <a:lnTo>
                      <a:pt x="96" y="520"/>
                    </a:lnTo>
                    <a:lnTo>
                      <a:pt x="96" y="520"/>
                    </a:lnTo>
                    <a:lnTo>
                      <a:pt x="96" y="520"/>
                    </a:lnTo>
                    <a:lnTo>
                      <a:pt x="96" y="520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499"/>
                    </a:lnTo>
                    <a:lnTo>
                      <a:pt x="103" y="499"/>
                    </a:lnTo>
                    <a:lnTo>
                      <a:pt x="103" y="499"/>
                    </a:lnTo>
                    <a:lnTo>
                      <a:pt x="103" y="499"/>
                    </a:lnTo>
                    <a:lnTo>
                      <a:pt x="103" y="499"/>
                    </a:lnTo>
                    <a:lnTo>
                      <a:pt x="110" y="499"/>
                    </a:lnTo>
                    <a:lnTo>
                      <a:pt x="110" y="499"/>
                    </a:lnTo>
                    <a:lnTo>
                      <a:pt x="110" y="499"/>
                    </a:lnTo>
                    <a:lnTo>
                      <a:pt x="110" y="499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1"/>
                    </a:lnTo>
                    <a:lnTo>
                      <a:pt x="124" y="471"/>
                    </a:lnTo>
                    <a:lnTo>
                      <a:pt x="124" y="471"/>
                    </a:lnTo>
                    <a:lnTo>
                      <a:pt x="124" y="471"/>
                    </a:lnTo>
                    <a:lnTo>
                      <a:pt x="124" y="471"/>
                    </a:lnTo>
                    <a:lnTo>
                      <a:pt x="124" y="471"/>
                    </a:lnTo>
                    <a:lnTo>
                      <a:pt x="131" y="471"/>
                    </a:lnTo>
                    <a:lnTo>
                      <a:pt x="131" y="471"/>
                    </a:lnTo>
                    <a:lnTo>
                      <a:pt x="131" y="465"/>
                    </a:lnTo>
                    <a:lnTo>
                      <a:pt x="131" y="465"/>
                    </a:lnTo>
                    <a:lnTo>
                      <a:pt x="131" y="458"/>
                    </a:lnTo>
                    <a:lnTo>
                      <a:pt x="131" y="458"/>
                    </a:lnTo>
                    <a:lnTo>
                      <a:pt x="131" y="458"/>
                    </a:lnTo>
                    <a:lnTo>
                      <a:pt x="131" y="451"/>
                    </a:lnTo>
                    <a:lnTo>
                      <a:pt x="131" y="451"/>
                    </a:lnTo>
                    <a:lnTo>
                      <a:pt x="131" y="451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37"/>
                    </a:lnTo>
                    <a:lnTo>
                      <a:pt x="138" y="437"/>
                    </a:lnTo>
                    <a:lnTo>
                      <a:pt x="138" y="437"/>
                    </a:lnTo>
                    <a:lnTo>
                      <a:pt x="138" y="437"/>
                    </a:lnTo>
                    <a:lnTo>
                      <a:pt x="138" y="437"/>
                    </a:lnTo>
                    <a:lnTo>
                      <a:pt x="145" y="437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51" y="430"/>
                    </a:lnTo>
                    <a:lnTo>
                      <a:pt x="151" y="430"/>
                    </a:lnTo>
                    <a:lnTo>
                      <a:pt x="151" y="430"/>
                    </a:lnTo>
                    <a:lnTo>
                      <a:pt x="151" y="430"/>
                    </a:lnTo>
                    <a:lnTo>
                      <a:pt x="151" y="430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45" y="416"/>
                    </a:lnTo>
                    <a:lnTo>
                      <a:pt x="145" y="416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2"/>
                    </a:lnTo>
                    <a:lnTo>
                      <a:pt x="145" y="402"/>
                    </a:lnTo>
                    <a:lnTo>
                      <a:pt x="145" y="402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24" y="381"/>
                    </a:lnTo>
                    <a:lnTo>
                      <a:pt x="131" y="374"/>
                    </a:lnTo>
                    <a:lnTo>
                      <a:pt x="131" y="374"/>
                    </a:lnTo>
                    <a:lnTo>
                      <a:pt x="131" y="374"/>
                    </a:lnTo>
                    <a:lnTo>
                      <a:pt x="124" y="374"/>
                    </a:lnTo>
                    <a:lnTo>
                      <a:pt x="131" y="374"/>
                    </a:lnTo>
                    <a:lnTo>
                      <a:pt x="131" y="374"/>
                    </a:lnTo>
                    <a:lnTo>
                      <a:pt x="124" y="374"/>
                    </a:lnTo>
                    <a:lnTo>
                      <a:pt x="131" y="374"/>
                    </a:lnTo>
                    <a:lnTo>
                      <a:pt x="124" y="374"/>
                    </a:lnTo>
                    <a:lnTo>
                      <a:pt x="131" y="374"/>
                    </a:lnTo>
                    <a:lnTo>
                      <a:pt x="124" y="374"/>
                    </a:lnTo>
                    <a:lnTo>
                      <a:pt x="124" y="374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47"/>
                    </a:lnTo>
                    <a:lnTo>
                      <a:pt x="131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45" y="347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33"/>
                    </a:lnTo>
                    <a:lnTo>
                      <a:pt x="145" y="333"/>
                    </a:lnTo>
                    <a:lnTo>
                      <a:pt x="138" y="333"/>
                    </a:lnTo>
                    <a:lnTo>
                      <a:pt x="138" y="333"/>
                    </a:lnTo>
                    <a:lnTo>
                      <a:pt x="138" y="333"/>
                    </a:lnTo>
                    <a:lnTo>
                      <a:pt x="138" y="333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0" y="319"/>
                    </a:lnTo>
                    <a:lnTo>
                      <a:pt x="110" y="319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9"/>
                    </a:lnTo>
                    <a:lnTo>
                      <a:pt x="110" y="319"/>
                    </a:lnTo>
                    <a:lnTo>
                      <a:pt x="103" y="319"/>
                    </a:lnTo>
                    <a:lnTo>
                      <a:pt x="103" y="319"/>
                    </a:lnTo>
                    <a:lnTo>
                      <a:pt x="103" y="319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05"/>
                    </a:lnTo>
                    <a:lnTo>
                      <a:pt x="96" y="305"/>
                    </a:lnTo>
                    <a:lnTo>
                      <a:pt x="48" y="305"/>
                    </a:lnTo>
                    <a:lnTo>
                      <a:pt x="14" y="305"/>
                    </a:lnTo>
                    <a:lnTo>
                      <a:pt x="7" y="305"/>
                    </a:lnTo>
                    <a:lnTo>
                      <a:pt x="7" y="305"/>
                    </a:lnTo>
                    <a:lnTo>
                      <a:pt x="7" y="305"/>
                    </a:lnTo>
                    <a:lnTo>
                      <a:pt x="7" y="305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14" y="291"/>
                    </a:lnTo>
                    <a:lnTo>
                      <a:pt x="14" y="291"/>
                    </a:lnTo>
                    <a:lnTo>
                      <a:pt x="14" y="291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7" y="284"/>
                    </a:lnTo>
                    <a:lnTo>
                      <a:pt x="7" y="284"/>
                    </a:lnTo>
                    <a:lnTo>
                      <a:pt x="7" y="277"/>
                    </a:lnTo>
                    <a:lnTo>
                      <a:pt x="14" y="277"/>
                    </a:lnTo>
                    <a:lnTo>
                      <a:pt x="14" y="277"/>
                    </a:lnTo>
                    <a:lnTo>
                      <a:pt x="14" y="277"/>
                    </a:lnTo>
                    <a:lnTo>
                      <a:pt x="14" y="277"/>
                    </a:lnTo>
                    <a:lnTo>
                      <a:pt x="7" y="277"/>
                    </a:lnTo>
                    <a:lnTo>
                      <a:pt x="14" y="277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63"/>
                    </a:lnTo>
                    <a:lnTo>
                      <a:pt x="14" y="263"/>
                    </a:lnTo>
                    <a:lnTo>
                      <a:pt x="14" y="263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7" y="256"/>
                    </a:lnTo>
                    <a:lnTo>
                      <a:pt x="7" y="256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243"/>
                    </a:lnTo>
                    <a:lnTo>
                      <a:pt x="7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7" y="229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1"/>
                    </a:lnTo>
                    <a:lnTo>
                      <a:pt x="7" y="201"/>
                    </a:lnTo>
                    <a:lnTo>
                      <a:pt x="7" y="201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7" y="201"/>
                    </a:lnTo>
                    <a:lnTo>
                      <a:pt x="7" y="201"/>
                    </a:lnTo>
                    <a:lnTo>
                      <a:pt x="7" y="201"/>
                    </a:lnTo>
                    <a:lnTo>
                      <a:pt x="7" y="194"/>
                    </a:lnTo>
                    <a:lnTo>
                      <a:pt x="7" y="194"/>
                    </a:lnTo>
                    <a:lnTo>
                      <a:pt x="7" y="194"/>
                    </a:lnTo>
                    <a:lnTo>
                      <a:pt x="7" y="194"/>
                    </a:lnTo>
                    <a:lnTo>
                      <a:pt x="14" y="194"/>
                    </a:lnTo>
                    <a:lnTo>
                      <a:pt x="14" y="194"/>
                    </a:lnTo>
                    <a:lnTo>
                      <a:pt x="7" y="194"/>
                    </a:lnTo>
                    <a:lnTo>
                      <a:pt x="7" y="187"/>
                    </a:lnTo>
                    <a:lnTo>
                      <a:pt x="7" y="187"/>
                    </a:lnTo>
                    <a:lnTo>
                      <a:pt x="7" y="187"/>
                    </a:lnTo>
                    <a:lnTo>
                      <a:pt x="7" y="187"/>
                    </a:lnTo>
                    <a:lnTo>
                      <a:pt x="7" y="187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59"/>
                    </a:lnTo>
                    <a:lnTo>
                      <a:pt x="0" y="166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556440" y="3636720"/>
                <a:ext cx="1211400" cy="1061280"/>
              </a:xfrm>
              <a:custGeom>
                <a:avLst/>
                <a:gdLst/>
                <a:ahLst/>
                <a:rect l="l" t="t" r="r" b="b"/>
                <a:pathLst>
                  <a:path w="962" h="902">
                    <a:moveTo>
                      <a:pt x="0" y="159"/>
                    </a:move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14" y="132"/>
                    </a:lnTo>
                    <a:lnTo>
                      <a:pt x="14" y="132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0" y="125"/>
                    </a:lnTo>
                    <a:lnTo>
                      <a:pt x="0" y="125"/>
                    </a:lnTo>
                    <a:lnTo>
                      <a:pt x="62" y="125"/>
                    </a:lnTo>
                    <a:lnTo>
                      <a:pt x="69" y="125"/>
                    </a:lnTo>
                    <a:lnTo>
                      <a:pt x="69" y="125"/>
                    </a:lnTo>
                    <a:lnTo>
                      <a:pt x="103" y="125"/>
                    </a:lnTo>
                    <a:lnTo>
                      <a:pt x="151" y="125"/>
                    </a:lnTo>
                    <a:lnTo>
                      <a:pt x="213" y="125"/>
                    </a:lnTo>
                    <a:lnTo>
                      <a:pt x="213" y="125"/>
                    </a:lnTo>
                    <a:lnTo>
                      <a:pt x="261" y="125"/>
                    </a:lnTo>
                    <a:lnTo>
                      <a:pt x="268" y="125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75" y="118"/>
                    </a:lnTo>
                    <a:lnTo>
                      <a:pt x="275" y="118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68" y="118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0"/>
                    </a:lnTo>
                    <a:lnTo>
                      <a:pt x="268" y="90"/>
                    </a:lnTo>
                    <a:lnTo>
                      <a:pt x="275" y="90"/>
                    </a:lnTo>
                    <a:lnTo>
                      <a:pt x="275" y="90"/>
                    </a:lnTo>
                    <a:lnTo>
                      <a:pt x="275" y="90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69"/>
                    </a:lnTo>
                    <a:lnTo>
                      <a:pt x="275" y="69"/>
                    </a:lnTo>
                    <a:lnTo>
                      <a:pt x="275" y="69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75" y="55"/>
                    </a:lnTo>
                    <a:lnTo>
                      <a:pt x="275" y="55"/>
                    </a:lnTo>
                    <a:lnTo>
                      <a:pt x="275" y="55"/>
                    </a:lnTo>
                    <a:lnTo>
                      <a:pt x="275" y="48"/>
                    </a:lnTo>
                    <a:lnTo>
                      <a:pt x="275" y="48"/>
                    </a:lnTo>
                    <a:lnTo>
                      <a:pt x="275" y="48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34"/>
                    </a:lnTo>
                    <a:lnTo>
                      <a:pt x="282" y="34"/>
                    </a:lnTo>
                    <a:lnTo>
                      <a:pt x="282" y="34"/>
                    </a:lnTo>
                    <a:lnTo>
                      <a:pt x="282" y="34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7"/>
                    </a:lnTo>
                    <a:lnTo>
                      <a:pt x="289" y="0"/>
                    </a:lnTo>
                    <a:lnTo>
                      <a:pt x="296" y="0"/>
                    </a:lnTo>
                    <a:lnTo>
                      <a:pt x="296" y="0"/>
                    </a:lnTo>
                    <a:lnTo>
                      <a:pt x="296" y="0"/>
                    </a:lnTo>
                    <a:lnTo>
                      <a:pt x="302" y="0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9" y="14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16" y="28"/>
                    </a:lnTo>
                    <a:lnTo>
                      <a:pt x="316" y="34"/>
                    </a:lnTo>
                    <a:lnTo>
                      <a:pt x="316" y="34"/>
                    </a:lnTo>
                    <a:lnTo>
                      <a:pt x="316" y="41"/>
                    </a:lnTo>
                    <a:lnTo>
                      <a:pt x="316" y="41"/>
                    </a:lnTo>
                    <a:lnTo>
                      <a:pt x="316" y="48"/>
                    </a:lnTo>
                    <a:lnTo>
                      <a:pt x="316" y="48"/>
                    </a:lnTo>
                    <a:lnTo>
                      <a:pt x="323" y="55"/>
                    </a:lnTo>
                    <a:lnTo>
                      <a:pt x="323" y="55"/>
                    </a:lnTo>
                    <a:lnTo>
                      <a:pt x="330" y="62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7" y="69"/>
                    </a:lnTo>
                    <a:lnTo>
                      <a:pt x="337" y="76"/>
                    </a:lnTo>
                    <a:lnTo>
                      <a:pt x="337" y="76"/>
                    </a:lnTo>
                    <a:lnTo>
                      <a:pt x="330" y="76"/>
                    </a:lnTo>
                    <a:lnTo>
                      <a:pt x="330" y="76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90"/>
                    </a:lnTo>
                    <a:lnTo>
                      <a:pt x="330" y="90"/>
                    </a:lnTo>
                    <a:lnTo>
                      <a:pt x="330" y="90"/>
                    </a:lnTo>
                    <a:lnTo>
                      <a:pt x="337" y="90"/>
                    </a:lnTo>
                    <a:lnTo>
                      <a:pt x="337" y="97"/>
                    </a:lnTo>
                    <a:lnTo>
                      <a:pt x="330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8"/>
                    </a:lnTo>
                    <a:lnTo>
                      <a:pt x="337" y="118"/>
                    </a:lnTo>
                    <a:lnTo>
                      <a:pt x="344" y="118"/>
                    </a:lnTo>
                    <a:lnTo>
                      <a:pt x="344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25"/>
                    </a:lnTo>
                    <a:lnTo>
                      <a:pt x="357" y="125"/>
                    </a:lnTo>
                    <a:lnTo>
                      <a:pt x="351" y="125"/>
                    </a:lnTo>
                    <a:lnTo>
                      <a:pt x="357" y="125"/>
                    </a:lnTo>
                    <a:lnTo>
                      <a:pt x="357" y="125"/>
                    </a:lnTo>
                    <a:lnTo>
                      <a:pt x="357" y="125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8" y="139"/>
                    </a:lnTo>
                    <a:lnTo>
                      <a:pt x="385" y="139"/>
                    </a:lnTo>
                    <a:lnTo>
                      <a:pt x="385" y="139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9"/>
                    </a:lnTo>
                    <a:lnTo>
                      <a:pt x="385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9" y="159"/>
                    </a:lnTo>
                    <a:lnTo>
                      <a:pt x="399" y="159"/>
                    </a:lnTo>
                    <a:lnTo>
                      <a:pt x="399" y="159"/>
                    </a:lnTo>
                    <a:lnTo>
                      <a:pt x="405" y="159"/>
                    </a:lnTo>
                    <a:lnTo>
                      <a:pt x="405" y="159"/>
                    </a:lnTo>
                    <a:lnTo>
                      <a:pt x="405" y="159"/>
                    </a:lnTo>
                    <a:lnTo>
                      <a:pt x="405" y="166"/>
                    </a:lnTo>
                    <a:lnTo>
                      <a:pt x="405" y="166"/>
                    </a:lnTo>
                    <a:lnTo>
                      <a:pt x="405" y="166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9" y="166"/>
                    </a:lnTo>
                    <a:lnTo>
                      <a:pt x="453" y="173"/>
                    </a:lnTo>
                    <a:lnTo>
                      <a:pt x="460" y="173"/>
                    </a:lnTo>
                    <a:lnTo>
                      <a:pt x="495" y="173"/>
                    </a:lnTo>
                    <a:lnTo>
                      <a:pt x="556" y="180"/>
                    </a:lnTo>
                    <a:lnTo>
                      <a:pt x="584" y="180"/>
                    </a:lnTo>
                    <a:lnTo>
                      <a:pt x="591" y="180"/>
                    </a:lnTo>
                    <a:lnTo>
                      <a:pt x="632" y="187"/>
                    </a:lnTo>
                    <a:lnTo>
                      <a:pt x="680" y="187"/>
                    </a:lnTo>
                    <a:lnTo>
                      <a:pt x="714" y="194"/>
                    </a:lnTo>
                    <a:lnTo>
                      <a:pt x="756" y="194"/>
                    </a:lnTo>
                    <a:lnTo>
                      <a:pt x="762" y="194"/>
                    </a:lnTo>
                    <a:lnTo>
                      <a:pt x="790" y="201"/>
                    </a:lnTo>
                    <a:lnTo>
                      <a:pt x="859" y="201"/>
                    </a:lnTo>
                    <a:lnTo>
                      <a:pt x="872" y="201"/>
                    </a:lnTo>
                    <a:lnTo>
                      <a:pt x="893" y="208"/>
                    </a:lnTo>
                    <a:lnTo>
                      <a:pt x="913" y="208"/>
                    </a:lnTo>
                    <a:lnTo>
                      <a:pt x="962" y="208"/>
                    </a:lnTo>
                    <a:lnTo>
                      <a:pt x="962" y="208"/>
                    </a:lnTo>
                    <a:lnTo>
                      <a:pt x="962" y="215"/>
                    </a:lnTo>
                    <a:lnTo>
                      <a:pt x="962" y="215"/>
                    </a:lnTo>
                    <a:lnTo>
                      <a:pt x="962" y="215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48" y="229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43"/>
                    </a:lnTo>
                    <a:lnTo>
                      <a:pt x="948" y="243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56"/>
                    </a:lnTo>
                    <a:lnTo>
                      <a:pt x="941" y="256"/>
                    </a:lnTo>
                    <a:lnTo>
                      <a:pt x="941" y="256"/>
                    </a:lnTo>
                    <a:lnTo>
                      <a:pt x="941" y="256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34" y="263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27" y="277"/>
                    </a:lnTo>
                    <a:lnTo>
                      <a:pt x="927" y="277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91"/>
                    </a:lnTo>
                    <a:lnTo>
                      <a:pt x="934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8"/>
                    </a:lnTo>
                    <a:lnTo>
                      <a:pt x="927" y="298"/>
                    </a:lnTo>
                    <a:lnTo>
                      <a:pt x="934" y="298"/>
                    </a:lnTo>
                    <a:lnTo>
                      <a:pt x="934" y="298"/>
                    </a:lnTo>
                    <a:lnTo>
                      <a:pt x="927" y="298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7"/>
                    </a:lnTo>
                    <a:lnTo>
                      <a:pt x="920" y="347"/>
                    </a:lnTo>
                    <a:lnTo>
                      <a:pt x="920" y="347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7" y="354"/>
                    </a:lnTo>
                    <a:lnTo>
                      <a:pt x="927" y="354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7"/>
                    </a:lnTo>
                    <a:lnTo>
                      <a:pt x="927" y="367"/>
                    </a:lnTo>
                    <a:lnTo>
                      <a:pt x="927" y="367"/>
                    </a:lnTo>
                    <a:lnTo>
                      <a:pt x="920" y="367"/>
                    </a:lnTo>
                    <a:lnTo>
                      <a:pt x="920" y="367"/>
                    </a:lnTo>
                    <a:lnTo>
                      <a:pt x="920" y="367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81"/>
                    </a:lnTo>
                    <a:lnTo>
                      <a:pt x="927" y="381"/>
                    </a:lnTo>
                    <a:lnTo>
                      <a:pt x="927" y="381"/>
                    </a:lnTo>
                    <a:lnTo>
                      <a:pt x="927" y="381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0" y="388"/>
                    </a:lnTo>
                    <a:lnTo>
                      <a:pt x="920" y="395"/>
                    </a:lnTo>
                    <a:lnTo>
                      <a:pt x="927" y="395"/>
                    </a:lnTo>
                    <a:lnTo>
                      <a:pt x="920" y="395"/>
                    </a:lnTo>
                    <a:lnTo>
                      <a:pt x="920" y="395"/>
                    </a:lnTo>
                    <a:lnTo>
                      <a:pt x="927" y="395"/>
                    </a:lnTo>
                    <a:lnTo>
                      <a:pt x="927" y="402"/>
                    </a:lnTo>
                    <a:lnTo>
                      <a:pt x="927" y="402"/>
                    </a:lnTo>
                    <a:lnTo>
                      <a:pt x="927" y="402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7" y="409"/>
                    </a:lnTo>
                    <a:lnTo>
                      <a:pt x="927" y="409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7"/>
                    </a:lnTo>
                    <a:lnTo>
                      <a:pt x="927" y="437"/>
                    </a:lnTo>
                    <a:lnTo>
                      <a:pt x="927" y="437"/>
                    </a:lnTo>
                    <a:lnTo>
                      <a:pt x="920" y="444"/>
                    </a:lnTo>
                    <a:lnTo>
                      <a:pt x="927" y="444"/>
                    </a:lnTo>
                    <a:lnTo>
                      <a:pt x="927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7" y="444"/>
                    </a:lnTo>
                    <a:lnTo>
                      <a:pt x="927" y="444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65"/>
                    </a:lnTo>
                    <a:lnTo>
                      <a:pt x="927" y="465"/>
                    </a:lnTo>
                    <a:lnTo>
                      <a:pt x="927" y="458"/>
                    </a:lnTo>
                    <a:lnTo>
                      <a:pt x="934" y="458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41" y="465"/>
                    </a:lnTo>
                    <a:lnTo>
                      <a:pt x="941" y="465"/>
                    </a:lnTo>
                    <a:lnTo>
                      <a:pt x="941" y="465"/>
                    </a:lnTo>
                    <a:lnTo>
                      <a:pt x="934" y="471"/>
                    </a:lnTo>
                    <a:lnTo>
                      <a:pt x="934" y="471"/>
                    </a:lnTo>
                    <a:lnTo>
                      <a:pt x="934" y="471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27" y="478"/>
                    </a:lnTo>
                    <a:lnTo>
                      <a:pt x="927" y="485"/>
                    </a:lnTo>
                    <a:lnTo>
                      <a:pt x="927" y="485"/>
                    </a:lnTo>
                    <a:lnTo>
                      <a:pt x="934" y="485"/>
                    </a:lnTo>
                    <a:lnTo>
                      <a:pt x="934" y="485"/>
                    </a:lnTo>
                    <a:lnTo>
                      <a:pt x="934" y="492"/>
                    </a:lnTo>
                    <a:lnTo>
                      <a:pt x="934" y="492"/>
                    </a:lnTo>
                    <a:lnTo>
                      <a:pt x="927" y="492"/>
                    </a:lnTo>
                    <a:lnTo>
                      <a:pt x="927" y="492"/>
                    </a:lnTo>
                    <a:lnTo>
                      <a:pt x="934" y="492"/>
                    </a:lnTo>
                    <a:lnTo>
                      <a:pt x="934" y="492"/>
                    </a:lnTo>
                    <a:lnTo>
                      <a:pt x="934" y="499"/>
                    </a:lnTo>
                    <a:lnTo>
                      <a:pt x="927" y="499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13"/>
                    </a:lnTo>
                    <a:lnTo>
                      <a:pt x="927" y="513"/>
                    </a:lnTo>
                    <a:lnTo>
                      <a:pt x="927" y="513"/>
                    </a:lnTo>
                    <a:lnTo>
                      <a:pt x="920" y="513"/>
                    </a:lnTo>
                    <a:lnTo>
                      <a:pt x="920" y="520"/>
                    </a:lnTo>
                    <a:lnTo>
                      <a:pt x="920" y="520"/>
                    </a:lnTo>
                    <a:lnTo>
                      <a:pt x="920" y="520"/>
                    </a:lnTo>
                    <a:lnTo>
                      <a:pt x="913" y="520"/>
                    </a:lnTo>
                    <a:lnTo>
                      <a:pt x="913" y="527"/>
                    </a:lnTo>
                    <a:lnTo>
                      <a:pt x="913" y="527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07" y="534"/>
                    </a:lnTo>
                    <a:lnTo>
                      <a:pt x="907" y="541"/>
                    </a:lnTo>
                    <a:lnTo>
                      <a:pt x="907" y="541"/>
                    </a:lnTo>
                    <a:lnTo>
                      <a:pt x="907" y="541"/>
                    </a:lnTo>
                    <a:lnTo>
                      <a:pt x="907" y="548"/>
                    </a:lnTo>
                    <a:lnTo>
                      <a:pt x="907" y="548"/>
                    </a:lnTo>
                    <a:lnTo>
                      <a:pt x="907" y="548"/>
                    </a:lnTo>
                    <a:lnTo>
                      <a:pt x="913" y="548"/>
                    </a:lnTo>
                    <a:lnTo>
                      <a:pt x="913" y="555"/>
                    </a:lnTo>
                    <a:lnTo>
                      <a:pt x="907" y="555"/>
                    </a:lnTo>
                    <a:lnTo>
                      <a:pt x="913" y="555"/>
                    </a:lnTo>
                    <a:lnTo>
                      <a:pt x="907" y="555"/>
                    </a:lnTo>
                    <a:lnTo>
                      <a:pt x="907" y="555"/>
                    </a:lnTo>
                    <a:lnTo>
                      <a:pt x="907" y="562"/>
                    </a:lnTo>
                    <a:lnTo>
                      <a:pt x="907" y="562"/>
                    </a:lnTo>
                    <a:lnTo>
                      <a:pt x="907" y="562"/>
                    </a:lnTo>
                    <a:lnTo>
                      <a:pt x="913" y="569"/>
                    </a:lnTo>
                    <a:lnTo>
                      <a:pt x="913" y="569"/>
                    </a:lnTo>
                    <a:lnTo>
                      <a:pt x="913" y="569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7" y="569"/>
                    </a:lnTo>
                    <a:lnTo>
                      <a:pt x="907" y="569"/>
                    </a:lnTo>
                    <a:lnTo>
                      <a:pt x="907" y="569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0" y="576"/>
                    </a:lnTo>
                    <a:lnTo>
                      <a:pt x="900" y="582"/>
                    </a:lnTo>
                    <a:lnTo>
                      <a:pt x="900" y="582"/>
                    </a:lnTo>
                    <a:lnTo>
                      <a:pt x="900" y="582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96"/>
                    </a:lnTo>
                    <a:lnTo>
                      <a:pt x="900" y="596"/>
                    </a:lnTo>
                    <a:lnTo>
                      <a:pt x="893" y="596"/>
                    </a:lnTo>
                    <a:lnTo>
                      <a:pt x="900" y="596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10"/>
                    </a:lnTo>
                    <a:lnTo>
                      <a:pt x="900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31"/>
                    </a:lnTo>
                    <a:lnTo>
                      <a:pt x="893" y="631"/>
                    </a:lnTo>
                    <a:lnTo>
                      <a:pt x="893" y="631"/>
                    </a:lnTo>
                    <a:lnTo>
                      <a:pt x="886" y="631"/>
                    </a:lnTo>
                    <a:lnTo>
                      <a:pt x="893" y="638"/>
                    </a:lnTo>
                    <a:lnTo>
                      <a:pt x="886" y="638"/>
                    </a:lnTo>
                    <a:lnTo>
                      <a:pt x="886" y="638"/>
                    </a:lnTo>
                    <a:lnTo>
                      <a:pt x="893" y="638"/>
                    </a:lnTo>
                    <a:lnTo>
                      <a:pt x="893" y="638"/>
                    </a:lnTo>
                    <a:lnTo>
                      <a:pt x="886" y="638"/>
                    </a:lnTo>
                    <a:lnTo>
                      <a:pt x="886" y="645"/>
                    </a:lnTo>
                    <a:lnTo>
                      <a:pt x="886" y="645"/>
                    </a:lnTo>
                    <a:lnTo>
                      <a:pt x="879" y="645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45"/>
                    </a:lnTo>
                    <a:lnTo>
                      <a:pt x="872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59" y="645"/>
                    </a:lnTo>
                    <a:lnTo>
                      <a:pt x="859" y="645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2" y="652"/>
                    </a:lnTo>
                    <a:lnTo>
                      <a:pt x="852" y="652"/>
                    </a:lnTo>
                    <a:lnTo>
                      <a:pt x="852" y="652"/>
                    </a:lnTo>
                    <a:lnTo>
                      <a:pt x="852" y="659"/>
                    </a:lnTo>
                    <a:lnTo>
                      <a:pt x="845" y="659"/>
                    </a:lnTo>
                    <a:lnTo>
                      <a:pt x="845" y="659"/>
                    </a:lnTo>
                    <a:lnTo>
                      <a:pt x="845" y="659"/>
                    </a:lnTo>
                    <a:lnTo>
                      <a:pt x="838" y="659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45" y="666"/>
                    </a:lnTo>
                    <a:lnTo>
                      <a:pt x="845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1" y="687"/>
                    </a:lnTo>
                    <a:lnTo>
                      <a:pt x="831" y="693"/>
                    </a:lnTo>
                    <a:lnTo>
                      <a:pt x="838" y="693"/>
                    </a:lnTo>
                    <a:lnTo>
                      <a:pt x="838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7"/>
                    </a:lnTo>
                    <a:lnTo>
                      <a:pt x="831" y="707"/>
                    </a:lnTo>
                    <a:lnTo>
                      <a:pt x="824" y="707"/>
                    </a:lnTo>
                    <a:lnTo>
                      <a:pt x="824" y="707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1" y="714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797" y="721"/>
                    </a:lnTo>
                    <a:lnTo>
                      <a:pt x="797" y="721"/>
                    </a:lnTo>
                    <a:lnTo>
                      <a:pt x="790" y="721"/>
                    </a:lnTo>
                    <a:lnTo>
                      <a:pt x="790" y="721"/>
                    </a:lnTo>
                    <a:lnTo>
                      <a:pt x="790" y="721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83" y="728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42"/>
                    </a:lnTo>
                    <a:lnTo>
                      <a:pt x="783" y="742"/>
                    </a:lnTo>
                    <a:lnTo>
                      <a:pt x="776" y="742"/>
                    </a:lnTo>
                    <a:lnTo>
                      <a:pt x="776" y="742"/>
                    </a:lnTo>
                    <a:lnTo>
                      <a:pt x="776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2" y="742"/>
                    </a:lnTo>
                    <a:lnTo>
                      <a:pt x="769" y="749"/>
                    </a:lnTo>
                    <a:lnTo>
                      <a:pt x="762" y="749"/>
                    </a:lnTo>
                    <a:lnTo>
                      <a:pt x="769" y="749"/>
                    </a:lnTo>
                    <a:lnTo>
                      <a:pt x="762" y="749"/>
                    </a:lnTo>
                    <a:lnTo>
                      <a:pt x="762" y="749"/>
                    </a:lnTo>
                    <a:lnTo>
                      <a:pt x="762" y="749"/>
                    </a:lnTo>
                    <a:lnTo>
                      <a:pt x="769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49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70"/>
                    </a:lnTo>
                    <a:lnTo>
                      <a:pt x="756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84"/>
                    </a:lnTo>
                    <a:lnTo>
                      <a:pt x="756" y="777"/>
                    </a:lnTo>
                    <a:lnTo>
                      <a:pt x="749" y="777"/>
                    </a:lnTo>
                    <a:lnTo>
                      <a:pt x="749" y="777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2" y="791"/>
                    </a:lnTo>
                    <a:lnTo>
                      <a:pt x="742" y="791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1" y="811"/>
                    </a:lnTo>
                    <a:lnTo>
                      <a:pt x="721" y="811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95"/>
                    </a:lnTo>
                    <a:lnTo>
                      <a:pt x="714" y="895"/>
                    </a:lnTo>
                    <a:lnTo>
                      <a:pt x="721" y="895"/>
                    </a:lnTo>
                    <a:lnTo>
                      <a:pt x="721" y="895"/>
                    </a:lnTo>
                    <a:lnTo>
                      <a:pt x="721" y="895"/>
                    </a:lnTo>
                    <a:lnTo>
                      <a:pt x="721" y="902"/>
                    </a:lnTo>
                    <a:lnTo>
                      <a:pt x="721" y="902"/>
                    </a:lnTo>
                    <a:lnTo>
                      <a:pt x="714" y="902"/>
                    </a:lnTo>
                    <a:lnTo>
                      <a:pt x="714" y="902"/>
                    </a:lnTo>
                    <a:lnTo>
                      <a:pt x="714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895"/>
                    </a:lnTo>
                    <a:lnTo>
                      <a:pt x="673" y="895"/>
                    </a:lnTo>
                    <a:lnTo>
                      <a:pt x="673" y="895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74"/>
                    </a:lnTo>
                    <a:lnTo>
                      <a:pt x="653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73" y="839"/>
                    </a:lnTo>
                    <a:lnTo>
                      <a:pt x="666" y="839"/>
                    </a:lnTo>
                    <a:lnTo>
                      <a:pt x="666" y="832"/>
                    </a:lnTo>
                    <a:lnTo>
                      <a:pt x="666" y="832"/>
                    </a:lnTo>
                    <a:lnTo>
                      <a:pt x="666" y="83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652200" y="4012200"/>
                <a:ext cx="742680" cy="677520"/>
              </a:xfrm>
              <a:custGeom>
                <a:avLst/>
                <a:gdLst/>
                <a:ahLst/>
                <a:rect l="l" t="t" r="r" b="b"/>
                <a:pathLst>
                  <a:path w="590" h="576">
                    <a:moveTo>
                      <a:pt x="590" y="513"/>
                    </a:moveTo>
                    <a:lnTo>
                      <a:pt x="590" y="520"/>
                    </a:lnTo>
                    <a:lnTo>
                      <a:pt x="590" y="520"/>
                    </a:lnTo>
                    <a:lnTo>
                      <a:pt x="590" y="520"/>
                    </a:lnTo>
                    <a:lnTo>
                      <a:pt x="583" y="520"/>
                    </a:lnTo>
                    <a:lnTo>
                      <a:pt x="583" y="520"/>
                    </a:lnTo>
                    <a:lnTo>
                      <a:pt x="583" y="520"/>
                    </a:lnTo>
                    <a:lnTo>
                      <a:pt x="583" y="520"/>
                    </a:lnTo>
                    <a:lnTo>
                      <a:pt x="583" y="520"/>
                    </a:lnTo>
                    <a:lnTo>
                      <a:pt x="583" y="527"/>
                    </a:lnTo>
                    <a:lnTo>
                      <a:pt x="583" y="527"/>
                    </a:lnTo>
                    <a:lnTo>
                      <a:pt x="583" y="527"/>
                    </a:lnTo>
                    <a:lnTo>
                      <a:pt x="577" y="527"/>
                    </a:lnTo>
                    <a:lnTo>
                      <a:pt x="577" y="527"/>
                    </a:lnTo>
                    <a:lnTo>
                      <a:pt x="577" y="534"/>
                    </a:lnTo>
                    <a:lnTo>
                      <a:pt x="577" y="534"/>
                    </a:lnTo>
                    <a:lnTo>
                      <a:pt x="577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63" y="534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8"/>
                    </a:lnTo>
                    <a:lnTo>
                      <a:pt x="563" y="548"/>
                    </a:lnTo>
                    <a:lnTo>
                      <a:pt x="563" y="548"/>
                    </a:lnTo>
                    <a:lnTo>
                      <a:pt x="563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35" y="555"/>
                    </a:lnTo>
                    <a:lnTo>
                      <a:pt x="535" y="555"/>
                    </a:lnTo>
                    <a:lnTo>
                      <a:pt x="535" y="555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1"/>
                    </a:lnTo>
                    <a:lnTo>
                      <a:pt x="535" y="541"/>
                    </a:lnTo>
                    <a:lnTo>
                      <a:pt x="535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2" y="534"/>
                    </a:lnTo>
                    <a:lnTo>
                      <a:pt x="522" y="541"/>
                    </a:lnTo>
                    <a:lnTo>
                      <a:pt x="522" y="534"/>
                    </a:lnTo>
                    <a:lnTo>
                      <a:pt x="522" y="534"/>
                    </a:lnTo>
                    <a:lnTo>
                      <a:pt x="522" y="541"/>
                    </a:lnTo>
                    <a:lnTo>
                      <a:pt x="522" y="534"/>
                    </a:lnTo>
                    <a:lnTo>
                      <a:pt x="522" y="541"/>
                    </a:lnTo>
                    <a:lnTo>
                      <a:pt x="522" y="534"/>
                    </a:lnTo>
                    <a:lnTo>
                      <a:pt x="515" y="534"/>
                    </a:lnTo>
                    <a:lnTo>
                      <a:pt x="515" y="534"/>
                    </a:lnTo>
                    <a:lnTo>
                      <a:pt x="515" y="534"/>
                    </a:lnTo>
                    <a:lnTo>
                      <a:pt x="515" y="541"/>
                    </a:lnTo>
                    <a:lnTo>
                      <a:pt x="515" y="541"/>
                    </a:lnTo>
                    <a:lnTo>
                      <a:pt x="515" y="541"/>
                    </a:lnTo>
                    <a:lnTo>
                      <a:pt x="515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1" y="541"/>
                    </a:lnTo>
                    <a:lnTo>
                      <a:pt x="501" y="541"/>
                    </a:lnTo>
                    <a:lnTo>
                      <a:pt x="501" y="541"/>
                    </a:lnTo>
                    <a:lnTo>
                      <a:pt x="501" y="541"/>
                    </a:lnTo>
                    <a:lnTo>
                      <a:pt x="501" y="541"/>
                    </a:lnTo>
                    <a:lnTo>
                      <a:pt x="501" y="548"/>
                    </a:lnTo>
                    <a:lnTo>
                      <a:pt x="501" y="548"/>
                    </a:lnTo>
                    <a:lnTo>
                      <a:pt x="501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55"/>
                    </a:lnTo>
                    <a:lnTo>
                      <a:pt x="474" y="555"/>
                    </a:lnTo>
                    <a:lnTo>
                      <a:pt x="474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0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39" y="541"/>
                    </a:lnTo>
                    <a:lnTo>
                      <a:pt x="439" y="534"/>
                    </a:lnTo>
                    <a:lnTo>
                      <a:pt x="439" y="541"/>
                    </a:lnTo>
                    <a:lnTo>
                      <a:pt x="439" y="541"/>
                    </a:lnTo>
                    <a:lnTo>
                      <a:pt x="439" y="534"/>
                    </a:lnTo>
                    <a:lnTo>
                      <a:pt x="439" y="541"/>
                    </a:lnTo>
                    <a:lnTo>
                      <a:pt x="439" y="541"/>
                    </a:lnTo>
                    <a:lnTo>
                      <a:pt x="439" y="534"/>
                    </a:lnTo>
                    <a:lnTo>
                      <a:pt x="439" y="534"/>
                    </a:lnTo>
                    <a:lnTo>
                      <a:pt x="439" y="534"/>
                    </a:lnTo>
                    <a:lnTo>
                      <a:pt x="439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05" y="520"/>
                    </a:lnTo>
                    <a:lnTo>
                      <a:pt x="412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398" y="520"/>
                    </a:lnTo>
                    <a:lnTo>
                      <a:pt x="405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13"/>
                    </a:lnTo>
                    <a:lnTo>
                      <a:pt x="398" y="520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64" y="520"/>
                    </a:lnTo>
                    <a:lnTo>
                      <a:pt x="364" y="520"/>
                    </a:lnTo>
                    <a:lnTo>
                      <a:pt x="364" y="520"/>
                    </a:lnTo>
                    <a:lnTo>
                      <a:pt x="364" y="520"/>
                    </a:lnTo>
                    <a:lnTo>
                      <a:pt x="364" y="527"/>
                    </a:lnTo>
                    <a:lnTo>
                      <a:pt x="364" y="520"/>
                    </a:lnTo>
                    <a:lnTo>
                      <a:pt x="364" y="527"/>
                    </a:lnTo>
                    <a:lnTo>
                      <a:pt x="357" y="527"/>
                    </a:lnTo>
                    <a:lnTo>
                      <a:pt x="357" y="527"/>
                    </a:lnTo>
                    <a:lnTo>
                      <a:pt x="357" y="520"/>
                    </a:lnTo>
                    <a:lnTo>
                      <a:pt x="357" y="527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7"/>
                    </a:lnTo>
                    <a:lnTo>
                      <a:pt x="350" y="520"/>
                    </a:lnTo>
                    <a:lnTo>
                      <a:pt x="350" y="527"/>
                    </a:lnTo>
                    <a:lnTo>
                      <a:pt x="350" y="527"/>
                    </a:lnTo>
                    <a:lnTo>
                      <a:pt x="350" y="527"/>
                    </a:lnTo>
                    <a:lnTo>
                      <a:pt x="350" y="527"/>
                    </a:lnTo>
                    <a:lnTo>
                      <a:pt x="350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16" y="541"/>
                    </a:lnTo>
                    <a:lnTo>
                      <a:pt x="316" y="541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55"/>
                    </a:lnTo>
                    <a:lnTo>
                      <a:pt x="316" y="555"/>
                    </a:lnTo>
                    <a:lnTo>
                      <a:pt x="316" y="555"/>
                    </a:lnTo>
                    <a:lnTo>
                      <a:pt x="316" y="555"/>
                    </a:lnTo>
                    <a:lnTo>
                      <a:pt x="309" y="555"/>
                    </a:lnTo>
                    <a:lnTo>
                      <a:pt x="309" y="555"/>
                    </a:lnTo>
                    <a:lnTo>
                      <a:pt x="309" y="555"/>
                    </a:lnTo>
                    <a:lnTo>
                      <a:pt x="309" y="562"/>
                    </a:lnTo>
                    <a:lnTo>
                      <a:pt x="309" y="562"/>
                    </a:lnTo>
                    <a:lnTo>
                      <a:pt x="309" y="562"/>
                    </a:lnTo>
                    <a:lnTo>
                      <a:pt x="309" y="562"/>
                    </a:lnTo>
                    <a:lnTo>
                      <a:pt x="309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88" y="569"/>
                    </a:lnTo>
                    <a:lnTo>
                      <a:pt x="288" y="562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8" y="562"/>
                    </a:lnTo>
                    <a:lnTo>
                      <a:pt x="288" y="569"/>
                    </a:lnTo>
                    <a:lnTo>
                      <a:pt x="288" y="562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75" y="569"/>
                    </a:lnTo>
                    <a:lnTo>
                      <a:pt x="275" y="569"/>
                    </a:lnTo>
                    <a:lnTo>
                      <a:pt x="275" y="569"/>
                    </a:lnTo>
                    <a:lnTo>
                      <a:pt x="275" y="576"/>
                    </a:lnTo>
                    <a:lnTo>
                      <a:pt x="275" y="576"/>
                    </a:lnTo>
                    <a:lnTo>
                      <a:pt x="275" y="569"/>
                    </a:lnTo>
                    <a:lnTo>
                      <a:pt x="275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55"/>
                    </a:lnTo>
                    <a:lnTo>
                      <a:pt x="254" y="562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1"/>
                    </a:lnTo>
                    <a:lnTo>
                      <a:pt x="254" y="541"/>
                    </a:lnTo>
                    <a:lnTo>
                      <a:pt x="254" y="541"/>
                    </a:lnTo>
                    <a:lnTo>
                      <a:pt x="254" y="541"/>
                    </a:lnTo>
                    <a:lnTo>
                      <a:pt x="247" y="541"/>
                    </a:lnTo>
                    <a:lnTo>
                      <a:pt x="240" y="534"/>
                    </a:lnTo>
                    <a:lnTo>
                      <a:pt x="233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34"/>
                    </a:lnTo>
                    <a:lnTo>
                      <a:pt x="226" y="534"/>
                    </a:lnTo>
                    <a:lnTo>
                      <a:pt x="220" y="534"/>
                    </a:lnTo>
                    <a:lnTo>
                      <a:pt x="220" y="534"/>
                    </a:lnTo>
                    <a:lnTo>
                      <a:pt x="220" y="534"/>
                    </a:lnTo>
                    <a:lnTo>
                      <a:pt x="220" y="534"/>
                    </a:lnTo>
                    <a:lnTo>
                      <a:pt x="220" y="534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199" y="520"/>
                    </a:lnTo>
                    <a:lnTo>
                      <a:pt x="199" y="520"/>
                    </a:lnTo>
                    <a:lnTo>
                      <a:pt x="199" y="520"/>
                    </a:lnTo>
                    <a:lnTo>
                      <a:pt x="199" y="513"/>
                    </a:lnTo>
                    <a:lnTo>
                      <a:pt x="199" y="513"/>
                    </a:lnTo>
                    <a:lnTo>
                      <a:pt x="199" y="513"/>
                    </a:lnTo>
                    <a:lnTo>
                      <a:pt x="199" y="513"/>
                    </a:lnTo>
                    <a:lnTo>
                      <a:pt x="192" y="513"/>
                    </a:lnTo>
                    <a:lnTo>
                      <a:pt x="192" y="506"/>
                    </a:lnTo>
                    <a:lnTo>
                      <a:pt x="199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79"/>
                    </a:lnTo>
                    <a:lnTo>
                      <a:pt x="192" y="479"/>
                    </a:lnTo>
                    <a:lnTo>
                      <a:pt x="192" y="479"/>
                    </a:lnTo>
                    <a:lnTo>
                      <a:pt x="192" y="479"/>
                    </a:lnTo>
                    <a:lnTo>
                      <a:pt x="192" y="479"/>
                    </a:lnTo>
                    <a:lnTo>
                      <a:pt x="192" y="472"/>
                    </a:lnTo>
                    <a:lnTo>
                      <a:pt x="192" y="472"/>
                    </a:lnTo>
                    <a:lnTo>
                      <a:pt x="192" y="472"/>
                    </a:lnTo>
                    <a:lnTo>
                      <a:pt x="192" y="472"/>
                    </a:lnTo>
                    <a:lnTo>
                      <a:pt x="192" y="465"/>
                    </a:lnTo>
                    <a:lnTo>
                      <a:pt x="192" y="465"/>
                    </a:lnTo>
                    <a:lnTo>
                      <a:pt x="192" y="458"/>
                    </a:lnTo>
                    <a:lnTo>
                      <a:pt x="192" y="458"/>
                    </a:lnTo>
                    <a:lnTo>
                      <a:pt x="199" y="458"/>
                    </a:lnTo>
                    <a:lnTo>
                      <a:pt x="199" y="458"/>
                    </a:lnTo>
                    <a:lnTo>
                      <a:pt x="199" y="458"/>
                    </a:lnTo>
                    <a:lnTo>
                      <a:pt x="199" y="451"/>
                    </a:lnTo>
                    <a:lnTo>
                      <a:pt x="199" y="451"/>
                    </a:lnTo>
                    <a:lnTo>
                      <a:pt x="199" y="451"/>
                    </a:lnTo>
                    <a:lnTo>
                      <a:pt x="199" y="451"/>
                    </a:lnTo>
                    <a:lnTo>
                      <a:pt x="199" y="444"/>
                    </a:lnTo>
                    <a:lnTo>
                      <a:pt x="199" y="444"/>
                    </a:lnTo>
                    <a:lnTo>
                      <a:pt x="199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2" y="437"/>
                    </a:lnTo>
                    <a:lnTo>
                      <a:pt x="192" y="437"/>
                    </a:lnTo>
                    <a:lnTo>
                      <a:pt x="192" y="437"/>
                    </a:lnTo>
                    <a:lnTo>
                      <a:pt x="165" y="437"/>
                    </a:lnTo>
                    <a:lnTo>
                      <a:pt x="103" y="437"/>
                    </a:lnTo>
                    <a:lnTo>
                      <a:pt x="48" y="437"/>
                    </a:lnTo>
                    <a:lnTo>
                      <a:pt x="41" y="402"/>
                    </a:lnTo>
                    <a:lnTo>
                      <a:pt x="41" y="368"/>
                    </a:lnTo>
                    <a:lnTo>
                      <a:pt x="14" y="333"/>
                    </a:lnTo>
                    <a:lnTo>
                      <a:pt x="20" y="333"/>
                    </a:lnTo>
                    <a:lnTo>
                      <a:pt x="41" y="333"/>
                    </a:lnTo>
                    <a:lnTo>
                      <a:pt x="34" y="298"/>
                    </a:lnTo>
                    <a:lnTo>
                      <a:pt x="34" y="298"/>
                    </a:lnTo>
                    <a:lnTo>
                      <a:pt x="34" y="291"/>
                    </a:lnTo>
                    <a:lnTo>
                      <a:pt x="34" y="291"/>
                    </a:lnTo>
                    <a:lnTo>
                      <a:pt x="34" y="291"/>
                    </a:lnTo>
                    <a:lnTo>
                      <a:pt x="34" y="291"/>
                    </a:lnTo>
                    <a:lnTo>
                      <a:pt x="34" y="291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7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0" y="270"/>
                    </a:lnTo>
                    <a:lnTo>
                      <a:pt x="27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7" y="250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0" y="243"/>
                    </a:lnTo>
                    <a:lnTo>
                      <a:pt x="27" y="243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29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2"/>
                    </a:lnTo>
                    <a:lnTo>
                      <a:pt x="14" y="229"/>
                    </a:lnTo>
                    <a:lnTo>
                      <a:pt x="14" y="222"/>
                    </a:lnTo>
                    <a:lnTo>
                      <a:pt x="14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0" y="222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0" y="222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08"/>
                    </a:lnTo>
                    <a:lnTo>
                      <a:pt x="0" y="208"/>
                    </a:lnTo>
                    <a:lnTo>
                      <a:pt x="0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14" y="208"/>
                    </a:lnTo>
                    <a:lnTo>
                      <a:pt x="14" y="208"/>
                    </a:lnTo>
                    <a:lnTo>
                      <a:pt x="14" y="208"/>
                    </a:lnTo>
                    <a:lnTo>
                      <a:pt x="14" y="201"/>
                    </a:lnTo>
                    <a:lnTo>
                      <a:pt x="14" y="208"/>
                    </a:lnTo>
                    <a:lnTo>
                      <a:pt x="14" y="201"/>
                    </a:lnTo>
                    <a:lnTo>
                      <a:pt x="14" y="201"/>
                    </a:lnTo>
                    <a:lnTo>
                      <a:pt x="14" y="201"/>
                    </a:lnTo>
                    <a:lnTo>
                      <a:pt x="14" y="201"/>
                    </a:lnTo>
                    <a:lnTo>
                      <a:pt x="20" y="201"/>
                    </a:lnTo>
                    <a:lnTo>
                      <a:pt x="20" y="201"/>
                    </a:lnTo>
                    <a:lnTo>
                      <a:pt x="20" y="201"/>
                    </a:lnTo>
                    <a:lnTo>
                      <a:pt x="20" y="201"/>
                    </a:lnTo>
                    <a:lnTo>
                      <a:pt x="20" y="201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0"/>
                    </a:lnTo>
                    <a:lnTo>
                      <a:pt x="27" y="180"/>
                    </a:lnTo>
                    <a:lnTo>
                      <a:pt x="27" y="180"/>
                    </a:lnTo>
                    <a:lnTo>
                      <a:pt x="27" y="180"/>
                    </a:lnTo>
                    <a:lnTo>
                      <a:pt x="27" y="180"/>
                    </a:lnTo>
                    <a:lnTo>
                      <a:pt x="34" y="180"/>
                    </a:lnTo>
                    <a:lnTo>
                      <a:pt x="34" y="180"/>
                    </a:lnTo>
                    <a:lnTo>
                      <a:pt x="34" y="180"/>
                    </a:lnTo>
                    <a:lnTo>
                      <a:pt x="34" y="180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2"/>
                    </a:lnTo>
                    <a:lnTo>
                      <a:pt x="48" y="152"/>
                    </a:lnTo>
                    <a:lnTo>
                      <a:pt x="48" y="152"/>
                    </a:lnTo>
                    <a:lnTo>
                      <a:pt x="48" y="152"/>
                    </a:lnTo>
                    <a:lnTo>
                      <a:pt x="48" y="152"/>
                    </a:lnTo>
                    <a:lnTo>
                      <a:pt x="48" y="152"/>
                    </a:lnTo>
                    <a:lnTo>
                      <a:pt x="55" y="152"/>
                    </a:lnTo>
                    <a:lnTo>
                      <a:pt x="55" y="152"/>
                    </a:lnTo>
                    <a:lnTo>
                      <a:pt x="55" y="146"/>
                    </a:lnTo>
                    <a:lnTo>
                      <a:pt x="55" y="146"/>
                    </a:lnTo>
                    <a:lnTo>
                      <a:pt x="55" y="139"/>
                    </a:lnTo>
                    <a:lnTo>
                      <a:pt x="55" y="139"/>
                    </a:lnTo>
                    <a:lnTo>
                      <a:pt x="55" y="139"/>
                    </a:lnTo>
                    <a:lnTo>
                      <a:pt x="55" y="132"/>
                    </a:lnTo>
                    <a:lnTo>
                      <a:pt x="55" y="132"/>
                    </a:lnTo>
                    <a:lnTo>
                      <a:pt x="55" y="132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18"/>
                    </a:lnTo>
                    <a:lnTo>
                      <a:pt x="62" y="118"/>
                    </a:lnTo>
                    <a:lnTo>
                      <a:pt x="62" y="118"/>
                    </a:lnTo>
                    <a:lnTo>
                      <a:pt x="62" y="118"/>
                    </a:lnTo>
                    <a:lnTo>
                      <a:pt x="62" y="118"/>
                    </a:lnTo>
                    <a:lnTo>
                      <a:pt x="69" y="118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83"/>
                    </a:lnTo>
                    <a:lnTo>
                      <a:pt x="69" y="83"/>
                    </a:lnTo>
                    <a:lnTo>
                      <a:pt x="69" y="83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48" y="62"/>
                    </a:lnTo>
                    <a:lnTo>
                      <a:pt x="55" y="55"/>
                    </a:lnTo>
                    <a:lnTo>
                      <a:pt x="55" y="55"/>
                    </a:lnTo>
                    <a:lnTo>
                      <a:pt x="55" y="55"/>
                    </a:lnTo>
                    <a:lnTo>
                      <a:pt x="48" y="55"/>
                    </a:lnTo>
                    <a:lnTo>
                      <a:pt x="55" y="55"/>
                    </a:lnTo>
                    <a:lnTo>
                      <a:pt x="55" y="55"/>
                    </a:lnTo>
                    <a:lnTo>
                      <a:pt x="48" y="55"/>
                    </a:lnTo>
                    <a:lnTo>
                      <a:pt x="55" y="55"/>
                    </a:lnTo>
                    <a:lnTo>
                      <a:pt x="48" y="55"/>
                    </a:lnTo>
                    <a:lnTo>
                      <a:pt x="55" y="55"/>
                    </a:lnTo>
                    <a:lnTo>
                      <a:pt x="48" y="55"/>
                    </a:lnTo>
                    <a:lnTo>
                      <a:pt x="48" y="55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9" y="28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14"/>
                    </a:lnTo>
                    <a:lnTo>
                      <a:pt x="69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556440" y="3823920"/>
                <a:ext cx="164520" cy="188280"/>
              </a:xfrm>
              <a:custGeom>
                <a:avLst/>
                <a:gdLst/>
                <a:ahLst/>
                <a:rect l="l" t="t" r="r" b="b"/>
                <a:pathLst>
                  <a:path w="131" h="160">
                    <a:moveTo>
                      <a:pt x="131" y="160"/>
                    </a:moveTo>
                    <a:lnTo>
                      <a:pt x="131" y="160"/>
                    </a:lnTo>
                    <a:lnTo>
                      <a:pt x="131" y="160"/>
                    </a:lnTo>
                    <a:lnTo>
                      <a:pt x="131" y="160"/>
                    </a:lnTo>
                    <a:lnTo>
                      <a:pt x="131" y="160"/>
                    </a:lnTo>
                    <a:lnTo>
                      <a:pt x="131" y="160"/>
                    </a:lnTo>
                    <a:lnTo>
                      <a:pt x="131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0" y="160"/>
                    </a:lnTo>
                    <a:lnTo>
                      <a:pt x="110" y="160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60"/>
                    </a:lnTo>
                    <a:lnTo>
                      <a:pt x="110" y="160"/>
                    </a:lnTo>
                    <a:lnTo>
                      <a:pt x="103" y="160"/>
                    </a:lnTo>
                    <a:lnTo>
                      <a:pt x="103" y="160"/>
                    </a:lnTo>
                    <a:lnTo>
                      <a:pt x="103" y="160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96" y="153"/>
                    </a:lnTo>
                    <a:lnTo>
                      <a:pt x="96" y="153"/>
                    </a:lnTo>
                    <a:lnTo>
                      <a:pt x="96" y="153"/>
                    </a:lnTo>
                    <a:lnTo>
                      <a:pt x="96" y="153"/>
                    </a:lnTo>
                    <a:lnTo>
                      <a:pt x="96" y="153"/>
                    </a:lnTo>
                    <a:lnTo>
                      <a:pt x="96" y="146"/>
                    </a:lnTo>
                    <a:lnTo>
                      <a:pt x="96" y="146"/>
                    </a:lnTo>
                    <a:lnTo>
                      <a:pt x="48" y="146"/>
                    </a:lnTo>
                    <a:lnTo>
                      <a:pt x="14" y="146"/>
                    </a:lnTo>
                    <a:lnTo>
                      <a:pt x="7" y="146"/>
                    </a:lnTo>
                    <a:lnTo>
                      <a:pt x="7" y="146"/>
                    </a:lnTo>
                    <a:lnTo>
                      <a:pt x="7" y="146"/>
                    </a:lnTo>
                    <a:lnTo>
                      <a:pt x="7" y="146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14" y="132"/>
                    </a:lnTo>
                    <a:lnTo>
                      <a:pt x="14" y="132"/>
                    </a:lnTo>
                    <a:lnTo>
                      <a:pt x="14" y="132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18"/>
                    </a:lnTo>
                    <a:lnTo>
                      <a:pt x="14" y="118"/>
                    </a:lnTo>
                    <a:lnTo>
                      <a:pt x="14" y="118"/>
                    </a:lnTo>
                    <a:lnTo>
                      <a:pt x="14" y="118"/>
                    </a:lnTo>
                    <a:lnTo>
                      <a:pt x="14" y="118"/>
                    </a:lnTo>
                    <a:lnTo>
                      <a:pt x="7" y="118"/>
                    </a:lnTo>
                    <a:lnTo>
                      <a:pt x="14" y="118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7" y="97"/>
                    </a:lnTo>
                    <a:lnTo>
                      <a:pt x="7" y="97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7" y="70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448160" y="4134240"/>
                <a:ext cx="776520" cy="709200"/>
              </a:xfrm>
              <a:custGeom>
                <a:avLst/>
                <a:gdLst/>
                <a:ahLst/>
                <a:rect l="l" t="t" r="r" b="b"/>
                <a:pathLst>
                  <a:path w="617" h="603">
                    <a:moveTo>
                      <a:pt x="0" y="437"/>
                    </a:move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88"/>
                    </a:lnTo>
                    <a:lnTo>
                      <a:pt x="13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68"/>
                    </a:lnTo>
                    <a:lnTo>
                      <a:pt x="34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54"/>
                    </a:lnTo>
                    <a:lnTo>
                      <a:pt x="41" y="354"/>
                    </a:lnTo>
                    <a:lnTo>
                      <a:pt x="48" y="354"/>
                    </a:lnTo>
                    <a:lnTo>
                      <a:pt x="48" y="361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54" y="354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48" y="347"/>
                    </a:lnTo>
                    <a:lnTo>
                      <a:pt x="48" y="347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26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61" y="333"/>
                    </a:lnTo>
                    <a:lnTo>
                      <a:pt x="54" y="326"/>
                    </a:lnTo>
                    <a:lnTo>
                      <a:pt x="54" y="326"/>
                    </a:lnTo>
                    <a:lnTo>
                      <a:pt x="54" y="326"/>
                    </a:lnTo>
                    <a:lnTo>
                      <a:pt x="61" y="326"/>
                    </a:lnTo>
                    <a:lnTo>
                      <a:pt x="54" y="326"/>
                    </a:lnTo>
                    <a:lnTo>
                      <a:pt x="61" y="326"/>
                    </a:lnTo>
                    <a:lnTo>
                      <a:pt x="54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8" y="319"/>
                    </a:lnTo>
                    <a:lnTo>
                      <a:pt x="68" y="319"/>
                    </a:lnTo>
                    <a:lnTo>
                      <a:pt x="68" y="319"/>
                    </a:lnTo>
                    <a:lnTo>
                      <a:pt x="75" y="319"/>
                    </a:lnTo>
                    <a:lnTo>
                      <a:pt x="75" y="319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89" y="298"/>
                    </a:lnTo>
                    <a:lnTo>
                      <a:pt x="89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84"/>
                    </a:lnTo>
                    <a:lnTo>
                      <a:pt x="116" y="284"/>
                    </a:lnTo>
                    <a:lnTo>
                      <a:pt x="123" y="284"/>
                    </a:lnTo>
                    <a:lnTo>
                      <a:pt x="123" y="284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30" y="270"/>
                    </a:lnTo>
                    <a:lnTo>
                      <a:pt x="130" y="270"/>
                    </a:lnTo>
                    <a:lnTo>
                      <a:pt x="123" y="270"/>
                    </a:lnTo>
                    <a:lnTo>
                      <a:pt x="123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7" y="250"/>
                    </a:lnTo>
                    <a:lnTo>
                      <a:pt x="137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36"/>
                    </a:lnTo>
                    <a:lnTo>
                      <a:pt x="137" y="236"/>
                    </a:lnTo>
                    <a:lnTo>
                      <a:pt x="137" y="236"/>
                    </a:lnTo>
                    <a:lnTo>
                      <a:pt x="137" y="236"/>
                    </a:lnTo>
                    <a:lnTo>
                      <a:pt x="144" y="236"/>
                    </a:lnTo>
                    <a:lnTo>
                      <a:pt x="144" y="229"/>
                    </a:lnTo>
                    <a:lnTo>
                      <a:pt x="144" y="229"/>
                    </a:lnTo>
                    <a:lnTo>
                      <a:pt x="144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2"/>
                    </a:lnTo>
                    <a:lnTo>
                      <a:pt x="151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64" y="222"/>
                    </a:lnTo>
                    <a:lnTo>
                      <a:pt x="164" y="222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71" y="222"/>
                    </a:lnTo>
                    <a:lnTo>
                      <a:pt x="178" y="222"/>
                    </a:lnTo>
                    <a:lnTo>
                      <a:pt x="178" y="222"/>
                    </a:lnTo>
                    <a:lnTo>
                      <a:pt x="178" y="215"/>
                    </a:lnTo>
                    <a:lnTo>
                      <a:pt x="185" y="215"/>
                    </a:lnTo>
                    <a:lnTo>
                      <a:pt x="185" y="215"/>
                    </a:lnTo>
                    <a:lnTo>
                      <a:pt x="178" y="215"/>
                    </a:lnTo>
                    <a:lnTo>
                      <a:pt x="178" y="215"/>
                    </a:lnTo>
                    <a:lnTo>
                      <a:pt x="185" y="215"/>
                    </a:lnTo>
                    <a:lnTo>
                      <a:pt x="178" y="208"/>
                    </a:lnTo>
                    <a:lnTo>
                      <a:pt x="185" y="208"/>
                    </a:lnTo>
                    <a:lnTo>
                      <a:pt x="185" y="208"/>
                    </a:lnTo>
                    <a:lnTo>
                      <a:pt x="185" y="208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92" y="194"/>
                    </a:lnTo>
                    <a:lnTo>
                      <a:pt x="192" y="187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73"/>
                    </a:lnTo>
                    <a:lnTo>
                      <a:pt x="185" y="173"/>
                    </a:lnTo>
                    <a:lnTo>
                      <a:pt x="192" y="173"/>
                    </a:lnTo>
                    <a:lnTo>
                      <a:pt x="192" y="173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3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199" y="146"/>
                    </a:lnTo>
                    <a:lnTo>
                      <a:pt x="199" y="146"/>
                    </a:lnTo>
                    <a:lnTo>
                      <a:pt x="199" y="146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199" y="139"/>
                    </a:lnTo>
                    <a:lnTo>
                      <a:pt x="199" y="139"/>
                    </a:lnTo>
                    <a:lnTo>
                      <a:pt x="199" y="139"/>
                    </a:lnTo>
                    <a:lnTo>
                      <a:pt x="199" y="132"/>
                    </a:lnTo>
                    <a:lnTo>
                      <a:pt x="199" y="132"/>
                    </a:lnTo>
                    <a:lnTo>
                      <a:pt x="205" y="132"/>
                    </a:lnTo>
                    <a:lnTo>
                      <a:pt x="199" y="132"/>
                    </a:lnTo>
                    <a:lnTo>
                      <a:pt x="205" y="132"/>
                    </a:lnTo>
                    <a:lnTo>
                      <a:pt x="205" y="125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9" y="118"/>
                    </a:lnTo>
                    <a:lnTo>
                      <a:pt x="199" y="118"/>
                    </a:lnTo>
                    <a:lnTo>
                      <a:pt x="199" y="118"/>
                    </a:lnTo>
                    <a:lnTo>
                      <a:pt x="199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04"/>
                    </a:lnTo>
                    <a:lnTo>
                      <a:pt x="205" y="104"/>
                    </a:lnTo>
                    <a:lnTo>
                      <a:pt x="205" y="97"/>
                    </a:lnTo>
                    <a:lnTo>
                      <a:pt x="212" y="97"/>
                    </a:lnTo>
                    <a:lnTo>
                      <a:pt x="212" y="97"/>
                    </a:lnTo>
                    <a:lnTo>
                      <a:pt x="212" y="97"/>
                    </a:lnTo>
                    <a:lnTo>
                      <a:pt x="212" y="90"/>
                    </a:lnTo>
                    <a:lnTo>
                      <a:pt x="219" y="90"/>
                    </a:lnTo>
                    <a:lnTo>
                      <a:pt x="219" y="90"/>
                    </a:lnTo>
                    <a:lnTo>
                      <a:pt x="219" y="90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76"/>
                    </a:lnTo>
                    <a:lnTo>
                      <a:pt x="226" y="76"/>
                    </a:lnTo>
                    <a:lnTo>
                      <a:pt x="226" y="69"/>
                    </a:lnTo>
                    <a:lnTo>
                      <a:pt x="226" y="69"/>
                    </a:lnTo>
                    <a:lnTo>
                      <a:pt x="219" y="69"/>
                    </a:lnTo>
                    <a:lnTo>
                      <a:pt x="219" y="69"/>
                    </a:lnTo>
                    <a:lnTo>
                      <a:pt x="226" y="69"/>
                    </a:lnTo>
                    <a:lnTo>
                      <a:pt x="226" y="69"/>
                    </a:lnTo>
                    <a:lnTo>
                      <a:pt x="226" y="62"/>
                    </a:lnTo>
                    <a:lnTo>
                      <a:pt x="226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48"/>
                    </a:lnTo>
                    <a:lnTo>
                      <a:pt x="226" y="48"/>
                    </a:lnTo>
                    <a:lnTo>
                      <a:pt x="226" y="48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40" y="21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14"/>
                    </a:lnTo>
                    <a:lnTo>
                      <a:pt x="240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60" y="7"/>
                    </a:lnTo>
                    <a:lnTo>
                      <a:pt x="254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0"/>
                    </a:lnTo>
                    <a:lnTo>
                      <a:pt x="260" y="0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47" y="28"/>
                    </a:lnTo>
                    <a:lnTo>
                      <a:pt x="254" y="28"/>
                    </a:lnTo>
                    <a:lnTo>
                      <a:pt x="247" y="28"/>
                    </a:lnTo>
                    <a:lnTo>
                      <a:pt x="254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60" y="48"/>
                    </a:lnTo>
                    <a:lnTo>
                      <a:pt x="260" y="42"/>
                    </a:lnTo>
                    <a:lnTo>
                      <a:pt x="260" y="42"/>
                    </a:lnTo>
                    <a:lnTo>
                      <a:pt x="260" y="48"/>
                    </a:lnTo>
                    <a:lnTo>
                      <a:pt x="260" y="42"/>
                    </a:lnTo>
                    <a:lnTo>
                      <a:pt x="260" y="48"/>
                    </a:lnTo>
                    <a:lnTo>
                      <a:pt x="260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81" y="48"/>
                    </a:lnTo>
                    <a:lnTo>
                      <a:pt x="281" y="48"/>
                    </a:lnTo>
                    <a:lnTo>
                      <a:pt x="281" y="55"/>
                    </a:lnTo>
                    <a:lnTo>
                      <a:pt x="308" y="69"/>
                    </a:lnTo>
                    <a:lnTo>
                      <a:pt x="315" y="69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55"/>
                    </a:lnTo>
                    <a:lnTo>
                      <a:pt x="329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2"/>
                    </a:lnTo>
                    <a:lnTo>
                      <a:pt x="336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8"/>
                    </a:lnTo>
                    <a:lnTo>
                      <a:pt x="350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70" y="42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84" y="48"/>
                    </a:lnTo>
                    <a:lnTo>
                      <a:pt x="377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83"/>
                    </a:lnTo>
                    <a:lnTo>
                      <a:pt x="391" y="83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2"/>
                    </a:lnTo>
                    <a:lnTo>
                      <a:pt x="398" y="62"/>
                    </a:lnTo>
                    <a:lnTo>
                      <a:pt x="398" y="69"/>
                    </a:lnTo>
                    <a:lnTo>
                      <a:pt x="405" y="69"/>
                    </a:lnTo>
                    <a:lnTo>
                      <a:pt x="405" y="62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25" y="69"/>
                    </a:lnTo>
                    <a:lnTo>
                      <a:pt x="418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32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32" y="69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32" y="76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76"/>
                    </a:lnTo>
                    <a:lnTo>
                      <a:pt x="432" y="83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2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83"/>
                    </a:lnTo>
                    <a:lnTo>
                      <a:pt x="446" y="83"/>
                    </a:lnTo>
                    <a:lnTo>
                      <a:pt x="446" y="83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53" y="76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60" y="83"/>
                    </a:lnTo>
                    <a:lnTo>
                      <a:pt x="460" y="83"/>
                    </a:lnTo>
                    <a:lnTo>
                      <a:pt x="460" y="83"/>
                    </a:lnTo>
                    <a:lnTo>
                      <a:pt x="466" y="90"/>
                    </a:lnTo>
                    <a:lnTo>
                      <a:pt x="466" y="90"/>
                    </a:lnTo>
                    <a:lnTo>
                      <a:pt x="466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66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66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80" y="62"/>
                    </a:lnTo>
                    <a:lnTo>
                      <a:pt x="480" y="62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8" y="76"/>
                    </a:lnTo>
                    <a:lnTo>
                      <a:pt x="508" y="76"/>
                    </a:lnTo>
                    <a:lnTo>
                      <a:pt x="508" y="76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14" y="69"/>
                    </a:lnTo>
                    <a:lnTo>
                      <a:pt x="508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8" y="69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35" y="62"/>
                    </a:lnTo>
                    <a:lnTo>
                      <a:pt x="535" y="62"/>
                    </a:lnTo>
                    <a:lnTo>
                      <a:pt x="535" y="62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35" y="62"/>
                    </a:lnTo>
                    <a:lnTo>
                      <a:pt x="535" y="55"/>
                    </a:lnTo>
                    <a:lnTo>
                      <a:pt x="535" y="62"/>
                    </a:lnTo>
                    <a:lnTo>
                      <a:pt x="542" y="62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9" y="48"/>
                    </a:lnTo>
                    <a:lnTo>
                      <a:pt x="556" y="48"/>
                    </a:lnTo>
                    <a:lnTo>
                      <a:pt x="569" y="48"/>
                    </a:lnTo>
                    <a:lnTo>
                      <a:pt x="569" y="48"/>
                    </a:lnTo>
                    <a:lnTo>
                      <a:pt x="576" y="48"/>
                    </a:lnTo>
                    <a:lnTo>
                      <a:pt x="576" y="48"/>
                    </a:lnTo>
                    <a:lnTo>
                      <a:pt x="576" y="48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83" y="42"/>
                    </a:lnTo>
                    <a:lnTo>
                      <a:pt x="583" y="42"/>
                    </a:lnTo>
                    <a:lnTo>
                      <a:pt x="583" y="42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76" y="48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90" y="48"/>
                    </a:lnTo>
                    <a:lnTo>
                      <a:pt x="590" y="48"/>
                    </a:lnTo>
                    <a:lnTo>
                      <a:pt x="590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597" y="48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83" y="55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83"/>
                    </a:lnTo>
                    <a:lnTo>
                      <a:pt x="583" y="83"/>
                    </a:lnTo>
                    <a:lnTo>
                      <a:pt x="583" y="83"/>
                    </a:lnTo>
                    <a:lnTo>
                      <a:pt x="590" y="83"/>
                    </a:lnTo>
                    <a:lnTo>
                      <a:pt x="590" y="83"/>
                    </a:lnTo>
                    <a:lnTo>
                      <a:pt x="590" y="83"/>
                    </a:lnTo>
                    <a:lnTo>
                      <a:pt x="590" y="83"/>
                    </a:lnTo>
                    <a:lnTo>
                      <a:pt x="597" y="83"/>
                    </a:lnTo>
                    <a:lnTo>
                      <a:pt x="597" y="83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83"/>
                    </a:lnTo>
                    <a:lnTo>
                      <a:pt x="604" y="83"/>
                    </a:lnTo>
                    <a:lnTo>
                      <a:pt x="604" y="83"/>
                    </a:lnTo>
                    <a:lnTo>
                      <a:pt x="604" y="83"/>
                    </a:lnTo>
                    <a:lnTo>
                      <a:pt x="604" y="83"/>
                    </a:lnTo>
                    <a:lnTo>
                      <a:pt x="597" y="83"/>
                    </a:lnTo>
                    <a:lnTo>
                      <a:pt x="597" y="90"/>
                    </a:lnTo>
                    <a:lnTo>
                      <a:pt x="597" y="90"/>
                    </a:lnTo>
                    <a:lnTo>
                      <a:pt x="597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7" y="90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7" y="104"/>
                    </a:lnTo>
                    <a:lnTo>
                      <a:pt x="597" y="104"/>
                    </a:lnTo>
                    <a:lnTo>
                      <a:pt x="597" y="104"/>
                    </a:lnTo>
                    <a:lnTo>
                      <a:pt x="597" y="104"/>
                    </a:lnTo>
                    <a:lnTo>
                      <a:pt x="590" y="104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32"/>
                    </a:lnTo>
                    <a:lnTo>
                      <a:pt x="590" y="132"/>
                    </a:lnTo>
                    <a:lnTo>
                      <a:pt x="590" y="132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7" y="146"/>
                    </a:lnTo>
                    <a:lnTo>
                      <a:pt x="597" y="153"/>
                    </a:lnTo>
                    <a:lnTo>
                      <a:pt x="597" y="153"/>
                    </a:lnTo>
                    <a:lnTo>
                      <a:pt x="597" y="153"/>
                    </a:lnTo>
                    <a:lnTo>
                      <a:pt x="597" y="153"/>
                    </a:lnTo>
                    <a:lnTo>
                      <a:pt x="597" y="153"/>
                    </a:lnTo>
                    <a:lnTo>
                      <a:pt x="604" y="153"/>
                    </a:lnTo>
                    <a:lnTo>
                      <a:pt x="604" y="153"/>
                    </a:lnTo>
                    <a:lnTo>
                      <a:pt x="604" y="153"/>
                    </a:lnTo>
                    <a:lnTo>
                      <a:pt x="604" y="153"/>
                    </a:lnTo>
                    <a:lnTo>
                      <a:pt x="604" y="159"/>
                    </a:lnTo>
                    <a:lnTo>
                      <a:pt x="604" y="159"/>
                    </a:lnTo>
                    <a:lnTo>
                      <a:pt x="604" y="153"/>
                    </a:lnTo>
                    <a:lnTo>
                      <a:pt x="604" y="153"/>
                    </a:lnTo>
                    <a:lnTo>
                      <a:pt x="604" y="159"/>
                    </a:lnTo>
                    <a:lnTo>
                      <a:pt x="604" y="159"/>
                    </a:lnTo>
                    <a:lnTo>
                      <a:pt x="604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7" y="159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8"/>
                    </a:lnTo>
                    <a:lnTo>
                      <a:pt x="611" y="208"/>
                    </a:lnTo>
                    <a:lnTo>
                      <a:pt x="611" y="208"/>
                    </a:lnTo>
                    <a:lnTo>
                      <a:pt x="611" y="208"/>
                    </a:lnTo>
                    <a:lnTo>
                      <a:pt x="611" y="208"/>
                    </a:lnTo>
                    <a:lnTo>
                      <a:pt x="604" y="208"/>
                    </a:lnTo>
                    <a:lnTo>
                      <a:pt x="611" y="215"/>
                    </a:lnTo>
                    <a:lnTo>
                      <a:pt x="611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22"/>
                    </a:lnTo>
                    <a:lnTo>
                      <a:pt x="597" y="215"/>
                    </a:lnTo>
                    <a:lnTo>
                      <a:pt x="590" y="215"/>
                    </a:lnTo>
                    <a:lnTo>
                      <a:pt x="590" y="215"/>
                    </a:lnTo>
                    <a:lnTo>
                      <a:pt x="590" y="215"/>
                    </a:lnTo>
                    <a:lnTo>
                      <a:pt x="590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76" y="208"/>
                    </a:lnTo>
                    <a:lnTo>
                      <a:pt x="576" y="201"/>
                    </a:lnTo>
                    <a:lnTo>
                      <a:pt x="576" y="201"/>
                    </a:lnTo>
                    <a:lnTo>
                      <a:pt x="576" y="201"/>
                    </a:lnTo>
                    <a:lnTo>
                      <a:pt x="576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3" y="201"/>
                    </a:lnTo>
                    <a:lnTo>
                      <a:pt x="563" y="201"/>
                    </a:lnTo>
                    <a:lnTo>
                      <a:pt x="563" y="201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9" y="208"/>
                    </a:lnTo>
                    <a:lnTo>
                      <a:pt x="563" y="215"/>
                    </a:lnTo>
                    <a:lnTo>
                      <a:pt x="563" y="215"/>
                    </a:lnTo>
                    <a:lnTo>
                      <a:pt x="563" y="215"/>
                    </a:lnTo>
                    <a:lnTo>
                      <a:pt x="563" y="215"/>
                    </a:lnTo>
                    <a:lnTo>
                      <a:pt x="563" y="222"/>
                    </a:lnTo>
                    <a:lnTo>
                      <a:pt x="563" y="222"/>
                    </a:lnTo>
                    <a:lnTo>
                      <a:pt x="569" y="222"/>
                    </a:lnTo>
                    <a:lnTo>
                      <a:pt x="569" y="222"/>
                    </a:lnTo>
                    <a:lnTo>
                      <a:pt x="569" y="222"/>
                    </a:lnTo>
                    <a:lnTo>
                      <a:pt x="563" y="222"/>
                    </a:lnTo>
                    <a:lnTo>
                      <a:pt x="569" y="222"/>
                    </a:lnTo>
                    <a:lnTo>
                      <a:pt x="569" y="229"/>
                    </a:lnTo>
                    <a:lnTo>
                      <a:pt x="569" y="229"/>
                    </a:lnTo>
                    <a:lnTo>
                      <a:pt x="569" y="229"/>
                    </a:lnTo>
                    <a:lnTo>
                      <a:pt x="569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35" y="222"/>
                    </a:lnTo>
                    <a:lnTo>
                      <a:pt x="535" y="229"/>
                    </a:lnTo>
                    <a:lnTo>
                      <a:pt x="535" y="229"/>
                    </a:lnTo>
                    <a:lnTo>
                      <a:pt x="535" y="229"/>
                    </a:lnTo>
                    <a:lnTo>
                      <a:pt x="535" y="229"/>
                    </a:lnTo>
                    <a:lnTo>
                      <a:pt x="535" y="229"/>
                    </a:lnTo>
                    <a:lnTo>
                      <a:pt x="535" y="236"/>
                    </a:lnTo>
                    <a:lnTo>
                      <a:pt x="535" y="236"/>
                    </a:lnTo>
                    <a:lnTo>
                      <a:pt x="535" y="236"/>
                    </a:lnTo>
                    <a:lnTo>
                      <a:pt x="535" y="236"/>
                    </a:lnTo>
                    <a:lnTo>
                      <a:pt x="535" y="243"/>
                    </a:lnTo>
                    <a:lnTo>
                      <a:pt x="535" y="243"/>
                    </a:lnTo>
                    <a:lnTo>
                      <a:pt x="528" y="243"/>
                    </a:lnTo>
                    <a:lnTo>
                      <a:pt x="535" y="243"/>
                    </a:lnTo>
                    <a:lnTo>
                      <a:pt x="535" y="243"/>
                    </a:lnTo>
                    <a:lnTo>
                      <a:pt x="535" y="243"/>
                    </a:lnTo>
                    <a:lnTo>
                      <a:pt x="535" y="243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35" y="250"/>
                    </a:lnTo>
                    <a:lnTo>
                      <a:pt x="535" y="257"/>
                    </a:lnTo>
                    <a:lnTo>
                      <a:pt x="542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64"/>
                    </a:lnTo>
                    <a:lnTo>
                      <a:pt x="535" y="264"/>
                    </a:lnTo>
                    <a:lnTo>
                      <a:pt x="528" y="264"/>
                    </a:lnTo>
                    <a:lnTo>
                      <a:pt x="528" y="270"/>
                    </a:lnTo>
                    <a:lnTo>
                      <a:pt x="528" y="270"/>
                    </a:lnTo>
                    <a:lnTo>
                      <a:pt x="535" y="270"/>
                    </a:lnTo>
                    <a:lnTo>
                      <a:pt x="535" y="270"/>
                    </a:lnTo>
                    <a:lnTo>
                      <a:pt x="535" y="277"/>
                    </a:lnTo>
                    <a:lnTo>
                      <a:pt x="535" y="277"/>
                    </a:lnTo>
                    <a:lnTo>
                      <a:pt x="542" y="277"/>
                    </a:lnTo>
                    <a:lnTo>
                      <a:pt x="542" y="277"/>
                    </a:lnTo>
                    <a:lnTo>
                      <a:pt x="542" y="277"/>
                    </a:lnTo>
                    <a:lnTo>
                      <a:pt x="542" y="284"/>
                    </a:lnTo>
                    <a:lnTo>
                      <a:pt x="542" y="284"/>
                    </a:lnTo>
                    <a:lnTo>
                      <a:pt x="542" y="284"/>
                    </a:lnTo>
                    <a:lnTo>
                      <a:pt x="542" y="284"/>
                    </a:lnTo>
                    <a:lnTo>
                      <a:pt x="542" y="291"/>
                    </a:lnTo>
                    <a:lnTo>
                      <a:pt x="542" y="291"/>
                    </a:lnTo>
                    <a:lnTo>
                      <a:pt x="542" y="291"/>
                    </a:lnTo>
                    <a:lnTo>
                      <a:pt x="542" y="291"/>
                    </a:lnTo>
                    <a:lnTo>
                      <a:pt x="542" y="298"/>
                    </a:lnTo>
                    <a:lnTo>
                      <a:pt x="542" y="298"/>
                    </a:lnTo>
                    <a:lnTo>
                      <a:pt x="542" y="298"/>
                    </a:lnTo>
                    <a:lnTo>
                      <a:pt x="542" y="298"/>
                    </a:lnTo>
                    <a:lnTo>
                      <a:pt x="528" y="298"/>
                    </a:lnTo>
                    <a:lnTo>
                      <a:pt x="521" y="305"/>
                    </a:lnTo>
                    <a:lnTo>
                      <a:pt x="521" y="305"/>
                    </a:lnTo>
                    <a:lnTo>
                      <a:pt x="521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298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12"/>
                    </a:lnTo>
                    <a:lnTo>
                      <a:pt x="508" y="312"/>
                    </a:lnTo>
                    <a:lnTo>
                      <a:pt x="508" y="312"/>
                    </a:lnTo>
                    <a:lnTo>
                      <a:pt x="508" y="312"/>
                    </a:lnTo>
                    <a:lnTo>
                      <a:pt x="501" y="312"/>
                    </a:lnTo>
                    <a:lnTo>
                      <a:pt x="501" y="305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298"/>
                    </a:lnTo>
                    <a:lnTo>
                      <a:pt x="494" y="305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1"/>
                    </a:lnTo>
                    <a:lnTo>
                      <a:pt x="494" y="291"/>
                    </a:lnTo>
                    <a:lnTo>
                      <a:pt x="494" y="291"/>
                    </a:lnTo>
                    <a:lnTo>
                      <a:pt x="494" y="291"/>
                    </a:lnTo>
                    <a:lnTo>
                      <a:pt x="501" y="291"/>
                    </a:lnTo>
                    <a:lnTo>
                      <a:pt x="494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77"/>
                    </a:lnTo>
                    <a:lnTo>
                      <a:pt x="501" y="277"/>
                    </a:lnTo>
                    <a:lnTo>
                      <a:pt x="501" y="277"/>
                    </a:lnTo>
                    <a:lnTo>
                      <a:pt x="501" y="277"/>
                    </a:lnTo>
                    <a:lnTo>
                      <a:pt x="501" y="270"/>
                    </a:lnTo>
                    <a:lnTo>
                      <a:pt x="501" y="270"/>
                    </a:lnTo>
                    <a:lnTo>
                      <a:pt x="501" y="270"/>
                    </a:lnTo>
                    <a:lnTo>
                      <a:pt x="501" y="270"/>
                    </a:lnTo>
                    <a:lnTo>
                      <a:pt x="494" y="270"/>
                    </a:lnTo>
                    <a:lnTo>
                      <a:pt x="494" y="270"/>
                    </a:lnTo>
                    <a:lnTo>
                      <a:pt x="494" y="270"/>
                    </a:lnTo>
                    <a:lnTo>
                      <a:pt x="494" y="270"/>
                    </a:lnTo>
                    <a:lnTo>
                      <a:pt x="494" y="270"/>
                    </a:lnTo>
                    <a:lnTo>
                      <a:pt x="494" y="264"/>
                    </a:lnTo>
                    <a:lnTo>
                      <a:pt x="487" y="264"/>
                    </a:lnTo>
                    <a:lnTo>
                      <a:pt x="480" y="264"/>
                    </a:lnTo>
                    <a:lnTo>
                      <a:pt x="473" y="264"/>
                    </a:lnTo>
                    <a:lnTo>
                      <a:pt x="460" y="264"/>
                    </a:lnTo>
                    <a:lnTo>
                      <a:pt x="439" y="264"/>
                    </a:lnTo>
                    <a:lnTo>
                      <a:pt x="439" y="264"/>
                    </a:lnTo>
                    <a:lnTo>
                      <a:pt x="425" y="264"/>
                    </a:lnTo>
                    <a:lnTo>
                      <a:pt x="425" y="264"/>
                    </a:lnTo>
                    <a:lnTo>
                      <a:pt x="425" y="277"/>
                    </a:lnTo>
                    <a:lnTo>
                      <a:pt x="425" y="277"/>
                    </a:lnTo>
                    <a:lnTo>
                      <a:pt x="425" y="277"/>
                    </a:lnTo>
                    <a:lnTo>
                      <a:pt x="425" y="277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91"/>
                    </a:lnTo>
                    <a:lnTo>
                      <a:pt x="425" y="291"/>
                    </a:lnTo>
                    <a:lnTo>
                      <a:pt x="418" y="291"/>
                    </a:lnTo>
                    <a:lnTo>
                      <a:pt x="418" y="291"/>
                    </a:lnTo>
                    <a:lnTo>
                      <a:pt x="418" y="291"/>
                    </a:lnTo>
                    <a:lnTo>
                      <a:pt x="418" y="291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305"/>
                    </a:lnTo>
                    <a:lnTo>
                      <a:pt x="418" y="298"/>
                    </a:lnTo>
                    <a:lnTo>
                      <a:pt x="418" y="305"/>
                    </a:lnTo>
                    <a:lnTo>
                      <a:pt x="418" y="305"/>
                    </a:lnTo>
                    <a:lnTo>
                      <a:pt x="418" y="305"/>
                    </a:lnTo>
                    <a:lnTo>
                      <a:pt x="418" y="305"/>
                    </a:lnTo>
                    <a:lnTo>
                      <a:pt x="418" y="305"/>
                    </a:lnTo>
                    <a:lnTo>
                      <a:pt x="418" y="312"/>
                    </a:lnTo>
                    <a:lnTo>
                      <a:pt x="418" y="312"/>
                    </a:lnTo>
                    <a:lnTo>
                      <a:pt x="418" y="312"/>
                    </a:lnTo>
                    <a:lnTo>
                      <a:pt x="432" y="312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46" y="312"/>
                    </a:lnTo>
                    <a:lnTo>
                      <a:pt x="460" y="312"/>
                    </a:lnTo>
                    <a:lnTo>
                      <a:pt x="466" y="312"/>
                    </a:lnTo>
                    <a:lnTo>
                      <a:pt x="473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494" y="319"/>
                    </a:lnTo>
                    <a:lnTo>
                      <a:pt x="494" y="319"/>
                    </a:lnTo>
                    <a:lnTo>
                      <a:pt x="501" y="319"/>
                    </a:lnTo>
                    <a:lnTo>
                      <a:pt x="494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33"/>
                    </a:lnTo>
                    <a:lnTo>
                      <a:pt x="501" y="333"/>
                    </a:lnTo>
                    <a:lnTo>
                      <a:pt x="494" y="333"/>
                    </a:lnTo>
                    <a:lnTo>
                      <a:pt x="494" y="333"/>
                    </a:lnTo>
                    <a:lnTo>
                      <a:pt x="494" y="333"/>
                    </a:lnTo>
                    <a:lnTo>
                      <a:pt x="494" y="333"/>
                    </a:lnTo>
                    <a:lnTo>
                      <a:pt x="494" y="333"/>
                    </a:lnTo>
                    <a:lnTo>
                      <a:pt x="494" y="340"/>
                    </a:lnTo>
                    <a:lnTo>
                      <a:pt x="494" y="340"/>
                    </a:lnTo>
                    <a:lnTo>
                      <a:pt x="494" y="340"/>
                    </a:lnTo>
                    <a:lnTo>
                      <a:pt x="487" y="340"/>
                    </a:lnTo>
                    <a:lnTo>
                      <a:pt x="494" y="347"/>
                    </a:lnTo>
                    <a:lnTo>
                      <a:pt x="487" y="347"/>
                    </a:lnTo>
                    <a:lnTo>
                      <a:pt x="487" y="347"/>
                    </a:lnTo>
                    <a:lnTo>
                      <a:pt x="487" y="347"/>
                    </a:lnTo>
                    <a:lnTo>
                      <a:pt x="487" y="347"/>
                    </a:lnTo>
                    <a:lnTo>
                      <a:pt x="487" y="347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61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61"/>
                    </a:lnTo>
                    <a:lnTo>
                      <a:pt x="494" y="361"/>
                    </a:lnTo>
                    <a:lnTo>
                      <a:pt x="494" y="361"/>
                    </a:lnTo>
                    <a:lnTo>
                      <a:pt x="494" y="361"/>
                    </a:lnTo>
                    <a:lnTo>
                      <a:pt x="494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8"/>
                    </a:lnTo>
                    <a:lnTo>
                      <a:pt x="508" y="361"/>
                    </a:lnTo>
                    <a:lnTo>
                      <a:pt x="508" y="368"/>
                    </a:lnTo>
                    <a:lnTo>
                      <a:pt x="508" y="361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81"/>
                    </a:lnTo>
                    <a:lnTo>
                      <a:pt x="508" y="375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8"/>
                    </a:lnTo>
                    <a:lnTo>
                      <a:pt x="508" y="381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14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402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501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87" y="416"/>
                    </a:lnTo>
                    <a:lnTo>
                      <a:pt x="494" y="416"/>
                    </a:lnTo>
                    <a:lnTo>
                      <a:pt x="487" y="416"/>
                    </a:lnTo>
                    <a:lnTo>
                      <a:pt x="494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7" y="430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94" y="437"/>
                    </a:lnTo>
                    <a:lnTo>
                      <a:pt x="494" y="437"/>
                    </a:lnTo>
                    <a:lnTo>
                      <a:pt x="494" y="437"/>
                    </a:lnTo>
                    <a:lnTo>
                      <a:pt x="494" y="437"/>
                    </a:lnTo>
                    <a:lnTo>
                      <a:pt x="494" y="437"/>
                    </a:lnTo>
                    <a:lnTo>
                      <a:pt x="501" y="437"/>
                    </a:lnTo>
                    <a:lnTo>
                      <a:pt x="501" y="437"/>
                    </a:lnTo>
                    <a:lnTo>
                      <a:pt x="501" y="437"/>
                    </a:lnTo>
                    <a:lnTo>
                      <a:pt x="501" y="437"/>
                    </a:lnTo>
                    <a:lnTo>
                      <a:pt x="501" y="444"/>
                    </a:lnTo>
                    <a:lnTo>
                      <a:pt x="501" y="444"/>
                    </a:lnTo>
                    <a:lnTo>
                      <a:pt x="508" y="444"/>
                    </a:lnTo>
                    <a:lnTo>
                      <a:pt x="508" y="444"/>
                    </a:lnTo>
                    <a:lnTo>
                      <a:pt x="508" y="444"/>
                    </a:lnTo>
                    <a:lnTo>
                      <a:pt x="501" y="444"/>
                    </a:lnTo>
                    <a:lnTo>
                      <a:pt x="501" y="451"/>
                    </a:lnTo>
                    <a:lnTo>
                      <a:pt x="501" y="451"/>
                    </a:lnTo>
                    <a:lnTo>
                      <a:pt x="508" y="451"/>
                    </a:lnTo>
                    <a:lnTo>
                      <a:pt x="501" y="451"/>
                    </a:lnTo>
                    <a:lnTo>
                      <a:pt x="501" y="451"/>
                    </a:lnTo>
                    <a:lnTo>
                      <a:pt x="501" y="451"/>
                    </a:lnTo>
                    <a:lnTo>
                      <a:pt x="501" y="451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494" y="458"/>
                    </a:lnTo>
                    <a:lnTo>
                      <a:pt x="494" y="458"/>
                    </a:lnTo>
                    <a:lnTo>
                      <a:pt x="494" y="458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92"/>
                    </a:lnTo>
                    <a:lnTo>
                      <a:pt x="494" y="492"/>
                    </a:lnTo>
                    <a:lnTo>
                      <a:pt x="494" y="492"/>
                    </a:lnTo>
                    <a:lnTo>
                      <a:pt x="494" y="492"/>
                    </a:lnTo>
                    <a:lnTo>
                      <a:pt x="494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9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9"/>
                    </a:lnTo>
                    <a:lnTo>
                      <a:pt x="480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13"/>
                    </a:lnTo>
                    <a:lnTo>
                      <a:pt x="466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53" y="513"/>
                    </a:lnTo>
                    <a:lnTo>
                      <a:pt x="460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20"/>
                    </a:lnTo>
                    <a:lnTo>
                      <a:pt x="453" y="520"/>
                    </a:lnTo>
                    <a:lnTo>
                      <a:pt x="453" y="520"/>
                    </a:lnTo>
                    <a:lnTo>
                      <a:pt x="446" y="513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13"/>
                    </a:lnTo>
                    <a:lnTo>
                      <a:pt x="446" y="513"/>
                    </a:lnTo>
                    <a:lnTo>
                      <a:pt x="446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1" y="506"/>
                    </a:lnTo>
                    <a:lnTo>
                      <a:pt x="411" y="506"/>
                    </a:lnTo>
                    <a:lnTo>
                      <a:pt x="411" y="506"/>
                    </a:lnTo>
                    <a:lnTo>
                      <a:pt x="411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1" y="506"/>
                    </a:lnTo>
                    <a:lnTo>
                      <a:pt x="391" y="506"/>
                    </a:lnTo>
                    <a:lnTo>
                      <a:pt x="391" y="506"/>
                    </a:lnTo>
                    <a:lnTo>
                      <a:pt x="384" y="506"/>
                    </a:lnTo>
                    <a:lnTo>
                      <a:pt x="391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77" y="506"/>
                    </a:lnTo>
                    <a:lnTo>
                      <a:pt x="377" y="506"/>
                    </a:lnTo>
                    <a:lnTo>
                      <a:pt x="377" y="506"/>
                    </a:lnTo>
                    <a:lnTo>
                      <a:pt x="377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63" y="506"/>
                    </a:lnTo>
                    <a:lnTo>
                      <a:pt x="363" y="506"/>
                    </a:lnTo>
                    <a:lnTo>
                      <a:pt x="363" y="506"/>
                    </a:lnTo>
                    <a:lnTo>
                      <a:pt x="363" y="506"/>
                    </a:lnTo>
                    <a:lnTo>
                      <a:pt x="363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13"/>
                    </a:lnTo>
                    <a:lnTo>
                      <a:pt x="350" y="513"/>
                    </a:lnTo>
                    <a:lnTo>
                      <a:pt x="350" y="513"/>
                    </a:lnTo>
                    <a:lnTo>
                      <a:pt x="350" y="513"/>
                    </a:lnTo>
                    <a:lnTo>
                      <a:pt x="350" y="513"/>
                    </a:lnTo>
                    <a:lnTo>
                      <a:pt x="350" y="513"/>
                    </a:lnTo>
                    <a:lnTo>
                      <a:pt x="350" y="506"/>
                    </a:lnTo>
                    <a:lnTo>
                      <a:pt x="350" y="506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2" y="527"/>
                    </a:lnTo>
                    <a:lnTo>
                      <a:pt x="322" y="534"/>
                    </a:lnTo>
                    <a:lnTo>
                      <a:pt x="322" y="534"/>
                    </a:lnTo>
                    <a:lnTo>
                      <a:pt x="322" y="534"/>
                    </a:lnTo>
                    <a:lnTo>
                      <a:pt x="322" y="534"/>
                    </a:lnTo>
                    <a:lnTo>
                      <a:pt x="322" y="527"/>
                    </a:lnTo>
                    <a:lnTo>
                      <a:pt x="315" y="527"/>
                    </a:lnTo>
                    <a:lnTo>
                      <a:pt x="315" y="527"/>
                    </a:lnTo>
                    <a:lnTo>
                      <a:pt x="315" y="520"/>
                    </a:lnTo>
                    <a:lnTo>
                      <a:pt x="315" y="520"/>
                    </a:lnTo>
                    <a:lnTo>
                      <a:pt x="315" y="520"/>
                    </a:lnTo>
                    <a:lnTo>
                      <a:pt x="315" y="520"/>
                    </a:lnTo>
                    <a:lnTo>
                      <a:pt x="315" y="520"/>
                    </a:lnTo>
                    <a:lnTo>
                      <a:pt x="308" y="520"/>
                    </a:lnTo>
                    <a:lnTo>
                      <a:pt x="308" y="520"/>
                    </a:lnTo>
                    <a:lnTo>
                      <a:pt x="308" y="520"/>
                    </a:lnTo>
                    <a:lnTo>
                      <a:pt x="308" y="527"/>
                    </a:lnTo>
                    <a:lnTo>
                      <a:pt x="308" y="520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88" y="534"/>
                    </a:lnTo>
                    <a:lnTo>
                      <a:pt x="288" y="534"/>
                    </a:lnTo>
                    <a:lnTo>
                      <a:pt x="288" y="527"/>
                    </a:lnTo>
                    <a:lnTo>
                      <a:pt x="288" y="534"/>
                    </a:lnTo>
                    <a:lnTo>
                      <a:pt x="288" y="527"/>
                    </a:lnTo>
                    <a:lnTo>
                      <a:pt x="281" y="527"/>
                    </a:lnTo>
                    <a:lnTo>
                      <a:pt x="281" y="527"/>
                    </a:lnTo>
                    <a:lnTo>
                      <a:pt x="281" y="527"/>
                    </a:lnTo>
                    <a:lnTo>
                      <a:pt x="281" y="527"/>
                    </a:lnTo>
                    <a:lnTo>
                      <a:pt x="281" y="527"/>
                    </a:lnTo>
                    <a:lnTo>
                      <a:pt x="274" y="527"/>
                    </a:lnTo>
                    <a:lnTo>
                      <a:pt x="274" y="527"/>
                    </a:lnTo>
                    <a:lnTo>
                      <a:pt x="274" y="527"/>
                    </a:lnTo>
                    <a:lnTo>
                      <a:pt x="267" y="527"/>
                    </a:lnTo>
                    <a:lnTo>
                      <a:pt x="267" y="527"/>
                    </a:lnTo>
                    <a:lnTo>
                      <a:pt x="267" y="534"/>
                    </a:lnTo>
                    <a:lnTo>
                      <a:pt x="267" y="534"/>
                    </a:lnTo>
                    <a:lnTo>
                      <a:pt x="267" y="534"/>
                    </a:lnTo>
                    <a:lnTo>
                      <a:pt x="260" y="534"/>
                    </a:lnTo>
                    <a:lnTo>
                      <a:pt x="254" y="534"/>
                    </a:lnTo>
                    <a:lnTo>
                      <a:pt x="254" y="534"/>
                    </a:lnTo>
                    <a:lnTo>
                      <a:pt x="254" y="534"/>
                    </a:lnTo>
                    <a:lnTo>
                      <a:pt x="247" y="534"/>
                    </a:lnTo>
                    <a:lnTo>
                      <a:pt x="247" y="534"/>
                    </a:lnTo>
                    <a:lnTo>
                      <a:pt x="247" y="534"/>
                    </a:lnTo>
                    <a:lnTo>
                      <a:pt x="247" y="534"/>
                    </a:lnTo>
                    <a:lnTo>
                      <a:pt x="247" y="541"/>
                    </a:lnTo>
                    <a:lnTo>
                      <a:pt x="247" y="541"/>
                    </a:lnTo>
                    <a:lnTo>
                      <a:pt x="240" y="548"/>
                    </a:lnTo>
                    <a:lnTo>
                      <a:pt x="240" y="548"/>
                    </a:lnTo>
                    <a:lnTo>
                      <a:pt x="240" y="548"/>
                    </a:lnTo>
                    <a:lnTo>
                      <a:pt x="240" y="548"/>
                    </a:lnTo>
                    <a:lnTo>
                      <a:pt x="240" y="548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26" y="555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26" y="569"/>
                    </a:lnTo>
                    <a:lnTo>
                      <a:pt x="226" y="569"/>
                    </a:lnTo>
                    <a:lnTo>
                      <a:pt x="226" y="576"/>
                    </a:lnTo>
                    <a:lnTo>
                      <a:pt x="226" y="576"/>
                    </a:lnTo>
                    <a:lnTo>
                      <a:pt x="219" y="576"/>
                    </a:lnTo>
                    <a:lnTo>
                      <a:pt x="219" y="576"/>
                    </a:lnTo>
                    <a:lnTo>
                      <a:pt x="219" y="576"/>
                    </a:lnTo>
                    <a:lnTo>
                      <a:pt x="219" y="576"/>
                    </a:lnTo>
                    <a:lnTo>
                      <a:pt x="212" y="576"/>
                    </a:lnTo>
                    <a:lnTo>
                      <a:pt x="212" y="576"/>
                    </a:lnTo>
                    <a:lnTo>
                      <a:pt x="212" y="576"/>
                    </a:lnTo>
                    <a:lnTo>
                      <a:pt x="212" y="583"/>
                    </a:lnTo>
                    <a:lnTo>
                      <a:pt x="212" y="583"/>
                    </a:lnTo>
                    <a:lnTo>
                      <a:pt x="205" y="583"/>
                    </a:lnTo>
                    <a:lnTo>
                      <a:pt x="205" y="583"/>
                    </a:lnTo>
                    <a:lnTo>
                      <a:pt x="205" y="590"/>
                    </a:lnTo>
                    <a:lnTo>
                      <a:pt x="205" y="590"/>
                    </a:lnTo>
                    <a:lnTo>
                      <a:pt x="205" y="590"/>
                    </a:lnTo>
                    <a:lnTo>
                      <a:pt x="205" y="590"/>
                    </a:lnTo>
                    <a:lnTo>
                      <a:pt x="199" y="596"/>
                    </a:lnTo>
                    <a:lnTo>
                      <a:pt x="199" y="596"/>
                    </a:lnTo>
                    <a:lnTo>
                      <a:pt x="199" y="596"/>
                    </a:lnTo>
                    <a:lnTo>
                      <a:pt x="199" y="596"/>
                    </a:lnTo>
                    <a:lnTo>
                      <a:pt x="199" y="596"/>
                    </a:lnTo>
                    <a:lnTo>
                      <a:pt x="205" y="603"/>
                    </a:lnTo>
                    <a:lnTo>
                      <a:pt x="205" y="603"/>
                    </a:lnTo>
                    <a:lnTo>
                      <a:pt x="205" y="603"/>
                    </a:lnTo>
                    <a:lnTo>
                      <a:pt x="205" y="603"/>
                    </a:lnTo>
                    <a:lnTo>
                      <a:pt x="199" y="603"/>
                    </a:lnTo>
                    <a:lnTo>
                      <a:pt x="192" y="603"/>
                    </a:lnTo>
                    <a:lnTo>
                      <a:pt x="192" y="603"/>
                    </a:lnTo>
                    <a:lnTo>
                      <a:pt x="192" y="596"/>
                    </a:lnTo>
                    <a:lnTo>
                      <a:pt x="192" y="596"/>
                    </a:lnTo>
                    <a:lnTo>
                      <a:pt x="192" y="596"/>
                    </a:lnTo>
                    <a:lnTo>
                      <a:pt x="192" y="596"/>
                    </a:lnTo>
                    <a:lnTo>
                      <a:pt x="192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78" y="590"/>
                    </a:lnTo>
                    <a:lnTo>
                      <a:pt x="178" y="590"/>
                    </a:lnTo>
                    <a:lnTo>
                      <a:pt x="178" y="590"/>
                    </a:lnTo>
                    <a:lnTo>
                      <a:pt x="178" y="590"/>
                    </a:lnTo>
                    <a:lnTo>
                      <a:pt x="178" y="583"/>
                    </a:lnTo>
                    <a:lnTo>
                      <a:pt x="171" y="590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57" y="583"/>
                    </a:lnTo>
                    <a:lnTo>
                      <a:pt x="157" y="583"/>
                    </a:lnTo>
                    <a:lnTo>
                      <a:pt x="157" y="576"/>
                    </a:lnTo>
                    <a:lnTo>
                      <a:pt x="157" y="576"/>
                    </a:lnTo>
                    <a:lnTo>
                      <a:pt x="157" y="576"/>
                    </a:lnTo>
                    <a:lnTo>
                      <a:pt x="157" y="576"/>
                    </a:lnTo>
                    <a:lnTo>
                      <a:pt x="151" y="576"/>
                    </a:lnTo>
                    <a:lnTo>
                      <a:pt x="157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0" y="576"/>
                    </a:lnTo>
                    <a:lnTo>
                      <a:pt x="130" y="569"/>
                    </a:lnTo>
                    <a:lnTo>
                      <a:pt x="130" y="569"/>
                    </a:lnTo>
                    <a:lnTo>
                      <a:pt x="130" y="569"/>
                    </a:lnTo>
                    <a:lnTo>
                      <a:pt x="130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16" y="569"/>
                    </a:lnTo>
                    <a:lnTo>
                      <a:pt x="116" y="569"/>
                    </a:lnTo>
                    <a:lnTo>
                      <a:pt x="116" y="569"/>
                    </a:lnTo>
                    <a:lnTo>
                      <a:pt x="116" y="569"/>
                    </a:lnTo>
                    <a:lnTo>
                      <a:pt x="116" y="562"/>
                    </a:lnTo>
                    <a:lnTo>
                      <a:pt x="116" y="569"/>
                    </a:lnTo>
                    <a:lnTo>
                      <a:pt x="116" y="562"/>
                    </a:lnTo>
                    <a:lnTo>
                      <a:pt x="116" y="562"/>
                    </a:lnTo>
                    <a:lnTo>
                      <a:pt x="116" y="562"/>
                    </a:lnTo>
                    <a:lnTo>
                      <a:pt x="116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55"/>
                    </a:lnTo>
                    <a:lnTo>
                      <a:pt x="103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89" y="555"/>
                    </a:lnTo>
                    <a:lnTo>
                      <a:pt x="89" y="555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2" y="548"/>
                    </a:lnTo>
                    <a:lnTo>
                      <a:pt x="82" y="548"/>
                    </a:lnTo>
                    <a:lnTo>
                      <a:pt x="82" y="548"/>
                    </a:lnTo>
                    <a:lnTo>
                      <a:pt x="82" y="548"/>
                    </a:lnTo>
                    <a:lnTo>
                      <a:pt x="82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1"/>
                    </a:lnTo>
                    <a:lnTo>
                      <a:pt x="75" y="541"/>
                    </a:lnTo>
                    <a:lnTo>
                      <a:pt x="75" y="541"/>
                    </a:lnTo>
                    <a:lnTo>
                      <a:pt x="75" y="541"/>
                    </a:lnTo>
                    <a:lnTo>
                      <a:pt x="75" y="541"/>
                    </a:lnTo>
                    <a:lnTo>
                      <a:pt x="68" y="541"/>
                    </a:lnTo>
                    <a:lnTo>
                      <a:pt x="68" y="541"/>
                    </a:lnTo>
                    <a:lnTo>
                      <a:pt x="68" y="541"/>
                    </a:lnTo>
                    <a:lnTo>
                      <a:pt x="68" y="541"/>
                    </a:lnTo>
                    <a:lnTo>
                      <a:pt x="68" y="541"/>
                    </a:lnTo>
                    <a:lnTo>
                      <a:pt x="68" y="534"/>
                    </a:lnTo>
                    <a:lnTo>
                      <a:pt x="61" y="534"/>
                    </a:lnTo>
                    <a:lnTo>
                      <a:pt x="61" y="534"/>
                    </a:lnTo>
                    <a:lnTo>
                      <a:pt x="61" y="534"/>
                    </a:lnTo>
                    <a:lnTo>
                      <a:pt x="61" y="534"/>
                    </a:lnTo>
                    <a:lnTo>
                      <a:pt x="61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48" y="534"/>
                    </a:lnTo>
                    <a:lnTo>
                      <a:pt x="48" y="534"/>
                    </a:lnTo>
                    <a:lnTo>
                      <a:pt x="48" y="534"/>
                    </a:lnTo>
                    <a:lnTo>
                      <a:pt x="48" y="534"/>
                    </a:lnTo>
                    <a:lnTo>
                      <a:pt x="41" y="534"/>
                    </a:lnTo>
                    <a:lnTo>
                      <a:pt x="41" y="534"/>
                    </a:lnTo>
                    <a:lnTo>
                      <a:pt x="41" y="534"/>
                    </a:lnTo>
                    <a:lnTo>
                      <a:pt x="41" y="534"/>
                    </a:lnTo>
                    <a:lnTo>
                      <a:pt x="41" y="534"/>
                    </a:lnTo>
                    <a:lnTo>
                      <a:pt x="34" y="534"/>
                    </a:lnTo>
                    <a:lnTo>
                      <a:pt x="34" y="534"/>
                    </a:lnTo>
                    <a:lnTo>
                      <a:pt x="34" y="534"/>
                    </a:lnTo>
                    <a:lnTo>
                      <a:pt x="34" y="534"/>
                    </a:lnTo>
                    <a:lnTo>
                      <a:pt x="27" y="534"/>
                    </a:lnTo>
                    <a:lnTo>
                      <a:pt x="27" y="534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0" y="527"/>
                    </a:lnTo>
                    <a:lnTo>
                      <a:pt x="20" y="520"/>
                    </a:lnTo>
                    <a:lnTo>
                      <a:pt x="27" y="520"/>
                    </a:lnTo>
                    <a:lnTo>
                      <a:pt x="27" y="520"/>
                    </a:lnTo>
                    <a:lnTo>
                      <a:pt x="27" y="520"/>
                    </a:lnTo>
                    <a:lnTo>
                      <a:pt x="27" y="520"/>
                    </a:lnTo>
                    <a:lnTo>
                      <a:pt x="27" y="513"/>
                    </a:lnTo>
                    <a:lnTo>
                      <a:pt x="27" y="513"/>
                    </a:lnTo>
                    <a:lnTo>
                      <a:pt x="27" y="513"/>
                    </a:lnTo>
                    <a:lnTo>
                      <a:pt x="34" y="513"/>
                    </a:lnTo>
                    <a:lnTo>
                      <a:pt x="34" y="513"/>
                    </a:lnTo>
                    <a:lnTo>
                      <a:pt x="34" y="513"/>
                    </a:lnTo>
                    <a:lnTo>
                      <a:pt x="41" y="506"/>
                    </a:lnTo>
                    <a:lnTo>
                      <a:pt x="41" y="506"/>
                    </a:lnTo>
                    <a:lnTo>
                      <a:pt x="41" y="506"/>
                    </a:lnTo>
                    <a:lnTo>
                      <a:pt x="41" y="506"/>
                    </a:lnTo>
                    <a:lnTo>
                      <a:pt x="41" y="506"/>
                    </a:lnTo>
                    <a:lnTo>
                      <a:pt x="34" y="506"/>
                    </a:lnTo>
                    <a:lnTo>
                      <a:pt x="34" y="506"/>
                    </a:lnTo>
                    <a:lnTo>
                      <a:pt x="34" y="506"/>
                    </a:lnTo>
                    <a:lnTo>
                      <a:pt x="27" y="506"/>
                    </a:lnTo>
                    <a:lnTo>
                      <a:pt x="27" y="499"/>
                    </a:lnTo>
                    <a:lnTo>
                      <a:pt x="27" y="499"/>
                    </a:lnTo>
                    <a:lnTo>
                      <a:pt x="27" y="499"/>
                    </a:lnTo>
                    <a:lnTo>
                      <a:pt x="20" y="506"/>
                    </a:lnTo>
                    <a:lnTo>
                      <a:pt x="20" y="506"/>
                    </a:lnTo>
                    <a:lnTo>
                      <a:pt x="20" y="506"/>
                    </a:lnTo>
                    <a:lnTo>
                      <a:pt x="13" y="506"/>
                    </a:lnTo>
                    <a:lnTo>
                      <a:pt x="13" y="506"/>
                    </a:lnTo>
                    <a:lnTo>
                      <a:pt x="13" y="506"/>
                    </a:lnTo>
                    <a:lnTo>
                      <a:pt x="13" y="499"/>
                    </a:lnTo>
                    <a:lnTo>
                      <a:pt x="13" y="499"/>
                    </a:lnTo>
                    <a:lnTo>
                      <a:pt x="13" y="492"/>
                    </a:lnTo>
                    <a:lnTo>
                      <a:pt x="6" y="492"/>
                    </a:lnTo>
                    <a:lnTo>
                      <a:pt x="6" y="492"/>
                    </a:lnTo>
                    <a:lnTo>
                      <a:pt x="6" y="486"/>
                    </a:lnTo>
                    <a:lnTo>
                      <a:pt x="6" y="486"/>
                    </a:lnTo>
                    <a:lnTo>
                      <a:pt x="6" y="486"/>
                    </a:lnTo>
                    <a:lnTo>
                      <a:pt x="6" y="486"/>
                    </a:lnTo>
                    <a:lnTo>
                      <a:pt x="13" y="479"/>
                    </a:lnTo>
                    <a:lnTo>
                      <a:pt x="13" y="479"/>
                    </a:lnTo>
                    <a:lnTo>
                      <a:pt x="13" y="479"/>
                    </a:lnTo>
                    <a:lnTo>
                      <a:pt x="13" y="479"/>
                    </a:lnTo>
                    <a:lnTo>
                      <a:pt x="13" y="472"/>
                    </a:lnTo>
                    <a:lnTo>
                      <a:pt x="13" y="472"/>
                    </a:lnTo>
                    <a:lnTo>
                      <a:pt x="13" y="472"/>
                    </a:lnTo>
                    <a:lnTo>
                      <a:pt x="6" y="472"/>
                    </a:lnTo>
                    <a:lnTo>
                      <a:pt x="6" y="472"/>
                    </a:lnTo>
                    <a:lnTo>
                      <a:pt x="6" y="465"/>
                    </a:lnTo>
                    <a:lnTo>
                      <a:pt x="6" y="465"/>
                    </a:lnTo>
                    <a:lnTo>
                      <a:pt x="6" y="465"/>
                    </a:lnTo>
                    <a:lnTo>
                      <a:pt x="6" y="465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0" y="458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448160" y="4134240"/>
                <a:ext cx="760320" cy="514080"/>
              </a:xfrm>
              <a:custGeom>
                <a:avLst/>
                <a:gdLst/>
                <a:ahLst/>
                <a:rect l="l" t="t" r="r" b="b"/>
                <a:pathLst>
                  <a:path w="604" h="437">
                    <a:moveTo>
                      <a:pt x="0" y="437"/>
                    </a:move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88"/>
                    </a:lnTo>
                    <a:lnTo>
                      <a:pt x="13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68"/>
                    </a:lnTo>
                    <a:lnTo>
                      <a:pt x="34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54"/>
                    </a:lnTo>
                    <a:lnTo>
                      <a:pt x="41" y="354"/>
                    </a:lnTo>
                    <a:lnTo>
                      <a:pt x="48" y="354"/>
                    </a:lnTo>
                    <a:lnTo>
                      <a:pt x="48" y="361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54" y="354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48" y="347"/>
                    </a:lnTo>
                    <a:lnTo>
                      <a:pt x="48" y="347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26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61" y="333"/>
                    </a:lnTo>
                    <a:lnTo>
                      <a:pt x="54" y="326"/>
                    </a:lnTo>
                    <a:lnTo>
                      <a:pt x="54" y="326"/>
                    </a:lnTo>
                    <a:lnTo>
                      <a:pt x="54" y="326"/>
                    </a:lnTo>
                    <a:lnTo>
                      <a:pt x="61" y="326"/>
                    </a:lnTo>
                    <a:lnTo>
                      <a:pt x="54" y="326"/>
                    </a:lnTo>
                    <a:lnTo>
                      <a:pt x="61" y="326"/>
                    </a:lnTo>
                    <a:lnTo>
                      <a:pt x="54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8" y="319"/>
                    </a:lnTo>
                    <a:lnTo>
                      <a:pt x="68" y="319"/>
                    </a:lnTo>
                    <a:lnTo>
                      <a:pt x="68" y="319"/>
                    </a:lnTo>
                    <a:lnTo>
                      <a:pt x="75" y="319"/>
                    </a:lnTo>
                    <a:lnTo>
                      <a:pt x="75" y="319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89" y="298"/>
                    </a:lnTo>
                    <a:lnTo>
                      <a:pt x="89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84"/>
                    </a:lnTo>
                    <a:lnTo>
                      <a:pt x="116" y="284"/>
                    </a:lnTo>
                    <a:lnTo>
                      <a:pt x="123" y="284"/>
                    </a:lnTo>
                    <a:lnTo>
                      <a:pt x="123" y="284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30" y="270"/>
                    </a:lnTo>
                    <a:lnTo>
                      <a:pt x="130" y="270"/>
                    </a:lnTo>
                    <a:lnTo>
                      <a:pt x="123" y="270"/>
                    </a:lnTo>
                    <a:lnTo>
                      <a:pt x="123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7" y="250"/>
                    </a:lnTo>
                    <a:lnTo>
                      <a:pt x="137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36"/>
                    </a:lnTo>
                    <a:lnTo>
                      <a:pt x="137" y="236"/>
                    </a:lnTo>
                    <a:lnTo>
                      <a:pt x="137" y="236"/>
                    </a:lnTo>
                    <a:lnTo>
                      <a:pt x="137" y="236"/>
                    </a:lnTo>
                    <a:lnTo>
                      <a:pt x="144" y="236"/>
                    </a:lnTo>
                    <a:lnTo>
                      <a:pt x="144" y="229"/>
                    </a:lnTo>
                    <a:lnTo>
                      <a:pt x="144" y="229"/>
                    </a:lnTo>
                    <a:lnTo>
                      <a:pt x="144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2"/>
                    </a:lnTo>
                    <a:lnTo>
                      <a:pt x="151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64" y="222"/>
                    </a:lnTo>
                    <a:lnTo>
                      <a:pt x="164" y="222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71" y="222"/>
                    </a:lnTo>
                    <a:lnTo>
                      <a:pt x="178" y="222"/>
                    </a:lnTo>
                    <a:lnTo>
                      <a:pt x="178" y="222"/>
                    </a:lnTo>
                    <a:lnTo>
                      <a:pt x="178" y="215"/>
                    </a:lnTo>
                    <a:lnTo>
                      <a:pt x="185" y="215"/>
                    </a:lnTo>
                    <a:lnTo>
                      <a:pt x="185" y="215"/>
                    </a:lnTo>
                    <a:lnTo>
                      <a:pt x="178" y="215"/>
                    </a:lnTo>
                    <a:lnTo>
                      <a:pt x="178" y="215"/>
                    </a:lnTo>
                    <a:lnTo>
                      <a:pt x="185" y="215"/>
                    </a:lnTo>
                    <a:lnTo>
                      <a:pt x="178" y="208"/>
                    </a:lnTo>
                    <a:lnTo>
                      <a:pt x="185" y="208"/>
                    </a:lnTo>
                    <a:lnTo>
                      <a:pt x="185" y="208"/>
                    </a:lnTo>
                    <a:lnTo>
                      <a:pt x="185" y="208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92" y="194"/>
                    </a:lnTo>
                    <a:lnTo>
                      <a:pt x="192" y="187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73"/>
                    </a:lnTo>
                    <a:lnTo>
                      <a:pt x="185" y="173"/>
                    </a:lnTo>
                    <a:lnTo>
                      <a:pt x="192" y="173"/>
                    </a:lnTo>
                    <a:lnTo>
                      <a:pt x="192" y="173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3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199" y="146"/>
                    </a:lnTo>
                    <a:lnTo>
                      <a:pt x="199" y="146"/>
                    </a:lnTo>
                    <a:lnTo>
                      <a:pt x="199" y="146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199" y="139"/>
                    </a:lnTo>
                    <a:lnTo>
                      <a:pt x="199" y="139"/>
                    </a:lnTo>
                    <a:lnTo>
                      <a:pt x="199" y="139"/>
                    </a:lnTo>
                    <a:lnTo>
                      <a:pt x="199" y="132"/>
                    </a:lnTo>
                    <a:lnTo>
                      <a:pt x="199" y="132"/>
                    </a:lnTo>
                    <a:lnTo>
                      <a:pt x="205" y="132"/>
                    </a:lnTo>
                    <a:lnTo>
                      <a:pt x="199" y="132"/>
                    </a:lnTo>
                    <a:lnTo>
                      <a:pt x="205" y="132"/>
                    </a:lnTo>
                    <a:lnTo>
                      <a:pt x="205" y="125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9" y="118"/>
                    </a:lnTo>
                    <a:lnTo>
                      <a:pt x="199" y="118"/>
                    </a:lnTo>
                    <a:lnTo>
                      <a:pt x="199" y="118"/>
                    </a:lnTo>
                    <a:lnTo>
                      <a:pt x="199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04"/>
                    </a:lnTo>
                    <a:lnTo>
                      <a:pt x="205" y="104"/>
                    </a:lnTo>
                    <a:lnTo>
                      <a:pt x="205" y="97"/>
                    </a:lnTo>
                    <a:lnTo>
                      <a:pt x="212" y="97"/>
                    </a:lnTo>
                    <a:lnTo>
                      <a:pt x="212" y="97"/>
                    </a:lnTo>
                    <a:lnTo>
                      <a:pt x="212" y="97"/>
                    </a:lnTo>
                    <a:lnTo>
                      <a:pt x="212" y="90"/>
                    </a:lnTo>
                    <a:lnTo>
                      <a:pt x="219" y="90"/>
                    </a:lnTo>
                    <a:lnTo>
                      <a:pt x="219" y="90"/>
                    </a:lnTo>
                    <a:lnTo>
                      <a:pt x="219" y="90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76"/>
                    </a:lnTo>
                    <a:lnTo>
                      <a:pt x="226" y="76"/>
                    </a:lnTo>
                    <a:lnTo>
                      <a:pt x="226" y="69"/>
                    </a:lnTo>
                    <a:lnTo>
                      <a:pt x="226" y="69"/>
                    </a:lnTo>
                    <a:lnTo>
                      <a:pt x="219" y="69"/>
                    </a:lnTo>
                    <a:lnTo>
                      <a:pt x="219" y="69"/>
                    </a:lnTo>
                    <a:lnTo>
                      <a:pt x="226" y="69"/>
                    </a:lnTo>
                    <a:lnTo>
                      <a:pt x="226" y="69"/>
                    </a:lnTo>
                    <a:lnTo>
                      <a:pt x="226" y="62"/>
                    </a:lnTo>
                    <a:lnTo>
                      <a:pt x="226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48"/>
                    </a:lnTo>
                    <a:lnTo>
                      <a:pt x="226" y="48"/>
                    </a:lnTo>
                    <a:lnTo>
                      <a:pt x="226" y="48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40" y="21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14"/>
                    </a:lnTo>
                    <a:lnTo>
                      <a:pt x="240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60" y="7"/>
                    </a:lnTo>
                    <a:lnTo>
                      <a:pt x="254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0"/>
                    </a:lnTo>
                    <a:lnTo>
                      <a:pt x="260" y="0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47" y="28"/>
                    </a:lnTo>
                    <a:lnTo>
                      <a:pt x="254" y="28"/>
                    </a:lnTo>
                    <a:lnTo>
                      <a:pt x="247" y="28"/>
                    </a:lnTo>
                    <a:lnTo>
                      <a:pt x="254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60" y="48"/>
                    </a:lnTo>
                    <a:lnTo>
                      <a:pt x="260" y="42"/>
                    </a:lnTo>
                    <a:lnTo>
                      <a:pt x="260" y="42"/>
                    </a:lnTo>
                    <a:lnTo>
                      <a:pt x="260" y="48"/>
                    </a:lnTo>
                    <a:lnTo>
                      <a:pt x="260" y="42"/>
                    </a:lnTo>
                    <a:lnTo>
                      <a:pt x="260" y="48"/>
                    </a:lnTo>
                    <a:lnTo>
                      <a:pt x="260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81" y="48"/>
                    </a:lnTo>
                    <a:lnTo>
                      <a:pt x="281" y="48"/>
                    </a:lnTo>
                    <a:lnTo>
                      <a:pt x="281" y="55"/>
                    </a:lnTo>
                    <a:lnTo>
                      <a:pt x="308" y="69"/>
                    </a:lnTo>
                    <a:lnTo>
                      <a:pt x="315" y="69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55"/>
                    </a:lnTo>
                    <a:lnTo>
                      <a:pt x="329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2"/>
                    </a:lnTo>
                    <a:lnTo>
                      <a:pt x="336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8"/>
                    </a:lnTo>
                    <a:lnTo>
                      <a:pt x="350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70" y="42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84" y="48"/>
                    </a:lnTo>
                    <a:lnTo>
                      <a:pt x="377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83"/>
                    </a:lnTo>
                    <a:lnTo>
                      <a:pt x="391" y="83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2"/>
                    </a:lnTo>
                    <a:lnTo>
                      <a:pt x="398" y="62"/>
                    </a:lnTo>
                    <a:lnTo>
                      <a:pt x="398" y="69"/>
                    </a:lnTo>
                    <a:lnTo>
                      <a:pt x="405" y="69"/>
                    </a:lnTo>
                    <a:lnTo>
                      <a:pt x="405" y="62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25" y="69"/>
                    </a:lnTo>
                    <a:lnTo>
                      <a:pt x="418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32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32" y="69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32" y="76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76"/>
                    </a:lnTo>
                    <a:lnTo>
                      <a:pt x="432" y="83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2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83"/>
                    </a:lnTo>
                    <a:lnTo>
                      <a:pt x="446" y="83"/>
                    </a:lnTo>
                    <a:lnTo>
                      <a:pt x="446" y="83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53" y="76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60" y="83"/>
                    </a:lnTo>
                    <a:lnTo>
                      <a:pt x="460" y="83"/>
                    </a:lnTo>
                    <a:lnTo>
                      <a:pt x="460" y="83"/>
                    </a:lnTo>
                    <a:lnTo>
                      <a:pt x="466" y="90"/>
                    </a:lnTo>
                    <a:lnTo>
                      <a:pt x="466" y="90"/>
                    </a:lnTo>
                    <a:lnTo>
                      <a:pt x="466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66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66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80" y="62"/>
                    </a:lnTo>
                    <a:lnTo>
                      <a:pt x="480" y="62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8" y="76"/>
                    </a:lnTo>
                    <a:lnTo>
                      <a:pt x="508" y="76"/>
                    </a:lnTo>
                    <a:lnTo>
                      <a:pt x="508" y="76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14" y="69"/>
                    </a:lnTo>
                    <a:lnTo>
                      <a:pt x="508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8" y="69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35" y="62"/>
                    </a:lnTo>
                    <a:lnTo>
                      <a:pt x="535" y="62"/>
                    </a:lnTo>
                    <a:lnTo>
                      <a:pt x="535" y="62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35" y="62"/>
                    </a:lnTo>
                    <a:lnTo>
                      <a:pt x="535" y="55"/>
                    </a:lnTo>
                    <a:lnTo>
                      <a:pt x="535" y="62"/>
                    </a:lnTo>
                    <a:lnTo>
                      <a:pt x="542" y="62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9" y="48"/>
                    </a:lnTo>
                    <a:lnTo>
                      <a:pt x="556" y="48"/>
                    </a:lnTo>
                    <a:lnTo>
                      <a:pt x="569" y="48"/>
                    </a:lnTo>
                    <a:lnTo>
                      <a:pt x="569" y="48"/>
                    </a:lnTo>
                    <a:lnTo>
                      <a:pt x="576" y="48"/>
                    </a:lnTo>
                    <a:lnTo>
                      <a:pt x="576" y="48"/>
                    </a:lnTo>
                    <a:lnTo>
                      <a:pt x="576" y="48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83" y="42"/>
                    </a:lnTo>
                    <a:lnTo>
                      <a:pt x="583" y="42"/>
                    </a:lnTo>
                    <a:lnTo>
                      <a:pt x="583" y="42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76" y="48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90" y="48"/>
                    </a:lnTo>
                    <a:lnTo>
                      <a:pt x="590" y="48"/>
                    </a:lnTo>
                    <a:lnTo>
                      <a:pt x="590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597" y="48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83" y="55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19680" y="4215600"/>
                <a:ext cx="405000" cy="546840"/>
              </a:xfrm>
              <a:custGeom>
                <a:avLst/>
                <a:gdLst/>
                <a:ahLst/>
                <a:rect l="l" t="t" r="r" b="b"/>
                <a:pathLst>
                  <a:path w="322" h="465">
                    <a:moveTo>
                      <a:pt x="288" y="0"/>
                    </a:moveTo>
                    <a:lnTo>
                      <a:pt x="288" y="0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95" y="14"/>
                    </a:lnTo>
                    <a:lnTo>
                      <a:pt x="295" y="14"/>
                    </a:lnTo>
                    <a:lnTo>
                      <a:pt x="295" y="14"/>
                    </a:lnTo>
                    <a:lnTo>
                      <a:pt x="295" y="14"/>
                    </a:lnTo>
                    <a:lnTo>
                      <a:pt x="302" y="14"/>
                    </a:lnTo>
                    <a:lnTo>
                      <a:pt x="302" y="14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02" y="14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302" y="21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35"/>
                    </a:lnTo>
                    <a:lnTo>
                      <a:pt x="295" y="35"/>
                    </a:lnTo>
                    <a:lnTo>
                      <a:pt x="295" y="35"/>
                    </a:lnTo>
                    <a:lnTo>
                      <a:pt x="295" y="35"/>
                    </a:lnTo>
                    <a:lnTo>
                      <a:pt x="302" y="35"/>
                    </a:lnTo>
                    <a:lnTo>
                      <a:pt x="302" y="35"/>
                    </a:lnTo>
                    <a:lnTo>
                      <a:pt x="302" y="35"/>
                    </a:lnTo>
                    <a:lnTo>
                      <a:pt x="302" y="35"/>
                    </a:lnTo>
                    <a:lnTo>
                      <a:pt x="295" y="35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63"/>
                    </a:lnTo>
                    <a:lnTo>
                      <a:pt x="295" y="63"/>
                    </a:lnTo>
                    <a:lnTo>
                      <a:pt x="295" y="63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302" y="77"/>
                    </a:lnTo>
                    <a:lnTo>
                      <a:pt x="302" y="84"/>
                    </a:lnTo>
                    <a:lnTo>
                      <a:pt x="302" y="84"/>
                    </a:lnTo>
                    <a:lnTo>
                      <a:pt x="302" y="84"/>
                    </a:lnTo>
                    <a:lnTo>
                      <a:pt x="302" y="84"/>
                    </a:lnTo>
                    <a:lnTo>
                      <a:pt x="302" y="84"/>
                    </a:lnTo>
                    <a:lnTo>
                      <a:pt x="309" y="84"/>
                    </a:lnTo>
                    <a:lnTo>
                      <a:pt x="309" y="84"/>
                    </a:lnTo>
                    <a:lnTo>
                      <a:pt x="309" y="84"/>
                    </a:lnTo>
                    <a:lnTo>
                      <a:pt x="309" y="84"/>
                    </a:lnTo>
                    <a:lnTo>
                      <a:pt x="309" y="90"/>
                    </a:lnTo>
                    <a:lnTo>
                      <a:pt x="309" y="90"/>
                    </a:lnTo>
                    <a:lnTo>
                      <a:pt x="309" y="84"/>
                    </a:lnTo>
                    <a:lnTo>
                      <a:pt x="309" y="84"/>
                    </a:lnTo>
                    <a:lnTo>
                      <a:pt x="309" y="90"/>
                    </a:lnTo>
                    <a:lnTo>
                      <a:pt x="309" y="90"/>
                    </a:lnTo>
                    <a:lnTo>
                      <a:pt x="309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22" y="90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32"/>
                    </a:lnTo>
                    <a:lnTo>
                      <a:pt x="316" y="132"/>
                    </a:lnTo>
                    <a:lnTo>
                      <a:pt x="316" y="132"/>
                    </a:lnTo>
                    <a:lnTo>
                      <a:pt x="316" y="132"/>
                    </a:lnTo>
                    <a:lnTo>
                      <a:pt x="316" y="132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09" y="139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53"/>
                    </a:lnTo>
                    <a:lnTo>
                      <a:pt x="302" y="146"/>
                    </a:lnTo>
                    <a:lnTo>
                      <a:pt x="295" y="146"/>
                    </a:lnTo>
                    <a:lnTo>
                      <a:pt x="295" y="146"/>
                    </a:lnTo>
                    <a:lnTo>
                      <a:pt x="295" y="146"/>
                    </a:lnTo>
                    <a:lnTo>
                      <a:pt x="295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1" y="139"/>
                    </a:lnTo>
                    <a:lnTo>
                      <a:pt x="281" y="132"/>
                    </a:lnTo>
                    <a:lnTo>
                      <a:pt x="281" y="132"/>
                    </a:lnTo>
                    <a:lnTo>
                      <a:pt x="281" y="132"/>
                    </a:lnTo>
                    <a:lnTo>
                      <a:pt x="281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68" y="132"/>
                    </a:lnTo>
                    <a:lnTo>
                      <a:pt x="268" y="132"/>
                    </a:lnTo>
                    <a:lnTo>
                      <a:pt x="268" y="132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74" y="139"/>
                    </a:lnTo>
                    <a:lnTo>
                      <a:pt x="268" y="146"/>
                    </a:lnTo>
                    <a:lnTo>
                      <a:pt x="268" y="146"/>
                    </a:lnTo>
                    <a:lnTo>
                      <a:pt x="268" y="146"/>
                    </a:lnTo>
                    <a:lnTo>
                      <a:pt x="268" y="146"/>
                    </a:lnTo>
                    <a:lnTo>
                      <a:pt x="268" y="153"/>
                    </a:lnTo>
                    <a:lnTo>
                      <a:pt x="268" y="153"/>
                    </a:lnTo>
                    <a:lnTo>
                      <a:pt x="274" y="153"/>
                    </a:lnTo>
                    <a:lnTo>
                      <a:pt x="274" y="153"/>
                    </a:lnTo>
                    <a:lnTo>
                      <a:pt x="274" y="153"/>
                    </a:lnTo>
                    <a:lnTo>
                      <a:pt x="268" y="153"/>
                    </a:lnTo>
                    <a:lnTo>
                      <a:pt x="274" y="153"/>
                    </a:lnTo>
                    <a:lnTo>
                      <a:pt x="274" y="160"/>
                    </a:lnTo>
                    <a:lnTo>
                      <a:pt x="274" y="160"/>
                    </a:lnTo>
                    <a:lnTo>
                      <a:pt x="274" y="160"/>
                    </a:lnTo>
                    <a:lnTo>
                      <a:pt x="274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1" y="160"/>
                    </a:lnTo>
                    <a:lnTo>
                      <a:pt x="261" y="160"/>
                    </a:lnTo>
                    <a:lnTo>
                      <a:pt x="261" y="160"/>
                    </a:lnTo>
                    <a:lnTo>
                      <a:pt x="261" y="160"/>
                    </a:lnTo>
                    <a:lnTo>
                      <a:pt x="254" y="160"/>
                    </a:lnTo>
                    <a:lnTo>
                      <a:pt x="254" y="160"/>
                    </a:lnTo>
                    <a:lnTo>
                      <a:pt x="254" y="160"/>
                    </a:lnTo>
                    <a:lnTo>
                      <a:pt x="247" y="153"/>
                    </a:lnTo>
                    <a:lnTo>
                      <a:pt x="247" y="153"/>
                    </a:lnTo>
                    <a:lnTo>
                      <a:pt x="247" y="153"/>
                    </a:lnTo>
                    <a:lnTo>
                      <a:pt x="240" y="153"/>
                    </a:lnTo>
                    <a:lnTo>
                      <a:pt x="240" y="160"/>
                    </a:lnTo>
                    <a:lnTo>
                      <a:pt x="240" y="160"/>
                    </a:lnTo>
                    <a:lnTo>
                      <a:pt x="240" y="160"/>
                    </a:lnTo>
                    <a:lnTo>
                      <a:pt x="240" y="160"/>
                    </a:lnTo>
                    <a:lnTo>
                      <a:pt x="240" y="160"/>
                    </a:lnTo>
                    <a:lnTo>
                      <a:pt x="240" y="167"/>
                    </a:lnTo>
                    <a:lnTo>
                      <a:pt x="240" y="167"/>
                    </a:lnTo>
                    <a:lnTo>
                      <a:pt x="240" y="167"/>
                    </a:lnTo>
                    <a:lnTo>
                      <a:pt x="240" y="167"/>
                    </a:lnTo>
                    <a:lnTo>
                      <a:pt x="240" y="174"/>
                    </a:lnTo>
                    <a:lnTo>
                      <a:pt x="240" y="174"/>
                    </a:lnTo>
                    <a:lnTo>
                      <a:pt x="233" y="174"/>
                    </a:lnTo>
                    <a:lnTo>
                      <a:pt x="240" y="174"/>
                    </a:lnTo>
                    <a:lnTo>
                      <a:pt x="240" y="174"/>
                    </a:lnTo>
                    <a:lnTo>
                      <a:pt x="240" y="174"/>
                    </a:lnTo>
                    <a:lnTo>
                      <a:pt x="240" y="174"/>
                    </a:lnTo>
                    <a:lnTo>
                      <a:pt x="240" y="181"/>
                    </a:lnTo>
                    <a:lnTo>
                      <a:pt x="240" y="181"/>
                    </a:lnTo>
                    <a:lnTo>
                      <a:pt x="247" y="181"/>
                    </a:lnTo>
                    <a:lnTo>
                      <a:pt x="247" y="181"/>
                    </a:lnTo>
                    <a:lnTo>
                      <a:pt x="240" y="181"/>
                    </a:lnTo>
                    <a:lnTo>
                      <a:pt x="240" y="188"/>
                    </a:lnTo>
                    <a:lnTo>
                      <a:pt x="247" y="188"/>
                    </a:lnTo>
                    <a:lnTo>
                      <a:pt x="240" y="188"/>
                    </a:lnTo>
                    <a:lnTo>
                      <a:pt x="240" y="188"/>
                    </a:lnTo>
                    <a:lnTo>
                      <a:pt x="240" y="188"/>
                    </a:lnTo>
                    <a:lnTo>
                      <a:pt x="240" y="188"/>
                    </a:lnTo>
                    <a:lnTo>
                      <a:pt x="240" y="195"/>
                    </a:lnTo>
                    <a:lnTo>
                      <a:pt x="240" y="195"/>
                    </a:lnTo>
                    <a:lnTo>
                      <a:pt x="233" y="195"/>
                    </a:lnTo>
                    <a:lnTo>
                      <a:pt x="233" y="201"/>
                    </a:lnTo>
                    <a:lnTo>
                      <a:pt x="233" y="201"/>
                    </a:lnTo>
                    <a:lnTo>
                      <a:pt x="240" y="201"/>
                    </a:lnTo>
                    <a:lnTo>
                      <a:pt x="240" y="201"/>
                    </a:lnTo>
                    <a:lnTo>
                      <a:pt x="240" y="208"/>
                    </a:lnTo>
                    <a:lnTo>
                      <a:pt x="240" y="208"/>
                    </a:lnTo>
                    <a:lnTo>
                      <a:pt x="247" y="208"/>
                    </a:lnTo>
                    <a:lnTo>
                      <a:pt x="247" y="208"/>
                    </a:lnTo>
                    <a:lnTo>
                      <a:pt x="247" y="208"/>
                    </a:lnTo>
                    <a:lnTo>
                      <a:pt x="247" y="215"/>
                    </a:lnTo>
                    <a:lnTo>
                      <a:pt x="247" y="215"/>
                    </a:lnTo>
                    <a:lnTo>
                      <a:pt x="247" y="215"/>
                    </a:lnTo>
                    <a:lnTo>
                      <a:pt x="247" y="215"/>
                    </a:lnTo>
                    <a:lnTo>
                      <a:pt x="247" y="222"/>
                    </a:lnTo>
                    <a:lnTo>
                      <a:pt x="247" y="222"/>
                    </a:lnTo>
                    <a:lnTo>
                      <a:pt x="247" y="222"/>
                    </a:lnTo>
                    <a:lnTo>
                      <a:pt x="247" y="222"/>
                    </a:lnTo>
                    <a:lnTo>
                      <a:pt x="247" y="229"/>
                    </a:lnTo>
                    <a:lnTo>
                      <a:pt x="247" y="229"/>
                    </a:lnTo>
                    <a:lnTo>
                      <a:pt x="247" y="229"/>
                    </a:lnTo>
                    <a:lnTo>
                      <a:pt x="247" y="229"/>
                    </a:lnTo>
                    <a:lnTo>
                      <a:pt x="233" y="229"/>
                    </a:lnTo>
                    <a:lnTo>
                      <a:pt x="226" y="236"/>
                    </a:lnTo>
                    <a:lnTo>
                      <a:pt x="226" y="236"/>
                    </a:lnTo>
                    <a:lnTo>
                      <a:pt x="226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29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43"/>
                    </a:lnTo>
                    <a:lnTo>
                      <a:pt x="213" y="243"/>
                    </a:lnTo>
                    <a:lnTo>
                      <a:pt x="213" y="243"/>
                    </a:lnTo>
                    <a:lnTo>
                      <a:pt x="213" y="243"/>
                    </a:lnTo>
                    <a:lnTo>
                      <a:pt x="206" y="243"/>
                    </a:lnTo>
                    <a:lnTo>
                      <a:pt x="206" y="236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29"/>
                    </a:lnTo>
                    <a:lnTo>
                      <a:pt x="199" y="236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2"/>
                    </a:lnTo>
                    <a:lnTo>
                      <a:pt x="199" y="222"/>
                    </a:lnTo>
                    <a:lnTo>
                      <a:pt x="199" y="222"/>
                    </a:lnTo>
                    <a:lnTo>
                      <a:pt x="199" y="222"/>
                    </a:lnTo>
                    <a:lnTo>
                      <a:pt x="206" y="222"/>
                    </a:lnTo>
                    <a:lnTo>
                      <a:pt x="199" y="222"/>
                    </a:lnTo>
                    <a:lnTo>
                      <a:pt x="206" y="222"/>
                    </a:lnTo>
                    <a:lnTo>
                      <a:pt x="206" y="222"/>
                    </a:lnTo>
                    <a:lnTo>
                      <a:pt x="206" y="222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08"/>
                    </a:lnTo>
                    <a:lnTo>
                      <a:pt x="206" y="208"/>
                    </a:lnTo>
                    <a:lnTo>
                      <a:pt x="206" y="208"/>
                    </a:lnTo>
                    <a:lnTo>
                      <a:pt x="206" y="208"/>
                    </a:lnTo>
                    <a:lnTo>
                      <a:pt x="206" y="201"/>
                    </a:lnTo>
                    <a:lnTo>
                      <a:pt x="206" y="201"/>
                    </a:lnTo>
                    <a:lnTo>
                      <a:pt x="206" y="201"/>
                    </a:lnTo>
                    <a:lnTo>
                      <a:pt x="206" y="201"/>
                    </a:lnTo>
                    <a:lnTo>
                      <a:pt x="199" y="201"/>
                    </a:lnTo>
                    <a:lnTo>
                      <a:pt x="199" y="201"/>
                    </a:lnTo>
                    <a:lnTo>
                      <a:pt x="199" y="201"/>
                    </a:lnTo>
                    <a:lnTo>
                      <a:pt x="199" y="201"/>
                    </a:lnTo>
                    <a:lnTo>
                      <a:pt x="199" y="201"/>
                    </a:lnTo>
                    <a:lnTo>
                      <a:pt x="199" y="195"/>
                    </a:lnTo>
                    <a:lnTo>
                      <a:pt x="192" y="195"/>
                    </a:lnTo>
                    <a:lnTo>
                      <a:pt x="185" y="195"/>
                    </a:lnTo>
                    <a:lnTo>
                      <a:pt x="178" y="195"/>
                    </a:lnTo>
                    <a:lnTo>
                      <a:pt x="165" y="195"/>
                    </a:lnTo>
                    <a:lnTo>
                      <a:pt x="144" y="195"/>
                    </a:lnTo>
                    <a:lnTo>
                      <a:pt x="144" y="195"/>
                    </a:lnTo>
                    <a:lnTo>
                      <a:pt x="130" y="195"/>
                    </a:lnTo>
                    <a:lnTo>
                      <a:pt x="130" y="195"/>
                    </a:lnTo>
                    <a:lnTo>
                      <a:pt x="130" y="208"/>
                    </a:lnTo>
                    <a:lnTo>
                      <a:pt x="130" y="208"/>
                    </a:lnTo>
                    <a:lnTo>
                      <a:pt x="130" y="208"/>
                    </a:lnTo>
                    <a:lnTo>
                      <a:pt x="130" y="208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22"/>
                    </a:lnTo>
                    <a:lnTo>
                      <a:pt x="130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36"/>
                    </a:lnTo>
                    <a:lnTo>
                      <a:pt x="123" y="229"/>
                    </a:lnTo>
                    <a:lnTo>
                      <a:pt x="123" y="236"/>
                    </a:lnTo>
                    <a:lnTo>
                      <a:pt x="123" y="236"/>
                    </a:lnTo>
                    <a:lnTo>
                      <a:pt x="123" y="236"/>
                    </a:lnTo>
                    <a:lnTo>
                      <a:pt x="123" y="236"/>
                    </a:lnTo>
                    <a:lnTo>
                      <a:pt x="123" y="236"/>
                    </a:lnTo>
                    <a:lnTo>
                      <a:pt x="123" y="243"/>
                    </a:lnTo>
                    <a:lnTo>
                      <a:pt x="123" y="243"/>
                    </a:lnTo>
                    <a:lnTo>
                      <a:pt x="123" y="243"/>
                    </a:lnTo>
                    <a:lnTo>
                      <a:pt x="137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51" y="243"/>
                    </a:lnTo>
                    <a:lnTo>
                      <a:pt x="165" y="243"/>
                    </a:lnTo>
                    <a:lnTo>
                      <a:pt x="171" y="243"/>
                    </a:lnTo>
                    <a:lnTo>
                      <a:pt x="178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199" y="250"/>
                    </a:lnTo>
                    <a:lnTo>
                      <a:pt x="199" y="250"/>
                    </a:lnTo>
                    <a:lnTo>
                      <a:pt x="206" y="250"/>
                    </a:lnTo>
                    <a:lnTo>
                      <a:pt x="199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71"/>
                    </a:lnTo>
                    <a:lnTo>
                      <a:pt x="199" y="271"/>
                    </a:lnTo>
                    <a:lnTo>
                      <a:pt x="199" y="271"/>
                    </a:lnTo>
                    <a:lnTo>
                      <a:pt x="192" y="271"/>
                    </a:lnTo>
                    <a:lnTo>
                      <a:pt x="199" y="278"/>
                    </a:lnTo>
                    <a:lnTo>
                      <a:pt x="192" y="278"/>
                    </a:lnTo>
                    <a:lnTo>
                      <a:pt x="192" y="278"/>
                    </a:lnTo>
                    <a:lnTo>
                      <a:pt x="192" y="278"/>
                    </a:lnTo>
                    <a:lnTo>
                      <a:pt x="192" y="278"/>
                    </a:lnTo>
                    <a:lnTo>
                      <a:pt x="192" y="278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92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92"/>
                    </a:lnTo>
                    <a:lnTo>
                      <a:pt x="199" y="292"/>
                    </a:lnTo>
                    <a:lnTo>
                      <a:pt x="199" y="292"/>
                    </a:lnTo>
                    <a:lnTo>
                      <a:pt x="199" y="292"/>
                    </a:lnTo>
                    <a:lnTo>
                      <a:pt x="199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9"/>
                    </a:lnTo>
                    <a:lnTo>
                      <a:pt x="213" y="292"/>
                    </a:lnTo>
                    <a:lnTo>
                      <a:pt x="213" y="299"/>
                    </a:lnTo>
                    <a:lnTo>
                      <a:pt x="213" y="292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12"/>
                    </a:lnTo>
                    <a:lnTo>
                      <a:pt x="213" y="306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9"/>
                    </a:lnTo>
                    <a:lnTo>
                      <a:pt x="213" y="312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9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33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206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2" y="347"/>
                    </a:lnTo>
                    <a:lnTo>
                      <a:pt x="199" y="347"/>
                    </a:lnTo>
                    <a:lnTo>
                      <a:pt x="192" y="347"/>
                    </a:lnTo>
                    <a:lnTo>
                      <a:pt x="199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92" y="361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9" y="368"/>
                    </a:lnTo>
                    <a:lnTo>
                      <a:pt x="199" y="368"/>
                    </a:lnTo>
                    <a:lnTo>
                      <a:pt x="199" y="368"/>
                    </a:lnTo>
                    <a:lnTo>
                      <a:pt x="199" y="368"/>
                    </a:lnTo>
                    <a:lnTo>
                      <a:pt x="199" y="368"/>
                    </a:lnTo>
                    <a:lnTo>
                      <a:pt x="206" y="368"/>
                    </a:lnTo>
                    <a:lnTo>
                      <a:pt x="206" y="368"/>
                    </a:lnTo>
                    <a:lnTo>
                      <a:pt x="206" y="368"/>
                    </a:lnTo>
                    <a:lnTo>
                      <a:pt x="206" y="368"/>
                    </a:lnTo>
                    <a:lnTo>
                      <a:pt x="206" y="375"/>
                    </a:lnTo>
                    <a:lnTo>
                      <a:pt x="206" y="375"/>
                    </a:lnTo>
                    <a:lnTo>
                      <a:pt x="213" y="375"/>
                    </a:lnTo>
                    <a:lnTo>
                      <a:pt x="213" y="375"/>
                    </a:lnTo>
                    <a:lnTo>
                      <a:pt x="213" y="375"/>
                    </a:lnTo>
                    <a:lnTo>
                      <a:pt x="206" y="375"/>
                    </a:lnTo>
                    <a:lnTo>
                      <a:pt x="206" y="382"/>
                    </a:lnTo>
                    <a:lnTo>
                      <a:pt x="206" y="382"/>
                    </a:lnTo>
                    <a:lnTo>
                      <a:pt x="213" y="382"/>
                    </a:lnTo>
                    <a:lnTo>
                      <a:pt x="206" y="382"/>
                    </a:lnTo>
                    <a:lnTo>
                      <a:pt x="206" y="382"/>
                    </a:lnTo>
                    <a:lnTo>
                      <a:pt x="206" y="382"/>
                    </a:lnTo>
                    <a:lnTo>
                      <a:pt x="206" y="382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199" y="389"/>
                    </a:lnTo>
                    <a:lnTo>
                      <a:pt x="199" y="389"/>
                    </a:lnTo>
                    <a:lnTo>
                      <a:pt x="199" y="389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23"/>
                    </a:lnTo>
                    <a:lnTo>
                      <a:pt x="199" y="423"/>
                    </a:lnTo>
                    <a:lnTo>
                      <a:pt x="199" y="423"/>
                    </a:lnTo>
                    <a:lnTo>
                      <a:pt x="199" y="423"/>
                    </a:lnTo>
                    <a:lnTo>
                      <a:pt x="199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30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44"/>
                    </a:lnTo>
                    <a:lnTo>
                      <a:pt x="171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58" y="444"/>
                    </a:lnTo>
                    <a:lnTo>
                      <a:pt x="165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51"/>
                    </a:lnTo>
                    <a:lnTo>
                      <a:pt x="158" y="451"/>
                    </a:lnTo>
                    <a:lnTo>
                      <a:pt x="158" y="451"/>
                    </a:lnTo>
                    <a:lnTo>
                      <a:pt x="151" y="444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44"/>
                    </a:lnTo>
                    <a:lnTo>
                      <a:pt x="151" y="444"/>
                    </a:lnTo>
                    <a:lnTo>
                      <a:pt x="151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16" y="437"/>
                    </a:lnTo>
                    <a:lnTo>
                      <a:pt x="116" y="437"/>
                    </a:lnTo>
                    <a:lnTo>
                      <a:pt x="116" y="437"/>
                    </a:lnTo>
                    <a:lnTo>
                      <a:pt x="116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96" y="437"/>
                    </a:lnTo>
                    <a:lnTo>
                      <a:pt x="96" y="437"/>
                    </a:lnTo>
                    <a:lnTo>
                      <a:pt x="96" y="437"/>
                    </a:lnTo>
                    <a:lnTo>
                      <a:pt x="89" y="437"/>
                    </a:lnTo>
                    <a:lnTo>
                      <a:pt x="96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2" y="437"/>
                    </a:lnTo>
                    <a:lnTo>
                      <a:pt x="82" y="437"/>
                    </a:lnTo>
                    <a:lnTo>
                      <a:pt x="82" y="437"/>
                    </a:lnTo>
                    <a:lnTo>
                      <a:pt x="82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68" y="437"/>
                    </a:lnTo>
                    <a:lnTo>
                      <a:pt x="68" y="437"/>
                    </a:lnTo>
                    <a:lnTo>
                      <a:pt x="68" y="437"/>
                    </a:lnTo>
                    <a:lnTo>
                      <a:pt x="68" y="437"/>
                    </a:lnTo>
                    <a:lnTo>
                      <a:pt x="68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44"/>
                    </a:lnTo>
                    <a:lnTo>
                      <a:pt x="55" y="444"/>
                    </a:lnTo>
                    <a:lnTo>
                      <a:pt x="55" y="444"/>
                    </a:lnTo>
                    <a:lnTo>
                      <a:pt x="55" y="444"/>
                    </a:lnTo>
                    <a:lnTo>
                      <a:pt x="55" y="444"/>
                    </a:lnTo>
                    <a:lnTo>
                      <a:pt x="55" y="444"/>
                    </a:lnTo>
                    <a:lnTo>
                      <a:pt x="55" y="437"/>
                    </a:lnTo>
                    <a:lnTo>
                      <a:pt x="55" y="437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1" y="451"/>
                    </a:lnTo>
                    <a:lnTo>
                      <a:pt x="41" y="451"/>
                    </a:lnTo>
                    <a:lnTo>
                      <a:pt x="41" y="451"/>
                    </a:lnTo>
                    <a:lnTo>
                      <a:pt x="41" y="451"/>
                    </a:lnTo>
                    <a:lnTo>
                      <a:pt x="41" y="451"/>
                    </a:lnTo>
                    <a:lnTo>
                      <a:pt x="41" y="458"/>
                    </a:lnTo>
                    <a:lnTo>
                      <a:pt x="34" y="458"/>
                    </a:lnTo>
                    <a:lnTo>
                      <a:pt x="34" y="458"/>
                    </a:lnTo>
                    <a:lnTo>
                      <a:pt x="34" y="458"/>
                    </a:lnTo>
                    <a:lnTo>
                      <a:pt x="34" y="458"/>
                    </a:lnTo>
                    <a:lnTo>
                      <a:pt x="27" y="458"/>
                    </a:lnTo>
                    <a:lnTo>
                      <a:pt x="27" y="465"/>
                    </a:lnTo>
                    <a:lnTo>
                      <a:pt x="27" y="465"/>
                    </a:lnTo>
                    <a:lnTo>
                      <a:pt x="27" y="465"/>
                    </a:lnTo>
                    <a:lnTo>
                      <a:pt x="27" y="465"/>
                    </a:lnTo>
                    <a:lnTo>
                      <a:pt x="27" y="458"/>
                    </a:lnTo>
                    <a:lnTo>
                      <a:pt x="20" y="458"/>
                    </a:lnTo>
                    <a:lnTo>
                      <a:pt x="20" y="458"/>
                    </a:lnTo>
                    <a:lnTo>
                      <a:pt x="20" y="451"/>
                    </a:lnTo>
                    <a:lnTo>
                      <a:pt x="20" y="451"/>
                    </a:lnTo>
                    <a:lnTo>
                      <a:pt x="20" y="451"/>
                    </a:lnTo>
                    <a:lnTo>
                      <a:pt x="20" y="451"/>
                    </a:lnTo>
                    <a:lnTo>
                      <a:pt x="20" y="451"/>
                    </a:lnTo>
                    <a:lnTo>
                      <a:pt x="13" y="451"/>
                    </a:lnTo>
                    <a:lnTo>
                      <a:pt x="13" y="451"/>
                    </a:lnTo>
                    <a:lnTo>
                      <a:pt x="13" y="451"/>
                    </a:lnTo>
                    <a:lnTo>
                      <a:pt x="13" y="458"/>
                    </a:lnTo>
                    <a:lnTo>
                      <a:pt x="13" y="451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0" y="458"/>
                    </a:lnTo>
                    <a:lnTo>
                      <a:pt x="0" y="458"/>
                    </a:lnTo>
                    <a:lnTo>
                      <a:pt x="0" y="458"/>
                    </a:lnTo>
                    <a:lnTo>
                      <a:pt x="0" y="4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448160" y="4648680"/>
                <a:ext cx="371520" cy="195120"/>
              </a:xfrm>
              <a:custGeom>
                <a:avLst/>
                <a:gdLst/>
                <a:ahLst/>
                <a:rect l="l" t="t" r="r" b="b"/>
                <a:pathLst>
                  <a:path w="295" h="166">
                    <a:moveTo>
                      <a:pt x="295" y="90"/>
                    </a:moveTo>
                    <a:lnTo>
                      <a:pt x="295" y="90"/>
                    </a:lnTo>
                    <a:lnTo>
                      <a:pt x="295" y="90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0"/>
                    </a:lnTo>
                    <a:lnTo>
                      <a:pt x="288" y="97"/>
                    </a:lnTo>
                    <a:lnTo>
                      <a:pt x="288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74" y="90"/>
                    </a:lnTo>
                    <a:lnTo>
                      <a:pt x="274" y="90"/>
                    </a:lnTo>
                    <a:lnTo>
                      <a:pt x="274" y="90"/>
                    </a:lnTo>
                    <a:lnTo>
                      <a:pt x="267" y="90"/>
                    </a:lnTo>
                    <a:lnTo>
                      <a:pt x="267" y="90"/>
                    </a:lnTo>
                    <a:lnTo>
                      <a:pt x="267" y="97"/>
                    </a:lnTo>
                    <a:lnTo>
                      <a:pt x="267" y="97"/>
                    </a:lnTo>
                    <a:lnTo>
                      <a:pt x="267" y="97"/>
                    </a:lnTo>
                    <a:lnTo>
                      <a:pt x="260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47" y="97"/>
                    </a:lnTo>
                    <a:lnTo>
                      <a:pt x="247" y="97"/>
                    </a:lnTo>
                    <a:lnTo>
                      <a:pt x="247" y="97"/>
                    </a:lnTo>
                    <a:lnTo>
                      <a:pt x="247" y="97"/>
                    </a:lnTo>
                    <a:lnTo>
                      <a:pt x="247" y="104"/>
                    </a:lnTo>
                    <a:lnTo>
                      <a:pt x="247" y="104"/>
                    </a:lnTo>
                    <a:lnTo>
                      <a:pt x="240" y="111"/>
                    </a:lnTo>
                    <a:lnTo>
                      <a:pt x="240" y="111"/>
                    </a:lnTo>
                    <a:lnTo>
                      <a:pt x="240" y="111"/>
                    </a:lnTo>
                    <a:lnTo>
                      <a:pt x="240" y="111"/>
                    </a:lnTo>
                    <a:lnTo>
                      <a:pt x="240" y="111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26" y="118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26" y="132"/>
                    </a:lnTo>
                    <a:lnTo>
                      <a:pt x="226" y="132"/>
                    </a:lnTo>
                    <a:lnTo>
                      <a:pt x="226" y="139"/>
                    </a:lnTo>
                    <a:lnTo>
                      <a:pt x="226" y="139"/>
                    </a:lnTo>
                    <a:lnTo>
                      <a:pt x="219" y="139"/>
                    </a:lnTo>
                    <a:lnTo>
                      <a:pt x="219" y="139"/>
                    </a:lnTo>
                    <a:lnTo>
                      <a:pt x="219" y="139"/>
                    </a:lnTo>
                    <a:lnTo>
                      <a:pt x="219" y="139"/>
                    </a:lnTo>
                    <a:lnTo>
                      <a:pt x="212" y="139"/>
                    </a:lnTo>
                    <a:lnTo>
                      <a:pt x="212" y="139"/>
                    </a:lnTo>
                    <a:lnTo>
                      <a:pt x="212" y="139"/>
                    </a:lnTo>
                    <a:lnTo>
                      <a:pt x="212" y="146"/>
                    </a:lnTo>
                    <a:lnTo>
                      <a:pt x="212" y="146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205" y="153"/>
                    </a:lnTo>
                    <a:lnTo>
                      <a:pt x="205" y="153"/>
                    </a:lnTo>
                    <a:lnTo>
                      <a:pt x="205" y="153"/>
                    </a:lnTo>
                    <a:lnTo>
                      <a:pt x="205" y="153"/>
                    </a:lnTo>
                    <a:lnTo>
                      <a:pt x="199" y="159"/>
                    </a:lnTo>
                    <a:lnTo>
                      <a:pt x="199" y="159"/>
                    </a:lnTo>
                    <a:lnTo>
                      <a:pt x="199" y="159"/>
                    </a:lnTo>
                    <a:lnTo>
                      <a:pt x="199" y="159"/>
                    </a:lnTo>
                    <a:lnTo>
                      <a:pt x="199" y="159"/>
                    </a:lnTo>
                    <a:lnTo>
                      <a:pt x="205" y="166"/>
                    </a:lnTo>
                    <a:lnTo>
                      <a:pt x="205" y="166"/>
                    </a:lnTo>
                    <a:lnTo>
                      <a:pt x="205" y="166"/>
                    </a:lnTo>
                    <a:lnTo>
                      <a:pt x="205" y="166"/>
                    </a:lnTo>
                    <a:lnTo>
                      <a:pt x="199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78" y="153"/>
                    </a:lnTo>
                    <a:lnTo>
                      <a:pt x="178" y="153"/>
                    </a:lnTo>
                    <a:lnTo>
                      <a:pt x="178" y="153"/>
                    </a:lnTo>
                    <a:lnTo>
                      <a:pt x="178" y="153"/>
                    </a:lnTo>
                    <a:lnTo>
                      <a:pt x="178" y="146"/>
                    </a:lnTo>
                    <a:lnTo>
                      <a:pt x="171" y="153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57" y="146"/>
                    </a:lnTo>
                    <a:lnTo>
                      <a:pt x="157" y="146"/>
                    </a:lnTo>
                    <a:lnTo>
                      <a:pt x="157" y="139"/>
                    </a:lnTo>
                    <a:lnTo>
                      <a:pt x="157" y="139"/>
                    </a:lnTo>
                    <a:lnTo>
                      <a:pt x="157" y="139"/>
                    </a:lnTo>
                    <a:lnTo>
                      <a:pt x="157" y="139"/>
                    </a:lnTo>
                    <a:lnTo>
                      <a:pt x="151" y="139"/>
                    </a:lnTo>
                    <a:lnTo>
                      <a:pt x="157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0" y="139"/>
                    </a:lnTo>
                    <a:lnTo>
                      <a:pt x="130" y="132"/>
                    </a:lnTo>
                    <a:lnTo>
                      <a:pt x="130" y="132"/>
                    </a:lnTo>
                    <a:lnTo>
                      <a:pt x="130" y="132"/>
                    </a:lnTo>
                    <a:lnTo>
                      <a:pt x="130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16" y="132"/>
                    </a:lnTo>
                    <a:lnTo>
                      <a:pt x="116" y="132"/>
                    </a:lnTo>
                    <a:lnTo>
                      <a:pt x="116" y="132"/>
                    </a:lnTo>
                    <a:lnTo>
                      <a:pt x="116" y="132"/>
                    </a:lnTo>
                    <a:lnTo>
                      <a:pt x="116" y="125"/>
                    </a:lnTo>
                    <a:lnTo>
                      <a:pt x="116" y="132"/>
                    </a:lnTo>
                    <a:lnTo>
                      <a:pt x="116" y="125"/>
                    </a:lnTo>
                    <a:lnTo>
                      <a:pt x="116" y="125"/>
                    </a:lnTo>
                    <a:lnTo>
                      <a:pt x="116" y="125"/>
                    </a:lnTo>
                    <a:lnTo>
                      <a:pt x="116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89" y="118"/>
                    </a:lnTo>
                    <a:lnTo>
                      <a:pt x="89" y="118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2" y="111"/>
                    </a:lnTo>
                    <a:lnTo>
                      <a:pt x="82" y="111"/>
                    </a:lnTo>
                    <a:lnTo>
                      <a:pt x="82" y="111"/>
                    </a:lnTo>
                    <a:lnTo>
                      <a:pt x="82" y="111"/>
                    </a:lnTo>
                    <a:lnTo>
                      <a:pt x="82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68" y="104"/>
                    </a:lnTo>
                    <a:lnTo>
                      <a:pt x="68" y="104"/>
                    </a:lnTo>
                    <a:lnTo>
                      <a:pt x="68" y="104"/>
                    </a:lnTo>
                    <a:lnTo>
                      <a:pt x="68" y="104"/>
                    </a:lnTo>
                    <a:lnTo>
                      <a:pt x="68" y="104"/>
                    </a:lnTo>
                    <a:lnTo>
                      <a:pt x="68" y="97"/>
                    </a:lnTo>
                    <a:lnTo>
                      <a:pt x="61" y="97"/>
                    </a:lnTo>
                    <a:lnTo>
                      <a:pt x="61" y="97"/>
                    </a:lnTo>
                    <a:lnTo>
                      <a:pt x="61" y="97"/>
                    </a:lnTo>
                    <a:lnTo>
                      <a:pt x="61" y="97"/>
                    </a:lnTo>
                    <a:lnTo>
                      <a:pt x="61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34" y="97"/>
                    </a:lnTo>
                    <a:lnTo>
                      <a:pt x="34" y="97"/>
                    </a:lnTo>
                    <a:lnTo>
                      <a:pt x="34" y="97"/>
                    </a:lnTo>
                    <a:lnTo>
                      <a:pt x="34" y="97"/>
                    </a:lnTo>
                    <a:lnTo>
                      <a:pt x="27" y="97"/>
                    </a:lnTo>
                    <a:lnTo>
                      <a:pt x="27" y="97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0" y="90"/>
                    </a:lnTo>
                    <a:lnTo>
                      <a:pt x="20" y="83"/>
                    </a:lnTo>
                    <a:lnTo>
                      <a:pt x="27" y="83"/>
                    </a:lnTo>
                    <a:lnTo>
                      <a:pt x="27" y="83"/>
                    </a:lnTo>
                    <a:lnTo>
                      <a:pt x="27" y="83"/>
                    </a:lnTo>
                    <a:lnTo>
                      <a:pt x="27" y="83"/>
                    </a:lnTo>
                    <a:lnTo>
                      <a:pt x="27" y="76"/>
                    </a:lnTo>
                    <a:lnTo>
                      <a:pt x="27" y="76"/>
                    </a:lnTo>
                    <a:lnTo>
                      <a:pt x="27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27" y="69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0" y="69"/>
                    </a:lnTo>
                    <a:lnTo>
                      <a:pt x="20" y="69"/>
                    </a:lnTo>
                    <a:lnTo>
                      <a:pt x="20" y="69"/>
                    </a:lnTo>
                    <a:lnTo>
                      <a:pt x="13" y="69"/>
                    </a:lnTo>
                    <a:lnTo>
                      <a:pt x="13" y="69"/>
                    </a:lnTo>
                    <a:lnTo>
                      <a:pt x="13" y="69"/>
                    </a:lnTo>
                    <a:lnTo>
                      <a:pt x="13" y="62"/>
                    </a:lnTo>
                    <a:lnTo>
                      <a:pt x="13" y="62"/>
                    </a:lnTo>
                    <a:lnTo>
                      <a:pt x="13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974480" y="4445280"/>
                <a:ext cx="104400" cy="56160"/>
              </a:xfrm>
              <a:custGeom>
                <a:avLst/>
                <a:gdLst/>
                <a:ahLst/>
                <a:rect l="l" t="t" r="r" b="b"/>
                <a:pathLst>
                  <a:path w="83" h="48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42" y="0"/>
                    </a:lnTo>
                    <a:lnTo>
                      <a:pt x="55" y="0"/>
                    </a:lnTo>
                    <a:lnTo>
                      <a:pt x="62" y="0"/>
                    </a:lnTo>
                    <a:lnTo>
                      <a:pt x="69" y="0"/>
                    </a:lnTo>
                    <a:lnTo>
                      <a:pt x="76" y="0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13"/>
                    </a:lnTo>
                    <a:lnTo>
                      <a:pt x="83" y="13"/>
                    </a:lnTo>
                    <a:lnTo>
                      <a:pt x="83" y="13"/>
                    </a:lnTo>
                    <a:lnTo>
                      <a:pt x="83" y="13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76" y="27"/>
                    </a:lnTo>
                    <a:lnTo>
                      <a:pt x="83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41"/>
                    </a:lnTo>
                    <a:lnTo>
                      <a:pt x="76" y="34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55" y="48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28" y="48"/>
                    </a:lnTo>
                    <a:lnTo>
                      <a:pt x="21" y="48"/>
                    </a:lnTo>
                    <a:lnTo>
                      <a:pt x="21" y="48"/>
                    </a:lnTo>
                    <a:lnTo>
                      <a:pt x="14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386240" y="5488920"/>
                <a:ext cx="571680" cy="335160"/>
              </a:xfrm>
              <a:custGeom>
                <a:avLst/>
                <a:gdLst/>
                <a:ahLst/>
                <a:rect l="l" t="t" r="r" b="b"/>
                <a:pathLst>
                  <a:path w="454" h="285">
                    <a:moveTo>
                      <a:pt x="0" y="104"/>
                    </a:moveTo>
                    <a:lnTo>
                      <a:pt x="0" y="104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7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7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55" y="28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9" y="35"/>
                    </a:lnTo>
                    <a:lnTo>
                      <a:pt x="69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10" y="35"/>
                    </a:lnTo>
                    <a:lnTo>
                      <a:pt x="110" y="35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8" y="49"/>
                    </a:lnTo>
                    <a:lnTo>
                      <a:pt x="158" y="49"/>
                    </a:lnTo>
                    <a:lnTo>
                      <a:pt x="158" y="56"/>
                    </a:lnTo>
                    <a:lnTo>
                      <a:pt x="158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72" y="56"/>
                    </a:lnTo>
                    <a:lnTo>
                      <a:pt x="172" y="56"/>
                    </a:lnTo>
                    <a:lnTo>
                      <a:pt x="172" y="49"/>
                    </a:lnTo>
                    <a:lnTo>
                      <a:pt x="179" y="56"/>
                    </a:lnTo>
                    <a:lnTo>
                      <a:pt x="179" y="56"/>
                    </a:lnTo>
                    <a:lnTo>
                      <a:pt x="179" y="49"/>
                    </a:lnTo>
                    <a:lnTo>
                      <a:pt x="186" y="49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200" y="56"/>
                    </a:lnTo>
                    <a:lnTo>
                      <a:pt x="193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63"/>
                    </a:lnTo>
                    <a:lnTo>
                      <a:pt x="200" y="63"/>
                    </a:lnTo>
                    <a:lnTo>
                      <a:pt x="206" y="63"/>
                    </a:lnTo>
                    <a:lnTo>
                      <a:pt x="200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41" y="21"/>
                    </a:lnTo>
                    <a:lnTo>
                      <a:pt x="241" y="21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1"/>
                    </a:lnTo>
                    <a:lnTo>
                      <a:pt x="248" y="21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1"/>
                    </a:lnTo>
                    <a:lnTo>
                      <a:pt x="248" y="28"/>
                    </a:lnTo>
                    <a:lnTo>
                      <a:pt x="254" y="28"/>
                    </a:lnTo>
                    <a:lnTo>
                      <a:pt x="254" y="28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37" y="7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21"/>
                    </a:lnTo>
                    <a:lnTo>
                      <a:pt x="344" y="14"/>
                    </a:lnTo>
                    <a:lnTo>
                      <a:pt x="351" y="14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21"/>
                    </a:lnTo>
                    <a:lnTo>
                      <a:pt x="371" y="21"/>
                    </a:lnTo>
                    <a:lnTo>
                      <a:pt x="371" y="21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8" y="14"/>
                    </a:lnTo>
                    <a:lnTo>
                      <a:pt x="371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85" y="14"/>
                    </a:lnTo>
                    <a:lnTo>
                      <a:pt x="385" y="14"/>
                    </a:lnTo>
                    <a:lnTo>
                      <a:pt x="378" y="14"/>
                    </a:lnTo>
                    <a:lnTo>
                      <a:pt x="385" y="14"/>
                    </a:lnTo>
                    <a:lnTo>
                      <a:pt x="378" y="14"/>
                    </a:lnTo>
                    <a:lnTo>
                      <a:pt x="378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9" y="0"/>
                    </a:lnTo>
                    <a:lnTo>
                      <a:pt x="399" y="7"/>
                    </a:lnTo>
                    <a:lnTo>
                      <a:pt x="399" y="0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9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7"/>
                    </a:lnTo>
                    <a:lnTo>
                      <a:pt x="440" y="7"/>
                    </a:lnTo>
                    <a:lnTo>
                      <a:pt x="440" y="7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14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8"/>
                    </a:lnTo>
                    <a:lnTo>
                      <a:pt x="447" y="28"/>
                    </a:lnTo>
                    <a:lnTo>
                      <a:pt x="440" y="35"/>
                    </a:lnTo>
                    <a:lnTo>
                      <a:pt x="440" y="35"/>
                    </a:lnTo>
                    <a:lnTo>
                      <a:pt x="440" y="42"/>
                    </a:lnTo>
                    <a:lnTo>
                      <a:pt x="440" y="42"/>
                    </a:lnTo>
                    <a:lnTo>
                      <a:pt x="440" y="42"/>
                    </a:lnTo>
                    <a:lnTo>
                      <a:pt x="440" y="49"/>
                    </a:lnTo>
                    <a:lnTo>
                      <a:pt x="433" y="49"/>
                    </a:lnTo>
                    <a:lnTo>
                      <a:pt x="433" y="49"/>
                    </a:lnTo>
                    <a:lnTo>
                      <a:pt x="433" y="56"/>
                    </a:lnTo>
                    <a:lnTo>
                      <a:pt x="433" y="56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33" y="77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54" y="104"/>
                    </a:lnTo>
                    <a:lnTo>
                      <a:pt x="454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8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7" y="111"/>
                    </a:lnTo>
                    <a:lnTo>
                      <a:pt x="447" y="111"/>
                    </a:lnTo>
                    <a:lnTo>
                      <a:pt x="447" y="111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0" y="118"/>
                    </a:lnTo>
                    <a:lnTo>
                      <a:pt x="447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7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33" y="125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46"/>
                    </a:lnTo>
                    <a:lnTo>
                      <a:pt x="433" y="139"/>
                    </a:lnTo>
                    <a:lnTo>
                      <a:pt x="433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33" y="181"/>
                    </a:lnTo>
                    <a:lnTo>
                      <a:pt x="440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22"/>
                    </a:lnTo>
                    <a:lnTo>
                      <a:pt x="426" y="222"/>
                    </a:lnTo>
                    <a:lnTo>
                      <a:pt x="426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2" y="229"/>
                    </a:lnTo>
                    <a:lnTo>
                      <a:pt x="406" y="229"/>
                    </a:lnTo>
                    <a:lnTo>
                      <a:pt x="399" y="236"/>
                    </a:lnTo>
                    <a:lnTo>
                      <a:pt x="392" y="243"/>
                    </a:lnTo>
                    <a:lnTo>
                      <a:pt x="385" y="250"/>
                    </a:lnTo>
                    <a:lnTo>
                      <a:pt x="378" y="250"/>
                    </a:lnTo>
                    <a:lnTo>
                      <a:pt x="378" y="250"/>
                    </a:lnTo>
                    <a:lnTo>
                      <a:pt x="371" y="250"/>
                    </a:lnTo>
                    <a:lnTo>
                      <a:pt x="371" y="257"/>
                    </a:lnTo>
                    <a:lnTo>
                      <a:pt x="364" y="264"/>
                    </a:lnTo>
                    <a:lnTo>
                      <a:pt x="364" y="264"/>
                    </a:lnTo>
                    <a:lnTo>
                      <a:pt x="351" y="278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09" y="278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1"/>
                    </a:lnTo>
                    <a:lnTo>
                      <a:pt x="309" y="278"/>
                    </a:lnTo>
                    <a:lnTo>
                      <a:pt x="309" y="271"/>
                    </a:lnTo>
                    <a:lnTo>
                      <a:pt x="309" y="271"/>
                    </a:lnTo>
                    <a:lnTo>
                      <a:pt x="309" y="271"/>
                    </a:lnTo>
                    <a:lnTo>
                      <a:pt x="309" y="271"/>
                    </a:lnTo>
                    <a:lnTo>
                      <a:pt x="309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16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30" y="264"/>
                    </a:lnTo>
                    <a:lnTo>
                      <a:pt x="330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23" y="257"/>
                    </a:lnTo>
                    <a:lnTo>
                      <a:pt x="323" y="257"/>
                    </a:lnTo>
                    <a:lnTo>
                      <a:pt x="323" y="257"/>
                    </a:lnTo>
                    <a:lnTo>
                      <a:pt x="323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23" y="257"/>
                    </a:lnTo>
                    <a:lnTo>
                      <a:pt x="323" y="250"/>
                    </a:lnTo>
                    <a:lnTo>
                      <a:pt x="330" y="250"/>
                    </a:lnTo>
                    <a:lnTo>
                      <a:pt x="323" y="250"/>
                    </a:lnTo>
                    <a:lnTo>
                      <a:pt x="330" y="250"/>
                    </a:lnTo>
                    <a:lnTo>
                      <a:pt x="323" y="250"/>
                    </a:lnTo>
                    <a:lnTo>
                      <a:pt x="323" y="250"/>
                    </a:lnTo>
                    <a:lnTo>
                      <a:pt x="323" y="250"/>
                    </a:lnTo>
                    <a:lnTo>
                      <a:pt x="323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23" y="250"/>
                    </a:lnTo>
                    <a:lnTo>
                      <a:pt x="323" y="250"/>
                    </a:lnTo>
                    <a:lnTo>
                      <a:pt x="323" y="243"/>
                    </a:lnTo>
                    <a:lnTo>
                      <a:pt x="323" y="243"/>
                    </a:lnTo>
                    <a:lnTo>
                      <a:pt x="330" y="243"/>
                    </a:lnTo>
                    <a:lnTo>
                      <a:pt x="323" y="243"/>
                    </a:lnTo>
                    <a:lnTo>
                      <a:pt x="323" y="243"/>
                    </a:lnTo>
                    <a:lnTo>
                      <a:pt x="323" y="243"/>
                    </a:lnTo>
                    <a:lnTo>
                      <a:pt x="323" y="243"/>
                    </a:lnTo>
                    <a:lnTo>
                      <a:pt x="330" y="243"/>
                    </a:lnTo>
                    <a:lnTo>
                      <a:pt x="330" y="243"/>
                    </a:lnTo>
                    <a:lnTo>
                      <a:pt x="323" y="243"/>
                    </a:lnTo>
                    <a:lnTo>
                      <a:pt x="323" y="236"/>
                    </a:lnTo>
                    <a:lnTo>
                      <a:pt x="323" y="236"/>
                    </a:lnTo>
                    <a:lnTo>
                      <a:pt x="323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29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29"/>
                    </a:lnTo>
                    <a:lnTo>
                      <a:pt x="330" y="229"/>
                    </a:lnTo>
                    <a:lnTo>
                      <a:pt x="330" y="229"/>
                    </a:lnTo>
                    <a:lnTo>
                      <a:pt x="330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2"/>
                    </a:lnTo>
                    <a:lnTo>
                      <a:pt x="337" y="222"/>
                    </a:lnTo>
                    <a:lnTo>
                      <a:pt x="337" y="222"/>
                    </a:lnTo>
                    <a:lnTo>
                      <a:pt x="337" y="222"/>
                    </a:lnTo>
                    <a:lnTo>
                      <a:pt x="344" y="229"/>
                    </a:lnTo>
                    <a:lnTo>
                      <a:pt x="344" y="222"/>
                    </a:lnTo>
                    <a:lnTo>
                      <a:pt x="344" y="229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9"/>
                    </a:lnTo>
                    <a:lnTo>
                      <a:pt x="351" y="222"/>
                    </a:lnTo>
                    <a:lnTo>
                      <a:pt x="351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37" y="215"/>
                    </a:lnTo>
                    <a:lnTo>
                      <a:pt x="344" y="215"/>
                    </a:lnTo>
                    <a:lnTo>
                      <a:pt x="337" y="215"/>
                    </a:lnTo>
                    <a:lnTo>
                      <a:pt x="344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0" y="215"/>
                    </a:lnTo>
                    <a:lnTo>
                      <a:pt x="330" y="215"/>
                    </a:lnTo>
                    <a:lnTo>
                      <a:pt x="330" y="215"/>
                    </a:lnTo>
                    <a:lnTo>
                      <a:pt x="330" y="209"/>
                    </a:lnTo>
                    <a:lnTo>
                      <a:pt x="337" y="209"/>
                    </a:lnTo>
                    <a:lnTo>
                      <a:pt x="337" y="209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15"/>
                    </a:lnTo>
                    <a:lnTo>
                      <a:pt x="330" y="215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15"/>
                    </a:lnTo>
                    <a:lnTo>
                      <a:pt x="330" y="215"/>
                    </a:lnTo>
                    <a:lnTo>
                      <a:pt x="323" y="215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09"/>
                    </a:lnTo>
                    <a:lnTo>
                      <a:pt x="316" y="209"/>
                    </a:lnTo>
                    <a:lnTo>
                      <a:pt x="309" y="209"/>
                    </a:lnTo>
                    <a:lnTo>
                      <a:pt x="309" y="209"/>
                    </a:lnTo>
                    <a:lnTo>
                      <a:pt x="309" y="209"/>
                    </a:lnTo>
                    <a:lnTo>
                      <a:pt x="309" y="209"/>
                    </a:lnTo>
                    <a:lnTo>
                      <a:pt x="309" y="215"/>
                    </a:lnTo>
                    <a:lnTo>
                      <a:pt x="309" y="209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09"/>
                    </a:lnTo>
                    <a:lnTo>
                      <a:pt x="309" y="209"/>
                    </a:lnTo>
                    <a:lnTo>
                      <a:pt x="303" y="209"/>
                    </a:lnTo>
                    <a:lnTo>
                      <a:pt x="303" y="215"/>
                    </a:lnTo>
                    <a:lnTo>
                      <a:pt x="303" y="215"/>
                    </a:lnTo>
                    <a:lnTo>
                      <a:pt x="303" y="209"/>
                    </a:lnTo>
                    <a:lnTo>
                      <a:pt x="303" y="209"/>
                    </a:lnTo>
                    <a:lnTo>
                      <a:pt x="303" y="209"/>
                    </a:lnTo>
                    <a:lnTo>
                      <a:pt x="303" y="209"/>
                    </a:lnTo>
                    <a:lnTo>
                      <a:pt x="303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15"/>
                    </a:lnTo>
                    <a:lnTo>
                      <a:pt x="296" y="215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2" y="209"/>
                    </a:lnTo>
                    <a:lnTo>
                      <a:pt x="282" y="209"/>
                    </a:lnTo>
                    <a:lnTo>
                      <a:pt x="282" y="209"/>
                    </a:lnTo>
                    <a:lnTo>
                      <a:pt x="282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2"/>
                    </a:lnTo>
                    <a:lnTo>
                      <a:pt x="268" y="209"/>
                    </a:lnTo>
                    <a:lnTo>
                      <a:pt x="268" y="209"/>
                    </a:lnTo>
                    <a:lnTo>
                      <a:pt x="268" y="202"/>
                    </a:lnTo>
                    <a:lnTo>
                      <a:pt x="268" y="202"/>
                    </a:lnTo>
                    <a:lnTo>
                      <a:pt x="268" y="202"/>
                    </a:lnTo>
                    <a:lnTo>
                      <a:pt x="268" y="202"/>
                    </a:lnTo>
                    <a:lnTo>
                      <a:pt x="268" y="202"/>
                    </a:lnTo>
                    <a:lnTo>
                      <a:pt x="268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1"/>
                    </a:lnTo>
                    <a:lnTo>
                      <a:pt x="254" y="181"/>
                    </a:lnTo>
                    <a:lnTo>
                      <a:pt x="248" y="181"/>
                    </a:lnTo>
                    <a:lnTo>
                      <a:pt x="248" y="188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74"/>
                    </a:lnTo>
                    <a:lnTo>
                      <a:pt x="248" y="174"/>
                    </a:lnTo>
                    <a:lnTo>
                      <a:pt x="248" y="174"/>
                    </a:lnTo>
                    <a:lnTo>
                      <a:pt x="241" y="174"/>
                    </a:lnTo>
                    <a:lnTo>
                      <a:pt x="248" y="174"/>
                    </a:lnTo>
                    <a:lnTo>
                      <a:pt x="241" y="174"/>
                    </a:lnTo>
                    <a:lnTo>
                      <a:pt x="241" y="174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27" y="160"/>
                    </a:lnTo>
                    <a:lnTo>
                      <a:pt x="227" y="160"/>
                    </a:lnTo>
                    <a:lnTo>
                      <a:pt x="227" y="160"/>
                    </a:lnTo>
                    <a:lnTo>
                      <a:pt x="227" y="160"/>
                    </a:lnTo>
                    <a:lnTo>
                      <a:pt x="227" y="160"/>
                    </a:lnTo>
                    <a:lnTo>
                      <a:pt x="227" y="153"/>
                    </a:lnTo>
                    <a:lnTo>
                      <a:pt x="227" y="153"/>
                    </a:lnTo>
                    <a:lnTo>
                      <a:pt x="220" y="153"/>
                    </a:lnTo>
                    <a:lnTo>
                      <a:pt x="220" y="153"/>
                    </a:lnTo>
                    <a:lnTo>
                      <a:pt x="220" y="153"/>
                    </a:lnTo>
                    <a:lnTo>
                      <a:pt x="220" y="153"/>
                    </a:lnTo>
                    <a:lnTo>
                      <a:pt x="220" y="153"/>
                    </a:lnTo>
                    <a:lnTo>
                      <a:pt x="213" y="153"/>
                    </a:lnTo>
                    <a:lnTo>
                      <a:pt x="213" y="153"/>
                    </a:lnTo>
                    <a:lnTo>
                      <a:pt x="213" y="153"/>
                    </a:lnTo>
                    <a:lnTo>
                      <a:pt x="213" y="153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06" y="146"/>
                    </a:lnTo>
                    <a:lnTo>
                      <a:pt x="206" y="146"/>
                    </a:lnTo>
                    <a:lnTo>
                      <a:pt x="206" y="146"/>
                    </a:lnTo>
                    <a:lnTo>
                      <a:pt x="206" y="146"/>
                    </a:lnTo>
                    <a:lnTo>
                      <a:pt x="206" y="139"/>
                    </a:lnTo>
                    <a:lnTo>
                      <a:pt x="206" y="139"/>
                    </a:lnTo>
                    <a:lnTo>
                      <a:pt x="206" y="139"/>
                    </a:lnTo>
                    <a:lnTo>
                      <a:pt x="200" y="146"/>
                    </a:lnTo>
                    <a:lnTo>
                      <a:pt x="200" y="146"/>
                    </a:lnTo>
                    <a:lnTo>
                      <a:pt x="200" y="146"/>
                    </a:lnTo>
                    <a:lnTo>
                      <a:pt x="200" y="146"/>
                    </a:lnTo>
                    <a:lnTo>
                      <a:pt x="200" y="146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193" y="132"/>
                    </a:lnTo>
                    <a:lnTo>
                      <a:pt x="193" y="132"/>
                    </a:lnTo>
                    <a:lnTo>
                      <a:pt x="193" y="139"/>
                    </a:lnTo>
                    <a:lnTo>
                      <a:pt x="193" y="132"/>
                    </a:lnTo>
                    <a:lnTo>
                      <a:pt x="193" y="132"/>
                    </a:lnTo>
                    <a:lnTo>
                      <a:pt x="193" y="139"/>
                    </a:lnTo>
                    <a:lnTo>
                      <a:pt x="193" y="139"/>
                    </a:lnTo>
                    <a:lnTo>
                      <a:pt x="193" y="139"/>
                    </a:lnTo>
                    <a:lnTo>
                      <a:pt x="186" y="139"/>
                    </a:lnTo>
                    <a:lnTo>
                      <a:pt x="186" y="139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9" y="125"/>
                    </a:lnTo>
                    <a:lnTo>
                      <a:pt x="179" y="125"/>
                    </a:lnTo>
                    <a:lnTo>
                      <a:pt x="179" y="125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25"/>
                    </a:lnTo>
                    <a:lnTo>
                      <a:pt x="165" y="125"/>
                    </a:lnTo>
                    <a:lnTo>
                      <a:pt x="165" y="125"/>
                    </a:lnTo>
                    <a:lnTo>
                      <a:pt x="165" y="125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58" y="132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2" y="125"/>
                    </a:lnTo>
                    <a:lnTo>
                      <a:pt x="152" y="125"/>
                    </a:lnTo>
                    <a:lnTo>
                      <a:pt x="152" y="125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8" y="118"/>
                    </a:lnTo>
                    <a:lnTo>
                      <a:pt x="158" y="118"/>
                    </a:lnTo>
                    <a:lnTo>
                      <a:pt x="158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45" y="118"/>
                    </a:lnTo>
                    <a:lnTo>
                      <a:pt x="145" y="118"/>
                    </a:lnTo>
                    <a:lnTo>
                      <a:pt x="145" y="118"/>
                    </a:lnTo>
                    <a:lnTo>
                      <a:pt x="145" y="118"/>
                    </a:lnTo>
                    <a:lnTo>
                      <a:pt x="145" y="111"/>
                    </a:lnTo>
                    <a:lnTo>
                      <a:pt x="145" y="111"/>
                    </a:lnTo>
                    <a:lnTo>
                      <a:pt x="145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8"/>
                    </a:lnTo>
                    <a:lnTo>
                      <a:pt x="131" y="118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17" y="111"/>
                    </a:lnTo>
                    <a:lnTo>
                      <a:pt x="124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04"/>
                    </a:lnTo>
                    <a:lnTo>
                      <a:pt x="90" y="104"/>
                    </a:lnTo>
                    <a:lnTo>
                      <a:pt x="90" y="104"/>
                    </a:lnTo>
                    <a:lnTo>
                      <a:pt x="90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98"/>
                    </a:lnTo>
                    <a:lnTo>
                      <a:pt x="69" y="98"/>
                    </a:lnTo>
                    <a:lnTo>
                      <a:pt x="69" y="98"/>
                    </a:lnTo>
                    <a:lnTo>
                      <a:pt x="69" y="104"/>
                    </a:lnTo>
                    <a:lnTo>
                      <a:pt x="62" y="104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9" y="98"/>
                    </a:lnTo>
                    <a:lnTo>
                      <a:pt x="69" y="98"/>
                    </a:lnTo>
                    <a:lnTo>
                      <a:pt x="69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104"/>
                    </a:lnTo>
                    <a:lnTo>
                      <a:pt x="55" y="104"/>
                    </a:lnTo>
                    <a:lnTo>
                      <a:pt x="55" y="104"/>
                    </a:lnTo>
                    <a:lnTo>
                      <a:pt x="55" y="104"/>
                    </a:lnTo>
                    <a:lnTo>
                      <a:pt x="55" y="104"/>
                    </a:lnTo>
                    <a:lnTo>
                      <a:pt x="55" y="98"/>
                    </a:lnTo>
                    <a:lnTo>
                      <a:pt x="55" y="98"/>
                    </a:lnTo>
                    <a:lnTo>
                      <a:pt x="55" y="98"/>
                    </a:lnTo>
                    <a:lnTo>
                      <a:pt x="55" y="98"/>
                    </a:lnTo>
                    <a:lnTo>
                      <a:pt x="55" y="104"/>
                    </a:lnTo>
                    <a:lnTo>
                      <a:pt x="55" y="104"/>
                    </a:lnTo>
                    <a:lnTo>
                      <a:pt x="49" y="104"/>
                    </a:lnTo>
                    <a:lnTo>
                      <a:pt x="49" y="104"/>
                    </a:lnTo>
                    <a:lnTo>
                      <a:pt x="42" y="104"/>
                    </a:lnTo>
                    <a:lnTo>
                      <a:pt x="42" y="104"/>
                    </a:lnTo>
                    <a:lnTo>
                      <a:pt x="42" y="104"/>
                    </a:lnTo>
                    <a:lnTo>
                      <a:pt x="42" y="104"/>
                    </a:lnTo>
                    <a:lnTo>
                      <a:pt x="42" y="104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28" y="104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1" y="104"/>
                    </a:lnTo>
                    <a:lnTo>
                      <a:pt x="21" y="104"/>
                    </a:lnTo>
                    <a:lnTo>
                      <a:pt x="21" y="104"/>
                    </a:lnTo>
                    <a:lnTo>
                      <a:pt x="21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386240" y="5488920"/>
                <a:ext cx="571680" cy="335160"/>
              </a:xfrm>
              <a:custGeom>
                <a:avLst/>
                <a:gdLst/>
                <a:ahLst/>
                <a:rect l="l" t="t" r="r" b="b"/>
                <a:pathLst>
                  <a:path w="454" h="285">
                    <a:moveTo>
                      <a:pt x="0" y="104"/>
                    </a:moveTo>
                    <a:lnTo>
                      <a:pt x="0" y="104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7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7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55" y="28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9" y="35"/>
                    </a:lnTo>
                    <a:lnTo>
                      <a:pt x="69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10" y="35"/>
                    </a:lnTo>
                    <a:lnTo>
                      <a:pt x="110" y="35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8" y="49"/>
                    </a:lnTo>
                    <a:lnTo>
                      <a:pt x="158" y="49"/>
                    </a:lnTo>
                    <a:lnTo>
                      <a:pt x="158" y="56"/>
                    </a:lnTo>
                    <a:lnTo>
                      <a:pt x="158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72" y="56"/>
                    </a:lnTo>
                    <a:lnTo>
                      <a:pt x="172" y="56"/>
                    </a:lnTo>
                    <a:lnTo>
                      <a:pt x="172" y="49"/>
                    </a:lnTo>
                    <a:lnTo>
                      <a:pt x="179" y="56"/>
                    </a:lnTo>
                    <a:lnTo>
                      <a:pt x="179" y="56"/>
                    </a:lnTo>
                    <a:lnTo>
                      <a:pt x="179" y="49"/>
                    </a:lnTo>
                    <a:lnTo>
                      <a:pt x="186" y="49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200" y="56"/>
                    </a:lnTo>
                    <a:lnTo>
                      <a:pt x="193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63"/>
                    </a:lnTo>
                    <a:lnTo>
                      <a:pt x="200" y="63"/>
                    </a:lnTo>
                    <a:lnTo>
                      <a:pt x="206" y="63"/>
                    </a:lnTo>
                    <a:lnTo>
                      <a:pt x="200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41" y="21"/>
                    </a:lnTo>
                    <a:lnTo>
                      <a:pt x="241" y="21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1"/>
                    </a:lnTo>
                    <a:lnTo>
                      <a:pt x="248" y="21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1"/>
                    </a:lnTo>
                    <a:lnTo>
                      <a:pt x="248" y="28"/>
                    </a:lnTo>
                    <a:lnTo>
                      <a:pt x="254" y="28"/>
                    </a:lnTo>
                    <a:lnTo>
                      <a:pt x="254" y="28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37" y="7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21"/>
                    </a:lnTo>
                    <a:lnTo>
                      <a:pt x="344" y="14"/>
                    </a:lnTo>
                    <a:lnTo>
                      <a:pt x="351" y="14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21"/>
                    </a:lnTo>
                    <a:lnTo>
                      <a:pt x="371" y="21"/>
                    </a:lnTo>
                    <a:lnTo>
                      <a:pt x="371" y="21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8" y="14"/>
                    </a:lnTo>
                    <a:lnTo>
                      <a:pt x="371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85" y="14"/>
                    </a:lnTo>
                    <a:lnTo>
                      <a:pt x="385" y="14"/>
                    </a:lnTo>
                    <a:lnTo>
                      <a:pt x="378" y="14"/>
                    </a:lnTo>
                    <a:lnTo>
                      <a:pt x="385" y="14"/>
                    </a:lnTo>
                    <a:lnTo>
                      <a:pt x="378" y="14"/>
                    </a:lnTo>
                    <a:lnTo>
                      <a:pt x="378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9" y="0"/>
                    </a:lnTo>
                    <a:lnTo>
                      <a:pt x="399" y="7"/>
                    </a:lnTo>
                    <a:lnTo>
                      <a:pt x="399" y="0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9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7"/>
                    </a:lnTo>
                    <a:lnTo>
                      <a:pt x="440" y="7"/>
                    </a:lnTo>
                    <a:lnTo>
                      <a:pt x="440" y="7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14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8"/>
                    </a:lnTo>
                    <a:lnTo>
                      <a:pt x="447" y="28"/>
                    </a:lnTo>
                    <a:lnTo>
                      <a:pt x="440" y="35"/>
                    </a:lnTo>
                    <a:lnTo>
                      <a:pt x="440" y="35"/>
                    </a:lnTo>
                    <a:lnTo>
                      <a:pt x="440" y="42"/>
                    </a:lnTo>
                    <a:lnTo>
                      <a:pt x="440" y="42"/>
                    </a:lnTo>
                    <a:lnTo>
                      <a:pt x="440" y="42"/>
                    </a:lnTo>
                    <a:lnTo>
                      <a:pt x="440" y="49"/>
                    </a:lnTo>
                    <a:lnTo>
                      <a:pt x="433" y="49"/>
                    </a:lnTo>
                    <a:lnTo>
                      <a:pt x="433" y="49"/>
                    </a:lnTo>
                    <a:lnTo>
                      <a:pt x="433" y="56"/>
                    </a:lnTo>
                    <a:lnTo>
                      <a:pt x="433" y="56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33" y="77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54" y="104"/>
                    </a:lnTo>
                    <a:lnTo>
                      <a:pt x="454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8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7" y="111"/>
                    </a:lnTo>
                    <a:lnTo>
                      <a:pt x="447" y="111"/>
                    </a:lnTo>
                    <a:lnTo>
                      <a:pt x="447" y="111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0" y="118"/>
                    </a:lnTo>
                    <a:lnTo>
                      <a:pt x="447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7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33" y="125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46"/>
                    </a:lnTo>
                    <a:lnTo>
                      <a:pt x="433" y="139"/>
                    </a:lnTo>
                    <a:lnTo>
                      <a:pt x="433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33" y="181"/>
                    </a:lnTo>
                    <a:lnTo>
                      <a:pt x="440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22"/>
                    </a:lnTo>
                    <a:lnTo>
                      <a:pt x="426" y="222"/>
                    </a:lnTo>
                    <a:lnTo>
                      <a:pt x="426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2" y="229"/>
                    </a:lnTo>
                    <a:lnTo>
                      <a:pt x="406" y="229"/>
                    </a:lnTo>
                    <a:lnTo>
                      <a:pt x="399" y="236"/>
                    </a:lnTo>
                    <a:lnTo>
                      <a:pt x="392" y="243"/>
                    </a:lnTo>
                    <a:lnTo>
                      <a:pt x="385" y="250"/>
                    </a:lnTo>
                    <a:lnTo>
                      <a:pt x="378" y="250"/>
                    </a:lnTo>
                    <a:lnTo>
                      <a:pt x="378" y="250"/>
                    </a:lnTo>
                    <a:lnTo>
                      <a:pt x="371" y="250"/>
                    </a:lnTo>
                    <a:lnTo>
                      <a:pt x="371" y="257"/>
                    </a:lnTo>
                    <a:lnTo>
                      <a:pt x="364" y="264"/>
                    </a:lnTo>
                    <a:lnTo>
                      <a:pt x="364" y="264"/>
                    </a:lnTo>
                    <a:lnTo>
                      <a:pt x="351" y="278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09" y="278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09" y="28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386240" y="5604120"/>
                <a:ext cx="441720" cy="219960"/>
              </a:xfrm>
              <a:custGeom>
                <a:avLst/>
                <a:gdLst/>
                <a:ahLst/>
                <a:rect l="l" t="t" r="r" b="b"/>
                <a:pathLst>
                  <a:path w="351" h="187">
                    <a:moveTo>
                      <a:pt x="309" y="187"/>
                    </a:moveTo>
                    <a:lnTo>
                      <a:pt x="309" y="187"/>
                    </a:lnTo>
                    <a:lnTo>
                      <a:pt x="309" y="187"/>
                    </a:lnTo>
                    <a:lnTo>
                      <a:pt x="309" y="187"/>
                    </a:lnTo>
                    <a:lnTo>
                      <a:pt x="309" y="187"/>
                    </a:lnTo>
                    <a:lnTo>
                      <a:pt x="309" y="187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73"/>
                    </a:lnTo>
                    <a:lnTo>
                      <a:pt x="309" y="180"/>
                    </a:lnTo>
                    <a:lnTo>
                      <a:pt x="309" y="173"/>
                    </a:lnTo>
                    <a:lnTo>
                      <a:pt x="309" y="173"/>
                    </a:lnTo>
                    <a:lnTo>
                      <a:pt x="309" y="173"/>
                    </a:lnTo>
                    <a:lnTo>
                      <a:pt x="309" y="173"/>
                    </a:lnTo>
                    <a:lnTo>
                      <a:pt x="309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16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30" y="166"/>
                    </a:lnTo>
                    <a:lnTo>
                      <a:pt x="330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23" y="159"/>
                    </a:lnTo>
                    <a:lnTo>
                      <a:pt x="323" y="159"/>
                    </a:lnTo>
                    <a:lnTo>
                      <a:pt x="323" y="159"/>
                    </a:lnTo>
                    <a:lnTo>
                      <a:pt x="323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23" y="159"/>
                    </a:lnTo>
                    <a:lnTo>
                      <a:pt x="323" y="152"/>
                    </a:lnTo>
                    <a:lnTo>
                      <a:pt x="330" y="152"/>
                    </a:lnTo>
                    <a:lnTo>
                      <a:pt x="323" y="152"/>
                    </a:lnTo>
                    <a:lnTo>
                      <a:pt x="330" y="152"/>
                    </a:lnTo>
                    <a:lnTo>
                      <a:pt x="323" y="152"/>
                    </a:lnTo>
                    <a:lnTo>
                      <a:pt x="323" y="152"/>
                    </a:lnTo>
                    <a:lnTo>
                      <a:pt x="323" y="152"/>
                    </a:lnTo>
                    <a:lnTo>
                      <a:pt x="323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23" y="152"/>
                    </a:lnTo>
                    <a:lnTo>
                      <a:pt x="323" y="152"/>
                    </a:lnTo>
                    <a:lnTo>
                      <a:pt x="323" y="145"/>
                    </a:lnTo>
                    <a:lnTo>
                      <a:pt x="323" y="145"/>
                    </a:lnTo>
                    <a:lnTo>
                      <a:pt x="330" y="145"/>
                    </a:lnTo>
                    <a:lnTo>
                      <a:pt x="323" y="145"/>
                    </a:lnTo>
                    <a:lnTo>
                      <a:pt x="323" y="145"/>
                    </a:lnTo>
                    <a:lnTo>
                      <a:pt x="323" y="145"/>
                    </a:lnTo>
                    <a:lnTo>
                      <a:pt x="323" y="145"/>
                    </a:lnTo>
                    <a:lnTo>
                      <a:pt x="330" y="145"/>
                    </a:lnTo>
                    <a:lnTo>
                      <a:pt x="330" y="145"/>
                    </a:lnTo>
                    <a:lnTo>
                      <a:pt x="323" y="145"/>
                    </a:lnTo>
                    <a:lnTo>
                      <a:pt x="323" y="138"/>
                    </a:lnTo>
                    <a:lnTo>
                      <a:pt x="323" y="138"/>
                    </a:lnTo>
                    <a:lnTo>
                      <a:pt x="323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1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1"/>
                    </a:lnTo>
                    <a:lnTo>
                      <a:pt x="330" y="131"/>
                    </a:lnTo>
                    <a:lnTo>
                      <a:pt x="330" y="131"/>
                    </a:lnTo>
                    <a:lnTo>
                      <a:pt x="330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24"/>
                    </a:lnTo>
                    <a:lnTo>
                      <a:pt x="337" y="124"/>
                    </a:lnTo>
                    <a:lnTo>
                      <a:pt x="337" y="124"/>
                    </a:lnTo>
                    <a:lnTo>
                      <a:pt x="337" y="124"/>
                    </a:lnTo>
                    <a:lnTo>
                      <a:pt x="344" y="131"/>
                    </a:lnTo>
                    <a:lnTo>
                      <a:pt x="344" y="124"/>
                    </a:lnTo>
                    <a:lnTo>
                      <a:pt x="344" y="131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31"/>
                    </a:lnTo>
                    <a:lnTo>
                      <a:pt x="351" y="124"/>
                    </a:lnTo>
                    <a:lnTo>
                      <a:pt x="351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37" y="117"/>
                    </a:lnTo>
                    <a:lnTo>
                      <a:pt x="344" y="117"/>
                    </a:lnTo>
                    <a:lnTo>
                      <a:pt x="337" y="117"/>
                    </a:lnTo>
                    <a:lnTo>
                      <a:pt x="344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0" y="117"/>
                    </a:lnTo>
                    <a:lnTo>
                      <a:pt x="330" y="117"/>
                    </a:lnTo>
                    <a:lnTo>
                      <a:pt x="330" y="117"/>
                    </a:lnTo>
                    <a:lnTo>
                      <a:pt x="330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7"/>
                    </a:lnTo>
                    <a:lnTo>
                      <a:pt x="330" y="117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7"/>
                    </a:lnTo>
                    <a:lnTo>
                      <a:pt x="330" y="117"/>
                    </a:lnTo>
                    <a:lnTo>
                      <a:pt x="323" y="117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1"/>
                    </a:lnTo>
                    <a:lnTo>
                      <a:pt x="316" y="111"/>
                    </a:lnTo>
                    <a:lnTo>
                      <a:pt x="309" y="111"/>
                    </a:lnTo>
                    <a:lnTo>
                      <a:pt x="309" y="111"/>
                    </a:lnTo>
                    <a:lnTo>
                      <a:pt x="309" y="111"/>
                    </a:lnTo>
                    <a:lnTo>
                      <a:pt x="309" y="111"/>
                    </a:lnTo>
                    <a:lnTo>
                      <a:pt x="309" y="117"/>
                    </a:lnTo>
                    <a:lnTo>
                      <a:pt x="309" y="111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1"/>
                    </a:lnTo>
                    <a:lnTo>
                      <a:pt x="309" y="111"/>
                    </a:lnTo>
                    <a:lnTo>
                      <a:pt x="303" y="111"/>
                    </a:lnTo>
                    <a:lnTo>
                      <a:pt x="303" y="117"/>
                    </a:lnTo>
                    <a:lnTo>
                      <a:pt x="303" y="117"/>
                    </a:lnTo>
                    <a:lnTo>
                      <a:pt x="303" y="111"/>
                    </a:lnTo>
                    <a:lnTo>
                      <a:pt x="303" y="111"/>
                    </a:lnTo>
                    <a:lnTo>
                      <a:pt x="303" y="111"/>
                    </a:lnTo>
                    <a:lnTo>
                      <a:pt x="303" y="111"/>
                    </a:lnTo>
                    <a:lnTo>
                      <a:pt x="303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7"/>
                    </a:lnTo>
                    <a:lnTo>
                      <a:pt x="296" y="117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2" y="111"/>
                    </a:lnTo>
                    <a:lnTo>
                      <a:pt x="282" y="111"/>
                    </a:lnTo>
                    <a:lnTo>
                      <a:pt x="282" y="111"/>
                    </a:lnTo>
                    <a:lnTo>
                      <a:pt x="282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04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83"/>
                    </a:lnTo>
                    <a:lnTo>
                      <a:pt x="254" y="83"/>
                    </a:lnTo>
                    <a:lnTo>
                      <a:pt x="248" y="83"/>
                    </a:lnTo>
                    <a:lnTo>
                      <a:pt x="248" y="90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76"/>
                    </a:lnTo>
                    <a:lnTo>
                      <a:pt x="248" y="76"/>
                    </a:lnTo>
                    <a:lnTo>
                      <a:pt x="248" y="76"/>
                    </a:lnTo>
                    <a:lnTo>
                      <a:pt x="241" y="76"/>
                    </a:lnTo>
                    <a:lnTo>
                      <a:pt x="248" y="76"/>
                    </a:lnTo>
                    <a:lnTo>
                      <a:pt x="241" y="76"/>
                    </a:lnTo>
                    <a:lnTo>
                      <a:pt x="241" y="76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27" y="62"/>
                    </a:lnTo>
                    <a:lnTo>
                      <a:pt x="227" y="62"/>
                    </a:lnTo>
                    <a:lnTo>
                      <a:pt x="227" y="62"/>
                    </a:lnTo>
                    <a:lnTo>
                      <a:pt x="227" y="62"/>
                    </a:lnTo>
                    <a:lnTo>
                      <a:pt x="227" y="62"/>
                    </a:lnTo>
                    <a:lnTo>
                      <a:pt x="227" y="55"/>
                    </a:lnTo>
                    <a:lnTo>
                      <a:pt x="227" y="55"/>
                    </a:lnTo>
                    <a:lnTo>
                      <a:pt x="220" y="55"/>
                    </a:lnTo>
                    <a:lnTo>
                      <a:pt x="220" y="55"/>
                    </a:lnTo>
                    <a:lnTo>
                      <a:pt x="220" y="55"/>
                    </a:lnTo>
                    <a:lnTo>
                      <a:pt x="220" y="55"/>
                    </a:lnTo>
                    <a:lnTo>
                      <a:pt x="220" y="55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0" y="48"/>
                    </a:lnTo>
                    <a:lnTo>
                      <a:pt x="200" y="48"/>
                    </a:lnTo>
                    <a:lnTo>
                      <a:pt x="200" y="48"/>
                    </a:lnTo>
                    <a:lnTo>
                      <a:pt x="200" y="48"/>
                    </a:lnTo>
                    <a:lnTo>
                      <a:pt x="200" y="48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193" y="34"/>
                    </a:lnTo>
                    <a:lnTo>
                      <a:pt x="193" y="34"/>
                    </a:lnTo>
                    <a:lnTo>
                      <a:pt x="193" y="41"/>
                    </a:lnTo>
                    <a:lnTo>
                      <a:pt x="193" y="34"/>
                    </a:lnTo>
                    <a:lnTo>
                      <a:pt x="193" y="34"/>
                    </a:lnTo>
                    <a:lnTo>
                      <a:pt x="193" y="41"/>
                    </a:lnTo>
                    <a:lnTo>
                      <a:pt x="193" y="41"/>
                    </a:lnTo>
                    <a:lnTo>
                      <a:pt x="193" y="41"/>
                    </a:lnTo>
                    <a:lnTo>
                      <a:pt x="186" y="41"/>
                    </a:lnTo>
                    <a:lnTo>
                      <a:pt x="186" y="41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9" y="27"/>
                    </a:lnTo>
                    <a:lnTo>
                      <a:pt x="179" y="27"/>
                    </a:lnTo>
                    <a:lnTo>
                      <a:pt x="179" y="27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27"/>
                    </a:lnTo>
                    <a:lnTo>
                      <a:pt x="165" y="27"/>
                    </a:lnTo>
                    <a:lnTo>
                      <a:pt x="165" y="27"/>
                    </a:lnTo>
                    <a:lnTo>
                      <a:pt x="165" y="27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58" y="34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2" y="27"/>
                    </a:lnTo>
                    <a:lnTo>
                      <a:pt x="152" y="27"/>
                    </a:lnTo>
                    <a:lnTo>
                      <a:pt x="152" y="27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13"/>
                    </a:lnTo>
                    <a:lnTo>
                      <a:pt x="145" y="13"/>
                    </a:lnTo>
                    <a:lnTo>
                      <a:pt x="145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20"/>
                    </a:lnTo>
                    <a:lnTo>
                      <a:pt x="131" y="20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24" y="13"/>
                    </a:lnTo>
                    <a:lnTo>
                      <a:pt x="124" y="13"/>
                    </a:lnTo>
                    <a:lnTo>
                      <a:pt x="124" y="13"/>
                    </a:lnTo>
                    <a:lnTo>
                      <a:pt x="124" y="13"/>
                    </a:lnTo>
                    <a:lnTo>
                      <a:pt x="124" y="13"/>
                    </a:lnTo>
                    <a:lnTo>
                      <a:pt x="117" y="13"/>
                    </a:lnTo>
                    <a:lnTo>
                      <a:pt x="124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117" y="6"/>
                    </a:lnTo>
                    <a:lnTo>
                      <a:pt x="117" y="6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03" y="13"/>
                    </a:lnTo>
                    <a:lnTo>
                      <a:pt x="103" y="13"/>
                    </a:lnTo>
                    <a:lnTo>
                      <a:pt x="103" y="13"/>
                    </a:lnTo>
                    <a:lnTo>
                      <a:pt x="103" y="13"/>
                    </a:lnTo>
                    <a:lnTo>
                      <a:pt x="103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6"/>
                    </a:lnTo>
                    <a:lnTo>
                      <a:pt x="62" y="6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6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940280" y="5635800"/>
                <a:ext cx="864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940280" y="56440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940280" y="5627520"/>
                <a:ext cx="24840" cy="49320"/>
              </a:xfrm>
              <a:custGeom>
                <a:avLst/>
                <a:gdLst/>
                <a:ahLst/>
                <a:rect l="l" t="t" r="r" b="b"/>
                <a:pathLst>
                  <a:path w="20" h="42">
                    <a:moveTo>
                      <a:pt x="7" y="42"/>
                    </a:moveTo>
                    <a:lnTo>
                      <a:pt x="7" y="42"/>
                    </a:lnTo>
                    <a:lnTo>
                      <a:pt x="7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7" y="42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42"/>
                    </a:lnTo>
                    <a:lnTo>
                      <a:pt x="7" y="42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940280" y="566064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040880" y="49428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040880" y="49428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040880" y="49428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989040" y="494280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372400" y="2608560"/>
              <a:ext cx="4212360" cy="3370680"/>
              <a:chOff x="2372400" y="2608560"/>
              <a:chExt cx="4212360" cy="337068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2372400" y="2608560"/>
                <a:ext cx="4212360" cy="3370680"/>
                <a:chOff x="2372400" y="2608560"/>
                <a:chExt cx="4212360" cy="337068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5263560" y="463824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M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006800" y="4155840"/>
                  <a:ext cx="2872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M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807800" y="506412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SP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464000" y="527724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P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635360" y="554544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S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350600" y="581148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R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801400" y="479700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549400" y="504288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RJ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835240" y="334260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C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978880" y="367452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P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693320" y="447696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G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084720" y="3942720"/>
                  <a:ext cx="2872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S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159440" y="484164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M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372400" y="370980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A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343320" y="3974400"/>
                  <a:ext cx="2872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R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297680" y="3408480"/>
                  <a:ext cx="2883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P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479400" y="260856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R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21560" y="334260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AM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872240" y="390996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T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477680" y="270828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AP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442480" y="364284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PI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5156640" y="330840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M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157800" y="3383640"/>
                  <a:ext cx="2829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R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514480" y="4074480"/>
                  <a:ext cx="28692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B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6298920" y="354276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PB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942800" y="4318200"/>
                  <a:ext cx="28692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D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3" name=""/>
              <p:cNvSpPr/>
              <p:nvPr/>
            </p:nvSpPr>
            <p:spPr>
              <a:xfrm>
                <a:off x="6228360" y="3774600"/>
                <a:ext cx="28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3300"/>
                    </a:solidFill>
                    <a:latin typeface="Verdana"/>
                  </a:rPr>
                  <a:t>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ERHs e CN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GESTÃO DESCENTRALIZADA E PARTICIP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PLANO NACIONAL E PLANOS ESTADUAIS DE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2133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br>
              <a:rPr sz="2800"/>
            </a:br>
            <a:br>
              <a:rPr sz="2800"/>
            </a:br>
            <a:r>
              <a:rPr b="1" lang="pt-BR" sz="2800" spc="-1" strike="noStrike" u="sng">
                <a:solidFill>
                  <a:srgbClr val="000099"/>
                </a:solidFill>
                <a:uFillTx/>
                <a:latin typeface="Arial Unicode MS"/>
              </a:rPr>
              <a:t>www.cnrh-srh.gov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 Unicode MS"/>
              </a:rPr>
              <a:t>SECRETARIA EXECUTIVA DO CN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 Unicode MS"/>
              </a:rPr>
              <a:t>sec.executiva@cnrh-srh.gov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Arial Unicode MS"/>
              </a:rPr>
              <a:t>Sistema Nacional de Gerenciamento de Recursos Hídricos - SINGRE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2280" y="2057400"/>
            <a:ext cx="8858520" cy="4736520"/>
            <a:chOff x="152280" y="2057400"/>
            <a:chExt cx="8858520" cy="4736520"/>
          </a:xfrm>
        </p:grpSpPr>
        <p:sp>
          <p:nvSpPr>
            <p:cNvPr id="52" name=""/>
            <p:cNvSpPr/>
            <p:nvPr/>
          </p:nvSpPr>
          <p:spPr>
            <a:xfrm>
              <a:off x="2971800" y="4664520"/>
              <a:ext cx="3505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152280" y="2057400"/>
              <a:ext cx="8858520" cy="4736520"/>
              <a:chOff x="152280" y="2057400"/>
              <a:chExt cx="8858520" cy="473652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152280" y="2699640"/>
                <a:ext cx="8839440" cy="4094280"/>
                <a:chOff x="152280" y="2699640"/>
                <a:chExt cx="8839440" cy="409428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152280" y="2699640"/>
                  <a:ext cx="8839440" cy="642240"/>
                  <a:chOff x="152280" y="2699640"/>
                  <a:chExt cx="8839440" cy="64224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152280" y="2828160"/>
                    <a:ext cx="990720" cy="51336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Âmbit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3581280" y="2699640"/>
                    <a:ext cx="1752840" cy="64224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Administraçã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iret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7696080" y="2754720"/>
                    <a:ext cx="1295640" cy="58680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Entidad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a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5791320" y="2754720"/>
                    <a:ext cx="1447560" cy="58680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Pode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Outorgant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1523880" y="2699640"/>
                    <a:ext cx="1524240" cy="64224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Organismo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olegiado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" name=""/>
                <p:cNvGrpSpPr/>
                <p:nvPr/>
              </p:nvGrpSpPr>
              <p:grpSpPr>
                <a:xfrm>
                  <a:off x="152280" y="3507480"/>
                  <a:ext cx="8839440" cy="1468440"/>
                  <a:chOff x="152280" y="3507480"/>
                  <a:chExt cx="8839440" cy="1468440"/>
                </a:xfrm>
              </p:grpSpPr>
              <p:sp>
                <p:nvSpPr>
                  <p:cNvPr id="62" name=""/>
                  <p:cNvSpPr/>
                  <p:nvPr/>
                </p:nvSpPr>
                <p:spPr>
                  <a:xfrm>
                    <a:off x="152280" y="3984480"/>
                    <a:ext cx="1067040" cy="5137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Nacion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3581280" y="3507480"/>
                    <a:ext cx="1752840" cy="5875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MMA / SRH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7696080" y="4388400"/>
                    <a:ext cx="1295640" cy="5875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Agên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5791320" y="3507480"/>
                    <a:ext cx="1447560" cy="5875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AN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1523880" y="3580920"/>
                    <a:ext cx="1524240" cy="5137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NRH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1638360" y="4388400"/>
                    <a:ext cx="1295280" cy="5875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omitê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3048120" y="3801240"/>
                    <a:ext cx="533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5334120" y="3801240"/>
                    <a:ext cx="457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38880" y="3801240"/>
                    <a:ext cx="1079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8344080" y="3801240"/>
                    <a:ext cx="0" cy="587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2930400" y="4975920"/>
                    <a:ext cx="4765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2286000" y="4095000"/>
                    <a:ext cx="0" cy="293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flipV="1">
                    <a:off x="6477120" y="4094640"/>
                    <a:ext cx="0" cy="587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 flipV="1">
                    <a:off x="4419720" y="4094640"/>
                    <a:ext cx="0" cy="587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" name=""/>
                <p:cNvGrpSpPr/>
                <p:nvPr/>
              </p:nvGrpSpPr>
              <p:grpSpPr>
                <a:xfrm>
                  <a:off x="152280" y="5325120"/>
                  <a:ext cx="8839440" cy="1468800"/>
                  <a:chOff x="152280" y="5325120"/>
                  <a:chExt cx="8839440" cy="1468800"/>
                </a:xfrm>
              </p:grpSpPr>
              <p:sp>
                <p:nvSpPr>
                  <p:cNvPr id="77" name=""/>
                  <p:cNvSpPr/>
                  <p:nvPr/>
                </p:nvSpPr>
                <p:spPr>
                  <a:xfrm>
                    <a:off x="152280" y="5802480"/>
                    <a:ext cx="1067040" cy="5140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Estadu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3581280" y="5325120"/>
                    <a:ext cx="1752840" cy="58716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Secretar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Estad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696080" y="6206400"/>
                    <a:ext cx="1295640" cy="58716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Agên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5791320" y="5325120"/>
                    <a:ext cx="1447560" cy="8812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Entidade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Gestora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Estaduai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523880" y="5398560"/>
                    <a:ext cx="1524240" cy="51372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ERH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1638360" y="6206400"/>
                    <a:ext cx="1295280" cy="58716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omitê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3048120" y="5618880"/>
                    <a:ext cx="533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5334120" y="5618880"/>
                    <a:ext cx="457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238880" y="5618880"/>
                    <a:ext cx="1079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344080" y="5618880"/>
                    <a:ext cx="0" cy="587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2930400" y="6793920"/>
                    <a:ext cx="4765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2286000" y="5912280"/>
                    <a:ext cx="0" cy="293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 flipV="1">
                    <a:off x="6477120" y="6206400"/>
                    <a:ext cx="0" cy="295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 flipV="1">
                    <a:off x="4419720" y="5912280"/>
                    <a:ext cx="0" cy="587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2971800" y="6500160"/>
                    <a:ext cx="35053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>
                <a:off x="1562040" y="2259000"/>
                <a:ext cx="3733920" cy="29376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Formulação da Polít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753160" y="2057400"/>
                <a:ext cx="3257640" cy="64224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Implementação d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Instrumentos de Polít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     </a:t>
            </a:r>
            <a:r>
              <a:rPr b="1" lang="pt-BR" sz="2800" spc="-1" strike="noStrike">
                <a:solidFill>
                  <a:srgbClr val="ff0000"/>
                </a:solidFill>
                <a:latin typeface="Arial Unicode MS"/>
              </a:rPr>
              <a:t>HISTÓ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CRIAÇÃO: 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Lei nº 9.433/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REGULAMENTAÇÃO: 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Decreto nº 4.613/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REUNIÃO DE INSTALAÇÃO: 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5/11/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REGIMENTO INTERNO: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 aprovado em 25/6/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ALTERAÇÃO DA COMPOSIÇÃO: 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Decreto nº 4.613/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Unicode MS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Unicode M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CN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Unicode MS"/>
              </a:rPr>
              <a:t>ÓRGÃO MÁXIMO DO SINGRE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Unicode MS"/>
              </a:rPr>
              <a:t>CARÁTER NORMATIVO E DELIB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Unicode MS"/>
              </a:rPr>
              <a:t>FÓRUM DE DISCUSSÃO (GOVERNO, USUÁRIOS E SOCIEDADE CIV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 Unicode MS"/>
              </a:rPr>
              <a:t>ATRIBUI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ANALISA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PROPOSTAS DE ALTERAÇÃO DA LEGISLAÇÃO PERTINENTE À RECURSOS HÍDRICOS E À POLÍTICA NACIONAL DE RECURSOS HÍDRIC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ESTABELECE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DIRETRIZES COMPLEMENTARES PARA IMPLEMENTAÇÃO DA POLÍTICA NACIONAL DE RECURSOS HÍDRIC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PROMOVER 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A ARTICULAÇÃO DO PLANEJAMENTO DE RECURSOS HÍDRICOS COM OS PLANEJAMENTOS NACIONAL, REGIONAIS, ESTADUAIS E DOS SETORES USUÁRIO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ARBITRA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CONFLITOS SOBRE RECURSOS HÍDRIC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DELIBERA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SOBRE OS PROJETOS DE APROVEITAMENTO DE RECURSOS HÍDRICOS CUJAS REPERCUSSÕES EXTRAPOLEM O ÂMBITO DOS ESTAD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APROVA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PROPOSTAS DE INSTITUIÇÃO DE COMITÊS DE BACIA HIDROGRÁFIC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ESTABELECE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CRITÉRIOS GERAIS PARA A OUTORGA DE DIREITO DE USO DE RECURSOS HÍDRICOS E PARA A COBRANÇA POR SEU USO;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APROVAR 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O PLANO NACIONAL DE RECURSOS HÍDRICOS E ACOMPANHAR SUA EXECU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 Unicode MS"/>
              </a:rPr>
              <a:t>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PRESID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SECRETÁRIO EXEC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REPRESENTANTES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GOVERNO FED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CER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USUÁRIOS DE 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ORGANIZAÇÕES CI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 Unicode MS"/>
              </a:rPr>
              <a:t>SECRETARIA EXECUTIVA (SRH/MM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APOIO ADMINISTRATIVO, TÉCNICO E FINANC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INTERAÇÃO COM MÚLTIPLOS A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ACOMPANHAMENTO E MONITORAMENTO DAS DELIBERAÇÕES DO CN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Unicode MS"/>
              </a:rPr>
              <a:t>COMPOSIÇÃO (57 MEMBR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MINISTÉRIOS E SECRETARIAS ESPECIAIS DA PRESIDÊNCIA 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      </a:t>
            </a: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REPÚBLICA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29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CONSELHOS ESTADUAIS DE RECURSOS HÍDRICOS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10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USUÁRIOS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12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IRRIG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INDÚST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CONCESSIONÁRIAS E AUTORIZADAS DE GERAÇÃO HIDREL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PESCADORES E USUÁRIOS DE LAZER  E TURISM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INSTITUIÇÕES ENCARREGADAS DE ABASTECIMENTO DE ÁGUA E ESGOTAMENTO SANITÁ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HIDROVIÁ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COMITÊS, CONSÓRCIOS E ASSOCIAÇÕES INTERMUNICIPAIS DE BACIAS HIDROGRÁFICAS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2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ORGANIZAÇÕES TÉCNICAS E DE ENSINO E PESQUISA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2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ORGANIZAÇÕES NÃO-GOVERNAMENTAIS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2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0000"/>
                </a:solidFill>
                <a:latin typeface="Arial Unicode MS"/>
              </a:rPr>
              <a:t>        </a:t>
            </a:r>
            <a:r>
              <a:rPr b="1" lang="pt-BR" sz="1100" spc="-1" strike="noStrike">
                <a:solidFill>
                  <a:srgbClr val="ff0000"/>
                </a:solidFill>
                <a:latin typeface="Arial Unicode MS"/>
              </a:rPr>
              <a:t>PRINCIPAIS DELIBERAÇÕES APROVAD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05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DIRETRIZES PARA INSTITUIÇÃO DE COMITÊ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2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ENQUADRAMENTO DE CORPOS DE ÁGU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3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SISTEMA NACIONAL DE INFORMAÇÕ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4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PROCEDIMENTOS DE INDICAÇÃO DOS REPRESENTANTES DOS CERHs, DOS USUÁRIOS E DAS ORGANIZAÇÕES CIVIS NO CNR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5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GESTÃO DE ÁGUAS SUBTERRÂNE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6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OUTORGA DE DIREITO DE USO</a:t>
            </a: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7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PLANOS DE RECURSOS HÍDRIC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9 –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CRITÉRIOS E VALORES PARA A COBRANÇA NA BACIA DO RIO PARAÍBA DO SU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29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DIRETRIZES PARA A OUTORGA DE USO DOS RECURSOS HÍDRICOS PARA O APROVEITAMENTO DOS RECURSOS MINERA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32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INSTITUI A DIVISÃO HIDROGRÁFICA NACION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MOÇÃO Nº 20 - 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RECOMENDA MEDIDAS QUE ASSEGUREM O NÃO-CONTINGENCIAMENTO DOS RECURSOS DA COBRANÇA, BEM COMO SUA APLICAÇÃO DE ACORDO COM A LEGISLAÇÃO VIGE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° 35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ESTABELECE AS PRIORIDADES PARA APLICAÇÃO DOS RECURSOS ORIUNDOS DA COBRANÇA PELO USO DE RECURSOS HÍDRICOS, PARA O EXERCÍCIO DE 20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° 37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ESTABELECE DIRETRIZES PARA A OUTORGA DE RECURSOS HÍDRICOS PARA A IMPLANTAÇÃO DE BARRAGE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° 38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DELEGAR COMPETÊNCIA À ASSOCIAÇÃO PRÓ-GESTÃO DAS ÁGUAS DA BACIA HIDROGRÁFICA DO RIO PARAÍBA DO SU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° 41 –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ESTABELECE AS PRIORIDADES PARA APLICAÇÃO DOS RECURSOS ORIUNDOS DA COBRANÇA PELO USO DE RECURSOS HÍDRICOS, PARA O EXERCÍCIO DE 20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Unicode MS"/>
              </a:rPr>
              <a:t>      </a:t>
            </a:r>
            <a:r>
              <a:rPr b="1" lang="en-US" sz="2100" spc="-1" strike="noStrike" u="sng">
                <a:solidFill>
                  <a:srgbClr val="ff0000"/>
                </a:solidFill>
                <a:uFillTx/>
                <a:latin typeface="Arial Unicode MS"/>
              </a:rPr>
              <a:t>CÂMARAS TÉCNICAS</a:t>
            </a:r>
            <a:r>
              <a:rPr b="1" lang="en-US" sz="2100" spc="-1" strike="noStrike">
                <a:solidFill>
                  <a:srgbClr val="ff0000"/>
                </a:solidFill>
                <a:latin typeface="Arial Unicode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 Unicode MS"/>
              </a:rPr>
              <a:t>ASSESSORAM TECNICAMENTE O CNRH (RECOMENDAM A DECISÃO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 Unicode MS"/>
              </a:rPr>
              <a:t>ATUALMENTE SÃO NOVE ( 7 a 17 membros)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 Unicode MS"/>
              </a:rPr>
              <a:t>COMPETÊNCIAS GERAI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 Unicode MS"/>
              </a:rPr>
              <a:t>EXAMINAR ASSUNTOS DE SUA COMPETÊNCIA E RELATAR AO PLENÁR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 Unicode MS"/>
              </a:rPr>
              <a:t>COMPOSIÇÃO QUE PERMITE A INTEGRAÇÃO DOS SETO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 Unicode MS"/>
              </a:rPr>
              <a:t>PROCESSO DE DISCUSSÃO: DEMOCRÁTICO, ABERTO E PARTICIPATIV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23:42:49Z</dcterms:created>
  <dc:creator>SPOA-CGTI</dc:creator>
  <dc:description/>
  <dc:language>en-US</dc:language>
  <cp:lastModifiedBy>SRH</cp:lastModifiedBy>
  <cp:lastPrinted>2003-07-21T18:42:49Z</cp:lastPrinted>
  <dcterms:modified xsi:type="dcterms:W3CDTF">2004-10-15T13:29:20Z</dcterms:modified>
  <cp:revision>472</cp:revision>
  <dc:subject/>
  <dc:title>Apresentação do PowerPoint</dc:title>
</cp:coreProperties>
</file>