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278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F7E6-6C08-4642-A4A5-A322ECED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1C1-62BE-4493-AFDD-3500DA48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F863-2E12-4460-870B-6AD14C96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DD96-A793-429E-BCFD-69770A2D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68D-3BD6-4F96-A111-EC0C1175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C214-C91C-437B-AC5A-B826CA22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8F4F-444E-45BB-A5BC-8A807122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2340-19D5-4616-9B40-07725302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B3AA-5C13-48B9-91B8-F9849CB4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4A0-E8C5-48BA-8869-7731796C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3608-2701-4251-AA67-091C4263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C38-F3F2-4FC4-9B23-0A5CDDED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C1B7-43F7-4526-BD2D-585D94DD6B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mazonas.am.gov.br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57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666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evantamento de Informações e Subsídios para a Elaboração de um Programa Nacional de Desenvolvimento e Capacitação de Recursos Humanos em Saneamento Ambiental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34340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MARCELO DE PAULA NEVES LELIS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CIDADES/PMSS</a:t>
            </a:r>
            <a:br>
              <a:rPr sz="2000"/>
            </a:br>
            <a:br>
              <a:rPr sz="1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571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rasília / DF, 17 de agosto de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6765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270920" y="1600200"/>
          <a:ext cx="1873080" cy="53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70920" y="1600200"/>
                    <a:ext cx="18730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422720" y="0"/>
            <a:ext cx="681480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stério das Cidad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aria Nacional de Saneamento Ambien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grama de Modernização do Setor Saneamento - PM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logo-pmss" descr=""/>
          <p:cNvPicPr/>
          <p:nvPr/>
        </p:nvPicPr>
        <p:blipFill>
          <a:blip r:embed="rId4"/>
          <a:stretch/>
        </p:blipFill>
        <p:spPr>
          <a:xfrm>
            <a:off x="152280" y="838080"/>
            <a:ext cx="1228680" cy="552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905120"/>
            <a:ext cx="2362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584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584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BJETIVO GER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evantar informações sobre o perfil da demanda e oferta existente no setor de saneamento ambiental quanto às necessidades de formação profissional e capacitação, qualificando os seguintes aspect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úblico-Al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mát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strutura Pedag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ontes de financiament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BJETIVOS ESPECÍFICO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4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Fornecer subsídios ao Grupo de Trabalho – GT, criado para desenvolver uma proposta de política de capacitação para o setor saneamento ambient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Fundamentar os termos dos Acordos de Cooperação Técnica Internacion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Verificar a hipótese trabalhada no Estudo de Viabilidade que aborda a necessidade de se criar no Brasil um Centro de Formação Profissional em Águas, tendo como referência o Centro de Capacitação em Limoges, na França, 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nalisar a convergência ou não entre a infra-estrutura e capacidades pedagógicas instaladas no país e a demanda por formação profissional e capacitação identificada no estudo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CEPÇÃO DO ESTUD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O estudo fundamenta-se nas seguintes diretriz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brangência temá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Ênfase de abordag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lementos nortea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io condutor analític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) identificar a demanda existente por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primoramento profissional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e por criação de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novas competência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para cada uma das modalidades do saneamento ambient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b) analisar a convergência (ou não) entre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demanda e ofert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disponível de estruturas de ensino no paí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) indicar as possibilidades de parceria para se formar uma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rede de capacitaçã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d) utilizar as informações obtidas para identificar as disponibilidades de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ontrapartida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regionais e institucionais capazes de viabilizar centros de formação e capacitação no Brasi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TODOLOG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evantamento de dados e informações sobre público-alvo, demandas temáticas e estrutura pedagógica instal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ontes de consulta e pesquis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)Entidades do setor que trabalham com programas de capacitaçã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) Rede de ensino formal na área de saneamento ambienta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entros de pesquisa que oferecem programas de capacitação e de reciclagem profissional na área de saneamento ambiental e de recursos hídricos,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Órgãos do governo federal que desenvolvem projetos, estudos e ações relacionados com o assunto objeto do Estudo e correla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TODOLOG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Instrumentos de pesquisa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Questionári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Entrevista presencial (*),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Consultas diversas a 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websit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, documentos, biblioteca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isitas programad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(entrevista presencial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rasília–D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MCIDADES (PNCC, SNSA, PNCDA, PROCEL, PMSS); MMA; ANA/MMA; MIN; FUNASA; MCT, ASSEMAE*; AESBE; CAESB; UnB; SISTEMA “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SABESP; CETESB; USP/Faculdade de Saúde Pública; São Carlos; Franca; SANASA/Campinas; IPT; CEFET; ETESP; Fórum Nacional Lixo e Cidadania/Água e V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ABES; IBAM; PROSAB/FINEP; UFRJ/COPPE; CEDA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Campina Grande/UF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GAGECE - Fortalez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EMBASA - Salva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DESA/UFMG; CETEC; COPASA; PBH; ASM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UFRGS/IP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OMPANHAMENTO E SUPERVISÃO DOS TRABALHO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acompanhamento e a supervisão do desenvolvimento do Estudo será feito pelo Grupo de Trabalho – GT, de composição interministerial, criado para propor uma política nacional de desenvolvimento e capacitação de recursos humanos em saneamento ambiental. Etapas a serem cumprid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º) Aprovação do Plano de Trabalho: 11/08/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º) Apresentação dos resultados do levantamento de campo com os dados e informações sobre Público-Alvo, Demandas Temáticas e Estrutura Pedagógica: 05/11/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º) Apresentação do Estudo em sua versão preliminar: 23/11/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4º) Apresentação e Entrega do Estu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grupo ampliado):período entr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6 e 10/12/200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23:33:03Z</dcterms:created>
  <dc:creator>.</dc:creator>
  <dc:description/>
  <dc:language>en-US</dc:language>
  <cp:lastModifiedBy>IPEA</cp:lastModifiedBy>
  <dcterms:modified xsi:type="dcterms:W3CDTF">2004-09-16T21:32:45Z</dcterms:modified>
  <cp:revision>700</cp:revision>
  <dc:subject/>
  <dc:title>AVALIAÇÃO DE PERDAS EM SISTEMAS DE ABASTECIMENTO DE ÁGUA – INDICADORES DE PERDAS E METODOLOGIAS PARA ANÁLISE DE CONFIABILIDADE </dc:title>
</cp:coreProperties>
</file>