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3700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73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3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10156680"/>
            <a:ext cx="3273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3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415E58-C078-446A-8BD5-4B5779ED7CC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67A7-E2EC-483A-A14B-838BAF158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4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4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3BE1-CF3D-4338-B47F-1A411479F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7640" y="1768320"/>
            <a:ext cx="442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7640" y="4374000"/>
            <a:ext cx="442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61D0-7A21-49BA-800A-45B1DA8F5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85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600" y="1768320"/>
            <a:ext cx="29185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2640" y="1768320"/>
            <a:ext cx="29185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85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600" y="4374000"/>
            <a:ext cx="29185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2640" y="4374000"/>
            <a:ext cx="29185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54E1-02E4-47B0-B04B-D4A15C050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44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B065-5444-45DC-A76E-7E9209400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44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E50C-DEB7-4B65-89E1-AB10C269D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33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7640" y="1768320"/>
            <a:ext cx="44233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880A-1D64-4B9F-87BF-1AD3AEFD7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EA34-E2D9-4E48-911B-BC589AF85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4440" cy="58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A974-7A8B-48C2-A6C6-E23EA1969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7640" y="1768320"/>
            <a:ext cx="44233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6AEC-5A76-4CC4-93BC-1A6183991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33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7640" y="1768320"/>
            <a:ext cx="442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7640" y="4374000"/>
            <a:ext cx="442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AFE9-42DE-48FD-AE94-595052F36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7640" y="1768320"/>
            <a:ext cx="442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4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FC28-9847-4E84-9577-DF97991BB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44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212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0800" indent="-20952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2800" indent="-21132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2800" indent="-21132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2800" indent="-21132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000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780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000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2F8785-BEF6-4F37-AEBD-714FF41145A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IAPRE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7236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ª MANUELA MA MOREI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HO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28800" y="0"/>
            <a:ext cx="789120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60360" y="0"/>
            <a:ext cx="792000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179280"/>
            <a:ext cx="9344160" cy="6661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