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23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28.wmf" ContentType="image/x-wmf"/>
  <Override PartName="/ppt/media/image5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25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FA09-B582-4E42-B64F-A26AC2D60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811B-FE3B-4F6F-8864-FBC980EC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AE3-EC5F-4254-AD78-4CE29598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D167-FDCB-43CC-B6EA-E287C10A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30EA-DB5A-45BC-B68A-D05D9B677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CA50-5396-444F-AD15-FEC8C865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D4C5-93CD-4500-87FB-2C2422BC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CACA-56A6-42D9-ACDF-1B178AD5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5231-021F-47BD-92DC-CA6549AC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CCD7-2F4A-4597-9357-63CF2519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475F-7891-42BD-AEBC-F6321E00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8CF-5F8E-467D-9749-766D6A14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C75A-8A32-4842-897C-7D2E41DE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1B9C-7EEE-41CB-9FB8-7A474C1F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3B28-3E81-485A-8357-507535C8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3752-D8F3-40E8-9B5C-67591C97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59CD-12A3-42C6-8D73-5638937D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7C147-12FE-4CAF-8440-F7537A93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85786-7C8F-4CDE-86E8-AD539B60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0F13A-F4F1-44AE-8EC7-231FEFCB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BDB62-125C-473A-8205-0B2C419B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A2530-44AA-4B43-BD4A-CD7D11B0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6C7A-BCD9-49E2-B112-835045EF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8756D-83D7-4F6E-8CC2-2431C8A9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E7C08-59D5-4FA1-9A46-0B3C3683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C000D-489D-4CD2-8E66-D40CBF36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9BF40-AAED-42E8-8657-00577B69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02081-E5A6-4BF6-AC8A-C3DC3FDA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1BB77-BC4B-4AD6-B08C-1A8F3FB97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142A0-8F12-482E-B4B2-B6A845BF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4119A-2B60-4E08-B3CA-74334A1C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412D9-C9DF-4230-B827-57D9DD59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50D34-0EAB-4A2A-B395-7921BD63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18C-2004-4630-B499-8DEE46E4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27F51-8CAB-49FE-9DE2-CF6E76B8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AD3BB-BC08-4557-BF17-1C38B557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6F25E-F171-433D-BF68-3EA44335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F4A07-C629-4FC8-992B-2128332F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CDA5D-1E15-4134-9317-1513DCD2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ABF47-8096-4852-979C-9B7CF7BA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29650-9E45-4FF3-9D67-E07BF210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E6118-E783-4884-84D7-44296E3F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82C86-E2BF-4B10-B78E-DABE10E9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05B1-3632-44B5-85FE-6ABD2110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93FF-FC2A-4869-B339-C98B14EB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486C-52A1-496F-ADD6-6737836A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8334-5BA7-4D31-B304-562F5F5C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CF8-CCB8-4B19-9962-F8AE29BC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62B3-D7CC-44C4-B04B-C1D29CF3CD4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FA58-448A-4E03-8779-FF97F668064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e6b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A5CE-A832-402D-9835-9C87DB577E28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2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FF08-1510-44F4-A452-A99EC62DD08F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5334120"/>
            <a:ext cx="9143640" cy="2423520"/>
            <a:chOff x="0" y="5334120"/>
            <a:chExt cx="9143640" cy="2423520"/>
          </a:xfrm>
        </p:grpSpPr>
        <p:sp>
          <p:nvSpPr>
            <p:cNvPr id="180" name=""/>
            <p:cNvSpPr/>
            <p:nvPr/>
          </p:nvSpPr>
          <p:spPr>
            <a:xfrm>
              <a:off x="0" y="5334120"/>
              <a:ext cx="914364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333399"/>
                  </a:solidFill>
                  <a:latin typeface="Arial"/>
                </a:rPr>
                <a:t>GT Reuso : Modalidades para reúso direto não potável de Água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20120" y="7372440"/>
              <a:ext cx="470340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362320" y="6172200"/>
            <a:ext cx="6400800" cy="757080"/>
            <a:chOff x="2362320" y="6172200"/>
            <a:chExt cx="6400800" cy="757080"/>
          </a:xfrm>
        </p:grpSpPr>
        <p:sp>
          <p:nvSpPr>
            <p:cNvPr id="183" name=""/>
            <p:cNvSpPr/>
            <p:nvPr/>
          </p:nvSpPr>
          <p:spPr>
            <a:xfrm>
              <a:off x="2362320" y="6172200"/>
              <a:ext cx="6400800" cy="1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rof. Demetrios Christofid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13920" y="6562440"/>
              <a:ext cx="3297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651200" y="471600"/>
            <a:ext cx="181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90000" tIns="8892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UTILIZAÇÃO AGRÍCOLA DE EFLUENTES DE LAGOAS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DE ESTABIL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5562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Proposta de Resolução do CNRH para fins agrícolas e florestais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476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28600" y="152280"/>
            <a:ext cx="800100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I Reunião – GT Reúso: Brasília ( 20/09/06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ciparam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36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presentantes de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institui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MA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S/FUNAS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MAP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IES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S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ER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BES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ESB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IOCR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ETROBRAS             CNI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ABORE-Consult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CBR                        Comitê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MARH – DF           A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7162920" y="4343400"/>
            <a:ext cx="11430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28600" y="152280"/>
            <a:ext cx="8686800" cy="57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Times New Roman"/>
              </a:rPr>
              <a:t>II Reunião do GT Reúso : Vídeo Conferência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( 26/10/2006 )</a:t>
            </a:r>
            <a:r>
              <a:rPr b="1" lang="pt-BR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São Paulo; Brasília; Curitiba e Rio de Janei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ciparam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46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presentantes de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3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institui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MA                           AN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MI                         SUDERH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/FUNAS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AP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MCIDADES         SEC. SAUDE 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IESP                          USP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UERJ                     EMBRAPA S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ABESP                     CAESB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FIOCRUZ             CED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ETROBRAS             CNI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CNA                      SANE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LABORE-Consult.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CBR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         Comitês                 EM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MARH – DF          ABES                        CETE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C-Campinas            UFPR                        FIR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NFCN                      UNICA/CTC             INME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81680" y="4724280"/>
            <a:ext cx="114300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40496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</a:rPr>
              <a:t>A terceira  reunião do GT Reuso : CNRH,  será realizada  na FIESP com Ponto principal em Brasília, em Video Conferência : São Paulo, Curitiba, Rio de Jan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57340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28600"/>
            <a:ext cx="9144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Houve uma reunião de apoio na representação da OPAS/OMS, dia 16/nov/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 uma do grupo de Coordenação no dia 22/nov/2006, para consolidar sug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763120" cy="3562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152280"/>
            <a:ext cx="896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6666"/>
                </a:solidFill>
                <a:latin typeface="Times New Roman"/>
              </a:rPr>
              <a:t>“</a:t>
            </a:r>
            <a:r>
              <a:rPr b="1" i="1" lang="pt-BR" sz="2800" spc="-1" strike="noStrike">
                <a:solidFill>
                  <a:srgbClr val="006666"/>
                </a:solidFill>
                <a:latin typeface="Times New Roman"/>
              </a:rPr>
              <a:t>A natureza jamais quebra suas próprias leis.”</a:t>
            </a:r>
            <a:r>
              <a:rPr b="1" lang="pt-BR" sz="2400" spc="-1" strike="noStrike">
                <a:solidFill>
                  <a:srgbClr val="006666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475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475"/>
                </a:solidFill>
                <a:latin typeface="Times New Roman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Leonardo da Vinci ( 1452- 1519 )</a:t>
            </a:r>
            <a:r>
              <a:rPr b="1" lang="en-US" sz="2000" spc="-1" strike="noStrike">
                <a:solidFill>
                  <a:srgbClr val="6ab475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91120" y="5791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e6b"/>
                </a:solidFill>
                <a:latin typeface="Arial"/>
              </a:rPr>
              <a:t>christofidis@unb.br                    ou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e6b"/>
                </a:solidFill>
                <a:latin typeface="Arial"/>
              </a:rPr>
              <a:t>demetriosugpo2002@yahoo.com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loud"/>
          <p:cNvSpPr/>
          <p:nvPr/>
        </p:nvSpPr>
        <p:spPr>
          <a:xfrm>
            <a:off x="6934320" y="90360"/>
            <a:ext cx="2209680" cy="10303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189000"/>
            <a:ext cx="5257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A DINÂMICA DA GESTÃO DOS RECURSOS HÍDRICO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MOVIMENTOS DO GESTOR DE ÁGUAS EFETIV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320" y="266688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2905200"/>
            <a:ext cx="4952880" cy="914400"/>
          </a:xfrm>
          <a:custGeom>
            <a:avLst/>
            <a:gdLst/>
            <a:ahLst/>
            <a:rect l="l" t="t" r="r" b="b"/>
            <a:pathLst>
              <a:path w="3120" h="576">
                <a:moveTo>
                  <a:pt x="0" y="0"/>
                </a:moveTo>
                <a:cubicBezTo>
                  <a:pt x="604" y="0"/>
                  <a:pt x="1208" y="0"/>
                  <a:pt x="1728" y="96"/>
                </a:cubicBezTo>
                <a:cubicBezTo>
                  <a:pt x="2248" y="192"/>
                  <a:pt x="2888" y="496"/>
                  <a:pt x="3120" y="5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33520" y="1966680"/>
            <a:ext cx="4952880" cy="914400"/>
          </a:xfrm>
          <a:custGeom>
            <a:avLst/>
            <a:gdLst/>
            <a:ahLst/>
            <a:rect l="l" t="t" r="r" b="b"/>
            <a:pathLst>
              <a:path w="3120" h="576">
                <a:moveTo>
                  <a:pt x="0" y="0"/>
                </a:moveTo>
                <a:cubicBezTo>
                  <a:pt x="604" y="0"/>
                  <a:pt x="1208" y="0"/>
                  <a:pt x="1728" y="96"/>
                </a:cubicBezTo>
                <a:cubicBezTo>
                  <a:pt x="2248" y="192"/>
                  <a:pt x="2888" y="496"/>
                  <a:pt x="3120" y="576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2895480"/>
            <a:ext cx="502920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05520" y="4876920"/>
            <a:ext cx="3733560" cy="1981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26668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44"/>
                </a:moveTo>
                <a:cubicBezTo>
                  <a:pt x="36" y="132"/>
                  <a:pt x="72" y="120"/>
                  <a:pt x="96" y="96"/>
                </a:cubicBezTo>
                <a:cubicBezTo>
                  <a:pt x="120" y="72"/>
                  <a:pt x="136" y="16"/>
                  <a:pt x="144" y="0"/>
                </a:cubicBezTo>
              </a:path>
            </a:pathLst>
          </a:custGeom>
          <a:solidFill>
            <a:srgbClr val="ff9900"/>
          </a:solidFill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26668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44"/>
                </a:moveTo>
                <a:cubicBezTo>
                  <a:pt x="36" y="132"/>
                  <a:pt x="72" y="120"/>
                  <a:pt x="96" y="96"/>
                </a:cubicBezTo>
                <a:cubicBezTo>
                  <a:pt x="120" y="72"/>
                  <a:pt x="136" y="16"/>
                  <a:pt x="144" y="0"/>
                </a:cubicBezTo>
              </a:path>
            </a:pathLst>
          </a:custGeom>
          <a:solidFill>
            <a:srgbClr val="ff9900"/>
          </a:solidFill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876920" y="26668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44"/>
                </a:moveTo>
                <a:cubicBezTo>
                  <a:pt x="36" y="132"/>
                  <a:pt x="72" y="120"/>
                  <a:pt x="96" y="96"/>
                </a:cubicBezTo>
                <a:cubicBezTo>
                  <a:pt x="120" y="72"/>
                  <a:pt x="136" y="16"/>
                  <a:pt x="144" y="0"/>
                </a:cubicBezTo>
              </a:path>
            </a:pathLst>
          </a:custGeom>
          <a:solidFill>
            <a:srgbClr val="ff9900"/>
          </a:solidFill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05520" y="26668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44"/>
                </a:moveTo>
                <a:cubicBezTo>
                  <a:pt x="36" y="132"/>
                  <a:pt x="72" y="120"/>
                  <a:pt x="96" y="96"/>
                </a:cubicBezTo>
                <a:cubicBezTo>
                  <a:pt x="120" y="72"/>
                  <a:pt x="136" y="16"/>
                  <a:pt x="144" y="0"/>
                </a:cubicBezTo>
              </a:path>
            </a:pathLst>
          </a:custGeom>
          <a:solidFill>
            <a:srgbClr val="ff9900"/>
          </a:solidFill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3994200"/>
            <a:ext cx="3048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 que fazer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3520" y="2286000"/>
            <a:ext cx="2743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 FUTURO DA GESTÃO DA ÁG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115040" y="152280"/>
            <a:ext cx="182880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PAÇO DE IMUNIDADE E SUSTENTABI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943600" y="5410080"/>
            <a:ext cx="205740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PAÇO DE VULNERABILIDADE E INSUSTENTABI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580000" y="0"/>
            <a:ext cx="1146240" cy="10666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91520" y="4375080"/>
            <a:ext cx="167616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ção das perdas Quantit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FICIÊ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391520" y="3460680"/>
            <a:ext cx="167616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ção das perdas Qualit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FICÁ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162920" y="2637000"/>
            <a:ext cx="19810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O,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US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ITANDO O ABU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467480" y="3124080"/>
            <a:ext cx="16765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iclagem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2293920"/>
            <a:ext cx="2438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MENTOS DE GEST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05720" y="1843200"/>
            <a:ext cx="2438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TENCIALIDADES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05720" y="1447920"/>
            <a:ext cx="2438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POSIÇÃO DE ÁGU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1143000"/>
            <a:ext cx="13716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FETIV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67120" y="5114880"/>
            <a:ext cx="24058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DANÇAS DE PARADIG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-36360" y="5870520"/>
            <a:ext cx="53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VO MUNDO COMEÇA A SER DELINEADO PELA ELIMINAÇÃO DO INADEQUADO DO MUNDO ATUAL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28600" y="0"/>
            <a:ext cx="8915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úso de água residuária na agricul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r  problema sanitário em alimento e chance de melhoria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9280" y="1197000"/>
            <a:ext cx="532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9880" y="5334120"/>
            <a:ext cx="53341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ISC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ssociados ao Reú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cos aos irrigantes e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minação de águas   subterrân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1052640"/>
            <a:ext cx="3635280" cy="54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enefí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ixo custo sanitário da disposiçao dos resíduos líquidos municip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ervação da águ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ção da poluição dos rios, canais e outras águas superfici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ervação dos nutrientes:  reduz a necessidade de fertiliz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mento  da produtividade dos cul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antia de oferta de 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62485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200"/>
                </a:solidFill>
                <a:latin typeface="Arial"/>
                <a:ea typeface="Arial"/>
              </a:rPr>
              <a:t>Fonte: Frank Rijsberman</a:t>
            </a:r>
            <a:r>
              <a:rPr b="1" lang="en-GB" sz="1600" spc="-1" strike="noStrike">
                <a:solidFill>
                  <a:srgbClr val="006200"/>
                </a:solidFill>
                <a:latin typeface="Arial"/>
                <a:ea typeface="Arial"/>
              </a:rPr>
              <a:t> </a:t>
            </a:r>
            <a:r>
              <a:rPr b="1" lang="en-GB" sz="1400" spc="-1" strike="noStrike">
                <a:solidFill>
                  <a:srgbClr val="006200"/>
                </a:solidFill>
                <a:latin typeface="Arial"/>
                <a:ea typeface="Arial"/>
              </a:rPr>
              <a:t>(WWW,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9"/>
          <a:stretch/>
        </p:blipFill>
        <p:spPr>
          <a:xfrm>
            <a:off x="3657600" y="812880"/>
            <a:ext cx="52578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764640" y="0"/>
            <a:ext cx="73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al deles é cultivado com água residuári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04920" y="304920"/>
            <a:ext cx="8458200" cy="62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SUNTOS TRAT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eríodo da manhã - Apresentaçõ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pósitos do GT, expectativas e resultados esperado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metrios Christofidis / M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trospectiva dos trabalhos realizados na fase que antecedeu a Resolução CNRH nº 54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 – João Marcelo / TC/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 visão da ANA para o Reúso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 – Devanir dos Santos / 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 experiência internacional / A proposta e os padrões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vanildo Hespanhol / USP-CI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otencial de reúso de água no Brasil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 – Américo Sampaio / SAB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43800" y="304920"/>
            <a:ext cx="11430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04920" y="685800"/>
            <a:ext cx="88390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eríodo da tar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posta para Resolução de Reuso para fins Agrícolas e Flores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ase: Propostas apresentadas pelo Prof. Ivanildo Hespan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IN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Considerandos da Proposta CNRH)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Resolução estabelece procedimentos para disciplinar a prática de reuso direto não potável de água na modalidade definida na Resolução CNRH n. 54 de 28 de novembro de 2005 Art. 3. inciso II –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o para fins agrícolas e florestais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plicação de água de reuso para produção agrícola e cultivo de florestas plan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047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4920" y="152280"/>
            <a:ext cx="8610480" cy="65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2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diretrizes de qualidade consideradas nesta Resoluç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spondem aos seguintes tipos de cultiv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Tipo: Fins Floresta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 Tipo: Fins Agrícol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  Forragens, fibras, culturas com semente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 Ingeridas após processamento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 Pomares e vinhas; 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 Ingeridas cru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  Tipo: Irrigação Urba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 Áreas verdes com acesso restrito, faixas de segurança, faixas decorativas em estradas e ocupação controlada; , e outros a critério do órgão competente.</a:t>
            </a:r>
            <a:r>
              <a:rPr b="1" lang="pt-BR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   Áreas verdes com acesso irrestrito; campos esportivos; praças; jardins; cinturões verdes; cemitérios, e outras a critério do órgão compet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7696080" y="609480"/>
            <a:ext cx="114300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2665440" y="1468440"/>
            <a:ext cx="6356160" cy="830160"/>
            <a:chOff x="2665440" y="1468440"/>
            <a:chExt cx="6356160" cy="83016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2665440" y="1468440"/>
              <a:ext cx="63561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755800" y="1557360"/>
              <a:ext cx="626580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Lei nº 9.433, de 1997, que dispõe sobre a Política Nacional de Recursos Hídricos e cria o Sistema Nacional de Gerenciamento de Recursos Hídricos - SINGREH, dá ênfase ao uso sustentável da águ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52640" y="1865160"/>
            <a:ext cx="717480" cy="180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7600" y="1544760"/>
            <a:ext cx="1747800" cy="1017360"/>
            <a:chOff x="147600" y="1544760"/>
            <a:chExt cx="1747800" cy="101736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147600" y="1544760"/>
              <a:ext cx="17478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236520" y="163368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1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665440" y="3505320"/>
            <a:ext cx="6356160" cy="1042920"/>
            <a:chOff x="2665440" y="3505320"/>
            <a:chExt cx="6356160" cy="1042920"/>
          </a:xfrm>
        </p:grpSpPr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2665440" y="3505320"/>
              <a:ext cx="6356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755800" y="3594240"/>
              <a:ext cx="6265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diretriz adotada pelo Conselho Econômico e Social da Organização das Nações Unidas – ONU, segundo a qual, a não ser que haja grande disponibilidade, nenhuma água de boa qualidade deverá ser utilizada em atividades que tolerem águas de qualidade inferio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52640" y="3902040"/>
            <a:ext cx="717480" cy="180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47600" y="3579840"/>
            <a:ext cx="1747800" cy="1018800"/>
            <a:chOff x="147600" y="3579840"/>
            <a:chExt cx="1747800" cy="10188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147600" y="3579840"/>
              <a:ext cx="17478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36520" y="367020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3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665440" y="4627440"/>
            <a:ext cx="6356160" cy="1042920"/>
            <a:chOff x="2665440" y="4627440"/>
            <a:chExt cx="6356160" cy="1042920"/>
          </a:xfrm>
        </p:grpSpPr>
        <p:pic>
          <p:nvPicPr>
            <p:cNvPr id="204" name="" descr=""/>
            <p:cNvPicPr/>
            <p:nvPr/>
          </p:nvPicPr>
          <p:blipFill>
            <a:blip r:embed="rId5"/>
            <a:stretch/>
          </p:blipFill>
          <p:spPr>
            <a:xfrm>
              <a:off x="2665440" y="4627440"/>
              <a:ext cx="6356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755800" y="4716360"/>
              <a:ext cx="6265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o reúso de água que se constitui em prática de racionalização e de conservação de recursos hídricos, conforme princípios estabelecidos na Agenda 21, podendo tal prática ser utilizada como instrumento para regular a oferta e a demanda de recursos hídric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952640" y="5024520"/>
            <a:ext cx="71748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47600" y="4703760"/>
            <a:ext cx="1747800" cy="1017360"/>
            <a:chOff x="147600" y="4703760"/>
            <a:chExt cx="1747800" cy="1017360"/>
          </a:xfrm>
        </p:grpSpPr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147600" y="4703760"/>
              <a:ext cx="17478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36520" y="479268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4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47600" y="2482920"/>
            <a:ext cx="1747800" cy="1018800"/>
            <a:chOff x="147600" y="2482920"/>
            <a:chExt cx="1747800" cy="10188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147600" y="2482920"/>
              <a:ext cx="17478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36520" y="257328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2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655720" y="2386080"/>
            <a:ext cx="6356160" cy="1042920"/>
            <a:chOff x="2655720" y="2386080"/>
            <a:chExt cx="6356160" cy="1042920"/>
          </a:xfrm>
        </p:grpSpPr>
        <p:pic>
          <p:nvPicPr>
            <p:cNvPr id="214" name="" descr=""/>
            <p:cNvPicPr/>
            <p:nvPr/>
          </p:nvPicPr>
          <p:blipFill>
            <a:blip r:embed="rId8"/>
            <a:stretch/>
          </p:blipFill>
          <p:spPr>
            <a:xfrm>
              <a:off x="2655720" y="2386080"/>
              <a:ext cx="6356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2746080" y="2475000"/>
              <a:ext cx="6265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Década Brasileira da Àgua, instituida pelo Decreto de 22 de março de 2005 com o objetivo de promover e intensificar a formulação de políticas, programas e projetos relativos ao gerenciamento e uso sustentável da águ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943280" y="2782800"/>
            <a:ext cx="717480" cy="180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RESOLUÇÃO CNRH Nº 54, de 28 de novembro de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66760" y="135000"/>
            <a:ext cx="8610480" cy="66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3 As diretrizes de qualidade microbiológicas da água de reúso par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s agrícolas e florestais são: </a:t>
            </a:r>
            <a:r>
              <a:rPr b="1" lang="pt-BR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ão deixar de considerar água provenient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 dejetos animais)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a A: Irrigação de culturas a serem ingeridas cruas, campos esportivos, parques públic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 de risco: Operários, consumidores, públi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os de helmintos: 1 ovo por litr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formes termotolerantes (NMP/100ml): 1.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tratamento recomendado para atingir qualidade microbiológica:   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goas de estabilização em série, tratamento equivale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a B: Irrigação de cereais, culturas industriais, forragem, pastos, cultivos perenes e árvor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 de risco: Operári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os de helmintos: 1 ovo por litr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tratamento recomendado para atingir qualidade 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biológica: Retenção em lagoas de estabilização por 8 a 10 dias,  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ção equivalente de helmintos e coliformes fecai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7391520" y="1905120"/>
            <a:ext cx="11430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76320"/>
            <a:ext cx="891540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4 As variáveis de qualidade físico e química da água de reúso para fin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ícolas e florestais são: </a:t>
            </a:r>
            <a:r>
              <a:rPr b="1" lang="pt-BR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ão deixar de considerar água proveniente de dejetos animai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pH entre 6 e 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Condutividade elétrica: EC (dS/m) &lt; 3,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SDT (mg/l) &lt; 15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Razão de Adsorção de Sódio - RAS: para irrigação superficial entre 3 e 9; para irrigação por aspersão RAS superiores a 3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 Cloretos - Para irrigação superficial inferior a 350 mg/l e para irrigação por aspersão inferior a 100 mg/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loro residual total máximo de 1 mg/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Boro – 0,7 mg/l, para culturas alimentícias e de até 3,0 mg/l para irrigação de jardim e similares. 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nalisar a respeito do BORO, </a:t>
            </a:r>
            <a:r>
              <a:rPr b="1" lang="pt-BR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MBRADO PELA SABESP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Nitrogênio total – entre 5 e 30 mg/l 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DISCUTIR SOBRE O NITROGÊNIO AMONIAC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DBO &lt; 20 mg/l 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de 10 a 80: Fonseca 2006; Agricultural Water Management XXX-200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) SST: de 10 a 80 mg/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) INVESTIGAR o 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14300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66760" y="1295280"/>
            <a:ext cx="861048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a C: Irrigação pelo método localizada </a:t>
            </a:r>
            <a:r>
              <a:rPr b="1" lang="pt-BR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?)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culturas da categoria B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 de risco: Nenhu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-tratamento requerido pela irrigação localizada não menos do que tratamento primá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: Definir exposição do trabalhador e formas de proteç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a D: Cultivos destinados à produção de agroenergétic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457200" y="380880"/>
          <a:ext cx="822960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990720" y="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5 Os elementos traços da água de reúso para fins agrícolas e florestais s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2665440" y="1019160"/>
            <a:ext cx="6354720" cy="828720"/>
            <a:chOff x="2665440" y="1019160"/>
            <a:chExt cx="6354720" cy="82872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2665440" y="1019160"/>
              <a:ext cx="63547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755440" y="1107720"/>
              <a:ext cx="62643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escassez de recursos hídricos observada em certas regiões do território nacional, a qual está relacionada aos aspectos de quantidade e de qualida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952640" y="1415880"/>
            <a:ext cx="717480" cy="180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7600" y="1095480"/>
            <a:ext cx="1747800" cy="861120"/>
            <a:chOff x="147600" y="1095480"/>
            <a:chExt cx="1747800" cy="861120"/>
          </a:xfrm>
        </p:grpSpPr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147600" y="1095480"/>
              <a:ext cx="174780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36520" y="1184400"/>
              <a:ext cx="1657440" cy="7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5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763640" y="2060640"/>
            <a:ext cx="56167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2665440" y="817560"/>
            <a:ext cx="6354720" cy="615960"/>
            <a:chOff x="2665440" y="817560"/>
            <a:chExt cx="6354720" cy="61596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2665440" y="817560"/>
              <a:ext cx="63547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755440" y="907560"/>
              <a:ext cx="6264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elevação dos custos de tratamento de água em função da degradação de mananciais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952640" y="1216080"/>
            <a:ext cx="71748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7600" y="895320"/>
            <a:ext cx="1747800" cy="1017360"/>
            <a:chOff x="147600" y="895320"/>
            <a:chExt cx="1747800" cy="1017360"/>
          </a:xfrm>
        </p:grpSpPr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147600" y="895320"/>
              <a:ext cx="174780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236520" y="98424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6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1295280" y="1706400"/>
            <a:ext cx="6477120" cy="487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2665440" y="1646280"/>
            <a:ext cx="6356160" cy="1042920"/>
            <a:chOff x="2665440" y="1646280"/>
            <a:chExt cx="6356160" cy="104292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2665440" y="1646280"/>
              <a:ext cx="6356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2755800" y="1736640"/>
              <a:ext cx="6265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prática de reúso de água que reduz a descarga de poluentes em corpos receptores, conservando os recursos hídricos para o abastecimento público e outros usos mais exigentes quanto à qualidade; 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952640" y="2044800"/>
            <a:ext cx="71748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47600" y="1724040"/>
            <a:ext cx="1747800" cy="1017360"/>
            <a:chOff x="147600" y="1724040"/>
            <a:chExt cx="1747800" cy="1017360"/>
          </a:xfrm>
        </p:grpSpPr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147600" y="1724040"/>
              <a:ext cx="17478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36520" y="181296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7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665440" y="3483000"/>
            <a:ext cx="6356160" cy="617400"/>
            <a:chOff x="2665440" y="3483000"/>
            <a:chExt cx="6356160" cy="617400"/>
          </a:xfrm>
        </p:grpSpPr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2665440" y="3483000"/>
              <a:ext cx="6356160" cy="6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755800" y="3573360"/>
              <a:ext cx="6265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prática de reúso de água que reduz os custos associados à poluição e contribui para a proteção do meio ambiente e da saúde pública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952640" y="3881520"/>
            <a:ext cx="71748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47600" y="3560760"/>
            <a:ext cx="1747800" cy="1017360"/>
            <a:chOff x="147600" y="3560760"/>
            <a:chExt cx="1747800" cy="1017360"/>
          </a:xfrm>
        </p:grpSpPr>
        <p:pic>
          <p:nvPicPr>
            <p:cNvPr id="246" name="" descr=""/>
            <p:cNvPicPr/>
            <p:nvPr/>
          </p:nvPicPr>
          <p:blipFill>
            <a:blip r:embed="rId4"/>
            <a:stretch/>
          </p:blipFill>
          <p:spPr>
            <a:xfrm>
              <a:off x="147600" y="3560760"/>
              <a:ext cx="174780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36520" y="364968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8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2695680" y="1096920"/>
            <a:ext cx="6356160" cy="830160"/>
            <a:chOff x="2695680" y="1096920"/>
            <a:chExt cx="6356160" cy="83016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2695680" y="1096920"/>
              <a:ext cx="63561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784600" y="1187280"/>
              <a:ext cx="626580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1º Estabelecer modalidades, diretrizes e critérios gerais que regulamentem e estimulem a prática de reúso direto não potável de água em todo o território nacional.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590920" y="2286000"/>
            <a:ext cx="6356160" cy="3595680"/>
            <a:chOff x="2590920" y="2286000"/>
            <a:chExt cx="6356160" cy="359568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2590920" y="2286000"/>
              <a:ext cx="6356160" cy="35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679840" y="2376360"/>
              <a:ext cx="6265800" cy="34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2º Para efeito desta Resolução, são adotadas as seguintes definiçõ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I - água residuária: esgoto, água descartada, efluentes líquidos de edificações, indústrias, agroindústrias e agropecuária, tratados ou não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II - reúso de água: utilização de água residuária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III - água de reúso: água residuária, que se encontra dentro dos padrões exigidos para sua utilização nas modalidades pretendidas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IV - reúso direto de água: uso planejado de água de reuso, conduzida ao local de utilização, sem lançamento ou diluição prévia em corpos hídricos superficiais ou subterrâneos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 - produtor de água de reúso: pessoa física ou jurídica, de direito público ou privado, que produz água de reúso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I - distribuidor de água de reúso: pessoa física ou jurídica, de direito público ou privado, que distribui água de reúso; 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II - usuário de água de reúso: pessoa física ou jurídica, de direito público ou privado, que utiliza água de reús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 flipH="1">
            <a:off x="927000" y="1973160"/>
            <a:ext cx="46080" cy="376092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47600" y="1035000"/>
            <a:ext cx="1746360" cy="1196640"/>
            <a:chOff x="147600" y="1035000"/>
            <a:chExt cx="1746360" cy="1196640"/>
          </a:xfrm>
        </p:grpSpPr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47600" y="1035000"/>
              <a:ext cx="1746360" cy="6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36160" y="1125000"/>
              <a:ext cx="16560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RESOLV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662120" y="1469880"/>
            <a:ext cx="166680" cy="142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63640" y="1557360"/>
            <a:ext cx="86364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63640" y="1557360"/>
            <a:ext cx="720720" cy="16556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 flipH="1">
            <a:off x="898560" y="2708280"/>
            <a:ext cx="46080" cy="376092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47600" y="1987560"/>
            <a:ext cx="1746360" cy="1196640"/>
            <a:chOff x="147600" y="1987560"/>
            <a:chExt cx="1746360" cy="119664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147600" y="1987560"/>
              <a:ext cx="1746360" cy="63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236160" y="2077560"/>
              <a:ext cx="16560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RESOLV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665440" y="685800"/>
            <a:ext cx="6356160" cy="4446720"/>
            <a:chOff x="2665440" y="685800"/>
            <a:chExt cx="6356160" cy="444672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2665440" y="685800"/>
              <a:ext cx="6356160" cy="44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2755800" y="774720"/>
              <a:ext cx="6265800" cy="43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3º O reúso direto não potável de água, para efeito desta Resolução, abrange as seguintes </a:t>
              </a: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modalidad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 - reúso para fins urbanos: utilização de água de reuso para fins de irrigação paisagística, lavagem de logradouros públicos e veículos, desobstrução de tubulações, construção civil, edificações, combate a incêndio, dentro da área urbana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II - reúso para fins agrícolas e florestais: aplicação de água de reúso para produção agrícola e cultivo de florestas plantadas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II - reúso para fins ambientais: utilização de água de reúso para implantação de projetos de recuperação do meio ambiente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V - reúso para fins industriais: utilização de água de reuso em processos, atividades e operações industriais; 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V - reúso na aqüicultura: utilização de água de reúso para a criação de animais ou cultivo de vegetais aquátic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§ 1</a:t>
              </a:r>
              <a:r>
                <a:rPr b="1" lang="en-GB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o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 As modalidades de reúso não são mutuamente excludentes, podendo mais de uma delas ser empregada simultaneamente em uma mesma áre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§ 2</a:t>
              </a:r>
              <a:r>
                <a:rPr b="1" lang="en-GB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o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 As diretrizes, critérios e parâmetros específicos para as modalidades de reúso definidas nos incisos deste artigo serão estabelecidos pelos órgãos competent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644920" y="5362560"/>
            <a:ext cx="6392880" cy="1255680"/>
            <a:chOff x="2644920" y="5362560"/>
            <a:chExt cx="6392880" cy="1255680"/>
          </a:xfrm>
        </p:grpSpPr>
        <p:pic>
          <p:nvPicPr>
            <p:cNvPr id="269" name="" descr=""/>
            <p:cNvPicPr/>
            <p:nvPr/>
          </p:nvPicPr>
          <p:blipFill>
            <a:blip r:embed="rId3"/>
            <a:stretch/>
          </p:blipFill>
          <p:spPr>
            <a:xfrm>
              <a:off x="2644920" y="5362560"/>
              <a:ext cx="63928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733840" y="5452920"/>
              <a:ext cx="630216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4º Os órgãos integrantes do SINGREH, no âmbito de suas respectivas competências, avaliarão os efeitos sobre os corpos hídricos decorrentes da prática do reúso, devendo estabelecer instrumentos regulatórios e de incentivo para as diversas modalidades de reús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741320" y="2490840"/>
            <a:ext cx="743040" cy="315432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47720" y="2406600"/>
            <a:ext cx="166680" cy="142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14680" y="2478240"/>
            <a:ext cx="84132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H="1">
            <a:off x="898200" y="1541520"/>
            <a:ext cx="65160" cy="491184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47600" y="879480"/>
            <a:ext cx="1746360" cy="1196640"/>
            <a:chOff x="147600" y="879480"/>
            <a:chExt cx="1746360" cy="119664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147600" y="879480"/>
              <a:ext cx="1746360" cy="63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236160" y="969480"/>
              <a:ext cx="16560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RESOLV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665440" y="1809720"/>
            <a:ext cx="6356160" cy="1042920"/>
            <a:chOff x="2665440" y="1809720"/>
            <a:chExt cx="6356160" cy="1042920"/>
          </a:xfrm>
        </p:grpSpPr>
        <p:pic>
          <p:nvPicPr>
            <p:cNvPr id="279" name="" descr=""/>
            <p:cNvPicPr/>
            <p:nvPr/>
          </p:nvPicPr>
          <p:blipFill>
            <a:blip r:embed="rId2"/>
            <a:stretch/>
          </p:blipFill>
          <p:spPr>
            <a:xfrm>
              <a:off x="2665440" y="1809720"/>
              <a:ext cx="6356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55800" y="1900080"/>
              <a:ext cx="6265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6º Os Planos de Recursos Hídricos, observado o exposto no art. 7º, inc. IV, da Lei n° 9.433, de 1997, deverão contemplar, entre os estudos e alternativas, a utilização de águas de reúso e seus efeitos sobre a disponibilidade hídric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644920" y="2898720"/>
            <a:ext cx="6392880" cy="1042920"/>
            <a:chOff x="2644920" y="2898720"/>
            <a:chExt cx="6392880" cy="1042920"/>
          </a:xfrm>
        </p:grpSpPr>
        <p:pic>
          <p:nvPicPr>
            <p:cNvPr id="282" name="" descr=""/>
            <p:cNvPicPr/>
            <p:nvPr/>
          </p:nvPicPr>
          <p:blipFill>
            <a:blip r:embed="rId3"/>
            <a:stretch/>
          </p:blipFill>
          <p:spPr>
            <a:xfrm>
              <a:off x="2644920" y="2898720"/>
              <a:ext cx="63928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733840" y="2987640"/>
              <a:ext cx="63021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7º Os Sistemas de Informações sobre Recursos Hídricos deverão incorporar, organizar e tornar disponíveis as informações sobre as práticas de reúso necessárias para o gerenciamento dos recursos hídric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657520" y="3994200"/>
            <a:ext cx="6392880" cy="2531880"/>
            <a:chOff x="2657520" y="3994200"/>
            <a:chExt cx="6392880" cy="2531880"/>
          </a:xfrm>
        </p:grpSpPr>
        <p:pic>
          <p:nvPicPr>
            <p:cNvPr id="285" name="" descr=""/>
            <p:cNvPicPr/>
            <p:nvPr/>
          </p:nvPicPr>
          <p:blipFill>
            <a:blip r:embed="rId4"/>
            <a:stretch/>
          </p:blipFill>
          <p:spPr>
            <a:xfrm>
              <a:off x="2657520" y="3994200"/>
              <a:ext cx="6392880" cy="25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747880" y="4083120"/>
              <a:ext cx="6302520" cy="24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8º Os Comitês de Bacia Hidrográfica deverã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 – considerar, na proposição dos mecanismos de cobrança e aplicação dos recursos da cobrança, a criação de incentivos para a prática de reúso; 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I - integrar, no âmbito do Plano de Recursos Hídricos da bacia, a prática de reúso com as ações de saneamento ambiental e de uso e ocupação do solo na bacia hidrográfic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arágrafo único. Nos casos onde não houver Comitês de Bacia Hidrográfica instalados, a responsabilidade caberá ao órgão gestor de recursos hídricos, em conformidade com o previsto na legislação pertin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763640" y="1325520"/>
            <a:ext cx="720720" cy="8636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55720" y="1343160"/>
            <a:ext cx="728640" cy="221436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68600" y="1311120"/>
            <a:ext cx="166680" cy="142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735200" y="1179000"/>
            <a:ext cx="820800" cy="2048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20800" y="1373040"/>
            <a:ext cx="835200" cy="463248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644920" y="685800"/>
            <a:ext cx="6392880" cy="1042920"/>
            <a:chOff x="2644920" y="685800"/>
            <a:chExt cx="6392880" cy="1042920"/>
          </a:xfrm>
        </p:grpSpPr>
        <p:pic>
          <p:nvPicPr>
            <p:cNvPr id="293" name="" descr=""/>
            <p:cNvPicPr/>
            <p:nvPr/>
          </p:nvPicPr>
          <p:blipFill>
            <a:blip r:embed="rId5"/>
            <a:stretch/>
          </p:blipFill>
          <p:spPr>
            <a:xfrm>
              <a:off x="2644920" y="685800"/>
              <a:ext cx="63928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733840" y="776160"/>
              <a:ext cx="63021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5º Caso a atividade de reúso implique alteração das condições das outorgas vigentes, o outorgado deverá solicitar à autoridade competente retificação da outorga de direito de uso de recursos hídricos de modo a compatibilizá-la com estas alteraçõ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flipH="1">
            <a:off x="898200" y="2421000"/>
            <a:ext cx="49320" cy="404820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47600" y="1573200"/>
            <a:ext cx="1746360" cy="1195200"/>
            <a:chOff x="147600" y="1573200"/>
            <a:chExt cx="1746360" cy="119520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147600" y="1573200"/>
              <a:ext cx="1746360" cy="63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36160" y="1661760"/>
              <a:ext cx="16560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RESOLV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611440" y="4618080"/>
            <a:ext cx="6392880" cy="1042920"/>
            <a:chOff x="2611440" y="4618080"/>
            <a:chExt cx="6392880" cy="104292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2611440" y="4618080"/>
              <a:ext cx="63928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2700360" y="4708440"/>
              <a:ext cx="63025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11º O disposto nesta Resolução não exime o produtor, o distribuidor e o usuário da água de reúso direto não potável da respectiva licença ambiental, quando exigida, assim como do cumprimento das demais obrigações legais pertinentes.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763640" y="2060640"/>
            <a:ext cx="720720" cy="14396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92360" y="1989000"/>
            <a:ext cx="166680" cy="142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763640" y="1987560"/>
            <a:ext cx="792360" cy="6048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63640" y="2060640"/>
            <a:ext cx="720720" cy="280836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611440" y="3421080"/>
            <a:ext cx="6392880" cy="830160"/>
            <a:chOff x="2611440" y="3421080"/>
            <a:chExt cx="6392880" cy="830160"/>
          </a:xfrm>
        </p:grpSpPr>
        <p:pic>
          <p:nvPicPr>
            <p:cNvPr id="307" name="" descr=""/>
            <p:cNvPicPr/>
            <p:nvPr/>
          </p:nvPicPr>
          <p:blipFill>
            <a:blip r:embed="rId3"/>
            <a:stretch/>
          </p:blipFill>
          <p:spPr>
            <a:xfrm>
              <a:off x="2611440" y="3421080"/>
              <a:ext cx="639288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700360" y="3511440"/>
              <a:ext cx="63025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10º Deverão ser incentivados e promovidos programas de capacitação, mobilização social e informação quanto à sustentabilidade do reúso, em especial os aspectos sanitários e ambientai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649600" y="1247760"/>
            <a:ext cx="6392880" cy="1893960"/>
            <a:chOff x="2649600" y="1247760"/>
            <a:chExt cx="6392880" cy="1893960"/>
          </a:xfrm>
        </p:grpSpPr>
        <p:pic>
          <p:nvPicPr>
            <p:cNvPr id="310" name="" descr=""/>
            <p:cNvPicPr/>
            <p:nvPr/>
          </p:nvPicPr>
          <p:blipFill>
            <a:blip r:embed="rId4"/>
            <a:stretch/>
          </p:blipFill>
          <p:spPr>
            <a:xfrm>
              <a:off x="2649600" y="1247760"/>
              <a:ext cx="6392880" cy="18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2738520" y="1336680"/>
              <a:ext cx="6302160" cy="17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9º A atividade de reúso de água deverá ser informada, quando requerida, ao órgão gestor de recursos hídricos, para fins de cadastro, devendo contemplar, no mínim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 - identificação do produtor, distribuidor ou usuário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I - localização geográfica da origem e destinação da água de reúso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II - especificação da finalidade da produção e do reúso de água; 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V - vazão e volume diário de água de reúso produzida, distribuída ou utilizad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metrios</cp:lastModifiedBy>
  <dcterms:modified xsi:type="dcterms:W3CDTF">2006-11-27T21:55:4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