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6399-6DF6-404A-BE11-0A9155D8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05AD-15EE-4108-9124-F310A9B5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133-44E1-49CB-B01E-8A1AC855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B9C-7EB3-4289-9A9E-0B642FF9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E916-32CB-4202-8F68-094D90477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BA58-101E-401A-9332-0A70FEE7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34D7-A043-46D8-912F-308D25EA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9B6A-693A-455F-8394-DAD9B7B4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DA94-5E7D-4685-B9BD-8DEE80DB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B7545-200C-4D3A-965D-FEE9D89C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CA45-D07F-4773-876D-E195438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F62-40D1-4616-977F-9AD9609B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B5B3-7581-40BA-AE89-B62EC83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CC0D-2BE5-449B-851A-5DD88E13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DA617-3FB3-41C7-8549-0B4ADE6F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20C3-9DE9-449A-84F6-1734B62E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216D-3A35-4FF1-9A99-3C65C426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33CC-9C70-4667-A6B8-539A7B82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D24-39AE-48D4-BA3A-9164E757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242-F750-4AFB-81E5-68BF08A4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88DD-FB97-4AF2-A78A-444ED047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56B-D21B-4F39-A1A7-F4D3C6E0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CCF-44D5-4AED-9461-A9EA0F68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076-FCCD-48F2-8F14-EE46534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33FD-BD8F-4FE2-A051-D4B17067BE7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12F7-9654-4537-A919-8EB63123CA53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ileg.sga.df.gov.br/sileg/legislacao/Distrital/Decretos/Decretos%202006/dec_26742_06.htm" TargetMode="External"/><Relationship Id="rId3" Type="http://schemas.openxmlformats.org/officeDocument/2006/relationships/hyperlink" Target="http://sileg.sga.df.gov.br/sileg/legislacao/Distrital/Decretos/Decretos%202006/dec_26742_06.htm" TargetMode="External"/><Relationship Id="rId4" Type="http://schemas.openxmlformats.org/officeDocument/2006/relationships/hyperlink" Target="http://sileg.sga.df.gov.br/sileg/legislacao/Distrital/Decretos/Decretos%202006/dec_26742_06.htm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EXPERIÊNCIA DO CRHDF NA REGULAMENTAÇÃO DE LEI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129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TRABALH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DA CTC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692000" y="177336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Art. 2º São competências da Câmara Técnica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 - propor e analisar mecanismos de fomento e estímulo ao desenvolvimento científico e tecnológico em matérias ligadas a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I - propor diretrizes gerais para capacitação técnica buscando a excelência na área de gestão de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II - propor ações, estudos e pesquisas, na área de recursos hídricos, visando a melhoria de tecnologias, equipamentos e métod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V - propor e analisar mecanismos de difusão de experiências e conhecimento no conjunto da sociedade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 – propor diretrizes para o aproveitamento das águas pluviais e o reúso dos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 – propor diretrizes para gestão racional dos planos, projetos e obras de drenagem pluvial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I – propor diretrizes para proteção, conservação, economia e combate ao desperdício dos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II – analisar, estudar e emitir pareceres sobre assuntos afins; 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X - as competências constantes do Regimento Interno do CRH e outras que vierem a ser delegadas pelo seu Plená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Membros da CTCT/CRHD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Secretaria de Estado de Meio Ambiente e Recursos Hídricos  - SEMAR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Agência Reguladora de Águas e Saneamento do Distrito Federal – ADA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Companhia de Saneamento do Distrito Federal – CAES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Universidade de Brasília – Un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Empresa Brasileira de Pesquisa Agropecuária – EMBRAP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Empresa de Assistência Técnica e Extensão Rural - EMA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Secretaria para o Desenvolvimento da Ciência e Tecnologia – SDC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Associação Brasileira das Instituições de Pesquisas Tecnológicas – ABIPT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616, DE 26 DE OUTUBRO DE 2000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utilização de equipamentos que economizam água nas instalações hidráulicas e sanitárias dos edifícios públicos e privados destinados a uso não residencial no âmbito do Distrito Feder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000" y="28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LEI N° 2.977, DE 10 DE MAIO DE 2002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Dispõe  sobre a instalação   de   equipamento    eliminador    de   ar    na tubulação do sistema de abastecimento  de águ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07664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978, DE 10 DE MAIO DE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e instalação de recarga artificial de aqüíferos nas propriedades rurais e lotes em condomínios atendidos por poços tubulares para abastecimento de á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7372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978, DE 10 DE MAIO DE 20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e instalação de recarga artificial de aqüíferos nas propriedades rurais e lotes em condomínios atendidos por poços tubulares para abastecimento de águ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677, DE 13 DE OUTUBRO DE 2005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a instalação de reservatórios de captação de água para as unidades habitacionais do Distrito Federal e dá outras providê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708280"/>
            <a:ext cx="8064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557, DE 18 DE JANEIRO DE 2005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(VIDE - 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ecreto 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º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 26.742, de 20 de abril de 2006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individualização de instalação de hidrômetro nas         edificações verticais residenciais e nas de uso misto e nos  condomínios residenciais do Distrito Federal, e dá outras providê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793, DE 02 DE FEVEREIRO DE 2006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Institui, no Distrito Federal, o sistema de recarga artificial de aqüíferos e dá outras providência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1268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buClr>
                <a:srgbClr val="ffff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693, DE 08 DE NOVEMBRO DE 2005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Política de Irrigação e Drenagem no âmbito do Distrito Federal e dá outras providência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ahoma"/>
              </a:rPr>
              <a:t>Concedida liminar pelo TJDF para ADIN solicitada pelo GD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933720"/>
            <a:ext cx="770400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12, DE 08 DE FEVEREIR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Torna obrigatório o reaproveitamento da água utilizada nos postos de lavagem de veícu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35, DE 27 DE MARÇO DE 2006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pavimentação de estacionamentos no âmbito do Distrito Federal e dá outras providê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LEI Nº 3.835, DE 27 DE MARÇO DE 2006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ispõe sobre a pavimentação de estacionamentos no âmbito do Distrito Federal e dá outras providê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" y="3500280"/>
            <a:ext cx="835164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rt. 1º Todas as áreas abertas destinadas a estacionamentos, públicos e privados, no Distrito Federal, deverão utilizar pavimentação permeável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Não exige regulament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Necessita algumas corre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52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LEI Nº 2.616, DE 26 DE OUTUBRO DE 2000 </a:t>
            </a: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Dispõe sobre a utilização de equipamentos que economizam água nas instalações hidráulicas e sanitárias dos edifícios públicos e privados destinados a uso não residencial no âmbito do Distrito Feder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Elaborada minuta de Resoluç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Participação da Comissão Permanente de Monitoramento do Código de Edificações do D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08360" y="1125360"/>
            <a:ext cx="518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Art. 1° Torna-se obrigatório o uso de equipamentos que economizam água nas instalações hidráulicas e sanitárias dos edifícios públicos e privados destinados a uso não residencial no âmbito do Distrito Federal.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§ 2° Consideram-se equipamentos que economizam os produtos que visem ao uso racional da água, sejam eles dos tipos monocomando, termostato, temporizados ou eletrônicos, e que sejam, principalmente, componentes de lavatórios, mictórios, bacias sanitárias, demais itens do sistema de descarga e outros dispositivos como torneiras, chuveiros, misturadores e are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3168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12, DE 08 DE FEVEREIRO DE 2006 que torna obrigatório o reaproveitamento da água utilizada nos postos de lavagem de veícul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Minuta elabora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SINPETRO interes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1557360"/>
            <a:ext cx="540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1º É obrigatória a instalação de filtros em todos os postos de lavagem de veículos para reutilização da água, preferencialmente, na limpeza de veículos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2º Toda e qualquer adequação nos postos ficará a expensas dos respectivos proprietários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3º A concessão ou renovação de alvará de funcionamento ficará condicionada ao cumprimento desta 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4:22:44Z</dcterms:created>
  <dc:creator>Paulo Ricardo</dc:creator>
  <dc:description/>
  <dc:language>en-US</dc:language>
  <cp:lastModifiedBy>Tereza Cristina Esmeraldo de Oliveira</cp:lastModifiedBy>
  <dcterms:modified xsi:type="dcterms:W3CDTF">2006-11-27T16:32:28Z</dcterms:modified>
  <cp:revision>5</cp:revision>
  <dc:subject/>
  <dc:title>EXPERIÊNCIA DO CRHDF NA REGULAMENTAÇÃO DE LEI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