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104760 w 9144000"/>
              <a:gd name="textAreaRight" fmla="*/ 9039240 w 9144000"/>
              <a:gd name="textAreaTop" fmla="*/ 104760 h 6858000"/>
              <a:gd name="textAreaBottom" fmla="*/ 67532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8470" y="330"/>
                </a:lnTo>
                <a:lnTo>
                  <a:pt x="330" y="33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8470" y="21270"/>
                </a:lnTo>
                <a:lnTo>
                  <a:pt x="28470" y="33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330" y="21270"/>
                </a:lnTo>
                <a:lnTo>
                  <a:pt x="28470" y="2127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330" y="330"/>
                </a:lnTo>
                <a:lnTo>
                  <a:pt x="330" y="2127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380880" y="6419880"/>
            <a:ext cx="8363160" cy="13320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50000">
                <a:srgbClr val="ffff00"/>
              </a:gs>
              <a:gs pos="100000">
                <a:srgbClr val="757500"/>
              </a:gs>
            </a:gsLst>
            <a:lin ang="5400000"/>
          </a:gra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104760 w 9144000"/>
              <a:gd name="textAreaRight" fmla="*/ 9039240 w 9144000"/>
              <a:gd name="textAreaTop" fmla="*/ 104760 h 6858000"/>
              <a:gd name="textAreaBottom" fmla="*/ 675324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8470" y="330"/>
                </a:lnTo>
                <a:lnTo>
                  <a:pt x="330" y="33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8470" y="21270"/>
                </a:lnTo>
                <a:lnTo>
                  <a:pt x="28470" y="33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330" y="21270"/>
                </a:lnTo>
                <a:lnTo>
                  <a:pt x="28470" y="2127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330" y="330"/>
                </a:lnTo>
                <a:lnTo>
                  <a:pt x="330" y="2127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7175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43000" y="388800"/>
            <a:ext cx="769608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NA – AGÊNCIA NACIONAL DE ÁGU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38320" y="849240"/>
            <a:ext cx="7700760" cy="93600"/>
          </a:xfrm>
          <a:prstGeom prst="rect">
            <a:avLst/>
          </a:prstGeom>
          <a:gradFill rotWithShape="0">
            <a:gsLst>
              <a:gs pos="0">
                <a:srgbClr val="0042a7"/>
              </a:gs>
              <a:gs pos="50000">
                <a:srgbClr val="0066ff"/>
              </a:gs>
              <a:gs pos="100000">
                <a:srgbClr val="0042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3160" y="260280"/>
            <a:ext cx="969840" cy="100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mailto:quilula@ana.gov.br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190440" y="200160"/>
          <a:ext cx="8820360" cy="117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200160"/>
                    <a:ext cx="8820360" cy="11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203640" y="5084640"/>
            <a:ext cx="5616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1989000"/>
            <a:ext cx="770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OPOSTA PARA REALIZAÇÃO DE REUNIÃO DE TRABAL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cnologias Aplicadas ao Desenvolvimento Sustentável da Piscicultura em Tanques-Rede e Garantia aos Usos Múltiplo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132000" y="189000"/>
            <a:ext cx="2592360" cy="1125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-Discussões e proposi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ZAÇÃO: ANA/SEAP/CT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logo" descr=""/>
          <p:cNvPicPr/>
          <p:nvPr/>
        </p:nvPicPr>
        <p:blipFill>
          <a:blip r:embed="rId1"/>
          <a:stretch/>
        </p:blipFill>
        <p:spPr>
          <a:xfrm>
            <a:off x="6012000" y="260280"/>
            <a:ext cx="2895480" cy="126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286000" y="2286000"/>
            <a:ext cx="45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276640"/>
            <a:ext cx="676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Times New Roman"/>
              </a:rPr>
              <a:t>Renata Quil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Especialista em Recursos Híd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quilula@ana.gov.b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imes New Roman"/>
              </a:rPr>
              <a:t>(61) 2109-5256/52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ituação Atual da Piscicultura em Tanques-re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rescimento acele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nologias de produ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mento do governo fed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iscos ambientais e econô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incipais problemas técnico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versidade de situaçõ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imensão de reservatóri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Braç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Tipos de dados disponívei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Variações de níveis e vazões dos reservatóri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azonalidade de produção, entre ou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cassez de informaçõ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antitativ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Qualitativ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utras fontes de nutriente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00"/>
                </a:solidFill>
                <a:latin typeface="Times New Roman"/>
              </a:rPr>
              <a:t>Seminário “Aquicultura em Reservatórios de Hidrelétricas”</a:t>
            </a:r>
            <a:br>
              <a:rPr sz="4000"/>
            </a:br>
            <a:r>
              <a:rPr b="1" lang="pt-BR" sz="4000" spc="-1" strike="noStrike">
                <a:solidFill>
                  <a:srgbClr val="ffff00"/>
                </a:solidFill>
                <a:latin typeface="Times New Roman"/>
              </a:rPr>
              <a:t>Grupo Eletrobras - Foz do Iguaç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ainel 1- Capacidade de Suporte e Modelagem Matemática Hidrodinâmica e de Qualidade de Água de Reservató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ainel 2- Critérios para Determinação de Parques e Áreas Aqüícol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ainel 3- Aspectos Lega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POSTA PARA REALIZAÇÃO DE REUNIÃO DE TRABALH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nologias Aplicadas ao Desenvolvimento Sustentável da Piscicultura em Tanques-Rede e Garantia aos Usos Múltip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ualização das informações das áreas afins a atividade de piscicultura em tanques-rede para identificar as lacunas de conhecimento e propor ações e estudos para a gestão de recursos híd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NHAS TEMÁTIC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1- Modelagem matemática para apoio às autorizações de direito de uso de recursos hídricos para piscicultura em tanques-re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1.1. Metodologia para outorga de tanques-rede em corpos de água de domínio da União: Capacidade de suporte, aspectos legais, critérios e  modelagens adiciona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1.2. Hidrodinâm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1.3. Sazonalidade da produção de peix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esquisadores:  Renata Quilula- 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rcos Airton Freitas - 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Ângelo Saggio – UFS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Júlio Cesar Wasserman - 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Fernando Starling - CAES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2- Dinâmica de reservatóri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2.1. Fatores de força em reservatórios determinantes da dinâmica de nutrientes e do fitoplânc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2.2 Efeitos do enriquecimento de nutrientes em reservatórios, com na implantação de tanques-re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2.3. Especificidades de reservatórios do semi-ár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esquisadores:  André Cordeiro Alves dos Santos (UFSCar – Campus Sorocaba) ou outro pesquisador ligado a Profa. Maria do Carmo Calijuri (USP- São Carl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ulo Breno – 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José Luis Attayde – UF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rcio Nogueira- Unesp - Botuca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NHAS TEMÁTIC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3- Monitoramento de variáveis física, químicas e biológicas em reservató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3.1. Escala de trabalho: área de produção e reservatór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3.2. Tecnologias voltadas ao monitoramento da qualidade de águ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3.3. Mapeamento quali-quantita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esquisadores: Maurrem Ramon-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ome em estu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e1e7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4- Medidas mitigadoras do enriquecimento excessivo de nutrientes em corpos hídr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esquisadores: Edimir – Unesp - Botuca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- Critérios para localização de empreendimentos para apoio às autorizações de uso de espaço físic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esquisadores: S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arcos Airton Freitas – 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Luis Henrique Vilaça - CHESF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14:52:54Z</dcterms:created>
  <dc:creator>ana</dc:creator>
  <dc:description/>
  <dc:language>en-US</dc:language>
  <cp:lastModifiedBy>1520016</cp:lastModifiedBy>
  <dcterms:modified xsi:type="dcterms:W3CDTF">2006-11-28T13:32:47Z</dcterms:modified>
  <cp:revision>313</cp:revision>
  <dc:subject/>
  <dc:title>Apresentação do PowerPoint</dc:title>
</cp:coreProperties>
</file>