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CF0F-12DF-41EF-830D-26A0D64D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121-310F-4460-B781-ADEDF06A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008C-97AC-4621-B1EA-627090773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144A-8485-4108-BF33-6F3597D0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A5099-1B50-41DD-AEF3-2C5A272A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13AB5-2E58-4F01-ACE4-8C0ECB7F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C3EB-7F35-4BAF-A1A0-8593568F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DABE-41C0-4FA3-BDDE-234CF991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1CA1-B42B-4AB4-9593-59B4FCC8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71709-95AD-47DC-9393-83BF48BE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04C28-1868-41BA-ABC9-0AD27FF7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ECB-1E25-4686-B31E-327FFD8C4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99B9-C126-43FA-8703-8714559A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3D9B-3EE1-4788-9A9A-D53155DF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E5B0-B528-4760-A2BA-86CB8E53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512E4-C68E-4511-8FA1-BE1494AE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8F91-EFA2-4479-8334-0DCF53C1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403-314F-48CD-B32A-A11022C3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202-B687-4257-80D1-0161BE27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B768-0CEA-4A9C-8618-C132DFDA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DF9A-8705-422E-90ED-4DBD0EF3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9518-3715-4907-B6F8-8C7894B3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D49-BBD2-4C69-B399-4AFF356B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13B-FD71-4897-A7A3-D9E16FDD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79AC-42B3-4746-8EBE-D33B8585F967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0FBA-D653-4689-B74B-CE76B56EC935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ileg.sga.df.gov.br/sileg/legislacao/Distrital/Decretos/Decretos%202006/dec_26742_06.htm" TargetMode="External"/><Relationship Id="rId3" Type="http://schemas.openxmlformats.org/officeDocument/2006/relationships/hyperlink" Target="http://sileg.sga.df.gov.br/sileg/legislacao/Distrital/Decretos/Decretos%202006/dec_26742_06.htm" TargetMode="External"/><Relationship Id="rId4" Type="http://schemas.openxmlformats.org/officeDocument/2006/relationships/hyperlink" Target="http://sileg.sga.df.gov.br/sileg/legislacao/Distrital/Decretos/Decretos%202006/dec_26742_06.htm" TargetMode="External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5ffff"/>
                </a:solidFill>
                <a:latin typeface="Tahoma"/>
              </a:rPr>
              <a:t>EXPERIÊNCIA DO CRHDF NA REGULAMENTAÇÃO DE LEIS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129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TRABALHO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DA CTC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692000" y="1773360"/>
            <a:ext cx="7451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Art. 2º São competências da Câmara Técnica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I - propor e analisar mecanismos de fomento e estímulo ao desenvolvimento científico e tecnológico em matérias ligadas a recursos hídricos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II - propor diretrizes gerais para capacitação técnica buscando a excelência na área de gestão de recursos hídricos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III - propor ações, estudos e pesquisas, na área de recursos hídricos, visando a melhoria de tecnologias, equipamentos e métodos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IV - propor e analisar mecanismos de difusão de experiências e conhecimento no conjunto da sociedade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V – propor diretrizes para o aproveitamento das águas pluviais e o reúso dos recursos hídricos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VI – propor diretrizes para gestão racional dos planos, projetos e obras de drenagem pluvial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VII – propor diretrizes para proteção, conservação, economia e combate ao desperdício dos recursos hídricos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VIII – analisar, estudar e emitir pareceres sobre assuntos afins; 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IX - as competências constantes do Regimento Interno do CRH e outras que vierem a ser delegadas pelo seu Plenário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5ffff"/>
                </a:solidFill>
                <a:latin typeface="Tahoma"/>
              </a:rPr>
              <a:t>Membros da CTCT/CRHD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4920" y="1052640"/>
            <a:ext cx="8280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Secretaria de Estado de Meio Ambiente e Recursos Hídricos  - SEMARH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Agência Reguladora de Águas e Saneamento do Distrito Federal – ADAS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Companhia de Saneamento do Distrito Federal – CAESB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Universidade de Brasília – UnB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Empresa Brasileira de Pesquisa Agropecuária – EMBRAP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Empresa de Assistência Técnica e Extensão Rural - EMAT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Secretaria para o Desenvolvimento da Ciência e Tecnologia – SDC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9360" indent="-36936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 u="sng">
                <a:solidFill>
                  <a:srgbClr val="ffffff"/>
                </a:solidFill>
                <a:uFillTx/>
                <a:latin typeface="Tahoma"/>
              </a:rPr>
              <a:t>Associação Brasileira das Instituições de Pesquisas Tecnológicas – ABIPT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2.616, DE 26 DE OUTUBRO DE 2000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utilização de equipamentos que economizam água nas instalações hidráulicas e sanitárias dos edifícios públicos e privados destinados a uso não residencial no âmbito do Distrito Federal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000" y="285228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Tahoma"/>
              </a:rPr>
              <a:t>LEI N° 2.977, DE 10 DE MAIO DE 2002</a:t>
            </a:r>
            <a:br>
              <a:rPr sz="1800"/>
            </a:br>
            <a:r>
              <a:rPr b="1" lang="pt-PT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Tahoma"/>
              </a:rPr>
              <a:t>Dispõe  sobre a instalação   de   equipamento    eliminador    de   ar    na tubulação do sistema de abastecimento  de águ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076640"/>
            <a:ext cx="8280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2.978, DE 10 DE MAIO DE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1125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obrigatoriedade de instalação de recarga artificial de aqüíferos nas propriedades rurais e lotes em condomínios atendidos por poços tubulares para abastecimento de águ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537372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2.978, DE 10 DE MAIO DE 200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obrigatoriedade de instalação de recarga artificial de aqüíferos nas propriedades rurais e lotes em condomínios atendidos por poços tubulares para abastecimento de águ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11280" y="4724280"/>
            <a:ext cx="8075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677, DE 13 DE OUTUBRO DE 2005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obrigatoriedade da instalação de reservatórios de captação de água para as unidades habitacionais do Distrito Federal e dá outras providência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708280"/>
            <a:ext cx="8064360" cy="18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9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557, DE 18 DE JANEIRO DE 2005</a:t>
            </a:r>
            <a:br>
              <a:rPr sz="1800"/>
            </a:br>
            <a:r>
              <a:rPr b="1" lang="pt-PT" sz="1800" spc="-1" strike="noStrike">
                <a:solidFill>
                  <a:srgbClr val="ffffff"/>
                </a:solidFill>
                <a:latin typeface="Tahoma"/>
              </a:rPr>
              <a:t>(VIDE - </a:t>
            </a:r>
            <a:r>
              <a:rPr b="0" lang="pt-BR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Decreto </a:t>
            </a:r>
            <a:r>
              <a:rPr b="0" lang="pt-BR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nº</a:t>
            </a:r>
            <a:r>
              <a:rPr b="0" lang="pt-BR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 26.742, de 20 de abril de 2006</a:t>
            </a: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individualização de instalação de hidrômetro nas         edificações verticais residenciais e nas de uso misto e nos  condomínios residenciais do Distrito Federal, e dá outras providê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8075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65000"/>
              <a:buFont typeface="Tahom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793, DE 02 DE FEVEREIRO DE 2006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Institui, no Distrito Federal, o sistema de recarga artificial de aqüíferos e dá outras providência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126828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0000"/>
              </a:lnSpc>
              <a:buClr>
                <a:srgbClr val="ffffff"/>
              </a:buClr>
              <a:buSzPct val="65000"/>
              <a:buFont typeface="Tahom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693, DE 08 DE NOVEMBRO DE 2005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Política de Irrigação e Drenagem no âmbito do Distrito Federal e dá outras providência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cc00"/>
                </a:solidFill>
                <a:latin typeface="Tahoma"/>
              </a:rPr>
              <a:t>Concedida liminar pelo TJDF para ADIN solicitada pelo GD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3933720"/>
            <a:ext cx="7704000" cy="11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812, DE 08 DE FEVEREIRO DE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cc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Torna obrigatório o reaproveitamento da água utilizada nos postos de lavagem de veícul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300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90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835, DE 27 DE MARÇO DE 2006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ccff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Dispõe sobre a pavimentação de estacionamentos no âmbito do Distrito Federal e dá outras providê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LEI Nº 3.835, DE 27 DE MARÇO DE 2006</a:t>
            </a:r>
            <a:br>
              <a:rPr sz="2000"/>
            </a:b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Dispõe sobre a pavimentação de estacionamentos no âmbito do Distrito Federal e dá outras providênci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" y="3500280"/>
            <a:ext cx="8351640" cy="25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Art. 1º Todas as áreas abertas destinadas a estacionamentos, públicos e privados, no Distrito Federal, deverão utilizar pavimentação permeável.</a:t>
            </a:r>
            <a:br>
              <a:rPr sz="2400"/>
            </a:br>
            <a:br>
              <a:rPr sz="2400"/>
            </a:br>
            <a:r>
              <a:rPr b="1" lang="pt-BR" sz="2400" spc="-1" strike="noStrike">
                <a:solidFill>
                  <a:srgbClr val="ffcc00"/>
                </a:solidFill>
                <a:latin typeface="Tahoma"/>
              </a:rPr>
              <a:t>Não exige regulamentaç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pt-BR" sz="2400" spc="-1" strike="noStrike">
                <a:solidFill>
                  <a:srgbClr val="ffcc00"/>
                </a:solidFill>
                <a:latin typeface="Tahoma"/>
              </a:rPr>
              <a:t>Necessita algumas correçõ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3529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ffff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LEI Nº 2.616, DE 26 DE OUTUBRO DE 2000 </a:t>
            </a:r>
            <a:r>
              <a:rPr b="1" lang="pt-BR" sz="1400" spc="-1" strike="noStrike">
                <a:solidFill>
                  <a:srgbClr val="ffffff"/>
                </a:solidFill>
                <a:latin typeface="Tahoma"/>
              </a:rPr>
              <a:t>Dispõe sobre a utilização de equipamentos que economizam água nas instalações hidráulicas e sanitárias dos edifícios públicos e privados destinados a uso não residencial no âmbito do Distrito Federal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Tahoma"/>
              </a:rPr>
              <a:t>Elaborada minuta de Resoluçã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cc00"/>
                </a:solidFill>
                <a:latin typeface="Tahoma"/>
              </a:rPr>
              <a:t>Participação da Comissão Permanente de Monitoramento do Código de Edificações do D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708360" y="1125360"/>
            <a:ext cx="518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Art. 1° Torna-se obrigatório o uso de equipamentos que economizam água nas instalações hidráulicas e sanitárias dos edifícios públicos e privados destinados a uso não residencial no âmbito do Distrito Federal.</a:t>
            </a:r>
            <a:br>
              <a:rPr sz="1800"/>
            </a:b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§ 2° Consideram-se equipamentos que economizam os produtos que visem ao uso racional da água, sejam eles dos tipos monocomando, termostato, temporizados ou eletrônicos, e que sejam, principalmente, componentes de lavatórios, mictórios, bacias sanitárias, demais itens do sistema de descarga e outros dispositivos como torneiras, chuveiros, misturadores e arejador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0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5ffff"/>
                </a:solidFill>
                <a:latin typeface="Tahoma"/>
              </a:rPr>
              <a:t>LEGISLAÇÃO DISTRIT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316872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Tahoma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ahoma"/>
              </a:rPr>
              <a:t>LEI Nº 3.812, DE 08 DE FEVEREIRO DE 2006 que torna obrigatório o reaproveitamento da água utilizada nos postos de lavagem de veícul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ahoma"/>
              </a:rPr>
              <a:t>Minuta elaborad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00"/>
                </a:solidFill>
                <a:latin typeface="Tahoma"/>
              </a:rPr>
              <a:t>SINPETRO interess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1557360"/>
            <a:ext cx="5400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ahoma"/>
              </a:rPr>
              <a:t>Art. 1º É obrigatória a instalação de filtros em todos os postos de lavagem de veículos para reutilização da água, preferencialmente, na limpeza de veículos.</a:t>
            </a:r>
            <a:br>
              <a:rPr sz="2200"/>
            </a:br>
            <a:br>
              <a:rPr sz="2200"/>
            </a:br>
            <a:r>
              <a:rPr b="1" lang="pt-BR" sz="2200" spc="-1" strike="noStrike">
                <a:solidFill>
                  <a:srgbClr val="ffffff"/>
                </a:solidFill>
                <a:latin typeface="Tahoma"/>
              </a:rPr>
              <a:t>Art. 2º Toda e qualquer adequação nos postos ficará a expensas dos respectivos proprietários.</a:t>
            </a:r>
            <a:br>
              <a:rPr sz="2200"/>
            </a:br>
            <a:br>
              <a:rPr sz="2200"/>
            </a:br>
            <a:r>
              <a:rPr b="1" lang="pt-BR" sz="2200" spc="-1" strike="noStrike">
                <a:solidFill>
                  <a:srgbClr val="ffffff"/>
                </a:solidFill>
                <a:latin typeface="Tahoma"/>
              </a:rPr>
              <a:t>Art. 3º A concessão ou renovação de alvará de funcionamento ficará condicionada ao cumprimento desta Lei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04:22:44Z</dcterms:created>
  <dc:creator>Paulo Ricardo</dc:creator>
  <dc:description/>
  <dc:language>en-US</dc:language>
  <cp:lastModifiedBy>Tereza Cristina Esmeraldo de Oliveira</cp:lastModifiedBy>
  <dcterms:modified xsi:type="dcterms:W3CDTF">2006-11-27T16:32:28Z</dcterms:modified>
  <cp:revision>5</cp:revision>
  <dc:subject/>
  <dc:title>EXPERIÊNCIA DO CRHDF NA REGULAMENTAÇÃO DE LEI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