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23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065-C0EA-4235-B8BF-27EA466E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128-9F04-4D86-BFB9-0AF2743E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C36-E311-403D-B606-256A590D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E45-B8AC-4259-8A26-5ED8C7C4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614B-4496-4782-B4FA-A530FA31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89A0-2286-45A8-838F-C8188365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A75-36BC-46C1-AA95-A1D3EF1C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3B7F-A4CF-4397-AD70-BF8D18BA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4BA1-0BCE-47F1-A3EF-ED17B25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A768-6242-48F7-A576-E30BE3D1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FD19-FB17-44AE-8D69-B081EE76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0373-1BD5-4C16-A5F1-EFA47ADE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8603-17BD-469C-A1E1-08B2251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FD0F-54AA-407D-B826-57DE813B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63BE-FBD7-4387-A7F1-144308A9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7624-A855-4008-B832-2C99BB48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1DF6-1F20-4FCB-8344-3DFF8E80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B8A41-3D4D-4CAD-A185-5EE38BC2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C96D-19A4-48FC-9BD8-3B1BB869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163C-D7DF-499B-8719-17E8467D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3DF7-D51E-4529-8864-EC59483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81873-A195-4095-BE2A-AFB6D525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F63F-14CC-4B43-ADB6-D5FE6456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B73D6-EAE2-4A7A-816C-A66F833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B2AE8-A10A-42B9-8F0C-527C55B5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D5804-1035-4577-BB74-DE4A1DA2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A727-F04A-4821-BE55-460510E0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5CF71-EA1D-44EB-AB69-C159317C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836FA-6070-4D9D-B1E2-54ACF24C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F6BD8-8CB4-4EC0-8E86-C0BDA828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2111-C55A-472F-8419-768791DB3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1B789-EC99-4DE3-9084-DA91B1DE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317B4-F370-40EE-82CE-CDE10211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6C17-EC39-4AAE-8F2A-21B7F47E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E2ED8-2D4F-453B-9487-768D7290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ED8BF-0603-4749-8F1B-259C6122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864C-39AC-4A44-B79D-BDD792A4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787C-7ED1-443B-98F9-18A68829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AD2D-4AFC-41B7-B8A9-93620BA6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91B87-13E7-4327-8620-6A05F4F6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EEE5-E62B-48A1-B468-68629812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D5A4-D8DA-423E-9CA7-A4361372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2403-7F82-438C-9162-93D50BB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D72A-8F35-4CE8-8509-7C595E91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8913-66EB-4D6C-B920-7640E1F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3F85-BD67-47B0-91D9-C99DF617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371-73DB-4045-9EA3-8DDEA6DB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067-CA3D-435F-9824-DBFEC538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D73-3B33-4B00-B00D-DAFA06D88ED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A4BF-8511-4D32-B27F-2DFC0743949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e6b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EDB-3C3A-4E49-B491-E06C8066E7BA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2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D828-ECD6-4EB9-BB5B-9481D58A866C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0" y="5334120"/>
            <a:ext cx="9143640" cy="2423520"/>
            <a:chOff x="0" y="5334120"/>
            <a:chExt cx="9143640" cy="2423520"/>
          </a:xfrm>
        </p:grpSpPr>
        <p:sp>
          <p:nvSpPr>
            <p:cNvPr id="180" name=""/>
            <p:cNvSpPr/>
            <p:nvPr/>
          </p:nvSpPr>
          <p:spPr>
            <a:xfrm>
              <a:off x="0" y="5334120"/>
              <a:ext cx="914364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333399"/>
                  </a:solidFill>
                  <a:latin typeface="Arial"/>
                </a:rPr>
                <a:t>GT Reuso : Modalidades para reúso direto não potável de Água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20120" y="7372440"/>
              <a:ext cx="4703400" cy="38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62320" y="6172200"/>
            <a:ext cx="6400800" cy="757080"/>
            <a:chOff x="2362320" y="6172200"/>
            <a:chExt cx="6400800" cy="757080"/>
          </a:xfrm>
        </p:grpSpPr>
        <p:sp>
          <p:nvSpPr>
            <p:cNvPr id="183" name=""/>
            <p:cNvSpPr/>
            <p:nvPr/>
          </p:nvSpPr>
          <p:spPr>
            <a:xfrm>
              <a:off x="2362320" y="6172200"/>
              <a:ext cx="640080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Prof. Demetrios Christofid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13920" y="6562440"/>
              <a:ext cx="329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651200" y="471600"/>
            <a:ext cx="1810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90000" tIns="8892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UTILIZAÇÃO AGRÍCOLA DE EFLUENTES DE LAGOAS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DE ESTABIL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5562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Proposta de Resolução do CNRH para fins agrícolas e florestais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143000" y="838080"/>
            <a:ext cx="6934320" cy="4476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28600" y="152280"/>
            <a:ext cx="8001000" cy="61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I Reunião – GT Reúso: Brasília ( 20/09/06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2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M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        MAP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C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ER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BES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ESB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OCRU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CBR                        Comitê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MARH – DF           A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162920" y="434340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28600" y="152280"/>
            <a:ext cx="8686800" cy="57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II Reunião do GT Reúso : Vídeo Conferência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( 26/10/2006 )</a:t>
            </a:r>
            <a:r>
              <a:rPr b="1" lang="pt-BR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São Paulo; Brasília; Curitiba e Rio de Janei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ticiparam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46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presentantes de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3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nstitui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MA                           AN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I                         SUDERH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S/FUNAS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PA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MCIDADES         SEC. SAUDE 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IESP                          US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UERJ                     EMBRAPA S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ABESP                     CAESB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FIOCRUZ             CED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ETROBRAS             CNI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CNA                      SANE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ABORE-Consult.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CBR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Comitês                 EM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ARH – DF          ABES                        CETE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AC-Campinas            UFPR                        FIR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2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NFCN                      UNICA/CTC             INME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81680" y="47242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8839440" cy="40496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A terceira  reunião do GT Reuso : CNRH,  será realizada  na FIESP com Ponto principal em Brasília, em Video Conferência : São Paulo, Curitiba, Rio de Jan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573408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28600"/>
            <a:ext cx="9144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Arial"/>
              </a:rPr>
              <a:t>Houve uma reunião de apoio na representação da OPAS/OMS, dia 16/nov/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 uma do grupo de Coordenação no dia 22/nov/2006, para consolidar sug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763120" cy="3562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5228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1" i="1" lang="pt-BR" sz="2800" spc="-1" strike="noStrike">
                <a:solidFill>
                  <a:srgbClr val="006666"/>
                </a:solidFill>
                <a:latin typeface="Times New Roman"/>
              </a:rPr>
              <a:t>A natureza jamais quebra suas próprias leis.”</a:t>
            </a:r>
            <a:r>
              <a:rPr b="1" lang="pt-BR" sz="2400" spc="-1" strike="noStrike">
                <a:solidFill>
                  <a:srgbClr val="006666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b475"/>
                </a:solidFill>
                <a:latin typeface="Times New Roman"/>
              </a:rPr>
              <a:t>                                                                 </a:t>
            </a:r>
            <a:r>
              <a:rPr b="1" lang="en-US" sz="2000" spc="-1" strike="noStrike">
                <a:solidFill>
                  <a:srgbClr val="006666"/>
                </a:solidFill>
                <a:latin typeface="Times New Roman"/>
              </a:rPr>
              <a:t>Leonardo da Vinci ( 1452- 1519 )</a:t>
            </a:r>
            <a:r>
              <a:rPr b="1" lang="en-US" sz="2000" spc="-1" strike="noStrike">
                <a:solidFill>
                  <a:srgbClr val="6ab475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91120" y="57913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christofidis@unb.br                    ou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e6b"/>
                </a:solidFill>
                <a:latin typeface="Arial"/>
              </a:rPr>
              <a:t>demetriosugpo2002@yahoo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loud"/>
          <p:cNvSpPr/>
          <p:nvPr/>
        </p:nvSpPr>
        <p:spPr>
          <a:xfrm>
            <a:off x="6934320" y="90360"/>
            <a:ext cx="2209680" cy="10303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189000"/>
            <a:ext cx="5257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A DINÂMICA DA GESTÃO DOS RECURSOS HÍDRICO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MOVIMENTOS DO GESTOR DE ÁGUAS EFETIV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6320" y="2666880"/>
            <a:ext cx="457200" cy="457200"/>
          </a:xfrm>
          <a:prstGeom prst="ellipse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290520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33520" y="1966680"/>
            <a:ext cx="4952880" cy="914400"/>
          </a:xfrm>
          <a:custGeom>
            <a:avLst/>
            <a:gdLst/>
            <a:ahLst/>
            <a:rect l="l" t="t" r="r" b="b"/>
            <a:pathLst>
              <a:path w="3120" h="576">
                <a:moveTo>
                  <a:pt x="0" y="0"/>
                </a:moveTo>
                <a:cubicBezTo>
                  <a:pt x="604" y="0"/>
                  <a:pt x="1208" y="0"/>
                  <a:pt x="1728" y="96"/>
                </a:cubicBezTo>
                <a:cubicBezTo>
                  <a:pt x="2248" y="192"/>
                  <a:pt x="2888" y="496"/>
                  <a:pt x="3120" y="576"/>
                </a:cubicBezTo>
              </a:path>
            </a:pathLst>
          </a:custGeom>
          <a:noFill/>
          <a:ln w="1908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2895480"/>
            <a:ext cx="5029200" cy="0"/>
          </a:xfrm>
          <a:prstGeom prst="line">
            <a:avLst/>
          </a:prstGeom>
          <a:ln w="1908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05520" y="4876920"/>
            <a:ext cx="3733560" cy="198108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105520" y="2666880"/>
            <a:ext cx="228600" cy="2286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144"/>
                </a:moveTo>
                <a:cubicBezTo>
                  <a:pt x="36" y="132"/>
                  <a:pt x="72" y="120"/>
                  <a:pt x="96" y="96"/>
                </a:cubicBezTo>
                <a:cubicBezTo>
                  <a:pt x="120" y="72"/>
                  <a:pt x="136" y="16"/>
                  <a:pt x="144" y="0"/>
                </a:cubicBezTo>
              </a:path>
            </a:pathLst>
          </a:custGeom>
          <a:solidFill>
            <a:srgbClr val="ff9900"/>
          </a:solidFill>
          <a:ln w="1908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86200" y="3994200"/>
            <a:ext cx="3048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que fazer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3520" y="2286000"/>
            <a:ext cx="2743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 FUTURO DA GESTÃO DA ÁG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115040" y="152280"/>
            <a:ext cx="18288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IMUNIDADE E 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943600" y="5410080"/>
            <a:ext cx="205740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PAÇO DE VULNERABILIDADE E INSUSTENTA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5580000" y="0"/>
            <a:ext cx="1146240" cy="10666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91520" y="43750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nt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IÊN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391520" y="3460680"/>
            <a:ext cx="1676160" cy="8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ção das perdas Qualitativ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ICÁ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2637000"/>
            <a:ext cx="19810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O,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US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VITANDO O ABU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467480" y="3124080"/>
            <a:ext cx="16765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iclagem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2293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MENTOS DE GEST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05720" y="184320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ENCIALIDADES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05720" y="1447920"/>
            <a:ext cx="24382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NSPOSIÇÃO DE Á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1143000"/>
            <a:ext cx="13716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FETIV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67120" y="5114880"/>
            <a:ext cx="240588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DANÇAS DE PARADIG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-36360" y="5870520"/>
            <a:ext cx="532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VO MUNDO COMEÇA A SER DELINEADO PELA ELIMINAÇÃO DO INADEQUADO DO MUNDO ATUAL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28600" y="0"/>
            <a:ext cx="891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úso de água residuária na agri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r  problema sanitário em alimento e chance de melhoria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1197000"/>
            <a:ext cx="532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9880" y="5334120"/>
            <a:ext cx="53341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ISC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sociados ao Reú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cos aos irrigantes 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aminação de águas   subterrân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1052640"/>
            <a:ext cx="3635280" cy="54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enefí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ixo custo sanitário da disposiçao dos resíduos líquidos municip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a ág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ção da poluição dos rios, canais e outras águas superfici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ervação dos nutrientes:  reduz a necessidade de fertiliz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mento  da produtividade dos cul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antia de oferta de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" y="62485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Fonte: Frank Rijsberman</a:t>
            </a:r>
            <a:r>
              <a:rPr b="1" lang="en-GB" sz="1600" spc="-1" strike="noStrike">
                <a:solidFill>
                  <a:srgbClr val="006200"/>
                </a:solidFill>
                <a:latin typeface="Arial"/>
                <a:ea typeface="Arial"/>
              </a:rPr>
              <a:t> </a:t>
            </a:r>
            <a:r>
              <a:rPr b="1" lang="en-GB" sz="1400" spc="-1" strike="noStrike">
                <a:solidFill>
                  <a:srgbClr val="006200"/>
                </a:solidFill>
                <a:latin typeface="Arial"/>
                <a:ea typeface="Arial"/>
              </a:rPr>
              <a:t>(WWW,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9"/>
          <a:stretch/>
        </p:blipFill>
        <p:spPr>
          <a:xfrm>
            <a:off x="3657600" y="812880"/>
            <a:ext cx="52578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764640" y="0"/>
            <a:ext cx="73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Qual deles é cultivado com água residuária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04920" y="304920"/>
            <a:ext cx="8458200" cy="62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UNTOS TRAT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eríodo da manhã - Apresentaçõ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ropósitos do GT, expectativas e resultados esperados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metrios Christofidis / MI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trospectiva dos trabalhos realizados na fase que antecedeu a Resolução CNRH nº 54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João Marcelo / TC/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visão da ANA para o Reúso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Devanir dos Santos / 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 experiência internacional / A proposta e os padrões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vanildo Hespanhol / USP-CI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otencial de reúso de água no Brasil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” – Américo Sampaio / SAB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04920" y="685800"/>
            <a:ext cx="88390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eríodo da t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posta para Resolução de Reuso para fins Agrícolas e Flores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ase: Propostas apresentadas pelo Prof. Ivanildo Hespanh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N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Considerandos da Proposta CNRH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Resolução estabelece procedimentos para disciplinar a prática de reuso direto não potável de água na modalidade definida na Resolução CNRH n. 54 de 28 de novembro de 2005 Art. 3. inciso II –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uso para fins agrícolas e florestai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plicação de água de reuso para produção agrícola e cultivo de florestas plan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047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304920" y="152280"/>
            <a:ext cx="8610480" cy="65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2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diretrizes de qualidade consideradas nesta Resolu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spondem aos seguintes tipos de cultiv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Tipo: Fins Floresta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 Tipo: Fins Agríco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 Forragens, fibras, culturas com sement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 Ingeridas após processamento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 Pomares e vinhas; 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 Ingeridas cru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      Tipo: Irrigação Urb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 Áreas verdes com acesso restrito, faixas de segurança, faixas decorativas em estradas e ocupação controlada; , e outros a critério do órgão competente.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   Áreas verdes com acesso irrestrito; campos esportivos; praças; jardins; cinturões verdes; cemitérios, e outras a critério do órgão compe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696080" y="6094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2665440" y="1468440"/>
            <a:ext cx="6356160" cy="830160"/>
            <a:chOff x="2665440" y="1468440"/>
            <a:chExt cx="6356160" cy="83016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2665440" y="146844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2755800" y="155736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Lei nº 9.433, de 1997, que dispõe sobre a Política Nacional de Recursos Hídricos e cria o Sistema Nacional de Gerenciamento de Recursos Hídricos - SINGREH, dá ênfase ao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52640" y="186516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7600" y="1544760"/>
            <a:ext cx="1747800" cy="1017360"/>
            <a:chOff x="147600" y="1544760"/>
            <a:chExt cx="1747800" cy="101736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47600" y="1544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236520" y="1633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1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2665440" y="3505320"/>
            <a:ext cx="6356160" cy="1042920"/>
            <a:chOff x="2665440" y="3505320"/>
            <a:chExt cx="6356160" cy="104292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2665440" y="35053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2755800" y="35942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iretriz adotada pelo Conselho Econômico e Social da Organização das Nações Unidas – ONU, segundo a qual, a não ser que haja grande disponibilidade, nenhuma água de boa qualidade deverá ser utilizada em atividades que tolerem águas de qualidade inferior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52640" y="390204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47600" y="3579840"/>
            <a:ext cx="1747800" cy="1018800"/>
            <a:chOff x="147600" y="3579840"/>
            <a:chExt cx="1747800" cy="1018800"/>
          </a:xfrm>
        </p:grpSpPr>
        <p:pic>
          <p:nvPicPr>
            <p:cNvPr id="201" name="" descr=""/>
            <p:cNvPicPr/>
            <p:nvPr/>
          </p:nvPicPr>
          <p:blipFill>
            <a:blip r:embed="rId4"/>
            <a:stretch/>
          </p:blipFill>
          <p:spPr>
            <a:xfrm>
              <a:off x="147600" y="35798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36520" y="367020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3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665440" y="4627440"/>
            <a:ext cx="6356160" cy="1042920"/>
            <a:chOff x="2665440" y="4627440"/>
            <a:chExt cx="6356160" cy="1042920"/>
          </a:xfrm>
        </p:grpSpPr>
        <p:pic>
          <p:nvPicPr>
            <p:cNvPr id="204" name="" descr=""/>
            <p:cNvPicPr/>
            <p:nvPr/>
          </p:nvPicPr>
          <p:blipFill>
            <a:blip r:embed="rId5"/>
            <a:stretch/>
          </p:blipFill>
          <p:spPr>
            <a:xfrm>
              <a:off x="2665440" y="462744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755800" y="471636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o reúso de água que se constitui em prática de racionalização e de conservação de recursos hídricos, conforme princípios estabelecidos na Agenda 21, podendo tal prática ser utilizada como instrumento para regular a oferta e a demanda de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952640" y="5024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7600" y="4703760"/>
            <a:ext cx="1747800" cy="1017360"/>
            <a:chOff x="147600" y="4703760"/>
            <a:chExt cx="1747800" cy="1017360"/>
          </a:xfrm>
        </p:grpSpPr>
        <p:pic>
          <p:nvPicPr>
            <p:cNvPr id="208" name="" descr=""/>
            <p:cNvPicPr/>
            <p:nvPr/>
          </p:nvPicPr>
          <p:blipFill>
            <a:blip r:embed="rId6"/>
            <a:stretch/>
          </p:blipFill>
          <p:spPr>
            <a:xfrm>
              <a:off x="147600" y="470376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36520" y="4792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4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47600" y="2482920"/>
            <a:ext cx="1747800" cy="1018800"/>
            <a:chOff x="147600" y="2482920"/>
            <a:chExt cx="1747800" cy="1018800"/>
          </a:xfrm>
        </p:grpSpPr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147600" y="248292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36520" y="25732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2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655720" y="2386080"/>
            <a:ext cx="6356160" cy="1042920"/>
            <a:chOff x="2655720" y="2386080"/>
            <a:chExt cx="6356160" cy="1042920"/>
          </a:xfrm>
        </p:grpSpPr>
        <p:pic>
          <p:nvPicPr>
            <p:cNvPr id="214" name="" descr=""/>
            <p:cNvPicPr/>
            <p:nvPr/>
          </p:nvPicPr>
          <p:blipFill>
            <a:blip r:embed="rId8"/>
            <a:stretch/>
          </p:blipFill>
          <p:spPr>
            <a:xfrm>
              <a:off x="2655720" y="23860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2746080" y="247500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Década Brasileira da Àgua, instituida pelo Decreto de 22 de março de 2005 com o objetivo de promover e intensificar a formulação de políticas, programas e projetos relativos ao gerenciamento e uso sustentável da águ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1943280" y="278280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808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SOLUÇÃO CNRH Nº 54, de 28 de novembro de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760" y="135000"/>
            <a:ext cx="8610480" cy="66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3 As diretrizes de qualidade microbiológicas da água de reúso par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s agrícolas e florestais são: </a:t>
            </a: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 dejetos animais)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A: Irrigação de culturas a serem ingeridas cruas, campos esportivos, parques públ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, consumidores, públic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iformes termotolerantes (NMP/100ml): 1.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microbiológica: 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goas de estabilização em série, tratamento equivalent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B: Irrigação de cereais, culturas industriais, forragem, pastos, cultivos perenes e árvor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Operár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os de helmintos: 1 ovo por litr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 de tratamento recomendado para atingir qualidade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ógica: Retenção em lagoas de estabilização por 8 a 10 dias,  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ção equivalente de helmintos e coliformes feca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391520" y="190512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76320"/>
            <a:ext cx="89154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4 As variáveis de qualidade físico e química da água de reúso para fi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ícolas e florestais são: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ão deixar de considerar água proveniente de dejetos anim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H entre 6 e 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Condutividade elétrica: EC (dS/m) &lt; 3,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SDT (mg/l) &lt; 15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 Razão de Adsorção de Sódio - RAS: para irrigação superficial entre 3 e 9; para irrigação por aspersão RAS superiores a 3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 Cloretos - Para irrigação superficial inferior a 350 mg/l e para irrigação por aspersão inferior a 100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loro residual total máximo de 1 mg/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Boro – 0,7 mg/l, para culturas alimentícias e de até 3,0 mg/l para irrigação de jardim e similares.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nalisar a respeito do BORO, </a:t>
            </a:r>
            <a:r>
              <a:rPr b="1" lang="pt-BR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MBRADO PELA SABESP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Nitrogênio total – entre 5 e 3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ISCUTIR SOBRE O NITROGÊNIO AMONIACA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DBO &lt; 20 mg/l </a:t>
            </a: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 10 a 80: Fonseca 2006; Agricultural Water Management XXX-200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) SST: de 10 a 80 mg/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081080" indent="355680"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) INVESTIGAR o 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143000" cy="14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66760" y="1295280"/>
            <a:ext cx="8610480" cy="39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C: Irrigação pelo método localizada </a:t>
            </a: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?)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culturas da categoria B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 de risco: Nenh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-tratamento requerido pela irrigação localizada não menos do que tratamento primári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: Definir exposição do trabalhador e formas de prote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a D: Cultivos destinados à produção de agroenergétic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457200" y="380880"/>
          <a:ext cx="82296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990720" y="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5 Os elementos traços da água de reúso para fins agrícolas e florestais s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665440" y="1019160"/>
            <a:ext cx="6354720" cy="828720"/>
            <a:chOff x="2665440" y="1019160"/>
            <a:chExt cx="6354720" cy="82872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2665440" y="1019160"/>
              <a:ext cx="63547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755440" y="1107720"/>
              <a:ext cx="62643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scassez de recursos hídricos observada em certas regiões do território nacional, a qual está relacionada aos aspectos de quantidade e de qualida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952640" y="1415880"/>
            <a:ext cx="717480" cy="180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7600" y="1095480"/>
            <a:ext cx="1747800" cy="861120"/>
            <a:chOff x="147600" y="1095480"/>
            <a:chExt cx="1747800" cy="861120"/>
          </a:xfrm>
        </p:grpSpPr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147600" y="1095480"/>
              <a:ext cx="174780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236520" y="1184400"/>
              <a:ext cx="165744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5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1763640" y="2060640"/>
            <a:ext cx="561672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2665440" y="817560"/>
            <a:ext cx="6354720" cy="615960"/>
            <a:chOff x="2665440" y="817560"/>
            <a:chExt cx="6354720" cy="61596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665440" y="817560"/>
              <a:ext cx="635472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755440" y="907560"/>
              <a:ext cx="6264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elevação dos custos de tratamento de água em função da degradação de mananciai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952640" y="121608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7600" y="895320"/>
            <a:ext cx="1747800" cy="1017360"/>
            <a:chOff x="147600" y="895320"/>
            <a:chExt cx="1747800" cy="1017360"/>
          </a:xfrm>
        </p:grpSpPr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47600" y="89532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236520" y="98424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6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1295280" y="1706400"/>
            <a:ext cx="6477120" cy="487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2665440" y="1646280"/>
            <a:ext cx="6356160" cy="1042920"/>
            <a:chOff x="2665440" y="1646280"/>
            <a:chExt cx="6356160" cy="104292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2665440" y="164628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755800" y="173664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a descarga de poluentes em corpos receptores, conservando os recursos hídricos para o abastecimento público e outros usos mais exigentes quanto à qualidade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952640" y="204480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47600" y="1724040"/>
            <a:ext cx="1747800" cy="1017360"/>
            <a:chOff x="147600" y="1724040"/>
            <a:chExt cx="1747800" cy="1017360"/>
          </a:xfrm>
        </p:grpSpPr>
        <p:pic>
          <p:nvPicPr>
            <p:cNvPr id="239" name="" descr=""/>
            <p:cNvPicPr/>
            <p:nvPr/>
          </p:nvPicPr>
          <p:blipFill>
            <a:blip r:embed="rId2"/>
            <a:stretch/>
          </p:blipFill>
          <p:spPr>
            <a:xfrm>
              <a:off x="147600" y="1724040"/>
              <a:ext cx="174780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36520" y="181296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7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665440" y="3483000"/>
            <a:ext cx="6356160" cy="617400"/>
            <a:chOff x="2665440" y="3483000"/>
            <a:chExt cx="6356160" cy="61740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2665440" y="3483000"/>
              <a:ext cx="635616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755800" y="3573360"/>
              <a:ext cx="62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 prática de reúso de água que reduz os custos associados à poluição e contribui para a proteção do meio ambiente e da saúde pública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952640" y="3881520"/>
            <a:ext cx="71748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7600" y="3560760"/>
            <a:ext cx="1747800" cy="1017360"/>
            <a:chOff x="147600" y="3560760"/>
            <a:chExt cx="1747800" cy="1017360"/>
          </a:xfrm>
        </p:grpSpPr>
        <p:pic>
          <p:nvPicPr>
            <p:cNvPr id="246" name="" descr=""/>
            <p:cNvPicPr/>
            <p:nvPr/>
          </p:nvPicPr>
          <p:blipFill>
            <a:blip r:embed="rId4"/>
            <a:stretch/>
          </p:blipFill>
          <p:spPr>
            <a:xfrm>
              <a:off x="147600" y="3560760"/>
              <a:ext cx="1747800" cy="5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236520" y="3649680"/>
              <a:ext cx="165744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8º Considerando</a:t>
              </a:r>
              <a:r>
                <a:rPr b="0" lang="en-GB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2695680" y="1096920"/>
            <a:ext cx="6356160" cy="830160"/>
            <a:chOff x="2695680" y="1096920"/>
            <a:chExt cx="6356160" cy="83016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2695680" y="1096920"/>
              <a:ext cx="635616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2784600" y="1187280"/>
              <a:ext cx="626580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º Estabelecer modalidades, diretrizes e critérios gerais que regulamentem e estimulem a prática de reúso direto não potável de água em todo o território nacional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590920" y="2286000"/>
            <a:ext cx="6356160" cy="3595680"/>
            <a:chOff x="2590920" y="2286000"/>
            <a:chExt cx="6356160" cy="3595680"/>
          </a:xfrm>
        </p:grpSpPr>
        <p:pic>
          <p:nvPicPr>
            <p:cNvPr id="252" name="" descr=""/>
            <p:cNvPicPr/>
            <p:nvPr/>
          </p:nvPicPr>
          <p:blipFill>
            <a:blip r:embed="rId2"/>
            <a:stretch/>
          </p:blipFill>
          <p:spPr>
            <a:xfrm>
              <a:off x="2590920" y="2286000"/>
              <a:ext cx="6356160" cy="35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679840" y="2376360"/>
              <a:ext cx="6265800" cy="34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2º Para efeito desta Resolução, são adotadas as seguintes definiçõ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 - água residuária: esgoto, água descartada, efluentes líquidos de edificações, indústrias, agroindústrias e agropecuária, tratados ou nã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de água: utilização de água residuári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I - água de reúso: água residuária, que se encontra dentro dos padrões exigidos para sua utilização nas modalidades pretendi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V - reúso direto de água: uso planejado de água de reuso, conduzida ao local de utilização, sem lançamento ou diluição prévia em corpos hídricos superficiais ou subterrâneo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 - produtor de água de reúso: pessoa física ou jurídica, de direito público ou privado, que produz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 - distribuidor de água de reúso: pessoa física ou jurídica, de direito público ou privado, que distribui águ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VII - usuário de água de reúso: pessoa física ou jurídica, de direito público ou privado, que utiliza água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 flipH="1">
            <a:off x="927000" y="197316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47600" y="1035000"/>
            <a:ext cx="1746360" cy="1196640"/>
            <a:chOff x="147600" y="1035000"/>
            <a:chExt cx="1746360" cy="1196640"/>
          </a:xfrm>
        </p:grpSpPr>
        <p:pic>
          <p:nvPicPr>
            <p:cNvPr id="256" name="" descr=""/>
            <p:cNvPicPr/>
            <p:nvPr/>
          </p:nvPicPr>
          <p:blipFill>
            <a:blip r:embed="rId3"/>
            <a:stretch/>
          </p:blipFill>
          <p:spPr>
            <a:xfrm>
              <a:off x="147600" y="1035000"/>
              <a:ext cx="17463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236160" y="112500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1662120" y="146988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3640" y="1557360"/>
            <a:ext cx="86364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63640" y="1557360"/>
            <a:ext cx="720720" cy="1655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>
            <a:off x="898560" y="2708280"/>
            <a:ext cx="46080" cy="376092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47600" y="1987560"/>
            <a:ext cx="1746360" cy="1196640"/>
            <a:chOff x="147600" y="1987560"/>
            <a:chExt cx="1746360" cy="119664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147600" y="198756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236160" y="20775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665440" y="685800"/>
            <a:ext cx="6356160" cy="4446720"/>
            <a:chOff x="2665440" y="685800"/>
            <a:chExt cx="6356160" cy="444672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2665440" y="685800"/>
              <a:ext cx="6356160" cy="44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755800" y="774720"/>
              <a:ext cx="6265800" cy="432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3º O reúso direto não potável de água, para efeito desta Resolução, abrange as seguintes </a:t>
              </a: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modalidad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reúso para fins urbanos: utilização de água de reuso para fins de irrigação paisagística, lavagem de logradouros públicos e veículos, desobstrução de tubulações, construção civil, edificações, combate a incêndio, dentro da área urbana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II - reúso para fins agrícolas e florestais: aplicação de água de reúso para produção agrícola e cultivo de florestas plantadas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reúso para fins ambientais: utilização de água de reúso para implantação de projetos de recuperação do meio ambiente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reúso para fins industriais: utilização de água de reuso em processos, atividades e operações industriais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3333cc"/>
                  </a:solidFill>
                  <a:latin typeface="Arial"/>
                </a:rPr>
                <a:t>V - reúso na aqüicultura: utilização de água de reúso para a criação de animais ou cultivo de vegetais aquát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1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modalidades de reúso não são mutuamente excludentes, podendo mais de uma delas ser empregada simultaneamente em uma mesma áre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§ 2</a:t>
              </a: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 As diretrizes, critérios e parâmetros específicos para as modalidades de reúso definidas nos incisos deste artigo serão estabelecidos pelos órgãos competent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644920" y="5362560"/>
            <a:ext cx="6392880" cy="1255680"/>
            <a:chOff x="2644920" y="5362560"/>
            <a:chExt cx="6392880" cy="1255680"/>
          </a:xfrm>
        </p:grpSpPr>
        <p:pic>
          <p:nvPicPr>
            <p:cNvPr id="269" name="" descr=""/>
            <p:cNvPicPr/>
            <p:nvPr/>
          </p:nvPicPr>
          <p:blipFill>
            <a:blip r:embed="rId3"/>
            <a:stretch/>
          </p:blipFill>
          <p:spPr>
            <a:xfrm>
              <a:off x="2644920" y="5362560"/>
              <a:ext cx="63928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733840" y="5452920"/>
              <a:ext cx="630216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4º Os órgãos integrantes do SINGREH, no âmbito de suas respectivas competências, avaliarão os efeitos sobre os corpos hídricos decorrentes da prática do reúso, devendo estabelecer instrumentos regulatórios e de incentivo para as diversas modalidades de reú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1741320" y="2490840"/>
            <a:ext cx="743040" cy="315432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47720" y="24066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14680" y="2478240"/>
            <a:ext cx="841320" cy="14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>
            <a:off x="898200" y="1541520"/>
            <a:ext cx="65160" cy="491184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7600" y="879480"/>
            <a:ext cx="1746360" cy="1196640"/>
            <a:chOff x="147600" y="879480"/>
            <a:chExt cx="1746360" cy="119664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47600" y="879480"/>
              <a:ext cx="1746360" cy="63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36160" y="96948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665440" y="1809720"/>
            <a:ext cx="6356160" cy="1042920"/>
            <a:chOff x="2665440" y="1809720"/>
            <a:chExt cx="6356160" cy="1042920"/>
          </a:xfrm>
        </p:grpSpPr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>
              <a:off x="2665440" y="1809720"/>
              <a:ext cx="6356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55800" y="1900080"/>
              <a:ext cx="62658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6º Os Planos de Recursos Hídricos, observado o exposto no art. 7º, inc. IV, da Lei n° 9.433, de 1997, deverão contemplar, entre os estudos e alternativas, a utilização de águas de reúso e seus efeitos sobre a disponibilidade hídr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644920" y="2898720"/>
            <a:ext cx="6392880" cy="1042920"/>
            <a:chOff x="2644920" y="2898720"/>
            <a:chExt cx="6392880" cy="1042920"/>
          </a:xfrm>
        </p:grpSpPr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2644920" y="289872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733840" y="298764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7º Os Sistemas de Informações sobre Recursos Hídricos deverão incorporar, organizar e tornar disponíveis as informações sobre as práticas de reúso necessárias para o gerenciamento dos recursos hídrico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657520" y="3994200"/>
            <a:ext cx="6392880" cy="2531880"/>
            <a:chOff x="2657520" y="3994200"/>
            <a:chExt cx="6392880" cy="2531880"/>
          </a:xfrm>
        </p:grpSpPr>
        <p:pic>
          <p:nvPicPr>
            <p:cNvPr id="285" name="" descr=""/>
            <p:cNvPicPr/>
            <p:nvPr/>
          </p:nvPicPr>
          <p:blipFill>
            <a:blip r:embed="rId4"/>
            <a:stretch/>
          </p:blipFill>
          <p:spPr>
            <a:xfrm>
              <a:off x="2657520" y="3994200"/>
              <a:ext cx="6392880" cy="25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2747880" y="4083120"/>
              <a:ext cx="6302520" cy="24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8º Os Comitês de Bacia Hidrográfica deverã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– considerar, na proposição dos mecanismos de cobrança e aplicação dos recursos da cobrança, a criação de incentivos para a prática de reúso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integrar, no âmbito do Plano de Recursos Hídricos da bacia, a prática de reúso com as ações de saneamento ambiental e de uso e ocupação do solo na bacia hidrográfic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Parágrafo único. Nos casos onde não houver Comitês de Bacia Hidrográfica instalados, a responsabilidade caberá ao órgão gestor de recursos hídricos, em conformidade com o previsto na legislação pertinent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1763640" y="1325520"/>
            <a:ext cx="720720" cy="863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55720" y="1343160"/>
            <a:ext cx="728640" cy="2214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668600" y="131112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735200" y="1179000"/>
            <a:ext cx="820800" cy="2048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720800" y="1373040"/>
            <a:ext cx="835200" cy="4632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4920" y="685800"/>
            <a:ext cx="6392880" cy="1042920"/>
            <a:chOff x="2644920" y="685800"/>
            <a:chExt cx="6392880" cy="1042920"/>
          </a:xfrm>
        </p:grpSpPr>
        <p:pic>
          <p:nvPicPr>
            <p:cNvPr id="293" name="" descr=""/>
            <p:cNvPicPr/>
            <p:nvPr/>
          </p:nvPicPr>
          <p:blipFill>
            <a:blip r:embed="rId5"/>
            <a:stretch/>
          </p:blipFill>
          <p:spPr>
            <a:xfrm>
              <a:off x="2644920" y="68580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733840" y="776160"/>
              <a:ext cx="63021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5º Caso a atividade de reúso implique alteração das condições das outorgas vigentes, o outorgado deverá solicitar à autoridade competente retificação da outorga de direito de uso de recursos hídricos de modo a compatibilizá-la com estas alteraçõ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flipH="1">
            <a:off x="898200" y="2421000"/>
            <a:ext cx="49320" cy="4048200"/>
          </a:xfrm>
          <a:prstGeom prst="line">
            <a:avLst/>
          </a:prstGeom>
          <a:ln w="127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47600" y="1573200"/>
            <a:ext cx="1746360" cy="1195200"/>
            <a:chOff x="147600" y="1573200"/>
            <a:chExt cx="1746360" cy="1195200"/>
          </a:xfrm>
        </p:grpSpPr>
        <p:pic>
          <p:nvPicPr>
            <p:cNvPr id="297" name="" descr=""/>
            <p:cNvPicPr/>
            <p:nvPr/>
          </p:nvPicPr>
          <p:blipFill>
            <a:blip r:embed="rId1"/>
            <a:stretch/>
          </p:blipFill>
          <p:spPr>
            <a:xfrm>
              <a:off x="147600" y="1573200"/>
              <a:ext cx="1746360" cy="63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6160" y="1661760"/>
              <a:ext cx="1656000" cy="11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Aft>
                  <a:spcPts val="112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Arial"/>
                </a:rPr>
                <a:t>RESOLV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611440" y="4618080"/>
            <a:ext cx="6392880" cy="1042920"/>
            <a:chOff x="2611440" y="4618080"/>
            <a:chExt cx="6392880" cy="1042920"/>
          </a:xfrm>
        </p:grpSpPr>
        <p:pic>
          <p:nvPicPr>
            <p:cNvPr id="300" name="" descr=""/>
            <p:cNvPicPr/>
            <p:nvPr/>
          </p:nvPicPr>
          <p:blipFill>
            <a:blip r:embed="rId2"/>
            <a:stretch/>
          </p:blipFill>
          <p:spPr>
            <a:xfrm>
              <a:off x="2611440" y="4618080"/>
              <a:ext cx="639288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700360" y="4708440"/>
              <a:ext cx="6302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1º O disposto nesta Resolução não exime o produtor, o distribuidor e o usuário da água de reúso direto não potável da respectiva licença ambiental, quando exigida, assim como do cumprimento das demais obrigações legais pertinentes.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1763640" y="2060640"/>
            <a:ext cx="720720" cy="143964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692360" y="1989000"/>
            <a:ext cx="166680" cy="142920"/>
          </a:xfrm>
          <a:prstGeom prst="ellipse">
            <a:avLst/>
          </a:prstGeom>
          <a:solidFill>
            <a:srgbClr val="99ffcc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763640" y="1987560"/>
            <a:ext cx="792360" cy="6048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63640" y="2060640"/>
            <a:ext cx="720720" cy="2808360"/>
          </a:xfrm>
          <a:prstGeom prst="line">
            <a:avLst/>
          </a:prstGeom>
          <a:ln w="57240">
            <a:solidFill>
              <a:srgbClr val="99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611440" y="3421080"/>
            <a:ext cx="6392880" cy="830160"/>
            <a:chOff x="2611440" y="3421080"/>
            <a:chExt cx="6392880" cy="830160"/>
          </a:xfrm>
        </p:grpSpPr>
        <p:pic>
          <p:nvPicPr>
            <p:cNvPr id="307" name="" descr=""/>
            <p:cNvPicPr/>
            <p:nvPr/>
          </p:nvPicPr>
          <p:blipFill>
            <a:blip r:embed="rId3"/>
            <a:stretch/>
          </p:blipFill>
          <p:spPr>
            <a:xfrm>
              <a:off x="2611440" y="3421080"/>
              <a:ext cx="639288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700360" y="3511440"/>
              <a:ext cx="63025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10º Deverão ser incentivados e promovidos programas de capacitação, mobilização social e informação quanto à sustentabilidade do reúso, em especial os aspectos sanitários e ambientai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649600" y="1247760"/>
            <a:ext cx="6392880" cy="1893960"/>
            <a:chOff x="2649600" y="1247760"/>
            <a:chExt cx="6392880" cy="1893960"/>
          </a:xfrm>
        </p:grpSpPr>
        <p:pic>
          <p:nvPicPr>
            <p:cNvPr id="310" name="" descr=""/>
            <p:cNvPicPr/>
            <p:nvPr/>
          </p:nvPicPr>
          <p:blipFill>
            <a:blip r:embed="rId4"/>
            <a:stretch/>
          </p:blipFill>
          <p:spPr>
            <a:xfrm>
              <a:off x="2649600" y="1247760"/>
              <a:ext cx="6392880" cy="18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2738520" y="1336680"/>
              <a:ext cx="6302160" cy="17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rt. 9º A atividade de reúso de água deverá ser informada, quando requerida, ao órgão gestor de recursos hídricos, para fins de cadastro, devendo contemplar, no mínimo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 - identificação do produtor, distribuidor ou usuári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 - localização geográfica da origem e destinação da água de reúso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II - especificação da finalidade da produção e do reúso de água; e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V - vazão e volume diário de água de reúso produzida, distribuída ou utilizada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metrios</cp:lastModifiedBy>
  <dcterms:modified xsi:type="dcterms:W3CDTF">2006-11-27T21:55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