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752013" cy="7466013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DEDD-15D2-44E3-983E-F29103D2D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82897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61800" y="4537080"/>
            <a:ext cx="82897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4636-8138-482C-95B4-04ED2078A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09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61800" y="453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509800" y="453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B4FA-F949-4138-A96A-6834E69D7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064760" y="219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67720" y="219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61800" y="453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064760" y="453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867720" y="453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C567-9E92-4359-B279-A9749027D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514E-A30E-4D54-9692-7A679B391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61800" y="2197080"/>
            <a:ext cx="828972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6BB80-3180-455E-90F8-2643B963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82897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39145-479B-4A60-A7CB-38061046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4045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09800" y="2197080"/>
            <a:ext cx="4045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8A03D-0AB3-4F3A-9815-E84A1120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1249-E89C-4C65-946D-D257D495A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27240" y="672840"/>
            <a:ext cx="831528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7094-3133-4400-B4CC-43114B079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09800" y="2197080"/>
            <a:ext cx="4045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61800" y="453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FD60-39AD-46BA-8D46-67CAED8B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61800" y="2197080"/>
            <a:ext cx="828972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AFD2-4D0B-4AD2-A39A-FEAFE9E54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4045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09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09800" y="453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2EE53-42B5-4A33-84B3-D0DF15F2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509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61800" y="4537080"/>
            <a:ext cx="82897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889B3-E921-4E63-A4EA-8A410E0A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82897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261800" y="4537080"/>
            <a:ext cx="82897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744C-13CE-47FA-8D5C-B29FBF30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509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1800" y="453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509800" y="453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6E40-B5C0-43F4-9422-CF76368F9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064760" y="219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67720" y="219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261800" y="453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4064760" y="453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867720" y="4537080"/>
            <a:ext cx="266904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9D844-449E-4B03-B9D1-7814EB348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82897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858B-5EBB-4F43-8137-573AE109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4045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09800" y="2197080"/>
            <a:ext cx="4045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0D53-E9CA-49C6-9C46-4D63AE53D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1AF7-A7F4-4B66-8134-D89F7756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27240" y="672840"/>
            <a:ext cx="831528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69E3-C5FE-4E14-A9AF-B8E3CAB5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09800" y="2197080"/>
            <a:ext cx="4045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61800" y="453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3E75-4808-4FBA-A223-78632027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4045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09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509800" y="453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22DE-0B09-4DE7-883A-F75F40AF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61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09800" y="2197080"/>
            <a:ext cx="40453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61800" y="4537080"/>
            <a:ext cx="8289720" cy="21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D4E8-CDD7-4059-8DE3-DCEB78B0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46040" y="252360"/>
            <a:ext cx="466920" cy="5158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53920" y="252360"/>
            <a:ext cx="349560" cy="515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76360" y="711360"/>
            <a:ext cx="452520" cy="5173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73080" y="711360"/>
            <a:ext cx="393840" cy="517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36440" y="631800"/>
            <a:ext cx="596880" cy="46044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2880" y="133200"/>
            <a:ext cx="34920" cy="11462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71600" y="995400"/>
            <a:ext cx="8775720" cy="3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27240" y="672840"/>
            <a:ext cx="831528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261800" y="2197080"/>
            <a:ext cx="82897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74880" y="6886080"/>
            <a:ext cx="20318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576240" y="6886080"/>
            <a:ext cx="30877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233840" y="6886080"/>
            <a:ext cx="20322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0249-071B-44A6-AD79-145CCEC843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246400"/>
            <a:ext cx="9608760" cy="1144080"/>
            <a:chOff x="0" y="2246400"/>
            <a:chExt cx="9608760" cy="1144080"/>
          </a:xfrm>
        </p:grpSpPr>
        <p:grpSp>
          <p:nvGrpSpPr>
            <p:cNvPr id="49" name=""/>
            <p:cNvGrpSpPr/>
            <p:nvPr/>
          </p:nvGrpSpPr>
          <p:grpSpPr>
            <a:xfrm>
              <a:off x="309600" y="2363760"/>
              <a:ext cx="758160" cy="515880"/>
              <a:chOff x="309600" y="2363760"/>
              <a:chExt cx="758160" cy="515880"/>
            </a:xfrm>
          </p:grpSpPr>
          <p:sp>
            <p:nvSpPr>
              <p:cNvPr id="50" name=""/>
              <p:cNvSpPr/>
              <p:nvPr/>
            </p:nvSpPr>
            <p:spPr>
              <a:xfrm>
                <a:off x="309600" y="2363760"/>
                <a:ext cx="466560" cy="5158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17840" y="2363760"/>
                <a:ext cx="349920" cy="515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41720" y="2822760"/>
              <a:ext cx="786600" cy="515880"/>
              <a:chOff x="441720" y="2822760"/>
              <a:chExt cx="786600" cy="515880"/>
            </a:xfrm>
          </p:grpSpPr>
          <p:sp>
            <p:nvSpPr>
              <p:cNvPr id="53" name=""/>
              <p:cNvSpPr/>
              <p:nvPr/>
            </p:nvSpPr>
            <p:spPr>
              <a:xfrm>
                <a:off x="441720" y="2822760"/>
                <a:ext cx="449640" cy="5158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34840" y="2822760"/>
                <a:ext cx="393480" cy="5158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743200"/>
              <a:ext cx="597600" cy="45900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77160" y="2246400"/>
              <a:ext cx="33480" cy="11440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36960" y="3139560"/>
              <a:ext cx="9271800" cy="60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56960" y="1990440"/>
            <a:ext cx="8289720" cy="12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1057320" y="6804000"/>
            <a:ext cx="20318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657240" y="6804000"/>
            <a:ext cx="30891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7315200" y="6804000"/>
            <a:ext cx="20318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41337-B06D-45F6-AB24-06D092D0E3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87440" y="1747080"/>
            <a:ext cx="8776800" cy="43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ufg.br/index.php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762120" y="3635280"/>
            <a:ext cx="838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ede Nacional de Capacitação e Extensão Tecnológica em Saneamento Ambiental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Núcleo Regional Centro-O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48680" y="5457960"/>
            <a:ext cx="404100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Times New Roman"/>
              </a:rPr>
              <a:t>Profa. Cristina Celia Silveira Brand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Times New Roman"/>
              </a:rPr>
              <a:t>Universidade de Brasíl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Times New Roman"/>
              </a:rPr>
              <a:t>cbrandao@unb.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00"/>
                </a:solidFill>
                <a:latin typeface="Times New Roman"/>
              </a:rPr>
              <a:t>Brasília, 09 de fevereiro de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43040" y="244440"/>
            <a:ext cx="7273800" cy="685800"/>
            <a:chOff x="743040" y="244440"/>
            <a:chExt cx="7273800" cy="685800"/>
          </a:xfrm>
        </p:grpSpPr>
        <p:pic>
          <p:nvPicPr>
            <p:cNvPr id="102" name="" descr=""/>
            <p:cNvPicPr/>
            <p:nvPr/>
          </p:nvPicPr>
          <p:blipFill>
            <a:blip r:embed="rId1"/>
            <a:stretch/>
          </p:blipFill>
          <p:spPr>
            <a:xfrm>
              <a:off x="743040" y="291960"/>
              <a:ext cx="1209600" cy="63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2007000" y="244440"/>
              <a:ext cx="600984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99"/>
                  </a:solidFill>
                  <a:latin typeface="Times New Roman"/>
                </a:rPr>
                <a:t>Universidade de Brasíli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99"/>
                  </a:solidFill>
                  <a:latin typeface="Times New Roman"/>
                </a:rPr>
                <a:t>Departamento de Engenharia Civil e Ambien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660040" y="1023840"/>
            <a:ext cx="6526440" cy="871200"/>
            <a:chOff x="2660040" y="1023840"/>
            <a:chExt cx="6526440" cy="871200"/>
          </a:xfrm>
        </p:grpSpPr>
        <p:sp>
          <p:nvSpPr>
            <p:cNvPr id="105" name=""/>
            <p:cNvSpPr/>
            <p:nvPr/>
          </p:nvSpPr>
          <p:spPr>
            <a:xfrm>
              <a:off x="2660040" y="1169640"/>
              <a:ext cx="573696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99"/>
                  </a:solidFill>
                  <a:latin typeface="Times New Roman"/>
                </a:rPr>
                <a:t>Universidade Federal de Mato Grosso do Su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99"/>
                  </a:solidFill>
                  <a:latin typeface="Times New Roman"/>
                </a:rPr>
                <a:t>Departamento de Hidráulica e Transportes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8454960" y="1023840"/>
              <a:ext cx="731520" cy="871200"/>
              <a:chOff x="8454960" y="1023840"/>
              <a:chExt cx="731520" cy="871200"/>
            </a:xfrm>
          </p:grpSpPr>
          <p:pic>
            <p:nvPicPr>
              <p:cNvPr id="107" name="UFMSsimbolo" descr=""/>
              <p:cNvPicPr/>
              <p:nvPr/>
            </p:nvPicPr>
            <p:blipFill>
              <a:blip r:embed="rId2"/>
              <a:stretch/>
            </p:blipFill>
            <p:spPr>
              <a:xfrm>
                <a:off x="8454960" y="1023840"/>
                <a:ext cx="731520" cy="78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 txBox="1"/>
              <p:nvPr/>
            </p:nvSpPr>
            <p:spPr>
              <a:xfrm>
                <a:off x="8554680" y="1773360"/>
                <a:ext cx="528120" cy="121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CanDown">
                  <a:avLst>
                    <a:gd name="adj" fmla="val 33333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Times New Roman"/>
                  </a:rPr>
                  <a:t>UFMS</a:t>
                </a:r>
                <a:endPara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  <a:ea typeface="Times New Roman"/>
                </a:endParaRPr>
              </a:p>
            </p:txBody>
          </p:sp>
        </p:grpSp>
      </p:grpSp>
      <p:grpSp>
        <p:nvGrpSpPr>
          <p:cNvPr id="109" name=""/>
          <p:cNvGrpSpPr/>
          <p:nvPr/>
        </p:nvGrpSpPr>
        <p:grpSpPr>
          <a:xfrm>
            <a:off x="1704960" y="2001960"/>
            <a:ext cx="4869720" cy="799920"/>
            <a:chOff x="1704960" y="2001960"/>
            <a:chExt cx="4869720" cy="799920"/>
          </a:xfrm>
        </p:grpSpPr>
        <p:sp>
          <p:nvSpPr>
            <p:cNvPr id="110" name=""/>
            <p:cNvSpPr/>
            <p:nvPr/>
          </p:nvSpPr>
          <p:spPr>
            <a:xfrm>
              <a:off x="2532240" y="2100240"/>
              <a:ext cx="4042440" cy="6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99"/>
                  </a:solidFill>
                  <a:latin typeface="Times New Roman"/>
                </a:rPr>
                <a:t>Universidade Federal de Goiás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99"/>
                  </a:solidFill>
                  <a:latin typeface="Times New Roman"/>
                </a:rPr>
                <a:t>Escola de Engenharia Civil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" descr="Página Principal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1704960" y="2001960"/>
              <a:ext cx="703080" cy="79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00320" y="522360"/>
            <a:ext cx="81676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Chamada Pública MCT/Finep/CT-HIDRO -01/2005</a:t>
            </a:r>
            <a:r>
              <a:rPr b="1" i="1" lang="pt-BR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1138320" y="2406600"/>
            <a:ext cx="7557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6880" y="1330200"/>
            <a:ext cx="8937720" cy="56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Objetivos Específ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Desenvolver propostas pedagógicas e material didático, que levem em consideração as peculiaridades regionais e as diferentes políticas, técnicas e tecnologias visando capacitar profissionais para operação, manutenção e gestão dos sistemas de saneamen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Capacitar profissionais para o planejamento, gerenciamento, operação e manutenção de sistemas e serviços de saneamento, nos níveis local e regional,visando contribuir para a sustentabilidade dos empreendimentos e a melhoria da qualidade da prestação desses serviço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Capacitar profissionais em sistemas de saneamento, incluindo as instalações hidrossanitárias, visando o uso racional de água e energi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Capacitar profissionais em gestão e manejo de todos os tipos de resíduos sólidos,contemplando todas as fases do processo (geração, coleta, transformação e destinação de cada modalidade de resíduo), observadas as normas existentes e as exigências técnicas para a destinação adequada do resídu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Capacitar profissionais para o manejo integrado das águas pluviais urbanas visando intervenções sustentáveis no território, que evitem a transferência dos impactos negativos para jusante, por meio de medidas de minimização da impermeabilização do solo, de controle dos escoamentos e da produção de sedimentos e outros mecanismos de amortecimento de chei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00320" y="522360"/>
            <a:ext cx="81676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Chamada Pública MCT/Finep/CT-HIDRO -01/2005</a:t>
            </a:r>
            <a:r>
              <a:rPr b="1" i="1" lang="pt-BR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855720" y="3529080"/>
            <a:ext cx="841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Cron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19548"/>
          <a:stretch/>
        </p:blipFill>
        <p:spPr>
          <a:xfrm>
            <a:off x="746280" y="3908520"/>
            <a:ext cx="8489880" cy="29080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25480" y="1314360"/>
            <a:ext cx="8131320" cy="19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Recursos financei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No âmbito desta Chamada Pública, serão comprometidos recursos não no valor de até R$ 4.000.000,00 originários do Fundo Setorial de Recursos Hídricos - CT-HIDRO. Além de recursos do MCidades/PMSS voltados para atividades no campo do Manejo Integrado dos Resíduos Sólidos Urb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00320" y="522360"/>
            <a:ext cx="81676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Chamada Pública MCT/Finep/CT-HIDRO -01/2005</a:t>
            </a:r>
            <a:r>
              <a:rPr b="1" i="1" lang="pt-BR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138320" y="2406600"/>
            <a:ext cx="7557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16120" y="1357200"/>
            <a:ext cx="8507160" cy="51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Reunião de criação da Rede Nacional de Capacitação e Extensão Tecnológica em Saneamento Ambi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Os representantes das Instituições de Ensino selecionadas foram convocados para uma reunião em Brasília - DF. Essa reunião contou com a presença de consultores </a:t>
            </a:r>
            <a:r>
              <a:rPr b="0" i="1" lang="pt-BR" sz="2000" spc="-1" strike="noStrike">
                <a:solidFill>
                  <a:srgbClr val="000099"/>
                </a:solidFill>
                <a:latin typeface="Arial"/>
              </a:rPr>
              <a:t>ad hoc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definidos pela FINEP, de representantes do Ministério das Cidades, do GTCapacitação, da FINEP e do Comitê Gestor do CT-HIDRO e entidades do grupo de apo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8000"/>
                </a:solidFill>
                <a:latin typeface="Times New Roman"/>
              </a:rPr>
              <a:t>Reunião foi realizada nos dias 19 e 20 de julho e recomendou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pt-BR" sz="2400" spc="-1" strike="noStrike">
                <a:solidFill>
                  <a:srgbClr val="008000"/>
                </a:solidFill>
                <a:latin typeface="Times New Roman"/>
              </a:rPr>
              <a:t>Ênfase na capacitação de operadores (chão de fábr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pt-BR" sz="2400" spc="-1" strike="noStrike">
                <a:solidFill>
                  <a:srgbClr val="008000"/>
                </a:solidFill>
                <a:latin typeface="Times New Roman"/>
              </a:rPr>
              <a:t>Buscar o estabelecimento de um sistema de certificação de formação profissional de operadores considerando uma formação modular e crescente com níveis diferenciados de conhecimento</a:t>
            </a:r>
            <a:r>
              <a:rPr b="1" i="1" lang="pt-BR" sz="24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00320" y="217080"/>
            <a:ext cx="8167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Plano de Trabalho dos Núcleos Regionais –</a:t>
            </a:r>
            <a:br>
              <a:rPr sz="2800"/>
            </a:b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Soluções de Capacitação e de Extensão Tecnológic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695160" y="1179360"/>
            <a:ext cx="8820360" cy="60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URSO PRESEN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PROGRAMA DE ENSINO À DISTÂNCIA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TREINAMENTO OPERACIONAL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atividades voltadas principalmente para a capacitação do nível operacional do setor, sempre que possível desenvolvidas em simulação de condições de trabalho, utilizando infra-estrutura tipo mini-redes, unidades piloto, unidades de demonstração em escala real; laboratórios de análises; equipamento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INTERCÂMBIO TECNOLÓGICO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atividades que envolvem a realização de visitas técnicas, transferência de técnicas e tecnologias e estágios assistidos  entre as instituições e entidades que integram o plano de trabalho do núcleo region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CAPACITAÇÃO EM PROCESSO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proposta didático-pedagógica, também denominada, “treinamento em serviço”, busca a formação de facilitadores e  multiplicadores que se habilitem a internalizar e difundir novas práticas de gestão e procedimentos operacionais no âmbito das instituições. São atividades que requerem o envolvimento não só do corpo técnico, mas, sobretudo, dos dirigentes/tomadores de decisão da instituiçã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OUTRAS MODALIDADES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: espaço livre para proposição pelo Núcleo Regional, de outras ferramentas/soluções de capacitação e de extensã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00320" y="302760"/>
            <a:ext cx="8167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Núcleo Regional Centro-Oeste de Capacitação e de Extensão Tecnológica em Saneamento Ambienta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969840" y="1481040"/>
            <a:ext cx="8383680" cy="49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1 Diagnosticar o público-alvo, oferta e demanda de atividades de capacitação e de extensão tecnológica em saneamento na região Centro-Oes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2 Realizar atividades de capacitação e de extensão tecnológica em sanea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3 Construir uma proposta/plano de capacitação e certificação de opera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4 Desenvolvimento e produção de  material didát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5 Desenvolvimento preliminar de instrumento para avaliação das atividades de capacita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6 Elaborar ferramentas institucionais para divulgação das atividades de capacitação do núcleo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00320" y="302760"/>
            <a:ext cx="8167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Núcleo Regional Centro-Oeste de Capacitação e de Extensão Tecnológica em Saneamento Ambienta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614880" y="1349280"/>
            <a:ext cx="8995320" cy="59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2 - Atividades de capacitação e de extensão tecnológica em sane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bastecimento de á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23 atividades distribuídas em GO, MS e 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co prioritário na capacitação de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sgotamento sanitá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2 atividades distribuídas em GO, MS e 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co prioritário na capacitação de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anejo de resíduos sólidos urba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0 atividades distribuídas em GO, MS e 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co prioritário na capacitação de ope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anejo de águas pluviais urb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8 atividades distribuídas em GO, MS e 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oco prioritário na capacitação de técnicos de NS e gest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ções transvers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laboração de Planos Diretores de Saneamento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00320" y="302760"/>
            <a:ext cx="8167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Núcleo Regional Centro-Oeste de Capacitação e de Extensão Tecnológica em Saneamento Ambienta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836640" y="1309680"/>
            <a:ext cx="8407440" cy="61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Parceiros atu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Prefeitura Municipal de Campo Grande- PMC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Companhia De Saneamento Ambiental Do Distrito Federal - Caes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Águas Guariroba S.A. – Guarirob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Empresa de Saneamento de Mato Grosso do Sul S/A. – Sanesu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Companhia Urbanizadora da Nova Capital do Brasil - Nova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Saneamento de Goiás S/A. – Sane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spcAft>
                <a:spcPts val="1250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Companhia de Saneamento da Capital – Sanec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Colabor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Senai-DF e SENAI-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Companhia de Urbanização de Goiânia – COMU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DERMU-COMP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ASSEM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3300"/>
                </a:solidFill>
                <a:latin typeface="Times New Roman"/>
              </a:rPr>
              <a:t>É objetivo do projeto agregar novos parceiros de forma continu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00320" y="302760"/>
            <a:ext cx="816768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Núcleo Regional Centro-Oeste de Capacitação e de Extensão Tecnológica em Saneamento Ambienta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855720" y="1479600"/>
            <a:ext cx="8405640" cy="477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74600" indent="-174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99"/>
                </a:solidFill>
                <a:latin typeface="Arial"/>
              </a:rPr>
              <a:t>Situação a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Convênio celebrado em dezembro de 2005 no valor de R$ 1.145.639,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Apenas 14,5% dos recursos são para infraestrutura das instituições envolvidas, o restante é para desenvolvimento das atividades de capacitação, inclusive elaboração e publicação de material didá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Execução da meta 1 - Diagnosticar o público-alvo, oferta e demanda de atividades de capacitação e de extensão tecnológica em saneamento na região Centro-Oe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- Questionários já foram elabor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- Definição das áreas onde serão aplicados os questionários – até 20/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- Recebimento e ‘tratamento da informação – até 31/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- Adequação das atividades de capacitação e extensão – 30/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9960" y="289080"/>
            <a:ext cx="845316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ede Nacional de Capacitação e Extensão Tecnológica em Saneamento Ambiental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403280"/>
            <a:ext cx="894096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Rede tem o propósito de reunir, articular e integrar um conjunto de instituições e entidades com o objetivo de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promover o desenvolvimento institucional do setor mediante soluções de capacitação, intercâmbio técnico e extensão tecnológica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visando disciplinar a intervenção de todos os agentes envolvid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s 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Núcleos Regionais expressam o caráter embrionário da Rede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e deverão ser constituídos atendendo aos requisitos da abrangência temática e da capilaridade regional, atuando em todas as frentes das ações de saneamento, considerando-se as políticas e técnicas de manejo, tratamento e disposição específicas para cada tema do saneamento e apropriadas para cada regi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Rede será 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gradativamente ampliada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para adesão de outras instituições e entidades, inclusive aquelas de atuação nacional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11320" y="287280"/>
            <a:ext cx="8539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ede Nacional de Capacitação e Extensão Tecnológica em Saneamento Ambiental – Objetivos e Ações Previ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5920" y="1455840"/>
            <a:ext cx="896904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ompor a rede nacional com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formato dinâmico e pluralista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contando com representações regionais e entidades de expressão naciona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Mobilizar e articular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ntidades gestoras, prestadores de serviços, instituições de ensino, entidades de formação profissional, pesquisadores, técnicos e organizações específicas do setor, permitindo além da presença de instituições mais tradicionais, também as de pequeno porte, as de inserção recente nas temáticas do saneamen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3600" indent="-3636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romover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iniciativas cooperadas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entre os integrantes da Rede visando o desenvolvimento institucional do setor, oferecendo soluções de capacitação e oportunidades de intercâmbio tecnológico voltadas para os profissionais que atuam tanto na operação do saneamento, o chamado “chão de fábrica”, até o nível técnico, superior, de gestores e de dirigent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11320" y="287280"/>
            <a:ext cx="8539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ede Nacional de Capacitação e Extensão Tecnológica em Saneamento Ambiental – Objetivos e Ações Previs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8000" y="1325520"/>
            <a:ext cx="914400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poiar a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produção, a disseminação e o intercâmbio do conhecimento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integrando pessoas e instituições para ampliar o acesso e compartilhamento da informação mediante a difusão de políticas, de boas práticas e de técnicas apropriadas de treinamento operacional por intermédio das ferramentas do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Portal do Conhecimento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em Saneamento Ambient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centivar os agentes que integram a Rede a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colaborar com a dinâmica de funcionamento do Portal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disponibilizando, por meios eletrônicos, um conjunto de soluções de capacitação (campos diversos), além de oferecer os elementos para a formação de comunidades virtuais, gestão corporativa e oportunidades de ensino à distânc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stabelecer 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</a:rPr>
              <a:t>convênios e parcerias com entidades internacionais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sempre que possível, visando o desenvolvimento e o intercâmbio de conhecimento, técnicas e de recursos humanos e materia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97000" y="287280"/>
            <a:ext cx="84535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ede Nacional de Capacitação e Extensão Tecnológica em Saneamento Ambiental  - Comitê Gestor (Propos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2960" y="1341360"/>
            <a:ext cx="894060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nistério das Cidades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por intermédio da Secretaria Executiva,  da SNSA e do PM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nistério da Ciência e Tecnologia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e a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FIN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nistério do Meio Ambiente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por intermédio da Secretaria de Recursos Hídricos (SRH) e da Secretaria de Qualidade Ambiental em Assentamentos Humanos (SQ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gência Nacional das Águas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do MMA, por intermédio da Superintendência de Tecnologia e Capacitação (S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nistério da Educ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nistério da Integração N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inistério da Saúde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, por intermédio da Fundação Nacional da Saúde (FUNA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a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aixa Econômica Federal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(CAIX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97000" y="287280"/>
            <a:ext cx="855648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ede Nacional de Capacitação e Extensão Tecnológica em Saneamento Ambiental  - Grupo de Apoio (Propost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4400" y="1409760"/>
            <a:ext cx="8723520" cy="48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Instituto Brasileiro de Administração Municipal – IB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Instituto de Pesquisa Tecnológica – 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Sistema “S”- SEBR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Associação Nacional dos Serviços Municipais de Água e Esgoto – ASSEM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Associação Brasileira de Engenharia Sanitária e Ambiental – AB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Associação das Empresas Estaduais de Saneamento Básico – AES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Federação Nacional dos Urbanitários – Secretaria de Saneamento – FNU/ C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Fórum Nacional Lixo &amp; Cidadania – L&amp;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Frente Nacional pelo Saneamento Ambiental - FN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33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99"/>
                </a:solidFill>
                <a:latin typeface="Arial"/>
              </a:rPr>
              <a:t>Fórum Nacional De Reforma Urbana – FNRU/F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138320" y="2406600"/>
            <a:ext cx="7557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97000" y="287280"/>
            <a:ext cx="845352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Rede Nacional de Capacitação e Extensão Tecnológica em Saneamento Ambiental  - Anteced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11120" y="1312920"/>
            <a:ext cx="914076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Estudo de viabilidade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realizado pela UnB, SRH e o </a:t>
            </a:r>
            <a:r>
              <a:rPr b="0" i="1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Office International de l’Eau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(OIEAU), em 2002 </a:t>
            </a:r>
            <a:r>
              <a:rPr b="0" lang="pt-BR" sz="1800" spc="-1" strike="noStrike">
                <a:solidFill>
                  <a:srgbClr val="000099"/>
                </a:solidFill>
                <a:latin typeface="Symbol"/>
                <a:ea typeface="Symbol"/>
              </a:rPr>
              <a:t>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 proposta de se implantar, no Brasil, um </a:t>
            </a:r>
            <a:r>
              <a:rPr b="1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Centro de Treinamento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específico, concebido nos moldes do Centro Nacional Francês de Formação para as Profissões Relacionadas com a Águ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- 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Custo Total de implantação (exceto terreno): </a:t>
            </a:r>
            <a:r>
              <a:rPr b="1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R$ 10.150.00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    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- Custo operacional:</a:t>
            </a:r>
            <a:r>
              <a:rPr b="1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 R$ 2.900.000 / a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Arial"/>
              </a:rPr>
              <a:t>Grupo de Trabalho sobre Capacitação em Saneamento, </a:t>
            </a:r>
            <a:r>
              <a:rPr b="1" lang="pt-BR" sz="1800" spc="-1" strike="noStrike">
                <a:solidFill>
                  <a:srgbClr val="000099"/>
                </a:solidFill>
                <a:latin typeface="Arial"/>
                <a:ea typeface="Arial"/>
              </a:rPr>
              <a:t>GT Capacitação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Arial"/>
              </a:rPr>
              <a:t>, de composição interministerial, concebido no início de 2004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- </a:t>
            </a:r>
            <a:r>
              <a:rPr b="1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Iniciativa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: MCIDADES (SNSA), MMA (SRH),  ANA e M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- </a:t>
            </a:r>
            <a:r>
              <a:rPr b="1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Estudo sobre Capacitação em Saneamento Ambiental: identificação e qualificação da oferta e da 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No que se refere ao público-alvo, o Estudo identificou que a demanda em capacitação </a:t>
            </a:r>
            <a:r>
              <a:rPr b="0" lang="pt-BR" sz="18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abrange desde o nível operacional básico até o nível técnico, incluindo engenheiros e gestores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	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O Estudo revelou que </a:t>
            </a:r>
            <a:r>
              <a:rPr b="0" lang="pt-BR" sz="1800" spc="-1" strike="noStrike" u="sng">
                <a:solidFill>
                  <a:srgbClr val="000099"/>
                </a:solidFill>
                <a:uFillTx/>
                <a:latin typeface="Arial"/>
                <a:ea typeface="Times New Roman"/>
              </a:rPr>
              <a:t>existe, no país, significativo potencial instalado em termos de capacidade pedagógica e infra-estrutura física para treinamento</a:t>
            </a:r>
            <a:r>
              <a:rPr b="0" lang="pt-BR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. São instituições de ensino, de pesquisa, entidades do setor e operadores que desenvolvem programas e atividades de capacitação, muitos destes com bom nível de institucionalização. Também foram identificadas, além de boa infra-estrutura de ensino, a existência de unidades de treinamento em escala real, unidades piloto e laboratór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00320" y="509760"/>
            <a:ext cx="81676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Chamada Pública MCT/Finep/CT-HIDRO -01/2005</a:t>
            </a:r>
            <a:r>
              <a:rPr b="1" i="1" lang="pt-BR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1138320" y="2406600"/>
            <a:ext cx="7557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82800" y="1428840"/>
            <a:ext cx="7540560" cy="39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Seleção pública de instituições de ensino para a constituição da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Rede Nacional de Capacitação e Extensão Tecnológica em Saneamento Ambi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sta Rede, organizada inicialmente por intermédio de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Núcleos Regionais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de capacitação, apoio técnico e extensão tecnológica, tem como objetivo promover o desenvolvimento institucional do setor saneamento, de modo a </a:t>
            </a:r>
            <a:r>
              <a:rPr b="1" i="1" lang="en-US" sz="2000" spc="-1" strike="noStrike">
                <a:solidFill>
                  <a:srgbClr val="000099"/>
                </a:solidFill>
                <a:latin typeface="Arial"/>
              </a:rPr>
              <a:t>contribuir para a melhoria do desempenho operacional e da gestão dos sistemas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de abastecimento de água, esgotamento sanitário, manejo integrado dos resíduos sólidos e manejo integrado das águas pluviais urba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00320" y="509760"/>
            <a:ext cx="8167680" cy="43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Times New Roman"/>
              </a:rPr>
              <a:t>Chamada Pública MCT/Finep/CT-HIDRO -01/2005</a:t>
            </a:r>
            <a:r>
              <a:rPr b="1" i="1" lang="pt-BR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138320" y="2406600"/>
            <a:ext cx="75578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0160" y="1379520"/>
            <a:ext cx="850608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brangência temá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Gerenciamento, operação e manutenção dos sistemas de abastecimento de água com ênfase nas unidades de tratamento e nos processos e técnicas de uso eficiente de água e de energ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Gerenciamento, operação e manutenção dos sistemas de esgotamento sanitário, com ênfase nas unidades de tratamento de esgo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anejo integrado das águas pluviais urbanas, com ênfase em soluções que visem o controle da impermeabilização do solo e outros mecanismos de redução ou amortecimento das cheias e em medidas locais para controle dos escoamentos e da produção de sediment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anejo integrado dos resíduos sólidos urbanos, com ênfase nas técnicas e processos de gestão voltados para a minimização da geração, manejo e transporte,processos de transformação e destinação adequada dos resídu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9T18:28:52Z</dcterms:created>
  <dc:creator>Nabil</dc:creator>
  <dc:description/>
  <dc:language>en-US</dc:language>
  <cp:lastModifiedBy>CB</cp:lastModifiedBy>
  <dcterms:modified xsi:type="dcterms:W3CDTF">2006-02-09T14:46:21Z</dcterms:modified>
  <cp:revision>120</cp:revision>
  <dc:subject/>
  <dc:title>APLICAÇÃO DE LODO DE ESTAÇÃO DE TRATAMENTO DE ÁGUA COMO COAGULANTE EM UNIDADES DE TRATAMENTO DE ESGOTOS</dc:title>
</cp:coreProperties>
</file>