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27825" cy="9859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4920" y="6840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ério do Me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61176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elho Nacional de Recursos Hídr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09440" y="260280"/>
            <a:ext cx="8915040" cy="795240"/>
            <a:chOff x="109440" y="260280"/>
            <a:chExt cx="8915040" cy="795240"/>
          </a:xfrm>
        </p:grpSpPr>
        <p:sp>
          <p:nvSpPr>
            <p:cNvPr id="43" name=""/>
            <p:cNvSpPr/>
            <p:nvPr/>
          </p:nvSpPr>
          <p:spPr>
            <a:xfrm>
              <a:off x="109440" y="260280"/>
              <a:ext cx="891504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3333cc"/>
                  </a:solidFill>
                  <a:latin typeface="Arial"/>
                </a:rPr>
                <a:t>MINISTÉRIO DO MEIO AMBIENT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cc"/>
                  </a:solidFill>
                  <a:latin typeface="Arial"/>
                </a:rPr>
                <a:t>CONSELHO NACIONAL DE RECURSOS HÍDRIC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POSTA DE RESOLU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73760" y="633240"/>
              <a:ext cx="4585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064200" y="6308640"/>
            <a:ext cx="2971800" cy="577800"/>
            <a:chOff x="6064200" y="6308640"/>
            <a:chExt cx="2971800" cy="577800"/>
          </a:xfrm>
        </p:grpSpPr>
        <p:sp>
          <p:nvSpPr>
            <p:cNvPr id="46" name=""/>
            <p:cNvSpPr/>
            <p:nvPr/>
          </p:nvSpPr>
          <p:spPr>
            <a:xfrm>
              <a:off x="6064200" y="6308640"/>
              <a:ext cx="297180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Demetrios Christofid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86000" y="6519600"/>
              <a:ext cx="1527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1"/>
          <a:srcRect l="1157" t="0" r="9297" b="11252"/>
          <a:stretch/>
        </p:blipFill>
        <p:spPr>
          <a:xfrm>
            <a:off x="0" y="1989000"/>
            <a:ext cx="9144000" cy="314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57200" y="5373720"/>
          <a:ext cx="2819520" cy="94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373720"/>
                    <a:ext cx="28195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708360" y="5248440"/>
            <a:ext cx="518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odalidades, diretrizes e critérios gerais para a prática de reuso direto não potável de águ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H="1">
            <a:off x="899640" y="2708280"/>
            <a:ext cx="42840" cy="376092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520" y="2077920"/>
            <a:ext cx="1657440" cy="5400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55800" y="774720"/>
            <a:ext cx="6265800" cy="435636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3º O reuso direto não potável de água, para efeito desta Resolução, abrange as seguintes modalidad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- reuso para fins urbanos: utilização de água de reuso para fins de irrigação paisagística, lavagem de logradouros públicos e veículos, desobstrução de tubulações, construção civil, edificações, combate a incêndio, dentro da área urban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 - reuso para fins agrícolas e florestais: aplicação de água de reuso para produção agrícola e cultivo de florestas plantad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I - reuso para fins ambientais: utilização de água de reuso para implantação de projetos de recuperação do meio ambien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V - reuso para fins industriais: utilização de água de reuso em processos, atividades e operações industriais; 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 - reuso na aqüicultura: utilização de água de reuso para a criação de animais ou cultivo de vegetais aquátic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§ 1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s modalidades de reuso não são mutuamente excludentes, podendo mais de uma delas ser empregada simultaneamente em uma mesma áre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§ 2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s diretrizes, critérios e parâmetros específicos para as modalidades de reuso definidas nos incisos deste artigo serão estabelecidos pelos órgãos compet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33840" y="5452920"/>
            <a:ext cx="6302160" cy="115956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rt. 4º Os órgãos integrantes do SINGREH, no âmbito de suas respectivas competências, avaliarão os efeitos sobre os corpos hídricos decorrentes da prática do reuso, devendo estabelecer instrumentos regulatórios e de incentivo para as diversas modalidades de reu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41320" y="2490840"/>
            <a:ext cx="743040" cy="315432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47720" y="240660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14680" y="2478240"/>
            <a:ext cx="841320" cy="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H="1">
            <a:off x="900000" y="1541520"/>
            <a:ext cx="61920" cy="491184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520" y="969840"/>
            <a:ext cx="1657440" cy="5400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55800" y="1900080"/>
            <a:ext cx="6265800" cy="946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6º Os Planos de Recursos Hídricos, observado o exposto no art. 7º, inc. IV, da Lei n° 9.433, de 1997, deverão contemplar, entre os estudos e alternativas, a utilização de águas de reuso e seus efeitos sobre a disponibilidade hídr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33840" y="2987640"/>
            <a:ext cx="6302160" cy="946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7º Os Sistemas de Informações sobre Recursos Hídricos deverão incorporar, organizar e tornar disponíveis as informações sobre as práticas de reuso necessárias para o gerenciamento dos recursos hídric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7880" y="4083120"/>
            <a:ext cx="6302520" cy="24382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8º Os Comitês de Bacia Hidrográfica deverã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– considerar, na proposição dos mecanismos de cobrança e aplicação dos recursos da cobrança, a criação de incentivos para a prática de reuso; 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 - integrar, no âmbito do Plano de Recursos Hídricos da bacia, a prática de reuso com as ações de saneamento ambiental e de uso e ocupação do solo na bacia hidrográf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ágrafo único. Nos casos onde não houver Comitês de Bacia Hidrográfica instalados, a responsabilidade caberá ao respectivo órgão gestor de recursos hídricos, em conformidade com o previsto na legislação pertin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1325520"/>
            <a:ext cx="720720" cy="863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5720" y="1343160"/>
            <a:ext cx="728640" cy="221436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68600" y="131112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35200" y="1181160"/>
            <a:ext cx="820800" cy="2016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20800" y="1373040"/>
            <a:ext cx="835200" cy="463248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33840" y="776160"/>
            <a:ext cx="6302160" cy="946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5º Caso a atividade de reuso implique alteração das condições das outorgas vigentes, o outorgado deverá solicitar à autoridade competente retificação da outorga de direito de uso de recursos hídricos de modo a compatibilizá-la com estas alteraçõ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H="1">
            <a:off x="900000" y="2421000"/>
            <a:ext cx="46080" cy="404820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520" y="1662120"/>
            <a:ext cx="1657440" cy="5400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00360" y="4708440"/>
            <a:ext cx="6302520" cy="946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rt. 11º O disposto nesta Resolução não exime o produtor, o distribuidor e o usuário da água de reuso direto não potável da respectiva licença ambiental, quando exigida, assim como do cumprimento das demais obrigações legais pertinentes.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2060640"/>
            <a:ext cx="720720" cy="1439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198900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763640" y="1988640"/>
            <a:ext cx="792360" cy="572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720720" cy="280836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511440"/>
            <a:ext cx="6302520" cy="733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10º Deverão ser incentivados e promovidos programas de capacitação, mobilização social e informação quanto à sustentabilidade do reuso, em especial os aspectos sanitários e ambienta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38520" y="1336680"/>
            <a:ext cx="6302160" cy="17989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9º A atividade de reuso de água deverá ser informada, quando requerida, ao órgão gestor de recursos hídricos, para fins de cadastro, devendo contemplar, no mínim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- identificação do produtor, distribuidor ou usuár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 - localização geográfica da origem e destinação da água de reus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I - especificação da finalidade da produção e do reuso de água; 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V - vazão e volume diário de água de reuso produzida, distribuída ou utiliza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172728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metrios Christofi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esidente da Câmara Técnica de Ciência e Tecn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345456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ante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STÉRIO DA INTEGRAÇÃO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RETARIA DE INFRA-ESTRUTURA HÍD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080" y="513252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christofidis@unb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58840" y="1081080"/>
            <a:ext cx="8618400" cy="5156280"/>
            <a:chOff x="258840" y="1081080"/>
            <a:chExt cx="8618400" cy="515628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258840" y="1081080"/>
              <a:ext cx="8553240" cy="515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66760" y="1081080"/>
              <a:ext cx="86104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6320" y="90792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JETÓRIA DE CRISE OU DE SUSTENTABILIDA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280" y="1906560"/>
          <a:ext cx="8915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906560"/>
                    <a:ext cx="8915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04920" y="3049560"/>
            <a:ext cx="2590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odo Aprovei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torial fragmen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259236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senvolvimento sustentá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ferta e u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egração dos 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lanos de Ba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itês de Ba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25970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tegração de progra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063880"/>
            <a:ext cx="685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9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063880"/>
            <a:ext cx="685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516040"/>
            <a:ext cx="0" cy="20574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87960"/>
            <a:ext cx="1981080" cy="64260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STITUIÇÃO de 198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5303880"/>
            <a:ext cx="5383440" cy="115632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i nº 9.433/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ítica Nacion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stema Nacional de Gerenciamento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elho Nacional de Recursos Hídr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839880"/>
            <a:ext cx="1995480" cy="62064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i nº 9.984/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iação da 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2077920"/>
            <a:ext cx="685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923000"/>
            <a:ext cx="0" cy="3808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895480" y="4807080"/>
            <a:ext cx="0" cy="3808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59640" y="1592280"/>
            <a:ext cx="0" cy="5335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1515960"/>
            <a:ext cx="0" cy="609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1508040"/>
            <a:ext cx="0" cy="5335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72360" y="2055960"/>
            <a:ext cx="685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825480"/>
            <a:ext cx="2087640" cy="73188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creto nº 4.613/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gulamenta o CNR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9840" y="971640"/>
            <a:ext cx="2144520" cy="642600"/>
          </a:xfrm>
          <a:prstGeom prst="rect">
            <a:avLst/>
          </a:prstGeom>
          <a:solidFill>
            <a:srgbClr val="339966"/>
          </a:solidFill>
          <a:ln w="4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ETÊNCIAS LEG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loud"/>
          <p:cNvSpPr/>
          <p:nvPr/>
        </p:nvSpPr>
        <p:spPr>
          <a:xfrm>
            <a:off x="5796000" y="692280"/>
            <a:ext cx="2209680" cy="1030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6280" y="2028960"/>
            <a:ext cx="29710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ESTRATÉGIA DO GESTOR EFE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480" y="963720"/>
            <a:ext cx="510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 DINÂMICA DA GESTÃO DOS RECURSOS HÍDRIC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327348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3511440"/>
            <a:ext cx="4952880" cy="914400"/>
          </a:xfrm>
          <a:custGeom>
            <a:avLst/>
            <a:gdLst/>
            <a:ahLst/>
            <a:rect l="l" t="t" r="r" b="b"/>
            <a:pathLst>
              <a:path w="3120" h="576">
                <a:moveTo>
                  <a:pt x="0" y="0"/>
                </a:moveTo>
                <a:cubicBezTo>
                  <a:pt x="604" y="0"/>
                  <a:pt x="1208" y="0"/>
                  <a:pt x="1728" y="96"/>
                </a:cubicBezTo>
                <a:cubicBezTo>
                  <a:pt x="2248" y="192"/>
                  <a:pt x="2888" y="496"/>
                  <a:pt x="312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33520" y="2572920"/>
            <a:ext cx="4952880" cy="914400"/>
          </a:xfrm>
          <a:custGeom>
            <a:avLst/>
            <a:gdLst/>
            <a:ahLst/>
            <a:rect l="l" t="t" r="r" b="b"/>
            <a:pathLst>
              <a:path w="3120" h="576">
                <a:moveTo>
                  <a:pt x="0" y="0"/>
                </a:moveTo>
                <a:cubicBezTo>
                  <a:pt x="604" y="0"/>
                  <a:pt x="1208" y="0"/>
                  <a:pt x="1728" y="96"/>
                </a:cubicBezTo>
                <a:cubicBezTo>
                  <a:pt x="2248" y="192"/>
                  <a:pt x="2888" y="496"/>
                  <a:pt x="3120" y="576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502080"/>
            <a:ext cx="50292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616280"/>
            <a:ext cx="3733560" cy="1981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2734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32734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32734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32734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892600"/>
            <a:ext cx="2743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FUTURO DA GESTÃO DA Á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77080" y="754200"/>
            <a:ext cx="18288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AÇO DE IMUNIDADE E SUSTENTABIL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5149800"/>
            <a:ext cx="20574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AÇO DE VULNERABILIDADE E INSUSTENTABIL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32560" y="4255920"/>
            <a:ext cx="167652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U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iclag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O 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ção das perdas Quantita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FICIÊ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45440" y="3182760"/>
            <a:ext cx="16761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ção das perdas Qualita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erv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FICÁ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42080" y="274320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MENTOS DE GEST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2080" y="229248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TENCIALIDADES LOC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7120" y="1773360"/>
            <a:ext cx="13716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FETIV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7120" y="4467240"/>
            <a:ext cx="24058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DANÇAS DE PARADIG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55800" y="1557360"/>
            <a:ext cx="6265800" cy="733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 Lei nº 9.433, de 1997, que dispõe sobre a Política Nacional de Recursos Hídricos e cria o Sistema Nacional de Gerenciamento de Recursos Hídricos - SINGREH, dá ênfase ao uso sustentável da águ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2640" y="1865160"/>
            <a:ext cx="717480" cy="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520" y="1633680"/>
            <a:ext cx="1657440" cy="476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º Considera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55800" y="2865600"/>
            <a:ext cx="6265800" cy="946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diretriz adotada pelo Conselho Econômico e Social da Organização das Nações Unidas – ONU, segundo a qual, a não ser que haja grande disponibilidade, nenhuma água de boa qualidade deverá ser utilizada em atividades que tolerem águas de qualidade inferi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2640" y="3173400"/>
            <a:ext cx="717480" cy="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520" y="2941560"/>
            <a:ext cx="1657440" cy="476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º Considera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55800" y="4421160"/>
            <a:ext cx="6265800" cy="946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 reuso de água se constitui em prática de racionalização e de conservação de recursos hídricos, conforme princípios estabelecidos na Agenda 21, podendo tal prática ser utilizada como instrumento para regular a oferta e a demanda de recursos hídric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52640" y="4729320"/>
            <a:ext cx="717480" cy="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520" y="4497480"/>
            <a:ext cx="1657440" cy="476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º Considera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755800" y="1108080"/>
            <a:ext cx="6265800" cy="733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escassez de recursos hídricos observada em certas regiões do território nacional, a qual está relacionada aos aspectos de quantidade e de qualida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2640" y="1415880"/>
            <a:ext cx="717480" cy="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520" y="1184400"/>
            <a:ext cx="165744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º Considera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61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755800" y="907920"/>
            <a:ext cx="6265800" cy="520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elevação dos custos de tratamento de água em função da degradação de mananciai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52640" y="1216080"/>
            <a:ext cx="717480" cy="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520" y="984240"/>
            <a:ext cx="1657440" cy="476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º Considera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1514520"/>
            <a:ext cx="6769080" cy="50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55800" y="1736640"/>
            <a:ext cx="6265800" cy="946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 a prática de reuso de água reduz a descarga de poluentes em corpos receptores, conservando os recursos hídricos para o abastecimento público e outros usos mais exigentes quanto à qualidade; 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2640" y="2044800"/>
            <a:ext cx="717480" cy="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520" y="1812960"/>
            <a:ext cx="1657440" cy="476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º Considera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55800" y="3573360"/>
            <a:ext cx="6265800" cy="520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 a prática de reuso de água reduz os custos associados à poluição e contribui para a proteção do meio ambiente e da saúde públic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52640" y="3881520"/>
            <a:ext cx="717480" cy="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520" y="3649680"/>
            <a:ext cx="1657440" cy="4762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º Considera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84600" y="1187280"/>
            <a:ext cx="6265800" cy="733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. 1º Estabelecer modalidades, diretrizes e critérios gerais que regulamentem e estimulem a prática de reuso direto não potável de água em todo o território nacional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84600" y="2368440"/>
            <a:ext cx="6265800" cy="3503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Art. 2º Para efeito desta Resolução, são adotadas as seguintes definiçõ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 - água residuária: esgoto, água descartada, efluentes líquidos de edificações, indústrias, agroindústrias e agropecuária, tratados ou nã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I - reuso de água: utilização de água residuári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II - água de reuso: água residuária, que se encontra dentro dos padrões exigidos para sua utilização nas modalidades pretendid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V - reuso direto de água: uso planejado de água de reuso, conduzida ao local de utilização, sem lançamento ou diluição prévia em corpos hídricos superficiais ou subterrâne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 - produtor de água de reuso: pessoa física ou jurídica, de direito público ou privado, que produz água de reus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I - distribuidor de água de reuso: pessoa física ou jurídica, de direito público ou privado, que distribui água de reuso; 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VII - usuário de água de reuso: pessoa física ou jurídica, de direito público ou privado, que utiliza água de reu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928440" y="1973160"/>
            <a:ext cx="42840" cy="376092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520" y="1125360"/>
            <a:ext cx="1657440" cy="5400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L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2120" y="146988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1557360"/>
            <a:ext cx="863640" cy="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1557360"/>
            <a:ext cx="720720" cy="1655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18:29:11Z</dcterms:created>
  <dc:creator>SIH</dc:creator>
  <dc:description/>
  <dc:language>en-US</dc:language>
  <cp:lastModifiedBy>adriano</cp:lastModifiedBy>
  <dcterms:modified xsi:type="dcterms:W3CDTF">2005-11-24T17:08:49Z</dcterms:modified>
  <cp:revision>93</cp:revision>
  <dc:subject/>
  <dc:title>Apresentação do PowerPoint</dc:title>
</cp:coreProperties>
</file>